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60.png" ContentType="image/png"/>
  <Override PartName="/ppt/media/image161.png" ContentType="image/png"/>
  <Override PartName="/ppt/media/image150.png" ContentType="image/png"/>
  <Override PartName="/ppt/media/image162.png" ContentType="image/png"/>
  <Override PartName="/ppt/media/image109.png" ContentType="image/png"/>
  <Override PartName="/ppt/media/image151.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4.png" ContentType="image/png"/>
  <Override PartName="/ppt/media/image130.png" ContentType="image/png"/>
  <Override PartName="/ppt/media/image167.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134.png" ContentType="image/pn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37.png" ContentType="image/png"/>
  <Override PartName="/ppt/media/image62.png" ContentType="image/png"/>
  <Override PartName="/ppt/media/image159.png" ContentType="image/png"/>
  <Override PartName="/ppt/media/image7.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70AD0-4579-4619-9A01-087FD1990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797AA-AE20-4558-B187-34C0F9A26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94C26-C7D8-47C7-A4BC-15EC67EB2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E45F-BF21-48A3-9989-E93DBC6FD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B84A3-2E39-4CB5-BBF2-91FE5291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435B7-D559-4B0F-9E2F-16B6FE714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21204-DC1B-426B-A0E5-11DFA7904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75EC-CA27-4EF0-8AEF-12378BD1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88692-82E6-4664-AD19-EADF1E927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A331-EC68-4965-9B4B-5F1A67213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F59DE-6B65-4A27-ADA2-C2DF3599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72EA-55BD-498E-BD29-FD0371E80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13c3f"/>
              </a:solidFill>
              <a:latin typeface="Lato"/>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3c3f"/>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f9192"/>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f919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1CEB-4B7D-4976-808D-B899A8801A4C}" type="slidenum">
              <a:rPr b="0" lang="en-ID" sz="1200" spc="-1" strike="noStrike">
                <a:solidFill>
                  <a:srgbClr val="8f91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13c3f"/>
                </a:solidFill>
                <a:latin typeface="Lato"/>
              </a:rPr>
              <a:t>Click to edit the title text format</a:t>
            </a:r>
            <a:endParaRPr b="0" lang="en-US" sz="4400" spc="-1" strike="noStrike">
              <a:solidFill>
                <a:srgbClr val="313c3f"/>
              </a:solidFill>
              <a:latin typeface="Lato"/>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Click to edit the outline text format</a:t>
            </a:r>
            <a:endParaRPr b="0" lang="en-US" sz="2800" spc="-1" strike="noStrike">
              <a:solidFill>
                <a:srgbClr val="313c3f"/>
              </a:solidFill>
              <a:latin typeface="Source Sans Pro"/>
            </a:endParaRPr>
          </a:p>
          <a:p>
            <a:pPr lvl="1" marL="6858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cond Outline Level</a:t>
            </a:r>
            <a:endParaRPr b="0" lang="en-US" sz="2800" spc="-1" strike="noStrike">
              <a:solidFill>
                <a:srgbClr val="313c3f"/>
              </a:solidFill>
              <a:latin typeface="Source Sans Pro"/>
            </a:endParaRPr>
          </a:p>
          <a:p>
            <a:pPr lvl="2" marL="11430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Third Outline Level</a:t>
            </a:r>
            <a:endParaRPr b="0" lang="en-US" sz="2800" spc="-1" strike="noStrike">
              <a:solidFill>
                <a:srgbClr val="313c3f"/>
              </a:solidFill>
              <a:latin typeface="Source Sans Pro"/>
            </a:endParaRPr>
          </a:p>
          <a:p>
            <a:pPr lvl="3" marL="16002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ourth Outline Level</a:t>
            </a:r>
            <a:endParaRPr b="0" lang="en-US" sz="2800" spc="-1" strike="noStrike">
              <a:solidFill>
                <a:srgbClr val="313c3f"/>
              </a:solidFill>
              <a:latin typeface="Source Sans Pro"/>
            </a:endParaRPr>
          </a:p>
          <a:p>
            <a:pPr lvl="4"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Fifth Outline Level</a:t>
            </a:r>
            <a:endParaRPr b="0" lang="en-US" sz="2800" spc="-1" strike="noStrike">
              <a:solidFill>
                <a:srgbClr val="313c3f"/>
              </a:solidFill>
              <a:latin typeface="Source Sans Pro"/>
            </a:endParaRPr>
          </a:p>
          <a:p>
            <a:pPr lvl="5"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ixth Outline Level</a:t>
            </a:r>
            <a:endParaRPr b="0" lang="en-US" sz="2800" spc="-1" strike="noStrike">
              <a:solidFill>
                <a:srgbClr val="313c3f"/>
              </a:solidFill>
              <a:latin typeface="Source Sans Pro"/>
            </a:endParaRPr>
          </a:p>
          <a:p>
            <a:pPr lvl="6" marL="2057400" indent="-228600">
              <a:lnSpc>
                <a:spcPct val="90000"/>
              </a:lnSpc>
              <a:spcBef>
                <a:spcPts val="1001"/>
              </a:spcBef>
              <a:buClr>
                <a:srgbClr val="313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13c3f"/>
                </a:solidFill>
                <a:latin typeface="Source Sans Pro"/>
              </a:rPr>
              <a:t>Seventh Outline Level</a:t>
            </a:r>
            <a:endParaRPr b="0" lang="en-US" sz="2800" spc="-1" strike="noStrike">
              <a:solidFill>
                <a:srgbClr val="313c3f"/>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package" Target="../embeddings/oleObject1.xlsx"/><Relationship Id="rId6" Type="http://schemas.openxmlformats.org/officeDocument/2006/relationships/image" Target="../media/image40.png"/><Relationship Id="rId7" Type="http://schemas.openxmlformats.org/officeDocument/2006/relationships/package" Target="../embeddings/oleObject2.xlsx"/><Relationship Id="rId8" Type="http://schemas.openxmlformats.org/officeDocument/2006/relationships/image" Target="../media/image41.png"/><Relationship Id="rId9"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5.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58.png"/><Relationship Id="rId12" Type="http://schemas.openxmlformats.org/officeDocument/2006/relationships/image" Target="../media/image59.png"/><Relationship Id="rId13" Type="http://schemas.openxmlformats.org/officeDocument/2006/relationships/image" Target="../media/image60.png"/><Relationship Id="rId14" Type="http://schemas.openxmlformats.org/officeDocument/2006/relationships/image" Target="../media/image61.png"/><Relationship Id="rId15" Type="http://schemas.openxmlformats.org/officeDocument/2006/relationships/image" Target="../media/image62.png"/><Relationship Id="rId1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png"/><Relationship Id="rId18" Type="http://schemas.openxmlformats.org/officeDocument/2006/relationships/image" Target="../media/image80.png"/><Relationship Id="rId19" Type="http://schemas.openxmlformats.org/officeDocument/2006/relationships/image" Target="../media/image81.png"/><Relationship Id="rId20" Type="http://schemas.openxmlformats.org/officeDocument/2006/relationships/image" Target="../media/image82.png"/><Relationship Id="rId21" Type="http://schemas.openxmlformats.org/officeDocument/2006/relationships/image" Target="../media/image83.png"/><Relationship Id="rId2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7.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1.png"/><Relationship Id="rId12" Type="http://schemas.openxmlformats.org/officeDocument/2006/relationships/image" Target="../media/image93.png"/><Relationship Id="rId13" Type="http://schemas.openxmlformats.org/officeDocument/2006/relationships/image" Target="../media/image94.png"/><Relationship Id="rId14" Type="http://schemas.openxmlformats.org/officeDocument/2006/relationships/image" Target="../media/image9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image" Target="../media/image102.png"/><Relationship Id="rId8" Type="http://schemas.openxmlformats.org/officeDocument/2006/relationships/image" Target="../media/image103.png"/><Relationship Id="rId9" Type="http://schemas.openxmlformats.org/officeDocument/2006/relationships/image" Target="../media/image104.png"/><Relationship Id="rId10" Type="http://schemas.openxmlformats.org/officeDocument/2006/relationships/image" Target="../media/image105.png"/><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7.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image" Target="../media/image111.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image" Target="../media/image118.png"/><Relationship Id="rId8" Type="http://schemas.openxmlformats.org/officeDocument/2006/relationships/image" Target="../media/image119.png"/><Relationship Id="rId9" Type="http://schemas.openxmlformats.org/officeDocument/2006/relationships/image" Target="../media/image120.png"/><Relationship Id="rId10" Type="http://schemas.openxmlformats.org/officeDocument/2006/relationships/image" Target="../media/image121.png"/><Relationship Id="rId11" Type="http://schemas.openxmlformats.org/officeDocument/2006/relationships/image" Target="../media/image122.png"/><Relationship Id="rId12" Type="http://schemas.openxmlformats.org/officeDocument/2006/relationships/image" Target="../media/image123.png"/><Relationship Id="rId13" Type="http://schemas.openxmlformats.org/officeDocument/2006/relationships/image" Target="../media/image124.png"/><Relationship Id="rId1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7.png"/><Relationship Id="rId5" Type="http://schemas.openxmlformats.org/officeDocument/2006/relationships/image" Target="../media/image128.png"/><Relationship Id="rId6" Type="http://schemas.openxmlformats.org/officeDocument/2006/relationships/image" Target="../media/image129.png"/><Relationship Id="rId7" Type="http://schemas.openxmlformats.org/officeDocument/2006/relationships/image" Target="../media/image130.png"/><Relationship Id="rId8" Type="http://schemas.openxmlformats.org/officeDocument/2006/relationships/image" Target="../media/image129.png"/><Relationship Id="rId9" Type="http://schemas.openxmlformats.org/officeDocument/2006/relationships/image" Target="../media/image131.png"/><Relationship Id="rId10" Type="http://schemas.openxmlformats.org/officeDocument/2006/relationships/image" Target="../media/image132.png"/><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8.png"/><Relationship Id="rId6" Type="http://schemas.openxmlformats.org/officeDocument/2006/relationships/image" Target="../media/image139.png"/><Relationship Id="rId7" Type="http://schemas.openxmlformats.org/officeDocument/2006/relationships/image" Target="../media/image140.png"/><Relationship Id="rId8" Type="http://schemas.openxmlformats.org/officeDocument/2006/relationships/image" Target="../media/image141.png"/><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image" Target="../media/image145.png"/><Relationship Id="rId5" Type="http://schemas.openxmlformats.org/officeDocument/2006/relationships/image" Target="../media/image144.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image" Target="../media/image150.png"/><Relationship Id="rId11" Type="http://schemas.openxmlformats.org/officeDocument/2006/relationships/image" Target="../media/image151.png"/><Relationship Id="rId12" Type="http://schemas.openxmlformats.org/officeDocument/2006/relationships/image" Target="../media/image152.png"/><Relationship Id="rId13" Type="http://schemas.openxmlformats.org/officeDocument/2006/relationships/image" Target="../media/image153.png"/><Relationship Id="rId14" Type="http://schemas.openxmlformats.org/officeDocument/2006/relationships/image" Target="../media/image154.png"/><Relationship Id="rId15" Type="http://schemas.openxmlformats.org/officeDocument/2006/relationships/image" Target="../media/image155.png"/><Relationship Id="rId16" Type="http://schemas.openxmlformats.org/officeDocument/2006/relationships/image" Target="../media/image156.png"/><Relationship Id="rId17" Type="http://schemas.openxmlformats.org/officeDocument/2006/relationships/image" Target="../media/image157.png"/><Relationship Id="rId18" Type="http://schemas.openxmlformats.org/officeDocument/2006/relationships/image" Target="../media/image158.png"/><Relationship Id="rId19" Type="http://schemas.openxmlformats.org/officeDocument/2006/relationships/image" Target="../media/image159.png"/><Relationship Id="rId20" Type="http://schemas.openxmlformats.org/officeDocument/2006/relationships/image" Target="../media/image160.png"/><Relationship Id="rId21" Type="http://schemas.openxmlformats.org/officeDocument/2006/relationships/image" Target="../media/image161.png"/><Relationship Id="rId22" Type="http://schemas.openxmlformats.org/officeDocument/2006/relationships/image" Target="../media/image162.png"/><Relationship Id="rId23" Type="http://schemas.openxmlformats.org/officeDocument/2006/relationships/image" Target="../media/image163.png"/><Relationship Id="rId24" Type="http://schemas.openxmlformats.org/officeDocument/2006/relationships/image" Target="../media/image164.png"/><Relationship Id="rId25" Type="http://schemas.openxmlformats.org/officeDocument/2006/relationships/image" Target="../media/image165.png"/><Relationship Id="rId26" Type="http://schemas.openxmlformats.org/officeDocument/2006/relationships/image" Target="../media/image166.png"/><Relationship Id="rId27" Type="http://schemas.openxmlformats.org/officeDocument/2006/relationships/image" Target="../media/image167.png"/><Relationship Id="rId2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70.png"/><Relationship Id="rId4" Type="http://schemas.openxmlformats.org/officeDocument/2006/relationships/image" Target="../media/image171.png"/><Relationship Id="rId5" Type="http://schemas.openxmlformats.org/officeDocument/2006/relationships/image" Target="../media/image172.png"/><Relationship Id="rId6" Type="http://schemas.openxmlformats.org/officeDocument/2006/relationships/image" Target="../media/image173.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2.xlsx"/><Relationship Id="rId7" Type="http://schemas.openxmlformats.org/officeDocument/2006/relationships/image" Target="../media/image7.png"/><Relationship Id="rId8" Type="http://schemas.openxmlformats.org/officeDocument/2006/relationships/package" Target="../embeddings/oleObject3.xlsx"/><Relationship Id="rId9" Type="http://schemas.openxmlformats.org/officeDocument/2006/relationships/image" Target="../media/image8.png"/><Relationship Id="rId10" Type="http://schemas.openxmlformats.org/officeDocument/2006/relationships/package" Target="../embeddings/oleObject4.xlsx"/><Relationship Id="rId11" Type="http://schemas.openxmlformats.org/officeDocument/2006/relationships/image" Target="../media/image9.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package" Target="../embeddings/oleObject3.xlsx"/><Relationship Id="rId6" Type="http://schemas.openxmlformats.org/officeDocument/2006/relationships/image" Target="../media/image12.png"/><Relationship Id="rId7" Type="http://schemas.openxmlformats.org/officeDocument/2006/relationships/package" Target="../embeddings/oleObject4.xlsx"/><Relationship Id="rId8" Type="http://schemas.openxmlformats.org/officeDocument/2006/relationships/image" Target="../media/image13.png"/><Relationship Id="rId9" Type="http://schemas.openxmlformats.org/officeDocument/2006/relationships/package" Target="../embeddings/oleObject5.xlsx"/><Relationship Id="rId10" Type="http://schemas.openxmlformats.org/officeDocument/2006/relationships/image" Target="../media/image14.png"/><Relationship Id="rId11" Type="http://schemas.openxmlformats.org/officeDocument/2006/relationships/package" Target="../embeddings/oleObject6.xlsx"/><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package" Target="../embeddings/oleObject3.xlsx"/><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package" Target="../embeddings/oleObject4.xlsx"/><Relationship Id="rId9" Type="http://schemas.openxmlformats.org/officeDocument/2006/relationships/image" Target="../media/image21.png"/><Relationship Id="rId10"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package" Target="../embeddings/oleObject2.xlsx"/><Relationship Id="rId4" Type="http://schemas.openxmlformats.org/officeDocument/2006/relationships/image" Target="../media/image26.png"/><Relationship Id="rId5" Type="http://schemas.openxmlformats.org/officeDocument/2006/relationships/package" Target="../embeddings/oleObject3.xlsx"/><Relationship Id="rId6" Type="http://schemas.openxmlformats.org/officeDocument/2006/relationships/image" Target="../media/image27.png"/><Relationship Id="rId7" Type="http://schemas.openxmlformats.org/officeDocument/2006/relationships/package" Target="../embeddings/oleObject4.xlsx"/><Relationship Id="rId8" Type="http://schemas.openxmlformats.org/officeDocument/2006/relationships/image" Target="../media/image28.png"/><Relationship Id="rId9" Type="http://schemas.openxmlformats.org/officeDocument/2006/relationships/package" Target="../embeddings/oleObject5.xlsx"/><Relationship Id="rId10" Type="http://schemas.openxmlformats.org/officeDocument/2006/relationships/image" Target="../media/image29.png"/><Relationship Id="rId11" Type="http://schemas.openxmlformats.org/officeDocument/2006/relationships/package" Target="../embeddings/oleObject6.xlsx"/><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536" name="Rectangle: Rounded Corners 9"/>
          <p:cNvSpPr/>
          <p:nvPr/>
        </p:nvSpPr>
        <p:spPr>
          <a:xfrm>
            <a:off x="6608880" y="3273480"/>
            <a:ext cx="4713120" cy="1187280"/>
          </a:xfrm>
          <a:prstGeom prst="roundRect">
            <a:avLst>
              <a:gd name="adj" fmla="val 6481"/>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37" name="Rectangle 22"/>
          <p:cNvSpPr/>
          <p:nvPr/>
        </p:nvSpPr>
        <p:spPr>
          <a:xfrm>
            <a:off x="6642000" y="3446640"/>
            <a:ext cx="345456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38" name="Rectangle 11"/>
          <p:cNvSpPr/>
          <p:nvPr/>
        </p:nvSpPr>
        <p:spPr>
          <a:xfrm>
            <a:off x="6773760" y="3513240"/>
            <a:ext cx="2082960" cy="70488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39" name="Freeform: Shape 6"/>
          <p:cNvSpPr/>
          <p:nvPr/>
        </p:nvSpPr>
        <p:spPr>
          <a:xfrm>
            <a:off x="6642000" y="3429000"/>
            <a:ext cx="3454560" cy="87624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540" name="Rectangle: Rounded Corners 8"/>
          <p:cNvSpPr/>
          <p:nvPr/>
        </p:nvSpPr>
        <p:spPr>
          <a:xfrm>
            <a:off x="849240" y="3273480"/>
            <a:ext cx="4713480" cy="118728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41" name="Rectangle 101"/>
          <p:cNvSpPr/>
          <p:nvPr/>
        </p:nvSpPr>
        <p:spPr>
          <a:xfrm>
            <a:off x="866880" y="2152800"/>
            <a:ext cx="4678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313c3f"/>
              </a:solidFill>
              <a:latin typeface="Source Sans Pro"/>
            </a:endParaRPr>
          </a:p>
        </p:txBody>
      </p:sp>
      <p:sp>
        <p:nvSpPr>
          <p:cNvPr id="542" name="TextBox 102"/>
          <p:cNvSpPr/>
          <p:nvPr/>
        </p:nvSpPr>
        <p:spPr>
          <a:xfrm>
            <a:off x="866880" y="1863720"/>
            <a:ext cx="29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543" name="Rectangle 103"/>
          <p:cNvSpPr/>
          <p:nvPr/>
        </p:nvSpPr>
        <p:spPr>
          <a:xfrm>
            <a:off x="6627960" y="2152800"/>
            <a:ext cx="4676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313c3f"/>
              </a:solidFill>
              <a:latin typeface="Source Sans Pro"/>
            </a:endParaRPr>
          </a:p>
        </p:txBody>
      </p:sp>
      <p:sp>
        <p:nvSpPr>
          <p:cNvPr id="544" name="TextBox 104"/>
          <p:cNvSpPr/>
          <p:nvPr/>
        </p:nvSpPr>
        <p:spPr>
          <a:xfrm>
            <a:off x="6627960" y="186372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545" name="Rectangle 20"/>
          <p:cNvSpPr/>
          <p:nvPr/>
        </p:nvSpPr>
        <p:spPr>
          <a:xfrm>
            <a:off x="882720" y="3446640"/>
            <a:ext cx="345420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46" name="Rectangle 7"/>
          <p:cNvSpPr/>
          <p:nvPr/>
        </p:nvSpPr>
        <p:spPr>
          <a:xfrm>
            <a:off x="960480" y="3511440"/>
            <a:ext cx="2751120" cy="71136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47" name="Freeform: Shape 4"/>
          <p:cNvSpPr/>
          <p:nvPr/>
        </p:nvSpPr>
        <p:spPr>
          <a:xfrm>
            <a:off x="882720" y="3446640"/>
            <a:ext cx="3454200" cy="84132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548" name="TextBox 23"/>
          <p:cNvSpPr/>
          <p:nvPr/>
        </p:nvSpPr>
        <p:spPr>
          <a:xfrm>
            <a:off x="416052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7d42"/>
                </a:solidFill>
                <a:latin typeface="Lato"/>
              </a:rPr>
              <a:t>2,7M</a:t>
            </a:r>
            <a:endParaRPr b="0" lang="en-US" sz="3200" spc="-1" strike="noStrike">
              <a:solidFill>
                <a:srgbClr val="313c3f"/>
              </a:solidFill>
              <a:latin typeface="Source Sans Pro"/>
            </a:endParaRPr>
          </a:p>
        </p:txBody>
      </p:sp>
      <p:sp>
        <p:nvSpPr>
          <p:cNvPr id="549" name="TextBox 24"/>
          <p:cNvSpPr/>
          <p:nvPr/>
        </p:nvSpPr>
        <p:spPr>
          <a:xfrm>
            <a:off x="858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7d42"/>
                </a:solidFill>
                <a:latin typeface="Lato"/>
              </a:rPr>
              <a:t>91%</a:t>
            </a:r>
            <a:endParaRPr b="0" lang="en-US" sz="3200" spc="-1" strike="noStrike">
              <a:solidFill>
                <a:srgbClr val="313c3f"/>
              </a:solidFill>
              <a:latin typeface="Source Sans Pro"/>
            </a:endParaRPr>
          </a:p>
        </p:txBody>
      </p:sp>
      <p:sp>
        <p:nvSpPr>
          <p:cNvPr id="550" name="TextBox 27"/>
          <p:cNvSpPr/>
          <p:nvPr/>
        </p:nvSpPr>
        <p:spPr>
          <a:xfrm>
            <a:off x="866880" y="5060880"/>
            <a:ext cx="209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551" name="Rectangle 28"/>
          <p:cNvSpPr/>
          <p:nvPr/>
        </p:nvSpPr>
        <p:spPr>
          <a:xfrm>
            <a:off x="86688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aene consectetur dipiscing elit. </a:t>
            </a:r>
            <a:endParaRPr b="0" lang="en-US" sz="1200" spc="-1" strike="noStrike">
              <a:solidFill>
                <a:srgbClr val="313c3f"/>
              </a:solidFill>
              <a:latin typeface="Source Sans Pro"/>
            </a:endParaRPr>
          </a:p>
        </p:txBody>
      </p:sp>
      <p:sp>
        <p:nvSpPr>
          <p:cNvPr id="552" name="TextBox 32"/>
          <p:cNvSpPr/>
          <p:nvPr/>
        </p:nvSpPr>
        <p:spPr>
          <a:xfrm>
            <a:off x="3527280" y="4565520"/>
            <a:ext cx="78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9%</a:t>
            </a:r>
            <a:endParaRPr b="0" lang="en-US" sz="3200" spc="-1" strike="noStrike">
              <a:solidFill>
                <a:srgbClr val="313c3f"/>
              </a:solidFill>
              <a:latin typeface="Source Sans Pro"/>
            </a:endParaRPr>
          </a:p>
        </p:txBody>
      </p:sp>
      <p:sp>
        <p:nvSpPr>
          <p:cNvPr id="553" name="TextBox 33"/>
          <p:cNvSpPr/>
          <p:nvPr/>
        </p:nvSpPr>
        <p:spPr>
          <a:xfrm>
            <a:off x="35384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554" name="Rectangle 34"/>
          <p:cNvSpPr/>
          <p:nvPr/>
        </p:nvSpPr>
        <p:spPr>
          <a:xfrm>
            <a:off x="35384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aene consectetur dipiscing elit. </a:t>
            </a:r>
            <a:endParaRPr b="0" lang="en-US" sz="1200" spc="-1" strike="noStrike">
              <a:solidFill>
                <a:srgbClr val="313c3f"/>
              </a:solidFill>
              <a:latin typeface="Source Sans Pro"/>
            </a:endParaRPr>
          </a:p>
        </p:txBody>
      </p:sp>
      <p:sp>
        <p:nvSpPr>
          <p:cNvPr id="555" name="Straight Connector 10"/>
          <p:cNvSpPr/>
          <p:nvPr/>
        </p:nvSpPr>
        <p:spPr>
          <a:xfrm>
            <a:off x="32558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556" name="TextBox 37"/>
          <p:cNvSpPr/>
          <p:nvPr/>
        </p:nvSpPr>
        <p:spPr>
          <a:xfrm>
            <a:off x="4138560" y="3932280"/>
            <a:ext cx="211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c3f"/>
                </a:solidFill>
                <a:latin typeface="Lato"/>
              </a:rPr>
              <a:t>Description</a:t>
            </a:r>
            <a:endParaRPr b="0" lang="en-US" sz="1200" spc="-1" strike="noStrike">
              <a:solidFill>
                <a:srgbClr val="313c3f"/>
              </a:solidFill>
              <a:latin typeface="Source Sans Pro"/>
            </a:endParaRPr>
          </a:p>
        </p:txBody>
      </p:sp>
      <p:sp>
        <p:nvSpPr>
          <p:cNvPr id="557" name="TextBox 26"/>
          <p:cNvSpPr/>
          <p:nvPr/>
        </p:nvSpPr>
        <p:spPr>
          <a:xfrm>
            <a:off x="659376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1c11e"/>
                </a:solidFill>
                <a:latin typeface="Lato"/>
              </a:rPr>
              <a:t>67%</a:t>
            </a:r>
            <a:endParaRPr b="0" lang="en-US" sz="3200" spc="-1" strike="noStrike">
              <a:solidFill>
                <a:srgbClr val="313c3f"/>
              </a:solidFill>
              <a:latin typeface="Source Sans Pro"/>
            </a:endParaRPr>
          </a:p>
        </p:txBody>
      </p:sp>
      <p:sp>
        <p:nvSpPr>
          <p:cNvPr id="558" name="TextBox 29"/>
          <p:cNvSpPr/>
          <p:nvPr/>
        </p:nvSpPr>
        <p:spPr>
          <a:xfrm>
            <a:off x="6605640" y="506088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559" name="Rectangle 30"/>
          <p:cNvSpPr/>
          <p:nvPr/>
        </p:nvSpPr>
        <p:spPr>
          <a:xfrm>
            <a:off x="66056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aene consectetur dipiscing elit. </a:t>
            </a:r>
            <a:endParaRPr b="0" lang="en-US" sz="1200" spc="-1" strike="noStrike">
              <a:solidFill>
                <a:srgbClr val="313c3f"/>
              </a:solidFill>
              <a:latin typeface="Source Sans Pro"/>
            </a:endParaRPr>
          </a:p>
        </p:txBody>
      </p:sp>
      <p:sp>
        <p:nvSpPr>
          <p:cNvPr id="560" name="TextBox 31"/>
          <p:cNvSpPr/>
          <p:nvPr/>
        </p:nvSpPr>
        <p:spPr>
          <a:xfrm>
            <a:off x="9174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33%</a:t>
            </a:r>
            <a:endParaRPr b="0" lang="en-US" sz="3200" spc="-1" strike="noStrike">
              <a:solidFill>
                <a:srgbClr val="313c3f"/>
              </a:solidFill>
              <a:latin typeface="Source Sans Pro"/>
            </a:endParaRPr>
          </a:p>
        </p:txBody>
      </p:sp>
      <p:sp>
        <p:nvSpPr>
          <p:cNvPr id="561" name="TextBox 35"/>
          <p:cNvSpPr/>
          <p:nvPr/>
        </p:nvSpPr>
        <p:spPr>
          <a:xfrm>
            <a:off x="91868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562" name="Rectangle 36"/>
          <p:cNvSpPr/>
          <p:nvPr/>
        </p:nvSpPr>
        <p:spPr>
          <a:xfrm>
            <a:off x="91868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aene consectetur dipiscing elit. </a:t>
            </a:r>
            <a:endParaRPr b="0" lang="en-US" sz="1200" spc="-1" strike="noStrike">
              <a:solidFill>
                <a:srgbClr val="313c3f"/>
              </a:solidFill>
              <a:latin typeface="Source Sans Pro"/>
            </a:endParaRPr>
          </a:p>
        </p:txBody>
      </p:sp>
      <p:sp>
        <p:nvSpPr>
          <p:cNvPr id="563" name="Straight Connector 38"/>
          <p:cNvSpPr/>
          <p:nvPr/>
        </p:nvSpPr>
        <p:spPr>
          <a:xfrm>
            <a:off x="89042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564" name="TextBox 39"/>
          <p:cNvSpPr/>
          <p:nvPr/>
        </p:nvSpPr>
        <p:spPr>
          <a:xfrm>
            <a:off x="998820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1c11e"/>
                </a:solidFill>
                <a:latin typeface="Lato"/>
              </a:rPr>
              <a:t>1,2M</a:t>
            </a:r>
            <a:endParaRPr b="0" lang="en-US" sz="3200" spc="-1" strike="noStrike">
              <a:solidFill>
                <a:srgbClr val="313c3f"/>
              </a:solidFill>
              <a:latin typeface="Source Sans Pro"/>
            </a:endParaRPr>
          </a:p>
        </p:txBody>
      </p:sp>
      <p:sp>
        <p:nvSpPr>
          <p:cNvPr id="565" name="TextBox 40"/>
          <p:cNvSpPr/>
          <p:nvPr/>
        </p:nvSpPr>
        <p:spPr>
          <a:xfrm>
            <a:off x="10028160" y="3932280"/>
            <a:ext cx="211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c3f"/>
                </a:solidFill>
                <a:latin typeface="Lato"/>
              </a:rPr>
              <a:t>Description</a:t>
            </a:r>
            <a:endParaRPr b="0" lang="en-US" sz="1200" spc="-1" strike="noStrike">
              <a:solidFill>
                <a:srgbClr val="313c3f"/>
              </a:solidFill>
              <a:latin typeface="Source Sans Pro"/>
            </a:endParaRPr>
          </a:p>
        </p:txBody>
      </p:sp>
      <p:sp>
        <p:nvSpPr>
          <p:cNvPr id="566" name="Straight Connector 41"/>
          <p:cNvSpPr/>
          <p:nvPr/>
        </p:nvSpPr>
        <p:spPr>
          <a:xfrm>
            <a:off x="6095880" y="1849320"/>
            <a:ext cx="0" cy="40626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5"/>
                                        </p:tgtEl>
                                        <p:attrNameLst>
                                          <p:attrName>style.visibility</p:attrName>
                                        </p:attrNameLst>
                                      </p:cBhvr>
                                      <p:to>
                                        <p:strVal val="visible"/>
                                      </p:to>
                                    </p:set>
                                    <p:animEffect filter="fade" transition="in">
                                      <p:cBhvr additive="repl">
                                        <p:cTn id="7" dur="500"/>
                                        <p:tgtEl>
                                          <p:spTgt spid="535"/>
                                        </p:tgtEl>
                                      </p:cBhvr>
                                    </p:animEffect>
                                  </p:childTnLst>
                                </p:cTn>
                              </p:par>
                            </p:childTnLst>
                          </p:cTn>
                        </p:par>
                        <p:par>
                          <p:cTn id="8" nodeType="afterEffect" fill="hold">
                            <p:stCondLst>
                              <p:cond delay="500"/>
                            </p:stCondLst>
                            <p:childTnLst>
                              <p:par>
                                <p:cTn id="9" nodeType="afterEffect" fill="hold" presetClass="entr" presetID="16" presetSubtype="42">
                                  <p:stCondLst>
                                    <p:cond delay="0"/>
                                  </p:stCondLst>
                                  <p:childTnLst>
                                    <p:set>
                                      <p:cBhvr>
                                        <p:cTn id="10" dur="1" fill="hold">
                                          <p:stCondLst>
                                            <p:cond delay="0"/>
                                          </p:stCondLst>
                                        </p:cTn>
                                        <p:tgtEl>
                                          <p:spTgt spid="566"/>
                                        </p:tgtEl>
                                        <p:attrNameLst>
                                          <p:attrName>style.visibility</p:attrName>
                                        </p:attrNameLst>
                                      </p:cBhvr>
                                      <p:to>
                                        <p:strVal val="visible"/>
                                      </p:to>
                                    </p:set>
                                    <p:animEffect filter="barn(outHorizontal)" transition="in">
                                      <p:cBhvr additive="repl">
                                        <p:cTn id="11" dur="500"/>
                                        <p:tgtEl>
                                          <p:spTgt spid="566"/>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542"/>
                                        </p:tgtEl>
                                        <p:attrNameLst>
                                          <p:attrName>style.visibility</p:attrName>
                                        </p:attrNameLst>
                                      </p:cBhvr>
                                      <p:to>
                                        <p:strVal val="visible"/>
                                      </p:to>
                                    </p:set>
                                    <p:animEffect filter="fade" transition="in">
                                      <p:cBhvr additive="repl">
                                        <p:cTn id="15" dur="500"/>
                                        <p:tgtEl>
                                          <p:spTgt spid="542"/>
                                        </p:tgtEl>
                                      </p:cBhvr>
                                    </p:animEffect>
                                  </p:childTnLst>
                                </p:cTn>
                              </p:par>
                              <p:par>
                                <p:cTn id="16" nodeType="withEffect" fill="hold" presetClass="entr" presetID="10">
                                  <p:stCondLst>
                                    <p:cond delay="0"/>
                                  </p:stCondLst>
                                  <p:childTnLst>
                                    <p:set>
                                      <p:cBhvr>
                                        <p:cTn id="17" dur="1" fill="hold">
                                          <p:stCondLst>
                                            <p:cond delay="0"/>
                                          </p:stCondLst>
                                        </p:cTn>
                                        <p:tgtEl>
                                          <p:spTgt spid="544"/>
                                        </p:tgtEl>
                                        <p:attrNameLst>
                                          <p:attrName>style.visibility</p:attrName>
                                        </p:attrNameLst>
                                      </p:cBhvr>
                                      <p:to>
                                        <p:strVal val="visible"/>
                                      </p:to>
                                    </p:set>
                                    <p:animEffect filter="fade" transition="in">
                                      <p:cBhvr additive="repl">
                                        <p:cTn id="18" dur="500"/>
                                        <p:tgtEl>
                                          <p:spTgt spid="544"/>
                                        </p:tgtEl>
                                      </p:cBhvr>
                                    </p:animEffect>
                                  </p:childTnLst>
                                </p:cTn>
                              </p:par>
                            </p:childTnLst>
                          </p:cTn>
                        </p:par>
                        <p:par>
                          <p:cTn id="19" nodeType="afterEffect" fill="hold">
                            <p:stCondLst>
                              <p:cond delay="15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500"/>
                                        <p:tgtEl>
                                          <p:spTgt spid="541"/>
                                        </p:tgtEl>
                                      </p:cBhvr>
                                    </p:animEffect>
                                  </p:childTnLst>
                                </p:cTn>
                              </p:par>
                              <p:par>
                                <p:cTn id="23" nodeType="withEffect" fill="hold" presetClass="entr" presetID="10">
                                  <p:stCondLst>
                                    <p:cond delay="0"/>
                                  </p:stCondLst>
                                  <p:childTnLst>
                                    <p:set>
                                      <p:cBhvr>
                                        <p:cTn id="24" dur="1" fill="hold">
                                          <p:stCondLst>
                                            <p:cond delay="0"/>
                                          </p:stCondLst>
                                        </p:cTn>
                                        <p:tgtEl>
                                          <p:spTgt spid="543"/>
                                        </p:tgtEl>
                                        <p:attrNameLst>
                                          <p:attrName>style.visibility</p:attrName>
                                        </p:attrNameLst>
                                      </p:cBhvr>
                                      <p:to>
                                        <p:strVal val="visible"/>
                                      </p:to>
                                    </p:set>
                                    <p:animEffect filter="fade" transition="in">
                                      <p:cBhvr additive="repl">
                                        <p:cTn id="25" dur="500"/>
                                        <p:tgtEl>
                                          <p:spTgt spid="543"/>
                                        </p:tgtEl>
                                      </p:cBhvr>
                                    </p:animEffect>
                                  </p:childTnLst>
                                </p:cTn>
                              </p:par>
                            </p:childTnLst>
                          </p:cTn>
                        </p:par>
                        <p:par>
                          <p:cTn id="26" nodeType="afterEffect" fill="hold">
                            <p:stCondLst>
                              <p:cond delay="2000"/>
                            </p:stCondLst>
                            <p:childTnLst>
                              <p:par>
                                <p:cTn id="27" nodeType="afterEffect" fill="hold" presetClass="entr" presetID="10">
                                  <p:stCondLst>
                                    <p:cond delay="0"/>
                                  </p:stCondLst>
                                  <p:childTnLst>
                                    <p:set>
                                      <p:cBhvr>
                                        <p:cTn id="28" dur="1" fill="hold">
                                          <p:stCondLst>
                                            <p:cond delay="0"/>
                                          </p:stCondLst>
                                        </p:cTn>
                                        <p:tgtEl>
                                          <p:spTgt spid="540"/>
                                        </p:tgtEl>
                                        <p:attrNameLst>
                                          <p:attrName>style.visibility</p:attrName>
                                        </p:attrNameLst>
                                      </p:cBhvr>
                                      <p:to>
                                        <p:strVal val="visible"/>
                                      </p:to>
                                    </p:set>
                                    <p:animEffect filter="fade" transition="in">
                                      <p:cBhvr additive="repl">
                                        <p:cTn id="29" dur="500"/>
                                        <p:tgtEl>
                                          <p:spTgt spid="540"/>
                                        </p:tgtEl>
                                      </p:cBhvr>
                                    </p:animEffect>
                                  </p:childTnLst>
                                </p:cTn>
                              </p:par>
                              <p:par>
                                <p:cTn id="30" nodeType="withEffect" fill="hold" presetClass="entr" presetID="10">
                                  <p:stCondLst>
                                    <p:cond delay="0"/>
                                  </p:stCondLst>
                                  <p:childTnLst>
                                    <p:set>
                                      <p:cBhvr>
                                        <p:cTn id="31" dur="1" fill="hold">
                                          <p:stCondLst>
                                            <p:cond delay="0"/>
                                          </p:stCondLst>
                                        </p:cTn>
                                        <p:tgtEl>
                                          <p:spTgt spid="536"/>
                                        </p:tgtEl>
                                        <p:attrNameLst>
                                          <p:attrName>style.visibility</p:attrName>
                                        </p:attrNameLst>
                                      </p:cBhvr>
                                      <p:to>
                                        <p:strVal val="visible"/>
                                      </p:to>
                                    </p:set>
                                    <p:animEffect filter="fade" transition="in">
                                      <p:cBhvr additive="repl">
                                        <p:cTn id="32" dur="500"/>
                                        <p:tgtEl>
                                          <p:spTgt spid="536"/>
                                        </p:tgtEl>
                                      </p:cBhvr>
                                    </p:animEffect>
                                  </p:childTnLst>
                                </p:cTn>
                              </p:par>
                            </p:childTnLst>
                          </p:cTn>
                        </p:par>
                        <p:par>
                          <p:cTn id="33" nodeType="afterEffect" fill="hold">
                            <p:stCondLst>
                              <p:cond delay="2500"/>
                            </p:stCondLst>
                            <p:childTnLst>
                              <p:par>
                                <p:cTn id="34" nodeType="afterEffect" fill="hold" presetClass="entr" presetID="10">
                                  <p:stCondLst>
                                    <p:cond delay="0"/>
                                  </p:stCondLst>
                                  <p:childTnLst>
                                    <p:set>
                                      <p:cBhvr>
                                        <p:cTn id="35" dur="1" fill="hold">
                                          <p:stCondLst>
                                            <p:cond delay="0"/>
                                          </p:stCondLst>
                                        </p:cTn>
                                        <p:tgtEl>
                                          <p:spTgt spid="547"/>
                                        </p:tgtEl>
                                        <p:attrNameLst>
                                          <p:attrName>style.visibility</p:attrName>
                                        </p:attrNameLst>
                                      </p:cBhvr>
                                      <p:to>
                                        <p:strVal val="visible"/>
                                      </p:to>
                                    </p:set>
                                    <p:animEffect filter="fade" transition="in">
                                      <p:cBhvr additive="repl">
                                        <p:cTn id="36" dur="500"/>
                                        <p:tgtEl>
                                          <p:spTgt spid="547"/>
                                        </p:tgtEl>
                                      </p:cBhvr>
                                    </p:animEffect>
                                  </p:childTnLst>
                                </p:cTn>
                              </p:par>
                              <p:par>
                                <p:cTn id="37" nodeType="withEffect" fill="hold" presetClass="entr" presetID="10">
                                  <p:stCondLst>
                                    <p:cond delay="0"/>
                                  </p:stCondLst>
                                  <p:childTnLst>
                                    <p:set>
                                      <p:cBhvr>
                                        <p:cTn id="38" dur="1" fill="hold">
                                          <p:stCondLst>
                                            <p:cond delay="0"/>
                                          </p:stCondLst>
                                        </p:cTn>
                                        <p:tgtEl>
                                          <p:spTgt spid="545"/>
                                        </p:tgtEl>
                                        <p:attrNameLst>
                                          <p:attrName>style.visibility</p:attrName>
                                        </p:attrNameLst>
                                      </p:cBhvr>
                                      <p:to>
                                        <p:strVal val="visible"/>
                                      </p:to>
                                    </p:set>
                                    <p:animEffect filter="fade" transition="in">
                                      <p:cBhvr additive="repl">
                                        <p:cTn id="39" dur="250"/>
                                        <p:tgtEl>
                                          <p:spTgt spid="545"/>
                                        </p:tgtEl>
                                      </p:cBhvr>
                                    </p:animEffect>
                                  </p:childTnLst>
                                </p:cTn>
                              </p:par>
                              <p:par>
                                <p:cTn id="40" nodeType="withEffect" fill="hold" presetClass="entr" presetID="10">
                                  <p:stCondLst>
                                    <p:cond delay="0"/>
                                  </p:stCondLst>
                                  <p:childTnLst>
                                    <p:set>
                                      <p:cBhvr>
                                        <p:cTn id="41" dur="1" fill="hold">
                                          <p:stCondLst>
                                            <p:cond delay="0"/>
                                          </p:stCondLst>
                                        </p:cTn>
                                        <p:tgtEl>
                                          <p:spTgt spid="537"/>
                                        </p:tgtEl>
                                        <p:attrNameLst>
                                          <p:attrName>style.visibility</p:attrName>
                                        </p:attrNameLst>
                                      </p:cBhvr>
                                      <p:to>
                                        <p:strVal val="visible"/>
                                      </p:to>
                                    </p:set>
                                    <p:animEffect filter="fade" transition="in">
                                      <p:cBhvr additive="repl">
                                        <p:cTn id="42" dur="250"/>
                                        <p:tgtEl>
                                          <p:spTgt spid="537"/>
                                        </p:tgtEl>
                                      </p:cBhvr>
                                    </p:animEffect>
                                  </p:childTnLst>
                                </p:cTn>
                              </p:par>
                              <p:par>
                                <p:cTn id="43" nodeType="withEffect" fill="hold" presetClass="entr" presetID="10">
                                  <p:stCondLst>
                                    <p:cond delay="0"/>
                                  </p:stCondLst>
                                  <p:childTnLst>
                                    <p:set>
                                      <p:cBhvr>
                                        <p:cTn id="44" dur="1" fill="hold">
                                          <p:stCondLst>
                                            <p:cond delay="0"/>
                                          </p:stCondLst>
                                        </p:cTn>
                                        <p:tgtEl>
                                          <p:spTgt spid="539"/>
                                        </p:tgtEl>
                                        <p:attrNameLst>
                                          <p:attrName>style.visibility</p:attrName>
                                        </p:attrNameLst>
                                      </p:cBhvr>
                                      <p:to>
                                        <p:strVal val="visible"/>
                                      </p:to>
                                    </p:set>
                                    <p:animEffect filter="fade" transition="in">
                                      <p:cBhvr additive="repl">
                                        <p:cTn id="45" dur="500"/>
                                        <p:tgtEl>
                                          <p:spTgt spid="539"/>
                                        </p:tgtEl>
                                      </p:cBhvr>
                                    </p:animEffect>
                                  </p:childTnLst>
                                </p:cTn>
                              </p:par>
                            </p:childTnLst>
                          </p:cTn>
                        </p:par>
                        <p:par>
                          <p:cTn id="46" nodeType="afterEffect" fill="hold">
                            <p:stCondLst>
                              <p:cond delay="3000"/>
                            </p:stCondLst>
                            <p:childTnLst>
                              <p:par>
                                <p:cTn id="47" nodeType="afterEffect" fill="hold" presetClass="entr" presetID="22" presetSubtype="8">
                                  <p:stCondLst>
                                    <p:cond delay="0"/>
                                  </p:stCondLst>
                                  <p:childTnLst>
                                    <p:set>
                                      <p:cBhvr>
                                        <p:cTn id="48" dur="1" fill="hold">
                                          <p:stCondLst>
                                            <p:cond delay="0"/>
                                          </p:stCondLst>
                                        </p:cTn>
                                        <p:tgtEl>
                                          <p:spTgt spid="546"/>
                                        </p:tgtEl>
                                        <p:attrNameLst>
                                          <p:attrName>style.visibility</p:attrName>
                                        </p:attrNameLst>
                                      </p:cBhvr>
                                      <p:to>
                                        <p:strVal val="visible"/>
                                      </p:to>
                                    </p:set>
                                    <p:animEffect filter="wipe(left)" transition="in">
                                      <p:cBhvr additive="repl">
                                        <p:cTn id="49" dur="500"/>
                                        <p:tgtEl>
                                          <p:spTgt spid="546"/>
                                        </p:tgtEl>
                                      </p:cBhvr>
                                    </p:animEffect>
                                  </p:childTnLst>
                                </p:cTn>
                              </p:par>
                              <p:par>
                                <p:cTn id="50" nodeType="withEffect" fill="hold" presetClass="entr" presetID="22" presetSubtype="8">
                                  <p:stCondLst>
                                    <p:cond delay="0"/>
                                  </p:stCondLst>
                                  <p:childTnLst>
                                    <p:set>
                                      <p:cBhvr>
                                        <p:cTn id="51" dur="1" fill="hold">
                                          <p:stCondLst>
                                            <p:cond delay="0"/>
                                          </p:stCondLst>
                                        </p:cTn>
                                        <p:tgtEl>
                                          <p:spTgt spid="538"/>
                                        </p:tgtEl>
                                        <p:attrNameLst>
                                          <p:attrName>style.visibility</p:attrName>
                                        </p:attrNameLst>
                                      </p:cBhvr>
                                      <p:to>
                                        <p:strVal val="visible"/>
                                      </p:to>
                                    </p:set>
                                    <p:animEffect filter="wipe(left)" transition="in">
                                      <p:cBhvr additive="repl">
                                        <p:cTn id="52" dur="500"/>
                                        <p:tgtEl>
                                          <p:spTgt spid="538"/>
                                        </p:tgtEl>
                                      </p:cBhvr>
                                    </p:animEffect>
                                  </p:childTnLst>
                                </p:cTn>
                              </p:par>
                            </p:childTnLst>
                          </p:cTn>
                        </p:par>
                        <p:par>
                          <p:cTn id="53" nodeType="afterEffect" fill="hold">
                            <p:stCondLst>
                              <p:cond delay="3500"/>
                            </p:stCondLst>
                            <p:childTnLst>
                              <p:par>
                                <p:cTn id="54" nodeType="afterEffect" fill="hold" presetClass="entr" presetID="10">
                                  <p:stCondLst>
                                    <p:cond delay="0"/>
                                  </p:stCondLst>
                                  <p:childTnLst>
                                    <p:set>
                                      <p:cBhvr>
                                        <p:cTn id="55" dur="1" fill="hold">
                                          <p:stCondLst>
                                            <p:cond delay="0"/>
                                          </p:stCondLst>
                                        </p:cTn>
                                        <p:tgtEl>
                                          <p:spTgt spid="548"/>
                                        </p:tgtEl>
                                        <p:attrNameLst>
                                          <p:attrName>style.visibility</p:attrName>
                                        </p:attrNameLst>
                                      </p:cBhvr>
                                      <p:to>
                                        <p:strVal val="visible"/>
                                      </p:to>
                                    </p:set>
                                    <p:animEffect filter="fade" transition="in">
                                      <p:cBhvr additive="repl">
                                        <p:cTn id="56" dur="500"/>
                                        <p:tgtEl>
                                          <p:spTgt spid="548"/>
                                        </p:tgtEl>
                                      </p:cBhvr>
                                    </p:animEffect>
                                  </p:childTnLst>
                                </p:cTn>
                              </p:par>
                              <p:par>
                                <p:cTn id="57" nodeType="withEffect" fill="hold" presetClass="entr" presetID="10">
                                  <p:stCondLst>
                                    <p:cond delay="0"/>
                                  </p:stCondLst>
                                  <p:childTnLst>
                                    <p:set>
                                      <p:cBhvr>
                                        <p:cTn id="58" dur="1" fill="hold">
                                          <p:stCondLst>
                                            <p:cond delay="0"/>
                                          </p:stCondLst>
                                        </p:cTn>
                                        <p:tgtEl>
                                          <p:spTgt spid="556"/>
                                        </p:tgtEl>
                                        <p:attrNameLst>
                                          <p:attrName>style.visibility</p:attrName>
                                        </p:attrNameLst>
                                      </p:cBhvr>
                                      <p:to>
                                        <p:strVal val="visible"/>
                                      </p:to>
                                    </p:set>
                                    <p:animEffect filter="fade" transition="in">
                                      <p:cBhvr additive="repl">
                                        <p:cTn id="59" dur="500"/>
                                        <p:tgtEl>
                                          <p:spTgt spid="556"/>
                                        </p:tgtEl>
                                      </p:cBhvr>
                                    </p:animEffect>
                                  </p:childTnLst>
                                </p:cTn>
                              </p:par>
                              <p:par>
                                <p:cTn id="60" nodeType="withEffect" fill="hold" presetClass="entr" presetID="10">
                                  <p:stCondLst>
                                    <p:cond delay="0"/>
                                  </p:stCondLst>
                                  <p:childTnLst>
                                    <p:set>
                                      <p:cBhvr>
                                        <p:cTn id="61" dur="1" fill="hold">
                                          <p:stCondLst>
                                            <p:cond delay="0"/>
                                          </p:stCondLst>
                                        </p:cTn>
                                        <p:tgtEl>
                                          <p:spTgt spid="564"/>
                                        </p:tgtEl>
                                        <p:attrNameLst>
                                          <p:attrName>style.visibility</p:attrName>
                                        </p:attrNameLst>
                                      </p:cBhvr>
                                      <p:to>
                                        <p:strVal val="visible"/>
                                      </p:to>
                                    </p:set>
                                    <p:animEffect filter="fade" transition="in">
                                      <p:cBhvr additive="repl">
                                        <p:cTn id="62" dur="500"/>
                                        <p:tgtEl>
                                          <p:spTgt spid="564"/>
                                        </p:tgtEl>
                                      </p:cBhvr>
                                    </p:animEffect>
                                  </p:childTnLst>
                                </p:cTn>
                              </p:par>
                              <p:par>
                                <p:cTn id="63" nodeType="withEffect" fill="hold" presetClass="entr" presetID="10">
                                  <p:stCondLst>
                                    <p:cond delay="0"/>
                                  </p:stCondLst>
                                  <p:childTnLst>
                                    <p:set>
                                      <p:cBhvr>
                                        <p:cTn id="64" dur="1" fill="hold">
                                          <p:stCondLst>
                                            <p:cond delay="0"/>
                                          </p:stCondLst>
                                        </p:cTn>
                                        <p:tgtEl>
                                          <p:spTgt spid="565"/>
                                        </p:tgtEl>
                                        <p:attrNameLst>
                                          <p:attrName>style.visibility</p:attrName>
                                        </p:attrNameLst>
                                      </p:cBhvr>
                                      <p:to>
                                        <p:strVal val="visible"/>
                                      </p:to>
                                    </p:set>
                                    <p:animEffect filter="fade" transition="in">
                                      <p:cBhvr additive="repl">
                                        <p:cTn id="65" dur="500"/>
                                        <p:tgtEl>
                                          <p:spTgt spid="565"/>
                                        </p:tgtEl>
                                      </p:cBhvr>
                                    </p:animEffect>
                                  </p:childTnLst>
                                </p:cTn>
                              </p:par>
                            </p:childTnLst>
                          </p:cTn>
                        </p:par>
                        <p:par>
                          <p:cTn id="66" nodeType="afterEffect" fill="hold">
                            <p:stCondLst>
                              <p:cond delay="4000"/>
                            </p:stCondLst>
                            <p:childTnLst>
                              <p:par>
                                <p:cTn id="67" nodeType="afterEffect" fill="hold" presetClass="entr" presetID="16" presetSubtype="42">
                                  <p:stCondLst>
                                    <p:cond delay="0"/>
                                  </p:stCondLst>
                                  <p:childTnLst>
                                    <p:set>
                                      <p:cBhvr>
                                        <p:cTn id="68" dur="1" fill="hold">
                                          <p:stCondLst>
                                            <p:cond delay="0"/>
                                          </p:stCondLst>
                                        </p:cTn>
                                        <p:tgtEl>
                                          <p:spTgt spid="555"/>
                                        </p:tgtEl>
                                        <p:attrNameLst>
                                          <p:attrName>style.visibility</p:attrName>
                                        </p:attrNameLst>
                                      </p:cBhvr>
                                      <p:to>
                                        <p:strVal val="visible"/>
                                      </p:to>
                                    </p:set>
                                    <p:animEffect filter="barn(outHorizontal)" transition="in">
                                      <p:cBhvr additive="repl">
                                        <p:cTn id="69" dur="500"/>
                                        <p:tgtEl>
                                          <p:spTgt spid="555"/>
                                        </p:tgtEl>
                                      </p:cBhvr>
                                    </p:animEffect>
                                  </p:childTnLst>
                                </p:cTn>
                              </p:par>
                              <p:par>
                                <p:cTn id="70" nodeType="withEffect" fill="hold" presetClass="entr" presetID="16" presetSubtype="42">
                                  <p:stCondLst>
                                    <p:cond delay="0"/>
                                  </p:stCondLst>
                                  <p:childTnLst>
                                    <p:set>
                                      <p:cBhvr>
                                        <p:cTn id="71" dur="1" fill="hold">
                                          <p:stCondLst>
                                            <p:cond delay="0"/>
                                          </p:stCondLst>
                                        </p:cTn>
                                        <p:tgtEl>
                                          <p:spTgt spid="563"/>
                                        </p:tgtEl>
                                        <p:attrNameLst>
                                          <p:attrName>style.visibility</p:attrName>
                                        </p:attrNameLst>
                                      </p:cBhvr>
                                      <p:to>
                                        <p:strVal val="visible"/>
                                      </p:to>
                                    </p:set>
                                    <p:animEffect filter="barn(outHorizontal)" transition="in">
                                      <p:cBhvr additive="repl">
                                        <p:cTn id="72" dur="500"/>
                                        <p:tgtEl>
                                          <p:spTgt spid="563"/>
                                        </p:tgtEl>
                                      </p:cBhvr>
                                    </p:animEffect>
                                  </p:childTnLst>
                                </p:cTn>
                              </p:par>
                            </p:childTnLst>
                          </p:cTn>
                        </p:par>
                        <p:par>
                          <p:cTn id="73" nodeType="afterEffect" fill="hold">
                            <p:stCondLst>
                              <p:cond delay="4500"/>
                            </p:stCondLst>
                            <p:childTnLst>
                              <p:par>
                                <p:cTn id="74" nodeType="afterEffect" fill="hold" presetClass="entr" presetID="10">
                                  <p:stCondLst>
                                    <p:cond delay="0"/>
                                  </p:stCondLst>
                                  <p:childTnLst>
                                    <p:set>
                                      <p:cBhvr>
                                        <p:cTn id="75" dur="1" fill="hold">
                                          <p:stCondLst>
                                            <p:cond delay="0"/>
                                          </p:stCondLst>
                                        </p:cTn>
                                        <p:tgtEl>
                                          <p:spTgt spid="549"/>
                                        </p:tgtEl>
                                        <p:attrNameLst>
                                          <p:attrName>style.visibility</p:attrName>
                                        </p:attrNameLst>
                                      </p:cBhvr>
                                      <p:to>
                                        <p:strVal val="visible"/>
                                      </p:to>
                                    </p:set>
                                    <p:animEffect filter="fade" transition="in">
                                      <p:cBhvr additive="repl">
                                        <p:cTn id="76" dur="500"/>
                                        <p:tgtEl>
                                          <p:spTgt spid="549"/>
                                        </p:tgtEl>
                                      </p:cBhvr>
                                    </p:animEffect>
                                  </p:childTnLst>
                                </p:cTn>
                              </p:par>
                              <p:par>
                                <p:cTn id="77" nodeType="withEffect" fill="hold" presetClass="entr" presetID="10">
                                  <p:stCondLst>
                                    <p:cond delay="0"/>
                                  </p:stCondLst>
                                  <p:childTnLst>
                                    <p:set>
                                      <p:cBhvr>
                                        <p:cTn id="78" dur="1" fill="hold">
                                          <p:stCondLst>
                                            <p:cond delay="0"/>
                                          </p:stCondLst>
                                        </p:cTn>
                                        <p:tgtEl>
                                          <p:spTgt spid="552"/>
                                        </p:tgtEl>
                                        <p:attrNameLst>
                                          <p:attrName>style.visibility</p:attrName>
                                        </p:attrNameLst>
                                      </p:cBhvr>
                                      <p:to>
                                        <p:strVal val="visible"/>
                                      </p:to>
                                    </p:set>
                                    <p:animEffect filter="fade" transition="in">
                                      <p:cBhvr additive="repl">
                                        <p:cTn id="79" dur="500"/>
                                        <p:tgtEl>
                                          <p:spTgt spid="552"/>
                                        </p:tgtEl>
                                      </p:cBhvr>
                                    </p:animEffect>
                                  </p:childTnLst>
                                </p:cTn>
                              </p:par>
                              <p:par>
                                <p:cTn id="80" nodeType="withEffect" fill="hold" presetClass="entr" presetID="10">
                                  <p:stCondLst>
                                    <p:cond delay="0"/>
                                  </p:stCondLst>
                                  <p:childTnLst>
                                    <p:set>
                                      <p:cBhvr>
                                        <p:cTn id="81" dur="1" fill="hold">
                                          <p:stCondLst>
                                            <p:cond delay="0"/>
                                          </p:stCondLst>
                                        </p:cTn>
                                        <p:tgtEl>
                                          <p:spTgt spid="557"/>
                                        </p:tgtEl>
                                        <p:attrNameLst>
                                          <p:attrName>style.visibility</p:attrName>
                                        </p:attrNameLst>
                                      </p:cBhvr>
                                      <p:to>
                                        <p:strVal val="visible"/>
                                      </p:to>
                                    </p:set>
                                    <p:animEffect filter="fade" transition="in">
                                      <p:cBhvr additive="repl">
                                        <p:cTn id="82" dur="500"/>
                                        <p:tgtEl>
                                          <p:spTgt spid="557"/>
                                        </p:tgtEl>
                                      </p:cBhvr>
                                    </p:animEffect>
                                  </p:childTnLst>
                                </p:cTn>
                              </p:par>
                              <p:par>
                                <p:cTn id="83" nodeType="withEffect" fill="hold" presetClass="entr" presetID="10">
                                  <p:stCondLst>
                                    <p:cond delay="0"/>
                                  </p:stCondLst>
                                  <p:childTnLst>
                                    <p:set>
                                      <p:cBhvr>
                                        <p:cTn id="84" dur="1" fill="hold">
                                          <p:stCondLst>
                                            <p:cond delay="0"/>
                                          </p:stCondLst>
                                        </p:cTn>
                                        <p:tgtEl>
                                          <p:spTgt spid="560"/>
                                        </p:tgtEl>
                                        <p:attrNameLst>
                                          <p:attrName>style.visibility</p:attrName>
                                        </p:attrNameLst>
                                      </p:cBhvr>
                                      <p:to>
                                        <p:strVal val="visible"/>
                                      </p:to>
                                    </p:set>
                                    <p:animEffect filter="fade" transition="in">
                                      <p:cBhvr additive="repl">
                                        <p:cTn id="85" dur="500"/>
                                        <p:tgtEl>
                                          <p:spTgt spid="560"/>
                                        </p:tgtEl>
                                      </p:cBhvr>
                                    </p:animEffect>
                                  </p:childTnLst>
                                </p:cTn>
                              </p:par>
                            </p:childTnLst>
                          </p:cTn>
                        </p:par>
                        <p:par>
                          <p:cTn id="86" nodeType="afterEffect" fill="hold">
                            <p:stCondLst>
                              <p:cond delay="5000"/>
                            </p:stCondLst>
                            <p:childTnLst>
                              <p:par>
                                <p:cTn id="87" nodeType="afterEffect" fill="hold" presetClass="entr" presetID="22" presetSubtype="8">
                                  <p:stCondLst>
                                    <p:cond delay="0"/>
                                  </p:stCondLst>
                                  <p:childTnLst>
                                    <p:set>
                                      <p:cBhvr>
                                        <p:cTn id="88" dur="1" fill="hold">
                                          <p:stCondLst>
                                            <p:cond delay="0"/>
                                          </p:stCondLst>
                                        </p:cTn>
                                        <p:tgtEl>
                                          <p:spTgt spid="550"/>
                                        </p:tgtEl>
                                        <p:attrNameLst>
                                          <p:attrName>style.visibility</p:attrName>
                                        </p:attrNameLst>
                                      </p:cBhvr>
                                      <p:to>
                                        <p:strVal val="visible"/>
                                      </p:to>
                                    </p:set>
                                    <p:animEffect filter="wipe(left)" transition="in">
                                      <p:cBhvr additive="repl">
                                        <p:cTn id="89" dur="500"/>
                                        <p:tgtEl>
                                          <p:spTgt spid="550"/>
                                        </p:tgtEl>
                                      </p:cBhvr>
                                    </p:animEffect>
                                  </p:childTnLst>
                                </p:cTn>
                              </p:par>
                              <p:par>
                                <p:cTn id="90" nodeType="withEffect" fill="hold" presetClass="entr" presetID="22" presetSubtype="8">
                                  <p:stCondLst>
                                    <p:cond delay="0"/>
                                  </p:stCondLst>
                                  <p:childTnLst>
                                    <p:set>
                                      <p:cBhvr>
                                        <p:cTn id="91" dur="1" fill="hold">
                                          <p:stCondLst>
                                            <p:cond delay="0"/>
                                          </p:stCondLst>
                                        </p:cTn>
                                        <p:tgtEl>
                                          <p:spTgt spid="553"/>
                                        </p:tgtEl>
                                        <p:attrNameLst>
                                          <p:attrName>style.visibility</p:attrName>
                                        </p:attrNameLst>
                                      </p:cBhvr>
                                      <p:to>
                                        <p:strVal val="visible"/>
                                      </p:to>
                                    </p:set>
                                    <p:animEffect filter="wipe(left)" transition="in">
                                      <p:cBhvr additive="repl">
                                        <p:cTn id="92" dur="500"/>
                                        <p:tgtEl>
                                          <p:spTgt spid="553"/>
                                        </p:tgtEl>
                                      </p:cBhvr>
                                    </p:animEffect>
                                  </p:childTnLst>
                                </p:cTn>
                              </p:par>
                              <p:par>
                                <p:cTn id="93" nodeType="withEffect" fill="hold" presetClass="entr" presetID="22" presetSubtype="8">
                                  <p:stCondLst>
                                    <p:cond delay="0"/>
                                  </p:stCondLst>
                                  <p:childTnLst>
                                    <p:set>
                                      <p:cBhvr>
                                        <p:cTn id="94" dur="1" fill="hold">
                                          <p:stCondLst>
                                            <p:cond delay="0"/>
                                          </p:stCondLst>
                                        </p:cTn>
                                        <p:tgtEl>
                                          <p:spTgt spid="558"/>
                                        </p:tgtEl>
                                        <p:attrNameLst>
                                          <p:attrName>style.visibility</p:attrName>
                                        </p:attrNameLst>
                                      </p:cBhvr>
                                      <p:to>
                                        <p:strVal val="visible"/>
                                      </p:to>
                                    </p:set>
                                    <p:animEffect filter="wipe(left)" transition="in">
                                      <p:cBhvr additive="repl">
                                        <p:cTn id="95" dur="500"/>
                                        <p:tgtEl>
                                          <p:spTgt spid="558"/>
                                        </p:tgtEl>
                                      </p:cBhvr>
                                    </p:animEffect>
                                  </p:childTnLst>
                                </p:cTn>
                              </p:par>
                              <p:par>
                                <p:cTn id="96" nodeType="withEffect" fill="hold" presetClass="entr" presetID="22" presetSubtype="8">
                                  <p:stCondLst>
                                    <p:cond delay="0"/>
                                  </p:stCondLst>
                                  <p:childTnLst>
                                    <p:set>
                                      <p:cBhvr>
                                        <p:cTn id="97" dur="1" fill="hold">
                                          <p:stCondLst>
                                            <p:cond delay="0"/>
                                          </p:stCondLst>
                                        </p:cTn>
                                        <p:tgtEl>
                                          <p:spTgt spid="561"/>
                                        </p:tgtEl>
                                        <p:attrNameLst>
                                          <p:attrName>style.visibility</p:attrName>
                                        </p:attrNameLst>
                                      </p:cBhvr>
                                      <p:to>
                                        <p:strVal val="visible"/>
                                      </p:to>
                                    </p:set>
                                    <p:animEffect filter="wipe(left)" transition="in">
                                      <p:cBhvr additive="repl">
                                        <p:cTn id="98" dur="500"/>
                                        <p:tgtEl>
                                          <p:spTgt spid="561"/>
                                        </p:tgtEl>
                                      </p:cBhvr>
                                    </p:animEffect>
                                  </p:childTnLst>
                                </p:cTn>
                              </p:par>
                              <p:par>
                                <p:cTn id="99" nodeType="withEffect" fill="hold" presetClass="entr" presetID="22" presetSubtype="8">
                                  <p:stCondLst>
                                    <p:cond delay="0"/>
                                  </p:stCondLst>
                                  <p:childTnLst>
                                    <p:set>
                                      <p:cBhvr>
                                        <p:cTn id="100" dur="1" fill="hold">
                                          <p:stCondLst>
                                            <p:cond delay="0"/>
                                          </p:stCondLst>
                                        </p:cTn>
                                        <p:tgtEl>
                                          <p:spTgt spid="551"/>
                                        </p:tgtEl>
                                        <p:attrNameLst>
                                          <p:attrName>style.visibility</p:attrName>
                                        </p:attrNameLst>
                                      </p:cBhvr>
                                      <p:to>
                                        <p:strVal val="visible"/>
                                      </p:to>
                                    </p:set>
                                    <p:animEffect filter="wipe(left)" transition="in">
                                      <p:cBhvr additive="repl">
                                        <p:cTn id="101" dur="500"/>
                                        <p:tgtEl>
                                          <p:spTgt spid="551"/>
                                        </p:tgtEl>
                                      </p:cBhvr>
                                    </p:animEffect>
                                  </p:childTnLst>
                                </p:cTn>
                              </p:par>
                              <p:par>
                                <p:cTn id="102" nodeType="withEffect" fill="hold" presetClass="entr" presetID="22" presetSubtype="8">
                                  <p:stCondLst>
                                    <p:cond delay="0"/>
                                  </p:stCondLst>
                                  <p:childTnLst>
                                    <p:set>
                                      <p:cBhvr>
                                        <p:cTn id="103" dur="1" fill="hold">
                                          <p:stCondLst>
                                            <p:cond delay="0"/>
                                          </p:stCondLst>
                                        </p:cTn>
                                        <p:tgtEl>
                                          <p:spTgt spid="554"/>
                                        </p:tgtEl>
                                        <p:attrNameLst>
                                          <p:attrName>style.visibility</p:attrName>
                                        </p:attrNameLst>
                                      </p:cBhvr>
                                      <p:to>
                                        <p:strVal val="visible"/>
                                      </p:to>
                                    </p:set>
                                    <p:animEffect filter="wipe(left)" transition="in">
                                      <p:cBhvr additive="repl">
                                        <p:cTn id="104" dur="500"/>
                                        <p:tgtEl>
                                          <p:spTgt spid="554"/>
                                        </p:tgtEl>
                                      </p:cBhvr>
                                    </p:animEffect>
                                  </p:childTnLst>
                                </p:cTn>
                              </p:par>
                              <p:par>
                                <p:cTn id="105" nodeType="withEffect" fill="hold" presetClass="entr" presetID="22" presetSubtype="8">
                                  <p:stCondLst>
                                    <p:cond delay="0"/>
                                  </p:stCondLst>
                                  <p:childTnLst>
                                    <p:set>
                                      <p:cBhvr>
                                        <p:cTn id="106" dur="1" fill="hold">
                                          <p:stCondLst>
                                            <p:cond delay="0"/>
                                          </p:stCondLst>
                                        </p:cTn>
                                        <p:tgtEl>
                                          <p:spTgt spid="559"/>
                                        </p:tgtEl>
                                        <p:attrNameLst>
                                          <p:attrName>style.visibility</p:attrName>
                                        </p:attrNameLst>
                                      </p:cBhvr>
                                      <p:to>
                                        <p:strVal val="visible"/>
                                      </p:to>
                                    </p:set>
                                    <p:animEffect filter="wipe(left)" transition="in">
                                      <p:cBhvr additive="repl">
                                        <p:cTn id="107" dur="500"/>
                                        <p:tgtEl>
                                          <p:spTgt spid="559"/>
                                        </p:tgtEl>
                                      </p:cBhvr>
                                    </p:animEffect>
                                  </p:childTnLst>
                                </p:cTn>
                              </p:par>
                              <p:par>
                                <p:cTn id="108" nodeType="withEffect" fill="hold" presetClass="entr" presetID="22" presetSubtype="8">
                                  <p:stCondLst>
                                    <p:cond delay="0"/>
                                  </p:stCondLst>
                                  <p:childTnLst>
                                    <p:set>
                                      <p:cBhvr>
                                        <p:cTn id="109" dur="1" fill="hold">
                                          <p:stCondLst>
                                            <p:cond delay="0"/>
                                          </p:stCondLst>
                                        </p:cTn>
                                        <p:tgtEl>
                                          <p:spTgt spid="562"/>
                                        </p:tgtEl>
                                        <p:attrNameLst>
                                          <p:attrName>style.visibility</p:attrName>
                                        </p:attrNameLst>
                                      </p:cBhvr>
                                      <p:to>
                                        <p:strVal val="visible"/>
                                      </p:to>
                                    </p:set>
                                    <p:animEffect filter="wipe(left)" transition="in">
                                      <p:cBhvr additive="repl">
                                        <p:cTn id="1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20640" y="188640"/>
            <a:ext cx="8105760" cy="140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 </a:t>
            </a:r>
            <a:endParaRPr b="0" lang="en-US" sz="3600" spc="-1" strike="noStrike">
              <a:solidFill>
                <a:srgbClr val="313c3f"/>
              </a:solidFill>
              <a:latin typeface="Lato"/>
            </a:endParaRPr>
          </a:p>
        </p:txBody>
      </p:sp>
      <p:grpSp>
        <p:nvGrpSpPr>
          <p:cNvPr id="944" name="Group 139"/>
          <p:cNvGrpSpPr/>
          <p:nvPr/>
        </p:nvGrpSpPr>
        <p:grpSpPr>
          <a:xfrm>
            <a:off x="620640" y="4094280"/>
            <a:ext cx="1757520" cy="1722240"/>
            <a:chOff x="620640" y="4094280"/>
            <a:chExt cx="1757520" cy="1722240"/>
          </a:xfrm>
        </p:grpSpPr>
        <p:sp>
          <p:nvSpPr>
            <p:cNvPr id="945" name="Freeform: Shape 5"/>
            <p:cNvSpPr/>
            <p:nvPr/>
          </p:nvSpPr>
          <p:spPr>
            <a:xfrm>
              <a:off x="620640" y="4094280"/>
              <a:ext cx="1757520" cy="1721880"/>
            </a:xfrm>
            <a:custGeom>
              <a:avLst/>
              <a:gdLst/>
              <a:ahLst/>
              <a:rect l="l" t="t" r="r" b="b"/>
              <a:pathLst>
                <a:path w="2366962" h="2320289">
                  <a:moveTo>
                    <a:pt x="2366962" y="1161098"/>
                  </a:moveTo>
                  <a:cubicBezTo>
                    <a:pt x="2366962" y="1659255"/>
                    <a:pt x="2046923" y="2085023"/>
                    <a:pt x="1596390" y="2248853"/>
                  </a:cubicBezTo>
                  <a:cubicBezTo>
                    <a:pt x="1576387" y="2256473"/>
                    <a:pt x="1556385" y="2263140"/>
                    <a:pt x="1535430" y="2268855"/>
                  </a:cubicBezTo>
                  <a:cubicBezTo>
                    <a:pt x="1534477" y="2268855"/>
                    <a:pt x="1533525" y="2269808"/>
                    <a:pt x="1532573" y="2269808"/>
                  </a:cubicBezTo>
                  <a:cubicBezTo>
                    <a:pt x="1485900" y="2284095"/>
                    <a:pt x="1438275" y="2295525"/>
                    <a:pt x="1389698" y="2303145"/>
                  </a:cubicBezTo>
                  <a:cubicBezTo>
                    <a:pt x="1374458" y="2306003"/>
                    <a:pt x="1360170" y="2307908"/>
                    <a:pt x="1344930" y="2309813"/>
                  </a:cubicBezTo>
                  <a:cubicBezTo>
                    <a:pt x="1323975" y="2312670"/>
                    <a:pt x="1303020" y="2314575"/>
                    <a:pt x="1282065" y="2316480"/>
                  </a:cubicBezTo>
                  <a:cubicBezTo>
                    <a:pt x="1275398" y="2317433"/>
                    <a:pt x="1269683" y="2317433"/>
                    <a:pt x="1263015" y="2317433"/>
                  </a:cubicBezTo>
                  <a:cubicBezTo>
                    <a:pt x="1260158" y="2317433"/>
                    <a:pt x="1256348" y="2317433"/>
                    <a:pt x="1253490" y="2318385"/>
                  </a:cubicBezTo>
                  <a:cubicBezTo>
                    <a:pt x="1237298" y="2319338"/>
                    <a:pt x="1221105" y="2320290"/>
                    <a:pt x="1203960" y="2320290"/>
                  </a:cubicBezTo>
                  <a:cubicBezTo>
                    <a:pt x="1202055" y="2320290"/>
                    <a:pt x="1201102" y="2320290"/>
                    <a:pt x="1199198" y="2320290"/>
                  </a:cubicBezTo>
                  <a:cubicBezTo>
                    <a:pt x="1194435" y="2320290"/>
                    <a:pt x="1188720" y="2320290"/>
                    <a:pt x="1183005" y="2320290"/>
                  </a:cubicBezTo>
                  <a:cubicBezTo>
                    <a:pt x="1122998" y="2320290"/>
                    <a:pt x="1063943" y="2315528"/>
                    <a:pt x="1005840" y="2306955"/>
                  </a:cubicBezTo>
                  <a:cubicBezTo>
                    <a:pt x="995362" y="2305050"/>
                    <a:pt x="983933" y="2304098"/>
                    <a:pt x="973455" y="2302193"/>
                  </a:cubicBezTo>
                  <a:cubicBezTo>
                    <a:pt x="907733" y="2290763"/>
                    <a:pt x="843915" y="2273618"/>
                    <a:pt x="782002" y="2251710"/>
                  </a:cubicBezTo>
                  <a:cubicBezTo>
                    <a:pt x="758190" y="2243138"/>
                    <a:pt x="735330" y="2234565"/>
                    <a:pt x="712470" y="2225040"/>
                  </a:cubicBezTo>
                  <a:cubicBezTo>
                    <a:pt x="293370" y="2046923"/>
                    <a:pt x="0" y="1636395"/>
                    <a:pt x="0" y="1160145"/>
                  </a:cubicBezTo>
                  <a:cubicBezTo>
                    <a:pt x="952" y="520065"/>
                    <a:pt x="530543" y="0"/>
                    <a:pt x="1183958" y="0"/>
                  </a:cubicBezTo>
                  <a:cubicBezTo>
                    <a:pt x="1837373" y="0"/>
                    <a:pt x="2366962" y="520065"/>
                    <a:pt x="2366962" y="1161098"/>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46" name="Freeform: Shape 6"/>
            <p:cNvSpPr/>
            <p:nvPr/>
          </p:nvSpPr>
          <p:spPr>
            <a:xfrm>
              <a:off x="1262880" y="5596200"/>
              <a:ext cx="270720" cy="150480"/>
            </a:xfrm>
            <a:custGeom>
              <a:avLst/>
              <a:gdLst/>
              <a:ahLst/>
              <a:rect l="l" t="t" r="r" b="b"/>
              <a:pathLst>
                <a:path w="364807" h="202882">
                  <a:moveTo>
                    <a:pt x="364807" y="95250"/>
                  </a:moveTo>
                  <a:lnTo>
                    <a:pt x="337185" y="105727"/>
                  </a:lnTo>
                  <a:lnTo>
                    <a:pt x="75247" y="202883"/>
                  </a:lnTo>
                  <a:lnTo>
                    <a:pt x="38100" y="102870"/>
                  </a:lnTo>
                  <a:cubicBezTo>
                    <a:pt x="38100" y="102870"/>
                    <a:pt x="38100" y="102870"/>
                    <a:pt x="38100" y="102870"/>
                  </a:cubicBezTo>
                  <a:lnTo>
                    <a:pt x="29528" y="80963"/>
                  </a:lnTo>
                  <a:lnTo>
                    <a:pt x="19050" y="52388"/>
                  </a:lnTo>
                  <a:cubicBezTo>
                    <a:pt x="19050" y="51435"/>
                    <a:pt x="18097" y="50483"/>
                    <a:pt x="18097" y="49530"/>
                  </a:cubicBezTo>
                  <a:cubicBezTo>
                    <a:pt x="17145" y="47625"/>
                    <a:pt x="17145" y="45720"/>
                    <a:pt x="16192" y="43815"/>
                  </a:cubicBezTo>
                  <a:cubicBezTo>
                    <a:pt x="16192" y="42863"/>
                    <a:pt x="15240" y="41910"/>
                    <a:pt x="15240" y="40958"/>
                  </a:cubicBezTo>
                  <a:cubicBezTo>
                    <a:pt x="14288" y="39052"/>
                    <a:pt x="14288" y="37147"/>
                    <a:pt x="13335" y="35242"/>
                  </a:cubicBezTo>
                  <a:cubicBezTo>
                    <a:pt x="12382" y="33338"/>
                    <a:pt x="12382" y="30480"/>
                    <a:pt x="11430" y="28575"/>
                  </a:cubicBezTo>
                  <a:cubicBezTo>
                    <a:pt x="11430" y="29527"/>
                    <a:pt x="10478" y="29527"/>
                    <a:pt x="10478" y="29527"/>
                  </a:cubicBezTo>
                  <a:lnTo>
                    <a:pt x="0" y="0"/>
                  </a:lnTo>
                  <a:cubicBezTo>
                    <a:pt x="13335" y="952"/>
                    <a:pt x="26670" y="1905"/>
                    <a:pt x="39053" y="2858"/>
                  </a:cubicBezTo>
                  <a:cubicBezTo>
                    <a:pt x="52388" y="3810"/>
                    <a:pt x="64770" y="4763"/>
                    <a:pt x="78105" y="5715"/>
                  </a:cubicBezTo>
                  <a:cubicBezTo>
                    <a:pt x="99060" y="6667"/>
                    <a:pt x="120967" y="8572"/>
                    <a:pt x="141922" y="9525"/>
                  </a:cubicBezTo>
                  <a:cubicBezTo>
                    <a:pt x="144780" y="14288"/>
                    <a:pt x="147638" y="18097"/>
                    <a:pt x="151447" y="21908"/>
                  </a:cubicBezTo>
                  <a:cubicBezTo>
                    <a:pt x="162878" y="33338"/>
                    <a:pt x="178117" y="38100"/>
                    <a:pt x="192405" y="44767"/>
                  </a:cubicBezTo>
                  <a:cubicBezTo>
                    <a:pt x="204788" y="50483"/>
                    <a:pt x="217170" y="59055"/>
                    <a:pt x="227647" y="67627"/>
                  </a:cubicBezTo>
                  <a:cubicBezTo>
                    <a:pt x="235267" y="74295"/>
                    <a:pt x="241935" y="81915"/>
                    <a:pt x="251460" y="85725"/>
                  </a:cubicBezTo>
                  <a:cubicBezTo>
                    <a:pt x="260032" y="89535"/>
                    <a:pt x="268605" y="90488"/>
                    <a:pt x="278130" y="91440"/>
                  </a:cubicBezTo>
                  <a:cubicBezTo>
                    <a:pt x="297180" y="93345"/>
                    <a:pt x="316230" y="94297"/>
                    <a:pt x="334328" y="95250"/>
                  </a:cubicBezTo>
                  <a:cubicBezTo>
                    <a:pt x="344805" y="94297"/>
                    <a:pt x="354330" y="95250"/>
                    <a:pt x="364807" y="95250"/>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47" name="Freeform: Shape 7"/>
            <p:cNvSpPr/>
            <p:nvPr/>
          </p:nvSpPr>
          <p:spPr>
            <a:xfrm>
              <a:off x="1145520" y="4748040"/>
              <a:ext cx="667080" cy="657000"/>
            </a:xfrm>
            <a:custGeom>
              <a:avLst/>
              <a:gdLst/>
              <a:ahLst/>
              <a:rect l="l" t="t" r="r" b="b"/>
              <a:pathLst>
                <a:path w="898445" h="885586">
                  <a:moveTo>
                    <a:pt x="896303" y="158829"/>
                  </a:moveTo>
                  <a:cubicBezTo>
                    <a:pt x="890588" y="183594"/>
                    <a:pt x="885825" y="207407"/>
                    <a:pt x="881063" y="232172"/>
                  </a:cubicBezTo>
                  <a:cubicBezTo>
                    <a:pt x="850582" y="402669"/>
                    <a:pt x="853440" y="574119"/>
                    <a:pt x="842963" y="758904"/>
                  </a:cubicBezTo>
                  <a:cubicBezTo>
                    <a:pt x="842963" y="762714"/>
                    <a:pt x="842010" y="777954"/>
                    <a:pt x="841057" y="796052"/>
                  </a:cubicBezTo>
                  <a:cubicBezTo>
                    <a:pt x="841057" y="796052"/>
                    <a:pt x="846772" y="883682"/>
                    <a:pt x="846772" y="883682"/>
                  </a:cubicBezTo>
                  <a:cubicBezTo>
                    <a:pt x="827722" y="892254"/>
                    <a:pt x="811530" y="855107"/>
                    <a:pt x="791528" y="851297"/>
                  </a:cubicBezTo>
                  <a:cubicBezTo>
                    <a:pt x="767715" y="847487"/>
                    <a:pt x="739140" y="797957"/>
                    <a:pt x="718185" y="817959"/>
                  </a:cubicBezTo>
                  <a:cubicBezTo>
                    <a:pt x="717232" y="817959"/>
                    <a:pt x="717232" y="818912"/>
                    <a:pt x="716280" y="818912"/>
                  </a:cubicBezTo>
                  <a:cubicBezTo>
                    <a:pt x="701993" y="833199"/>
                    <a:pt x="692468" y="854154"/>
                    <a:pt x="673418" y="861774"/>
                  </a:cubicBezTo>
                  <a:cubicBezTo>
                    <a:pt x="665797" y="864632"/>
                    <a:pt x="657225" y="864632"/>
                    <a:pt x="648653" y="865584"/>
                  </a:cubicBezTo>
                  <a:cubicBezTo>
                    <a:pt x="624840" y="866537"/>
                    <a:pt x="600075" y="866537"/>
                    <a:pt x="576263" y="867489"/>
                  </a:cubicBezTo>
                  <a:cubicBezTo>
                    <a:pt x="564832" y="867489"/>
                    <a:pt x="552450" y="867489"/>
                    <a:pt x="541020" y="868442"/>
                  </a:cubicBezTo>
                  <a:cubicBezTo>
                    <a:pt x="511493" y="868442"/>
                    <a:pt x="482918" y="868442"/>
                    <a:pt x="453390" y="868442"/>
                  </a:cubicBezTo>
                  <a:cubicBezTo>
                    <a:pt x="454343" y="865584"/>
                    <a:pt x="455295" y="863679"/>
                    <a:pt x="456247" y="860822"/>
                  </a:cubicBezTo>
                  <a:cubicBezTo>
                    <a:pt x="432435" y="860822"/>
                    <a:pt x="392430" y="868442"/>
                    <a:pt x="367665" y="867489"/>
                  </a:cubicBezTo>
                  <a:cubicBezTo>
                    <a:pt x="347663" y="867489"/>
                    <a:pt x="326707" y="866537"/>
                    <a:pt x="306705" y="866537"/>
                  </a:cubicBezTo>
                  <a:cubicBezTo>
                    <a:pt x="246697" y="864632"/>
                    <a:pt x="193357" y="861774"/>
                    <a:pt x="135255" y="874157"/>
                  </a:cubicBezTo>
                  <a:cubicBezTo>
                    <a:pt x="106680" y="877014"/>
                    <a:pt x="80010" y="880824"/>
                    <a:pt x="60007" y="885587"/>
                  </a:cubicBezTo>
                  <a:cubicBezTo>
                    <a:pt x="60007" y="885587"/>
                    <a:pt x="60007" y="885587"/>
                    <a:pt x="60007" y="885587"/>
                  </a:cubicBezTo>
                  <a:cubicBezTo>
                    <a:pt x="22860" y="627459"/>
                    <a:pt x="92393" y="351234"/>
                    <a:pt x="0" y="106442"/>
                  </a:cubicBezTo>
                  <a:cubicBezTo>
                    <a:pt x="3810" y="105489"/>
                    <a:pt x="7620" y="104537"/>
                    <a:pt x="10478" y="103584"/>
                  </a:cubicBezTo>
                  <a:cubicBezTo>
                    <a:pt x="82868" y="83582"/>
                    <a:pt x="149543" y="49292"/>
                    <a:pt x="216218" y="16907"/>
                  </a:cubicBezTo>
                  <a:cubicBezTo>
                    <a:pt x="230505" y="10239"/>
                    <a:pt x="244793" y="2619"/>
                    <a:pt x="260032" y="714"/>
                  </a:cubicBezTo>
                  <a:cubicBezTo>
                    <a:pt x="270510" y="-238"/>
                    <a:pt x="280035" y="-238"/>
                    <a:pt x="290513" y="714"/>
                  </a:cubicBezTo>
                  <a:cubicBezTo>
                    <a:pt x="375285" y="7382"/>
                    <a:pt x="460057" y="13097"/>
                    <a:pt x="544830" y="19764"/>
                  </a:cubicBezTo>
                  <a:cubicBezTo>
                    <a:pt x="574357" y="21669"/>
                    <a:pt x="604838" y="33099"/>
                    <a:pt x="634365" y="39767"/>
                  </a:cubicBezTo>
                  <a:cubicBezTo>
                    <a:pt x="637222" y="40719"/>
                    <a:pt x="640080" y="40719"/>
                    <a:pt x="641985" y="41672"/>
                  </a:cubicBezTo>
                  <a:cubicBezTo>
                    <a:pt x="669607" y="47387"/>
                    <a:pt x="747713" y="79772"/>
                    <a:pt x="811530" y="102632"/>
                  </a:cubicBezTo>
                  <a:cubicBezTo>
                    <a:pt x="840105" y="113109"/>
                    <a:pt x="848678" y="115014"/>
                    <a:pt x="865822" y="117872"/>
                  </a:cubicBezTo>
                  <a:cubicBezTo>
                    <a:pt x="876300" y="122634"/>
                    <a:pt x="886778" y="127397"/>
                    <a:pt x="896303" y="133112"/>
                  </a:cubicBezTo>
                  <a:cubicBezTo>
                    <a:pt x="896303" y="133112"/>
                    <a:pt x="896303" y="134064"/>
                    <a:pt x="896303" y="134064"/>
                  </a:cubicBezTo>
                  <a:cubicBezTo>
                    <a:pt x="899160" y="141684"/>
                    <a:pt x="899160" y="149304"/>
                    <a:pt x="896303" y="15882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48" name="Freeform: Shape 8"/>
            <p:cNvSpPr/>
            <p:nvPr/>
          </p:nvSpPr>
          <p:spPr>
            <a:xfrm>
              <a:off x="1267200" y="4839120"/>
              <a:ext cx="154800" cy="177120"/>
            </a:xfrm>
            <a:custGeom>
              <a:avLst/>
              <a:gdLst/>
              <a:ahLst/>
              <a:rect l="l" t="t" r="r" b="b"/>
              <a:pathLst>
                <a:path w="208597" h="239077">
                  <a:moveTo>
                    <a:pt x="208597" y="193358"/>
                  </a:moveTo>
                  <a:lnTo>
                    <a:pt x="85725" y="239078"/>
                  </a:lnTo>
                  <a:cubicBezTo>
                    <a:pt x="72390" y="220028"/>
                    <a:pt x="58102" y="200978"/>
                    <a:pt x="41910" y="182880"/>
                  </a:cubicBezTo>
                  <a:cubicBezTo>
                    <a:pt x="76200" y="161925"/>
                    <a:pt x="96202" y="140018"/>
                    <a:pt x="120967"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5733"/>
                    <a:pt x="203835" y="169545"/>
                    <a:pt x="208597" y="19335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49" name="Freeform: Shape 9"/>
            <p:cNvSpPr/>
            <p:nvPr/>
          </p:nvSpPr>
          <p:spPr>
            <a:xfrm>
              <a:off x="1650600" y="4846320"/>
              <a:ext cx="94680" cy="73080"/>
            </a:xfrm>
            <a:custGeom>
              <a:avLst/>
              <a:gdLst/>
              <a:ahLst/>
              <a:rect l="l" t="t" r="r" b="b"/>
              <a:pathLst>
                <a:path w="127634" h="98502">
                  <a:moveTo>
                    <a:pt x="42863" y="0"/>
                  </a:moveTo>
                  <a:cubicBezTo>
                    <a:pt x="68580" y="28575"/>
                    <a:pt x="101918" y="60960"/>
                    <a:pt x="127635" y="90488"/>
                  </a:cubicBezTo>
                  <a:cubicBezTo>
                    <a:pt x="94297" y="95250"/>
                    <a:pt x="75247" y="92393"/>
                    <a:pt x="41910" y="97155"/>
                  </a:cubicBezTo>
                  <a:cubicBezTo>
                    <a:pt x="34290" y="98108"/>
                    <a:pt x="26670" y="99060"/>
                    <a:pt x="19050" y="98108"/>
                  </a:cubicBezTo>
                  <a:cubicBezTo>
                    <a:pt x="11430" y="97155"/>
                    <a:pt x="3810" y="93345"/>
                    <a:pt x="0" y="86678"/>
                  </a:cubicBezTo>
                  <a:cubicBezTo>
                    <a:pt x="17145" y="53340"/>
                    <a:pt x="17145" y="25718"/>
                    <a:pt x="42863" y="0"/>
                  </a:cubicBezTo>
                  <a:close/>
                </a:path>
              </a:pathLst>
            </a:custGeom>
            <a:solidFill>
              <a:srgbClr val="383649"/>
            </a:solidFill>
            <a:ln w="0">
              <a:noFill/>
            </a:ln>
          </p:spPr>
          <p:style>
            <a:lnRef idx="0"/>
            <a:fillRef idx="0"/>
            <a:effectRef idx="0"/>
            <a:fontRef idx="minor"/>
          </p:style>
          <p:txBody>
            <a:bodyPr lIns="90000" rIns="90000" tIns="26280" bIns="26280" anchor="ctr">
              <a:noAutofit/>
            </a:bodyPr>
            <a:p>
              <a:endParaRPr b="0" lang="en-US" sz="1800" spc="-1" strike="noStrike">
                <a:solidFill>
                  <a:srgbClr val="313c3f"/>
                </a:solidFill>
                <a:latin typeface="Source Sans Pro"/>
              </a:endParaRPr>
            </a:p>
          </p:txBody>
        </p:sp>
        <p:sp>
          <p:nvSpPr>
            <p:cNvPr id="950" name="Freeform: Shape 10"/>
            <p:cNvSpPr/>
            <p:nvPr/>
          </p:nvSpPr>
          <p:spPr>
            <a:xfrm>
              <a:off x="1643400" y="4933800"/>
              <a:ext cx="87480" cy="216720"/>
            </a:xfrm>
            <a:custGeom>
              <a:avLst/>
              <a:gdLst/>
              <a:ahLst/>
              <a:rect l="l" t="t" r="r" b="b"/>
              <a:pathLst>
                <a:path w="117860" h="292417">
                  <a:moveTo>
                    <a:pt x="61663" y="0"/>
                  </a:moveTo>
                  <a:cubicBezTo>
                    <a:pt x="78808" y="15240"/>
                    <a:pt x="102620" y="27623"/>
                    <a:pt x="117860" y="33338"/>
                  </a:cubicBezTo>
                  <a:cubicBezTo>
                    <a:pt x="42613" y="135255"/>
                    <a:pt x="21658" y="182880"/>
                    <a:pt x="4513" y="292418"/>
                  </a:cubicBezTo>
                  <a:cubicBezTo>
                    <a:pt x="-3107" y="199073"/>
                    <a:pt x="-1202" y="104775"/>
                    <a:pt x="11180" y="11430"/>
                  </a:cubicBezTo>
                  <a:cubicBezTo>
                    <a:pt x="14990" y="-9525"/>
                    <a:pt x="42613" y="8573"/>
                    <a:pt x="61663"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51" name="Freeform: Shape 11"/>
            <p:cNvSpPr/>
            <p:nvPr/>
          </p:nvSpPr>
          <p:spPr>
            <a:xfrm>
              <a:off x="1574640" y="4518000"/>
              <a:ext cx="73080" cy="132120"/>
            </a:xfrm>
            <a:custGeom>
              <a:avLst/>
              <a:gdLst/>
              <a:ahLst/>
              <a:rect l="l" t="t" r="r" b="b"/>
              <a:pathLst>
                <a:path w="98741" h="178442">
                  <a:moveTo>
                    <a:pt x="71438" y="107005"/>
                  </a:moveTo>
                  <a:cubicBezTo>
                    <a:pt x="67627" y="120340"/>
                    <a:pt x="62865" y="134627"/>
                    <a:pt x="55245" y="146057"/>
                  </a:cubicBezTo>
                  <a:cubicBezTo>
                    <a:pt x="48577" y="156535"/>
                    <a:pt x="40957" y="165107"/>
                    <a:pt x="32385" y="173680"/>
                  </a:cubicBezTo>
                  <a:cubicBezTo>
                    <a:pt x="31432" y="174632"/>
                    <a:pt x="29527" y="176537"/>
                    <a:pt x="28575" y="177490"/>
                  </a:cubicBezTo>
                  <a:cubicBezTo>
                    <a:pt x="26670" y="178442"/>
                    <a:pt x="24765" y="178442"/>
                    <a:pt x="22860" y="178442"/>
                  </a:cubicBezTo>
                  <a:cubicBezTo>
                    <a:pt x="15240" y="178442"/>
                    <a:pt x="7620" y="178442"/>
                    <a:pt x="0" y="178442"/>
                  </a:cubicBezTo>
                  <a:cubicBezTo>
                    <a:pt x="13335" y="155582"/>
                    <a:pt x="13335" y="127960"/>
                    <a:pt x="12382" y="101290"/>
                  </a:cubicBezTo>
                  <a:cubicBezTo>
                    <a:pt x="12382" y="91765"/>
                    <a:pt x="12382" y="82240"/>
                    <a:pt x="13335" y="73667"/>
                  </a:cubicBezTo>
                  <a:cubicBezTo>
                    <a:pt x="19050" y="43187"/>
                    <a:pt x="45720" y="20327"/>
                    <a:pt x="73342" y="6992"/>
                  </a:cubicBezTo>
                  <a:cubicBezTo>
                    <a:pt x="80010" y="4135"/>
                    <a:pt x="95250" y="-5390"/>
                    <a:pt x="98107" y="4135"/>
                  </a:cubicBezTo>
                  <a:cubicBezTo>
                    <a:pt x="100965" y="12707"/>
                    <a:pt x="93345" y="30805"/>
                    <a:pt x="91440" y="39377"/>
                  </a:cubicBezTo>
                  <a:cubicBezTo>
                    <a:pt x="85725" y="61285"/>
                    <a:pt x="78105" y="84145"/>
                    <a:pt x="71438" y="10700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52" name="Freeform: Shape 12"/>
            <p:cNvSpPr/>
            <p:nvPr/>
          </p:nvSpPr>
          <p:spPr>
            <a:xfrm>
              <a:off x="1321920" y="4503960"/>
              <a:ext cx="93240" cy="150120"/>
            </a:xfrm>
            <a:custGeom>
              <a:avLst/>
              <a:gdLst/>
              <a:ahLst/>
              <a:rect l="l" t="t" r="r" b="b"/>
              <a:pathLst>
                <a:path w="125980" h="202349">
                  <a:moveTo>
                    <a:pt x="53590" y="176237"/>
                  </a:moveTo>
                  <a:cubicBezTo>
                    <a:pt x="58353" y="186715"/>
                    <a:pt x="65020" y="199097"/>
                    <a:pt x="76450" y="201955"/>
                  </a:cubicBezTo>
                  <a:cubicBezTo>
                    <a:pt x="81213" y="202907"/>
                    <a:pt x="86928" y="201955"/>
                    <a:pt x="91690" y="201002"/>
                  </a:cubicBezTo>
                  <a:cubicBezTo>
                    <a:pt x="101215" y="199097"/>
                    <a:pt x="111693" y="197192"/>
                    <a:pt x="121218" y="195287"/>
                  </a:cubicBezTo>
                  <a:cubicBezTo>
                    <a:pt x="123123" y="195287"/>
                    <a:pt x="124075" y="194335"/>
                    <a:pt x="125028" y="193382"/>
                  </a:cubicBezTo>
                  <a:cubicBezTo>
                    <a:pt x="125980" y="192430"/>
                    <a:pt x="125980" y="189572"/>
                    <a:pt x="125980" y="188620"/>
                  </a:cubicBezTo>
                  <a:cubicBezTo>
                    <a:pt x="116455" y="133375"/>
                    <a:pt x="94548" y="80987"/>
                    <a:pt x="62163" y="35267"/>
                  </a:cubicBezTo>
                  <a:cubicBezTo>
                    <a:pt x="51685" y="20980"/>
                    <a:pt x="36445" y="977"/>
                    <a:pt x="16443" y="25"/>
                  </a:cubicBezTo>
                  <a:cubicBezTo>
                    <a:pt x="-8322" y="-928"/>
                    <a:pt x="1203" y="25742"/>
                    <a:pt x="5013" y="40030"/>
                  </a:cubicBezTo>
                  <a:cubicBezTo>
                    <a:pt x="15490" y="87655"/>
                    <a:pt x="34540" y="132422"/>
                    <a:pt x="53590" y="17623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53" name="Freeform: Shape 13"/>
            <p:cNvSpPr/>
            <p:nvPr/>
          </p:nvSpPr>
          <p:spPr>
            <a:xfrm>
              <a:off x="1006560" y="4827960"/>
              <a:ext cx="475920" cy="776160"/>
            </a:xfrm>
            <a:custGeom>
              <a:avLst/>
              <a:gdLst/>
              <a:ahLst/>
              <a:rect l="l" t="t" r="r" b="b"/>
              <a:pathLst>
                <a:path w="641032" h="1046187">
                  <a:moveTo>
                    <a:pt x="641033" y="753428"/>
                  </a:moveTo>
                  <a:cubicBezTo>
                    <a:pt x="641033" y="754380"/>
                    <a:pt x="640080" y="755332"/>
                    <a:pt x="640080" y="756285"/>
                  </a:cubicBezTo>
                  <a:cubicBezTo>
                    <a:pt x="639128" y="758190"/>
                    <a:pt x="639128" y="760095"/>
                    <a:pt x="638175" y="762000"/>
                  </a:cubicBezTo>
                  <a:cubicBezTo>
                    <a:pt x="630555" y="783907"/>
                    <a:pt x="623888" y="805815"/>
                    <a:pt x="617220" y="827723"/>
                  </a:cubicBezTo>
                  <a:cubicBezTo>
                    <a:pt x="616268" y="829628"/>
                    <a:pt x="616268" y="831532"/>
                    <a:pt x="615315" y="833438"/>
                  </a:cubicBezTo>
                  <a:cubicBezTo>
                    <a:pt x="608647" y="859155"/>
                    <a:pt x="601980" y="884873"/>
                    <a:pt x="598170" y="910590"/>
                  </a:cubicBezTo>
                  <a:cubicBezTo>
                    <a:pt x="595313" y="930593"/>
                    <a:pt x="592455" y="949643"/>
                    <a:pt x="591503" y="969645"/>
                  </a:cubicBezTo>
                  <a:cubicBezTo>
                    <a:pt x="591503" y="970598"/>
                    <a:pt x="591503" y="971550"/>
                    <a:pt x="591503" y="972503"/>
                  </a:cubicBezTo>
                  <a:cubicBezTo>
                    <a:pt x="590550" y="995363"/>
                    <a:pt x="591503" y="1018223"/>
                    <a:pt x="595313" y="1041082"/>
                  </a:cubicBezTo>
                  <a:cubicBezTo>
                    <a:pt x="594360" y="1041082"/>
                    <a:pt x="592455" y="1041082"/>
                    <a:pt x="591503" y="1041082"/>
                  </a:cubicBezTo>
                  <a:cubicBezTo>
                    <a:pt x="590550" y="1041082"/>
                    <a:pt x="589597" y="1041082"/>
                    <a:pt x="588645" y="1041082"/>
                  </a:cubicBezTo>
                  <a:cubicBezTo>
                    <a:pt x="558165" y="1041082"/>
                    <a:pt x="515303" y="1047750"/>
                    <a:pt x="485775" y="1045845"/>
                  </a:cubicBezTo>
                  <a:cubicBezTo>
                    <a:pt x="464820" y="1044893"/>
                    <a:pt x="442913" y="1043940"/>
                    <a:pt x="421958" y="1042035"/>
                  </a:cubicBezTo>
                  <a:cubicBezTo>
                    <a:pt x="408622" y="1041082"/>
                    <a:pt x="396240" y="1040130"/>
                    <a:pt x="382905" y="1039178"/>
                  </a:cubicBezTo>
                  <a:cubicBezTo>
                    <a:pt x="359093" y="1037273"/>
                    <a:pt x="336233" y="1035368"/>
                    <a:pt x="312420" y="1033463"/>
                  </a:cubicBezTo>
                  <a:cubicBezTo>
                    <a:pt x="281940" y="1031557"/>
                    <a:pt x="250508" y="1028700"/>
                    <a:pt x="220028" y="1025843"/>
                  </a:cubicBezTo>
                  <a:cubicBezTo>
                    <a:pt x="220028" y="1025843"/>
                    <a:pt x="219075" y="1025843"/>
                    <a:pt x="219075" y="1025843"/>
                  </a:cubicBezTo>
                  <a:cubicBezTo>
                    <a:pt x="219075" y="1025843"/>
                    <a:pt x="218122" y="1025843"/>
                    <a:pt x="218122" y="1025843"/>
                  </a:cubicBezTo>
                  <a:cubicBezTo>
                    <a:pt x="187643" y="1022985"/>
                    <a:pt x="157163" y="1021080"/>
                    <a:pt x="126683" y="1018223"/>
                  </a:cubicBezTo>
                  <a:cubicBezTo>
                    <a:pt x="121920" y="1018223"/>
                    <a:pt x="117158" y="1017270"/>
                    <a:pt x="112395" y="1017270"/>
                  </a:cubicBezTo>
                  <a:cubicBezTo>
                    <a:pt x="94297" y="1015365"/>
                    <a:pt x="75247" y="1014413"/>
                    <a:pt x="59055" y="1005840"/>
                  </a:cubicBezTo>
                  <a:cubicBezTo>
                    <a:pt x="51435" y="1002030"/>
                    <a:pt x="44768" y="997268"/>
                    <a:pt x="38100" y="991553"/>
                  </a:cubicBezTo>
                  <a:cubicBezTo>
                    <a:pt x="25718" y="979170"/>
                    <a:pt x="16193" y="963930"/>
                    <a:pt x="10478" y="946785"/>
                  </a:cubicBezTo>
                  <a:cubicBezTo>
                    <a:pt x="1905" y="922020"/>
                    <a:pt x="0" y="895350"/>
                    <a:pt x="0" y="869632"/>
                  </a:cubicBezTo>
                  <a:cubicBezTo>
                    <a:pt x="0" y="805815"/>
                    <a:pt x="6668" y="741998"/>
                    <a:pt x="15240" y="678180"/>
                  </a:cubicBezTo>
                  <a:cubicBezTo>
                    <a:pt x="22860" y="616268"/>
                    <a:pt x="32385" y="553403"/>
                    <a:pt x="37147" y="491490"/>
                  </a:cubicBezTo>
                  <a:cubicBezTo>
                    <a:pt x="41910" y="417195"/>
                    <a:pt x="40958" y="341948"/>
                    <a:pt x="52388" y="267653"/>
                  </a:cubicBezTo>
                  <a:cubicBezTo>
                    <a:pt x="59055" y="226695"/>
                    <a:pt x="39053" y="71438"/>
                    <a:pt x="133350" y="17145"/>
                  </a:cubicBezTo>
                  <a:cubicBezTo>
                    <a:pt x="142875" y="11430"/>
                    <a:pt x="153353" y="6668"/>
                    <a:pt x="165735" y="3810"/>
                  </a:cubicBezTo>
                  <a:cubicBezTo>
                    <a:pt x="171450" y="1905"/>
                    <a:pt x="177165" y="952"/>
                    <a:pt x="183833" y="0"/>
                  </a:cubicBezTo>
                  <a:cubicBezTo>
                    <a:pt x="235268" y="137160"/>
                    <a:pt x="236220" y="284798"/>
                    <a:pt x="233363" y="433388"/>
                  </a:cubicBezTo>
                  <a:cubicBezTo>
                    <a:pt x="232410" y="476250"/>
                    <a:pt x="231458" y="518160"/>
                    <a:pt x="231458" y="561023"/>
                  </a:cubicBezTo>
                  <a:cubicBezTo>
                    <a:pt x="231458" y="634365"/>
                    <a:pt x="233363" y="707707"/>
                    <a:pt x="242888" y="779145"/>
                  </a:cubicBezTo>
                  <a:cubicBezTo>
                    <a:pt x="242888" y="779145"/>
                    <a:pt x="242888" y="779145"/>
                    <a:pt x="242888" y="779145"/>
                  </a:cubicBezTo>
                  <a:cubicBezTo>
                    <a:pt x="248603" y="778193"/>
                    <a:pt x="310515" y="769620"/>
                    <a:pt x="310515" y="769620"/>
                  </a:cubicBezTo>
                  <a:cubicBezTo>
                    <a:pt x="312420" y="768668"/>
                    <a:pt x="315278" y="768668"/>
                    <a:pt x="318135" y="767715"/>
                  </a:cubicBezTo>
                  <a:cubicBezTo>
                    <a:pt x="318135" y="767715"/>
                    <a:pt x="318135" y="767715"/>
                    <a:pt x="319088" y="767715"/>
                  </a:cubicBezTo>
                  <a:cubicBezTo>
                    <a:pt x="327660" y="765810"/>
                    <a:pt x="336233" y="763905"/>
                    <a:pt x="344805" y="762953"/>
                  </a:cubicBezTo>
                  <a:cubicBezTo>
                    <a:pt x="393383" y="756285"/>
                    <a:pt x="439103" y="759143"/>
                    <a:pt x="490538" y="760095"/>
                  </a:cubicBezTo>
                  <a:cubicBezTo>
                    <a:pt x="510540" y="761048"/>
                    <a:pt x="531495" y="761048"/>
                    <a:pt x="551497" y="761048"/>
                  </a:cubicBezTo>
                  <a:cubicBezTo>
                    <a:pt x="577215" y="760095"/>
                    <a:pt x="617220" y="752475"/>
                    <a:pt x="641033" y="75342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54" name="Freeform: Shape 14"/>
            <p:cNvSpPr/>
            <p:nvPr/>
          </p:nvSpPr>
          <p:spPr>
            <a:xfrm>
              <a:off x="1076760" y="4918320"/>
              <a:ext cx="698040" cy="747720"/>
            </a:xfrm>
            <a:custGeom>
              <a:avLst/>
              <a:gdLst/>
              <a:ahLst/>
              <a:rect l="l" t="t" r="r" b="b"/>
              <a:pathLst>
                <a:path w="940117" h="1007744">
                  <a:moveTo>
                    <a:pt x="932498" y="841057"/>
                  </a:moveTo>
                  <a:cubicBezTo>
                    <a:pt x="856298" y="880110"/>
                    <a:pt x="778193" y="923925"/>
                    <a:pt x="701040" y="958215"/>
                  </a:cubicBezTo>
                  <a:cubicBezTo>
                    <a:pt x="701993" y="960120"/>
                    <a:pt x="702945" y="962025"/>
                    <a:pt x="703898" y="962978"/>
                  </a:cubicBezTo>
                  <a:cubicBezTo>
                    <a:pt x="705803" y="965835"/>
                    <a:pt x="707708" y="969645"/>
                    <a:pt x="709613" y="972503"/>
                  </a:cubicBezTo>
                  <a:lnTo>
                    <a:pt x="614363" y="1007745"/>
                  </a:lnTo>
                  <a:cubicBezTo>
                    <a:pt x="604838" y="1007745"/>
                    <a:pt x="594360" y="1006793"/>
                    <a:pt x="584835" y="1006793"/>
                  </a:cubicBezTo>
                  <a:cubicBezTo>
                    <a:pt x="565785" y="1005840"/>
                    <a:pt x="546735" y="1004887"/>
                    <a:pt x="528638" y="1002982"/>
                  </a:cubicBezTo>
                  <a:cubicBezTo>
                    <a:pt x="520065" y="1002030"/>
                    <a:pt x="510540" y="1001078"/>
                    <a:pt x="501968" y="997268"/>
                  </a:cubicBezTo>
                  <a:cubicBezTo>
                    <a:pt x="492443" y="993457"/>
                    <a:pt x="485775" y="985837"/>
                    <a:pt x="478155" y="979170"/>
                  </a:cubicBezTo>
                  <a:cubicBezTo>
                    <a:pt x="467678" y="969645"/>
                    <a:pt x="455295" y="962025"/>
                    <a:pt x="442913" y="956310"/>
                  </a:cubicBezTo>
                  <a:cubicBezTo>
                    <a:pt x="428625" y="949643"/>
                    <a:pt x="413385" y="944880"/>
                    <a:pt x="401955" y="933450"/>
                  </a:cubicBezTo>
                  <a:cubicBezTo>
                    <a:pt x="398145" y="929640"/>
                    <a:pt x="395288" y="925830"/>
                    <a:pt x="392430" y="921068"/>
                  </a:cubicBezTo>
                  <a:cubicBezTo>
                    <a:pt x="423863" y="922020"/>
                    <a:pt x="470535" y="915353"/>
                    <a:pt x="501968" y="916305"/>
                  </a:cubicBezTo>
                  <a:cubicBezTo>
                    <a:pt x="498158" y="892493"/>
                    <a:pt x="497205" y="868680"/>
                    <a:pt x="498158" y="845820"/>
                  </a:cubicBezTo>
                  <a:cubicBezTo>
                    <a:pt x="500063" y="800100"/>
                    <a:pt x="509588" y="754380"/>
                    <a:pt x="521970" y="710565"/>
                  </a:cubicBezTo>
                  <a:cubicBezTo>
                    <a:pt x="521970" y="710565"/>
                    <a:pt x="521970" y="710565"/>
                    <a:pt x="521970" y="709612"/>
                  </a:cubicBezTo>
                  <a:cubicBezTo>
                    <a:pt x="522923" y="706755"/>
                    <a:pt x="523875" y="703898"/>
                    <a:pt x="524828" y="701040"/>
                  </a:cubicBezTo>
                  <a:cubicBezTo>
                    <a:pt x="524828" y="701040"/>
                    <a:pt x="524828" y="700087"/>
                    <a:pt x="524828" y="700087"/>
                  </a:cubicBezTo>
                  <a:cubicBezTo>
                    <a:pt x="524828" y="698182"/>
                    <a:pt x="525780" y="697230"/>
                    <a:pt x="525780" y="695325"/>
                  </a:cubicBezTo>
                  <a:cubicBezTo>
                    <a:pt x="525780" y="695325"/>
                    <a:pt x="525780" y="694373"/>
                    <a:pt x="525780" y="694373"/>
                  </a:cubicBezTo>
                  <a:cubicBezTo>
                    <a:pt x="526733" y="690562"/>
                    <a:pt x="527685" y="687705"/>
                    <a:pt x="528638" y="683895"/>
                  </a:cubicBezTo>
                  <a:cubicBezTo>
                    <a:pt x="533400" y="668655"/>
                    <a:pt x="538163" y="654368"/>
                    <a:pt x="542925" y="639128"/>
                  </a:cubicBezTo>
                  <a:cubicBezTo>
                    <a:pt x="543878" y="636270"/>
                    <a:pt x="544830" y="634365"/>
                    <a:pt x="545783" y="631507"/>
                  </a:cubicBezTo>
                  <a:cubicBezTo>
                    <a:pt x="521970" y="631507"/>
                    <a:pt x="481965" y="639128"/>
                    <a:pt x="457200" y="638175"/>
                  </a:cubicBezTo>
                  <a:cubicBezTo>
                    <a:pt x="437198" y="638175"/>
                    <a:pt x="416243" y="637223"/>
                    <a:pt x="396240" y="637223"/>
                  </a:cubicBezTo>
                  <a:cubicBezTo>
                    <a:pt x="386715" y="637223"/>
                    <a:pt x="378143" y="636270"/>
                    <a:pt x="368618" y="636270"/>
                  </a:cubicBezTo>
                  <a:cubicBezTo>
                    <a:pt x="364808" y="636270"/>
                    <a:pt x="360998" y="636270"/>
                    <a:pt x="357188" y="636270"/>
                  </a:cubicBezTo>
                  <a:cubicBezTo>
                    <a:pt x="351473" y="636270"/>
                    <a:pt x="346710" y="636270"/>
                    <a:pt x="340995" y="636270"/>
                  </a:cubicBezTo>
                  <a:cubicBezTo>
                    <a:pt x="331470" y="636270"/>
                    <a:pt x="322898" y="636270"/>
                    <a:pt x="313373" y="636270"/>
                  </a:cubicBezTo>
                  <a:cubicBezTo>
                    <a:pt x="309563" y="636270"/>
                    <a:pt x="306705" y="636270"/>
                    <a:pt x="302895" y="636270"/>
                  </a:cubicBezTo>
                  <a:cubicBezTo>
                    <a:pt x="299085" y="636270"/>
                    <a:pt x="294323" y="636270"/>
                    <a:pt x="290513" y="636270"/>
                  </a:cubicBezTo>
                  <a:cubicBezTo>
                    <a:pt x="288608" y="636270"/>
                    <a:pt x="285750" y="636270"/>
                    <a:pt x="283845" y="636270"/>
                  </a:cubicBezTo>
                  <a:cubicBezTo>
                    <a:pt x="281940" y="636270"/>
                    <a:pt x="280035" y="636270"/>
                    <a:pt x="279083" y="636270"/>
                  </a:cubicBezTo>
                  <a:cubicBezTo>
                    <a:pt x="278130" y="636270"/>
                    <a:pt x="276225" y="636270"/>
                    <a:pt x="275273" y="636270"/>
                  </a:cubicBezTo>
                  <a:cubicBezTo>
                    <a:pt x="273368" y="636270"/>
                    <a:pt x="271463" y="636270"/>
                    <a:pt x="269558" y="636270"/>
                  </a:cubicBezTo>
                  <a:cubicBezTo>
                    <a:pt x="267653" y="636270"/>
                    <a:pt x="264795" y="636270"/>
                    <a:pt x="262890" y="637223"/>
                  </a:cubicBezTo>
                  <a:cubicBezTo>
                    <a:pt x="260985" y="637223"/>
                    <a:pt x="258128" y="637223"/>
                    <a:pt x="256223" y="638175"/>
                  </a:cubicBezTo>
                  <a:cubicBezTo>
                    <a:pt x="254318" y="638175"/>
                    <a:pt x="251460" y="639128"/>
                    <a:pt x="249555" y="639128"/>
                  </a:cubicBezTo>
                  <a:cubicBezTo>
                    <a:pt x="247650" y="639128"/>
                    <a:pt x="244793" y="640080"/>
                    <a:pt x="242888" y="640080"/>
                  </a:cubicBezTo>
                  <a:cubicBezTo>
                    <a:pt x="236220" y="641032"/>
                    <a:pt x="229553" y="641985"/>
                    <a:pt x="222885" y="643890"/>
                  </a:cubicBezTo>
                  <a:cubicBezTo>
                    <a:pt x="220980" y="644843"/>
                    <a:pt x="218123" y="644843"/>
                    <a:pt x="215265" y="645795"/>
                  </a:cubicBezTo>
                  <a:cubicBezTo>
                    <a:pt x="215265" y="645795"/>
                    <a:pt x="212408" y="645795"/>
                    <a:pt x="207645" y="646748"/>
                  </a:cubicBezTo>
                  <a:cubicBezTo>
                    <a:pt x="206693" y="646748"/>
                    <a:pt x="206693" y="646748"/>
                    <a:pt x="205740" y="646748"/>
                  </a:cubicBezTo>
                  <a:cubicBezTo>
                    <a:pt x="200978" y="647700"/>
                    <a:pt x="196215" y="648653"/>
                    <a:pt x="189548" y="648653"/>
                  </a:cubicBezTo>
                  <a:cubicBezTo>
                    <a:pt x="188595" y="648653"/>
                    <a:pt x="187643" y="648653"/>
                    <a:pt x="186690" y="648653"/>
                  </a:cubicBezTo>
                  <a:cubicBezTo>
                    <a:pt x="184785" y="648653"/>
                    <a:pt x="181928" y="649605"/>
                    <a:pt x="180023" y="649605"/>
                  </a:cubicBezTo>
                  <a:cubicBezTo>
                    <a:pt x="178118" y="649605"/>
                    <a:pt x="176213" y="650557"/>
                    <a:pt x="175260" y="650557"/>
                  </a:cubicBezTo>
                  <a:cubicBezTo>
                    <a:pt x="175260" y="650557"/>
                    <a:pt x="175260" y="650557"/>
                    <a:pt x="175260" y="650557"/>
                  </a:cubicBezTo>
                  <a:cubicBezTo>
                    <a:pt x="172403" y="650557"/>
                    <a:pt x="168593" y="651510"/>
                    <a:pt x="165735" y="651510"/>
                  </a:cubicBezTo>
                  <a:cubicBezTo>
                    <a:pt x="163830" y="651510"/>
                    <a:pt x="162878" y="651510"/>
                    <a:pt x="160973" y="652462"/>
                  </a:cubicBezTo>
                  <a:cubicBezTo>
                    <a:pt x="160020" y="652462"/>
                    <a:pt x="159068" y="652462"/>
                    <a:pt x="159068" y="652462"/>
                  </a:cubicBezTo>
                  <a:cubicBezTo>
                    <a:pt x="156210" y="652462"/>
                    <a:pt x="154305" y="653415"/>
                    <a:pt x="152400" y="653415"/>
                  </a:cubicBezTo>
                  <a:lnTo>
                    <a:pt x="145733" y="635318"/>
                  </a:lnTo>
                  <a:lnTo>
                    <a:pt x="82868" y="464820"/>
                  </a:lnTo>
                  <a:lnTo>
                    <a:pt x="66675" y="421957"/>
                  </a:lnTo>
                  <a:lnTo>
                    <a:pt x="0" y="242887"/>
                  </a:lnTo>
                  <a:lnTo>
                    <a:pt x="86678" y="210502"/>
                  </a:lnTo>
                  <a:lnTo>
                    <a:pt x="94298" y="207645"/>
                  </a:lnTo>
                  <a:lnTo>
                    <a:pt x="138113" y="191452"/>
                  </a:lnTo>
                  <a:lnTo>
                    <a:pt x="340995" y="116205"/>
                  </a:lnTo>
                  <a:lnTo>
                    <a:pt x="463868" y="70485"/>
                  </a:lnTo>
                  <a:lnTo>
                    <a:pt x="498158" y="58102"/>
                  </a:lnTo>
                  <a:lnTo>
                    <a:pt x="546735" y="40005"/>
                  </a:lnTo>
                  <a:lnTo>
                    <a:pt x="563880" y="33338"/>
                  </a:lnTo>
                  <a:lnTo>
                    <a:pt x="606743" y="17145"/>
                  </a:lnTo>
                  <a:lnTo>
                    <a:pt x="632460" y="7620"/>
                  </a:lnTo>
                  <a:lnTo>
                    <a:pt x="653415" y="0"/>
                  </a:lnTo>
                  <a:lnTo>
                    <a:pt x="697230" y="117157"/>
                  </a:lnTo>
                  <a:lnTo>
                    <a:pt x="701040" y="126682"/>
                  </a:lnTo>
                  <a:lnTo>
                    <a:pt x="767715" y="305753"/>
                  </a:lnTo>
                  <a:lnTo>
                    <a:pt x="935355" y="756285"/>
                  </a:lnTo>
                  <a:cubicBezTo>
                    <a:pt x="936308" y="780098"/>
                    <a:pt x="938213" y="805815"/>
                    <a:pt x="940118" y="833437"/>
                  </a:cubicBezTo>
                  <a:cubicBezTo>
                    <a:pt x="939165" y="838200"/>
                    <a:pt x="935355" y="840105"/>
                    <a:pt x="932498" y="841057"/>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55" name="Freeform: Shape 15"/>
            <p:cNvSpPr/>
            <p:nvPr/>
          </p:nvSpPr>
          <p:spPr>
            <a:xfrm>
              <a:off x="1202040" y="5402520"/>
              <a:ext cx="6840" cy="360"/>
            </a:xfrm>
            <a:custGeom>
              <a:avLst/>
              <a:gdLst/>
              <a:ahLst/>
              <a:rect l="l" t="t" r="r" b="b"/>
              <a:pathLst>
                <a:path w="9525" h="952">
                  <a:moveTo>
                    <a:pt x="0" y="953"/>
                  </a:moveTo>
                  <a:cubicBezTo>
                    <a:pt x="2857" y="953"/>
                    <a:pt x="5715" y="0"/>
                    <a:pt x="9525" y="0"/>
                  </a:cubicBezTo>
                  <a:cubicBezTo>
                    <a:pt x="6668" y="0"/>
                    <a:pt x="2857" y="0"/>
                    <a:pt x="0" y="953"/>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956" name="Freeform: Shape 16"/>
            <p:cNvSpPr/>
            <p:nvPr/>
          </p:nvSpPr>
          <p:spPr>
            <a:xfrm>
              <a:off x="1351800" y="5390640"/>
              <a:ext cx="20160" cy="360"/>
            </a:xfrm>
            <a:custGeom>
              <a:avLst/>
              <a:gdLst/>
              <a:ahLst/>
              <a:rect l="l" t="t" r="r" b="b"/>
              <a:pathLst>
                <a:path w="27622" h="952">
                  <a:moveTo>
                    <a:pt x="0" y="0"/>
                  </a:moveTo>
                  <a:cubicBezTo>
                    <a:pt x="8572" y="0"/>
                    <a:pt x="18097" y="953"/>
                    <a:pt x="27622" y="953"/>
                  </a:cubicBezTo>
                  <a:cubicBezTo>
                    <a:pt x="18097" y="0"/>
                    <a:pt x="9525"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957" name="Freeform: Shape 17"/>
            <p:cNvSpPr/>
            <p:nvPr/>
          </p:nvSpPr>
          <p:spPr>
            <a:xfrm>
              <a:off x="1271880" y="4668840"/>
              <a:ext cx="225360" cy="303120"/>
            </a:xfrm>
            <a:custGeom>
              <a:avLst/>
              <a:gdLst/>
              <a:ahLst/>
              <a:rect l="l" t="t" r="r" b="b"/>
              <a:pathLst>
                <a:path w="303847" h="408622">
                  <a:moveTo>
                    <a:pt x="303847" y="371475"/>
                  </a:moveTo>
                  <a:lnTo>
                    <a:pt x="286703" y="378143"/>
                  </a:lnTo>
                  <a:lnTo>
                    <a:pt x="238125" y="396240"/>
                  </a:lnTo>
                  <a:lnTo>
                    <a:pt x="203835" y="408623"/>
                  </a:lnTo>
                  <a:cubicBezTo>
                    <a:pt x="199072" y="384810"/>
                    <a:pt x="194310" y="360045"/>
                    <a:pt x="189547" y="336233"/>
                  </a:cubicBezTo>
                  <a:cubicBezTo>
                    <a:pt x="186690" y="320040"/>
                    <a:pt x="150495" y="242888"/>
                    <a:pt x="150495" y="214313"/>
                  </a:cubicBezTo>
                  <a:cubicBezTo>
                    <a:pt x="140018" y="219075"/>
                    <a:pt x="130493" y="226695"/>
                    <a:pt x="121920" y="234315"/>
                  </a:cubicBezTo>
                  <a:cubicBezTo>
                    <a:pt x="96203" y="255270"/>
                    <a:pt x="71438" y="277178"/>
                    <a:pt x="45720" y="298133"/>
                  </a:cubicBezTo>
                  <a:cubicBezTo>
                    <a:pt x="16193" y="323850"/>
                    <a:pt x="29528" y="309563"/>
                    <a:pt x="0" y="335280"/>
                  </a:cubicBezTo>
                  <a:cubicBezTo>
                    <a:pt x="41910" y="233363"/>
                    <a:pt x="100013" y="52388"/>
                    <a:pt x="125730" y="33338"/>
                  </a:cubicBezTo>
                  <a:cubicBezTo>
                    <a:pt x="140970" y="20955"/>
                    <a:pt x="159068" y="11430"/>
                    <a:pt x="178118" y="5715"/>
                  </a:cubicBezTo>
                  <a:cubicBezTo>
                    <a:pt x="189547" y="1905"/>
                    <a:pt x="201930" y="0"/>
                    <a:pt x="214313" y="0"/>
                  </a:cubicBezTo>
                  <a:cubicBezTo>
                    <a:pt x="210503" y="40958"/>
                    <a:pt x="220028" y="80963"/>
                    <a:pt x="231458" y="120015"/>
                  </a:cubicBezTo>
                  <a:cubicBezTo>
                    <a:pt x="242888" y="159068"/>
                    <a:pt x="259080" y="198120"/>
                    <a:pt x="270510" y="237173"/>
                  </a:cubicBezTo>
                  <a:cubicBezTo>
                    <a:pt x="278130" y="261938"/>
                    <a:pt x="283845" y="286703"/>
                    <a:pt x="289560" y="312420"/>
                  </a:cubicBezTo>
                  <a:cubicBezTo>
                    <a:pt x="294322" y="332423"/>
                    <a:pt x="299085" y="351473"/>
                    <a:pt x="303847" y="37147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58" name="Freeform: Shape 18"/>
            <p:cNvSpPr/>
            <p:nvPr/>
          </p:nvSpPr>
          <p:spPr>
            <a:xfrm>
              <a:off x="1529640" y="4675680"/>
              <a:ext cx="194400" cy="330840"/>
            </a:xfrm>
            <a:custGeom>
              <a:avLst/>
              <a:gdLst/>
              <a:ahLst/>
              <a:rect l="l" t="t" r="r" b="b"/>
              <a:pathLst>
                <a:path w="261937" h="446143">
                  <a:moveTo>
                    <a:pt x="131445" y="208019"/>
                  </a:moveTo>
                  <a:cubicBezTo>
                    <a:pt x="136208" y="222306"/>
                    <a:pt x="100013" y="350894"/>
                    <a:pt x="100013" y="350894"/>
                  </a:cubicBezTo>
                  <a:cubicBezTo>
                    <a:pt x="100013" y="354704"/>
                    <a:pt x="99060" y="359466"/>
                    <a:pt x="99060" y="363276"/>
                  </a:cubicBezTo>
                  <a:cubicBezTo>
                    <a:pt x="96203" y="390899"/>
                    <a:pt x="93345" y="418521"/>
                    <a:pt x="90488" y="446144"/>
                  </a:cubicBezTo>
                  <a:lnTo>
                    <a:pt x="46673" y="328986"/>
                  </a:lnTo>
                  <a:lnTo>
                    <a:pt x="25718" y="336606"/>
                  </a:lnTo>
                  <a:lnTo>
                    <a:pt x="0" y="346131"/>
                  </a:lnTo>
                  <a:cubicBezTo>
                    <a:pt x="17145" y="231831"/>
                    <a:pt x="23813" y="117531"/>
                    <a:pt x="17145" y="2279"/>
                  </a:cubicBezTo>
                  <a:cubicBezTo>
                    <a:pt x="22860" y="374"/>
                    <a:pt x="28575" y="-579"/>
                    <a:pt x="35243" y="374"/>
                  </a:cubicBezTo>
                  <a:cubicBezTo>
                    <a:pt x="44768" y="1326"/>
                    <a:pt x="54293" y="4184"/>
                    <a:pt x="61913" y="8946"/>
                  </a:cubicBezTo>
                  <a:cubicBezTo>
                    <a:pt x="75248" y="16566"/>
                    <a:pt x="85725" y="27996"/>
                    <a:pt x="96203" y="39426"/>
                  </a:cubicBezTo>
                  <a:cubicBezTo>
                    <a:pt x="171450" y="121341"/>
                    <a:pt x="189548" y="181349"/>
                    <a:pt x="261938" y="266121"/>
                  </a:cubicBezTo>
                  <a:cubicBezTo>
                    <a:pt x="233363" y="253739"/>
                    <a:pt x="163830" y="222306"/>
                    <a:pt x="131445" y="208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59" name="Freeform: Shape 19"/>
            <p:cNvSpPr/>
            <p:nvPr/>
          </p:nvSpPr>
          <p:spPr>
            <a:xfrm>
              <a:off x="1377360" y="4593240"/>
              <a:ext cx="210600" cy="356040"/>
            </a:xfrm>
            <a:custGeom>
              <a:avLst/>
              <a:gdLst/>
              <a:ahLst/>
              <a:rect l="l" t="t" r="r" b="b"/>
              <a:pathLst>
                <a:path w="284052" h="480060">
                  <a:moveTo>
                    <a:pt x="283014" y="232410"/>
                  </a:moveTo>
                  <a:cubicBezTo>
                    <a:pt x="279204" y="242888"/>
                    <a:pt x="276347" y="253365"/>
                    <a:pt x="273489" y="263842"/>
                  </a:cubicBezTo>
                  <a:cubicBezTo>
                    <a:pt x="271584" y="269557"/>
                    <a:pt x="270632" y="275273"/>
                    <a:pt x="268727" y="280988"/>
                  </a:cubicBezTo>
                  <a:cubicBezTo>
                    <a:pt x="260154" y="312420"/>
                    <a:pt x="253487" y="342900"/>
                    <a:pt x="246819" y="373380"/>
                  </a:cubicBezTo>
                  <a:cubicBezTo>
                    <a:pt x="242057" y="397192"/>
                    <a:pt x="236342" y="421957"/>
                    <a:pt x="231579" y="447675"/>
                  </a:cubicBezTo>
                  <a:lnTo>
                    <a:pt x="205862" y="457200"/>
                  </a:lnTo>
                  <a:lnTo>
                    <a:pt x="162999" y="473392"/>
                  </a:lnTo>
                  <a:lnTo>
                    <a:pt x="145854" y="480060"/>
                  </a:lnTo>
                  <a:cubicBezTo>
                    <a:pt x="134424" y="448628"/>
                    <a:pt x="113469" y="407670"/>
                    <a:pt x="88704" y="368617"/>
                  </a:cubicBezTo>
                  <a:cubicBezTo>
                    <a:pt x="65844" y="332423"/>
                    <a:pt x="41079" y="299085"/>
                    <a:pt x="19172" y="279082"/>
                  </a:cubicBezTo>
                  <a:cubicBezTo>
                    <a:pt x="19172" y="279082"/>
                    <a:pt x="19172" y="279082"/>
                    <a:pt x="19172" y="279082"/>
                  </a:cubicBezTo>
                  <a:cubicBezTo>
                    <a:pt x="15362" y="276225"/>
                    <a:pt x="12504" y="273367"/>
                    <a:pt x="8694" y="270510"/>
                  </a:cubicBezTo>
                  <a:cubicBezTo>
                    <a:pt x="6789" y="269557"/>
                    <a:pt x="5837" y="267653"/>
                    <a:pt x="4884" y="266700"/>
                  </a:cubicBezTo>
                  <a:cubicBezTo>
                    <a:pt x="122" y="260985"/>
                    <a:pt x="-1783" y="252413"/>
                    <a:pt x="2027" y="244792"/>
                  </a:cubicBezTo>
                  <a:cubicBezTo>
                    <a:pt x="7742" y="231457"/>
                    <a:pt x="14409" y="204788"/>
                    <a:pt x="21077" y="172402"/>
                  </a:cubicBezTo>
                  <a:cubicBezTo>
                    <a:pt x="32507" y="117157"/>
                    <a:pt x="39174" y="46673"/>
                    <a:pt x="25839" y="12382"/>
                  </a:cubicBezTo>
                  <a:cubicBezTo>
                    <a:pt x="51557" y="31432"/>
                    <a:pt x="84894" y="41910"/>
                    <a:pt x="115374" y="49530"/>
                  </a:cubicBezTo>
                  <a:cubicBezTo>
                    <a:pt x="146807" y="57150"/>
                    <a:pt x="180144" y="56198"/>
                    <a:pt x="208719" y="42863"/>
                  </a:cubicBezTo>
                  <a:cubicBezTo>
                    <a:pt x="241104" y="27623"/>
                    <a:pt x="247772" y="30480"/>
                    <a:pt x="267774" y="0"/>
                  </a:cubicBezTo>
                  <a:cubicBezTo>
                    <a:pt x="264917" y="10477"/>
                    <a:pt x="263964" y="26670"/>
                    <a:pt x="263012" y="44767"/>
                  </a:cubicBezTo>
                  <a:cubicBezTo>
                    <a:pt x="261107" y="103823"/>
                    <a:pt x="268727" y="188595"/>
                    <a:pt x="282062" y="211455"/>
                  </a:cubicBezTo>
                  <a:cubicBezTo>
                    <a:pt x="283967" y="217170"/>
                    <a:pt x="284919" y="224790"/>
                    <a:pt x="283014" y="23241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0" name="Freeform: Shape 20"/>
            <p:cNvSpPr/>
            <p:nvPr/>
          </p:nvSpPr>
          <p:spPr>
            <a:xfrm>
              <a:off x="1591560" y="4849920"/>
              <a:ext cx="396720" cy="960480"/>
            </a:xfrm>
            <a:custGeom>
              <a:avLst/>
              <a:gdLst/>
              <a:ahLst/>
              <a:rect l="l" t="t" r="r" b="b"/>
              <a:pathLst>
                <a:path w="534352" h="1294447">
                  <a:moveTo>
                    <a:pt x="463867" y="1093470"/>
                  </a:moveTo>
                  <a:cubicBezTo>
                    <a:pt x="446722" y="1105853"/>
                    <a:pt x="372428" y="1156335"/>
                    <a:pt x="289560" y="1211580"/>
                  </a:cubicBezTo>
                  <a:cubicBezTo>
                    <a:pt x="264795" y="1227773"/>
                    <a:pt x="240030" y="1244918"/>
                    <a:pt x="215265" y="1261110"/>
                  </a:cubicBezTo>
                  <a:cubicBezTo>
                    <a:pt x="168592" y="1275398"/>
                    <a:pt x="120967" y="1286828"/>
                    <a:pt x="72390" y="1294448"/>
                  </a:cubicBezTo>
                  <a:cubicBezTo>
                    <a:pt x="72390" y="1283018"/>
                    <a:pt x="71438" y="1270635"/>
                    <a:pt x="69532" y="1259205"/>
                  </a:cubicBezTo>
                  <a:cubicBezTo>
                    <a:pt x="67628" y="1245870"/>
                    <a:pt x="65722" y="1233488"/>
                    <a:pt x="63817" y="1221105"/>
                  </a:cubicBezTo>
                  <a:cubicBezTo>
                    <a:pt x="59055" y="1198245"/>
                    <a:pt x="52388" y="1175385"/>
                    <a:pt x="44767" y="1153478"/>
                  </a:cubicBezTo>
                  <a:cubicBezTo>
                    <a:pt x="43815" y="1149668"/>
                    <a:pt x="41910" y="1145858"/>
                    <a:pt x="40957" y="1142048"/>
                  </a:cubicBezTo>
                  <a:cubicBezTo>
                    <a:pt x="39053" y="1138238"/>
                    <a:pt x="37147" y="1133475"/>
                    <a:pt x="36195" y="1129665"/>
                  </a:cubicBezTo>
                  <a:cubicBezTo>
                    <a:pt x="35242" y="1126808"/>
                    <a:pt x="34290" y="1123950"/>
                    <a:pt x="32385" y="1122045"/>
                  </a:cubicBezTo>
                  <a:cubicBezTo>
                    <a:pt x="30480" y="1116330"/>
                    <a:pt x="27622" y="1111568"/>
                    <a:pt x="24765" y="1106805"/>
                  </a:cubicBezTo>
                  <a:cubicBezTo>
                    <a:pt x="23813" y="1104900"/>
                    <a:pt x="22860" y="1102043"/>
                    <a:pt x="21907" y="1100138"/>
                  </a:cubicBezTo>
                  <a:cubicBezTo>
                    <a:pt x="18097" y="1091565"/>
                    <a:pt x="13335" y="1083945"/>
                    <a:pt x="8572" y="1076325"/>
                  </a:cubicBezTo>
                  <a:cubicBezTo>
                    <a:pt x="8572" y="1076325"/>
                    <a:pt x="8572" y="1076325"/>
                    <a:pt x="8572" y="1076325"/>
                  </a:cubicBezTo>
                  <a:cubicBezTo>
                    <a:pt x="6667" y="1073468"/>
                    <a:pt x="4763" y="1069658"/>
                    <a:pt x="2857" y="1066800"/>
                  </a:cubicBezTo>
                  <a:cubicBezTo>
                    <a:pt x="1905" y="1064895"/>
                    <a:pt x="953" y="1062990"/>
                    <a:pt x="0" y="1062038"/>
                  </a:cubicBezTo>
                  <a:cubicBezTo>
                    <a:pt x="77153" y="1027748"/>
                    <a:pt x="155257" y="983933"/>
                    <a:pt x="231457" y="944880"/>
                  </a:cubicBezTo>
                  <a:cubicBezTo>
                    <a:pt x="234315" y="942975"/>
                    <a:pt x="237172" y="942023"/>
                    <a:pt x="240982" y="940118"/>
                  </a:cubicBezTo>
                  <a:cubicBezTo>
                    <a:pt x="240982" y="938213"/>
                    <a:pt x="240982" y="936308"/>
                    <a:pt x="240982" y="934403"/>
                  </a:cubicBezTo>
                  <a:cubicBezTo>
                    <a:pt x="240982" y="929640"/>
                    <a:pt x="240030" y="923925"/>
                    <a:pt x="240030" y="919163"/>
                  </a:cubicBezTo>
                  <a:cubicBezTo>
                    <a:pt x="240030" y="915353"/>
                    <a:pt x="240030" y="912495"/>
                    <a:pt x="239078" y="908685"/>
                  </a:cubicBezTo>
                  <a:cubicBezTo>
                    <a:pt x="238125" y="892493"/>
                    <a:pt x="237172" y="876300"/>
                    <a:pt x="236220" y="862013"/>
                  </a:cubicBezTo>
                  <a:cubicBezTo>
                    <a:pt x="236220" y="856298"/>
                    <a:pt x="235267" y="850583"/>
                    <a:pt x="235267" y="844868"/>
                  </a:cubicBezTo>
                  <a:cubicBezTo>
                    <a:pt x="235267" y="841058"/>
                    <a:pt x="235267" y="836295"/>
                    <a:pt x="235267" y="832485"/>
                  </a:cubicBezTo>
                  <a:cubicBezTo>
                    <a:pt x="235267" y="830580"/>
                    <a:pt x="235267" y="827723"/>
                    <a:pt x="235267" y="825818"/>
                  </a:cubicBezTo>
                  <a:cubicBezTo>
                    <a:pt x="235267" y="822960"/>
                    <a:pt x="235267" y="819150"/>
                    <a:pt x="235267" y="816293"/>
                  </a:cubicBezTo>
                  <a:cubicBezTo>
                    <a:pt x="235267" y="815340"/>
                    <a:pt x="235267" y="813435"/>
                    <a:pt x="235267" y="812483"/>
                  </a:cubicBezTo>
                  <a:cubicBezTo>
                    <a:pt x="235267" y="810578"/>
                    <a:pt x="235267" y="807720"/>
                    <a:pt x="235267" y="805815"/>
                  </a:cubicBezTo>
                  <a:cubicBezTo>
                    <a:pt x="235267" y="802958"/>
                    <a:pt x="235267" y="801053"/>
                    <a:pt x="235267" y="798195"/>
                  </a:cubicBezTo>
                  <a:cubicBezTo>
                    <a:pt x="235267" y="795338"/>
                    <a:pt x="235267" y="793433"/>
                    <a:pt x="235267" y="790575"/>
                  </a:cubicBezTo>
                  <a:cubicBezTo>
                    <a:pt x="235267" y="786765"/>
                    <a:pt x="235267" y="783908"/>
                    <a:pt x="235267" y="780098"/>
                  </a:cubicBezTo>
                  <a:cubicBezTo>
                    <a:pt x="235267" y="776288"/>
                    <a:pt x="235267" y="772478"/>
                    <a:pt x="235267" y="768668"/>
                  </a:cubicBezTo>
                  <a:cubicBezTo>
                    <a:pt x="235267" y="764858"/>
                    <a:pt x="235267" y="761048"/>
                    <a:pt x="235267" y="757238"/>
                  </a:cubicBezTo>
                  <a:cubicBezTo>
                    <a:pt x="235267" y="746760"/>
                    <a:pt x="235267" y="737235"/>
                    <a:pt x="235267" y="727710"/>
                  </a:cubicBezTo>
                  <a:cubicBezTo>
                    <a:pt x="235267" y="725805"/>
                    <a:pt x="235267" y="723900"/>
                    <a:pt x="235267" y="721995"/>
                  </a:cubicBezTo>
                  <a:cubicBezTo>
                    <a:pt x="235267" y="721043"/>
                    <a:pt x="235267" y="720090"/>
                    <a:pt x="235267" y="718185"/>
                  </a:cubicBezTo>
                  <a:cubicBezTo>
                    <a:pt x="235267" y="716280"/>
                    <a:pt x="235267" y="713423"/>
                    <a:pt x="235267" y="711518"/>
                  </a:cubicBezTo>
                  <a:cubicBezTo>
                    <a:pt x="235267" y="706755"/>
                    <a:pt x="235267" y="702945"/>
                    <a:pt x="235267" y="698183"/>
                  </a:cubicBezTo>
                  <a:cubicBezTo>
                    <a:pt x="235267" y="697230"/>
                    <a:pt x="235267" y="695325"/>
                    <a:pt x="235267" y="694373"/>
                  </a:cubicBezTo>
                  <a:cubicBezTo>
                    <a:pt x="235267" y="692468"/>
                    <a:pt x="235267" y="689610"/>
                    <a:pt x="235267" y="687705"/>
                  </a:cubicBezTo>
                  <a:cubicBezTo>
                    <a:pt x="235267" y="685800"/>
                    <a:pt x="235267" y="684848"/>
                    <a:pt x="235267" y="683895"/>
                  </a:cubicBezTo>
                  <a:cubicBezTo>
                    <a:pt x="235267" y="682943"/>
                    <a:pt x="235267" y="682943"/>
                    <a:pt x="235267" y="681990"/>
                  </a:cubicBezTo>
                  <a:cubicBezTo>
                    <a:pt x="235267" y="681038"/>
                    <a:pt x="235267" y="679133"/>
                    <a:pt x="235267" y="678180"/>
                  </a:cubicBezTo>
                  <a:cubicBezTo>
                    <a:pt x="235267" y="677228"/>
                    <a:pt x="235267" y="676275"/>
                    <a:pt x="235267" y="674370"/>
                  </a:cubicBezTo>
                  <a:cubicBezTo>
                    <a:pt x="235267" y="672465"/>
                    <a:pt x="235267" y="669608"/>
                    <a:pt x="235267" y="667703"/>
                  </a:cubicBezTo>
                  <a:cubicBezTo>
                    <a:pt x="235267" y="662940"/>
                    <a:pt x="236220" y="659130"/>
                    <a:pt x="236220" y="654368"/>
                  </a:cubicBezTo>
                  <a:cubicBezTo>
                    <a:pt x="236220" y="649605"/>
                    <a:pt x="237172" y="645795"/>
                    <a:pt x="237172" y="641033"/>
                  </a:cubicBezTo>
                  <a:cubicBezTo>
                    <a:pt x="237172" y="637223"/>
                    <a:pt x="237172" y="633413"/>
                    <a:pt x="238125" y="629603"/>
                  </a:cubicBezTo>
                  <a:cubicBezTo>
                    <a:pt x="238125" y="621030"/>
                    <a:pt x="239078" y="613410"/>
                    <a:pt x="239078" y="604838"/>
                  </a:cubicBezTo>
                  <a:cubicBezTo>
                    <a:pt x="239078" y="596265"/>
                    <a:pt x="240030" y="588645"/>
                    <a:pt x="240030" y="580073"/>
                  </a:cubicBezTo>
                  <a:cubicBezTo>
                    <a:pt x="240030" y="575310"/>
                    <a:pt x="240030" y="569595"/>
                    <a:pt x="240982" y="564833"/>
                  </a:cubicBezTo>
                  <a:cubicBezTo>
                    <a:pt x="240982" y="562928"/>
                    <a:pt x="240982" y="561023"/>
                    <a:pt x="240982" y="559118"/>
                  </a:cubicBezTo>
                  <a:cubicBezTo>
                    <a:pt x="240982" y="552450"/>
                    <a:pt x="241935" y="544830"/>
                    <a:pt x="241935" y="538163"/>
                  </a:cubicBezTo>
                  <a:cubicBezTo>
                    <a:pt x="241935" y="537210"/>
                    <a:pt x="241935" y="536258"/>
                    <a:pt x="241935" y="534353"/>
                  </a:cubicBezTo>
                  <a:cubicBezTo>
                    <a:pt x="241935" y="527685"/>
                    <a:pt x="242888" y="521970"/>
                    <a:pt x="242888" y="515303"/>
                  </a:cubicBezTo>
                  <a:cubicBezTo>
                    <a:pt x="243840" y="501015"/>
                    <a:pt x="243840" y="486728"/>
                    <a:pt x="244792" y="473392"/>
                  </a:cubicBezTo>
                  <a:cubicBezTo>
                    <a:pt x="245745" y="457200"/>
                    <a:pt x="245745" y="441960"/>
                    <a:pt x="246697" y="425767"/>
                  </a:cubicBezTo>
                  <a:cubicBezTo>
                    <a:pt x="246697" y="414338"/>
                    <a:pt x="247650" y="403860"/>
                    <a:pt x="247650" y="392430"/>
                  </a:cubicBezTo>
                  <a:cubicBezTo>
                    <a:pt x="247650" y="384810"/>
                    <a:pt x="248603" y="376238"/>
                    <a:pt x="248603" y="368617"/>
                  </a:cubicBezTo>
                  <a:cubicBezTo>
                    <a:pt x="248603" y="368617"/>
                    <a:pt x="248603" y="367665"/>
                    <a:pt x="248603" y="367665"/>
                  </a:cubicBezTo>
                  <a:cubicBezTo>
                    <a:pt x="248603" y="361950"/>
                    <a:pt x="249555" y="355283"/>
                    <a:pt x="249555" y="349567"/>
                  </a:cubicBezTo>
                  <a:cubicBezTo>
                    <a:pt x="249555" y="347663"/>
                    <a:pt x="249555" y="345758"/>
                    <a:pt x="249555" y="342900"/>
                  </a:cubicBezTo>
                  <a:cubicBezTo>
                    <a:pt x="249555" y="336233"/>
                    <a:pt x="250507" y="329565"/>
                    <a:pt x="250507" y="321945"/>
                  </a:cubicBezTo>
                  <a:cubicBezTo>
                    <a:pt x="250507" y="319088"/>
                    <a:pt x="250507" y="317183"/>
                    <a:pt x="251460" y="314325"/>
                  </a:cubicBezTo>
                  <a:cubicBezTo>
                    <a:pt x="251460" y="307658"/>
                    <a:pt x="252413" y="300990"/>
                    <a:pt x="252413" y="294323"/>
                  </a:cubicBezTo>
                  <a:cubicBezTo>
                    <a:pt x="252413" y="288608"/>
                    <a:pt x="253365" y="281940"/>
                    <a:pt x="253365" y="276225"/>
                  </a:cubicBezTo>
                  <a:cubicBezTo>
                    <a:pt x="254317" y="268605"/>
                    <a:pt x="254317" y="260985"/>
                    <a:pt x="255270" y="254317"/>
                  </a:cubicBezTo>
                  <a:cubicBezTo>
                    <a:pt x="255270" y="249555"/>
                    <a:pt x="256222" y="244792"/>
                    <a:pt x="256222" y="240983"/>
                  </a:cubicBezTo>
                  <a:cubicBezTo>
                    <a:pt x="257175" y="235267"/>
                    <a:pt x="257175" y="229553"/>
                    <a:pt x="258128" y="222885"/>
                  </a:cubicBezTo>
                  <a:cubicBezTo>
                    <a:pt x="259080" y="217170"/>
                    <a:pt x="259080" y="211455"/>
                    <a:pt x="260032" y="204788"/>
                  </a:cubicBezTo>
                  <a:cubicBezTo>
                    <a:pt x="260985" y="199073"/>
                    <a:pt x="260985" y="194310"/>
                    <a:pt x="261938" y="188595"/>
                  </a:cubicBezTo>
                  <a:cubicBezTo>
                    <a:pt x="262890" y="181928"/>
                    <a:pt x="263842" y="175260"/>
                    <a:pt x="264795" y="169545"/>
                  </a:cubicBezTo>
                  <a:cubicBezTo>
                    <a:pt x="264795" y="169545"/>
                    <a:pt x="264795" y="168593"/>
                    <a:pt x="264795" y="168593"/>
                  </a:cubicBezTo>
                  <a:cubicBezTo>
                    <a:pt x="265747" y="162878"/>
                    <a:pt x="266700" y="157163"/>
                    <a:pt x="266700" y="151448"/>
                  </a:cubicBezTo>
                  <a:cubicBezTo>
                    <a:pt x="268605" y="140018"/>
                    <a:pt x="270510" y="127635"/>
                    <a:pt x="272415" y="116205"/>
                  </a:cubicBezTo>
                  <a:cubicBezTo>
                    <a:pt x="272415" y="114300"/>
                    <a:pt x="273367" y="113348"/>
                    <a:pt x="273367" y="111443"/>
                  </a:cubicBezTo>
                  <a:cubicBezTo>
                    <a:pt x="273367" y="109538"/>
                    <a:pt x="274320" y="106680"/>
                    <a:pt x="274320" y="104775"/>
                  </a:cubicBezTo>
                  <a:cubicBezTo>
                    <a:pt x="274320" y="102870"/>
                    <a:pt x="275272" y="100013"/>
                    <a:pt x="275272" y="98108"/>
                  </a:cubicBezTo>
                  <a:cubicBezTo>
                    <a:pt x="276225" y="92393"/>
                    <a:pt x="277178" y="87630"/>
                    <a:pt x="278130" y="81915"/>
                  </a:cubicBezTo>
                  <a:cubicBezTo>
                    <a:pt x="278130" y="80010"/>
                    <a:pt x="279082" y="78105"/>
                    <a:pt x="279082" y="76200"/>
                  </a:cubicBezTo>
                  <a:cubicBezTo>
                    <a:pt x="280035" y="73343"/>
                    <a:pt x="280035" y="70485"/>
                    <a:pt x="280988" y="67628"/>
                  </a:cubicBezTo>
                  <a:cubicBezTo>
                    <a:pt x="280988" y="66675"/>
                    <a:pt x="280988" y="65723"/>
                    <a:pt x="281940" y="63818"/>
                  </a:cubicBezTo>
                  <a:cubicBezTo>
                    <a:pt x="281940" y="62865"/>
                    <a:pt x="281940" y="61913"/>
                    <a:pt x="282892" y="60008"/>
                  </a:cubicBezTo>
                  <a:cubicBezTo>
                    <a:pt x="283845" y="55245"/>
                    <a:pt x="284797" y="49530"/>
                    <a:pt x="286703" y="44768"/>
                  </a:cubicBezTo>
                  <a:cubicBezTo>
                    <a:pt x="287655" y="39053"/>
                    <a:pt x="289560" y="33338"/>
                    <a:pt x="290513" y="26670"/>
                  </a:cubicBezTo>
                  <a:cubicBezTo>
                    <a:pt x="292417" y="20003"/>
                    <a:pt x="293370" y="12383"/>
                    <a:pt x="292417" y="5715"/>
                  </a:cubicBezTo>
                  <a:cubicBezTo>
                    <a:pt x="292417" y="5715"/>
                    <a:pt x="292417" y="5715"/>
                    <a:pt x="292417" y="5715"/>
                  </a:cubicBezTo>
                  <a:cubicBezTo>
                    <a:pt x="292417" y="4763"/>
                    <a:pt x="292417" y="2858"/>
                    <a:pt x="291465" y="1905"/>
                  </a:cubicBezTo>
                  <a:cubicBezTo>
                    <a:pt x="291465" y="1905"/>
                    <a:pt x="291465" y="953"/>
                    <a:pt x="291465" y="953"/>
                  </a:cubicBezTo>
                  <a:cubicBezTo>
                    <a:pt x="295275" y="0"/>
                    <a:pt x="300038" y="0"/>
                    <a:pt x="304800" y="0"/>
                  </a:cubicBezTo>
                  <a:cubicBezTo>
                    <a:pt x="333375" y="2858"/>
                    <a:pt x="372428" y="28575"/>
                    <a:pt x="386715" y="46673"/>
                  </a:cubicBezTo>
                  <a:cubicBezTo>
                    <a:pt x="432435" y="106680"/>
                    <a:pt x="432435" y="209550"/>
                    <a:pt x="438150" y="284798"/>
                  </a:cubicBezTo>
                  <a:cubicBezTo>
                    <a:pt x="457200" y="519113"/>
                    <a:pt x="521017" y="734378"/>
                    <a:pt x="534353" y="969645"/>
                  </a:cubicBezTo>
                  <a:cubicBezTo>
                    <a:pt x="529590" y="995363"/>
                    <a:pt x="526732" y="1045845"/>
                    <a:pt x="463867" y="1093470"/>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1" name="Freeform: Shape 21"/>
            <p:cNvSpPr/>
            <p:nvPr/>
          </p:nvSpPr>
          <p:spPr>
            <a:xfrm>
              <a:off x="1523160" y="5641560"/>
              <a:ext cx="127080" cy="173160"/>
            </a:xfrm>
            <a:custGeom>
              <a:avLst/>
              <a:gdLst/>
              <a:ahLst/>
              <a:rect l="l" t="t" r="r" b="b"/>
              <a:pathLst>
                <a:path w="171450" h="233362">
                  <a:moveTo>
                    <a:pt x="171450" y="183833"/>
                  </a:moveTo>
                  <a:cubicBezTo>
                    <a:pt x="169545" y="184785"/>
                    <a:pt x="167640" y="185738"/>
                    <a:pt x="165735" y="186690"/>
                  </a:cubicBezTo>
                  <a:cubicBezTo>
                    <a:pt x="153353" y="193358"/>
                    <a:pt x="139065" y="200025"/>
                    <a:pt x="122872" y="207645"/>
                  </a:cubicBezTo>
                  <a:cubicBezTo>
                    <a:pt x="107633" y="215265"/>
                    <a:pt x="90488" y="221933"/>
                    <a:pt x="76200" y="228600"/>
                  </a:cubicBezTo>
                  <a:cubicBezTo>
                    <a:pt x="73343" y="229553"/>
                    <a:pt x="69533" y="231458"/>
                    <a:pt x="66675" y="232410"/>
                  </a:cubicBezTo>
                  <a:cubicBezTo>
                    <a:pt x="60008" y="233363"/>
                    <a:pt x="54293" y="233363"/>
                    <a:pt x="47625" y="233363"/>
                  </a:cubicBezTo>
                  <a:cubicBezTo>
                    <a:pt x="47625" y="228600"/>
                    <a:pt x="46672" y="222885"/>
                    <a:pt x="45720" y="215265"/>
                  </a:cubicBezTo>
                  <a:cubicBezTo>
                    <a:pt x="45720" y="212408"/>
                    <a:pt x="44768" y="209550"/>
                    <a:pt x="44768" y="205740"/>
                  </a:cubicBezTo>
                  <a:cubicBezTo>
                    <a:pt x="44768" y="203835"/>
                    <a:pt x="44768" y="201930"/>
                    <a:pt x="43815" y="200978"/>
                  </a:cubicBezTo>
                  <a:cubicBezTo>
                    <a:pt x="43815" y="199073"/>
                    <a:pt x="43815" y="197167"/>
                    <a:pt x="42863" y="195263"/>
                  </a:cubicBezTo>
                  <a:cubicBezTo>
                    <a:pt x="42863" y="191453"/>
                    <a:pt x="41910" y="187642"/>
                    <a:pt x="41910" y="182880"/>
                  </a:cubicBezTo>
                  <a:cubicBezTo>
                    <a:pt x="41910" y="179070"/>
                    <a:pt x="40958" y="175260"/>
                    <a:pt x="40958" y="172403"/>
                  </a:cubicBezTo>
                  <a:cubicBezTo>
                    <a:pt x="40005" y="159067"/>
                    <a:pt x="37147" y="145733"/>
                    <a:pt x="33338" y="131445"/>
                  </a:cubicBezTo>
                  <a:cubicBezTo>
                    <a:pt x="23813" y="94298"/>
                    <a:pt x="10478" y="56198"/>
                    <a:pt x="3810" y="38100"/>
                  </a:cubicBezTo>
                  <a:cubicBezTo>
                    <a:pt x="2858" y="37148"/>
                    <a:pt x="2858" y="35242"/>
                    <a:pt x="1905" y="34290"/>
                  </a:cubicBezTo>
                  <a:cubicBezTo>
                    <a:pt x="0" y="30480"/>
                    <a:pt x="0" y="27623"/>
                    <a:pt x="0" y="27623"/>
                  </a:cubicBezTo>
                  <a:cubicBezTo>
                    <a:pt x="0" y="27623"/>
                    <a:pt x="33338" y="20955"/>
                    <a:pt x="34290" y="20955"/>
                  </a:cubicBezTo>
                  <a:cubicBezTo>
                    <a:pt x="34290" y="20955"/>
                    <a:pt x="70485" y="12383"/>
                    <a:pt x="93345" y="4763"/>
                  </a:cubicBezTo>
                  <a:cubicBezTo>
                    <a:pt x="93345" y="4763"/>
                    <a:pt x="93345" y="4763"/>
                    <a:pt x="93345" y="4763"/>
                  </a:cubicBezTo>
                  <a:cubicBezTo>
                    <a:pt x="93345" y="4763"/>
                    <a:pt x="93345" y="4763"/>
                    <a:pt x="93345" y="4763"/>
                  </a:cubicBezTo>
                  <a:cubicBezTo>
                    <a:pt x="100013" y="2858"/>
                    <a:pt x="104775" y="953"/>
                    <a:pt x="107633" y="0"/>
                  </a:cubicBezTo>
                  <a:cubicBezTo>
                    <a:pt x="112395" y="7620"/>
                    <a:pt x="117158" y="16192"/>
                    <a:pt x="120968" y="23813"/>
                  </a:cubicBezTo>
                  <a:cubicBezTo>
                    <a:pt x="121920" y="25717"/>
                    <a:pt x="122872" y="28575"/>
                    <a:pt x="123825" y="30480"/>
                  </a:cubicBezTo>
                  <a:cubicBezTo>
                    <a:pt x="126683" y="35242"/>
                    <a:pt x="128588" y="40958"/>
                    <a:pt x="131445" y="45720"/>
                  </a:cubicBezTo>
                  <a:cubicBezTo>
                    <a:pt x="132397" y="48578"/>
                    <a:pt x="133350" y="50483"/>
                    <a:pt x="135255" y="53340"/>
                  </a:cubicBezTo>
                  <a:cubicBezTo>
                    <a:pt x="137160" y="57150"/>
                    <a:pt x="139065" y="61913"/>
                    <a:pt x="140018" y="65723"/>
                  </a:cubicBezTo>
                  <a:cubicBezTo>
                    <a:pt x="141922" y="69533"/>
                    <a:pt x="142875" y="73342"/>
                    <a:pt x="143828" y="77153"/>
                  </a:cubicBezTo>
                  <a:cubicBezTo>
                    <a:pt x="151447" y="99060"/>
                    <a:pt x="158115" y="121920"/>
                    <a:pt x="162878" y="144780"/>
                  </a:cubicBezTo>
                  <a:cubicBezTo>
                    <a:pt x="168593" y="158115"/>
                    <a:pt x="170497" y="170498"/>
                    <a:pt x="171450" y="18383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2" name="Freeform: Shape 22"/>
            <p:cNvSpPr/>
            <p:nvPr/>
          </p:nvSpPr>
          <p:spPr>
            <a:xfrm>
              <a:off x="1144800" y="4825080"/>
              <a:ext cx="7560" cy="1800"/>
            </a:xfrm>
            <a:custGeom>
              <a:avLst/>
              <a:gdLst/>
              <a:ahLst/>
              <a:rect l="l" t="t" r="r" b="b"/>
              <a:pathLst>
                <a:path w="10477" h="2857">
                  <a:moveTo>
                    <a:pt x="10478" y="0"/>
                  </a:moveTo>
                  <a:cubicBezTo>
                    <a:pt x="6668" y="953"/>
                    <a:pt x="2858" y="1905"/>
                    <a:pt x="0" y="2858"/>
                  </a:cubicBezTo>
                  <a:cubicBezTo>
                    <a:pt x="2858" y="953"/>
                    <a:pt x="6668" y="0"/>
                    <a:pt x="10478" y="0"/>
                  </a:cubicBezTo>
                  <a:close/>
                </a:path>
              </a:pathLst>
            </a:custGeom>
            <a:noFill/>
            <a:ln w="9360">
              <a:solidFill>
                <a:srgbClr val="8b5e3c"/>
              </a:solidFill>
              <a:miter/>
            </a:ln>
          </p:spPr>
          <p:style>
            <a:lnRef idx="0"/>
            <a:fillRef idx="0"/>
            <a:effectRef idx="0"/>
            <a:fontRef idx="minor"/>
          </p:style>
          <p:txBody>
            <a:bodyPr lIns="90000" rIns="90000" tIns="-45000" bIns="-45000" anchor="ctr">
              <a:noAutofit/>
            </a:bodyPr>
            <a:p>
              <a:endParaRPr b="0" lang="en-US" sz="1800" spc="-1" strike="noStrike">
                <a:solidFill>
                  <a:srgbClr val="313c3f"/>
                </a:solidFill>
                <a:latin typeface="Source Sans Pro"/>
              </a:endParaRPr>
            </a:p>
          </p:txBody>
        </p:sp>
        <p:sp>
          <p:nvSpPr>
            <p:cNvPr id="963" name="Freeform: Shape 23"/>
            <p:cNvSpPr/>
            <p:nvPr/>
          </p:nvSpPr>
          <p:spPr>
            <a:xfrm>
              <a:off x="1446120" y="5387760"/>
              <a:ext cx="139320" cy="165240"/>
            </a:xfrm>
            <a:custGeom>
              <a:avLst/>
              <a:gdLst/>
              <a:ahLst/>
              <a:rect l="l" t="t" r="r" b="b"/>
              <a:pathLst>
                <a:path w="187642" h="222884">
                  <a:moveTo>
                    <a:pt x="187643" y="152400"/>
                  </a:moveTo>
                  <a:cubicBezTo>
                    <a:pt x="187643" y="154305"/>
                    <a:pt x="187643" y="156210"/>
                    <a:pt x="187643" y="157163"/>
                  </a:cubicBezTo>
                  <a:cubicBezTo>
                    <a:pt x="187643" y="158115"/>
                    <a:pt x="187643" y="158115"/>
                    <a:pt x="187643" y="159067"/>
                  </a:cubicBezTo>
                  <a:cubicBezTo>
                    <a:pt x="187643" y="159067"/>
                    <a:pt x="187643" y="160020"/>
                    <a:pt x="187643" y="160020"/>
                  </a:cubicBezTo>
                  <a:cubicBezTo>
                    <a:pt x="187643" y="169545"/>
                    <a:pt x="187643" y="180022"/>
                    <a:pt x="187643" y="189547"/>
                  </a:cubicBezTo>
                  <a:cubicBezTo>
                    <a:pt x="187643" y="201930"/>
                    <a:pt x="185738" y="216217"/>
                    <a:pt x="174307" y="220980"/>
                  </a:cubicBezTo>
                  <a:cubicBezTo>
                    <a:pt x="169545" y="222885"/>
                    <a:pt x="164782" y="222885"/>
                    <a:pt x="160020" y="222885"/>
                  </a:cubicBezTo>
                  <a:cubicBezTo>
                    <a:pt x="107632" y="220980"/>
                    <a:pt x="54293" y="219075"/>
                    <a:pt x="1905" y="215265"/>
                  </a:cubicBezTo>
                  <a:cubicBezTo>
                    <a:pt x="953" y="215265"/>
                    <a:pt x="0" y="215265"/>
                    <a:pt x="0" y="215265"/>
                  </a:cubicBezTo>
                  <a:cubicBezTo>
                    <a:pt x="953" y="195263"/>
                    <a:pt x="2857" y="174308"/>
                    <a:pt x="6668" y="154305"/>
                  </a:cubicBezTo>
                  <a:cubicBezTo>
                    <a:pt x="15240" y="101917"/>
                    <a:pt x="31432" y="50483"/>
                    <a:pt x="48578" y="952"/>
                  </a:cubicBezTo>
                  <a:lnTo>
                    <a:pt x="50482" y="952"/>
                  </a:lnTo>
                  <a:cubicBezTo>
                    <a:pt x="83820" y="952"/>
                    <a:pt x="117157" y="952"/>
                    <a:pt x="150495" y="952"/>
                  </a:cubicBezTo>
                  <a:cubicBezTo>
                    <a:pt x="161925" y="952"/>
                    <a:pt x="174307" y="952"/>
                    <a:pt x="185738" y="0"/>
                  </a:cubicBezTo>
                  <a:cubicBezTo>
                    <a:pt x="185738" y="0"/>
                    <a:pt x="185738" y="0"/>
                    <a:pt x="185738" y="952"/>
                  </a:cubicBezTo>
                  <a:cubicBezTo>
                    <a:pt x="185738" y="1905"/>
                    <a:pt x="185738" y="1905"/>
                    <a:pt x="185738" y="2858"/>
                  </a:cubicBezTo>
                  <a:cubicBezTo>
                    <a:pt x="186690" y="14288"/>
                    <a:pt x="187643" y="25717"/>
                    <a:pt x="187643" y="37147"/>
                  </a:cubicBezTo>
                  <a:cubicBezTo>
                    <a:pt x="186690" y="76200"/>
                    <a:pt x="187643" y="114300"/>
                    <a:pt x="187643" y="15240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4" name="Freeform: Shape 24"/>
            <p:cNvSpPr/>
            <p:nvPr/>
          </p:nvSpPr>
          <p:spPr>
            <a:xfrm>
              <a:off x="1249920" y="5599800"/>
              <a:ext cx="304200" cy="206640"/>
            </a:xfrm>
            <a:custGeom>
              <a:avLst/>
              <a:gdLst/>
              <a:ahLst/>
              <a:rect l="l" t="t" r="r" b="b"/>
              <a:pathLst>
                <a:path w="409764" h="278844">
                  <a:moveTo>
                    <a:pt x="409764" y="228600"/>
                  </a:moveTo>
                  <a:cubicBezTo>
                    <a:pt x="403097" y="228600"/>
                    <a:pt x="396429" y="229552"/>
                    <a:pt x="388809" y="229552"/>
                  </a:cubicBezTo>
                  <a:cubicBezTo>
                    <a:pt x="384047" y="229552"/>
                    <a:pt x="378332" y="230505"/>
                    <a:pt x="373569" y="230505"/>
                  </a:cubicBezTo>
                  <a:cubicBezTo>
                    <a:pt x="371664" y="230505"/>
                    <a:pt x="368807" y="230505"/>
                    <a:pt x="365949" y="230505"/>
                  </a:cubicBezTo>
                  <a:cubicBezTo>
                    <a:pt x="357377" y="231458"/>
                    <a:pt x="349757" y="231458"/>
                    <a:pt x="341184" y="231458"/>
                  </a:cubicBezTo>
                  <a:cubicBezTo>
                    <a:pt x="339279" y="231458"/>
                    <a:pt x="338327" y="231458"/>
                    <a:pt x="336422" y="231458"/>
                  </a:cubicBezTo>
                  <a:cubicBezTo>
                    <a:pt x="336422" y="231458"/>
                    <a:pt x="335469" y="231458"/>
                    <a:pt x="335469" y="231458"/>
                  </a:cubicBezTo>
                  <a:cubicBezTo>
                    <a:pt x="333564" y="231458"/>
                    <a:pt x="331659" y="231458"/>
                    <a:pt x="329754" y="231458"/>
                  </a:cubicBezTo>
                  <a:cubicBezTo>
                    <a:pt x="316419" y="232410"/>
                    <a:pt x="302132" y="232410"/>
                    <a:pt x="288797" y="235267"/>
                  </a:cubicBezTo>
                  <a:cubicBezTo>
                    <a:pt x="271652" y="239077"/>
                    <a:pt x="255459" y="247650"/>
                    <a:pt x="239267" y="254317"/>
                  </a:cubicBezTo>
                  <a:cubicBezTo>
                    <a:pt x="216407" y="263842"/>
                    <a:pt x="193547" y="271463"/>
                    <a:pt x="169734" y="276225"/>
                  </a:cubicBezTo>
                  <a:cubicBezTo>
                    <a:pt x="165924" y="277177"/>
                    <a:pt x="162114" y="277177"/>
                    <a:pt x="158304" y="278130"/>
                  </a:cubicBezTo>
                  <a:cubicBezTo>
                    <a:pt x="152589" y="279083"/>
                    <a:pt x="145922" y="279083"/>
                    <a:pt x="140207" y="278130"/>
                  </a:cubicBezTo>
                  <a:cubicBezTo>
                    <a:pt x="135444" y="277177"/>
                    <a:pt x="130682" y="275272"/>
                    <a:pt x="125919" y="273367"/>
                  </a:cubicBezTo>
                  <a:cubicBezTo>
                    <a:pt x="120204" y="270510"/>
                    <a:pt x="114489" y="266700"/>
                    <a:pt x="108774" y="262890"/>
                  </a:cubicBezTo>
                  <a:cubicBezTo>
                    <a:pt x="93534" y="251460"/>
                    <a:pt x="78294" y="240030"/>
                    <a:pt x="63054" y="228600"/>
                  </a:cubicBezTo>
                  <a:cubicBezTo>
                    <a:pt x="50672" y="219075"/>
                    <a:pt x="38289" y="209550"/>
                    <a:pt x="29717" y="196215"/>
                  </a:cubicBezTo>
                  <a:cubicBezTo>
                    <a:pt x="14477" y="176213"/>
                    <a:pt x="8762" y="150495"/>
                    <a:pt x="3999" y="125730"/>
                  </a:cubicBezTo>
                  <a:cubicBezTo>
                    <a:pt x="2094" y="115252"/>
                    <a:pt x="-763" y="103822"/>
                    <a:pt x="189" y="93345"/>
                  </a:cubicBezTo>
                  <a:cubicBezTo>
                    <a:pt x="1142" y="84772"/>
                    <a:pt x="3999" y="76200"/>
                    <a:pt x="6857" y="68580"/>
                  </a:cubicBezTo>
                  <a:cubicBezTo>
                    <a:pt x="13524" y="51435"/>
                    <a:pt x="19239" y="40005"/>
                    <a:pt x="27812" y="23813"/>
                  </a:cubicBezTo>
                  <a:cubicBezTo>
                    <a:pt x="27812" y="23813"/>
                    <a:pt x="28764" y="22860"/>
                    <a:pt x="28764" y="22860"/>
                  </a:cubicBezTo>
                  <a:cubicBezTo>
                    <a:pt x="29717" y="24765"/>
                    <a:pt x="30669" y="27622"/>
                    <a:pt x="30669" y="29527"/>
                  </a:cubicBezTo>
                  <a:cubicBezTo>
                    <a:pt x="31622" y="31433"/>
                    <a:pt x="31622" y="33338"/>
                    <a:pt x="32574" y="35242"/>
                  </a:cubicBezTo>
                  <a:cubicBezTo>
                    <a:pt x="32574" y="36195"/>
                    <a:pt x="33527" y="37147"/>
                    <a:pt x="33527" y="38100"/>
                  </a:cubicBezTo>
                  <a:cubicBezTo>
                    <a:pt x="34479" y="40005"/>
                    <a:pt x="34479" y="41910"/>
                    <a:pt x="35432" y="43815"/>
                  </a:cubicBezTo>
                  <a:cubicBezTo>
                    <a:pt x="35432" y="44767"/>
                    <a:pt x="36384" y="45720"/>
                    <a:pt x="36384" y="46672"/>
                  </a:cubicBezTo>
                  <a:cubicBezTo>
                    <a:pt x="40194" y="59055"/>
                    <a:pt x="43052" y="68580"/>
                    <a:pt x="45909" y="76200"/>
                  </a:cubicBezTo>
                  <a:cubicBezTo>
                    <a:pt x="48767" y="83820"/>
                    <a:pt x="51624" y="89535"/>
                    <a:pt x="54482" y="97155"/>
                  </a:cubicBezTo>
                  <a:cubicBezTo>
                    <a:pt x="54482" y="97155"/>
                    <a:pt x="54482" y="97155"/>
                    <a:pt x="54482" y="97155"/>
                  </a:cubicBezTo>
                  <a:cubicBezTo>
                    <a:pt x="55434" y="99060"/>
                    <a:pt x="56387" y="100965"/>
                    <a:pt x="57339" y="102870"/>
                  </a:cubicBezTo>
                  <a:cubicBezTo>
                    <a:pt x="65912" y="120967"/>
                    <a:pt x="103059" y="110490"/>
                    <a:pt x="115442" y="109538"/>
                  </a:cubicBezTo>
                  <a:cubicBezTo>
                    <a:pt x="116394" y="109538"/>
                    <a:pt x="108774" y="33338"/>
                    <a:pt x="94487" y="0"/>
                  </a:cubicBezTo>
                  <a:cubicBezTo>
                    <a:pt x="115442" y="952"/>
                    <a:pt x="137349" y="2858"/>
                    <a:pt x="158304" y="3810"/>
                  </a:cubicBezTo>
                  <a:cubicBezTo>
                    <a:pt x="161162" y="8572"/>
                    <a:pt x="164019" y="12383"/>
                    <a:pt x="167829" y="16192"/>
                  </a:cubicBezTo>
                  <a:cubicBezTo>
                    <a:pt x="179259" y="27622"/>
                    <a:pt x="194499" y="32385"/>
                    <a:pt x="208787" y="39052"/>
                  </a:cubicBezTo>
                  <a:cubicBezTo>
                    <a:pt x="221169" y="44767"/>
                    <a:pt x="233552" y="53340"/>
                    <a:pt x="244029" y="61913"/>
                  </a:cubicBezTo>
                  <a:cubicBezTo>
                    <a:pt x="251649" y="68580"/>
                    <a:pt x="258317" y="76200"/>
                    <a:pt x="267842" y="80010"/>
                  </a:cubicBezTo>
                  <a:cubicBezTo>
                    <a:pt x="276414" y="83820"/>
                    <a:pt x="284987" y="84772"/>
                    <a:pt x="294512" y="85725"/>
                  </a:cubicBezTo>
                  <a:cubicBezTo>
                    <a:pt x="313562" y="87630"/>
                    <a:pt x="332612" y="88583"/>
                    <a:pt x="350709" y="89535"/>
                  </a:cubicBezTo>
                  <a:cubicBezTo>
                    <a:pt x="355472" y="89535"/>
                    <a:pt x="359282" y="89535"/>
                    <a:pt x="364044" y="90488"/>
                  </a:cubicBezTo>
                  <a:cubicBezTo>
                    <a:pt x="365949" y="90488"/>
                    <a:pt x="367854" y="90488"/>
                    <a:pt x="369759" y="90488"/>
                  </a:cubicBezTo>
                  <a:cubicBezTo>
                    <a:pt x="369759" y="91440"/>
                    <a:pt x="370712" y="93345"/>
                    <a:pt x="371664" y="94297"/>
                  </a:cubicBezTo>
                  <a:cubicBezTo>
                    <a:pt x="378332" y="112395"/>
                    <a:pt x="392619" y="149542"/>
                    <a:pt x="401192" y="187642"/>
                  </a:cubicBezTo>
                  <a:cubicBezTo>
                    <a:pt x="405954" y="200977"/>
                    <a:pt x="408812" y="215265"/>
                    <a:pt x="409764" y="22860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5" name="Freeform: Shape 25"/>
            <p:cNvSpPr/>
            <p:nvPr/>
          </p:nvSpPr>
          <p:spPr>
            <a:xfrm>
              <a:off x="1150200" y="5589000"/>
              <a:ext cx="193680" cy="213840"/>
            </a:xfrm>
            <a:custGeom>
              <a:avLst/>
              <a:gdLst/>
              <a:ahLst/>
              <a:rect l="l" t="t" r="r" b="b"/>
              <a:pathLst>
                <a:path w="260984" h="288607">
                  <a:moveTo>
                    <a:pt x="243840" y="278130"/>
                  </a:moveTo>
                  <a:cubicBezTo>
                    <a:pt x="249555" y="281940"/>
                    <a:pt x="255270" y="285750"/>
                    <a:pt x="260985" y="288608"/>
                  </a:cubicBezTo>
                  <a:cubicBezTo>
                    <a:pt x="195263" y="277177"/>
                    <a:pt x="131445" y="260033"/>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2395"/>
                    <a:pt x="14288" y="110490"/>
                  </a:cubicBezTo>
                  <a:cubicBezTo>
                    <a:pt x="14288" y="109538"/>
                    <a:pt x="14288" y="107633"/>
                    <a:pt x="15240" y="106680"/>
                  </a:cubicBezTo>
                  <a:cubicBezTo>
                    <a:pt x="15240" y="104775"/>
                    <a:pt x="16192" y="102870"/>
                    <a:pt x="16192" y="100965"/>
                  </a:cubicBezTo>
                  <a:cubicBezTo>
                    <a:pt x="17145" y="95250"/>
                    <a:pt x="18097" y="89535"/>
                    <a:pt x="18097" y="83820"/>
                  </a:cubicBezTo>
                  <a:cubicBezTo>
                    <a:pt x="18097" y="83820"/>
                    <a:pt x="18097" y="83820"/>
                    <a:pt x="18097" y="82867"/>
                  </a:cubicBezTo>
                  <a:cubicBezTo>
                    <a:pt x="18097" y="80963"/>
                    <a:pt x="18097" y="79058"/>
                    <a:pt x="19050" y="78105"/>
                  </a:cubicBezTo>
                  <a:cubicBezTo>
                    <a:pt x="20002" y="71438"/>
                    <a:pt x="20955" y="65722"/>
                    <a:pt x="20955" y="59055"/>
                  </a:cubicBezTo>
                  <a:cubicBezTo>
                    <a:pt x="25717" y="20955"/>
                    <a:pt x="27622" y="0"/>
                    <a:pt x="27622" y="0"/>
                  </a:cubicBezTo>
                  <a:cubicBezTo>
                    <a:pt x="27622" y="0"/>
                    <a:pt x="28575" y="0"/>
                    <a:pt x="28575" y="0"/>
                  </a:cubicBezTo>
                  <a:cubicBezTo>
                    <a:pt x="43815" y="952"/>
                    <a:pt x="59055" y="2858"/>
                    <a:pt x="74295" y="3810"/>
                  </a:cubicBezTo>
                  <a:cubicBezTo>
                    <a:pt x="79057" y="3810"/>
                    <a:pt x="84772" y="4763"/>
                    <a:pt x="89535" y="4763"/>
                  </a:cubicBezTo>
                  <a:cubicBezTo>
                    <a:pt x="100013" y="5715"/>
                    <a:pt x="110490" y="6667"/>
                    <a:pt x="120967" y="7620"/>
                  </a:cubicBezTo>
                  <a:cubicBezTo>
                    <a:pt x="131445" y="8572"/>
                    <a:pt x="141922" y="9525"/>
                    <a:pt x="152400" y="9525"/>
                  </a:cubicBezTo>
                  <a:lnTo>
                    <a:pt x="162877" y="39052"/>
                  </a:lnTo>
                  <a:cubicBezTo>
                    <a:pt x="154305" y="55245"/>
                    <a:pt x="147638" y="66675"/>
                    <a:pt x="141922" y="83820"/>
                  </a:cubicBezTo>
                  <a:cubicBezTo>
                    <a:pt x="139065" y="91440"/>
                    <a:pt x="136207" y="100013"/>
                    <a:pt x="135255" y="108585"/>
                  </a:cubicBezTo>
                  <a:cubicBezTo>
                    <a:pt x="134302" y="120015"/>
                    <a:pt x="136207" y="130492"/>
                    <a:pt x="139065" y="140970"/>
                  </a:cubicBezTo>
                  <a:cubicBezTo>
                    <a:pt x="144780" y="165735"/>
                    <a:pt x="150495" y="191452"/>
                    <a:pt x="164782" y="211455"/>
                  </a:cubicBezTo>
                  <a:cubicBezTo>
                    <a:pt x="174307" y="223838"/>
                    <a:pt x="185738" y="234315"/>
                    <a:pt x="198120" y="243840"/>
                  </a:cubicBezTo>
                  <a:cubicBezTo>
                    <a:pt x="213360" y="255270"/>
                    <a:pt x="228600" y="266700"/>
                    <a:pt x="243840" y="278130"/>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6" name="Freeform: Shape 26"/>
            <p:cNvSpPr/>
            <p:nvPr/>
          </p:nvSpPr>
          <p:spPr>
            <a:xfrm>
              <a:off x="1367640" y="5772240"/>
              <a:ext cx="146880" cy="44280"/>
            </a:xfrm>
            <a:custGeom>
              <a:avLst/>
              <a:gdLst/>
              <a:ahLst/>
              <a:rect l="l" t="t" r="r" b="b"/>
              <a:pathLst>
                <a:path w="198120" h="60007">
                  <a:moveTo>
                    <a:pt x="198120" y="57150"/>
                  </a:moveTo>
                  <a:cubicBezTo>
                    <a:pt x="198120" y="58103"/>
                    <a:pt x="198120" y="59055"/>
                    <a:pt x="198120" y="60008"/>
                  </a:cubicBezTo>
                  <a:cubicBezTo>
                    <a:pt x="196215" y="60008"/>
                    <a:pt x="195263" y="60008"/>
                    <a:pt x="193358" y="60008"/>
                  </a:cubicBezTo>
                  <a:cubicBezTo>
                    <a:pt x="188595" y="60008"/>
                    <a:pt x="182880" y="60008"/>
                    <a:pt x="177165" y="60008"/>
                  </a:cubicBezTo>
                  <a:cubicBezTo>
                    <a:pt x="117158" y="60008"/>
                    <a:pt x="58103" y="55245"/>
                    <a:pt x="0" y="46673"/>
                  </a:cubicBezTo>
                  <a:cubicBezTo>
                    <a:pt x="3810" y="46673"/>
                    <a:pt x="7620" y="45720"/>
                    <a:pt x="11430" y="44767"/>
                  </a:cubicBezTo>
                  <a:cubicBezTo>
                    <a:pt x="35243" y="40005"/>
                    <a:pt x="59055" y="32385"/>
                    <a:pt x="80963" y="22860"/>
                  </a:cubicBezTo>
                  <a:cubicBezTo>
                    <a:pt x="97155" y="16192"/>
                    <a:pt x="113347" y="7620"/>
                    <a:pt x="130493" y="3810"/>
                  </a:cubicBezTo>
                  <a:cubicBezTo>
                    <a:pt x="143828" y="953"/>
                    <a:pt x="158115" y="0"/>
                    <a:pt x="171450" y="0"/>
                  </a:cubicBezTo>
                  <a:cubicBezTo>
                    <a:pt x="172403" y="0"/>
                    <a:pt x="175260" y="0"/>
                    <a:pt x="177165" y="0"/>
                  </a:cubicBezTo>
                  <a:cubicBezTo>
                    <a:pt x="177165" y="0"/>
                    <a:pt x="178118" y="0"/>
                    <a:pt x="178118" y="0"/>
                  </a:cubicBezTo>
                  <a:cubicBezTo>
                    <a:pt x="181928" y="0"/>
                    <a:pt x="186690" y="0"/>
                    <a:pt x="190500" y="0"/>
                  </a:cubicBezTo>
                  <a:cubicBezTo>
                    <a:pt x="190500" y="0"/>
                    <a:pt x="191453" y="0"/>
                    <a:pt x="191453" y="0"/>
                  </a:cubicBezTo>
                  <a:cubicBezTo>
                    <a:pt x="191453" y="0"/>
                    <a:pt x="192405" y="0"/>
                    <a:pt x="192405" y="0"/>
                  </a:cubicBezTo>
                  <a:cubicBezTo>
                    <a:pt x="192405" y="0"/>
                    <a:pt x="193358" y="0"/>
                    <a:pt x="193358" y="0"/>
                  </a:cubicBezTo>
                  <a:cubicBezTo>
                    <a:pt x="197168" y="19050"/>
                    <a:pt x="198120" y="38100"/>
                    <a:pt x="198120" y="57150"/>
                  </a:cubicBezTo>
                  <a:close/>
                </a:path>
              </a:pathLst>
            </a:custGeom>
            <a:solidFill>
              <a:srgbClr val="524f66"/>
            </a:solidFill>
            <a:ln w="0">
              <a:noFill/>
            </a:ln>
          </p:spPr>
          <p:style>
            <a:lnRef idx="0"/>
            <a:fillRef idx="0"/>
            <a:effectRef idx="0"/>
            <a:fontRef idx="minor"/>
          </p:style>
          <p:txBody>
            <a:bodyPr lIns="90000" rIns="90000" tIns="-2520" bIns="-2520" anchor="ctr">
              <a:noAutofit/>
            </a:bodyPr>
            <a:p>
              <a:endParaRPr b="0" lang="en-US" sz="1800" spc="-1" strike="noStrike">
                <a:solidFill>
                  <a:srgbClr val="313c3f"/>
                </a:solidFill>
                <a:latin typeface="Source Sans Pro"/>
              </a:endParaRPr>
            </a:p>
          </p:txBody>
        </p:sp>
        <p:sp>
          <p:nvSpPr>
            <p:cNvPr id="967" name="Freeform: Shape 27"/>
            <p:cNvSpPr/>
            <p:nvPr/>
          </p:nvSpPr>
          <p:spPr>
            <a:xfrm>
              <a:off x="1598760" y="4830480"/>
              <a:ext cx="144000" cy="316440"/>
            </a:xfrm>
            <a:custGeom>
              <a:avLst/>
              <a:gdLst/>
              <a:ahLst/>
              <a:rect l="l" t="t" r="r" b="b"/>
              <a:pathLst>
                <a:path w="194309" h="426720">
                  <a:moveTo>
                    <a:pt x="167640" y="158115"/>
                  </a:moveTo>
                  <a:cubicBezTo>
                    <a:pt x="91440" y="244792"/>
                    <a:pt x="74295" y="329565"/>
                    <a:pt x="66675" y="426720"/>
                  </a:cubicBezTo>
                  <a:lnTo>
                    <a:pt x="0" y="247650"/>
                  </a:lnTo>
                  <a:cubicBezTo>
                    <a:pt x="0" y="241935"/>
                    <a:pt x="953" y="236220"/>
                    <a:pt x="953" y="231458"/>
                  </a:cubicBezTo>
                  <a:cubicBezTo>
                    <a:pt x="1905" y="205740"/>
                    <a:pt x="3810" y="180975"/>
                    <a:pt x="4763" y="155258"/>
                  </a:cubicBezTo>
                  <a:cubicBezTo>
                    <a:pt x="4763" y="151448"/>
                    <a:pt x="5715" y="146685"/>
                    <a:pt x="5715" y="142875"/>
                  </a:cubicBezTo>
                  <a:cubicBezTo>
                    <a:pt x="5715" y="142875"/>
                    <a:pt x="41910" y="13335"/>
                    <a:pt x="37147" y="0"/>
                  </a:cubicBezTo>
                  <a:cubicBezTo>
                    <a:pt x="69532" y="14288"/>
                    <a:pt x="102870" y="29527"/>
                    <a:pt x="136207" y="44767"/>
                  </a:cubicBezTo>
                  <a:cubicBezTo>
                    <a:pt x="155257" y="62865"/>
                    <a:pt x="174307" y="80010"/>
                    <a:pt x="194310" y="97155"/>
                  </a:cubicBezTo>
                  <a:cubicBezTo>
                    <a:pt x="161925" y="94298"/>
                    <a:pt x="128588" y="95250"/>
                    <a:pt x="96203" y="101917"/>
                  </a:cubicBezTo>
                  <a:cubicBezTo>
                    <a:pt x="118110" y="124777"/>
                    <a:pt x="139065" y="142875"/>
                    <a:pt x="167640" y="158115"/>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8" name="Freeform: Shape 28"/>
            <p:cNvSpPr/>
            <p:nvPr/>
          </p:nvSpPr>
          <p:spPr>
            <a:xfrm>
              <a:off x="1269000" y="4828680"/>
              <a:ext cx="154800" cy="177120"/>
            </a:xfrm>
            <a:custGeom>
              <a:avLst/>
              <a:gdLst/>
              <a:ahLst/>
              <a:rect l="l" t="t" r="r" b="b"/>
              <a:pathLst>
                <a:path w="208597" h="239077">
                  <a:moveTo>
                    <a:pt x="208597" y="193358"/>
                  </a:moveTo>
                  <a:lnTo>
                    <a:pt x="85725" y="239078"/>
                  </a:lnTo>
                  <a:cubicBezTo>
                    <a:pt x="72390" y="220028"/>
                    <a:pt x="58103" y="200978"/>
                    <a:pt x="41910" y="182880"/>
                  </a:cubicBezTo>
                  <a:cubicBezTo>
                    <a:pt x="76200" y="161925"/>
                    <a:pt x="96203" y="140018"/>
                    <a:pt x="120968"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4780"/>
                    <a:pt x="203835" y="169545"/>
                    <a:pt x="208597" y="193358"/>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69" name="Freeform: Shape 29"/>
            <p:cNvSpPr/>
            <p:nvPr/>
          </p:nvSpPr>
          <p:spPr>
            <a:xfrm>
              <a:off x="1510200" y="5769360"/>
              <a:ext cx="48960" cy="47160"/>
            </a:xfrm>
            <a:custGeom>
              <a:avLst/>
              <a:gdLst/>
              <a:ahLst/>
              <a:rect l="l" t="t" r="r" b="b"/>
              <a:pathLst>
                <a:path w="66096" h="63817">
                  <a:moveTo>
                    <a:pt x="66096" y="60960"/>
                  </a:moveTo>
                  <a:cubicBezTo>
                    <a:pt x="63239" y="60960"/>
                    <a:pt x="59429" y="60960"/>
                    <a:pt x="56571" y="61913"/>
                  </a:cubicBezTo>
                  <a:cubicBezTo>
                    <a:pt x="40379" y="62865"/>
                    <a:pt x="24186" y="63817"/>
                    <a:pt x="7041" y="63817"/>
                  </a:cubicBezTo>
                  <a:cubicBezTo>
                    <a:pt x="5136" y="63817"/>
                    <a:pt x="4184" y="63817"/>
                    <a:pt x="2279" y="63817"/>
                  </a:cubicBezTo>
                  <a:cubicBezTo>
                    <a:pt x="2279" y="62865"/>
                    <a:pt x="2279" y="61913"/>
                    <a:pt x="2279" y="60008"/>
                  </a:cubicBezTo>
                  <a:cubicBezTo>
                    <a:pt x="374" y="40958"/>
                    <a:pt x="-579" y="21908"/>
                    <a:pt x="374" y="2858"/>
                  </a:cubicBezTo>
                  <a:cubicBezTo>
                    <a:pt x="374" y="2858"/>
                    <a:pt x="374" y="2858"/>
                    <a:pt x="374" y="2858"/>
                  </a:cubicBezTo>
                  <a:cubicBezTo>
                    <a:pt x="374" y="2858"/>
                    <a:pt x="1326" y="2858"/>
                    <a:pt x="1326" y="2858"/>
                  </a:cubicBezTo>
                  <a:cubicBezTo>
                    <a:pt x="1326" y="2858"/>
                    <a:pt x="2279" y="2858"/>
                    <a:pt x="2279" y="2858"/>
                  </a:cubicBezTo>
                  <a:cubicBezTo>
                    <a:pt x="7994" y="2858"/>
                    <a:pt x="15614" y="1905"/>
                    <a:pt x="23234" y="1905"/>
                  </a:cubicBezTo>
                  <a:cubicBezTo>
                    <a:pt x="27996" y="1905"/>
                    <a:pt x="33711" y="952"/>
                    <a:pt x="38474" y="952"/>
                  </a:cubicBezTo>
                  <a:cubicBezTo>
                    <a:pt x="45141" y="952"/>
                    <a:pt x="51809" y="0"/>
                    <a:pt x="59429" y="0"/>
                  </a:cubicBezTo>
                  <a:cubicBezTo>
                    <a:pt x="59429" y="3810"/>
                    <a:pt x="60381" y="7620"/>
                    <a:pt x="60381" y="10477"/>
                  </a:cubicBezTo>
                  <a:cubicBezTo>
                    <a:pt x="60381" y="14288"/>
                    <a:pt x="61334" y="19050"/>
                    <a:pt x="61334" y="22860"/>
                  </a:cubicBezTo>
                  <a:cubicBezTo>
                    <a:pt x="61334" y="24765"/>
                    <a:pt x="61334" y="26670"/>
                    <a:pt x="62286" y="28575"/>
                  </a:cubicBezTo>
                  <a:cubicBezTo>
                    <a:pt x="62286" y="30480"/>
                    <a:pt x="62286" y="32385"/>
                    <a:pt x="63239" y="33338"/>
                  </a:cubicBezTo>
                  <a:cubicBezTo>
                    <a:pt x="63239" y="37147"/>
                    <a:pt x="64191" y="40005"/>
                    <a:pt x="64191" y="42863"/>
                  </a:cubicBezTo>
                  <a:cubicBezTo>
                    <a:pt x="65144" y="50483"/>
                    <a:pt x="65144" y="57150"/>
                    <a:pt x="66096" y="60960"/>
                  </a:cubicBezTo>
                  <a:close/>
                </a:path>
              </a:pathLst>
            </a:custGeom>
            <a:solidFill>
              <a:srgbClr val="524f66"/>
            </a:solidFill>
            <a:ln w="0">
              <a:noFill/>
            </a:ln>
          </p:spPr>
          <p:style>
            <a:lnRef idx="0"/>
            <a:fillRef idx="0"/>
            <a:effectRef idx="0"/>
            <a:fontRef idx="minor"/>
          </p:style>
          <p:txBody>
            <a:bodyPr lIns="90000" rIns="90000" tIns="360" bIns="360" anchor="ctr">
              <a:noAutofit/>
            </a:bodyPr>
            <a:p>
              <a:endParaRPr b="0" lang="en-US" sz="1800" spc="-1" strike="noStrike">
                <a:solidFill>
                  <a:srgbClr val="313c3f"/>
                </a:solidFill>
                <a:latin typeface="Source Sans Pro"/>
              </a:endParaRPr>
            </a:p>
          </p:txBody>
        </p:sp>
        <p:sp>
          <p:nvSpPr>
            <p:cNvPr id="970" name="Freeform: Shape 30"/>
            <p:cNvSpPr/>
            <p:nvPr/>
          </p:nvSpPr>
          <p:spPr>
            <a:xfrm>
              <a:off x="1572480" y="5778000"/>
              <a:ext cx="79920" cy="36000"/>
            </a:xfrm>
            <a:custGeom>
              <a:avLst/>
              <a:gdLst/>
              <a:ahLst/>
              <a:rect l="l" t="t" r="r" b="b"/>
              <a:pathLst>
                <a:path w="107632" h="48577">
                  <a:moveTo>
                    <a:pt x="107633" y="35242"/>
                  </a:moveTo>
                  <a:cubicBezTo>
                    <a:pt x="92393" y="38100"/>
                    <a:pt x="78105" y="40005"/>
                    <a:pt x="62865" y="41910"/>
                  </a:cubicBezTo>
                  <a:cubicBezTo>
                    <a:pt x="41910" y="44767"/>
                    <a:pt x="20955" y="46672"/>
                    <a:pt x="0" y="48578"/>
                  </a:cubicBezTo>
                  <a:cubicBezTo>
                    <a:pt x="2858" y="47625"/>
                    <a:pt x="5715" y="45720"/>
                    <a:pt x="9525" y="44767"/>
                  </a:cubicBezTo>
                  <a:cubicBezTo>
                    <a:pt x="25718" y="38100"/>
                    <a:pt x="40958" y="31433"/>
                    <a:pt x="56197" y="23813"/>
                  </a:cubicBezTo>
                  <a:cubicBezTo>
                    <a:pt x="70485" y="17145"/>
                    <a:pt x="84772" y="10478"/>
                    <a:pt x="99060" y="2858"/>
                  </a:cubicBezTo>
                  <a:cubicBezTo>
                    <a:pt x="100965" y="1905"/>
                    <a:pt x="102870" y="953"/>
                    <a:pt x="104775" y="0"/>
                  </a:cubicBezTo>
                  <a:cubicBezTo>
                    <a:pt x="106680" y="11430"/>
                    <a:pt x="107633" y="22860"/>
                    <a:pt x="107633" y="35242"/>
                  </a:cubicBezTo>
                  <a:close/>
                </a:path>
              </a:pathLst>
            </a:custGeom>
            <a:solidFill>
              <a:srgbClr val="524f66"/>
            </a:solidFill>
            <a:ln w="0">
              <a:noFill/>
            </a:ln>
          </p:spPr>
          <p:style>
            <a:lnRef idx="0"/>
            <a:fillRef idx="0"/>
            <a:effectRef idx="0"/>
            <a:fontRef idx="minor"/>
          </p:style>
          <p:txBody>
            <a:bodyPr lIns="90000" rIns="90000" tIns="-10800" bIns="-10800" anchor="ctr">
              <a:noAutofit/>
            </a:bodyPr>
            <a:p>
              <a:endParaRPr b="0" lang="en-US" sz="1800" spc="-1" strike="noStrike">
                <a:solidFill>
                  <a:srgbClr val="313c3f"/>
                </a:solidFill>
                <a:latin typeface="Source Sans Pro"/>
              </a:endParaRPr>
            </a:p>
          </p:txBody>
        </p:sp>
        <p:sp>
          <p:nvSpPr>
            <p:cNvPr id="971" name="Freeform: Shape 31"/>
            <p:cNvSpPr/>
            <p:nvPr/>
          </p:nvSpPr>
          <p:spPr>
            <a:xfrm>
              <a:off x="1760760" y="5748840"/>
              <a:ext cx="45000" cy="28800"/>
            </a:xfrm>
            <a:custGeom>
              <a:avLst/>
              <a:gdLst/>
              <a:ahLst/>
              <a:rect l="l" t="t" r="r" b="b"/>
              <a:pathLst>
                <a:path w="60959" h="39052">
                  <a:moveTo>
                    <a:pt x="-4576" y="19050"/>
                  </a:moveTo>
                  <a:cubicBezTo>
                    <a:pt x="-24579" y="26670"/>
                    <a:pt x="20955" y="-32198"/>
                    <a:pt x="0" y="-26483"/>
                  </a:cubicBezTo>
                  <a:cubicBezTo>
                    <a:pt x="19050" y="26670"/>
                    <a:pt x="-27436" y="13335"/>
                    <a:pt x="-7433" y="0"/>
                  </a:cubicBezTo>
                  <a:cubicBezTo>
                    <a:pt x="-6481" y="6668"/>
                    <a:pt x="-5529" y="12383"/>
                    <a:pt x="-4576" y="19050"/>
                  </a:cubicBezTo>
                  <a:close/>
                </a:path>
              </a:pathLst>
            </a:custGeom>
            <a:solidFill>
              <a:srgbClr val="524f66"/>
            </a:solidFill>
            <a:ln w="0">
              <a:noFill/>
            </a:ln>
          </p:spPr>
          <p:style>
            <a:lnRef idx="0"/>
            <a:fillRef idx="0"/>
            <a:effectRef idx="0"/>
            <a:fontRef idx="minor"/>
          </p:style>
          <p:txBody>
            <a:bodyPr lIns="90000" rIns="90000" tIns="-18000" bIns="-18000" anchor="ctr">
              <a:noAutofit/>
            </a:bodyPr>
            <a:p>
              <a:endParaRPr b="0" lang="en-US" sz="1800" spc="-1" strike="noStrike">
                <a:solidFill>
                  <a:srgbClr val="313c3f"/>
                </a:solidFill>
                <a:latin typeface="Source Sans Pro"/>
              </a:endParaRPr>
            </a:p>
          </p:txBody>
        </p:sp>
        <p:sp>
          <p:nvSpPr>
            <p:cNvPr id="972" name="Freeform: Shape 32"/>
            <p:cNvSpPr/>
            <p:nvPr/>
          </p:nvSpPr>
          <p:spPr>
            <a:xfrm>
              <a:off x="1331280" y="4222080"/>
              <a:ext cx="317160" cy="447840"/>
            </a:xfrm>
            <a:custGeom>
              <a:avLst/>
              <a:gdLst/>
              <a:ahLst/>
              <a:rect l="l" t="t" r="r" b="b"/>
              <a:pathLst>
                <a:path w="427483" h="603890">
                  <a:moveTo>
                    <a:pt x="420194" y="345733"/>
                  </a:moveTo>
                  <a:cubicBezTo>
                    <a:pt x="412575" y="383833"/>
                    <a:pt x="400192" y="421933"/>
                    <a:pt x="384000" y="457175"/>
                  </a:cubicBezTo>
                  <a:cubicBezTo>
                    <a:pt x="380190" y="465748"/>
                    <a:pt x="376379" y="473368"/>
                    <a:pt x="371617" y="480988"/>
                  </a:cubicBezTo>
                  <a:cubicBezTo>
                    <a:pt x="364950" y="494323"/>
                    <a:pt x="357329" y="506705"/>
                    <a:pt x="348757" y="518135"/>
                  </a:cubicBezTo>
                  <a:cubicBezTo>
                    <a:pt x="339232" y="530518"/>
                    <a:pt x="327802" y="543853"/>
                    <a:pt x="315419" y="555283"/>
                  </a:cubicBezTo>
                  <a:cubicBezTo>
                    <a:pt x="285892" y="582905"/>
                    <a:pt x="249697" y="604813"/>
                    <a:pt x="212550" y="603860"/>
                  </a:cubicBezTo>
                  <a:cubicBezTo>
                    <a:pt x="182069" y="602908"/>
                    <a:pt x="151590" y="586715"/>
                    <a:pt x="125872" y="566713"/>
                  </a:cubicBezTo>
                  <a:cubicBezTo>
                    <a:pt x="115394" y="559093"/>
                    <a:pt x="105869" y="550520"/>
                    <a:pt x="97297" y="540995"/>
                  </a:cubicBezTo>
                  <a:cubicBezTo>
                    <a:pt x="95392" y="539090"/>
                    <a:pt x="93487" y="537185"/>
                    <a:pt x="91582" y="535280"/>
                  </a:cubicBezTo>
                  <a:cubicBezTo>
                    <a:pt x="68722" y="509563"/>
                    <a:pt x="54434" y="480035"/>
                    <a:pt x="41100" y="448603"/>
                  </a:cubicBezTo>
                  <a:cubicBezTo>
                    <a:pt x="39194" y="444793"/>
                    <a:pt x="38242" y="440983"/>
                    <a:pt x="36337" y="437173"/>
                  </a:cubicBezTo>
                  <a:cubicBezTo>
                    <a:pt x="28717" y="418123"/>
                    <a:pt x="21097" y="399073"/>
                    <a:pt x="15382" y="379070"/>
                  </a:cubicBezTo>
                  <a:cubicBezTo>
                    <a:pt x="6809" y="346685"/>
                    <a:pt x="1094" y="313348"/>
                    <a:pt x="142" y="280963"/>
                  </a:cubicBezTo>
                  <a:cubicBezTo>
                    <a:pt x="-810" y="241910"/>
                    <a:pt x="3000" y="202858"/>
                    <a:pt x="12525" y="163805"/>
                  </a:cubicBezTo>
                  <a:cubicBezTo>
                    <a:pt x="12525" y="162853"/>
                    <a:pt x="12525" y="162853"/>
                    <a:pt x="12525" y="161900"/>
                  </a:cubicBezTo>
                  <a:cubicBezTo>
                    <a:pt x="15382" y="148565"/>
                    <a:pt x="19192" y="134278"/>
                    <a:pt x="23954" y="120943"/>
                  </a:cubicBezTo>
                  <a:cubicBezTo>
                    <a:pt x="31575" y="98083"/>
                    <a:pt x="39194" y="76175"/>
                    <a:pt x="47767" y="53315"/>
                  </a:cubicBezTo>
                  <a:cubicBezTo>
                    <a:pt x="51577" y="42838"/>
                    <a:pt x="55387" y="31408"/>
                    <a:pt x="63007" y="22835"/>
                  </a:cubicBezTo>
                  <a:cubicBezTo>
                    <a:pt x="68722" y="16168"/>
                    <a:pt x="77294" y="11405"/>
                    <a:pt x="85867" y="8548"/>
                  </a:cubicBezTo>
                  <a:cubicBezTo>
                    <a:pt x="122062" y="-5740"/>
                    <a:pt x="162067" y="-25"/>
                    <a:pt x="199215" y="10453"/>
                  </a:cubicBezTo>
                  <a:cubicBezTo>
                    <a:pt x="259222" y="27598"/>
                    <a:pt x="315419" y="57125"/>
                    <a:pt x="363044" y="97130"/>
                  </a:cubicBezTo>
                  <a:cubicBezTo>
                    <a:pt x="382094" y="112370"/>
                    <a:pt x="402097" y="131420"/>
                    <a:pt x="409717" y="154280"/>
                  </a:cubicBezTo>
                  <a:cubicBezTo>
                    <a:pt x="430672" y="217145"/>
                    <a:pt x="431625" y="281915"/>
                    <a:pt x="420194" y="34573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73" name="Freeform: Shape 33"/>
            <p:cNvSpPr/>
            <p:nvPr/>
          </p:nvSpPr>
          <p:spPr>
            <a:xfrm>
              <a:off x="1443240" y="4866840"/>
              <a:ext cx="117360" cy="82440"/>
            </a:xfrm>
            <a:custGeom>
              <a:avLst/>
              <a:gdLst/>
              <a:ahLst/>
              <a:rect l="l" t="t" r="r" b="b"/>
              <a:pathLst>
                <a:path w="158115" h="111442">
                  <a:moveTo>
                    <a:pt x="158115" y="4763"/>
                  </a:moveTo>
                  <a:cubicBezTo>
                    <a:pt x="153353" y="28575"/>
                    <a:pt x="147638" y="53340"/>
                    <a:pt x="142875" y="79058"/>
                  </a:cubicBezTo>
                  <a:lnTo>
                    <a:pt x="117157" y="88583"/>
                  </a:lnTo>
                  <a:lnTo>
                    <a:pt x="74295" y="104775"/>
                  </a:lnTo>
                  <a:lnTo>
                    <a:pt x="57150" y="111443"/>
                  </a:lnTo>
                  <a:cubicBezTo>
                    <a:pt x="45720" y="80010"/>
                    <a:pt x="24765" y="39052"/>
                    <a:pt x="0" y="0"/>
                  </a:cubicBezTo>
                  <a:cubicBezTo>
                    <a:pt x="21907" y="10477"/>
                    <a:pt x="44767" y="18098"/>
                    <a:pt x="68580" y="20002"/>
                  </a:cubicBezTo>
                  <a:cubicBezTo>
                    <a:pt x="99060" y="21908"/>
                    <a:pt x="129540" y="17145"/>
                    <a:pt x="158115" y="4763"/>
                  </a:cubicBezTo>
                  <a:close/>
                </a:path>
              </a:pathLst>
            </a:custGeom>
            <a:solidFill>
              <a:srgbClr val="a7a9ac"/>
            </a:solidFill>
            <a:ln w="0">
              <a:noFill/>
            </a:ln>
          </p:spPr>
          <p:style>
            <a:lnRef idx="0"/>
            <a:fillRef idx="0"/>
            <a:effectRef idx="0"/>
            <a:fontRef idx="minor"/>
          </p:style>
          <p:txBody>
            <a:bodyPr lIns="90000" rIns="90000" tIns="35640" bIns="35640" anchor="ctr">
              <a:noAutofit/>
            </a:bodyPr>
            <a:p>
              <a:endParaRPr b="0" lang="en-US" sz="1800" spc="-1" strike="noStrike">
                <a:solidFill>
                  <a:srgbClr val="313c3f"/>
                </a:solidFill>
                <a:latin typeface="Source Sans Pro"/>
              </a:endParaRPr>
            </a:p>
          </p:txBody>
        </p:sp>
        <p:sp>
          <p:nvSpPr>
            <p:cNvPr id="974" name="Freeform: Shape 34"/>
            <p:cNvSpPr/>
            <p:nvPr/>
          </p:nvSpPr>
          <p:spPr>
            <a:xfrm>
              <a:off x="1614240" y="5777280"/>
              <a:ext cx="38160" cy="31680"/>
            </a:xfrm>
            <a:custGeom>
              <a:avLst/>
              <a:gdLst/>
              <a:ahLst/>
              <a:rect l="l" t="t" r="r" b="b"/>
              <a:pathLst>
                <a:path w="51435" h="42862">
                  <a:moveTo>
                    <a:pt x="-14101" y="-29341"/>
                  </a:moveTo>
                  <a:cubicBezTo>
                    <a:pt x="-29341" y="-26483"/>
                    <a:pt x="21908" y="-24578"/>
                    <a:pt x="6668" y="-22673"/>
                  </a:cubicBezTo>
                  <a:cubicBezTo>
                    <a:pt x="3810" y="-28388"/>
                    <a:pt x="1905" y="30480"/>
                    <a:pt x="0" y="24765"/>
                  </a:cubicBezTo>
                  <a:cubicBezTo>
                    <a:pt x="0" y="24765"/>
                    <a:pt x="0" y="24765"/>
                    <a:pt x="0" y="23813"/>
                  </a:cubicBezTo>
                  <a:cubicBezTo>
                    <a:pt x="15240" y="16193"/>
                    <a:pt x="30480" y="9525"/>
                    <a:pt x="-22673" y="2858"/>
                  </a:cubicBezTo>
                  <a:cubicBezTo>
                    <a:pt x="-20768" y="1905"/>
                    <a:pt x="-18863" y="953"/>
                    <a:pt x="-16958" y="0"/>
                  </a:cubicBezTo>
                  <a:cubicBezTo>
                    <a:pt x="-15053" y="12383"/>
                    <a:pt x="-14101" y="23813"/>
                    <a:pt x="-14101" y="-29341"/>
                  </a:cubicBezTo>
                  <a:close/>
                </a:path>
              </a:pathLst>
            </a:custGeom>
            <a:solidFill>
              <a:srgbClr val="231f20"/>
            </a:solidFill>
            <a:ln w="0">
              <a:noFill/>
            </a:ln>
          </p:spPr>
          <p:style>
            <a:lnRef idx="0"/>
            <a:fillRef idx="0"/>
            <a:effectRef idx="0"/>
            <a:fontRef idx="minor"/>
          </p:style>
          <p:txBody>
            <a:bodyPr lIns="90000" rIns="90000" tIns="-15120" bIns="-15120" anchor="ctr">
              <a:noAutofit/>
            </a:bodyPr>
            <a:p>
              <a:endParaRPr b="0" lang="en-US" sz="1800" spc="-1" strike="noStrike">
                <a:solidFill>
                  <a:srgbClr val="313c3f"/>
                </a:solidFill>
                <a:latin typeface="Source Sans Pro"/>
              </a:endParaRPr>
            </a:p>
          </p:txBody>
        </p:sp>
        <p:sp>
          <p:nvSpPr>
            <p:cNvPr id="975" name="Freeform: Shape 35"/>
            <p:cNvSpPr/>
            <p:nvPr/>
          </p:nvSpPr>
          <p:spPr>
            <a:xfrm>
              <a:off x="1528920" y="5769360"/>
              <a:ext cx="30240" cy="45720"/>
            </a:xfrm>
            <a:custGeom>
              <a:avLst/>
              <a:gdLst/>
              <a:ahLst/>
              <a:rect l="l" t="t" r="r" b="b"/>
              <a:pathLst>
                <a:path w="40957" h="61912">
                  <a:moveTo>
                    <a:pt x="-24579" y="-4576"/>
                  </a:moveTo>
                  <a:cubicBezTo>
                    <a:pt x="-27436" y="-4576"/>
                    <a:pt x="-31246" y="-4576"/>
                    <a:pt x="31432" y="-3623"/>
                  </a:cubicBezTo>
                  <a:cubicBezTo>
                    <a:pt x="30480" y="-4576"/>
                    <a:pt x="30480" y="-5528"/>
                    <a:pt x="29527" y="-6481"/>
                  </a:cubicBezTo>
                  <a:cubicBezTo>
                    <a:pt x="19050" y="-23626"/>
                    <a:pt x="9525" y="23813"/>
                    <a:pt x="952" y="4763"/>
                  </a:cubicBezTo>
                  <a:cubicBezTo>
                    <a:pt x="952" y="3810"/>
                    <a:pt x="0" y="2858"/>
                    <a:pt x="0" y="1905"/>
                  </a:cubicBezTo>
                  <a:cubicBezTo>
                    <a:pt x="0" y="1905"/>
                    <a:pt x="0" y="1905"/>
                    <a:pt x="0" y="1905"/>
                  </a:cubicBezTo>
                  <a:cubicBezTo>
                    <a:pt x="4763" y="1905"/>
                    <a:pt x="10477" y="952"/>
                    <a:pt x="15240" y="952"/>
                  </a:cubicBezTo>
                  <a:cubicBezTo>
                    <a:pt x="21907" y="952"/>
                    <a:pt x="28575" y="0"/>
                    <a:pt x="-29341" y="0"/>
                  </a:cubicBezTo>
                  <a:cubicBezTo>
                    <a:pt x="-29341" y="3810"/>
                    <a:pt x="-28389" y="7620"/>
                    <a:pt x="-28389" y="10477"/>
                  </a:cubicBezTo>
                  <a:cubicBezTo>
                    <a:pt x="-28389" y="14288"/>
                    <a:pt x="-27436" y="19050"/>
                    <a:pt x="-27436" y="22860"/>
                  </a:cubicBezTo>
                  <a:cubicBezTo>
                    <a:pt x="-27436" y="24765"/>
                    <a:pt x="-27436" y="26670"/>
                    <a:pt x="-26484" y="28575"/>
                  </a:cubicBezTo>
                  <a:cubicBezTo>
                    <a:pt x="-26484" y="30480"/>
                    <a:pt x="-26484" y="32385"/>
                    <a:pt x="-25531" y="-32198"/>
                  </a:cubicBezTo>
                  <a:cubicBezTo>
                    <a:pt x="-25531" y="-28389"/>
                    <a:pt x="-24579" y="-25531"/>
                    <a:pt x="-24579" y="-22673"/>
                  </a:cubicBezTo>
                  <a:cubicBezTo>
                    <a:pt x="-25531" y="-15053"/>
                    <a:pt x="-25531" y="-8386"/>
                    <a:pt x="-24579" y="-4576"/>
                  </a:cubicBezTo>
                  <a:close/>
                </a:path>
              </a:pathLst>
            </a:custGeom>
            <a:solidFill>
              <a:srgbClr val="bcbec0"/>
            </a:solidFill>
            <a:ln w="0">
              <a:noFill/>
            </a:ln>
          </p:spPr>
          <p:style>
            <a:lnRef idx="0"/>
            <a:fillRef idx="0"/>
            <a:effectRef idx="0"/>
            <a:fontRef idx="minor"/>
          </p:style>
          <p:txBody>
            <a:bodyPr lIns="90000" rIns="90000" tIns="-1080" bIns="-1080" anchor="ctr">
              <a:noAutofit/>
            </a:bodyPr>
            <a:p>
              <a:endParaRPr b="0" lang="en-US" sz="1800" spc="-1" strike="noStrike">
                <a:solidFill>
                  <a:srgbClr val="313c3f"/>
                </a:solidFill>
                <a:latin typeface="Source Sans Pro"/>
              </a:endParaRPr>
            </a:p>
          </p:txBody>
        </p:sp>
        <p:sp>
          <p:nvSpPr>
            <p:cNvPr id="976" name="Freeform: Shape 36"/>
            <p:cNvSpPr/>
            <p:nvPr/>
          </p:nvSpPr>
          <p:spPr>
            <a:xfrm>
              <a:off x="1392840" y="4620600"/>
              <a:ext cx="172440" cy="102240"/>
            </a:xfrm>
            <a:custGeom>
              <a:avLst/>
              <a:gdLst/>
              <a:ahLst/>
              <a:rect l="l" t="t" r="r" b="b"/>
              <a:pathLst>
                <a:path w="232409" h="137874">
                  <a:moveTo>
                    <a:pt x="232410" y="19050"/>
                  </a:moveTo>
                  <a:cubicBezTo>
                    <a:pt x="227647" y="24765"/>
                    <a:pt x="223838" y="29527"/>
                    <a:pt x="220028" y="34290"/>
                  </a:cubicBezTo>
                  <a:cubicBezTo>
                    <a:pt x="190500" y="68580"/>
                    <a:pt x="154305" y="96202"/>
                    <a:pt x="113347" y="114300"/>
                  </a:cubicBezTo>
                  <a:cubicBezTo>
                    <a:pt x="90488" y="124777"/>
                    <a:pt x="66675" y="132397"/>
                    <a:pt x="41910" y="136207"/>
                  </a:cubicBezTo>
                  <a:cubicBezTo>
                    <a:pt x="28575" y="138113"/>
                    <a:pt x="13335" y="139065"/>
                    <a:pt x="0" y="135255"/>
                  </a:cubicBezTo>
                  <a:cubicBezTo>
                    <a:pt x="8572" y="90488"/>
                    <a:pt x="15240" y="37147"/>
                    <a:pt x="10478" y="0"/>
                  </a:cubicBezTo>
                  <a:cubicBezTo>
                    <a:pt x="12382" y="1905"/>
                    <a:pt x="14288" y="3810"/>
                    <a:pt x="16193" y="5715"/>
                  </a:cubicBezTo>
                  <a:cubicBezTo>
                    <a:pt x="45720" y="36195"/>
                    <a:pt x="88582" y="66675"/>
                    <a:pt x="130493" y="67627"/>
                  </a:cubicBezTo>
                  <a:cubicBezTo>
                    <a:pt x="166688" y="68580"/>
                    <a:pt x="202882" y="46672"/>
                    <a:pt x="232410" y="1905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77" name="Freeform: Shape 37"/>
            <p:cNvSpPr/>
            <p:nvPr/>
          </p:nvSpPr>
          <p:spPr>
            <a:xfrm>
              <a:off x="1332000" y="4332960"/>
              <a:ext cx="37440" cy="222480"/>
            </a:xfrm>
            <a:custGeom>
              <a:avLst/>
              <a:gdLst/>
              <a:ahLst/>
              <a:rect l="l" t="t" r="r" b="b"/>
              <a:pathLst>
                <a:path w="50698" h="299951">
                  <a:moveTo>
                    <a:pt x="33479" y="79924"/>
                  </a:moveTo>
                  <a:cubicBezTo>
                    <a:pt x="28717" y="153267"/>
                    <a:pt x="26812" y="228514"/>
                    <a:pt x="41100" y="299952"/>
                  </a:cubicBezTo>
                  <a:cubicBezTo>
                    <a:pt x="39195" y="296142"/>
                    <a:pt x="38242" y="292332"/>
                    <a:pt x="36337" y="288522"/>
                  </a:cubicBezTo>
                  <a:cubicBezTo>
                    <a:pt x="28717" y="269472"/>
                    <a:pt x="21097" y="250422"/>
                    <a:pt x="15382" y="230419"/>
                  </a:cubicBezTo>
                  <a:cubicBezTo>
                    <a:pt x="6810" y="198034"/>
                    <a:pt x="1095" y="164697"/>
                    <a:pt x="142" y="132312"/>
                  </a:cubicBezTo>
                  <a:cubicBezTo>
                    <a:pt x="-811" y="93259"/>
                    <a:pt x="3000" y="54207"/>
                    <a:pt x="12525" y="15154"/>
                  </a:cubicBezTo>
                  <a:cubicBezTo>
                    <a:pt x="14429" y="12297"/>
                    <a:pt x="17287" y="10392"/>
                    <a:pt x="19192" y="8487"/>
                  </a:cubicBezTo>
                  <a:cubicBezTo>
                    <a:pt x="23002" y="5629"/>
                    <a:pt x="26812" y="2772"/>
                    <a:pt x="30622" y="867"/>
                  </a:cubicBezTo>
                  <a:cubicBezTo>
                    <a:pt x="35385" y="-1038"/>
                    <a:pt x="48720" y="-86"/>
                    <a:pt x="50625" y="6582"/>
                  </a:cubicBezTo>
                  <a:cubicBezTo>
                    <a:pt x="51577" y="11344"/>
                    <a:pt x="43004" y="22774"/>
                    <a:pt x="41100" y="28489"/>
                  </a:cubicBezTo>
                  <a:cubicBezTo>
                    <a:pt x="36337" y="44682"/>
                    <a:pt x="34432" y="62779"/>
                    <a:pt x="33479" y="7992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78" name="Freeform: Shape 38"/>
            <p:cNvSpPr/>
            <p:nvPr/>
          </p:nvSpPr>
          <p:spPr>
            <a:xfrm>
              <a:off x="1436760" y="4567680"/>
              <a:ext cx="102960" cy="48960"/>
            </a:xfrm>
            <a:custGeom>
              <a:avLst/>
              <a:gdLst/>
              <a:ahLst/>
              <a:rect l="l" t="t" r="r" b="b"/>
              <a:pathLst>
                <a:path w="139064" h="66362">
                  <a:moveTo>
                    <a:pt x="105727" y="55245"/>
                  </a:moveTo>
                  <a:cubicBezTo>
                    <a:pt x="125730" y="43815"/>
                    <a:pt x="135255" y="25717"/>
                    <a:pt x="139065" y="0"/>
                  </a:cubicBezTo>
                  <a:cubicBezTo>
                    <a:pt x="124777" y="25717"/>
                    <a:pt x="97155" y="39052"/>
                    <a:pt x="69532" y="39052"/>
                  </a:cubicBezTo>
                  <a:cubicBezTo>
                    <a:pt x="48577" y="39052"/>
                    <a:pt x="26670" y="28575"/>
                    <a:pt x="12382" y="12382"/>
                  </a:cubicBezTo>
                  <a:cubicBezTo>
                    <a:pt x="10477" y="10477"/>
                    <a:pt x="5715" y="5715"/>
                    <a:pt x="0" y="0"/>
                  </a:cubicBezTo>
                  <a:cubicBezTo>
                    <a:pt x="1905" y="7620"/>
                    <a:pt x="37147" y="97155"/>
                    <a:pt x="105727" y="55245"/>
                  </a:cubicBezTo>
                  <a:close/>
                </a:path>
              </a:pathLst>
            </a:custGeom>
            <a:solidFill>
              <a:srgbClr val="cf9e76"/>
            </a:solidFill>
            <a:ln w="0">
              <a:noFill/>
            </a:ln>
          </p:spPr>
          <p:style>
            <a:lnRef idx="0"/>
            <a:fillRef idx="0"/>
            <a:effectRef idx="0"/>
            <a:fontRef idx="minor"/>
          </p:style>
          <p:txBody>
            <a:bodyPr lIns="90000" rIns="90000" tIns="2160" bIns="2160" anchor="ctr">
              <a:noAutofit/>
            </a:bodyPr>
            <a:p>
              <a:endParaRPr b="0" lang="en-US" sz="1800" spc="-1" strike="noStrike">
                <a:solidFill>
                  <a:srgbClr val="313c3f"/>
                </a:solidFill>
                <a:latin typeface="Source Sans Pro"/>
              </a:endParaRPr>
            </a:p>
          </p:txBody>
        </p:sp>
        <p:sp>
          <p:nvSpPr>
            <p:cNvPr id="979" name="Freeform: Shape 39"/>
            <p:cNvSpPr/>
            <p:nvPr/>
          </p:nvSpPr>
          <p:spPr>
            <a:xfrm>
              <a:off x="1461600" y="4516200"/>
              <a:ext cx="53280" cy="23400"/>
            </a:xfrm>
            <a:custGeom>
              <a:avLst/>
              <a:gdLst/>
              <a:ahLst/>
              <a:rect l="l" t="t" r="r" b="b"/>
              <a:pathLst>
                <a:path w="72014" h="31884">
                  <a:moveTo>
                    <a:pt x="1913" y="11227"/>
                  </a:moveTo>
                  <a:cubicBezTo>
                    <a:pt x="4770" y="15037"/>
                    <a:pt x="8580" y="16942"/>
                    <a:pt x="12390" y="18847"/>
                  </a:cubicBezTo>
                  <a:cubicBezTo>
                    <a:pt x="18105" y="22657"/>
                    <a:pt x="21915" y="27420"/>
                    <a:pt x="28583" y="30277"/>
                  </a:cubicBezTo>
                  <a:cubicBezTo>
                    <a:pt x="35250" y="33135"/>
                    <a:pt x="42870" y="32182"/>
                    <a:pt x="48585" y="27420"/>
                  </a:cubicBezTo>
                  <a:cubicBezTo>
                    <a:pt x="53348" y="23610"/>
                    <a:pt x="57158" y="16942"/>
                    <a:pt x="63825" y="15037"/>
                  </a:cubicBezTo>
                  <a:cubicBezTo>
                    <a:pt x="65730" y="14085"/>
                    <a:pt x="67635" y="14085"/>
                    <a:pt x="69540" y="13132"/>
                  </a:cubicBezTo>
                  <a:cubicBezTo>
                    <a:pt x="70493" y="12180"/>
                    <a:pt x="71445" y="10275"/>
                    <a:pt x="71445" y="8370"/>
                  </a:cubicBezTo>
                  <a:cubicBezTo>
                    <a:pt x="72398" y="5512"/>
                    <a:pt x="72398" y="1702"/>
                    <a:pt x="69540" y="750"/>
                  </a:cubicBezTo>
                  <a:cubicBezTo>
                    <a:pt x="67635" y="-203"/>
                    <a:pt x="65730" y="750"/>
                    <a:pt x="63825" y="1702"/>
                  </a:cubicBezTo>
                  <a:cubicBezTo>
                    <a:pt x="57158" y="5512"/>
                    <a:pt x="52395" y="11227"/>
                    <a:pt x="45728" y="14085"/>
                  </a:cubicBezTo>
                  <a:cubicBezTo>
                    <a:pt x="38108" y="16942"/>
                    <a:pt x="29535" y="15990"/>
                    <a:pt x="22868" y="11227"/>
                  </a:cubicBezTo>
                  <a:cubicBezTo>
                    <a:pt x="20010" y="8370"/>
                    <a:pt x="17153" y="5512"/>
                    <a:pt x="14295" y="2655"/>
                  </a:cubicBezTo>
                  <a:cubicBezTo>
                    <a:pt x="7628" y="-3060"/>
                    <a:pt x="-4755" y="750"/>
                    <a:pt x="1913" y="11227"/>
                  </a:cubicBezTo>
                  <a:close/>
                </a:path>
              </a:pathLst>
            </a:custGeom>
            <a:solidFill>
              <a:srgbClr val="cf9e76"/>
            </a:solidFill>
            <a:ln w="0">
              <a:noFill/>
            </a:ln>
          </p:spPr>
          <p:style>
            <a:lnRef idx="0"/>
            <a:fillRef idx="0"/>
            <a:effectRef idx="0"/>
            <a:fontRef idx="minor"/>
          </p:style>
          <p:txBody>
            <a:bodyPr lIns="90000" rIns="90000" tIns="-23400" bIns="-23400" anchor="ctr">
              <a:noAutofit/>
            </a:bodyPr>
            <a:p>
              <a:endParaRPr b="0" lang="en-US" sz="1800" spc="-1" strike="noStrike">
                <a:solidFill>
                  <a:srgbClr val="313c3f"/>
                </a:solidFill>
                <a:latin typeface="Source Sans Pro"/>
              </a:endParaRPr>
            </a:p>
          </p:txBody>
        </p:sp>
        <p:pic>
          <p:nvPicPr>
            <p:cNvPr id="980" name="Graphic 2" descr=""/>
            <p:cNvPicPr/>
            <p:nvPr/>
          </p:nvPicPr>
          <p:blipFill>
            <a:blip r:embed="rId1"/>
            <a:stretch/>
          </p:blipFill>
          <p:spPr>
            <a:xfrm>
              <a:off x="1334880" y="4273200"/>
              <a:ext cx="310680" cy="371880"/>
            </a:xfrm>
            <a:prstGeom prst="rect">
              <a:avLst/>
            </a:prstGeom>
            <a:ln w="0">
              <a:noFill/>
            </a:ln>
          </p:spPr>
        </p:pic>
        <p:sp>
          <p:nvSpPr>
            <p:cNvPr id="981" name="Freeform: Shape 45"/>
            <p:cNvSpPr/>
            <p:nvPr/>
          </p:nvSpPr>
          <p:spPr>
            <a:xfrm>
              <a:off x="1522080" y="4415760"/>
              <a:ext cx="76320" cy="37440"/>
            </a:xfrm>
            <a:custGeom>
              <a:avLst/>
              <a:gdLst/>
              <a:ahLst/>
              <a:rect l="l" t="t" r="r" b="b"/>
              <a:pathLst>
                <a:path w="103059" h="50568">
                  <a:moveTo>
                    <a:pt x="101154" y="14373"/>
                  </a:moveTo>
                  <a:cubicBezTo>
                    <a:pt x="102107" y="14373"/>
                    <a:pt x="103059" y="15326"/>
                    <a:pt x="103059" y="16278"/>
                  </a:cubicBezTo>
                  <a:cubicBezTo>
                    <a:pt x="103059" y="17231"/>
                    <a:pt x="103059" y="17231"/>
                    <a:pt x="103059" y="18183"/>
                  </a:cubicBezTo>
                  <a:cubicBezTo>
                    <a:pt x="102107" y="22946"/>
                    <a:pt x="99249" y="26756"/>
                    <a:pt x="95439" y="30566"/>
                  </a:cubicBezTo>
                  <a:cubicBezTo>
                    <a:pt x="88772" y="37233"/>
                    <a:pt x="81152" y="42948"/>
                    <a:pt x="71627" y="46758"/>
                  </a:cubicBezTo>
                  <a:cubicBezTo>
                    <a:pt x="62102" y="50568"/>
                    <a:pt x="52577" y="51521"/>
                    <a:pt x="43052" y="49616"/>
                  </a:cubicBezTo>
                  <a:cubicBezTo>
                    <a:pt x="40194" y="48663"/>
                    <a:pt x="36384" y="47711"/>
                    <a:pt x="33527" y="46758"/>
                  </a:cubicBezTo>
                  <a:cubicBezTo>
                    <a:pt x="25907" y="44853"/>
                    <a:pt x="18287" y="42948"/>
                    <a:pt x="9714" y="41996"/>
                  </a:cubicBezTo>
                  <a:cubicBezTo>
                    <a:pt x="6857" y="41996"/>
                    <a:pt x="2094" y="41996"/>
                    <a:pt x="189" y="39138"/>
                  </a:cubicBezTo>
                  <a:cubicBezTo>
                    <a:pt x="-763" y="36281"/>
                    <a:pt x="2094" y="32471"/>
                    <a:pt x="3999" y="30566"/>
                  </a:cubicBezTo>
                  <a:cubicBezTo>
                    <a:pt x="9714" y="24851"/>
                    <a:pt x="16382" y="20088"/>
                    <a:pt x="22097" y="15326"/>
                  </a:cubicBezTo>
                  <a:cubicBezTo>
                    <a:pt x="29717" y="10563"/>
                    <a:pt x="37337" y="5801"/>
                    <a:pt x="45909" y="1991"/>
                  </a:cubicBezTo>
                  <a:cubicBezTo>
                    <a:pt x="50672" y="86"/>
                    <a:pt x="56387" y="-867"/>
                    <a:pt x="60197" y="1038"/>
                  </a:cubicBezTo>
                  <a:cubicBezTo>
                    <a:pt x="60197" y="1038"/>
                    <a:pt x="55434" y="2943"/>
                    <a:pt x="55434" y="2943"/>
                  </a:cubicBezTo>
                  <a:cubicBezTo>
                    <a:pt x="58292" y="3896"/>
                    <a:pt x="63054" y="3896"/>
                    <a:pt x="65912" y="4848"/>
                  </a:cubicBezTo>
                  <a:cubicBezTo>
                    <a:pt x="69722" y="5801"/>
                    <a:pt x="73532" y="5801"/>
                    <a:pt x="77342" y="6753"/>
                  </a:cubicBezTo>
                  <a:cubicBezTo>
                    <a:pt x="87819" y="9611"/>
                    <a:pt x="94487" y="11516"/>
                    <a:pt x="101154"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313c3f"/>
                </a:solidFill>
                <a:latin typeface="Source Sans Pro"/>
              </a:endParaRPr>
            </a:p>
          </p:txBody>
        </p:sp>
        <p:sp>
          <p:nvSpPr>
            <p:cNvPr id="982" name="Freeform: Shape 46"/>
            <p:cNvSpPr/>
            <p:nvPr/>
          </p:nvSpPr>
          <p:spPr>
            <a:xfrm>
              <a:off x="1525320" y="4412880"/>
              <a:ext cx="84600" cy="41760"/>
            </a:xfrm>
            <a:custGeom>
              <a:avLst/>
              <a:gdLst/>
              <a:ahLst/>
              <a:rect l="l" t="t" r="r" b="b"/>
              <a:pathLst>
                <a:path w="114300" h="56470">
                  <a:moveTo>
                    <a:pt x="99060" y="15240"/>
                  </a:moveTo>
                  <a:cubicBezTo>
                    <a:pt x="103822" y="15240"/>
                    <a:pt x="107632" y="14288"/>
                    <a:pt x="111442" y="12382"/>
                  </a:cubicBezTo>
                  <a:cubicBezTo>
                    <a:pt x="104775" y="25717"/>
                    <a:pt x="94297" y="37147"/>
                    <a:pt x="82867" y="45720"/>
                  </a:cubicBezTo>
                  <a:cubicBezTo>
                    <a:pt x="76200" y="50482"/>
                    <a:pt x="67627" y="55245"/>
                    <a:pt x="59055" y="56197"/>
                  </a:cubicBezTo>
                  <a:cubicBezTo>
                    <a:pt x="43815" y="58102"/>
                    <a:pt x="29527" y="49530"/>
                    <a:pt x="14288" y="46672"/>
                  </a:cubicBezTo>
                  <a:cubicBezTo>
                    <a:pt x="27622" y="46672"/>
                    <a:pt x="40957" y="51435"/>
                    <a:pt x="55245" y="50482"/>
                  </a:cubicBezTo>
                  <a:cubicBezTo>
                    <a:pt x="72390" y="49530"/>
                    <a:pt x="88582" y="38100"/>
                    <a:pt x="97155" y="22860"/>
                  </a:cubicBezTo>
                  <a:cubicBezTo>
                    <a:pt x="88582" y="23813"/>
                    <a:pt x="80010" y="20955"/>
                    <a:pt x="72390" y="19050"/>
                  </a:cubicBezTo>
                  <a:cubicBezTo>
                    <a:pt x="70485" y="18097"/>
                    <a:pt x="67627" y="18097"/>
                    <a:pt x="65722" y="17145"/>
                  </a:cubicBezTo>
                  <a:cubicBezTo>
                    <a:pt x="56197" y="14288"/>
                    <a:pt x="45720" y="14288"/>
                    <a:pt x="36195" y="17145"/>
                  </a:cubicBezTo>
                  <a:cubicBezTo>
                    <a:pt x="36195" y="17145"/>
                    <a:pt x="36195" y="17145"/>
                    <a:pt x="35242" y="17145"/>
                  </a:cubicBezTo>
                  <a:cubicBezTo>
                    <a:pt x="31432" y="19050"/>
                    <a:pt x="27622" y="20955"/>
                    <a:pt x="23813" y="23813"/>
                  </a:cubicBezTo>
                  <a:cubicBezTo>
                    <a:pt x="15240" y="29527"/>
                    <a:pt x="7620" y="34290"/>
                    <a:pt x="0" y="39052"/>
                  </a:cubicBezTo>
                  <a:cubicBezTo>
                    <a:pt x="8572" y="26670"/>
                    <a:pt x="19050" y="16192"/>
                    <a:pt x="32385" y="8572"/>
                  </a:cubicBezTo>
                  <a:cubicBezTo>
                    <a:pt x="37147" y="5715"/>
                    <a:pt x="42863" y="2857"/>
                    <a:pt x="48577" y="1905"/>
                  </a:cubicBezTo>
                  <a:cubicBezTo>
                    <a:pt x="57150" y="952"/>
                    <a:pt x="64770" y="2857"/>
                    <a:pt x="73342" y="4763"/>
                  </a:cubicBezTo>
                  <a:cubicBezTo>
                    <a:pt x="78105" y="3810"/>
                    <a:pt x="82867" y="2857"/>
                    <a:pt x="86677" y="1905"/>
                  </a:cubicBezTo>
                  <a:cubicBezTo>
                    <a:pt x="90488" y="952"/>
                    <a:pt x="93345" y="0"/>
                    <a:pt x="93345" y="0"/>
                  </a:cubicBezTo>
                  <a:cubicBezTo>
                    <a:pt x="93345" y="0"/>
                    <a:pt x="91440" y="1905"/>
                    <a:pt x="87630" y="4763"/>
                  </a:cubicBezTo>
                  <a:cubicBezTo>
                    <a:pt x="85725" y="5715"/>
                    <a:pt x="83820" y="6667"/>
                    <a:pt x="81915" y="7620"/>
                  </a:cubicBezTo>
                  <a:cubicBezTo>
                    <a:pt x="82867" y="7620"/>
                    <a:pt x="82867" y="7620"/>
                    <a:pt x="83820" y="7620"/>
                  </a:cubicBezTo>
                  <a:cubicBezTo>
                    <a:pt x="89535" y="6667"/>
                    <a:pt x="95250" y="5715"/>
                    <a:pt x="99060" y="4763"/>
                  </a:cubicBezTo>
                  <a:cubicBezTo>
                    <a:pt x="102870" y="3810"/>
                    <a:pt x="105727" y="2857"/>
                    <a:pt x="105727" y="2857"/>
                  </a:cubicBezTo>
                  <a:cubicBezTo>
                    <a:pt x="105727" y="2857"/>
                    <a:pt x="103822" y="4763"/>
                    <a:pt x="100013" y="6667"/>
                  </a:cubicBezTo>
                  <a:cubicBezTo>
                    <a:pt x="99060" y="7620"/>
                    <a:pt x="97155" y="7620"/>
                    <a:pt x="96202" y="8572"/>
                  </a:cubicBezTo>
                  <a:cubicBezTo>
                    <a:pt x="102870" y="8572"/>
                    <a:pt x="108585" y="8572"/>
                    <a:pt x="114300" y="4763"/>
                  </a:cubicBezTo>
                  <a:cubicBezTo>
                    <a:pt x="109538" y="10477"/>
                    <a:pt x="103822" y="13335"/>
                    <a:pt x="9906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313c3f"/>
                </a:solidFill>
                <a:latin typeface="Source Sans Pro"/>
              </a:endParaRPr>
            </a:p>
          </p:txBody>
        </p:sp>
        <p:sp>
          <p:nvSpPr>
            <p:cNvPr id="983" name="Freeform: Shape 47"/>
            <p:cNvSpPr/>
            <p:nvPr/>
          </p:nvSpPr>
          <p:spPr>
            <a:xfrm>
              <a:off x="1549800" y="4422960"/>
              <a:ext cx="29520" cy="24480"/>
            </a:xfrm>
            <a:custGeom>
              <a:avLst/>
              <a:gdLst/>
              <a:ahLst/>
              <a:rect l="l" t="t" r="r" b="b"/>
              <a:pathLst>
                <a:path w="40004" h="32992">
                  <a:moveTo>
                    <a:pt x="40005" y="12990"/>
                  </a:moveTo>
                  <a:cubicBezTo>
                    <a:pt x="40005" y="24420"/>
                    <a:pt x="31432" y="32993"/>
                    <a:pt x="20002" y="32993"/>
                  </a:cubicBezTo>
                  <a:cubicBezTo>
                    <a:pt x="8572" y="32993"/>
                    <a:pt x="0" y="23468"/>
                    <a:pt x="0" y="12990"/>
                  </a:cubicBezTo>
                  <a:cubicBezTo>
                    <a:pt x="0" y="9180"/>
                    <a:pt x="952" y="5370"/>
                    <a:pt x="2857" y="2513"/>
                  </a:cubicBezTo>
                  <a:cubicBezTo>
                    <a:pt x="12382" y="-1297"/>
                    <a:pt x="22860" y="-345"/>
                    <a:pt x="32385" y="2513"/>
                  </a:cubicBezTo>
                  <a:cubicBezTo>
                    <a:pt x="34290" y="3465"/>
                    <a:pt x="37147" y="3465"/>
                    <a:pt x="39052" y="4418"/>
                  </a:cubicBezTo>
                  <a:cubicBezTo>
                    <a:pt x="40005" y="6323"/>
                    <a:pt x="40005" y="9180"/>
                    <a:pt x="40005"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313c3f"/>
                </a:solidFill>
                <a:latin typeface="Source Sans Pro"/>
              </a:endParaRPr>
            </a:p>
          </p:txBody>
        </p:sp>
        <p:sp>
          <p:nvSpPr>
            <p:cNvPr id="984" name="Freeform: Shape 48"/>
            <p:cNvSpPr/>
            <p:nvPr/>
          </p:nvSpPr>
          <p:spPr>
            <a:xfrm>
              <a:off x="1557720" y="4423320"/>
              <a:ext cx="15480" cy="15480"/>
            </a:xfrm>
            <a:custGeom>
              <a:avLst/>
              <a:gdLst/>
              <a:ahLst/>
              <a:rect l="l" t="t" r="r" b="b"/>
              <a:pathLst>
                <a:path w="20955" h="21076">
                  <a:moveTo>
                    <a:pt x="20955" y="10599"/>
                  </a:moveTo>
                  <a:cubicBezTo>
                    <a:pt x="20955" y="11551"/>
                    <a:pt x="20955" y="12504"/>
                    <a:pt x="20955" y="12504"/>
                  </a:cubicBezTo>
                  <a:cubicBezTo>
                    <a:pt x="20955" y="14409"/>
                    <a:pt x="20003" y="16314"/>
                    <a:pt x="18098" y="17266"/>
                  </a:cubicBezTo>
                  <a:cubicBezTo>
                    <a:pt x="16193" y="19171"/>
                    <a:pt x="13335" y="21076"/>
                    <a:pt x="10478" y="21076"/>
                  </a:cubicBezTo>
                  <a:cubicBezTo>
                    <a:pt x="4763" y="21076"/>
                    <a:pt x="0" y="16314"/>
                    <a:pt x="0" y="10599"/>
                  </a:cubicBezTo>
                  <a:cubicBezTo>
                    <a:pt x="0" y="4884"/>
                    <a:pt x="4763" y="121"/>
                    <a:pt x="10478" y="121"/>
                  </a:cubicBezTo>
                  <a:cubicBezTo>
                    <a:pt x="16193" y="-831"/>
                    <a:pt x="20955" y="3931"/>
                    <a:pt x="20955" y="10599"/>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sp>
          <p:nvSpPr>
            <p:cNvPr id="985" name="Freeform: Shape 49"/>
            <p:cNvSpPr/>
            <p:nvPr/>
          </p:nvSpPr>
          <p:spPr>
            <a:xfrm>
              <a:off x="1567800" y="4424040"/>
              <a:ext cx="6840" cy="8280"/>
            </a:xfrm>
            <a:custGeom>
              <a:avLst/>
              <a:gdLst/>
              <a:ahLst/>
              <a:rect l="l" t="t" r="r" b="b"/>
              <a:pathLst>
                <a:path w="9525" h="11430">
                  <a:moveTo>
                    <a:pt x="9525" y="5715"/>
                  </a:moveTo>
                  <a:cubicBezTo>
                    <a:pt x="9525" y="8871"/>
                    <a:pt x="7393" y="11430"/>
                    <a:pt x="4763" y="11430"/>
                  </a:cubicBezTo>
                  <a:cubicBezTo>
                    <a:pt x="2132" y="11430"/>
                    <a:pt x="0" y="8871"/>
                    <a:pt x="0" y="5715"/>
                  </a:cubicBezTo>
                  <a:cubicBezTo>
                    <a:pt x="0" y="2559"/>
                    <a:pt x="2132" y="0"/>
                    <a:pt x="4763"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313c3f"/>
                </a:solidFill>
                <a:latin typeface="Source Sans Pro"/>
              </a:endParaRPr>
            </a:p>
          </p:txBody>
        </p:sp>
        <p:sp>
          <p:nvSpPr>
            <p:cNvPr id="986" name="Freeform: Shape 50"/>
            <p:cNvSpPr/>
            <p:nvPr/>
          </p:nvSpPr>
          <p:spPr>
            <a:xfrm>
              <a:off x="1571040" y="4432680"/>
              <a:ext cx="3960" cy="5040"/>
            </a:xfrm>
            <a:custGeom>
              <a:avLst/>
              <a:gdLst/>
              <a:ahLst/>
              <a:rect l="l" t="t" r="r" b="b"/>
              <a:pathLst>
                <a:path w="5714" h="6920">
                  <a:moveTo>
                    <a:pt x="5715" y="3810"/>
                  </a:moveTo>
                  <a:cubicBezTo>
                    <a:pt x="5715" y="5715"/>
                    <a:pt x="3810" y="7620"/>
                    <a:pt x="1905" y="6668"/>
                  </a:cubicBezTo>
                  <a:cubicBezTo>
                    <a:pt x="952" y="6668"/>
                    <a:pt x="0" y="5715"/>
                    <a:pt x="0" y="4763"/>
                  </a:cubicBezTo>
                  <a:cubicBezTo>
                    <a:pt x="952" y="3810"/>
                    <a:pt x="1905" y="1905"/>
                    <a:pt x="2857" y="0"/>
                  </a:cubicBezTo>
                  <a:cubicBezTo>
                    <a:pt x="2857" y="0"/>
                    <a:pt x="3810" y="0"/>
                    <a:pt x="3810" y="0"/>
                  </a:cubicBezTo>
                  <a:cubicBezTo>
                    <a:pt x="4763" y="0"/>
                    <a:pt x="5715"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313c3f"/>
                </a:solidFill>
                <a:latin typeface="Source Sans Pro"/>
              </a:endParaRPr>
            </a:p>
          </p:txBody>
        </p:sp>
        <p:sp>
          <p:nvSpPr>
            <p:cNvPr id="987" name="Freeform: Shape 51"/>
            <p:cNvSpPr/>
            <p:nvPr/>
          </p:nvSpPr>
          <p:spPr>
            <a:xfrm>
              <a:off x="1516680" y="4385880"/>
              <a:ext cx="100440" cy="29520"/>
            </a:xfrm>
            <a:custGeom>
              <a:avLst/>
              <a:gdLst/>
              <a:ahLst/>
              <a:rect l="l" t="t" r="r" b="b"/>
              <a:pathLst>
                <a:path w="135298" h="40191">
                  <a:moveTo>
                    <a:pt x="2901" y="40192"/>
                  </a:moveTo>
                  <a:cubicBezTo>
                    <a:pt x="43" y="34477"/>
                    <a:pt x="-1862" y="25904"/>
                    <a:pt x="2901" y="22094"/>
                  </a:cubicBezTo>
                  <a:cubicBezTo>
                    <a:pt x="3853" y="21142"/>
                    <a:pt x="5758" y="21142"/>
                    <a:pt x="6711" y="20189"/>
                  </a:cubicBezTo>
                  <a:cubicBezTo>
                    <a:pt x="23856" y="15427"/>
                    <a:pt x="41953" y="10664"/>
                    <a:pt x="59099" y="4949"/>
                  </a:cubicBezTo>
                  <a:cubicBezTo>
                    <a:pt x="68624" y="2092"/>
                    <a:pt x="78149" y="-766"/>
                    <a:pt x="88626" y="187"/>
                  </a:cubicBezTo>
                  <a:cubicBezTo>
                    <a:pt x="105771" y="1139"/>
                    <a:pt x="121011" y="13522"/>
                    <a:pt x="135299" y="25904"/>
                  </a:cubicBezTo>
                  <a:cubicBezTo>
                    <a:pt x="126726" y="21142"/>
                    <a:pt x="118153" y="17332"/>
                    <a:pt x="108628" y="13522"/>
                  </a:cubicBezTo>
                  <a:cubicBezTo>
                    <a:pt x="101961" y="11617"/>
                    <a:pt x="95293" y="8759"/>
                    <a:pt x="88626" y="8759"/>
                  </a:cubicBezTo>
                  <a:cubicBezTo>
                    <a:pt x="80053" y="8759"/>
                    <a:pt x="72433" y="11617"/>
                    <a:pt x="64813" y="14474"/>
                  </a:cubicBezTo>
                  <a:cubicBezTo>
                    <a:pt x="44811" y="23999"/>
                    <a:pt x="24808" y="37334"/>
                    <a:pt x="2901"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313c3f"/>
                </a:solidFill>
                <a:latin typeface="Source Sans Pro"/>
              </a:endParaRPr>
            </a:p>
          </p:txBody>
        </p:sp>
        <p:sp>
          <p:nvSpPr>
            <p:cNvPr id="988" name="Freeform: Shape 52"/>
            <p:cNvSpPr/>
            <p:nvPr/>
          </p:nvSpPr>
          <p:spPr>
            <a:xfrm>
              <a:off x="1375920" y="4415760"/>
              <a:ext cx="76320" cy="37440"/>
            </a:xfrm>
            <a:custGeom>
              <a:avLst/>
              <a:gdLst/>
              <a:ahLst/>
              <a:rect l="l" t="t" r="r" b="b"/>
              <a:pathLst>
                <a:path w="103059" h="50568">
                  <a:moveTo>
                    <a:pt x="1905" y="14373"/>
                  </a:moveTo>
                  <a:cubicBezTo>
                    <a:pt x="953" y="14373"/>
                    <a:pt x="0" y="15326"/>
                    <a:pt x="0" y="16278"/>
                  </a:cubicBezTo>
                  <a:cubicBezTo>
                    <a:pt x="0" y="17231"/>
                    <a:pt x="0" y="17231"/>
                    <a:pt x="0" y="18183"/>
                  </a:cubicBezTo>
                  <a:cubicBezTo>
                    <a:pt x="953" y="22946"/>
                    <a:pt x="3810" y="26756"/>
                    <a:pt x="7620" y="30566"/>
                  </a:cubicBezTo>
                  <a:cubicBezTo>
                    <a:pt x="14288" y="37233"/>
                    <a:pt x="21907" y="42948"/>
                    <a:pt x="31432" y="46758"/>
                  </a:cubicBezTo>
                  <a:cubicBezTo>
                    <a:pt x="40005" y="50568"/>
                    <a:pt x="50482" y="51521"/>
                    <a:pt x="60007" y="49616"/>
                  </a:cubicBezTo>
                  <a:cubicBezTo>
                    <a:pt x="62865" y="48663"/>
                    <a:pt x="66675" y="47711"/>
                    <a:pt x="69532" y="46758"/>
                  </a:cubicBezTo>
                  <a:cubicBezTo>
                    <a:pt x="77153" y="44853"/>
                    <a:pt x="84772" y="42948"/>
                    <a:pt x="93345" y="41996"/>
                  </a:cubicBezTo>
                  <a:cubicBezTo>
                    <a:pt x="96203" y="41996"/>
                    <a:pt x="100965" y="41996"/>
                    <a:pt x="102870" y="39138"/>
                  </a:cubicBezTo>
                  <a:cubicBezTo>
                    <a:pt x="103822" y="36281"/>
                    <a:pt x="100965" y="32471"/>
                    <a:pt x="99060" y="30566"/>
                  </a:cubicBezTo>
                  <a:cubicBezTo>
                    <a:pt x="93345" y="24851"/>
                    <a:pt x="86678" y="20088"/>
                    <a:pt x="80963" y="15326"/>
                  </a:cubicBezTo>
                  <a:cubicBezTo>
                    <a:pt x="73342" y="10563"/>
                    <a:pt x="65722" y="5801"/>
                    <a:pt x="57150" y="1991"/>
                  </a:cubicBezTo>
                  <a:cubicBezTo>
                    <a:pt x="52388" y="86"/>
                    <a:pt x="46672" y="-867"/>
                    <a:pt x="42863" y="1038"/>
                  </a:cubicBezTo>
                  <a:cubicBezTo>
                    <a:pt x="42863" y="1038"/>
                    <a:pt x="47625" y="2943"/>
                    <a:pt x="47625" y="2943"/>
                  </a:cubicBezTo>
                  <a:cubicBezTo>
                    <a:pt x="44767" y="3896"/>
                    <a:pt x="40005" y="3896"/>
                    <a:pt x="37147" y="4848"/>
                  </a:cubicBezTo>
                  <a:cubicBezTo>
                    <a:pt x="33338" y="5801"/>
                    <a:pt x="29528" y="5801"/>
                    <a:pt x="25717" y="6753"/>
                  </a:cubicBezTo>
                  <a:cubicBezTo>
                    <a:pt x="15240" y="9611"/>
                    <a:pt x="8572" y="11516"/>
                    <a:pt x="1905"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313c3f"/>
                </a:solidFill>
                <a:latin typeface="Source Sans Pro"/>
              </a:endParaRPr>
            </a:p>
          </p:txBody>
        </p:sp>
        <p:sp>
          <p:nvSpPr>
            <p:cNvPr id="989" name="Freeform: Shape 53"/>
            <p:cNvSpPr/>
            <p:nvPr/>
          </p:nvSpPr>
          <p:spPr>
            <a:xfrm>
              <a:off x="1364760" y="4412880"/>
              <a:ext cx="84600" cy="41760"/>
            </a:xfrm>
            <a:custGeom>
              <a:avLst/>
              <a:gdLst/>
              <a:ahLst/>
              <a:rect l="l" t="t" r="r" b="b"/>
              <a:pathLst>
                <a:path w="114300" h="56470">
                  <a:moveTo>
                    <a:pt x="15240" y="15240"/>
                  </a:moveTo>
                  <a:cubicBezTo>
                    <a:pt x="10478" y="15240"/>
                    <a:pt x="6668" y="14288"/>
                    <a:pt x="2857" y="12382"/>
                  </a:cubicBezTo>
                  <a:cubicBezTo>
                    <a:pt x="9525" y="25717"/>
                    <a:pt x="20003" y="37147"/>
                    <a:pt x="31432" y="45720"/>
                  </a:cubicBezTo>
                  <a:cubicBezTo>
                    <a:pt x="38100" y="50482"/>
                    <a:pt x="46672" y="55245"/>
                    <a:pt x="55245" y="56197"/>
                  </a:cubicBezTo>
                  <a:cubicBezTo>
                    <a:pt x="70485" y="58102"/>
                    <a:pt x="84772" y="49530"/>
                    <a:pt x="100013" y="46672"/>
                  </a:cubicBezTo>
                  <a:cubicBezTo>
                    <a:pt x="86678" y="46672"/>
                    <a:pt x="73343" y="51435"/>
                    <a:pt x="59055" y="50482"/>
                  </a:cubicBezTo>
                  <a:cubicBezTo>
                    <a:pt x="41910" y="49530"/>
                    <a:pt x="25718" y="38100"/>
                    <a:pt x="17145" y="22860"/>
                  </a:cubicBezTo>
                  <a:cubicBezTo>
                    <a:pt x="25718" y="23813"/>
                    <a:pt x="34290" y="20955"/>
                    <a:pt x="41910" y="19050"/>
                  </a:cubicBezTo>
                  <a:cubicBezTo>
                    <a:pt x="43815" y="18097"/>
                    <a:pt x="46672" y="18097"/>
                    <a:pt x="48578" y="17145"/>
                  </a:cubicBezTo>
                  <a:cubicBezTo>
                    <a:pt x="58103" y="14288"/>
                    <a:pt x="68580" y="14288"/>
                    <a:pt x="78105" y="17145"/>
                  </a:cubicBezTo>
                  <a:cubicBezTo>
                    <a:pt x="78105" y="17145"/>
                    <a:pt x="78105" y="17145"/>
                    <a:pt x="79057" y="17145"/>
                  </a:cubicBezTo>
                  <a:cubicBezTo>
                    <a:pt x="82868" y="19050"/>
                    <a:pt x="86678" y="20955"/>
                    <a:pt x="90488" y="23813"/>
                  </a:cubicBezTo>
                  <a:cubicBezTo>
                    <a:pt x="99060" y="29527"/>
                    <a:pt x="106680" y="34290"/>
                    <a:pt x="114300" y="39052"/>
                  </a:cubicBezTo>
                  <a:cubicBezTo>
                    <a:pt x="105728" y="26670"/>
                    <a:pt x="95250" y="16192"/>
                    <a:pt x="81915" y="8572"/>
                  </a:cubicBezTo>
                  <a:cubicBezTo>
                    <a:pt x="77153" y="5715"/>
                    <a:pt x="71438" y="2857"/>
                    <a:pt x="65722" y="1905"/>
                  </a:cubicBezTo>
                  <a:cubicBezTo>
                    <a:pt x="57150" y="952"/>
                    <a:pt x="49530" y="2857"/>
                    <a:pt x="40957" y="4763"/>
                  </a:cubicBezTo>
                  <a:cubicBezTo>
                    <a:pt x="36195" y="3810"/>
                    <a:pt x="31432" y="2857"/>
                    <a:pt x="27622" y="1905"/>
                  </a:cubicBezTo>
                  <a:cubicBezTo>
                    <a:pt x="23813" y="952"/>
                    <a:pt x="20955" y="0"/>
                    <a:pt x="20955" y="0"/>
                  </a:cubicBezTo>
                  <a:cubicBezTo>
                    <a:pt x="20955" y="0"/>
                    <a:pt x="22860" y="1905"/>
                    <a:pt x="26670" y="4763"/>
                  </a:cubicBezTo>
                  <a:cubicBezTo>
                    <a:pt x="28575" y="5715"/>
                    <a:pt x="30480" y="6667"/>
                    <a:pt x="32385" y="7620"/>
                  </a:cubicBezTo>
                  <a:cubicBezTo>
                    <a:pt x="31432" y="7620"/>
                    <a:pt x="31432" y="7620"/>
                    <a:pt x="30480" y="7620"/>
                  </a:cubicBezTo>
                  <a:cubicBezTo>
                    <a:pt x="24765" y="6667"/>
                    <a:pt x="19050" y="5715"/>
                    <a:pt x="15240" y="4763"/>
                  </a:cubicBezTo>
                  <a:cubicBezTo>
                    <a:pt x="11430" y="3810"/>
                    <a:pt x="8572" y="2857"/>
                    <a:pt x="8572" y="2857"/>
                  </a:cubicBezTo>
                  <a:cubicBezTo>
                    <a:pt x="8572" y="2857"/>
                    <a:pt x="10478" y="4763"/>
                    <a:pt x="14288" y="6667"/>
                  </a:cubicBezTo>
                  <a:cubicBezTo>
                    <a:pt x="15240" y="7620"/>
                    <a:pt x="17145" y="7620"/>
                    <a:pt x="18097" y="8572"/>
                  </a:cubicBezTo>
                  <a:cubicBezTo>
                    <a:pt x="11430" y="8572"/>
                    <a:pt x="5715" y="8572"/>
                    <a:pt x="0" y="4763"/>
                  </a:cubicBezTo>
                  <a:cubicBezTo>
                    <a:pt x="4763" y="10477"/>
                    <a:pt x="9525" y="13335"/>
                    <a:pt x="1524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313c3f"/>
                </a:solidFill>
                <a:latin typeface="Source Sans Pro"/>
              </a:endParaRPr>
            </a:p>
          </p:txBody>
        </p:sp>
        <p:sp>
          <p:nvSpPr>
            <p:cNvPr id="990" name="Freeform: Shape 54"/>
            <p:cNvSpPr/>
            <p:nvPr/>
          </p:nvSpPr>
          <p:spPr>
            <a:xfrm>
              <a:off x="1395000" y="4422960"/>
              <a:ext cx="29520" cy="24480"/>
            </a:xfrm>
            <a:custGeom>
              <a:avLst/>
              <a:gdLst/>
              <a:ahLst/>
              <a:rect l="l" t="t" r="r" b="b"/>
              <a:pathLst>
                <a:path w="40005" h="32992">
                  <a:moveTo>
                    <a:pt x="0" y="12990"/>
                  </a:moveTo>
                  <a:cubicBezTo>
                    <a:pt x="0" y="24420"/>
                    <a:pt x="8573" y="32993"/>
                    <a:pt x="20003" y="32993"/>
                  </a:cubicBezTo>
                  <a:cubicBezTo>
                    <a:pt x="31433" y="32993"/>
                    <a:pt x="40005" y="23468"/>
                    <a:pt x="40005" y="12990"/>
                  </a:cubicBezTo>
                  <a:cubicBezTo>
                    <a:pt x="40005" y="9180"/>
                    <a:pt x="39053" y="5370"/>
                    <a:pt x="37148" y="2513"/>
                  </a:cubicBezTo>
                  <a:cubicBezTo>
                    <a:pt x="27623" y="-1297"/>
                    <a:pt x="17145" y="-345"/>
                    <a:pt x="7620" y="2513"/>
                  </a:cubicBezTo>
                  <a:cubicBezTo>
                    <a:pt x="5715" y="3465"/>
                    <a:pt x="2858" y="3465"/>
                    <a:pt x="953" y="4418"/>
                  </a:cubicBezTo>
                  <a:cubicBezTo>
                    <a:pt x="0" y="7275"/>
                    <a:pt x="0" y="10133"/>
                    <a:pt x="0"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313c3f"/>
                </a:solidFill>
                <a:latin typeface="Source Sans Pro"/>
              </a:endParaRPr>
            </a:p>
          </p:txBody>
        </p:sp>
        <p:sp>
          <p:nvSpPr>
            <p:cNvPr id="991" name="Freeform: Shape 55"/>
            <p:cNvSpPr/>
            <p:nvPr/>
          </p:nvSpPr>
          <p:spPr>
            <a:xfrm>
              <a:off x="1403640" y="4423320"/>
              <a:ext cx="15480" cy="15480"/>
            </a:xfrm>
            <a:custGeom>
              <a:avLst/>
              <a:gdLst/>
              <a:ahLst/>
              <a:rect l="l" t="t" r="r" b="b"/>
              <a:pathLst>
                <a:path w="20955" h="20954">
                  <a:moveTo>
                    <a:pt x="20955" y="10477"/>
                  </a:moveTo>
                  <a:cubicBezTo>
                    <a:pt x="20955" y="11430"/>
                    <a:pt x="20955" y="12382"/>
                    <a:pt x="20955" y="12382"/>
                  </a:cubicBezTo>
                  <a:cubicBezTo>
                    <a:pt x="20955" y="14288"/>
                    <a:pt x="20003" y="16192"/>
                    <a:pt x="18097" y="17145"/>
                  </a:cubicBezTo>
                  <a:cubicBezTo>
                    <a:pt x="16193" y="19050"/>
                    <a:pt x="13335" y="20955"/>
                    <a:pt x="10478" y="20955"/>
                  </a:cubicBezTo>
                  <a:cubicBezTo>
                    <a:pt x="4763" y="20955"/>
                    <a:pt x="0" y="16192"/>
                    <a:pt x="0" y="10477"/>
                  </a:cubicBezTo>
                  <a:cubicBezTo>
                    <a:pt x="0" y="4763"/>
                    <a:pt x="4763" y="0"/>
                    <a:pt x="10478" y="0"/>
                  </a:cubicBezTo>
                  <a:cubicBezTo>
                    <a:pt x="16193" y="0"/>
                    <a:pt x="20955" y="4763"/>
                    <a:pt x="20955" y="10477"/>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sp>
          <p:nvSpPr>
            <p:cNvPr id="992" name="Freeform: Shape 56"/>
            <p:cNvSpPr/>
            <p:nvPr/>
          </p:nvSpPr>
          <p:spPr>
            <a:xfrm>
              <a:off x="1413360" y="4424760"/>
              <a:ext cx="6840" cy="8280"/>
            </a:xfrm>
            <a:custGeom>
              <a:avLst/>
              <a:gdLst/>
              <a:ahLst/>
              <a:rect l="l" t="t" r="r" b="b"/>
              <a:pathLst>
                <a:path w="9525" h="11430">
                  <a:moveTo>
                    <a:pt x="9525" y="5715"/>
                  </a:moveTo>
                  <a:cubicBezTo>
                    <a:pt x="9525" y="8871"/>
                    <a:pt x="7393" y="11430"/>
                    <a:pt x="4762" y="11430"/>
                  </a:cubicBezTo>
                  <a:cubicBezTo>
                    <a:pt x="2132" y="11430"/>
                    <a:pt x="0" y="8871"/>
                    <a:pt x="0" y="5715"/>
                  </a:cubicBezTo>
                  <a:cubicBezTo>
                    <a:pt x="0" y="2559"/>
                    <a:pt x="2132" y="0"/>
                    <a:pt x="4762"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313c3f"/>
                </a:solidFill>
                <a:latin typeface="Source Sans Pro"/>
              </a:endParaRPr>
            </a:p>
          </p:txBody>
        </p:sp>
        <p:sp>
          <p:nvSpPr>
            <p:cNvPr id="993" name="Freeform: Shape 57"/>
            <p:cNvSpPr/>
            <p:nvPr/>
          </p:nvSpPr>
          <p:spPr>
            <a:xfrm>
              <a:off x="1416960" y="4433400"/>
              <a:ext cx="4320" cy="5040"/>
            </a:xfrm>
            <a:custGeom>
              <a:avLst/>
              <a:gdLst/>
              <a:ahLst/>
              <a:rect l="l" t="t" r="r" b="b"/>
              <a:pathLst>
                <a:path w="6088" h="6920">
                  <a:moveTo>
                    <a:pt x="5715" y="3810"/>
                  </a:moveTo>
                  <a:cubicBezTo>
                    <a:pt x="5715" y="5715"/>
                    <a:pt x="3810" y="7620"/>
                    <a:pt x="1905" y="6668"/>
                  </a:cubicBezTo>
                  <a:cubicBezTo>
                    <a:pt x="953" y="6668"/>
                    <a:pt x="0" y="5715"/>
                    <a:pt x="0" y="4763"/>
                  </a:cubicBezTo>
                  <a:cubicBezTo>
                    <a:pt x="953" y="3810"/>
                    <a:pt x="1905" y="1905"/>
                    <a:pt x="2858" y="0"/>
                  </a:cubicBezTo>
                  <a:cubicBezTo>
                    <a:pt x="2858" y="0"/>
                    <a:pt x="3810" y="0"/>
                    <a:pt x="3810" y="0"/>
                  </a:cubicBezTo>
                  <a:cubicBezTo>
                    <a:pt x="5715" y="0"/>
                    <a:pt x="6668"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313c3f"/>
                </a:solidFill>
                <a:latin typeface="Source Sans Pro"/>
              </a:endParaRPr>
            </a:p>
          </p:txBody>
        </p:sp>
        <p:sp>
          <p:nvSpPr>
            <p:cNvPr id="994" name="Freeform: Shape 58"/>
            <p:cNvSpPr/>
            <p:nvPr/>
          </p:nvSpPr>
          <p:spPr>
            <a:xfrm>
              <a:off x="1348920" y="4385880"/>
              <a:ext cx="106560" cy="29520"/>
            </a:xfrm>
            <a:custGeom>
              <a:avLst/>
              <a:gdLst/>
              <a:ahLst/>
              <a:rect l="l" t="t" r="r" b="b"/>
              <a:pathLst>
                <a:path w="143870" h="40191">
                  <a:moveTo>
                    <a:pt x="140970" y="40192"/>
                  </a:moveTo>
                  <a:cubicBezTo>
                    <a:pt x="143828" y="34477"/>
                    <a:pt x="145733" y="25904"/>
                    <a:pt x="140970" y="22094"/>
                  </a:cubicBezTo>
                  <a:cubicBezTo>
                    <a:pt x="140018" y="21142"/>
                    <a:pt x="138113" y="21142"/>
                    <a:pt x="136208" y="20189"/>
                  </a:cubicBezTo>
                  <a:cubicBezTo>
                    <a:pt x="118110" y="15427"/>
                    <a:pt x="99060" y="10664"/>
                    <a:pt x="80963" y="4949"/>
                  </a:cubicBezTo>
                  <a:cubicBezTo>
                    <a:pt x="70485" y="2092"/>
                    <a:pt x="60008" y="-766"/>
                    <a:pt x="49530" y="187"/>
                  </a:cubicBezTo>
                  <a:cubicBezTo>
                    <a:pt x="30480" y="1139"/>
                    <a:pt x="15240" y="13522"/>
                    <a:pt x="0" y="25904"/>
                  </a:cubicBezTo>
                  <a:cubicBezTo>
                    <a:pt x="8573" y="21142"/>
                    <a:pt x="18098" y="17332"/>
                    <a:pt x="27623" y="13522"/>
                  </a:cubicBezTo>
                  <a:cubicBezTo>
                    <a:pt x="34290" y="11617"/>
                    <a:pt x="40958" y="8759"/>
                    <a:pt x="48578" y="8759"/>
                  </a:cubicBezTo>
                  <a:cubicBezTo>
                    <a:pt x="57150" y="8759"/>
                    <a:pt x="65723" y="11617"/>
                    <a:pt x="74295" y="14474"/>
                  </a:cubicBezTo>
                  <a:cubicBezTo>
                    <a:pt x="96203" y="23999"/>
                    <a:pt x="118110" y="37334"/>
                    <a:pt x="140970"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313c3f"/>
                </a:solidFill>
                <a:latin typeface="Source Sans Pro"/>
              </a:endParaRPr>
            </a:p>
          </p:txBody>
        </p:sp>
        <p:sp>
          <p:nvSpPr>
            <p:cNvPr id="995" name="Freeform: Shape 59"/>
            <p:cNvSpPr/>
            <p:nvPr/>
          </p:nvSpPr>
          <p:spPr>
            <a:xfrm>
              <a:off x="1461240" y="4516200"/>
              <a:ext cx="51120" cy="16920"/>
            </a:xfrm>
            <a:custGeom>
              <a:avLst/>
              <a:gdLst/>
              <a:ahLst/>
              <a:rect l="l" t="t" r="r" b="b"/>
              <a:pathLst>
                <a:path w="68974" h="23137">
                  <a:moveTo>
                    <a:pt x="21349" y="8460"/>
                  </a:moveTo>
                  <a:cubicBezTo>
                    <a:pt x="25159" y="11318"/>
                    <a:pt x="29922" y="14175"/>
                    <a:pt x="34684" y="15128"/>
                  </a:cubicBezTo>
                  <a:cubicBezTo>
                    <a:pt x="39447" y="16080"/>
                    <a:pt x="45162" y="15128"/>
                    <a:pt x="48972" y="12270"/>
                  </a:cubicBezTo>
                  <a:cubicBezTo>
                    <a:pt x="50877" y="11318"/>
                    <a:pt x="51830" y="9413"/>
                    <a:pt x="53734" y="7508"/>
                  </a:cubicBezTo>
                  <a:cubicBezTo>
                    <a:pt x="55639" y="5603"/>
                    <a:pt x="58497" y="3698"/>
                    <a:pt x="60402" y="2745"/>
                  </a:cubicBezTo>
                  <a:cubicBezTo>
                    <a:pt x="62307" y="1793"/>
                    <a:pt x="64212" y="840"/>
                    <a:pt x="65164" y="840"/>
                  </a:cubicBezTo>
                  <a:cubicBezTo>
                    <a:pt x="67070" y="840"/>
                    <a:pt x="68974" y="2745"/>
                    <a:pt x="68974" y="4650"/>
                  </a:cubicBezTo>
                  <a:cubicBezTo>
                    <a:pt x="68974" y="6555"/>
                    <a:pt x="67070" y="7508"/>
                    <a:pt x="66117" y="8460"/>
                  </a:cubicBezTo>
                  <a:cubicBezTo>
                    <a:pt x="62307" y="10365"/>
                    <a:pt x="57545" y="10365"/>
                    <a:pt x="54687" y="13223"/>
                  </a:cubicBezTo>
                  <a:cubicBezTo>
                    <a:pt x="52782" y="14175"/>
                    <a:pt x="50877" y="16080"/>
                    <a:pt x="48972" y="17985"/>
                  </a:cubicBezTo>
                  <a:cubicBezTo>
                    <a:pt x="43257" y="22748"/>
                    <a:pt x="38495" y="24653"/>
                    <a:pt x="30874" y="21795"/>
                  </a:cubicBezTo>
                  <a:cubicBezTo>
                    <a:pt x="24207" y="18938"/>
                    <a:pt x="19445" y="11318"/>
                    <a:pt x="12777" y="9413"/>
                  </a:cubicBezTo>
                  <a:cubicBezTo>
                    <a:pt x="10872" y="8460"/>
                    <a:pt x="7062" y="8460"/>
                    <a:pt x="4205" y="8460"/>
                  </a:cubicBezTo>
                  <a:cubicBezTo>
                    <a:pt x="3252" y="8460"/>
                    <a:pt x="1347" y="7508"/>
                    <a:pt x="395" y="6555"/>
                  </a:cubicBezTo>
                  <a:cubicBezTo>
                    <a:pt x="-558" y="4650"/>
                    <a:pt x="395" y="2745"/>
                    <a:pt x="1347" y="1793"/>
                  </a:cubicBezTo>
                  <a:cubicBezTo>
                    <a:pt x="9920" y="-3922"/>
                    <a:pt x="17539" y="5603"/>
                    <a:pt x="21349" y="8460"/>
                  </a:cubicBezTo>
                  <a:close/>
                </a:path>
              </a:pathLst>
            </a:custGeom>
            <a:solidFill>
              <a:srgbClr val="000000"/>
            </a:solidFill>
            <a:ln w="0">
              <a:noFill/>
            </a:ln>
          </p:spPr>
          <p:style>
            <a:lnRef idx="0"/>
            <a:fillRef idx="0"/>
            <a:effectRef idx="0"/>
            <a:fontRef idx="minor"/>
          </p:style>
          <p:txBody>
            <a:bodyPr lIns="90000" rIns="90000" tIns="-29880" bIns="-29880" anchor="ctr">
              <a:noAutofit/>
            </a:bodyPr>
            <a:p>
              <a:endParaRPr b="0" lang="en-US" sz="1800" spc="-1" strike="noStrike">
                <a:solidFill>
                  <a:srgbClr val="313c3f"/>
                </a:solidFill>
                <a:latin typeface="Source Sans Pro"/>
              </a:endParaRPr>
            </a:p>
          </p:txBody>
        </p:sp>
        <p:sp>
          <p:nvSpPr>
            <p:cNvPr id="996" name="Freeform: Shape 60"/>
            <p:cNvSpPr/>
            <p:nvPr/>
          </p:nvSpPr>
          <p:spPr>
            <a:xfrm>
              <a:off x="1431000" y="4555440"/>
              <a:ext cx="116640" cy="57240"/>
            </a:xfrm>
            <a:custGeom>
              <a:avLst/>
              <a:gdLst/>
              <a:ahLst/>
              <a:rect l="l" t="t" r="r" b="b"/>
              <a:pathLst>
                <a:path w="157162" h="77372">
                  <a:moveTo>
                    <a:pt x="0" y="16550"/>
                  </a:moveTo>
                  <a:cubicBezTo>
                    <a:pt x="14288" y="42267"/>
                    <a:pt x="33338" y="60365"/>
                    <a:pt x="57150" y="71795"/>
                  </a:cubicBezTo>
                  <a:cubicBezTo>
                    <a:pt x="60960" y="73700"/>
                    <a:pt x="64770" y="75605"/>
                    <a:pt x="68580" y="76557"/>
                  </a:cubicBezTo>
                  <a:cubicBezTo>
                    <a:pt x="76200" y="78462"/>
                    <a:pt x="84772" y="76557"/>
                    <a:pt x="91440" y="75605"/>
                  </a:cubicBezTo>
                  <a:cubicBezTo>
                    <a:pt x="106680" y="72747"/>
                    <a:pt x="120968" y="65127"/>
                    <a:pt x="133350" y="52745"/>
                  </a:cubicBezTo>
                  <a:cubicBezTo>
                    <a:pt x="142875" y="42267"/>
                    <a:pt x="149543" y="30837"/>
                    <a:pt x="157163" y="18455"/>
                  </a:cubicBezTo>
                  <a:cubicBezTo>
                    <a:pt x="139065" y="17502"/>
                    <a:pt x="112395" y="5120"/>
                    <a:pt x="99060" y="357"/>
                  </a:cubicBezTo>
                  <a:cubicBezTo>
                    <a:pt x="95250" y="-595"/>
                    <a:pt x="92393" y="357"/>
                    <a:pt x="89535" y="3215"/>
                  </a:cubicBezTo>
                  <a:cubicBezTo>
                    <a:pt x="86678" y="6072"/>
                    <a:pt x="82868" y="7025"/>
                    <a:pt x="80010" y="7025"/>
                  </a:cubicBezTo>
                  <a:cubicBezTo>
                    <a:pt x="77153" y="7025"/>
                    <a:pt x="74295" y="6072"/>
                    <a:pt x="71438" y="4167"/>
                  </a:cubicBezTo>
                  <a:cubicBezTo>
                    <a:pt x="66675" y="1310"/>
                    <a:pt x="61913" y="1310"/>
                    <a:pt x="57150" y="3215"/>
                  </a:cubicBezTo>
                  <a:cubicBezTo>
                    <a:pt x="34290" y="10835"/>
                    <a:pt x="12383" y="13692"/>
                    <a:pt x="0" y="16550"/>
                  </a:cubicBezTo>
                  <a:close/>
                </a:path>
              </a:pathLst>
            </a:custGeom>
            <a:solidFill>
              <a:srgbClr val="be1e2d"/>
            </a:solidFill>
            <a:ln w="0">
              <a:noFill/>
            </a:ln>
          </p:spPr>
          <p:style>
            <a:lnRef idx="0"/>
            <a:fillRef idx="0"/>
            <a:effectRef idx="0"/>
            <a:fontRef idx="minor"/>
          </p:style>
          <p:txBody>
            <a:bodyPr lIns="90000" rIns="90000" tIns="10440" bIns="10440" anchor="ctr">
              <a:noAutofit/>
            </a:bodyPr>
            <a:p>
              <a:endParaRPr b="0" lang="en-US" sz="1800" spc="-1" strike="noStrike">
                <a:solidFill>
                  <a:srgbClr val="313c3f"/>
                </a:solidFill>
                <a:latin typeface="Source Sans Pro"/>
              </a:endParaRPr>
            </a:p>
          </p:txBody>
        </p:sp>
        <p:sp>
          <p:nvSpPr>
            <p:cNvPr id="997" name="Freeform: Shape 61"/>
            <p:cNvSpPr/>
            <p:nvPr/>
          </p:nvSpPr>
          <p:spPr>
            <a:xfrm>
              <a:off x="1450800" y="4573440"/>
              <a:ext cx="77040" cy="17640"/>
            </a:xfrm>
            <a:custGeom>
              <a:avLst/>
              <a:gdLst/>
              <a:ahLst/>
              <a:rect l="l" t="t" r="r" b="b"/>
              <a:pathLst>
                <a:path w="103822" h="23812">
                  <a:moveTo>
                    <a:pt x="0" y="1905"/>
                  </a:moveTo>
                  <a:cubicBezTo>
                    <a:pt x="22860" y="5715"/>
                    <a:pt x="68580" y="3810"/>
                    <a:pt x="103822" y="0"/>
                  </a:cubicBezTo>
                  <a:cubicBezTo>
                    <a:pt x="90488" y="16193"/>
                    <a:pt x="71438" y="23813"/>
                    <a:pt x="51435" y="23813"/>
                  </a:cubicBezTo>
                  <a:cubicBezTo>
                    <a:pt x="31432" y="23813"/>
                    <a:pt x="17145" y="13335"/>
                    <a:pt x="0" y="1905"/>
                  </a:cubicBezTo>
                  <a:close/>
                </a:path>
              </a:pathLst>
            </a:custGeom>
            <a:solidFill>
              <a:srgbClr val="ffffff"/>
            </a:solidFill>
            <a:ln w="0">
              <a:noFill/>
            </a:ln>
          </p:spPr>
          <p:style>
            <a:lnRef idx="0"/>
            <a:fillRef idx="0"/>
            <a:effectRef idx="0"/>
            <a:fontRef idx="minor"/>
          </p:style>
          <p:txBody>
            <a:bodyPr lIns="90000" rIns="90000" tIns="-29160" bIns="-29160" anchor="ctr">
              <a:noAutofit/>
            </a:bodyPr>
            <a:p>
              <a:endParaRPr b="0" lang="en-US" sz="1800" spc="-1" strike="noStrike">
                <a:solidFill>
                  <a:srgbClr val="313c3f"/>
                </a:solidFill>
                <a:latin typeface="Source Sans Pro"/>
              </a:endParaRPr>
            </a:p>
          </p:txBody>
        </p:sp>
        <p:sp>
          <p:nvSpPr>
            <p:cNvPr id="998" name="Freeform: Shape 62"/>
            <p:cNvSpPr/>
            <p:nvPr/>
          </p:nvSpPr>
          <p:spPr>
            <a:xfrm>
              <a:off x="1598040" y="4880160"/>
              <a:ext cx="231120" cy="760320"/>
            </a:xfrm>
            <a:custGeom>
              <a:avLst/>
              <a:gdLst/>
              <a:ahLst/>
              <a:rect l="l" t="t" r="r" b="b"/>
              <a:pathLst>
                <a:path w="311467" h="1024890">
                  <a:moveTo>
                    <a:pt x="8572" y="1024890"/>
                  </a:moveTo>
                  <a:cubicBezTo>
                    <a:pt x="6668" y="1022033"/>
                    <a:pt x="4763" y="1018222"/>
                    <a:pt x="2857" y="1015365"/>
                  </a:cubicBezTo>
                  <a:cubicBezTo>
                    <a:pt x="1905" y="1013460"/>
                    <a:pt x="953" y="1011555"/>
                    <a:pt x="0" y="1010603"/>
                  </a:cubicBezTo>
                  <a:cubicBezTo>
                    <a:pt x="77153" y="976313"/>
                    <a:pt x="155257" y="932497"/>
                    <a:pt x="231457" y="893445"/>
                  </a:cubicBezTo>
                  <a:cubicBezTo>
                    <a:pt x="234315" y="891540"/>
                    <a:pt x="237172" y="890588"/>
                    <a:pt x="240982" y="888683"/>
                  </a:cubicBezTo>
                  <a:cubicBezTo>
                    <a:pt x="239078" y="861060"/>
                    <a:pt x="237172" y="834390"/>
                    <a:pt x="236220" y="811530"/>
                  </a:cubicBezTo>
                  <a:cubicBezTo>
                    <a:pt x="232410" y="719138"/>
                    <a:pt x="234315" y="658178"/>
                    <a:pt x="231457" y="619125"/>
                  </a:cubicBezTo>
                  <a:cubicBezTo>
                    <a:pt x="232410" y="606743"/>
                    <a:pt x="233363" y="594360"/>
                    <a:pt x="233363" y="581978"/>
                  </a:cubicBezTo>
                  <a:cubicBezTo>
                    <a:pt x="244793" y="377190"/>
                    <a:pt x="240030" y="188595"/>
                    <a:pt x="282893" y="0"/>
                  </a:cubicBezTo>
                  <a:cubicBezTo>
                    <a:pt x="280035" y="36195"/>
                    <a:pt x="278130" y="71438"/>
                    <a:pt x="275272" y="107633"/>
                  </a:cubicBezTo>
                  <a:cubicBezTo>
                    <a:pt x="271463" y="159067"/>
                    <a:pt x="263843" y="210503"/>
                    <a:pt x="263843" y="262890"/>
                  </a:cubicBezTo>
                  <a:cubicBezTo>
                    <a:pt x="268605" y="583883"/>
                    <a:pt x="304800" y="720090"/>
                    <a:pt x="311468" y="896303"/>
                  </a:cubicBezTo>
                  <a:cubicBezTo>
                    <a:pt x="311468" y="903922"/>
                    <a:pt x="8572" y="1024890"/>
                    <a:pt x="8572" y="102489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99" name="Freeform: Shape 63"/>
            <p:cNvSpPr/>
            <p:nvPr/>
          </p:nvSpPr>
          <p:spPr>
            <a:xfrm>
              <a:off x="1582560" y="5355000"/>
              <a:ext cx="220320" cy="185760"/>
            </a:xfrm>
            <a:custGeom>
              <a:avLst/>
              <a:gdLst/>
              <a:ahLst/>
              <a:rect l="l" t="t" r="r" b="b"/>
              <a:pathLst>
                <a:path w="296892" h="250644">
                  <a:moveTo>
                    <a:pt x="276225" y="127772"/>
                  </a:moveTo>
                  <a:cubicBezTo>
                    <a:pt x="285750" y="140154"/>
                    <a:pt x="294323" y="148727"/>
                    <a:pt x="291465" y="163014"/>
                  </a:cubicBezTo>
                  <a:cubicBezTo>
                    <a:pt x="288608" y="177302"/>
                    <a:pt x="279083" y="191589"/>
                    <a:pt x="260985" y="195399"/>
                  </a:cubicBezTo>
                  <a:cubicBezTo>
                    <a:pt x="264795" y="199209"/>
                    <a:pt x="268605" y="203019"/>
                    <a:pt x="271463" y="207782"/>
                  </a:cubicBezTo>
                  <a:cubicBezTo>
                    <a:pt x="277178" y="217307"/>
                    <a:pt x="274320" y="229689"/>
                    <a:pt x="266700" y="237309"/>
                  </a:cubicBezTo>
                  <a:cubicBezTo>
                    <a:pt x="259080" y="244929"/>
                    <a:pt x="242888" y="250644"/>
                    <a:pt x="232410" y="246834"/>
                  </a:cubicBezTo>
                  <a:cubicBezTo>
                    <a:pt x="229553" y="247787"/>
                    <a:pt x="226695" y="249692"/>
                    <a:pt x="222885" y="250644"/>
                  </a:cubicBezTo>
                  <a:cubicBezTo>
                    <a:pt x="213360" y="250644"/>
                    <a:pt x="202883" y="250644"/>
                    <a:pt x="193358" y="249692"/>
                  </a:cubicBezTo>
                  <a:cubicBezTo>
                    <a:pt x="171450" y="249692"/>
                    <a:pt x="148590" y="248739"/>
                    <a:pt x="127635" y="244929"/>
                  </a:cubicBezTo>
                  <a:cubicBezTo>
                    <a:pt x="82868" y="237309"/>
                    <a:pt x="69533" y="215402"/>
                    <a:pt x="3810" y="207782"/>
                  </a:cubicBezTo>
                  <a:cubicBezTo>
                    <a:pt x="3810" y="207782"/>
                    <a:pt x="3810" y="207782"/>
                    <a:pt x="3810" y="207782"/>
                  </a:cubicBezTo>
                  <a:cubicBezTo>
                    <a:pt x="3810" y="205877"/>
                    <a:pt x="3810" y="203019"/>
                    <a:pt x="3810" y="201114"/>
                  </a:cubicBezTo>
                  <a:cubicBezTo>
                    <a:pt x="3810" y="166824"/>
                    <a:pt x="3810" y="132534"/>
                    <a:pt x="1905" y="99197"/>
                  </a:cubicBezTo>
                  <a:cubicBezTo>
                    <a:pt x="1905" y="88719"/>
                    <a:pt x="953" y="78242"/>
                    <a:pt x="0" y="68717"/>
                  </a:cubicBezTo>
                  <a:cubicBezTo>
                    <a:pt x="10478" y="68717"/>
                    <a:pt x="20003" y="68717"/>
                    <a:pt x="29528" y="67764"/>
                  </a:cubicBezTo>
                  <a:cubicBezTo>
                    <a:pt x="38100" y="67764"/>
                    <a:pt x="46673" y="67764"/>
                    <a:pt x="54293" y="64907"/>
                  </a:cubicBezTo>
                  <a:cubicBezTo>
                    <a:pt x="73343" y="58239"/>
                    <a:pt x="78105" y="52524"/>
                    <a:pt x="92393" y="40142"/>
                  </a:cubicBezTo>
                  <a:cubicBezTo>
                    <a:pt x="93345" y="40142"/>
                    <a:pt x="130493" y="-2721"/>
                    <a:pt x="154305" y="137"/>
                  </a:cubicBezTo>
                  <a:cubicBezTo>
                    <a:pt x="174308" y="2994"/>
                    <a:pt x="184785" y="17282"/>
                    <a:pt x="203835" y="9662"/>
                  </a:cubicBezTo>
                  <a:cubicBezTo>
                    <a:pt x="203835" y="9662"/>
                    <a:pt x="206693" y="8709"/>
                    <a:pt x="210503" y="7757"/>
                  </a:cubicBezTo>
                  <a:cubicBezTo>
                    <a:pt x="218123" y="5852"/>
                    <a:pt x="226695" y="4899"/>
                    <a:pt x="234315" y="5852"/>
                  </a:cubicBezTo>
                  <a:cubicBezTo>
                    <a:pt x="234315" y="5852"/>
                    <a:pt x="234315" y="5852"/>
                    <a:pt x="234315" y="5852"/>
                  </a:cubicBezTo>
                  <a:cubicBezTo>
                    <a:pt x="250508" y="5852"/>
                    <a:pt x="248603" y="4899"/>
                    <a:pt x="262890" y="11567"/>
                  </a:cubicBezTo>
                  <a:cubicBezTo>
                    <a:pt x="287655" y="22044"/>
                    <a:pt x="284798" y="47762"/>
                    <a:pt x="272415" y="69669"/>
                  </a:cubicBezTo>
                  <a:cubicBezTo>
                    <a:pt x="302895" y="70622"/>
                    <a:pt x="305753" y="124914"/>
                    <a:pt x="276225" y="1277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0" name="Freeform: Shape 64"/>
            <p:cNvSpPr/>
            <p:nvPr/>
          </p:nvSpPr>
          <p:spPr>
            <a:xfrm>
              <a:off x="1131120" y="4827240"/>
              <a:ext cx="50760" cy="246600"/>
            </a:xfrm>
            <a:custGeom>
              <a:avLst/>
              <a:gdLst/>
              <a:ahLst/>
              <a:rect l="l" t="t" r="r" b="b"/>
              <a:pathLst>
                <a:path w="68580" h="332422">
                  <a:moveTo>
                    <a:pt x="28575" y="129540"/>
                  </a:moveTo>
                  <a:cubicBezTo>
                    <a:pt x="25718" y="86677"/>
                    <a:pt x="19050" y="42863"/>
                    <a:pt x="0" y="3810"/>
                  </a:cubicBezTo>
                  <a:cubicBezTo>
                    <a:pt x="5715" y="1905"/>
                    <a:pt x="11430" y="952"/>
                    <a:pt x="18097" y="0"/>
                  </a:cubicBezTo>
                  <a:cubicBezTo>
                    <a:pt x="56197" y="100965"/>
                    <a:pt x="66675" y="207645"/>
                    <a:pt x="68580" y="316230"/>
                  </a:cubicBezTo>
                  <a:lnTo>
                    <a:pt x="24765" y="332422"/>
                  </a:lnTo>
                  <a:cubicBezTo>
                    <a:pt x="29528" y="264795"/>
                    <a:pt x="32385" y="197167"/>
                    <a:pt x="28575" y="12954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1" name="Freeform: Shape 65"/>
            <p:cNvSpPr/>
            <p:nvPr/>
          </p:nvSpPr>
          <p:spPr>
            <a:xfrm>
              <a:off x="1150200" y="5589000"/>
              <a:ext cx="88920" cy="176400"/>
            </a:xfrm>
            <a:custGeom>
              <a:avLst/>
              <a:gdLst/>
              <a:ahLst/>
              <a:rect l="l" t="t" r="r" b="b"/>
              <a:pathLst>
                <a:path w="120014" h="238125">
                  <a:moveTo>
                    <a:pt x="120015" y="6667"/>
                  </a:moveTo>
                  <a:lnTo>
                    <a:pt x="120015" y="6667"/>
                  </a:lnTo>
                  <a:cubicBezTo>
                    <a:pt x="112395" y="53340"/>
                    <a:pt x="90488" y="148590"/>
                    <a:pt x="87630" y="161925"/>
                  </a:cubicBezTo>
                  <a:cubicBezTo>
                    <a:pt x="80963" y="186690"/>
                    <a:pt x="75247" y="212408"/>
                    <a:pt x="69532" y="237172"/>
                  </a:cubicBezTo>
                  <a:cubicBezTo>
                    <a:pt x="69532" y="237172"/>
                    <a:pt x="69532" y="238125"/>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3347"/>
                    <a:pt x="14288" y="110490"/>
                  </a:cubicBezTo>
                  <a:cubicBezTo>
                    <a:pt x="14288" y="109538"/>
                    <a:pt x="14288" y="107633"/>
                    <a:pt x="15240" y="106680"/>
                  </a:cubicBezTo>
                  <a:cubicBezTo>
                    <a:pt x="15240" y="104775"/>
                    <a:pt x="15240" y="102870"/>
                    <a:pt x="16192" y="100965"/>
                  </a:cubicBezTo>
                  <a:cubicBezTo>
                    <a:pt x="17145" y="96202"/>
                    <a:pt x="17145" y="90488"/>
                    <a:pt x="18097" y="83820"/>
                  </a:cubicBezTo>
                  <a:cubicBezTo>
                    <a:pt x="18097" y="83820"/>
                    <a:pt x="18097" y="83820"/>
                    <a:pt x="18097" y="82867"/>
                  </a:cubicBezTo>
                  <a:cubicBezTo>
                    <a:pt x="18097" y="80963"/>
                    <a:pt x="18097" y="79058"/>
                    <a:pt x="19050" y="78105"/>
                  </a:cubicBezTo>
                  <a:cubicBezTo>
                    <a:pt x="21907" y="54292"/>
                    <a:pt x="25717" y="25717"/>
                    <a:pt x="28575" y="0"/>
                  </a:cubicBezTo>
                  <a:cubicBezTo>
                    <a:pt x="43815" y="952"/>
                    <a:pt x="59055" y="2858"/>
                    <a:pt x="74295" y="3810"/>
                  </a:cubicBezTo>
                  <a:cubicBezTo>
                    <a:pt x="79057" y="3810"/>
                    <a:pt x="84772" y="4763"/>
                    <a:pt x="89535" y="4763"/>
                  </a:cubicBezTo>
                  <a:cubicBezTo>
                    <a:pt x="100013" y="4763"/>
                    <a:pt x="110490" y="5715"/>
                    <a:pt x="120015" y="6667"/>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2" name="Freeform: Shape 66"/>
            <p:cNvSpPr/>
            <p:nvPr/>
          </p:nvSpPr>
          <p:spPr>
            <a:xfrm>
              <a:off x="1007280" y="5329080"/>
              <a:ext cx="442080" cy="272880"/>
            </a:xfrm>
            <a:custGeom>
              <a:avLst/>
              <a:gdLst/>
              <a:ahLst/>
              <a:rect l="l" t="t" r="r" b="b"/>
              <a:pathLst>
                <a:path w="595312" h="368007">
                  <a:moveTo>
                    <a:pt x="595313" y="362903"/>
                  </a:moveTo>
                  <a:cubicBezTo>
                    <a:pt x="594360" y="362903"/>
                    <a:pt x="592455" y="362903"/>
                    <a:pt x="591503" y="362903"/>
                  </a:cubicBezTo>
                  <a:cubicBezTo>
                    <a:pt x="590550" y="362903"/>
                    <a:pt x="589597" y="362903"/>
                    <a:pt x="588645" y="362903"/>
                  </a:cubicBezTo>
                  <a:cubicBezTo>
                    <a:pt x="558165" y="362903"/>
                    <a:pt x="515303" y="369570"/>
                    <a:pt x="485775" y="367665"/>
                  </a:cubicBezTo>
                  <a:cubicBezTo>
                    <a:pt x="464820" y="366713"/>
                    <a:pt x="442913" y="365760"/>
                    <a:pt x="421957" y="363855"/>
                  </a:cubicBezTo>
                  <a:cubicBezTo>
                    <a:pt x="408622" y="362903"/>
                    <a:pt x="396240" y="361950"/>
                    <a:pt x="382905" y="360997"/>
                  </a:cubicBezTo>
                  <a:cubicBezTo>
                    <a:pt x="359093" y="359092"/>
                    <a:pt x="336232" y="357188"/>
                    <a:pt x="312420" y="355283"/>
                  </a:cubicBezTo>
                  <a:cubicBezTo>
                    <a:pt x="281940" y="353378"/>
                    <a:pt x="250507" y="350520"/>
                    <a:pt x="220028" y="347663"/>
                  </a:cubicBezTo>
                  <a:cubicBezTo>
                    <a:pt x="220028" y="347663"/>
                    <a:pt x="219075" y="347663"/>
                    <a:pt x="219075" y="347663"/>
                  </a:cubicBezTo>
                  <a:cubicBezTo>
                    <a:pt x="219075" y="347663"/>
                    <a:pt x="218122" y="347663"/>
                    <a:pt x="218122" y="347663"/>
                  </a:cubicBezTo>
                  <a:cubicBezTo>
                    <a:pt x="187643" y="344805"/>
                    <a:pt x="157163" y="342900"/>
                    <a:pt x="126682" y="340042"/>
                  </a:cubicBezTo>
                  <a:cubicBezTo>
                    <a:pt x="121920" y="340042"/>
                    <a:pt x="117157" y="339090"/>
                    <a:pt x="112395" y="339090"/>
                  </a:cubicBezTo>
                  <a:cubicBezTo>
                    <a:pt x="94297" y="337185"/>
                    <a:pt x="75247" y="336233"/>
                    <a:pt x="59055" y="327660"/>
                  </a:cubicBezTo>
                  <a:cubicBezTo>
                    <a:pt x="51435" y="323850"/>
                    <a:pt x="44768" y="319088"/>
                    <a:pt x="38100" y="313372"/>
                  </a:cubicBezTo>
                  <a:cubicBezTo>
                    <a:pt x="25718" y="300990"/>
                    <a:pt x="16193" y="285750"/>
                    <a:pt x="10478" y="268605"/>
                  </a:cubicBezTo>
                  <a:cubicBezTo>
                    <a:pt x="1905" y="243840"/>
                    <a:pt x="0" y="217170"/>
                    <a:pt x="0" y="191453"/>
                  </a:cubicBezTo>
                  <a:cubicBezTo>
                    <a:pt x="0" y="127635"/>
                    <a:pt x="6668" y="63817"/>
                    <a:pt x="15240" y="0"/>
                  </a:cubicBezTo>
                  <a:cubicBezTo>
                    <a:pt x="16193" y="17145"/>
                    <a:pt x="15240" y="36195"/>
                    <a:pt x="16193" y="46672"/>
                  </a:cubicBezTo>
                  <a:cubicBezTo>
                    <a:pt x="20003" y="78105"/>
                    <a:pt x="27622" y="109538"/>
                    <a:pt x="37147" y="140017"/>
                  </a:cubicBezTo>
                  <a:cubicBezTo>
                    <a:pt x="43815" y="161925"/>
                    <a:pt x="53340" y="183833"/>
                    <a:pt x="70485" y="199072"/>
                  </a:cubicBezTo>
                  <a:cubicBezTo>
                    <a:pt x="85725" y="212408"/>
                    <a:pt x="105728" y="218122"/>
                    <a:pt x="124778" y="222885"/>
                  </a:cubicBezTo>
                  <a:cubicBezTo>
                    <a:pt x="182880" y="237172"/>
                    <a:pt x="242888" y="243840"/>
                    <a:pt x="302895" y="243840"/>
                  </a:cubicBezTo>
                  <a:cubicBezTo>
                    <a:pt x="333375" y="243840"/>
                    <a:pt x="364807" y="240983"/>
                    <a:pt x="395288" y="239078"/>
                  </a:cubicBezTo>
                  <a:cubicBezTo>
                    <a:pt x="461963" y="235267"/>
                    <a:pt x="527685" y="232410"/>
                    <a:pt x="594360" y="232410"/>
                  </a:cubicBezTo>
                  <a:cubicBezTo>
                    <a:pt x="590550" y="252413"/>
                    <a:pt x="588645" y="273367"/>
                    <a:pt x="587693" y="293370"/>
                  </a:cubicBezTo>
                  <a:cubicBezTo>
                    <a:pt x="588645" y="293370"/>
                    <a:pt x="589597" y="293370"/>
                    <a:pt x="589597" y="293370"/>
                  </a:cubicBezTo>
                  <a:cubicBezTo>
                    <a:pt x="590550" y="318135"/>
                    <a:pt x="591503" y="340995"/>
                    <a:pt x="595313" y="362903"/>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3" name="Freeform: Shape 67"/>
            <p:cNvSpPr/>
            <p:nvPr/>
          </p:nvSpPr>
          <p:spPr>
            <a:xfrm>
              <a:off x="1247040" y="4132440"/>
              <a:ext cx="483480" cy="576360"/>
            </a:xfrm>
            <a:custGeom>
              <a:avLst/>
              <a:gdLst/>
              <a:ahLst/>
              <a:rect l="l" t="t" r="r" b="b"/>
              <a:pathLst>
                <a:path w="651452" h="777134">
                  <a:moveTo>
                    <a:pt x="618361" y="758084"/>
                  </a:moveTo>
                  <a:cubicBezTo>
                    <a:pt x="597406" y="759989"/>
                    <a:pt x="576451" y="762847"/>
                    <a:pt x="555496" y="759989"/>
                  </a:cubicBezTo>
                  <a:cubicBezTo>
                    <a:pt x="578356" y="719032"/>
                    <a:pt x="588834" y="671407"/>
                    <a:pt x="582166" y="625687"/>
                  </a:cubicBezTo>
                  <a:cubicBezTo>
                    <a:pt x="580261" y="674264"/>
                    <a:pt x="564069" y="722842"/>
                    <a:pt x="533589" y="759989"/>
                  </a:cubicBezTo>
                  <a:cubicBezTo>
                    <a:pt x="505014" y="767609"/>
                    <a:pt x="477391" y="771419"/>
                    <a:pt x="447864" y="769514"/>
                  </a:cubicBezTo>
                  <a:cubicBezTo>
                    <a:pt x="452626" y="761894"/>
                    <a:pt x="459294" y="757132"/>
                    <a:pt x="464056" y="750464"/>
                  </a:cubicBezTo>
                  <a:cubicBezTo>
                    <a:pt x="456436" y="752369"/>
                    <a:pt x="445959" y="753322"/>
                    <a:pt x="438339" y="752369"/>
                  </a:cubicBezTo>
                  <a:cubicBezTo>
                    <a:pt x="444054" y="747607"/>
                    <a:pt x="449769" y="742844"/>
                    <a:pt x="454531" y="737129"/>
                  </a:cubicBezTo>
                  <a:cubicBezTo>
                    <a:pt x="475486" y="708554"/>
                    <a:pt x="489774" y="679027"/>
                    <a:pt x="498346" y="643784"/>
                  </a:cubicBezTo>
                  <a:cubicBezTo>
                    <a:pt x="500251" y="633307"/>
                    <a:pt x="502156" y="623782"/>
                    <a:pt x="504061" y="613304"/>
                  </a:cubicBezTo>
                  <a:cubicBezTo>
                    <a:pt x="517396" y="521864"/>
                    <a:pt x="499299" y="427567"/>
                    <a:pt x="463104" y="342794"/>
                  </a:cubicBezTo>
                  <a:cubicBezTo>
                    <a:pt x="449769" y="311362"/>
                    <a:pt x="430719" y="282787"/>
                    <a:pt x="400239" y="272309"/>
                  </a:cubicBezTo>
                  <a:cubicBezTo>
                    <a:pt x="417384" y="289454"/>
                    <a:pt x="422146" y="316124"/>
                    <a:pt x="426909" y="340889"/>
                  </a:cubicBezTo>
                  <a:cubicBezTo>
                    <a:pt x="429766" y="355177"/>
                    <a:pt x="432624" y="372322"/>
                    <a:pt x="429766" y="386609"/>
                  </a:cubicBezTo>
                  <a:cubicBezTo>
                    <a:pt x="425956" y="355177"/>
                    <a:pt x="411669" y="325649"/>
                    <a:pt x="392619" y="300884"/>
                  </a:cubicBezTo>
                  <a:cubicBezTo>
                    <a:pt x="373569" y="276119"/>
                    <a:pt x="351661" y="256117"/>
                    <a:pt x="325944" y="238972"/>
                  </a:cubicBezTo>
                  <a:cubicBezTo>
                    <a:pt x="336421" y="267547"/>
                    <a:pt x="354519" y="296122"/>
                    <a:pt x="373569" y="318982"/>
                  </a:cubicBezTo>
                  <a:cubicBezTo>
                    <a:pt x="334516" y="304694"/>
                    <a:pt x="302131" y="276119"/>
                    <a:pt x="282129" y="238972"/>
                  </a:cubicBezTo>
                  <a:cubicBezTo>
                    <a:pt x="297369" y="278977"/>
                    <a:pt x="303084" y="337079"/>
                    <a:pt x="337374" y="359939"/>
                  </a:cubicBezTo>
                  <a:cubicBezTo>
                    <a:pt x="304036" y="344699"/>
                    <a:pt x="212596" y="255164"/>
                    <a:pt x="199261" y="219922"/>
                  </a:cubicBezTo>
                  <a:cubicBezTo>
                    <a:pt x="174496" y="283739"/>
                    <a:pt x="159256" y="326602"/>
                    <a:pt x="157351" y="395182"/>
                  </a:cubicBezTo>
                  <a:cubicBezTo>
                    <a:pt x="151636" y="364702"/>
                    <a:pt x="148779" y="332317"/>
                    <a:pt x="149731" y="301837"/>
                  </a:cubicBezTo>
                  <a:cubicBezTo>
                    <a:pt x="139254" y="386609"/>
                    <a:pt x="127824" y="468524"/>
                    <a:pt x="134491" y="552344"/>
                  </a:cubicBezTo>
                  <a:cubicBezTo>
                    <a:pt x="135444" y="561869"/>
                    <a:pt x="136396" y="570442"/>
                    <a:pt x="137349" y="579967"/>
                  </a:cubicBezTo>
                  <a:cubicBezTo>
                    <a:pt x="145921" y="648547"/>
                    <a:pt x="166876" y="716174"/>
                    <a:pt x="200214" y="777134"/>
                  </a:cubicBezTo>
                  <a:cubicBezTo>
                    <a:pt x="174496" y="759989"/>
                    <a:pt x="144969" y="741892"/>
                    <a:pt x="123061" y="719984"/>
                  </a:cubicBezTo>
                  <a:cubicBezTo>
                    <a:pt x="130681" y="739987"/>
                    <a:pt x="137349" y="753322"/>
                    <a:pt x="152589" y="768562"/>
                  </a:cubicBezTo>
                  <a:cubicBezTo>
                    <a:pt x="127824" y="762847"/>
                    <a:pt x="97344" y="757132"/>
                    <a:pt x="72579" y="751417"/>
                  </a:cubicBezTo>
                  <a:cubicBezTo>
                    <a:pt x="43051" y="714269"/>
                    <a:pt x="27811" y="667597"/>
                    <a:pt x="17334" y="619972"/>
                  </a:cubicBezTo>
                  <a:cubicBezTo>
                    <a:pt x="-15051" y="473287"/>
                    <a:pt x="-1716" y="326602"/>
                    <a:pt x="54481" y="187537"/>
                  </a:cubicBezTo>
                  <a:cubicBezTo>
                    <a:pt x="73531" y="140864"/>
                    <a:pt x="132586" y="18944"/>
                    <a:pt x="228789" y="25612"/>
                  </a:cubicBezTo>
                  <a:cubicBezTo>
                    <a:pt x="290701" y="-9631"/>
                    <a:pt x="352614" y="-4868"/>
                    <a:pt x="419289" y="17992"/>
                  </a:cubicBezTo>
                  <a:cubicBezTo>
                    <a:pt x="485964" y="39899"/>
                    <a:pt x="543114" y="91334"/>
                    <a:pt x="573594" y="157057"/>
                  </a:cubicBezTo>
                  <a:cubicBezTo>
                    <a:pt x="585976" y="183727"/>
                    <a:pt x="594549" y="213254"/>
                    <a:pt x="601216" y="241829"/>
                  </a:cubicBezTo>
                  <a:cubicBezTo>
                    <a:pt x="622171" y="334222"/>
                    <a:pt x="643126" y="416137"/>
                    <a:pt x="647889" y="510434"/>
                  </a:cubicBezTo>
                  <a:cubicBezTo>
                    <a:pt x="653604" y="592349"/>
                    <a:pt x="657414" y="685694"/>
                    <a:pt x="618361" y="758084"/>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4" name="Freeform: Shape 68"/>
            <p:cNvSpPr/>
            <p:nvPr/>
          </p:nvSpPr>
          <p:spPr>
            <a:xfrm>
              <a:off x="1616400" y="4339440"/>
              <a:ext cx="36720" cy="340560"/>
            </a:xfrm>
            <a:custGeom>
              <a:avLst/>
              <a:gdLst/>
              <a:ahLst/>
              <a:rect l="l" t="t" r="r" b="b"/>
              <a:pathLst>
                <a:path w="49529" h="459104">
                  <a:moveTo>
                    <a:pt x="49530" y="228600"/>
                  </a:moveTo>
                  <a:cubicBezTo>
                    <a:pt x="49530" y="260985"/>
                    <a:pt x="46672" y="292417"/>
                    <a:pt x="41910" y="320040"/>
                  </a:cubicBezTo>
                  <a:cubicBezTo>
                    <a:pt x="39053" y="334328"/>
                    <a:pt x="37147" y="347663"/>
                    <a:pt x="34290" y="359092"/>
                  </a:cubicBezTo>
                  <a:cubicBezTo>
                    <a:pt x="32385" y="364808"/>
                    <a:pt x="31432" y="371475"/>
                    <a:pt x="29528" y="377190"/>
                  </a:cubicBezTo>
                  <a:cubicBezTo>
                    <a:pt x="27622" y="382905"/>
                    <a:pt x="26670" y="387667"/>
                    <a:pt x="24765" y="393383"/>
                  </a:cubicBezTo>
                  <a:cubicBezTo>
                    <a:pt x="21907" y="403860"/>
                    <a:pt x="18097" y="412433"/>
                    <a:pt x="15240" y="421005"/>
                  </a:cubicBezTo>
                  <a:cubicBezTo>
                    <a:pt x="13335" y="424815"/>
                    <a:pt x="12382" y="428625"/>
                    <a:pt x="11430" y="432435"/>
                  </a:cubicBezTo>
                  <a:cubicBezTo>
                    <a:pt x="10478" y="436245"/>
                    <a:pt x="8572" y="439103"/>
                    <a:pt x="7620" y="441960"/>
                  </a:cubicBezTo>
                  <a:cubicBezTo>
                    <a:pt x="2857" y="452438"/>
                    <a:pt x="0" y="459105"/>
                    <a:pt x="0" y="459105"/>
                  </a:cubicBezTo>
                  <a:cubicBezTo>
                    <a:pt x="0" y="459105"/>
                    <a:pt x="1905" y="452438"/>
                    <a:pt x="4763" y="441008"/>
                  </a:cubicBezTo>
                  <a:cubicBezTo>
                    <a:pt x="5715" y="438150"/>
                    <a:pt x="6667" y="435292"/>
                    <a:pt x="7620" y="431483"/>
                  </a:cubicBezTo>
                  <a:cubicBezTo>
                    <a:pt x="8572" y="427673"/>
                    <a:pt x="9525" y="423863"/>
                    <a:pt x="10478" y="420053"/>
                  </a:cubicBezTo>
                  <a:cubicBezTo>
                    <a:pt x="12382" y="411480"/>
                    <a:pt x="15240" y="402908"/>
                    <a:pt x="17145" y="392430"/>
                  </a:cubicBezTo>
                  <a:cubicBezTo>
                    <a:pt x="18097" y="387667"/>
                    <a:pt x="19050" y="381953"/>
                    <a:pt x="20003" y="376238"/>
                  </a:cubicBezTo>
                  <a:cubicBezTo>
                    <a:pt x="20955" y="370523"/>
                    <a:pt x="21907" y="364808"/>
                    <a:pt x="22860" y="358140"/>
                  </a:cubicBezTo>
                  <a:cubicBezTo>
                    <a:pt x="24765" y="345758"/>
                    <a:pt x="26670" y="332423"/>
                    <a:pt x="28575" y="319088"/>
                  </a:cubicBezTo>
                  <a:cubicBezTo>
                    <a:pt x="31432" y="291465"/>
                    <a:pt x="33338" y="260985"/>
                    <a:pt x="33338" y="229552"/>
                  </a:cubicBezTo>
                  <a:cubicBezTo>
                    <a:pt x="33338" y="197168"/>
                    <a:pt x="31432" y="167640"/>
                    <a:pt x="28575" y="140018"/>
                  </a:cubicBezTo>
                  <a:cubicBezTo>
                    <a:pt x="26670" y="126682"/>
                    <a:pt x="25717" y="113348"/>
                    <a:pt x="22860" y="100965"/>
                  </a:cubicBezTo>
                  <a:cubicBezTo>
                    <a:pt x="21907" y="95250"/>
                    <a:pt x="20955" y="88582"/>
                    <a:pt x="20003" y="82868"/>
                  </a:cubicBezTo>
                  <a:cubicBezTo>
                    <a:pt x="19050" y="77152"/>
                    <a:pt x="18097" y="71438"/>
                    <a:pt x="17145" y="66675"/>
                  </a:cubicBezTo>
                  <a:cubicBezTo>
                    <a:pt x="15240" y="56198"/>
                    <a:pt x="12382" y="46673"/>
                    <a:pt x="10478" y="39052"/>
                  </a:cubicBezTo>
                  <a:cubicBezTo>
                    <a:pt x="9525" y="35243"/>
                    <a:pt x="8572" y="31432"/>
                    <a:pt x="7620" y="27623"/>
                  </a:cubicBezTo>
                  <a:cubicBezTo>
                    <a:pt x="6667" y="23813"/>
                    <a:pt x="5715" y="20955"/>
                    <a:pt x="4763" y="18098"/>
                  </a:cubicBezTo>
                  <a:cubicBezTo>
                    <a:pt x="1905" y="6668"/>
                    <a:pt x="0" y="0"/>
                    <a:pt x="0" y="0"/>
                  </a:cubicBezTo>
                  <a:cubicBezTo>
                    <a:pt x="0" y="0"/>
                    <a:pt x="2857" y="5715"/>
                    <a:pt x="7620" y="17145"/>
                  </a:cubicBezTo>
                  <a:cubicBezTo>
                    <a:pt x="8572" y="20002"/>
                    <a:pt x="10478" y="22860"/>
                    <a:pt x="11430" y="26670"/>
                  </a:cubicBezTo>
                  <a:cubicBezTo>
                    <a:pt x="12382" y="30480"/>
                    <a:pt x="14288" y="33338"/>
                    <a:pt x="15240" y="38100"/>
                  </a:cubicBezTo>
                  <a:cubicBezTo>
                    <a:pt x="18097" y="45720"/>
                    <a:pt x="21907" y="55245"/>
                    <a:pt x="24765" y="65723"/>
                  </a:cubicBezTo>
                  <a:cubicBezTo>
                    <a:pt x="26670" y="70485"/>
                    <a:pt x="27622" y="76200"/>
                    <a:pt x="29528" y="81915"/>
                  </a:cubicBezTo>
                  <a:cubicBezTo>
                    <a:pt x="31432" y="87630"/>
                    <a:pt x="32385" y="93345"/>
                    <a:pt x="34290" y="99060"/>
                  </a:cubicBezTo>
                  <a:cubicBezTo>
                    <a:pt x="37147" y="111443"/>
                    <a:pt x="40005" y="124777"/>
                    <a:pt x="42863" y="138113"/>
                  </a:cubicBezTo>
                  <a:cubicBezTo>
                    <a:pt x="45720" y="164783"/>
                    <a:pt x="49530" y="195263"/>
                    <a:pt x="49530" y="22860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5" name="Freeform: Shape 69"/>
            <p:cNvSpPr/>
            <p:nvPr/>
          </p:nvSpPr>
          <p:spPr>
            <a:xfrm>
              <a:off x="1673640" y="4393800"/>
              <a:ext cx="36000" cy="277560"/>
            </a:xfrm>
            <a:custGeom>
              <a:avLst/>
              <a:gdLst/>
              <a:ahLst/>
              <a:rect l="l" t="t" r="r" b="b"/>
              <a:pathLst>
                <a:path w="48825" h="374332">
                  <a:moveTo>
                    <a:pt x="48577" y="184785"/>
                  </a:moveTo>
                  <a:cubicBezTo>
                    <a:pt x="49530" y="211455"/>
                    <a:pt x="47625" y="237172"/>
                    <a:pt x="44767" y="260033"/>
                  </a:cubicBezTo>
                  <a:cubicBezTo>
                    <a:pt x="42863" y="271462"/>
                    <a:pt x="41910" y="281940"/>
                    <a:pt x="39052" y="292418"/>
                  </a:cubicBezTo>
                  <a:cubicBezTo>
                    <a:pt x="38100" y="297180"/>
                    <a:pt x="37147" y="301943"/>
                    <a:pt x="36195" y="306705"/>
                  </a:cubicBezTo>
                  <a:cubicBezTo>
                    <a:pt x="35242" y="311468"/>
                    <a:pt x="33338" y="315278"/>
                    <a:pt x="32385" y="320040"/>
                  </a:cubicBezTo>
                  <a:cubicBezTo>
                    <a:pt x="30480" y="328612"/>
                    <a:pt x="27622" y="336233"/>
                    <a:pt x="25717" y="342900"/>
                  </a:cubicBezTo>
                  <a:cubicBezTo>
                    <a:pt x="24765" y="345758"/>
                    <a:pt x="23813" y="349568"/>
                    <a:pt x="22860" y="352425"/>
                  </a:cubicBezTo>
                  <a:cubicBezTo>
                    <a:pt x="21907" y="355283"/>
                    <a:pt x="20955" y="358140"/>
                    <a:pt x="20002" y="360045"/>
                  </a:cubicBezTo>
                  <a:cubicBezTo>
                    <a:pt x="16192" y="368618"/>
                    <a:pt x="14288" y="374333"/>
                    <a:pt x="14288" y="374333"/>
                  </a:cubicBezTo>
                  <a:cubicBezTo>
                    <a:pt x="14288" y="374333"/>
                    <a:pt x="15240" y="368618"/>
                    <a:pt x="17145" y="360045"/>
                  </a:cubicBezTo>
                  <a:cubicBezTo>
                    <a:pt x="18097" y="358140"/>
                    <a:pt x="18097" y="355283"/>
                    <a:pt x="19050" y="352425"/>
                  </a:cubicBezTo>
                  <a:cubicBezTo>
                    <a:pt x="20002" y="349568"/>
                    <a:pt x="20002" y="346710"/>
                    <a:pt x="20955" y="342900"/>
                  </a:cubicBezTo>
                  <a:cubicBezTo>
                    <a:pt x="21907" y="336233"/>
                    <a:pt x="23813" y="328612"/>
                    <a:pt x="24765" y="320040"/>
                  </a:cubicBezTo>
                  <a:cubicBezTo>
                    <a:pt x="25717" y="316230"/>
                    <a:pt x="25717" y="311468"/>
                    <a:pt x="26670" y="306705"/>
                  </a:cubicBezTo>
                  <a:cubicBezTo>
                    <a:pt x="27622" y="301943"/>
                    <a:pt x="27622" y="297180"/>
                    <a:pt x="28575" y="292418"/>
                  </a:cubicBezTo>
                  <a:cubicBezTo>
                    <a:pt x="29527" y="282893"/>
                    <a:pt x="30480" y="271462"/>
                    <a:pt x="31432" y="260033"/>
                  </a:cubicBezTo>
                  <a:cubicBezTo>
                    <a:pt x="32385" y="237172"/>
                    <a:pt x="33338" y="212408"/>
                    <a:pt x="32385" y="186690"/>
                  </a:cubicBezTo>
                  <a:cubicBezTo>
                    <a:pt x="31432" y="160972"/>
                    <a:pt x="28575" y="136208"/>
                    <a:pt x="25717" y="113347"/>
                  </a:cubicBezTo>
                  <a:cubicBezTo>
                    <a:pt x="24765" y="107632"/>
                    <a:pt x="23813" y="101918"/>
                    <a:pt x="22860" y="97155"/>
                  </a:cubicBezTo>
                  <a:cubicBezTo>
                    <a:pt x="21907" y="91440"/>
                    <a:pt x="20955" y="86677"/>
                    <a:pt x="20002" y="81915"/>
                  </a:cubicBezTo>
                  <a:cubicBezTo>
                    <a:pt x="18097" y="72390"/>
                    <a:pt x="16192" y="62865"/>
                    <a:pt x="14288" y="54293"/>
                  </a:cubicBezTo>
                  <a:cubicBezTo>
                    <a:pt x="12382" y="45720"/>
                    <a:pt x="10477" y="38100"/>
                    <a:pt x="8572" y="31432"/>
                  </a:cubicBezTo>
                  <a:cubicBezTo>
                    <a:pt x="6667" y="24765"/>
                    <a:pt x="5715" y="19050"/>
                    <a:pt x="3810" y="14288"/>
                  </a:cubicBezTo>
                  <a:cubicBezTo>
                    <a:pt x="952" y="4763"/>
                    <a:pt x="0" y="0"/>
                    <a:pt x="0" y="0"/>
                  </a:cubicBezTo>
                  <a:cubicBezTo>
                    <a:pt x="0" y="0"/>
                    <a:pt x="1905" y="4763"/>
                    <a:pt x="6667" y="13335"/>
                  </a:cubicBezTo>
                  <a:cubicBezTo>
                    <a:pt x="8572" y="18097"/>
                    <a:pt x="11430" y="22860"/>
                    <a:pt x="13335" y="29527"/>
                  </a:cubicBezTo>
                  <a:cubicBezTo>
                    <a:pt x="16192" y="36195"/>
                    <a:pt x="19050" y="42863"/>
                    <a:pt x="21907" y="51435"/>
                  </a:cubicBezTo>
                  <a:cubicBezTo>
                    <a:pt x="24765" y="60007"/>
                    <a:pt x="27622" y="68580"/>
                    <a:pt x="30480" y="79057"/>
                  </a:cubicBezTo>
                  <a:cubicBezTo>
                    <a:pt x="31432" y="83820"/>
                    <a:pt x="33338" y="89535"/>
                    <a:pt x="34290" y="94297"/>
                  </a:cubicBezTo>
                  <a:cubicBezTo>
                    <a:pt x="35242" y="100013"/>
                    <a:pt x="37147" y="104775"/>
                    <a:pt x="38100" y="110490"/>
                  </a:cubicBezTo>
                  <a:cubicBezTo>
                    <a:pt x="43815" y="132397"/>
                    <a:pt x="47625" y="158115"/>
                    <a:pt x="48577" y="1847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6" name="Freeform: Shape 70"/>
            <p:cNvSpPr/>
            <p:nvPr/>
          </p:nvSpPr>
          <p:spPr>
            <a:xfrm>
              <a:off x="1632600" y="4386600"/>
              <a:ext cx="31320" cy="273240"/>
            </a:xfrm>
            <a:custGeom>
              <a:avLst/>
              <a:gdLst/>
              <a:ahLst/>
              <a:rect l="l" t="t" r="r" b="b"/>
              <a:pathLst>
                <a:path w="42283" h="368617">
                  <a:moveTo>
                    <a:pt x="41910" y="185738"/>
                  </a:moveTo>
                  <a:cubicBezTo>
                    <a:pt x="40958" y="211455"/>
                    <a:pt x="38100" y="236220"/>
                    <a:pt x="33338" y="259080"/>
                  </a:cubicBezTo>
                  <a:cubicBezTo>
                    <a:pt x="31433" y="270510"/>
                    <a:pt x="29528" y="280987"/>
                    <a:pt x="26670" y="290512"/>
                  </a:cubicBezTo>
                  <a:cubicBezTo>
                    <a:pt x="25718" y="295275"/>
                    <a:pt x="24765" y="300037"/>
                    <a:pt x="22860" y="304800"/>
                  </a:cubicBezTo>
                  <a:cubicBezTo>
                    <a:pt x="21908" y="309562"/>
                    <a:pt x="20003" y="313372"/>
                    <a:pt x="19050" y="317183"/>
                  </a:cubicBezTo>
                  <a:cubicBezTo>
                    <a:pt x="17145" y="325755"/>
                    <a:pt x="14288" y="332422"/>
                    <a:pt x="11430" y="339090"/>
                  </a:cubicBezTo>
                  <a:cubicBezTo>
                    <a:pt x="9525" y="345758"/>
                    <a:pt x="6668" y="350520"/>
                    <a:pt x="5715" y="355283"/>
                  </a:cubicBezTo>
                  <a:cubicBezTo>
                    <a:pt x="1905" y="363855"/>
                    <a:pt x="0" y="368618"/>
                    <a:pt x="0" y="368618"/>
                  </a:cubicBezTo>
                  <a:cubicBezTo>
                    <a:pt x="0" y="368618"/>
                    <a:pt x="953" y="363855"/>
                    <a:pt x="2858" y="354330"/>
                  </a:cubicBezTo>
                  <a:cubicBezTo>
                    <a:pt x="3810" y="349568"/>
                    <a:pt x="4763" y="343853"/>
                    <a:pt x="6668" y="337185"/>
                  </a:cubicBezTo>
                  <a:cubicBezTo>
                    <a:pt x="7620" y="330518"/>
                    <a:pt x="9525" y="322897"/>
                    <a:pt x="11430" y="315278"/>
                  </a:cubicBezTo>
                  <a:cubicBezTo>
                    <a:pt x="12383" y="311468"/>
                    <a:pt x="13335" y="306705"/>
                    <a:pt x="13335" y="301943"/>
                  </a:cubicBezTo>
                  <a:cubicBezTo>
                    <a:pt x="14288" y="297180"/>
                    <a:pt x="14288" y="292418"/>
                    <a:pt x="15240" y="287655"/>
                  </a:cubicBezTo>
                  <a:cubicBezTo>
                    <a:pt x="17145" y="278130"/>
                    <a:pt x="18097" y="267653"/>
                    <a:pt x="19050" y="256222"/>
                  </a:cubicBezTo>
                  <a:cubicBezTo>
                    <a:pt x="21908" y="234315"/>
                    <a:pt x="23813" y="209550"/>
                    <a:pt x="24765" y="184785"/>
                  </a:cubicBezTo>
                  <a:cubicBezTo>
                    <a:pt x="25718" y="159068"/>
                    <a:pt x="25718" y="135255"/>
                    <a:pt x="24765" y="113347"/>
                  </a:cubicBezTo>
                  <a:cubicBezTo>
                    <a:pt x="23813" y="101918"/>
                    <a:pt x="23813" y="91440"/>
                    <a:pt x="22860" y="81915"/>
                  </a:cubicBezTo>
                  <a:cubicBezTo>
                    <a:pt x="22860" y="77152"/>
                    <a:pt x="21908" y="72390"/>
                    <a:pt x="21908" y="67627"/>
                  </a:cubicBezTo>
                  <a:cubicBezTo>
                    <a:pt x="21908" y="62865"/>
                    <a:pt x="20955" y="59055"/>
                    <a:pt x="20955" y="54293"/>
                  </a:cubicBezTo>
                  <a:cubicBezTo>
                    <a:pt x="20003" y="45720"/>
                    <a:pt x="19050" y="38100"/>
                    <a:pt x="18097" y="31432"/>
                  </a:cubicBezTo>
                  <a:cubicBezTo>
                    <a:pt x="17145" y="24765"/>
                    <a:pt x="16193" y="19050"/>
                    <a:pt x="16193" y="14288"/>
                  </a:cubicBezTo>
                  <a:cubicBezTo>
                    <a:pt x="15240" y="4763"/>
                    <a:pt x="14288" y="0"/>
                    <a:pt x="14288" y="0"/>
                  </a:cubicBezTo>
                  <a:cubicBezTo>
                    <a:pt x="14288" y="0"/>
                    <a:pt x="16193" y="4763"/>
                    <a:pt x="19050" y="14288"/>
                  </a:cubicBezTo>
                  <a:cubicBezTo>
                    <a:pt x="20955" y="19050"/>
                    <a:pt x="21908" y="24765"/>
                    <a:pt x="23813" y="30480"/>
                  </a:cubicBezTo>
                  <a:cubicBezTo>
                    <a:pt x="25718" y="37147"/>
                    <a:pt x="27622" y="44768"/>
                    <a:pt x="29528" y="52388"/>
                  </a:cubicBezTo>
                  <a:cubicBezTo>
                    <a:pt x="30480" y="56197"/>
                    <a:pt x="31433" y="60960"/>
                    <a:pt x="32385" y="65722"/>
                  </a:cubicBezTo>
                  <a:cubicBezTo>
                    <a:pt x="33338" y="70485"/>
                    <a:pt x="34290" y="75247"/>
                    <a:pt x="35243" y="80010"/>
                  </a:cubicBezTo>
                  <a:cubicBezTo>
                    <a:pt x="37147" y="89535"/>
                    <a:pt x="38100" y="100965"/>
                    <a:pt x="40005" y="111443"/>
                  </a:cubicBezTo>
                  <a:cubicBezTo>
                    <a:pt x="41910" y="135255"/>
                    <a:pt x="42863" y="160020"/>
                    <a:pt x="41910" y="18573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7" name="Freeform: Shape 71"/>
            <p:cNvSpPr/>
            <p:nvPr/>
          </p:nvSpPr>
          <p:spPr>
            <a:xfrm>
              <a:off x="1322280" y="4359960"/>
              <a:ext cx="36720" cy="293760"/>
            </a:xfrm>
            <a:custGeom>
              <a:avLst/>
              <a:gdLst/>
              <a:ahLst/>
              <a:rect l="l" t="t" r="r" b="b"/>
              <a:pathLst>
                <a:path w="49616" h="396239">
                  <a:moveTo>
                    <a:pt x="16279" y="199072"/>
                  </a:moveTo>
                  <a:cubicBezTo>
                    <a:pt x="18183" y="226695"/>
                    <a:pt x="21041" y="252413"/>
                    <a:pt x="23898" y="276225"/>
                  </a:cubicBezTo>
                  <a:cubicBezTo>
                    <a:pt x="25804" y="287655"/>
                    <a:pt x="26756" y="299085"/>
                    <a:pt x="29613" y="309563"/>
                  </a:cubicBezTo>
                  <a:cubicBezTo>
                    <a:pt x="30566" y="315278"/>
                    <a:pt x="31518" y="320040"/>
                    <a:pt x="32471" y="324803"/>
                  </a:cubicBezTo>
                  <a:cubicBezTo>
                    <a:pt x="33423" y="329565"/>
                    <a:pt x="34376" y="334328"/>
                    <a:pt x="35329" y="339090"/>
                  </a:cubicBezTo>
                  <a:cubicBezTo>
                    <a:pt x="37233" y="347663"/>
                    <a:pt x="39138" y="356235"/>
                    <a:pt x="41043" y="362903"/>
                  </a:cubicBezTo>
                  <a:cubicBezTo>
                    <a:pt x="42948" y="369570"/>
                    <a:pt x="43901" y="376238"/>
                    <a:pt x="45806" y="381000"/>
                  </a:cubicBezTo>
                  <a:cubicBezTo>
                    <a:pt x="48663" y="390525"/>
                    <a:pt x="49616" y="396240"/>
                    <a:pt x="49616" y="396240"/>
                  </a:cubicBezTo>
                  <a:cubicBezTo>
                    <a:pt x="49616" y="396240"/>
                    <a:pt x="47711" y="391478"/>
                    <a:pt x="42948" y="381953"/>
                  </a:cubicBezTo>
                  <a:cubicBezTo>
                    <a:pt x="41043" y="377190"/>
                    <a:pt x="38186" y="371475"/>
                    <a:pt x="36281" y="364807"/>
                  </a:cubicBezTo>
                  <a:cubicBezTo>
                    <a:pt x="33423" y="358140"/>
                    <a:pt x="30566" y="350520"/>
                    <a:pt x="27708" y="340995"/>
                  </a:cubicBezTo>
                  <a:cubicBezTo>
                    <a:pt x="26756" y="336232"/>
                    <a:pt x="24851" y="332423"/>
                    <a:pt x="22946" y="327660"/>
                  </a:cubicBezTo>
                  <a:cubicBezTo>
                    <a:pt x="21041" y="322898"/>
                    <a:pt x="20088" y="318135"/>
                    <a:pt x="19136" y="312420"/>
                  </a:cubicBezTo>
                  <a:cubicBezTo>
                    <a:pt x="16279" y="301942"/>
                    <a:pt x="13421" y="290513"/>
                    <a:pt x="11516" y="279082"/>
                  </a:cubicBezTo>
                  <a:cubicBezTo>
                    <a:pt x="6754" y="255270"/>
                    <a:pt x="2943" y="228600"/>
                    <a:pt x="1038" y="200025"/>
                  </a:cubicBezTo>
                  <a:cubicBezTo>
                    <a:pt x="-867" y="171450"/>
                    <a:pt x="86" y="144780"/>
                    <a:pt x="1991" y="120967"/>
                  </a:cubicBezTo>
                  <a:cubicBezTo>
                    <a:pt x="2943" y="108585"/>
                    <a:pt x="3896" y="97155"/>
                    <a:pt x="5801" y="86677"/>
                  </a:cubicBezTo>
                  <a:cubicBezTo>
                    <a:pt x="6754" y="80963"/>
                    <a:pt x="7706" y="76200"/>
                    <a:pt x="8658" y="71438"/>
                  </a:cubicBezTo>
                  <a:cubicBezTo>
                    <a:pt x="9611" y="66675"/>
                    <a:pt x="10563" y="61913"/>
                    <a:pt x="11516" y="57150"/>
                  </a:cubicBezTo>
                  <a:cubicBezTo>
                    <a:pt x="13421" y="48577"/>
                    <a:pt x="15326" y="40005"/>
                    <a:pt x="17231" y="33338"/>
                  </a:cubicBezTo>
                  <a:cubicBezTo>
                    <a:pt x="19136" y="26670"/>
                    <a:pt x="21041" y="20002"/>
                    <a:pt x="21993" y="15240"/>
                  </a:cubicBezTo>
                  <a:cubicBezTo>
                    <a:pt x="24851" y="5715"/>
                    <a:pt x="26756" y="0"/>
                    <a:pt x="26756" y="0"/>
                  </a:cubicBezTo>
                  <a:cubicBezTo>
                    <a:pt x="26756" y="0"/>
                    <a:pt x="25804" y="5715"/>
                    <a:pt x="24851" y="16192"/>
                  </a:cubicBezTo>
                  <a:cubicBezTo>
                    <a:pt x="23898" y="20955"/>
                    <a:pt x="22946" y="27622"/>
                    <a:pt x="22946" y="34290"/>
                  </a:cubicBezTo>
                  <a:cubicBezTo>
                    <a:pt x="21993" y="41910"/>
                    <a:pt x="21041" y="49530"/>
                    <a:pt x="20088" y="59055"/>
                  </a:cubicBezTo>
                  <a:cubicBezTo>
                    <a:pt x="20088" y="63817"/>
                    <a:pt x="19136" y="68580"/>
                    <a:pt x="19136" y="73342"/>
                  </a:cubicBezTo>
                  <a:cubicBezTo>
                    <a:pt x="19136" y="78105"/>
                    <a:pt x="18183" y="83820"/>
                    <a:pt x="18183" y="88582"/>
                  </a:cubicBezTo>
                  <a:cubicBezTo>
                    <a:pt x="17231" y="99060"/>
                    <a:pt x="17231" y="110490"/>
                    <a:pt x="16279" y="122872"/>
                  </a:cubicBezTo>
                  <a:cubicBezTo>
                    <a:pt x="15326" y="145733"/>
                    <a:pt x="15326" y="171450"/>
                    <a:pt x="16279" y="19907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8" name="Freeform: Shape 72"/>
            <p:cNvSpPr/>
            <p:nvPr/>
          </p:nvSpPr>
          <p:spPr>
            <a:xfrm>
              <a:off x="1308600" y="4385160"/>
              <a:ext cx="15480" cy="214560"/>
            </a:xfrm>
            <a:custGeom>
              <a:avLst/>
              <a:gdLst/>
              <a:ahLst/>
              <a:rect l="l" t="t" r="r" b="b"/>
              <a:pathLst>
                <a:path w="20954" h="289560">
                  <a:moveTo>
                    <a:pt x="14288" y="144780"/>
                  </a:moveTo>
                  <a:cubicBezTo>
                    <a:pt x="14288" y="164783"/>
                    <a:pt x="14288" y="183833"/>
                    <a:pt x="15240" y="200977"/>
                  </a:cubicBezTo>
                  <a:cubicBezTo>
                    <a:pt x="15240" y="218123"/>
                    <a:pt x="16192" y="234315"/>
                    <a:pt x="17145" y="246698"/>
                  </a:cubicBezTo>
                  <a:cubicBezTo>
                    <a:pt x="18097" y="273367"/>
                    <a:pt x="19050" y="289560"/>
                    <a:pt x="19050" y="289560"/>
                  </a:cubicBezTo>
                  <a:cubicBezTo>
                    <a:pt x="19050" y="289560"/>
                    <a:pt x="18097" y="285750"/>
                    <a:pt x="16192" y="278130"/>
                  </a:cubicBezTo>
                  <a:cubicBezTo>
                    <a:pt x="14288" y="270510"/>
                    <a:pt x="11430" y="260985"/>
                    <a:pt x="9525" y="247650"/>
                  </a:cubicBezTo>
                  <a:cubicBezTo>
                    <a:pt x="6667" y="234315"/>
                    <a:pt x="4763" y="219075"/>
                    <a:pt x="2857" y="201930"/>
                  </a:cubicBezTo>
                  <a:cubicBezTo>
                    <a:pt x="953" y="184785"/>
                    <a:pt x="0" y="164783"/>
                    <a:pt x="0" y="144780"/>
                  </a:cubicBezTo>
                  <a:cubicBezTo>
                    <a:pt x="0" y="124777"/>
                    <a:pt x="953" y="104775"/>
                    <a:pt x="2857" y="87630"/>
                  </a:cubicBezTo>
                  <a:cubicBezTo>
                    <a:pt x="4763" y="70485"/>
                    <a:pt x="7620" y="54293"/>
                    <a:pt x="10478" y="41910"/>
                  </a:cubicBezTo>
                  <a:cubicBezTo>
                    <a:pt x="13335" y="28575"/>
                    <a:pt x="15240" y="18098"/>
                    <a:pt x="18097" y="11430"/>
                  </a:cubicBezTo>
                  <a:cubicBezTo>
                    <a:pt x="20003" y="4763"/>
                    <a:pt x="20955" y="0"/>
                    <a:pt x="20955" y="0"/>
                  </a:cubicBezTo>
                  <a:cubicBezTo>
                    <a:pt x="20955" y="0"/>
                    <a:pt x="20003" y="16193"/>
                    <a:pt x="19050" y="42863"/>
                  </a:cubicBezTo>
                  <a:cubicBezTo>
                    <a:pt x="18097" y="56198"/>
                    <a:pt x="18097" y="71438"/>
                    <a:pt x="17145" y="88582"/>
                  </a:cubicBezTo>
                  <a:cubicBezTo>
                    <a:pt x="14288" y="105727"/>
                    <a:pt x="14288" y="124777"/>
                    <a:pt x="14288" y="14478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09" name="Freeform: Shape 73"/>
            <p:cNvSpPr/>
            <p:nvPr/>
          </p:nvSpPr>
          <p:spPr>
            <a:xfrm>
              <a:off x="1281240" y="4340160"/>
              <a:ext cx="26640" cy="264240"/>
            </a:xfrm>
            <a:custGeom>
              <a:avLst/>
              <a:gdLst/>
              <a:ahLst/>
              <a:rect l="l" t="t" r="r" b="b"/>
              <a:pathLst>
                <a:path w="36194" h="356235">
                  <a:moveTo>
                    <a:pt x="17145" y="177165"/>
                  </a:moveTo>
                  <a:cubicBezTo>
                    <a:pt x="17145" y="201930"/>
                    <a:pt x="17145" y="224790"/>
                    <a:pt x="18097" y="246698"/>
                  </a:cubicBezTo>
                  <a:cubicBezTo>
                    <a:pt x="19050" y="257175"/>
                    <a:pt x="19050" y="267653"/>
                    <a:pt x="20002" y="277178"/>
                  </a:cubicBezTo>
                  <a:cubicBezTo>
                    <a:pt x="20955" y="286703"/>
                    <a:pt x="21907" y="295275"/>
                    <a:pt x="22860" y="303848"/>
                  </a:cubicBezTo>
                  <a:cubicBezTo>
                    <a:pt x="23813" y="312420"/>
                    <a:pt x="24765" y="319088"/>
                    <a:pt x="25717" y="325755"/>
                  </a:cubicBezTo>
                  <a:cubicBezTo>
                    <a:pt x="26670" y="332423"/>
                    <a:pt x="27622" y="338138"/>
                    <a:pt x="27622" y="341948"/>
                  </a:cubicBezTo>
                  <a:cubicBezTo>
                    <a:pt x="28575" y="351473"/>
                    <a:pt x="29527" y="356235"/>
                    <a:pt x="29527" y="356235"/>
                  </a:cubicBezTo>
                  <a:cubicBezTo>
                    <a:pt x="29527" y="356235"/>
                    <a:pt x="27622" y="351473"/>
                    <a:pt x="24765" y="342900"/>
                  </a:cubicBezTo>
                  <a:cubicBezTo>
                    <a:pt x="22860" y="338138"/>
                    <a:pt x="21907" y="333375"/>
                    <a:pt x="20002" y="326708"/>
                  </a:cubicBezTo>
                  <a:cubicBezTo>
                    <a:pt x="18097" y="320040"/>
                    <a:pt x="16192" y="313373"/>
                    <a:pt x="14288" y="304800"/>
                  </a:cubicBezTo>
                  <a:cubicBezTo>
                    <a:pt x="12382" y="297180"/>
                    <a:pt x="10477" y="287655"/>
                    <a:pt x="8572" y="278130"/>
                  </a:cubicBezTo>
                  <a:cubicBezTo>
                    <a:pt x="6667" y="268605"/>
                    <a:pt x="5715" y="258128"/>
                    <a:pt x="3810" y="247650"/>
                  </a:cubicBezTo>
                  <a:cubicBezTo>
                    <a:pt x="952" y="225743"/>
                    <a:pt x="0" y="201930"/>
                    <a:pt x="0" y="177165"/>
                  </a:cubicBezTo>
                  <a:cubicBezTo>
                    <a:pt x="952" y="152400"/>
                    <a:pt x="2857" y="127635"/>
                    <a:pt x="6667" y="106680"/>
                  </a:cubicBezTo>
                  <a:cubicBezTo>
                    <a:pt x="8572" y="96203"/>
                    <a:pt x="10477" y="85725"/>
                    <a:pt x="12382" y="76200"/>
                  </a:cubicBezTo>
                  <a:cubicBezTo>
                    <a:pt x="14288" y="66675"/>
                    <a:pt x="16192" y="58103"/>
                    <a:pt x="19050" y="50483"/>
                  </a:cubicBezTo>
                  <a:cubicBezTo>
                    <a:pt x="20955" y="42863"/>
                    <a:pt x="23813" y="35243"/>
                    <a:pt x="25717" y="29528"/>
                  </a:cubicBezTo>
                  <a:cubicBezTo>
                    <a:pt x="27622" y="22860"/>
                    <a:pt x="29527" y="18098"/>
                    <a:pt x="31432" y="13335"/>
                  </a:cubicBezTo>
                  <a:cubicBezTo>
                    <a:pt x="34290" y="4763"/>
                    <a:pt x="36195" y="0"/>
                    <a:pt x="36195" y="0"/>
                  </a:cubicBezTo>
                  <a:cubicBezTo>
                    <a:pt x="36195" y="0"/>
                    <a:pt x="35242" y="4763"/>
                    <a:pt x="33338" y="14288"/>
                  </a:cubicBezTo>
                  <a:cubicBezTo>
                    <a:pt x="32385" y="19050"/>
                    <a:pt x="31432" y="23813"/>
                    <a:pt x="30480" y="30480"/>
                  </a:cubicBezTo>
                  <a:cubicBezTo>
                    <a:pt x="29527" y="37148"/>
                    <a:pt x="28575" y="43815"/>
                    <a:pt x="26670" y="52388"/>
                  </a:cubicBezTo>
                  <a:cubicBezTo>
                    <a:pt x="25717" y="60008"/>
                    <a:pt x="23813" y="69533"/>
                    <a:pt x="22860" y="79058"/>
                  </a:cubicBezTo>
                  <a:cubicBezTo>
                    <a:pt x="21907" y="88583"/>
                    <a:pt x="20955" y="99060"/>
                    <a:pt x="20002" y="109538"/>
                  </a:cubicBezTo>
                  <a:cubicBezTo>
                    <a:pt x="19050" y="129540"/>
                    <a:pt x="18097" y="152400"/>
                    <a:pt x="17145" y="1771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010" name="Group 140"/>
          <p:cNvGrpSpPr/>
          <p:nvPr/>
        </p:nvGrpSpPr>
        <p:grpSpPr>
          <a:xfrm>
            <a:off x="620640" y="1695600"/>
            <a:ext cx="1757520" cy="1724040"/>
            <a:chOff x="620640" y="1695600"/>
            <a:chExt cx="1757520" cy="1724040"/>
          </a:xfrm>
        </p:grpSpPr>
        <p:sp>
          <p:nvSpPr>
            <p:cNvPr id="1011" name="Freeform: Shape 4"/>
            <p:cNvSpPr/>
            <p:nvPr/>
          </p:nvSpPr>
          <p:spPr>
            <a:xfrm>
              <a:off x="620640" y="1695600"/>
              <a:ext cx="1757520" cy="1724040"/>
            </a:xfrm>
            <a:custGeom>
              <a:avLst/>
              <a:gdLst/>
              <a:ahLst/>
              <a:rect l="l" t="t" r="r" b="b"/>
              <a:pathLst>
                <a:path w="2366009" h="2322195">
                  <a:moveTo>
                    <a:pt x="2366010" y="1161098"/>
                  </a:moveTo>
                  <a:cubicBezTo>
                    <a:pt x="2366010" y="1628775"/>
                    <a:pt x="2084070" y="2031683"/>
                    <a:pt x="1678305" y="2215515"/>
                  </a:cubicBezTo>
                  <a:cubicBezTo>
                    <a:pt x="1648778" y="2228850"/>
                    <a:pt x="1617345" y="2241233"/>
                    <a:pt x="1586865" y="2252663"/>
                  </a:cubicBezTo>
                  <a:cubicBezTo>
                    <a:pt x="1488758" y="2287905"/>
                    <a:pt x="1383983" y="2309813"/>
                    <a:pt x="1276350" y="2318385"/>
                  </a:cubicBezTo>
                  <a:cubicBezTo>
                    <a:pt x="1265873" y="2319338"/>
                    <a:pt x="1256348" y="2319338"/>
                    <a:pt x="1245870" y="2320290"/>
                  </a:cubicBezTo>
                  <a:cubicBezTo>
                    <a:pt x="1224915" y="2321243"/>
                    <a:pt x="1203960" y="2322195"/>
                    <a:pt x="1183005" y="2322195"/>
                  </a:cubicBezTo>
                  <a:cubicBezTo>
                    <a:pt x="1111568" y="2322195"/>
                    <a:pt x="1041083" y="2315528"/>
                    <a:pt x="972503" y="2304098"/>
                  </a:cubicBezTo>
                  <a:cubicBezTo>
                    <a:pt x="967740" y="2303145"/>
                    <a:pt x="962978" y="2302193"/>
                    <a:pt x="958215" y="2301240"/>
                  </a:cubicBezTo>
                  <a:cubicBezTo>
                    <a:pt x="862013" y="2283143"/>
                    <a:pt x="769620" y="2253615"/>
                    <a:pt x="683895" y="2213610"/>
                  </a:cubicBezTo>
                  <a:cubicBezTo>
                    <a:pt x="280035" y="2028825"/>
                    <a:pt x="0" y="1626870"/>
                    <a:pt x="0" y="1161098"/>
                  </a:cubicBezTo>
                  <a:cubicBezTo>
                    <a:pt x="0" y="520065"/>
                    <a:pt x="529590" y="0"/>
                    <a:pt x="1183005" y="0"/>
                  </a:cubicBezTo>
                  <a:cubicBezTo>
                    <a:pt x="1836420" y="0"/>
                    <a:pt x="2366010" y="520065"/>
                    <a:pt x="2366010" y="1161098"/>
                  </a:cubicBez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1012" name="Graphic 2"/>
            <p:cNvGrpSpPr/>
            <p:nvPr/>
          </p:nvGrpSpPr>
          <p:grpSpPr>
            <a:xfrm>
              <a:off x="949680" y="1740240"/>
              <a:ext cx="1098720" cy="1679040"/>
              <a:chOff x="949680" y="1740240"/>
              <a:chExt cx="1098720" cy="1679040"/>
            </a:xfrm>
          </p:grpSpPr>
          <p:sp>
            <p:nvSpPr>
              <p:cNvPr id="1013" name="Freeform: Shape 75"/>
              <p:cNvSpPr/>
              <p:nvPr/>
            </p:nvSpPr>
            <p:spPr>
              <a:xfrm>
                <a:off x="949680" y="2349000"/>
                <a:ext cx="513360" cy="752040"/>
              </a:xfrm>
              <a:custGeom>
                <a:avLst/>
                <a:gdLst/>
                <a:ahLst/>
                <a:rect l="l" t="t" r="r" b="b"/>
                <a:pathLst>
                  <a:path w="691180" h="1012930">
                    <a:moveTo>
                      <a:pt x="691180" y="942975"/>
                    </a:moveTo>
                    <a:cubicBezTo>
                      <a:pt x="669273" y="947737"/>
                      <a:pt x="646413" y="951548"/>
                      <a:pt x="623553" y="954405"/>
                    </a:cubicBezTo>
                    <a:cubicBezTo>
                      <a:pt x="523540" y="969645"/>
                      <a:pt x="423528" y="984885"/>
                      <a:pt x="323515" y="994410"/>
                    </a:cubicBezTo>
                    <a:cubicBezTo>
                      <a:pt x="296845" y="997268"/>
                      <a:pt x="270175" y="999173"/>
                      <a:pt x="243505" y="1000125"/>
                    </a:cubicBezTo>
                    <a:cubicBezTo>
                      <a:pt x="198738" y="1002030"/>
                      <a:pt x="150160" y="998220"/>
                      <a:pt x="106345" y="1010603"/>
                    </a:cubicBezTo>
                    <a:cubicBezTo>
                      <a:pt x="91105" y="1015365"/>
                      <a:pt x="73960" y="1012507"/>
                      <a:pt x="59673" y="1004887"/>
                    </a:cubicBezTo>
                    <a:cubicBezTo>
                      <a:pt x="53958" y="1001078"/>
                      <a:pt x="48243" y="997268"/>
                      <a:pt x="43480" y="991553"/>
                    </a:cubicBezTo>
                    <a:cubicBezTo>
                      <a:pt x="33955" y="981075"/>
                      <a:pt x="26335" y="966787"/>
                      <a:pt x="22525" y="952500"/>
                    </a:cubicBezTo>
                    <a:cubicBezTo>
                      <a:pt x="13953" y="927735"/>
                      <a:pt x="13953" y="899160"/>
                      <a:pt x="9190" y="873443"/>
                    </a:cubicBezTo>
                    <a:cubicBezTo>
                      <a:pt x="1570" y="829628"/>
                      <a:pt x="-6050" y="782955"/>
                      <a:pt x="7285" y="741045"/>
                    </a:cubicBezTo>
                    <a:cubicBezTo>
                      <a:pt x="13953" y="719137"/>
                      <a:pt x="26335" y="700087"/>
                      <a:pt x="37765" y="681037"/>
                    </a:cubicBezTo>
                    <a:cubicBezTo>
                      <a:pt x="73008" y="624840"/>
                      <a:pt x="108250" y="568643"/>
                      <a:pt x="142540" y="512445"/>
                    </a:cubicBezTo>
                    <a:cubicBezTo>
                      <a:pt x="200643" y="418148"/>
                      <a:pt x="259698" y="323850"/>
                      <a:pt x="297798" y="219075"/>
                    </a:cubicBezTo>
                    <a:cubicBezTo>
                      <a:pt x="311133" y="183832"/>
                      <a:pt x="321610" y="146685"/>
                      <a:pt x="338755" y="113348"/>
                    </a:cubicBezTo>
                    <a:cubicBezTo>
                      <a:pt x="345423" y="100013"/>
                      <a:pt x="353995" y="87630"/>
                      <a:pt x="363520" y="76200"/>
                    </a:cubicBezTo>
                    <a:cubicBezTo>
                      <a:pt x="372093" y="65723"/>
                      <a:pt x="381618" y="56198"/>
                      <a:pt x="393048" y="48577"/>
                    </a:cubicBezTo>
                    <a:cubicBezTo>
                      <a:pt x="400668" y="42863"/>
                      <a:pt x="409240" y="38100"/>
                      <a:pt x="417813" y="34290"/>
                    </a:cubicBezTo>
                    <a:cubicBezTo>
                      <a:pt x="417813" y="34290"/>
                      <a:pt x="418765" y="34290"/>
                      <a:pt x="418765" y="33338"/>
                    </a:cubicBezTo>
                    <a:cubicBezTo>
                      <a:pt x="445435" y="21907"/>
                      <a:pt x="474963" y="20955"/>
                      <a:pt x="504490" y="19050"/>
                    </a:cubicBezTo>
                    <a:cubicBezTo>
                      <a:pt x="532113" y="17145"/>
                      <a:pt x="559735" y="13335"/>
                      <a:pt x="586405" y="7620"/>
                    </a:cubicBezTo>
                    <a:cubicBezTo>
                      <a:pt x="593073" y="6667"/>
                      <a:pt x="599740" y="4763"/>
                      <a:pt x="606408" y="3810"/>
                    </a:cubicBezTo>
                    <a:cubicBezTo>
                      <a:pt x="612123" y="2857"/>
                      <a:pt x="617838" y="952"/>
                      <a:pt x="623553" y="0"/>
                    </a:cubicBezTo>
                    <a:cubicBezTo>
                      <a:pt x="594978" y="31432"/>
                      <a:pt x="568308" y="67627"/>
                      <a:pt x="543543" y="104775"/>
                    </a:cubicBezTo>
                    <a:cubicBezTo>
                      <a:pt x="561640" y="116205"/>
                      <a:pt x="577833" y="129540"/>
                      <a:pt x="593073" y="144780"/>
                    </a:cubicBezTo>
                    <a:cubicBezTo>
                      <a:pt x="558783" y="162877"/>
                      <a:pt x="523540" y="183832"/>
                      <a:pt x="488298" y="201930"/>
                    </a:cubicBezTo>
                    <a:cubicBezTo>
                      <a:pt x="487345" y="202882"/>
                      <a:pt x="485440" y="203835"/>
                      <a:pt x="484488" y="203835"/>
                    </a:cubicBezTo>
                    <a:cubicBezTo>
                      <a:pt x="481630" y="205740"/>
                      <a:pt x="478773" y="206692"/>
                      <a:pt x="476868" y="209550"/>
                    </a:cubicBezTo>
                    <a:cubicBezTo>
                      <a:pt x="474963" y="213360"/>
                      <a:pt x="474963" y="217170"/>
                      <a:pt x="474963" y="220980"/>
                    </a:cubicBezTo>
                    <a:cubicBezTo>
                      <a:pt x="474963" y="225742"/>
                      <a:pt x="474963" y="229552"/>
                      <a:pt x="474963" y="234315"/>
                    </a:cubicBezTo>
                    <a:cubicBezTo>
                      <a:pt x="475915" y="271463"/>
                      <a:pt x="477820" y="308610"/>
                      <a:pt x="479725" y="345757"/>
                    </a:cubicBezTo>
                    <a:cubicBezTo>
                      <a:pt x="481630" y="381000"/>
                      <a:pt x="484488" y="415290"/>
                      <a:pt x="492108" y="449580"/>
                    </a:cubicBezTo>
                    <a:cubicBezTo>
                      <a:pt x="495918" y="467678"/>
                      <a:pt x="501633" y="484823"/>
                      <a:pt x="508300" y="502920"/>
                    </a:cubicBezTo>
                    <a:cubicBezTo>
                      <a:pt x="502585" y="499110"/>
                      <a:pt x="495918" y="496253"/>
                      <a:pt x="490203" y="492443"/>
                    </a:cubicBezTo>
                    <a:cubicBezTo>
                      <a:pt x="483535" y="488632"/>
                      <a:pt x="476868" y="484823"/>
                      <a:pt x="471153" y="481012"/>
                    </a:cubicBezTo>
                    <a:cubicBezTo>
                      <a:pt x="471153" y="481012"/>
                      <a:pt x="471153" y="481012"/>
                      <a:pt x="471153" y="481012"/>
                    </a:cubicBezTo>
                    <a:cubicBezTo>
                      <a:pt x="463533" y="476250"/>
                      <a:pt x="454960" y="471487"/>
                      <a:pt x="447340" y="465773"/>
                    </a:cubicBezTo>
                    <a:cubicBezTo>
                      <a:pt x="442578" y="462915"/>
                      <a:pt x="438768" y="460057"/>
                      <a:pt x="434005" y="457200"/>
                    </a:cubicBezTo>
                    <a:cubicBezTo>
                      <a:pt x="430195" y="454343"/>
                      <a:pt x="426385" y="452437"/>
                      <a:pt x="422575" y="449580"/>
                    </a:cubicBezTo>
                    <a:cubicBezTo>
                      <a:pt x="418765" y="446723"/>
                      <a:pt x="414003" y="443865"/>
                      <a:pt x="410193" y="441007"/>
                    </a:cubicBezTo>
                    <a:cubicBezTo>
                      <a:pt x="410193" y="441007"/>
                      <a:pt x="410193" y="441007"/>
                      <a:pt x="410193" y="441007"/>
                    </a:cubicBezTo>
                    <a:cubicBezTo>
                      <a:pt x="407335" y="441007"/>
                      <a:pt x="405430" y="441007"/>
                      <a:pt x="402573" y="441960"/>
                    </a:cubicBezTo>
                    <a:cubicBezTo>
                      <a:pt x="385428" y="443865"/>
                      <a:pt x="371140" y="454343"/>
                      <a:pt x="358758" y="467678"/>
                    </a:cubicBezTo>
                    <a:cubicBezTo>
                      <a:pt x="351138" y="475298"/>
                      <a:pt x="344470" y="484823"/>
                      <a:pt x="338755" y="493395"/>
                    </a:cubicBezTo>
                    <a:cubicBezTo>
                      <a:pt x="312085" y="533400"/>
                      <a:pt x="288273" y="576262"/>
                      <a:pt x="269223" y="620078"/>
                    </a:cubicBezTo>
                    <a:cubicBezTo>
                      <a:pt x="265413" y="629603"/>
                      <a:pt x="261603" y="639128"/>
                      <a:pt x="257793" y="648653"/>
                    </a:cubicBezTo>
                    <a:cubicBezTo>
                      <a:pt x="253983" y="659130"/>
                      <a:pt x="249220" y="670560"/>
                      <a:pt x="245410" y="681990"/>
                    </a:cubicBezTo>
                    <a:cubicBezTo>
                      <a:pt x="240648" y="694373"/>
                      <a:pt x="236838" y="707707"/>
                      <a:pt x="233028" y="721043"/>
                    </a:cubicBezTo>
                    <a:cubicBezTo>
                      <a:pt x="340660" y="773430"/>
                      <a:pt x="448293" y="826770"/>
                      <a:pt x="555925" y="879157"/>
                    </a:cubicBezTo>
                    <a:cubicBezTo>
                      <a:pt x="559735" y="881062"/>
                      <a:pt x="563545" y="882968"/>
                      <a:pt x="568308" y="884873"/>
                    </a:cubicBezTo>
                    <a:cubicBezTo>
                      <a:pt x="610218" y="902970"/>
                      <a:pt x="650223" y="922973"/>
                      <a:pt x="691180" y="942975"/>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014" name="Graphic 2" descr=""/>
              <p:cNvPicPr/>
              <p:nvPr/>
            </p:nvPicPr>
            <p:blipFill>
              <a:blip r:embed="rId2"/>
              <a:stretch/>
            </p:blipFill>
            <p:spPr>
              <a:xfrm>
                <a:off x="1243800" y="2316600"/>
                <a:ext cx="713520" cy="518040"/>
              </a:xfrm>
              <a:prstGeom prst="rect">
                <a:avLst/>
              </a:prstGeom>
              <a:ln w="0">
                <a:noFill/>
              </a:ln>
            </p:spPr>
          </p:pic>
          <p:sp>
            <p:nvSpPr>
              <p:cNvPr id="1015" name="Freeform: Shape 79"/>
              <p:cNvSpPr/>
              <p:nvPr/>
            </p:nvSpPr>
            <p:spPr>
              <a:xfrm>
                <a:off x="1123560" y="2316600"/>
                <a:ext cx="895680" cy="776520"/>
              </a:xfrm>
              <a:custGeom>
                <a:avLst/>
                <a:gdLst/>
                <a:ahLst/>
                <a:rect l="l" t="t" r="r" b="b"/>
                <a:pathLst>
                  <a:path w="1205557" h="1045950">
                    <a:moveTo>
                      <a:pt x="1197293" y="232410"/>
                    </a:moveTo>
                    <a:cubicBezTo>
                      <a:pt x="1173480" y="333375"/>
                      <a:pt x="1126808" y="426720"/>
                      <a:pt x="1081088" y="520065"/>
                    </a:cubicBezTo>
                    <a:cubicBezTo>
                      <a:pt x="1057275" y="567690"/>
                      <a:pt x="1033463" y="616268"/>
                      <a:pt x="1001078" y="659130"/>
                    </a:cubicBezTo>
                    <a:cubicBezTo>
                      <a:pt x="968693" y="701993"/>
                      <a:pt x="929640" y="738188"/>
                      <a:pt x="899160" y="782955"/>
                    </a:cubicBezTo>
                    <a:cubicBezTo>
                      <a:pt x="856298" y="844868"/>
                      <a:pt x="834390" y="918210"/>
                      <a:pt x="799148" y="984885"/>
                    </a:cubicBezTo>
                    <a:cubicBezTo>
                      <a:pt x="789623" y="1003935"/>
                      <a:pt x="778193" y="1022985"/>
                      <a:pt x="760095" y="1034415"/>
                    </a:cubicBezTo>
                    <a:cubicBezTo>
                      <a:pt x="721043" y="1059180"/>
                      <a:pt x="669607" y="1039177"/>
                      <a:pt x="627698" y="1020127"/>
                    </a:cubicBezTo>
                    <a:cubicBezTo>
                      <a:pt x="442913" y="933450"/>
                      <a:pt x="252413" y="862013"/>
                      <a:pt x="60960" y="792480"/>
                    </a:cubicBezTo>
                    <a:cubicBezTo>
                      <a:pt x="40958" y="782955"/>
                      <a:pt x="20955" y="772477"/>
                      <a:pt x="0" y="762952"/>
                    </a:cubicBezTo>
                    <a:cubicBezTo>
                      <a:pt x="6668" y="739140"/>
                      <a:pt x="15240" y="714375"/>
                      <a:pt x="23813" y="691515"/>
                    </a:cubicBezTo>
                    <a:cubicBezTo>
                      <a:pt x="42863" y="642938"/>
                      <a:pt x="66675" y="595313"/>
                      <a:pt x="95250" y="551497"/>
                    </a:cubicBezTo>
                    <a:cubicBezTo>
                      <a:pt x="99060" y="545783"/>
                      <a:pt x="101918" y="541020"/>
                      <a:pt x="105727" y="536258"/>
                    </a:cubicBezTo>
                    <a:cubicBezTo>
                      <a:pt x="111443" y="527685"/>
                      <a:pt x="118110" y="519113"/>
                      <a:pt x="124777" y="511492"/>
                    </a:cubicBezTo>
                    <a:cubicBezTo>
                      <a:pt x="124777" y="511492"/>
                      <a:pt x="125730" y="510540"/>
                      <a:pt x="125730" y="510540"/>
                    </a:cubicBezTo>
                    <a:cubicBezTo>
                      <a:pt x="139065" y="496252"/>
                      <a:pt x="155258" y="484822"/>
                      <a:pt x="174308" y="483870"/>
                    </a:cubicBezTo>
                    <a:cubicBezTo>
                      <a:pt x="175260" y="483870"/>
                      <a:pt x="176213" y="483870"/>
                      <a:pt x="177165" y="483870"/>
                    </a:cubicBezTo>
                    <a:cubicBezTo>
                      <a:pt x="177165" y="483870"/>
                      <a:pt x="177165" y="483870"/>
                      <a:pt x="177165" y="483870"/>
                    </a:cubicBezTo>
                    <a:cubicBezTo>
                      <a:pt x="209550" y="505777"/>
                      <a:pt x="241935" y="526733"/>
                      <a:pt x="276225" y="546735"/>
                    </a:cubicBezTo>
                    <a:cubicBezTo>
                      <a:pt x="298133" y="559118"/>
                      <a:pt x="320993" y="571500"/>
                      <a:pt x="343853" y="582930"/>
                    </a:cubicBezTo>
                    <a:cubicBezTo>
                      <a:pt x="353378" y="587693"/>
                      <a:pt x="362903" y="592455"/>
                      <a:pt x="372428" y="597218"/>
                    </a:cubicBezTo>
                    <a:cubicBezTo>
                      <a:pt x="373380" y="597218"/>
                      <a:pt x="373380" y="598170"/>
                      <a:pt x="374333" y="598170"/>
                    </a:cubicBezTo>
                    <a:cubicBezTo>
                      <a:pt x="377190" y="599122"/>
                      <a:pt x="380048" y="601027"/>
                      <a:pt x="381953" y="601980"/>
                    </a:cubicBezTo>
                    <a:cubicBezTo>
                      <a:pt x="386715" y="603885"/>
                      <a:pt x="391478" y="606743"/>
                      <a:pt x="396240" y="608647"/>
                    </a:cubicBezTo>
                    <a:cubicBezTo>
                      <a:pt x="410528" y="615315"/>
                      <a:pt x="425768" y="621983"/>
                      <a:pt x="441008" y="628650"/>
                    </a:cubicBezTo>
                    <a:cubicBezTo>
                      <a:pt x="443865" y="629602"/>
                      <a:pt x="446723" y="631508"/>
                      <a:pt x="449580" y="632460"/>
                    </a:cubicBezTo>
                    <a:cubicBezTo>
                      <a:pt x="470535" y="641033"/>
                      <a:pt x="492443" y="649605"/>
                      <a:pt x="514350" y="658177"/>
                    </a:cubicBezTo>
                    <a:cubicBezTo>
                      <a:pt x="521970" y="661035"/>
                      <a:pt x="616268" y="695325"/>
                      <a:pt x="651510" y="698183"/>
                    </a:cubicBezTo>
                    <a:cubicBezTo>
                      <a:pt x="670560" y="673418"/>
                      <a:pt x="689610" y="645795"/>
                      <a:pt x="707707" y="617220"/>
                    </a:cubicBezTo>
                    <a:cubicBezTo>
                      <a:pt x="740093" y="564833"/>
                      <a:pt x="769620" y="505777"/>
                      <a:pt x="792480" y="448627"/>
                    </a:cubicBezTo>
                    <a:cubicBezTo>
                      <a:pt x="797243" y="437197"/>
                      <a:pt x="801053" y="426720"/>
                      <a:pt x="804863" y="415290"/>
                    </a:cubicBezTo>
                    <a:cubicBezTo>
                      <a:pt x="807720" y="407670"/>
                      <a:pt x="809625" y="401002"/>
                      <a:pt x="812482" y="393383"/>
                    </a:cubicBezTo>
                    <a:cubicBezTo>
                      <a:pt x="816293" y="382905"/>
                      <a:pt x="819150" y="371475"/>
                      <a:pt x="822007" y="360997"/>
                    </a:cubicBezTo>
                    <a:cubicBezTo>
                      <a:pt x="822960" y="359092"/>
                      <a:pt x="822960" y="357188"/>
                      <a:pt x="823913" y="355282"/>
                    </a:cubicBezTo>
                    <a:cubicBezTo>
                      <a:pt x="823913" y="354330"/>
                      <a:pt x="824865" y="353378"/>
                      <a:pt x="824865" y="352425"/>
                    </a:cubicBezTo>
                    <a:cubicBezTo>
                      <a:pt x="826770" y="343853"/>
                      <a:pt x="828675" y="334328"/>
                      <a:pt x="829628" y="324803"/>
                    </a:cubicBezTo>
                    <a:cubicBezTo>
                      <a:pt x="829628" y="322897"/>
                      <a:pt x="829628" y="320040"/>
                      <a:pt x="830580" y="318135"/>
                    </a:cubicBezTo>
                    <a:cubicBezTo>
                      <a:pt x="831532" y="302895"/>
                      <a:pt x="828675" y="286703"/>
                      <a:pt x="826770" y="271463"/>
                    </a:cubicBezTo>
                    <a:cubicBezTo>
                      <a:pt x="826770" y="269557"/>
                      <a:pt x="826770" y="267653"/>
                      <a:pt x="826770" y="265747"/>
                    </a:cubicBezTo>
                    <a:cubicBezTo>
                      <a:pt x="826770" y="262890"/>
                      <a:pt x="826770" y="260985"/>
                      <a:pt x="826770" y="258127"/>
                    </a:cubicBezTo>
                    <a:cubicBezTo>
                      <a:pt x="826770" y="226695"/>
                      <a:pt x="832485" y="195263"/>
                      <a:pt x="841057" y="164782"/>
                    </a:cubicBezTo>
                    <a:cubicBezTo>
                      <a:pt x="842010" y="161925"/>
                      <a:pt x="842963" y="159067"/>
                      <a:pt x="842963" y="157163"/>
                    </a:cubicBezTo>
                    <a:cubicBezTo>
                      <a:pt x="852488" y="154305"/>
                      <a:pt x="862965" y="151447"/>
                      <a:pt x="871538" y="151447"/>
                    </a:cubicBezTo>
                    <a:cubicBezTo>
                      <a:pt x="875348" y="146685"/>
                      <a:pt x="878205" y="141922"/>
                      <a:pt x="882015" y="136207"/>
                    </a:cubicBezTo>
                    <a:cubicBezTo>
                      <a:pt x="882015" y="136207"/>
                      <a:pt x="882015" y="136207"/>
                      <a:pt x="882015" y="136207"/>
                    </a:cubicBezTo>
                    <a:cubicBezTo>
                      <a:pt x="882968" y="134302"/>
                      <a:pt x="883920" y="133350"/>
                      <a:pt x="884873" y="131445"/>
                    </a:cubicBezTo>
                    <a:cubicBezTo>
                      <a:pt x="885825" y="129540"/>
                      <a:pt x="887730" y="127635"/>
                      <a:pt x="888682" y="124777"/>
                    </a:cubicBezTo>
                    <a:cubicBezTo>
                      <a:pt x="890588" y="121920"/>
                      <a:pt x="891540" y="120015"/>
                      <a:pt x="893445" y="117157"/>
                    </a:cubicBezTo>
                    <a:cubicBezTo>
                      <a:pt x="893445" y="116205"/>
                      <a:pt x="894398" y="116205"/>
                      <a:pt x="894398" y="115252"/>
                    </a:cubicBezTo>
                    <a:cubicBezTo>
                      <a:pt x="895350" y="113347"/>
                      <a:pt x="897255" y="110490"/>
                      <a:pt x="898207" y="108585"/>
                    </a:cubicBezTo>
                    <a:cubicBezTo>
                      <a:pt x="898207" y="107632"/>
                      <a:pt x="899160" y="106680"/>
                      <a:pt x="899160" y="106680"/>
                    </a:cubicBezTo>
                    <a:cubicBezTo>
                      <a:pt x="900113" y="104775"/>
                      <a:pt x="901065" y="102870"/>
                      <a:pt x="902018" y="100965"/>
                    </a:cubicBezTo>
                    <a:cubicBezTo>
                      <a:pt x="902970" y="99060"/>
                      <a:pt x="903923" y="97155"/>
                      <a:pt x="904875" y="95250"/>
                    </a:cubicBezTo>
                    <a:cubicBezTo>
                      <a:pt x="905828" y="93345"/>
                      <a:pt x="906780" y="90488"/>
                      <a:pt x="908685" y="88582"/>
                    </a:cubicBezTo>
                    <a:cubicBezTo>
                      <a:pt x="909638" y="85725"/>
                      <a:pt x="911543" y="82867"/>
                      <a:pt x="912495" y="80010"/>
                    </a:cubicBezTo>
                    <a:cubicBezTo>
                      <a:pt x="913448" y="77152"/>
                      <a:pt x="915353" y="74295"/>
                      <a:pt x="916305" y="71438"/>
                    </a:cubicBezTo>
                    <a:cubicBezTo>
                      <a:pt x="917257" y="68580"/>
                      <a:pt x="919163" y="65722"/>
                      <a:pt x="920115" y="61913"/>
                    </a:cubicBezTo>
                    <a:cubicBezTo>
                      <a:pt x="921068" y="60007"/>
                      <a:pt x="922020" y="57150"/>
                      <a:pt x="922973" y="55245"/>
                    </a:cubicBezTo>
                    <a:cubicBezTo>
                      <a:pt x="923925" y="53340"/>
                      <a:pt x="923925" y="52388"/>
                      <a:pt x="924878" y="50482"/>
                    </a:cubicBezTo>
                    <a:cubicBezTo>
                      <a:pt x="925830" y="48577"/>
                      <a:pt x="925830" y="46672"/>
                      <a:pt x="926782" y="44767"/>
                    </a:cubicBezTo>
                    <a:cubicBezTo>
                      <a:pt x="927735" y="42863"/>
                      <a:pt x="927735" y="40957"/>
                      <a:pt x="928688" y="39052"/>
                    </a:cubicBezTo>
                    <a:cubicBezTo>
                      <a:pt x="928688" y="38100"/>
                      <a:pt x="929640" y="36195"/>
                      <a:pt x="929640" y="35242"/>
                    </a:cubicBezTo>
                    <a:cubicBezTo>
                      <a:pt x="929640" y="34290"/>
                      <a:pt x="929640" y="34290"/>
                      <a:pt x="930593" y="33338"/>
                    </a:cubicBezTo>
                    <a:cubicBezTo>
                      <a:pt x="931545" y="31432"/>
                      <a:pt x="931545" y="29527"/>
                      <a:pt x="932498" y="27622"/>
                    </a:cubicBezTo>
                    <a:cubicBezTo>
                      <a:pt x="932498" y="26670"/>
                      <a:pt x="932498" y="25717"/>
                      <a:pt x="933450" y="25717"/>
                    </a:cubicBezTo>
                    <a:cubicBezTo>
                      <a:pt x="934403" y="22860"/>
                      <a:pt x="934403" y="20955"/>
                      <a:pt x="935355" y="18097"/>
                    </a:cubicBezTo>
                    <a:cubicBezTo>
                      <a:pt x="936307" y="15240"/>
                      <a:pt x="936307" y="13335"/>
                      <a:pt x="937260" y="10477"/>
                    </a:cubicBezTo>
                    <a:cubicBezTo>
                      <a:pt x="937260" y="9525"/>
                      <a:pt x="937260" y="8572"/>
                      <a:pt x="938213" y="7620"/>
                    </a:cubicBezTo>
                    <a:cubicBezTo>
                      <a:pt x="939165" y="4763"/>
                      <a:pt x="939165" y="2857"/>
                      <a:pt x="940118" y="0"/>
                    </a:cubicBezTo>
                    <a:cubicBezTo>
                      <a:pt x="942975" y="952"/>
                      <a:pt x="944880" y="1905"/>
                      <a:pt x="947738" y="3810"/>
                    </a:cubicBezTo>
                    <a:cubicBezTo>
                      <a:pt x="980123" y="19050"/>
                      <a:pt x="1016318" y="29527"/>
                      <a:pt x="1051560" y="39052"/>
                    </a:cubicBezTo>
                    <a:cubicBezTo>
                      <a:pt x="1058228" y="40957"/>
                      <a:pt x="1063943" y="42863"/>
                      <a:pt x="1070610" y="44767"/>
                    </a:cubicBezTo>
                    <a:cubicBezTo>
                      <a:pt x="1077278" y="46672"/>
                      <a:pt x="1082993" y="48577"/>
                      <a:pt x="1089660" y="50482"/>
                    </a:cubicBezTo>
                    <a:cubicBezTo>
                      <a:pt x="1090613" y="50482"/>
                      <a:pt x="1092518" y="51435"/>
                      <a:pt x="1093470" y="51435"/>
                    </a:cubicBezTo>
                    <a:cubicBezTo>
                      <a:pt x="1097280" y="52388"/>
                      <a:pt x="1100138" y="53340"/>
                      <a:pt x="1103948" y="55245"/>
                    </a:cubicBezTo>
                    <a:cubicBezTo>
                      <a:pt x="1107758" y="56197"/>
                      <a:pt x="1111568" y="58102"/>
                      <a:pt x="1115378" y="59055"/>
                    </a:cubicBezTo>
                    <a:cubicBezTo>
                      <a:pt x="1119188" y="60007"/>
                      <a:pt x="1122998" y="61913"/>
                      <a:pt x="1126808" y="62865"/>
                    </a:cubicBezTo>
                    <a:cubicBezTo>
                      <a:pt x="1138238" y="66675"/>
                      <a:pt x="1148715" y="71438"/>
                      <a:pt x="1159193" y="76200"/>
                    </a:cubicBezTo>
                    <a:cubicBezTo>
                      <a:pt x="1146810" y="77152"/>
                      <a:pt x="1150620" y="84772"/>
                      <a:pt x="1165860" y="94297"/>
                    </a:cubicBezTo>
                    <a:cubicBezTo>
                      <a:pt x="1183005" y="105727"/>
                      <a:pt x="1196340" y="121920"/>
                      <a:pt x="1203008" y="141922"/>
                    </a:cubicBezTo>
                    <a:cubicBezTo>
                      <a:pt x="1208723" y="169545"/>
                      <a:pt x="1203960" y="201930"/>
                      <a:pt x="1197293" y="23241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16" name="Freeform: Shape 80"/>
              <p:cNvSpPr/>
              <p:nvPr/>
            </p:nvSpPr>
            <p:spPr>
              <a:xfrm>
                <a:off x="1393920" y="2389320"/>
                <a:ext cx="215280" cy="332280"/>
              </a:xfrm>
              <a:custGeom>
                <a:avLst/>
                <a:gdLst/>
                <a:ahLst/>
                <a:rect l="l" t="t" r="r" b="b"/>
                <a:pathLst>
                  <a:path w="289844" h="447675">
                    <a:moveTo>
                      <a:pt x="289845" y="102870"/>
                    </a:moveTo>
                    <a:cubicBezTo>
                      <a:pt x="201262" y="213360"/>
                      <a:pt x="115537" y="327660"/>
                      <a:pt x="40290" y="447675"/>
                    </a:cubicBezTo>
                    <a:cubicBezTo>
                      <a:pt x="37432" y="436245"/>
                      <a:pt x="32670" y="425768"/>
                      <a:pt x="23145" y="417195"/>
                    </a:cubicBezTo>
                    <a:cubicBezTo>
                      <a:pt x="17430" y="411480"/>
                      <a:pt x="9810" y="408623"/>
                      <a:pt x="3142" y="404813"/>
                    </a:cubicBezTo>
                    <a:cubicBezTo>
                      <a:pt x="-1620" y="306705"/>
                      <a:pt x="-5430" y="208598"/>
                      <a:pt x="26955" y="117158"/>
                    </a:cubicBezTo>
                    <a:cubicBezTo>
                      <a:pt x="34575" y="96202"/>
                      <a:pt x="43147" y="76200"/>
                      <a:pt x="53625" y="56198"/>
                    </a:cubicBezTo>
                    <a:cubicBezTo>
                      <a:pt x="47910" y="79058"/>
                      <a:pt x="44100" y="102870"/>
                      <a:pt x="44100" y="126683"/>
                    </a:cubicBezTo>
                    <a:cubicBezTo>
                      <a:pt x="88867" y="91440"/>
                      <a:pt x="123157" y="51435"/>
                      <a:pt x="151732" y="0"/>
                    </a:cubicBezTo>
                    <a:cubicBezTo>
                      <a:pt x="158400" y="7620"/>
                      <a:pt x="166972" y="14288"/>
                      <a:pt x="175545" y="19050"/>
                    </a:cubicBezTo>
                    <a:cubicBezTo>
                      <a:pt x="181260" y="15240"/>
                      <a:pt x="186022" y="11430"/>
                      <a:pt x="190785" y="7620"/>
                    </a:cubicBezTo>
                    <a:cubicBezTo>
                      <a:pt x="190785" y="7620"/>
                      <a:pt x="191737" y="7620"/>
                      <a:pt x="191737" y="8573"/>
                    </a:cubicBezTo>
                    <a:cubicBezTo>
                      <a:pt x="191737" y="8573"/>
                      <a:pt x="191737" y="9525"/>
                      <a:pt x="191737" y="9525"/>
                    </a:cubicBezTo>
                    <a:cubicBezTo>
                      <a:pt x="204120" y="24765"/>
                      <a:pt x="215550" y="40005"/>
                      <a:pt x="226027" y="59055"/>
                    </a:cubicBezTo>
                    <a:cubicBezTo>
                      <a:pt x="236505" y="77152"/>
                      <a:pt x="247935" y="98108"/>
                      <a:pt x="261270" y="126683"/>
                    </a:cubicBezTo>
                    <a:cubicBezTo>
                      <a:pt x="272700" y="120015"/>
                      <a:pt x="281272" y="111443"/>
                      <a:pt x="289845" y="102870"/>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17" name="Freeform: Shape 81"/>
              <p:cNvSpPr/>
              <p:nvPr/>
            </p:nvSpPr>
            <p:spPr>
              <a:xfrm>
                <a:off x="1168920" y="2371680"/>
                <a:ext cx="879480" cy="768600"/>
              </a:xfrm>
              <a:custGeom>
                <a:avLst/>
                <a:gdLst/>
                <a:ahLst/>
                <a:rect l="l" t="t" r="r" b="b"/>
                <a:pathLst>
                  <a:path w="1183630" h="1035098">
                    <a:moveTo>
                      <a:pt x="1178243" y="123825"/>
                    </a:moveTo>
                    <a:cubicBezTo>
                      <a:pt x="1103948" y="385763"/>
                      <a:pt x="1019175" y="574357"/>
                      <a:pt x="866775" y="789623"/>
                    </a:cubicBezTo>
                    <a:cubicBezTo>
                      <a:pt x="865822" y="793432"/>
                      <a:pt x="864870" y="796290"/>
                      <a:pt x="863918" y="800100"/>
                    </a:cubicBezTo>
                    <a:cubicBezTo>
                      <a:pt x="838200" y="883920"/>
                      <a:pt x="774383" y="965835"/>
                      <a:pt x="732472" y="1003935"/>
                    </a:cubicBezTo>
                    <a:cubicBezTo>
                      <a:pt x="719138" y="1016318"/>
                      <a:pt x="704850" y="1027748"/>
                      <a:pt x="687705" y="1032510"/>
                    </a:cubicBezTo>
                    <a:cubicBezTo>
                      <a:pt x="657225" y="1041082"/>
                      <a:pt x="625793" y="1026795"/>
                      <a:pt x="598170" y="1012507"/>
                    </a:cubicBezTo>
                    <a:cubicBezTo>
                      <a:pt x="530543" y="979170"/>
                      <a:pt x="462915" y="946785"/>
                      <a:pt x="396240" y="913448"/>
                    </a:cubicBezTo>
                    <a:cubicBezTo>
                      <a:pt x="355283" y="893445"/>
                      <a:pt x="315278" y="873443"/>
                      <a:pt x="274320" y="853440"/>
                    </a:cubicBezTo>
                    <a:cubicBezTo>
                      <a:pt x="182880" y="808673"/>
                      <a:pt x="91440" y="763905"/>
                      <a:pt x="0" y="719138"/>
                    </a:cubicBezTo>
                    <a:cubicBezTo>
                      <a:pt x="191452" y="788670"/>
                      <a:pt x="382905" y="861060"/>
                      <a:pt x="566738" y="946785"/>
                    </a:cubicBezTo>
                    <a:cubicBezTo>
                      <a:pt x="608647" y="966788"/>
                      <a:pt x="660083" y="986790"/>
                      <a:pt x="699135" y="961073"/>
                    </a:cubicBezTo>
                    <a:cubicBezTo>
                      <a:pt x="717233" y="949643"/>
                      <a:pt x="728663" y="930593"/>
                      <a:pt x="738188" y="911543"/>
                    </a:cubicBezTo>
                    <a:cubicBezTo>
                      <a:pt x="772478" y="844868"/>
                      <a:pt x="795338" y="771525"/>
                      <a:pt x="838200" y="709613"/>
                    </a:cubicBezTo>
                    <a:cubicBezTo>
                      <a:pt x="868680" y="665798"/>
                      <a:pt x="907733" y="628650"/>
                      <a:pt x="940118" y="585788"/>
                    </a:cubicBezTo>
                    <a:cubicBezTo>
                      <a:pt x="972503" y="542925"/>
                      <a:pt x="996315" y="494348"/>
                      <a:pt x="1020128" y="446723"/>
                    </a:cubicBezTo>
                    <a:cubicBezTo>
                      <a:pt x="1065848" y="354330"/>
                      <a:pt x="1112520" y="260033"/>
                      <a:pt x="1136333" y="159068"/>
                    </a:cubicBezTo>
                    <a:cubicBezTo>
                      <a:pt x="1143953" y="128588"/>
                      <a:pt x="1148715" y="96202"/>
                      <a:pt x="1139190" y="65723"/>
                    </a:cubicBezTo>
                    <a:cubicBezTo>
                      <a:pt x="1133475" y="45720"/>
                      <a:pt x="1120140" y="29527"/>
                      <a:pt x="1102043" y="18098"/>
                    </a:cubicBezTo>
                    <a:cubicBezTo>
                      <a:pt x="1086803" y="8573"/>
                      <a:pt x="1083945" y="952"/>
                      <a:pt x="1095375" y="0"/>
                    </a:cubicBezTo>
                    <a:cubicBezTo>
                      <a:pt x="1115378" y="9525"/>
                      <a:pt x="1133475" y="20002"/>
                      <a:pt x="1150620" y="34290"/>
                    </a:cubicBezTo>
                    <a:cubicBezTo>
                      <a:pt x="1151573" y="34290"/>
                      <a:pt x="1151573" y="35243"/>
                      <a:pt x="1152525" y="35243"/>
                    </a:cubicBezTo>
                    <a:cubicBezTo>
                      <a:pt x="1166813" y="46673"/>
                      <a:pt x="1179195" y="61913"/>
                      <a:pt x="1182053" y="79058"/>
                    </a:cubicBezTo>
                    <a:cubicBezTo>
                      <a:pt x="1185863" y="94298"/>
                      <a:pt x="1182053" y="109538"/>
                      <a:pt x="1178243" y="123825"/>
                    </a:cubicBezTo>
                    <a:close/>
                  </a:path>
                </a:pathLst>
              </a:custGeom>
              <a:noFill/>
              <a:ln w="936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18" name="Freeform: Shape 82"/>
              <p:cNvSpPr/>
              <p:nvPr/>
            </p:nvSpPr>
            <p:spPr>
              <a:xfrm>
                <a:off x="1428840" y="2273040"/>
                <a:ext cx="120240" cy="211680"/>
              </a:xfrm>
              <a:custGeom>
                <a:avLst/>
                <a:gdLst/>
                <a:ahLst/>
                <a:rect l="l" t="t" r="r" b="b"/>
                <a:pathLst>
                  <a:path w="161925" h="285273">
                    <a:moveTo>
                      <a:pt x="161925" y="150019"/>
                    </a:moveTo>
                    <a:cubicBezTo>
                      <a:pt x="155258" y="154781"/>
                      <a:pt x="150495" y="160496"/>
                      <a:pt x="148590" y="165259"/>
                    </a:cubicBezTo>
                    <a:cubicBezTo>
                      <a:pt x="147638" y="165259"/>
                      <a:pt x="147638" y="166211"/>
                      <a:pt x="146685" y="166211"/>
                    </a:cubicBezTo>
                    <a:cubicBezTo>
                      <a:pt x="141923" y="170021"/>
                      <a:pt x="136208" y="173831"/>
                      <a:pt x="131445" y="177641"/>
                    </a:cubicBezTo>
                    <a:cubicBezTo>
                      <a:pt x="122873" y="171926"/>
                      <a:pt x="114300" y="166211"/>
                      <a:pt x="107633" y="158591"/>
                    </a:cubicBezTo>
                    <a:cubicBezTo>
                      <a:pt x="79058" y="210026"/>
                      <a:pt x="44768" y="250031"/>
                      <a:pt x="0" y="285274"/>
                    </a:cubicBezTo>
                    <a:cubicBezTo>
                      <a:pt x="0" y="261461"/>
                      <a:pt x="3810" y="237649"/>
                      <a:pt x="9525" y="214789"/>
                    </a:cubicBezTo>
                    <a:cubicBezTo>
                      <a:pt x="15240" y="192881"/>
                      <a:pt x="22860" y="170974"/>
                      <a:pt x="31433" y="150019"/>
                    </a:cubicBezTo>
                    <a:cubicBezTo>
                      <a:pt x="32385" y="147161"/>
                      <a:pt x="34290" y="143351"/>
                      <a:pt x="35243" y="140494"/>
                    </a:cubicBezTo>
                    <a:cubicBezTo>
                      <a:pt x="41910" y="126206"/>
                      <a:pt x="49530" y="110966"/>
                      <a:pt x="57150" y="96679"/>
                    </a:cubicBezTo>
                    <a:cubicBezTo>
                      <a:pt x="58103" y="94774"/>
                      <a:pt x="60008" y="91916"/>
                      <a:pt x="60960" y="90011"/>
                    </a:cubicBezTo>
                    <a:cubicBezTo>
                      <a:pt x="61913" y="88106"/>
                      <a:pt x="62865" y="85249"/>
                      <a:pt x="64770" y="83344"/>
                    </a:cubicBezTo>
                    <a:cubicBezTo>
                      <a:pt x="64770" y="82391"/>
                      <a:pt x="65723" y="82391"/>
                      <a:pt x="65723" y="81439"/>
                    </a:cubicBezTo>
                    <a:cubicBezTo>
                      <a:pt x="68580" y="76676"/>
                      <a:pt x="70485" y="72866"/>
                      <a:pt x="73343" y="68104"/>
                    </a:cubicBezTo>
                    <a:cubicBezTo>
                      <a:pt x="81915" y="53816"/>
                      <a:pt x="89535" y="40481"/>
                      <a:pt x="98108" y="26194"/>
                    </a:cubicBezTo>
                    <a:cubicBezTo>
                      <a:pt x="100965" y="21431"/>
                      <a:pt x="108585" y="7144"/>
                      <a:pt x="115253" y="2381"/>
                    </a:cubicBezTo>
                    <a:cubicBezTo>
                      <a:pt x="119063" y="-476"/>
                      <a:pt x="122873" y="-1429"/>
                      <a:pt x="125730" y="3334"/>
                    </a:cubicBezTo>
                    <a:cubicBezTo>
                      <a:pt x="128588" y="8096"/>
                      <a:pt x="126683" y="23336"/>
                      <a:pt x="126683" y="29051"/>
                    </a:cubicBezTo>
                    <a:cubicBezTo>
                      <a:pt x="127635" y="37624"/>
                      <a:pt x="128588" y="46196"/>
                      <a:pt x="130493" y="54769"/>
                    </a:cubicBezTo>
                    <a:cubicBezTo>
                      <a:pt x="133350" y="71914"/>
                      <a:pt x="138113" y="89059"/>
                      <a:pt x="143828" y="106204"/>
                    </a:cubicBezTo>
                    <a:cubicBezTo>
                      <a:pt x="143828" y="110014"/>
                      <a:pt x="158115" y="140494"/>
                      <a:pt x="161925" y="150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19" name="Freeform: Shape 83"/>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313c3f"/>
                  </a:solidFill>
                  <a:latin typeface="Source Sans Pro"/>
                </a:endParaRPr>
              </a:p>
            </p:txBody>
          </p:sp>
          <p:sp>
            <p:nvSpPr>
              <p:cNvPr id="1020" name="Freeform: Shape 84"/>
              <p:cNvSpPr/>
              <p:nvPr/>
            </p:nvSpPr>
            <p:spPr>
              <a:xfrm>
                <a:off x="1417320" y="1863000"/>
                <a:ext cx="397080" cy="432000"/>
              </a:xfrm>
              <a:custGeom>
                <a:avLst/>
                <a:gdLst/>
                <a:ahLst/>
                <a:rect l="l" t="t" r="r" b="b"/>
                <a:pathLst>
                  <a:path w="534463" h="581967">
                    <a:moveTo>
                      <a:pt x="529642" y="251460"/>
                    </a:moveTo>
                    <a:cubicBezTo>
                      <a:pt x="524879" y="270510"/>
                      <a:pt x="522022" y="289560"/>
                      <a:pt x="519164" y="308610"/>
                    </a:cubicBezTo>
                    <a:cubicBezTo>
                      <a:pt x="517259" y="324803"/>
                      <a:pt x="517259" y="340995"/>
                      <a:pt x="509639" y="355283"/>
                    </a:cubicBezTo>
                    <a:cubicBezTo>
                      <a:pt x="508687" y="357188"/>
                      <a:pt x="506782" y="360045"/>
                      <a:pt x="504877" y="361950"/>
                    </a:cubicBezTo>
                    <a:cubicBezTo>
                      <a:pt x="501067" y="364808"/>
                      <a:pt x="495352" y="363855"/>
                      <a:pt x="491542" y="360997"/>
                    </a:cubicBezTo>
                    <a:cubicBezTo>
                      <a:pt x="487732" y="358140"/>
                      <a:pt x="484874" y="354330"/>
                      <a:pt x="482969" y="350520"/>
                    </a:cubicBezTo>
                    <a:cubicBezTo>
                      <a:pt x="482969" y="350520"/>
                      <a:pt x="482969" y="349568"/>
                      <a:pt x="482017" y="349568"/>
                    </a:cubicBezTo>
                    <a:cubicBezTo>
                      <a:pt x="479159" y="380047"/>
                      <a:pt x="462967" y="418147"/>
                      <a:pt x="443917" y="452437"/>
                    </a:cubicBezTo>
                    <a:cubicBezTo>
                      <a:pt x="421057" y="493395"/>
                      <a:pt x="395339" y="528637"/>
                      <a:pt x="383909" y="539115"/>
                    </a:cubicBezTo>
                    <a:cubicBezTo>
                      <a:pt x="327712" y="592455"/>
                      <a:pt x="287707" y="579120"/>
                      <a:pt x="273419" y="580073"/>
                    </a:cubicBezTo>
                    <a:cubicBezTo>
                      <a:pt x="222937" y="581978"/>
                      <a:pt x="219127" y="587693"/>
                      <a:pt x="178169" y="561975"/>
                    </a:cubicBezTo>
                    <a:cubicBezTo>
                      <a:pt x="162929" y="552450"/>
                      <a:pt x="142927" y="525780"/>
                      <a:pt x="128639" y="505778"/>
                    </a:cubicBezTo>
                    <a:cubicBezTo>
                      <a:pt x="120067" y="493395"/>
                      <a:pt x="114352" y="483870"/>
                      <a:pt x="113399" y="482918"/>
                    </a:cubicBezTo>
                    <a:cubicBezTo>
                      <a:pt x="92444" y="448628"/>
                      <a:pt x="65774" y="408622"/>
                      <a:pt x="66727" y="369570"/>
                    </a:cubicBezTo>
                    <a:cubicBezTo>
                      <a:pt x="66727" y="367665"/>
                      <a:pt x="66727" y="365760"/>
                      <a:pt x="66727" y="364808"/>
                    </a:cubicBezTo>
                    <a:cubicBezTo>
                      <a:pt x="61964" y="369570"/>
                      <a:pt x="58154" y="375285"/>
                      <a:pt x="52439" y="378143"/>
                    </a:cubicBezTo>
                    <a:cubicBezTo>
                      <a:pt x="46724" y="381000"/>
                      <a:pt x="40057" y="377190"/>
                      <a:pt x="36247" y="373380"/>
                    </a:cubicBezTo>
                    <a:cubicBezTo>
                      <a:pt x="30532" y="367665"/>
                      <a:pt x="27674" y="360045"/>
                      <a:pt x="24817" y="352425"/>
                    </a:cubicBezTo>
                    <a:cubicBezTo>
                      <a:pt x="11482" y="318135"/>
                      <a:pt x="-901" y="281940"/>
                      <a:pt x="52" y="245745"/>
                    </a:cubicBezTo>
                    <a:cubicBezTo>
                      <a:pt x="52" y="240030"/>
                      <a:pt x="6719" y="213360"/>
                      <a:pt x="22912" y="220980"/>
                    </a:cubicBezTo>
                    <a:cubicBezTo>
                      <a:pt x="22912" y="220980"/>
                      <a:pt x="22912" y="220980"/>
                      <a:pt x="23864" y="220980"/>
                    </a:cubicBezTo>
                    <a:cubicBezTo>
                      <a:pt x="29579" y="223838"/>
                      <a:pt x="45772" y="231458"/>
                      <a:pt x="50534" y="243840"/>
                    </a:cubicBezTo>
                    <a:cubicBezTo>
                      <a:pt x="50534" y="243840"/>
                      <a:pt x="50534" y="243840"/>
                      <a:pt x="50534" y="243840"/>
                    </a:cubicBezTo>
                    <a:cubicBezTo>
                      <a:pt x="51487" y="245745"/>
                      <a:pt x="52439" y="248602"/>
                      <a:pt x="52439" y="251460"/>
                    </a:cubicBezTo>
                    <a:cubicBezTo>
                      <a:pt x="59107" y="251460"/>
                      <a:pt x="57202" y="252413"/>
                      <a:pt x="61964" y="251460"/>
                    </a:cubicBezTo>
                    <a:cubicBezTo>
                      <a:pt x="61964" y="251460"/>
                      <a:pt x="61964" y="251460"/>
                      <a:pt x="61964" y="251460"/>
                    </a:cubicBezTo>
                    <a:cubicBezTo>
                      <a:pt x="64822" y="213360"/>
                      <a:pt x="65774" y="159068"/>
                      <a:pt x="64822" y="121920"/>
                    </a:cubicBezTo>
                    <a:cubicBezTo>
                      <a:pt x="99112" y="93345"/>
                      <a:pt x="105779" y="60007"/>
                      <a:pt x="116257" y="16192"/>
                    </a:cubicBezTo>
                    <a:cubicBezTo>
                      <a:pt x="140069" y="19050"/>
                      <a:pt x="161024" y="20955"/>
                      <a:pt x="182932" y="29527"/>
                    </a:cubicBezTo>
                    <a:cubicBezTo>
                      <a:pt x="174359" y="18097"/>
                      <a:pt x="164834" y="8572"/>
                      <a:pt x="153404" y="0"/>
                    </a:cubicBezTo>
                    <a:cubicBezTo>
                      <a:pt x="191504" y="10477"/>
                      <a:pt x="230557" y="20955"/>
                      <a:pt x="269609" y="21907"/>
                    </a:cubicBezTo>
                    <a:cubicBezTo>
                      <a:pt x="288659" y="21907"/>
                      <a:pt x="307709" y="20002"/>
                      <a:pt x="327712" y="17145"/>
                    </a:cubicBezTo>
                    <a:cubicBezTo>
                      <a:pt x="332474" y="16192"/>
                      <a:pt x="337237" y="16192"/>
                      <a:pt x="341047" y="15240"/>
                    </a:cubicBezTo>
                    <a:cubicBezTo>
                      <a:pt x="369622" y="11430"/>
                      <a:pt x="398197" y="7620"/>
                      <a:pt x="426772" y="4763"/>
                    </a:cubicBezTo>
                    <a:cubicBezTo>
                      <a:pt x="438202" y="3810"/>
                      <a:pt x="444869" y="18097"/>
                      <a:pt x="444869" y="29527"/>
                    </a:cubicBezTo>
                    <a:cubicBezTo>
                      <a:pt x="444869" y="40957"/>
                      <a:pt x="442012" y="53340"/>
                      <a:pt x="445822" y="63817"/>
                    </a:cubicBezTo>
                    <a:cubicBezTo>
                      <a:pt x="449632" y="73342"/>
                      <a:pt x="458204" y="80010"/>
                      <a:pt x="462967" y="88582"/>
                    </a:cubicBezTo>
                    <a:cubicBezTo>
                      <a:pt x="466777" y="96202"/>
                      <a:pt x="466777" y="105727"/>
                      <a:pt x="466777" y="114300"/>
                    </a:cubicBezTo>
                    <a:cubicBezTo>
                      <a:pt x="467729" y="159068"/>
                      <a:pt x="468682" y="202883"/>
                      <a:pt x="468682" y="247650"/>
                    </a:cubicBezTo>
                    <a:cubicBezTo>
                      <a:pt x="468682" y="250508"/>
                      <a:pt x="468682" y="252413"/>
                      <a:pt x="468682" y="255270"/>
                    </a:cubicBezTo>
                    <a:cubicBezTo>
                      <a:pt x="468682" y="255270"/>
                      <a:pt x="469634" y="255270"/>
                      <a:pt x="469634" y="255270"/>
                    </a:cubicBezTo>
                    <a:cubicBezTo>
                      <a:pt x="473444" y="254318"/>
                      <a:pt x="477254" y="253365"/>
                      <a:pt x="481064" y="252413"/>
                    </a:cubicBezTo>
                    <a:cubicBezTo>
                      <a:pt x="481064" y="252413"/>
                      <a:pt x="481064" y="252413"/>
                      <a:pt x="482017" y="252413"/>
                    </a:cubicBezTo>
                    <a:cubicBezTo>
                      <a:pt x="482017" y="246697"/>
                      <a:pt x="480112" y="243840"/>
                      <a:pt x="482017" y="239077"/>
                    </a:cubicBezTo>
                    <a:cubicBezTo>
                      <a:pt x="486779" y="229552"/>
                      <a:pt x="492494" y="220027"/>
                      <a:pt x="499162" y="211455"/>
                    </a:cubicBezTo>
                    <a:cubicBezTo>
                      <a:pt x="501067" y="208597"/>
                      <a:pt x="503924" y="205740"/>
                      <a:pt x="506782" y="203835"/>
                    </a:cubicBezTo>
                    <a:cubicBezTo>
                      <a:pt x="510592" y="201930"/>
                      <a:pt x="513449" y="201930"/>
                      <a:pt x="517259" y="202883"/>
                    </a:cubicBezTo>
                    <a:cubicBezTo>
                      <a:pt x="523927" y="204788"/>
                      <a:pt x="530594" y="211455"/>
                      <a:pt x="533452" y="218122"/>
                    </a:cubicBezTo>
                    <a:cubicBezTo>
                      <a:pt x="536309" y="228600"/>
                      <a:pt x="532499" y="240030"/>
                      <a:pt x="529642" y="25146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21" name="Freeform: Shape 85"/>
              <p:cNvSpPr/>
              <p:nvPr/>
            </p:nvSpPr>
            <p:spPr>
              <a:xfrm>
                <a:off x="1421640" y="1740240"/>
                <a:ext cx="380520" cy="311400"/>
              </a:xfrm>
              <a:custGeom>
                <a:avLst/>
                <a:gdLst/>
                <a:ahLst/>
                <a:rect l="l" t="t" r="r" b="b"/>
                <a:pathLst>
                  <a:path w="512438" h="419710">
                    <a:moveTo>
                      <a:pt x="511486" y="350178"/>
                    </a:moveTo>
                    <a:cubicBezTo>
                      <a:pt x="511486" y="355893"/>
                      <a:pt x="511486" y="361608"/>
                      <a:pt x="511486" y="367323"/>
                    </a:cubicBezTo>
                    <a:cubicBezTo>
                      <a:pt x="507676" y="366370"/>
                      <a:pt x="503866" y="366370"/>
                      <a:pt x="501008" y="368275"/>
                    </a:cubicBezTo>
                    <a:cubicBezTo>
                      <a:pt x="498151" y="370180"/>
                      <a:pt x="495293" y="373038"/>
                      <a:pt x="493388" y="375895"/>
                    </a:cubicBezTo>
                    <a:cubicBezTo>
                      <a:pt x="486721" y="384468"/>
                      <a:pt x="481006" y="393993"/>
                      <a:pt x="476243" y="403518"/>
                    </a:cubicBezTo>
                    <a:cubicBezTo>
                      <a:pt x="474338" y="408280"/>
                      <a:pt x="476243" y="412090"/>
                      <a:pt x="476243" y="416853"/>
                    </a:cubicBezTo>
                    <a:cubicBezTo>
                      <a:pt x="472433" y="417805"/>
                      <a:pt x="467671" y="418758"/>
                      <a:pt x="463861" y="419711"/>
                    </a:cubicBezTo>
                    <a:cubicBezTo>
                      <a:pt x="462908" y="373038"/>
                      <a:pt x="461956" y="325413"/>
                      <a:pt x="461956" y="278740"/>
                    </a:cubicBezTo>
                    <a:cubicBezTo>
                      <a:pt x="461956" y="270168"/>
                      <a:pt x="461956" y="260643"/>
                      <a:pt x="458146" y="253023"/>
                    </a:cubicBezTo>
                    <a:cubicBezTo>
                      <a:pt x="453383" y="243498"/>
                      <a:pt x="444811" y="237783"/>
                      <a:pt x="441001" y="228258"/>
                    </a:cubicBezTo>
                    <a:cubicBezTo>
                      <a:pt x="437191" y="217780"/>
                      <a:pt x="440048" y="205398"/>
                      <a:pt x="440048" y="193968"/>
                    </a:cubicBezTo>
                    <a:cubicBezTo>
                      <a:pt x="440048" y="182538"/>
                      <a:pt x="433381" y="167298"/>
                      <a:pt x="421951" y="169203"/>
                    </a:cubicBezTo>
                    <a:cubicBezTo>
                      <a:pt x="388613" y="173013"/>
                      <a:pt x="355276" y="177775"/>
                      <a:pt x="322891" y="181585"/>
                    </a:cubicBezTo>
                    <a:cubicBezTo>
                      <a:pt x="303841" y="184443"/>
                      <a:pt x="284791" y="186348"/>
                      <a:pt x="264788" y="186348"/>
                    </a:cubicBezTo>
                    <a:cubicBezTo>
                      <a:pt x="224783" y="186348"/>
                      <a:pt x="186683" y="175870"/>
                      <a:pt x="148583" y="164440"/>
                    </a:cubicBezTo>
                    <a:cubicBezTo>
                      <a:pt x="160013" y="173013"/>
                      <a:pt x="169538" y="182538"/>
                      <a:pt x="178111" y="193968"/>
                    </a:cubicBezTo>
                    <a:cubicBezTo>
                      <a:pt x="155251" y="185395"/>
                      <a:pt x="135248" y="183490"/>
                      <a:pt x="111436" y="180633"/>
                    </a:cubicBezTo>
                    <a:cubicBezTo>
                      <a:pt x="101911" y="224448"/>
                      <a:pt x="94291" y="256833"/>
                      <a:pt x="60001" y="286361"/>
                    </a:cubicBezTo>
                    <a:cubicBezTo>
                      <a:pt x="60953" y="324461"/>
                      <a:pt x="60001" y="378753"/>
                      <a:pt x="57143" y="415900"/>
                    </a:cubicBezTo>
                    <a:cubicBezTo>
                      <a:pt x="52381" y="416853"/>
                      <a:pt x="54286" y="415900"/>
                      <a:pt x="47618" y="415900"/>
                    </a:cubicBezTo>
                    <a:cubicBezTo>
                      <a:pt x="46666" y="399708"/>
                      <a:pt x="26663" y="388278"/>
                      <a:pt x="19043" y="385420"/>
                    </a:cubicBezTo>
                    <a:cubicBezTo>
                      <a:pt x="15233" y="355893"/>
                      <a:pt x="10471" y="327318"/>
                      <a:pt x="5708" y="298743"/>
                    </a:cubicBezTo>
                    <a:cubicBezTo>
                      <a:pt x="-3817" y="242545"/>
                      <a:pt x="-19057" y="15850"/>
                      <a:pt x="125723" y="59665"/>
                    </a:cubicBezTo>
                    <a:cubicBezTo>
                      <a:pt x="189541" y="12040"/>
                      <a:pt x="400996" y="-80352"/>
                      <a:pt x="512438" y="145390"/>
                    </a:cubicBezTo>
                    <a:cubicBezTo>
                      <a:pt x="503866" y="134913"/>
                      <a:pt x="491483" y="128245"/>
                      <a:pt x="478148" y="126340"/>
                    </a:cubicBezTo>
                    <a:cubicBezTo>
                      <a:pt x="490531" y="133008"/>
                      <a:pt x="495293" y="147295"/>
                      <a:pt x="498151" y="159678"/>
                    </a:cubicBezTo>
                    <a:cubicBezTo>
                      <a:pt x="511486" y="222543"/>
                      <a:pt x="512438" y="286361"/>
                      <a:pt x="511486" y="350178"/>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22" name="Freeform: Shape 86"/>
              <p:cNvSpPr/>
              <p:nvPr/>
            </p:nvSpPr>
            <p:spPr>
              <a:xfrm>
                <a:off x="1489320" y="1742760"/>
                <a:ext cx="98640" cy="75240"/>
              </a:xfrm>
              <a:custGeom>
                <a:avLst/>
                <a:gdLst/>
                <a:ahLst/>
                <a:rect l="l" t="t" r="r" b="b"/>
                <a:pathLst>
                  <a:path w="133028" h="101528">
                    <a:moveTo>
                      <a:pt x="55876" y="31433"/>
                    </a:moveTo>
                    <a:cubicBezTo>
                      <a:pt x="79689" y="17145"/>
                      <a:pt x="106359" y="8573"/>
                      <a:pt x="133029" y="0"/>
                    </a:cubicBezTo>
                    <a:cubicBezTo>
                      <a:pt x="110169" y="7620"/>
                      <a:pt x="92071" y="23813"/>
                      <a:pt x="73974" y="40005"/>
                    </a:cubicBezTo>
                    <a:cubicBezTo>
                      <a:pt x="65401" y="47625"/>
                      <a:pt x="55876" y="55245"/>
                      <a:pt x="49209" y="65723"/>
                    </a:cubicBezTo>
                    <a:cubicBezTo>
                      <a:pt x="44446" y="72390"/>
                      <a:pt x="40636" y="80010"/>
                      <a:pt x="35874" y="86678"/>
                    </a:cubicBezTo>
                    <a:cubicBezTo>
                      <a:pt x="31111" y="93345"/>
                      <a:pt x="24444" y="99060"/>
                      <a:pt x="15871" y="100965"/>
                    </a:cubicBezTo>
                    <a:cubicBezTo>
                      <a:pt x="-11751" y="105727"/>
                      <a:pt x="3489" y="79058"/>
                      <a:pt x="11109" y="68580"/>
                    </a:cubicBezTo>
                    <a:cubicBezTo>
                      <a:pt x="23491" y="54293"/>
                      <a:pt x="38731" y="41910"/>
                      <a:pt x="55876" y="31433"/>
                    </a:cubicBezTo>
                    <a:close/>
                  </a:path>
                </a:pathLst>
              </a:custGeom>
              <a:solidFill>
                <a:srgbClr val="231f20"/>
              </a:solidFill>
              <a:ln w="0">
                <a:noFill/>
              </a:ln>
            </p:spPr>
            <p:style>
              <a:lnRef idx="0"/>
              <a:fillRef idx="0"/>
              <a:effectRef idx="0"/>
              <a:fontRef idx="minor"/>
            </p:style>
            <p:txBody>
              <a:bodyPr lIns="90000" rIns="90000" tIns="28440" bIns="28440" anchor="ctr">
                <a:noAutofit/>
              </a:bodyPr>
              <a:p>
                <a:endParaRPr b="0" lang="en-US" sz="1800" spc="-1" strike="noStrike">
                  <a:solidFill>
                    <a:srgbClr val="313c3f"/>
                  </a:solidFill>
                  <a:latin typeface="Source Sans Pro"/>
                </a:endParaRPr>
              </a:p>
            </p:txBody>
          </p:sp>
          <p:sp>
            <p:nvSpPr>
              <p:cNvPr id="1023" name="Freeform: Shape 87"/>
              <p:cNvSpPr/>
              <p:nvPr/>
            </p:nvSpPr>
            <p:spPr>
              <a:xfrm>
                <a:off x="1468440" y="1770480"/>
                <a:ext cx="65520" cy="33120"/>
              </a:xfrm>
              <a:custGeom>
                <a:avLst/>
                <a:gdLst/>
                <a:ahLst/>
                <a:rect l="l" t="t" r="r" b="b"/>
                <a:pathLst>
                  <a:path w="88596" h="44886">
                    <a:moveTo>
                      <a:pt x="47625" y="1072"/>
                    </a:moveTo>
                    <a:cubicBezTo>
                      <a:pt x="31432" y="-1786"/>
                      <a:pt x="14288" y="1072"/>
                      <a:pt x="0" y="9644"/>
                    </a:cubicBezTo>
                    <a:cubicBezTo>
                      <a:pt x="8572" y="5834"/>
                      <a:pt x="19050" y="6787"/>
                      <a:pt x="28575" y="8692"/>
                    </a:cubicBezTo>
                    <a:cubicBezTo>
                      <a:pt x="35242" y="9644"/>
                      <a:pt x="40957" y="10597"/>
                      <a:pt x="46672" y="13454"/>
                    </a:cubicBezTo>
                    <a:cubicBezTo>
                      <a:pt x="54292" y="18217"/>
                      <a:pt x="59055" y="26789"/>
                      <a:pt x="62865" y="35362"/>
                    </a:cubicBezTo>
                    <a:cubicBezTo>
                      <a:pt x="63817" y="37267"/>
                      <a:pt x="64770" y="40124"/>
                      <a:pt x="66675" y="42029"/>
                    </a:cubicBezTo>
                    <a:cubicBezTo>
                      <a:pt x="70485" y="45839"/>
                      <a:pt x="78105" y="45839"/>
                      <a:pt x="81915" y="42029"/>
                    </a:cubicBezTo>
                    <a:cubicBezTo>
                      <a:pt x="104775" y="22027"/>
                      <a:pt x="62865" y="3929"/>
                      <a:pt x="47625" y="1072"/>
                    </a:cubicBezTo>
                    <a:close/>
                  </a:path>
                </a:pathLst>
              </a:custGeom>
              <a:solidFill>
                <a:srgbClr val="231f20"/>
              </a:solidFill>
              <a:ln w="0">
                <a:noFill/>
              </a:ln>
            </p:spPr>
            <p:style>
              <a:lnRef idx="0"/>
              <a:fillRef idx="0"/>
              <a:effectRef idx="0"/>
              <a:fontRef idx="minor"/>
            </p:style>
            <p:txBody>
              <a:bodyPr lIns="90000" rIns="90000" tIns="-13680" bIns="-13680" anchor="ctr">
                <a:noAutofit/>
              </a:bodyPr>
              <a:p>
                <a:endParaRPr b="0" lang="en-US" sz="1800" spc="-1" strike="noStrike">
                  <a:solidFill>
                    <a:srgbClr val="313c3f"/>
                  </a:solidFill>
                  <a:latin typeface="Source Sans Pro"/>
                </a:endParaRPr>
              </a:p>
            </p:txBody>
          </p:sp>
          <p:sp>
            <p:nvSpPr>
              <p:cNvPr id="1024" name="Freeform: Shape 88"/>
              <p:cNvSpPr/>
              <p:nvPr/>
            </p:nvSpPr>
            <p:spPr>
              <a:xfrm>
                <a:off x="1513800" y="2199960"/>
                <a:ext cx="234000" cy="198720"/>
              </a:xfrm>
              <a:custGeom>
                <a:avLst/>
                <a:gdLst/>
                <a:ahLst/>
                <a:rect l="l" t="t" r="r" b="b"/>
                <a:pathLst>
                  <a:path w="315277" h="267652">
                    <a:moveTo>
                      <a:pt x="315278" y="0"/>
                    </a:moveTo>
                    <a:lnTo>
                      <a:pt x="315278" y="54292"/>
                    </a:lnTo>
                    <a:cubicBezTo>
                      <a:pt x="315278" y="102870"/>
                      <a:pt x="160020" y="185738"/>
                      <a:pt x="103823" y="215265"/>
                    </a:cubicBezTo>
                    <a:cubicBezTo>
                      <a:pt x="93345" y="220980"/>
                      <a:pt x="86678" y="223838"/>
                      <a:pt x="83820" y="225742"/>
                    </a:cubicBezTo>
                    <a:cubicBezTo>
                      <a:pt x="71438" y="233363"/>
                      <a:pt x="36195" y="253365"/>
                      <a:pt x="32385" y="267653"/>
                    </a:cubicBezTo>
                    <a:cubicBezTo>
                      <a:pt x="21908" y="254317"/>
                      <a:pt x="14288" y="241935"/>
                      <a:pt x="3810" y="220980"/>
                    </a:cubicBezTo>
                    <a:cubicBezTo>
                      <a:pt x="1905" y="168592"/>
                      <a:pt x="953" y="114300"/>
                      <a:pt x="0" y="60960"/>
                    </a:cubicBezTo>
                    <a:cubicBezTo>
                      <a:pt x="0" y="59055"/>
                      <a:pt x="0" y="56197"/>
                      <a:pt x="0" y="54292"/>
                    </a:cubicBezTo>
                    <a:cubicBezTo>
                      <a:pt x="13335" y="74295"/>
                      <a:pt x="34290" y="100965"/>
                      <a:pt x="49530" y="110490"/>
                    </a:cubicBezTo>
                    <a:cubicBezTo>
                      <a:pt x="90488" y="136207"/>
                      <a:pt x="94298" y="130492"/>
                      <a:pt x="144780" y="128588"/>
                    </a:cubicBezTo>
                    <a:cubicBezTo>
                      <a:pt x="159067" y="127635"/>
                      <a:pt x="199073" y="140970"/>
                      <a:pt x="255270" y="87630"/>
                    </a:cubicBezTo>
                    <a:cubicBezTo>
                      <a:pt x="265748" y="75247"/>
                      <a:pt x="292417" y="40005"/>
                      <a:pt x="315278"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25" name="Freeform: Shape 89"/>
              <p:cNvSpPr/>
              <p:nvPr/>
            </p:nvSpPr>
            <p:spPr>
              <a:xfrm>
                <a:off x="1514520" y="2199960"/>
                <a:ext cx="233280" cy="159840"/>
              </a:xfrm>
              <a:custGeom>
                <a:avLst/>
                <a:gdLst/>
                <a:ahLst/>
                <a:rect l="l" t="t" r="r" b="b"/>
                <a:pathLst>
                  <a:path w="314325" h="215264">
                    <a:moveTo>
                      <a:pt x="314325" y="0"/>
                    </a:moveTo>
                    <a:lnTo>
                      <a:pt x="314325" y="54292"/>
                    </a:lnTo>
                    <a:cubicBezTo>
                      <a:pt x="314325" y="102870"/>
                      <a:pt x="159067" y="185738"/>
                      <a:pt x="102870" y="215265"/>
                    </a:cubicBezTo>
                    <a:cubicBezTo>
                      <a:pt x="96202" y="206692"/>
                      <a:pt x="90488" y="198120"/>
                      <a:pt x="84772" y="189547"/>
                    </a:cubicBezTo>
                    <a:cubicBezTo>
                      <a:pt x="55245" y="147638"/>
                      <a:pt x="26670" y="104775"/>
                      <a:pt x="0" y="60007"/>
                    </a:cubicBezTo>
                    <a:cubicBezTo>
                      <a:pt x="0" y="58102"/>
                      <a:pt x="0" y="55245"/>
                      <a:pt x="0" y="53340"/>
                    </a:cubicBezTo>
                    <a:cubicBezTo>
                      <a:pt x="13335" y="73342"/>
                      <a:pt x="34290" y="100013"/>
                      <a:pt x="49530" y="109538"/>
                    </a:cubicBezTo>
                    <a:cubicBezTo>
                      <a:pt x="90488" y="135255"/>
                      <a:pt x="94297" y="129540"/>
                      <a:pt x="144780" y="127635"/>
                    </a:cubicBezTo>
                    <a:cubicBezTo>
                      <a:pt x="159067" y="126682"/>
                      <a:pt x="199072" y="140017"/>
                      <a:pt x="255270" y="86677"/>
                    </a:cubicBezTo>
                    <a:cubicBezTo>
                      <a:pt x="264795" y="75247"/>
                      <a:pt x="291465" y="40005"/>
                      <a:pt x="31432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26" name="Freeform: Shape 90"/>
              <p:cNvSpPr/>
              <p:nvPr/>
            </p:nvSpPr>
            <p:spPr>
              <a:xfrm>
                <a:off x="1538640" y="2228760"/>
                <a:ext cx="234720" cy="255960"/>
              </a:xfrm>
              <a:custGeom>
                <a:avLst/>
                <a:gdLst/>
                <a:ahLst/>
                <a:rect l="l" t="t" r="r" b="b"/>
                <a:pathLst>
                  <a:path w="316229" h="344804">
                    <a:moveTo>
                      <a:pt x="316230" y="61913"/>
                    </a:moveTo>
                    <a:cubicBezTo>
                      <a:pt x="316230" y="68580"/>
                      <a:pt x="314325" y="74295"/>
                      <a:pt x="311467" y="80010"/>
                    </a:cubicBezTo>
                    <a:cubicBezTo>
                      <a:pt x="304800" y="93345"/>
                      <a:pt x="296228" y="105727"/>
                      <a:pt x="286703" y="118110"/>
                    </a:cubicBezTo>
                    <a:cubicBezTo>
                      <a:pt x="232410" y="186690"/>
                      <a:pt x="170498" y="248602"/>
                      <a:pt x="107633" y="309563"/>
                    </a:cubicBezTo>
                    <a:cubicBezTo>
                      <a:pt x="103823" y="313373"/>
                      <a:pt x="100013" y="316230"/>
                      <a:pt x="96203" y="320040"/>
                    </a:cubicBezTo>
                    <a:cubicBezTo>
                      <a:pt x="87630" y="328613"/>
                      <a:pt x="78105" y="337185"/>
                      <a:pt x="69533" y="344805"/>
                    </a:cubicBezTo>
                    <a:cubicBezTo>
                      <a:pt x="56198" y="316230"/>
                      <a:pt x="45720" y="295275"/>
                      <a:pt x="34290" y="277178"/>
                    </a:cubicBezTo>
                    <a:cubicBezTo>
                      <a:pt x="22860" y="259080"/>
                      <a:pt x="12383" y="243840"/>
                      <a:pt x="0" y="227648"/>
                    </a:cubicBezTo>
                    <a:cubicBezTo>
                      <a:pt x="0" y="227648"/>
                      <a:pt x="0" y="226695"/>
                      <a:pt x="0" y="226695"/>
                    </a:cubicBezTo>
                    <a:cubicBezTo>
                      <a:pt x="0" y="226695"/>
                      <a:pt x="0" y="226695"/>
                      <a:pt x="0" y="225742"/>
                    </a:cubicBezTo>
                    <a:cubicBezTo>
                      <a:pt x="0" y="225742"/>
                      <a:pt x="0" y="224790"/>
                      <a:pt x="0" y="224790"/>
                    </a:cubicBezTo>
                    <a:cubicBezTo>
                      <a:pt x="4763" y="220980"/>
                      <a:pt x="9525" y="217170"/>
                      <a:pt x="15240" y="212407"/>
                    </a:cubicBezTo>
                    <a:cubicBezTo>
                      <a:pt x="15240" y="212407"/>
                      <a:pt x="15240" y="211455"/>
                      <a:pt x="14288" y="209550"/>
                    </a:cubicBezTo>
                    <a:cubicBezTo>
                      <a:pt x="26670" y="200025"/>
                      <a:pt x="42863" y="190500"/>
                      <a:pt x="50483" y="185738"/>
                    </a:cubicBezTo>
                    <a:cubicBezTo>
                      <a:pt x="52388" y="184785"/>
                      <a:pt x="60008" y="180975"/>
                      <a:pt x="70485" y="175260"/>
                    </a:cubicBezTo>
                    <a:cubicBezTo>
                      <a:pt x="126683" y="145732"/>
                      <a:pt x="281940" y="62865"/>
                      <a:pt x="281940" y="14288"/>
                    </a:cubicBezTo>
                    <a:lnTo>
                      <a:pt x="281940" y="0"/>
                    </a:lnTo>
                    <a:cubicBezTo>
                      <a:pt x="285750" y="952"/>
                      <a:pt x="289560" y="3810"/>
                      <a:pt x="292417" y="7620"/>
                    </a:cubicBezTo>
                    <a:cubicBezTo>
                      <a:pt x="301942" y="18098"/>
                      <a:pt x="309563" y="36195"/>
                      <a:pt x="312420" y="45720"/>
                    </a:cubicBezTo>
                    <a:cubicBezTo>
                      <a:pt x="314325" y="51435"/>
                      <a:pt x="316230" y="56198"/>
                      <a:pt x="316230" y="6191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27" name="Freeform: Shape 91"/>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313c3f"/>
                  </a:solidFill>
                  <a:latin typeface="Source Sans Pro"/>
                </a:endParaRPr>
              </a:p>
            </p:txBody>
          </p:sp>
          <p:sp>
            <p:nvSpPr>
              <p:cNvPr id="1028" name="Freeform: Shape 92"/>
              <p:cNvSpPr/>
              <p:nvPr/>
            </p:nvSpPr>
            <p:spPr>
              <a:xfrm>
                <a:off x="1486800" y="2390400"/>
                <a:ext cx="77040" cy="97920"/>
              </a:xfrm>
              <a:custGeom>
                <a:avLst/>
                <a:gdLst/>
                <a:ahLst/>
                <a:rect l="l" t="t" r="r" b="b"/>
                <a:pathLst>
                  <a:path w="103822" h="132117">
                    <a:moveTo>
                      <a:pt x="103823" y="59728"/>
                    </a:moveTo>
                    <a:cubicBezTo>
                      <a:pt x="85725" y="86398"/>
                      <a:pt x="63818" y="111163"/>
                      <a:pt x="39052" y="132118"/>
                    </a:cubicBezTo>
                    <a:cubicBezTo>
                      <a:pt x="37148" y="125450"/>
                      <a:pt x="29527" y="120688"/>
                      <a:pt x="21907" y="118783"/>
                    </a:cubicBezTo>
                    <a:cubicBezTo>
                      <a:pt x="14288" y="117830"/>
                      <a:pt x="6667" y="118783"/>
                      <a:pt x="0" y="119735"/>
                    </a:cubicBezTo>
                    <a:cubicBezTo>
                      <a:pt x="952" y="104495"/>
                      <a:pt x="1905" y="89255"/>
                      <a:pt x="1905" y="74968"/>
                    </a:cubicBezTo>
                    <a:cubicBezTo>
                      <a:pt x="1905" y="69253"/>
                      <a:pt x="2857" y="64490"/>
                      <a:pt x="3810" y="58775"/>
                    </a:cubicBezTo>
                    <a:cubicBezTo>
                      <a:pt x="4763" y="54013"/>
                      <a:pt x="7620" y="50203"/>
                      <a:pt x="10477" y="46393"/>
                    </a:cubicBezTo>
                    <a:cubicBezTo>
                      <a:pt x="19050" y="33058"/>
                      <a:pt x="26670" y="18770"/>
                      <a:pt x="35242" y="5435"/>
                    </a:cubicBezTo>
                    <a:cubicBezTo>
                      <a:pt x="43815" y="-6947"/>
                      <a:pt x="54293" y="5435"/>
                      <a:pt x="66675" y="7340"/>
                    </a:cubicBezTo>
                    <a:cubicBezTo>
                      <a:pt x="67627" y="7340"/>
                      <a:pt x="68580" y="7340"/>
                      <a:pt x="68580" y="7340"/>
                    </a:cubicBezTo>
                    <a:cubicBezTo>
                      <a:pt x="68580" y="8293"/>
                      <a:pt x="67627" y="8293"/>
                      <a:pt x="67627" y="9245"/>
                    </a:cubicBezTo>
                    <a:cubicBezTo>
                      <a:pt x="81915" y="25438"/>
                      <a:pt x="92393" y="40678"/>
                      <a:pt x="103823" y="5972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29" name="Freeform: Shape 93"/>
              <p:cNvSpPr/>
              <p:nvPr/>
            </p:nvSpPr>
            <p:spPr>
              <a:xfrm>
                <a:off x="1392840" y="2457360"/>
                <a:ext cx="127800" cy="304200"/>
              </a:xfrm>
              <a:custGeom>
                <a:avLst/>
                <a:gdLst/>
                <a:ahLst/>
                <a:rect l="l" t="t" r="r" b="b"/>
                <a:pathLst>
                  <a:path w="172402" h="409705">
                    <a:moveTo>
                      <a:pt x="10477" y="409705"/>
                    </a:moveTo>
                    <a:cubicBezTo>
                      <a:pt x="53340" y="342078"/>
                      <a:pt x="102870" y="269688"/>
                      <a:pt x="143827" y="207775"/>
                    </a:cubicBezTo>
                    <a:cubicBezTo>
                      <a:pt x="153352" y="139196"/>
                      <a:pt x="162877" y="70615"/>
                      <a:pt x="172402" y="1083"/>
                    </a:cubicBezTo>
                    <a:cubicBezTo>
                      <a:pt x="153352" y="-3679"/>
                      <a:pt x="134302" y="7750"/>
                      <a:pt x="127635" y="25848"/>
                    </a:cubicBezTo>
                    <a:cubicBezTo>
                      <a:pt x="125730" y="31563"/>
                      <a:pt x="122873" y="37278"/>
                      <a:pt x="120015" y="42993"/>
                    </a:cubicBezTo>
                    <a:cubicBezTo>
                      <a:pt x="86677" y="111573"/>
                      <a:pt x="37148" y="163008"/>
                      <a:pt x="0" y="229683"/>
                    </a:cubicBezTo>
                    <a:cubicBezTo>
                      <a:pt x="2858" y="286833"/>
                      <a:pt x="7620" y="352555"/>
                      <a:pt x="10477" y="409705"/>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030" name="Graphic 2" descr=""/>
              <p:cNvPicPr/>
              <p:nvPr/>
            </p:nvPicPr>
            <p:blipFill>
              <a:blip r:embed="rId3"/>
              <a:stretch/>
            </p:blipFill>
            <p:spPr>
              <a:xfrm>
                <a:off x="1408320" y="2316600"/>
                <a:ext cx="414720" cy="469440"/>
              </a:xfrm>
              <a:prstGeom prst="rect">
                <a:avLst/>
              </a:prstGeom>
              <a:ln w="0">
                <a:noFill/>
              </a:ln>
            </p:spPr>
          </p:pic>
          <p:sp>
            <p:nvSpPr>
              <p:cNvPr id="1031" name="Freeform: Shape 97"/>
              <p:cNvSpPr/>
              <p:nvPr/>
            </p:nvSpPr>
            <p:spPr>
              <a:xfrm>
                <a:off x="1085040" y="2706480"/>
                <a:ext cx="93600" cy="123480"/>
              </a:xfrm>
              <a:custGeom>
                <a:avLst/>
                <a:gdLst/>
                <a:ahLst/>
                <a:rect l="l" t="t" r="r" b="b"/>
                <a:pathLst>
                  <a:path w="126259" h="166449">
                    <a:moveTo>
                      <a:pt x="63394" y="129540"/>
                    </a:moveTo>
                    <a:cubicBezTo>
                      <a:pt x="63394" y="134303"/>
                      <a:pt x="62442" y="139065"/>
                      <a:pt x="62442" y="143828"/>
                    </a:cubicBezTo>
                    <a:cubicBezTo>
                      <a:pt x="62442" y="147638"/>
                      <a:pt x="62442" y="151448"/>
                      <a:pt x="64347" y="155258"/>
                    </a:cubicBezTo>
                    <a:cubicBezTo>
                      <a:pt x="63394" y="155258"/>
                      <a:pt x="62442" y="155258"/>
                      <a:pt x="61489" y="156210"/>
                    </a:cubicBezTo>
                    <a:cubicBezTo>
                      <a:pt x="44344" y="159068"/>
                      <a:pt x="28152" y="162878"/>
                      <a:pt x="11007" y="165735"/>
                    </a:cubicBezTo>
                    <a:cubicBezTo>
                      <a:pt x="8149" y="166688"/>
                      <a:pt x="6244" y="166688"/>
                      <a:pt x="3387" y="165735"/>
                    </a:cubicBezTo>
                    <a:cubicBezTo>
                      <a:pt x="-423" y="163830"/>
                      <a:pt x="-423" y="159068"/>
                      <a:pt x="529" y="155258"/>
                    </a:cubicBezTo>
                    <a:cubicBezTo>
                      <a:pt x="1482" y="148590"/>
                      <a:pt x="2434" y="141923"/>
                      <a:pt x="3387" y="135255"/>
                    </a:cubicBezTo>
                    <a:cubicBezTo>
                      <a:pt x="5292" y="123825"/>
                      <a:pt x="8149" y="113348"/>
                      <a:pt x="11007" y="102870"/>
                    </a:cubicBezTo>
                    <a:cubicBezTo>
                      <a:pt x="11959" y="98108"/>
                      <a:pt x="13864" y="93345"/>
                      <a:pt x="16722" y="88583"/>
                    </a:cubicBezTo>
                    <a:cubicBezTo>
                      <a:pt x="19579" y="84773"/>
                      <a:pt x="23389" y="81915"/>
                      <a:pt x="27199" y="78105"/>
                    </a:cubicBezTo>
                    <a:cubicBezTo>
                      <a:pt x="47202" y="60960"/>
                      <a:pt x="64347" y="40958"/>
                      <a:pt x="84349" y="23813"/>
                    </a:cubicBezTo>
                    <a:cubicBezTo>
                      <a:pt x="91017" y="17145"/>
                      <a:pt x="98637" y="12383"/>
                      <a:pt x="107209" y="7620"/>
                    </a:cubicBezTo>
                    <a:cubicBezTo>
                      <a:pt x="112924" y="4763"/>
                      <a:pt x="119592" y="1905"/>
                      <a:pt x="126259" y="0"/>
                    </a:cubicBezTo>
                    <a:cubicBezTo>
                      <a:pt x="121497" y="5715"/>
                      <a:pt x="116734" y="11430"/>
                      <a:pt x="111972" y="17145"/>
                    </a:cubicBezTo>
                    <a:cubicBezTo>
                      <a:pt x="85302" y="48578"/>
                      <a:pt x="66252" y="87630"/>
                      <a:pt x="63394" y="12954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32" name="Freeform: Shape 98"/>
              <p:cNvSpPr/>
              <p:nvPr/>
            </p:nvSpPr>
            <p:spPr>
              <a:xfrm>
                <a:off x="1130760" y="2685960"/>
                <a:ext cx="86040" cy="143280"/>
              </a:xfrm>
              <a:custGeom>
                <a:avLst/>
                <a:gdLst/>
                <a:ahLst/>
                <a:rect l="l" t="t" r="r" b="b"/>
                <a:pathLst>
                  <a:path w="116205" h="193119">
                    <a:moveTo>
                      <a:pt x="116205" y="12144"/>
                    </a:moveTo>
                    <a:cubicBezTo>
                      <a:pt x="108585" y="19764"/>
                      <a:pt x="101918" y="29289"/>
                      <a:pt x="96202" y="37862"/>
                    </a:cubicBezTo>
                    <a:cubicBezTo>
                      <a:pt x="69533" y="77867"/>
                      <a:pt x="45720" y="120729"/>
                      <a:pt x="26670" y="164544"/>
                    </a:cubicBezTo>
                    <a:cubicBezTo>
                      <a:pt x="24765" y="168354"/>
                      <a:pt x="23813" y="172164"/>
                      <a:pt x="21908" y="175974"/>
                    </a:cubicBezTo>
                    <a:cubicBezTo>
                      <a:pt x="20955" y="177879"/>
                      <a:pt x="20002" y="179784"/>
                      <a:pt x="19050" y="181689"/>
                    </a:cubicBezTo>
                    <a:cubicBezTo>
                      <a:pt x="17145" y="185499"/>
                      <a:pt x="16193" y="189309"/>
                      <a:pt x="14288" y="193119"/>
                    </a:cubicBezTo>
                    <a:cubicBezTo>
                      <a:pt x="12383" y="192167"/>
                      <a:pt x="11430" y="190262"/>
                      <a:pt x="9525" y="189309"/>
                    </a:cubicBezTo>
                    <a:cubicBezTo>
                      <a:pt x="6668" y="187404"/>
                      <a:pt x="4763" y="185499"/>
                      <a:pt x="2858" y="182642"/>
                    </a:cubicBezTo>
                    <a:cubicBezTo>
                      <a:pt x="2858" y="181689"/>
                      <a:pt x="1905" y="181689"/>
                      <a:pt x="1905" y="180737"/>
                    </a:cubicBezTo>
                    <a:cubicBezTo>
                      <a:pt x="0" y="176927"/>
                      <a:pt x="0" y="173117"/>
                      <a:pt x="0" y="169307"/>
                    </a:cubicBezTo>
                    <a:cubicBezTo>
                      <a:pt x="0" y="164544"/>
                      <a:pt x="0" y="159782"/>
                      <a:pt x="952" y="155019"/>
                    </a:cubicBezTo>
                    <a:cubicBezTo>
                      <a:pt x="3810" y="113109"/>
                      <a:pt x="22860" y="74057"/>
                      <a:pt x="49530" y="40719"/>
                    </a:cubicBezTo>
                    <a:cubicBezTo>
                      <a:pt x="54293" y="35004"/>
                      <a:pt x="59055" y="29289"/>
                      <a:pt x="63818" y="23574"/>
                    </a:cubicBezTo>
                    <a:cubicBezTo>
                      <a:pt x="70485" y="16907"/>
                      <a:pt x="77152" y="9287"/>
                      <a:pt x="83820" y="3572"/>
                    </a:cubicBezTo>
                    <a:cubicBezTo>
                      <a:pt x="84773" y="2619"/>
                      <a:pt x="86677" y="714"/>
                      <a:pt x="88583" y="714"/>
                    </a:cubicBezTo>
                    <a:cubicBezTo>
                      <a:pt x="91440" y="-238"/>
                      <a:pt x="94298" y="-238"/>
                      <a:pt x="97155" y="714"/>
                    </a:cubicBezTo>
                    <a:cubicBezTo>
                      <a:pt x="100013" y="1667"/>
                      <a:pt x="101918" y="2619"/>
                      <a:pt x="104775" y="3572"/>
                    </a:cubicBezTo>
                    <a:cubicBezTo>
                      <a:pt x="108585" y="7382"/>
                      <a:pt x="112395" y="9287"/>
                      <a:pt x="116205" y="12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33" name="Freeform: Shape 99"/>
              <p:cNvSpPr/>
              <p:nvPr/>
            </p:nvSpPr>
            <p:spPr>
              <a:xfrm>
                <a:off x="1128600" y="2964600"/>
                <a:ext cx="738720" cy="454680"/>
              </a:xfrm>
              <a:custGeom>
                <a:avLst/>
                <a:gdLst/>
                <a:ahLst/>
                <a:rect l="l" t="t" r="r" b="b"/>
                <a:pathLst>
                  <a:path w="994409" h="612457">
                    <a:moveTo>
                      <a:pt x="994410" y="505778"/>
                    </a:moveTo>
                    <a:cubicBezTo>
                      <a:pt x="964883" y="519113"/>
                      <a:pt x="933450" y="531495"/>
                      <a:pt x="902970" y="542925"/>
                    </a:cubicBezTo>
                    <a:cubicBezTo>
                      <a:pt x="804863" y="578168"/>
                      <a:pt x="700088" y="600075"/>
                      <a:pt x="592455" y="608648"/>
                    </a:cubicBezTo>
                    <a:cubicBezTo>
                      <a:pt x="581977" y="609600"/>
                      <a:pt x="572452" y="609600"/>
                      <a:pt x="561975" y="610553"/>
                    </a:cubicBezTo>
                    <a:cubicBezTo>
                      <a:pt x="541020" y="611505"/>
                      <a:pt x="520065" y="612458"/>
                      <a:pt x="499110" y="612458"/>
                    </a:cubicBezTo>
                    <a:cubicBezTo>
                      <a:pt x="427672" y="612458"/>
                      <a:pt x="357188" y="605790"/>
                      <a:pt x="288607" y="594360"/>
                    </a:cubicBezTo>
                    <a:cubicBezTo>
                      <a:pt x="283845" y="593408"/>
                      <a:pt x="279082" y="592455"/>
                      <a:pt x="274320" y="591503"/>
                    </a:cubicBezTo>
                    <a:cubicBezTo>
                      <a:pt x="178117" y="573405"/>
                      <a:pt x="85725" y="543878"/>
                      <a:pt x="0" y="503873"/>
                    </a:cubicBezTo>
                    <a:cubicBezTo>
                      <a:pt x="7620" y="468630"/>
                      <a:pt x="16192" y="432435"/>
                      <a:pt x="24765" y="397193"/>
                    </a:cubicBezTo>
                    <a:cubicBezTo>
                      <a:pt x="40957" y="330518"/>
                      <a:pt x="57150" y="263843"/>
                      <a:pt x="74295" y="197168"/>
                    </a:cubicBezTo>
                    <a:cubicBezTo>
                      <a:pt x="77152" y="186690"/>
                      <a:pt x="80010" y="175260"/>
                      <a:pt x="82867" y="164783"/>
                    </a:cubicBezTo>
                    <a:cubicBezTo>
                      <a:pt x="89535" y="163830"/>
                      <a:pt x="97155" y="163830"/>
                      <a:pt x="103822" y="162878"/>
                    </a:cubicBezTo>
                    <a:cubicBezTo>
                      <a:pt x="110490" y="161925"/>
                      <a:pt x="118110" y="161925"/>
                      <a:pt x="124777" y="160973"/>
                    </a:cubicBezTo>
                    <a:cubicBezTo>
                      <a:pt x="132397" y="160020"/>
                      <a:pt x="139065" y="159068"/>
                      <a:pt x="146685" y="158115"/>
                    </a:cubicBezTo>
                    <a:cubicBezTo>
                      <a:pt x="153352" y="157163"/>
                      <a:pt x="159067" y="156210"/>
                      <a:pt x="165735" y="156210"/>
                    </a:cubicBezTo>
                    <a:cubicBezTo>
                      <a:pt x="166688" y="156210"/>
                      <a:pt x="166688" y="156210"/>
                      <a:pt x="166688" y="156210"/>
                    </a:cubicBezTo>
                    <a:cubicBezTo>
                      <a:pt x="173355" y="155258"/>
                      <a:pt x="180022" y="154305"/>
                      <a:pt x="186690" y="153353"/>
                    </a:cubicBezTo>
                    <a:cubicBezTo>
                      <a:pt x="193357" y="152400"/>
                      <a:pt x="200977" y="151448"/>
                      <a:pt x="207645" y="150495"/>
                    </a:cubicBezTo>
                    <a:cubicBezTo>
                      <a:pt x="214313" y="149543"/>
                      <a:pt x="221932" y="148590"/>
                      <a:pt x="228600" y="147638"/>
                    </a:cubicBezTo>
                    <a:cubicBezTo>
                      <a:pt x="235267" y="146685"/>
                      <a:pt x="241935" y="145733"/>
                      <a:pt x="248602" y="144780"/>
                    </a:cubicBezTo>
                    <a:cubicBezTo>
                      <a:pt x="248602" y="144780"/>
                      <a:pt x="248602" y="144780"/>
                      <a:pt x="249555" y="144780"/>
                    </a:cubicBezTo>
                    <a:cubicBezTo>
                      <a:pt x="254317" y="143828"/>
                      <a:pt x="260032" y="142875"/>
                      <a:pt x="264795" y="142875"/>
                    </a:cubicBezTo>
                    <a:cubicBezTo>
                      <a:pt x="303847" y="137160"/>
                      <a:pt x="342900" y="131445"/>
                      <a:pt x="381953" y="124778"/>
                    </a:cubicBezTo>
                    <a:cubicBezTo>
                      <a:pt x="404813" y="120968"/>
                      <a:pt x="426720" y="118110"/>
                      <a:pt x="449580" y="113348"/>
                    </a:cubicBezTo>
                    <a:cubicBezTo>
                      <a:pt x="481013" y="128588"/>
                      <a:pt x="512445" y="143828"/>
                      <a:pt x="543877" y="159068"/>
                    </a:cubicBezTo>
                    <a:cubicBezTo>
                      <a:pt x="580072" y="177165"/>
                      <a:pt x="616268" y="194310"/>
                      <a:pt x="652463" y="212408"/>
                    </a:cubicBezTo>
                    <a:cubicBezTo>
                      <a:pt x="681038" y="225743"/>
                      <a:pt x="711518" y="240030"/>
                      <a:pt x="741997" y="232410"/>
                    </a:cubicBezTo>
                    <a:cubicBezTo>
                      <a:pt x="759143" y="227648"/>
                      <a:pt x="773430" y="216218"/>
                      <a:pt x="786765" y="203835"/>
                    </a:cubicBezTo>
                    <a:cubicBezTo>
                      <a:pt x="828675" y="165735"/>
                      <a:pt x="892493" y="83820"/>
                      <a:pt x="918210" y="0"/>
                    </a:cubicBezTo>
                    <a:cubicBezTo>
                      <a:pt x="913447" y="27623"/>
                      <a:pt x="908685" y="54293"/>
                      <a:pt x="903922" y="81915"/>
                    </a:cubicBezTo>
                    <a:cubicBezTo>
                      <a:pt x="899160" y="106680"/>
                      <a:pt x="895350" y="132398"/>
                      <a:pt x="896302" y="158115"/>
                    </a:cubicBezTo>
                    <a:cubicBezTo>
                      <a:pt x="898208" y="190500"/>
                      <a:pt x="908685" y="221933"/>
                      <a:pt x="918210" y="253365"/>
                    </a:cubicBezTo>
                    <a:cubicBezTo>
                      <a:pt x="945833" y="337185"/>
                      <a:pt x="971550" y="421005"/>
                      <a:pt x="994410" y="50577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34" name="Freeform: Shape 100"/>
              <p:cNvSpPr/>
              <p:nvPr/>
            </p:nvSpPr>
            <p:spPr>
              <a:xfrm>
                <a:off x="1400400" y="2758680"/>
                <a:ext cx="1800" cy="1800"/>
              </a:xfrm>
              <a:custGeom>
                <a:avLst/>
                <a:gdLst/>
                <a:ahLst/>
                <a:rect l="l" t="t" r="r" b="b"/>
                <a:pathLst>
                  <a:path w="2857" h="2857">
                    <a:moveTo>
                      <a:pt x="0" y="0"/>
                    </a:moveTo>
                    <a:cubicBezTo>
                      <a:pt x="953" y="0"/>
                      <a:pt x="1905" y="0"/>
                      <a:pt x="2858" y="952"/>
                    </a:cubicBezTo>
                    <a:cubicBezTo>
                      <a:pt x="2858" y="1905"/>
                      <a:pt x="1905" y="1905"/>
                      <a:pt x="1905" y="2858"/>
                    </a:cubicBezTo>
                    <a:cubicBezTo>
                      <a:pt x="953" y="2858"/>
                      <a:pt x="953" y="2858"/>
                      <a:pt x="0" y="1905"/>
                    </a:cubicBezTo>
                    <a:cubicBezTo>
                      <a:pt x="0" y="952"/>
                      <a:pt x="0" y="0"/>
                      <a:pt x="0" y="0"/>
                    </a:cubicBezTo>
                    <a:close/>
                  </a:path>
                </a:pathLst>
              </a:custGeom>
              <a:noFill/>
              <a:ln w="9360">
                <a:solidFill>
                  <a:srgbClr val="58595b"/>
                </a:solidFill>
                <a:miter/>
              </a:ln>
            </p:spPr>
            <p:style>
              <a:lnRef idx="0"/>
              <a:fillRef idx="0"/>
              <a:effectRef idx="0"/>
              <a:fontRef idx="minor"/>
            </p:style>
            <p:txBody>
              <a:bodyPr lIns="90000" rIns="90000" tIns="-45000" bIns="-45000" anchor="ctr">
                <a:noAutofit/>
              </a:bodyPr>
              <a:p>
                <a:endParaRPr b="0" lang="en-US" sz="1800" spc="-1" strike="noStrike">
                  <a:solidFill>
                    <a:srgbClr val="313c3f"/>
                  </a:solidFill>
                  <a:latin typeface="Source Sans Pro"/>
                </a:endParaRPr>
              </a:p>
            </p:txBody>
          </p:sp>
          <p:sp>
            <p:nvSpPr>
              <p:cNvPr id="1035" name="Freeform: Shape 101"/>
              <p:cNvSpPr/>
              <p:nvPr/>
            </p:nvSpPr>
            <p:spPr>
              <a:xfrm>
                <a:off x="1125720" y="2371680"/>
                <a:ext cx="922680" cy="768600"/>
              </a:xfrm>
              <a:custGeom>
                <a:avLst/>
                <a:gdLst/>
                <a:ahLst/>
                <a:rect l="l" t="t" r="r" b="b"/>
                <a:pathLst>
                  <a:path w="1241733" h="1035098">
                    <a:moveTo>
                      <a:pt x="1236345" y="123825"/>
                    </a:moveTo>
                    <a:cubicBezTo>
                      <a:pt x="1162050" y="385763"/>
                      <a:pt x="1077278" y="574357"/>
                      <a:pt x="924878" y="789623"/>
                    </a:cubicBezTo>
                    <a:cubicBezTo>
                      <a:pt x="923925" y="793432"/>
                      <a:pt x="922973" y="796290"/>
                      <a:pt x="922020" y="800100"/>
                    </a:cubicBezTo>
                    <a:cubicBezTo>
                      <a:pt x="896303" y="883920"/>
                      <a:pt x="832485" y="965835"/>
                      <a:pt x="790575" y="1003935"/>
                    </a:cubicBezTo>
                    <a:cubicBezTo>
                      <a:pt x="777240" y="1016318"/>
                      <a:pt x="762953" y="1027748"/>
                      <a:pt x="745807" y="1032510"/>
                    </a:cubicBezTo>
                    <a:cubicBezTo>
                      <a:pt x="715328" y="1041082"/>
                      <a:pt x="683895" y="1026795"/>
                      <a:pt x="656273" y="1012507"/>
                    </a:cubicBezTo>
                    <a:cubicBezTo>
                      <a:pt x="588645" y="979170"/>
                      <a:pt x="521017" y="946785"/>
                      <a:pt x="454342" y="913448"/>
                    </a:cubicBezTo>
                    <a:cubicBezTo>
                      <a:pt x="413385" y="893445"/>
                      <a:pt x="373380" y="873443"/>
                      <a:pt x="332423" y="853440"/>
                    </a:cubicBezTo>
                    <a:cubicBezTo>
                      <a:pt x="240982" y="808673"/>
                      <a:pt x="91440" y="736282"/>
                      <a:pt x="0" y="691515"/>
                    </a:cubicBezTo>
                    <a:cubicBezTo>
                      <a:pt x="191452" y="761048"/>
                      <a:pt x="441007" y="860107"/>
                      <a:pt x="624840" y="946785"/>
                    </a:cubicBezTo>
                    <a:cubicBezTo>
                      <a:pt x="666750" y="966788"/>
                      <a:pt x="718185" y="986790"/>
                      <a:pt x="757237" y="961073"/>
                    </a:cubicBezTo>
                    <a:cubicBezTo>
                      <a:pt x="775335" y="949643"/>
                      <a:pt x="786765" y="930593"/>
                      <a:pt x="796290" y="911543"/>
                    </a:cubicBezTo>
                    <a:cubicBezTo>
                      <a:pt x="830580" y="844868"/>
                      <a:pt x="853440" y="771525"/>
                      <a:pt x="896303" y="709613"/>
                    </a:cubicBezTo>
                    <a:cubicBezTo>
                      <a:pt x="926782" y="665798"/>
                      <a:pt x="965835" y="628650"/>
                      <a:pt x="998220" y="585788"/>
                    </a:cubicBezTo>
                    <a:cubicBezTo>
                      <a:pt x="1030605" y="542925"/>
                      <a:pt x="1054418" y="494348"/>
                      <a:pt x="1078230" y="446723"/>
                    </a:cubicBezTo>
                    <a:cubicBezTo>
                      <a:pt x="1123950" y="354330"/>
                      <a:pt x="1170623" y="260033"/>
                      <a:pt x="1194435" y="159068"/>
                    </a:cubicBezTo>
                    <a:cubicBezTo>
                      <a:pt x="1202055" y="128588"/>
                      <a:pt x="1206818" y="96202"/>
                      <a:pt x="1197293" y="65723"/>
                    </a:cubicBezTo>
                    <a:cubicBezTo>
                      <a:pt x="1191578" y="45720"/>
                      <a:pt x="1178243" y="29527"/>
                      <a:pt x="1160145" y="18098"/>
                    </a:cubicBezTo>
                    <a:cubicBezTo>
                      <a:pt x="1144905" y="8573"/>
                      <a:pt x="1142048" y="952"/>
                      <a:pt x="1153478" y="0"/>
                    </a:cubicBezTo>
                    <a:cubicBezTo>
                      <a:pt x="1173480" y="9525"/>
                      <a:pt x="1191578" y="20002"/>
                      <a:pt x="1208723" y="34290"/>
                    </a:cubicBezTo>
                    <a:cubicBezTo>
                      <a:pt x="1209675" y="34290"/>
                      <a:pt x="1209675" y="35243"/>
                      <a:pt x="1210628" y="35243"/>
                    </a:cubicBezTo>
                    <a:cubicBezTo>
                      <a:pt x="1224915" y="46673"/>
                      <a:pt x="1237298" y="61913"/>
                      <a:pt x="1240155" y="79058"/>
                    </a:cubicBezTo>
                    <a:cubicBezTo>
                      <a:pt x="1243965" y="94298"/>
                      <a:pt x="1240155" y="109538"/>
                      <a:pt x="1236345" y="123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36" name="Freeform: Shape 102"/>
              <p:cNvSpPr/>
              <p:nvPr/>
            </p:nvSpPr>
            <p:spPr>
              <a:xfrm>
                <a:off x="982080" y="3002760"/>
                <a:ext cx="480960" cy="98640"/>
              </a:xfrm>
              <a:custGeom>
                <a:avLst/>
                <a:gdLst/>
                <a:ahLst/>
                <a:rect l="l" t="t" r="r" b="b"/>
                <a:pathLst>
                  <a:path w="647700" h="132820">
                    <a:moveTo>
                      <a:pt x="647700" y="62865"/>
                    </a:moveTo>
                    <a:cubicBezTo>
                      <a:pt x="625793" y="67627"/>
                      <a:pt x="602933" y="71438"/>
                      <a:pt x="580073" y="74295"/>
                    </a:cubicBezTo>
                    <a:cubicBezTo>
                      <a:pt x="480060" y="89535"/>
                      <a:pt x="380048" y="104775"/>
                      <a:pt x="280035" y="114300"/>
                    </a:cubicBezTo>
                    <a:cubicBezTo>
                      <a:pt x="253365" y="117158"/>
                      <a:pt x="226695" y="119063"/>
                      <a:pt x="200025" y="120015"/>
                    </a:cubicBezTo>
                    <a:cubicBezTo>
                      <a:pt x="155258" y="121920"/>
                      <a:pt x="106680" y="118110"/>
                      <a:pt x="62865" y="130492"/>
                    </a:cubicBezTo>
                    <a:cubicBezTo>
                      <a:pt x="47625" y="135255"/>
                      <a:pt x="30480" y="132397"/>
                      <a:pt x="16193" y="124777"/>
                    </a:cubicBezTo>
                    <a:cubicBezTo>
                      <a:pt x="10478" y="120967"/>
                      <a:pt x="4763" y="117158"/>
                      <a:pt x="0" y="111442"/>
                    </a:cubicBezTo>
                    <a:lnTo>
                      <a:pt x="54293" y="79058"/>
                    </a:lnTo>
                    <a:cubicBezTo>
                      <a:pt x="73343" y="67627"/>
                      <a:pt x="92393" y="57150"/>
                      <a:pt x="112395" y="49530"/>
                    </a:cubicBezTo>
                    <a:cubicBezTo>
                      <a:pt x="132398" y="42863"/>
                      <a:pt x="153352" y="40005"/>
                      <a:pt x="174308" y="38100"/>
                    </a:cubicBezTo>
                    <a:cubicBezTo>
                      <a:pt x="247650" y="29527"/>
                      <a:pt x="321945" y="20002"/>
                      <a:pt x="395288" y="11430"/>
                    </a:cubicBezTo>
                    <a:cubicBezTo>
                      <a:pt x="434340" y="6667"/>
                      <a:pt x="450533" y="4763"/>
                      <a:pt x="489585" y="0"/>
                    </a:cubicBezTo>
                    <a:cubicBezTo>
                      <a:pt x="494348" y="1905"/>
                      <a:pt x="606743" y="42863"/>
                      <a:pt x="647700" y="628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37" name="Freeform: Shape 103"/>
              <p:cNvSpPr/>
              <p:nvPr/>
            </p:nvSpPr>
            <p:spPr>
              <a:xfrm>
                <a:off x="1200600" y="2383920"/>
                <a:ext cx="62280" cy="311040"/>
              </a:xfrm>
              <a:custGeom>
                <a:avLst/>
                <a:gdLst/>
                <a:ahLst/>
                <a:rect l="l" t="t" r="r" b="b"/>
                <a:pathLst>
                  <a:path w="84187" h="419100">
                    <a:moveTo>
                      <a:pt x="75615" y="285750"/>
                    </a:moveTo>
                    <a:cubicBezTo>
                      <a:pt x="71805" y="257175"/>
                      <a:pt x="67995" y="228600"/>
                      <a:pt x="66090" y="200025"/>
                    </a:cubicBezTo>
                    <a:cubicBezTo>
                      <a:pt x="61328" y="148590"/>
                      <a:pt x="58470" y="97155"/>
                      <a:pt x="57518" y="44767"/>
                    </a:cubicBezTo>
                    <a:cubicBezTo>
                      <a:pt x="57518" y="30480"/>
                      <a:pt x="56565" y="15240"/>
                      <a:pt x="56565" y="0"/>
                    </a:cubicBezTo>
                    <a:cubicBezTo>
                      <a:pt x="46088" y="7620"/>
                      <a:pt x="35610" y="17145"/>
                      <a:pt x="27038" y="27622"/>
                    </a:cubicBezTo>
                    <a:cubicBezTo>
                      <a:pt x="28943" y="50482"/>
                      <a:pt x="32753" y="73342"/>
                      <a:pt x="34658" y="95250"/>
                    </a:cubicBezTo>
                    <a:cubicBezTo>
                      <a:pt x="38468" y="143827"/>
                      <a:pt x="42278" y="192405"/>
                      <a:pt x="50850" y="240030"/>
                    </a:cubicBezTo>
                    <a:cubicBezTo>
                      <a:pt x="38468" y="277178"/>
                      <a:pt x="-4395" y="404813"/>
                      <a:pt x="368" y="406717"/>
                    </a:cubicBezTo>
                    <a:cubicBezTo>
                      <a:pt x="7035" y="410527"/>
                      <a:pt x="13703" y="415290"/>
                      <a:pt x="20370" y="419100"/>
                    </a:cubicBezTo>
                    <a:cubicBezTo>
                      <a:pt x="20370" y="419100"/>
                      <a:pt x="21323" y="418147"/>
                      <a:pt x="21323" y="418147"/>
                    </a:cubicBezTo>
                    <a:cubicBezTo>
                      <a:pt x="33705" y="404813"/>
                      <a:pt x="48945" y="394335"/>
                      <a:pt x="66090" y="392430"/>
                    </a:cubicBezTo>
                    <a:cubicBezTo>
                      <a:pt x="66090" y="392430"/>
                      <a:pt x="67043" y="392430"/>
                      <a:pt x="67043" y="392430"/>
                    </a:cubicBezTo>
                    <a:cubicBezTo>
                      <a:pt x="67995" y="392430"/>
                      <a:pt x="68948" y="392430"/>
                      <a:pt x="69900" y="392430"/>
                    </a:cubicBezTo>
                    <a:cubicBezTo>
                      <a:pt x="70853" y="392430"/>
                      <a:pt x="71805" y="392430"/>
                      <a:pt x="72758" y="392430"/>
                    </a:cubicBezTo>
                    <a:cubicBezTo>
                      <a:pt x="72758" y="392430"/>
                      <a:pt x="72758" y="392430"/>
                      <a:pt x="72758" y="392430"/>
                    </a:cubicBezTo>
                    <a:cubicBezTo>
                      <a:pt x="72758" y="388620"/>
                      <a:pt x="73710" y="383858"/>
                      <a:pt x="74663" y="380047"/>
                    </a:cubicBezTo>
                    <a:cubicBezTo>
                      <a:pt x="77520" y="363855"/>
                      <a:pt x="80378" y="346710"/>
                      <a:pt x="84188" y="330517"/>
                    </a:cubicBezTo>
                    <a:cubicBezTo>
                      <a:pt x="80378" y="316230"/>
                      <a:pt x="78473" y="300990"/>
                      <a:pt x="75615" y="28575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38" name="Freeform: Shape 104"/>
              <p:cNvSpPr/>
              <p:nvPr/>
            </p:nvSpPr>
            <p:spPr>
              <a:xfrm>
                <a:off x="1194480" y="2675880"/>
                <a:ext cx="488160" cy="197640"/>
              </a:xfrm>
              <a:custGeom>
                <a:avLst/>
                <a:gdLst/>
                <a:ahLst/>
                <a:rect l="l" t="t" r="r" b="b"/>
                <a:pathLst>
                  <a:path w="657225" h="266514">
                    <a:moveTo>
                      <a:pt x="657225" y="189547"/>
                    </a:moveTo>
                    <a:cubicBezTo>
                      <a:pt x="652463" y="205740"/>
                      <a:pt x="641985" y="219075"/>
                      <a:pt x="630555" y="231457"/>
                    </a:cubicBezTo>
                    <a:cubicBezTo>
                      <a:pt x="622935" y="240030"/>
                      <a:pt x="614363" y="247650"/>
                      <a:pt x="605790" y="255270"/>
                    </a:cubicBezTo>
                    <a:cubicBezTo>
                      <a:pt x="601028" y="260032"/>
                      <a:pt x="595313" y="263842"/>
                      <a:pt x="588645" y="265747"/>
                    </a:cubicBezTo>
                    <a:cubicBezTo>
                      <a:pt x="580073" y="267652"/>
                      <a:pt x="570548" y="265747"/>
                      <a:pt x="561975" y="262890"/>
                    </a:cubicBezTo>
                    <a:cubicBezTo>
                      <a:pt x="412433" y="218122"/>
                      <a:pt x="266700" y="158115"/>
                      <a:pt x="129540" y="83820"/>
                    </a:cubicBezTo>
                    <a:cubicBezTo>
                      <a:pt x="107633" y="72390"/>
                      <a:pt x="86677" y="60007"/>
                      <a:pt x="61913" y="55245"/>
                    </a:cubicBezTo>
                    <a:cubicBezTo>
                      <a:pt x="40958" y="51435"/>
                      <a:pt x="17145" y="54292"/>
                      <a:pt x="0" y="67627"/>
                    </a:cubicBezTo>
                    <a:cubicBezTo>
                      <a:pt x="3810" y="61913"/>
                      <a:pt x="6668" y="57150"/>
                      <a:pt x="10477" y="52388"/>
                    </a:cubicBezTo>
                    <a:cubicBezTo>
                      <a:pt x="16193" y="43815"/>
                      <a:pt x="22860" y="35242"/>
                      <a:pt x="29527" y="27622"/>
                    </a:cubicBezTo>
                    <a:cubicBezTo>
                      <a:pt x="29527" y="27622"/>
                      <a:pt x="30480" y="26670"/>
                      <a:pt x="30480" y="26670"/>
                    </a:cubicBezTo>
                    <a:cubicBezTo>
                      <a:pt x="43815" y="12382"/>
                      <a:pt x="60008" y="952"/>
                      <a:pt x="79058" y="0"/>
                    </a:cubicBezTo>
                    <a:cubicBezTo>
                      <a:pt x="80010" y="0"/>
                      <a:pt x="80963" y="0"/>
                      <a:pt x="81915" y="0"/>
                    </a:cubicBezTo>
                    <a:cubicBezTo>
                      <a:pt x="81915" y="0"/>
                      <a:pt x="81915" y="0"/>
                      <a:pt x="81915" y="0"/>
                    </a:cubicBezTo>
                    <a:cubicBezTo>
                      <a:pt x="114300" y="21907"/>
                      <a:pt x="146685" y="42863"/>
                      <a:pt x="180975" y="62865"/>
                    </a:cubicBezTo>
                    <a:cubicBezTo>
                      <a:pt x="202883" y="75247"/>
                      <a:pt x="225743" y="87630"/>
                      <a:pt x="248602" y="99060"/>
                    </a:cubicBezTo>
                    <a:cubicBezTo>
                      <a:pt x="258127" y="103822"/>
                      <a:pt x="267653" y="108585"/>
                      <a:pt x="277178" y="113347"/>
                    </a:cubicBezTo>
                    <a:cubicBezTo>
                      <a:pt x="278130" y="113347"/>
                      <a:pt x="278130" y="114300"/>
                      <a:pt x="279083" y="114300"/>
                    </a:cubicBezTo>
                    <a:cubicBezTo>
                      <a:pt x="300990" y="124777"/>
                      <a:pt x="323850" y="135255"/>
                      <a:pt x="346710" y="144780"/>
                    </a:cubicBezTo>
                    <a:cubicBezTo>
                      <a:pt x="370523" y="155257"/>
                      <a:pt x="395288" y="164782"/>
                      <a:pt x="420053" y="173355"/>
                    </a:cubicBezTo>
                    <a:cubicBezTo>
                      <a:pt x="427673" y="176213"/>
                      <a:pt x="521970" y="210502"/>
                      <a:pt x="557213" y="213360"/>
                    </a:cubicBezTo>
                    <a:cubicBezTo>
                      <a:pt x="560070" y="209550"/>
                      <a:pt x="563880" y="204788"/>
                      <a:pt x="566738" y="200977"/>
                    </a:cubicBezTo>
                    <a:cubicBezTo>
                      <a:pt x="570548" y="202882"/>
                      <a:pt x="573405" y="202882"/>
                      <a:pt x="578168" y="200977"/>
                    </a:cubicBezTo>
                    <a:cubicBezTo>
                      <a:pt x="596265" y="192405"/>
                      <a:pt x="613410" y="184785"/>
                      <a:pt x="628650" y="171450"/>
                    </a:cubicBezTo>
                    <a:cubicBezTo>
                      <a:pt x="633413" y="174307"/>
                      <a:pt x="638175" y="178117"/>
                      <a:pt x="643890" y="180975"/>
                    </a:cubicBezTo>
                    <a:cubicBezTo>
                      <a:pt x="646748" y="183832"/>
                      <a:pt x="652463" y="186690"/>
                      <a:pt x="657225" y="18954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39" name="Freeform: Shape 105"/>
              <p:cNvSpPr/>
              <p:nvPr/>
            </p:nvSpPr>
            <p:spPr>
              <a:xfrm>
                <a:off x="1004760" y="2806200"/>
                <a:ext cx="137160" cy="119520"/>
              </a:xfrm>
              <a:custGeom>
                <a:avLst/>
                <a:gdLst/>
                <a:ahLst/>
                <a:rect l="l" t="t" r="r" b="b"/>
                <a:pathLst>
                  <a:path w="184784" h="160972">
                    <a:moveTo>
                      <a:pt x="184785" y="32385"/>
                    </a:moveTo>
                    <a:cubicBezTo>
                      <a:pt x="180975" y="42863"/>
                      <a:pt x="176213" y="54292"/>
                      <a:pt x="172403" y="65722"/>
                    </a:cubicBezTo>
                    <a:cubicBezTo>
                      <a:pt x="167640" y="62865"/>
                      <a:pt x="162878" y="60960"/>
                      <a:pt x="160020" y="60008"/>
                    </a:cubicBezTo>
                    <a:cubicBezTo>
                      <a:pt x="149543" y="56197"/>
                      <a:pt x="138113" y="54292"/>
                      <a:pt x="126682" y="53340"/>
                    </a:cubicBezTo>
                    <a:cubicBezTo>
                      <a:pt x="121920" y="53340"/>
                      <a:pt x="116205" y="53340"/>
                      <a:pt x="111443" y="54292"/>
                    </a:cubicBezTo>
                    <a:cubicBezTo>
                      <a:pt x="105728" y="56197"/>
                      <a:pt x="101918" y="60008"/>
                      <a:pt x="97155" y="63817"/>
                    </a:cubicBezTo>
                    <a:cubicBezTo>
                      <a:pt x="62865" y="94297"/>
                      <a:pt x="30480" y="126683"/>
                      <a:pt x="0" y="160972"/>
                    </a:cubicBezTo>
                    <a:cubicBezTo>
                      <a:pt x="33338" y="110490"/>
                      <a:pt x="66675" y="59055"/>
                      <a:pt x="100013" y="8572"/>
                    </a:cubicBezTo>
                    <a:cubicBezTo>
                      <a:pt x="101918" y="6667"/>
                      <a:pt x="102870" y="3810"/>
                      <a:pt x="105728" y="1905"/>
                    </a:cubicBezTo>
                    <a:cubicBezTo>
                      <a:pt x="107632" y="953"/>
                      <a:pt x="109538" y="0"/>
                      <a:pt x="111443" y="0"/>
                    </a:cubicBezTo>
                    <a:cubicBezTo>
                      <a:pt x="110490" y="6667"/>
                      <a:pt x="109538" y="13335"/>
                      <a:pt x="108585" y="20003"/>
                    </a:cubicBezTo>
                    <a:cubicBezTo>
                      <a:pt x="108585" y="23813"/>
                      <a:pt x="108585" y="28575"/>
                      <a:pt x="111443" y="30480"/>
                    </a:cubicBezTo>
                    <a:cubicBezTo>
                      <a:pt x="113347" y="31433"/>
                      <a:pt x="116205" y="31433"/>
                      <a:pt x="119063" y="30480"/>
                    </a:cubicBezTo>
                    <a:cubicBezTo>
                      <a:pt x="136208" y="27622"/>
                      <a:pt x="152400" y="23813"/>
                      <a:pt x="169545" y="20955"/>
                    </a:cubicBezTo>
                    <a:cubicBezTo>
                      <a:pt x="170497" y="20955"/>
                      <a:pt x="171450" y="20955"/>
                      <a:pt x="172403" y="20003"/>
                    </a:cubicBezTo>
                    <a:cubicBezTo>
                      <a:pt x="172403" y="20955"/>
                      <a:pt x="173355" y="20955"/>
                      <a:pt x="173355" y="21908"/>
                    </a:cubicBezTo>
                    <a:cubicBezTo>
                      <a:pt x="175260" y="24765"/>
                      <a:pt x="177165" y="26670"/>
                      <a:pt x="180022" y="28575"/>
                    </a:cubicBezTo>
                    <a:cubicBezTo>
                      <a:pt x="180975" y="29528"/>
                      <a:pt x="182880" y="30480"/>
                      <a:pt x="184785" y="323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0" name="Freeform: Shape 106"/>
              <p:cNvSpPr/>
              <p:nvPr/>
            </p:nvSpPr>
            <p:spPr>
              <a:xfrm>
                <a:off x="1163880" y="2562840"/>
                <a:ext cx="81360" cy="146880"/>
              </a:xfrm>
              <a:custGeom>
                <a:avLst/>
                <a:gdLst/>
                <a:ahLst/>
                <a:rect l="l" t="t" r="r" b="b"/>
                <a:pathLst>
                  <a:path w="109647" h="198119">
                    <a:moveTo>
                      <a:pt x="97155" y="78105"/>
                    </a:moveTo>
                    <a:cubicBezTo>
                      <a:pt x="86677" y="109538"/>
                      <a:pt x="76200" y="141923"/>
                      <a:pt x="60007" y="170498"/>
                    </a:cubicBezTo>
                    <a:cubicBezTo>
                      <a:pt x="58102" y="169545"/>
                      <a:pt x="55245" y="168593"/>
                      <a:pt x="52388" y="167640"/>
                    </a:cubicBezTo>
                    <a:cubicBezTo>
                      <a:pt x="49530" y="166688"/>
                      <a:pt x="46672" y="166688"/>
                      <a:pt x="43815" y="167640"/>
                    </a:cubicBezTo>
                    <a:cubicBezTo>
                      <a:pt x="41910" y="168593"/>
                      <a:pt x="40957" y="169545"/>
                      <a:pt x="39052" y="170498"/>
                    </a:cubicBezTo>
                    <a:cubicBezTo>
                      <a:pt x="32385" y="177165"/>
                      <a:pt x="25717" y="183832"/>
                      <a:pt x="19050" y="190500"/>
                    </a:cubicBezTo>
                    <a:cubicBezTo>
                      <a:pt x="12382" y="192405"/>
                      <a:pt x="6667" y="195263"/>
                      <a:pt x="0" y="198120"/>
                    </a:cubicBezTo>
                    <a:cubicBezTo>
                      <a:pt x="20002" y="168593"/>
                      <a:pt x="39052" y="137160"/>
                      <a:pt x="55245" y="105727"/>
                    </a:cubicBezTo>
                    <a:cubicBezTo>
                      <a:pt x="73342" y="71438"/>
                      <a:pt x="83820" y="33338"/>
                      <a:pt x="102870" y="0"/>
                    </a:cubicBezTo>
                    <a:cubicBezTo>
                      <a:pt x="118110" y="20002"/>
                      <a:pt x="103822" y="58102"/>
                      <a:pt x="97155" y="7810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1" name="Freeform: Shape 107"/>
              <p:cNvSpPr/>
              <p:nvPr/>
            </p:nvSpPr>
            <p:spPr>
              <a:xfrm>
                <a:off x="1713960" y="2359800"/>
                <a:ext cx="312120" cy="284760"/>
              </a:xfrm>
              <a:custGeom>
                <a:avLst/>
                <a:gdLst/>
                <a:ahLst/>
                <a:rect l="l" t="t" r="r" b="b"/>
                <a:pathLst>
                  <a:path w="420052" h="383857">
                    <a:moveTo>
                      <a:pt x="420053" y="51435"/>
                    </a:moveTo>
                    <a:cubicBezTo>
                      <a:pt x="370522" y="34290"/>
                      <a:pt x="316230" y="26670"/>
                      <a:pt x="266700" y="43815"/>
                    </a:cubicBezTo>
                    <a:cubicBezTo>
                      <a:pt x="241935" y="52388"/>
                      <a:pt x="219075" y="66675"/>
                      <a:pt x="198120" y="82867"/>
                    </a:cubicBezTo>
                    <a:cubicBezTo>
                      <a:pt x="103822" y="156210"/>
                      <a:pt x="38100" y="266700"/>
                      <a:pt x="20003" y="383857"/>
                    </a:cubicBezTo>
                    <a:cubicBezTo>
                      <a:pt x="17145" y="381953"/>
                      <a:pt x="13335" y="380048"/>
                      <a:pt x="9525" y="380048"/>
                    </a:cubicBezTo>
                    <a:cubicBezTo>
                      <a:pt x="6667" y="380048"/>
                      <a:pt x="2858" y="380048"/>
                      <a:pt x="0" y="381000"/>
                    </a:cubicBezTo>
                    <a:cubicBezTo>
                      <a:pt x="3810" y="372428"/>
                      <a:pt x="6667" y="362903"/>
                      <a:pt x="9525" y="354330"/>
                    </a:cubicBezTo>
                    <a:cubicBezTo>
                      <a:pt x="12383" y="346710"/>
                      <a:pt x="14288" y="340043"/>
                      <a:pt x="17145" y="332423"/>
                    </a:cubicBezTo>
                    <a:cubicBezTo>
                      <a:pt x="20955" y="321945"/>
                      <a:pt x="23813" y="310515"/>
                      <a:pt x="26670" y="300038"/>
                    </a:cubicBezTo>
                    <a:cubicBezTo>
                      <a:pt x="27622" y="298132"/>
                      <a:pt x="27622" y="296228"/>
                      <a:pt x="28575" y="294323"/>
                    </a:cubicBezTo>
                    <a:cubicBezTo>
                      <a:pt x="28575" y="293370"/>
                      <a:pt x="29528" y="292417"/>
                      <a:pt x="29528" y="291465"/>
                    </a:cubicBezTo>
                    <a:cubicBezTo>
                      <a:pt x="36195" y="266700"/>
                      <a:pt x="46672" y="242888"/>
                      <a:pt x="60960" y="221932"/>
                    </a:cubicBezTo>
                    <a:cubicBezTo>
                      <a:pt x="68580" y="211455"/>
                      <a:pt x="76200" y="200977"/>
                      <a:pt x="83820" y="189548"/>
                    </a:cubicBezTo>
                    <a:cubicBezTo>
                      <a:pt x="134303" y="121920"/>
                      <a:pt x="189547" y="52388"/>
                      <a:pt x="268605" y="23813"/>
                    </a:cubicBezTo>
                    <a:cubicBezTo>
                      <a:pt x="289560" y="16192"/>
                      <a:pt x="311467" y="11430"/>
                      <a:pt x="329565" y="0"/>
                    </a:cubicBezTo>
                    <a:cubicBezTo>
                      <a:pt x="360997" y="11430"/>
                      <a:pt x="391478" y="26670"/>
                      <a:pt x="417195" y="47625"/>
                    </a:cubicBezTo>
                    <a:cubicBezTo>
                      <a:pt x="419100" y="50482"/>
                      <a:pt x="419100" y="51435"/>
                      <a:pt x="420053" y="5143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2" name="Freeform: Shape 108"/>
              <p:cNvSpPr/>
              <p:nvPr/>
            </p:nvSpPr>
            <p:spPr>
              <a:xfrm>
                <a:off x="1597680" y="2643120"/>
                <a:ext cx="209520" cy="182160"/>
              </a:xfrm>
              <a:custGeom>
                <a:avLst/>
                <a:gdLst/>
                <a:ahLst/>
                <a:rect l="l" t="t" r="r" b="b"/>
                <a:pathLst>
                  <a:path w="282182" h="245663">
                    <a:moveTo>
                      <a:pt x="282183" y="163272"/>
                    </a:moveTo>
                    <a:cubicBezTo>
                      <a:pt x="281230" y="170892"/>
                      <a:pt x="275515" y="178512"/>
                      <a:pt x="267895" y="181370"/>
                    </a:cubicBezTo>
                    <a:cubicBezTo>
                      <a:pt x="260275" y="184227"/>
                      <a:pt x="251703" y="184227"/>
                      <a:pt x="244083" y="181370"/>
                    </a:cubicBezTo>
                    <a:cubicBezTo>
                      <a:pt x="244083" y="191847"/>
                      <a:pt x="236463" y="200420"/>
                      <a:pt x="226938" y="204230"/>
                    </a:cubicBezTo>
                    <a:cubicBezTo>
                      <a:pt x="223128" y="206135"/>
                      <a:pt x="219318" y="207087"/>
                      <a:pt x="214555" y="207087"/>
                    </a:cubicBezTo>
                    <a:cubicBezTo>
                      <a:pt x="200268" y="208040"/>
                      <a:pt x="185980" y="205182"/>
                      <a:pt x="174550" y="197562"/>
                    </a:cubicBezTo>
                    <a:cubicBezTo>
                      <a:pt x="174550" y="209945"/>
                      <a:pt x="165978" y="221375"/>
                      <a:pt x="155500" y="228995"/>
                    </a:cubicBezTo>
                    <a:cubicBezTo>
                      <a:pt x="145023" y="236615"/>
                      <a:pt x="131688" y="238520"/>
                      <a:pt x="120258" y="234710"/>
                    </a:cubicBezTo>
                    <a:cubicBezTo>
                      <a:pt x="118353" y="233757"/>
                      <a:pt x="116448" y="233757"/>
                      <a:pt x="115495" y="232805"/>
                    </a:cubicBezTo>
                    <a:cubicBezTo>
                      <a:pt x="109780" y="230900"/>
                      <a:pt x="105018" y="227090"/>
                      <a:pt x="99303" y="224232"/>
                    </a:cubicBezTo>
                    <a:cubicBezTo>
                      <a:pt x="94540" y="221375"/>
                      <a:pt x="89778" y="217565"/>
                      <a:pt x="84063" y="214707"/>
                    </a:cubicBezTo>
                    <a:cubicBezTo>
                      <a:pt x="68823" y="228042"/>
                      <a:pt x="51678" y="235662"/>
                      <a:pt x="33580" y="244235"/>
                    </a:cubicBezTo>
                    <a:cubicBezTo>
                      <a:pt x="28818" y="246140"/>
                      <a:pt x="26913" y="246140"/>
                      <a:pt x="22150" y="244235"/>
                    </a:cubicBezTo>
                    <a:cubicBezTo>
                      <a:pt x="22150" y="244235"/>
                      <a:pt x="21198" y="244235"/>
                      <a:pt x="21198" y="244235"/>
                    </a:cubicBezTo>
                    <a:cubicBezTo>
                      <a:pt x="7863" y="235662"/>
                      <a:pt x="-1662" y="219470"/>
                      <a:pt x="243" y="203277"/>
                    </a:cubicBezTo>
                    <a:cubicBezTo>
                      <a:pt x="2148" y="187085"/>
                      <a:pt x="17388" y="172797"/>
                      <a:pt x="33580" y="173750"/>
                    </a:cubicBezTo>
                    <a:cubicBezTo>
                      <a:pt x="25960" y="153747"/>
                      <a:pt x="41200" y="128982"/>
                      <a:pt x="63108" y="127077"/>
                    </a:cubicBezTo>
                    <a:cubicBezTo>
                      <a:pt x="58345" y="119457"/>
                      <a:pt x="58345" y="108980"/>
                      <a:pt x="62155" y="100407"/>
                    </a:cubicBezTo>
                    <a:cubicBezTo>
                      <a:pt x="65965" y="91835"/>
                      <a:pt x="74538" y="87072"/>
                      <a:pt x="84063" y="86120"/>
                    </a:cubicBezTo>
                    <a:cubicBezTo>
                      <a:pt x="79300" y="79452"/>
                      <a:pt x="80253" y="69927"/>
                      <a:pt x="83110" y="63260"/>
                    </a:cubicBezTo>
                    <a:cubicBezTo>
                      <a:pt x="85968" y="55640"/>
                      <a:pt x="91683" y="49925"/>
                      <a:pt x="97398" y="44210"/>
                    </a:cubicBezTo>
                    <a:cubicBezTo>
                      <a:pt x="110733" y="30875"/>
                      <a:pt x="126925" y="20397"/>
                      <a:pt x="142165" y="8967"/>
                    </a:cubicBezTo>
                    <a:cubicBezTo>
                      <a:pt x="146928" y="6110"/>
                      <a:pt x="151690" y="2300"/>
                      <a:pt x="156453" y="1347"/>
                    </a:cubicBezTo>
                    <a:cubicBezTo>
                      <a:pt x="159310" y="395"/>
                      <a:pt x="163120" y="-558"/>
                      <a:pt x="165978" y="395"/>
                    </a:cubicBezTo>
                    <a:cubicBezTo>
                      <a:pt x="169788" y="1347"/>
                      <a:pt x="172645" y="2300"/>
                      <a:pt x="176455" y="4205"/>
                    </a:cubicBezTo>
                    <a:cubicBezTo>
                      <a:pt x="177408" y="5157"/>
                      <a:pt x="178360" y="5157"/>
                      <a:pt x="179313" y="6110"/>
                    </a:cubicBezTo>
                    <a:cubicBezTo>
                      <a:pt x="194553" y="15635"/>
                      <a:pt x="208840" y="25160"/>
                      <a:pt x="224080" y="34685"/>
                    </a:cubicBezTo>
                    <a:cubicBezTo>
                      <a:pt x="236463" y="42305"/>
                      <a:pt x="248845" y="50877"/>
                      <a:pt x="259323" y="60402"/>
                    </a:cubicBezTo>
                    <a:cubicBezTo>
                      <a:pt x="267895" y="68975"/>
                      <a:pt x="275515" y="81357"/>
                      <a:pt x="271705" y="92787"/>
                    </a:cubicBezTo>
                    <a:cubicBezTo>
                      <a:pt x="268848" y="101360"/>
                      <a:pt x="261228" y="107075"/>
                      <a:pt x="251703" y="108980"/>
                    </a:cubicBezTo>
                    <a:cubicBezTo>
                      <a:pt x="243130" y="110885"/>
                      <a:pt x="233605" y="109932"/>
                      <a:pt x="225033" y="108027"/>
                    </a:cubicBezTo>
                    <a:cubicBezTo>
                      <a:pt x="236463" y="117552"/>
                      <a:pt x="245988" y="125172"/>
                      <a:pt x="258370" y="133745"/>
                    </a:cubicBezTo>
                    <a:cubicBezTo>
                      <a:pt x="264085" y="137555"/>
                      <a:pt x="268848" y="141365"/>
                      <a:pt x="273610" y="146127"/>
                    </a:cubicBezTo>
                    <a:cubicBezTo>
                      <a:pt x="279325" y="150890"/>
                      <a:pt x="282183" y="156605"/>
                      <a:pt x="282183" y="1632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3" name="Freeform: Shape 109"/>
              <p:cNvSpPr/>
              <p:nvPr/>
            </p:nvSpPr>
            <p:spPr>
              <a:xfrm>
                <a:off x="1310760" y="3071520"/>
                <a:ext cx="32400" cy="334440"/>
              </a:xfrm>
              <a:custGeom>
                <a:avLst/>
                <a:gdLst/>
                <a:ahLst/>
                <a:rect l="l" t="t" r="r" b="b"/>
                <a:pathLst>
                  <a:path w="43712" h="450532">
                    <a:moveTo>
                      <a:pt x="43713" y="450533"/>
                    </a:moveTo>
                    <a:cubicBezTo>
                      <a:pt x="38950" y="449580"/>
                      <a:pt x="34188" y="448628"/>
                      <a:pt x="29425" y="447675"/>
                    </a:cubicBezTo>
                    <a:cubicBezTo>
                      <a:pt x="19900" y="373380"/>
                      <a:pt x="12280" y="299085"/>
                      <a:pt x="6565" y="224790"/>
                    </a:cubicBezTo>
                    <a:cubicBezTo>
                      <a:pt x="3708" y="176213"/>
                      <a:pt x="1803" y="126683"/>
                      <a:pt x="850" y="78105"/>
                    </a:cubicBezTo>
                    <a:cubicBezTo>
                      <a:pt x="850" y="55245"/>
                      <a:pt x="-2007" y="29528"/>
                      <a:pt x="2755" y="7620"/>
                    </a:cubicBezTo>
                    <a:cubicBezTo>
                      <a:pt x="2755" y="5715"/>
                      <a:pt x="3708" y="3810"/>
                      <a:pt x="4660" y="1905"/>
                    </a:cubicBezTo>
                    <a:cubicBezTo>
                      <a:pt x="9423" y="953"/>
                      <a:pt x="15138" y="0"/>
                      <a:pt x="19900" y="0"/>
                    </a:cubicBezTo>
                    <a:cubicBezTo>
                      <a:pt x="15138" y="110490"/>
                      <a:pt x="23710" y="220980"/>
                      <a:pt x="33235" y="331470"/>
                    </a:cubicBezTo>
                    <a:cubicBezTo>
                      <a:pt x="37045" y="371475"/>
                      <a:pt x="40855" y="410528"/>
                      <a:pt x="43713" y="45053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4" name="Freeform: Shape 110"/>
              <p:cNvSpPr/>
              <p:nvPr/>
            </p:nvSpPr>
            <p:spPr>
              <a:xfrm>
                <a:off x="1368000" y="3234240"/>
                <a:ext cx="200160" cy="183600"/>
              </a:xfrm>
              <a:custGeom>
                <a:avLst/>
                <a:gdLst/>
                <a:ahLst/>
                <a:rect l="l" t="t" r="r" b="b"/>
                <a:pathLst>
                  <a:path w="269557" h="247650">
                    <a:moveTo>
                      <a:pt x="269557" y="245745"/>
                    </a:moveTo>
                    <a:cubicBezTo>
                      <a:pt x="259080" y="246697"/>
                      <a:pt x="249555" y="246697"/>
                      <a:pt x="239077" y="247650"/>
                    </a:cubicBezTo>
                    <a:cubicBezTo>
                      <a:pt x="219075" y="234315"/>
                      <a:pt x="198120" y="219075"/>
                      <a:pt x="177165" y="201930"/>
                    </a:cubicBezTo>
                    <a:cubicBezTo>
                      <a:pt x="148590" y="178117"/>
                      <a:pt x="122873" y="153353"/>
                      <a:pt x="100013" y="130492"/>
                    </a:cubicBezTo>
                    <a:cubicBezTo>
                      <a:pt x="88583" y="119063"/>
                      <a:pt x="79058" y="107633"/>
                      <a:pt x="69533" y="96203"/>
                    </a:cubicBezTo>
                    <a:cubicBezTo>
                      <a:pt x="64770" y="90488"/>
                      <a:pt x="60008" y="85725"/>
                      <a:pt x="56198" y="80010"/>
                    </a:cubicBezTo>
                    <a:cubicBezTo>
                      <a:pt x="52388" y="74295"/>
                      <a:pt x="48577" y="69533"/>
                      <a:pt x="44768" y="64770"/>
                    </a:cubicBezTo>
                    <a:cubicBezTo>
                      <a:pt x="37148" y="55245"/>
                      <a:pt x="30480" y="46672"/>
                      <a:pt x="25718" y="38100"/>
                    </a:cubicBezTo>
                    <a:cubicBezTo>
                      <a:pt x="22860" y="34290"/>
                      <a:pt x="20002" y="30480"/>
                      <a:pt x="18098" y="26670"/>
                    </a:cubicBezTo>
                    <a:cubicBezTo>
                      <a:pt x="16193" y="22860"/>
                      <a:pt x="13335" y="20003"/>
                      <a:pt x="11430" y="17145"/>
                    </a:cubicBezTo>
                    <a:cubicBezTo>
                      <a:pt x="4763" y="6667"/>
                      <a:pt x="952" y="0"/>
                      <a:pt x="0" y="0"/>
                    </a:cubicBezTo>
                    <a:cubicBezTo>
                      <a:pt x="952" y="953"/>
                      <a:pt x="5715" y="5715"/>
                      <a:pt x="14288" y="15240"/>
                    </a:cubicBezTo>
                    <a:cubicBezTo>
                      <a:pt x="16193" y="18097"/>
                      <a:pt x="19050" y="20955"/>
                      <a:pt x="21908" y="23813"/>
                    </a:cubicBezTo>
                    <a:cubicBezTo>
                      <a:pt x="24765" y="26670"/>
                      <a:pt x="27623" y="30480"/>
                      <a:pt x="31433" y="33338"/>
                    </a:cubicBezTo>
                    <a:cubicBezTo>
                      <a:pt x="38100" y="40005"/>
                      <a:pt x="44768" y="48578"/>
                      <a:pt x="53340" y="57150"/>
                    </a:cubicBezTo>
                    <a:cubicBezTo>
                      <a:pt x="57150" y="61913"/>
                      <a:pt x="61913" y="65722"/>
                      <a:pt x="66675" y="70485"/>
                    </a:cubicBezTo>
                    <a:cubicBezTo>
                      <a:pt x="71438" y="75247"/>
                      <a:pt x="76200" y="80010"/>
                      <a:pt x="80963" y="84772"/>
                    </a:cubicBezTo>
                    <a:cubicBezTo>
                      <a:pt x="90488" y="95250"/>
                      <a:pt x="101918" y="104775"/>
                      <a:pt x="113348" y="116205"/>
                    </a:cubicBezTo>
                    <a:cubicBezTo>
                      <a:pt x="136208" y="138113"/>
                      <a:pt x="162877" y="160972"/>
                      <a:pt x="191452" y="183833"/>
                    </a:cubicBezTo>
                    <a:cubicBezTo>
                      <a:pt x="218123" y="207645"/>
                      <a:pt x="244793" y="227647"/>
                      <a:pt x="269557" y="24574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5" name="Freeform: Shape 112"/>
              <p:cNvSpPr/>
              <p:nvPr/>
            </p:nvSpPr>
            <p:spPr>
              <a:xfrm>
                <a:off x="1532880" y="2965320"/>
                <a:ext cx="334440" cy="402480"/>
              </a:xfrm>
              <a:custGeom>
                <a:avLst/>
                <a:gdLst/>
                <a:ahLst/>
                <a:rect l="l" t="t" r="r" b="b"/>
                <a:pathLst>
                  <a:path w="450532" h="541972">
                    <a:moveTo>
                      <a:pt x="450533" y="504825"/>
                    </a:moveTo>
                    <a:cubicBezTo>
                      <a:pt x="421005" y="518160"/>
                      <a:pt x="389573" y="530543"/>
                      <a:pt x="359093" y="541972"/>
                    </a:cubicBezTo>
                    <a:cubicBezTo>
                      <a:pt x="357188" y="536258"/>
                      <a:pt x="355283" y="530543"/>
                      <a:pt x="353378" y="524828"/>
                    </a:cubicBezTo>
                    <a:cubicBezTo>
                      <a:pt x="327660" y="446722"/>
                      <a:pt x="298133" y="369570"/>
                      <a:pt x="265748" y="294322"/>
                    </a:cubicBezTo>
                    <a:cubicBezTo>
                      <a:pt x="228600" y="293370"/>
                      <a:pt x="189548" y="292417"/>
                      <a:pt x="155258" y="277178"/>
                    </a:cubicBezTo>
                    <a:cubicBezTo>
                      <a:pt x="133350" y="267653"/>
                      <a:pt x="115253" y="253365"/>
                      <a:pt x="96203" y="238125"/>
                    </a:cubicBezTo>
                    <a:cubicBezTo>
                      <a:pt x="77153" y="222885"/>
                      <a:pt x="58103" y="207645"/>
                      <a:pt x="38100" y="192405"/>
                    </a:cubicBezTo>
                    <a:cubicBezTo>
                      <a:pt x="26670" y="182880"/>
                      <a:pt x="6668" y="173355"/>
                      <a:pt x="0" y="159067"/>
                    </a:cubicBezTo>
                    <a:cubicBezTo>
                      <a:pt x="36195" y="177165"/>
                      <a:pt x="72390" y="194310"/>
                      <a:pt x="108585" y="212408"/>
                    </a:cubicBezTo>
                    <a:cubicBezTo>
                      <a:pt x="137160" y="225742"/>
                      <a:pt x="167640" y="240030"/>
                      <a:pt x="198120" y="232410"/>
                    </a:cubicBezTo>
                    <a:cubicBezTo>
                      <a:pt x="215265" y="227647"/>
                      <a:pt x="229553" y="216217"/>
                      <a:pt x="242888" y="203835"/>
                    </a:cubicBezTo>
                    <a:cubicBezTo>
                      <a:pt x="284798" y="165735"/>
                      <a:pt x="348615" y="83820"/>
                      <a:pt x="374333" y="0"/>
                    </a:cubicBezTo>
                    <a:cubicBezTo>
                      <a:pt x="369570" y="27622"/>
                      <a:pt x="364808" y="54292"/>
                      <a:pt x="360045" y="81915"/>
                    </a:cubicBezTo>
                    <a:cubicBezTo>
                      <a:pt x="355283" y="106680"/>
                      <a:pt x="351473" y="132397"/>
                      <a:pt x="352425" y="158115"/>
                    </a:cubicBezTo>
                    <a:cubicBezTo>
                      <a:pt x="354330" y="190500"/>
                      <a:pt x="364808" y="221933"/>
                      <a:pt x="374333" y="253365"/>
                    </a:cubicBezTo>
                    <a:cubicBezTo>
                      <a:pt x="401955" y="336233"/>
                      <a:pt x="427673" y="420053"/>
                      <a:pt x="450533" y="504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6" name="Freeform: Shape 113"/>
              <p:cNvSpPr/>
              <p:nvPr/>
            </p:nvSpPr>
            <p:spPr>
              <a:xfrm>
                <a:off x="1399680" y="2233800"/>
                <a:ext cx="422280" cy="547920"/>
              </a:xfrm>
              <a:custGeom>
                <a:avLst/>
                <a:gdLst/>
                <a:ahLst/>
                <a:rect l="l" t="t" r="r" b="b"/>
                <a:pathLst>
                  <a:path w="568642" h="738187">
                    <a:moveTo>
                      <a:pt x="568643" y="91440"/>
                    </a:moveTo>
                    <a:cubicBezTo>
                      <a:pt x="567690" y="97155"/>
                      <a:pt x="566738" y="102870"/>
                      <a:pt x="565785" y="108585"/>
                    </a:cubicBezTo>
                    <a:cubicBezTo>
                      <a:pt x="565785" y="111443"/>
                      <a:pt x="564832" y="113348"/>
                      <a:pt x="563880" y="116205"/>
                    </a:cubicBezTo>
                    <a:cubicBezTo>
                      <a:pt x="563880" y="117158"/>
                      <a:pt x="563880" y="118110"/>
                      <a:pt x="562928" y="119063"/>
                    </a:cubicBezTo>
                    <a:cubicBezTo>
                      <a:pt x="561975" y="121920"/>
                      <a:pt x="561975" y="123825"/>
                      <a:pt x="561023" y="126683"/>
                    </a:cubicBezTo>
                    <a:cubicBezTo>
                      <a:pt x="560070" y="129540"/>
                      <a:pt x="560070" y="131445"/>
                      <a:pt x="559118" y="134302"/>
                    </a:cubicBezTo>
                    <a:cubicBezTo>
                      <a:pt x="559118" y="135255"/>
                      <a:pt x="559118" y="136208"/>
                      <a:pt x="558165" y="136208"/>
                    </a:cubicBezTo>
                    <a:cubicBezTo>
                      <a:pt x="557213" y="138113"/>
                      <a:pt x="557213" y="140018"/>
                      <a:pt x="556260" y="141923"/>
                    </a:cubicBezTo>
                    <a:cubicBezTo>
                      <a:pt x="556260" y="142875"/>
                      <a:pt x="556260" y="142875"/>
                      <a:pt x="555307" y="143827"/>
                    </a:cubicBezTo>
                    <a:cubicBezTo>
                      <a:pt x="555307" y="144780"/>
                      <a:pt x="554355" y="146685"/>
                      <a:pt x="554355" y="147638"/>
                    </a:cubicBezTo>
                    <a:cubicBezTo>
                      <a:pt x="553403" y="149543"/>
                      <a:pt x="553403" y="151448"/>
                      <a:pt x="552450" y="153352"/>
                    </a:cubicBezTo>
                    <a:cubicBezTo>
                      <a:pt x="551498" y="155258"/>
                      <a:pt x="551498" y="157163"/>
                      <a:pt x="550545" y="159068"/>
                    </a:cubicBezTo>
                    <a:cubicBezTo>
                      <a:pt x="549593" y="160973"/>
                      <a:pt x="549593" y="161925"/>
                      <a:pt x="548640" y="163830"/>
                    </a:cubicBezTo>
                    <a:cubicBezTo>
                      <a:pt x="547688" y="165735"/>
                      <a:pt x="546735" y="168593"/>
                      <a:pt x="545782" y="170498"/>
                    </a:cubicBezTo>
                    <a:cubicBezTo>
                      <a:pt x="544830" y="173355"/>
                      <a:pt x="543878" y="176213"/>
                      <a:pt x="541973" y="180023"/>
                    </a:cubicBezTo>
                    <a:cubicBezTo>
                      <a:pt x="541020" y="182880"/>
                      <a:pt x="540068" y="185738"/>
                      <a:pt x="538163" y="188595"/>
                    </a:cubicBezTo>
                    <a:cubicBezTo>
                      <a:pt x="537210" y="191452"/>
                      <a:pt x="535305" y="194310"/>
                      <a:pt x="534353" y="197168"/>
                    </a:cubicBezTo>
                    <a:cubicBezTo>
                      <a:pt x="533400" y="199073"/>
                      <a:pt x="532448" y="201930"/>
                      <a:pt x="530543" y="203835"/>
                    </a:cubicBezTo>
                    <a:cubicBezTo>
                      <a:pt x="529590" y="205740"/>
                      <a:pt x="528638" y="207645"/>
                      <a:pt x="527685" y="209550"/>
                    </a:cubicBezTo>
                    <a:cubicBezTo>
                      <a:pt x="526732" y="211455"/>
                      <a:pt x="525780" y="213360"/>
                      <a:pt x="524828" y="215265"/>
                    </a:cubicBezTo>
                    <a:cubicBezTo>
                      <a:pt x="524828" y="216218"/>
                      <a:pt x="523875" y="217170"/>
                      <a:pt x="523875" y="217170"/>
                    </a:cubicBezTo>
                    <a:cubicBezTo>
                      <a:pt x="522923" y="219075"/>
                      <a:pt x="521018" y="221933"/>
                      <a:pt x="520065" y="223838"/>
                    </a:cubicBezTo>
                    <a:cubicBezTo>
                      <a:pt x="520065" y="224790"/>
                      <a:pt x="519113" y="225743"/>
                      <a:pt x="519113" y="225743"/>
                    </a:cubicBezTo>
                    <a:cubicBezTo>
                      <a:pt x="517207" y="228600"/>
                      <a:pt x="516255" y="231458"/>
                      <a:pt x="514350" y="233363"/>
                    </a:cubicBezTo>
                    <a:cubicBezTo>
                      <a:pt x="513398" y="235268"/>
                      <a:pt x="511493" y="237173"/>
                      <a:pt x="510540" y="240030"/>
                    </a:cubicBezTo>
                    <a:cubicBezTo>
                      <a:pt x="509588" y="241935"/>
                      <a:pt x="508635" y="242888"/>
                      <a:pt x="507682" y="244793"/>
                    </a:cubicBezTo>
                    <a:cubicBezTo>
                      <a:pt x="507682" y="244793"/>
                      <a:pt x="507682" y="244793"/>
                      <a:pt x="507682" y="244793"/>
                    </a:cubicBezTo>
                    <a:cubicBezTo>
                      <a:pt x="503873" y="249555"/>
                      <a:pt x="501015" y="254318"/>
                      <a:pt x="497205" y="260033"/>
                    </a:cubicBezTo>
                    <a:cubicBezTo>
                      <a:pt x="488632" y="260033"/>
                      <a:pt x="477203" y="262890"/>
                      <a:pt x="468630" y="265748"/>
                    </a:cubicBezTo>
                    <a:cubicBezTo>
                      <a:pt x="466725" y="265748"/>
                      <a:pt x="465773" y="266700"/>
                      <a:pt x="464820" y="266700"/>
                    </a:cubicBezTo>
                    <a:cubicBezTo>
                      <a:pt x="426720" y="277178"/>
                      <a:pt x="387668" y="282893"/>
                      <a:pt x="347663" y="285750"/>
                    </a:cubicBezTo>
                    <a:cubicBezTo>
                      <a:pt x="360045" y="301943"/>
                      <a:pt x="375285" y="316230"/>
                      <a:pt x="391478" y="328613"/>
                    </a:cubicBezTo>
                    <a:cubicBezTo>
                      <a:pt x="408623" y="342900"/>
                      <a:pt x="427673" y="354330"/>
                      <a:pt x="447675" y="364808"/>
                    </a:cubicBezTo>
                    <a:cubicBezTo>
                      <a:pt x="340995" y="507682"/>
                      <a:pt x="189548" y="608648"/>
                      <a:pt x="66675" y="738188"/>
                    </a:cubicBezTo>
                    <a:cubicBezTo>
                      <a:pt x="46673" y="729615"/>
                      <a:pt x="26670" y="721043"/>
                      <a:pt x="7620" y="711518"/>
                    </a:cubicBezTo>
                    <a:cubicBezTo>
                      <a:pt x="4763" y="710565"/>
                      <a:pt x="1905" y="708660"/>
                      <a:pt x="0" y="707707"/>
                    </a:cubicBezTo>
                    <a:cubicBezTo>
                      <a:pt x="0" y="706755"/>
                      <a:pt x="952" y="706755"/>
                      <a:pt x="952" y="705803"/>
                    </a:cubicBezTo>
                    <a:cubicBezTo>
                      <a:pt x="10477" y="688657"/>
                      <a:pt x="20955" y="672465"/>
                      <a:pt x="30480" y="656273"/>
                    </a:cubicBezTo>
                    <a:cubicBezTo>
                      <a:pt x="104775" y="536257"/>
                      <a:pt x="190500" y="421958"/>
                      <a:pt x="280035" y="311468"/>
                    </a:cubicBezTo>
                    <a:cubicBezTo>
                      <a:pt x="283845" y="307658"/>
                      <a:pt x="287655" y="304800"/>
                      <a:pt x="291465" y="300990"/>
                    </a:cubicBezTo>
                    <a:cubicBezTo>
                      <a:pt x="354330" y="240030"/>
                      <a:pt x="417195" y="179070"/>
                      <a:pt x="470535" y="109538"/>
                    </a:cubicBezTo>
                    <a:cubicBezTo>
                      <a:pt x="480060" y="98108"/>
                      <a:pt x="488632" y="85725"/>
                      <a:pt x="495300" y="71438"/>
                    </a:cubicBezTo>
                    <a:cubicBezTo>
                      <a:pt x="498157" y="65723"/>
                      <a:pt x="500063" y="59055"/>
                      <a:pt x="500063" y="53340"/>
                    </a:cubicBezTo>
                    <a:cubicBezTo>
                      <a:pt x="500063" y="47625"/>
                      <a:pt x="498157" y="42863"/>
                      <a:pt x="496253" y="38100"/>
                    </a:cubicBezTo>
                    <a:cubicBezTo>
                      <a:pt x="493395" y="29527"/>
                      <a:pt x="485775" y="11430"/>
                      <a:pt x="476250" y="0"/>
                    </a:cubicBezTo>
                    <a:cubicBezTo>
                      <a:pt x="476250" y="0"/>
                      <a:pt x="476250" y="0"/>
                      <a:pt x="477203" y="0"/>
                    </a:cubicBezTo>
                    <a:cubicBezTo>
                      <a:pt x="479107" y="0"/>
                      <a:pt x="481013" y="952"/>
                      <a:pt x="481965" y="1905"/>
                    </a:cubicBezTo>
                    <a:cubicBezTo>
                      <a:pt x="490538" y="7620"/>
                      <a:pt x="497205" y="17145"/>
                      <a:pt x="504825" y="25718"/>
                    </a:cubicBezTo>
                    <a:cubicBezTo>
                      <a:pt x="525780" y="49530"/>
                      <a:pt x="545782" y="71438"/>
                      <a:pt x="568643" y="91440"/>
                    </a:cubicBezTo>
                    <a:cubicBezTo>
                      <a:pt x="568643" y="91440"/>
                      <a:pt x="568643" y="91440"/>
                      <a:pt x="568643" y="9144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47" name="Freeform: Shape 114"/>
              <p:cNvSpPr/>
              <p:nvPr/>
            </p:nvSpPr>
            <p:spPr>
              <a:xfrm>
                <a:off x="1692720" y="2478600"/>
                <a:ext cx="42120" cy="26640"/>
              </a:xfrm>
              <a:custGeom>
                <a:avLst/>
                <a:gdLst/>
                <a:ahLst/>
                <a:rect l="l" t="t" r="r" b="b"/>
                <a:pathLst>
                  <a:path w="57150" h="36195">
                    <a:moveTo>
                      <a:pt x="-8386" y="-31246"/>
                    </a:moveTo>
                    <a:cubicBezTo>
                      <a:pt x="-8386" y="-30293"/>
                      <a:pt x="-9339" y="-30293"/>
                      <a:pt x="-9339" y="-29341"/>
                    </a:cubicBezTo>
                    <a:cubicBezTo>
                      <a:pt x="-29341" y="26670"/>
                      <a:pt x="17145" y="14288"/>
                      <a:pt x="0" y="0"/>
                    </a:cubicBezTo>
                    <a:cubicBezTo>
                      <a:pt x="17145" y="14288"/>
                      <a:pt x="-29341" y="25718"/>
                      <a:pt x="-8386" y="-31246"/>
                    </a:cubicBezTo>
                    <a:close/>
                  </a:path>
                </a:pathLst>
              </a:custGeom>
              <a:solidFill>
                <a:srgbClr val="414042"/>
              </a:solidFill>
              <a:ln w="0">
                <a:noFill/>
              </a:ln>
            </p:spPr>
            <p:style>
              <a:lnRef idx="0"/>
              <a:fillRef idx="0"/>
              <a:effectRef idx="0"/>
              <a:fontRef idx="minor"/>
            </p:style>
            <p:txBody>
              <a:bodyPr lIns="90000" rIns="90000" tIns="-20160" bIns="-20160" anchor="ctr">
                <a:noAutofit/>
              </a:bodyPr>
              <a:p>
                <a:endParaRPr b="0" lang="en-US" sz="1800" spc="-1" strike="noStrike">
                  <a:solidFill>
                    <a:srgbClr val="313c3f"/>
                  </a:solidFill>
                  <a:latin typeface="Source Sans Pro"/>
                </a:endParaRPr>
              </a:p>
            </p:txBody>
          </p:sp>
          <p:pic>
            <p:nvPicPr>
              <p:cNvPr id="1048" name="Graphic 2" descr=""/>
              <p:cNvPicPr/>
              <p:nvPr/>
            </p:nvPicPr>
            <p:blipFill>
              <a:blip r:embed="rId4"/>
              <a:stretch/>
            </p:blipFill>
            <p:spPr>
              <a:xfrm>
                <a:off x="1298520" y="2298240"/>
                <a:ext cx="170640" cy="420480"/>
              </a:xfrm>
              <a:prstGeom prst="rect">
                <a:avLst/>
              </a:prstGeom>
              <a:ln w="0">
                <a:noFill/>
              </a:ln>
            </p:spPr>
          </p:pic>
          <p:sp>
            <p:nvSpPr>
              <p:cNvPr id="1049" name="Freeform: Shape 118"/>
              <p:cNvSpPr/>
              <p:nvPr/>
            </p:nvSpPr>
            <p:spPr>
              <a:xfrm>
                <a:off x="1305000" y="2277720"/>
                <a:ext cx="204480" cy="471600"/>
              </a:xfrm>
              <a:custGeom>
                <a:avLst/>
                <a:gdLst/>
                <a:ahLst/>
                <a:rect l="l" t="t" r="r" b="b"/>
                <a:pathLst>
                  <a:path w="275272" h="635317">
                    <a:moveTo>
                      <a:pt x="275273" y="0"/>
                    </a:moveTo>
                    <a:cubicBezTo>
                      <a:pt x="275273" y="0"/>
                      <a:pt x="275273" y="0"/>
                      <a:pt x="275273" y="0"/>
                    </a:cubicBezTo>
                    <a:cubicBezTo>
                      <a:pt x="268605" y="5715"/>
                      <a:pt x="260985" y="20002"/>
                      <a:pt x="258128" y="24765"/>
                    </a:cubicBezTo>
                    <a:cubicBezTo>
                      <a:pt x="249555" y="39052"/>
                      <a:pt x="240983" y="52388"/>
                      <a:pt x="233363" y="66675"/>
                    </a:cubicBezTo>
                    <a:cubicBezTo>
                      <a:pt x="230505" y="71438"/>
                      <a:pt x="228600" y="75247"/>
                      <a:pt x="225743" y="80010"/>
                    </a:cubicBezTo>
                    <a:cubicBezTo>
                      <a:pt x="225743" y="80963"/>
                      <a:pt x="224790" y="80963"/>
                      <a:pt x="224790" y="81915"/>
                    </a:cubicBezTo>
                    <a:cubicBezTo>
                      <a:pt x="223838" y="83820"/>
                      <a:pt x="221933" y="85725"/>
                      <a:pt x="220980" y="88582"/>
                    </a:cubicBezTo>
                    <a:cubicBezTo>
                      <a:pt x="220028" y="90488"/>
                      <a:pt x="218123" y="93345"/>
                      <a:pt x="217170" y="95250"/>
                    </a:cubicBezTo>
                    <a:cubicBezTo>
                      <a:pt x="209550" y="109538"/>
                      <a:pt x="201930" y="123825"/>
                      <a:pt x="195263" y="139065"/>
                    </a:cubicBezTo>
                    <a:cubicBezTo>
                      <a:pt x="194310" y="141922"/>
                      <a:pt x="192405" y="145732"/>
                      <a:pt x="191453" y="148590"/>
                    </a:cubicBezTo>
                    <a:cubicBezTo>
                      <a:pt x="182880" y="169545"/>
                      <a:pt x="174308" y="191452"/>
                      <a:pt x="169545" y="213360"/>
                    </a:cubicBezTo>
                    <a:cubicBezTo>
                      <a:pt x="159068" y="233363"/>
                      <a:pt x="150495" y="253365"/>
                      <a:pt x="142875" y="274320"/>
                    </a:cubicBezTo>
                    <a:cubicBezTo>
                      <a:pt x="110490" y="365760"/>
                      <a:pt x="114300" y="463867"/>
                      <a:pt x="119063" y="561975"/>
                    </a:cubicBezTo>
                    <a:cubicBezTo>
                      <a:pt x="120968" y="592455"/>
                      <a:pt x="121920" y="604838"/>
                      <a:pt x="122873" y="635318"/>
                    </a:cubicBezTo>
                    <a:cubicBezTo>
                      <a:pt x="122873" y="635318"/>
                      <a:pt x="113348" y="630555"/>
                      <a:pt x="113348" y="631508"/>
                    </a:cubicBezTo>
                    <a:cubicBezTo>
                      <a:pt x="103823" y="626745"/>
                      <a:pt x="105728" y="621983"/>
                      <a:pt x="96203" y="617220"/>
                    </a:cubicBezTo>
                    <a:cubicBezTo>
                      <a:pt x="76200" y="606743"/>
                      <a:pt x="53340" y="606743"/>
                      <a:pt x="33338" y="599122"/>
                    </a:cubicBezTo>
                    <a:cubicBezTo>
                      <a:pt x="27623" y="581977"/>
                      <a:pt x="21908" y="564833"/>
                      <a:pt x="18098" y="547688"/>
                    </a:cubicBezTo>
                    <a:cubicBezTo>
                      <a:pt x="10478" y="513397"/>
                      <a:pt x="7620" y="479108"/>
                      <a:pt x="5715" y="443865"/>
                    </a:cubicBezTo>
                    <a:cubicBezTo>
                      <a:pt x="2858" y="401955"/>
                      <a:pt x="953" y="360045"/>
                      <a:pt x="0" y="318135"/>
                    </a:cubicBezTo>
                    <a:cubicBezTo>
                      <a:pt x="0" y="314325"/>
                      <a:pt x="0" y="309563"/>
                      <a:pt x="1905" y="306705"/>
                    </a:cubicBezTo>
                    <a:cubicBezTo>
                      <a:pt x="1905" y="305753"/>
                      <a:pt x="2858" y="305753"/>
                      <a:pt x="2858" y="305753"/>
                    </a:cubicBezTo>
                    <a:cubicBezTo>
                      <a:pt x="2858" y="305753"/>
                      <a:pt x="2858" y="305753"/>
                      <a:pt x="2858" y="305753"/>
                    </a:cubicBezTo>
                    <a:cubicBezTo>
                      <a:pt x="39053" y="286703"/>
                      <a:pt x="75248" y="264795"/>
                      <a:pt x="111443" y="246697"/>
                    </a:cubicBezTo>
                    <a:cubicBezTo>
                      <a:pt x="111443" y="246697"/>
                      <a:pt x="111443" y="246697"/>
                      <a:pt x="110490" y="245745"/>
                    </a:cubicBezTo>
                    <a:cubicBezTo>
                      <a:pt x="112395" y="244792"/>
                      <a:pt x="115253" y="242888"/>
                      <a:pt x="117158" y="241935"/>
                    </a:cubicBezTo>
                    <a:cubicBezTo>
                      <a:pt x="101918" y="226695"/>
                      <a:pt x="84773" y="213360"/>
                      <a:pt x="67628" y="201930"/>
                    </a:cubicBezTo>
                    <a:cubicBezTo>
                      <a:pt x="92393" y="164782"/>
                      <a:pt x="119063" y="128588"/>
                      <a:pt x="147638" y="97155"/>
                    </a:cubicBezTo>
                    <a:cubicBezTo>
                      <a:pt x="155258" y="89535"/>
                      <a:pt x="161925" y="81915"/>
                      <a:pt x="169545" y="74295"/>
                    </a:cubicBezTo>
                    <a:cubicBezTo>
                      <a:pt x="187643" y="57150"/>
                      <a:pt x="205740" y="40957"/>
                      <a:pt x="225743" y="27622"/>
                    </a:cubicBezTo>
                    <a:cubicBezTo>
                      <a:pt x="240983" y="15240"/>
                      <a:pt x="258128" y="6667"/>
                      <a:pt x="275273"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50" name="Freeform: Shape 119"/>
              <p:cNvSpPr/>
              <p:nvPr/>
            </p:nvSpPr>
            <p:spPr>
              <a:xfrm>
                <a:off x="1306440" y="2458800"/>
                <a:ext cx="80640" cy="43560"/>
              </a:xfrm>
              <a:custGeom>
                <a:avLst/>
                <a:gdLst/>
                <a:ahLst/>
                <a:rect l="l" t="t" r="r" b="b"/>
                <a:pathLst>
                  <a:path w="108585" h="59054">
                    <a:moveTo>
                      <a:pt x="108585" y="0"/>
                    </a:moveTo>
                    <a:cubicBezTo>
                      <a:pt x="72390" y="19050"/>
                      <a:pt x="36195" y="40957"/>
                      <a:pt x="0" y="59055"/>
                    </a:cubicBezTo>
                    <a:cubicBezTo>
                      <a:pt x="0" y="59055"/>
                      <a:pt x="0" y="59055"/>
                      <a:pt x="0" y="59055"/>
                    </a:cubicBezTo>
                    <a:cubicBezTo>
                      <a:pt x="1905" y="57150"/>
                      <a:pt x="3810" y="56198"/>
                      <a:pt x="6667" y="55245"/>
                    </a:cubicBezTo>
                    <a:cubicBezTo>
                      <a:pt x="40005" y="38100"/>
                      <a:pt x="74295" y="17145"/>
                      <a:pt x="108585" y="0"/>
                    </a:cubicBezTo>
                    <a:cubicBezTo>
                      <a:pt x="108585" y="0"/>
                      <a:pt x="108585" y="0"/>
                      <a:pt x="108585" y="0"/>
                    </a:cubicBezTo>
                    <a:close/>
                  </a:path>
                </a:pathLst>
              </a:custGeom>
              <a:solidFill>
                <a:srgbClr val="414042"/>
              </a:solidFill>
              <a:ln w="0">
                <a:noFill/>
              </a:ln>
            </p:spPr>
            <p:style>
              <a:lnRef idx="0"/>
              <a:fillRef idx="0"/>
              <a:effectRef idx="0"/>
              <a:fontRef idx="minor"/>
            </p:style>
            <p:txBody>
              <a:bodyPr lIns="90000" rIns="90000" tIns="-3240" bIns="-3240" anchor="ctr">
                <a:noAutofit/>
              </a:bodyPr>
              <a:p>
                <a:endParaRPr b="0" lang="en-US" sz="1800" spc="-1" strike="noStrike">
                  <a:solidFill>
                    <a:srgbClr val="313c3f"/>
                  </a:solidFill>
                  <a:latin typeface="Source Sans Pro"/>
                </a:endParaRPr>
              </a:p>
            </p:txBody>
          </p:sp>
          <p:sp>
            <p:nvSpPr>
              <p:cNvPr id="1051" name="Freeform: Shape 120"/>
              <p:cNvSpPr/>
              <p:nvPr/>
            </p:nvSpPr>
            <p:spPr>
              <a:xfrm>
                <a:off x="1328400" y="2274120"/>
                <a:ext cx="185400" cy="486000"/>
              </a:xfrm>
              <a:custGeom>
                <a:avLst/>
                <a:gdLst/>
                <a:ahLst/>
                <a:rect l="l" t="t" r="r" b="b"/>
                <a:pathLst>
                  <a:path w="249554" h="654367">
                    <a:moveTo>
                      <a:pt x="249555" y="0"/>
                    </a:moveTo>
                    <a:cubicBezTo>
                      <a:pt x="249555" y="952"/>
                      <a:pt x="249555" y="952"/>
                      <a:pt x="249555" y="0"/>
                    </a:cubicBezTo>
                    <a:cubicBezTo>
                      <a:pt x="242888" y="5715"/>
                      <a:pt x="235267" y="20002"/>
                      <a:pt x="232410" y="24765"/>
                    </a:cubicBezTo>
                    <a:cubicBezTo>
                      <a:pt x="223838" y="39052"/>
                      <a:pt x="215265" y="52388"/>
                      <a:pt x="207645" y="66675"/>
                    </a:cubicBezTo>
                    <a:cubicBezTo>
                      <a:pt x="204788" y="71438"/>
                      <a:pt x="202883" y="75247"/>
                      <a:pt x="200025" y="80010"/>
                    </a:cubicBezTo>
                    <a:cubicBezTo>
                      <a:pt x="200025" y="80963"/>
                      <a:pt x="199073" y="80963"/>
                      <a:pt x="199073" y="81915"/>
                    </a:cubicBezTo>
                    <a:cubicBezTo>
                      <a:pt x="198120" y="83820"/>
                      <a:pt x="196215" y="85725"/>
                      <a:pt x="195263" y="88582"/>
                    </a:cubicBezTo>
                    <a:cubicBezTo>
                      <a:pt x="194310" y="90488"/>
                      <a:pt x="192405" y="93345"/>
                      <a:pt x="191452" y="95250"/>
                    </a:cubicBezTo>
                    <a:cubicBezTo>
                      <a:pt x="183833" y="109538"/>
                      <a:pt x="176213" y="123825"/>
                      <a:pt x="169545" y="139065"/>
                    </a:cubicBezTo>
                    <a:cubicBezTo>
                      <a:pt x="168592" y="141922"/>
                      <a:pt x="166688" y="145732"/>
                      <a:pt x="165735" y="148590"/>
                    </a:cubicBezTo>
                    <a:cubicBezTo>
                      <a:pt x="157163" y="169545"/>
                      <a:pt x="148590" y="191452"/>
                      <a:pt x="143827" y="213360"/>
                    </a:cubicBezTo>
                    <a:cubicBezTo>
                      <a:pt x="133350" y="233363"/>
                      <a:pt x="124777" y="253365"/>
                      <a:pt x="117158" y="274320"/>
                    </a:cubicBezTo>
                    <a:cubicBezTo>
                      <a:pt x="84773" y="365760"/>
                      <a:pt x="88583" y="463867"/>
                      <a:pt x="93345" y="561975"/>
                    </a:cubicBezTo>
                    <a:cubicBezTo>
                      <a:pt x="95250" y="592455"/>
                      <a:pt x="96202" y="622935"/>
                      <a:pt x="97155" y="653415"/>
                    </a:cubicBezTo>
                    <a:cubicBezTo>
                      <a:pt x="97155" y="653415"/>
                      <a:pt x="97155" y="654368"/>
                      <a:pt x="97155" y="654368"/>
                    </a:cubicBezTo>
                    <a:cubicBezTo>
                      <a:pt x="87630" y="649605"/>
                      <a:pt x="78105" y="644843"/>
                      <a:pt x="68580" y="640080"/>
                    </a:cubicBezTo>
                    <a:cubicBezTo>
                      <a:pt x="45720" y="628650"/>
                      <a:pt x="22860" y="616268"/>
                      <a:pt x="952" y="603885"/>
                    </a:cubicBezTo>
                    <a:cubicBezTo>
                      <a:pt x="952" y="602933"/>
                      <a:pt x="952" y="602933"/>
                      <a:pt x="0" y="601980"/>
                    </a:cubicBezTo>
                    <a:cubicBezTo>
                      <a:pt x="20002" y="610552"/>
                      <a:pt x="43815" y="610552"/>
                      <a:pt x="62865" y="620077"/>
                    </a:cubicBezTo>
                    <a:cubicBezTo>
                      <a:pt x="72390" y="624840"/>
                      <a:pt x="70485" y="629602"/>
                      <a:pt x="80010" y="634365"/>
                    </a:cubicBezTo>
                    <a:cubicBezTo>
                      <a:pt x="80010" y="634365"/>
                      <a:pt x="89535" y="639127"/>
                      <a:pt x="89535" y="638175"/>
                    </a:cubicBezTo>
                    <a:cubicBezTo>
                      <a:pt x="88583" y="607695"/>
                      <a:pt x="86677" y="595313"/>
                      <a:pt x="85725" y="564833"/>
                    </a:cubicBezTo>
                    <a:cubicBezTo>
                      <a:pt x="80963" y="466725"/>
                      <a:pt x="77152" y="368617"/>
                      <a:pt x="109538" y="277178"/>
                    </a:cubicBezTo>
                    <a:cubicBezTo>
                      <a:pt x="117158" y="256222"/>
                      <a:pt x="125730" y="236220"/>
                      <a:pt x="136208" y="216217"/>
                    </a:cubicBezTo>
                    <a:cubicBezTo>
                      <a:pt x="141923" y="194310"/>
                      <a:pt x="149542" y="172402"/>
                      <a:pt x="158115" y="151447"/>
                    </a:cubicBezTo>
                    <a:cubicBezTo>
                      <a:pt x="159067" y="148590"/>
                      <a:pt x="160973" y="144780"/>
                      <a:pt x="161925" y="141922"/>
                    </a:cubicBezTo>
                    <a:cubicBezTo>
                      <a:pt x="168592" y="127635"/>
                      <a:pt x="176213" y="112395"/>
                      <a:pt x="183833" y="98107"/>
                    </a:cubicBezTo>
                    <a:cubicBezTo>
                      <a:pt x="184785" y="96202"/>
                      <a:pt x="186690" y="93345"/>
                      <a:pt x="187642" y="91440"/>
                    </a:cubicBezTo>
                    <a:cubicBezTo>
                      <a:pt x="188595" y="89535"/>
                      <a:pt x="189548" y="86677"/>
                      <a:pt x="191452" y="84772"/>
                    </a:cubicBezTo>
                    <a:cubicBezTo>
                      <a:pt x="191452" y="83820"/>
                      <a:pt x="192405" y="83820"/>
                      <a:pt x="192405" y="82867"/>
                    </a:cubicBezTo>
                    <a:cubicBezTo>
                      <a:pt x="195263" y="78105"/>
                      <a:pt x="197167" y="74295"/>
                      <a:pt x="200025" y="69532"/>
                    </a:cubicBezTo>
                    <a:cubicBezTo>
                      <a:pt x="208598" y="55245"/>
                      <a:pt x="216217" y="41910"/>
                      <a:pt x="224790" y="27622"/>
                    </a:cubicBezTo>
                    <a:cubicBezTo>
                      <a:pt x="227648" y="22860"/>
                      <a:pt x="235267" y="8572"/>
                      <a:pt x="241935" y="3810"/>
                    </a:cubicBezTo>
                    <a:cubicBezTo>
                      <a:pt x="241935" y="3810"/>
                      <a:pt x="241935" y="3810"/>
                      <a:pt x="241935" y="2857"/>
                    </a:cubicBezTo>
                    <a:cubicBezTo>
                      <a:pt x="224790" y="9525"/>
                      <a:pt x="207645" y="18097"/>
                      <a:pt x="191452" y="28575"/>
                    </a:cubicBezTo>
                    <a:cubicBezTo>
                      <a:pt x="211455" y="18097"/>
                      <a:pt x="230505" y="7620"/>
                      <a:pt x="249555"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52" name="Freeform: Shape 121"/>
              <p:cNvSpPr/>
              <p:nvPr/>
            </p:nvSpPr>
            <p:spPr>
              <a:xfrm>
                <a:off x="1641960" y="1984680"/>
                <a:ext cx="113760" cy="23400"/>
              </a:xfrm>
              <a:custGeom>
                <a:avLst/>
                <a:gdLst/>
                <a:ahLst/>
                <a:rect l="l" t="t" r="r" b="b"/>
                <a:pathLst>
                  <a:path w="153352" h="31794">
                    <a:moveTo>
                      <a:pt x="1905" y="23813"/>
                    </a:moveTo>
                    <a:cubicBezTo>
                      <a:pt x="952" y="20002"/>
                      <a:pt x="0" y="16192"/>
                      <a:pt x="0" y="12382"/>
                    </a:cubicBezTo>
                    <a:cubicBezTo>
                      <a:pt x="0" y="11430"/>
                      <a:pt x="0" y="10477"/>
                      <a:pt x="0" y="9525"/>
                    </a:cubicBezTo>
                    <a:cubicBezTo>
                      <a:pt x="952" y="7620"/>
                      <a:pt x="2858" y="7620"/>
                      <a:pt x="4763" y="7620"/>
                    </a:cubicBezTo>
                    <a:cubicBezTo>
                      <a:pt x="20002" y="6667"/>
                      <a:pt x="36195" y="5715"/>
                      <a:pt x="51435" y="4763"/>
                    </a:cubicBezTo>
                    <a:cubicBezTo>
                      <a:pt x="56197" y="4763"/>
                      <a:pt x="61913" y="3810"/>
                      <a:pt x="66675" y="2857"/>
                    </a:cubicBezTo>
                    <a:cubicBezTo>
                      <a:pt x="71438" y="1905"/>
                      <a:pt x="76200" y="952"/>
                      <a:pt x="80963" y="0"/>
                    </a:cubicBezTo>
                    <a:cubicBezTo>
                      <a:pt x="86677" y="0"/>
                      <a:pt x="92392" y="952"/>
                      <a:pt x="98108" y="1905"/>
                    </a:cubicBezTo>
                    <a:cubicBezTo>
                      <a:pt x="108585" y="3810"/>
                      <a:pt x="118110" y="5715"/>
                      <a:pt x="127635" y="9525"/>
                    </a:cubicBezTo>
                    <a:cubicBezTo>
                      <a:pt x="137160" y="13335"/>
                      <a:pt x="146685" y="19050"/>
                      <a:pt x="153352" y="26670"/>
                    </a:cubicBezTo>
                    <a:cubicBezTo>
                      <a:pt x="151447" y="26670"/>
                      <a:pt x="150495" y="25717"/>
                      <a:pt x="148590" y="24765"/>
                    </a:cubicBezTo>
                    <a:cubicBezTo>
                      <a:pt x="130492" y="16192"/>
                      <a:pt x="110490" y="10477"/>
                      <a:pt x="90488" y="13335"/>
                    </a:cubicBezTo>
                    <a:cubicBezTo>
                      <a:pt x="80963" y="14288"/>
                      <a:pt x="71438" y="18097"/>
                      <a:pt x="61913" y="20002"/>
                    </a:cubicBezTo>
                    <a:cubicBezTo>
                      <a:pt x="50483" y="22860"/>
                      <a:pt x="38100" y="25717"/>
                      <a:pt x="25717" y="27622"/>
                    </a:cubicBezTo>
                    <a:cubicBezTo>
                      <a:pt x="17145" y="31432"/>
                      <a:pt x="5715" y="36195"/>
                      <a:pt x="1905"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313c3f"/>
                  </a:solidFill>
                  <a:latin typeface="Source Sans Pro"/>
                </a:endParaRPr>
              </a:p>
            </p:txBody>
          </p:sp>
          <p:sp>
            <p:nvSpPr>
              <p:cNvPr id="1053" name="Freeform: Shape 122"/>
              <p:cNvSpPr/>
              <p:nvPr/>
            </p:nvSpPr>
            <p:spPr>
              <a:xfrm>
                <a:off x="1654560" y="2010240"/>
                <a:ext cx="74880" cy="34920"/>
              </a:xfrm>
              <a:custGeom>
                <a:avLst/>
                <a:gdLst/>
                <a:ahLst/>
                <a:rect l="l" t="t" r="r" b="b"/>
                <a:pathLst>
                  <a:path w="100964" h="47448">
                    <a:moveTo>
                      <a:pt x="100965" y="18170"/>
                    </a:moveTo>
                    <a:cubicBezTo>
                      <a:pt x="85725" y="7692"/>
                      <a:pt x="66675" y="-880"/>
                      <a:pt x="47625" y="72"/>
                    </a:cubicBezTo>
                    <a:cubicBezTo>
                      <a:pt x="42863" y="72"/>
                      <a:pt x="39052" y="1025"/>
                      <a:pt x="35242" y="1977"/>
                    </a:cubicBezTo>
                    <a:cubicBezTo>
                      <a:pt x="23813" y="3882"/>
                      <a:pt x="10477" y="7692"/>
                      <a:pt x="0" y="12455"/>
                    </a:cubicBezTo>
                    <a:cubicBezTo>
                      <a:pt x="2857" y="12455"/>
                      <a:pt x="7620" y="12455"/>
                      <a:pt x="9525" y="13407"/>
                    </a:cubicBezTo>
                    <a:cubicBezTo>
                      <a:pt x="4763" y="20075"/>
                      <a:pt x="0" y="29600"/>
                      <a:pt x="952" y="38172"/>
                    </a:cubicBezTo>
                    <a:cubicBezTo>
                      <a:pt x="1905" y="37220"/>
                      <a:pt x="2857" y="36267"/>
                      <a:pt x="2857" y="35315"/>
                    </a:cubicBezTo>
                    <a:cubicBezTo>
                      <a:pt x="9525" y="41030"/>
                      <a:pt x="18097" y="43887"/>
                      <a:pt x="26670" y="45792"/>
                    </a:cubicBezTo>
                    <a:cubicBezTo>
                      <a:pt x="47625" y="49602"/>
                      <a:pt x="69532" y="46745"/>
                      <a:pt x="89535" y="38172"/>
                    </a:cubicBezTo>
                    <a:cubicBezTo>
                      <a:pt x="90488" y="34362"/>
                      <a:pt x="90488" y="29600"/>
                      <a:pt x="90488" y="25790"/>
                    </a:cubicBezTo>
                    <a:cubicBezTo>
                      <a:pt x="94297" y="24837"/>
                      <a:pt x="98107" y="21980"/>
                      <a:pt x="100965" y="18170"/>
                    </a:cubicBezTo>
                    <a:close/>
                    <a:moveTo>
                      <a:pt x="84772" y="26742"/>
                    </a:moveTo>
                    <a:cubicBezTo>
                      <a:pt x="83820" y="30552"/>
                      <a:pt x="80010" y="33410"/>
                      <a:pt x="77152" y="35315"/>
                    </a:cubicBezTo>
                    <a:cubicBezTo>
                      <a:pt x="73342" y="37220"/>
                      <a:pt x="69532" y="38172"/>
                      <a:pt x="66675" y="39125"/>
                    </a:cubicBezTo>
                    <a:cubicBezTo>
                      <a:pt x="54292" y="41982"/>
                      <a:pt x="40005" y="44840"/>
                      <a:pt x="27622" y="41982"/>
                    </a:cubicBezTo>
                    <a:cubicBezTo>
                      <a:pt x="22860" y="41030"/>
                      <a:pt x="18097" y="39125"/>
                      <a:pt x="13335" y="37220"/>
                    </a:cubicBezTo>
                    <a:cubicBezTo>
                      <a:pt x="10477" y="36267"/>
                      <a:pt x="5715" y="32457"/>
                      <a:pt x="5715" y="31505"/>
                    </a:cubicBezTo>
                    <a:cubicBezTo>
                      <a:pt x="5715" y="30552"/>
                      <a:pt x="14288" y="16265"/>
                      <a:pt x="16192" y="13407"/>
                    </a:cubicBezTo>
                    <a:cubicBezTo>
                      <a:pt x="17145" y="12455"/>
                      <a:pt x="18097" y="11502"/>
                      <a:pt x="19050" y="10550"/>
                    </a:cubicBezTo>
                    <a:cubicBezTo>
                      <a:pt x="20002" y="9597"/>
                      <a:pt x="21907" y="9597"/>
                      <a:pt x="23813" y="9597"/>
                    </a:cubicBezTo>
                    <a:cubicBezTo>
                      <a:pt x="24765" y="9597"/>
                      <a:pt x="25717" y="9597"/>
                      <a:pt x="26670" y="9597"/>
                    </a:cubicBezTo>
                    <a:cubicBezTo>
                      <a:pt x="28575" y="9597"/>
                      <a:pt x="30480" y="8645"/>
                      <a:pt x="32385" y="8645"/>
                    </a:cubicBezTo>
                    <a:cubicBezTo>
                      <a:pt x="34290" y="8645"/>
                      <a:pt x="35242" y="8645"/>
                      <a:pt x="37147" y="8645"/>
                    </a:cubicBezTo>
                    <a:cubicBezTo>
                      <a:pt x="40005" y="8645"/>
                      <a:pt x="42863" y="8645"/>
                      <a:pt x="45720" y="8645"/>
                    </a:cubicBezTo>
                    <a:cubicBezTo>
                      <a:pt x="50482" y="8645"/>
                      <a:pt x="55245" y="9597"/>
                      <a:pt x="60007" y="10550"/>
                    </a:cubicBezTo>
                    <a:cubicBezTo>
                      <a:pt x="60960" y="10550"/>
                      <a:pt x="62865" y="11502"/>
                      <a:pt x="63817" y="11502"/>
                    </a:cubicBezTo>
                    <a:cubicBezTo>
                      <a:pt x="63817" y="11502"/>
                      <a:pt x="64770" y="11502"/>
                      <a:pt x="64770" y="11502"/>
                    </a:cubicBezTo>
                    <a:cubicBezTo>
                      <a:pt x="65722" y="11502"/>
                      <a:pt x="66675" y="12455"/>
                      <a:pt x="67627" y="12455"/>
                    </a:cubicBezTo>
                    <a:cubicBezTo>
                      <a:pt x="67627" y="12455"/>
                      <a:pt x="68580" y="12455"/>
                      <a:pt x="68580" y="12455"/>
                    </a:cubicBezTo>
                    <a:cubicBezTo>
                      <a:pt x="69532" y="13407"/>
                      <a:pt x="71438" y="13407"/>
                      <a:pt x="72390" y="14360"/>
                    </a:cubicBezTo>
                    <a:cubicBezTo>
                      <a:pt x="73342" y="15312"/>
                      <a:pt x="75247" y="15312"/>
                      <a:pt x="76200" y="16265"/>
                    </a:cubicBezTo>
                    <a:cubicBezTo>
                      <a:pt x="76200" y="16265"/>
                      <a:pt x="76200" y="16265"/>
                      <a:pt x="76200" y="16265"/>
                    </a:cubicBezTo>
                    <a:cubicBezTo>
                      <a:pt x="77152" y="16265"/>
                      <a:pt x="78105" y="17217"/>
                      <a:pt x="79057" y="18170"/>
                    </a:cubicBezTo>
                    <a:cubicBezTo>
                      <a:pt x="80010" y="18170"/>
                      <a:pt x="80010" y="19122"/>
                      <a:pt x="80963" y="19122"/>
                    </a:cubicBezTo>
                    <a:cubicBezTo>
                      <a:pt x="81915" y="20075"/>
                      <a:pt x="82867" y="20075"/>
                      <a:pt x="83820" y="21027"/>
                    </a:cubicBezTo>
                    <a:cubicBezTo>
                      <a:pt x="83820" y="21027"/>
                      <a:pt x="86677" y="23885"/>
                      <a:pt x="84772" y="26742"/>
                    </a:cubicBezTo>
                    <a:close/>
                  </a:path>
                </a:pathLst>
              </a:custGeom>
              <a:solidFill>
                <a:srgbClr val="cf9e76"/>
              </a:solidFill>
              <a:ln w="0">
                <a:noFill/>
              </a:ln>
            </p:spPr>
            <p:style>
              <a:lnRef idx="0"/>
              <a:fillRef idx="0"/>
              <a:effectRef idx="0"/>
              <a:fontRef idx="minor"/>
            </p:style>
            <p:txBody>
              <a:bodyPr lIns="90000" rIns="90000" tIns="-11880" bIns="-11880" anchor="ctr">
                <a:noAutofit/>
              </a:bodyPr>
              <a:p>
                <a:endParaRPr b="0" lang="en-US" sz="1800" spc="-1" strike="noStrike">
                  <a:solidFill>
                    <a:srgbClr val="313c3f"/>
                  </a:solidFill>
                  <a:latin typeface="Source Sans Pro"/>
                </a:endParaRPr>
              </a:p>
            </p:txBody>
          </p:sp>
          <p:sp>
            <p:nvSpPr>
              <p:cNvPr id="1054" name="Freeform: Shape 123"/>
              <p:cNvSpPr/>
              <p:nvPr/>
            </p:nvSpPr>
            <p:spPr>
              <a:xfrm>
                <a:off x="1658880" y="2016720"/>
                <a:ext cx="59040" cy="25560"/>
              </a:xfrm>
              <a:custGeom>
                <a:avLst/>
                <a:gdLst/>
                <a:ahLst/>
                <a:rect l="l" t="t" r="r" b="b"/>
                <a:pathLst>
                  <a:path w="79698" h="34521">
                    <a:moveTo>
                      <a:pt x="79058" y="18097"/>
                    </a:moveTo>
                    <a:cubicBezTo>
                      <a:pt x="78105" y="21907"/>
                      <a:pt x="74295" y="24765"/>
                      <a:pt x="71438" y="26670"/>
                    </a:cubicBezTo>
                    <a:cubicBezTo>
                      <a:pt x="67628" y="28575"/>
                      <a:pt x="63817" y="29527"/>
                      <a:pt x="60960" y="30480"/>
                    </a:cubicBezTo>
                    <a:cubicBezTo>
                      <a:pt x="48578" y="33338"/>
                      <a:pt x="34290" y="36195"/>
                      <a:pt x="21908" y="33338"/>
                    </a:cubicBezTo>
                    <a:cubicBezTo>
                      <a:pt x="17145" y="32385"/>
                      <a:pt x="12383" y="30480"/>
                      <a:pt x="7620" y="28575"/>
                    </a:cubicBezTo>
                    <a:cubicBezTo>
                      <a:pt x="4763" y="27622"/>
                      <a:pt x="0" y="23813"/>
                      <a:pt x="0" y="22860"/>
                    </a:cubicBezTo>
                    <a:cubicBezTo>
                      <a:pt x="0" y="21907"/>
                      <a:pt x="8573" y="7620"/>
                      <a:pt x="10478" y="4763"/>
                    </a:cubicBezTo>
                    <a:cubicBezTo>
                      <a:pt x="11430" y="3810"/>
                      <a:pt x="12383" y="2857"/>
                      <a:pt x="13335" y="1905"/>
                    </a:cubicBezTo>
                    <a:cubicBezTo>
                      <a:pt x="14288" y="952"/>
                      <a:pt x="16192" y="952"/>
                      <a:pt x="18098" y="952"/>
                    </a:cubicBezTo>
                    <a:cubicBezTo>
                      <a:pt x="19050" y="952"/>
                      <a:pt x="20003" y="952"/>
                      <a:pt x="20955" y="952"/>
                    </a:cubicBezTo>
                    <a:cubicBezTo>
                      <a:pt x="24765" y="0"/>
                      <a:pt x="27623" y="0"/>
                      <a:pt x="31433" y="0"/>
                    </a:cubicBezTo>
                    <a:cubicBezTo>
                      <a:pt x="34290" y="0"/>
                      <a:pt x="37148" y="0"/>
                      <a:pt x="40005" y="0"/>
                    </a:cubicBezTo>
                    <a:cubicBezTo>
                      <a:pt x="44767" y="0"/>
                      <a:pt x="49530" y="952"/>
                      <a:pt x="54292" y="1905"/>
                    </a:cubicBezTo>
                    <a:cubicBezTo>
                      <a:pt x="57150" y="2857"/>
                      <a:pt x="60008" y="3810"/>
                      <a:pt x="62865" y="4763"/>
                    </a:cubicBezTo>
                    <a:cubicBezTo>
                      <a:pt x="67628" y="6667"/>
                      <a:pt x="73342" y="9525"/>
                      <a:pt x="77153" y="12382"/>
                    </a:cubicBezTo>
                    <a:cubicBezTo>
                      <a:pt x="78105" y="12382"/>
                      <a:pt x="80963" y="15240"/>
                      <a:pt x="79058"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313c3f"/>
                  </a:solidFill>
                  <a:latin typeface="Source Sans Pro"/>
                </a:endParaRPr>
              </a:p>
            </p:txBody>
          </p:sp>
          <p:sp>
            <p:nvSpPr>
              <p:cNvPr id="1055" name="Freeform: Shape 124"/>
              <p:cNvSpPr/>
              <p:nvPr/>
            </p:nvSpPr>
            <p:spPr>
              <a:xfrm>
                <a:off x="1672200" y="2016000"/>
                <a:ext cx="32400" cy="23040"/>
              </a:xfrm>
              <a:custGeom>
                <a:avLst/>
                <a:gdLst/>
                <a:ahLst/>
                <a:rect l="l" t="t" r="r" b="b"/>
                <a:pathLst>
                  <a:path w="43814" h="31432">
                    <a:moveTo>
                      <a:pt x="-21721" y="9525"/>
                    </a:moveTo>
                    <a:cubicBezTo>
                      <a:pt x="-21721" y="21907"/>
                      <a:pt x="-31246" y="31432"/>
                      <a:pt x="21907" y="31432"/>
                    </a:cubicBezTo>
                    <a:cubicBezTo>
                      <a:pt x="9525" y="31432"/>
                      <a:pt x="0" y="21907"/>
                      <a:pt x="0" y="9525"/>
                    </a:cubicBezTo>
                    <a:cubicBezTo>
                      <a:pt x="0" y="6668"/>
                      <a:pt x="952" y="3810"/>
                      <a:pt x="1905" y="953"/>
                    </a:cubicBezTo>
                    <a:cubicBezTo>
                      <a:pt x="5715" y="0"/>
                      <a:pt x="8572" y="0"/>
                      <a:pt x="12382" y="0"/>
                    </a:cubicBezTo>
                    <a:cubicBezTo>
                      <a:pt x="15240" y="0"/>
                      <a:pt x="18097" y="0"/>
                      <a:pt x="20955" y="0"/>
                    </a:cubicBezTo>
                    <a:cubicBezTo>
                      <a:pt x="25717" y="0"/>
                      <a:pt x="30480" y="953"/>
                      <a:pt x="-30294" y="1905"/>
                    </a:cubicBezTo>
                    <a:cubicBezTo>
                      <a:pt x="-27436" y="2857"/>
                      <a:pt x="-24579" y="3810"/>
                      <a:pt x="-21721" y="4763"/>
                    </a:cubicBezTo>
                    <a:cubicBezTo>
                      <a:pt x="-21721" y="5715"/>
                      <a:pt x="-21721" y="7620"/>
                      <a:pt x="-21721"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313c3f"/>
                  </a:solidFill>
                  <a:latin typeface="Source Sans Pro"/>
                </a:endParaRPr>
              </a:p>
            </p:txBody>
          </p:sp>
          <p:sp>
            <p:nvSpPr>
              <p:cNvPr id="1056" name="Freeform: Shape 125"/>
              <p:cNvSpPr/>
              <p:nvPr/>
            </p:nvSpPr>
            <p:spPr>
              <a:xfrm>
                <a:off x="168372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313c3f"/>
                  </a:solidFill>
                  <a:latin typeface="Source Sans Pro"/>
                </a:endParaRPr>
              </a:p>
            </p:txBody>
          </p:sp>
          <p:sp>
            <p:nvSpPr>
              <p:cNvPr id="1057" name="Freeform: Shape 126"/>
              <p:cNvSpPr/>
              <p:nvPr/>
            </p:nvSpPr>
            <p:spPr>
              <a:xfrm>
                <a:off x="1689840" y="2017080"/>
                <a:ext cx="7560" cy="9720"/>
              </a:xfrm>
              <a:custGeom>
                <a:avLst/>
                <a:gdLst/>
                <a:ahLst/>
                <a:rect l="l" t="t" r="r" b="b"/>
                <a:pathLst>
                  <a:path w="10477" h="13410">
                    <a:moveTo>
                      <a:pt x="952" y="3885"/>
                    </a:moveTo>
                    <a:cubicBezTo>
                      <a:pt x="0" y="5790"/>
                      <a:pt x="0" y="7695"/>
                      <a:pt x="0" y="9600"/>
                    </a:cubicBezTo>
                    <a:cubicBezTo>
                      <a:pt x="0" y="11505"/>
                      <a:pt x="1905" y="12458"/>
                      <a:pt x="3810" y="13410"/>
                    </a:cubicBezTo>
                    <a:cubicBezTo>
                      <a:pt x="5715" y="13410"/>
                      <a:pt x="7620" y="12458"/>
                      <a:pt x="8572" y="10552"/>
                    </a:cubicBezTo>
                    <a:cubicBezTo>
                      <a:pt x="9525" y="9600"/>
                      <a:pt x="10477" y="7695"/>
                      <a:pt x="10477" y="5790"/>
                    </a:cubicBezTo>
                    <a:cubicBezTo>
                      <a:pt x="10477" y="3885"/>
                      <a:pt x="9525" y="1980"/>
                      <a:pt x="8572" y="1027"/>
                    </a:cubicBezTo>
                    <a:cubicBezTo>
                      <a:pt x="5715" y="-1830"/>
                      <a:pt x="1905" y="1980"/>
                      <a:pt x="952"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313c3f"/>
                  </a:solidFill>
                  <a:latin typeface="Source Sans Pro"/>
                </a:endParaRPr>
              </a:p>
            </p:txBody>
          </p:sp>
          <p:sp>
            <p:nvSpPr>
              <p:cNvPr id="1058" name="Freeform: Shape 127"/>
              <p:cNvSpPr/>
              <p:nvPr/>
            </p:nvSpPr>
            <p:spPr>
              <a:xfrm>
                <a:off x="1477440" y="1984680"/>
                <a:ext cx="113760" cy="23400"/>
              </a:xfrm>
              <a:custGeom>
                <a:avLst/>
                <a:gdLst/>
                <a:ahLst/>
                <a:rect l="l" t="t" r="r" b="b"/>
                <a:pathLst>
                  <a:path w="153352" h="31794">
                    <a:moveTo>
                      <a:pt x="151448" y="23813"/>
                    </a:moveTo>
                    <a:cubicBezTo>
                      <a:pt x="152400" y="20002"/>
                      <a:pt x="153352" y="16192"/>
                      <a:pt x="153352" y="12382"/>
                    </a:cubicBezTo>
                    <a:cubicBezTo>
                      <a:pt x="153352" y="11430"/>
                      <a:pt x="153352" y="10477"/>
                      <a:pt x="153352" y="9525"/>
                    </a:cubicBezTo>
                    <a:cubicBezTo>
                      <a:pt x="152400" y="7620"/>
                      <a:pt x="150495" y="7620"/>
                      <a:pt x="148590" y="7620"/>
                    </a:cubicBezTo>
                    <a:cubicBezTo>
                      <a:pt x="133350" y="6667"/>
                      <a:pt x="117157" y="5715"/>
                      <a:pt x="101918" y="4763"/>
                    </a:cubicBezTo>
                    <a:cubicBezTo>
                      <a:pt x="97155" y="4763"/>
                      <a:pt x="91440" y="3810"/>
                      <a:pt x="86677" y="2857"/>
                    </a:cubicBezTo>
                    <a:cubicBezTo>
                      <a:pt x="81915" y="1905"/>
                      <a:pt x="77152" y="952"/>
                      <a:pt x="72390" y="0"/>
                    </a:cubicBezTo>
                    <a:cubicBezTo>
                      <a:pt x="66675" y="0"/>
                      <a:pt x="60960" y="952"/>
                      <a:pt x="55245" y="1905"/>
                    </a:cubicBezTo>
                    <a:cubicBezTo>
                      <a:pt x="44768" y="3810"/>
                      <a:pt x="35243" y="5715"/>
                      <a:pt x="25718" y="9525"/>
                    </a:cubicBezTo>
                    <a:cubicBezTo>
                      <a:pt x="16193" y="13335"/>
                      <a:pt x="6668" y="19050"/>
                      <a:pt x="0" y="26670"/>
                    </a:cubicBezTo>
                    <a:cubicBezTo>
                      <a:pt x="1905" y="26670"/>
                      <a:pt x="2858" y="25717"/>
                      <a:pt x="4763" y="24765"/>
                    </a:cubicBezTo>
                    <a:cubicBezTo>
                      <a:pt x="22860" y="16192"/>
                      <a:pt x="42863" y="10477"/>
                      <a:pt x="62865" y="13335"/>
                    </a:cubicBezTo>
                    <a:cubicBezTo>
                      <a:pt x="72390" y="14288"/>
                      <a:pt x="81915" y="18097"/>
                      <a:pt x="91440" y="20002"/>
                    </a:cubicBezTo>
                    <a:cubicBezTo>
                      <a:pt x="102870" y="22860"/>
                      <a:pt x="115252" y="25717"/>
                      <a:pt x="127635" y="27622"/>
                    </a:cubicBezTo>
                    <a:cubicBezTo>
                      <a:pt x="135255" y="31432"/>
                      <a:pt x="146685" y="36195"/>
                      <a:pt x="151448"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313c3f"/>
                  </a:solidFill>
                  <a:latin typeface="Source Sans Pro"/>
                </a:endParaRPr>
              </a:p>
            </p:txBody>
          </p:sp>
          <p:sp>
            <p:nvSpPr>
              <p:cNvPr id="1059" name="Freeform: Shape 128"/>
              <p:cNvSpPr/>
              <p:nvPr/>
            </p:nvSpPr>
            <p:spPr>
              <a:xfrm>
                <a:off x="1503720" y="2009880"/>
                <a:ext cx="74880" cy="35640"/>
              </a:xfrm>
              <a:custGeom>
                <a:avLst/>
                <a:gdLst/>
                <a:ahLst/>
                <a:rect l="l" t="t" r="r" b="b"/>
                <a:pathLst>
                  <a:path w="101087" h="48025">
                    <a:moveTo>
                      <a:pt x="100965" y="12648"/>
                    </a:moveTo>
                    <a:cubicBezTo>
                      <a:pt x="89535" y="7886"/>
                      <a:pt x="77152" y="4076"/>
                      <a:pt x="65722" y="2171"/>
                    </a:cubicBezTo>
                    <a:cubicBezTo>
                      <a:pt x="61913" y="1218"/>
                      <a:pt x="57150" y="266"/>
                      <a:pt x="53340" y="266"/>
                    </a:cubicBezTo>
                    <a:cubicBezTo>
                      <a:pt x="34290" y="-1639"/>
                      <a:pt x="16192" y="6933"/>
                      <a:pt x="0" y="18363"/>
                    </a:cubicBezTo>
                    <a:cubicBezTo>
                      <a:pt x="2857" y="22173"/>
                      <a:pt x="6667" y="25031"/>
                      <a:pt x="11430" y="26936"/>
                    </a:cubicBezTo>
                    <a:cubicBezTo>
                      <a:pt x="11430" y="30746"/>
                      <a:pt x="11430" y="35508"/>
                      <a:pt x="12382" y="39318"/>
                    </a:cubicBezTo>
                    <a:cubicBezTo>
                      <a:pt x="32385" y="46938"/>
                      <a:pt x="54292" y="49796"/>
                      <a:pt x="75247" y="46938"/>
                    </a:cubicBezTo>
                    <a:cubicBezTo>
                      <a:pt x="83820" y="45986"/>
                      <a:pt x="92392" y="43128"/>
                      <a:pt x="99060" y="36461"/>
                    </a:cubicBezTo>
                    <a:cubicBezTo>
                      <a:pt x="100013" y="37413"/>
                      <a:pt x="100965" y="38366"/>
                      <a:pt x="100965" y="39318"/>
                    </a:cubicBezTo>
                    <a:cubicBezTo>
                      <a:pt x="101917" y="30746"/>
                      <a:pt x="97155" y="21221"/>
                      <a:pt x="92392" y="14553"/>
                    </a:cubicBezTo>
                    <a:cubicBezTo>
                      <a:pt x="93345" y="12648"/>
                      <a:pt x="99060" y="12648"/>
                      <a:pt x="100965" y="12648"/>
                    </a:cubicBezTo>
                    <a:close/>
                    <a:moveTo>
                      <a:pt x="95250" y="31698"/>
                    </a:moveTo>
                    <a:cubicBezTo>
                      <a:pt x="95250" y="32651"/>
                      <a:pt x="89535" y="36461"/>
                      <a:pt x="87630" y="37413"/>
                    </a:cubicBezTo>
                    <a:cubicBezTo>
                      <a:pt x="82867" y="39318"/>
                      <a:pt x="78105" y="41223"/>
                      <a:pt x="73342" y="42176"/>
                    </a:cubicBezTo>
                    <a:cubicBezTo>
                      <a:pt x="60960" y="45033"/>
                      <a:pt x="46672" y="42176"/>
                      <a:pt x="34290" y="39318"/>
                    </a:cubicBezTo>
                    <a:cubicBezTo>
                      <a:pt x="30480" y="38366"/>
                      <a:pt x="26670" y="37413"/>
                      <a:pt x="23813" y="35508"/>
                    </a:cubicBezTo>
                    <a:cubicBezTo>
                      <a:pt x="20955" y="33603"/>
                      <a:pt x="17145" y="30746"/>
                      <a:pt x="16192" y="26936"/>
                    </a:cubicBezTo>
                    <a:cubicBezTo>
                      <a:pt x="15240" y="23126"/>
                      <a:pt x="17145" y="21221"/>
                      <a:pt x="20002" y="19316"/>
                    </a:cubicBezTo>
                    <a:cubicBezTo>
                      <a:pt x="20955" y="18363"/>
                      <a:pt x="21907" y="18363"/>
                      <a:pt x="22860" y="17411"/>
                    </a:cubicBezTo>
                    <a:cubicBezTo>
                      <a:pt x="23813" y="17411"/>
                      <a:pt x="23813" y="16458"/>
                      <a:pt x="24765" y="16458"/>
                    </a:cubicBezTo>
                    <a:cubicBezTo>
                      <a:pt x="25717" y="15506"/>
                      <a:pt x="26670" y="15506"/>
                      <a:pt x="27622" y="14553"/>
                    </a:cubicBezTo>
                    <a:cubicBezTo>
                      <a:pt x="27622" y="14553"/>
                      <a:pt x="27622" y="14553"/>
                      <a:pt x="27622" y="14553"/>
                    </a:cubicBezTo>
                    <a:cubicBezTo>
                      <a:pt x="28575" y="13601"/>
                      <a:pt x="30480" y="13601"/>
                      <a:pt x="31433" y="12648"/>
                    </a:cubicBezTo>
                    <a:cubicBezTo>
                      <a:pt x="32385" y="11696"/>
                      <a:pt x="34290" y="11696"/>
                      <a:pt x="35242" y="10743"/>
                    </a:cubicBezTo>
                    <a:cubicBezTo>
                      <a:pt x="35242" y="10743"/>
                      <a:pt x="36195" y="10743"/>
                      <a:pt x="36195" y="10743"/>
                    </a:cubicBezTo>
                    <a:cubicBezTo>
                      <a:pt x="37147" y="10743"/>
                      <a:pt x="38100" y="9791"/>
                      <a:pt x="39052" y="9791"/>
                    </a:cubicBezTo>
                    <a:cubicBezTo>
                      <a:pt x="39052" y="9791"/>
                      <a:pt x="40005" y="9791"/>
                      <a:pt x="40005" y="9791"/>
                    </a:cubicBezTo>
                    <a:cubicBezTo>
                      <a:pt x="40958" y="9791"/>
                      <a:pt x="42863" y="8838"/>
                      <a:pt x="43815" y="8838"/>
                    </a:cubicBezTo>
                    <a:cubicBezTo>
                      <a:pt x="48577" y="7886"/>
                      <a:pt x="53340" y="6933"/>
                      <a:pt x="58102" y="6933"/>
                    </a:cubicBezTo>
                    <a:cubicBezTo>
                      <a:pt x="60960" y="6933"/>
                      <a:pt x="63817" y="6933"/>
                      <a:pt x="66675" y="6933"/>
                    </a:cubicBezTo>
                    <a:cubicBezTo>
                      <a:pt x="68580" y="6933"/>
                      <a:pt x="69533" y="6933"/>
                      <a:pt x="71438" y="6933"/>
                    </a:cubicBezTo>
                    <a:cubicBezTo>
                      <a:pt x="73342" y="6933"/>
                      <a:pt x="75247" y="6933"/>
                      <a:pt x="77152" y="7886"/>
                    </a:cubicBezTo>
                    <a:cubicBezTo>
                      <a:pt x="78105" y="7886"/>
                      <a:pt x="79058" y="7886"/>
                      <a:pt x="80010" y="7886"/>
                    </a:cubicBezTo>
                    <a:cubicBezTo>
                      <a:pt x="81915" y="7886"/>
                      <a:pt x="82867" y="8838"/>
                      <a:pt x="84772" y="8838"/>
                    </a:cubicBezTo>
                    <a:cubicBezTo>
                      <a:pt x="85725" y="9791"/>
                      <a:pt x="86677" y="10743"/>
                      <a:pt x="87630" y="11696"/>
                    </a:cubicBezTo>
                    <a:cubicBezTo>
                      <a:pt x="87630" y="15506"/>
                      <a:pt x="96202" y="30746"/>
                      <a:pt x="95250" y="31698"/>
                    </a:cubicBezTo>
                    <a:close/>
                  </a:path>
                </a:pathLst>
              </a:custGeom>
              <a:solidFill>
                <a:srgbClr val="cf9e76"/>
              </a:solidFill>
              <a:ln w="0">
                <a:noFill/>
              </a:ln>
            </p:spPr>
            <p:style>
              <a:lnRef idx="0"/>
              <a:fillRef idx="0"/>
              <a:effectRef idx="0"/>
              <a:fontRef idx="minor"/>
            </p:style>
            <p:txBody>
              <a:bodyPr lIns="90000" rIns="90000" tIns="-11160" bIns="-11160" anchor="ctr">
                <a:noAutofit/>
              </a:bodyPr>
              <a:p>
                <a:endParaRPr b="0" lang="en-US" sz="1800" spc="-1" strike="noStrike">
                  <a:solidFill>
                    <a:srgbClr val="313c3f"/>
                  </a:solidFill>
                  <a:latin typeface="Source Sans Pro"/>
                </a:endParaRPr>
              </a:p>
            </p:txBody>
          </p:sp>
          <p:sp>
            <p:nvSpPr>
              <p:cNvPr id="1060" name="Freeform: Shape 129"/>
              <p:cNvSpPr/>
              <p:nvPr/>
            </p:nvSpPr>
            <p:spPr>
              <a:xfrm>
                <a:off x="1514880" y="2016720"/>
                <a:ext cx="58680" cy="25560"/>
              </a:xfrm>
              <a:custGeom>
                <a:avLst/>
                <a:gdLst/>
                <a:ahLst/>
                <a:rect l="l" t="t" r="r" b="b"/>
                <a:pathLst>
                  <a:path w="79317" h="34521">
                    <a:moveTo>
                      <a:pt x="260" y="18097"/>
                    </a:moveTo>
                    <a:cubicBezTo>
                      <a:pt x="1212" y="21907"/>
                      <a:pt x="5022" y="24765"/>
                      <a:pt x="7880" y="26670"/>
                    </a:cubicBezTo>
                    <a:cubicBezTo>
                      <a:pt x="11690" y="28575"/>
                      <a:pt x="15500" y="29527"/>
                      <a:pt x="18357" y="30480"/>
                    </a:cubicBezTo>
                    <a:cubicBezTo>
                      <a:pt x="30740" y="33338"/>
                      <a:pt x="45027" y="36195"/>
                      <a:pt x="57410" y="33338"/>
                    </a:cubicBezTo>
                    <a:cubicBezTo>
                      <a:pt x="62172" y="32385"/>
                      <a:pt x="66935" y="30480"/>
                      <a:pt x="71697" y="28575"/>
                    </a:cubicBezTo>
                    <a:cubicBezTo>
                      <a:pt x="74555" y="27622"/>
                      <a:pt x="79317" y="23813"/>
                      <a:pt x="79317" y="22860"/>
                    </a:cubicBezTo>
                    <a:cubicBezTo>
                      <a:pt x="79317" y="21907"/>
                      <a:pt x="70745" y="7620"/>
                      <a:pt x="68840" y="4763"/>
                    </a:cubicBezTo>
                    <a:cubicBezTo>
                      <a:pt x="67887" y="3810"/>
                      <a:pt x="66935" y="2857"/>
                      <a:pt x="65982" y="1905"/>
                    </a:cubicBezTo>
                    <a:cubicBezTo>
                      <a:pt x="65030" y="952"/>
                      <a:pt x="63125" y="952"/>
                      <a:pt x="61220" y="952"/>
                    </a:cubicBezTo>
                    <a:cubicBezTo>
                      <a:pt x="60267" y="952"/>
                      <a:pt x="59315" y="952"/>
                      <a:pt x="58362" y="952"/>
                    </a:cubicBezTo>
                    <a:cubicBezTo>
                      <a:pt x="54552" y="0"/>
                      <a:pt x="51695" y="0"/>
                      <a:pt x="47885" y="0"/>
                    </a:cubicBezTo>
                    <a:cubicBezTo>
                      <a:pt x="45027" y="0"/>
                      <a:pt x="42170" y="0"/>
                      <a:pt x="39312" y="0"/>
                    </a:cubicBezTo>
                    <a:cubicBezTo>
                      <a:pt x="34550" y="0"/>
                      <a:pt x="29787" y="952"/>
                      <a:pt x="25025" y="1905"/>
                    </a:cubicBezTo>
                    <a:cubicBezTo>
                      <a:pt x="22167" y="2857"/>
                      <a:pt x="19310" y="3810"/>
                      <a:pt x="16452" y="4763"/>
                    </a:cubicBezTo>
                    <a:cubicBezTo>
                      <a:pt x="11690" y="6667"/>
                      <a:pt x="5975" y="9525"/>
                      <a:pt x="2165" y="12382"/>
                    </a:cubicBezTo>
                    <a:cubicBezTo>
                      <a:pt x="1212" y="12382"/>
                      <a:pt x="-693" y="15240"/>
                      <a:pt x="260"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313c3f"/>
                  </a:solidFill>
                  <a:latin typeface="Source Sans Pro"/>
                </a:endParaRPr>
              </a:p>
            </p:txBody>
          </p:sp>
          <p:sp>
            <p:nvSpPr>
              <p:cNvPr id="1061" name="Freeform: Shape 130"/>
              <p:cNvSpPr/>
              <p:nvPr/>
            </p:nvSpPr>
            <p:spPr>
              <a:xfrm>
                <a:off x="1528560" y="2016000"/>
                <a:ext cx="32400" cy="23040"/>
              </a:xfrm>
              <a:custGeom>
                <a:avLst/>
                <a:gdLst/>
                <a:ahLst/>
                <a:rect l="l" t="t" r="r" b="b"/>
                <a:pathLst>
                  <a:path w="43814" h="31432">
                    <a:moveTo>
                      <a:pt x="0" y="9525"/>
                    </a:moveTo>
                    <a:cubicBezTo>
                      <a:pt x="0" y="21907"/>
                      <a:pt x="9525" y="31432"/>
                      <a:pt x="21908" y="31432"/>
                    </a:cubicBezTo>
                    <a:cubicBezTo>
                      <a:pt x="-31246" y="31432"/>
                      <a:pt x="-21721" y="21907"/>
                      <a:pt x="-21721" y="9525"/>
                    </a:cubicBezTo>
                    <a:cubicBezTo>
                      <a:pt x="-21721" y="6668"/>
                      <a:pt x="-22673" y="3810"/>
                      <a:pt x="-23626" y="953"/>
                    </a:cubicBezTo>
                    <a:cubicBezTo>
                      <a:pt x="-27436" y="0"/>
                      <a:pt x="-30294" y="0"/>
                      <a:pt x="31433" y="0"/>
                    </a:cubicBezTo>
                    <a:cubicBezTo>
                      <a:pt x="28575" y="0"/>
                      <a:pt x="25717" y="0"/>
                      <a:pt x="22860" y="0"/>
                    </a:cubicBezTo>
                    <a:cubicBezTo>
                      <a:pt x="18097" y="0"/>
                      <a:pt x="13335" y="953"/>
                      <a:pt x="8572" y="1905"/>
                    </a:cubicBezTo>
                    <a:cubicBezTo>
                      <a:pt x="5715" y="2857"/>
                      <a:pt x="2858" y="3810"/>
                      <a:pt x="0" y="4763"/>
                    </a:cubicBezTo>
                    <a:cubicBezTo>
                      <a:pt x="0" y="5715"/>
                      <a:pt x="0" y="7620"/>
                      <a:pt x="0"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313c3f"/>
                  </a:solidFill>
                  <a:latin typeface="Source Sans Pro"/>
                </a:endParaRPr>
              </a:p>
            </p:txBody>
          </p:sp>
          <p:sp>
            <p:nvSpPr>
              <p:cNvPr id="1062" name="Freeform: Shape 131"/>
              <p:cNvSpPr/>
              <p:nvPr/>
            </p:nvSpPr>
            <p:spPr>
              <a:xfrm>
                <a:off x="153936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313c3f"/>
                  </a:solidFill>
                  <a:latin typeface="Source Sans Pro"/>
                </a:endParaRPr>
              </a:p>
            </p:txBody>
          </p:sp>
          <p:sp>
            <p:nvSpPr>
              <p:cNvPr id="1063" name="Freeform: Shape 132"/>
              <p:cNvSpPr/>
              <p:nvPr/>
            </p:nvSpPr>
            <p:spPr>
              <a:xfrm>
                <a:off x="1548360" y="2019240"/>
                <a:ext cx="7560" cy="9720"/>
              </a:xfrm>
              <a:custGeom>
                <a:avLst/>
                <a:gdLst/>
                <a:ahLst/>
                <a:rect l="l" t="t" r="r" b="b"/>
                <a:pathLst>
                  <a:path w="10477" h="13410">
                    <a:moveTo>
                      <a:pt x="9525" y="3885"/>
                    </a:moveTo>
                    <a:cubicBezTo>
                      <a:pt x="10477" y="5790"/>
                      <a:pt x="10477" y="7695"/>
                      <a:pt x="10477" y="9600"/>
                    </a:cubicBezTo>
                    <a:cubicBezTo>
                      <a:pt x="10477" y="11505"/>
                      <a:pt x="8572" y="12457"/>
                      <a:pt x="6667" y="13410"/>
                    </a:cubicBezTo>
                    <a:cubicBezTo>
                      <a:pt x="4763" y="13410"/>
                      <a:pt x="2857" y="12457"/>
                      <a:pt x="1905" y="10553"/>
                    </a:cubicBezTo>
                    <a:cubicBezTo>
                      <a:pt x="952" y="9600"/>
                      <a:pt x="0" y="7695"/>
                      <a:pt x="0" y="5790"/>
                    </a:cubicBezTo>
                    <a:cubicBezTo>
                      <a:pt x="0" y="3885"/>
                      <a:pt x="952" y="1980"/>
                      <a:pt x="1905" y="1028"/>
                    </a:cubicBezTo>
                    <a:cubicBezTo>
                      <a:pt x="4763" y="-1830"/>
                      <a:pt x="8572" y="1980"/>
                      <a:pt x="9525"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313c3f"/>
                  </a:solidFill>
                  <a:latin typeface="Source Sans Pro"/>
                </a:endParaRPr>
              </a:p>
            </p:txBody>
          </p:sp>
          <p:sp>
            <p:nvSpPr>
              <p:cNvPr id="1064" name="Freeform: Shape 133"/>
              <p:cNvSpPr/>
              <p:nvPr/>
            </p:nvSpPr>
            <p:spPr>
              <a:xfrm>
                <a:off x="1585800" y="2130480"/>
                <a:ext cx="64440" cy="10080"/>
              </a:xfrm>
              <a:custGeom>
                <a:avLst/>
                <a:gdLst/>
                <a:ahLst/>
                <a:rect l="l" t="t" r="r" b="b"/>
                <a:pathLst>
                  <a:path w="87187" h="13885">
                    <a:moveTo>
                      <a:pt x="84073" y="789"/>
                    </a:moveTo>
                    <a:cubicBezTo>
                      <a:pt x="78358" y="-1116"/>
                      <a:pt x="72643" y="789"/>
                      <a:pt x="66928" y="2694"/>
                    </a:cubicBezTo>
                    <a:cubicBezTo>
                      <a:pt x="61213" y="4599"/>
                      <a:pt x="56451" y="8409"/>
                      <a:pt x="50736" y="9362"/>
                    </a:cubicBezTo>
                    <a:cubicBezTo>
                      <a:pt x="47878" y="10314"/>
                      <a:pt x="35496" y="10314"/>
                      <a:pt x="32638" y="9362"/>
                    </a:cubicBezTo>
                    <a:cubicBezTo>
                      <a:pt x="27876" y="7457"/>
                      <a:pt x="23113" y="4599"/>
                      <a:pt x="18351" y="2694"/>
                    </a:cubicBezTo>
                    <a:cubicBezTo>
                      <a:pt x="13588" y="789"/>
                      <a:pt x="7873" y="-1116"/>
                      <a:pt x="3111" y="789"/>
                    </a:cubicBezTo>
                    <a:cubicBezTo>
                      <a:pt x="1206" y="1742"/>
                      <a:pt x="-699" y="3647"/>
                      <a:pt x="253" y="5552"/>
                    </a:cubicBezTo>
                    <a:cubicBezTo>
                      <a:pt x="253" y="6504"/>
                      <a:pt x="1206" y="6504"/>
                      <a:pt x="2158" y="7457"/>
                    </a:cubicBezTo>
                    <a:cubicBezTo>
                      <a:pt x="5016" y="9362"/>
                      <a:pt x="7873" y="9362"/>
                      <a:pt x="10731" y="10314"/>
                    </a:cubicBezTo>
                    <a:cubicBezTo>
                      <a:pt x="14541" y="10314"/>
                      <a:pt x="18351" y="9362"/>
                      <a:pt x="21208" y="10314"/>
                    </a:cubicBezTo>
                    <a:cubicBezTo>
                      <a:pt x="24066" y="10314"/>
                      <a:pt x="26923" y="12219"/>
                      <a:pt x="28828" y="13172"/>
                    </a:cubicBezTo>
                    <a:cubicBezTo>
                      <a:pt x="32638" y="14124"/>
                      <a:pt x="49783" y="14124"/>
                      <a:pt x="53593" y="13172"/>
                    </a:cubicBezTo>
                    <a:cubicBezTo>
                      <a:pt x="56451" y="12219"/>
                      <a:pt x="59308" y="11267"/>
                      <a:pt x="62166" y="10314"/>
                    </a:cubicBezTo>
                    <a:cubicBezTo>
                      <a:pt x="65976" y="9362"/>
                      <a:pt x="70738" y="10314"/>
                      <a:pt x="74548" y="10314"/>
                    </a:cubicBezTo>
                    <a:cubicBezTo>
                      <a:pt x="77406" y="10314"/>
                      <a:pt x="81216" y="9362"/>
                      <a:pt x="84073" y="7457"/>
                    </a:cubicBezTo>
                    <a:cubicBezTo>
                      <a:pt x="85026" y="7457"/>
                      <a:pt x="85978" y="6504"/>
                      <a:pt x="85978" y="5552"/>
                    </a:cubicBezTo>
                    <a:cubicBezTo>
                      <a:pt x="88836" y="3647"/>
                      <a:pt x="85978" y="1742"/>
                      <a:pt x="84073" y="789"/>
                    </a:cubicBezTo>
                    <a:close/>
                  </a:path>
                </a:pathLst>
              </a:custGeom>
              <a:solidFill>
                <a:srgbClr val="231f20"/>
              </a:solidFill>
              <a:ln w="0">
                <a:noFill/>
              </a:ln>
            </p:spPr>
            <p:style>
              <a:lnRef idx="0"/>
              <a:fillRef idx="0"/>
              <a:effectRef idx="0"/>
              <a:fontRef idx="minor"/>
            </p:style>
            <p:txBody>
              <a:bodyPr lIns="90000" rIns="90000" tIns="-36720" bIns="-36720" anchor="ctr">
                <a:noAutofit/>
              </a:bodyPr>
              <a:p>
                <a:endParaRPr b="0" lang="en-US" sz="1800" spc="-1" strike="noStrike">
                  <a:solidFill>
                    <a:srgbClr val="313c3f"/>
                  </a:solidFill>
                  <a:latin typeface="Source Sans Pro"/>
                </a:endParaRPr>
              </a:p>
            </p:txBody>
          </p:sp>
          <p:sp>
            <p:nvSpPr>
              <p:cNvPr id="1065" name="Freeform: Shape 134"/>
              <p:cNvSpPr/>
              <p:nvPr/>
            </p:nvSpPr>
            <p:spPr>
              <a:xfrm>
                <a:off x="1653840" y="2110680"/>
                <a:ext cx="14760" cy="26640"/>
              </a:xfrm>
              <a:custGeom>
                <a:avLst/>
                <a:gdLst/>
                <a:ahLst/>
                <a:rect l="l" t="t" r="r" b="b"/>
                <a:pathLst>
                  <a:path w="20250" h="36194">
                    <a:moveTo>
                      <a:pt x="20003" y="18097"/>
                    </a:moveTo>
                    <a:cubicBezTo>
                      <a:pt x="20955" y="22860"/>
                      <a:pt x="19050" y="28575"/>
                      <a:pt x="16192" y="30480"/>
                    </a:cubicBezTo>
                    <a:cubicBezTo>
                      <a:pt x="13335" y="-32198"/>
                      <a:pt x="10478" y="-31246"/>
                      <a:pt x="8572" y="-30293"/>
                    </a:cubicBezTo>
                    <a:cubicBezTo>
                      <a:pt x="3810" y="-29341"/>
                      <a:pt x="953" y="-29341"/>
                      <a:pt x="953" y="-29341"/>
                    </a:cubicBezTo>
                    <a:cubicBezTo>
                      <a:pt x="953" y="-29341"/>
                      <a:pt x="2858" y="-32198"/>
                      <a:pt x="4763" y="30480"/>
                    </a:cubicBezTo>
                    <a:cubicBezTo>
                      <a:pt x="7620" y="26670"/>
                      <a:pt x="8572" y="22860"/>
                      <a:pt x="7620" y="20002"/>
                    </a:cubicBezTo>
                    <a:cubicBezTo>
                      <a:pt x="7620" y="17145"/>
                      <a:pt x="3810" y="11430"/>
                      <a:pt x="1905" y="7620"/>
                    </a:cubicBezTo>
                    <a:cubicBezTo>
                      <a:pt x="0" y="2857"/>
                      <a:pt x="0" y="0"/>
                      <a:pt x="0" y="0"/>
                    </a:cubicBezTo>
                    <a:cubicBezTo>
                      <a:pt x="0" y="0"/>
                      <a:pt x="2858" y="1905"/>
                      <a:pt x="6667" y="3810"/>
                    </a:cubicBezTo>
                    <a:cubicBezTo>
                      <a:pt x="8572" y="4763"/>
                      <a:pt x="10478" y="5715"/>
                      <a:pt x="13335" y="7620"/>
                    </a:cubicBezTo>
                    <a:cubicBezTo>
                      <a:pt x="15240" y="10477"/>
                      <a:pt x="18097" y="13335"/>
                      <a:pt x="20003" y="18097"/>
                    </a:cubicBezTo>
                    <a:close/>
                  </a:path>
                </a:pathLst>
              </a:custGeom>
              <a:solidFill>
                <a:srgbClr val="3f3b3c"/>
              </a:solidFill>
              <a:ln w="0">
                <a:noFill/>
              </a:ln>
            </p:spPr>
            <p:style>
              <a:lnRef idx="0"/>
              <a:fillRef idx="0"/>
              <a:effectRef idx="0"/>
              <a:fontRef idx="minor"/>
            </p:style>
            <p:txBody>
              <a:bodyPr lIns="90000" rIns="90000" tIns="-20160" bIns="-20160" anchor="ctr">
                <a:noAutofit/>
              </a:bodyPr>
              <a:p>
                <a:endParaRPr b="0" lang="en-US" sz="1800" spc="-1" strike="noStrike">
                  <a:solidFill>
                    <a:srgbClr val="313c3f"/>
                  </a:solidFill>
                  <a:latin typeface="Source Sans Pro"/>
                </a:endParaRPr>
              </a:p>
            </p:txBody>
          </p:sp>
          <p:sp>
            <p:nvSpPr>
              <p:cNvPr id="1066" name="Freeform: Shape 135"/>
              <p:cNvSpPr/>
              <p:nvPr/>
            </p:nvSpPr>
            <p:spPr>
              <a:xfrm>
                <a:off x="1571040" y="2113560"/>
                <a:ext cx="12600" cy="25200"/>
              </a:xfrm>
              <a:custGeom>
                <a:avLst/>
                <a:gdLst/>
                <a:ahLst/>
                <a:rect l="l" t="t" r="r" b="b"/>
                <a:pathLst>
                  <a:path w="17293" h="34290">
                    <a:moveTo>
                      <a:pt x="12531" y="19050"/>
                    </a:moveTo>
                    <a:cubicBezTo>
                      <a:pt x="12531" y="22860"/>
                      <a:pt x="13483" y="26670"/>
                      <a:pt x="14436" y="29528"/>
                    </a:cubicBezTo>
                    <a:cubicBezTo>
                      <a:pt x="15388" y="32385"/>
                      <a:pt x="17293" y="34290"/>
                      <a:pt x="17293" y="34290"/>
                    </a:cubicBezTo>
                    <a:cubicBezTo>
                      <a:pt x="17293" y="34290"/>
                      <a:pt x="16341" y="34290"/>
                      <a:pt x="15388" y="34290"/>
                    </a:cubicBezTo>
                    <a:cubicBezTo>
                      <a:pt x="14436" y="34290"/>
                      <a:pt x="12531" y="34290"/>
                      <a:pt x="10625" y="33338"/>
                    </a:cubicBezTo>
                    <a:cubicBezTo>
                      <a:pt x="6816" y="31433"/>
                      <a:pt x="1100" y="26670"/>
                      <a:pt x="148" y="19050"/>
                    </a:cubicBezTo>
                    <a:cubicBezTo>
                      <a:pt x="-805" y="11430"/>
                      <a:pt x="3006" y="6668"/>
                      <a:pt x="6816" y="3810"/>
                    </a:cubicBezTo>
                    <a:cubicBezTo>
                      <a:pt x="9673" y="953"/>
                      <a:pt x="12531" y="0"/>
                      <a:pt x="12531" y="0"/>
                    </a:cubicBezTo>
                    <a:cubicBezTo>
                      <a:pt x="12531" y="0"/>
                      <a:pt x="12531" y="2858"/>
                      <a:pt x="12531" y="6668"/>
                    </a:cubicBezTo>
                    <a:cubicBezTo>
                      <a:pt x="12531" y="10478"/>
                      <a:pt x="12531" y="15240"/>
                      <a:pt x="12531" y="19050"/>
                    </a:cubicBezTo>
                    <a:close/>
                  </a:path>
                </a:pathLst>
              </a:custGeom>
              <a:solidFill>
                <a:srgbClr val="3f3b3c"/>
              </a:solidFill>
              <a:ln w="0">
                <a:noFill/>
              </a:ln>
            </p:spPr>
            <p:style>
              <a:lnRef idx="0"/>
              <a:fillRef idx="0"/>
              <a:effectRef idx="0"/>
              <a:fontRef idx="minor"/>
            </p:style>
            <p:txBody>
              <a:bodyPr lIns="90000" rIns="90000" tIns="-21600" bIns="-21600" anchor="ctr">
                <a:noAutofit/>
              </a:bodyPr>
              <a:p>
                <a:endParaRPr b="0" lang="en-US" sz="1800" spc="-1" strike="noStrike">
                  <a:solidFill>
                    <a:srgbClr val="313c3f"/>
                  </a:solidFill>
                  <a:latin typeface="Source Sans Pro"/>
                </a:endParaRPr>
              </a:p>
            </p:txBody>
          </p:sp>
          <p:sp>
            <p:nvSpPr>
              <p:cNvPr id="1067" name="Freeform: Shape 136"/>
              <p:cNvSpPr/>
              <p:nvPr/>
            </p:nvSpPr>
            <p:spPr>
              <a:xfrm>
                <a:off x="1453680" y="2025720"/>
                <a:ext cx="322560" cy="267840"/>
              </a:xfrm>
              <a:custGeom>
                <a:avLst/>
                <a:gdLst/>
                <a:ahLst/>
                <a:rect l="l" t="t" r="r" b="b"/>
                <a:pathLst>
                  <a:path w="434340" h="360987">
                    <a:moveTo>
                      <a:pt x="432435" y="33338"/>
                    </a:moveTo>
                    <a:cubicBezTo>
                      <a:pt x="432435" y="31432"/>
                      <a:pt x="432435" y="30480"/>
                      <a:pt x="432435" y="28575"/>
                    </a:cubicBezTo>
                    <a:cubicBezTo>
                      <a:pt x="428625" y="27622"/>
                      <a:pt x="424815" y="26670"/>
                      <a:pt x="421005" y="24765"/>
                    </a:cubicBezTo>
                    <a:cubicBezTo>
                      <a:pt x="421005" y="25718"/>
                      <a:pt x="420053" y="26670"/>
                      <a:pt x="420053" y="27622"/>
                    </a:cubicBezTo>
                    <a:cubicBezTo>
                      <a:pt x="416242" y="73343"/>
                      <a:pt x="420053" y="113347"/>
                      <a:pt x="405765" y="153352"/>
                    </a:cubicBezTo>
                    <a:cubicBezTo>
                      <a:pt x="397192" y="177165"/>
                      <a:pt x="356235" y="217170"/>
                      <a:pt x="342900" y="217170"/>
                    </a:cubicBezTo>
                    <a:cubicBezTo>
                      <a:pt x="334328" y="200025"/>
                      <a:pt x="283845" y="165735"/>
                      <a:pt x="275273" y="161925"/>
                    </a:cubicBezTo>
                    <a:cubicBezTo>
                      <a:pt x="267653" y="159068"/>
                      <a:pt x="260033" y="158115"/>
                      <a:pt x="252413" y="157163"/>
                    </a:cubicBezTo>
                    <a:cubicBezTo>
                      <a:pt x="244792" y="156210"/>
                      <a:pt x="242888" y="159068"/>
                      <a:pt x="235267" y="160020"/>
                    </a:cubicBezTo>
                    <a:cubicBezTo>
                      <a:pt x="231458" y="160972"/>
                      <a:pt x="227648" y="161925"/>
                      <a:pt x="223838" y="161925"/>
                    </a:cubicBezTo>
                    <a:cubicBezTo>
                      <a:pt x="217170" y="161925"/>
                      <a:pt x="210503" y="159068"/>
                      <a:pt x="202883" y="159068"/>
                    </a:cubicBezTo>
                    <a:cubicBezTo>
                      <a:pt x="178117" y="160972"/>
                      <a:pt x="162878" y="161925"/>
                      <a:pt x="135255" y="182880"/>
                    </a:cubicBezTo>
                    <a:cubicBezTo>
                      <a:pt x="116205" y="197168"/>
                      <a:pt x="97155" y="210503"/>
                      <a:pt x="90488" y="232410"/>
                    </a:cubicBezTo>
                    <a:cubicBezTo>
                      <a:pt x="71438" y="211455"/>
                      <a:pt x="55245" y="186690"/>
                      <a:pt x="45720" y="159068"/>
                    </a:cubicBezTo>
                    <a:cubicBezTo>
                      <a:pt x="42863" y="151447"/>
                      <a:pt x="40958" y="143827"/>
                      <a:pt x="39053" y="137160"/>
                    </a:cubicBezTo>
                    <a:cubicBezTo>
                      <a:pt x="35243" y="124777"/>
                      <a:pt x="31433" y="111443"/>
                      <a:pt x="27623" y="99060"/>
                    </a:cubicBezTo>
                    <a:cubicBezTo>
                      <a:pt x="20955" y="77152"/>
                      <a:pt x="15240" y="54293"/>
                      <a:pt x="12383" y="31432"/>
                    </a:cubicBezTo>
                    <a:cubicBezTo>
                      <a:pt x="11430" y="20955"/>
                      <a:pt x="11430" y="10477"/>
                      <a:pt x="12383" y="0"/>
                    </a:cubicBezTo>
                    <a:cubicBezTo>
                      <a:pt x="4763" y="2857"/>
                      <a:pt x="953" y="8572"/>
                      <a:pt x="0" y="16193"/>
                    </a:cubicBezTo>
                    <a:cubicBezTo>
                      <a:pt x="0" y="17145"/>
                      <a:pt x="0" y="20002"/>
                      <a:pt x="953" y="23813"/>
                    </a:cubicBezTo>
                    <a:cubicBezTo>
                      <a:pt x="953" y="23813"/>
                      <a:pt x="953" y="23813"/>
                      <a:pt x="953" y="23813"/>
                    </a:cubicBezTo>
                    <a:cubicBezTo>
                      <a:pt x="953" y="23813"/>
                      <a:pt x="953" y="23813"/>
                      <a:pt x="953" y="23813"/>
                    </a:cubicBezTo>
                    <a:cubicBezTo>
                      <a:pt x="3810" y="42863"/>
                      <a:pt x="12383" y="93345"/>
                      <a:pt x="18098" y="143827"/>
                    </a:cubicBezTo>
                    <a:cubicBezTo>
                      <a:pt x="18098" y="144780"/>
                      <a:pt x="18098" y="146685"/>
                      <a:pt x="18098" y="148590"/>
                    </a:cubicBezTo>
                    <a:cubicBezTo>
                      <a:pt x="17145" y="187643"/>
                      <a:pt x="43815" y="228600"/>
                      <a:pt x="64770" y="261937"/>
                    </a:cubicBezTo>
                    <a:cubicBezTo>
                      <a:pt x="65723" y="263843"/>
                      <a:pt x="71438" y="273368"/>
                      <a:pt x="80010" y="284797"/>
                    </a:cubicBezTo>
                    <a:cubicBezTo>
                      <a:pt x="93345" y="304800"/>
                      <a:pt x="114300" y="331470"/>
                      <a:pt x="129540" y="340995"/>
                    </a:cubicBezTo>
                    <a:cubicBezTo>
                      <a:pt x="170498" y="366712"/>
                      <a:pt x="174308" y="360997"/>
                      <a:pt x="224790" y="359093"/>
                    </a:cubicBezTo>
                    <a:cubicBezTo>
                      <a:pt x="239078" y="358140"/>
                      <a:pt x="279083" y="371475"/>
                      <a:pt x="335280" y="318135"/>
                    </a:cubicBezTo>
                    <a:cubicBezTo>
                      <a:pt x="346710" y="307658"/>
                      <a:pt x="372428" y="272415"/>
                      <a:pt x="395288" y="231458"/>
                    </a:cubicBezTo>
                    <a:cubicBezTo>
                      <a:pt x="414338" y="197168"/>
                      <a:pt x="431483" y="159068"/>
                      <a:pt x="433388" y="128588"/>
                    </a:cubicBezTo>
                    <a:cubicBezTo>
                      <a:pt x="433388" y="128588"/>
                      <a:pt x="433388" y="129540"/>
                      <a:pt x="434340" y="129540"/>
                    </a:cubicBezTo>
                    <a:cubicBezTo>
                      <a:pt x="432435" y="99060"/>
                      <a:pt x="431483" y="66675"/>
                      <a:pt x="432435" y="33338"/>
                    </a:cubicBezTo>
                    <a:close/>
                    <a:moveTo>
                      <a:pt x="312420" y="255270"/>
                    </a:moveTo>
                    <a:cubicBezTo>
                      <a:pt x="309563" y="263843"/>
                      <a:pt x="305753" y="273368"/>
                      <a:pt x="300038" y="280987"/>
                    </a:cubicBezTo>
                    <a:cubicBezTo>
                      <a:pt x="295275" y="286703"/>
                      <a:pt x="289560" y="291465"/>
                      <a:pt x="283845" y="295275"/>
                    </a:cubicBezTo>
                    <a:cubicBezTo>
                      <a:pt x="279083" y="299085"/>
                      <a:pt x="273367" y="301943"/>
                      <a:pt x="266700" y="301943"/>
                    </a:cubicBezTo>
                    <a:cubicBezTo>
                      <a:pt x="259080" y="301943"/>
                      <a:pt x="252413" y="298133"/>
                      <a:pt x="247650" y="291465"/>
                    </a:cubicBezTo>
                    <a:cubicBezTo>
                      <a:pt x="242888" y="285750"/>
                      <a:pt x="240983" y="279083"/>
                      <a:pt x="239078" y="272415"/>
                    </a:cubicBezTo>
                    <a:cubicBezTo>
                      <a:pt x="239078" y="271462"/>
                      <a:pt x="238125" y="271462"/>
                      <a:pt x="237173" y="271462"/>
                    </a:cubicBezTo>
                    <a:cubicBezTo>
                      <a:pt x="232410" y="272415"/>
                      <a:pt x="215265" y="272415"/>
                      <a:pt x="207645" y="270510"/>
                    </a:cubicBezTo>
                    <a:cubicBezTo>
                      <a:pt x="206692" y="270510"/>
                      <a:pt x="200025" y="280035"/>
                      <a:pt x="197167" y="285750"/>
                    </a:cubicBezTo>
                    <a:cubicBezTo>
                      <a:pt x="195263" y="289560"/>
                      <a:pt x="192405" y="292418"/>
                      <a:pt x="189548" y="295275"/>
                    </a:cubicBezTo>
                    <a:cubicBezTo>
                      <a:pt x="186690" y="298133"/>
                      <a:pt x="181928" y="300037"/>
                      <a:pt x="178117" y="299085"/>
                    </a:cubicBezTo>
                    <a:cubicBezTo>
                      <a:pt x="175260" y="299085"/>
                      <a:pt x="172403" y="297180"/>
                      <a:pt x="169545" y="295275"/>
                    </a:cubicBezTo>
                    <a:cubicBezTo>
                      <a:pt x="159067" y="288608"/>
                      <a:pt x="148590" y="280987"/>
                      <a:pt x="139065" y="272415"/>
                    </a:cubicBezTo>
                    <a:cubicBezTo>
                      <a:pt x="131445" y="265747"/>
                      <a:pt x="112395" y="252412"/>
                      <a:pt x="111442" y="241935"/>
                    </a:cubicBezTo>
                    <a:cubicBezTo>
                      <a:pt x="110490" y="237172"/>
                      <a:pt x="138113" y="214312"/>
                      <a:pt x="141923" y="212408"/>
                    </a:cubicBezTo>
                    <a:cubicBezTo>
                      <a:pt x="150495" y="209550"/>
                      <a:pt x="202883" y="189547"/>
                      <a:pt x="209550" y="187643"/>
                    </a:cubicBezTo>
                    <a:cubicBezTo>
                      <a:pt x="211455" y="187643"/>
                      <a:pt x="224790" y="198120"/>
                      <a:pt x="241935" y="188595"/>
                    </a:cubicBezTo>
                    <a:cubicBezTo>
                      <a:pt x="249555" y="183833"/>
                      <a:pt x="300990" y="206693"/>
                      <a:pt x="312420" y="210503"/>
                    </a:cubicBezTo>
                    <a:cubicBezTo>
                      <a:pt x="315278" y="211455"/>
                      <a:pt x="324803" y="216218"/>
                      <a:pt x="326708" y="219075"/>
                    </a:cubicBezTo>
                    <a:cubicBezTo>
                      <a:pt x="328613" y="224790"/>
                      <a:pt x="315278" y="247650"/>
                      <a:pt x="312420" y="255270"/>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68" name="Freeform: Shape 137"/>
              <p:cNvSpPr/>
              <p:nvPr/>
            </p:nvSpPr>
            <p:spPr>
              <a:xfrm>
                <a:off x="1556280" y="2172960"/>
                <a:ext cx="132120" cy="20520"/>
              </a:xfrm>
              <a:custGeom>
                <a:avLst/>
                <a:gdLst/>
                <a:ahLst/>
                <a:rect l="l" t="t" r="r" b="b"/>
                <a:pathLst>
                  <a:path w="177879" h="27771">
                    <a:moveTo>
                      <a:pt x="177879" y="25867"/>
                    </a:moveTo>
                    <a:cubicBezTo>
                      <a:pt x="172164" y="26819"/>
                      <a:pt x="166449" y="26819"/>
                      <a:pt x="160734" y="26819"/>
                    </a:cubicBezTo>
                    <a:cubicBezTo>
                      <a:pt x="108347" y="21104"/>
                      <a:pt x="55959" y="22057"/>
                      <a:pt x="3572" y="27772"/>
                    </a:cubicBezTo>
                    <a:cubicBezTo>
                      <a:pt x="2619" y="27772"/>
                      <a:pt x="1667" y="27772"/>
                      <a:pt x="714" y="27772"/>
                    </a:cubicBezTo>
                    <a:cubicBezTo>
                      <a:pt x="714" y="27772"/>
                      <a:pt x="714" y="27772"/>
                      <a:pt x="714" y="27772"/>
                    </a:cubicBezTo>
                    <a:cubicBezTo>
                      <a:pt x="-238" y="27772"/>
                      <a:pt x="-238" y="26819"/>
                      <a:pt x="714" y="25867"/>
                    </a:cubicBezTo>
                    <a:cubicBezTo>
                      <a:pt x="16907" y="23962"/>
                      <a:pt x="32147" y="16342"/>
                      <a:pt x="46434" y="7769"/>
                    </a:cubicBezTo>
                    <a:cubicBezTo>
                      <a:pt x="47387" y="6817"/>
                      <a:pt x="48339" y="6817"/>
                      <a:pt x="49292" y="5864"/>
                    </a:cubicBezTo>
                    <a:cubicBezTo>
                      <a:pt x="56912" y="1102"/>
                      <a:pt x="67389" y="149"/>
                      <a:pt x="75962" y="3959"/>
                    </a:cubicBezTo>
                    <a:cubicBezTo>
                      <a:pt x="81677" y="5864"/>
                      <a:pt x="88344" y="6817"/>
                      <a:pt x="94059" y="4912"/>
                    </a:cubicBezTo>
                    <a:cubicBezTo>
                      <a:pt x="98822" y="3959"/>
                      <a:pt x="103584" y="1102"/>
                      <a:pt x="108347" y="149"/>
                    </a:cubicBezTo>
                    <a:cubicBezTo>
                      <a:pt x="115014" y="-803"/>
                      <a:pt x="120729" y="3007"/>
                      <a:pt x="127397" y="5864"/>
                    </a:cubicBezTo>
                    <a:cubicBezTo>
                      <a:pt x="141684" y="14437"/>
                      <a:pt x="158829" y="23009"/>
                      <a:pt x="177879" y="25867"/>
                    </a:cubicBezTo>
                    <a:close/>
                  </a:path>
                </a:pathLst>
              </a:custGeom>
              <a:solidFill>
                <a:srgbClr val="bc8c68"/>
              </a:solidFill>
              <a:ln w="0">
                <a:noFill/>
              </a:ln>
            </p:spPr>
            <p:style>
              <a:lnRef idx="0"/>
              <a:fillRef idx="0"/>
              <a:effectRef idx="0"/>
              <a:fontRef idx="minor"/>
            </p:style>
            <p:txBody>
              <a:bodyPr lIns="90000" rIns="90000" tIns="-26280" bIns="-26280" anchor="ctr">
                <a:noAutofit/>
              </a:bodyPr>
              <a:p>
                <a:endParaRPr b="0" lang="en-US" sz="1800" spc="-1" strike="noStrike">
                  <a:solidFill>
                    <a:srgbClr val="313c3f"/>
                  </a:solidFill>
                  <a:latin typeface="Source Sans Pro"/>
                </a:endParaRPr>
              </a:p>
            </p:txBody>
          </p:sp>
          <p:sp>
            <p:nvSpPr>
              <p:cNvPr id="1069" name="Freeform: Shape 138"/>
              <p:cNvSpPr/>
              <p:nvPr/>
            </p:nvSpPr>
            <p:spPr>
              <a:xfrm>
                <a:off x="1575360" y="2207520"/>
                <a:ext cx="85320" cy="11880"/>
              </a:xfrm>
              <a:custGeom>
                <a:avLst/>
                <a:gdLst/>
                <a:ahLst/>
                <a:rect l="l" t="t" r="r" b="b"/>
                <a:pathLst>
                  <a:path w="115252" h="16354">
                    <a:moveTo>
                      <a:pt x="0" y="0"/>
                    </a:moveTo>
                    <a:cubicBezTo>
                      <a:pt x="7620" y="4763"/>
                      <a:pt x="58103" y="34290"/>
                      <a:pt x="115253" y="0"/>
                    </a:cubicBezTo>
                    <a:cubicBezTo>
                      <a:pt x="77153" y="10477"/>
                      <a:pt x="38100" y="11430"/>
                      <a:pt x="0" y="0"/>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313c3f"/>
                  </a:solidFill>
                  <a:latin typeface="Source Sans Pro"/>
                </a:endParaRPr>
              </a:p>
            </p:txBody>
          </p:sp>
        </p:grpSp>
      </p:grpSp>
      <p:sp>
        <p:nvSpPr>
          <p:cNvPr id="1070" name="TextBox 172"/>
          <p:cNvSpPr/>
          <p:nvPr/>
        </p:nvSpPr>
        <p:spPr>
          <a:xfrm>
            <a:off x="2683800" y="2051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3c3f"/>
                </a:solidFill>
                <a:latin typeface="Lato"/>
              </a:rPr>
              <a:t>92%</a:t>
            </a:r>
            <a:endParaRPr b="0" lang="en-US" sz="4400" spc="-1" strike="noStrike">
              <a:solidFill>
                <a:srgbClr val="313c3f"/>
              </a:solidFill>
              <a:latin typeface="Source Sans Pro"/>
            </a:endParaRPr>
          </a:p>
        </p:txBody>
      </p:sp>
      <p:sp>
        <p:nvSpPr>
          <p:cNvPr id="1071" name="TextBox 173"/>
          <p:cNvSpPr/>
          <p:nvPr/>
        </p:nvSpPr>
        <p:spPr>
          <a:xfrm>
            <a:off x="4006800" y="197640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sit</a:t>
            </a:r>
            <a:endParaRPr b="0" lang="en-US" sz="1200" spc="-1" strike="noStrike">
              <a:solidFill>
                <a:srgbClr val="313c3f"/>
              </a:solidFill>
              <a:latin typeface="Source Sans Pro"/>
            </a:endParaRPr>
          </a:p>
        </p:txBody>
      </p:sp>
      <p:sp>
        <p:nvSpPr>
          <p:cNvPr id="1072" name="TextBox 174"/>
          <p:cNvSpPr/>
          <p:nvPr/>
        </p:nvSpPr>
        <p:spPr>
          <a:xfrm>
            <a:off x="2700360" y="255348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sem. Donec non elit eu</a:t>
            </a:r>
            <a:endParaRPr b="0" lang="en-US" sz="1200" spc="-1" strike="noStrike">
              <a:solidFill>
                <a:srgbClr val="313c3f"/>
              </a:solidFill>
              <a:latin typeface="Source Sans Pro"/>
            </a:endParaRPr>
          </a:p>
        </p:txBody>
      </p:sp>
      <p:sp>
        <p:nvSpPr>
          <p:cNvPr id="1073" name="TextBox 175"/>
          <p:cNvSpPr/>
          <p:nvPr/>
        </p:nvSpPr>
        <p:spPr>
          <a:xfrm>
            <a:off x="2700360" y="18288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Mark Loes</a:t>
            </a:r>
            <a:endParaRPr b="0" lang="en-US" sz="1600" spc="-1" strike="noStrike">
              <a:solidFill>
                <a:srgbClr val="313c3f"/>
              </a:solidFill>
              <a:latin typeface="Source Sans Pro"/>
            </a:endParaRPr>
          </a:p>
        </p:txBody>
      </p:sp>
      <p:sp>
        <p:nvSpPr>
          <p:cNvPr id="1074" name="TextBox 176"/>
          <p:cNvSpPr/>
          <p:nvPr/>
        </p:nvSpPr>
        <p:spPr>
          <a:xfrm>
            <a:off x="2683800" y="44517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3c3f"/>
                </a:solidFill>
                <a:latin typeface="Lato"/>
              </a:rPr>
              <a:t>80%</a:t>
            </a:r>
            <a:endParaRPr b="0" lang="en-US" sz="4400" spc="-1" strike="noStrike">
              <a:solidFill>
                <a:srgbClr val="313c3f"/>
              </a:solidFill>
              <a:latin typeface="Source Sans Pro"/>
            </a:endParaRPr>
          </a:p>
        </p:txBody>
      </p:sp>
      <p:sp>
        <p:nvSpPr>
          <p:cNvPr id="1075" name="TextBox 177"/>
          <p:cNvSpPr/>
          <p:nvPr/>
        </p:nvSpPr>
        <p:spPr>
          <a:xfrm>
            <a:off x="4006800" y="437652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sit</a:t>
            </a:r>
            <a:endParaRPr b="0" lang="en-US" sz="1200" spc="-1" strike="noStrike">
              <a:solidFill>
                <a:srgbClr val="313c3f"/>
              </a:solidFill>
              <a:latin typeface="Source Sans Pro"/>
            </a:endParaRPr>
          </a:p>
        </p:txBody>
      </p:sp>
      <p:sp>
        <p:nvSpPr>
          <p:cNvPr id="1076" name="TextBox 178"/>
          <p:cNvSpPr/>
          <p:nvPr/>
        </p:nvSpPr>
        <p:spPr>
          <a:xfrm>
            <a:off x="2700360" y="495360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sem. Donec non elit eu</a:t>
            </a:r>
            <a:endParaRPr b="0" lang="en-US" sz="1200" spc="-1" strike="noStrike">
              <a:solidFill>
                <a:srgbClr val="313c3f"/>
              </a:solidFill>
              <a:latin typeface="Source Sans Pro"/>
            </a:endParaRPr>
          </a:p>
        </p:txBody>
      </p:sp>
      <p:sp>
        <p:nvSpPr>
          <p:cNvPr id="1077" name="TextBox 179"/>
          <p:cNvSpPr/>
          <p:nvPr/>
        </p:nvSpPr>
        <p:spPr>
          <a:xfrm>
            <a:off x="2700360" y="42292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Theresssa</a:t>
            </a:r>
            <a:endParaRPr b="0" lang="en-US" sz="1600" spc="-1" strike="noStrike">
              <a:solidFill>
                <a:srgbClr val="313c3f"/>
              </a:solidFill>
              <a:latin typeface="Source Sans Pro"/>
            </a:endParaRPr>
          </a:p>
        </p:txBody>
      </p:sp>
      <p:sp>
        <p:nvSpPr>
          <p:cNvPr id="1078" name="Straight Connector 169"/>
          <p:cNvSpPr/>
          <p:nvPr/>
        </p:nvSpPr>
        <p:spPr>
          <a:xfrm>
            <a:off x="6568920" y="172260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079" name="Straight Connector 170"/>
          <p:cNvSpPr/>
          <p:nvPr/>
        </p:nvSpPr>
        <p:spPr>
          <a:xfrm>
            <a:off x="6568920" y="415764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graphicFrame>
        <p:nvGraphicFramePr>
          <p:cNvPr id="1080" name="Chart 142"/>
          <p:cNvGraphicFramePr/>
          <p:nvPr/>
        </p:nvGraphicFramePr>
        <p:xfrm>
          <a:off x="6591240" y="1582560"/>
          <a:ext cx="5186520" cy="2113200"/>
        </p:xfrm>
        <a:graphic>
          <a:graphicData uri="http://schemas.openxmlformats.org/presentationml/2006/ole">
            <p:oleObj progId="Excel.Sheet.12" r:id="rId5" spid="">
              <p:embed/>
              <p:pic>
                <p:nvPicPr>
                  <p:cNvPr id="1081" name="Chart 142" descr=""/>
                  <p:cNvPicPr/>
                  <p:nvPr/>
                </p:nvPicPr>
                <p:blipFill>
                  <a:blip r:embed="rId6"/>
                  <a:stretch/>
                </p:blipFill>
                <p:spPr>
                  <a:xfrm>
                    <a:off x="6591240" y="1582560"/>
                    <a:ext cx="5186520" cy="2113200"/>
                  </a:xfrm>
                  <a:prstGeom prst="rect">
                    <a:avLst/>
                  </a:prstGeom>
                  <a:ln w="0">
                    <a:noFill/>
                  </a:ln>
                </p:spPr>
              </p:pic>
            </p:oleObj>
          </a:graphicData>
        </a:graphic>
      </p:graphicFrame>
      <p:graphicFrame>
        <p:nvGraphicFramePr>
          <p:cNvPr id="1082" name="Chart 153"/>
          <p:cNvGraphicFramePr/>
          <p:nvPr/>
        </p:nvGraphicFramePr>
        <p:xfrm>
          <a:off x="6591240" y="4011480"/>
          <a:ext cx="5186520" cy="2113200"/>
        </p:xfrm>
        <a:graphic>
          <a:graphicData uri="http://schemas.openxmlformats.org/presentationml/2006/ole">
            <p:oleObj progId="Excel.Sheet.12" r:id="rId7" spid="">
              <p:embed/>
              <p:pic>
                <p:nvPicPr>
                  <p:cNvPr id="1083" name="Chart 153" descr=""/>
                  <p:cNvPicPr/>
                  <p:nvPr/>
                </p:nvPicPr>
                <p:blipFill>
                  <a:blip r:embed="rId8"/>
                  <a:stretch/>
                </p:blipFill>
                <p:spPr>
                  <a:xfrm>
                    <a:off x="6591240" y="4011480"/>
                    <a:ext cx="5186520" cy="2113200"/>
                  </a:xfrm>
                  <a:prstGeom prst="rect">
                    <a:avLst/>
                  </a:prstGeom>
                  <a:ln w="0">
                    <a:noFill/>
                  </a:ln>
                </p:spPr>
              </p:pic>
            </p:oleObj>
          </a:graphicData>
        </a:graphic>
      </p:graphicFrame>
    </p:spTree>
  </p:cSld>
  <p:transition spd="med">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0">
                                  <p:stCondLst>
                                    <p:cond delay="0"/>
                                  </p:stCondLst>
                                  <p:childTnLst>
                                    <p:set>
                                      <p:cBhvr>
                                        <p:cTn id="1142" dur="1" fill="hold">
                                          <p:stCondLst>
                                            <p:cond delay="0"/>
                                          </p:stCondLst>
                                        </p:cTn>
                                        <p:tgtEl>
                                          <p:spTgt spid="943"/>
                                        </p:tgtEl>
                                        <p:attrNameLst>
                                          <p:attrName>style.visibility</p:attrName>
                                        </p:attrNameLst>
                                      </p:cBhvr>
                                      <p:to>
                                        <p:strVal val="visible"/>
                                      </p:to>
                                    </p:set>
                                    <p:animEffect filter="fade" transition="in">
                                      <p:cBhvr additive="repl">
                                        <p:cTn id="1143" dur="500"/>
                                        <p:tgtEl>
                                          <p:spTgt spid="943"/>
                                        </p:tgtEl>
                                      </p:cBhvr>
                                    </p:animEffect>
                                  </p:childTnLst>
                                </p:cTn>
                              </p:par>
                            </p:childTnLst>
                          </p:cTn>
                        </p:par>
                        <p:par>
                          <p:cTn id="1144" nodeType="afterEffect" fill="hold">
                            <p:stCondLst>
                              <p:cond delay="500"/>
                            </p:stCondLst>
                            <p:childTnLst>
                              <p:par>
                                <p:cTn id="1145" nodeType="afterEffect" fill="hold" presetClass="entr" presetID="10">
                                  <p:stCondLst>
                                    <p:cond delay="0"/>
                                  </p:stCondLst>
                                  <p:childTnLst>
                                    <p:set>
                                      <p:cBhvr>
                                        <p:cTn id="1146" dur="1" fill="hold">
                                          <p:stCondLst>
                                            <p:cond delay="0"/>
                                          </p:stCondLst>
                                        </p:cTn>
                                        <p:tgtEl>
                                          <p:spTgt spid="944"/>
                                        </p:tgtEl>
                                        <p:attrNameLst>
                                          <p:attrName>style.visibility</p:attrName>
                                        </p:attrNameLst>
                                      </p:cBhvr>
                                      <p:to>
                                        <p:strVal val="visible"/>
                                      </p:to>
                                    </p:set>
                                    <p:animEffect filter="fade" transition="in">
                                      <p:cBhvr additive="repl">
                                        <p:cTn id="1147" dur="500"/>
                                        <p:tgtEl>
                                          <p:spTgt spid="944"/>
                                        </p:tgtEl>
                                      </p:cBhvr>
                                    </p:animEffect>
                                  </p:childTnLst>
                                </p:cTn>
                              </p:par>
                              <p:par>
                                <p:cTn id="1148" nodeType="withEffect" fill="hold" presetClass="entr" presetID="10">
                                  <p:stCondLst>
                                    <p:cond delay="0"/>
                                  </p:stCondLst>
                                  <p:childTnLst>
                                    <p:set>
                                      <p:cBhvr>
                                        <p:cTn id="1149" dur="1" fill="hold">
                                          <p:stCondLst>
                                            <p:cond delay="0"/>
                                          </p:stCondLst>
                                        </p:cTn>
                                        <p:tgtEl>
                                          <p:spTgt spid="1010"/>
                                        </p:tgtEl>
                                        <p:attrNameLst>
                                          <p:attrName>style.visibility</p:attrName>
                                        </p:attrNameLst>
                                      </p:cBhvr>
                                      <p:to>
                                        <p:strVal val="visible"/>
                                      </p:to>
                                    </p:set>
                                    <p:animEffect filter="fade" transition="in">
                                      <p:cBhvr additive="repl">
                                        <p:cTn id="1150" dur="500"/>
                                        <p:tgtEl>
                                          <p:spTgt spid="1010"/>
                                        </p:tgtEl>
                                      </p:cBhvr>
                                    </p:animEffect>
                                  </p:childTnLst>
                                </p:cTn>
                              </p:par>
                            </p:childTnLst>
                          </p:cTn>
                        </p:par>
                        <p:par>
                          <p:cTn id="1151" nodeType="afterEffect" fill="hold">
                            <p:stCondLst>
                              <p:cond delay="1000"/>
                            </p:stCondLst>
                            <p:childTnLst>
                              <p:par>
                                <p:cTn id="1152" nodeType="afterEffect" fill="hold" presetClass="entr" presetID="10">
                                  <p:stCondLst>
                                    <p:cond delay="0"/>
                                  </p:stCondLst>
                                  <p:childTnLst>
                                    <p:set>
                                      <p:cBhvr>
                                        <p:cTn id="1153" dur="1" fill="hold">
                                          <p:stCondLst>
                                            <p:cond delay="0"/>
                                          </p:stCondLst>
                                        </p:cTn>
                                        <p:tgtEl>
                                          <p:spTgt spid="1073"/>
                                        </p:tgtEl>
                                        <p:attrNameLst>
                                          <p:attrName>style.visibility</p:attrName>
                                        </p:attrNameLst>
                                      </p:cBhvr>
                                      <p:to>
                                        <p:strVal val="visible"/>
                                      </p:to>
                                    </p:set>
                                    <p:animEffect filter="fade" transition="in">
                                      <p:cBhvr additive="repl">
                                        <p:cTn id="1154" dur="500"/>
                                        <p:tgtEl>
                                          <p:spTgt spid="1073"/>
                                        </p:tgtEl>
                                      </p:cBhvr>
                                    </p:animEffect>
                                  </p:childTnLst>
                                </p:cTn>
                              </p:par>
                              <p:par>
                                <p:cTn id="1155" nodeType="withEffect" fill="hold" presetClass="entr" presetID="10">
                                  <p:stCondLst>
                                    <p:cond delay="0"/>
                                  </p:stCondLst>
                                  <p:childTnLst>
                                    <p:set>
                                      <p:cBhvr>
                                        <p:cTn id="1156" dur="1" fill="hold">
                                          <p:stCondLst>
                                            <p:cond delay="0"/>
                                          </p:stCondLst>
                                        </p:cTn>
                                        <p:tgtEl>
                                          <p:spTgt spid="1077"/>
                                        </p:tgtEl>
                                        <p:attrNameLst>
                                          <p:attrName>style.visibility</p:attrName>
                                        </p:attrNameLst>
                                      </p:cBhvr>
                                      <p:to>
                                        <p:strVal val="visible"/>
                                      </p:to>
                                    </p:set>
                                    <p:animEffect filter="fade" transition="in">
                                      <p:cBhvr additive="repl">
                                        <p:cTn id="1157" dur="500"/>
                                        <p:tgtEl>
                                          <p:spTgt spid="1077"/>
                                        </p:tgtEl>
                                      </p:cBhvr>
                                    </p:animEffect>
                                  </p:childTnLst>
                                </p:cTn>
                              </p:par>
                              <p:par>
                                <p:cTn id="1158" nodeType="withEffect" fill="hold" presetClass="entr" presetID="10">
                                  <p:stCondLst>
                                    <p:cond delay="0"/>
                                  </p:stCondLst>
                                  <p:childTnLst>
                                    <p:set>
                                      <p:cBhvr>
                                        <p:cTn id="1159" dur="1" fill="hold">
                                          <p:stCondLst>
                                            <p:cond delay="0"/>
                                          </p:stCondLst>
                                        </p:cTn>
                                        <p:tgtEl>
                                          <p:spTgt spid="1070"/>
                                        </p:tgtEl>
                                        <p:attrNameLst>
                                          <p:attrName>style.visibility</p:attrName>
                                        </p:attrNameLst>
                                      </p:cBhvr>
                                      <p:to>
                                        <p:strVal val="visible"/>
                                      </p:to>
                                    </p:set>
                                    <p:animEffect filter="fade" transition="in">
                                      <p:cBhvr additive="repl">
                                        <p:cTn id="1160" dur="500"/>
                                        <p:tgtEl>
                                          <p:spTgt spid="1070"/>
                                        </p:tgtEl>
                                      </p:cBhvr>
                                    </p:animEffect>
                                  </p:childTnLst>
                                </p:cTn>
                              </p:par>
                              <p:par>
                                <p:cTn id="1161" nodeType="withEffect" fill="hold" presetClass="entr" presetID="10">
                                  <p:stCondLst>
                                    <p:cond delay="0"/>
                                  </p:stCondLst>
                                  <p:childTnLst>
                                    <p:set>
                                      <p:cBhvr>
                                        <p:cTn id="1162" dur="1" fill="hold">
                                          <p:stCondLst>
                                            <p:cond delay="0"/>
                                          </p:stCondLst>
                                        </p:cTn>
                                        <p:tgtEl>
                                          <p:spTgt spid="1074"/>
                                        </p:tgtEl>
                                        <p:attrNameLst>
                                          <p:attrName>style.visibility</p:attrName>
                                        </p:attrNameLst>
                                      </p:cBhvr>
                                      <p:to>
                                        <p:strVal val="visible"/>
                                      </p:to>
                                    </p:set>
                                    <p:animEffect filter="fade" transition="in">
                                      <p:cBhvr additive="repl">
                                        <p:cTn id="1163" dur="500"/>
                                        <p:tgtEl>
                                          <p:spTgt spid="1074"/>
                                        </p:tgtEl>
                                      </p:cBhvr>
                                    </p:animEffect>
                                  </p:childTnLst>
                                </p:cTn>
                              </p:par>
                              <p:par>
                                <p:cTn id="1164" nodeType="withEffect" fill="hold" presetClass="entr" presetID="10">
                                  <p:stCondLst>
                                    <p:cond delay="0"/>
                                  </p:stCondLst>
                                  <p:childTnLst>
                                    <p:set>
                                      <p:cBhvr>
                                        <p:cTn id="1165" dur="1" fill="hold">
                                          <p:stCondLst>
                                            <p:cond delay="0"/>
                                          </p:stCondLst>
                                        </p:cTn>
                                        <p:tgtEl>
                                          <p:spTgt spid="1071"/>
                                        </p:tgtEl>
                                        <p:attrNameLst>
                                          <p:attrName>style.visibility</p:attrName>
                                        </p:attrNameLst>
                                      </p:cBhvr>
                                      <p:to>
                                        <p:strVal val="visible"/>
                                      </p:to>
                                    </p:set>
                                    <p:animEffect filter="fade" transition="in">
                                      <p:cBhvr additive="repl">
                                        <p:cTn id="1166" dur="500"/>
                                        <p:tgtEl>
                                          <p:spTgt spid="1071"/>
                                        </p:tgtEl>
                                      </p:cBhvr>
                                    </p:animEffect>
                                  </p:childTnLst>
                                </p:cTn>
                              </p:par>
                              <p:par>
                                <p:cTn id="1167" nodeType="withEffect" fill="hold" presetClass="entr" presetID="10">
                                  <p:stCondLst>
                                    <p:cond delay="0"/>
                                  </p:stCondLst>
                                  <p:childTnLst>
                                    <p:set>
                                      <p:cBhvr>
                                        <p:cTn id="1168" dur="1" fill="hold">
                                          <p:stCondLst>
                                            <p:cond delay="0"/>
                                          </p:stCondLst>
                                        </p:cTn>
                                        <p:tgtEl>
                                          <p:spTgt spid="1075"/>
                                        </p:tgtEl>
                                        <p:attrNameLst>
                                          <p:attrName>style.visibility</p:attrName>
                                        </p:attrNameLst>
                                      </p:cBhvr>
                                      <p:to>
                                        <p:strVal val="visible"/>
                                      </p:to>
                                    </p:set>
                                    <p:animEffect filter="fade" transition="in">
                                      <p:cBhvr additive="repl">
                                        <p:cTn id="1169" dur="500"/>
                                        <p:tgtEl>
                                          <p:spTgt spid="1075"/>
                                        </p:tgtEl>
                                      </p:cBhvr>
                                    </p:animEffect>
                                  </p:childTnLst>
                                </p:cTn>
                              </p:par>
                              <p:par>
                                <p:cTn id="1170" nodeType="withEffect" fill="hold" presetClass="entr" presetID="10">
                                  <p:stCondLst>
                                    <p:cond delay="0"/>
                                  </p:stCondLst>
                                  <p:childTnLst>
                                    <p:set>
                                      <p:cBhvr>
                                        <p:cTn id="1171" dur="1" fill="hold">
                                          <p:stCondLst>
                                            <p:cond delay="0"/>
                                          </p:stCondLst>
                                        </p:cTn>
                                        <p:tgtEl>
                                          <p:spTgt spid="1072"/>
                                        </p:tgtEl>
                                        <p:attrNameLst>
                                          <p:attrName>style.visibility</p:attrName>
                                        </p:attrNameLst>
                                      </p:cBhvr>
                                      <p:to>
                                        <p:strVal val="visible"/>
                                      </p:to>
                                    </p:set>
                                    <p:animEffect filter="fade" transition="in">
                                      <p:cBhvr additive="repl">
                                        <p:cTn id="1172" dur="500"/>
                                        <p:tgtEl>
                                          <p:spTgt spid="1072"/>
                                        </p:tgtEl>
                                      </p:cBhvr>
                                    </p:animEffect>
                                  </p:childTnLst>
                                </p:cTn>
                              </p:par>
                              <p:par>
                                <p:cTn id="1173" nodeType="withEffect" fill="hold" presetClass="entr" presetID="10">
                                  <p:stCondLst>
                                    <p:cond delay="0"/>
                                  </p:stCondLst>
                                  <p:childTnLst>
                                    <p:set>
                                      <p:cBhvr>
                                        <p:cTn id="1174" dur="1" fill="hold">
                                          <p:stCondLst>
                                            <p:cond delay="0"/>
                                          </p:stCondLst>
                                        </p:cTn>
                                        <p:tgtEl>
                                          <p:spTgt spid="1076"/>
                                        </p:tgtEl>
                                        <p:attrNameLst>
                                          <p:attrName>style.visibility</p:attrName>
                                        </p:attrNameLst>
                                      </p:cBhvr>
                                      <p:to>
                                        <p:strVal val="visible"/>
                                      </p:to>
                                    </p:set>
                                    <p:animEffect filter="fade" transition="in">
                                      <p:cBhvr additive="repl">
                                        <p:cTn id="1175" dur="500"/>
                                        <p:tgtEl>
                                          <p:spTgt spid="1076"/>
                                        </p:tgtEl>
                                      </p:cBhvr>
                                    </p:animEffect>
                                  </p:childTnLst>
                                </p:cTn>
                              </p:par>
                              <p:par>
                                <p:cTn id="1176" nodeType="withEffect" fill="hold" presetClass="entr" presetID="16" presetSubtype="42">
                                  <p:stCondLst>
                                    <p:cond delay="0"/>
                                  </p:stCondLst>
                                  <p:childTnLst>
                                    <p:set>
                                      <p:cBhvr>
                                        <p:cTn id="1177" dur="1" fill="hold">
                                          <p:stCondLst>
                                            <p:cond delay="0"/>
                                          </p:stCondLst>
                                        </p:cTn>
                                        <p:tgtEl>
                                          <p:spTgt spid="1078"/>
                                        </p:tgtEl>
                                        <p:attrNameLst>
                                          <p:attrName>style.visibility</p:attrName>
                                        </p:attrNameLst>
                                      </p:cBhvr>
                                      <p:to>
                                        <p:strVal val="visible"/>
                                      </p:to>
                                    </p:set>
                                    <p:animEffect filter="barn(outHorizontal)" transition="in">
                                      <p:cBhvr additive="repl">
                                        <p:cTn id="1178" dur="500"/>
                                        <p:tgtEl>
                                          <p:spTgt spid="1078"/>
                                        </p:tgtEl>
                                      </p:cBhvr>
                                    </p:animEffect>
                                  </p:childTnLst>
                                </p:cTn>
                              </p:par>
                              <p:par>
                                <p:cTn id="1179" nodeType="withEffect" fill="hold" presetClass="entr" presetID="16" presetSubtype="42">
                                  <p:stCondLst>
                                    <p:cond delay="0"/>
                                  </p:stCondLst>
                                  <p:childTnLst>
                                    <p:set>
                                      <p:cBhvr>
                                        <p:cTn id="1180" dur="1" fill="hold">
                                          <p:stCondLst>
                                            <p:cond delay="0"/>
                                          </p:stCondLst>
                                        </p:cTn>
                                        <p:tgtEl>
                                          <p:spTgt spid="1079"/>
                                        </p:tgtEl>
                                        <p:attrNameLst>
                                          <p:attrName>style.visibility</p:attrName>
                                        </p:attrNameLst>
                                      </p:cBhvr>
                                      <p:to>
                                        <p:strVal val="visible"/>
                                      </p:to>
                                    </p:set>
                                    <p:animEffect filter="barn(outHorizontal)" transition="in">
                                      <p:cBhvr additive="repl">
                                        <p:cTn id="1181" dur="500"/>
                                        <p:tgtEl>
                                          <p:spTgt spid="1079"/>
                                        </p:tgtEl>
                                      </p:cBhvr>
                                    </p:animEffect>
                                  </p:childTnLst>
                                </p:cTn>
                              </p:par>
                            </p:childTnLst>
                          </p:cTn>
                        </p:par>
                        <p:par>
                          <p:cTn id="1182" nodeType="afterEffect" fill="hold">
                            <p:stCondLst>
                              <p:cond delay="1500"/>
                            </p:stCondLst>
                            <p:childTnLst>
                              <p:par>
                                <p:cTn id="1183" nodeType="afterEffect" fill="hold" presetClass="entr" presetID="22" presetSubtype="8">
                                  <p:stCondLst>
                                    <p:cond delay="0"/>
                                  </p:stCondLst>
                                  <p:childTnLst>
                                    <p:set>
                                      <p:cBhvr>
                                        <p:cTn id="1184" dur="1" fill="hold">
                                          <p:stCondLst>
                                            <p:cond delay="0"/>
                                          </p:stCondLst>
                                        </p:cTn>
                                        <p:tgtEl>
                                          <p:spTgt spid="1081"/>
                                        </p:tgtEl>
                                        <p:attrNameLst>
                                          <p:attrName>style.visibility</p:attrName>
                                        </p:attrNameLst>
                                      </p:cBhvr>
                                      <p:to>
                                        <p:strVal val="visible"/>
                                      </p:to>
                                    </p:set>
                                    <p:animEffect filter="wipe(left)" transition="in">
                                      <p:cBhvr additive="repl">
                                        <p:cTn id="1185" dur="500"/>
                                        <p:tgtEl>
                                          <p:spTgt spid="1081"/>
                                        </p:tgtEl>
                                      </p:cBhvr>
                                    </p:animEffect>
                                  </p:childTnLst>
                                </p:cTn>
                              </p:par>
                              <p:par>
                                <p:cTn id="1186" nodeType="withEffect" fill="hold" presetClass="entr" presetID="22" presetSubtype="8">
                                  <p:stCondLst>
                                    <p:cond delay="0"/>
                                  </p:stCondLst>
                                  <p:childTnLst>
                                    <p:set>
                                      <p:cBhvr>
                                        <p:cTn id="1187" dur="1" fill="hold">
                                          <p:stCondLst>
                                            <p:cond delay="0"/>
                                          </p:stCondLst>
                                        </p:cTn>
                                        <p:tgtEl>
                                          <p:spTgt spid="1083"/>
                                        </p:tgtEl>
                                        <p:attrNameLst>
                                          <p:attrName>style.visibility</p:attrName>
                                        </p:attrNameLst>
                                      </p:cBhvr>
                                      <p:to>
                                        <p:strVal val="visible"/>
                                      </p:to>
                                    </p:set>
                                    <p:animEffect filter="wipe(left)" transition="in">
                                      <p:cBhvr additive="repl">
                                        <p:cTn id="1188"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9"/>
          <p:cNvSpPr/>
          <p:nvPr/>
        </p:nvSpPr>
        <p:spPr>
          <a:xfrm>
            <a:off x="3629160" y="1827360"/>
            <a:ext cx="224784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085" name="Rectangle 7"/>
          <p:cNvSpPr/>
          <p:nvPr/>
        </p:nvSpPr>
        <p:spPr>
          <a:xfrm>
            <a:off x="3868560" y="3165480"/>
            <a:ext cx="1768680" cy="269244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086" name="Freeform: Shape 5"/>
          <p:cNvSpPr/>
          <p:nvPr/>
        </p:nvSpPr>
        <p:spPr>
          <a:xfrm>
            <a:off x="3629160" y="1827360"/>
            <a:ext cx="2247840" cy="4306680"/>
          </a:xfrm>
          <a:custGeom>
            <a:avLst/>
            <a:gdLst/>
            <a:ahLst/>
            <a:rect l="l" t="t" r="r" b="b"/>
            <a:pathLst>
              <a:path w="2314575" h="4434840">
                <a:moveTo>
                  <a:pt x="0" y="0"/>
                </a:moveTo>
                <a:lnTo>
                  <a:pt x="0" y="4434840"/>
                </a:lnTo>
                <a:lnTo>
                  <a:pt x="2314575" y="4434840"/>
                </a:lnTo>
                <a:lnTo>
                  <a:pt x="2314575" y="0"/>
                </a:lnTo>
                <a:lnTo>
                  <a:pt x="0" y="0"/>
                </a:lnTo>
                <a:close/>
                <a:moveTo>
                  <a:pt x="1149668" y="496253"/>
                </a:moveTo>
                <a:cubicBezTo>
                  <a:pt x="1319213" y="496253"/>
                  <a:pt x="1457325" y="632460"/>
                  <a:pt x="1457325" y="800100"/>
                </a:cubicBezTo>
                <a:cubicBezTo>
                  <a:pt x="1457325" y="967740"/>
                  <a:pt x="1319213" y="1103948"/>
                  <a:pt x="1149668" y="1103948"/>
                </a:cubicBezTo>
                <a:cubicBezTo>
                  <a:pt x="980122" y="1103948"/>
                  <a:pt x="842010" y="967740"/>
                  <a:pt x="842010" y="800100"/>
                </a:cubicBezTo>
                <a:cubicBezTo>
                  <a:pt x="842010" y="632460"/>
                  <a:pt x="980122" y="496253"/>
                  <a:pt x="1149668" y="496253"/>
                </a:cubicBezTo>
                <a:close/>
                <a:moveTo>
                  <a:pt x="1884998" y="2371725"/>
                </a:moveTo>
                <a:cubicBezTo>
                  <a:pt x="1884998" y="2454593"/>
                  <a:pt x="1818323" y="2503170"/>
                  <a:pt x="1751648" y="2503170"/>
                </a:cubicBezTo>
                <a:cubicBezTo>
                  <a:pt x="1667828" y="2503170"/>
                  <a:pt x="1618298" y="2453640"/>
                  <a:pt x="1618298" y="2371725"/>
                </a:cubicBezTo>
                <a:cubicBezTo>
                  <a:pt x="1618298" y="1893570"/>
                  <a:pt x="1618298" y="1893570"/>
                  <a:pt x="1618298" y="1893570"/>
                </a:cubicBezTo>
                <a:cubicBezTo>
                  <a:pt x="1618298" y="1629728"/>
                  <a:pt x="1618298" y="1629728"/>
                  <a:pt x="1618298" y="1629728"/>
                </a:cubicBezTo>
                <a:cubicBezTo>
                  <a:pt x="1551623" y="1629728"/>
                  <a:pt x="1551623" y="1629728"/>
                  <a:pt x="1551623" y="1629728"/>
                </a:cubicBezTo>
                <a:cubicBezTo>
                  <a:pt x="1551623" y="1926908"/>
                  <a:pt x="1551623" y="1926908"/>
                  <a:pt x="1551623" y="1926908"/>
                </a:cubicBezTo>
                <a:cubicBezTo>
                  <a:pt x="1551623" y="2438400"/>
                  <a:pt x="1551623" y="2438400"/>
                  <a:pt x="1551623" y="2438400"/>
                </a:cubicBezTo>
                <a:cubicBezTo>
                  <a:pt x="1551623" y="2504123"/>
                  <a:pt x="1551623" y="2504123"/>
                  <a:pt x="1551623" y="2504123"/>
                </a:cubicBezTo>
                <a:cubicBezTo>
                  <a:pt x="1551623" y="3757613"/>
                  <a:pt x="1551623" y="3757613"/>
                  <a:pt x="1551623" y="3757613"/>
                </a:cubicBezTo>
                <a:cubicBezTo>
                  <a:pt x="1551623" y="3856673"/>
                  <a:pt x="1467803" y="3938588"/>
                  <a:pt x="1367790" y="3938588"/>
                </a:cubicBezTo>
                <a:cubicBezTo>
                  <a:pt x="1267778" y="3938588"/>
                  <a:pt x="1200150" y="3855720"/>
                  <a:pt x="1200150" y="3757613"/>
                </a:cubicBezTo>
                <a:cubicBezTo>
                  <a:pt x="1200150" y="2504123"/>
                  <a:pt x="1200150" y="2504123"/>
                  <a:pt x="1200150" y="2504123"/>
                </a:cubicBezTo>
                <a:cubicBezTo>
                  <a:pt x="1116330" y="2504123"/>
                  <a:pt x="1116330" y="2504123"/>
                  <a:pt x="1116330" y="2504123"/>
                </a:cubicBezTo>
                <a:cubicBezTo>
                  <a:pt x="1116330" y="3757613"/>
                  <a:pt x="1116330" y="3757613"/>
                  <a:pt x="1116330" y="3757613"/>
                </a:cubicBezTo>
                <a:cubicBezTo>
                  <a:pt x="1116330" y="3856673"/>
                  <a:pt x="1049655" y="3938588"/>
                  <a:pt x="948690" y="3938588"/>
                </a:cubicBezTo>
                <a:cubicBezTo>
                  <a:pt x="848678" y="3938588"/>
                  <a:pt x="764857" y="3855720"/>
                  <a:pt x="764857" y="3757613"/>
                </a:cubicBezTo>
                <a:cubicBezTo>
                  <a:pt x="764857" y="2504123"/>
                  <a:pt x="764857" y="2504123"/>
                  <a:pt x="764857" y="2504123"/>
                </a:cubicBezTo>
                <a:cubicBezTo>
                  <a:pt x="764857" y="2438400"/>
                  <a:pt x="764857" y="2438400"/>
                  <a:pt x="764857" y="2438400"/>
                </a:cubicBezTo>
                <a:cubicBezTo>
                  <a:pt x="764857" y="1926908"/>
                  <a:pt x="764857" y="1926908"/>
                  <a:pt x="764857" y="1926908"/>
                </a:cubicBezTo>
                <a:cubicBezTo>
                  <a:pt x="764857" y="1629728"/>
                  <a:pt x="764857" y="1629728"/>
                  <a:pt x="764857" y="1629728"/>
                </a:cubicBezTo>
                <a:cubicBezTo>
                  <a:pt x="698182" y="1629728"/>
                  <a:pt x="698182" y="1629728"/>
                  <a:pt x="698182" y="1629728"/>
                </a:cubicBezTo>
                <a:cubicBezTo>
                  <a:pt x="698182" y="1893570"/>
                  <a:pt x="698182" y="1893570"/>
                  <a:pt x="698182" y="1893570"/>
                </a:cubicBezTo>
                <a:cubicBezTo>
                  <a:pt x="698182" y="2371725"/>
                  <a:pt x="698182" y="2371725"/>
                  <a:pt x="698182" y="2371725"/>
                </a:cubicBezTo>
                <a:cubicBezTo>
                  <a:pt x="698182" y="2454593"/>
                  <a:pt x="647700" y="2503170"/>
                  <a:pt x="564832" y="2503170"/>
                </a:cubicBezTo>
                <a:cubicBezTo>
                  <a:pt x="498157" y="2503170"/>
                  <a:pt x="431482" y="2453640"/>
                  <a:pt x="431482" y="2371725"/>
                </a:cubicBezTo>
                <a:cubicBezTo>
                  <a:pt x="431482" y="1564005"/>
                  <a:pt x="431482" y="1564005"/>
                  <a:pt x="431482" y="1564005"/>
                </a:cubicBezTo>
                <a:cubicBezTo>
                  <a:pt x="431482" y="1349693"/>
                  <a:pt x="632460" y="1168718"/>
                  <a:pt x="849630" y="1168718"/>
                </a:cubicBezTo>
                <a:cubicBezTo>
                  <a:pt x="1267778" y="1168718"/>
                  <a:pt x="1267778" y="1168718"/>
                  <a:pt x="1267778" y="1168718"/>
                </a:cubicBezTo>
                <a:cubicBezTo>
                  <a:pt x="1301115" y="1168718"/>
                  <a:pt x="1301115" y="1168718"/>
                  <a:pt x="1301115" y="1168718"/>
                </a:cubicBezTo>
                <a:cubicBezTo>
                  <a:pt x="1468755" y="1168718"/>
                  <a:pt x="1468755" y="1168718"/>
                  <a:pt x="1468755" y="1168718"/>
                </a:cubicBezTo>
                <a:cubicBezTo>
                  <a:pt x="1685925" y="1168718"/>
                  <a:pt x="1886903" y="1349693"/>
                  <a:pt x="1886903" y="1564005"/>
                </a:cubicBezTo>
                <a:cubicBezTo>
                  <a:pt x="1884998" y="2371725"/>
                  <a:pt x="1884998" y="2371725"/>
                  <a:pt x="1884998" y="237172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87" name="Rectangle 11"/>
          <p:cNvSpPr/>
          <p:nvPr/>
        </p:nvSpPr>
        <p:spPr>
          <a:xfrm>
            <a:off x="6332400" y="1827360"/>
            <a:ext cx="224820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088" name="Rectangle 8"/>
          <p:cNvSpPr/>
          <p:nvPr/>
        </p:nvSpPr>
        <p:spPr>
          <a:xfrm>
            <a:off x="6572160" y="3699000"/>
            <a:ext cx="1768680" cy="215892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089" name="Freeform: Shape 6"/>
          <p:cNvSpPr/>
          <p:nvPr/>
        </p:nvSpPr>
        <p:spPr>
          <a:xfrm>
            <a:off x="6332400" y="1827360"/>
            <a:ext cx="2248200" cy="4306680"/>
          </a:xfrm>
          <a:custGeom>
            <a:avLst/>
            <a:gdLst/>
            <a:ahLst/>
            <a:rect l="l" t="t" r="r" b="b"/>
            <a:pathLst>
              <a:path w="2314575" h="4434840">
                <a:moveTo>
                  <a:pt x="0" y="0"/>
                </a:moveTo>
                <a:lnTo>
                  <a:pt x="0" y="4434840"/>
                </a:lnTo>
                <a:lnTo>
                  <a:pt x="2314575" y="4434840"/>
                </a:lnTo>
                <a:lnTo>
                  <a:pt x="2314575" y="0"/>
                </a:lnTo>
                <a:lnTo>
                  <a:pt x="0" y="0"/>
                </a:lnTo>
                <a:close/>
                <a:moveTo>
                  <a:pt x="1161098" y="510540"/>
                </a:moveTo>
                <a:cubicBezTo>
                  <a:pt x="1330643" y="510540"/>
                  <a:pt x="1468755" y="646748"/>
                  <a:pt x="1468755" y="814388"/>
                </a:cubicBezTo>
                <a:cubicBezTo>
                  <a:pt x="1468755" y="982028"/>
                  <a:pt x="1330643" y="1118235"/>
                  <a:pt x="1161098" y="1118235"/>
                </a:cubicBezTo>
                <a:cubicBezTo>
                  <a:pt x="991553" y="1118235"/>
                  <a:pt x="853440" y="982028"/>
                  <a:pt x="853440" y="814388"/>
                </a:cubicBezTo>
                <a:cubicBezTo>
                  <a:pt x="852488" y="646748"/>
                  <a:pt x="990600" y="510540"/>
                  <a:pt x="1161098" y="510540"/>
                </a:cubicBezTo>
                <a:close/>
                <a:moveTo>
                  <a:pt x="1867853" y="2372678"/>
                </a:moveTo>
                <a:cubicBezTo>
                  <a:pt x="1801178" y="2388870"/>
                  <a:pt x="1734503" y="2356485"/>
                  <a:pt x="1701165" y="2306955"/>
                </a:cubicBezTo>
                <a:cubicBezTo>
                  <a:pt x="1701165" y="2306955"/>
                  <a:pt x="1701165" y="2306955"/>
                  <a:pt x="1483995" y="1581150"/>
                </a:cubicBezTo>
                <a:cubicBezTo>
                  <a:pt x="1483995" y="1581150"/>
                  <a:pt x="1483995" y="1581150"/>
                  <a:pt x="1417320" y="1581150"/>
                </a:cubicBezTo>
                <a:cubicBezTo>
                  <a:pt x="1417320" y="1581150"/>
                  <a:pt x="1417320" y="1581150"/>
                  <a:pt x="1818323" y="2819400"/>
                </a:cubicBezTo>
                <a:cubicBezTo>
                  <a:pt x="1818323" y="2819400"/>
                  <a:pt x="1818323" y="2819400"/>
                  <a:pt x="1501140" y="2819400"/>
                </a:cubicBezTo>
                <a:cubicBezTo>
                  <a:pt x="1501140" y="2819400"/>
                  <a:pt x="1501140" y="2819400"/>
                  <a:pt x="1501140" y="3776663"/>
                </a:cubicBezTo>
                <a:cubicBezTo>
                  <a:pt x="1501140" y="3859530"/>
                  <a:pt x="1434465" y="3925253"/>
                  <a:pt x="1350645" y="3925253"/>
                </a:cubicBezTo>
                <a:cubicBezTo>
                  <a:pt x="1266825" y="3925253"/>
                  <a:pt x="1217295" y="3859530"/>
                  <a:pt x="1217295" y="3776663"/>
                </a:cubicBezTo>
                <a:cubicBezTo>
                  <a:pt x="1217295" y="3776663"/>
                  <a:pt x="1217295" y="3776663"/>
                  <a:pt x="1217295" y="2819400"/>
                </a:cubicBezTo>
                <a:cubicBezTo>
                  <a:pt x="1217295" y="2819400"/>
                  <a:pt x="1217295" y="2819400"/>
                  <a:pt x="1100138" y="2819400"/>
                </a:cubicBezTo>
                <a:cubicBezTo>
                  <a:pt x="1100138" y="2819400"/>
                  <a:pt x="1100138" y="2819400"/>
                  <a:pt x="1100138" y="3776663"/>
                </a:cubicBezTo>
                <a:cubicBezTo>
                  <a:pt x="1100138" y="3859530"/>
                  <a:pt x="1049655" y="3925253"/>
                  <a:pt x="966788" y="3925253"/>
                </a:cubicBezTo>
                <a:cubicBezTo>
                  <a:pt x="882968" y="3925253"/>
                  <a:pt x="816293" y="3859530"/>
                  <a:pt x="816293" y="3776663"/>
                </a:cubicBezTo>
                <a:cubicBezTo>
                  <a:pt x="816293" y="3776663"/>
                  <a:pt x="816293" y="3776663"/>
                  <a:pt x="816293" y="2819400"/>
                </a:cubicBezTo>
                <a:cubicBezTo>
                  <a:pt x="816293" y="2819400"/>
                  <a:pt x="816293" y="2819400"/>
                  <a:pt x="499110" y="2819400"/>
                </a:cubicBezTo>
                <a:cubicBezTo>
                  <a:pt x="499110" y="2819400"/>
                  <a:pt x="499110" y="2819400"/>
                  <a:pt x="900113" y="1581150"/>
                </a:cubicBezTo>
                <a:cubicBezTo>
                  <a:pt x="900113" y="1581150"/>
                  <a:pt x="900113" y="1581150"/>
                  <a:pt x="833438" y="1581150"/>
                </a:cubicBezTo>
                <a:cubicBezTo>
                  <a:pt x="833438" y="1581150"/>
                  <a:pt x="833438" y="1581150"/>
                  <a:pt x="616268" y="2306955"/>
                </a:cubicBezTo>
                <a:cubicBezTo>
                  <a:pt x="582930" y="2356485"/>
                  <a:pt x="516255" y="2389823"/>
                  <a:pt x="449580" y="2372678"/>
                </a:cubicBezTo>
                <a:cubicBezTo>
                  <a:pt x="399098" y="2356485"/>
                  <a:pt x="365760" y="2289810"/>
                  <a:pt x="382905" y="2224088"/>
                </a:cubicBezTo>
                <a:cubicBezTo>
                  <a:pt x="382905" y="2224088"/>
                  <a:pt x="382905" y="2224088"/>
                  <a:pt x="617220" y="1481138"/>
                </a:cubicBezTo>
                <a:lnTo>
                  <a:pt x="634365" y="1464945"/>
                </a:lnTo>
                <a:cubicBezTo>
                  <a:pt x="718185" y="1233488"/>
                  <a:pt x="935355" y="1167765"/>
                  <a:pt x="1019175" y="1167765"/>
                </a:cubicBezTo>
                <a:cubicBezTo>
                  <a:pt x="1085850" y="1167765"/>
                  <a:pt x="1069658" y="1167765"/>
                  <a:pt x="1136333" y="1167765"/>
                </a:cubicBezTo>
                <a:cubicBezTo>
                  <a:pt x="1153478" y="1167765"/>
                  <a:pt x="1169670" y="1167765"/>
                  <a:pt x="1186815" y="1167765"/>
                </a:cubicBezTo>
                <a:cubicBezTo>
                  <a:pt x="1253490" y="1167765"/>
                  <a:pt x="1237298" y="1167765"/>
                  <a:pt x="1303973" y="1167765"/>
                </a:cubicBezTo>
                <a:cubicBezTo>
                  <a:pt x="1387793" y="1167765"/>
                  <a:pt x="1604963" y="1233488"/>
                  <a:pt x="1688783" y="1464945"/>
                </a:cubicBezTo>
                <a:lnTo>
                  <a:pt x="1705928" y="1481138"/>
                </a:lnTo>
                <a:cubicBezTo>
                  <a:pt x="1705928" y="1481138"/>
                  <a:pt x="1705928" y="1481138"/>
                  <a:pt x="1940243" y="2224088"/>
                </a:cubicBezTo>
                <a:cubicBezTo>
                  <a:pt x="1951673" y="2289810"/>
                  <a:pt x="1917383" y="2356485"/>
                  <a:pt x="1867853" y="237267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09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1091" name="Straight Connector 17"/>
          <p:cNvSpPr/>
          <p:nvPr/>
        </p:nvSpPr>
        <p:spPr>
          <a:xfrm flipH="1">
            <a:off x="836280" y="3179880"/>
            <a:ext cx="3902040" cy="0"/>
          </a:xfrm>
          <a:prstGeom prst="line">
            <a:avLst/>
          </a:prstGeom>
          <a:ln w="12600">
            <a:solidFill>
              <a:srgbClr val="157d4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092" name="TextBox 21"/>
          <p:cNvSpPr/>
          <p:nvPr/>
        </p:nvSpPr>
        <p:spPr>
          <a:xfrm>
            <a:off x="825120" y="2471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7d42"/>
                </a:solidFill>
                <a:latin typeface="Lato"/>
              </a:rPr>
              <a:t>80%</a:t>
            </a:r>
            <a:endParaRPr b="0" lang="en-US" sz="4000" spc="-1" strike="noStrike">
              <a:solidFill>
                <a:srgbClr val="313c3f"/>
              </a:solidFill>
              <a:latin typeface="Source Sans Pro"/>
            </a:endParaRPr>
          </a:p>
        </p:txBody>
      </p:sp>
      <p:sp>
        <p:nvSpPr>
          <p:cNvPr id="1093" name="TextBox 22"/>
          <p:cNvSpPr/>
          <p:nvPr/>
        </p:nvSpPr>
        <p:spPr>
          <a:xfrm>
            <a:off x="10169280" y="299088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1c11e"/>
                </a:solidFill>
                <a:latin typeface="Lato"/>
              </a:rPr>
              <a:t>60%</a:t>
            </a:r>
            <a:endParaRPr b="0" lang="en-US" sz="4000" spc="-1" strike="noStrike">
              <a:solidFill>
                <a:srgbClr val="313c3f"/>
              </a:solidFill>
              <a:latin typeface="Source Sans Pro"/>
            </a:endParaRPr>
          </a:p>
        </p:txBody>
      </p:sp>
      <p:sp>
        <p:nvSpPr>
          <p:cNvPr id="1094" name="TextBox 23"/>
          <p:cNvSpPr/>
          <p:nvPr/>
        </p:nvSpPr>
        <p:spPr>
          <a:xfrm>
            <a:off x="836640" y="340488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c3f"/>
              </a:solidFill>
              <a:latin typeface="Source Sans Pro"/>
            </a:endParaRPr>
          </a:p>
        </p:txBody>
      </p:sp>
      <p:sp>
        <p:nvSpPr>
          <p:cNvPr id="1095" name="TextBox 24"/>
          <p:cNvSpPr/>
          <p:nvPr/>
        </p:nvSpPr>
        <p:spPr>
          <a:xfrm>
            <a:off x="836640" y="32893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1096" name="TextBox 26"/>
          <p:cNvSpPr/>
          <p:nvPr/>
        </p:nvSpPr>
        <p:spPr>
          <a:xfrm>
            <a:off x="8458200" y="3882600"/>
            <a:ext cx="2916360" cy="11883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c3f"/>
              </a:solidFill>
              <a:latin typeface="Source Sans Pro"/>
            </a:endParaRPr>
          </a:p>
        </p:txBody>
      </p:sp>
      <p:sp>
        <p:nvSpPr>
          <p:cNvPr id="1097" name="TextBox 27"/>
          <p:cNvSpPr/>
          <p:nvPr/>
        </p:nvSpPr>
        <p:spPr>
          <a:xfrm>
            <a:off x="9226440" y="376704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1098" name="TextBox 29"/>
          <p:cNvSpPr/>
          <p:nvPr/>
        </p:nvSpPr>
        <p:spPr>
          <a:xfrm>
            <a:off x="836640" y="2079720"/>
            <a:ext cx="14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Male</a:t>
            </a:r>
            <a:endParaRPr b="0" lang="en-US" sz="2000" spc="-1" strike="noStrike">
              <a:solidFill>
                <a:srgbClr val="313c3f"/>
              </a:solidFill>
              <a:latin typeface="Source Sans Pro"/>
            </a:endParaRPr>
          </a:p>
        </p:txBody>
      </p:sp>
      <p:sp>
        <p:nvSpPr>
          <p:cNvPr id="1099" name="TextBox 30"/>
          <p:cNvSpPr/>
          <p:nvPr/>
        </p:nvSpPr>
        <p:spPr>
          <a:xfrm>
            <a:off x="9944280" y="2681280"/>
            <a:ext cx="1430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Female</a:t>
            </a:r>
            <a:endParaRPr b="0" lang="en-US" sz="2000" spc="-1" strike="noStrike">
              <a:solidFill>
                <a:srgbClr val="313c3f"/>
              </a:solidFill>
              <a:latin typeface="Source Sans Pro"/>
            </a:endParaRPr>
          </a:p>
        </p:txBody>
      </p:sp>
      <p:sp>
        <p:nvSpPr>
          <p:cNvPr id="1100" name="Straight Connector 2"/>
          <p:cNvSpPr/>
          <p:nvPr/>
        </p:nvSpPr>
        <p:spPr>
          <a:xfrm>
            <a:off x="6095880" y="1814400"/>
            <a:ext cx="0" cy="4324320"/>
          </a:xfrm>
          <a:prstGeom prst="line">
            <a:avLst/>
          </a:prstGeom>
          <a:ln w="19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101" name="Oval 31"/>
          <p:cNvSpPr/>
          <p:nvPr/>
        </p:nvSpPr>
        <p:spPr>
          <a:xfrm>
            <a:off x="5715000" y="3595680"/>
            <a:ext cx="762120" cy="762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02" name="Straight Connector 20"/>
          <p:cNvSpPr/>
          <p:nvPr/>
        </p:nvSpPr>
        <p:spPr>
          <a:xfrm flipH="1">
            <a:off x="7513200" y="3708360"/>
            <a:ext cx="3861000" cy="0"/>
          </a:xfrm>
          <a:prstGeom prst="line">
            <a:avLst/>
          </a:prstGeom>
          <a:ln w="12600">
            <a:solidFill>
              <a:srgbClr val="e1c11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103" name="Oval 34"/>
          <p:cNvSpPr/>
          <p:nvPr/>
        </p:nvSpPr>
        <p:spPr>
          <a:xfrm>
            <a:off x="5811840" y="3705120"/>
            <a:ext cx="593640" cy="594000"/>
          </a:xfrm>
          <a:prstGeom prst="ellipse">
            <a:avLst/>
          </a:prstGeom>
          <a:solidFill>
            <a:srgbClr val="a6a6a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04" name="Oval 33"/>
          <p:cNvSpPr/>
          <p:nvPr/>
        </p:nvSpPr>
        <p:spPr>
          <a:xfrm>
            <a:off x="5805360" y="3686040"/>
            <a:ext cx="581040" cy="58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05" name="TextBox 32"/>
          <p:cNvSpPr/>
          <p:nvPr/>
        </p:nvSpPr>
        <p:spPr>
          <a:xfrm>
            <a:off x="5834160" y="3807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VS</a:t>
            </a:r>
            <a:endParaRPr b="0" lang="en-US" sz="1600" spc="-1" strike="noStrike">
              <a:solidFill>
                <a:srgbClr val="313c3f"/>
              </a:solidFill>
              <a:latin typeface="Source Sans Pro"/>
            </a:endParaRPr>
          </a:p>
        </p:txBody>
      </p:sp>
    </p:spTree>
  </p:cSld>
  <p:transition spd="med">
    <p:fade/>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10">
                                  <p:stCondLst>
                                    <p:cond delay="0"/>
                                  </p:stCondLst>
                                  <p:childTnLst>
                                    <p:set>
                                      <p:cBhvr>
                                        <p:cTn id="1194" dur="1" fill="hold">
                                          <p:stCondLst>
                                            <p:cond delay="0"/>
                                          </p:stCondLst>
                                        </p:cTn>
                                        <p:tgtEl>
                                          <p:spTgt spid="1090"/>
                                        </p:tgtEl>
                                        <p:attrNameLst>
                                          <p:attrName>style.visibility</p:attrName>
                                        </p:attrNameLst>
                                      </p:cBhvr>
                                      <p:to>
                                        <p:strVal val="visible"/>
                                      </p:to>
                                    </p:set>
                                    <p:animEffect filter="fade" transition="in">
                                      <p:cBhvr additive="repl">
                                        <p:cTn id="1195" dur="500"/>
                                        <p:tgtEl>
                                          <p:spTgt spid="1090"/>
                                        </p:tgtEl>
                                      </p:cBhvr>
                                    </p:animEffect>
                                  </p:childTnLst>
                                </p:cTn>
                              </p:par>
                            </p:childTnLst>
                          </p:cTn>
                        </p:par>
                        <p:par>
                          <p:cTn id="1196" nodeType="afterEffect" fill="hold">
                            <p:stCondLst>
                              <p:cond delay="500"/>
                            </p:stCondLst>
                            <p:childTnLst>
                              <p:par>
                                <p:cTn id="1197" nodeType="afterEffect" fill="hold" presetClass="entr" presetID="53" presetSubtype="16">
                                  <p:stCondLst>
                                    <p:cond delay="0"/>
                                  </p:stCondLst>
                                  <p:childTnLst>
                                    <p:set>
                                      <p:cBhvr>
                                        <p:cTn id="1198" dur="1" fill="hold">
                                          <p:stCondLst>
                                            <p:cond delay="0"/>
                                          </p:stCondLst>
                                        </p:cTn>
                                        <p:tgtEl>
                                          <p:spTgt spid="1101"/>
                                        </p:tgtEl>
                                        <p:attrNameLst>
                                          <p:attrName>style.visibility</p:attrName>
                                        </p:attrNameLst>
                                      </p:cBhvr>
                                      <p:to>
                                        <p:strVal val="visible"/>
                                      </p:to>
                                    </p:set>
                                    <p:anim calcmode="lin" valueType="num">
                                      <p:cBhvr additive="repl">
                                        <p:cTn id="1199" dur="500" fill="hold"/>
                                        <p:tgtEl>
                                          <p:spTgt spid="1101"/>
                                        </p:tgtEl>
                                        <p:attrNameLst>
                                          <p:attrName>ppt_w</p:attrName>
                                        </p:attrNameLst>
                                      </p:cBhvr>
                                      <p:tavLst>
                                        <p:tav tm="0">
                                          <p:val>
                                            <p:fltVal val="0"/>
                                          </p:val>
                                        </p:tav>
                                        <p:tav tm="100000">
                                          <p:val>
                                            <p:strVal val="#ppt_w"/>
                                          </p:val>
                                        </p:tav>
                                      </p:tavLst>
                                    </p:anim>
                                    <p:anim calcmode="lin" valueType="num">
                                      <p:cBhvr additive="repl">
                                        <p:cTn id="1200" dur="500" fill="hold"/>
                                        <p:tgtEl>
                                          <p:spTgt spid="1101"/>
                                        </p:tgtEl>
                                        <p:attrNameLst>
                                          <p:attrName>ppt_h</p:attrName>
                                        </p:attrNameLst>
                                      </p:cBhvr>
                                      <p:tavLst>
                                        <p:tav tm="0">
                                          <p:val>
                                            <p:fltVal val="0"/>
                                          </p:val>
                                        </p:tav>
                                        <p:tav tm="100000">
                                          <p:val>
                                            <p:strVal val="#ppt_h"/>
                                          </p:val>
                                        </p:tav>
                                      </p:tavLst>
                                    </p:anim>
                                    <p:animEffect filter="fade" transition="in">
                                      <p:cBhvr additive="repl">
                                        <p:cTn id="1201" dur="500"/>
                                        <p:tgtEl>
                                          <p:spTgt spid="1101"/>
                                        </p:tgtEl>
                                      </p:cBhvr>
                                    </p:animEffect>
                                  </p:childTnLst>
                                </p:cTn>
                              </p:par>
                              <p:par>
                                <p:cTn id="1202" nodeType="withEffect" fill="hold" presetClass="entr" presetID="53" presetSubtype="16">
                                  <p:stCondLst>
                                    <p:cond delay="0"/>
                                  </p:stCondLst>
                                  <p:childTnLst>
                                    <p:set>
                                      <p:cBhvr>
                                        <p:cTn id="1203" dur="1" fill="hold">
                                          <p:stCondLst>
                                            <p:cond delay="0"/>
                                          </p:stCondLst>
                                        </p:cTn>
                                        <p:tgtEl>
                                          <p:spTgt spid="1103"/>
                                        </p:tgtEl>
                                        <p:attrNameLst>
                                          <p:attrName>style.visibility</p:attrName>
                                        </p:attrNameLst>
                                      </p:cBhvr>
                                      <p:to>
                                        <p:strVal val="visible"/>
                                      </p:to>
                                    </p:set>
                                    <p:anim calcmode="lin" valueType="num">
                                      <p:cBhvr additive="repl">
                                        <p:cTn id="1204" dur="500" fill="hold"/>
                                        <p:tgtEl>
                                          <p:spTgt spid="1103"/>
                                        </p:tgtEl>
                                        <p:attrNameLst>
                                          <p:attrName>ppt_w</p:attrName>
                                        </p:attrNameLst>
                                      </p:cBhvr>
                                      <p:tavLst>
                                        <p:tav tm="0">
                                          <p:val>
                                            <p:fltVal val="0"/>
                                          </p:val>
                                        </p:tav>
                                        <p:tav tm="100000">
                                          <p:val>
                                            <p:strVal val="#ppt_w"/>
                                          </p:val>
                                        </p:tav>
                                      </p:tavLst>
                                    </p:anim>
                                    <p:anim calcmode="lin" valueType="num">
                                      <p:cBhvr additive="repl">
                                        <p:cTn id="1205" dur="500" fill="hold"/>
                                        <p:tgtEl>
                                          <p:spTgt spid="1103"/>
                                        </p:tgtEl>
                                        <p:attrNameLst>
                                          <p:attrName>ppt_h</p:attrName>
                                        </p:attrNameLst>
                                      </p:cBhvr>
                                      <p:tavLst>
                                        <p:tav tm="0">
                                          <p:val>
                                            <p:fltVal val="0"/>
                                          </p:val>
                                        </p:tav>
                                        <p:tav tm="100000">
                                          <p:val>
                                            <p:strVal val="#ppt_h"/>
                                          </p:val>
                                        </p:tav>
                                      </p:tavLst>
                                    </p:anim>
                                    <p:animEffect filter="fade" transition="in">
                                      <p:cBhvr additive="repl">
                                        <p:cTn id="1206" dur="500"/>
                                        <p:tgtEl>
                                          <p:spTgt spid="1103"/>
                                        </p:tgtEl>
                                      </p:cBhvr>
                                    </p:animEffect>
                                  </p:childTnLst>
                                </p:cTn>
                              </p:par>
                              <p:par>
                                <p:cTn id="1207" nodeType="withEffect" fill="hold" presetClass="entr" presetID="53" presetSubtype="16">
                                  <p:stCondLst>
                                    <p:cond delay="0"/>
                                  </p:stCondLst>
                                  <p:childTnLst>
                                    <p:set>
                                      <p:cBhvr>
                                        <p:cTn id="1208" dur="1" fill="hold">
                                          <p:stCondLst>
                                            <p:cond delay="0"/>
                                          </p:stCondLst>
                                        </p:cTn>
                                        <p:tgtEl>
                                          <p:spTgt spid="1104"/>
                                        </p:tgtEl>
                                        <p:attrNameLst>
                                          <p:attrName>style.visibility</p:attrName>
                                        </p:attrNameLst>
                                      </p:cBhvr>
                                      <p:to>
                                        <p:strVal val="visible"/>
                                      </p:to>
                                    </p:set>
                                    <p:anim calcmode="lin" valueType="num">
                                      <p:cBhvr additive="repl">
                                        <p:cTn id="1209" dur="500" fill="hold"/>
                                        <p:tgtEl>
                                          <p:spTgt spid="1104"/>
                                        </p:tgtEl>
                                        <p:attrNameLst>
                                          <p:attrName>ppt_w</p:attrName>
                                        </p:attrNameLst>
                                      </p:cBhvr>
                                      <p:tavLst>
                                        <p:tav tm="0">
                                          <p:val>
                                            <p:fltVal val="0"/>
                                          </p:val>
                                        </p:tav>
                                        <p:tav tm="100000">
                                          <p:val>
                                            <p:strVal val="#ppt_w"/>
                                          </p:val>
                                        </p:tav>
                                      </p:tavLst>
                                    </p:anim>
                                    <p:anim calcmode="lin" valueType="num">
                                      <p:cBhvr additive="repl">
                                        <p:cTn id="1210" dur="500" fill="hold"/>
                                        <p:tgtEl>
                                          <p:spTgt spid="1104"/>
                                        </p:tgtEl>
                                        <p:attrNameLst>
                                          <p:attrName>ppt_h</p:attrName>
                                        </p:attrNameLst>
                                      </p:cBhvr>
                                      <p:tavLst>
                                        <p:tav tm="0">
                                          <p:val>
                                            <p:fltVal val="0"/>
                                          </p:val>
                                        </p:tav>
                                        <p:tav tm="100000">
                                          <p:val>
                                            <p:strVal val="#ppt_h"/>
                                          </p:val>
                                        </p:tav>
                                      </p:tavLst>
                                    </p:anim>
                                    <p:animEffect filter="fade" transition="in">
                                      <p:cBhvr additive="repl">
                                        <p:cTn id="1211" dur="500"/>
                                        <p:tgtEl>
                                          <p:spTgt spid="1104"/>
                                        </p:tgtEl>
                                      </p:cBhvr>
                                    </p:animEffect>
                                  </p:childTnLst>
                                </p:cTn>
                              </p:par>
                              <p:par>
                                <p:cTn id="1212" nodeType="withEffect" fill="hold" presetClass="entr" presetID="53" presetSubtype="16">
                                  <p:stCondLst>
                                    <p:cond delay="0"/>
                                  </p:stCondLst>
                                  <p:childTnLst>
                                    <p:set>
                                      <p:cBhvr>
                                        <p:cTn id="1213" dur="1" fill="hold">
                                          <p:stCondLst>
                                            <p:cond delay="0"/>
                                          </p:stCondLst>
                                        </p:cTn>
                                        <p:tgtEl>
                                          <p:spTgt spid="1105"/>
                                        </p:tgtEl>
                                        <p:attrNameLst>
                                          <p:attrName>style.visibility</p:attrName>
                                        </p:attrNameLst>
                                      </p:cBhvr>
                                      <p:to>
                                        <p:strVal val="visible"/>
                                      </p:to>
                                    </p:set>
                                    <p:anim calcmode="lin" valueType="num">
                                      <p:cBhvr additive="repl">
                                        <p:cTn id="1214" dur="500" fill="hold"/>
                                        <p:tgtEl>
                                          <p:spTgt spid="1105"/>
                                        </p:tgtEl>
                                        <p:attrNameLst>
                                          <p:attrName>ppt_w</p:attrName>
                                        </p:attrNameLst>
                                      </p:cBhvr>
                                      <p:tavLst>
                                        <p:tav tm="0">
                                          <p:val>
                                            <p:fltVal val="0"/>
                                          </p:val>
                                        </p:tav>
                                        <p:tav tm="100000">
                                          <p:val>
                                            <p:strVal val="#ppt_w"/>
                                          </p:val>
                                        </p:tav>
                                      </p:tavLst>
                                    </p:anim>
                                    <p:anim calcmode="lin" valueType="num">
                                      <p:cBhvr additive="repl">
                                        <p:cTn id="1215" dur="500" fill="hold"/>
                                        <p:tgtEl>
                                          <p:spTgt spid="1105"/>
                                        </p:tgtEl>
                                        <p:attrNameLst>
                                          <p:attrName>ppt_h</p:attrName>
                                        </p:attrNameLst>
                                      </p:cBhvr>
                                      <p:tavLst>
                                        <p:tav tm="0">
                                          <p:val>
                                            <p:fltVal val="0"/>
                                          </p:val>
                                        </p:tav>
                                        <p:tav tm="100000">
                                          <p:val>
                                            <p:strVal val="#ppt_h"/>
                                          </p:val>
                                        </p:tav>
                                      </p:tavLst>
                                    </p:anim>
                                    <p:animEffect filter="fade" transition="in">
                                      <p:cBhvr additive="repl">
                                        <p:cTn id="1216" dur="500"/>
                                        <p:tgtEl>
                                          <p:spTgt spid="1105"/>
                                        </p:tgtEl>
                                      </p:cBhvr>
                                    </p:animEffect>
                                  </p:childTnLst>
                                </p:cTn>
                              </p:par>
                            </p:childTnLst>
                          </p:cTn>
                        </p:par>
                        <p:par>
                          <p:cTn id="1217" nodeType="afterEffect" fill="hold">
                            <p:stCondLst>
                              <p:cond delay="1000"/>
                            </p:stCondLst>
                            <p:childTnLst>
                              <p:par>
                                <p:cTn id="1218" nodeType="afterEffect" fill="hold" presetClass="entr" presetID="16" presetSubtype="42">
                                  <p:stCondLst>
                                    <p:cond delay="0"/>
                                  </p:stCondLst>
                                  <p:childTnLst>
                                    <p:set>
                                      <p:cBhvr>
                                        <p:cTn id="1219" dur="1" fill="hold">
                                          <p:stCondLst>
                                            <p:cond delay="0"/>
                                          </p:stCondLst>
                                        </p:cTn>
                                        <p:tgtEl>
                                          <p:spTgt spid="1100"/>
                                        </p:tgtEl>
                                        <p:attrNameLst>
                                          <p:attrName>style.visibility</p:attrName>
                                        </p:attrNameLst>
                                      </p:cBhvr>
                                      <p:to>
                                        <p:strVal val="visible"/>
                                      </p:to>
                                    </p:set>
                                    <p:animEffect filter="barn(outHorizontal)" transition="in">
                                      <p:cBhvr additive="repl">
                                        <p:cTn id="1220" dur="500"/>
                                        <p:tgtEl>
                                          <p:spTgt spid="1100"/>
                                        </p:tgtEl>
                                      </p:cBhvr>
                                    </p:animEffect>
                                  </p:childTnLst>
                                </p:cTn>
                              </p:par>
                            </p:childTnLst>
                          </p:cTn>
                        </p:par>
                        <p:par>
                          <p:cTn id="1221" nodeType="afterEffect" fill="hold">
                            <p:stCondLst>
                              <p:cond delay="1500"/>
                            </p:stCondLst>
                            <p:childTnLst>
                              <p:par>
                                <p:cTn id="1222" nodeType="afterEffect" fill="hold" presetClass="entr" presetID="10">
                                  <p:stCondLst>
                                    <p:cond delay="0"/>
                                  </p:stCondLst>
                                  <p:childTnLst>
                                    <p:set>
                                      <p:cBhvr>
                                        <p:cTn id="1223" dur="1" fill="hold">
                                          <p:stCondLst>
                                            <p:cond delay="0"/>
                                          </p:stCondLst>
                                        </p:cTn>
                                        <p:tgtEl>
                                          <p:spTgt spid="1086"/>
                                        </p:tgtEl>
                                        <p:attrNameLst>
                                          <p:attrName>style.visibility</p:attrName>
                                        </p:attrNameLst>
                                      </p:cBhvr>
                                      <p:to>
                                        <p:strVal val="visible"/>
                                      </p:to>
                                    </p:set>
                                    <p:animEffect filter="fade" transition="in">
                                      <p:cBhvr additive="repl">
                                        <p:cTn id="1224" dur="500"/>
                                        <p:tgtEl>
                                          <p:spTgt spid="1086"/>
                                        </p:tgtEl>
                                      </p:cBhvr>
                                    </p:animEffect>
                                  </p:childTnLst>
                                </p:cTn>
                              </p:par>
                              <p:par>
                                <p:cTn id="1225" nodeType="withEffect" fill="hold" presetClass="entr" presetID="10">
                                  <p:stCondLst>
                                    <p:cond delay="0"/>
                                  </p:stCondLst>
                                  <p:childTnLst>
                                    <p:set>
                                      <p:cBhvr>
                                        <p:cTn id="1226" dur="1" fill="hold">
                                          <p:stCondLst>
                                            <p:cond delay="0"/>
                                          </p:stCondLst>
                                        </p:cTn>
                                        <p:tgtEl>
                                          <p:spTgt spid="1084"/>
                                        </p:tgtEl>
                                        <p:attrNameLst>
                                          <p:attrName>style.visibility</p:attrName>
                                        </p:attrNameLst>
                                      </p:cBhvr>
                                      <p:to>
                                        <p:strVal val="visible"/>
                                      </p:to>
                                    </p:set>
                                    <p:animEffect filter="fade" transition="in">
                                      <p:cBhvr additive="repl">
                                        <p:cTn id="1227" dur="500"/>
                                        <p:tgtEl>
                                          <p:spTgt spid="1084"/>
                                        </p:tgtEl>
                                      </p:cBhvr>
                                    </p:animEffect>
                                  </p:childTnLst>
                                </p:cTn>
                              </p:par>
                              <p:par>
                                <p:cTn id="1228" nodeType="withEffect" fill="hold" presetClass="entr" presetID="10">
                                  <p:stCondLst>
                                    <p:cond delay="0"/>
                                  </p:stCondLst>
                                  <p:childTnLst>
                                    <p:set>
                                      <p:cBhvr>
                                        <p:cTn id="1229" dur="1" fill="hold">
                                          <p:stCondLst>
                                            <p:cond delay="0"/>
                                          </p:stCondLst>
                                        </p:cTn>
                                        <p:tgtEl>
                                          <p:spTgt spid="1087"/>
                                        </p:tgtEl>
                                        <p:attrNameLst>
                                          <p:attrName>style.visibility</p:attrName>
                                        </p:attrNameLst>
                                      </p:cBhvr>
                                      <p:to>
                                        <p:strVal val="visible"/>
                                      </p:to>
                                    </p:set>
                                    <p:animEffect filter="fade" transition="in">
                                      <p:cBhvr additive="repl">
                                        <p:cTn id="1230" dur="500"/>
                                        <p:tgtEl>
                                          <p:spTgt spid="1087"/>
                                        </p:tgtEl>
                                      </p:cBhvr>
                                    </p:animEffect>
                                  </p:childTnLst>
                                </p:cTn>
                              </p:par>
                              <p:par>
                                <p:cTn id="1231" nodeType="withEffect" fill="hold" presetClass="entr" presetID="10">
                                  <p:stCondLst>
                                    <p:cond delay="0"/>
                                  </p:stCondLst>
                                  <p:childTnLst>
                                    <p:set>
                                      <p:cBhvr>
                                        <p:cTn id="1232" dur="1" fill="hold">
                                          <p:stCondLst>
                                            <p:cond delay="0"/>
                                          </p:stCondLst>
                                        </p:cTn>
                                        <p:tgtEl>
                                          <p:spTgt spid="1089"/>
                                        </p:tgtEl>
                                        <p:attrNameLst>
                                          <p:attrName>style.visibility</p:attrName>
                                        </p:attrNameLst>
                                      </p:cBhvr>
                                      <p:to>
                                        <p:strVal val="visible"/>
                                      </p:to>
                                    </p:set>
                                    <p:animEffect filter="fade" transition="in">
                                      <p:cBhvr additive="repl">
                                        <p:cTn id="1233" dur="500"/>
                                        <p:tgtEl>
                                          <p:spTgt spid="1089"/>
                                        </p:tgtEl>
                                      </p:cBhvr>
                                    </p:animEffect>
                                  </p:childTnLst>
                                </p:cTn>
                              </p:par>
                            </p:childTnLst>
                          </p:cTn>
                        </p:par>
                        <p:par>
                          <p:cTn id="1234" nodeType="afterEffect" fill="hold">
                            <p:stCondLst>
                              <p:cond delay="2000"/>
                            </p:stCondLst>
                            <p:childTnLst>
                              <p:par>
                                <p:cTn id="1235" nodeType="afterEffect" fill="hold" presetClass="entr" presetID="22" presetSubtype="4">
                                  <p:stCondLst>
                                    <p:cond delay="0"/>
                                  </p:stCondLst>
                                  <p:childTnLst>
                                    <p:set>
                                      <p:cBhvr>
                                        <p:cTn id="1236" dur="1" fill="hold">
                                          <p:stCondLst>
                                            <p:cond delay="0"/>
                                          </p:stCondLst>
                                        </p:cTn>
                                        <p:tgtEl>
                                          <p:spTgt spid="1085"/>
                                        </p:tgtEl>
                                        <p:attrNameLst>
                                          <p:attrName>style.visibility</p:attrName>
                                        </p:attrNameLst>
                                      </p:cBhvr>
                                      <p:to>
                                        <p:strVal val="visible"/>
                                      </p:to>
                                    </p:set>
                                    <p:animEffect filter="wipe(down)" transition="in">
                                      <p:cBhvr additive="repl">
                                        <p:cTn id="1237" dur="500"/>
                                        <p:tgtEl>
                                          <p:spTgt spid="1085"/>
                                        </p:tgtEl>
                                      </p:cBhvr>
                                    </p:animEffect>
                                  </p:childTnLst>
                                </p:cTn>
                              </p:par>
                              <p:par>
                                <p:cTn id="1238" nodeType="withEffect" fill="hold" presetClass="entr" presetID="22" presetSubtype="4">
                                  <p:stCondLst>
                                    <p:cond delay="0"/>
                                  </p:stCondLst>
                                  <p:childTnLst>
                                    <p:set>
                                      <p:cBhvr>
                                        <p:cTn id="1239" dur="1" fill="hold">
                                          <p:stCondLst>
                                            <p:cond delay="0"/>
                                          </p:stCondLst>
                                        </p:cTn>
                                        <p:tgtEl>
                                          <p:spTgt spid="1088"/>
                                        </p:tgtEl>
                                        <p:attrNameLst>
                                          <p:attrName>style.visibility</p:attrName>
                                        </p:attrNameLst>
                                      </p:cBhvr>
                                      <p:to>
                                        <p:strVal val="visible"/>
                                      </p:to>
                                    </p:set>
                                    <p:animEffect filter="wipe(down)" transition="in">
                                      <p:cBhvr additive="repl">
                                        <p:cTn id="1240" dur="500"/>
                                        <p:tgtEl>
                                          <p:spTgt spid="1088"/>
                                        </p:tgtEl>
                                      </p:cBhvr>
                                    </p:animEffect>
                                  </p:childTnLst>
                                </p:cTn>
                              </p:par>
                            </p:childTnLst>
                          </p:cTn>
                        </p:par>
                        <p:par>
                          <p:cTn id="1241" nodeType="afterEffect" fill="hold">
                            <p:stCondLst>
                              <p:cond delay="2500"/>
                            </p:stCondLst>
                            <p:childTnLst>
                              <p:par>
                                <p:cTn id="1242" nodeType="afterEffect" fill="hold" presetClass="entr" presetID="22" presetSubtype="2">
                                  <p:stCondLst>
                                    <p:cond delay="0"/>
                                  </p:stCondLst>
                                  <p:childTnLst>
                                    <p:set>
                                      <p:cBhvr>
                                        <p:cTn id="1243" dur="1" fill="hold">
                                          <p:stCondLst>
                                            <p:cond delay="0"/>
                                          </p:stCondLst>
                                        </p:cTn>
                                        <p:tgtEl>
                                          <p:spTgt spid="1091"/>
                                        </p:tgtEl>
                                        <p:attrNameLst>
                                          <p:attrName>style.visibility</p:attrName>
                                        </p:attrNameLst>
                                      </p:cBhvr>
                                      <p:to>
                                        <p:strVal val="visible"/>
                                      </p:to>
                                    </p:set>
                                    <p:animEffect filter="wipe(right)" transition="in">
                                      <p:cBhvr additive="repl">
                                        <p:cTn id="1244" dur="500"/>
                                        <p:tgtEl>
                                          <p:spTgt spid="1091"/>
                                        </p:tgtEl>
                                      </p:cBhvr>
                                    </p:animEffect>
                                  </p:childTnLst>
                                </p:cTn>
                              </p:par>
                              <p:par>
                                <p:cTn id="1245" nodeType="withEffect" fill="hold" presetClass="entr" presetID="22" presetSubtype="8">
                                  <p:stCondLst>
                                    <p:cond delay="0"/>
                                  </p:stCondLst>
                                  <p:childTnLst>
                                    <p:set>
                                      <p:cBhvr>
                                        <p:cTn id="1246" dur="1" fill="hold">
                                          <p:stCondLst>
                                            <p:cond delay="0"/>
                                          </p:stCondLst>
                                        </p:cTn>
                                        <p:tgtEl>
                                          <p:spTgt spid="1102"/>
                                        </p:tgtEl>
                                        <p:attrNameLst>
                                          <p:attrName>style.visibility</p:attrName>
                                        </p:attrNameLst>
                                      </p:cBhvr>
                                      <p:to>
                                        <p:strVal val="visible"/>
                                      </p:to>
                                    </p:set>
                                    <p:animEffect filter="wipe(left)" transition="in">
                                      <p:cBhvr additive="repl">
                                        <p:cTn id="1247" dur="500"/>
                                        <p:tgtEl>
                                          <p:spTgt spid="1102"/>
                                        </p:tgtEl>
                                      </p:cBhvr>
                                    </p:animEffect>
                                  </p:childTnLst>
                                </p:cTn>
                              </p:par>
                            </p:childTnLst>
                          </p:cTn>
                        </p:par>
                        <p:par>
                          <p:cTn id="1248" nodeType="afterEffect" fill="hold">
                            <p:stCondLst>
                              <p:cond delay="3000"/>
                            </p:stCondLst>
                            <p:childTnLst>
                              <p:par>
                                <p:cTn id="1249" nodeType="afterEffect" fill="hold" presetClass="entr" presetID="10">
                                  <p:stCondLst>
                                    <p:cond delay="0"/>
                                  </p:stCondLst>
                                  <p:childTnLst>
                                    <p:set>
                                      <p:cBhvr>
                                        <p:cTn id="1250" dur="1" fill="hold">
                                          <p:stCondLst>
                                            <p:cond delay="0"/>
                                          </p:stCondLst>
                                        </p:cTn>
                                        <p:tgtEl>
                                          <p:spTgt spid="1093"/>
                                        </p:tgtEl>
                                        <p:attrNameLst>
                                          <p:attrName>style.visibility</p:attrName>
                                        </p:attrNameLst>
                                      </p:cBhvr>
                                      <p:to>
                                        <p:strVal val="visible"/>
                                      </p:to>
                                    </p:set>
                                    <p:animEffect filter="fade" transition="in">
                                      <p:cBhvr additive="repl">
                                        <p:cTn id="1251" dur="500"/>
                                        <p:tgtEl>
                                          <p:spTgt spid="1093"/>
                                        </p:tgtEl>
                                      </p:cBhvr>
                                    </p:animEffect>
                                  </p:childTnLst>
                                </p:cTn>
                              </p:par>
                              <p:par>
                                <p:cTn id="1252" nodeType="withEffect" fill="hold" presetClass="entr" presetID="10">
                                  <p:stCondLst>
                                    <p:cond delay="0"/>
                                  </p:stCondLst>
                                  <p:childTnLst>
                                    <p:set>
                                      <p:cBhvr>
                                        <p:cTn id="1253" dur="1" fill="hold">
                                          <p:stCondLst>
                                            <p:cond delay="0"/>
                                          </p:stCondLst>
                                        </p:cTn>
                                        <p:tgtEl>
                                          <p:spTgt spid="1099"/>
                                        </p:tgtEl>
                                        <p:attrNameLst>
                                          <p:attrName>style.visibility</p:attrName>
                                        </p:attrNameLst>
                                      </p:cBhvr>
                                      <p:to>
                                        <p:strVal val="visible"/>
                                      </p:to>
                                    </p:set>
                                    <p:animEffect filter="fade" transition="in">
                                      <p:cBhvr additive="repl">
                                        <p:cTn id="1254" dur="500"/>
                                        <p:tgtEl>
                                          <p:spTgt spid="1099"/>
                                        </p:tgtEl>
                                      </p:cBhvr>
                                    </p:animEffect>
                                  </p:childTnLst>
                                </p:cTn>
                              </p:par>
                              <p:par>
                                <p:cTn id="1255" nodeType="withEffect" fill="hold" presetClass="entr" presetID="10">
                                  <p:stCondLst>
                                    <p:cond delay="0"/>
                                  </p:stCondLst>
                                  <p:childTnLst>
                                    <p:set>
                                      <p:cBhvr>
                                        <p:cTn id="1256" dur="1" fill="hold">
                                          <p:stCondLst>
                                            <p:cond delay="0"/>
                                          </p:stCondLst>
                                        </p:cTn>
                                        <p:tgtEl>
                                          <p:spTgt spid="1092"/>
                                        </p:tgtEl>
                                        <p:attrNameLst>
                                          <p:attrName>style.visibility</p:attrName>
                                        </p:attrNameLst>
                                      </p:cBhvr>
                                      <p:to>
                                        <p:strVal val="visible"/>
                                      </p:to>
                                    </p:set>
                                    <p:animEffect filter="fade" transition="in">
                                      <p:cBhvr additive="repl">
                                        <p:cTn id="1257" dur="500"/>
                                        <p:tgtEl>
                                          <p:spTgt spid="1092"/>
                                        </p:tgtEl>
                                      </p:cBhvr>
                                    </p:animEffect>
                                  </p:childTnLst>
                                </p:cTn>
                              </p:par>
                              <p:par>
                                <p:cTn id="1258" nodeType="withEffect" fill="hold" presetClass="entr" presetID="10">
                                  <p:stCondLst>
                                    <p:cond delay="0"/>
                                  </p:stCondLst>
                                  <p:childTnLst>
                                    <p:set>
                                      <p:cBhvr>
                                        <p:cTn id="1259" dur="1" fill="hold">
                                          <p:stCondLst>
                                            <p:cond delay="0"/>
                                          </p:stCondLst>
                                        </p:cTn>
                                        <p:tgtEl>
                                          <p:spTgt spid="1098"/>
                                        </p:tgtEl>
                                        <p:attrNameLst>
                                          <p:attrName>style.visibility</p:attrName>
                                        </p:attrNameLst>
                                      </p:cBhvr>
                                      <p:to>
                                        <p:strVal val="visible"/>
                                      </p:to>
                                    </p:set>
                                    <p:animEffect filter="fade" transition="in">
                                      <p:cBhvr additive="repl">
                                        <p:cTn id="1260" dur="500"/>
                                        <p:tgtEl>
                                          <p:spTgt spid="1098"/>
                                        </p:tgtEl>
                                      </p:cBhvr>
                                    </p:animEffect>
                                  </p:childTnLst>
                                </p:cTn>
                              </p:par>
                            </p:childTnLst>
                          </p:cTn>
                        </p:par>
                        <p:par>
                          <p:cTn id="1261" nodeType="afterEffect" fill="hold">
                            <p:stCondLst>
                              <p:cond delay="3500"/>
                            </p:stCondLst>
                            <p:childTnLst>
                              <p:par>
                                <p:cTn id="1262" nodeType="afterEffect" fill="hold" presetClass="entr" presetID="10">
                                  <p:stCondLst>
                                    <p:cond delay="0"/>
                                  </p:stCondLst>
                                  <p:childTnLst>
                                    <p:set>
                                      <p:cBhvr>
                                        <p:cTn id="1263" dur="1" fill="hold">
                                          <p:stCondLst>
                                            <p:cond delay="0"/>
                                          </p:stCondLst>
                                        </p:cTn>
                                        <p:tgtEl>
                                          <p:spTgt spid="1095"/>
                                        </p:tgtEl>
                                        <p:attrNameLst>
                                          <p:attrName>style.visibility</p:attrName>
                                        </p:attrNameLst>
                                      </p:cBhvr>
                                      <p:to>
                                        <p:strVal val="visible"/>
                                      </p:to>
                                    </p:set>
                                    <p:animEffect filter="fade" transition="in">
                                      <p:cBhvr additive="repl">
                                        <p:cTn id="1264" dur="500"/>
                                        <p:tgtEl>
                                          <p:spTgt spid="1095"/>
                                        </p:tgtEl>
                                      </p:cBhvr>
                                    </p:animEffect>
                                  </p:childTnLst>
                                </p:cTn>
                              </p:par>
                              <p:par>
                                <p:cTn id="1265" nodeType="withEffect" fill="hold" presetClass="entr" presetID="10">
                                  <p:stCondLst>
                                    <p:cond delay="0"/>
                                  </p:stCondLst>
                                  <p:childTnLst>
                                    <p:set>
                                      <p:cBhvr>
                                        <p:cTn id="1266" dur="1" fill="hold">
                                          <p:stCondLst>
                                            <p:cond delay="0"/>
                                          </p:stCondLst>
                                        </p:cTn>
                                        <p:tgtEl>
                                          <p:spTgt spid="1094"/>
                                        </p:tgtEl>
                                        <p:attrNameLst>
                                          <p:attrName>style.visibility</p:attrName>
                                        </p:attrNameLst>
                                      </p:cBhvr>
                                      <p:to>
                                        <p:strVal val="visible"/>
                                      </p:to>
                                    </p:set>
                                    <p:animEffect filter="fade" transition="in">
                                      <p:cBhvr additive="repl">
                                        <p:cTn id="1267" dur="500"/>
                                        <p:tgtEl>
                                          <p:spTgt spid="1094"/>
                                        </p:tgtEl>
                                      </p:cBhvr>
                                    </p:animEffect>
                                  </p:childTnLst>
                                </p:cTn>
                              </p:par>
                              <p:par>
                                <p:cTn id="1268" nodeType="withEffect" fill="hold" presetClass="entr" presetID="10">
                                  <p:stCondLst>
                                    <p:cond delay="0"/>
                                  </p:stCondLst>
                                  <p:childTnLst>
                                    <p:set>
                                      <p:cBhvr>
                                        <p:cTn id="1269" dur="1" fill="hold">
                                          <p:stCondLst>
                                            <p:cond delay="0"/>
                                          </p:stCondLst>
                                        </p:cTn>
                                        <p:tgtEl>
                                          <p:spTgt spid="1097"/>
                                        </p:tgtEl>
                                        <p:attrNameLst>
                                          <p:attrName>style.visibility</p:attrName>
                                        </p:attrNameLst>
                                      </p:cBhvr>
                                      <p:to>
                                        <p:strVal val="visible"/>
                                      </p:to>
                                    </p:set>
                                    <p:animEffect filter="fade" transition="in">
                                      <p:cBhvr additive="repl">
                                        <p:cTn id="1270" dur="500"/>
                                        <p:tgtEl>
                                          <p:spTgt spid="1097"/>
                                        </p:tgtEl>
                                      </p:cBhvr>
                                    </p:animEffect>
                                  </p:childTnLst>
                                </p:cTn>
                              </p:par>
                              <p:par>
                                <p:cTn id="1271" nodeType="withEffect" fill="hold" presetClass="entr" presetID="10">
                                  <p:stCondLst>
                                    <p:cond delay="0"/>
                                  </p:stCondLst>
                                  <p:childTnLst>
                                    <p:set>
                                      <p:cBhvr>
                                        <p:cTn id="1272" dur="1" fill="hold">
                                          <p:stCondLst>
                                            <p:cond delay="0"/>
                                          </p:stCondLst>
                                        </p:cTn>
                                        <p:tgtEl>
                                          <p:spTgt spid="1096"/>
                                        </p:tgtEl>
                                        <p:attrNameLst>
                                          <p:attrName>style.visibility</p:attrName>
                                        </p:attrNameLst>
                                      </p:cBhvr>
                                      <p:to>
                                        <p:strVal val="visible"/>
                                      </p:to>
                                    </p:set>
                                    <p:animEffect filter="fade" transition="in">
                                      <p:cBhvr additive="repl">
                                        <p:cTn id="127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2"/>
          <p:cNvGrpSpPr/>
          <p:nvPr/>
        </p:nvGrpSpPr>
        <p:grpSpPr>
          <a:xfrm>
            <a:off x="6969240" y="3321000"/>
            <a:ext cx="647640" cy="781200"/>
            <a:chOff x="6969240" y="3321000"/>
            <a:chExt cx="647640" cy="781200"/>
          </a:xfrm>
        </p:grpSpPr>
        <p:sp>
          <p:nvSpPr>
            <p:cNvPr id="1107" name="Freeform: Shape 11"/>
            <p:cNvSpPr/>
            <p:nvPr/>
          </p:nvSpPr>
          <p:spPr>
            <a:xfrm>
              <a:off x="6969240" y="3321000"/>
              <a:ext cx="647640" cy="781200"/>
            </a:xfrm>
            <a:custGeom>
              <a:avLst/>
              <a:gdLst/>
              <a:ahLst/>
              <a:rect l="l" t="t" r="r" b="b"/>
              <a:pathLst>
                <a:path w="647764" h="780438">
                  <a:moveTo>
                    <a:pt x="401476" y="199796"/>
                  </a:moveTo>
                  <a:cubicBezTo>
                    <a:pt x="542841" y="254457"/>
                    <a:pt x="647765" y="447341"/>
                    <a:pt x="647765" y="585564"/>
                  </a:cubicBezTo>
                  <a:cubicBezTo>
                    <a:pt x="647765" y="674153"/>
                    <a:pt x="593732" y="743893"/>
                    <a:pt x="525249" y="769653"/>
                  </a:cubicBezTo>
                  <a:cubicBezTo>
                    <a:pt x="468074" y="791015"/>
                    <a:pt x="404617" y="774051"/>
                    <a:pt x="322940" y="774051"/>
                  </a:cubicBezTo>
                  <a:cubicBezTo>
                    <a:pt x="246917" y="774051"/>
                    <a:pt x="175921" y="785360"/>
                    <a:pt x="120631" y="769653"/>
                  </a:cubicBezTo>
                  <a:cubicBezTo>
                    <a:pt x="46493" y="748919"/>
                    <a:pt x="0" y="691745"/>
                    <a:pt x="0" y="613209"/>
                  </a:cubicBezTo>
                  <a:cubicBezTo>
                    <a:pt x="0" y="417183"/>
                    <a:pt x="86704" y="321683"/>
                    <a:pt x="257598" y="199796"/>
                  </a:cubicBezTo>
                  <a:cubicBezTo>
                    <a:pt x="301578" y="168381"/>
                    <a:pt x="206707" y="74138"/>
                    <a:pt x="179690" y="39582"/>
                  </a:cubicBezTo>
                  <a:cubicBezTo>
                    <a:pt x="172779" y="31414"/>
                    <a:pt x="155815" y="15079"/>
                    <a:pt x="172779" y="19477"/>
                  </a:cubicBezTo>
                  <a:cubicBezTo>
                    <a:pt x="218016" y="30158"/>
                    <a:pt x="256970" y="26388"/>
                    <a:pt x="296552" y="8796"/>
                  </a:cubicBezTo>
                  <a:cubicBezTo>
                    <a:pt x="331108" y="6911"/>
                    <a:pt x="324196" y="55289"/>
                    <a:pt x="397078" y="22618"/>
                  </a:cubicBezTo>
                  <a:cubicBezTo>
                    <a:pt x="464305" y="-7539"/>
                    <a:pt x="431005" y="35812"/>
                    <a:pt x="507028" y="0"/>
                  </a:cubicBezTo>
                  <a:cubicBezTo>
                    <a:pt x="490693" y="30786"/>
                    <a:pt x="488180" y="40839"/>
                    <a:pt x="449854" y="62829"/>
                  </a:cubicBezTo>
                  <a:cubicBezTo>
                    <a:pt x="411529" y="84191"/>
                    <a:pt x="380114" y="119375"/>
                    <a:pt x="384512" y="157072"/>
                  </a:cubicBezTo>
                  <a:cubicBezTo>
                    <a:pt x="388282" y="180947"/>
                    <a:pt x="389538" y="178434"/>
                    <a:pt x="401476" y="19979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08" name="Freeform: Shape 12"/>
            <p:cNvSpPr/>
            <p:nvPr/>
          </p:nvSpPr>
          <p:spPr>
            <a:xfrm>
              <a:off x="7160760" y="3353040"/>
              <a:ext cx="427680" cy="721440"/>
            </a:xfrm>
            <a:custGeom>
              <a:avLst/>
              <a:gdLst/>
              <a:ahLst/>
              <a:rect l="l" t="t" r="r" b="b"/>
              <a:pathLst>
                <a:path w="427863" h="720646">
                  <a:moveTo>
                    <a:pt x="258855" y="3141"/>
                  </a:moveTo>
                  <a:cubicBezTo>
                    <a:pt x="255085" y="2513"/>
                    <a:pt x="251315" y="1885"/>
                    <a:pt x="246917" y="628"/>
                  </a:cubicBezTo>
                  <a:cubicBezTo>
                    <a:pt x="246289" y="628"/>
                    <a:pt x="245660" y="0"/>
                    <a:pt x="244404" y="0"/>
                  </a:cubicBezTo>
                  <a:cubicBezTo>
                    <a:pt x="239378" y="0"/>
                    <a:pt x="224299" y="6283"/>
                    <a:pt x="220529" y="8168"/>
                  </a:cubicBezTo>
                  <a:cubicBezTo>
                    <a:pt x="203565" y="15707"/>
                    <a:pt x="184717" y="21990"/>
                    <a:pt x="165868" y="22618"/>
                  </a:cubicBezTo>
                  <a:cubicBezTo>
                    <a:pt x="141365" y="43352"/>
                    <a:pt x="124401" y="69740"/>
                    <a:pt x="128171" y="98013"/>
                  </a:cubicBezTo>
                  <a:cubicBezTo>
                    <a:pt x="131312" y="122516"/>
                    <a:pt x="132569" y="120003"/>
                    <a:pt x="144506" y="141365"/>
                  </a:cubicBezTo>
                  <a:cubicBezTo>
                    <a:pt x="153931" y="145135"/>
                    <a:pt x="163355" y="149533"/>
                    <a:pt x="172779" y="154559"/>
                  </a:cubicBezTo>
                  <a:cubicBezTo>
                    <a:pt x="169638" y="147648"/>
                    <a:pt x="167753" y="140108"/>
                    <a:pt x="165868" y="126914"/>
                  </a:cubicBezTo>
                  <a:cubicBezTo>
                    <a:pt x="160213" y="82306"/>
                    <a:pt x="196026" y="40210"/>
                    <a:pt x="242519" y="13822"/>
                  </a:cubicBezTo>
                  <a:cubicBezTo>
                    <a:pt x="248802" y="9424"/>
                    <a:pt x="254457" y="6283"/>
                    <a:pt x="258855" y="3141"/>
                  </a:cubicBezTo>
                  <a:close/>
                  <a:moveTo>
                    <a:pt x="0" y="713735"/>
                  </a:moveTo>
                  <a:cubicBezTo>
                    <a:pt x="45865" y="720018"/>
                    <a:pt x="93615" y="720646"/>
                    <a:pt x="131312" y="720646"/>
                  </a:cubicBezTo>
                  <a:cubicBezTo>
                    <a:pt x="298437" y="720646"/>
                    <a:pt x="427864" y="701169"/>
                    <a:pt x="427864" y="553522"/>
                  </a:cubicBezTo>
                  <a:cubicBezTo>
                    <a:pt x="427864" y="496976"/>
                    <a:pt x="410272" y="437288"/>
                    <a:pt x="385140" y="384512"/>
                  </a:cubicBezTo>
                  <a:cubicBezTo>
                    <a:pt x="360637" y="332364"/>
                    <a:pt x="317285" y="265766"/>
                    <a:pt x="258226" y="221786"/>
                  </a:cubicBezTo>
                  <a:cubicBezTo>
                    <a:pt x="338019" y="305976"/>
                    <a:pt x="390167" y="430377"/>
                    <a:pt x="390167" y="527134"/>
                  </a:cubicBezTo>
                  <a:cubicBezTo>
                    <a:pt x="390167" y="689860"/>
                    <a:pt x="245032" y="714992"/>
                    <a:pt x="65342" y="714992"/>
                  </a:cubicBezTo>
                  <a:cubicBezTo>
                    <a:pt x="43352" y="714992"/>
                    <a:pt x="21362" y="714364"/>
                    <a:pt x="0" y="71373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09" name="Freeform: Shape 13"/>
            <p:cNvSpPr/>
            <p:nvPr/>
          </p:nvSpPr>
          <p:spPr>
            <a:xfrm>
              <a:off x="7275240" y="3499200"/>
              <a:ext cx="39960" cy="147960"/>
            </a:xfrm>
            <a:custGeom>
              <a:avLst/>
              <a:gdLst/>
              <a:ahLst/>
              <a:rect l="l" t="t" r="r" b="b"/>
              <a:pathLst>
                <a:path w="40067" h="148106">
                  <a:moveTo>
                    <a:pt x="13119" y="201"/>
                  </a:moveTo>
                  <a:cubicBezTo>
                    <a:pt x="25057" y="1458"/>
                    <a:pt x="45162" y="123974"/>
                    <a:pt x="38879" y="134026"/>
                  </a:cubicBezTo>
                  <a:cubicBezTo>
                    <a:pt x="28827" y="150362"/>
                    <a:pt x="16889" y="156016"/>
                    <a:pt x="14376" y="131513"/>
                  </a:cubicBezTo>
                  <a:cubicBezTo>
                    <a:pt x="11863" y="108267"/>
                    <a:pt x="-4473" y="18421"/>
                    <a:pt x="1182" y="2714"/>
                  </a:cubicBezTo>
                  <a:cubicBezTo>
                    <a:pt x="2438" y="-1056"/>
                    <a:pt x="12491" y="201"/>
                    <a:pt x="13119" y="201"/>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10" name="Freeform: Shape 14"/>
            <p:cNvSpPr/>
            <p:nvPr/>
          </p:nvSpPr>
          <p:spPr>
            <a:xfrm>
              <a:off x="7196040" y="3487320"/>
              <a:ext cx="183960" cy="23760"/>
            </a:xfrm>
            <a:custGeom>
              <a:avLst/>
              <a:gdLst/>
              <a:ahLst/>
              <a:rect l="l" t="t" r="r" b="b"/>
              <a:pathLst>
                <a:path w="184248" h="23943">
                  <a:moveTo>
                    <a:pt x="8876" y="69"/>
                  </a:moveTo>
                  <a:lnTo>
                    <a:pt x="177257" y="8237"/>
                  </a:lnTo>
                  <a:cubicBezTo>
                    <a:pt x="181655" y="8237"/>
                    <a:pt x="184797" y="12006"/>
                    <a:pt x="184168" y="16404"/>
                  </a:cubicBezTo>
                  <a:cubicBezTo>
                    <a:pt x="183540" y="20802"/>
                    <a:pt x="179771" y="23944"/>
                    <a:pt x="175372" y="23944"/>
                  </a:cubicBezTo>
                  <a:lnTo>
                    <a:pt x="6991" y="15776"/>
                  </a:lnTo>
                  <a:cubicBezTo>
                    <a:pt x="2593" y="15776"/>
                    <a:pt x="-548" y="12006"/>
                    <a:pt x="80" y="7608"/>
                  </a:cubicBezTo>
                  <a:cubicBezTo>
                    <a:pt x="708" y="3210"/>
                    <a:pt x="4478" y="-560"/>
                    <a:pt x="8876" y="69"/>
                  </a:cubicBezTo>
                  <a:close/>
                </a:path>
              </a:pathLst>
            </a:custGeom>
            <a:solidFill>
              <a:srgbClr val="4d4d4d"/>
            </a:solidFill>
            <a:ln w="0">
              <a:noFill/>
            </a:ln>
          </p:spPr>
          <p:style>
            <a:lnRef idx="0"/>
            <a:fillRef idx="0"/>
            <a:effectRef idx="0"/>
            <a:fontRef idx="minor"/>
          </p:style>
          <p:txBody>
            <a:bodyPr lIns="90000" rIns="90000" tIns="-23040" bIns="-23040" anchor="ctr">
              <a:noAutofit/>
            </a:bodyPr>
            <a:p>
              <a:endParaRPr b="0" lang="en-US" sz="1800" spc="-1" strike="noStrike">
                <a:solidFill>
                  <a:srgbClr val="313c3f"/>
                </a:solidFill>
                <a:latin typeface="Source Sans Pro"/>
              </a:endParaRPr>
            </a:p>
          </p:txBody>
        </p:sp>
        <p:sp>
          <p:nvSpPr>
            <p:cNvPr id="1111" name="Freeform: Shape 15"/>
            <p:cNvSpPr/>
            <p:nvPr/>
          </p:nvSpPr>
          <p:spPr>
            <a:xfrm>
              <a:off x="7191360" y="3475440"/>
              <a:ext cx="182520" cy="47160"/>
            </a:xfrm>
            <a:custGeom>
              <a:avLst/>
              <a:gdLst/>
              <a:ahLst/>
              <a:rect l="l" t="t" r="r" b="b"/>
              <a:pathLst>
                <a:path w="182506" h="47312">
                  <a:moveTo>
                    <a:pt x="5126" y="32138"/>
                  </a:moveTo>
                  <a:lnTo>
                    <a:pt x="169737" y="96"/>
                  </a:lnTo>
                  <a:cubicBezTo>
                    <a:pt x="174135" y="-533"/>
                    <a:pt x="179790" y="1980"/>
                    <a:pt x="181675" y="6378"/>
                  </a:cubicBezTo>
                  <a:cubicBezTo>
                    <a:pt x="183559" y="10776"/>
                    <a:pt x="182303" y="14546"/>
                    <a:pt x="177277" y="15174"/>
                  </a:cubicBezTo>
                  <a:lnTo>
                    <a:pt x="12665" y="47217"/>
                  </a:lnTo>
                  <a:cubicBezTo>
                    <a:pt x="8267" y="47845"/>
                    <a:pt x="2613" y="45332"/>
                    <a:pt x="728" y="40934"/>
                  </a:cubicBezTo>
                  <a:cubicBezTo>
                    <a:pt x="-1157" y="37165"/>
                    <a:pt x="728" y="32767"/>
                    <a:pt x="5126" y="32138"/>
                  </a:cubicBezTo>
                  <a:close/>
                </a:path>
              </a:pathLst>
            </a:custGeom>
            <a:solidFill>
              <a:srgbClr val="666666"/>
            </a:solidFill>
            <a:ln w="0">
              <a:noFill/>
            </a:ln>
          </p:spPr>
          <p:style>
            <a:lnRef idx="0"/>
            <a:fillRef idx="0"/>
            <a:effectRef idx="0"/>
            <a:fontRef idx="minor"/>
          </p:style>
          <p:txBody>
            <a:bodyPr lIns="90000" rIns="90000" tIns="360" bIns="360" anchor="ctr">
              <a:noAutofit/>
            </a:bodyPr>
            <a:p>
              <a:endParaRPr b="0" lang="en-US" sz="1800" spc="-1" strike="noStrike">
                <a:solidFill>
                  <a:srgbClr val="313c3f"/>
                </a:solidFill>
                <a:latin typeface="Source Sans Pro"/>
              </a:endParaRPr>
            </a:p>
          </p:txBody>
        </p:sp>
        <p:sp>
          <p:nvSpPr>
            <p:cNvPr id="1112" name="Freeform: Shape 16"/>
            <p:cNvSpPr/>
            <p:nvPr/>
          </p:nvSpPr>
          <p:spPr>
            <a:xfrm>
              <a:off x="7278840" y="3499920"/>
              <a:ext cx="141120" cy="45000"/>
            </a:xfrm>
            <a:custGeom>
              <a:avLst/>
              <a:gdLst/>
              <a:ahLst/>
              <a:rect l="l" t="t" r="r" b="b"/>
              <a:pathLst>
                <a:path w="141241" h="44966">
                  <a:moveTo>
                    <a:pt x="90575" y="44356"/>
                  </a:moveTo>
                  <a:cubicBezTo>
                    <a:pt x="52878" y="50010"/>
                    <a:pt x="3243" y="14826"/>
                    <a:pt x="102" y="3517"/>
                  </a:cubicBezTo>
                  <a:cubicBezTo>
                    <a:pt x="-2412" y="-7164"/>
                    <a:pt x="42197" y="10428"/>
                    <a:pt x="80522" y="4774"/>
                  </a:cubicBezTo>
                  <a:cubicBezTo>
                    <a:pt x="118220" y="-881"/>
                    <a:pt x="137697" y="10428"/>
                    <a:pt x="140838" y="21737"/>
                  </a:cubicBezTo>
                  <a:cubicBezTo>
                    <a:pt x="143980" y="32418"/>
                    <a:pt x="128901" y="38701"/>
                    <a:pt x="90575" y="44356"/>
                  </a:cubicBezTo>
                  <a:close/>
                  <a:moveTo>
                    <a:pt x="25861" y="12941"/>
                  </a:moveTo>
                  <a:cubicBezTo>
                    <a:pt x="34657" y="19224"/>
                    <a:pt x="45338" y="24879"/>
                    <a:pt x="50993" y="27392"/>
                  </a:cubicBezTo>
                  <a:cubicBezTo>
                    <a:pt x="61674" y="31790"/>
                    <a:pt x="76124" y="36816"/>
                    <a:pt x="88690" y="34932"/>
                  </a:cubicBezTo>
                  <a:cubicBezTo>
                    <a:pt x="94345" y="34303"/>
                    <a:pt x="125131" y="29277"/>
                    <a:pt x="128272" y="24879"/>
                  </a:cubicBezTo>
                  <a:cubicBezTo>
                    <a:pt x="128272" y="24879"/>
                    <a:pt x="128272" y="24251"/>
                    <a:pt x="128272" y="24251"/>
                  </a:cubicBezTo>
                  <a:cubicBezTo>
                    <a:pt x="127644" y="21109"/>
                    <a:pt x="122618" y="18596"/>
                    <a:pt x="118848" y="16711"/>
                  </a:cubicBezTo>
                  <a:cubicBezTo>
                    <a:pt x="108795" y="12941"/>
                    <a:pt x="94973" y="13570"/>
                    <a:pt x="83664" y="15455"/>
                  </a:cubicBezTo>
                  <a:cubicBezTo>
                    <a:pt x="78009" y="16083"/>
                    <a:pt x="72983" y="16711"/>
                    <a:pt x="67328" y="16711"/>
                  </a:cubicBezTo>
                  <a:cubicBezTo>
                    <a:pt x="54134" y="16711"/>
                    <a:pt x="40940" y="15455"/>
                    <a:pt x="27746" y="13570"/>
                  </a:cubicBezTo>
                  <a:cubicBezTo>
                    <a:pt x="27118" y="12941"/>
                    <a:pt x="26490" y="12941"/>
                    <a:pt x="25861" y="12941"/>
                  </a:cubicBezTo>
                  <a:close/>
                </a:path>
              </a:pathLst>
            </a:custGeom>
            <a:solidFill>
              <a:srgbClr val="666666"/>
            </a:solidFill>
            <a:ln w="0">
              <a:noFill/>
            </a:ln>
          </p:spPr>
          <p:style>
            <a:lnRef idx="0"/>
            <a:fillRef idx="0"/>
            <a:effectRef idx="0"/>
            <a:fontRef idx="minor"/>
          </p:style>
          <p:txBody>
            <a:bodyPr lIns="90000" rIns="90000" tIns="-1800" bIns="-1800" anchor="ctr">
              <a:noAutofit/>
            </a:bodyPr>
            <a:p>
              <a:endParaRPr b="0" lang="en-US" sz="1800" spc="-1" strike="noStrike">
                <a:solidFill>
                  <a:srgbClr val="313c3f"/>
                </a:solidFill>
                <a:latin typeface="Source Sans Pro"/>
              </a:endParaRPr>
            </a:p>
          </p:txBody>
        </p:sp>
        <p:sp>
          <p:nvSpPr>
            <p:cNvPr id="1113" name="Freeform: Shape 17"/>
            <p:cNvSpPr/>
            <p:nvPr/>
          </p:nvSpPr>
          <p:spPr>
            <a:xfrm>
              <a:off x="7187760" y="3501000"/>
              <a:ext cx="101880" cy="84960"/>
            </a:xfrm>
            <a:custGeom>
              <a:avLst/>
              <a:gdLst/>
              <a:ahLst/>
              <a:rect l="l" t="t" r="r" b="b"/>
              <a:pathLst>
                <a:path w="101957" h="84864">
                  <a:moveTo>
                    <a:pt x="8730" y="40607"/>
                  </a:moveTo>
                  <a:cubicBezTo>
                    <a:pt x="20668" y="12963"/>
                    <a:pt x="85382" y="-2745"/>
                    <a:pt x="99204" y="397"/>
                  </a:cubicBezTo>
                  <a:cubicBezTo>
                    <a:pt x="113026" y="3538"/>
                    <a:pt x="70931" y="24900"/>
                    <a:pt x="58993" y="52545"/>
                  </a:cubicBezTo>
                  <a:cubicBezTo>
                    <a:pt x="47056" y="80189"/>
                    <a:pt x="24438" y="87729"/>
                    <a:pt x="10615" y="83959"/>
                  </a:cubicBezTo>
                  <a:cubicBezTo>
                    <a:pt x="-3207" y="80818"/>
                    <a:pt x="-3207" y="68252"/>
                    <a:pt x="8730" y="40607"/>
                  </a:cubicBezTo>
                  <a:close/>
                  <a:moveTo>
                    <a:pt x="76586" y="12963"/>
                  </a:moveTo>
                  <a:cubicBezTo>
                    <a:pt x="65276" y="15476"/>
                    <a:pt x="53339" y="19874"/>
                    <a:pt x="48313" y="22387"/>
                  </a:cubicBezTo>
                  <a:cubicBezTo>
                    <a:pt x="37632" y="27413"/>
                    <a:pt x="25694" y="34324"/>
                    <a:pt x="21296" y="43749"/>
                  </a:cubicBezTo>
                  <a:cubicBezTo>
                    <a:pt x="19411" y="48147"/>
                    <a:pt x="9987" y="70765"/>
                    <a:pt x="14385" y="74535"/>
                  </a:cubicBezTo>
                  <a:cubicBezTo>
                    <a:pt x="14385" y="74535"/>
                    <a:pt x="15013" y="74535"/>
                    <a:pt x="15013" y="74535"/>
                  </a:cubicBezTo>
                  <a:cubicBezTo>
                    <a:pt x="19411" y="75791"/>
                    <a:pt x="24438" y="73906"/>
                    <a:pt x="28207" y="72022"/>
                  </a:cubicBezTo>
                  <a:cubicBezTo>
                    <a:pt x="37632" y="66995"/>
                    <a:pt x="43286" y="57571"/>
                    <a:pt x="46428" y="49403"/>
                  </a:cubicBezTo>
                  <a:cubicBezTo>
                    <a:pt x="48313" y="45633"/>
                    <a:pt x="50197" y="41864"/>
                    <a:pt x="52711" y="38094"/>
                  </a:cubicBezTo>
                  <a:cubicBezTo>
                    <a:pt x="58993" y="29298"/>
                    <a:pt x="67161" y="21130"/>
                    <a:pt x="75329" y="13591"/>
                  </a:cubicBezTo>
                  <a:cubicBezTo>
                    <a:pt x="75957" y="13591"/>
                    <a:pt x="75957" y="12963"/>
                    <a:pt x="76586" y="12963"/>
                  </a:cubicBezTo>
                  <a:close/>
                </a:path>
              </a:pathLst>
            </a:custGeom>
            <a:solidFill>
              <a:srgbClr val="666666"/>
            </a:solidFill>
            <a:ln w="0">
              <a:noFill/>
            </a:ln>
          </p:spPr>
          <p:style>
            <a:lnRef idx="0"/>
            <a:fillRef idx="0"/>
            <a:effectRef idx="0"/>
            <a:fontRef idx="minor"/>
          </p:style>
          <p:txBody>
            <a:bodyPr lIns="90000" rIns="90000" tIns="38160" bIns="38160" anchor="ctr">
              <a:noAutofit/>
            </a:bodyPr>
            <a:p>
              <a:endParaRPr b="0" lang="en-US" sz="1800" spc="-1" strike="noStrike">
                <a:solidFill>
                  <a:srgbClr val="313c3f"/>
                </a:solidFill>
                <a:latin typeface="Source Sans Pro"/>
              </a:endParaRPr>
            </a:p>
          </p:txBody>
        </p:sp>
        <p:sp>
          <p:nvSpPr>
            <p:cNvPr id="1114" name="Freeform: Shape 18"/>
            <p:cNvSpPr/>
            <p:nvPr/>
          </p:nvSpPr>
          <p:spPr>
            <a:xfrm>
              <a:off x="7235280" y="3487320"/>
              <a:ext cx="75600" cy="150840"/>
            </a:xfrm>
            <a:custGeom>
              <a:avLst/>
              <a:gdLst/>
              <a:ahLst/>
              <a:rect l="l" t="t" r="r" b="b"/>
              <a:pathLst>
                <a:path w="75593" h="150885">
                  <a:moveTo>
                    <a:pt x="71740" y="15175"/>
                  </a:moveTo>
                  <a:cubicBezTo>
                    <a:pt x="18336" y="39050"/>
                    <a:pt x="19592" y="103135"/>
                    <a:pt x="20220" y="143346"/>
                  </a:cubicBezTo>
                  <a:cubicBezTo>
                    <a:pt x="20220" y="147744"/>
                    <a:pt x="15823" y="150885"/>
                    <a:pt x="10168" y="150885"/>
                  </a:cubicBezTo>
                  <a:cubicBezTo>
                    <a:pt x="4513" y="150885"/>
                    <a:pt x="115" y="147744"/>
                    <a:pt x="115" y="143346"/>
                  </a:cubicBezTo>
                  <a:cubicBezTo>
                    <a:pt x="115" y="98109"/>
                    <a:pt x="-5539" y="22715"/>
                    <a:pt x="62316" y="96"/>
                  </a:cubicBezTo>
                  <a:cubicBezTo>
                    <a:pt x="67970" y="-532"/>
                    <a:pt x="72997" y="1981"/>
                    <a:pt x="74253" y="5751"/>
                  </a:cubicBezTo>
                  <a:cubicBezTo>
                    <a:pt x="75510" y="10149"/>
                    <a:pt x="77395" y="13919"/>
                    <a:pt x="71740" y="1517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15" name="Freeform: Shape 19"/>
            <p:cNvSpPr/>
            <p:nvPr/>
          </p:nvSpPr>
          <p:spPr>
            <a:xfrm>
              <a:off x="7201080" y="3672360"/>
              <a:ext cx="194760" cy="314280"/>
            </a:xfrm>
            <a:custGeom>
              <a:avLst/>
              <a:gdLst/>
              <a:ahLst/>
              <a:rect l="l" t="t" r="r" b="b"/>
              <a:pathLst>
                <a:path w="194769" h="314143">
                  <a:moveTo>
                    <a:pt x="76651" y="314144"/>
                  </a:moveTo>
                  <a:lnTo>
                    <a:pt x="76651" y="277703"/>
                  </a:lnTo>
                  <a:cubicBezTo>
                    <a:pt x="57802" y="275190"/>
                    <a:pt x="42095" y="269536"/>
                    <a:pt x="30786" y="260111"/>
                  </a:cubicBezTo>
                  <a:cubicBezTo>
                    <a:pt x="15079" y="247546"/>
                    <a:pt x="5026" y="228697"/>
                    <a:pt x="0" y="204194"/>
                  </a:cubicBezTo>
                  <a:lnTo>
                    <a:pt x="38954" y="197911"/>
                  </a:lnTo>
                  <a:cubicBezTo>
                    <a:pt x="40839" y="213618"/>
                    <a:pt x="47122" y="225555"/>
                    <a:pt x="57174" y="233723"/>
                  </a:cubicBezTo>
                  <a:cubicBezTo>
                    <a:pt x="62200" y="238121"/>
                    <a:pt x="68483" y="241263"/>
                    <a:pt x="76023" y="243147"/>
                  </a:cubicBezTo>
                  <a:lnTo>
                    <a:pt x="76023" y="167753"/>
                  </a:lnTo>
                  <a:cubicBezTo>
                    <a:pt x="60316" y="163355"/>
                    <a:pt x="48378" y="158957"/>
                    <a:pt x="40839" y="155187"/>
                  </a:cubicBezTo>
                  <a:cubicBezTo>
                    <a:pt x="29529" y="149533"/>
                    <a:pt x="21362" y="142621"/>
                    <a:pt x="15707" y="133197"/>
                  </a:cubicBezTo>
                  <a:cubicBezTo>
                    <a:pt x="10053" y="123773"/>
                    <a:pt x="6911" y="113092"/>
                    <a:pt x="6911" y="101783"/>
                  </a:cubicBezTo>
                  <a:cubicBezTo>
                    <a:pt x="6911" y="91102"/>
                    <a:pt x="9424" y="81677"/>
                    <a:pt x="13822" y="72881"/>
                  </a:cubicBezTo>
                  <a:cubicBezTo>
                    <a:pt x="18849" y="64085"/>
                    <a:pt x="25132" y="56546"/>
                    <a:pt x="33299" y="50891"/>
                  </a:cubicBezTo>
                  <a:cubicBezTo>
                    <a:pt x="39582" y="46493"/>
                    <a:pt x="47750" y="42724"/>
                    <a:pt x="58431" y="39582"/>
                  </a:cubicBezTo>
                  <a:cubicBezTo>
                    <a:pt x="64085" y="37697"/>
                    <a:pt x="70368" y="36441"/>
                    <a:pt x="76023" y="35812"/>
                  </a:cubicBezTo>
                  <a:lnTo>
                    <a:pt x="76023" y="0"/>
                  </a:lnTo>
                  <a:lnTo>
                    <a:pt x="117490" y="0"/>
                  </a:lnTo>
                  <a:lnTo>
                    <a:pt x="117490" y="36441"/>
                  </a:lnTo>
                  <a:cubicBezTo>
                    <a:pt x="125658" y="37697"/>
                    <a:pt x="133197" y="39582"/>
                    <a:pt x="140736" y="42724"/>
                  </a:cubicBezTo>
                  <a:cubicBezTo>
                    <a:pt x="154559" y="47750"/>
                    <a:pt x="164611" y="55289"/>
                    <a:pt x="171523" y="64085"/>
                  </a:cubicBezTo>
                  <a:cubicBezTo>
                    <a:pt x="177806" y="72881"/>
                    <a:pt x="182832" y="85447"/>
                    <a:pt x="185345" y="100526"/>
                  </a:cubicBezTo>
                  <a:lnTo>
                    <a:pt x="146391" y="106181"/>
                  </a:lnTo>
                  <a:cubicBezTo>
                    <a:pt x="144506" y="94243"/>
                    <a:pt x="139480" y="84191"/>
                    <a:pt x="131312" y="77908"/>
                  </a:cubicBezTo>
                  <a:cubicBezTo>
                    <a:pt x="127542" y="74766"/>
                    <a:pt x="123144" y="72253"/>
                    <a:pt x="118118" y="70997"/>
                  </a:cubicBezTo>
                  <a:lnTo>
                    <a:pt x="118118" y="137595"/>
                  </a:lnTo>
                  <a:cubicBezTo>
                    <a:pt x="136967" y="142621"/>
                    <a:pt x="150161" y="147648"/>
                    <a:pt x="158957" y="150789"/>
                  </a:cubicBezTo>
                  <a:cubicBezTo>
                    <a:pt x="170266" y="155815"/>
                    <a:pt x="179062" y="162727"/>
                    <a:pt x="185345" y="171523"/>
                  </a:cubicBezTo>
                  <a:cubicBezTo>
                    <a:pt x="191628" y="180319"/>
                    <a:pt x="194769" y="191628"/>
                    <a:pt x="194769" y="205450"/>
                  </a:cubicBezTo>
                  <a:cubicBezTo>
                    <a:pt x="194769" y="218644"/>
                    <a:pt x="190999" y="231210"/>
                    <a:pt x="183460" y="242519"/>
                  </a:cubicBezTo>
                  <a:cubicBezTo>
                    <a:pt x="175920" y="253828"/>
                    <a:pt x="164611" y="263253"/>
                    <a:pt x="150161" y="269536"/>
                  </a:cubicBezTo>
                  <a:cubicBezTo>
                    <a:pt x="140736" y="273934"/>
                    <a:pt x="130055" y="276447"/>
                    <a:pt x="118746" y="277703"/>
                  </a:cubicBezTo>
                  <a:lnTo>
                    <a:pt x="118746" y="313516"/>
                  </a:lnTo>
                  <a:lnTo>
                    <a:pt x="76651" y="313516"/>
                  </a:lnTo>
                  <a:lnTo>
                    <a:pt x="76651" y="314144"/>
                  </a:lnTo>
                  <a:close/>
                  <a:moveTo>
                    <a:pt x="76651" y="126286"/>
                  </a:moveTo>
                  <a:lnTo>
                    <a:pt x="76651" y="69740"/>
                  </a:lnTo>
                  <a:cubicBezTo>
                    <a:pt x="68483" y="70997"/>
                    <a:pt x="61572" y="73510"/>
                    <a:pt x="57174" y="77279"/>
                  </a:cubicBezTo>
                  <a:cubicBezTo>
                    <a:pt x="49635" y="83562"/>
                    <a:pt x="45237" y="90474"/>
                    <a:pt x="45237" y="98641"/>
                  </a:cubicBezTo>
                  <a:cubicBezTo>
                    <a:pt x="45237" y="103668"/>
                    <a:pt x="47122" y="108694"/>
                    <a:pt x="50263" y="112464"/>
                  </a:cubicBezTo>
                  <a:cubicBezTo>
                    <a:pt x="53404" y="116862"/>
                    <a:pt x="58431" y="120003"/>
                    <a:pt x="65342" y="123144"/>
                  </a:cubicBezTo>
                  <a:cubicBezTo>
                    <a:pt x="67227" y="123144"/>
                    <a:pt x="70996" y="124401"/>
                    <a:pt x="76651" y="126286"/>
                  </a:cubicBezTo>
                  <a:close/>
                  <a:moveTo>
                    <a:pt x="118118" y="179690"/>
                  </a:moveTo>
                  <a:lnTo>
                    <a:pt x="118118" y="245661"/>
                  </a:lnTo>
                  <a:cubicBezTo>
                    <a:pt x="127542" y="243776"/>
                    <a:pt x="135082" y="240634"/>
                    <a:pt x="140736" y="236236"/>
                  </a:cubicBezTo>
                  <a:cubicBezTo>
                    <a:pt x="149532" y="228697"/>
                    <a:pt x="153931" y="219901"/>
                    <a:pt x="153931" y="210476"/>
                  </a:cubicBezTo>
                  <a:cubicBezTo>
                    <a:pt x="153931" y="201680"/>
                    <a:pt x="150161" y="194769"/>
                    <a:pt x="141993" y="189115"/>
                  </a:cubicBezTo>
                  <a:cubicBezTo>
                    <a:pt x="138223" y="185973"/>
                    <a:pt x="130055" y="183460"/>
                    <a:pt x="118118" y="1796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116" name="Group 5"/>
          <p:cNvGrpSpPr/>
          <p:nvPr/>
        </p:nvGrpSpPr>
        <p:grpSpPr>
          <a:xfrm>
            <a:off x="4308480" y="3927600"/>
            <a:ext cx="1168560" cy="492120"/>
            <a:chOff x="4308480" y="3927600"/>
            <a:chExt cx="1168560" cy="492120"/>
          </a:xfrm>
        </p:grpSpPr>
        <p:grpSp>
          <p:nvGrpSpPr>
            <p:cNvPr id="1117" name="Graphic 9"/>
            <p:cNvGrpSpPr/>
            <p:nvPr/>
          </p:nvGrpSpPr>
          <p:grpSpPr>
            <a:xfrm>
              <a:off x="4503240" y="4091400"/>
              <a:ext cx="779040" cy="163800"/>
              <a:chOff x="4503240" y="4091400"/>
              <a:chExt cx="779040" cy="163800"/>
            </a:xfrm>
          </p:grpSpPr>
          <p:grpSp>
            <p:nvGrpSpPr>
              <p:cNvPr id="1118" name="Graphic 9"/>
              <p:cNvGrpSpPr/>
              <p:nvPr/>
            </p:nvGrpSpPr>
            <p:grpSpPr>
              <a:xfrm>
                <a:off x="4503240" y="4091400"/>
                <a:ext cx="389880" cy="163800"/>
                <a:chOff x="4503240" y="4091400"/>
                <a:chExt cx="389880" cy="163800"/>
              </a:xfrm>
            </p:grpSpPr>
            <p:sp>
              <p:nvSpPr>
                <p:cNvPr id="1119" name="Freeform: Shape 51"/>
                <p:cNvSpPr/>
                <p:nvPr/>
              </p:nvSpPr>
              <p:spPr>
                <a:xfrm>
                  <a:off x="4503240" y="4091400"/>
                  <a:ext cx="38988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120" name="Graphic 9" descr=""/>
                <p:cNvPicPr/>
                <p:nvPr/>
              </p:nvPicPr>
              <p:blipFill>
                <a:blip r:embed="rId1"/>
                <a:stretch/>
              </p:blipFill>
              <p:spPr>
                <a:xfrm>
                  <a:off x="4596120" y="4102560"/>
                  <a:ext cx="237960" cy="140400"/>
                </a:xfrm>
                <a:prstGeom prst="rect">
                  <a:avLst/>
                </a:prstGeom>
                <a:ln w="0">
                  <a:noFill/>
                </a:ln>
              </p:spPr>
            </p:pic>
          </p:grpSp>
          <p:grpSp>
            <p:nvGrpSpPr>
              <p:cNvPr id="1121" name="Graphic 9"/>
              <p:cNvGrpSpPr/>
              <p:nvPr/>
            </p:nvGrpSpPr>
            <p:grpSpPr>
              <a:xfrm>
                <a:off x="4893120" y="4091400"/>
                <a:ext cx="389160" cy="163800"/>
                <a:chOff x="4893120" y="4091400"/>
                <a:chExt cx="389160" cy="163800"/>
              </a:xfrm>
            </p:grpSpPr>
            <p:sp>
              <p:nvSpPr>
                <p:cNvPr id="1122" name="Freeform: Shape 57"/>
                <p:cNvSpPr/>
                <p:nvPr/>
              </p:nvSpPr>
              <p:spPr>
                <a:xfrm>
                  <a:off x="4893120" y="4091400"/>
                  <a:ext cx="389160" cy="163800"/>
                </a:xfrm>
                <a:custGeom>
                  <a:avLst/>
                  <a:gdLst/>
                  <a:ahLst/>
                  <a:rect l="l" t="t" r="r" b="b"/>
                  <a:pathLst>
                    <a:path w="388910" h="163354">
                      <a:moveTo>
                        <a:pt x="67227" y="0"/>
                      </a:moveTo>
                      <a:lnTo>
                        <a:pt x="321683" y="0"/>
                      </a:lnTo>
                      <a:lnTo>
                        <a:pt x="388910"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123" name="Graphic 9" descr=""/>
                <p:cNvPicPr/>
                <p:nvPr/>
              </p:nvPicPr>
              <p:blipFill>
                <a:blip r:embed="rId2"/>
                <a:stretch/>
              </p:blipFill>
              <p:spPr>
                <a:xfrm>
                  <a:off x="4986720" y="4102560"/>
                  <a:ext cx="237960" cy="140400"/>
                </a:xfrm>
                <a:prstGeom prst="rect">
                  <a:avLst/>
                </a:prstGeom>
                <a:ln w="0">
                  <a:noFill/>
                </a:ln>
              </p:spPr>
            </p:pic>
          </p:grpSp>
        </p:grpSp>
        <p:grpSp>
          <p:nvGrpSpPr>
            <p:cNvPr id="1124" name="Graphic 9"/>
            <p:cNvGrpSpPr/>
            <p:nvPr/>
          </p:nvGrpSpPr>
          <p:grpSpPr>
            <a:xfrm>
              <a:off x="4698000" y="3927600"/>
              <a:ext cx="389520" cy="163800"/>
              <a:chOff x="4698000" y="3927600"/>
              <a:chExt cx="389520" cy="163800"/>
            </a:xfrm>
          </p:grpSpPr>
          <p:sp>
            <p:nvSpPr>
              <p:cNvPr id="1125" name="Freeform: Shape 63"/>
              <p:cNvSpPr/>
              <p:nvPr/>
            </p:nvSpPr>
            <p:spPr>
              <a:xfrm>
                <a:off x="4698000" y="3927600"/>
                <a:ext cx="38952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126" name="Graphic 9" descr=""/>
              <p:cNvPicPr/>
              <p:nvPr/>
            </p:nvPicPr>
            <p:blipFill>
              <a:blip r:embed="rId3"/>
              <a:stretch/>
            </p:blipFill>
            <p:spPr>
              <a:xfrm>
                <a:off x="4791240" y="3938040"/>
                <a:ext cx="237600" cy="140400"/>
              </a:xfrm>
              <a:prstGeom prst="rect">
                <a:avLst/>
              </a:prstGeom>
              <a:ln w="0">
                <a:noFill/>
              </a:ln>
            </p:spPr>
          </p:pic>
        </p:grpSp>
        <p:grpSp>
          <p:nvGrpSpPr>
            <p:cNvPr id="1127" name="Graphic 9"/>
            <p:cNvGrpSpPr/>
            <p:nvPr/>
          </p:nvGrpSpPr>
          <p:grpSpPr>
            <a:xfrm>
              <a:off x="4308480" y="4255200"/>
              <a:ext cx="1168560" cy="164520"/>
              <a:chOff x="4308480" y="4255200"/>
              <a:chExt cx="1168560" cy="164520"/>
            </a:xfrm>
          </p:grpSpPr>
          <p:grpSp>
            <p:nvGrpSpPr>
              <p:cNvPr id="1128" name="Graphic 9"/>
              <p:cNvGrpSpPr/>
              <p:nvPr/>
            </p:nvGrpSpPr>
            <p:grpSpPr>
              <a:xfrm>
                <a:off x="4308480" y="4255200"/>
                <a:ext cx="389520" cy="164520"/>
                <a:chOff x="4308480" y="4255200"/>
                <a:chExt cx="389520" cy="164520"/>
              </a:xfrm>
            </p:grpSpPr>
            <p:sp>
              <p:nvSpPr>
                <p:cNvPr id="1129" name="Freeform: Shape 70"/>
                <p:cNvSpPr/>
                <p:nvPr/>
              </p:nvSpPr>
              <p:spPr>
                <a:xfrm>
                  <a:off x="430848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130" name="Graphic 9" descr=""/>
                <p:cNvPicPr/>
                <p:nvPr/>
              </p:nvPicPr>
              <p:blipFill>
                <a:blip r:embed="rId4"/>
                <a:stretch/>
              </p:blipFill>
              <p:spPr>
                <a:xfrm>
                  <a:off x="4401360" y="4267080"/>
                  <a:ext cx="237600" cy="140400"/>
                </a:xfrm>
                <a:prstGeom prst="rect">
                  <a:avLst/>
                </a:prstGeom>
                <a:ln w="0">
                  <a:noFill/>
                </a:ln>
              </p:spPr>
            </p:pic>
          </p:grpSp>
          <p:grpSp>
            <p:nvGrpSpPr>
              <p:cNvPr id="1131" name="Graphic 9"/>
              <p:cNvGrpSpPr/>
              <p:nvPr/>
            </p:nvGrpSpPr>
            <p:grpSpPr>
              <a:xfrm>
                <a:off x="4698000" y="4255200"/>
                <a:ext cx="389520" cy="164520"/>
                <a:chOff x="4698000" y="4255200"/>
                <a:chExt cx="389520" cy="164520"/>
              </a:xfrm>
            </p:grpSpPr>
            <p:sp>
              <p:nvSpPr>
                <p:cNvPr id="1132" name="Freeform: Shape 76"/>
                <p:cNvSpPr/>
                <p:nvPr/>
              </p:nvSpPr>
              <p:spPr>
                <a:xfrm>
                  <a:off x="469800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133" name="Graphic 9" descr=""/>
                <p:cNvPicPr/>
                <p:nvPr/>
              </p:nvPicPr>
              <p:blipFill>
                <a:blip r:embed="rId5"/>
                <a:stretch/>
              </p:blipFill>
              <p:spPr>
                <a:xfrm>
                  <a:off x="4791240" y="4267080"/>
                  <a:ext cx="237600" cy="140400"/>
                </a:xfrm>
                <a:prstGeom prst="rect">
                  <a:avLst/>
                </a:prstGeom>
                <a:ln w="0">
                  <a:noFill/>
                </a:ln>
              </p:spPr>
            </p:pic>
          </p:grpSp>
          <p:grpSp>
            <p:nvGrpSpPr>
              <p:cNvPr id="1134" name="Graphic 9"/>
              <p:cNvGrpSpPr/>
              <p:nvPr/>
            </p:nvGrpSpPr>
            <p:grpSpPr>
              <a:xfrm>
                <a:off x="5087880" y="4255200"/>
                <a:ext cx="389160" cy="164520"/>
                <a:chOff x="5087880" y="4255200"/>
                <a:chExt cx="389160" cy="164520"/>
              </a:xfrm>
            </p:grpSpPr>
            <p:sp>
              <p:nvSpPr>
                <p:cNvPr id="1135" name="Freeform: Shape 84"/>
                <p:cNvSpPr/>
                <p:nvPr/>
              </p:nvSpPr>
              <p:spPr>
                <a:xfrm>
                  <a:off x="5087880" y="4255200"/>
                  <a:ext cx="389160" cy="164520"/>
                </a:xfrm>
                <a:custGeom>
                  <a:avLst/>
                  <a:gdLst/>
                  <a:ahLst/>
                  <a:rect l="l" t="t" r="r" b="b"/>
                  <a:pathLst>
                    <a:path w="388910" h="163983">
                      <a:moveTo>
                        <a:pt x="67227" y="0"/>
                      </a:moveTo>
                      <a:lnTo>
                        <a:pt x="321683" y="0"/>
                      </a:lnTo>
                      <a:lnTo>
                        <a:pt x="388910"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136" name="Graphic 9" descr=""/>
                <p:cNvPicPr/>
                <p:nvPr/>
              </p:nvPicPr>
              <p:blipFill>
                <a:blip r:embed="rId6"/>
                <a:stretch/>
              </p:blipFill>
              <p:spPr>
                <a:xfrm>
                  <a:off x="5181480" y="4267080"/>
                  <a:ext cx="237960" cy="140400"/>
                </a:xfrm>
                <a:prstGeom prst="rect">
                  <a:avLst/>
                </a:prstGeom>
                <a:ln w="0">
                  <a:noFill/>
                </a:ln>
              </p:spPr>
            </p:pic>
          </p:grpSp>
        </p:grpSp>
      </p:grpSp>
      <p:sp>
        <p:nvSpPr>
          <p:cNvPr id="1137" name="Rectangle 4"/>
          <p:cNvSpPr/>
          <p:nvPr/>
        </p:nvSpPr>
        <p:spPr>
          <a:xfrm>
            <a:off x="0" y="5313240"/>
            <a:ext cx="12192120" cy="15541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1139" name="TextBox 247"/>
          <p:cNvSpPr/>
          <p:nvPr/>
        </p:nvSpPr>
        <p:spPr>
          <a:xfrm>
            <a:off x="15109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200K</a:t>
            </a:r>
            <a:endParaRPr b="0" lang="en-US" sz="4000" spc="-1" strike="noStrike">
              <a:solidFill>
                <a:srgbClr val="313c3f"/>
              </a:solidFill>
              <a:latin typeface="Source Sans Pro"/>
            </a:endParaRPr>
          </a:p>
        </p:txBody>
      </p:sp>
      <p:sp>
        <p:nvSpPr>
          <p:cNvPr id="1140" name="Rectangle 248"/>
          <p:cNvSpPr/>
          <p:nvPr/>
        </p:nvSpPr>
        <p:spPr>
          <a:xfrm>
            <a:off x="28209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313c3f"/>
              </a:solidFill>
              <a:latin typeface="Source Sans Pro"/>
            </a:endParaRPr>
          </a:p>
        </p:txBody>
      </p:sp>
      <p:sp>
        <p:nvSpPr>
          <p:cNvPr id="1141" name="Straight Connector 249"/>
          <p:cNvSpPr/>
          <p:nvPr/>
        </p:nvSpPr>
        <p:spPr>
          <a:xfrm>
            <a:off x="6095880" y="5600880"/>
            <a:ext cx="0" cy="979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142" name="TextBox 254"/>
          <p:cNvSpPr/>
          <p:nvPr/>
        </p:nvSpPr>
        <p:spPr>
          <a:xfrm>
            <a:off x="2932200" y="31622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7d42"/>
                </a:solidFill>
                <a:latin typeface="Lato"/>
              </a:rPr>
              <a:t>60%</a:t>
            </a:r>
            <a:endParaRPr b="0" lang="en-US" sz="2800" spc="-1" strike="noStrike">
              <a:solidFill>
                <a:srgbClr val="313c3f"/>
              </a:solidFill>
              <a:latin typeface="Source Sans Pro"/>
            </a:endParaRPr>
          </a:p>
        </p:txBody>
      </p:sp>
      <p:sp>
        <p:nvSpPr>
          <p:cNvPr id="1143" name="TextBox 255"/>
          <p:cNvSpPr/>
          <p:nvPr/>
        </p:nvSpPr>
        <p:spPr>
          <a:xfrm>
            <a:off x="8363160" y="43084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1c11e"/>
                </a:solidFill>
                <a:latin typeface="Lato"/>
              </a:rPr>
              <a:t>20%</a:t>
            </a:r>
            <a:endParaRPr b="0" lang="en-US" sz="2800" spc="-1" strike="noStrike">
              <a:solidFill>
                <a:srgbClr val="313c3f"/>
              </a:solidFill>
              <a:latin typeface="Source Sans Pro"/>
            </a:endParaRPr>
          </a:p>
        </p:txBody>
      </p:sp>
      <p:sp>
        <p:nvSpPr>
          <p:cNvPr id="1144" name="TextBox 256"/>
          <p:cNvSpPr/>
          <p:nvPr/>
        </p:nvSpPr>
        <p:spPr>
          <a:xfrm>
            <a:off x="8201160" y="2276280"/>
            <a:ext cx="291600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a:t>
            </a:r>
            <a:endParaRPr b="0" lang="en-US" sz="1200" spc="-1" strike="noStrike">
              <a:solidFill>
                <a:srgbClr val="313c3f"/>
              </a:solidFill>
              <a:latin typeface="Source Sans Pro"/>
            </a:endParaRPr>
          </a:p>
        </p:txBody>
      </p:sp>
      <p:sp>
        <p:nvSpPr>
          <p:cNvPr id="1145" name="TextBox 257"/>
          <p:cNvSpPr/>
          <p:nvPr/>
        </p:nvSpPr>
        <p:spPr>
          <a:xfrm>
            <a:off x="8201160" y="21398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creasing</a:t>
            </a:r>
            <a:endParaRPr b="0" lang="en-US" sz="1400" spc="-1" strike="noStrike">
              <a:solidFill>
                <a:srgbClr val="313c3f"/>
              </a:solidFill>
              <a:latin typeface="Source Sans Pro"/>
            </a:endParaRPr>
          </a:p>
        </p:txBody>
      </p:sp>
      <p:sp>
        <p:nvSpPr>
          <p:cNvPr id="1146" name="TextBox 258"/>
          <p:cNvSpPr/>
          <p:nvPr/>
        </p:nvSpPr>
        <p:spPr>
          <a:xfrm>
            <a:off x="1074600" y="2161440"/>
            <a:ext cx="28339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adipiscing elit. Aenean sit amet ult rices consectetur adipiscing elit aenean sit am</a:t>
            </a:r>
            <a:endParaRPr b="0" lang="en-US" sz="1200" spc="-1" strike="noStrike">
              <a:solidFill>
                <a:srgbClr val="313c3f"/>
              </a:solidFill>
              <a:latin typeface="Source Sans Pro"/>
            </a:endParaRPr>
          </a:p>
        </p:txBody>
      </p:sp>
      <p:sp>
        <p:nvSpPr>
          <p:cNvPr id="1147" name="TextBox 259"/>
          <p:cNvSpPr/>
          <p:nvPr/>
        </p:nvSpPr>
        <p:spPr>
          <a:xfrm>
            <a:off x="1760400" y="206856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Increasing</a:t>
            </a:r>
            <a:endParaRPr b="0" lang="en-US" sz="1400" spc="-1" strike="noStrike">
              <a:solidFill>
                <a:srgbClr val="313c3f"/>
              </a:solidFill>
              <a:latin typeface="Source Sans Pro"/>
            </a:endParaRPr>
          </a:p>
        </p:txBody>
      </p:sp>
      <p:grpSp>
        <p:nvGrpSpPr>
          <p:cNvPr id="1148" name="Group 3"/>
          <p:cNvGrpSpPr/>
          <p:nvPr/>
        </p:nvGrpSpPr>
        <p:grpSpPr>
          <a:xfrm>
            <a:off x="2870280" y="3745080"/>
            <a:ext cx="984240" cy="871200"/>
            <a:chOff x="2870280" y="3745080"/>
            <a:chExt cx="984240" cy="871200"/>
          </a:xfrm>
        </p:grpSpPr>
        <p:sp>
          <p:nvSpPr>
            <p:cNvPr id="1149" name="Freeform: Shape 116"/>
            <p:cNvSpPr/>
            <p:nvPr/>
          </p:nvSpPr>
          <p:spPr>
            <a:xfrm>
              <a:off x="3664080" y="4368960"/>
              <a:ext cx="190440" cy="247320"/>
            </a:xfrm>
            <a:custGeom>
              <a:avLst/>
              <a:gdLst/>
              <a:ahLst/>
              <a:rect l="l" t="t" r="r" b="b"/>
              <a:pathLst>
                <a:path w="189979" h="248135">
                  <a:moveTo>
                    <a:pt x="94989" y="0"/>
                  </a:moveTo>
                  <a:lnTo>
                    <a:pt x="189979" y="94989"/>
                  </a:lnTo>
                  <a:lnTo>
                    <a:pt x="142484" y="94989"/>
                  </a:lnTo>
                  <a:lnTo>
                    <a:pt x="142484" y="248135"/>
                  </a:lnTo>
                  <a:lnTo>
                    <a:pt x="47495" y="248135"/>
                  </a:lnTo>
                  <a:lnTo>
                    <a:pt x="47495" y="94989"/>
                  </a:lnTo>
                  <a:lnTo>
                    <a:pt x="0" y="94989"/>
                  </a:lnTo>
                  <a:lnTo>
                    <a:pt x="94989" y="0"/>
                  </a:lnTo>
                  <a:close/>
                </a:path>
              </a:pathLst>
            </a:custGeom>
            <a:solidFill>
              <a:srgbClr val="82ea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50" name="Freeform: Shape 114"/>
            <p:cNvSpPr/>
            <p:nvPr/>
          </p:nvSpPr>
          <p:spPr>
            <a:xfrm>
              <a:off x="2870280" y="424512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82ea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51" name="Freeform: Shape 112"/>
            <p:cNvSpPr/>
            <p:nvPr/>
          </p:nvSpPr>
          <p:spPr>
            <a:xfrm>
              <a:off x="2967120" y="3755880"/>
              <a:ext cx="809640" cy="7635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52" name="Freeform: Shape 110"/>
            <p:cNvSpPr/>
            <p:nvPr/>
          </p:nvSpPr>
          <p:spPr>
            <a:xfrm>
              <a:off x="2938320" y="3745080"/>
              <a:ext cx="183960" cy="182520"/>
            </a:xfrm>
            <a:custGeom>
              <a:avLst/>
              <a:gdLst/>
              <a:ahLst/>
              <a:rect l="l" t="t" r="r" b="b"/>
              <a:pathLst>
                <a:path w="183100" h="182302">
                  <a:moveTo>
                    <a:pt x="91550" y="0"/>
                  </a:moveTo>
                  <a:lnTo>
                    <a:pt x="183100" y="91151"/>
                  </a:lnTo>
                  <a:lnTo>
                    <a:pt x="137325" y="91151"/>
                  </a:lnTo>
                  <a:lnTo>
                    <a:pt x="137325" y="182302"/>
                  </a:lnTo>
                  <a:lnTo>
                    <a:pt x="45775" y="182302"/>
                  </a:lnTo>
                  <a:lnTo>
                    <a:pt x="45775" y="91151"/>
                  </a:lnTo>
                  <a:lnTo>
                    <a:pt x="0" y="91151"/>
                  </a:lnTo>
                  <a:lnTo>
                    <a:pt x="91550" y="0"/>
                  </a:lnTo>
                  <a:close/>
                </a:path>
              </a:pathLst>
            </a:custGeom>
            <a:solidFill>
              <a:srgbClr val="82ea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53" name="Freeform: Shape 118"/>
            <p:cNvSpPr/>
            <p:nvPr/>
          </p:nvSpPr>
          <p:spPr>
            <a:xfrm>
              <a:off x="3683160" y="386568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82ea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154" name="TextBox 119"/>
          <p:cNvSpPr/>
          <p:nvPr/>
        </p:nvSpPr>
        <p:spPr>
          <a:xfrm>
            <a:off x="68911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120K</a:t>
            </a:r>
            <a:endParaRPr b="0" lang="en-US" sz="4000" spc="-1" strike="noStrike">
              <a:solidFill>
                <a:srgbClr val="313c3f"/>
              </a:solidFill>
              <a:latin typeface="Source Sans Pro"/>
            </a:endParaRPr>
          </a:p>
        </p:txBody>
      </p:sp>
      <p:sp>
        <p:nvSpPr>
          <p:cNvPr id="1155" name="Rectangle 120"/>
          <p:cNvSpPr/>
          <p:nvPr/>
        </p:nvSpPr>
        <p:spPr>
          <a:xfrm>
            <a:off x="82011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313c3f"/>
              </a:solidFill>
              <a:latin typeface="Source Sans Pro"/>
            </a:endParaRPr>
          </a:p>
        </p:txBody>
      </p:sp>
      <p:grpSp>
        <p:nvGrpSpPr>
          <p:cNvPr id="1156" name="Group 6"/>
          <p:cNvGrpSpPr/>
          <p:nvPr/>
        </p:nvGrpSpPr>
        <p:grpSpPr>
          <a:xfrm>
            <a:off x="4129200" y="2344680"/>
            <a:ext cx="3933720" cy="2970360"/>
            <a:chOff x="4129200" y="2344680"/>
            <a:chExt cx="3933720" cy="2970360"/>
          </a:xfrm>
        </p:grpSpPr>
        <p:sp>
          <p:nvSpPr>
            <p:cNvPr id="1157" name="Freeform: Shape 20"/>
            <p:cNvSpPr/>
            <p:nvPr/>
          </p:nvSpPr>
          <p:spPr>
            <a:xfrm>
              <a:off x="6517800" y="396396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092"/>
                  </a:moveTo>
                  <a:cubicBezTo>
                    <a:pt x="98641" y="112464"/>
                    <a:pt x="99270" y="112464"/>
                    <a:pt x="99898" y="111835"/>
                  </a:cubicBezTo>
                  <a:lnTo>
                    <a:pt x="100526" y="111207"/>
                  </a:lnTo>
                  <a:lnTo>
                    <a:pt x="101154" y="110579"/>
                  </a:lnTo>
                  <a:lnTo>
                    <a:pt x="101783" y="109950"/>
                  </a:lnTo>
                  <a:lnTo>
                    <a:pt x="102411" y="109322"/>
                  </a:lnTo>
                  <a:lnTo>
                    <a:pt x="103039" y="108694"/>
                  </a:lnTo>
                  <a:cubicBezTo>
                    <a:pt x="103668" y="108066"/>
                    <a:pt x="104296" y="108066"/>
                    <a:pt x="104296" y="107437"/>
                  </a:cubicBezTo>
                  <a:lnTo>
                    <a:pt x="104924" y="106809"/>
                  </a:lnTo>
                  <a:lnTo>
                    <a:pt x="105552" y="106181"/>
                  </a:lnTo>
                  <a:lnTo>
                    <a:pt x="106181" y="105552"/>
                  </a:lnTo>
                  <a:lnTo>
                    <a:pt x="106809" y="104924"/>
                  </a:lnTo>
                  <a:lnTo>
                    <a:pt x="107437" y="104296"/>
                  </a:lnTo>
                  <a:lnTo>
                    <a:pt x="107437" y="103668"/>
                  </a:lnTo>
                  <a:lnTo>
                    <a:pt x="108066" y="103039"/>
                  </a:lnTo>
                  <a:lnTo>
                    <a:pt x="108694" y="102411"/>
                  </a:lnTo>
                  <a:lnTo>
                    <a:pt x="109322" y="101783"/>
                  </a:lnTo>
                  <a:lnTo>
                    <a:pt x="109950" y="101154"/>
                  </a:lnTo>
                  <a:lnTo>
                    <a:pt x="110579" y="100526"/>
                  </a:lnTo>
                  <a:lnTo>
                    <a:pt x="111207" y="99898"/>
                  </a:lnTo>
                  <a:lnTo>
                    <a:pt x="111835" y="99270"/>
                  </a:lnTo>
                  <a:lnTo>
                    <a:pt x="112464" y="98641"/>
                  </a:lnTo>
                  <a:lnTo>
                    <a:pt x="113092" y="98013"/>
                  </a:lnTo>
                  <a:lnTo>
                    <a:pt x="113720" y="97385"/>
                  </a:lnTo>
                  <a:lnTo>
                    <a:pt x="114348" y="96757"/>
                  </a:lnTo>
                  <a:lnTo>
                    <a:pt x="114348" y="96128"/>
                  </a:lnTo>
                  <a:lnTo>
                    <a:pt x="114348" y="95500"/>
                  </a:lnTo>
                  <a:lnTo>
                    <a:pt x="114977" y="94872"/>
                  </a:lnTo>
                  <a:lnTo>
                    <a:pt x="114977" y="94243"/>
                  </a:lnTo>
                  <a:lnTo>
                    <a:pt x="114977" y="93615"/>
                  </a:lnTo>
                  <a:lnTo>
                    <a:pt x="114977" y="92987"/>
                  </a:lnTo>
                  <a:lnTo>
                    <a:pt x="114977" y="92358"/>
                  </a:lnTo>
                  <a:lnTo>
                    <a:pt x="114977" y="91730"/>
                  </a:lnTo>
                  <a:lnTo>
                    <a:pt x="114977" y="91102"/>
                  </a:lnTo>
                  <a:lnTo>
                    <a:pt x="114977" y="90474"/>
                  </a:lnTo>
                  <a:lnTo>
                    <a:pt x="114977" y="89845"/>
                  </a:lnTo>
                  <a:lnTo>
                    <a:pt x="114977" y="89217"/>
                  </a:lnTo>
                  <a:lnTo>
                    <a:pt x="114977" y="88589"/>
                  </a:lnTo>
                  <a:lnTo>
                    <a:pt x="114977" y="87960"/>
                  </a:lnTo>
                  <a:lnTo>
                    <a:pt x="114977" y="87332"/>
                  </a:lnTo>
                  <a:lnTo>
                    <a:pt x="114977" y="86704"/>
                  </a:lnTo>
                  <a:lnTo>
                    <a:pt x="114977" y="86076"/>
                  </a:lnTo>
                  <a:lnTo>
                    <a:pt x="114977" y="84819"/>
                  </a:lnTo>
                  <a:lnTo>
                    <a:pt x="114977" y="84191"/>
                  </a:lnTo>
                  <a:lnTo>
                    <a:pt x="114977" y="83562"/>
                  </a:lnTo>
                  <a:lnTo>
                    <a:pt x="114977" y="82934"/>
                  </a:lnTo>
                  <a:lnTo>
                    <a:pt x="114977" y="82306"/>
                  </a:lnTo>
                  <a:lnTo>
                    <a:pt x="114977" y="81677"/>
                  </a:lnTo>
                  <a:lnTo>
                    <a:pt x="114977" y="81049"/>
                  </a:lnTo>
                  <a:lnTo>
                    <a:pt x="114977" y="79793"/>
                  </a:lnTo>
                  <a:lnTo>
                    <a:pt x="114977" y="79164"/>
                  </a:lnTo>
                  <a:lnTo>
                    <a:pt x="114977" y="78536"/>
                  </a:lnTo>
                  <a:lnTo>
                    <a:pt x="114977" y="77908"/>
                  </a:lnTo>
                  <a:lnTo>
                    <a:pt x="114977" y="77280"/>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7"/>
                  </a:lnTo>
                  <a:lnTo>
                    <a:pt x="114977" y="70368"/>
                  </a:lnTo>
                  <a:lnTo>
                    <a:pt x="114977" y="69740"/>
                  </a:lnTo>
                  <a:lnTo>
                    <a:pt x="114977" y="69112"/>
                  </a:lnTo>
                  <a:lnTo>
                    <a:pt x="114977" y="68484"/>
                  </a:lnTo>
                  <a:lnTo>
                    <a:pt x="114977" y="67855"/>
                  </a:lnTo>
                  <a:lnTo>
                    <a:pt x="114977" y="67227"/>
                  </a:lnTo>
                  <a:lnTo>
                    <a:pt x="114977" y="65970"/>
                  </a:lnTo>
                  <a:lnTo>
                    <a:pt x="114977" y="65342"/>
                  </a:lnTo>
                  <a:lnTo>
                    <a:pt x="114977" y="64714"/>
                  </a:lnTo>
                  <a:lnTo>
                    <a:pt x="114977" y="64085"/>
                  </a:lnTo>
                  <a:lnTo>
                    <a:pt x="114977" y="63457"/>
                  </a:lnTo>
                  <a:lnTo>
                    <a:pt x="114977" y="62829"/>
                  </a:lnTo>
                  <a:lnTo>
                    <a:pt x="114977" y="62201"/>
                  </a:lnTo>
                  <a:lnTo>
                    <a:pt x="114977" y="60944"/>
                  </a:lnTo>
                  <a:lnTo>
                    <a:pt x="114977" y="60316"/>
                  </a:lnTo>
                  <a:lnTo>
                    <a:pt x="114977" y="59687"/>
                  </a:lnTo>
                  <a:lnTo>
                    <a:pt x="114977" y="59059"/>
                  </a:lnTo>
                  <a:lnTo>
                    <a:pt x="114977" y="58431"/>
                  </a:lnTo>
                  <a:lnTo>
                    <a:pt x="114977" y="57803"/>
                  </a:lnTo>
                  <a:lnTo>
                    <a:pt x="114977" y="57174"/>
                  </a:lnTo>
                  <a:lnTo>
                    <a:pt x="114977" y="56546"/>
                  </a:lnTo>
                  <a:lnTo>
                    <a:pt x="114977" y="55918"/>
                  </a:lnTo>
                  <a:lnTo>
                    <a:pt x="114977" y="55289"/>
                  </a:lnTo>
                  <a:lnTo>
                    <a:pt x="114977" y="54661"/>
                  </a:lnTo>
                  <a:lnTo>
                    <a:pt x="114977" y="54033"/>
                  </a:lnTo>
                  <a:lnTo>
                    <a:pt x="114977" y="53404"/>
                  </a:lnTo>
                  <a:lnTo>
                    <a:pt x="114348" y="52148"/>
                  </a:lnTo>
                  <a:lnTo>
                    <a:pt x="113720" y="51520"/>
                  </a:lnTo>
                  <a:lnTo>
                    <a:pt x="113720" y="50891"/>
                  </a:lnTo>
                  <a:lnTo>
                    <a:pt x="113720" y="50263"/>
                  </a:lnTo>
                  <a:lnTo>
                    <a:pt x="113092" y="49635"/>
                  </a:lnTo>
                  <a:lnTo>
                    <a:pt x="113092" y="49007"/>
                  </a:lnTo>
                  <a:lnTo>
                    <a:pt x="111207" y="51520"/>
                  </a:lnTo>
                  <a:lnTo>
                    <a:pt x="110579" y="50891"/>
                  </a:lnTo>
                  <a:lnTo>
                    <a:pt x="110579" y="50263"/>
                  </a:lnTo>
                  <a:lnTo>
                    <a:pt x="109950" y="49635"/>
                  </a:lnTo>
                  <a:lnTo>
                    <a:pt x="109322" y="49007"/>
                  </a:lnTo>
                  <a:lnTo>
                    <a:pt x="108694" y="48378"/>
                  </a:lnTo>
                  <a:lnTo>
                    <a:pt x="108066" y="47750"/>
                  </a:lnTo>
                  <a:lnTo>
                    <a:pt x="107437" y="47122"/>
                  </a:lnTo>
                  <a:lnTo>
                    <a:pt x="106809" y="46493"/>
                  </a:lnTo>
                  <a:lnTo>
                    <a:pt x="106181" y="45865"/>
                  </a:lnTo>
                  <a:lnTo>
                    <a:pt x="105552" y="45237"/>
                  </a:lnTo>
                  <a:lnTo>
                    <a:pt x="104924" y="44608"/>
                  </a:lnTo>
                  <a:lnTo>
                    <a:pt x="104296" y="43980"/>
                  </a:lnTo>
                  <a:lnTo>
                    <a:pt x="103668" y="43352"/>
                  </a:lnTo>
                  <a:lnTo>
                    <a:pt x="103039" y="42724"/>
                  </a:lnTo>
                  <a:lnTo>
                    <a:pt x="102411" y="42095"/>
                  </a:lnTo>
                  <a:lnTo>
                    <a:pt x="101783" y="42095"/>
                  </a:lnTo>
                  <a:lnTo>
                    <a:pt x="101154" y="41467"/>
                  </a:lnTo>
                  <a:lnTo>
                    <a:pt x="100526" y="40839"/>
                  </a:lnTo>
                  <a:lnTo>
                    <a:pt x="99898" y="40839"/>
                  </a:lnTo>
                  <a:lnTo>
                    <a:pt x="99270" y="40211"/>
                  </a:lnTo>
                  <a:lnTo>
                    <a:pt x="98641" y="39582"/>
                  </a:lnTo>
                  <a:lnTo>
                    <a:pt x="98013" y="39582"/>
                  </a:lnTo>
                  <a:lnTo>
                    <a:pt x="98641" y="38954"/>
                  </a:lnTo>
                  <a:lnTo>
                    <a:pt x="98013" y="38326"/>
                  </a:lnTo>
                  <a:cubicBezTo>
                    <a:pt x="91102" y="33928"/>
                    <a:pt x="83562" y="32043"/>
                    <a:pt x="75395" y="32043"/>
                  </a:cubicBezTo>
                  <a:cubicBezTo>
                    <a:pt x="51520" y="32043"/>
                    <a:pt x="32043" y="51520"/>
                    <a:pt x="32043" y="76023"/>
                  </a:cubicBezTo>
                  <a:cubicBezTo>
                    <a:pt x="32043" y="100526"/>
                    <a:pt x="51520" y="120003"/>
                    <a:pt x="75395" y="120003"/>
                  </a:cubicBezTo>
                  <a:cubicBezTo>
                    <a:pt x="83562" y="120003"/>
                    <a:pt x="91730" y="117490"/>
                    <a:pt x="98013" y="113092"/>
                  </a:cubicBezTo>
                  <a:close/>
                  <a:moveTo>
                    <a:pt x="1448204" y="38326"/>
                  </a:moveTo>
                  <a:lnTo>
                    <a:pt x="1448204" y="38326"/>
                  </a:lnTo>
                  <a:lnTo>
                    <a:pt x="1446947" y="38954"/>
                  </a:lnTo>
                  <a:lnTo>
                    <a:pt x="1446319" y="39582"/>
                  </a:lnTo>
                  <a:lnTo>
                    <a:pt x="1445691" y="40211"/>
                  </a:lnTo>
                  <a:lnTo>
                    <a:pt x="1445062" y="40839"/>
                  </a:lnTo>
                  <a:lnTo>
                    <a:pt x="1444434" y="40839"/>
                  </a:lnTo>
                  <a:lnTo>
                    <a:pt x="1443805" y="41467"/>
                  </a:lnTo>
                  <a:lnTo>
                    <a:pt x="1443177" y="42095"/>
                  </a:lnTo>
                  <a:lnTo>
                    <a:pt x="1442549" y="42724"/>
                  </a:lnTo>
                  <a:lnTo>
                    <a:pt x="1441921" y="43352"/>
                  </a:lnTo>
                  <a:lnTo>
                    <a:pt x="1441293" y="43980"/>
                  </a:lnTo>
                  <a:lnTo>
                    <a:pt x="1440664" y="44608"/>
                  </a:lnTo>
                  <a:lnTo>
                    <a:pt x="1440036" y="45237"/>
                  </a:lnTo>
                  <a:lnTo>
                    <a:pt x="1439408" y="45865"/>
                  </a:lnTo>
                  <a:lnTo>
                    <a:pt x="1438779" y="46493"/>
                  </a:lnTo>
                  <a:lnTo>
                    <a:pt x="1438151" y="47122"/>
                  </a:lnTo>
                  <a:lnTo>
                    <a:pt x="1437523" y="47750"/>
                  </a:lnTo>
                  <a:lnTo>
                    <a:pt x="1436894" y="48378"/>
                  </a:lnTo>
                  <a:lnTo>
                    <a:pt x="1436266" y="49007"/>
                  </a:lnTo>
                  <a:lnTo>
                    <a:pt x="1435638" y="49635"/>
                  </a:lnTo>
                  <a:lnTo>
                    <a:pt x="1435010" y="50263"/>
                  </a:lnTo>
                  <a:lnTo>
                    <a:pt x="1434381" y="50891"/>
                  </a:lnTo>
                  <a:lnTo>
                    <a:pt x="1434381" y="51520"/>
                  </a:lnTo>
                  <a:lnTo>
                    <a:pt x="1433753" y="52148"/>
                  </a:lnTo>
                  <a:lnTo>
                    <a:pt x="1433125" y="52776"/>
                  </a:lnTo>
                  <a:lnTo>
                    <a:pt x="1433125" y="53404"/>
                  </a:lnTo>
                  <a:lnTo>
                    <a:pt x="1432496" y="54033"/>
                  </a:lnTo>
                  <a:lnTo>
                    <a:pt x="1432496" y="54661"/>
                  </a:lnTo>
                  <a:lnTo>
                    <a:pt x="1432496" y="55289"/>
                  </a:lnTo>
                  <a:lnTo>
                    <a:pt x="1431868" y="55918"/>
                  </a:lnTo>
                  <a:lnTo>
                    <a:pt x="1431868" y="56546"/>
                  </a:lnTo>
                  <a:lnTo>
                    <a:pt x="1431868" y="57174"/>
                  </a:lnTo>
                  <a:lnTo>
                    <a:pt x="1431868" y="57803"/>
                  </a:lnTo>
                  <a:lnTo>
                    <a:pt x="1431868" y="58431"/>
                  </a:lnTo>
                  <a:lnTo>
                    <a:pt x="1431868" y="59059"/>
                  </a:lnTo>
                  <a:lnTo>
                    <a:pt x="1431868" y="59687"/>
                  </a:lnTo>
                  <a:lnTo>
                    <a:pt x="1431868" y="60316"/>
                  </a:lnTo>
                  <a:lnTo>
                    <a:pt x="1431868" y="60944"/>
                  </a:lnTo>
                  <a:lnTo>
                    <a:pt x="1431868" y="61572"/>
                  </a:lnTo>
                  <a:lnTo>
                    <a:pt x="1431868" y="62201"/>
                  </a:lnTo>
                  <a:lnTo>
                    <a:pt x="1431868" y="62829"/>
                  </a:lnTo>
                  <a:lnTo>
                    <a:pt x="1431868" y="63457"/>
                  </a:lnTo>
                  <a:lnTo>
                    <a:pt x="1431868" y="64085"/>
                  </a:lnTo>
                  <a:lnTo>
                    <a:pt x="1431868" y="64714"/>
                  </a:lnTo>
                  <a:lnTo>
                    <a:pt x="1431868" y="65970"/>
                  </a:lnTo>
                  <a:lnTo>
                    <a:pt x="1431868" y="66599"/>
                  </a:lnTo>
                  <a:lnTo>
                    <a:pt x="1431868" y="67227"/>
                  </a:lnTo>
                  <a:lnTo>
                    <a:pt x="1431868" y="67855"/>
                  </a:lnTo>
                  <a:lnTo>
                    <a:pt x="1431868" y="68484"/>
                  </a:lnTo>
                  <a:lnTo>
                    <a:pt x="1431868" y="69112"/>
                  </a:lnTo>
                  <a:lnTo>
                    <a:pt x="1431868" y="69740"/>
                  </a:lnTo>
                  <a:lnTo>
                    <a:pt x="1431868" y="70997"/>
                  </a:lnTo>
                  <a:lnTo>
                    <a:pt x="1431868" y="71625"/>
                  </a:lnTo>
                  <a:lnTo>
                    <a:pt x="1431868" y="72253"/>
                  </a:lnTo>
                  <a:lnTo>
                    <a:pt x="1431868" y="72881"/>
                  </a:lnTo>
                  <a:lnTo>
                    <a:pt x="1431868" y="73510"/>
                  </a:lnTo>
                  <a:lnTo>
                    <a:pt x="1431868" y="74138"/>
                  </a:lnTo>
                  <a:lnTo>
                    <a:pt x="1431868" y="74766"/>
                  </a:lnTo>
                  <a:lnTo>
                    <a:pt x="1431868" y="75395"/>
                  </a:lnTo>
                  <a:lnTo>
                    <a:pt x="1431868" y="76023"/>
                  </a:lnTo>
                  <a:lnTo>
                    <a:pt x="1431868" y="76651"/>
                  </a:lnTo>
                  <a:lnTo>
                    <a:pt x="1431868" y="77280"/>
                  </a:lnTo>
                  <a:lnTo>
                    <a:pt x="1431868" y="77908"/>
                  </a:lnTo>
                  <a:lnTo>
                    <a:pt x="1431868" y="78536"/>
                  </a:lnTo>
                  <a:lnTo>
                    <a:pt x="1431868" y="79164"/>
                  </a:lnTo>
                  <a:lnTo>
                    <a:pt x="1431868" y="79793"/>
                  </a:lnTo>
                  <a:lnTo>
                    <a:pt x="1431868" y="80421"/>
                  </a:lnTo>
                  <a:lnTo>
                    <a:pt x="1431868" y="81049"/>
                  </a:lnTo>
                  <a:lnTo>
                    <a:pt x="1431868" y="81677"/>
                  </a:lnTo>
                  <a:lnTo>
                    <a:pt x="1431868" y="82306"/>
                  </a:lnTo>
                  <a:lnTo>
                    <a:pt x="1431868" y="82934"/>
                  </a:lnTo>
                  <a:lnTo>
                    <a:pt x="1431868" y="83562"/>
                  </a:lnTo>
                  <a:lnTo>
                    <a:pt x="1431868" y="84819"/>
                  </a:lnTo>
                  <a:lnTo>
                    <a:pt x="1431868" y="85447"/>
                  </a:lnTo>
                  <a:lnTo>
                    <a:pt x="1431868" y="86076"/>
                  </a:lnTo>
                  <a:lnTo>
                    <a:pt x="1431868" y="86704"/>
                  </a:lnTo>
                  <a:lnTo>
                    <a:pt x="1431868" y="87332"/>
                  </a:lnTo>
                  <a:lnTo>
                    <a:pt x="1431868" y="87960"/>
                  </a:lnTo>
                  <a:lnTo>
                    <a:pt x="1431868" y="88589"/>
                  </a:lnTo>
                  <a:lnTo>
                    <a:pt x="1431868" y="89217"/>
                  </a:lnTo>
                  <a:lnTo>
                    <a:pt x="1431868" y="89845"/>
                  </a:lnTo>
                  <a:lnTo>
                    <a:pt x="1431868" y="90474"/>
                  </a:lnTo>
                  <a:lnTo>
                    <a:pt x="1431868" y="91102"/>
                  </a:lnTo>
                  <a:lnTo>
                    <a:pt x="1431868" y="91730"/>
                  </a:lnTo>
                  <a:lnTo>
                    <a:pt x="1431868" y="92358"/>
                  </a:lnTo>
                  <a:lnTo>
                    <a:pt x="1431868" y="92987"/>
                  </a:lnTo>
                  <a:lnTo>
                    <a:pt x="1431868" y="93615"/>
                  </a:lnTo>
                  <a:lnTo>
                    <a:pt x="1431868" y="94243"/>
                  </a:lnTo>
                  <a:lnTo>
                    <a:pt x="1431868" y="94872"/>
                  </a:lnTo>
                  <a:lnTo>
                    <a:pt x="1431868" y="95500"/>
                  </a:lnTo>
                  <a:lnTo>
                    <a:pt x="1431868" y="96128"/>
                  </a:lnTo>
                  <a:lnTo>
                    <a:pt x="1431868" y="96757"/>
                  </a:lnTo>
                  <a:lnTo>
                    <a:pt x="1431868" y="97385"/>
                  </a:lnTo>
                  <a:lnTo>
                    <a:pt x="1431868" y="98013"/>
                  </a:lnTo>
                  <a:lnTo>
                    <a:pt x="1432496" y="98641"/>
                  </a:lnTo>
                  <a:lnTo>
                    <a:pt x="1432496" y="99270"/>
                  </a:lnTo>
                  <a:lnTo>
                    <a:pt x="1432496" y="99898"/>
                  </a:lnTo>
                  <a:lnTo>
                    <a:pt x="1433125" y="100526"/>
                  </a:lnTo>
                  <a:lnTo>
                    <a:pt x="1433753" y="101154"/>
                  </a:lnTo>
                  <a:lnTo>
                    <a:pt x="1434381" y="101783"/>
                  </a:lnTo>
                  <a:lnTo>
                    <a:pt x="1434381" y="102411"/>
                  </a:lnTo>
                  <a:lnTo>
                    <a:pt x="1435010" y="103039"/>
                  </a:lnTo>
                  <a:lnTo>
                    <a:pt x="1435638" y="103668"/>
                  </a:lnTo>
                  <a:lnTo>
                    <a:pt x="1436266" y="104296"/>
                  </a:lnTo>
                  <a:lnTo>
                    <a:pt x="1436894" y="104924"/>
                  </a:lnTo>
                  <a:lnTo>
                    <a:pt x="1437523" y="105552"/>
                  </a:lnTo>
                  <a:lnTo>
                    <a:pt x="1438151" y="106181"/>
                  </a:lnTo>
                  <a:lnTo>
                    <a:pt x="1438779" y="106809"/>
                  </a:lnTo>
                  <a:lnTo>
                    <a:pt x="1439408" y="107437"/>
                  </a:lnTo>
                  <a:lnTo>
                    <a:pt x="1440036" y="108066"/>
                  </a:lnTo>
                  <a:lnTo>
                    <a:pt x="1440664" y="108694"/>
                  </a:lnTo>
                  <a:lnTo>
                    <a:pt x="1441293" y="109322"/>
                  </a:lnTo>
                  <a:lnTo>
                    <a:pt x="1441921" y="109950"/>
                  </a:lnTo>
                  <a:lnTo>
                    <a:pt x="1442549" y="110579"/>
                  </a:lnTo>
                  <a:lnTo>
                    <a:pt x="1443177" y="110579"/>
                  </a:lnTo>
                  <a:lnTo>
                    <a:pt x="1443805" y="111207"/>
                  </a:lnTo>
                  <a:lnTo>
                    <a:pt x="1444434" y="111835"/>
                  </a:lnTo>
                  <a:lnTo>
                    <a:pt x="1445062" y="111835"/>
                  </a:lnTo>
                  <a:lnTo>
                    <a:pt x="1445691" y="112464"/>
                  </a:lnTo>
                  <a:lnTo>
                    <a:pt x="1446319" y="113092"/>
                  </a:lnTo>
                  <a:lnTo>
                    <a:pt x="1446947" y="113092"/>
                  </a:lnTo>
                  <a:lnTo>
                    <a:pt x="1447575" y="113720"/>
                  </a:lnTo>
                  <a:lnTo>
                    <a:pt x="1448204" y="114348"/>
                  </a:lnTo>
                  <a:cubicBezTo>
                    <a:pt x="1455115" y="118747"/>
                    <a:pt x="1462654" y="120631"/>
                    <a:pt x="1470822" y="120631"/>
                  </a:cubicBezTo>
                  <a:cubicBezTo>
                    <a:pt x="1494697" y="120631"/>
                    <a:pt x="1514174" y="101154"/>
                    <a:pt x="1514174" y="76651"/>
                  </a:cubicBezTo>
                  <a:cubicBezTo>
                    <a:pt x="1514174" y="52148"/>
                    <a:pt x="1494697" y="32671"/>
                    <a:pt x="1470822" y="32671"/>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58" name="Freeform: Shape 21"/>
            <p:cNvSpPr/>
            <p:nvPr/>
          </p:nvSpPr>
          <p:spPr>
            <a:xfrm>
              <a:off x="4129200" y="433980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720"/>
                  </a:moveTo>
                  <a:cubicBezTo>
                    <a:pt x="98641" y="113092"/>
                    <a:pt x="99269" y="113092"/>
                    <a:pt x="99898" y="112464"/>
                  </a:cubicBezTo>
                  <a:lnTo>
                    <a:pt x="100526" y="111835"/>
                  </a:lnTo>
                  <a:lnTo>
                    <a:pt x="101154" y="111207"/>
                  </a:lnTo>
                  <a:lnTo>
                    <a:pt x="101783" y="110579"/>
                  </a:lnTo>
                  <a:lnTo>
                    <a:pt x="102411" y="109950"/>
                  </a:lnTo>
                  <a:lnTo>
                    <a:pt x="103039" y="109322"/>
                  </a:lnTo>
                  <a:cubicBezTo>
                    <a:pt x="103668" y="108694"/>
                    <a:pt x="104296" y="108694"/>
                    <a:pt x="104296" y="108065"/>
                  </a:cubicBezTo>
                  <a:lnTo>
                    <a:pt x="104924" y="107437"/>
                  </a:lnTo>
                  <a:lnTo>
                    <a:pt x="105552" y="106809"/>
                  </a:lnTo>
                  <a:lnTo>
                    <a:pt x="106181" y="106181"/>
                  </a:lnTo>
                  <a:lnTo>
                    <a:pt x="106809" y="105552"/>
                  </a:lnTo>
                  <a:lnTo>
                    <a:pt x="107437" y="104924"/>
                  </a:lnTo>
                  <a:lnTo>
                    <a:pt x="108066" y="104296"/>
                  </a:lnTo>
                  <a:lnTo>
                    <a:pt x="108694" y="103668"/>
                  </a:lnTo>
                  <a:lnTo>
                    <a:pt x="109322" y="103039"/>
                  </a:lnTo>
                  <a:lnTo>
                    <a:pt x="109950" y="102411"/>
                  </a:lnTo>
                  <a:lnTo>
                    <a:pt x="110579" y="101783"/>
                  </a:lnTo>
                  <a:lnTo>
                    <a:pt x="111207" y="101154"/>
                  </a:lnTo>
                  <a:lnTo>
                    <a:pt x="111835" y="100526"/>
                  </a:lnTo>
                  <a:lnTo>
                    <a:pt x="112464" y="99898"/>
                  </a:lnTo>
                  <a:lnTo>
                    <a:pt x="113092" y="99269"/>
                  </a:lnTo>
                  <a:lnTo>
                    <a:pt x="113720" y="98641"/>
                  </a:lnTo>
                  <a:lnTo>
                    <a:pt x="114348" y="98013"/>
                  </a:lnTo>
                  <a:lnTo>
                    <a:pt x="114348" y="97385"/>
                  </a:lnTo>
                  <a:lnTo>
                    <a:pt x="114348" y="96756"/>
                  </a:lnTo>
                  <a:lnTo>
                    <a:pt x="114977" y="96128"/>
                  </a:lnTo>
                  <a:lnTo>
                    <a:pt x="114977" y="95500"/>
                  </a:lnTo>
                  <a:lnTo>
                    <a:pt x="114977" y="94872"/>
                  </a:lnTo>
                  <a:lnTo>
                    <a:pt x="114977" y="94243"/>
                  </a:lnTo>
                  <a:lnTo>
                    <a:pt x="114977" y="93615"/>
                  </a:lnTo>
                  <a:lnTo>
                    <a:pt x="114977" y="92987"/>
                  </a:lnTo>
                  <a:lnTo>
                    <a:pt x="114977" y="92358"/>
                  </a:lnTo>
                  <a:lnTo>
                    <a:pt x="114977" y="91730"/>
                  </a:lnTo>
                  <a:lnTo>
                    <a:pt x="114977" y="91102"/>
                  </a:lnTo>
                  <a:lnTo>
                    <a:pt x="114977" y="90473"/>
                  </a:lnTo>
                  <a:lnTo>
                    <a:pt x="114977" y="89845"/>
                  </a:lnTo>
                  <a:lnTo>
                    <a:pt x="114977" y="89217"/>
                  </a:lnTo>
                  <a:lnTo>
                    <a:pt x="114977" y="88589"/>
                  </a:lnTo>
                  <a:lnTo>
                    <a:pt x="114977" y="87960"/>
                  </a:lnTo>
                  <a:lnTo>
                    <a:pt x="114977" y="87332"/>
                  </a:lnTo>
                  <a:lnTo>
                    <a:pt x="114977" y="86075"/>
                  </a:lnTo>
                  <a:lnTo>
                    <a:pt x="114977" y="85447"/>
                  </a:lnTo>
                  <a:lnTo>
                    <a:pt x="114977" y="84819"/>
                  </a:lnTo>
                  <a:lnTo>
                    <a:pt x="114977" y="84191"/>
                  </a:lnTo>
                  <a:lnTo>
                    <a:pt x="114977" y="83562"/>
                  </a:lnTo>
                  <a:lnTo>
                    <a:pt x="114977" y="82934"/>
                  </a:lnTo>
                  <a:lnTo>
                    <a:pt x="114977" y="82306"/>
                  </a:lnTo>
                  <a:lnTo>
                    <a:pt x="114977" y="81049"/>
                  </a:lnTo>
                  <a:lnTo>
                    <a:pt x="114977" y="80421"/>
                  </a:lnTo>
                  <a:lnTo>
                    <a:pt x="114977" y="79792"/>
                  </a:lnTo>
                  <a:lnTo>
                    <a:pt x="114977" y="79164"/>
                  </a:lnTo>
                  <a:lnTo>
                    <a:pt x="114977" y="78536"/>
                  </a:lnTo>
                  <a:lnTo>
                    <a:pt x="114977" y="77908"/>
                  </a:lnTo>
                  <a:lnTo>
                    <a:pt x="114977" y="77279"/>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6"/>
                  </a:lnTo>
                  <a:lnTo>
                    <a:pt x="114977" y="70368"/>
                  </a:lnTo>
                  <a:lnTo>
                    <a:pt x="114977" y="69740"/>
                  </a:lnTo>
                  <a:lnTo>
                    <a:pt x="114977" y="69112"/>
                  </a:lnTo>
                  <a:lnTo>
                    <a:pt x="114977" y="68483"/>
                  </a:lnTo>
                  <a:lnTo>
                    <a:pt x="114977" y="67227"/>
                  </a:lnTo>
                  <a:lnTo>
                    <a:pt x="114977" y="66599"/>
                  </a:lnTo>
                  <a:lnTo>
                    <a:pt x="114977" y="65970"/>
                  </a:lnTo>
                  <a:lnTo>
                    <a:pt x="114977" y="65342"/>
                  </a:lnTo>
                  <a:lnTo>
                    <a:pt x="114977" y="64714"/>
                  </a:lnTo>
                  <a:lnTo>
                    <a:pt x="114977" y="64085"/>
                  </a:lnTo>
                  <a:lnTo>
                    <a:pt x="114977" y="63457"/>
                  </a:lnTo>
                  <a:lnTo>
                    <a:pt x="114977" y="62200"/>
                  </a:lnTo>
                  <a:lnTo>
                    <a:pt x="114977" y="61572"/>
                  </a:lnTo>
                  <a:lnTo>
                    <a:pt x="114977" y="60944"/>
                  </a:lnTo>
                  <a:lnTo>
                    <a:pt x="114977" y="60316"/>
                  </a:lnTo>
                  <a:lnTo>
                    <a:pt x="114977" y="59687"/>
                  </a:lnTo>
                  <a:lnTo>
                    <a:pt x="114977" y="59059"/>
                  </a:lnTo>
                  <a:lnTo>
                    <a:pt x="114977" y="58431"/>
                  </a:lnTo>
                  <a:lnTo>
                    <a:pt x="114977" y="57802"/>
                  </a:lnTo>
                  <a:lnTo>
                    <a:pt x="114977" y="57174"/>
                  </a:lnTo>
                  <a:lnTo>
                    <a:pt x="114977" y="56546"/>
                  </a:lnTo>
                  <a:lnTo>
                    <a:pt x="114977" y="55918"/>
                  </a:lnTo>
                  <a:lnTo>
                    <a:pt x="114977" y="55289"/>
                  </a:lnTo>
                  <a:lnTo>
                    <a:pt x="114977" y="54661"/>
                  </a:lnTo>
                  <a:lnTo>
                    <a:pt x="114348" y="54033"/>
                  </a:lnTo>
                  <a:lnTo>
                    <a:pt x="113720" y="53404"/>
                  </a:lnTo>
                  <a:lnTo>
                    <a:pt x="113720" y="52776"/>
                  </a:lnTo>
                  <a:lnTo>
                    <a:pt x="113720" y="52148"/>
                  </a:lnTo>
                  <a:lnTo>
                    <a:pt x="113092" y="51519"/>
                  </a:lnTo>
                  <a:lnTo>
                    <a:pt x="113092" y="50891"/>
                  </a:lnTo>
                  <a:lnTo>
                    <a:pt x="112464" y="50263"/>
                  </a:lnTo>
                  <a:lnTo>
                    <a:pt x="111835" y="49635"/>
                  </a:lnTo>
                  <a:lnTo>
                    <a:pt x="111835" y="49006"/>
                  </a:lnTo>
                  <a:lnTo>
                    <a:pt x="111207" y="48378"/>
                  </a:lnTo>
                  <a:lnTo>
                    <a:pt x="110579" y="47750"/>
                  </a:lnTo>
                  <a:lnTo>
                    <a:pt x="109950" y="47122"/>
                  </a:lnTo>
                  <a:lnTo>
                    <a:pt x="109322" y="46493"/>
                  </a:lnTo>
                  <a:lnTo>
                    <a:pt x="108694" y="45865"/>
                  </a:lnTo>
                  <a:lnTo>
                    <a:pt x="108066" y="45237"/>
                  </a:lnTo>
                  <a:lnTo>
                    <a:pt x="107437" y="44608"/>
                  </a:lnTo>
                  <a:lnTo>
                    <a:pt x="106809" y="43980"/>
                  </a:lnTo>
                  <a:lnTo>
                    <a:pt x="106181" y="43352"/>
                  </a:lnTo>
                  <a:lnTo>
                    <a:pt x="105552" y="42724"/>
                  </a:lnTo>
                  <a:lnTo>
                    <a:pt x="104924" y="42095"/>
                  </a:lnTo>
                  <a:lnTo>
                    <a:pt x="104296" y="41467"/>
                  </a:lnTo>
                  <a:lnTo>
                    <a:pt x="103668" y="40839"/>
                  </a:lnTo>
                  <a:lnTo>
                    <a:pt x="103039" y="40839"/>
                  </a:lnTo>
                  <a:lnTo>
                    <a:pt x="102411" y="40210"/>
                  </a:lnTo>
                  <a:lnTo>
                    <a:pt x="101783" y="39582"/>
                  </a:lnTo>
                  <a:lnTo>
                    <a:pt x="101154" y="39582"/>
                  </a:lnTo>
                  <a:lnTo>
                    <a:pt x="100526" y="40210"/>
                  </a:lnTo>
                  <a:lnTo>
                    <a:pt x="99898" y="39582"/>
                  </a:lnTo>
                  <a:lnTo>
                    <a:pt x="99269" y="39582"/>
                  </a:lnTo>
                  <a:lnTo>
                    <a:pt x="98641" y="38954"/>
                  </a:lnTo>
                  <a:lnTo>
                    <a:pt x="98013" y="38326"/>
                  </a:lnTo>
                  <a:cubicBezTo>
                    <a:pt x="91102" y="33928"/>
                    <a:pt x="83562" y="32043"/>
                    <a:pt x="75395" y="32043"/>
                  </a:cubicBezTo>
                  <a:cubicBezTo>
                    <a:pt x="51520" y="32043"/>
                    <a:pt x="32043" y="51519"/>
                    <a:pt x="32043" y="76023"/>
                  </a:cubicBezTo>
                  <a:cubicBezTo>
                    <a:pt x="32043" y="100526"/>
                    <a:pt x="51520" y="120003"/>
                    <a:pt x="75395" y="120003"/>
                  </a:cubicBezTo>
                  <a:cubicBezTo>
                    <a:pt x="83562" y="120003"/>
                    <a:pt x="91730" y="117490"/>
                    <a:pt x="98013" y="113720"/>
                  </a:cubicBezTo>
                  <a:close/>
                  <a:moveTo>
                    <a:pt x="1448204" y="38326"/>
                  </a:moveTo>
                  <a:lnTo>
                    <a:pt x="1448204" y="38326"/>
                  </a:lnTo>
                  <a:lnTo>
                    <a:pt x="1446947" y="38954"/>
                  </a:lnTo>
                  <a:lnTo>
                    <a:pt x="1446319" y="39582"/>
                  </a:lnTo>
                  <a:lnTo>
                    <a:pt x="1445690" y="40210"/>
                  </a:lnTo>
                  <a:lnTo>
                    <a:pt x="1445062" y="40210"/>
                  </a:lnTo>
                  <a:lnTo>
                    <a:pt x="1444434" y="40210"/>
                  </a:lnTo>
                  <a:lnTo>
                    <a:pt x="1443806" y="40839"/>
                  </a:lnTo>
                  <a:lnTo>
                    <a:pt x="1443177" y="41467"/>
                  </a:lnTo>
                  <a:lnTo>
                    <a:pt x="1442549" y="42095"/>
                  </a:lnTo>
                  <a:lnTo>
                    <a:pt x="1441921" y="42724"/>
                  </a:lnTo>
                  <a:lnTo>
                    <a:pt x="1441292" y="43352"/>
                  </a:lnTo>
                  <a:lnTo>
                    <a:pt x="1440664" y="43980"/>
                  </a:lnTo>
                  <a:lnTo>
                    <a:pt x="1440036" y="44608"/>
                  </a:lnTo>
                  <a:lnTo>
                    <a:pt x="1439408" y="45237"/>
                  </a:lnTo>
                  <a:lnTo>
                    <a:pt x="1438779" y="45865"/>
                  </a:lnTo>
                  <a:lnTo>
                    <a:pt x="1438151" y="46493"/>
                  </a:lnTo>
                  <a:lnTo>
                    <a:pt x="1438779" y="46493"/>
                  </a:lnTo>
                  <a:lnTo>
                    <a:pt x="1438151" y="47122"/>
                  </a:lnTo>
                  <a:lnTo>
                    <a:pt x="1437523" y="47750"/>
                  </a:lnTo>
                  <a:lnTo>
                    <a:pt x="1436894" y="48378"/>
                  </a:lnTo>
                  <a:lnTo>
                    <a:pt x="1436266" y="49006"/>
                  </a:lnTo>
                  <a:lnTo>
                    <a:pt x="1435638" y="49635"/>
                  </a:lnTo>
                  <a:lnTo>
                    <a:pt x="1435638" y="50263"/>
                  </a:lnTo>
                  <a:lnTo>
                    <a:pt x="1435009" y="50891"/>
                  </a:lnTo>
                  <a:lnTo>
                    <a:pt x="1434381" y="51519"/>
                  </a:lnTo>
                  <a:lnTo>
                    <a:pt x="1434381" y="52148"/>
                  </a:lnTo>
                  <a:lnTo>
                    <a:pt x="1433753" y="52776"/>
                  </a:lnTo>
                  <a:lnTo>
                    <a:pt x="1433753" y="53404"/>
                  </a:lnTo>
                  <a:lnTo>
                    <a:pt x="1433753" y="54033"/>
                  </a:lnTo>
                  <a:lnTo>
                    <a:pt x="1433125" y="54661"/>
                  </a:lnTo>
                  <a:lnTo>
                    <a:pt x="1433125" y="55289"/>
                  </a:lnTo>
                  <a:lnTo>
                    <a:pt x="1433125" y="55918"/>
                  </a:lnTo>
                  <a:lnTo>
                    <a:pt x="1433125" y="56546"/>
                  </a:lnTo>
                  <a:lnTo>
                    <a:pt x="1433125" y="57174"/>
                  </a:lnTo>
                  <a:lnTo>
                    <a:pt x="1433125" y="57802"/>
                  </a:lnTo>
                  <a:lnTo>
                    <a:pt x="1433125" y="58431"/>
                  </a:lnTo>
                  <a:lnTo>
                    <a:pt x="1433125" y="59059"/>
                  </a:lnTo>
                  <a:lnTo>
                    <a:pt x="1433125" y="59687"/>
                  </a:lnTo>
                  <a:lnTo>
                    <a:pt x="1433125" y="60316"/>
                  </a:lnTo>
                  <a:lnTo>
                    <a:pt x="1433125" y="60944"/>
                  </a:lnTo>
                  <a:lnTo>
                    <a:pt x="1433125" y="61572"/>
                  </a:lnTo>
                  <a:lnTo>
                    <a:pt x="1433125" y="62200"/>
                  </a:lnTo>
                  <a:lnTo>
                    <a:pt x="1433125" y="62829"/>
                  </a:lnTo>
                  <a:lnTo>
                    <a:pt x="1433125" y="63457"/>
                  </a:lnTo>
                  <a:lnTo>
                    <a:pt x="1433125" y="64714"/>
                  </a:lnTo>
                  <a:lnTo>
                    <a:pt x="1433125" y="65342"/>
                  </a:lnTo>
                  <a:lnTo>
                    <a:pt x="1433125" y="65970"/>
                  </a:lnTo>
                  <a:lnTo>
                    <a:pt x="1433125" y="66599"/>
                  </a:lnTo>
                  <a:lnTo>
                    <a:pt x="1433125" y="67227"/>
                  </a:lnTo>
                  <a:lnTo>
                    <a:pt x="1433125" y="67855"/>
                  </a:lnTo>
                  <a:lnTo>
                    <a:pt x="1433125" y="68483"/>
                  </a:lnTo>
                  <a:lnTo>
                    <a:pt x="1433125" y="69740"/>
                  </a:lnTo>
                  <a:lnTo>
                    <a:pt x="1433125" y="70368"/>
                  </a:lnTo>
                  <a:lnTo>
                    <a:pt x="1433125" y="70996"/>
                  </a:lnTo>
                  <a:lnTo>
                    <a:pt x="1433125" y="71625"/>
                  </a:lnTo>
                  <a:lnTo>
                    <a:pt x="1433125" y="72253"/>
                  </a:lnTo>
                  <a:lnTo>
                    <a:pt x="1433125" y="72881"/>
                  </a:lnTo>
                  <a:lnTo>
                    <a:pt x="1433125" y="73510"/>
                  </a:lnTo>
                  <a:lnTo>
                    <a:pt x="1433125" y="74138"/>
                  </a:lnTo>
                  <a:lnTo>
                    <a:pt x="1433125" y="74766"/>
                  </a:lnTo>
                  <a:lnTo>
                    <a:pt x="1433125" y="75395"/>
                  </a:lnTo>
                  <a:lnTo>
                    <a:pt x="1433125" y="76023"/>
                  </a:lnTo>
                  <a:lnTo>
                    <a:pt x="1433125" y="76651"/>
                  </a:lnTo>
                  <a:lnTo>
                    <a:pt x="1433125" y="77279"/>
                  </a:lnTo>
                  <a:lnTo>
                    <a:pt x="1433125" y="77908"/>
                  </a:lnTo>
                  <a:lnTo>
                    <a:pt x="1433125" y="78536"/>
                  </a:lnTo>
                  <a:lnTo>
                    <a:pt x="1433125" y="79164"/>
                  </a:lnTo>
                  <a:lnTo>
                    <a:pt x="1433125" y="79792"/>
                  </a:lnTo>
                  <a:lnTo>
                    <a:pt x="1433125" y="80421"/>
                  </a:lnTo>
                  <a:lnTo>
                    <a:pt x="1433125" y="81049"/>
                  </a:lnTo>
                  <a:lnTo>
                    <a:pt x="1433125" y="81677"/>
                  </a:lnTo>
                  <a:lnTo>
                    <a:pt x="1433125" y="82306"/>
                  </a:lnTo>
                  <a:lnTo>
                    <a:pt x="1433125" y="83562"/>
                  </a:lnTo>
                  <a:lnTo>
                    <a:pt x="1433125" y="84191"/>
                  </a:lnTo>
                  <a:lnTo>
                    <a:pt x="1433125" y="84819"/>
                  </a:lnTo>
                  <a:lnTo>
                    <a:pt x="1433125" y="85447"/>
                  </a:lnTo>
                  <a:lnTo>
                    <a:pt x="1433125" y="86075"/>
                  </a:lnTo>
                  <a:lnTo>
                    <a:pt x="1433125" y="86704"/>
                  </a:lnTo>
                  <a:lnTo>
                    <a:pt x="1433125" y="87332"/>
                  </a:lnTo>
                  <a:lnTo>
                    <a:pt x="1433125" y="87960"/>
                  </a:lnTo>
                  <a:lnTo>
                    <a:pt x="1433125" y="88589"/>
                  </a:lnTo>
                  <a:lnTo>
                    <a:pt x="1433125" y="89217"/>
                  </a:lnTo>
                  <a:lnTo>
                    <a:pt x="1433125" y="89845"/>
                  </a:lnTo>
                  <a:lnTo>
                    <a:pt x="1433125" y="90473"/>
                  </a:lnTo>
                  <a:lnTo>
                    <a:pt x="1433125" y="91102"/>
                  </a:lnTo>
                  <a:lnTo>
                    <a:pt x="1433125" y="91730"/>
                  </a:lnTo>
                  <a:lnTo>
                    <a:pt x="1433125" y="92358"/>
                  </a:lnTo>
                  <a:lnTo>
                    <a:pt x="1433125" y="92987"/>
                  </a:lnTo>
                  <a:lnTo>
                    <a:pt x="1433125" y="93615"/>
                  </a:lnTo>
                  <a:lnTo>
                    <a:pt x="1433125" y="94243"/>
                  </a:lnTo>
                  <a:lnTo>
                    <a:pt x="1433125" y="94872"/>
                  </a:lnTo>
                  <a:lnTo>
                    <a:pt x="1433753" y="95500"/>
                  </a:lnTo>
                  <a:lnTo>
                    <a:pt x="1433753" y="96128"/>
                  </a:lnTo>
                  <a:lnTo>
                    <a:pt x="1433753" y="96756"/>
                  </a:lnTo>
                  <a:lnTo>
                    <a:pt x="1434381" y="97385"/>
                  </a:lnTo>
                  <a:lnTo>
                    <a:pt x="1434381" y="98013"/>
                  </a:lnTo>
                  <a:lnTo>
                    <a:pt x="1434381" y="98641"/>
                  </a:lnTo>
                  <a:lnTo>
                    <a:pt x="1435009" y="99269"/>
                  </a:lnTo>
                  <a:lnTo>
                    <a:pt x="1435638" y="99898"/>
                  </a:lnTo>
                  <a:lnTo>
                    <a:pt x="1436266" y="100526"/>
                  </a:lnTo>
                  <a:lnTo>
                    <a:pt x="1436266" y="101154"/>
                  </a:lnTo>
                  <a:lnTo>
                    <a:pt x="1436894" y="101783"/>
                  </a:lnTo>
                  <a:lnTo>
                    <a:pt x="1437523" y="102411"/>
                  </a:lnTo>
                  <a:lnTo>
                    <a:pt x="1438151" y="103039"/>
                  </a:lnTo>
                  <a:lnTo>
                    <a:pt x="1438779" y="103668"/>
                  </a:lnTo>
                  <a:lnTo>
                    <a:pt x="1439408" y="104296"/>
                  </a:lnTo>
                  <a:lnTo>
                    <a:pt x="1440036" y="104924"/>
                  </a:lnTo>
                  <a:lnTo>
                    <a:pt x="1440664" y="105552"/>
                  </a:lnTo>
                  <a:lnTo>
                    <a:pt x="1441292" y="106181"/>
                  </a:lnTo>
                  <a:lnTo>
                    <a:pt x="1441921" y="106809"/>
                  </a:lnTo>
                  <a:lnTo>
                    <a:pt x="1442549" y="107437"/>
                  </a:lnTo>
                  <a:lnTo>
                    <a:pt x="1443177" y="108065"/>
                  </a:lnTo>
                  <a:lnTo>
                    <a:pt x="1443806" y="108694"/>
                  </a:lnTo>
                  <a:lnTo>
                    <a:pt x="1444434" y="109322"/>
                  </a:lnTo>
                  <a:lnTo>
                    <a:pt x="1445062" y="109322"/>
                  </a:lnTo>
                  <a:lnTo>
                    <a:pt x="1445690" y="109950"/>
                  </a:lnTo>
                  <a:lnTo>
                    <a:pt x="1446319" y="110579"/>
                  </a:lnTo>
                  <a:lnTo>
                    <a:pt x="1446947" y="110579"/>
                  </a:lnTo>
                  <a:lnTo>
                    <a:pt x="1447575" y="111207"/>
                  </a:lnTo>
                  <a:lnTo>
                    <a:pt x="1448204" y="111835"/>
                  </a:lnTo>
                  <a:lnTo>
                    <a:pt x="1448832" y="111835"/>
                  </a:lnTo>
                  <a:lnTo>
                    <a:pt x="1449460" y="112464"/>
                  </a:lnTo>
                  <a:lnTo>
                    <a:pt x="1450088" y="113092"/>
                  </a:lnTo>
                  <a:cubicBezTo>
                    <a:pt x="1457000" y="117490"/>
                    <a:pt x="1464539" y="119375"/>
                    <a:pt x="1472707" y="119375"/>
                  </a:cubicBezTo>
                  <a:cubicBezTo>
                    <a:pt x="1496582" y="119375"/>
                    <a:pt x="1516059" y="99898"/>
                    <a:pt x="1516059" y="75395"/>
                  </a:cubicBezTo>
                  <a:cubicBezTo>
                    <a:pt x="1516059" y="50891"/>
                    <a:pt x="1496582" y="31414"/>
                    <a:pt x="1472707" y="31414"/>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59" name="Freeform: Shape 22"/>
            <p:cNvSpPr/>
            <p:nvPr/>
          </p:nvSpPr>
          <p:spPr>
            <a:xfrm>
              <a:off x="6589800" y="2491200"/>
              <a:ext cx="716400" cy="1546920"/>
            </a:xfrm>
            <a:custGeom>
              <a:avLst/>
              <a:gdLst/>
              <a:ahLst/>
              <a:rect l="l" t="t" r="r" b="b"/>
              <a:pathLst>
                <a:path w="716674" h="1547234">
                  <a:moveTo>
                    <a:pt x="683073" y="17715"/>
                  </a:moveTo>
                  <a:lnTo>
                    <a:pt x="4522" y="1511155"/>
                  </a:lnTo>
                  <a:cubicBezTo>
                    <a:pt x="-11813" y="1551366"/>
                    <a:pt x="20229" y="1560790"/>
                    <a:pt x="35308" y="1524978"/>
                  </a:cubicBezTo>
                  <a:lnTo>
                    <a:pt x="57298" y="1472201"/>
                  </a:lnTo>
                  <a:lnTo>
                    <a:pt x="713231" y="32165"/>
                  </a:lnTo>
                  <a:cubicBezTo>
                    <a:pt x="727053" y="-1762"/>
                    <a:pt x="695639" y="-12443"/>
                    <a:pt x="683073"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0" name="Freeform: Shape 23"/>
            <p:cNvSpPr/>
            <p:nvPr/>
          </p:nvSpPr>
          <p:spPr>
            <a:xfrm>
              <a:off x="4201200" y="2867040"/>
              <a:ext cx="716400" cy="1546920"/>
            </a:xfrm>
            <a:custGeom>
              <a:avLst/>
              <a:gdLst/>
              <a:ahLst/>
              <a:rect l="l" t="t" r="r" b="b"/>
              <a:pathLst>
                <a:path w="716674" h="1547193">
                  <a:moveTo>
                    <a:pt x="683073" y="17673"/>
                  </a:moveTo>
                  <a:lnTo>
                    <a:pt x="4522" y="1511114"/>
                  </a:lnTo>
                  <a:cubicBezTo>
                    <a:pt x="-11813" y="1551324"/>
                    <a:pt x="20229" y="1560749"/>
                    <a:pt x="35308" y="1524936"/>
                  </a:cubicBezTo>
                  <a:lnTo>
                    <a:pt x="57298" y="1472160"/>
                  </a:lnTo>
                  <a:lnTo>
                    <a:pt x="713231" y="32752"/>
                  </a:lnTo>
                  <a:cubicBezTo>
                    <a:pt x="727053" y="-1804"/>
                    <a:pt x="695639" y="-12484"/>
                    <a:pt x="683073"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1" name="Freeform: Shape 24"/>
            <p:cNvSpPr/>
            <p:nvPr/>
          </p:nvSpPr>
          <p:spPr>
            <a:xfrm>
              <a:off x="5884200" y="4974840"/>
              <a:ext cx="416160" cy="110520"/>
            </a:xfrm>
            <a:custGeom>
              <a:avLst/>
              <a:gdLst/>
              <a:ahLst/>
              <a:rect l="l" t="t" r="r" b="b"/>
              <a:pathLst>
                <a:path w="416554" h="110578">
                  <a:moveTo>
                    <a:pt x="0" y="0"/>
                  </a:moveTo>
                  <a:lnTo>
                    <a:pt x="0" y="110579"/>
                  </a:lnTo>
                  <a:lnTo>
                    <a:pt x="416555" y="110579"/>
                  </a:lnTo>
                  <a:lnTo>
                    <a:pt x="416555"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2" name="Freeform: Shape 25"/>
            <p:cNvSpPr/>
            <p:nvPr/>
          </p:nvSpPr>
          <p:spPr>
            <a:xfrm>
              <a:off x="5392800" y="5084640"/>
              <a:ext cx="1399320" cy="114840"/>
            </a:xfrm>
            <a:custGeom>
              <a:avLst/>
              <a:gdLst/>
              <a:ahLst/>
              <a:rect l="l" t="t" r="r" b="b"/>
              <a:pathLst>
                <a:path w="1399825" h="114976">
                  <a:moveTo>
                    <a:pt x="0" y="0"/>
                  </a:moveTo>
                  <a:lnTo>
                    <a:pt x="0" y="114977"/>
                  </a:lnTo>
                  <a:lnTo>
                    <a:pt x="1399825" y="114977"/>
                  </a:lnTo>
                  <a:lnTo>
                    <a:pt x="1399825"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3" name="Freeform: Shape 26"/>
            <p:cNvSpPr/>
            <p:nvPr/>
          </p:nvSpPr>
          <p:spPr>
            <a:xfrm>
              <a:off x="5137200" y="5199480"/>
              <a:ext cx="1910160" cy="115560"/>
            </a:xfrm>
            <a:custGeom>
              <a:avLst/>
              <a:gdLst/>
              <a:ahLst/>
              <a:rect l="l" t="t" r="r" b="b"/>
              <a:pathLst>
                <a:path w="1910623" h="115604">
                  <a:moveTo>
                    <a:pt x="0" y="0"/>
                  </a:moveTo>
                  <a:lnTo>
                    <a:pt x="0" y="115605"/>
                  </a:lnTo>
                  <a:lnTo>
                    <a:pt x="1910623" y="115605"/>
                  </a:lnTo>
                  <a:lnTo>
                    <a:pt x="1910623"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4" name="Freeform: Shape 27"/>
            <p:cNvSpPr/>
            <p:nvPr/>
          </p:nvSpPr>
          <p:spPr>
            <a:xfrm>
              <a:off x="5973840" y="2410920"/>
              <a:ext cx="237240" cy="547560"/>
            </a:xfrm>
            <a:custGeom>
              <a:avLst/>
              <a:gdLst/>
              <a:ahLst/>
              <a:rect l="l" t="t" r="r" b="b"/>
              <a:pathLst>
                <a:path w="237492" h="547867">
                  <a:moveTo>
                    <a:pt x="628" y="0"/>
                  </a:moveTo>
                  <a:cubicBezTo>
                    <a:pt x="0" y="628"/>
                    <a:pt x="0" y="1257"/>
                    <a:pt x="0" y="1885"/>
                  </a:cubicBezTo>
                  <a:lnTo>
                    <a:pt x="0" y="65342"/>
                  </a:lnTo>
                  <a:lnTo>
                    <a:pt x="0" y="92987"/>
                  </a:lnTo>
                  <a:lnTo>
                    <a:pt x="0" y="510170"/>
                  </a:lnTo>
                  <a:cubicBezTo>
                    <a:pt x="0" y="530903"/>
                    <a:pt x="53404" y="547867"/>
                    <a:pt x="118746" y="547867"/>
                  </a:cubicBezTo>
                  <a:cubicBezTo>
                    <a:pt x="184088" y="547867"/>
                    <a:pt x="237493" y="530903"/>
                    <a:pt x="237493" y="510170"/>
                  </a:cubicBezTo>
                  <a:lnTo>
                    <a:pt x="237493" y="92987"/>
                  </a:lnTo>
                  <a:lnTo>
                    <a:pt x="237493" y="1885"/>
                  </a:lnTo>
                  <a:cubicBezTo>
                    <a:pt x="237493" y="1885"/>
                    <a:pt x="236864" y="1885"/>
                    <a:pt x="236236" y="2513"/>
                  </a:cubicBezTo>
                  <a:lnTo>
                    <a:pt x="628"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5" name="Freeform: Shape 28"/>
            <p:cNvSpPr/>
            <p:nvPr/>
          </p:nvSpPr>
          <p:spPr>
            <a:xfrm>
              <a:off x="6020280" y="2344680"/>
              <a:ext cx="145080" cy="91080"/>
            </a:xfrm>
            <a:custGeom>
              <a:avLst/>
              <a:gdLst/>
              <a:ahLst/>
              <a:rect l="l" t="t" r="r" b="b"/>
              <a:pathLst>
                <a:path w="145134" h="91101">
                  <a:moveTo>
                    <a:pt x="144506" y="68483"/>
                  </a:moveTo>
                  <a:cubicBezTo>
                    <a:pt x="144506" y="81049"/>
                    <a:pt x="111835" y="91102"/>
                    <a:pt x="72253" y="91102"/>
                  </a:cubicBezTo>
                  <a:cubicBezTo>
                    <a:pt x="32043" y="91102"/>
                    <a:pt x="0" y="81049"/>
                    <a:pt x="0" y="68483"/>
                  </a:cubicBezTo>
                  <a:lnTo>
                    <a:pt x="0" y="0"/>
                  </a:lnTo>
                  <a:lnTo>
                    <a:pt x="145135" y="0"/>
                  </a:lnTo>
                  <a:lnTo>
                    <a:pt x="145135" y="68483"/>
                  </a:lnTo>
                  <a:lnTo>
                    <a:pt x="144506" y="68483"/>
                  </a:lnTo>
                  <a:close/>
                </a:path>
              </a:pathLst>
            </a:custGeom>
            <a:solidFill>
              <a:srgbClr val="6c2f13"/>
            </a:solidFill>
            <a:ln w="0">
              <a:noFill/>
            </a:ln>
          </p:spPr>
          <p:style>
            <a:lnRef idx="0"/>
            <a:fillRef idx="0"/>
            <a:effectRef idx="0"/>
            <a:fontRef idx="minor"/>
          </p:style>
          <p:txBody>
            <a:bodyPr lIns="90000" rIns="90000" tIns="44280" bIns="44280" anchor="ctr">
              <a:noAutofit/>
            </a:bodyPr>
            <a:p>
              <a:endParaRPr b="0" lang="en-US" sz="1800" spc="-1" strike="noStrike">
                <a:solidFill>
                  <a:srgbClr val="313c3f"/>
                </a:solidFill>
                <a:latin typeface="Source Sans Pro"/>
              </a:endParaRPr>
            </a:p>
          </p:txBody>
        </p:sp>
        <p:sp>
          <p:nvSpPr>
            <p:cNvPr id="1166" name="Freeform: Shape 29"/>
            <p:cNvSpPr/>
            <p:nvPr/>
          </p:nvSpPr>
          <p:spPr>
            <a:xfrm>
              <a:off x="6008400" y="2941200"/>
              <a:ext cx="168120" cy="2067120"/>
            </a:xfrm>
            <a:custGeom>
              <a:avLst/>
              <a:gdLst/>
              <a:ahLst/>
              <a:rect l="l" t="t" r="r" b="b"/>
              <a:pathLst>
                <a:path w="168381" h="2067695">
                  <a:moveTo>
                    <a:pt x="0" y="0"/>
                  </a:moveTo>
                  <a:lnTo>
                    <a:pt x="0" y="2041308"/>
                  </a:lnTo>
                  <a:cubicBezTo>
                    <a:pt x="0" y="2055758"/>
                    <a:pt x="37697" y="2067696"/>
                    <a:pt x="84191" y="2067696"/>
                  </a:cubicBezTo>
                  <a:cubicBezTo>
                    <a:pt x="130684" y="2067696"/>
                    <a:pt x="168381" y="2055758"/>
                    <a:pt x="168381" y="2041308"/>
                  </a:cubicBezTo>
                  <a:lnTo>
                    <a:pt x="168381" y="0"/>
                  </a:lnTo>
                  <a:cubicBezTo>
                    <a:pt x="147019" y="6911"/>
                    <a:pt x="117490" y="10681"/>
                    <a:pt x="84191" y="10681"/>
                  </a:cubicBezTo>
                  <a:cubicBezTo>
                    <a:pt x="51519" y="10681"/>
                    <a:pt x="21362" y="6911"/>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7" name="Freeform: Shape 30"/>
            <p:cNvSpPr/>
            <p:nvPr/>
          </p:nvSpPr>
          <p:spPr>
            <a:xfrm>
              <a:off x="6169320" y="2425320"/>
              <a:ext cx="1190520" cy="354240"/>
            </a:xfrm>
            <a:custGeom>
              <a:avLst/>
              <a:gdLst/>
              <a:ahLst/>
              <a:rect l="l" t="t" r="r" b="b"/>
              <a:pathLst>
                <a:path w="1191017" h="354599">
                  <a:moveTo>
                    <a:pt x="264509" y="107682"/>
                  </a:moveTo>
                  <a:lnTo>
                    <a:pt x="0" y="149778"/>
                  </a:lnTo>
                  <a:lnTo>
                    <a:pt x="628" y="150406"/>
                  </a:lnTo>
                  <a:cubicBezTo>
                    <a:pt x="19477" y="163600"/>
                    <a:pt x="33928" y="179307"/>
                    <a:pt x="44608" y="199413"/>
                  </a:cubicBezTo>
                  <a:cubicBezTo>
                    <a:pt x="52148" y="213235"/>
                    <a:pt x="57174" y="227685"/>
                    <a:pt x="59687" y="244021"/>
                  </a:cubicBezTo>
                  <a:cubicBezTo>
                    <a:pt x="65970" y="284860"/>
                    <a:pt x="54033" y="324442"/>
                    <a:pt x="30158" y="354600"/>
                  </a:cubicBezTo>
                  <a:lnTo>
                    <a:pt x="54033" y="350202"/>
                  </a:lnTo>
                  <a:cubicBezTo>
                    <a:pt x="89217" y="343919"/>
                    <a:pt x="125029" y="337008"/>
                    <a:pt x="160842" y="330096"/>
                  </a:cubicBezTo>
                  <a:lnTo>
                    <a:pt x="480640" y="271037"/>
                  </a:lnTo>
                  <a:lnTo>
                    <a:pt x="484410" y="270409"/>
                  </a:lnTo>
                  <a:cubicBezTo>
                    <a:pt x="510170" y="266011"/>
                    <a:pt x="538443" y="260985"/>
                    <a:pt x="567972" y="254702"/>
                  </a:cubicBezTo>
                  <a:lnTo>
                    <a:pt x="1127149" y="151663"/>
                  </a:lnTo>
                  <a:cubicBezTo>
                    <a:pt x="1168615" y="145380"/>
                    <a:pt x="1196888" y="105798"/>
                    <a:pt x="1189977" y="64331"/>
                  </a:cubicBezTo>
                  <a:cubicBezTo>
                    <a:pt x="1183066" y="22864"/>
                    <a:pt x="1144741" y="-5409"/>
                    <a:pt x="1103274" y="874"/>
                  </a:cubicBezTo>
                  <a:cubicBezTo>
                    <a:pt x="1065576" y="6528"/>
                    <a:pt x="1039188" y="39199"/>
                    <a:pt x="1039188" y="76268"/>
                  </a:cubicBezTo>
                  <a:cubicBezTo>
                    <a:pt x="905363" y="61189"/>
                    <a:pt x="502630" y="69985"/>
                    <a:pt x="264509" y="107682"/>
                  </a:cubicBezTo>
                  <a:close/>
                  <a:moveTo>
                    <a:pt x="1108300" y="33545"/>
                  </a:moveTo>
                  <a:cubicBezTo>
                    <a:pt x="1131547" y="29775"/>
                    <a:pt x="1153537" y="46110"/>
                    <a:pt x="1157306" y="69357"/>
                  </a:cubicBezTo>
                  <a:cubicBezTo>
                    <a:pt x="1161076" y="92604"/>
                    <a:pt x="1145369" y="114594"/>
                    <a:pt x="1121494" y="118363"/>
                  </a:cubicBezTo>
                  <a:cubicBezTo>
                    <a:pt x="1098247" y="122133"/>
                    <a:pt x="1076257" y="105798"/>
                    <a:pt x="1072488" y="82551"/>
                  </a:cubicBezTo>
                  <a:lnTo>
                    <a:pt x="1072488" y="81923"/>
                  </a:lnTo>
                  <a:lnTo>
                    <a:pt x="1072488" y="76268"/>
                  </a:lnTo>
                  <a:cubicBezTo>
                    <a:pt x="1074372" y="53021"/>
                    <a:pt x="1088823" y="36686"/>
                    <a:pt x="1108300" y="335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8" name="Freeform: Shape 31"/>
            <p:cNvSpPr/>
            <p:nvPr/>
          </p:nvSpPr>
          <p:spPr>
            <a:xfrm>
              <a:off x="4832640" y="2604600"/>
              <a:ext cx="1184400" cy="350640"/>
            </a:xfrm>
            <a:custGeom>
              <a:avLst/>
              <a:gdLst/>
              <a:ahLst/>
              <a:rect l="l" t="t" r="r" b="b"/>
              <a:pathLst>
                <a:path w="1184734" h="350829">
                  <a:moveTo>
                    <a:pt x="894465" y="40839"/>
                  </a:moveTo>
                  <a:lnTo>
                    <a:pt x="1151435" y="0"/>
                  </a:lnTo>
                  <a:lnTo>
                    <a:pt x="1150179" y="1257"/>
                  </a:lnTo>
                  <a:lnTo>
                    <a:pt x="1148922" y="2513"/>
                  </a:lnTo>
                  <a:cubicBezTo>
                    <a:pt x="1142639" y="10681"/>
                    <a:pt x="1136985" y="20733"/>
                    <a:pt x="1132586" y="30158"/>
                  </a:cubicBezTo>
                  <a:cubicBezTo>
                    <a:pt x="1128817" y="38954"/>
                    <a:pt x="1126304" y="46493"/>
                    <a:pt x="1124419" y="55918"/>
                  </a:cubicBezTo>
                  <a:cubicBezTo>
                    <a:pt x="1113110" y="107437"/>
                    <a:pt x="1130702" y="160213"/>
                    <a:pt x="1172169" y="194769"/>
                  </a:cubicBezTo>
                  <a:cubicBezTo>
                    <a:pt x="1176567" y="197911"/>
                    <a:pt x="1180336" y="201052"/>
                    <a:pt x="1184734" y="204194"/>
                  </a:cubicBezTo>
                  <a:cubicBezTo>
                    <a:pt x="1143267" y="209848"/>
                    <a:pt x="1102429" y="215503"/>
                    <a:pt x="1060962" y="220529"/>
                  </a:cubicBezTo>
                  <a:lnTo>
                    <a:pt x="738022" y="263253"/>
                  </a:lnTo>
                  <a:lnTo>
                    <a:pt x="734252" y="263881"/>
                  </a:lnTo>
                  <a:cubicBezTo>
                    <a:pt x="708492" y="267651"/>
                    <a:pt x="680219" y="271420"/>
                    <a:pt x="650061" y="275190"/>
                  </a:cubicBezTo>
                  <a:lnTo>
                    <a:pt x="87744" y="349956"/>
                  </a:lnTo>
                  <a:cubicBezTo>
                    <a:pt x="46277" y="356239"/>
                    <a:pt x="7323" y="327966"/>
                    <a:pt x="1040" y="286499"/>
                  </a:cubicBezTo>
                  <a:cubicBezTo>
                    <a:pt x="-5871" y="245032"/>
                    <a:pt x="22402" y="206078"/>
                    <a:pt x="63869" y="199167"/>
                  </a:cubicBezTo>
                  <a:cubicBezTo>
                    <a:pt x="101566" y="193513"/>
                    <a:pt x="136750" y="216131"/>
                    <a:pt x="148059" y="251315"/>
                  </a:cubicBezTo>
                  <a:cubicBezTo>
                    <a:pt x="270576" y="195398"/>
                    <a:pt x="656344" y="79164"/>
                    <a:pt x="894465" y="40839"/>
                  </a:cubicBezTo>
                  <a:close/>
                  <a:moveTo>
                    <a:pt x="68895" y="231838"/>
                  </a:moveTo>
                  <a:cubicBezTo>
                    <a:pt x="45648" y="235608"/>
                    <a:pt x="29941" y="257598"/>
                    <a:pt x="33083" y="280845"/>
                  </a:cubicBezTo>
                  <a:cubicBezTo>
                    <a:pt x="36852" y="304091"/>
                    <a:pt x="58843" y="320427"/>
                    <a:pt x="82089" y="316657"/>
                  </a:cubicBezTo>
                  <a:cubicBezTo>
                    <a:pt x="105336" y="312887"/>
                    <a:pt x="121043" y="290897"/>
                    <a:pt x="117902" y="267651"/>
                  </a:cubicBezTo>
                  <a:lnTo>
                    <a:pt x="117902" y="267022"/>
                  </a:lnTo>
                  <a:lnTo>
                    <a:pt x="117902" y="266394"/>
                  </a:lnTo>
                  <a:cubicBezTo>
                    <a:pt x="107849" y="240006"/>
                    <a:pt x="89000" y="228697"/>
                    <a:pt x="68895" y="23183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69" name="Freeform: Shape 32"/>
            <p:cNvSpPr/>
            <p:nvPr/>
          </p:nvSpPr>
          <p:spPr>
            <a:xfrm>
              <a:off x="7324560" y="4031280"/>
              <a:ext cx="590400" cy="209520"/>
            </a:xfrm>
            <a:custGeom>
              <a:avLst/>
              <a:gdLst/>
              <a:ahLst/>
              <a:rect l="l" t="t" r="r" b="b"/>
              <a:pathLst>
                <a:path w="590590" h="209848">
                  <a:moveTo>
                    <a:pt x="590591" y="17592"/>
                  </a:moveTo>
                  <a:lnTo>
                    <a:pt x="589962" y="16336"/>
                  </a:lnTo>
                  <a:lnTo>
                    <a:pt x="589962" y="13194"/>
                  </a:lnTo>
                  <a:lnTo>
                    <a:pt x="589962" y="11937"/>
                  </a:lnTo>
                  <a:lnTo>
                    <a:pt x="589962" y="11309"/>
                  </a:lnTo>
                  <a:lnTo>
                    <a:pt x="589962" y="9424"/>
                  </a:lnTo>
                  <a:lnTo>
                    <a:pt x="589962" y="5655"/>
                  </a:lnTo>
                  <a:lnTo>
                    <a:pt x="589962" y="2513"/>
                  </a:lnTo>
                  <a:lnTo>
                    <a:pt x="590591" y="0"/>
                  </a:lnTo>
                  <a:lnTo>
                    <a:pt x="0" y="0"/>
                  </a:lnTo>
                  <a:lnTo>
                    <a:pt x="0" y="209848"/>
                  </a:lnTo>
                  <a:lnTo>
                    <a:pt x="398963" y="209848"/>
                  </a:lnTo>
                  <a:lnTo>
                    <a:pt x="568601" y="17592"/>
                  </a:lnTo>
                  <a:lnTo>
                    <a:pt x="590591"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70" name="Freeform: Shape 33"/>
            <p:cNvSpPr/>
            <p:nvPr/>
          </p:nvSpPr>
          <p:spPr>
            <a:xfrm>
              <a:off x="4901760" y="4406760"/>
              <a:ext cx="624240" cy="209520"/>
            </a:xfrm>
            <a:custGeom>
              <a:avLst/>
              <a:gdLst/>
              <a:ahLst/>
              <a:rect l="l" t="t" r="r" b="b"/>
              <a:pathLst>
                <a:path w="624518" h="209848">
                  <a:moveTo>
                    <a:pt x="624518" y="17592"/>
                  </a:moveTo>
                  <a:lnTo>
                    <a:pt x="623890" y="16336"/>
                  </a:lnTo>
                  <a:lnTo>
                    <a:pt x="623890" y="13822"/>
                  </a:lnTo>
                  <a:lnTo>
                    <a:pt x="623890" y="11938"/>
                  </a:lnTo>
                  <a:lnTo>
                    <a:pt x="623890" y="11309"/>
                  </a:lnTo>
                  <a:lnTo>
                    <a:pt x="623890" y="9424"/>
                  </a:lnTo>
                  <a:lnTo>
                    <a:pt x="623890" y="5655"/>
                  </a:lnTo>
                  <a:lnTo>
                    <a:pt x="623890" y="2513"/>
                  </a:lnTo>
                  <a:lnTo>
                    <a:pt x="624518" y="0"/>
                  </a:lnTo>
                  <a:lnTo>
                    <a:pt x="0" y="0"/>
                  </a:lnTo>
                  <a:lnTo>
                    <a:pt x="0" y="209848"/>
                  </a:lnTo>
                  <a:lnTo>
                    <a:pt x="432890" y="209848"/>
                  </a:lnTo>
                  <a:lnTo>
                    <a:pt x="602528" y="17592"/>
                  </a:lnTo>
                  <a:lnTo>
                    <a:pt x="624518"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1171" name="Graphic 9"/>
            <p:cNvGrpSpPr/>
            <p:nvPr/>
          </p:nvGrpSpPr>
          <p:grpSpPr>
            <a:xfrm>
              <a:off x="4971960" y="2375280"/>
              <a:ext cx="2222280" cy="2908800"/>
              <a:chOff x="4971960" y="2375280"/>
              <a:chExt cx="2222280" cy="2908800"/>
            </a:xfrm>
          </p:grpSpPr>
          <p:pic>
            <p:nvPicPr>
              <p:cNvPr id="1172" name="Graphic 9" descr=""/>
              <p:cNvPicPr/>
              <p:nvPr/>
            </p:nvPicPr>
            <p:blipFill>
              <a:blip r:embed="rId7"/>
              <a:stretch/>
            </p:blipFill>
            <p:spPr>
              <a:xfrm>
                <a:off x="6095880" y="2375280"/>
                <a:ext cx="920520" cy="2908800"/>
              </a:xfrm>
              <a:prstGeom prst="rect">
                <a:avLst/>
              </a:prstGeom>
              <a:ln w="0">
                <a:noFill/>
              </a:ln>
            </p:spPr>
          </p:pic>
          <p:sp>
            <p:nvSpPr>
              <p:cNvPr id="1173" name="Freeform: Shape 42"/>
              <p:cNvSpPr/>
              <p:nvPr/>
            </p:nvSpPr>
            <p:spPr>
              <a:xfrm>
                <a:off x="6255720" y="2542320"/>
                <a:ext cx="938520" cy="194040"/>
              </a:xfrm>
              <a:custGeom>
                <a:avLst/>
                <a:gdLst/>
                <a:ahLst/>
                <a:rect l="l" t="t" r="r" b="b"/>
                <a:pathLst>
                  <a:path w="938662" h="194140">
                    <a:moveTo>
                      <a:pt x="5655" y="130684"/>
                    </a:moveTo>
                    <a:cubicBezTo>
                      <a:pt x="7539" y="152046"/>
                      <a:pt x="5655" y="173407"/>
                      <a:pt x="0" y="194141"/>
                    </a:cubicBezTo>
                    <a:cubicBezTo>
                      <a:pt x="23247" y="189743"/>
                      <a:pt x="46493" y="185345"/>
                      <a:pt x="69740" y="180947"/>
                    </a:cubicBezTo>
                    <a:lnTo>
                      <a:pt x="390167" y="121260"/>
                    </a:lnTo>
                    <a:lnTo>
                      <a:pt x="393936" y="120631"/>
                    </a:lnTo>
                    <a:cubicBezTo>
                      <a:pt x="421581" y="116233"/>
                      <a:pt x="448598" y="111207"/>
                      <a:pt x="475614" y="105552"/>
                    </a:cubicBezTo>
                    <a:lnTo>
                      <a:pt x="938662" y="20105"/>
                    </a:lnTo>
                    <a:cubicBezTo>
                      <a:pt x="934264" y="13822"/>
                      <a:pt x="930494" y="6911"/>
                      <a:pt x="927353" y="0"/>
                    </a:cubicBezTo>
                    <a:lnTo>
                      <a:pt x="5655" y="130684"/>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74" name="Freeform: Shape 43"/>
              <p:cNvSpPr/>
              <p:nvPr/>
            </p:nvSpPr>
            <p:spPr>
              <a:xfrm>
                <a:off x="4971960" y="2717640"/>
                <a:ext cx="980640" cy="197280"/>
              </a:xfrm>
              <a:custGeom>
                <a:avLst/>
                <a:gdLst/>
                <a:ahLst/>
                <a:rect l="l" t="t" r="r" b="b"/>
                <a:pathLst>
                  <a:path w="980757" h="197282">
                    <a:moveTo>
                      <a:pt x="6283" y="184088"/>
                    </a:moveTo>
                    <a:cubicBezTo>
                      <a:pt x="4398" y="188486"/>
                      <a:pt x="2513" y="192884"/>
                      <a:pt x="0" y="197282"/>
                    </a:cubicBezTo>
                    <a:lnTo>
                      <a:pt x="507657" y="129427"/>
                    </a:lnTo>
                    <a:cubicBezTo>
                      <a:pt x="535301" y="126286"/>
                      <a:pt x="562946" y="123144"/>
                      <a:pt x="590591" y="118746"/>
                    </a:cubicBezTo>
                    <a:lnTo>
                      <a:pt x="595617" y="118118"/>
                    </a:lnTo>
                    <a:lnTo>
                      <a:pt x="918557" y="75395"/>
                    </a:lnTo>
                    <a:cubicBezTo>
                      <a:pt x="939290" y="72881"/>
                      <a:pt x="960024" y="69740"/>
                      <a:pt x="980757" y="67227"/>
                    </a:cubicBezTo>
                    <a:cubicBezTo>
                      <a:pt x="966935" y="47122"/>
                      <a:pt x="958139" y="23875"/>
                      <a:pt x="953741" y="0"/>
                    </a:cubicBezTo>
                    <a:lnTo>
                      <a:pt x="6283" y="184088"/>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175" name="Freeform: Shape 44"/>
            <p:cNvSpPr/>
            <p:nvPr/>
          </p:nvSpPr>
          <p:spPr>
            <a:xfrm rot="21058200">
              <a:off x="5953680" y="2551320"/>
              <a:ext cx="277560" cy="278640"/>
            </a:xfrm>
            <a:custGeom>
              <a:avLst/>
              <a:gdLst/>
              <a:ahLst/>
              <a:rect l="l" t="t" r="r" b="b"/>
              <a:pathLst>
                <a:path w="277703" h="278960">
                  <a:moveTo>
                    <a:pt x="277704" y="139480"/>
                  </a:moveTo>
                  <a:cubicBezTo>
                    <a:pt x="277704" y="216513"/>
                    <a:pt x="215538" y="278960"/>
                    <a:pt x="138852" y="278960"/>
                  </a:cubicBezTo>
                  <a:cubicBezTo>
                    <a:pt x="62166" y="278960"/>
                    <a:pt x="0" y="216513"/>
                    <a:pt x="0" y="139480"/>
                  </a:cubicBezTo>
                  <a:cubicBezTo>
                    <a:pt x="0" y="62447"/>
                    <a:pt x="62166" y="0"/>
                    <a:pt x="138852" y="0"/>
                  </a:cubicBezTo>
                  <a:cubicBezTo>
                    <a:pt x="215538" y="0"/>
                    <a:pt x="277704" y="62447"/>
                    <a:pt x="277704" y="13948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76" name="Freeform: Shape 45"/>
            <p:cNvSpPr/>
            <p:nvPr/>
          </p:nvSpPr>
          <p:spPr>
            <a:xfrm rot="21058200">
              <a:off x="6013800" y="2612880"/>
              <a:ext cx="156960" cy="156960"/>
            </a:xfrm>
            <a:custGeom>
              <a:avLst/>
              <a:gdLst/>
              <a:ahLst/>
              <a:rect l="l" t="t" r="r" b="b"/>
              <a:pathLst>
                <a:path w="157072" h="157072">
                  <a:moveTo>
                    <a:pt x="157072" y="78536"/>
                  </a:moveTo>
                  <a:cubicBezTo>
                    <a:pt x="157072" y="121910"/>
                    <a:pt x="121910" y="157072"/>
                    <a:pt x="78536" y="157072"/>
                  </a:cubicBezTo>
                  <a:cubicBezTo>
                    <a:pt x="35162" y="157072"/>
                    <a:pt x="0" y="121910"/>
                    <a:pt x="0" y="78536"/>
                  </a:cubicBezTo>
                  <a:cubicBezTo>
                    <a:pt x="0" y="35162"/>
                    <a:pt x="35162" y="0"/>
                    <a:pt x="78536" y="0"/>
                  </a:cubicBezTo>
                  <a:cubicBezTo>
                    <a:pt x="121910" y="0"/>
                    <a:pt x="157072" y="35162"/>
                    <a:pt x="157072" y="78536"/>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77" name="Freeform: Shape 46"/>
            <p:cNvSpPr/>
            <p:nvPr/>
          </p:nvSpPr>
          <p:spPr>
            <a:xfrm rot="21058200">
              <a:off x="6052680" y="2651400"/>
              <a:ext cx="78840" cy="78840"/>
            </a:xfrm>
            <a:custGeom>
              <a:avLst/>
              <a:gdLst/>
              <a:ahLst/>
              <a:rect l="l" t="t" r="r" b="b"/>
              <a:pathLst>
                <a:path w="79165" h="79165">
                  <a:moveTo>
                    <a:pt x="79166" y="39583"/>
                  </a:moveTo>
                  <a:cubicBezTo>
                    <a:pt x="79166" y="61444"/>
                    <a:pt x="61444" y="79166"/>
                    <a:pt x="39583" y="79166"/>
                  </a:cubicBezTo>
                  <a:cubicBezTo>
                    <a:pt x="17722" y="79166"/>
                    <a:pt x="0" y="61444"/>
                    <a:pt x="0" y="39583"/>
                  </a:cubicBezTo>
                  <a:cubicBezTo>
                    <a:pt x="0" y="17722"/>
                    <a:pt x="17722" y="0"/>
                    <a:pt x="39583" y="0"/>
                  </a:cubicBezTo>
                  <a:cubicBezTo>
                    <a:pt x="61444" y="0"/>
                    <a:pt x="79166" y="17722"/>
                    <a:pt x="79166" y="39583"/>
                  </a:cubicBezTo>
                  <a:close/>
                </a:path>
              </a:pathLst>
            </a:custGeom>
            <a:solidFill>
              <a:srgbClr val="a78271"/>
            </a:solidFill>
            <a:ln w="0">
              <a:noFill/>
            </a:ln>
          </p:spPr>
          <p:style>
            <a:lnRef idx="0"/>
            <a:fillRef idx="0"/>
            <a:effectRef idx="0"/>
            <a:fontRef idx="minor"/>
          </p:style>
          <p:txBody>
            <a:bodyPr lIns="90000" rIns="90000" tIns="32040" bIns="32040" anchor="ctr">
              <a:noAutofit/>
            </a:bodyPr>
            <a:p>
              <a:endParaRPr b="0" lang="en-US" sz="1800" spc="-1" strike="noStrike">
                <a:solidFill>
                  <a:srgbClr val="313c3f"/>
                </a:solidFill>
                <a:latin typeface="Source Sans Pro"/>
              </a:endParaRPr>
            </a:p>
          </p:txBody>
        </p:sp>
        <p:sp>
          <p:nvSpPr>
            <p:cNvPr id="1178" name="Freeform: Shape 47"/>
            <p:cNvSpPr/>
            <p:nvPr/>
          </p:nvSpPr>
          <p:spPr>
            <a:xfrm>
              <a:off x="7278840" y="2491200"/>
              <a:ext cx="716400" cy="1546920"/>
            </a:xfrm>
            <a:custGeom>
              <a:avLst/>
              <a:gdLst/>
              <a:ahLst/>
              <a:rect l="l" t="t" r="r" b="b"/>
              <a:pathLst>
                <a:path w="716628" h="1547234">
                  <a:moveTo>
                    <a:pt x="33555" y="17715"/>
                  </a:moveTo>
                  <a:lnTo>
                    <a:pt x="712106" y="1511155"/>
                  </a:lnTo>
                  <a:cubicBezTo>
                    <a:pt x="728442" y="1551366"/>
                    <a:pt x="696399" y="1560790"/>
                    <a:pt x="681320" y="1524978"/>
                  </a:cubicBezTo>
                  <a:lnTo>
                    <a:pt x="659330" y="1472201"/>
                  </a:lnTo>
                  <a:lnTo>
                    <a:pt x="3397" y="32165"/>
                  </a:lnTo>
                  <a:cubicBezTo>
                    <a:pt x="-10425" y="-1762"/>
                    <a:pt x="21618" y="-12443"/>
                    <a:pt x="33555"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79" name="Freeform: Shape 48"/>
            <p:cNvSpPr/>
            <p:nvPr/>
          </p:nvSpPr>
          <p:spPr>
            <a:xfrm>
              <a:off x="4890240" y="2867040"/>
              <a:ext cx="716400" cy="1546920"/>
            </a:xfrm>
            <a:custGeom>
              <a:avLst/>
              <a:gdLst/>
              <a:ahLst/>
              <a:rect l="l" t="t" r="r" b="b"/>
              <a:pathLst>
                <a:path w="716628" h="1547193">
                  <a:moveTo>
                    <a:pt x="33555" y="17673"/>
                  </a:moveTo>
                  <a:lnTo>
                    <a:pt x="712106" y="1511114"/>
                  </a:lnTo>
                  <a:cubicBezTo>
                    <a:pt x="728442" y="1551324"/>
                    <a:pt x="696399" y="1560749"/>
                    <a:pt x="681320" y="1524936"/>
                  </a:cubicBezTo>
                  <a:lnTo>
                    <a:pt x="659330" y="1472160"/>
                  </a:lnTo>
                  <a:lnTo>
                    <a:pt x="3397" y="32752"/>
                  </a:lnTo>
                  <a:cubicBezTo>
                    <a:pt x="-10425" y="-1804"/>
                    <a:pt x="21618" y="-12484"/>
                    <a:pt x="33555"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80" name="Freeform: Shape 89"/>
            <p:cNvSpPr/>
            <p:nvPr/>
          </p:nvSpPr>
          <p:spPr>
            <a:xfrm>
              <a:off x="4473720" y="4568400"/>
              <a:ext cx="546480" cy="48240"/>
            </a:xfrm>
            <a:custGeom>
              <a:avLst/>
              <a:gdLst/>
              <a:ahLst/>
              <a:rect l="l" t="t" r="r" b="b"/>
              <a:pathLst>
                <a:path w="546610" h="48378">
                  <a:moveTo>
                    <a:pt x="546610" y="48378"/>
                  </a:moveTo>
                  <a:lnTo>
                    <a:pt x="0" y="48378"/>
                  </a:lnTo>
                  <a:lnTo>
                    <a:pt x="546610" y="0"/>
                  </a:lnTo>
                  <a:lnTo>
                    <a:pt x="546610" y="48378"/>
                  </a:lnTo>
                  <a:close/>
                </a:path>
              </a:pathLst>
            </a:custGeom>
            <a:solidFill>
              <a:srgbClr val="cccccc"/>
            </a:solidFill>
            <a:ln w="0">
              <a:noFill/>
            </a:ln>
          </p:spPr>
          <p:style>
            <a:lnRef idx="0"/>
            <a:fillRef idx="0"/>
            <a:effectRef idx="0"/>
            <a:fontRef idx="minor"/>
          </p:style>
          <p:txBody>
            <a:bodyPr lIns="90000" rIns="90000" tIns="1440" bIns="1440" anchor="ctr">
              <a:noAutofit/>
            </a:bodyPr>
            <a:p>
              <a:endParaRPr b="0" lang="en-US" sz="1800" spc="-1" strike="noStrike">
                <a:solidFill>
                  <a:srgbClr val="313c3f"/>
                </a:solidFill>
                <a:latin typeface="Source Sans Pro"/>
              </a:endParaRPr>
            </a:p>
          </p:txBody>
        </p:sp>
        <p:sp>
          <p:nvSpPr>
            <p:cNvPr id="1181" name="Freeform: Shape 90"/>
            <p:cNvSpPr/>
            <p:nvPr/>
          </p:nvSpPr>
          <p:spPr>
            <a:xfrm>
              <a:off x="6877080" y="4191840"/>
              <a:ext cx="546480" cy="48960"/>
            </a:xfrm>
            <a:custGeom>
              <a:avLst/>
              <a:gdLst/>
              <a:ahLst/>
              <a:rect l="l" t="t" r="r" b="b"/>
              <a:pathLst>
                <a:path w="546610" h="49006">
                  <a:moveTo>
                    <a:pt x="546610" y="49006"/>
                  </a:moveTo>
                  <a:lnTo>
                    <a:pt x="0" y="49006"/>
                  </a:lnTo>
                  <a:lnTo>
                    <a:pt x="546610" y="0"/>
                  </a:lnTo>
                  <a:lnTo>
                    <a:pt x="546610" y="49006"/>
                  </a:lnTo>
                  <a:close/>
                </a:path>
              </a:pathLst>
            </a:custGeom>
            <a:solidFill>
              <a:srgbClr val="cccccc"/>
            </a:solidFill>
            <a:ln w="0">
              <a:noFill/>
            </a:ln>
          </p:spPr>
          <p:style>
            <a:lnRef idx="0"/>
            <a:fillRef idx="0"/>
            <a:effectRef idx="0"/>
            <a:fontRef idx="minor"/>
          </p:style>
          <p:txBody>
            <a:bodyPr lIns="90000" rIns="90000" tIns="2160" bIns="2160" anchor="ctr">
              <a:noAutofit/>
            </a:bodyPr>
            <a:p>
              <a:endParaRPr b="0" lang="en-US" sz="1800" spc="-1" strike="noStrike">
                <a:solidFill>
                  <a:srgbClr val="313c3f"/>
                </a:solidFill>
                <a:latin typeface="Source Sans Pro"/>
              </a:endParaRPr>
            </a:p>
          </p:txBody>
        </p:sp>
        <p:sp>
          <p:nvSpPr>
            <p:cNvPr id="1182" name="Freeform: Shape 91"/>
            <p:cNvSpPr/>
            <p:nvPr/>
          </p:nvSpPr>
          <p:spPr>
            <a:xfrm>
              <a:off x="5552280" y="526860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sp>
          <p:nvSpPr>
            <p:cNvPr id="1183" name="Freeform: Shape 92"/>
            <p:cNvSpPr/>
            <p:nvPr/>
          </p:nvSpPr>
          <p:spPr>
            <a:xfrm>
              <a:off x="5552280" y="515304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sp>
          <p:nvSpPr>
            <p:cNvPr id="1184" name="Freeform: Shape 93"/>
            <p:cNvSpPr/>
            <p:nvPr/>
          </p:nvSpPr>
          <p:spPr>
            <a:xfrm>
              <a:off x="5915520" y="5038920"/>
              <a:ext cx="194040" cy="15480"/>
            </a:xfrm>
            <a:custGeom>
              <a:avLst/>
              <a:gdLst/>
              <a:ahLst/>
              <a:rect l="l" t="t" r="r" b="b"/>
              <a:pathLst>
                <a:path w="194140" h="15707">
                  <a:moveTo>
                    <a:pt x="194141" y="15707"/>
                  </a:moveTo>
                  <a:lnTo>
                    <a:pt x="0" y="15707"/>
                  </a:lnTo>
                  <a:lnTo>
                    <a:pt x="194141" y="0"/>
                  </a:lnTo>
                  <a:lnTo>
                    <a:pt x="19414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grpSp>
      <p:grpSp>
        <p:nvGrpSpPr>
          <p:cNvPr id="1185" name="Group 7"/>
          <p:cNvGrpSpPr/>
          <p:nvPr/>
        </p:nvGrpSpPr>
        <p:grpSpPr>
          <a:xfrm>
            <a:off x="8300880" y="3257640"/>
            <a:ext cx="992520" cy="996840"/>
            <a:chOff x="8300880" y="3257640"/>
            <a:chExt cx="992520" cy="996840"/>
          </a:xfrm>
        </p:grpSpPr>
        <p:sp>
          <p:nvSpPr>
            <p:cNvPr id="1186" name="Arrow: Down 157"/>
            <p:cNvSpPr/>
            <p:nvPr/>
          </p:nvSpPr>
          <p:spPr>
            <a:xfrm>
              <a:off x="8386560" y="3448080"/>
              <a:ext cx="860760" cy="765360"/>
            </a:xfrm>
            <a:prstGeom prst="downArrow">
              <a:avLst>
                <a:gd name="adj1" fmla="val 50000"/>
                <a:gd name="adj2" fmla="val 50000"/>
              </a:avLst>
            </a:prstGeom>
            <a:solidFill>
              <a:srgbClr val="e1c11e"/>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187" name="Down Arrow 3"/>
            <p:cNvSpPr/>
            <p:nvPr/>
          </p:nvSpPr>
          <p:spPr>
            <a:xfrm>
              <a:off x="9102960" y="3325680"/>
              <a:ext cx="190440" cy="249120"/>
            </a:xfrm>
            <a:prstGeom prst="downArrow">
              <a:avLst>
                <a:gd name="adj1" fmla="val 50000"/>
                <a:gd name="adj2" fmla="val 50005"/>
              </a:avLst>
            </a:prstGeom>
            <a:solidFill>
              <a:srgbClr val="f3e6a5"/>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88" name="Down Arrow 9"/>
            <p:cNvSpPr/>
            <p:nvPr/>
          </p:nvSpPr>
          <p:spPr>
            <a:xfrm>
              <a:off x="8403840" y="3257640"/>
              <a:ext cx="182520" cy="182520"/>
            </a:xfrm>
            <a:prstGeom prst="downArrow">
              <a:avLst>
                <a:gd name="adj1" fmla="val 50000"/>
                <a:gd name="adj2" fmla="val 50000"/>
              </a:avLst>
            </a:prstGeom>
            <a:solidFill>
              <a:srgbClr val="f3e6a5"/>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89" name="Down Arrow 3"/>
            <p:cNvSpPr/>
            <p:nvPr/>
          </p:nvSpPr>
          <p:spPr>
            <a:xfrm>
              <a:off x="8300880" y="3922920"/>
              <a:ext cx="190440" cy="247680"/>
            </a:xfrm>
            <a:prstGeom prst="downArrow">
              <a:avLst>
                <a:gd name="adj1" fmla="val 50000"/>
                <a:gd name="adj2" fmla="val 50035"/>
              </a:avLst>
            </a:prstGeom>
            <a:solidFill>
              <a:srgbClr val="f3e6a5"/>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90" name="Down Arrow 9"/>
            <p:cNvSpPr/>
            <p:nvPr/>
          </p:nvSpPr>
          <p:spPr>
            <a:xfrm>
              <a:off x="9068040" y="4071960"/>
              <a:ext cx="182520" cy="182520"/>
            </a:xfrm>
            <a:prstGeom prst="downArrow">
              <a:avLst>
                <a:gd name="adj1" fmla="val 50000"/>
                <a:gd name="adj2" fmla="val 50000"/>
              </a:avLst>
            </a:prstGeom>
            <a:solidFill>
              <a:srgbClr val="f3e6a5"/>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Tree>
  </p:cSld>
  <p:transition spd="med">
    <p:fade/>
  </p:transition>
  <p:timing>
    <p:tnLst>
      <p:par>
        <p:cTn id="1274" dur="indefinite" restart="never" nodeType="tmRoot">
          <p:childTnLst>
            <p:seq>
              <p:cTn id="1275" dur="indefinite" nodeType="mainSeq">
                <p:childTnLst>
                  <p:par>
                    <p:cTn id="1276" nodeType="clickEffect" fill="hold">
                      <p:stCondLst>
                        <p:cond delay="0"/>
                      </p:stCondLst>
                      <p:childTnLst>
                        <p:par>
                          <p:cTn id="1277" nodeType="withEffect" fill="hold">
                            <p:stCondLst>
                              <p:cond delay="0"/>
                            </p:stCondLst>
                            <p:childTnLst>
                              <p:par>
                                <p:cTn id="1278" nodeType="afterEffect" fill="hold" presetClass="entr" presetID="10">
                                  <p:stCondLst>
                                    <p:cond delay="0"/>
                                  </p:stCondLst>
                                  <p:childTnLst>
                                    <p:set>
                                      <p:cBhvr>
                                        <p:cTn id="1279" dur="1" fill="hold">
                                          <p:stCondLst>
                                            <p:cond delay="0"/>
                                          </p:stCondLst>
                                        </p:cTn>
                                        <p:tgtEl>
                                          <p:spTgt spid="1138"/>
                                        </p:tgtEl>
                                        <p:attrNameLst>
                                          <p:attrName>style.visibility</p:attrName>
                                        </p:attrNameLst>
                                      </p:cBhvr>
                                      <p:to>
                                        <p:strVal val="visible"/>
                                      </p:to>
                                    </p:set>
                                    <p:animEffect filter="fade" transition="in">
                                      <p:cBhvr additive="repl">
                                        <p:cTn id="1280" dur="500"/>
                                        <p:tgtEl>
                                          <p:spTgt spid="1138"/>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1137"/>
                                        </p:tgtEl>
                                        <p:attrNameLst>
                                          <p:attrName>style.visibility</p:attrName>
                                        </p:attrNameLst>
                                      </p:cBhvr>
                                      <p:to>
                                        <p:strVal val="visible"/>
                                      </p:to>
                                    </p:set>
                                    <p:animEffect filter="fade" transition="in">
                                      <p:cBhvr additive="repl">
                                        <p:cTn id="1284" dur="500"/>
                                        <p:tgtEl>
                                          <p:spTgt spid="1137"/>
                                        </p:tgtEl>
                                      </p:cBhvr>
                                    </p:animEffect>
                                  </p:childTnLst>
                                </p:cTn>
                              </p:par>
                              <p:par>
                                <p:cTn id="1285" nodeType="withEffect" fill="hold" presetClass="entr" presetID="10">
                                  <p:stCondLst>
                                    <p:cond delay="0"/>
                                  </p:stCondLst>
                                  <p:childTnLst>
                                    <p:set>
                                      <p:cBhvr>
                                        <p:cTn id="1286" dur="1" fill="hold">
                                          <p:stCondLst>
                                            <p:cond delay="0"/>
                                          </p:stCondLst>
                                        </p:cTn>
                                        <p:tgtEl>
                                          <p:spTgt spid="1156"/>
                                        </p:tgtEl>
                                        <p:attrNameLst>
                                          <p:attrName>style.visibility</p:attrName>
                                        </p:attrNameLst>
                                      </p:cBhvr>
                                      <p:to>
                                        <p:strVal val="visible"/>
                                      </p:to>
                                    </p:set>
                                    <p:animEffect filter="fade" transition="in">
                                      <p:cBhvr additive="repl">
                                        <p:cTn id="1287" dur="500"/>
                                        <p:tgtEl>
                                          <p:spTgt spid="1156"/>
                                        </p:tgtEl>
                                      </p:cBhvr>
                                    </p:animEffect>
                                  </p:childTnLst>
                                </p:cTn>
                              </p:par>
                            </p:childTnLst>
                          </p:cTn>
                        </p:par>
                        <p:par>
                          <p:cTn id="1288" nodeType="afterEffect" fill="hold">
                            <p:stCondLst>
                              <p:cond delay="1000"/>
                            </p:stCondLst>
                            <p:childTnLst>
                              <p:par>
                                <p:cTn id="1289" nodeType="afterEffect" fill="hold" presetClass="entr" presetID="10">
                                  <p:stCondLst>
                                    <p:cond delay="0"/>
                                  </p:stCondLst>
                                  <p:childTnLst>
                                    <p:set>
                                      <p:cBhvr>
                                        <p:cTn id="1290" dur="1" fill="hold">
                                          <p:stCondLst>
                                            <p:cond delay="0"/>
                                          </p:stCondLst>
                                        </p:cTn>
                                        <p:tgtEl>
                                          <p:spTgt spid="1116"/>
                                        </p:tgtEl>
                                        <p:attrNameLst>
                                          <p:attrName>style.visibility</p:attrName>
                                        </p:attrNameLst>
                                      </p:cBhvr>
                                      <p:to>
                                        <p:strVal val="visible"/>
                                      </p:to>
                                    </p:set>
                                    <p:animEffect filter="fade" transition="in">
                                      <p:cBhvr additive="repl">
                                        <p:cTn id="1291" dur="500"/>
                                        <p:tgtEl>
                                          <p:spTgt spid="1116"/>
                                        </p:tgtEl>
                                      </p:cBhvr>
                                    </p:animEffect>
                                  </p:childTnLst>
                                </p:cTn>
                              </p:par>
                            </p:childTnLst>
                          </p:cTn>
                        </p:par>
                        <p:par>
                          <p:cTn id="1292" nodeType="afterEffect" fill="hold">
                            <p:stCondLst>
                              <p:cond delay="1500"/>
                            </p:stCondLst>
                            <p:childTnLst>
                              <p:par>
                                <p:cTn id="1293" nodeType="afterEffect" fill="hold" presetClass="entr" presetID="10">
                                  <p:stCondLst>
                                    <p:cond delay="0"/>
                                  </p:stCondLst>
                                  <p:childTnLst>
                                    <p:set>
                                      <p:cBhvr>
                                        <p:cTn id="1294" dur="1" fill="hold">
                                          <p:stCondLst>
                                            <p:cond delay="0"/>
                                          </p:stCondLst>
                                        </p:cTn>
                                        <p:tgtEl>
                                          <p:spTgt spid="1148"/>
                                        </p:tgtEl>
                                        <p:attrNameLst>
                                          <p:attrName>style.visibility</p:attrName>
                                        </p:attrNameLst>
                                      </p:cBhvr>
                                      <p:to>
                                        <p:strVal val="visible"/>
                                      </p:to>
                                    </p:set>
                                    <p:animEffect filter="fade" transition="in">
                                      <p:cBhvr additive="repl">
                                        <p:cTn id="1295" dur="500"/>
                                        <p:tgtEl>
                                          <p:spTgt spid="1148"/>
                                        </p:tgtEl>
                                      </p:cBhvr>
                                    </p:animEffect>
                                  </p:childTnLst>
                                </p:cTn>
                              </p:par>
                            </p:childTnLst>
                          </p:cTn>
                        </p:par>
                        <p:par>
                          <p:cTn id="1296" nodeType="afterEffect" fill="hold">
                            <p:stCondLst>
                              <p:cond delay="2000"/>
                            </p:stCondLst>
                            <p:childTnLst>
                              <p:par>
                                <p:cTn id="1297" nodeType="afterEffect" fill="hold" presetClass="entr" presetID="10">
                                  <p:stCondLst>
                                    <p:cond delay="0"/>
                                  </p:stCondLst>
                                  <p:childTnLst>
                                    <p:set>
                                      <p:cBhvr>
                                        <p:cTn id="1298" dur="1" fill="hold">
                                          <p:stCondLst>
                                            <p:cond delay="0"/>
                                          </p:stCondLst>
                                        </p:cTn>
                                        <p:tgtEl>
                                          <p:spTgt spid="1142"/>
                                        </p:tgtEl>
                                        <p:attrNameLst>
                                          <p:attrName>style.visibility</p:attrName>
                                        </p:attrNameLst>
                                      </p:cBhvr>
                                      <p:to>
                                        <p:strVal val="visible"/>
                                      </p:to>
                                    </p:set>
                                    <p:animEffect filter="fade" transition="in">
                                      <p:cBhvr additive="repl">
                                        <p:cTn id="1299" dur="500"/>
                                        <p:tgtEl>
                                          <p:spTgt spid="1142"/>
                                        </p:tgtEl>
                                      </p:cBhvr>
                                    </p:animEffect>
                                  </p:childTnLst>
                                </p:cTn>
                              </p:par>
                            </p:childTnLst>
                          </p:cTn>
                        </p:par>
                        <p:par>
                          <p:cTn id="1300" nodeType="afterEffect" fill="hold">
                            <p:stCondLst>
                              <p:cond delay="2500"/>
                            </p:stCondLst>
                            <p:childTnLst>
                              <p:par>
                                <p:cTn id="1301" nodeType="afterEffect" fill="hold" presetClass="entr" presetID="10">
                                  <p:stCondLst>
                                    <p:cond delay="0"/>
                                  </p:stCondLst>
                                  <p:childTnLst>
                                    <p:set>
                                      <p:cBhvr>
                                        <p:cTn id="1302" dur="1" fill="hold">
                                          <p:stCondLst>
                                            <p:cond delay="0"/>
                                          </p:stCondLst>
                                        </p:cTn>
                                        <p:tgtEl>
                                          <p:spTgt spid="1147"/>
                                        </p:tgtEl>
                                        <p:attrNameLst>
                                          <p:attrName>style.visibility</p:attrName>
                                        </p:attrNameLst>
                                      </p:cBhvr>
                                      <p:to>
                                        <p:strVal val="visible"/>
                                      </p:to>
                                    </p:set>
                                    <p:animEffect filter="fade" transition="in">
                                      <p:cBhvr additive="repl">
                                        <p:cTn id="1303" dur="500"/>
                                        <p:tgtEl>
                                          <p:spTgt spid="1147"/>
                                        </p:tgtEl>
                                      </p:cBhvr>
                                    </p:animEffect>
                                  </p:childTnLst>
                                </p:cTn>
                              </p:par>
                              <p:par>
                                <p:cTn id="1304" nodeType="withEffect" fill="hold" presetClass="entr" presetID="10">
                                  <p:stCondLst>
                                    <p:cond delay="0"/>
                                  </p:stCondLst>
                                  <p:childTnLst>
                                    <p:set>
                                      <p:cBhvr>
                                        <p:cTn id="1305" dur="1" fill="hold">
                                          <p:stCondLst>
                                            <p:cond delay="0"/>
                                          </p:stCondLst>
                                        </p:cTn>
                                        <p:tgtEl>
                                          <p:spTgt spid="1146"/>
                                        </p:tgtEl>
                                        <p:attrNameLst>
                                          <p:attrName>style.visibility</p:attrName>
                                        </p:attrNameLst>
                                      </p:cBhvr>
                                      <p:to>
                                        <p:strVal val="visible"/>
                                      </p:to>
                                    </p:set>
                                    <p:animEffect filter="fade" transition="in">
                                      <p:cBhvr additive="repl">
                                        <p:cTn id="1306" dur="500"/>
                                        <p:tgtEl>
                                          <p:spTgt spid="1146"/>
                                        </p:tgtEl>
                                      </p:cBhvr>
                                    </p:animEffect>
                                  </p:childTnLst>
                                </p:cTn>
                              </p:par>
                            </p:childTnLst>
                          </p:cTn>
                        </p:par>
                        <p:par>
                          <p:cTn id="1307" nodeType="afterEffect" fill="hold">
                            <p:stCondLst>
                              <p:cond delay="3000"/>
                            </p:stCondLst>
                            <p:childTnLst>
                              <p:par>
                                <p:cTn id="1308" nodeType="afterEffect" fill="hold" presetClass="entr" presetID="10">
                                  <p:stCondLst>
                                    <p:cond delay="0"/>
                                  </p:stCondLst>
                                  <p:childTnLst>
                                    <p:set>
                                      <p:cBhvr>
                                        <p:cTn id="1309" dur="1" fill="hold">
                                          <p:stCondLst>
                                            <p:cond delay="0"/>
                                          </p:stCondLst>
                                        </p:cTn>
                                        <p:tgtEl>
                                          <p:spTgt spid="1106"/>
                                        </p:tgtEl>
                                        <p:attrNameLst>
                                          <p:attrName>style.visibility</p:attrName>
                                        </p:attrNameLst>
                                      </p:cBhvr>
                                      <p:to>
                                        <p:strVal val="visible"/>
                                      </p:to>
                                    </p:set>
                                    <p:animEffect filter="fade" transition="in">
                                      <p:cBhvr additive="repl">
                                        <p:cTn id="1310" dur="500"/>
                                        <p:tgtEl>
                                          <p:spTgt spid="1106"/>
                                        </p:tgtEl>
                                      </p:cBhvr>
                                    </p:animEffect>
                                  </p:childTnLst>
                                </p:cTn>
                              </p:par>
                            </p:childTnLst>
                          </p:cTn>
                        </p:par>
                        <p:par>
                          <p:cTn id="1311" nodeType="afterEffect" fill="hold">
                            <p:stCondLst>
                              <p:cond delay="3500"/>
                            </p:stCondLst>
                            <p:childTnLst>
                              <p:par>
                                <p:cTn id="1312" nodeType="afterEffect" fill="hold" presetClass="entr" presetID="10">
                                  <p:stCondLst>
                                    <p:cond delay="0"/>
                                  </p:stCondLst>
                                  <p:childTnLst>
                                    <p:set>
                                      <p:cBhvr>
                                        <p:cTn id="1313" dur="1" fill="hold">
                                          <p:stCondLst>
                                            <p:cond delay="0"/>
                                          </p:stCondLst>
                                        </p:cTn>
                                        <p:tgtEl>
                                          <p:spTgt spid="1185"/>
                                        </p:tgtEl>
                                        <p:attrNameLst>
                                          <p:attrName>style.visibility</p:attrName>
                                        </p:attrNameLst>
                                      </p:cBhvr>
                                      <p:to>
                                        <p:strVal val="visible"/>
                                      </p:to>
                                    </p:set>
                                    <p:animEffect filter="fade" transition="in">
                                      <p:cBhvr additive="repl">
                                        <p:cTn id="1314" dur="500"/>
                                        <p:tgtEl>
                                          <p:spTgt spid="1185"/>
                                        </p:tgtEl>
                                      </p:cBhvr>
                                    </p:animEffect>
                                  </p:childTnLst>
                                </p:cTn>
                              </p:par>
                            </p:childTnLst>
                          </p:cTn>
                        </p:par>
                        <p:par>
                          <p:cTn id="1315" nodeType="afterEffect" fill="hold">
                            <p:stCondLst>
                              <p:cond delay="4000"/>
                            </p:stCondLst>
                            <p:childTnLst>
                              <p:par>
                                <p:cTn id="1316" nodeType="afterEffect" fill="hold" presetClass="entr" presetID="10">
                                  <p:stCondLst>
                                    <p:cond delay="0"/>
                                  </p:stCondLst>
                                  <p:childTnLst>
                                    <p:set>
                                      <p:cBhvr>
                                        <p:cTn id="1317" dur="1" fill="hold">
                                          <p:stCondLst>
                                            <p:cond delay="0"/>
                                          </p:stCondLst>
                                        </p:cTn>
                                        <p:tgtEl>
                                          <p:spTgt spid="1143"/>
                                        </p:tgtEl>
                                        <p:attrNameLst>
                                          <p:attrName>style.visibility</p:attrName>
                                        </p:attrNameLst>
                                      </p:cBhvr>
                                      <p:to>
                                        <p:strVal val="visible"/>
                                      </p:to>
                                    </p:set>
                                    <p:animEffect filter="fade" transition="in">
                                      <p:cBhvr additive="repl">
                                        <p:cTn id="1318" dur="500"/>
                                        <p:tgtEl>
                                          <p:spTgt spid="1143"/>
                                        </p:tgtEl>
                                      </p:cBhvr>
                                    </p:animEffect>
                                  </p:childTnLst>
                                </p:cTn>
                              </p:par>
                            </p:childTnLst>
                          </p:cTn>
                        </p:par>
                        <p:par>
                          <p:cTn id="1319" nodeType="afterEffect" fill="hold">
                            <p:stCondLst>
                              <p:cond delay="4500"/>
                            </p:stCondLst>
                            <p:childTnLst>
                              <p:par>
                                <p:cTn id="1320" nodeType="afterEffect" fill="hold" presetClass="entr" presetID="10">
                                  <p:stCondLst>
                                    <p:cond delay="0"/>
                                  </p:stCondLst>
                                  <p:childTnLst>
                                    <p:set>
                                      <p:cBhvr>
                                        <p:cTn id="1321" dur="1" fill="hold">
                                          <p:stCondLst>
                                            <p:cond delay="0"/>
                                          </p:stCondLst>
                                        </p:cTn>
                                        <p:tgtEl>
                                          <p:spTgt spid="1145"/>
                                        </p:tgtEl>
                                        <p:attrNameLst>
                                          <p:attrName>style.visibility</p:attrName>
                                        </p:attrNameLst>
                                      </p:cBhvr>
                                      <p:to>
                                        <p:strVal val="visible"/>
                                      </p:to>
                                    </p:set>
                                    <p:animEffect filter="fade" transition="in">
                                      <p:cBhvr additive="repl">
                                        <p:cTn id="1322" dur="500"/>
                                        <p:tgtEl>
                                          <p:spTgt spid="1145"/>
                                        </p:tgtEl>
                                      </p:cBhvr>
                                    </p:animEffect>
                                  </p:childTnLst>
                                </p:cTn>
                              </p:par>
                              <p:par>
                                <p:cTn id="1323" nodeType="withEffect" fill="hold" presetClass="entr" presetID="10">
                                  <p:stCondLst>
                                    <p:cond delay="0"/>
                                  </p:stCondLst>
                                  <p:childTnLst>
                                    <p:set>
                                      <p:cBhvr>
                                        <p:cTn id="1324" dur="1" fill="hold">
                                          <p:stCondLst>
                                            <p:cond delay="0"/>
                                          </p:stCondLst>
                                        </p:cTn>
                                        <p:tgtEl>
                                          <p:spTgt spid="1144"/>
                                        </p:tgtEl>
                                        <p:attrNameLst>
                                          <p:attrName>style.visibility</p:attrName>
                                        </p:attrNameLst>
                                      </p:cBhvr>
                                      <p:to>
                                        <p:strVal val="visible"/>
                                      </p:to>
                                    </p:set>
                                    <p:animEffect filter="fade" transition="in">
                                      <p:cBhvr additive="repl">
                                        <p:cTn id="1325" dur="500"/>
                                        <p:tgtEl>
                                          <p:spTgt spid="1144"/>
                                        </p:tgtEl>
                                      </p:cBhvr>
                                    </p:animEffect>
                                  </p:childTnLst>
                                </p:cTn>
                              </p:par>
                            </p:childTnLst>
                          </p:cTn>
                        </p:par>
                        <p:par>
                          <p:cTn id="1326" nodeType="afterEffect" fill="hold">
                            <p:stCondLst>
                              <p:cond delay="5000"/>
                            </p:stCondLst>
                            <p:childTnLst>
                              <p:par>
                                <p:cTn id="1327" nodeType="afterEffect" fill="hold" presetClass="entr" presetID="10">
                                  <p:stCondLst>
                                    <p:cond delay="0"/>
                                  </p:stCondLst>
                                  <p:childTnLst>
                                    <p:set>
                                      <p:cBhvr>
                                        <p:cTn id="1328" dur="1" fill="hold">
                                          <p:stCondLst>
                                            <p:cond delay="0"/>
                                          </p:stCondLst>
                                        </p:cTn>
                                        <p:tgtEl>
                                          <p:spTgt spid="1139"/>
                                        </p:tgtEl>
                                        <p:attrNameLst>
                                          <p:attrName>style.visibility</p:attrName>
                                        </p:attrNameLst>
                                      </p:cBhvr>
                                      <p:to>
                                        <p:strVal val="visible"/>
                                      </p:to>
                                    </p:set>
                                    <p:animEffect filter="fade" transition="in">
                                      <p:cBhvr additive="repl">
                                        <p:cTn id="1329" dur="500"/>
                                        <p:tgtEl>
                                          <p:spTgt spid="1139"/>
                                        </p:tgtEl>
                                      </p:cBhvr>
                                    </p:animEffect>
                                  </p:childTnLst>
                                </p:cTn>
                              </p:par>
                              <p:par>
                                <p:cTn id="1330" nodeType="withEffect" fill="hold" presetClass="entr" presetID="10">
                                  <p:stCondLst>
                                    <p:cond delay="0"/>
                                  </p:stCondLst>
                                  <p:childTnLst>
                                    <p:set>
                                      <p:cBhvr>
                                        <p:cTn id="1331" dur="1" fill="hold">
                                          <p:stCondLst>
                                            <p:cond delay="0"/>
                                          </p:stCondLst>
                                        </p:cTn>
                                        <p:tgtEl>
                                          <p:spTgt spid="1140"/>
                                        </p:tgtEl>
                                        <p:attrNameLst>
                                          <p:attrName>style.visibility</p:attrName>
                                        </p:attrNameLst>
                                      </p:cBhvr>
                                      <p:to>
                                        <p:strVal val="visible"/>
                                      </p:to>
                                    </p:set>
                                    <p:animEffect filter="fade" transition="in">
                                      <p:cBhvr additive="repl">
                                        <p:cTn id="1332" dur="500"/>
                                        <p:tgtEl>
                                          <p:spTgt spid="1140"/>
                                        </p:tgtEl>
                                      </p:cBhvr>
                                    </p:animEffect>
                                  </p:childTnLst>
                                </p:cTn>
                              </p:par>
                              <p:par>
                                <p:cTn id="1333" nodeType="withEffect" fill="hold" presetClass="entr" presetID="10">
                                  <p:stCondLst>
                                    <p:cond delay="0"/>
                                  </p:stCondLst>
                                  <p:childTnLst>
                                    <p:set>
                                      <p:cBhvr>
                                        <p:cTn id="1334" dur="1" fill="hold">
                                          <p:stCondLst>
                                            <p:cond delay="0"/>
                                          </p:stCondLst>
                                        </p:cTn>
                                        <p:tgtEl>
                                          <p:spTgt spid="1154"/>
                                        </p:tgtEl>
                                        <p:attrNameLst>
                                          <p:attrName>style.visibility</p:attrName>
                                        </p:attrNameLst>
                                      </p:cBhvr>
                                      <p:to>
                                        <p:strVal val="visible"/>
                                      </p:to>
                                    </p:set>
                                    <p:animEffect filter="fade" transition="in">
                                      <p:cBhvr additive="repl">
                                        <p:cTn id="1335" dur="500"/>
                                        <p:tgtEl>
                                          <p:spTgt spid="1154"/>
                                        </p:tgtEl>
                                      </p:cBhvr>
                                    </p:animEffect>
                                  </p:childTnLst>
                                </p:cTn>
                              </p:par>
                              <p:par>
                                <p:cTn id="1336" nodeType="withEffect" fill="hold" presetClass="entr" presetID="10">
                                  <p:stCondLst>
                                    <p:cond delay="0"/>
                                  </p:stCondLst>
                                  <p:childTnLst>
                                    <p:set>
                                      <p:cBhvr>
                                        <p:cTn id="1337" dur="1" fill="hold">
                                          <p:stCondLst>
                                            <p:cond delay="0"/>
                                          </p:stCondLst>
                                        </p:cTn>
                                        <p:tgtEl>
                                          <p:spTgt spid="1155"/>
                                        </p:tgtEl>
                                        <p:attrNameLst>
                                          <p:attrName>style.visibility</p:attrName>
                                        </p:attrNameLst>
                                      </p:cBhvr>
                                      <p:to>
                                        <p:strVal val="visible"/>
                                      </p:to>
                                    </p:set>
                                    <p:animEffect filter="fade" transition="in">
                                      <p:cBhvr additive="repl">
                                        <p:cTn id="1338" dur="500"/>
                                        <p:tgtEl>
                                          <p:spTgt spid="1155"/>
                                        </p:tgtEl>
                                      </p:cBhvr>
                                    </p:animEffect>
                                  </p:childTnLst>
                                </p:cTn>
                              </p:par>
                              <p:par>
                                <p:cTn id="1339" nodeType="withEffect" fill="hold" presetClass="entr" presetID="10">
                                  <p:stCondLst>
                                    <p:cond delay="0"/>
                                  </p:stCondLst>
                                  <p:childTnLst>
                                    <p:set>
                                      <p:cBhvr>
                                        <p:cTn id="1340" dur="1" fill="hold">
                                          <p:stCondLst>
                                            <p:cond delay="0"/>
                                          </p:stCondLst>
                                        </p:cTn>
                                        <p:tgtEl>
                                          <p:spTgt spid="1141"/>
                                        </p:tgtEl>
                                        <p:attrNameLst>
                                          <p:attrName>style.visibility</p:attrName>
                                        </p:attrNameLst>
                                      </p:cBhvr>
                                      <p:to>
                                        <p:strVal val="visible"/>
                                      </p:to>
                                    </p:set>
                                    <p:animEffect filter="fade" transition="in">
                                      <p:cBhvr additive="repl">
                                        <p:cTn id="1341"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58"/>
          <p:cNvSpPr/>
          <p:nvPr/>
        </p:nvSpPr>
        <p:spPr>
          <a:xfrm>
            <a:off x="640080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92" name="Rectangle 159"/>
          <p:cNvSpPr/>
          <p:nvPr/>
        </p:nvSpPr>
        <p:spPr>
          <a:xfrm>
            <a:off x="6467400" y="3025800"/>
            <a:ext cx="1433520" cy="61272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193" name="Freeform: Shape 160"/>
          <p:cNvSpPr/>
          <p:nvPr/>
        </p:nvSpPr>
        <p:spPr>
          <a:xfrm>
            <a:off x="640080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94" name="TextBox 161"/>
          <p:cNvSpPr/>
          <p:nvPr/>
        </p:nvSpPr>
        <p:spPr>
          <a:xfrm>
            <a:off x="9301320" y="304164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7d42"/>
                </a:solidFill>
                <a:latin typeface="Lato"/>
              </a:rPr>
              <a:t>50%</a:t>
            </a:r>
            <a:endParaRPr b="0" lang="en-US" sz="3600" spc="-1" strike="noStrike">
              <a:solidFill>
                <a:srgbClr val="313c3f"/>
              </a:solidFill>
              <a:latin typeface="Source Sans Pro"/>
            </a:endParaRPr>
          </a:p>
        </p:txBody>
      </p:sp>
      <p:sp>
        <p:nvSpPr>
          <p:cNvPr id="11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196" name="Group 3"/>
          <p:cNvGrpSpPr/>
          <p:nvPr/>
        </p:nvGrpSpPr>
        <p:grpSpPr>
          <a:xfrm>
            <a:off x="905040" y="1947960"/>
            <a:ext cx="4787640" cy="3944880"/>
            <a:chOff x="905040" y="1947960"/>
            <a:chExt cx="4787640" cy="3944880"/>
          </a:xfrm>
        </p:grpSpPr>
        <p:grpSp>
          <p:nvGrpSpPr>
            <p:cNvPr id="1197" name="Graphic 4"/>
            <p:cNvGrpSpPr/>
            <p:nvPr/>
          </p:nvGrpSpPr>
          <p:grpSpPr>
            <a:xfrm>
              <a:off x="3153600" y="2045160"/>
              <a:ext cx="309240" cy="861480"/>
              <a:chOff x="3153600" y="2045160"/>
              <a:chExt cx="309240" cy="861480"/>
            </a:xfrm>
          </p:grpSpPr>
          <p:sp>
            <p:nvSpPr>
              <p:cNvPr id="1198" name="Freeform: Shape 7"/>
              <p:cNvSpPr/>
              <p:nvPr/>
            </p:nvSpPr>
            <p:spPr>
              <a:xfrm>
                <a:off x="3155040" y="2284560"/>
                <a:ext cx="307800" cy="622080"/>
              </a:xfrm>
              <a:custGeom>
                <a:avLst/>
                <a:gdLst/>
                <a:ahLst/>
                <a:rect l="l" t="t" r="r" b="b"/>
                <a:pathLst>
                  <a:path w="338401" h="683780">
                    <a:moveTo>
                      <a:pt x="338401" y="659360"/>
                    </a:moveTo>
                    <a:cubicBezTo>
                      <a:pt x="338401" y="673314"/>
                      <a:pt x="261650" y="683780"/>
                      <a:pt x="169201" y="683780"/>
                    </a:cubicBezTo>
                    <a:cubicBezTo>
                      <a:pt x="75007" y="683780"/>
                      <a:pt x="0" y="673314"/>
                      <a:pt x="0" y="659360"/>
                    </a:cubicBezTo>
                    <a:lnTo>
                      <a:pt x="0" y="0"/>
                    </a:lnTo>
                    <a:cubicBezTo>
                      <a:pt x="0" y="13955"/>
                      <a:pt x="76751" y="24421"/>
                      <a:pt x="169201" y="24421"/>
                    </a:cubicBezTo>
                    <a:cubicBezTo>
                      <a:pt x="263395" y="24421"/>
                      <a:pt x="338401" y="13955"/>
                      <a:pt x="338401" y="0"/>
                    </a:cubicBezTo>
                    <a:lnTo>
                      <a:pt x="338401" y="65936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199" name="Freeform: Shape 8"/>
              <p:cNvSpPr/>
              <p:nvPr/>
            </p:nvSpPr>
            <p:spPr>
              <a:xfrm>
                <a:off x="3153600" y="226260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313c3f"/>
                  </a:solidFill>
                  <a:latin typeface="Source Sans Pro"/>
                </a:endParaRPr>
              </a:p>
            </p:txBody>
          </p:sp>
          <p:sp>
            <p:nvSpPr>
              <p:cNvPr id="1200" name="Freeform: Shape 9"/>
              <p:cNvSpPr/>
              <p:nvPr/>
            </p:nvSpPr>
            <p:spPr>
              <a:xfrm>
                <a:off x="3155040" y="204516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313c3f"/>
                  </a:solidFill>
                  <a:latin typeface="Source Sans Pro"/>
                </a:endParaRPr>
              </a:p>
            </p:txBody>
          </p:sp>
          <p:sp>
            <p:nvSpPr>
              <p:cNvPr id="1201" name="Freeform: Shape 10"/>
              <p:cNvSpPr/>
              <p:nvPr/>
            </p:nvSpPr>
            <p:spPr>
              <a:xfrm>
                <a:off x="3155040" y="2067120"/>
                <a:ext cx="307800" cy="68040"/>
              </a:xfrm>
              <a:custGeom>
                <a:avLst/>
                <a:gdLst/>
                <a:ahLst/>
                <a:rect l="l" t="t" r="r" b="b"/>
                <a:pathLst>
                  <a:path w="338401" h="75006">
                    <a:moveTo>
                      <a:pt x="338401" y="50586"/>
                    </a:moveTo>
                    <a:cubicBezTo>
                      <a:pt x="338401" y="64540"/>
                      <a:pt x="261650" y="75007"/>
                      <a:pt x="169201" y="75007"/>
                    </a:cubicBezTo>
                    <a:cubicBezTo>
                      <a:pt x="75007" y="75007"/>
                      <a:pt x="0" y="64540"/>
                      <a:pt x="0" y="50586"/>
                    </a:cubicBezTo>
                    <a:lnTo>
                      <a:pt x="0" y="0"/>
                    </a:lnTo>
                    <a:cubicBezTo>
                      <a:pt x="0" y="13955"/>
                      <a:pt x="76751" y="24421"/>
                      <a:pt x="169201" y="24421"/>
                    </a:cubicBezTo>
                    <a:cubicBezTo>
                      <a:pt x="263395" y="24421"/>
                      <a:pt x="338401" y="13955"/>
                      <a:pt x="338401" y="0"/>
                    </a:cubicBezTo>
                    <a:lnTo>
                      <a:pt x="338401" y="50586"/>
                    </a:lnTo>
                    <a:close/>
                  </a:path>
                </a:pathLst>
              </a:custGeom>
              <a:solidFill>
                <a:srgbClr val="f9a51a"/>
              </a:solidFill>
              <a:ln w="0">
                <a:noFill/>
              </a:ln>
            </p:spPr>
            <p:style>
              <a:lnRef idx="0"/>
              <a:fillRef idx="0"/>
              <a:effectRef idx="0"/>
              <a:fontRef idx="minor"/>
            </p:style>
            <p:txBody>
              <a:bodyPr lIns="90000" rIns="90000" tIns="21240" bIns="21240" anchor="ctr">
                <a:noAutofit/>
              </a:bodyPr>
              <a:p>
                <a:endParaRPr b="0" lang="en-US" sz="1800" spc="-1" strike="noStrike">
                  <a:solidFill>
                    <a:srgbClr val="313c3f"/>
                  </a:solidFill>
                  <a:latin typeface="Source Sans Pro"/>
                </a:endParaRPr>
              </a:p>
            </p:txBody>
          </p:sp>
          <p:sp>
            <p:nvSpPr>
              <p:cNvPr id="1202" name="Freeform: Shape 11"/>
              <p:cNvSpPr/>
              <p:nvPr/>
            </p:nvSpPr>
            <p:spPr>
              <a:xfrm>
                <a:off x="3213720" y="2111760"/>
                <a:ext cx="190440" cy="182520"/>
              </a:xfrm>
              <a:custGeom>
                <a:avLst/>
                <a:gdLst/>
                <a:ahLst/>
                <a:rect l="l" t="t" r="r" b="b"/>
                <a:pathLst>
                  <a:path w="209320" h="200598">
                    <a:moveTo>
                      <a:pt x="209320" y="184900"/>
                    </a:moveTo>
                    <a:cubicBezTo>
                      <a:pt x="209320" y="193621"/>
                      <a:pt x="162223" y="200599"/>
                      <a:pt x="104660" y="200599"/>
                    </a:cubicBezTo>
                    <a:cubicBezTo>
                      <a:pt x="47097" y="200599"/>
                      <a:pt x="0" y="193621"/>
                      <a:pt x="0" y="184900"/>
                    </a:cubicBezTo>
                    <a:lnTo>
                      <a:pt x="0" y="0"/>
                    </a:lnTo>
                    <a:cubicBezTo>
                      <a:pt x="0" y="8722"/>
                      <a:pt x="47097" y="15699"/>
                      <a:pt x="104660" y="15699"/>
                    </a:cubicBezTo>
                    <a:cubicBezTo>
                      <a:pt x="162223" y="15699"/>
                      <a:pt x="209320" y="8722"/>
                      <a:pt x="209320" y="0"/>
                    </a:cubicBezTo>
                    <a:lnTo>
                      <a:pt x="209320" y="18490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203" name="Freeform: Shape 13"/>
            <p:cNvSpPr/>
            <p:nvPr/>
          </p:nvSpPr>
          <p:spPr>
            <a:xfrm>
              <a:off x="2464920" y="3993480"/>
              <a:ext cx="257040" cy="201240"/>
            </a:xfrm>
            <a:custGeom>
              <a:avLst/>
              <a:gdLst/>
              <a:ahLst/>
              <a:rect l="l" t="t" r="r" b="b"/>
              <a:pathLst>
                <a:path w="282582" h="221530">
                  <a:moveTo>
                    <a:pt x="174434" y="0"/>
                  </a:moveTo>
                  <a:cubicBezTo>
                    <a:pt x="233741" y="0"/>
                    <a:pt x="282582" y="48842"/>
                    <a:pt x="282582" y="109893"/>
                  </a:cubicBezTo>
                  <a:cubicBezTo>
                    <a:pt x="282582" y="170945"/>
                    <a:pt x="233741" y="219787"/>
                    <a:pt x="174434" y="219787"/>
                  </a:cubicBezTo>
                  <a:lnTo>
                    <a:pt x="43608" y="221531"/>
                  </a:lnTo>
                  <a:lnTo>
                    <a:pt x="0" y="221531"/>
                  </a:lnTo>
                  <a:lnTo>
                    <a:pt x="0" y="90705"/>
                  </a:lnTo>
                  <a:lnTo>
                    <a:pt x="68029" y="94194"/>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7576"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04" name="Freeform: Shape 14"/>
            <p:cNvSpPr/>
            <p:nvPr/>
          </p:nvSpPr>
          <p:spPr>
            <a:xfrm>
              <a:off x="905040" y="3992040"/>
              <a:ext cx="257040" cy="203040"/>
            </a:xfrm>
            <a:custGeom>
              <a:avLst/>
              <a:gdLst/>
              <a:ahLst/>
              <a:rect l="l" t="t" r="r" b="b"/>
              <a:pathLst>
                <a:path w="282582" h="223275">
                  <a:moveTo>
                    <a:pt x="108149" y="0"/>
                  </a:moveTo>
                  <a:cubicBezTo>
                    <a:pt x="48841" y="0"/>
                    <a:pt x="0" y="48842"/>
                    <a:pt x="0" y="109893"/>
                  </a:cubicBezTo>
                  <a:cubicBezTo>
                    <a:pt x="0" y="170945"/>
                    <a:pt x="48841" y="219787"/>
                    <a:pt x="108149" y="219787"/>
                  </a:cubicBezTo>
                  <a:lnTo>
                    <a:pt x="228508" y="223275"/>
                  </a:lnTo>
                  <a:lnTo>
                    <a:pt x="282583" y="223275"/>
                  </a:lnTo>
                  <a:lnTo>
                    <a:pt x="282583" y="88961"/>
                  </a:lnTo>
                  <a:lnTo>
                    <a:pt x="214553" y="92450"/>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6" y="169201"/>
                    <a:pt x="47097" y="141291"/>
                    <a:pt x="47097" y="108149"/>
                  </a:cubicBezTo>
                  <a:cubicBezTo>
                    <a:pt x="47097" y="75007"/>
                    <a:pt x="75006"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05" name="Freeform: Shape 15"/>
            <p:cNvSpPr/>
            <p:nvPr/>
          </p:nvSpPr>
          <p:spPr>
            <a:xfrm>
              <a:off x="1076400" y="4039560"/>
              <a:ext cx="1475640" cy="328320"/>
            </a:xfrm>
            <a:custGeom>
              <a:avLst/>
              <a:gdLst/>
              <a:ahLst/>
              <a:rect l="l" t="t" r="r" b="b"/>
              <a:pathLst>
                <a:path w="1622232" h="361078">
                  <a:moveTo>
                    <a:pt x="1526294" y="104660"/>
                  </a:moveTo>
                  <a:lnTo>
                    <a:pt x="1329184" y="265140"/>
                  </a:lnTo>
                  <a:cubicBezTo>
                    <a:pt x="1301275" y="319214"/>
                    <a:pt x="1079744" y="361078"/>
                    <a:pt x="811116" y="361078"/>
                  </a:cubicBezTo>
                  <a:cubicBezTo>
                    <a:pt x="540744" y="361078"/>
                    <a:pt x="319214" y="319214"/>
                    <a:pt x="293049" y="265140"/>
                  </a:cubicBezTo>
                  <a:lnTo>
                    <a:pt x="95938" y="104660"/>
                  </a:lnTo>
                  <a:lnTo>
                    <a:pt x="40120" y="104660"/>
                  </a:lnTo>
                  <a:cubicBezTo>
                    <a:pt x="19188" y="104660"/>
                    <a:pt x="0" y="80240"/>
                    <a:pt x="0" y="52330"/>
                  </a:cubicBezTo>
                  <a:cubicBezTo>
                    <a:pt x="0" y="22676"/>
                    <a:pt x="17443" y="0"/>
                    <a:pt x="40120" y="0"/>
                  </a:cubicBezTo>
                  <a:lnTo>
                    <a:pt x="1582113" y="0"/>
                  </a:lnTo>
                  <a:cubicBezTo>
                    <a:pt x="1603045" y="0"/>
                    <a:pt x="1622233" y="22676"/>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06" name="Freeform: Shape 16"/>
            <p:cNvSpPr/>
            <p:nvPr/>
          </p:nvSpPr>
          <p:spPr>
            <a:xfrm>
              <a:off x="1112760" y="413496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313c3f"/>
                </a:solidFill>
                <a:latin typeface="Source Sans Pro"/>
              </a:endParaRPr>
            </a:p>
          </p:txBody>
        </p:sp>
        <p:sp>
          <p:nvSpPr>
            <p:cNvPr id="1207" name="Freeform: Shape 17"/>
            <p:cNvSpPr/>
            <p:nvPr/>
          </p:nvSpPr>
          <p:spPr>
            <a:xfrm>
              <a:off x="1092240" y="393984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08" name="Freeform: Shape 18"/>
            <p:cNvSpPr/>
            <p:nvPr/>
          </p:nvSpPr>
          <p:spPr>
            <a:xfrm>
              <a:off x="1139760" y="3974760"/>
              <a:ext cx="1348920" cy="141120"/>
            </a:xfrm>
            <a:custGeom>
              <a:avLst/>
              <a:gdLst/>
              <a:ahLst/>
              <a:rect l="l" t="t" r="r" b="b"/>
              <a:pathLst>
                <a:path w="1482686" h="155245">
                  <a:moveTo>
                    <a:pt x="0" y="76751"/>
                  </a:moveTo>
                  <a:cubicBezTo>
                    <a:pt x="17443" y="83728"/>
                    <a:pt x="41864" y="90705"/>
                    <a:pt x="50586" y="94194"/>
                  </a:cubicBezTo>
                  <a:cubicBezTo>
                    <a:pt x="104660" y="108149"/>
                    <a:pt x="163968" y="118615"/>
                    <a:pt x="219786" y="125592"/>
                  </a:cubicBezTo>
                  <a:cubicBezTo>
                    <a:pt x="390731" y="148269"/>
                    <a:pt x="568654" y="155246"/>
                    <a:pt x="741343" y="155246"/>
                  </a:cubicBezTo>
                  <a:cubicBezTo>
                    <a:pt x="914032" y="155246"/>
                    <a:pt x="1091955" y="148269"/>
                    <a:pt x="1262900" y="125592"/>
                  </a:cubicBezTo>
                  <a:cubicBezTo>
                    <a:pt x="1318718" y="118615"/>
                    <a:pt x="1376281" y="109893"/>
                    <a:pt x="1432100" y="94194"/>
                  </a:cubicBezTo>
                  <a:cubicBezTo>
                    <a:pt x="1440822" y="92450"/>
                    <a:pt x="1465243" y="83728"/>
                    <a:pt x="1482686" y="76751"/>
                  </a:cubicBezTo>
                  <a:cubicBezTo>
                    <a:pt x="1465243" y="69773"/>
                    <a:pt x="1440822" y="62796"/>
                    <a:pt x="1432100" y="59307"/>
                  </a:cubicBezTo>
                  <a:cubicBezTo>
                    <a:pt x="1378026" y="45353"/>
                    <a:pt x="1318718" y="34887"/>
                    <a:pt x="1262900" y="27909"/>
                  </a:cubicBezTo>
                  <a:cubicBezTo>
                    <a:pt x="1091955" y="5233"/>
                    <a:pt x="914032" y="0"/>
                    <a:pt x="741343" y="0"/>
                  </a:cubicBezTo>
                  <a:cubicBezTo>
                    <a:pt x="568654" y="0"/>
                    <a:pt x="390731" y="6977"/>
                    <a:pt x="219786" y="27909"/>
                  </a:cubicBezTo>
                  <a:cubicBezTo>
                    <a:pt x="163968" y="34887"/>
                    <a:pt x="106405" y="43608"/>
                    <a:pt x="50586" y="59307"/>
                  </a:cubicBezTo>
                  <a:cubicBezTo>
                    <a:pt x="41864" y="61052"/>
                    <a:pt x="17443" y="68029"/>
                    <a:pt x="0" y="76751"/>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09" name="Freeform: Shape 19"/>
            <p:cNvSpPr/>
            <p:nvPr/>
          </p:nvSpPr>
          <p:spPr>
            <a:xfrm>
              <a:off x="1317600" y="4055400"/>
              <a:ext cx="993240" cy="58680"/>
            </a:xfrm>
            <a:custGeom>
              <a:avLst/>
              <a:gdLst/>
              <a:ahLst/>
              <a:rect l="l" t="t" r="r" b="b"/>
              <a:pathLst>
                <a:path w="1091954" h="64540">
                  <a:moveTo>
                    <a:pt x="1091955" y="31398"/>
                  </a:moveTo>
                  <a:cubicBezTo>
                    <a:pt x="1083233" y="29654"/>
                    <a:pt x="1074511" y="29654"/>
                    <a:pt x="1067534" y="27910"/>
                  </a:cubicBezTo>
                  <a:cubicBezTo>
                    <a:pt x="896589" y="5233"/>
                    <a:pt x="718667" y="0"/>
                    <a:pt x="545977" y="0"/>
                  </a:cubicBezTo>
                  <a:cubicBezTo>
                    <a:pt x="373288" y="0"/>
                    <a:pt x="195366" y="6978"/>
                    <a:pt x="24421" y="27910"/>
                  </a:cubicBezTo>
                  <a:cubicBezTo>
                    <a:pt x="15699" y="29654"/>
                    <a:pt x="8722" y="29654"/>
                    <a:pt x="0" y="31398"/>
                  </a:cubicBezTo>
                  <a:cubicBezTo>
                    <a:pt x="8722" y="33143"/>
                    <a:pt x="17443" y="33143"/>
                    <a:pt x="24421" y="34887"/>
                  </a:cubicBezTo>
                  <a:cubicBezTo>
                    <a:pt x="195366" y="57563"/>
                    <a:pt x="373288" y="64541"/>
                    <a:pt x="545977" y="64541"/>
                  </a:cubicBezTo>
                  <a:cubicBezTo>
                    <a:pt x="718667" y="64541"/>
                    <a:pt x="896589" y="57563"/>
                    <a:pt x="1067534" y="34887"/>
                  </a:cubicBezTo>
                  <a:cubicBezTo>
                    <a:pt x="1074511" y="34887"/>
                    <a:pt x="1083233" y="33143"/>
                    <a:pt x="1091955" y="31398"/>
                  </a:cubicBezTo>
                  <a:close/>
                </a:path>
              </a:pathLst>
            </a:custGeom>
            <a:solidFill>
              <a:srgbClr val="f9a51a"/>
            </a:solidFill>
            <a:ln w="0">
              <a:noFill/>
            </a:ln>
          </p:spPr>
          <p:style>
            <a:lnRef idx="0"/>
            <a:fillRef idx="0"/>
            <a:effectRef idx="0"/>
            <a:fontRef idx="minor"/>
          </p:style>
          <p:txBody>
            <a:bodyPr lIns="90000" rIns="90000" tIns="11880" bIns="11880" anchor="ctr">
              <a:noAutofit/>
            </a:bodyPr>
            <a:p>
              <a:endParaRPr b="0" lang="en-US" sz="1800" spc="-1" strike="noStrike">
                <a:solidFill>
                  <a:srgbClr val="313c3f"/>
                </a:solidFill>
                <a:latin typeface="Source Sans Pro"/>
              </a:endParaRPr>
            </a:p>
          </p:txBody>
        </p:sp>
        <p:sp>
          <p:nvSpPr>
            <p:cNvPr id="1210" name="Freeform: Shape 20"/>
            <p:cNvSpPr/>
            <p:nvPr/>
          </p:nvSpPr>
          <p:spPr>
            <a:xfrm>
              <a:off x="2586960" y="5472360"/>
              <a:ext cx="1443960" cy="209160"/>
            </a:xfrm>
            <a:custGeom>
              <a:avLst/>
              <a:gdLst/>
              <a:ahLst/>
              <a:rect l="l" t="t" r="r" b="b"/>
              <a:pathLst>
                <a:path w="1587346" h="230252">
                  <a:moveTo>
                    <a:pt x="1587346" y="115126"/>
                  </a:moveTo>
                  <a:cubicBezTo>
                    <a:pt x="1587346" y="178709"/>
                    <a:pt x="1232007" y="230253"/>
                    <a:pt x="793673" y="230253"/>
                  </a:cubicBezTo>
                  <a:cubicBezTo>
                    <a:pt x="355339" y="230253"/>
                    <a:pt x="0" y="178709"/>
                    <a:pt x="0" y="115126"/>
                  </a:cubicBezTo>
                  <a:cubicBezTo>
                    <a:pt x="0" y="51544"/>
                    <a:pt x="355339"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1" name="Freeform: Shape 21"/>
            <p:cNvSpPr/>
            <p:nvPr/>
          </p:nvSpPr>
          <p:spPr>
            <a:xfrm>
              <a:off x="2586960" y="5577120"/>
              <a:ext cx="1443960" cy="315720"/>
            </a:xfrm>
            <a:custGeom>
              <a:avLst/>
              <a:gdLst/>
              <a:ahLst/>
              <a:rect l="l" t="t" r="r" b="b"/>
              <a:pathLst>
                <a:path w="1587346" h="347123">
                  <a:moveTo>
                    <a:pt x="1587346" y="231997"/>
                  </a:moveTo>
                  <a:cubicBezTo>
                    <a:pt x="1587346" y="296537"/>
                    <a:pt x="1231502" y="347123"/>
                    <a:pt x="793673" y="347123"/>
                  </a:cubicBezTo>
                  <a:cubicBezTo>
                    <a:pt x="355845" y="347123"/>
                    <a:pt x="0" y="294793"/>
                    <a:pt x="0" y="231997"/>
                  </a:cubicBezTo>
                  <a:lnTo>
                    <a:pt x="0" y="0"/>
                  </a:lnTo>
                  <a:cubicBezTo>
                    <a:pt x="0" y="64540"/>
                    <a:pt x="355845" y="115126"/>
                    <a:pt x="793673" y="115126"/>
                  </a:cubicBezTo>
                  <a:cubicBezTo>
                    <a:pt x="1231502" y="115126"/>
                    <a:pt x="1587346" y="62796"/>
                    <a:pt x="1587346" y="0"/>
                  </a:cubicBezTo>
                  <a:lnTo>
                    <a:pt x="1587346" y="231997"/>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2" name="Freeform: Shape 22"/>
            <p:cNvSpPr/>
            <p:nvPr/>
          </p:nvSpPr>
          <p:spPr>
            <a:xfrm>
              <a:off x="3198240" y="2900520"/>
              <a:ext cx="218880" cy="2678400"/>
            </a:xfrm>
            <a:custGeom>
              <a:avLst/>
              <a:gdLst/>
              <a:ahLst/>
              <a:rect l="l" t="t" r="r" b="b"/>
              <a:pathLst>
                <a:path w="240718" h="2944441">
                  <a:moveTo>
                    <a:pt x="240718" y="0"/>
                  </a:moveTo>
                  <a:lnTo>
                    <a:pt x="240718" y="2906066"/>
                  </a:lnTo>
                  <a:cubicBezTo>
                    <a:pt x="240718" y="2926998"/>
                    <a:pt x="186644" y="2944441"/>
                    <a:pt x="120359" y="2944441"/>
                  </a:cubicBezTo>
                  <a:cubicBezTo>
                    <a:pt x="54075" y="2944441"/>
                    <a:pt x="0" y="2926998"/>
                    <a:pt x="0" y="2906066"/>
                  </a:cubicBezTo>
                  <a:lnTo>
                    <a:pt x="0" y="0"/>
                  </a:lnTo>
                  <a:cubicBezTo>
                    <a:pt x="31398" y="5233"/>
                    <a:pt x="73262" y="6977"/>
                    <a:pt x="120359" y="6977"/>
                  </a:cubicBezTo>
                  <a:cubicBezTo>
                    <a:pt x="167456" y="6977"/>
                    <a:pt x="211065" y="3489"/>
                    <a:pt x="24071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3" name="Freeform: Shape 23"/>
            <p:cNvSpPr/>
            <p:nvPr/>
          </p:nvSpPr>
          <p:spPr>
            <a:xfrm>
              <a:off x="1725840" y="1947960"/>
              <a:ext cx="1512000" cy="700200"/>
            </a:xfrm>
            <a:custGeom>
              <a:avLst/>
              <a:gdLst/>
              <a:ahLst/>
              <a:rect l="l" t="t" r="r" b="b"/>
              <a:pathLst>
                <a:path w="1661898" h="769842">
                  <a:moveTo>
                    <a:pt x="1299076" y="365157"/>
                  </a:moveTo>
                  <a:lnTo>
                    <a:pt x="1661898" y="490749"/>
                  </a:lnTo>
                  <a:lnTo>
                    <a:pt x="1660154" y="490749"/>
                  </a:lnTo>
                  <a:cubicBezTo>
                    <a:pt x="1630500" y="504704"/>
                    <a:pt x="1606080" y="523891"/>
                    <a:pt x="1585148" y="548312"/>
                  </a:cubicBezTo>
                  <a:cubicBezTo>
                    <a:pt x="1571193" y="565755"/>
                    <a:pt x="1560727" y="584943"/>
                    <a:pt x="1552005" y="607620"/>
                  </a:cubicBezTo>
                  <a:cubicBezTo>
                    <a:pt x="1532817" y="663438"/>
                    <a:pt x="1539795" y="722746"/>
                    <a:pt x="1565960" y="769843"/>
                  </a:cubicBezTo>
                  <a:lnTo>
                    <a:pt x="1532817" y="757633"/>
                  </a:lnTo>
                  <a:cubicBezTo>
                    <a:pt x="1483976" y="740189"/>
                    <a:pt x="1435135" y="721001"/>
                    <a:pt x="1386293" y="703558"/>
                  </a:cubicBezTo>
                  <a:lnTo>
                    <a:pt x="950209" y="539590"/>
                  </a:lnTo>
                  <a:lnTo>
                    <a:pt x="946720" y="539590"/>
                  </a:lnTo>
                  <a:cubicBezTo>
                    <a:pt x="911834" y="527380"/>
                    <a:pt x="873458" y="513425"/>
                    <a:pt x="833338" y="495982"/>
                  </a:cubicBezTo>
                  <a:lnTo>
                    <a:pt x="72808" y="211655"/>
                  </a:lnTo>
                  <a:cubicBezTo>
                    <a:pt x="16989" y="192467"/>
                    <a:pt x="-14409" y="129671"/>
                    <a:pt x="6523" y="73852"/>
                  </a:cubicBezTo>
                  <a:cubicBezTo>
                    <a:pt x="25711" y="16289"/>
                    <a:pt x="88507" y="-13365"/>
                    <a:pt x="144326" y="5823"/>
                  </a:cubicBezTo>
                  <a:cubicBezTo>
                    <a:pt x="194911" y="23266"/>
                    <a:pt x="224565" y="75597"/>
                    <a:pt x="215843" y="127927"/>
                  </a:cubicBezTo>
                  <a:cubicBezTo>
                    <a:pt x="405976" y="140137"/>
                    <a:pt x="972885" y="253519"/>
                    <a:pt x="1299076" y="365157"/>
                  </a:cubicBezTo>
                  <a:close/>
                  <a:moveTo>
                    <a:pt x="128626" y="49432"/>
                  </a:moveTo>
                  <a:cubicBezTo>
                    <a:pt x="97228" y="38966"/>
                    <a:pt x="62342" y="54665"/>
                    <a:pt x="50131" y="87807"/>
                  </a:cubicBezTo>
                  <a:cubicBezTo>
                    <a:pt x="39665" y="119205"/>
                    <a:pt x="55364" y="155836"/>
                    <a:pt x="88507" y="166302"/>
                  </a:cubicBezTo>
                  <a:cubicBezTo>
                    <a:pt x="119905" y="176768"/>
                    <a:pt x="154792" y="161069"/>
                    <a:pt x="167002" y="127927"/>
                  </a:cubicBezTo>
                  <a:lnTo>
                    <a:pt x="167002" y="126182"/>
                  </a:lnTo>
                  <a:cubicBezTo>
                    <a:pt x="172235" y="86063"/>
                    <a:pt x="154792" y="59898"/>
                    <a:pt x="128626" y="49432"/>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4" name="Freeform: Shape 24"/>
            <p:cNvSpPr/>
            <p:nvPr/>
          </p:nvSpPr>
          <p:spPr>
            <a:xfrm>
              <a:off x="5435640" y="5007600"/>
              <a:ext cx="257040" cy="201240"/>
            </a:xfrm>
            <a:custGeom>
              <a:avLst/>
              <a:gdLst/>
              <a:ahLst/>
              <a:rect l="l" t="t" r="r" b="b"/>
              <a:pathLst>
                <a:path w="282582" h="221531">
                  <a:moveTo>
                    <a:pt x="174434" y="0"/>
                  </a:moveTo>
                  <a:cubicBezTo>
                    <a:pt x="233741" y="0"/>
                    <a:pt x="282583" y="48842"/>
                    <a:pt x="282583" y="109893"/>
                  </a:cubicBezTo>
                  <a:cubicBezTo>
                    <a:pt x="282583" y="170945"/>
                    <a:pt x="233741" y="219787"/>
                    <a:pt x="174434" y="219787"/>
                  </a:cubicBezTo>
                  <a:lnTo>
                    <a:pt x="43608" y="221531"/>
                  </a:lnTo>
                  <a:lnTo>
                    <a:pt x="0" y="221531"/>
                  </a:lnTo>
                  <a:lnTo>
                    <a:pt x="0" y="88961"/>
                  </a:lnTo>
                  <a:lnTo>
                    <a:pt x="68029" y="92450"/>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9320"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5" name="Freeform: Shape 25"/>
            <p:cNvSpPr/>
            <p:nvPr/>
          </p:nvSpPr>
          <p:spPr>
            <a:xfrm>
              <a:off x="3877200" y="5006160"/>
              <a:ext cx="257040" cy="203040"/>
            </a:xfrm>
            <a:custGeom>
              <a:avLst/>
              <a:gdLst/>
              <a:ahLst/>
              <a:rect l="l" t="t" r="r" b="b"/>
              <a:pathLst>
                <a:path w="282582" h="223275">
                  <a:moveTo>
                    <a:pt x="108149" y="0"/>
                  </a:moveTo>
                  <a:cubicBezTo>
                    <a:pt x="48841" y="0"/>
                    <a:pt x="0" y="48842"/>
                    <a:pt x="0" y="109893"/>
                  </a:cubicBezTo>
                  <a:cubicBezTo>
                    <a:pt x="0" y="170945"/>
                    <a:pt x="48841" y="219786"/>
                    <a:pt x="108149" y="219786"/>
                  </a:cubicBezTo>
                  <a:lnTo>
                    <a:pt x="228508" y="223275"/>
                  </a:lnTo>
                  <a:lnTo>
                    <a:pt x="282582" y="223275"/>
                  </a:lnTo>
                  <a:lnTo>
                    <a:pt x="282582" y="90705"/>
                  </a:lnTo>
                  <a:lnTo>
                    <a:pt x="214553" y="94194"/>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7" y="169201"/>
                    <a:pt x="47097" y="141291"/>
                    <a:pt x="47097" y="108149"/>
                  </a:cubicBezTo>
                  <a:cubicBezTo>
                    <a:pt x="47097" y="75007"/>
                    <a:pt x="73262"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6" name="Freeform: Shape 26"/>
            <p:cNvSpPr/>
            <p:nvPr/>
          </p:nvSpPr>
          <p:spPr>
            <a:xfrm>
              <a:off x="4047120" y="5053680"/>
              <a:ext cx="1475640" cy="328320"/>
            </a:xfrm>
            <a:custGeom>
              <a:avLst/>
              <a:gdLst/>
              <a:ahLst/>
              <a:rect l="l" t="t" r="r" b="b"/>
              <a:pathLst>
                <a:path w="1622232" h="361077">
                  <a:moveTo>
                    <a:pt x="1526294" y="104660"/>
                  </a:moveTo>
                  <a:lnTo>
                    <a:pt x="1329185" y="265139"/>
                  </a:lnTo>
                  <a:cubicBezTo>
                    <a:pt x="1301275" y="319214"/>
                    <a:pt x="1079744" y="361078"/>
                    <a:pt x="811116" y="361078"/>
                  </a:cubicBezTo>
                  <a:cubicBezTo>
                    <a:pt x="542489" y="361078"/>
                    <a:pt x="319214" y="319214"/>
                    <a:pt x="293049" y="265139"/>
                  </a:cubicBezTo>
                  <a:lnTo>
                    <a:pt x="95939" y="104660"/>
                  </a:lnTo>
                  <a:lnTo>
                    <a:pt x="40120" y="104660"/>
                  </a:lnTo>
                  <a:cubicBezTo>
                    <a:pt x="19188" y="104660"/>
                    <a:pt x="0" y="80239"/>
                    <a:pt x="0" y="52330"/>
                  </a:cubicBezTo>
                  <a:cubicBezTo>
                    <a:pt x="0" y="22676"/>
                    <a:pt x="17443" y="0"/>
                    <a:pt x="40120" y="0"/>
                  </a:cubicBezTo>
                  <a:lnTo>
                    <a:pt x="1582113" y="0"/>
                  </a:lnTo>
                  <a:cubicBezTo>
                    <a:pt x="1603045" y="0"/>
                    <a:pt x="1622233" y="24421"/>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7" name="Freeform: Shape 27"/>
            <p:cNvSpPr/>
            <p:nvPr/>
          </p:nvSpPr>
          <p:spPr>
            <a:xfrm>
              <a:off x="3964680" y="3046680"/>
              <a:ext cx="839160" cy="2062800"/>
            </a:xfrm>
            <a:custGeom>
              <a:avLst/>
              <a:gdLst/>
              <a:ahLst/>
              <a:rect l="l" t="t" r="r" b="b"/>
              <a:pathLst>
                <a:path w="922540" h="2267822">
                  <a:moveTo>
                    <a:pt x="873933" y="27442"/>
                  </a:moveTo>
                  <a:lnTo>
                    <a:pt x="5253" y="2216586"/>
                  </a:lnTo>
                  <a:cubicBezTo>
                    <a:pt x="-15679" y="2275893"/>
                    <a:pt x="31418" y="2286359"/>
                    <a:pt x="50606" y="2234029"/>
                  </a:cubicBezTo>
                  <a:lnTo>
                    <a:pt x="78516" y="2157278"/>
                  </a:lnTo>
                  <a:lnTo>
                    <a:pt x="919286" y="46630"/>
                  </a:lnTo>
                  <a:cubicBezTo>
                    <a:pt x="934985" y="-3956"/>
                    <a:pt x="889632" y="-17910"/>
                    <a:pt x="873933"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8" name="Freeform: Shape 28"/>
            <p:cNvSpPr/>
            <p:nvPr/>
          </p:nvSpPr>
          <p:spPr>
            <a:xfrm>
              <a:off x="3378960" y="2475000"/>
              <a:ext cx="1503360" cy="695520"/>
            </a:xfrm>
            <a:custGeom>
              <a:avLst/>
              <a:gdLst/>
              <a:ahLst/>
              <a:rect l="l" t="t" r="r" b="b"/>
              <a:pathLst>
                <a:path w="1652492" h="764609">
                  <a:moveTo>
                    <a:pt x="450039" y="122104"/>
                  </a:moveTo>
                  <a:lnTo>
                    <a:pt x="99427" y="0"/>
                  </a:lnTo>
                  <a:lnTo>
                    <a:pt x="101172" y="1744"/>
                  </a:lnTo>
                  <a:lnTo>
                    <a:pt x="102916" y="3489"/>
                  </a:lnTo>
                  <a:cubicBezTo>
                    <a:pt x="109893" y="17443"/>
                    <a:pt x="115126" y="31398"/>
                    <a:pt x="118615" y="47097"/>
                  </a:cubicBezTo>
                  <a:cubicBezTo>
                    <a:pt x="122104" y="59307"/>
                    <a:pt x="123848" y="71518"/>
                    <a:pt x="123848" y="85473"/>
                  </a:cubicBezTo>
                  <a:cubicBezTo>
                    <a:pt x="127337" y="160479"/>
                    <a:pt x="88961" y="230253"/>
                    <a:pt x="20932" y="268628"/>
                  </a:cubicBezTo>
                  <a:cubicBezTo>
                    <a:pt x="13955" y="272117"/>
                    <a:pt x="6978" y="275605"/>
                    <a:pt x="0" y="279094"/>
                  </a:cubicBezTo>
                  <a:cubicBezTo>
                    <a:pt x="57563" y="296537"/>
                    <a:pt x="113382" y="315725"/>
                    <a:pt x="170945" y="333168"/>
                  </a:cubicBezTo>
                  <a:lnTo>
                    <a:pt x="614007" y="474460"/>
                  </a:lnTo>
                  <a:lnTo>
                    <a:pt x="619239" y="476204"/>
                  </a:lnTo>
                  <a:cubicBezTo>
                    <a:pt x="654126" y="488414"/>
                    <a:pt x="694246" y="500625"/>
                    <a:pt x="734366" y="512835"/>
                  </a:cubicBezTo>
                  <a:lnTo>
                    <a:pt x="1508851" y="758787"/>
                  </a:lnTo>
                  <a:cubicBezTo>
                    <a:pt x="1564670" y="777975"/>
                    <a:pt x="1627466" y="748321"/>
                    <a:pt x="1646654" y="690758"/>
                  </a:cubicBezTo>
                  <a:cubicBezTo>
                    <a:pt x="1665841" y="633194"/>
                    <a:pt x="1636188" y="572143"/>
                    <a:pt x="1580369" y="552955"/>
                  </a:cubicBezTo>
                  <a:cubicBezTo>
                    <a:pt x="1529783" y="535512"/>
                    <a:pt x="1473964" y="558188"/>
                    <a:pt x="1449544" y="605285"/>
                  </a:cubicBezTo>
                  <a:cubicBezTo>
                    <a:pt x="1289065" y="495392"/>
                    <a:pt x="774486" y="233741"/>
                    <a:pt x="450039" y="122104"/>
                  </a:cubicBezTo>
                  <a:close/>
                  <a:moveTo>
                    <a:pt x="1564670" y="598308"/>
                  </a:moveTo>
                  <a:cubicBezTo>
                    <a:pt x="1596068" y="608774"/>
                    <a:pt x="1613511" y="643660"/>
                    <a:pt x="1603045" y="676803"/>
                  </a:cubicBezTo>
                  <a:cubicBezTo>
                    <a:pt x="1592579" y="708201"/>
                    <a:pt x="1557693" y="725644"/>
                    <a:pt x="1524550" y="715178"/>
                  </a:cubicBezTo>
                  <a:cubicBezTo>
                    <a:pt x="1493152" y="704712"/>
                    <a:pt x="1475709" y="669826"/>
                    <a:pt x="1486175" y="636683"/>
                  </a:cubicBezTo>
                  <a:cubicBezTo>
                    <a:pt x="1507107" y="598308"/>
                    <a:pt x="1536761" y="587842"/>
                    <a:pt x="1564670" y="598308"/>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19" name="Freeform: Shape 29"/>
            <p:cNvSpPr/>
            <p:nvPr/>
          </p:nvSpPr>
          <p:spPr>
            <a:xfrm rot="17346600">
              <a:off x="3126240" y="2379240"/>
              <a:ext cx="364680" cy="361800"/>
            </a:xfrm>
            <a:custGeom>
              <a:avLst/>
              <a:gdLst/>
              <a:ahLst/>
              <a:rect l="l" t="t" r="r" b="b"/>
              <a:pathLst>
                <a:path w="401177" h="397689">
                  <a:moveTo>
                    <a:pt x="401178" y="198845"/>
                  </a:moveTo>
                  <a:cubicBezTo>
                    <a:pt x="401178" y="308664"/>
                    <a:pt x="311371" y="397690"/>
                    <a:pt x="200589" y="397690"/>
                  </a:cubicBezTo>
                  <a:cubicBezTo>
                    <a:pt x="89807" y="397690"/>
                    <a:pt x="0" y="308664"/>
                    <a:pt x="0" y="198845"/>
                  </a:cubicBezTo>
                  <a:cubicBezTo>
                    <a:pt x="0" y="89026"/>
                    <a:pt x="89807" y="0"/>
                    <a:pt x="200589" y="0"/>
                  </a:cubicBezTo>
                  <a:cubicBezTo>
                    <a:pt x="311371" y="0"/>
                    <a:pt x="401178" y="89026"/>
                    <a:pt x="401178" y="19884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20" name="Freeform: Shape 30"/>
            <p:cNvSpPr/>
            <p:nvPr/>
          </p:nvSpPr>
          <p:spPr>
            <a:xfrm rot="17346600">
              <a:off x="3205080" y="2458080"/>
              <a:ext cx="206280" cy="203040"/>
            </a:xfrm>
            <a:custGeom>
              <a:avLst/>
              <a:gdLst/>
              <a:ahLst/>
              <a:rect l="l" t="t" r="r" b="b"/>
              <a:pathLst>
                <a:path w="226774" h="223285">
                  <a:moveTo>
                    <a:pt x="226774" y="111643"/>
                  </a:moveTo>
                  <a:cubicBezTo>
                    <a:pt x="226774" y="173301"/>
                    <a:pt x="176009" y="223285"/>
                    <a:pt x="113387" y="223285"/>
                  </a:cubicBezTo>
                  <a:cubicBezTo>
                    <a:pt x="50765" y="223285"/>
                    <a:pt x="0" y="173301"/>
                    <a:pt x="0" y="111643"/>
                  </a:cubicBezTo>
                  <a:cubicBezTo>
                    <a:pt x="0" y="49984"/>
                    <a:pt x="50765" y="0"/>
                    <a:pt x="113387" y="0"/>
                  </a:cubicBezTo>
                  <a:cubicBezTo>
                    <a:pt x="176009" y="0"/>
                    <a:pt x="226774" y="49984"/>
                    <a:pt x="226774" y="11164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21" name="Freeform: Shape 31"/>
            <p:cNvSpPr/>
            <p:nvPr/>
          </p:nvSpPr>
          <p:spPr>
            <a:xfrm rot="17346600">
              <a:off x="3256200" y="2507760"/>
              <a:ext cx="104400" cy="104400"/>
            </a:xfrm>
            <a:custGeom>
              <a:avLst/>
              <a:gdLst/>
              <a:ahLst/>
              <a:rect l="l" t="t" r="r" b="b"/>
              <a:pathLst>
                <a:path w="115131" h="115131">
                  <a:moveTo>
                    <a:pt x="115132" y="57566"/>
                  </a:moveTo>
                  <a:cubicBezTo>
                    <a:pt x="115132" y="89358"/>
                    <a:pt x="89358" y="115132"/>
                    <a:pt x="57566" y="115132"/>
                  </a:cubicBezTo>
                  <a:cubicBezTo>
                    <a:pt x="25773" y="115132"/>
                    <a:pt x="0" y="89358"/>
                    <a:pt x="0" y="57566"/>
                  </a:cubicBezTo>
                  <a:cubicBezTo>
                    <a:pt x="0" y="25773"/>
                    <a:pt x="25773" y="0"/>
                    <a:pt x="57566" y="0"/>
                  </a:cubicBezTo>
                  <a:cubicBezTo>
                    <a:pt x="89358" y="0"/>
                    <a:pt x="115132" y="25773"/>
                    <a:pt x="115132" y="57566"/>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222" name="Graphic 4" descr=""/>
            <p:cNvPicPr/>
            <p:nvPr/>
          </p:nvPicPr>
          <p:blipFill>
            <a:blip r:embed="rId1"/>
            <a:stretch/>
          </p:blipFill>
          <p:spPr>
            <a:xfrm>
              <a:off x="2225160" y="2127600"/>
              <a:ext cx="2035800" cy="859320"/>
            </a:xfrm>
            <a:prstGeom prst="rect">
              <a:avLst/>
            </a:prstGeom>
            <a:ln w="0">
              <a:noFill/>
            </a:ln>
          </p:spPr>
        </p:pic>
        <p:sp>
          <p:nvSpPr>
            <p:cNvPr id="1223" name="Freeform: Shape 39"/>
            <p:cNvSpPr/>
            <p:nvPr/>
          </p:nvSpPr>
          <p:spPr>
            <a:xfrm>
              <a:off x="1798200" y="2020680"/>
              <a:ext cx="839520" cy="2062080"/>
            </a:xfrm>
            <a:custGeom>
              <a:avLst/>
              <a:gdLst/>
              <a:ahLst/>
              <a:rect l="l" t="t" r="r" b="b"/>
              <a:pathLst>
                <a:path w="923103" h="2267080">
                  <a:moveTo>
                    <a:pt x="49170" y="26700"/>
                  </a:moveTo>
                  <a:lnTo>
                    <a:pt x="917850" y="2215844"/>
                  </a:lnTo>
                  <a:cubicBezTo>
                    <a:pt x="938782" y="2275151"/>
                    <a:pt x="891685" y="2285617"/>
                    <a:pt x="872497" y="2233287"/>
                  </a:cubicBezTo>
                  <a:lnTo>
                    <a:pt x="844588" y="2156536"/>
                  </a:lnTo>
                  <a:lnTo>
                    <a:pt x="3818" y="45888"/>
                  </a:lnTo>
                  <a:cubicBezTo>
                    <a:pt x="-13626" y="-4698"/>
                    <a:pt x="33471" y="-16908"/>
                    <a:pt x="49170" y="26700"/>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24" name="Freeform: Shape 40"/>
            <p:cNvSpPr/>
            <p:nvPr/>
          </p:nvSpPr>
          <p:spPr>
            <a:xfrm>
              <a:off x="4764240" y="3046320"/>
              <a:ext cx="849240" cy="2064240"/>
            </a:xfrm>
            <a:custGeom>
              <a:avLst/>
              <a:gdLst/>
              <a:ahLst/>
              <a:rect l="l" t="t" r="r" b="b"/>
              <a:pathLst>
                <a:path w="933811" h="2269480">
                  <a:moveTo>
                    <a:pt x="49276" y="26173"/>
                  </a:moveTo>
                  <a:lnTo>
                    <a:pt x="928422" y="2218805"/>
                  </a:lnTo>
                  <a:cubicBezTo>
                    <a:pt x="949354" y="2276368"/>
                    <a:pt x="904001" y="2288579"/>
                    <a:pt x="883069" y="2236248"/>
                  </a:cubicBezTo>
                  <a:lnTo>
                    <a:pt x="855160" y="2159498"/>
                  </a:lnTo>
                  <a:lnTo>
                    <a:pt x="3923" y="45361"/>
                  </a:lnTo>
                  <a:cubicBezTo>
                    <a:pt x="-13520" y="-3481"/>
                    <a:pt x="31833" y="-17436"/>
                    <a:pt x="49276" y="26173"/>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25" name="Freeform: Shape 41"/>
            <p:cNvSpPr/>
            <p:nvPr/>
          </p:nvSpPr>
          <p:spPr>
            <a:xfrm>
              <a:off x="4085280" y="514872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313c3f"/>
                </a:solidFill>
                <a:latin typeface="Source Sans Pro"/>
              </a:endParaRPr>
            </a:p>
          </p:txBody>
        </p:sp>
        <p:sp>
          <p:nvSpPr>
            <p:cNvPr id="1226" name="Freeform: Shape 42"/>
            <p:cNvSpPr/>
            <p:nvPr/>
          </p:nvSpPr>
          <p:spPr>
            <a:xfrm>
              <a:off x="4062960" y="495360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27" name="Freeform: Shape 43"/>
            <p:cNvSpPr/>
            <p:nvPr/>
          </p:nvSpPr>
          <p:spPr>
            <a:xfrm>
              <a:off x="4112280" y="4987080"/>
              <a:ext cx="1348920" cy="142560"/>
            </a:xfrm>
            <a:custGeom>
              <a:avLst/>
              <a:gdLst/>
              <a:ahLst/>
              <a:rect l="l" t="t" r="r" b="b"/>
              <a:pathLst>
                <a:path w="1482685" h="156990">
                  <a:moveTo>
                    <a:pt x="0" y="78495"/>
                  </a:moveTo>
                  <a:cubicBezTo>
                    <a:pt x="17443" y="85472"/>
                    <a:pt x="41864" y="92450"/>
                    <a:pt x="50586" y="95939"/>
                  </a:cubicBezTo>
                  <a:cubicBezTo>
                    <a:pt x="104660" y="109893"/>
                    <a:pt x="163968" y="120359"/>
                    <a:pt x="219786" y="127336"/>
                  </a:cubicBezTo>
                  <a:cubicBezTo>
                    <a:pt x="390731" y="150013"/>
                    <a:pt x="568654" y="156990"/>
                    <a:pt x="741343" y="156990"/>
                  </a:cubicBezTo>
                  <a:cubicBezTo>
                    <a:pt x="914032" y="156990"/>
                    <a:pt x="1091955" y="150013"/>
                    <a:pt x="1262900" y="127336"/>
                  </a:cubicBezTo>
                  <a:cubicBezTo>
                    <a:pt x="1318719" y="120359"/>
                    <a:pt x="1376281" y="111637"/>
                    <a:pt x="1432100" y="95939"/>
                  </a:cubicBezTo>
                  <a:cubicBezTo>
                    <a:pt x="1440822" y="94194"/>
                    <a:pt x="1465243" y="85472"/>
                    <a:pt x="1482686" y="78495"/>
                  </a:cubicBezTo>
                  <a:cubicBezTo>
                    <a:pt x="1465243" y="71518"/>
                    <a:pt x="1440822" y="64540"/>
                    <a:pt x="1432100" y="61052"/>
                  </a:cubicBezTo>
                  <a:cubicBezTo>
                    <a:pt x="1378026" y="47097"/>
                    <a:pt x="1318719" y="36631"/>
                    <a:pt x="1262900" y="29654"/>
                  </a:cubicBezTo>
                  <a:cubicBezTo>
                    <a:pt x="1091955" y="6977"/>
                    <a:pt x="914032" y="0"/>
                    <a:pt x="741343" y="0"/>
                  </a:cubicBezTo>
                  <a:cubicBezTo>
                    <a:pt x="568654" y="0"/>
                    <a:pt x="390731" y="6977"/>
                    <a:pt x="219786" y="29654"/>
                  </a:cubicBezTo>
                  <a:cubicBezTo>
                    <a:pt x="163968" y="36631"/>
                    <a:pt x="106404" y="45353"/>
                    <a:pt x="50586" y="61052"/>
                  </a:cubicBezTo>
                  <a:cubicBezTo>
                    <a:pt x="40120" y="62796"/>
                    <a:pt x="17443" y="69773"/>
                    <a:pt x="0" y="7849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28" name="Freeform: Shape 44"/>
            <p:cNvSpPr/>
            <p:nvPr/>
          </p:nvSpPr>
          <p:spPr>
            <a:xfrm>
              <a:off x="4288320" y="5069520"/>
              <a:ext cx="993240" cy="60120"/>
            </a:xfrm>
            <a:custGeom>
              <a:avLst/>
              <a:gdLst/>
              <a:ahLst/>
              <a:rect l="l" t="t" r="r" b="b"/>
              <a:pathLst>
                <a:path w="1091954" h="66284">
                  <a:moveTo>
                    <a:pt x="1091955" y="33142"/>
                  </a:moveTo>
                  <a:cubicBezTo>
                    <a:pt x="1083233" y="31398"/>
                    <a:pt x="1074511" y="31398"/>
                    <a:pt x="1067534" y="29654"/>
                  </a:cubicBezTo>
                  <a:cubicBezTo>
                    <a:pt x="896589" y="6977"/>
                    <a:pt x="718667" y="0"/>
                    <a:pt x="545977" y="0"/>
                  </a:cubicBezTo>
                  <a:cubicBezTo>
                    <a:pt x="373288" y="0"/>
                    <a:pt x="195366" y="6977"/>
                    <a:pt x="24421" y="29654"/>
                  </a:cubicBezTo>
                  <a:cubicBezTo>
                    <a:pt x="15699" y="31398"/>
                    <a:pt x="8722" y="31398"/>
                    <a:pt x="0" y="33142"/>
                  </a:cubicBezTo>
                  <a:cubicBezTo>
                    <a:pt x="8722" y="34887"/>
                    <a:pt x="17443" y="34887"/>
                    <a:pt x="24421" y="36631"/>
                  </a:cubicBezTo>
                  <a:cubicBezTo>
                    <a:pt x="195366" y="59307"/>
                    <a:pt x="373288" y="66285"/>
                    <a:pt x="545977" y="66285"/>
                  </a:cubicBezTo>
                  <a:cubicBezTo>
                    <a:pt x="718667" y="66285"/>
                    <a:pt x="896589" y="59307"/>
                    <a:pt x="1067534" y="36631"/>
                  </a:cubicBezTo>
                  <a:cubicBezTo>
                    <a:pt x="1076256" y="34887"/>
                    <a:pt x="1084977" y="33142"/>
                    <a:pt x="1091955" y="33142"/>
                  </a:cubicBezTo>
                  <a:close/>
                </a:path>
              </a:pathLst>
            </a:custGeom>
            <a:solidFill>
              <a:srgbClr val="f9a51a"/>
            </a:solidFill>
            <a:ln w="0">
              <a:noFill/>
            </a:ln>
          </p:spPr>
          <p:style>
            <a:lnRef idx="0"/>
            <a:fillRef idx="0"/>
            <a:effectRef idx="0"/>
            <a:fontRef idx="minor"/>
          </p:style>
          <p:txBody>
            <a:bodyPr lIns="90000" rIns="90000" tIns="13320" bIns="13320" anchor="ctr">
              <a:noAutofit/>
            </a:bodyPr>
            <a:p>
              <a:endParaRPr b="0" lang="en-US" sz="1800" spc="-1" strike="noStrike">
                <a:solidFill>
                  <a:srgbClr val="313c3f"/>
                </a:solidFill>
                <a:latin typeface="Source Sans Pro"/>
              </a:endParaRPr>
            </a:p>
          </p:txBody>
        </p:sp>
        <p:sp>
          <p:nvSpPr>
            <p:cNvPr id="1229" name="Freeform: Shape 63"/>
            <p:cNvSpPr/>
            <p:nvPr/>
          </p:nvSpPr>
          <p:spPr>
            <a:xfrm>
              <a:off x="4874040" y="516312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8162" y="141291"/>
                    <a:pt x="167456" y="151757"/>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0" name="Freeform: Shape 64"/>
            <p:cNvSpPr/>
            <p:nvPr/>
          </p:nvSpPr>
          <p:spPr>
            <a:xfrm>
              <a:off x="1909440" y="416340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6417" y="139547"/>
                    <a:pt x="165712" y="150013"/>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1" name="Freeform: Shape 65"/>
            <p:cNvSpPr/>
            <p:nvPr/>
          </p:nvSpPr>
          <p:spPr>
            <a:xfrm>
              <a:off x="4217040" y="516312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8" y="8722"/>
                  </a:cubicBezTo>
                  <a:cubicBezTo>
                    <a:pt x="38375" y="6978"/>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2" name="Freeform: Shape 66"/>
            <p:cNvSpPr/>
            <p:nvPr/>
          </p:nvSpPr>
          <p:spPr>
            <a:xfrm>
              <a:off x="1251000" y="416340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7" y="8722"/>
                  </a:cubicBezTo>
                  <a:cubicBezTo>
                    <a:pt x="40120" y="5233"/>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3" name="Freeform: Shape 12"/>
            <p:cNvSpPr/>
            <p:nvPr/>
          </p:nvSpPr>
          <p:spPr>
            <a:xfrm>
              <a:off x="990360" y="2020320"/>
              <a:ext cx="846720" cy="2065320"/>
            </a:xfrm>
            <a:custGeom>
              <a:avLst/>
              <a:gdLst/>
              <a:ahLst/>
              <a:rect l="l" t="t" r="r" b="b"/>
              <a:pathLst>
                <a:path w="930921" h="2270750">
                  <a:moveTo>
                    <a:pt x="882791" y="27442"/>
                  </a:moveTo>
                  <a:lnTo>
                    <a:pt x="5389" y="2220074"/>
                  </a:lnTo>
                  <a:cubicBezTo>
                    <a:pt x="-15543" y="2277638"/>
                    <a:pt x="29810" y="2289848"/>
                    <a:pt x="50742" y="2237518"/>
                  </a:cubicBezTo>
                  <a:lnTo>
                    <a:pt x="78652" y="2160767"/>
                  </a:lnTo>
                  <a:lnTo>
                    <a:pt x="926399" y="46630"/>
                  </a:lnTo>
                  <a:cubicBezTo>
                    <a:pt x="945587" y="-3956"/>
                    <a:pt x="898490" y="-17910"/>
                    <a:pt x="882791"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234" name="Graphic 4"/>
          <p:cNvGrpSpPr/>
          <p:nvPr/>
        </p:nvGrpSpPr>
        <p:grpSpPr>
          <a:xfrm>
            <a:off x="4164120" y="4622760"/>
            <a:ext cx="1244520" cy="504720"/>
            <a:chOff x="4164120" y="4622760"/>
            <a:chExt cx="1244520" cy="504720"/>
          </a:xfrm>
        </p:grpSpPr>
        <p:sp>
          <p:nvSpPr>
            <p:cNvPr id="1235" name="Freeform: Shape 46"/>
            <p:cNvSpPr/>
            <p:nvPr/>
          </p:nvSpPr>
          <p:spPr>
            <a:xfrm>
              <a:off x="416412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32912"/>
                  </a:lnTo>
                  <a:cubicBezTo>
                    <a:pt x="192652" y="531168"/>
                    <a:pt x="176953" y="529423"/>
                    <a:pt x="161254" y="527679"/>
                  </a:cubicBezTo>
                  <a:cubicBezTo>
                    <a:pt x="152533" y="525935"/>
                    <a:pt x="142067" y="525935"/>
                    <a:pt x="133345" y="524190"/>
                  </a:cubicBezTo>
                  <a:lnTo>
                    <a:pt x="133345" y="372433"/>
                  </a:lnTo>
                  <a:lnTo>
                    <a:pt x="126368" y="372433"/>
                  </a:lnTo>
                  <a:lnTo>
                    <a:pt x="126368" y="522446"/>
                  </a:lnTo>
                  <a:cubicBezTo>
                    <a:pt x="101947" y="518957"/>
                    <a:pt x="75782" y="515469"/>
                    <a:pt x="51361" y="510235"/>
                  </a:cubicBezTo>
                  <a:lnTo>
                    <a:pt x="51361" y="372433"/>
                  </a:lnTo>
                  <a:lnTo>
                    <a:pt x="39151" y="372433"/>
                  </a:lnTo>
                  <a:lnTo>
                    <a:pt x="16474" y="372433"/>
                  </a:lnTo>
                  <a:lnTo>
                    <a:pt x="775" y="356734"/>
                  </a:lnTo>
                  <a:lnTo>
                    <a:pt x="775" y="204976"/>
                  </a:lnTo>
                  <a:cubicBezTo>
                    <a:pt x="775" y="192766"/>
                    <a:pt x="-969" y="178811"/>
                    <a:pt x="775" y="164857"/>
                  </a:cubicBezTo>
                  <a:cubicBezTo>
                    <a:pt x="775" y="159624"/>
                    <a:pt x="2520"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6" name="Freeform: Shape 47"/>
            <p:cNvSpPr/>
            <p:nvPr/>
          </p:nvSpPr>
          <p:spPr>
            <a:xfrm>
              <a:off x="4667400" y="4622760"/>
              <a:ext cx="237960" cy="504720"/>
            </a:xfrm>
            <a:custGeom>
              <a:avLst/>
              <a:gdLst/>
              <a:ahLst/>
              <a:rect l="l" t="t" r="r" b="b"/>
              <a:pathLst>
                <a:path w="261142" h="555588">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8"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55588"/>
                  </a:lnTo>
                  <a:cubicBezTo>
                    <a:pt x="183931" y="555588"/>
                    <a:pt x="157766" y="555588"/>
                    <a:pt x="133345" y="555588"/>
                  </a:cubicBezTo>
                  <a:lnTo>
                    <a:pt x="133345" y="372433"/>
                  </a:lnTo>
                  <a:lnTo>
                    <a:pt x="126367" y="372433"/>
                  </a:lnTo>
                  <a:lnTo>
                    <a:pt x="126367" y="555588"/>
                  </a:lnTo>
                  <a:cubicBezTo>
                    <a:pt x="101947" y="555588"/>
                    <a:pt x="75782" y="555588"/>
                    <a:pt x="51361" y="555588"/>
                  </a:cubicBezTo>
                  <a:lnTo>
                    <a:pt x="51361" y="372433"/>
                  </a:lnTo>
                  <a:lnTo>
                    <a:pt x="39151" y="372433"/>
                  </a:lnTo>
                  <a:lnTo>
                    <a:pt x="16474" y="372433"/>
                  </a:lnTo>
                  <a:lnTo>
                    <a:pt x="775" y="356734"/>
                  </a:lnTo>
                  <a:lnTo>
                    <a:pt x="775" y="204976"/>
                  </a:lnTo>
                  <a:cubicBezTo>
                    <a:pt x="775" y="192766"/>
                    <a:pt x="-969" y="178811"/>
                    <a:pt x="775" y="164857"/>
                  </a:cubicBezTo>
                  <a:cubicBezTo>
                    <a:pt x="775" y="159624"/>
                    <a:pt x="2519"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7" name="Freeform: Shape 48"/>
            <p:cNvSpPr/>
            <p:nvPr/>
          </p:nvSpPr>
          <p:spPr>
            <a:xfrm>
              <a:off x="517068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2" y="65429"/>
                    <a:pt x="208352" y="86362"/>
                  </a:cubicBezTo>
                  <a:cubicBezTo>
                    <a:pt x="208352" y="105549"/>
                    <a:pt x="199630" y="124737"/>
                    <a:pt x="185675" y="136947"/>
                  </a:cubicBezTo>
                  <a:lnTo>
                    <a:pt x="190908" y="136947"/>
                  </a:lnTo>
                  <a:lnTo>
                    <a:pt x="208352" y="136947"/>
                  </a:lnTo>
                  <a:cubicBezTo>
                    <a:pt x="215329" y="136947"/>
                    <a:pt x="220562" y="136947"/>
                    <a:pt x="227539" y="138692"/>
                  </a:cubicBezTo>
                  <a:cubicBezTo>
                    <a:pt x="231028" y="140436"/>
                    <a:pt x="232772" y="140436"/>
                    <a:pt x="236260" y="143925"/>
                  </a:cubicBezTo>
                  <a:lnTo>
                    <a:pt x="251960" y="159624"/>
                  </a:lnTo>
                  <a:cubicBezTo>
                    <a:pt x="264170" y="170090"/>
                    <a:pt x="260682" y="191022"/>
                    <a:pt x="260682" y="218931"/>
                  </a:cubicBezTo>
                  <a:lnTo>
                    <a:pt x="260682" y="370688"/>
                  </a:lnTo>
                  <a:lnTo>
                    <a:pt x="238005" y="370688"/>
                  </a:lnTo>
                  <a:lnTo>
                    <a:pt x="220562" y="370688"/>
                  </a:lnTo>
                  <a:lnTo>
                    <a:pt x="208352" y="360223"/>
                  </a:lnTo>
                  <a:lnTo>
                    <a:pt x="208352" y="365456"/>
                  </a:lnTo>
                  <a:lnTo>
                    <a:pt x="208352" y="372433"/>
                  </a:lnTo>
                  <a:lnTo>
                    <a:pt x="208352" y="510235"/>
                  </a:lnTo>
                  <a:cubicBezTo>
                    <a:pt x="183930" y="515469"/>
                    <a:pt x="157765" y="518957"/>
                    <a:pt x="133345" y="522446"/>
                  </a:cubicBezTo>
                  <a:lnTo>
                    <a:pt x="133345" y="372433"/>
                  </a:lnTo>
                  <a:lnTo>
                    <a:pt x="126368" y="372433"/>
                  </a:lnTo>
                  <a:lnTo>
                    <a:pt x="126368" y="524190"/>
                  </a:lnTo>
                  <a:cubicBezTo>
                    <a:pt x="117646" y="525935"/>
                    <a:pt x="107180" y="525935"/>
                    <a:pt x="98458" y="527679"/>
                  </a:cubicBezTo>
                  <a:cubicBezTo>
                    <a:pt x="82759" y="529423"/>
                    <a:pt x="67060" y="531168"/>
                    <a:pt x="51361" y="532912"/>
                  </a:cubicBezTo>
                  <a:lnTo>
                    <a:pt x="51361" y="372433"/>
                  </a:lnTo>
                  <a:lnTo>
                    <a:pt x="39151" y="372433"/>
                  </a:lnTo>
                  <a:lnTo>
                    <a:pt x="16475" y="372433"/>
                  </a:lnTo>
                  <a:lnTo>
                    <a:pt x="775" y="356734"/>
                  </a:lnTo>
                  <a:lnTo>
                    <a:pt x="775" y="204976"/>
                  </a:lnTo>
                  <a:cubicBezTo>
                    <a:pt x="775" y="192766"/>
                    <a:pt x="-969" y="178811"/>
                    <a:pt x="775" y="164857"/>
                  </a:cubicBezTo>
                  <a:cubicBezTo>
                    <a:pt x="775" y="159624"/>
                    <a:pt x="2520" y="154391"/>
                    <a:pt x="4264" y="149158"/>
                  </a:cubicBezTo>
                  <a:cubicBezTo>
                    <a:pt x="9497" y="140436"/>
                    <a:pt x="18218" y="138692"/>
                    <a:pt x="26940" y="136947"/>
                  </a:cubicBezTo>
                  <a:lnTo>
                    <a:pt x="33918" y="136947"/>
                  </a:lnTo>
                  <a:lnTo>
                    <a:pt x="51361" y="136947"/>
                  </a:lnTo>
                  <a:lnTo>
                    <a:pt x="89736" y="136947"/>
                  </a:lnTo>
                  <a:cubicBezTo>
                    <a:pt x="84504" y="131714"/>
                    <a:pt x="79270" y="126481"/>
                    <a:pt x="75782" y="122993"/>
                  </a:cubicBezTo>
                  <a:lnTo>
                    <a:pt x="75782" y="122993"/>
                  </a:lnTo>
                  <a:close/>
                  <a:moveTo>
                    <a:pt x="16475" y="218931"/>
                  </a:moveTo>
                  <a:cubicBezTo>
                    <a:pt x="16475" y="217187"/>
                    <a:pt x="16475" y="217187"/>
                    <a:pt x="16475" y="215443"/>
                  </a:cubicBezTo>
                  <a:lnTo>
                    <a:pt x="16475" y="218931"/>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8" name="Freeform: Shape 49"/>
            <p:cNvSpPr/>
            <p:nvPr/>
          </p:nvSpPr>
          <p:spPr>
            <a:xfrm>
              <a:off x="4178520" y="4637520"/>
              <a:ext cx="224640" cy="469080"/>
            </a:xfrm>
            <a:custGeom>
              <a:avLst/>
              <a:gdLst/>
              <a:ahLst/>
              <a:rect l="l" t="t" r="r" b="b"/>
              <a:pathLst>
                <a:path w="246823" h="516323">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3" y="354100"/>
                  </a:lnTo>
                  <a:lnTo>
                    <a:pt x="40556" y="354100"/>
                  </a:lnTo>
                  <a:lnTo>
                    <a:pt x="40556" y="238974"/>
                  </a:lnTo>
                  <a:cubicBezTo>
                    <a:pt x="40556" y="211065"/>
                    <a:pt x="37067" y="198854"/>
                    <a:pt x="52766" y="195366"/>
                  </a:cubicBezTo>
                  <a:lnTo>
                    <a:pt x="52766" y="347123"/>
                  </a:lnTo>
                  <a:lnTo>
                    <a:pt x="52766" y="354100"/>
                  </a:lnTo>
                  <a:lnTo>
                    <a:pt x="52766" y="495392"/>
                  </a:lnTo>
                  <a:cubicBezTo>
                    <a:pt x="71954" y="498880"/>
                    <a:pt x="91142" y="502369"/>
                    <a:pt x="112074" y="504113"/>
                  </a:cubicBezTo>
                  <a:lnTo>
                    <a:pt x="112074" y="355845"/>
                  </a:lnTo>
                  <a:lnTo>
                    <a:pt x="134750" y="355845"/>
                  </a:lnTo>
                  <a:lnTo>
                    <a:pt x="134750" y="509346"/>
                  </a:lnTo>
                  <a:lnTo>
                    <a:pt x="146960" y="511091"/>
                  </a:lnTo>
                  <a:cubicBezTo>
                    <a:pt x="162659" y="512835"/>
                    <a:pt x="178358" y="514580"/>
                    <a:pt x="194057" y="516324"/>
                  </a:cubicBezTo>
                  <a:lnTo>
                    <a:pt x="194057" y="355845"/>
                  </a:lnTo>
                  <a:lnTo>
                    <a:pt x="194057" y="348867"/>
                  </a:lnTo>
                  <a:lnTo>
                    <a:pt x="194057" y="197110"/>
                  </a:lnTo>
                  <a:cubicBezTo>
                    <a:pt x="208012" y="198854"/>
                    <a:pt x="206268" y="212809"/>
                    <a:pt x="206268" y="240718"/>
                  </a:cubicBezTo>
                  <a:lnTo>
                    <a:pt x="206268" y="355845"/>
                  </a:lnTo>
                  <a:lnTo>
                    <a:pt x="223711" y="355845"/>
                  </a:lnTo>
                  <a:lnTo>
                    <a:pt x="246387" y="355845"/>
                  </a:lnTo>
                  <a:lnTo>
                    <a:pt x="246387" y="204087"/>
                  </a:lnTo>
                  <a:cubicBezTo>
                    <a:pt x="246387"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39" name="Freeform: Shape 50"/>
            <p:cNvSpPr/>
            <p:nvPr/>
          </p:nvSpPr>
          <p:spPr>
            <a:xfrm>
              <a:off x="4682160" y="4637520"/>
              <a:ext cx="224640" cy="489960"/>
            </a:xfrm>
            <a:custGeom>
              <a:avLst/>
              <a:gdLst/>
              <a:ahLst/>
              <a:rect l="l" t="t" r="r" b="b"/>
              <a:pathLst>
                <a:path w="246823" h="539000">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37256"/>
                  </a:lnTo>
                  <a:cubicBezTo>
                    <a:pt x="71954" y="537256"/>
                    <a:pt x="91142" y="537256"/>
                    <a:pt x="112073" y="537256"/>
                  </a:cubicBezTo>
                  <a:lnTo>
                    <a:pt x="112073" y="355845"/>
                  </a:lnTo>
                  <a:lnTo>
                    <a:pt x="134750" y="355845"/>
                  </a:lnTo>
                  <a:lnTo>
                    <a:pt x="134750" y="539000"/>
                  </a:lnTo>
                  <a:cubicBezTo>
                    <a:pt x="153938" y="539000"/>
                    <a:pt x="173125" y="539000"/>
                    <a:pt x="194058" y="539000"/>
                  </a:cubicBezTo>
                  <a:lnTo>
                    <a:pt x="194058" y="355845"/>
                  </a:lnTo>
                  <a:lnTo>
                    <a:pt x="194058" y="348867"/>
                  </a:lnTo>
                  <a:lnTo>
                    <a:pt x="194058"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8" y="137803"/>
                  </a:lnTo>
                  <a:lnTo>
                    <a:pt x="146960" y="137803"/>
                  </a:lnTo>
                  <a:cubicBezTo>
                    <a:pt x="174870" y="129081"/>
                    <a:pt x="195802" y="102916"/>
                    <a:pt x="195802" y="71518"/>
                  </a:cubicBezTo>
                  <a:cubicBezTo>
                    <a:pt x="192313" y="31398"/>
                    <a:pt x="160915" y="0"/>
                    <a:pt x="122540" y="0"/>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0" name="Freeform: Shape 51"/>
            <p:cNvSpPr/>
            <p:nvPr/>
          </p:nvSpPr>
          <p:spPr>
            <a:xfrm>
              <a:off x="5185800" y="4637520"/>
              <a:ext cx="222840" cy="466200"/>
            </a:xfrm>
            <a:custGeom>
              <a:avLst/>
              <a:gdLst/>
              <a:ahLst/>
              <a:rect l="l" t="t" r="r" b="b"/>
              <a:pathLst>
                <a:path w="245079" h="512835">
                  <a:moveTo>
                    <a:pt x="122540" y="0"/>
                  </a:moveTo>
                  <a:cubicBezTo>
                    <a:pt x="84164" y="0"/>
                    <a:pt x="52766" y="31398"/>
                    <a:pt x="52766" y="69773"/>
                  </a:cubicBezTo>
                  <a:cubicBezTo>
                    <a:pt x="52766" y="101171"/>
                    <a:pt x="73698" y="127336"/>
                    <a:pt x="101607" y="136058"/>
                  </a:cubicBezTo>
                  <a:lnTo>
                    <a:pt x="52766" y="136058"/>
                  </a:lnTo>
                  <a:lnTo>
                    <a:pt x="35323" y="136058"/>
                  </a:lnTo>
                  <a:cubicBezTo>
                    <a:pt x="-6542"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12835"/>
                  </a:lnTo>
                  <a:cubicBezTo>
                    <a:pt x="63232" y="511091"/>
                    <a:pt x="73698" y="511091"/>
                    <a:pt x="82420" y="509346"/>
                  </a:cubicBezTo>
                  <a:cubicBezTo>
                    <a:pt x="91141" y="507602"/>
                    <a:pt x="101607" y="507602"/>
                    <a:pt x="110329" y="505858"/>
                  </a:cubicBezTo>
                  <a:lnTo>
                    <a:pt x="110329" y="355845"/>
                  </a:lnTo>
                  <a:lnTo>
                    <a:pt x="133005" y="355845"/>
                  </a:lnTo>
                  <a:lnTo>
                    <a:pt x="133005" y="504113"/>
                  </a:lnTo>
                  <a:cubicBezTo>
                    <a:pt x="152193" y="500625"/>
                    <a:pt x="171381" y="497136"/>
                    <a:pt x="192313" y="493647"/>
                  </a:cubicBezTo>
                  <a:lnTo>
                    <a:pt x="192313" y="355845"/>
                  </a:lnTo>
                  <a:lnTo>
                    <a:pt x="192313" y="348867"/>
                  </a:lnTo>
                  <a:lnTo>
                    <a:pt x="192313" y="197110"/>
                  </a:lnTo>
                  <a:cubicBezTo>
                    <a:pt x="206268" y="198854"/>
                    <a:pt x="204523" y="212809"/>
                    <a:pt x="204523" y="240718"/>
                  </a:cubicBezTo>
                  <a:lnTo>
                    <a:pt x="204523" y="355845"/>
                  </a:lnTo>
                  <a:lnTo>
                    <a:pt x="221967" y="355845"/>
                  </a:lnTo>
                  <a:lnTo>
                    <a:pt x="244643" y="355845"/>
                  </a:lnTo>
                  <a:lnTo>
                    <a:pt x="244643" y="204087"/>
                  </a:lnTo>
                  <a:cubicBezTo>
                    <a:pt x="244643" y="162223"/>
                    <a:pt x="251620" y="137803"/>
                    <a:pt x="209757" y="137803"/>
                  </a:cubicBezTo>
                  <a:lnTo>
                    <a:pt x="192313" y="137803"/>
                  </a:lnTo>
                  <a:lnTo>
                    <a:pt x="145216" y="137803"/>
                  </a:lnTo>
                  <a:cubicBezTo>
                    <a:pt x="173125" y="129081"/>
                    <a:pt x="194057" y="102916"/>
                    <a:pt x="194057" y="71518"/>
                  </a:cubicBezTo>
                  <a:cubicBezTo>
                    <a:pt x="192313" y="31398"/>
                    <a:pt x="160915" y="0"/>
                    <a:pt x="122540" y="0"/>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1" name="Freeform: Shape 52"/>
            <p:cNvSpPr/>
            <p:nvPr/>
          </p:nvSpPr>
          <p:spPr>
            <a:xfrm>
              <a:off x="4408560" y="4622760"/>
              <a:ext cx="260280" cy="504720"/>
            </a:xfrm>
            <a:custGeom>
              <a:avLst/>
              <a:gdLst/>
              <a:ahLst/>
              <a:rect l="l" t="t" r="r" b="b"/>
              <a:pathLst>
                <a:path w="286071" h="555353">
                  <a:moveTo>
                    <a:pt x="198855" y="33797"/>
                  </a:moveTo>
                  <a:lnTo>
                    <a:pt x="184900" y="19842"/>
                  </a:lnTo>
                  <a:cubicBezTo>
                    <a:pt x="172689" y="9376"/>
                    <a:pt x="162223" y="2399"/>
                    <a:pt x="146524" y="654"/>
                  </a:cubicBezTo>
                  <a:cubicBezTo>
                    <a:pt x="132570" y="-1090"/>
                    <a:pt x="122104" y="654"/>
                    <a:pt x="108149" y="5887"/>
                  </a:cubicBezTo>
                  <a:cubicBezTo>
                    <a:pt x="88961" y="14609"/>
                    <a:pt x="76751" y="26819"/>
                    <a:pt x="69773" y="46007"/>
                  </a:cubicBezTo>
                  <a:cubicBezTo>
                    <a:pt x="61052" y="72172"/>
                    <a:pt x="66285" y="100081"/>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0" y="457670"/>
                  </a:lnTo>
                  <a:lnTo>
                    <a:pt x="64540" y="544887"/>
                  </a:lnTo>
                  <a:cubicBezTo>
                    <a:pt x="88961" y="546632"/>
                    <a:pt x="113382" y="548376"/>
                    <a:pt x="137803" y="550120"/>
                  </a:cubicBezTo>
                  <a:lnTo>
                    <a:pt x="137803" y="459415"/>
                  </a:lnTo>
                  <a:lnTo>
                    <a:pt x="146524" y="459415"/>
                  </a:lnTo>
                  <a:lnTo>
                    <a:pt x="146524" y="551865"/>
                  </a:lnTo>
                  <a:cubicBezTo>
                    <a:pt x="170945" y="553609"/>
                    <a:pt x="195366" y="553609"/>
                    <a:pt x="219787" y="555353"/>
                  </a:cubicBezTo>
                  <a:lnTo>
                    <a:pt x="219787" y="461159"/>
                  </a:lnTo>
                  <a:lnTo>
                    <a:pt x="254673" y="461159"/>
                  </a:lnTo>
                  <a:lnTo>
                    <a:pt x="231997" y="353010"/>
                  </a:lnTo>
                  <a:lnTo>
                    <a:pt x="245952" y="366965"/>
                  </a:lnTo>
                  <a:lnTo>
                    <a:pt x="263395" y="363476"/>
                  </a:lnTo>
                  <a:lnTo>
                    <a:pt x="286071" y="358243"/>
                  </a:lnTo>
                  <a:lnTo>
                    <a:pt x="256417" y="208230"/>
                  </a:lnTo>
                  <a:cubicBezTo>
                    <a:pt x="252929" y="190787"/>
                    <a:pt x="245952" y="176832"/>
                    <a:pt x="237230" y="168111"/>
                  </a:cubicBezTo>
                  <a:lnTo>
                    <a:pt x="223275" y="154156"/>
                  </a:lnTo>
                  <a:cubicBezTo>
                    <a:pt x="214553" y="147179"/>
                    <a:pt x="207576" y="143690"/>
                    <a:pt x="197110" y="140201"/>
                  </a:cubicBezTo>
                  <a:lnTo>
                    <a:pt x="197110" y="140201"/>
                  </a:lnTo>
                  <a:cubicBezTo>
                    <a:pt x="212809" y="127991"/>
                    <a:pt x="221531" y="108803"/>
                    <a:pt x="221531" y="86127"/>
                  </a:cubicBezTo>
                  <a:cubicBezTo>
                    <a:pt x="219787" y="63450"/>
                    <a:pt x="212809" y="46007"/>
                    <a:pt x="198855" y="33797"/>
                  </a:cubicBezTo>
                  <a:lnTo>
                    <a:pt x="198855" y="33797"/>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2" name="Freeform: Shape 53"/>
            <p:cNvSpPr/>
            <p:nvPr/>
          </p:nvSpPr>
          <p:spPr>
            <a:xfrm>
              <a:off x="4911840" y="4622760"/>
              <a:ext cx="260280" cy="501840"/>
            </a:xfrm>
            <a:custGeom>
              <a:avLst/>
              <a:gdLst/>
              <a:ahLst/>
              <a:rect l="l" t="t" r="r" b="b"/>
              <a:pathLst>
                <a:path w="286071" h="551864">
                  <a:moveTo>
                    <a:pt x="198854" y="33797"/>
                  </a:moveTo>
                  <a:lnTo>
                    <a:pt x="184900" y="19842"/>
                  </a:lnTo>
                  <a:cubicBezTo>
                    <a:pt x="172689" y="9376"/>
                    <a:pt x="162224" y="2399"/>
                    <a:pt x="146524" y="654"/>
                  </a:cubicBezTo>
                  <a:cubicBezTo>
                    <a:pt x="132570" y="-1090"/>
                    <a:pt x="122104" y="654"/>
                    <a:pt x="108149" y="5887"/>
                  </a:cubicBezTo>
                  <a:cubicBezTo>
                    <a:pt x="88961" y="14609"/>
                    <a:pt x="76751" y="26819"/>
                    <a:pt x="69773" y="46007"/>
                  </a:cubicBezTo>
                  <a:cubicBezTo>
                    <a:pt x="61052" y="72172"/>
                    <a:pt x="66285" y="100081"/>
                    <a:pt x="85472"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1" y="457670"/>
                  </a:lnTo>
                  <a:lnTo>
                    <a:pt x="64541" y="551865"/>
                  </a:lnTo>
                  <a:cubicBezTo>
                    <a:pt x="88961" y="550120"/>
                    <a:pt x="113382" y="550120"/>
                    <a:pt x="137802" y="548376"/>
                  </a:cubicBezTo>
                  <a:lnTo>
                    <a:pt x="137802" y="457670"/>
                  </a:lnTo>
                  <a:lnTo>
                    <a:pt x="146524" y="457670"/>
                  </a:lnTo>
                  <a:lnTo>
                    <a:pt x="146524" y="548376"/>
                  </a:lnTo>
                  <a:cubicBezTo>
                    <a:pt x="170945" y="546632"/>
                    <a:pt x="195366" y="544887"/>
                    <a:pt x="219787" y="543143"/>
                  </a:cubicBezTo>
                  <a:lnTo>
                    <a:pt x="219787" y="457670"/>
                  </a:lnTo>
                  <a:lnTo>
                    <a:pt x="254673" y="457670"/>
                  </a:lnTo>
                  <a:lnTo>
                    <a:pt x="231997" y="349522"/>
                  </a:lnTo>
                  <a:lnTo>
                    <a:pt x="245952" y="363476"/>
                  </a:lnTo>
                  <a:lnTo>
                    <a:pt x="263395" y="359988"/>
                  </a:lnTo>
                  <a:lnTo>
                    <a:pt x="286071" y="354755"/>
                  </a:lnTo>
                  <a:lnTo>
                    <a:pt x="256418" y="204741"/>
                  </a:lnTo>
                  <a:cubicBezTo>
                    <a:pt x="252929" y="187298"/>
                    <a:pt x="245952" y="173344"/>
                    <a:pt x="237230" y="164622"/>
                  </a:cubicBezTo>
                  <a:lnTo>
                    <a:pt x="223275" y="150667"/>
                  </a:lnTo>
                  <a:cubicBezTo>
                    <a:pt x="214554" y="143690"/>
                    <a:pt x="207576" y="140201"/>
                    <a:pt x="197110" y="136712"/>
                  </a:cubicBezTo>
                  <a:lnTo>
                    <a:pt x="197110" y="136712"/>
                  </a:lnTo>
                  <a:cubicBezTo>
                    <a:pt x="212809" y="124502"/>
                    <a:pt x="221531" y="105314"/>
                    <a:pt x="221531" y="82638"/>
                  </a:cubicBezTo>
                  <a:cubicBezTo>
                    <a:pt x="219787" y="63450"/>
                    <a:pt x="211065" y="46007"/>
                    <a:pt x="198854" y="33797"/>
                  </a:cubicBezTo>
                  <a:lnTo>
                    <a:pt x="198854" y="33797"/>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3" name="Freeform: Shape 54"/>
            <p:cNvSpPr/>
            <p:nvPr/>
          </p:nvSpPr>
          <p:spPr>
            <a:xfrm>
              <a:off x="4421880" y="4634640"/>
              <a:ext cx="249120" cy="491400"/>
            </a:xfrm>
            <a:custGeom>
              <a:avLst/>
              <a:gdLst/>
              <a:ahLst/>
              <a:rect l="l" t="t" r="r" b="b"/>
              <a:pathLst>
                <a:path w="273860" h="540744">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33767"/>
                  </a:lnTo>
                  <a:cubicBezTo>
                    <a:pt x="85472" y="535512"/>
                    <a:pt x="104660" y="535512"/>
                    <a:pt x="125592" y="537256"/>
                  </a:cubicBezTo>
                  <a:lnTo>
                    <a:pt x="125592" y="446550"/>
                  </a:lnTo>
                  <a:lnTo>
                    <a:pt x="136058" y="446550"/>
                  </a:lnTo>
                  <a:lnTo>
                    <a:pt x="146524" y="446550"/>
                  </a:lnTo>
                  <a:lnTo>
                    <a:pt x="148269" y="446550"/>
                  </a:lnTo>
                  <a:lnTo>
                    <a:pt x="148269" y="539000"/>
                  </a:lnTo>
                  <a:cubicBezTo>
                    <a:pt x="167456" y="540745"/>
                    <a:pt x="186644" y="540745"/>
                    <a:pt x="207576" y="540745"/>
                  </a:cubicBezTo>
                  <a:lnTo>
                    <a:pt x="207576" y="446550"/>
                  </a:lnTo>
                  <a:lnTo>
                    <a:pt x="242463" y="446550"/>
                  </a:lnTo>
                  <a:lnTo>
                    <a:pt x="191877" y="198855"/>
                  </a:lnTo>
                  <a:cubicBezTo>
                    <a:pt x="205831" y="198855"/>
                    <a:pt x="205831" y="212809"/>
                    <a:pt x="211065" y="238974"/>
                  </a:cubicBezTo>
                  <a:lnTo>
                    <a:pt x="233741" y="350612"/>
                  </a:lnTo>
                  <a:lnTo>
                    <a:pt x="251184" y="347123"/>
                  </a:lnTo>
                  <a:lnTo>
                    <a:pt x="273861" y="341890"/>
                  </a:lnTo>
                  <a:lnTo>
                    <a:pt x="244207" y="191877"/>
                  </a:lnTo>
                  <a:cubicBezTo>
                    <a:pt x="237230" y="153502"/>
                    <a:pt x="216298" y="136058"/>
                    <a:pt x="181411" y="136058"/>
                  </a:cubicBezTo>
                  <a:lnTo>
                    <a:pt x="179666" y="136058"/>
                  </a:lnTo>
                  <a:lnTo>
                    <a:pt x="160479" y="136058"/>
                  </a:lnTo>
                  <a:cubicBezTo>
                    <a:pt x="188388" y="127337"/>
                    <a:pt x="209320" y="101172"/>
                    <a:pt x="209320" y="69773"/>
                  </a:cubicBezTo>
                  <a:cubicBezTo>
                    <a:pt x="204087" y="31398"/>
                    <a:pt x="172689" y="0"/>
                    <a:pt x="134314" y="0"/>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4" name="Freeform: Shape 55"/>
            <p:cNvSpPr/>
            <p:nvPr/>
          </p:nvSpPr>
          <p:spPr>
            <a:xfrm>
              <a:off x="4925520" y="4634640"/>
              <a:ext cx="249120" cy="491400"/>
            </a:xfrm>
            <a:custGeom>
              <a:avLst/>
              <a:gdLst/>
              <a:ahLst/>
              <a:rect l="l" t="t" r="r" b="b"/>
              <a:pathLst>
                <a:path w="273860" h="540744">
                  <a:moveTo>
                    <a:pt x="134314" y="0"/>
                  </a:moveTo>
                  <a:cubicBezTo>
                    <a:pt x="95938" y="0"/>
                    <a:pt x="64540" y="31398"/>
                    <a:pt x="64540" y="69773"/>
                  </a:cubicBezTo>
                  <a:cubicBezTo>
                    <a:pt x="64540" y="101172"/>
                    <a:pt x="85473"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40745"/>
                  </a:lnTo>
                  <a:cubicBezTo>
                    <a:pt x="85473" y="540745"/>
                    <a:pt x="104660" y="539000"/>
                    <a:pt x="125592" y="537256"/>
                  </a:cubicBezTo>
                  <a:lnTo>
                    <a:pt x="125592" y="446550"/>
                  </a:lnTo>
                  <a:lnTo>
                    <a:pt x="136058" y="446550"/>
                  </a:lnTo>
                  <a:lnTo>
                    <a:pt x="146524" y="446550"/>
                  </a:lnTo>
                  <a:lnTo>
                    <a:pt x="148268" y="446550"/>
                  </a:lnTo>
                  <a:lnTo>
                    <a:pt x="148268" y="537256"/>
                  </a:lnTo>
                  <a:cubicBezTo>
                    <a:pt x="167456" y="535512"/>
                    <a:pt x="186644" y="535512"/>
                    <a:pt x="207576" y="533767"/>
                  </a:cubicBezTo>
                  <a:lnTo>
                    <a:pt x="207576" y="448295"/>
                  </a:lnTo>
                  <a:lnTo>
                    <a:pt x="242463" y="448295"/>
                  </a:lnTo>
                  <a:lnTo>
                    <a:pt x="191877" y="200599"/>
                  </a:lnTo>
                  <a:cubicBezTo>
                    <a:pt x="205832" y="200599"/>
                    <a:pt x="205832" y="214554"/>
                    <a:pt x="211065" y="240719"/>
                  </a:cubicBezTo>
                  <a:lnTo>
                    <a:pt x="233741" y="352356"/>
                  </a:lnTo>
                  <a:lnTo>
                    <a:pt x="251185" y="348867"/>
                  </a:lnTo>
                  <a:lnTo>
                    <a:pt x="273861" y="343635"/>
                  </a:lnTo>
                  <a:lnTo>
                    <a:pt x="244207" y="193622"/>
                  </a:lnTo>
                  <a:cubicBezTo>
                    <a:pt x="237230" y="155246"/>
                    <a:pt x="216298" y="137803"/>
                    <a:pt x="181411" y="137803"/>
                  </a:cubicBezTo>
                  <a:lnTo>
                    <a:pt x="179667" y="137803"/>
                  </a:lnTo>
                  <a:lnTo>
                    <a:pt x="160479" y="137803"/>
                  </a:lnTo>
                  <a:cubicBezTo>
                    <a:pt x="188388" y="129081"/>
                    <a:pt x="209320" y="102916"/>
                    <a:pt x="209320" y="71518"/>
                  </a:cubicBezTo>
                  <a:cubicBezTo>
                    <a:pt x="204087" y="31398"/>
                    <a:pt x="172689" y="0"/>
                    <a:pt x="134314" y="0"/>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245" name="Graphic 4"/>
          <p:cNvGrpSpPr/>
          <p:nvPr/>
        </p:nvGrpSpPr>
        <p:grpSpPr>
          <a:xfrm>
            <a:off x="1444680" y="3649680"/>
            <a:ext cx="741240" cy="463680"/>
            <a:chOff x="1444680" y="3649680"/>
            <a:chExt cx="741240" cy="463680"/>
          </a:xfrm>
        </p:grpSpPr>
        <p:sp>
          <p:nvSpPr>
            <p:cNvPr id="1246" name="Freeform: Shape 57"/>
            <p:cNvSpPr/>
            <p:nvPr/>
          </p:nvSpPr>
          <p:spPr>
            <a:xfrm>
              <a:off x="144468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506747"/>
                  </a:lnTo>
                  <a:cubicBezTo>
                    <a:pt x="183931" y="505003"/>
                    <a:pt x="157766" y="505003"/>
                    <a:pt x="133345" y="503258"/>
                  </a:cubicBezTo>
                  <a:lnTo>
                    <a:pt x="133345" y="372433"/>
                  </a:lnTo>
                  <a:lnTo>
                    <a:pt x="126367" y="372433"/>
                  </a:lnTo>
                  <a:lnTo>
                    <a:pt x="126367" y="503258"/>
                  </a:lnTo>
                  <a:cubicBezTo>
                    <a:pt x="101947" y="501514"/>
                    <a:pt x="75782" y="499770"/>
                    <a:pt x="51361" y="498025"/>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6474" y="218931"/>
                  </a:moveTo>
                  <a:cubicBezTo>
                    <a:pt x="16474" y="217187"/>
                    <a:pt x="16474" y="217187"/>
                    <a:pt x="16474" y="215442"/>
                  </a:cubicBezTo>
                  <a:lnTo>
                    <a:pt x="16474" y="218931"/>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7" name="Freeform: Shape 58"/>
            <p:cNvSpPr/>
            <p:nvPr/>
          </p:nvSpPr>
          <p:spPr>
            <a:xfrm>
              <a:off x="194616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498025"/>
                  </a:lnTo>
                  <a:cubicBezTo>
                    <a:pt x="183931" y="499770"/>
                    <a:pt x="157766" y="501514"/>
                    <a:pt x="133345" y="503258"/>
                  </a:cubicBezTo>
                  <a:lnTo>
                    <a:pt x="133345" y="372433"/>
                  </a:lnTo>
                  <a:lnTo>
                    <a:pt x="126368" y="372433"/>
                  </a:lnTo>
                  <a:lnTo>
                    <a:pt x="126368" y="503258"/>
                  </a:lnTo>
                  <a:cubicBezTo>
                    <a:pt x="101947" y="505003"/>
                    <a:pt x="75782" y="505003"/>
                    <a:pt x="51361" y="506747"/>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8219" y="218931"/>
                  </a:moveTo>
                  <a:cubicBezTo>
                    <a:pt x="18219" y="217187"/>
                    <a:pt x="18219" y="217187"/>
                    <a:pt x="18219" y="215442"/>
                  </a:cubicBezTo>
                  <a:lnTo>
                    <a:pt x="18219" y="218931"/>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8" name="Freeform: Shape 59"/>
            <p:cNvSpPr/>
            <p:nvPr/>
          </p:nvSpPr>
          <p:spPr>
            <a:xfrm>
              <a:off x="145908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2" y="354101"/>
                  </a:lnTo>
                  <a:lnTo>
                    <a:pt x="40556" y="354101"/>
                  </a:lnTo>
                  <a:lnTo>
                    <a:pt x="40556" y="238974"/>
                  </a:lnTo>
                  <a:cubicBezTo>
                    <a:pt x="40556" y="211065"/>
                    <a:pt x="37067" y="198854"/>
                    <a:pt x="52766" y="195366"/>
                  </a:cubicBezTo>
                  <a:lnTo>
                    <a:pt x="52766" y="347123"/>
                  </a:lnTo>
                  <a:lnTo>
                    <a:pt x="52766" y="354101"/>
                  </a:lnTo>
                  <a:lnTo>
                    <a:pt x="52766" y="481437"/>
                  </a:lnTo>
                  <a:cubicBezTo>
                    <a:pt x="71954" y="483181"/>
                    <a:pt x="91142" y="483181"/>
                    <a:pt x="112074" y="484926"/>
                  </a:cubicBezTo>
                  <a:lnTo>
                    <a:pt x="112074" y="354101"/>
                  </a:lnTo>
                  <a:lnTo>
                    <a:pt x="134750" y="354101"/>
                  </a:lnTo>
                  <a:lnTo>
                    <a:pt x="134750" y="486670"/>
                  </a:lnTo>
                  <a:cubicBezTo>
                    <a:pt x="153938" y="488414"/>
                    <a:pt x="173125" y="488414"/>
                    <a:pt x="194057" y="488414"/>
                  </a:cubicBezTo>
                  <a:lnTo>
                    <a:pt x="194057" y="354101"/>
                  </a:lnTo>
                  <a:lnTo>
                    <a:pt x="194057" y="347123"/>
                  </a:lnTo>
                  <a:lnTo>
                    <a:pt x="194057" y="195366"/>
                  </a:lnTo>
                  <a:cubicBezTo>
                    <a:pt x="208012" y="197110"/>
                    <a:pt x="206268" y="211065"/>
                    <a:pt x="206268" y="238974"/>
                  </a:cubicBezTo>
                  <a:lnTo>
                    <a:pt x="206268" y="354101"/>
                  </a:lnTo>
                  <a:lnTo>
                    <a:pt x="223711" y="354101"/>
                  </a:lnTo>
                  <a:lnTo>
                    <a:pt x="246388" y="354101"/>
                  </a:lnTo>
                  <a:lnTo>
                    <a:pt x="246388" y="202343"/>
                  </a:lnTo>
                  <a:cubicBezTo>
                    <a:pt x="246388" y="160479"/>
                    <a:pt x="253365" y="136058"/>
                    <a:pt x="211501" y="136058"/>
                  </a:cubicBezTo>
                  <a:lnTo>
                    <a:pt x="194057" y="136058"/>
                  </a:lnTo>
                  <a:lnTo>
                    <a:pt x="146960" y="136058"/>
                  </a:lnTo>
                  <a:cubicBezTo>
                    <a:pt x="174870" y="127337"/>
                    <a:pt x="195802" y="101171"/>
                    <a:pt x="195802" y="69773"/>
                  </a:cubicBezTo>
                  <a:cubicBezTo>
                    <a:pt x="192313" y="31398"/>
                    <a:pt x="160915" y="0"/>
                    <a:pt x="122540" y="0"/>
                  </a:cubicBez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49" name="Freeform: Shape 60"/>
            <p:cNvSpPr/>
            <p:nvPr/>
          </p:nvSpPr>
          <p:spPr>
            <a:xfrm>
              <a:off x="196164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3" y="354101"/>
                  </a:lnTo>
                  <a:lnTo>
                    <a:pt x="40556" y="354101"/>
                  </a:lnTo>
                  <a:lnTo>
                    <a:pt x="40556" y="238974"/>
                  </a:lnTo>
                  <a:cubicBezTo>
                    <a:pt x="40556" y="211065"/>
                    <a:pt x="37067" y="198854"/>
                    <a:pt x="52766" y="195366"/>
                  </a:cubicBezTo>
                  <a:lnTo>
                    <a:pt x="52766" y="347123"/>
                  </a:lnTo>
                  <a:lnTo>
                    <a:pt x="52766" y="354101"/>
                  </a:lnTo>
                  <a:lnTo>
                    <a:pt x="52766" y="488414"/>
                  </a:lnTo>
                  <a:cubicBezTo>
                    <a:pt x="71954" y="488414"/>
                    <a:pt x="91142" y="486670"/>
                    <a:pt x="112074" y="484926"/>
                  </a:cubicBezTo>
                  <a:lnTo>
                    <a:pt x="112074" y="354101"/>
                  </a:lnTo>
                  <a:lnTo>
                    <a:pt x="134750" y="354101"/>
                  </a:lnTo>
                  <a:lnTo>
                    <a:pt x="134750" y="484926"/>
                  </a:lnTo>
                  <a:cubicBezTo>
                    <a:pt x="153938" y="483181"/>
                    <a:pt x="173125" y="483181"/>
                    <a:pt x="194057" y="481437"/>
                  </a:cubicBezTo>
                  <a:lnTo>
                    <a:pt x="194057" y="355845"/>
                  </a:lnTo>
                  <a:lnTo>
                    <a:pt x="194057" y="348867"/>
                  </a:lnTo>
                  <a:lnTo>
                    <a:pt x="194057"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50" name="Freeform: Shape 61"/>
            <p:cNvSpPr/>
            <p:nvPr/>
          </p:nvSpPr>
          <p:spPr>
            <a:xfrm>
              <a:off x="1687320" y="3649680"/>
              <a:ext cx="260280" cy="462240"/>
            </a:xfrm>
            <a:custGeom>
              <a:avLst/>
              <a:gdLst/>
              <a:ahLst/>
              <a:rect l="l" t="t" r="r" b="b"/>
              <a:pathLst>
                <a:path w="286071" h="508256">
                  <a:moveTo>
                    <a:pt x="198854" y="33797"/>
                  </a:moveTo>
                  <a:lnTo>
                    <a:pt x="184900" y="19842"/>
                  </a:lnTo>
                  <a:cubicBezTo>
                    <a:pt x="172689" y="9376"/>
                    <a:pt x="162223" y="2398"/>
                    <a:pt x="146524" y="654"/>
                  </a:cubicBezTo>
                  <a:cubicBezTo>
                    <a:pt x="132570" y="-1090"/>
                    <a:pt x="122104" y="654"/>
                    <a:pt x="108149" y="5887"/>
                  </a:cubicBezTo>
                  <a:cubicBezTo>
                    <a:pt x="88961" y="14609"/>
                    <a:pt x="76751" y="26819"/>
                    <a:pt x="69773" y="46007"/>
                  </a:cubicBezTo>
                  <a:cubicBezTo>
                    <a:pt x="61052" y="72172"/>
                    <a:pt x="66285" y="98337"/>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2" y="178576"/>
                    <a:pt x="29654" y="192531"/>
                  </a:cubicBezTo>
                  <a:lnTo>
                    <a:pt x="0" y="340800"/>
                  </a:lnTo>
                  <a:lnTo>
                    <a:pt x="13955" y="354755"/>
                  </a:lnTo>
                  <a:lnTo>
                    <a:pt x="36631" y="359988"/>
                  </a:lnTo>
                  <a:lnTo>
                    <a:pt x="47097" y="359988"/>
                  </a:lnTo>
                  <a:lnTo>
                    <a:pt x="29654" y="441971"/>
                  </a:lnTo>
                  <a:lnTo>
                    <a:pt x="43608" y="455926"/>
                  </a:lnTo>
                  <a:lnTo>
                    <a:pt x="64540" y="455926"/>
                  </a:lnTo>
                  <a:lnTo>
                    <a:pt x="64540" y="508256"/>
                  </a:lnTo>
                  <a:cubicBezTo>
                    <a:pt x="88961" y="508256"/>
                    <a:pt x="113382" y="508256"/>
                    <a:pt x="137803" y="508256"/>
                  </a:cubicBezTo>
                  <a:lnTo>
                    <a:pt x="137803" y="455926"/>
                  </a:lnTo>
                  <a:lnTo>
                    <a:pt x="146524" y="455926"/>
                  </a:lnTo>
                  <a:lnTo>
                    <a:pt x="146524" y="508256"/>
                  </a:lnTo>
                  <a:cubicBezTo>
                    <a:pt x="170945" y="508256"/>
                    <a:pt x="195366" y="508256"/>
                    <a:pt x="219786" y="508256"/>
                  </a:cubicBezTo>
                  <a:lnTo>
                    <a:pt x="219786" y="455926"/>
                  </a:lnTo>
                  <a:lnTo>
                    <a:pt x="254673" y="455926"/>
                  </a:lnTo>
                  <a:lnTo>
                    <a:pt x="231997" y="347777"/>
                  </a:lnTo>
                  <a:lnTo>
                    <a:pt x="245951" y="361732"/>
                  </a:lnTo>
                  <a:lnTo>
                    <a:pt x="263395" y="358243"/>
                  </a:lnTo>
                  <a:lnTo>
                    <a:pt x="286071" y="353010"/>
                  </a:lnTo>
                  <a:lnTo>
                    <a:pt x="256417" y="204742"/>
                  </a:lnTo>
                  <a:cubicBezTo>
                    <a:pt x="252929" y="187298"/>
                    <a:pt x="245951" y="173344"/>
                    <a:pt x="237230" y="164622"/>
                  </a:cubicBezTo>
                  <a:lnTo>
                    <a:pt x="223275" y="150667"/>
                  </a:lnTo>
                  <a:cubicBezTo>
                    <a:pt x="214553" y="143690"/>
                    <a:pt x="207576" y="140201"/>
                    <a:pt x="197110" y="136712"/>
                  </a:cubicBezTo>
                  <a:lnTo>
                    <a:pt x="197110" y="136712"/>
                  </a:lnTo>
                  <a:cubicBezTo>
                    <a:pt x="212809" y="124502"/>
                    <a:pt x="221531" y="105314"/>
                    <a:pt x="221531" y="82638"/>
                  </a:cubicBezTo>
                  <a:cubicBezTo>
                    <a:pt x="219786" y="63450"/>
                    <a:pt x="211065" y="46007"/>
                    <a:pt x="198854" y="33797"/>
                  </a:cubicBezTo>
                  <a:lnTo>
                    <a:pt x="198854" y="33797"/>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51" name="Freeform: Shape 62"/>
            <p:cNvSpPr/>
            <p:nvPr/>
          </p:nvSpPr>
          <p:spPr>
            <a:xfrm>
              <a:off x="1702080" y="3661560"/>
              <a:ext cx="248760" cy="451800"/>
            </a:xfrm>
            <a:custGeom>
              <a:avLst/>
              <a:gdLst/>
              <a:ahLst/>
              <a:rect l="l" t="t" r="r" b="b"/>
              <a:pathLst>
                <a:path w="273860" h="497136">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0146"/>
                  </a:lnTo>
                  <a:lnTo>
                    <a:pt x="22676" y="345379"/>
                  </a:lnTo>
                  <a:lnTo>
                    <a:pt x="40120" y="348868"/>
                  </a:lnTo>
                  <a:lnTo>
                    <a:pt x="62796" y="237230"/>
                  </a:lnTo>
                  <a:cubicBezTo>
                    <a:pt x="68029" y="211065"/>
                    <a:pt x="68029" y="197110"/>
                    <a:pt x="81984" y="197110"/>
                  </a:cubicBezTo>
                  <a:lnTo>
                    <a:pt x="31398" y="444806"/>
                  </a:lnTo>
                  <a:lnTo>
                    <a:pt x="66285" y="444806"/>
                  </a:lnTo>
                  <a:lnTo>
                    <a:pt x="66285" y="497136"/>
                  </a:lnTo>
                  <a:cubicBezTo>
                    <a:pt x="85472" y="497136"/>
                    <a:pt x="104660" y="497136"/>
                    <a:pt x="125592" y="497136"/>
                  </a:cubicBezTo>
                  <a:lnTo>
                    <a:pt x="125592" y="444806"/>
                  </a:lnTo>
                  <a:lnTo>
                    <a:pt x="136058" y="444806"/>
                  </a:lnTo>
                  <a:lnTo>
                    <a:pt x="146524" y="444806"/>
                  </a:lnTo>
                  <a:lnTo>
                    <a:pt x="148269" y="444806"/>
                  </a:lnTo>
                  <a:lnTo>
                    <a:pt x="148269" y="497136"/>
                  </a:lnTo>
                  <a:cubicBezTo>
                    <a:pt x="167456" y="497136"/>
                    <a:pt x="186644" y="497136"/>
                    <a:pt x="207576" y="497136"/>
                  </a:cubicBezTo>
                  <a:lnTo>
                    <a:pt x="207576" y="444806"/>
                  </a:lnTo>
                  <a:lnTo>
                    <a:pt x="242463" y="444806"/>
                  </a:lnTo>
                  <a:lnTo>
                    <a:pt x="191877" y="197110"/>
                  </a:lnTo>
                  <a:cubicBezTo>
                    <a:pt x="205832" y="197110"/>
                    <a:pt x="205832" y="211065"/>
                    <a:pt x="211065" y="237230"/>
                  </a:cubicBezTo>
                  <a:lnTo>
                    <a:pt x="233741" y="348868"/>
                  </a:lnTo>
                  <a:lnTo>
                    <a:pt x="251184" y="345379"/>
                  </a:lnTo>
                  <a:lnTo>
                    <a:pt x="273861" y="340146"/>
                  </a:lnTo>
                  <a:lnTo>
                    <a:pt x="244207" y="191877"/>
                  </a:lnTo>
                  <a:cubicBezTo>
                    <a:pt x="237230" y="153502"/>
                    <a:pt x="216298" y="136058"/>
                    <a:pt x="181411" y="136058"/>
                  </a:cubicBezTo>
                  <a:lnTo>
                    <a:pt x="179667" y="136058"/>
                  </a:lnTo>
                  <a:lnTo>
                    <a:pt x="160479" y="136058"/>
                  </a:lnTo>
                  <a:cubicBezTo>
                    <a:pt x="188388" y="127337"/>
                    <a:pt x="209320" y="101172"/>
                    <a:pt x="209320" y="69773"/>
                  </a:cubicBezTo>
                  <a:cubicBezTo>
                    <a:pt x="204087" y="31398"/>
                    <a:pt x="172689" y="0"/>
                    <a:pt x="134314" y="0"/>
                  </a:cubicBez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252" name="Straight Connector 148"/>
          <p:cNvSpPr/>
          <p:nvPr/>
        </p:nvSpPr>
        <p:spPr>
          <a:xfrm>
            <a:off x="6478560" y="389268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253" name="Rectangle 153"/>
          <p:cNvSpPr/>
          <p:nvPr/>
        </p:nvSpPr>
        <p:spPr>
          <a:xfrm>
            <a:off x="6478560" y="2301840"/>
            <a:ext cx="435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whole smil</a:t>
            </a:r>
            <a:endParaRPr b="0" lang="en-US" sz="1200" spc="-1" strike="noStrike">
              <a:solidFill>
                <a:srgbClr val="313c3f"/>
              </a:solidFill>
              <a:latin typeface="Source Sans Pro"/>
            </a:endParaRPr>
          </a:p>
        </p:txBody>
      </p:sp>
      <p:sp>
        <p:nvSpPr>
          <p:cNvPr id="1254" name="TextBox 154"/>
          <p:cNvSpPr/>
          <p:nvPr/>
        </p:nvSpPr>
        <p:spPr>
          <a:xfrm>
            <a:off x="6478560" y="2039760"/>
            <a:ext cx="274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Team A Performances</a:t>
            </a:r>
            <a:endParaRPr b="0" lang="en-US" sz="1600" spc="-1" strike="noStrike">
              <a:solidFill>
                <a:srgbClr val="313c3f"/>
              </a:solidFill>
              <a:latin typeface="Source Sans Pro"/>
            </a:endParaRPr>
          </a:p>
        </p:txBody>
      </p:sp>
      <p:sp>
        <p:nvSpPr>
          <p:cNvPr id="1255" name="Rectangle 155"/>
          <p:cNvSpPr/>
          <p:nvPr/>
        </p:nvSpPr>
        <p:spPr>
          <a:xfrm>
            <a:off x="647856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whole smil</a:t>
            </a:r>
            <a:endParaRPr b="0" lang="en-US" sz="1200" spc="-1" strike="noStrike">
              <a:solidFill>
                <a:srgbClr val="313c3f"/>
              </a:solidFill>
              <a:latin typeface="Source Sans Pro"/>
            </a:endParaRPr>
          </a:p>
        </p:txBody>
      </p:sp>
      <p:sp>
        <p:nvSpPr>
          <p:cNvPr id="1256" name="TextBox 156"/>
          <p:cNvSpPr/>
          <p:nvPr/>
        </p:nvSpPr>
        <p:spPr>
          <a:xfrm>
            <a:off x="6478560" y="405936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Team B Performances</a:t>
            </a:r>
            <a:endParaRPr b="0" lang="en-US" sz="1600" spc="-1" strike="noStrike">
              <a:solidFill>
                <a:srgbClr val="313c3f"/>
              </a:solidFill>
              <a:latin typeface="Source Sans Pro"/>
            </a:endParaRPr>
          </a:p>
        </p:txBody>
      </p:sp>
      <p:sp>
        <p:nvSpPr>
          <p:cNvPr id="1257" name="Rectangle 75"/>
          <p:cNvSpPr/>
          <p:nvPr/>
        </p:nvSpPr>
        <p:spPr>
          <a:xfrm>
            <a:off x="640080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258" name="Rectangle 76"/>
          <p:cNvSpPr/>
          <p:nvPr/>
        </p:nvSpPr>
        <p:spPr>
          <a:xfrm>
            <a:off x="6467400" y="5097600"/>
            <a:ext cx="2185920" cy="61272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259" name="Freeform: Shape 77"/>
          <p:cNvSpPr/>
          <p:nvPr/>
        </p:nvSpPr>
        <p:spPr>
          <a:xfrm>
            <a:off x="640080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60" name="TextBox 78"/>
          <p:cNvSpPr/>
          <p:nvPr/>
        </p:nvSpPr>
        <p:spPr>
          <a:xfrm>
            <a:off x="9301320" y="511488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c11e"/>
                </a:solidFill>
                <a:latin typeface="Lato"/>
              </a:rPr>
              <a:t>80%</a:t>
            </a:r>
            <a:endParaRPr b="0" lang="en-US" sz="3600" spc="-1" strike="noStrike">
              <a:solidFill>
                <a:srgbClr val="313c3f"/>
              </a:solidFill>
              <a:latin typeface="Source Sans Pro"/>
            </a:endParaRPr>
          </a:p>
        </p:txBody>
      </p:sp>
    </p:spTree>
  </p:cSld>
  <p:transition spd="med">
    <p:fade/>
  </p:transition>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10">
                                  <p:stCondLst>
                                    <p:cond delay="0"/>
                                  </p:stCondLst>
                                  <p:childTnLst>
                                    <p:set>
                                      <p:cBhvr>
                                        <p:cTn id="1347" dur="1" fill="hold">
                                          <p:stCondLst>
                                            <p:cond delay="0"/>
                                          </p:stCondLst>
                                        </p:cTn>
                                        <p:tgtEl>
                                          <p:spTgt spid="1195"/>
                                        </p:tgtEl>
                                        <p:attrNameLst>
                                          <p:attrName>style.visibility</p:attrName>
                                        </p:attrNameLst>
                                      </p:cBhvr>
                                      <p:to>
                                        <p:strVal val="visible"/>
                                      </p:to>
                                    </p:set>
                                    <p:animEffect filter="fade" transition="in">
                                      <p:cBhvr additive="repl">
                                        <p:cTn id="1348" dur="500"/>
                                        <p:tgtEl>
                                          <p:spTgt spid="1195"/>
                                        </p:tgtEl>
                                      </p:cBhvr>
                                    </p:animEffect>
                                  </p:childTnLst>
                                </p:cTn>
                              </p:par>
                            </p:childTnLst>
                          </p:cTn>
                        </p:par>
                        <p:par>
                          <p:cTn id="1349" nodeType="afterEffect" fill="hold">
                            <p:stCondLst>
                              <p:cond delay="500"/>
                            </p:stCondLst>
                            <p:childTnLst>
                              <p:par>
                                <p:cTn id="1350" nodeType="afterEffect" fill="hold" presetClass="entr" presetID="42">
                                  <p:stCondLst>
                                    <p:cond delay="0"/>
                                  </p:stCondLst>
                                  <p:childTnLst>
                                    <p:set>
                                      <p:cBhvr>
                                        <p:cTn id="1351" dur="1" fill="hold">
                                          <p:stCondLst>
                                            <p:cond delay="0"/>
                                          </p:stCondLst>
                                        </p:cTn>
                                        <p:tgtEl>
                                          <p:spTgt spid="1196"/>
                                        </p:tgtEl>
                                        <p:attrNameLst>
                                          <p:attrName>style.visibility</p:attrName>
                                        </p:attrNameLst>
                                      </p:cBhvr>
                                      <p:to>
                                        <p:strVal val="visible"/>
                                      </p:to>
                                    </p:set>
                                    <p:animEffect filter="fade" transition="in">
                                      <p:cBhvr additive="repl">
                                        <p:cTn id="1352" dur="1000"/>
                                        <p:tgtEl>
                                          <p:spTgt spid="1196"/>
                                        </p:tgtEl>
                                      </p:cBhvr>
                                    </p:animEffect>
                                    <p:anim calcmode="lin" valueType="num">
                                      <p:cBhvr additive="repl">
                                        <p:cTn id="1353" dur="1000" fill="hold"/>
                                        <p:tgtEl>
                                          <p:spTgt spid="1196"/>
                                        </p:tgtEl>
                                        <p:attrNameLst>
                                          <p:attrName>ppt_x</p:attrName>
                                        </p:attrNameLst>
                                      </p:cBhvr>
                                      <p:tavLst>
                                        <p:tav tm="0">
                                          <p:val>
                                            <p:strVal val="#ppt_x"/>
                                          </p:val>
                                        </p:tav>
                                        <p:tav tm="100000">
                                          <p:val>
                                            <p:strVal val="#ppt_x"/>
                                          </p:val>
                                        </p:tav>
                                      </p:tavLst>
                                    </p:anim>
                                    <p:anim calcmode="lin" valueType="num">
                                      <p:cBhvr additive="repl">
                                        <p:cTn id="1354" dur="1000" fill="hold"/>
                                        <p:tgtEl>
                                          <p:spTgt spid="1196"/>
                                        </p:tgtEl>
                                        <p:attrNameLst>
                                          <p:attrName>ppt_y</p:attrName>
                                        </p:attrNameLst>
                                      </p:cBhvr>
                                      <p:tavLst>
                                        <p:tav tm="0">
                                          <p:val>
                                            <p:strVal val="#ppt_y+.1"/>
                                          </p:val>
                                        </p:tav>
                                        <p:tav tm="100000">
                                          <p:val>
                                            <p:strVal val="#ppt_y"/>
                                          </p:val>
                                        </p:tav>
                                      </p:tavLst>
                                    </p:anim>
                                  </p:childTnLst>
                                </p:cTn>
                              </p:par>
                            </p:childTnLst>
                          </p:cTn>
                        </p:par>
                        <p:par>
                          <p:cTn id="1355" nodeType="afterEffect" fill="hold">
                            <p:stCondLst>
                              <p:cond delay="1500"/>
                            </p:stCondLst>
                            <p:childTnLst>
                              <p:par>
                                <p:cTn id="1356" nodeType="afterEffect" fill="hold" presetClass="entr" presetID="47">
                                  <p:stCondLst>
                                    <p:cond delay="0"/>
                                  </p:stCondLst>
                                  <p:childTnLst>
                                    <p:set>
                                      <p:cBhvr>
                                        <p:cTn id="1357" dur="1" fill="hold">
                                          <p:stCondLst>
                                            <p:cond delay="0"/>
                                          </p:stCondLst>
                                        </p:cTn>
                                        <p:tgtEl>
                                          <p:spTgt spid="1245"/>
                                        </p:tgtEl>
                                        <p:attrNameLst>
                                          <p:attrName>style.visibility</p:attrName>
                                        </p:attrNameLst>
                                      </p:cBhvr>
                                      <p:to>
                                        <p:strVal val="visible"/>
                                      </p:to>
                                    </p:set>
                                    <p:animEffect filter="fade" transition="in">
                                      <p:cBhvr additive="repl">
                                        <p:cTn id="1358" dur="1000"/>
                                        <p:tgtEl>
                                          <p:spTgt spid="1245"/>
                                        </p:tgtEl>
                                      </p:cBhvr>
                                    </p:animEffect>
                                    <p:anim calcmode="lin" valueType="num">
                                      <p:cBhvr additive="repl">
                                        <p:cTn id="1359" dur="1000" fill="hold"/>
                                        <p:tgtEl>
                                          <p:spTgt spid="1245"/>
                                        </p:tgtEl>
                                        <p:attrNameLst>
                                          <p:attrName>ppt_x</p:attrName>
                                        </p:attrNameLst>
                                      </p:cBhvr>
                                      <p:tavLst>
                                        <p:tav tm="0">
                                          <p:val>
                                            <p:strVal val="#ppt_x"/>
                                          </p:val>
                                        </p:tav>
                                        <p:tav tm="100000">
                                          <p:val>
                                            <p:strVal val="#ppt_x"/>
                                          </p:val>
                                        </p:tav>
                                      </p:tavLst>
                                    </p:anim>
                                    <p:anim calcmode="lin" valueType="num">
                                      <p:cBhvr additive="repl">
                                        <p:cTn id="1360" dur="1000" fill="hold"/>
                                        <p:tgtEl>
                                          <p:spTgt spid="1245"/>
                                        </p:tgtEl>
                                        <p:attrNameLst>
                                          <p:attrName>ppt_y</p:attrName>
                                        </p:attrNameLst>
                                      </p:cBhvr>
                                      <p:tavLst>
                                        <p:tav tm="0">
                                          <p:val>
                                            <p:strVal val="#ppt_y-.1"/>
                                          </p:val>
                                        </p:tav>
                                        <p:tav tm="100000">
                                          <p:val>
                                            <p:strVal val="#ppt_y"/>
                                          </p:val>
                                        </p:tav>
                                      </p:tavLst>
                                    </p:anim>
                                  </p:childTnLst>
                                </p:cTn>
                              </p:par>
                              <p:par>
                                <p:cTn id="1361" nodeType="withEffect" fill="hold" presetClass="entr" presetID="47">
                                  <p:stCondLst>
                                    <p:cond delay="0"/>
                                  </p:stCondLst>
                                  <p:childTnLst>
                                    <p:set>
                                      <p:cBhvr>
                                        <p:cTn id="1362" dur="1" fill="hold">
                                          <p:stCondLst>
                                            <p:cond delay="0"/>
                                          </p:stCondLst>
                                        </p:cTn>
                                        <p:tgtEl>
                                          <p:spTgt spid="1234"/>
                                        </p:tgtEl>
                                        <p:attrNameLst>
                                          <p:attrName>style.visibility</p:attrName>
                                        </p:attrNameLst>
                                      </p:cBhvr>
                                      <p:to>
                                        <p:strVal val="visible"/>
                                      </p:to>
                                    </p:set>
                                    <p:animEffect filter="fade" transition="in">
                                      <p:cBhvr additive="repl">
                                        <p:cTn id="1363" dur="1000"/>
                                        <p:tgtEl>
                                          <p:spTgt spid="1234"/>
                                        </p:tgtEl>
                                      </p:cBhvr>
                                    </p:animEffect>
                                    <p:anim calcmode="lin" valueType="num">
                                      <p:cBhvr additive="repl">
                                        <p:cTn id="1364" dur="1000" fill="hold"/>
                                        <p:tgtEl>
                                          <p:spTgt spid="1234"/>
                                        </p:tgtEl>
                                        <p:attrNameLst>
                                          <p:attrName>ppt_x</p:attrName>
                                        </p:attrNameLst>
                                      </p:cBhvr>
                                      <p:tavLst>
                                        <p:tav tm="0">
                                          <p:val>
                                            <p:strVal val="#ppt_x"/>
                                          </p:val>
                                        </p:tav>
                                        <p:tav tm="100000">
                                          <p:val>
                                            <p:strVal val="#ppt_x"/>
                                          </p:val>
                                        </p:tav>
                                      </p:tavLst>
                                    </p:anim>
                                    <p:anim calcmode="lin" valueType="num">
                                      <p:cBhvr additive="repl">
                                        <p:cTn id="1365" dur="1000" fill="hold"/>
                                        <p:tgtEl>
                                          <p:spTgt spid="1234"/>
                                        </p:tgtEl>
                                        <p:attrNameLst>
                                          <p:attrName>ppt_y</p:attrName>
                                        </p:attrNameLst>
                                      </p:cBhvr>
                                      <p:tavLst>
                                        <p:tav tm="0">
                                          <p:val>
                                            <p:strVal val="#ppt_y-.1"/>
                                          </p:val>
                                        </p:tav>
                                        <p:tav tm="100000">
                                          <p:val>
                                            <p:strVal val="#ppt_y"/>
                                          </p:val>
                                        </p:tav>
                                      </p:tavLst>
                                    </p:anim>
                                  </p:childTnLst>
                                </p:cTn>
                              </p:par>
                            </p:childTnLst>
                          </p:cTn>
                        </p:par>
                        <p:par>
                          <p:cTn id="1366" nodeType="afterEffect" fill="hold">
                            <p:stCondLst>
                              <p:cond delay="2500"/>
                            </p:stCondLst>
                            <p:childTnLst>
                              <p:par>
                                <p:cTn id="1367" nodeType="afterEffect" fill="hold" presetClass="entr" presetID="10">
                                  <p:stCondLst>
                                    <p:cond delay="0"/>
                                  </p:stCondLst>
                                  <p:childTnLst>
                                    <p:set>
                                      <p:cBhvr>
                                        <p:cTn id="1368" dur="1" fill="hold">
                                          <p:stCondLst>
                                            <p:cond delay="0"/>
                                          </p:stCondLst>
                                        </p:cTn>
                                        <p:tgtEl>
                                          <p:spTgt spid="1254"/>
                                        </p:tgtEl>
                                        <p:attrNameLst>
                                          <p:attrName>style.visibility</p:attrName>
                                        </p:attrNameLst>
                                      </p:cBhvr>
                                      <p:to>
                                        <p:strVal val="visible"/>
                                      </p:to>
                                    </p:set>
                                    <p:animEffect filter="fade" transition="in">
                                      <p:cBhvr additive="repl">
                                        <p:cTn id="1369" dur="500"/>
                                        <p:tgtEl>
                                          <p:spTgt spid="1254"/>
                                        </p:tgtEl>
                                      </p:cBhvr>
                                    </p:animEffect>
                                  </p:childTnLst>
                                </p:cTn>
                              </p:par>
                              <p:par>
                                <p:cTn id="1370" nodeType="withEffect" fill="hold" presetClass="entr" presetID="10">
                                  <p:stCondLst>
                                    <p:cond delay="0"/>
                                  </p:stCondLst>
                                  <p:childTnLst>
                                    <p:set>
                                      <p:cBhvr>
                                        <p:cTn id="1371" dur="1" fill="hold">
                                          <p:stCondLst>
                                            <p:cond delay="0"/>
                                          </p:stCondLst>
                                        </p:cTn>
                                        <p:tgtEl>
                                          <p:spTgt spid="1256"/>
                                        </p:tgtEl>
                                        <p:attrNameLst>
                                          <p:attrName>style.visibility</p:attrName>
                                        </p:attrNameLst>
                                      </p:cBhvr>
                                      <p:to>
                                        <p:strVal val="visible"/>
                                      </p:to>
                                    </p:set>
                                    <p:animEffect filter="fade" transition="in">
                                      <p:cBhvr additive="repl">
                                        <p:cTn id="1372" dur="500"/>
                                        <p:tgtEl>
                                          <p:spTgt spid="1256"/>
                                        </p:tgtEl>
                                      </p:cBhvr>
                                    </p:animEffect>
                                  </p:childTnLst>
                                </p:cTn>
                              </p:par>
                              <p:par>
                                <p:cTn id="1373" nodeType="withEffect" fill="hold" presetClass="entr" presetID="10">
                                  <p:stCondLst>
                                    <p:cond delay="0"/>
                                  </p:stCondLst>
                                  <p:childTnLst>
                                    <p:set>
                                      <p:cBhvr>
                                        <p:cTn id="1374" dur="1" fill="hold">
                                          <p:stCondLst>
                                            <p:cond delay="0"/>
                                          </p:stCondLst>
                                        </p:cTn>
                                        <p:tgtEl>
                                          <p:spTgt spid="1252"/>
                                        </p:tgtEl>
                                        <p:attrNameLst>
                                          <p:attrName>style.visibility</p:attrName>
                                        </p:attrNameLst>
                                      </p:cBhvr>
                                      <p:to>
                                        <p:strVal val="visible"/>
                                      </p:to>
                                    </p:set>
                                    <p:animEffect filter="fade" transition="in">
                                      <p:cBhvr additive="repl">
                                        <p:cTn id="1375" dur="500"/>
                                        <p:tgtEl>
                                          <p:spTgt spid="1252"/>
                                        </p:tgtEl>
                                      </p:cBhvr>
                                    </p:animEffect>
                                  </p:childTnLst>
                                </p:cTn>
                              </p:par>
                            </p:childTnLst>
                          </p:cTn>
                        </p:par>
                        <p:par>
                          <p:cTn id="1376" nodeType="afterEffect" fill="hold">
                            <p:stCondLst>
                              <p:cond delay="3000"/>
                            </p:stCondLst>
                            <p:childTnLst>
                              <p:par>
                                <p:cTn id="1377" nodeType="afterEffect" fill="hold" presetClass="entr" presetID="22" presetSubtype="8">
                                  <p:stCondLst>
                                    <p:cond delay="0"/>
                                  </p:stCondLst>
                                  <p:childTnLst>
                                    <p:set>
                                      <p:cBhvr>
                                        <p:cTn id="1378" dur="1" fill="hold">
                                          <p:stCondLst>
                                            <p:cond delay="0"/>
                                          </p:stCondLst>
                                        </p:cTn>
                                        <p:tgtEl>
                                          <p:spTgt spid="1253"/>
                                        </p:tgtEl>
                                        <p:attrNameLst>
                                          <p:attrName>style.visibility</p:attrName>
                                        </p:attrNameLst>
                                      </p:cBhvr>
                                      <p:to>
                                        <p:strVal val="visible"/>
                                      </p:to>
                                    </p:set>
                                    <p:animEffect filter="wipe(left)" transition="in">
                                      <p:cBhvr additive="repl">
                                        <p:cTn id="1379" dur="500"/>
                                        <p:tgtEl>
                                          <p:spTgt spid="1253"/>
                                        </p:tgtEl>
                                      </p:cBhvr>
                                    </p:animEffect>
                                  </p:childTnLst>
                                </p:cTn>
                              </p:par>
                              <p:par>
                                <p:cTn id="1380" nodeType="withEffect" fill="hold" presetClass="entr" presetID="22" presetSubtype="8">
                                  <p:stCondLst>
                                    <p:cond delay="0"/>
                                  </p:stCondLst>
                                  <p:childTnLst>
                                    <p:set>
                                      <p:cBhvr>
                                        <p:cTn id="1381" dur="1" fill="hold">
                                          <p:stCondLst>
                                            <p:cond delay="0"/>
                                          </p:stCondLst>
                                        </p:cTn>
                                        <p:tgtEl>
                                          <p:spTgt spid="1255"/>
                                        </p:tgtEl>
                                        <p:attrNameLst>
                                          <p:attrName>style.visibility</p:attrName>
                                        </p:attrNameLst>
                                      </p:cBhvr>
                                      <p:to>
                                        <p:strVal val="visible"/>
                                      </p:to>
                                    </p:set>
                                    <p:animEffect filter="wipe(left)" transition="in">
                                      <p:cBhvr additive="repl">
                                        <p:cTn id="1382" dur="500"/>
                                        <p:tgtEl>
                                          <p:spTgt spid="1255"/>
                                        </p:tgtEl>
                                      </p:cBhvr>
                                    </p:animEffect>
                                  </p:childTnLst>
                                </p:cTn>
                              </p:par>
                            </p:childTnLst>
                          </p:cTn>
                        </p:par>
                        <p:par>
                          <p:cTn id="1383" nodeType="afterEffect" fill="hold">
                            <p:stCondLst>
                              <p:cond delay="3500"/>
                            </p:stCondLst>
                            <p:childTnLst>
                              <p:par>
                                <p:cTn id="1384" nodeType="afterEffect" fill="hold" presetClass="entr" presetID="10">
                                  <p:stCondLst>
                                    <p:cond delay="0"/>
                                  </p:stCondLst>
                                  <p:childTnLst>
                                    <p:set>
                                      <p:cBhvr>
                                        <p:cTn id="1385" dur="1" fill="hold">
                                          <p:stCondLst>
                                            <p:cond delay="0"/>
                                          </p:stCondLst>
                                        </p:cTn>
                                        <p:tgtEl>
                                          <p:spTgt spid="1191"/>
                                        </p:tgtEl>
                                        <p:attrNameLst>
                                          <p:attrName>style.visibility</p:attrName>
                                        </p:attrNameLst>
                                      </p:cBhvr>
                                      <p:to>
                                        <p:strVal val="visible"/>
                                      </p:to>
                                    </p:set>
                                    <p:animEffect filter="fade" transition="in">
                                      <p:cBhvr additive="repl">
                                        <p:cTn id="1386" dur="500"/>
                                        <p:tgtEl>
                                          <p:spTgt spid="1191"/>
                                        </p:tgtEl>
                                      </p:cBhvr>
                                    </p:animEffect>
                                  </p:childTnLst>
                                </p:cTn>
                              </p:par>
                              <p:par>
                                <p:cTn id="1387" nodeType="withEffect" fill="hold" presetClass="entr" presetID="10">
                                  <p:stCondLst>
                                    <p:cond delay="0"/>
                                  </p:stCondLst>
                                  <p:childTnLst>
                                    <p:set>
                                      <p:cBhvr>
                                        <p:cTn id="1388" dur="1" fill="hold">
                                          <p:stCondLst>
                                            <p:cond delay="0"/>
                                          </p:stCondLst>
                                        </p:cTn>
                                        <p:tgtEl>
                                          <p:spTgt spid="1193"/>
                                        </p:tgtEl>
                                        <p:attrNameLst>
                                          <p:attrName>style.visibility</p:attrName>
                                        </p:attrNameLst>
                                      </p:cBhvr>
                                      <p:to>
                                        <p:strVal val="visible"/>
                                      </p:to>
                                    </p:set>
                                    <p:animEffect filter="fade" transition="in">
                                      <p:cBhvr additive="repl">
                                        <p:cTn id="1389" dur="500"/>
                                        <p:tgtEl>
                                          <p:spTgt spid="1193"/>
                                        </p:tgtEl>
                                      </p:cBhvr>
                                    </p:animEffect>
                                  </p:childTnLst>
                                </p:cTn>
                              </p:par>
                              <p:par>
                                <p:cTn id="1390" nodeType="withEffect" fill="hold" presetClass="entr" presetID="10">
                                  <p:stCondLst>
                                    <p:cond delay="0"/>
                                  </p:stCondLst>
                                  <p:childTnLst>
                                    <p:set>
                                      <p:cBhvr>
                                        <p:cTn id="1391" dur="1" fill="hold">
                                          <p:stCondLst>
                                            <p:cond delay="0"/>
                                          </p:stCondLst>
                                        </p:cTn>
                                        <p:tgtEl>
                                          <p:spTgt spid="1257"/>
                                        </p:tgtEl>
                                        <p:attrNameLst>
                                          <p:attrName>style.visibility</p:attrName>
                                        </p:attrNameLst>
                                      </p:cBhvr>
                                      <p:to>
                                        <p:strVal val="visible"/>
                                      </p:to>
                                    </p:set>
                                    <p:animEffect filter="fade" transition="in">
                                      <p:cBhvr additive="repl">
                                        <p:cTn id="1392" dur="500"/>
                                        <p:tgtEl>
                                          <p:spTgt spid="1257"/>
                                        </p:tgtEl>
                                      </p:cBhvr>
                                    </p:animEffect>
                                  </p:childTnLst>
                                </p:cTn>
                              </p:par>
                              <p:par>
                                <p:cTn id="1393" nodeType="withEffect" fill="hold" presetClass="entr" presetID="10">
                                  <p:stCondLst>
                                    <p:cond delay="0"/>
                                  </p:stCondLst>
                                  <p:childTnLst>
                                    <p:set>
                                      <p:cBhvr>
                                        <p:cTn id="1394" dur="1" fill="hold">
                                          <p:stCondLst>
                                            <p:cond delay="0"/>
                                          </p:stCondLst>
                                        </p:cTn>
                                        <p:tgtEl>
                                          <p:spTgt spid="1259"/>
                                        </p:tgtEl>
                                        <p:attrNameLst>
                                          <p:attrName>style.visibility</p:attrName>
                                        </p:attrNameLst>
                                      </p:cBhvr>
                                      <p:to>
                                        <p:strVal val="visible"/>
                                      </p:to>
                                    </p:set>
                                    <p:animEffect filter="fade" transition="in">
                                      <p:cBhvr additive="repl">
                                        <p:cTn id="1395" dur="500"/>
                                        <p:tgtEl>
                                          <p:spTgt spid="1259"/>
                                        </p:tgtEl>
                                      </p:cBhvr>
                                    </p:animEffect>
                                  </p:childTnLst>
                                </p:cTn>
                              </p:par>
                            </p:childTnLst>
                          </p:cTn>
                        </p:par>
                        <p:par>
                          <p:cTn id="1396" nodeType="afterEffect" fill="hold">
                            <p:stCondLst>
                              <p:cond delay="4000"/>
                            </p:stCondLst>
                            <p:childTnLst>
                              <p:par>
                                <p:cTn id="1397" nodeType="afterEffect" fill="hold" presetClass="entr" presetID="22" presetSubtype="8">
                                  <p:stCondLst>
                                    <p:cond delay="0"/>
                                  </p:stCondLst>
                                  <p:childTnLst>
                                    <p:set>
                                      <p:cBhvr>
                                        <p:cTn id="1398" dur="1" fill="hold">
                                          <p:stCondLst>
                                            <p:cond delay="0"/>
                                          </p:stCondLst>
                                        </p:cTn>
                                        <p:tgtEl>
                                          <p:spTgt spid="1258"/>
                                        </p:tgtEl>
                                        <p:attrNameLst>
                                          <p:attrName>style.visibility</p:attrName>
                                        </p:attrNameLst>
                                      </p:cBhvr>
                                      <p:to>
                                        <p:strVal val="visible"/>
                                      </p:to>
                                    </p:set>
                                    <p:animEffect filter="wipe(left)" transition="in">
                                      <p:cBhvr additive="repl">
                                        <p:cTn id="1399" dur="500"/>
                                        <p:tgtEl>
                                          <p:spTgt spid="1258"/>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192"/>
                                        </p:tgtEl>
                                        <p:attrNameLst>
                                          <p:attrName>style.visibility</p:attrName>
                                        </p:attrNameLst>
                                      </p:cBhvr>
                                      <p:to>
                                        <p:strVal val="visible"/>
                                      </p:to>
                                    </p:set>
                                    <p:animEffect filter="wipe(left)" transition="in">
                                      <p:cBhvr additive="repl">
                                        <p:cTn id="1402" dur="500"/>
                                        <p:tgtEl>
                                          <p:spTgt spid="1192"/>
                                        </p:tgtEl>
                                      </p:cBhvr>
                                    </p:animEffect>
                                  </p:childTnLst>
                                </p:cTn>
                              </p:par>
                            </p:childTnLst>
                          </p:cTn>
                        </p:par>
                        <p:par>
                          <p:cTn id="1403" nodeType="afterEffect" fill="hold">
                            <p:stCondLst>
                              <p:cond delay="4500"/>
                            </p:stCondLst>
                            <p:childTnLst>
                              <p:par>
                                <p:cTn id="1404" nodeType="afterEffect" fill="hold" presetClass="entr" presetID="10">
                                  <p:stCondLst>
                                    <p:cond delay="0"/>
                                  </p:stCondLst>
                                  <p:childTnLst>
                                    <p:set>
                                      <p:cBhvr>
                                        <p:cTn id="1405" dur="1" fill="hold">
                                          <p:stCondLst>
                                            <p:cond delay="0"/>
                                          </p:stCondLst>
                                        </p:cTn>
                                        <p:tgtEl>
                                          <p:spTgt spid="1194"/>
                                        </p:tgtEl>
                                        <p:attrNameLst>
                                          <p:attrName>style.visibility</p:attrName>
                                        </p:attrNameLst>
                                      </p:cBhvr>
                                      <p:to>
                                        <p:strVal val="visible"/>
                                      </p:to>
                                    </p:set>
                                    <p:animEffect filter="fade" transition="in">
                                      <p:cBhvr additive="repl">
                                        <p:cTn id="1406" dur="500"/>
                                        <p:tgtEl>
                                          <p:spTgt spid="1194"/>
                                        </p:tgtEl>
                                      </p:cBhvr>
                                    </p:animEffect>
                                  </p:childTnLst>
                                </p:cTn>
                              </p:par>
                              <p:par>
                                <p:cTn id="1407" nodeType="withEffect" fill="hold" presetClass="entr" presetID="10">
                                  <p:stCondLst>
                                    <p:cond delay="0"/>
                                  </p:stCondLst>
                                  <p:childTnLst>
                                    <p:set>
                                      <p:cBhvr>
                                        <p:cTn id="1408" dur="1" fill="hold">
                                          <p:stCondLst>
                                            <p:cond delay="0"/>
                                          </p:stCondLst>
                                        </p:cTn>
                                        <p:tgtEl>
                                          <p:spTgt spid="1260"/>
                                        </p:tgtEl>
                                        <p:attrNameLst>
                                          <p:attrName>style.visibility</p:attrName>
                                        </p:attrNameLst>
                                      </p:cBhvr>
                                      <p:to>
                                        <p:strVal val="visible"/>
                                      </p:to>
                                    </p:set>
                                    <p:animEffect filter="fade" transition="in">
                                      <p:cBhvr additive="repl">
                                        <p:cTn id="140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262" name="Graphic 106"/>
          <p:cNvGrpSpPr/>
          <p:nvPr/>
        </p:nvGrpSpPr>
        <p:grpSpPr>
          <a:xfrm>
            <a:off x="6095880" y="1711440"/>
            <a:ext cx="5112000" cy="4214520"/>
            <a:chOff x="6095880" y="1711440"/>
            <a:chExt cx="5112000" cy="4214520"/>
          </a:xfrm>
        </p:grpSpPr>
        <p:sp>
          <p:nvSpPr>
            <p:cNvPr id="1263" name="Freeform: Shape 108"/>
            <p:cNvSpPr/>
            <p:nvPr/>
          </p:nvSpPr>
          <p:spPr>
            <a:xfrm>
              <a:off x="10932120" y="3895560"/>
              <a:ext cx="275760" cy="214920"/>
            </a:xfrm>
            <a:custGeom>
              <a:avLst/>
              <a:gdLst/>
              <a:ahLst/>
              <a:rect l="l" t="t" r="r" b="b"/>
              <a:pathLst>
                <a:path w="320039" h="249555">
                  <a:moveTo>
                    <a:pt x="198120" y="0"/>
                  </a:moveTo>
                  <a:cubicBezTo>
                    <a:pt x="265748" y="0"/>
                    <a:pt x="320040" y="55245"/>
                    <a:pt x="320040" y="122872"/>
                  </a:cubicBezTo>
                  <a:cubicBezTo>
                    <a:pt x="320040" y="190500"/>
                    <a:pt x="265748" y="245745"/>
                    <a:pt x="198120" y="245745"/>
                  </a:cubicBezTo>
                  <a:lnTo>
                    <a:pt x="61913" y="249555"/>
                  </a:lnTo>
                  <a:lnTo>
                    <a:pt x="0" y="249555"/>
                  </a:lnTo>
                  <a:lnTo>
                    <a:pt x="0" y="100965"/>
                  </a:lnTo>
                  <a:lnTo>
                    <a:pt x="77152" y="104775"/>
                  </a:lnTo>
                  <a:cubicBezTo>
                    <a:pt x="85725" y="45720"/>
                    <a:pt x="137160" y="0"/>
                    <a:pt x="198120" y="0"/>
                  </a:cubicBezTo>
                  <a:close/>
                  <a:moveTo>
                    <a:pt x="198120" y="54293"/>
                  </a:moveTo>
                  <a:cubicBezTo>
                    <a:pt x="160020" y="54293"/>
                    <a:pt x="129540" y="86678"/>
                    <a:pt x="129540" y="123825"/>
                  </a:cubicBezTo>
                  <a:cubicBezTo>
                    <a:pt x="129540" y="161925"/>
                    <a:pt x="160020" y="193358"/>
                    <a:pt x="198120" y="193358"/>
                  </a:cubicBezTo>
                  <a:cubicBezTo>
                    <a:pt x="236220" y="193358"/>
                    <a:pt x="266700" y="161925"/>
                    <a:pt x="266700" y="123825"/>
                  </a:cubicBezTo>
                  <a:cubicBezTo>
                    <a:pt x="266700" y="84772"/>
                    <a:pt x="236220" y="54293"/>
                    <a:pt x="198120" y="5429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64" name="Freeform: Shape 109"/>
            <p:cNvSpPr/>
            <p:nvPr/>
          </p:nvSpPr>
          <p:spPr>
            <a:xfrm>
              <a:off x="9268560" y="389700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3363" y="44767"/>
                    <a:pt x="182880"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2388"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65" name="Freeform: Shape 110"/>
            <p:cNvSpPr/>
            <p:nvPr/>
          </p:nvSpPr>
          <p:spPr>
            <a:xfrm>
              <a:off x="9450720" y="3946320"/>
              <a:ext cx="1573920" cy="350280"/>
            </a:xfrm>
            <a:custGeom>
              <a:avLst/>
              <a:gdLst/>
              <a:ahLst/>
              <a:rect l="l" t="t" r="r" b="b"/>
              <a:pathLst>
                <a:path w="1825942" h="406717">
                  <a:moveTo>
                    <a:pt x="106680" y="118110"/>
                  </a:moveTo>
                  <a:lnTo>
                    <a:pt x="328613" y="299085"/>
                  </a:lnTo>
                  <a:cubicBezTo>
                    <a:pt x="359092" y="360045"/>
                    <a:pt x="608647" y="406717"/>
                    <a:pt x="912495" y="406717"/>
                  </a:cubicBezTo>
                  <a:cubicBezTo>
                    <a:pt x="1216342" y="406717"/>
                    <a:pt x="1465898" y="359092"/>
                    <a:pt x="1496378" y="299085"/>
                  </a:cubicBezTo>
                  <a:lnTo>
                    <a:pt x="1718310" y="118110"/>
                  </a:lnTo>
                  <a:lnTo>
                    <a:pt x="1781175" y="118110"/>
                  </a:lnTo>
                  <a:cubicBezTo>
                    <a:pt x="1805940" y="118110"/>
                    <a:pt x="1825942" y="91440"/>
                    <a:pt x="1825942" y="59055"/>
                  </a:cubicBezTo>
                  <a:cubicBezTo>
                    <a:pt x="1825942" y="26670"/>
                    <a:pt x="1805940" y="0"/>
                    <a:pt x="1781175" y="0"/>
                  </a:cubicBezTo>
                  <a:lnTo>
                    <a:pt x="44767" y="0"/>
                  </a:lnTo>
                  <a:cubicBezTo>
                    <a:pt x="20003" y="0"/>
                    <a:pt x="0" y="26670"/>
                    <a:pt x="0" y="59055"/>
                  </a:cubicBezTo>
                  <a:cubicBezTo>
                    <a:pt x="0" y="91440"/>
                    <a:pt x="20003" y="118110"/>
                    <a:pt x="44767" y="118110"/>
                  </a:cubicBezTo>
                  <a:lnTo>
                    <a:pt x="106680"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66" name="Freeform: Shape 111"/>
            <p:cNvSpPr/>
            <p:nvPr/>
          </p:nvSpPr>
          <p:spPr>
            <a:xfrm>
              <a:off x="9500760" y="404820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313c3f"/>
                </a:solidFill>
                <a:latin typeface="Source Sans Pro"/>
              </a:endParaRPr>
            </a:p>
          </p:txBody>
        </p:sp>
        <p:sp>
          <p:nvSpPr>
            <p:cNvPr id="1267" name="Freeform: Shape 112"/>
            <p:cNvSpPr/>
            <p:nvPr/>
          </p:nvSpPr>
          <p:spPr>
            <a:xfrm>
              <a:off x="9466560" y="3838680"/>
              <a:ext cx="1541880" cy="224640"/>
            </a:xfrm>
            <a:custGeom>
              <a:avLst/>
              <a:gdLst/>
              <a:ahLst/>
              <a:rect l="l" t="t" r="r" b="b"/>
              <a:pathLst>
                <a:path w="1788794" h="260984">
                  <a:moveTo>
                    <a:pt x="1788795" y="130493"/>
                  </a:moveTo>
                  <a:cubicBezTo>
                    <a:pt x="1788795" y="202562"/>
                    <a:pt x="1388360" y="260985"/>
                    <a:pt x="894397" y="260985"/>
                  </a:cubicBezTo>
                  <a:cubicBezTo>
                    <a:pt x="400435" y="260985"/>
                    <a:pt x="0" y="202562"/>
                    <a:pt x="0" y="130493"/>
                  </a:cubicBezTo>
                  <a:cubicBezTo>
                    <a:pt x="0" y="58423"/>
                    <a:pt x="400435" y="0"/>
                    <a:pt x="894397"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68" name="Freeform: Shape 113"/>
            <p:cNvSpPr/>
            <p:nvPr/>
          </p:nvSpPr>
          <p:spPr>
            <a:xfrm>
              <a:off x="9518040" y="3876480"/>
              <a:ext cx="1438560" cy="149400"/>
            </a:xfrm>
            <a:custGeom>
              <a:avLst/>
              <a:gdLst/>
              <a:ahLst/>
              <a:rect l="l" t="t" r="r" b="b"/>
              <a:pathLst>
                <a:path w="1668780" h="173354">
                  <a:moveTo>
                    <a:pt x="1668780" y="86678"/>
                  </a:moveTo>
                  <a:cubicBezTo>
                    <a:pt x="1649730" y="95250"/>
                    <a:pt x="1622107" y="102870"/>
                    <a:pt x="1611630" y="105728"/>
                  </a:cubicBezTo>
                  <a:cubicBezTo>
                    <a:pt x="1550670" y="121920"/>
                    <a:pt x="1484948" y="132397"/>
                    <a:pt x="1422082" y="140970"/>
                  </a:cubicBezTo>
                  <a:cubicBezTo>
                    <a:pt x="1229678" y="165735"/>
                    <a:pt x="1028700" y="173355"/>
                    <a:pt x="834390" y="173355"/>
                  </a:cubicBezTo>
                  <a:cubicBezTo>
                    <a:pt x="640080" y="173355"/>
                    <a:pt x="439103" y="165735"/>
                    <a:pt x="246698" y="140970"/>
                  </a:cubicBezTo>
                  <a:cubicBezTo>
                    <a:pt x="183833" y="132397"/>
                    <a:pt x="118110" y="122872"/>
                    <a:pt x="57150" y="105728"/>
                  </a:cubicBezTo>
                  <a:cubicBezTo>
                    <a:pt x="46673" y="102870"/>
                    <a:pt x="20003" y="95250"/>
                    <a:pt x="0" y="86678"/>
                  </a:cubicBezTo>
                  <a:cubicBezTo>
                    <a:pt x="19050" y="78105"/>
                    <a:pt x="46673" y="70485"/>
                    <a:pt x="57150" y="67628"/>
                  </a:cubicBezTo>
                  <a:cubicBezTo>
                    <a:pt x="118110" y="51435"/>
                    <a:pt x="183833" y="40957"/>
                    <a:pt x="246698" y="32385"/>
                  </a:cubicBezTo>
                  <a:cubicBezTo>
                    <a:pt x="439103" y="7620"/>
                    <a:pt x="640080" y="0"/>
                    <a:pt x="834390" y="0"/>
                  </a:cubicBezTo>
                  <a:cubicBezTo>
                    <a:pt x="1028700" y="0"/>
                    <a:pt x="1229678" y="7620"/>
                    <a:pt x="1422082" y="32385"/>
                  </a:cubicBezTo>
                  <a:cubicBezTo>
                    <a:pt x="1484948" y="40957"/>
                    <a:pt x="1550670" y="50482"/>
                    <a:pt x="1611630" y="67628"/>
                  </a:cubicBezTo>
                  <a:cubicBezTo>
                    <a:pt x="1622107" y="69532"/>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69" name="Freeform: Shape 114"/>
            <p:cNvSpPr/>
            <p:nvPr/>
          </p:nvSpPr>
          <p:spPr>
            <a:xfrm>
              <a:off x="9707040" y="3963600"/>
              <a:ext cx="1060560" cy="62280"/>
            </a:xfrm>
            <a:custGeom>
              <a:avLst/>
              <a:gdLst/>
              <a:ahLst/>
              <a:rect l="l" t="t" r="r" b="b"/>
              <a:pathLst>
                <a:path w="1230630" h="72389">
                  <a:moveTo>
                    <a:pt x="0" y="36195"/>
                  </a:moveTo>
                  <a:cubicBezTo>
                    <a:pt x="9525" y="35242"/>
                    <a:pt x="19050" y="33338"/>
                    <a:pt x="27623" y="32385"/>
                  </a:cubicBezTo>
                  <a:cubicBezTo>
                    <a:pt x="220028" y="7620"/>
                    <a:pt x="421005" y="0"/>
                    <a:pt x="615315" y="0"/>
                  </a:cubicBezTo>
                  <a:cubicBezTo>
                    <a:pt x="809625" y="0"/>
                    <a:pt x="1010603" y="7620"/>
                    <a:pt x="1203007" y="32385"/>
                  </a:cubicBezTo>
                  <a:cubicBezTo>
                    <a:pt x="1212532" y="33338"/>
                    <a:pt x="1222057" y="35242"/>
                    <a:pt x="1230630" y="36195"/>
                  </a:cubicBezTo>
                  <a:cubicBezTo>
                    <a:pt x="1221105" y="37147"/>
                    <a:pt x="1211580" y="39052"/>
                    <a:pt x="1203007" y="40005"/>
                  </a:cubicBezTo>
                  <a:cubicBezTo>
                    <a:pt x="1010603" y="64770"/>
                    <a:pt x="809625" y="72390"/>
                    <a:pt x="615315" y="72390"/>
                  </a:cubicBezTo>
                  <a:cubicBezTo>
                    <a:pt x="421005" y="72390"/>
                    <a:pt x="220028" y="64770"/>
                    <a:pt x="27623" y="40005"/>
                  </a:cubicBezTo>
                  <a:cubicBezTo>
                    <a:pt x="19050" y="39052"/>
                    <a:pt x="9525"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313c3f"/>
                </a:solidFill>
                <a:latin typeface="Source Sans Pro"/>
              </a:endParaRPr>
            </a:p>
          </p:txBody>
        </p:sp>
        <p:sp>
          <p:nvSpPr>
            <p:cNvPr id="1270" name="Freeform: Shape 115"/>
            <p:cNvSpPr/>
            <p:nvPr/>
          </p:nvSpPr>
          <p:spPr>
            <a:xfrm>
              <a:off x="8477640" y="2073240"/>
              <a:ext cx="329760" cy="663480"/>
            </a:xfrm>
            <a:custGeom>
              <a:avLst/>
              <a:gdLst/>
              <a:ahLst/>
              <a:rect l="l" t="t" r="r" b="b"/>
              <a:pathLst>
                <a:path w="382904" h="769620">
                  <a:moveTo>
                    <a:pt x="0" y="741998"/>
                  </a:moveTo>
                  <a:cubicBezTo>
                    <a:pt x="0" y="757238"/>
                    <a:pt x="85725" y="769620"/>
                    <a:pt x="191453" y="769620"/>
                  </a:cubicBezTo>
                  <a:cubicBezTo>
                    <a:pt x="297180" y="769620"/>
                    <a:pt x="382905" y="757238"/>
                    <a:pt x="382905" y="741998"/>
                  </a:cubicBezTo>
                  <a:lnTo>
                    <a:pt x="382905" y="0"/>
                  </a:lnTo>
                  <a:cubicBezTo>
                    <a:pt x="382905" y="15240"/>
                    <a:pt x="297180" y="27623"/>
                    <a:pt x="191453" y="27623"/>
                  </a:cubicBezTo>
                  <a:cubicBezTo>
                    <a:pt x="85725" y="27623"/>
                    <a:pt x="0" y="15240"/>
                    <a:pt x="0" y="0"/>
                  </a:cubicBezTo>
                  <a:lnTo>
                    <a:pt x="0" y="741998"/>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71" name="Freeform: Shape 116"/>
            <p:cNvSpPr/>
            <p:nvPr/>
          </p:nvSpPr>
          <p:spPr>
            <a:xfrm>
              <a:off x="8477640" y="2049480"/>
              <a:ext cx="329760" cy="47520"/>
            </a:xfrm>
            <a:custGeom>
              <a:avLst/>
              <a:gdLst/>
              <a:ahLst/>
              <a:rect l="l" t="t" r="r" b="b"/>
              <a:pathLst>
                <a:path w="382905" h="55244">
                  <a:moveTo>
                    <a:pt x="382905" y="27623"/>
                  </a:moveTo>
                  <a:cubicBezTo>
                    <a:pt x="382905" y="42878"/>
                    <a:pt x="297189" y="55245"/>
                    <a:pt x="191452" y="55245"/>
                  </a:cubicBezTo>
                  <a:cubicBezTo>
                    <a:pt x="85716" y="55245"/>
                    <a:pt x="0" y="42878"/>
                    <a:pt x="0" y="27623"/>
                  </a:cubicBezTo>
                  <a:cubicBezTo>
                    <a:pt x="0" y="12367"/>
                    <a:pt x="85716" y="0"/>
                    <a:pt x="191452" y="0"/>
                  </a:cubicBezTo>
                  <a:cubicBezTo>
                    <a:pt x="297189" y="0"/>
                    <a:pt x="382905" y="12367"/>
                    <a:pt x="382905" y="27623"/>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313c3f"/>
                </a:solidFill>
                <a:latin typeface="Source Sans Pro"/>
              </a:endParaRPr>
            </a:p>
          </p:txBody>
        </p:sp>
        <p:sp>
          <p:nvSpPr>
            <p:cNvPr id="1272" name="Freeform: Shape 117"/>
            <p:cNvSpPr/>
            <p:nvPr/>
          </p:nvSpPr>
          <p:spPr>
            <a:xfrm>
              <a:off x="8476200" y="1817280"/>
              <a:ext cx="329760" cy="47520"/>
            </a:xfrm>
            <a:custGeom>
              <a:avLst/>
              <a:gdLst/>
              <a:ahLst/>
              <a:rect l="l" t="t" r="r" b="b"/>
              <a:pathLst>
                <a:path w="382905" h="55244">
                  <a:moveTo>
                    <a:pt x="382905" y="27622"/>
                  </a:moveTo>
                  <a:cubicBezTo>
                    <a:pt x="382905" y="42878"/>
                    <a:pt x="297189" y="55245"/>
                    <a:pt x="191453" y="55245"/>
                  </a:cubicBezTo>
                  <a:cubicBezTo>
                    <a:pt x="85716" y="55245"/>
                    <a:pt x="0" y="42878"/>
                    <a:pt x="0" y="27623"/>
                  </a:cubicBezTo>
                  <a:cubicBezTo>
                    <a:pt x="0" y="12367"/>
                    <a:pt x="85716" y="0"/>
                    <a:pt x="191453" y="0"/>
                  </a:cubicBezTo>
                  <a:cubicBezTo>
                    <a:pt x="297189" y="0"/>
                    <a:pt x="382905" y="12367"/>
                    <a:pt x="382905" y="27622"/>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313c3f"/>
                </a:solidFill>
                <a:latin typeface="Source Sans Pro"/>
              </a:endParaRPr>
            </a:p>
          </p:txBody>
        </p:sp>
        <p:sp>
          <p:nvSpPr>
            <p:cNvPr id="1273" name="Freeform: Shape 118"/>
            <p:cNvSpPr/>
            <p:nvPr/>
          </p:nvSpPr>
          <p:spPr>
            <a:xfrm>
              <a:off x="8476200" y="1841040"/>
              <a:ext cx="329760" cy="72000"/>
            </a:xfrm>
            <a:custGeom>
              <a:avLst/>
              <a:gdLst/>
              <a:ahLst/>
              <a:rect l="l" t="t" r="r" b="b"/>
              <a:pathLst>
                <a:path w="382905" h="83820">
                  <a:moveTo>
                    <a:pt x="0" y="56198"/>
                  </a:moveTo>
                  <a:cubicBezTo>
                    <a:pt x="0" y="71438"/>
                    <a:pt x="85725" y="83820"/>
                    <a:pt x="191453" y="83820"/>
                  </a:cubicBezTo>
                  <a:cubicBezTo>
                    <a:pt x="297180" y="83820"/>
                    <a:pt x="382905" y="71438"/>
                    <a:pt x="382905" y="56198"/>
                  </a:cubicBezTo>
                  <a:lnTo>
                    <a:pt x="382905" y="0"/>
                  </a:lnTo>
                  <a:cubicBezTo>
                    <a:pt x="382905" y="15240"/>
                    <a:pt x="297180" y="27623"/>
                    <a:pt x="191453" y="27623"/>
                  </a:cubicBezTo>
                  <a:cubicBezTo>
                    <a:pt x="85725" y="27623"/>
                    <a:pt x="0" y="15240"/>
                    <a:pt x="0" y="0"/>
                  </a:cubicBezTo>
                  <a:lnTo>
                    <a:pt x="0" y="56198"/>
                  </a:lnTo>
                  <a:close/>
                </a:path>
              </a:pathLst>
            </a:custGeom>
            <a:solidFill>
              <a:srgbClr val="6c2f13"/>
            </a:solidFill>
            <a:ln w="0">
              <a:noFill/>
            </a:ln>
          </p:spPr>
          <p:style>
            <a:lnRef idx="0"/>
            <a:fillRef idx="0"/>
            <a:effectRef idx="0"/>
            <a:fontRef idx="minor"/>
          </p:style>
          <p:txBody>
            <a:bodyPr lIns="90000" rIns="90000" tIns="25200" bIns="25200" anchor="ctr">
              <a:noAutofit/>
            </a:bodyPr>
            <a:p>
              <a:endParaRPr b="0" lang="en-US" sz="1800" spc="-1" strike="noStrike">
                <a:solidFill>
                  <a:srgbClr val="313c3f"/>
                </a:solidFill>
                <a:latin typeface="Source Sans Pro"/>
              </a:endParaRPr>
            </a:p>
          </p:txBody>
        </p:sp>
        <p:sp>
          <p:nvSpPr>
            <p:cNvPr id="1274" name="Freeform: Shape 119"/>
            <p:cNvSpPr/>
            <p:nvPr/>
          </p:nvSpPr>
          <p:spPr>
            <a:xfrm>
              <a:off x="8539560" y="1888560"/>
              <a:ext cx="205200" cy="193680"/>
            </a:xfrm>
            <a:custGeom>
              <a:avLst/>
              <a:gdLst/>
              <a:ahLst/>
              <a:rect l="l" t="t" r="r" b="b"/>
              <a:pathLst>
                <a:path w="238125" h="224789">
                  <a:moveTo>
                    <a:pt x="0" y="207645"/>
                  </a:moveTo>
                  <a:cubicBezTo>
                    <a:pt x="0" y="217170"/>
                    <a:pt x="53340" y="224790"/>
                    <a:pt x="119063" y="224790"/>
                  </a:cubicBezTo>
                  <a:cubicBezTo>
                    <a:pt x="184785" y="224790"/>
                    <a:pt x="238125" y="217170"/>
                    <a:pt x="238125" y="207645"/>
                  </a:cubicBezTo>
                  <a:lnTo>
                    <a:pt x="238125" y="0"/>
                  </a:lnTo>
                  <a:cubicBezTo>
                    <a:pt x="238125" y="9525"/>
                    <a:pt x="184785" y="17145"/>
                    <a:pt x="119063" y="17145"/>
                  </a:cubicBezTo>
                  <a:cubicBezTo>
                    <a:pt x="53340" y="17145"/>
                    <a:pt x="0" y="9525"/>
                    <a:pt x="0" y="0"/>
                  </a:cubicBezTo>
                  <a:lnTo>
                    <a:pt x="0" y="20764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75" name="Freeform: Shape 120"/>
            <p:cNvSpPr/>
            <p:nvPr/>
          </p:nvSpPr>
          <p:spPr>
            <a:xfrm>
              <a:off x="10212120" y="1790640"/>
              <a:ext cx="905760" cy="2206080"/>
            </a:xfrm>
            <a:custGeom>
              <a:avLst/>
              <a:gdLst/>
              <a:ahLst/>
              <a:rect l="l" t="t" r="r" b="b"/>
              <a:pathLst>
                <a:path w="1050749" h="2559261">
                  <a:moveTo>
                    <a:pt x="54074" y="29902"/>
                  </a:moveTo>
                  <a:lnTo>
                    <a:pt x="1044674" y="2501640"/>
                  </a:lnTo>
                  <a:cubicBezTo>
                    <a:pt x="1068487" y="2567362"/>
                    <a:pt x="1016099" y="2580697"/>
                    <a:pt x="994192" y="2521642"/>
                  </a:cubicBezTo>
                  <a:lnTo>
                    <a:pt x="962760" y="2434965"/>
                  </a:lnTo>
                  <a:lnTo>
                    <a:pt x="4544" y="51809"/>
                  </a:lnTo>
                  <a:cubicBezTo>
                    <a:pt x="-15458" y="-4388"/>
                    <a:pt x="35977" y="-19628"/>
                    <a:pt x="54074" y="29902"/>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76" name="Freeform: Shape 121"/>
            <p:cNvSpPr/>
            <p:nvPr/>
          </p:nvSpPr>
          <p:spPr>
            <a:xfrm>
              <a:off x="7871040" y="5477040"/>
              <a:ext cx="1541880" cy="224640"/>
            </a:xfrm>
            <a:custGeom>
              <a:avLst/>
              <a:gdLst/>
              <a:ahLst/>
              <a:rect l="l" t="t" r="r" b="b"/>
              <a:pathLst>
                <a:path w="1788794" h="260984">
                  <a:moveTo>
                    <a:pt x="1788795" y="130493"/>
                  </a:moveTo>
                  <a:cubicBezTo>
                    <a:pt x="1788795" y="202562"/>
                    <a:pt x="1388360" y="260985"/>
                    <a:pt x="894398" y="260985"/>
                  </a:cubicBezTo>
                  <a:cubicBezTo>
                    <a:pt x="400436" y="260985"/>
                    <a:pt x="0" y="202562"/>
                    <a:pt x="0" y="130493"/>
                  </a:cubicBezTo>
                  <a:cubicBezTo>
                    <a:pt x="0" y="58423"/>
                    <a:pt x="400436" y="0"/>
                    <a:pt x="894398" y="0"/>
                  </a:cubicBezTo>
                  <a:cubicBezTo>
                    <a:pt x="1388360" y="0"/>
                    <a:pt x="1788795" y="58423"/>
                    <a:pt x="1788795" y="130493"/>
                  </a:cubicBezTo>
                  <a:close/>
                </a:path>
              </a:pathLst>
            </a:custGeom>
            <a:solidFill>
              <a:srgbClr val="97472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77" name="Freeform: Shape 122"/>
            <p:cNvSpPr/>
            <p:nvPr/>
          </p:nvSpPr>
          <p:spPr>
            <a:xfrm>
              <a:off x="7871040" y="5588640"/>
              <a:ext cx="1541880" cy="337320"/>
            </a:xfrm>
            <a:custGeom>
              <a:avLst/>
              <a:gdLst/>
              <a:ahLst/>
              <a:rect l="l" t="t" r="r" b="b"/>
              <a:pathLst>
                <a:path w="1788795" h="391477">
                  <a:moveTo>
                    <a:pt x="0" y="260985"/>
                  </a:moveTo>
                  <a:cubicBezTo>
                    <a:pt x="0" y="333375"/>
                    <a:pt x="400050" y="391478"/>
                    <a:pt x="894398" y="391478"/>
                  </a:cubicBezTo>
                  <a:cubicBezTo>
                    <a:pt x="1388745" y="391478"/>
                    <a:pt x="1788795" y="333375"/>
                    <a:pt x="1788795" y="260985"/>
                  </a:cubicBezTo>
                  <a:lnTo>
                    <a:pt x="1788795" y="0"/>
                  </a:lnTo>
                  <a:cubicBezTo>
                    <a:pt x="1788795" y="72390"/>
                    <a:pt x="1388745" y="130492"/>
                    <a:pt x="894398" y="130492"/>
                  </a:cubicBezTo>
                  <a:cubicBezTo>
                    <a:pt x="400050" y="130492"/>
                    <a:pt x="0" y="72390"/>
                    <a:pt x="0" y="0"/>
                  </a:cubicBezTo>
                  <a:lnTo>
                    <a:pt x="0" y="26098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78" name="Freeform: Shape 123"/>
            <p:cNvSpPr/>
            <p:nvPr/>
          </p:nvSpPr>
          <p:spPr>
            <a:xfrm>
              <a:off x="8525520" y="2730240"/>
              <a:ext cx="232920" cy="2859120"/>
            </a:xfrm>
            <a:custGeom>
              <a:avLst/>
              <a:gdLst/>
              <a:ahLst/>
              <a:rect l="l" t="t" r="r" b="b"/>
              <a:pathLst>
                <a:path w="270509" h="3316605">
                  <a:moveTo>
                    <a:pt x="0" y="0"/>
                  </a:moveTo>
                  <a:lnTo>
                    <a:pt x="0" y="3273743"/>
                  </a:lnTo>
                  <a:cubicBezTo>
                    <a:pt x="0" y="3297555"/>
                    <a:pt x="60960" y="3316605"/>
                    <a:pt x="135255" y="3316605"/>
                  </a:cubicBezTo>
                  <a:cubicBezTo>
                    <a:pt x="209550" y="3316605"/>
                    <a:pt x="270510" y="3297555"/>
                    <a:pt x="270510" y="3273743"/>
                  </a:cubicBezTo>
                  <a:lnTo>
                    <a:pt x="270510" y="0"/>
                  </a:lnTo>
                  <a:cubicBezTo>
                    <a:pt x="236220" y="4763"/>
                    <a:pt x="187643" y="8573"/>
                    <a:pt x="135255" y="8573"/>
                  </a:cubicBezTo>
                  <a:cubicBezTo>
                    <a:pt x="81915" y="7620"/>
                    <a:pt x="34290" y="4763"/>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79" name="Freeform: Shape 124"/>
            <p:cNvSpPr/>
            <p:nvPr/>
          </p:nvSpPr>
          <p:spPr>
            <a:xfrm>
              <a:off x="8719200" y="1711440"/>
              <a:ext cx="1612440" cy="752040"/>
            </a:xfrm>
            <a:custGeom>
              <a:avLst/>
              <a:gdLst/>
              <a:ahLst/>
              <a:rect l="l" t="t" r="r" b="b"/>
              <a:pathLst>
                <a:path w="1870765" h="872440">
                  <a:moveTo>
                    <a:pt x="407670" y="414288"/>
                  </a:moveTo>
                  <a:lnTo>
                    <a:pt x="0" y="555258"/>
                  </a:lnTo>
                  <a:lnTo>
                    <a:pt x="1905" y="556210"/>
                  </a:lnTo>
                  <a:cubicBezTo>
                    <a:pt x="35243" y="571450"/>
                    <a:pt x="62865" y="592405"/>
                    <a:pt x="85725" y="621933"/>
                  </a:cubicBezTo>
                  <a:cubicBezTo>
                    <a:pt x="100965" y="640983"/>
                    <a:pt x="113347" y="663843"/>
                    <a:pt x="121920" y="688608"/>
                  </a:cubicBezTo>
                  <a:cubicBezTo>
                    <a:pt x="143828" y="751473"/>
                    <a:pt x="136207" y="818148"/>
                    <a:pt x="105728" y="872440"/>
                  </a:cubicBezTo>
                  <a:lnTo>
                    <a:pt x="142875" y="858153"/>
                  </a:lnTo>
                  <a:cubicBezTo>
                    <a:pt x="197168" y="838150"/>
                    <a:pt x="252413" y="817195"/>
                    <a:pt x="306705" y="796240"/>
                  </a:cubicBezTo>
                  <a:lnTo>
                    <a:pt x="798195" y="611455"/>
                  </a:lnTo>
                  <a:lnTo>
                    <a:pt x="804863" y="609550"/>
                  </a:lnTo>
                  <a:cubicBezTo>
                    <a:pt x="844868" y="596215"/>
                    <a:pt x="887730" y="579070"/>
                    <a:pt x="932497" y="560973"/>
                  </a:cubicBezTo>
                  <a:lnTo>
                    <a:pt x="1788795" y="239028"/>
                  </a:lnTo>
                  <a:cubicBezTo>
                    <a:pt x="1852613" y="217120"/>
                    <a:pt x="1885950" y="146635"/>
                    <a:pt x="1864043" y="82818"/>
                  </a:cubicBezTo>
                  <a:cubicBezTo>
                    <a:pt x="1842135" y="19000"/>
                    <a:pt x="1771650" y="-15290"/>
                    <a:pt x="1707832" y="6618"/>
                  </a:cubicBezTo>
                  <a:cubicBezTo>
                    <a:pt x="1649730" y="26620"/>
                    <a:pt x="1617345" y="85675"/>
                    <a:pt x="1627823" y="144730"/>
                  </a:cubicBezTo>
                  <a:cubicBezTo>
                    <a:pt x="1412557" y="159018"/>
                    <a:pt x="774382" y="286653"/>
                    <a:pt x="407670" y="414288"/>
                  </a:cubicBezTo>
                  <a:close/>
                  <a:moveTo>
                    <a:pt x="1725930" y="58053"/>
                  </a:moveTo>
                  <a:cubicBezTo>
                    <a:pt x="1762125" y="45670"/>
                    <a:pt x="1801178" y="64720"/>
                    <a:pt x="1813560" y="100915"/>
                  </a:cubicBezTo>
                  <a:cubicBezTo>
                    <a:pt x="1825943" y="137110"/>
                    <a:pt x="1806893" y="176163"/>
                    <a:pt x="1770698" y="189498"/>
                  </a:cubicBezTo>
                  <a:cubicBezTo>
                    <a:pt x="1734503" y="201880"/>
                    <a:pt x="1695450" y="182830"/>
                    <a:pt x="1683068" y="146635"/>
                  </a:cubicBezTo>
                  <a:lnTo>
                    <a:pt x="1683068" y="145683"/>
                  </a:lnTo>
                  <a:lnTo>
                    <a:pt x="1683068" y="144730"/>
                  </a:lnTo>
                  <a:cubicBezTo>
                    <a:pt x="1677353" y="99010"/>
                    <a:pt x="1695450" y="68530"/>
                    <a:pt x="1725930" y="5805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0" name="Freeform: Shape 125"/>
            <p:cNvSpPr/>
            <p:nvPr/>
          </p:nvSpPr>
          <p:spPr>
            <a:xfrm>
              <a:off x="6095880" y="498024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4315" y="44768"/>
                    <a:pt x="183833"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3340"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1" name="Freeform: Shape 126"/>
            <p:cNvSpPr/>
            <p:nvPr/>
          </p:nvSpPr>
          <p:spPr>
            <a:xfrm>
              <a:off x="7759440" y="4979520"/>
              <a:ext cx="275760" cy="214920"/>
            </a:xfrm>
            <a:custGeom>
              <a:avLst/>
              <a:gdLst/>
              <a:ahLst/>
              <a:rect l="l" t="t" r="r" b="b"/>
              <a:pathLst>
                <a:path w="320039" h="249555">
                  <a:moveTo>
                    <a:pt x="198120" y="0"/>
                  </a:moveTo>
                  <a:cubicBezTo>
                    <a:pt x="265747" y="0"/>
                    <a:pt x="320040" y="55245"/>
                    <a:pt x="320040" y="122872"/>
                  </a:cubicBezTo>
                  <a:cubicBezTo>
                    <a:pt x="320040" y="190500"/>
                    <a:pt x="265747" y="245745"/>
                    <a:pt x="198120" y="245745"/>
                  </a:cubicBezTo>
                  <a:lnTo>
                    <a:pt x="61913" y="249555"/>
                  </a:lnTo>
                  <a:lnTo>
                    <a:pt x="0" y="249555"/>
                  </a:lnTo>
                  <a:lnTo>
                    <a:pt x="0" y="100965"/>
                  </a:lnTo>
                  <a:lnTo>
                    <a:pt x="77152" y="104775"/>
                  </a:lnTo>
                  <a:cubicBezTo>
                    <a:pt x="86677" y="44768"/>
                    <a:pt x="137160" y="0"/>
                    <a:pt x="198120" y="0"/>
                  </a:cubicBezTo>
                  <a:close/>
                  <a:moveTo>
                    <a:pt x="198120" y="53340"/>
                  </a:moveTo>
                  <a:cubicBezTo>
                    <a:pt x="160020" y="53340"/>
                    <a:pt x="129540" y="85725"/>
                    <a:pt x="129540" y="122872"/>
                  </a:cubicBezTo>
                  <a:cubicBezTo>
                    <a:pt x="129540" y="160972"/>
                    <a:pt x="160020" y="192405"/>
                    <a:pt x="198120" y="192405"/>
                  </a:cubicBezTo>
                  <a:cubicBezTo>
                    <a:pt x="236220" y="192405"/>
                    <a:pt x="266700" y="160972"/>
                    <a:pt x="266700" y="122872"/>
                  </a:cubicBezTo>
                  <a:cubicBezTo>
                    <a:pt x="267652" y="83820"/>
                    <a:pt x="236220" y="53340"/>
                    <a:pt x="1981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2" name="Freeform: Shape 1087"/>
            <p:cNvSpPr/>
            <p:nvPr/>
          </p:nvSpPr>
          <p:spPr>
            <a:xfrm>
              <a:off x="6278040" y="5029560"/>
              <a:ext cx="1574640" cy="350280"/>
            </a:xfrm>
            <a:custGeom>
              <a:avLst/>
              <a:gdLst/>
              <a:ahLst/>
              <a:rect l="l" t="t" r="r" b="b"/>
              <a:pathLst>
                <a:path w="1826894" h="406717">
                  <a:moveTo>
                    <a:pt x="107632" y="118110"/>
                  </a:moveTo>
                  <a:lnTo>
                    <a:pt x="329565" y="299085"/>
                  </a:lnTo>
                  <a:cubicBezTo>
                    <a:pt x="360045" y="360045"/>
                    <a:pt x="609600" y="406718"/>
                    <a:pt x="913448" y="406718"/>
                  </a:cubicBezTo>
                  <a:cubicBezTo>
                    <a:pt x="1217295" y="406718"/>
                    <a:pt x="1466850" y="359093"/>
                    <a:pt x="1497330" y="299085"/>
                  </a:cubicBezTo>
                  <a:lnTo>
                    <a:pt x="1719263" y="118110"/>
                  </a:lnTo>
                  <a:lnTo>
                    <a:pt x="1782128" y="118110"/>
                  </a:lnTo>
                  <a:cubicBezTo>
                    <a:pt x="1806892" y="118110"/>
                    <a:pt x="1826895" y="91440"/>
                    <a:pt x="1826895" y="59055"/>
                  </a:cubicBezTo>
                  <a:cubicBezTo>
                    <a:pt x="1826895" y="26670"/>
                    <a:pt x="1806892" y="0"/>
                    <a:pt x="1782128" y="0"/>
                  </a:cubicBezTo>
                  <a:lnTo>
                    <a:pt x="44767" y="0"/>
                  </a:lnTo>
                  <a:cubicBezTo>
                    <a:pt x="20002" y="0"/>
                    <a:pt x="0" y="26670"/>
                    <a:pt x="0" y="59055"/>
                  </a:cubicBezTo>
                  <a:cubicBezTo>
                    <a:pt x="0" y="91440"/>
                    <a:pt x="20002" y="118110"/>
                    <a:pt x="44767" y="118110"/>
                  </a:cubicBezTo>
                  <a:lnTo>
                    <a:pt x="107632"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3" name="Freeform: Shape 1088"/>
            <p:cNvSpPr/>
            <p:nvPr/>
          </p:nvSpPr>
          <p:spPr>
            <a:xfrm>
              <a:off x="7045920" y="2886840"/>
              <a:ext cx="894600" cy="2202120"/>
            </a:xfrm>
            <a:custGeom>
              <a:avLst/>
              <a:gdLst/>
              <a:ahLst/>
              <a:rect l="l" t="t" r="r" b="b"/>
              <a:pathLst>
                <a:path w="1037892" h="2554395">
                  <a:moveTo>
                    <a:pt x="54015" y="29970"/>
                  </a:moveTo>
                  <a:lnTo>
                    <a:pt x="1032232" y="2496945"/>
                  </a:lnTo>
                  <a:cubicBezTo>
                    <a:pt x="1055092" y="2562668"/>
                    <a:pt x="1002705" y="2576002"/>
                    <a:pt x="981750" y="2515995"/>
                  </a:cubicBezTo>
                  <a:lnTo>
                    <a:pt x="951270" y="2429318"/>
                  </a:lnTo>
                  <a:lnTo>
                    <a:pt x="4485" y="50925"/>
                  </a:lnTo>
                  <a:cubicBezTo>
                    <a:pt x="-15518" y="-4320"/>
                    <a:pt x="36870" y="-19560"/>
                    <a:pt x="54015" y="2997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4" name="Freeform: Shape 1089"/>
            <p:cNvSpPr/>
            <p:nvPr/>
          </p:nvSpPr>
          <p:spPr>
            <a:xfrm>
              <a:off x="6962040" y="2276280"/>
              <a:ext cx="1606680" cy="741960"/>
            </a:xfrm>
            <a:custGeom>
              <a:avLst/>
              <a:gdLst/>
              <a:ahLst/>
              <a:rect l="l" t="t" r="r" b="b"/>
              <a:pathLst>
                <a:path w="1864097" h="861010">
                  <a:moveTo>
                    <a:pt x="1355463" y="137160"/>
                  </a:moveTo>
                  <a:lnTo>
                    <a:pt x="1751703" y="0"/>
                  </a:lnTo>
                  <a:lnTo>
                    <a:pt x="1750750" y="2858"/>
                  </a:lnTo>
                  <a:lnTo>
                    <a:pt x="1749798" y="4763"/>
                  </a:lnTo>
                  <a:cubicBezTo>
                    <a:pt x="1742178" y="20003"/>
                    <a:pt x="1736463" y="37148"/>
                    <a:pt x="1731700" y="53340"/>
                  </a:cubicBezTo>
                  <a:cubicBezTo>
                    <a:pt x="1727890" y="67628"/>
                    <a:pt x="1725985" y="80963"/>
                    <a:pt x="1725985" y="96203"/>
                  </a:cubicBezTo>
                  <a:cubicBezTo>
                    <a:pt x="1723128" y="180975"/>
                    <a:pt x="1765990" y="260033"/>
                    <a:pt x="1841238" y="302895"/>
                  </a:cubicBezTo>
                  <a:cubicBezTo>
                    <a:pt x="1848858" y="306705"/>
                    <a:pt x="1856478" y="310515"/>
                    <a:pt x="1864098" y="314325"/>
                  </a:cubicBezTo>
                  <a:cubicBezTo>
                    <a:pt x="1800280" y="334328"/>
                    <a:pt x="1736463" y="355283"/>
                    <a:pt x="1671693" y="375285"/>
                  </a:cubicBezTo>
                  <a:lnTo>
                    <a:pt x="1171630" y="534353"/>
                  </a:lnTo>
                  <a:lnTo>
                    <a:pt x="1164963" y="536258"/>
                  </a:lnTo>
                  <a:cubicBezTo>
                    <a:pt x="1124958" y="549593"/>
                    <a:pt x="1081143" y="563880"/>
                    <a:pt x="1034470" y="577215"/>
                  </a:cubicBezTo>
                  <a:lnTo>
                    <a:pt x="162933" y="854393"/>
                  </a:lnTo>
                  <a:cubicBezTo>
                    <a:pt x="99115" y="876300"/>
                    <a:pt x="29583" y="842010"/>
                    <a:pt x="6723" y="778193"/>
                  </a:cubicBezTo>
                  <a:cubicBezTo>
                    <a:pt x="-15185" y="714375"/>
                    <a:pt x="18153" y="643890"/>
                    <a:pt x="81970" y="621983"/>
                  </a:cubicBezTo>
                  <a:cubicBezTo>
                    <a:pt x="140073" y="601980"/>
                    <a:pt x="201985" y="627698"/>
                    <a:pt x="230560" y="681038"/>
                  </a:cubicBezTo>
                  <a:cubicBezTo>
                    <a:pt x="408678" y="558165"/>
                    <a:pt x="987798" y="264795"/>
                    <a:pt x="1355463" y="137160"/>
                  </a:cubicBezTo>
                  <a:close/>
                  <a:moveTo>
                    <a:pt x="99115" y="673418"/>
                  </a:moveTo>
                  <a:cubicBezTo>
                    <a:pt x="62920" y="685800"/>
                    <a:pt x="43870" y="725805"/>
                    <a:pt x="56253" y="762000"/>
                  </a:cubicBezTo>
                  <a:cubicBezTo>
                    <a:pt x="68635" y="798195"/>
                    <a:pt x="108640" y="817245"/>
                    <a:pt x="143883" y="804863"/>
                  </a:cubicBezTo>
                  <a:cubicBezTo>
                    <a:pt x="180078" y="792480"/>
                    <a:pt x="199128" y="752475"/>
                    <a:pt x="186745" y="716280"/>
                  </a:cubicBezTo>
                  <a:lnTo>
                    <a:pt x="186745" y="715328"/>
                  </a:lnTo>
                  <a:lnTo>
                    <a:pt x="185793" y="714375"/>
                  </a:lnTo>
                  <a:cubicBezTo>
                    <a:pt x="162933" y="675323"/>
                    <a:pt x="129595" y="662940"/>
                    <a:pt x="99115" y="67341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5" name="Freeform: Shape 1090"/>
            <p:cNvSpPr/>
            <p:nvPr/>
          </p:nvSpPr>
          <p:spPr>
            <a:xfrm rot="20452800">
              <a:off x="8448840" y="2174040"/>
              <a:ext cx="385920" cy="387360"/>
            </a:xfrm>
            <a:custGeom>
              <a:avLst/>
              <a:gdLst/>
              <a:ahLst/>
              <a:rect l="l" t="t" r="r" b="b"/>
              <a:pathLst>
                <a:path w="447695" h="449600">
                  <a:moveTo>
                    <a:pt x="447696" y="224800"/>
                  </a:moveTo>
                  <a:cubicBezTo>
                    <a:pt x="447696" y="348954"/>
                    <a:pt x="347476" y="449601"/>
                    <a:pt x="223848" y="449601"/>
                  </a:cubicBezTo>
                  <a:cubicBezTo>
                    <a:pt x="100220" y="449601"/>
                    <a:pt x="0" y="348954"/>
                    <a:pt x="0" y="224800"/>
                  </a:cubicBezTo>
                  <a:cubicBezTo>
                    <a:pt x="0" y="100647"/>
                    <a:pt x="100220" y="0"/>
                    <a:pt x="223848" y="0"/>
                  </a:cubicBezTo>
                  <a:cubicBezTo>
                    <a:pt x="347476" y="0"/>
                    <a:pt x="447696" y="100647"/>
                    <a:pt x="447696" y="22480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6" name="Freeform: Shape 1091"/>
            <p:cNvSpPr/>
            <p:nvPr/>
          </p:nvSpPr>
          <p:spPr>
            <a:xfrm rot="20452800">
              <a:off x="8532720" y="2259000"/>
              <a:ext cx="218160" cy="218160"/>
            </a:xfrm>
            <a:custGeom>
              <a:avLst/>
              <a:gdLst/>
              <a:ahLst/>
              <a:rect l="l" t="t" r="r" b="b"/>
              <a:pathLst>
                <a:path w="253376" h="253376">
                  <a:moveTo>
                    <a:pt x="253377" y="126688"/>
                  </a:moveTo>
                  <a:cubicBezTo>
                    <a:pt x="253377" y="196656"/>
                    <a:pt x="196656" y="253377"/>
                    <a:pt x="126688" y="253377"/>
                  </a:cubicBezTo>
                  <a:cubicBezTo>
                    <a:pt x="56720" y="253377"/>
                    <a:pt x="0" y="196656"/>
                    <a:pt x="0" y="126688"/>
                  </a:cubicBezTo>
                  <a:cubicBezTo>
                    <a:pt x="0" y="56720"/>
                    <a:pt x="56721" y="0"/>
                    <a:pt x="126688" y="0"/>
                  </a:cubicBezTo>
                  <a:cubicBezTo>
                    <a:pt x="196657" y="0"/>
                    <a:pt x="253377" y="56720"/>
                    <a:pt x="253377" y="126688"/>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87" name="Freeform: Shape 1092"/>
            <p:cNvSpPr/>
            <p:nvPr/>
          </p:nvSpPr>
          <p:spPr>
            <a:xfrm rot="20452800">
              <a:off x="8587080" y="2312640"/>
              <a:ext cx="109800" cy="109800"/>
            </a:xfrm>
            <a:custGeom>
              <a:avLst/>
              <a:gdLst/>
              <a:ahLst/>
              <a:rect l="l" t="t" r="r" b="b"/>
              <a:pathLst>
                <a:path w="127628" h="127628">
                  <a:moveTo>
                    <a:pt x="127629" y="63814"/>
                  </a:moveTo>
                  <a:cubicBezTo>
                    <a:pt x="127629" y="99058"/>
                    <a:pt x="99058" y="127629"/>
                    <a:pt x="63814" y="127629"/>
                  </a:cubicBezTo>
                  <a:cubicBezTo>
                    <a:pt x="28570" y="127629"/>
                    <a:pt x="0" y="99058"/>
                    <a:pt x="0" y="63814"/>
                  </a:cubicBezTo>
                  <a:cubicBezTo>
                    <a:pt x="0" y="28571"/>
                    <a:pt x="28570" y="0"/>
                    <a:pt x="63814" y="0"/>
                  </a:cubicBezTo>
                  <a:cubicBezTo>
                    <a:pt x="99058" y="0"/>
                    <a:pt x="127629" y="28571"/>
                    <a:pt x="127629" y="63814"/>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288" name="Graphic 106" descr=""/>
            <p:cNvPicPr/>
            <p:nvPr/>
          </p:nvPicPr>
          <p:blipFill>
            <a:blip r:embed="rId1"/>
            <a:stretch/>
          </p:blipFill>
          <p:spPr>
            <a:xfrm>
              <a:off x="7619760" y="1908000"/>
              <a:ext cx="2176200" cy="914400"/>
            </a:xfrm>
            <a:prstGeom prst="rect">
              <a:avLst/>
            </a:prstGeom>
            <a:ln w="0">
              <a:noFill/>
            </a:ln>
          </p:spPr>
        </p:pic>
        <p:sp>
          <p:nvSpPr>
            <p:cNvPr id="1289" name="Freeform: Shape 1100"/>
            <p:cNvSpPr/>
            <p:nvPr/>
          </p:nvSpPr>
          <p:spPr>
            <a:xfrm>
              <a:off x="9358920" y="1791000"/>
              <a:ext cx="894600" cy="2202120"/>
            </a:xfrm>
            <a:custGeom>
              <a:avLst/>
              <a:gdLst/>
              <a:ahLst/>
              <a:rect l="l" t="t" r="r" b="b"/>
              <a:pathLst>
                <a:path w="1037952" h="2554684">
                  <a:moveTo>
                    <a:pt x="983878" y="30259"/>
                  </a:moveTo>
                  <a:lnTo>
                    <a:pt x="5660" y="2497234"/>
                  </a:lnTo>
                  <a:cubicBezTo>
                    <a:pt x="-17200" y="2562957"/>
                    <a:pt x="35188" y="2576292"/>
                    <a:pt x="56143" y="2516284"/>
                  </a:cubicBezTo>
                  <a:lnTo>
                    <a:pt x="86623" y="2429607"/>
                  </a:lnTo>
                  <a:lnTo>
                    <a:pt x="1033408" y="51214"/>
                  </a:lnTo>
                  <a:cubicBezTo>
                    <a:pt x="1053410" y="-4983"/>
                    <a:pt x="1001976" y="-19271"/>
                    <a:pt x="983878" y="30259"/>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90" name="Freeform: Shape 1101"/>
            <p:cNvSpPr/>
            <p:nvPr/>
          </p:nvSpPr>
          <p:spPr>
            <a:xfrm>
              <a:off x="6182280" y="2886120"/>
              <a:ext cx="904680" cy="2205720"/>
            </a:xfrm>
            <a:custGeom>
              <a:avLst/>
              <a:gdLst/>
              <a:ahLst/>
              <a:rect l="l" t="t" r="r" b="b"/>
              <a:pathLst>
                <a:path w="1049796" h="2558975">
                  <a:moveTo>
                    <a:pt x="995722" y="29616"/>
                  </a:moveTo>
                  <a:lnTo>
                    <a:pt x="6075" y="2501354"/>
                  </a:lnTo>
                  <a:cubicBezTo>
                    <a:pt x="-17738" y="2567076"/>
                    <a:pt x="34650" y="2580411"/>
                    <a:pt x="56557" y="2521357"/>
                  </a:cubicBezTo>
                  <a:lnTo>
                    <a:pt x="87990" y="2434679"/>
                  </a:lnTo>
                  <a:lnTo>
                    <a:pt x="1045252" y="51524"/>
                  </a:lnTo>
                  <a:cubicBezTo>
                    <a:pt x="1065255" y="-3721"/>
                    <a:pt x="1013820" y="-19914"/>
                    <a:pt x="995722" y="2961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91" name="Freeform: Shape 1102"/>
            <p:cNvSpPr/>
            <p:nvPr/>
          </p:nvSpPr>
          <p:spPr>
            <a:xfrm>
              <a:off x="6328800" y="513144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313c3f"/>
                </a:solidFill>
                <a:latin typeface="Source Sans Pro"/>
              </a:endParaRPr>
            </a:p>
          </p:txBody>
        </p:sp>
        <p:sp>
          <p:nvSpPr>
            <p:cNvPr id="1292" name="Freeform: Shape 1103"/>
            <p:cNvSpPr/>
            <p:nvPr/>
          </p:nvSpPr>
          <p:spPr>
            <a:xfrm>
              <a:off x="6294240" y="4921920"/>
              <a:ext cx="1541880" cy="224640"/>
            </a:xfrm>
            <a:custGeom>
              <a:avLst/>
              <a:gdLst/>
              <a:ahLst/>
              <a:rect l="l" t="t" r="r" b="b"/>
              <a:pathLst>
                <a:path w="1788795" h="260984">
                  <a:moveTo>
                    <a:pt x="1788795" y="130493"/>
                  </a:moveTo>
                  <a:cubicBezTo>
                    <a:pt x="1788795" y="202562"/>
                    <a:pt x="1388360" y="260985"/>
                    <a:pt x="894398" y="260985"/>
                  </a:cubicBezTo>
                  <a:cubicBezTo>
                    <a:pt x="400435" y="260985"/>
                    <a:pt x="0" y="202562"/>
                    <a:pt x="0" y="130493"/>
                  </a:cubicBezTo>
                  <a:cubicBezTo>
                    <a:pt x="0" y="58423"/>
                    <a:pt x="400435" y="0"/>
                    <a:pt x="894398"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93" name="Freeform: Shape 1104"/>
            <p:cNvSpPr/>
            <p:nvPr/>
          </p:nvSpPr>
          <p:spPr>
            <a:xfrm>
              <a:off x="6345360" y="4959720"/>
              <a:ext cx="1438560" cy="149400"/>
            </a:xfrm>
            <a:custGeom>
              <a:avLst/>
              <a:gdLst/>
              <a:ahLst/>
              <a:rect l="l" t="t" r="r" b="b"/>
              <a:pathLst>
                <a:path w="1668780" h="173355">
                  <a:moveTo>
                    <a:pt x="1668780" y="86678"/>
                  </a:moveTo>
                  <a:cubicBezTo>
                    <a:pt x="1649730" y="95250"/>
                    <a:pt x="1622108" y="102870"/>
                    <a:pt x="1611630" y="105728"/>
                  </a:cubicBezTo>
                  <a:cubicBezTo>
                    <a:pt x="1550670" y="121920"/>
                    <a:pt x="1484948" y="132397"/>
                    <a:pt x="1422083" y="140970"/>
                  </a:cubicBezTo>
                  <a:cubicBezTo>
                    <a:pt x="1229678" y="165735"/>
                    <a:pt x="1028700" y="173355"/>
                    <a:pt x="834390" y="173355"/>
                  </a:cubicBezTo>
                  <a:cubicBezTo>
                    <a:pt x="640080" y="173355"/>
                    <a:pt x="440055" y="165735"/>
                    <a:pt x="246698" y="140970"/>
                  </a:cubicBezTo>
                  <a:cubicBezTo>
                    <a:pt x="183833" y="132397"/>
                    <a:pt x="118110" y="122872"/>
                    <a:pt x="57150" y="105728"/>
                  </a:cubicBezTo>
                  <a:cubicBezTo>
                    <a:pt x="46672" y="102870"/>
                    <a:pt x="20003" y="95250"/>
                    <a:pt x="0" y="86678"/>
                  </a:cubicBezTo>
                  <a:cubicBezTo>
                    <a:pt x="19050" y="78105"/>
                    <a:pt x="46672" y="70485"/>
                    <a:pt x="57150" y="67628"/>
                  </a:cubicBezTo>
                  <a:cubicBezTo>
                    <a:pt x="118110" y="51435"/>
                    <a:pt x="183833" y="40957"/>
                    <a:pt x="246698" y="32385"/>
                  </a:cubicBezTo>
                  <a:cubicBezTo>
                    <a:pt x="439103" y="7620"/>
                    <a:pt x="640080" y="0"/>
                    <a:pt x="834390" y="0"/>
                  </a:cubicBezTo>
                  <a:cubicBezTo>
                    <a:pt x="1028700" y="0"/>
                    <a:pt x="1229678" y="7620"/>
                    <a:pt x="1422083" y="32385"/>
                  </a:cubicBezTo>
                  <a:cubicBezTo>
                    <a:pt x="1484948" y="40957"/>
                    <a:pt x="1550670" y="50482"/>
                    <a:pt x="1611630" y="67628"/>
                  </a:cubicBezTo>
                  <a:cubicBezTo>
                    <a:pt x="1623060" y="70485"/>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94" name="Freeform: Shape 1105"/>
            <p:cNvSpPr/>
            <p:nvPr/>
          </p:nvSpPr>
          <p:spPr>
            <a:xfrm>
              <a:off x="6535080" y="5046840"/>
              <a:ext cx="1060560" cy="62280"/>
            </a:xfrm>
            <a:custGeom>
              <a:avLst/>
              <a:gdLst/>
              <a:ahLst/>
              <a:rect l="l" t="t" r="r" b="b"/>
              <a:pathLst>
                <a:path w="1230629" h="72390">
                  <a:moveTo>
                    <a:pt x="0" y="36195"/>
                  </a:moveTo>
                  <a:cubicBezTo>
                    <a:pt x="9525" y="35242"/>
                    <a:pt x="19050" y="33338"/>
                    <a:pt x="27623" y="32385"/>
                  </a:cubicBezTo>
                  <a:cubicBezTo>
                    <a:pt x="220027" y="7620"/>
                    <a:pt x="421005" y="0"/>
                    <a:pt x="615315" y="0"/>
                  </a:cubicBezTo>
                  <a:cubicBezTo>
                    <a:pt x="809625" y="0"/>
                    <a:pt x="1010603" y="7620"/>
                    <a:pt x="1203008" y="32385"/>
                  </a:cubicBezTo>
                  <a:cubicBezTo>
                    <a:pt x="1212533" y="33338"/>
                    <a:pt x="1222058" y="35242"/>
                    <a:pt x="1230630" y="36195"/>
                  </a:cubicBezTo>
                  <a:cubicBezTo>
                    <a:pt x="1221105" y="37147"/>
                    <a:pt x="1211580" y="39053"/>
                    <a:pt x="1203008" y="40005"/>
                  </a:cubicBezTo>
                  <a:cubicBezTo>
                    <a:pt x="1010603" y="64770"/>
                    <a:pt x="809625" y="72390"/>
                    <a:pt x="615315" y="72390"/>
                  </a:cubicBezTo>
                  <a:cubicBezTo>
                    <a:pt x="421005" y="72390"/>
                    <a:pt x="220980" y="64770"/>
                    <a:pt x="27623" y="40005"/>
                  </a:cubicBezTo>
                  <a:cubicBezTo>
                    <a:pt x="18098" y="39053"/>
                    <a:pt x="8573"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313c3f"/>
                </a:solidFill>
                <a:latin typeface="Source Sans Pro"/>
              </a:endParaRPr>
            </a:p>
          </p:txBody>
        </p:sp>
        <p:grpSp>
          <p:nvGrpSpPr>
            <p:cNvPr id="1295" name="Graphic 106"/>
            <p:cNvGrpSpPr/>
            <p:nvPr/>
          </p:nvGrpSpPr>
          <p:grpSpPr>
            <a:xfrm>
              <a:off x="6678360" y="3861720"/>
              <a:ext cx="743040" cy="1246320"/>
              <a:chOff x="6678360" y="3861720"/>
              <a:chExt cx="743040" cy="1246320"/>
            </a:xfrm>
          </p:grpSpPr>
          <p:sp>
            <p:nvSpPr>
              <p:cNvPr id="1296" name="Freeform: Shape 1107"/>
              <p:cNvSpPr/>
              <p:nvPr/>
            </p:nvSpPr>
            <p:spPr>
              <a:xfrm>
                <a:off x="6678360" y="3861720"/>
                <a:ext cx="743040" cy="1246320"/>
              </a:xfrm>
              <a:custGeom>
                <a:avLst/>
                <a:gdLst/>
                <a:ahLst/>
                <a:rect l="l" t="t" r="r" b="b"/>
                <a:pathLst>
                  <a:path w="861985" h="1445951">
                    <a:moveTo>
                      <a:pt x="853952" y="284854"/>
                    </a:moveTo>
                    <a:cubicBezTo>
                      <a:pt x="845379" y="248659"/>
                      <a:pt x="834902" y="215322"/>
                      <a:pt x="821567" y="180079"/>
                    </a:cubicBezTo>
                    <a:cubicBezTo>
                      <a:pt x="820615" y="181032"/>
                      <a:pt x="818709" y="182937"/>
                      <a:pt x="816804" y="183889"/>
                    </a:cubicBezTo>
                    <a:cubicBezTo>
                      <a:pt x="814900" y="179127"/>
                      <a:pt x="813947" y="173412"/>
                      <a:pt x="811090" y="168649"/>
                    </a:cubicBezTo>
                    <a:cubicBezTo>
                      <a:pt x="806327" y="158172"/>
                      <a:pt x="800612" y="148647"/>
                      <a:pt x="790134" y="143884"/>
                    </a:cubicBezTo>
                    <a:cubicBezTo>
                      <a:pt x="789182" y="137217"/>
                      <a:pt x="784420" y="132454"/>
                      <a:pt x="777752" y="132454"/>
                    </a:cubicBezTo>
                    <a:cubicBezTo>
                      <a:pt x="773942" y="126739"/>
                      <a:pt x="768227" y="123882"/>
                      <a:pt x="761559" y="123882"/>
                    </a:cubicBezTo>
                    <a:cubicBezTo>
                      <a:pt x="757750" y="118167"/>
                      <a:pt x="751082" y="117214"/>
                      <a:pt x="745367" y="120072"/>
                    </a:cubicBezTo>
                    <a:cubicBezTo>
                      <a:pt x="743462" y="117214"/>
                      <a:pt x="740604" y="116262"/>
                      <a:pt x="736795" y="117214"/>
                    </a:cubicBezTo>
                    <a:cubicBezTo>
                      <a:pt x="733937" y="118167"/>
                      <a:pt x="731079" y="120072"/>
                      <a:pt x="729175" y="121977"/>
                    </a:cubicBezTo>
                    <a:cubicBezTo>
                      <a:pt x="723459" y="127692"/>
                      <a:pt x="717745" y="132454"/>
                      <a:pt x="712029" y="138169"/>
                    </a:cubicBezTo>
                    <a:cubicBezTo>
                      <a:pt x="708220" y="141979"/>
                      <a:pt x="705362" y="145789"/>
                      <a:pt x="704409" y="150552"/>
                    </a:cubicBezTo>
                    <a:cubicBezTo>
                      <a:pt x="704409" y="154362"/>
                      <a:pt x="706315" y="160077"/>
                      <a:pt x="708220" y="163887"/>
                    </a:cubicBezTo>
                    <a:cubicBezTo>
                      <a:pt x="703457" y="164839"/>
                      <a:pt x="699647" y="167697"/>
                      <a:pt x="697742" y="172459"/>
                    </a:cubicBezTo>
                    <a:cubicBezTo>
                      <a:pt x="695837" y="177222"/>
                      <a:pt x="697742" y="181984"/>
                      <a:pt x="700600" y="185794"/>
                    </a:cubicBezTo>
                    <a:cubicBezTo>
                      <a:pt x="701552" y="186747"/>
                      <a:pt x="703457" y="187699"/>
                      <a:pt x="705362" y="188652"/>
                    </a:cubicBezTo>
                    <a:cubicBezTo>
                      <a:pt x="707267" y="188652"/>
                      <a:pt x="708220" y="188652"/>
                      <a:pt x="710125" y="188652"/>
                    </a:cubicBezTo>
                    <a:cubicBezTo>
                      <a:pt x="713934" y="187699"/>
                      <a:pt x="717745" y="185794"/>
                      <a:pt x="720602" y="182937"/>
                    </a:cubicBezTo>
                    <a:cubicBezTo>
                      <a:pt x="721554" y="181984"/>
                      <a:pt x="722507" y="181032"/>
                      <a:pt x="723459" y="181032"/>
                    </a:cubicBezTo>
                    <a:cubicBezTo>
                      <a:pt x="724412" y="181032"/>
                      <a:pt x="725365" y="181032"/>
                      <a:pt x="726317" y="181032"/>
                    </a:cubicBezTo>
                    <a:cubicBezTo>
                      <a:pt x="731079" y="182937"/>
                      <a:pt x="735842" y="183889"/>
                      <a:pt x="740604" y="185794"/>
                    </a:cubicBezTo>
                    <a:cubicBezTo>
                      <a:pt x="750129" y="188652"/>
                      <a:pt x="763465" y="192462"/>
                      <a:pt x="772037" y="187699"/>
                    </a:cubicBezTo>
                    <a:cubicBezTo>
                      <a:pt x="773942" y="191509"/>
                      <a:pt x="774895" y="195319"/>
                      <a:pt x="775847" y="199129"/>
                    </a:cubicBezTo>
                    <a:cubicBezTo>
                      <a:pt x="773942" y="199129"/>
                      <a:pt x="772037" y="199129"/>
                      <a:pt x="771084" y="198177"/>
                    </a:cubicBezTo>
                    <a:cubicBezTo>
                      <a:pt x="768227" y="197224"/>
                      <a:pt x="777752" y="243897"/>
                      <a:pt x="768227" y="279139"/>
                    </a:cubicBezTo>
                    <a:cubicBezTo>
                      <a:pt x="764417" y="294379"/>
                      <a:pt x="765370" y="309619"/>
                      <a:pt x="770132" y="324859"/>
                    </a:cubicBezTo>
                    <a:cubicBezTo>
                      <a:pt x="770132" y="326764"/>
                      <a:pt x="770132" y="327717"/>
                      <a:pt x="770132" y="329622"/>
                    </a:cubicBezTo>
                    <a:cubicBezTo>
                      <a:pt x="770132" y="329622"/>
                      <a:pt x="771084" y="330574"/>
                      <a:pt x="771084" y="331527"/>
                    </a:cubicBezTo>
                    <a:cubicBezTo>
                      <a:pt x="769179" y="331527"/>
                      <a:pt x="767275" y="330574"/>
                      <a:pt x="766322" y="329622"/>
                    </a:cubicBezTo>
                    <a:cubicBezTo>
                      <a:pt x="764417" y="327717"/>
                      <a:pt x="685359" y="289617"/>
                      <a:pt x="680597" y="284854"/>
                    </a:cubicBezTo>
                    <a:cubicBezTo>
                      <a:pt x="666309" y="271519"/>
                      <a:pt x="640592" y="267709"/>
                      <a:pt x="620590" y="251517"/>
                    </a:cubicBezTo>
                    <a:cubicBezTo>
                      <a:pt x="600587" y="245802"/>
                      <a:pt x="585347" y="256279"/>
                      <a:pt x="566297" y="248659"/>
                    </a:cubicBezTo>
                    <a:cubicBezTo>
                      <a:pt x="555820" y="244849"/>
                      <a:pt x="546295" y="240087"/>
                      <a:pt x="536770" y="235324"/>
                    </a:cubicBezTo>
                    <a:cubicBezTo>
                      <a:pt x="531054" y="232467"/>
                      <a:pt x="521529" y="221037"/>
                      <a:pt x="515814" y="222942"/>
                    </a:cubicBezTo>
                    <a:cubicBezTo>
                      <a:pt x="519624" y="230562"/>
                      <a:pt x="518672" y="238182"/>
                      <a:pt x="518672" y="246754"/>
                    </a:cubicBezTo>
                    <a:cubicBezTo>
                      <a:pt x="518672" y="247707"/>
                      <a:pt x="518672" y="248659"/>
                      <a:pt x="518672" y="250564"/>
                    </a:cubicBezTo>
                    <a:cubicBezTo>
                      <a:pt x="517720" y="249612"/>
                      <a:pt x="515814" y="248659"/>
                      <a:pt x="514862" y="247707"/>
                    </a:cubicBezTo>
                    <a:cubicBezTo>
                      <a:pt x="511052" y="243897"/>
                      <a:pt x="508195" y="239134"/>
                      <a:pt x="506289" y="234372"/>
                    </a:cubicBezTo>
                    <a:cubicBezTo>
                      <a:pt x="498670" y="216274"/>
                      <a:pt x="497717" y="196272"/>
                      <a:pt x="498670" y="177222"/>
                    </a:cubicBezTo>
                    <a:cubicBezTo>
                      <a:pt x="498670" y="168649"/>
                      <a:pt x="501527" y="158172"/>
                      <a:pt x="506289" y="151504"/>
                    </a:cubicBezTo>
                    <a:cubicBezTo>
                      <a:pt x="509147" y="152457"/>
                      <a:pt x="512004" y="151504"/>
                      <a:pt x="513910" y="148647"/>
                    </a:cubicBezTo>
                    <a:cubicBezTo>
                      <a:pt x="515814" y="146742"/>
                      <a:pt x="516767" y="143884"/>
                      <a:pt x="517720" y="141027"/>
                    </a:cubicBezTo>
                    <a:cubicBezTo>
                      <a:pt x="519624" y="133407"/>
                      <a:pt x="522482" y="126739"/>
                      <a:pt x="524387" y="119119"/>
                    </a:cubicBezTo>
                    <a:cubicBezTo>
                      <a:pt x="525339" y="116262"/>
                      <a:pt x="526292" y="113404"/>
                      <a:pt x="525339" y="110547"/>
                    </a:cubicBezTo>
                    <a:cubicBezTo>
                      <a:pt x="525339" y="107689"/>
                      <a:pt x="522482" y="104832"/>
                      <a:pt x="519624" y="104832"/>
                    </a:cubicBezTo>
                    <a:cubicBezTo>
                      <a:pt x="516767" y="97212"/>
                      <a:pt x="517720" y="89592"/>
                      <a:pt x="518672" y="81972"/>
                    </a:cubicBezTo>
                    <a:cubicBezTo>
                      <a:pt x="519624" y="74352"/>
                      <a:pt x="521529" y="66732"/>
                      <a:pt x="520577" y="59112"/>
                    </a:cubicBezTo>
                    <a:cubicBezTo>
                      <a:pt x="519624" y="51492"/>
                      <a:pt x="516767" y="42919"/>
                      <a:pt x="510099" y="39109"/>
                    </a:cubicBezTo>
                    <a:cubicBezTo>
                      <a:pt x="508195" y="29584"/>
                      <a:pt x="500574" y="21012"/>
                      <a:pt x="492002" y="15297"/>
                    </a:cubicBezTo>
                    <a:cubicBezTo>
                      <a:pt x="483429" y="9582"/>
                      <a:pt x="473904" y="6724"/>
                      <a:pt x="465332" y="4819"/>
                    </a:cubicBezTo>
                    <a:cubicBezTo>
                      <a:pt x="451997" y="1009"/>
                      <a:pt x="436757" y="-2801"/>
                      <a:pt x="424374" y="2914"/>
                    </a:cubicBezTo>
                    <a:cubicBezTo>
                      <a:pt x="410087" y="2914"/>
                      <a:pt x="394847" y="7677"/>
                      <a:pt x="386274" y="19107"/>
                    </a:cubicBezTo>
                    <a:cubicBezTo>
                      <a:pt x="377702" y="30537"/>
                      <a:pt x="373892" y="44824"/>
                      <a:pt x="376749" y="59112"/>
                    </a:cubicBezTo>
                    <a:cubicBezTo>
                      <a:pt x="373892" y="65779"/>
                      <a:pt x="373892" y="72447"/>
                      <a:pt x="374845" y="80067"/>
                    </a:cubicBezTo>
                    <a:cubicBezTo>
                      <a:pt x="375797" y="86734"/>
                      <a:pt x="377702" y="94354"/>
                      <a:pt x="379607" y="101022"/>
                    </a:cubicBezTo>
                    <a:cubicBezTo>
                      <a:pt x="375797" y="100069"/>
                      <a:pt x="371987" y="103879"/>
                      <a:pt x="371035" y="106737"/>
                    </a:cubicBezTo>
                    <a:cubicBezTo>
                      <a:pt x="370082" y="110547"/>
                      <a:pt x="370082" y="114357"/>
                      <a:pt x="371035" y="118167"/>
                    </a:cubicBezTo>
                    <a:cubicBezTo>
                      <a:pt x="371987" y="121024"/>
                      <a:pt x="372939" y="123882"/>
                      <a:pt x="373892" y="126739"/>
                    </a:cubicBezTo>
                    <a:cubicBezTo>
                      <a:pt x="374845" y="131502"/>
                      <a:pt x="375797" y="136264"/>
                      <a:pt x="376749" y="140074"/>
                    </a:cubicBezTo>
                    <a:cubicBezTo>
                      <a:pt x="378654" y="144837"/>
                      <a:pt x="381512" y="148647"/>
                      <a:pt x="386274" y="148647"/>
                    </a:cubicBezTo>
                    <a:cubicBezTo>
                      <a:pt x="391989" y="177222"/>
                      <a:pt x="396752" y="206749"/>
                      <a:pt x="390085" y="235324"/>
                    </a:cubicBezTo>
                    <a:cubicBezTo>
                      <a:pt x="389132" y="238182"/>
                      <a:pt x="388179" y="241992"/>
                      <a:pt x="385322" y="242944"/>
                    </a:cubicBezTo>
                    <a:cubicBezTo>
                      <a:pt x="383417" y="243897"/>
                      <a:pt x="380560" y="242944"/>
                      <a:pt x="378654" y="242944"/>
                    </a:cubicBezTo>
                    <a:cubicBezTo>
                      <a:pt x="378654" y="242944"/>
                      <a:pt x="378654" y="242944"/>
                      <a:pt x="377702" y="242944"/>
                    </a:cubicBezTo>
                    <a:cubicBezTo>
                      <a:pt x="379607" y="235324"/>
                      <a:pt x="382464" y="228657"/>
                      <a:pt x="385322" y="221037"/>
                    </a:cubicBezTo>
                    <a:cubicBezTo>
                      <a:pt x="374845" y="221989"/>
                      <a:pt x="363414" y="227704"/>
                      <a:pt x="353889" y="230562"/>
                    </a:cubicBezTo>
                    <a:cubicBezTo>
                      <a:pt x="343412" y="234372"/>
                      <a:pt x="308170" y="235324"/>
                      <a:pt x="298645" y="239134"/>
                    </a:cubicBezTo>
                    <a:cubicBezTo>
                      <a:pt x="293882" y="241039"/>
                      <a:pt x="271974" y="240087"/>
                      <a:pt x="267212" y="242944"/>
                    </a:cubicBezTo>
                    <a:cubicBezTo>
                      <a:pt x="267212" y="242944"/>
                      <a:pt x="267212" y="242944"/>
                      <a:pt x="266260" y="243897"/>
                    </a:cubicBezTo>
                    <a:cubicBezTo>
                      <a:pt x="258639" y="244849"/>
                      <a:pt x="252924" y="245802"/>
                      <a:pt x="252924" y="245802"/>
                    </a:cubicBezTo>
                    <a:cubicBezTo>
                      <a:pt x="252924" y="245802"/>
                      <a:pt x="217682" y="266757"/>
                      <a:pt x="206252" y="273424"/>
                    </a:cubicBezTo>
                    <a:cubicBezTo>
                      <a:pt x="201489" y="276282"/>
                      <a:pt x="129099" y="301999"/>
                      <a:pt x="103382" y="308667"/>
                    </a:cubicBezTo>
                    <a:cubicBezTo>
                      <a:pt x="107192" y="294379"/>
                      <a:pt x="111002" y="277234"/>
                      <a:pt x="109097" y="263899"/>
                    </a:cubicBezTo>
                    <a:cubicBezTo>
                      <a:pt x="105287" y="227704"/>
                      <a:pt x="120527" y="176269"/>
                      <a:pt x="117670" y="177222"/>
                    </a:cubicBezTo>
                    <a:cubicBezTo>
                      <a:pt x="115764" y="178174"/>
                      <a:pt x="112907" y="178174"/>
                      <a:pt x="111002" y="178174"/>
                    </a:cubicBezTo>
                    <a:cubicBezTo>
                      <a:pt x="111954" y="173412"/>
                      <a:pt x="112907" y="169602"/>
                      <a:pt x="111954" y="164839"/>
                    </a:cubicBezTo>
                    <a:cubicBezTo>
                      <a:pt x="118622" y="165792"/>
                      <a:pt x="126242" y="163887"/>
                      <a:pt x="130052" y="158172"/>
                    </a:cubicBezTo>
                    <a:cubicBezTo>
                      <a:pt x="134814" y="161029"/>
                      <a:pt x="139577" y="162934"/>
                      <a:pt x="145292" y="163887"/>
                    </a:cubicBezTo>
                    <a:cubicBezTo>
                      <a:pt x="151007" y="164839"/>
                      <a:pt x="158627" y="162934"/>
                      <a:pt x="161485" y="159124"/>
                    </a:cubicBezTo>
                    <a:cubicBezTo>
                      <a:pt x="165295" y="162934"/>
                      <a:pt x="172914" y="161982"/>
                      <a:pt x="175772" y="158172"/>
                    </a:cubicBezTo>
                    <a:cubicBezTo>
                      <a:pt x="176724" y="160077"/>
                      <a:pt x="178629" y="161029"/>
                      <a:pt x="180535" y="161029"/>
                    </a:cubicBezTo>
                    <a:cubicBezTo>
                      <a:pt x="182439" y="161029"/>
                      <a:pt x="187202" y="160077"/>
                      <a:pt x="189107" y="159124"/>
                    </a:cubicBezTo>
                    <a:cubicBezTo>
                      <a:pt x="191964" y="161029"/>
                      <a:pt x="194822" y="162934"/>
                      <a:pt x="197679" y="161982"/>
                    </a:cubicBezTo>
                    <a:cubicBezTo>
                      <a:pt x="199585" y="161982"/>
                      <a:pt x="201489" y="160077"/>
                      <a:pt x="201489" y="158172"/>
                    </a:cubicBezTo>
                    <a:cubicBezTo>
                      <a:pt x="202442" y="155314"/>
                      <a:pt x="199585" y="152457"/>
                      <a:pt x="196727" y="150552"/>
                    </a:cubicBezTo>
                    <a:cubicBezTo>
                      <a:pt x="199585" y="149599"/>
                      <a:pt x="201489" y="145789"/>
                      <a:pt x="201489" y="142932"/>
                    </a:cubicBezTo>
                    <a:cubicBezTo>
                      <a:pt x="201489" y="140074"/>
                      <a:pt x="199585" y="136264"/>
                      <a:pt x="198632" y="133407"/>
                    </a:cubicBezTo>
                    <a:cubicBezTo>
                      <a:pt x="194822" y="125787"/>
                      <a:pt x="191012" y="118167"/>
                      <a:pt x="186249" y="110547"/>
                    </a:cubicBezTo>
                    <a:cubicBezTo>
                      <a:pt x="184345" y="106737"/>
                      <a:pt x="181487" y="102927"/>
                      <a:pt x="177677" y="101974"/>
                    </a:cubicBezTo>
                    <a:cubicBezTo>
                      <a:pt x="174820" y="101022"/>
                      <a:pt x="171962" y="101022"/>
                      <a:pt x="169104" y="101974"/>
                    </a:cubicBezTo>
                    <a:cubicBezTo>
                      <a:pt x="151960" y="103879"/>
                      <a:pt x="134814" y="106737"/>
                      <a:pt x="118622" y="113404"/>
                    </a:cubicBezTo>
                    <a:cubicBezTo>
                      <a:pt x="102429" y="120072"/>
                      <a:pt x="87189" y="129597"/>
                      <a:pt x="76712" y="143884"/>
                    </a:cubicBezTo>
                    <a:cubicBezTo>
                      <a:pt x="71949" y="150552"/>
                      <a:pt x="69092" y="157219"/>
                      <a:pt x="65282" y="163887"/>
                    </a:cubicBezTo>
                    <a:cubicBezTo>
                      <a:pt x="63377" y="162934"/>
                      <a:pt x="61472" y="161029"/>
                      <a:pt x="60520" y="160077"/>
                    </a:cubicBezTo>
                    <a:cubicBezTo>
                      <a:pt x="36707" y="205797"/>
                      <a:pt x="4322" y="306762"/>
                      <a:pt x="1464" y="355339"/>
                    </a:cubicBezTo>
                    <a:cubicBezTo>
                      <a:pt x="1464" y="357244"/>
                      <a:pt x="512" y="359149"/>
                      <a:pt x="512" y="362007"/>
                    </a:cubicBezTo>
                    <a:cubicBezTo>
                      <a:pt x="-2346" y="374389"/>
                      <a:pt x="7179" y="386772"/>
                      <a:pt x="18609" y="392487"/>
                    </a:cubicBezTo>
                    <a:cubicBezTo>
                      <a:pt x="92904" y="429634"/>
                      <a:pt x="210062" y="384867"/>
                      <a:pt x="228160" y="372484"/>
                    </a:cubicBezTo>
                    <a:cubicBezTo>
                      <a:pt x="236732" y="366769"/>
                      <a:pt x="247210" y="361054"/>
                      <a:pt x="256735" y="361054"/>
                    </a:cubicBezTo>
                    <a:cubicBezTo>
                      <a:pt x="268164" y="369627"/>
                      <a:pt x="288167" y="453447"/>
                      <a:pt x="292929" y="472497"/>
                    </a:cubicBezTo>
                    <a:cubicBezTo>
                      <a:pt x="295787" y="481069"/>
                      <a:pt x="297692" y="490594"/>
                      <a:pt x="298645" y="500119"/>
                    </a:cubicBezTo>
                    <a:cubicBezTo>
                      <a:pt x="299597" y="512502"/>
                      <a:pt x="298645" y="554412"/>
                      <a:pt x="299597" y="591559"/>
                    </a:cubicBezTo>
                    <a:cubicBezTo>
                      <a:pt x="298645" y="610609"/>
                      <a:pt x="296739" y="629659"/>
                      <a:pt x="293882" y="647757"/>
                    </a:cubicBezTo>
                    <a:cubicBezTo>
                      <a:pt x="287214" y="694429"/>
                      <a:pt x="274832" y="739197"/>
                      <a:pt x="258639" y="783012"/>
                    </a:cubicBezTo>
                    <a:cubicBezTo>
                      <a:pt x="257687" y="784917"/>
                      <a:pt x="256735" y="787774"/>
                      <a:pt x="257687" y="789679"/>
                    </a:cubicBezTo>
                    <a:cubicBezTo>
                      <a:pt x="258639" y="793489"/>
                      <a:pt x="263402" y="795394"/>
                      <a:pt x="268164" y="796347"/>
                    </a:cubicBezTo>
                    <a:cubicBezTo>
                      <a:pt x="271022" y="797299"/>
                      <a:pt x="273879" y="797299"/>
                      <a:pt x="276737" y="798252"/>
                    </a:cubicBezTo>
                    <a:cubicBezTo>
                      <a:pt x="273879" y="825874"/>
                      <a:pt x="271022" y="855402"/>
                      <a:pt x="267212" y="874452"/>
                    </a:cubicBezTo>
                    <a:cubicBezTo>
                      <a:pt x="264354" y="892549"/>
                      <a:pt x="260545" y="910647"/>
                      <a:pt x="259592" y="928744"/>
                    </a:cubicBezTo>
                    <a:cubicBezTo>
                      <a:pt x="257687" y="947794"/>
                      <a:pt x="258639" y="966844"/>
                      <a:pt x="258639" y="985894"/>
                    </a:cubicBezTo>
                    <a:cubicBezTo>
                      <a:pt x="259592" y="1047807"/>
                      <a:pt x="259592" y="1109719"/>
                      <a:pt x="260545" y="1171632"/>
                    </a:cubicBezTo>
                    <a:cubicBezTo>
                      <a:pt x="260545" y="1185919"/>
                      <a:pt x="261497" y="1202112"/>
                      <a:pt x="270070" y="1213542"/>
                    </a:cubicBezTo>
                    <a:cubicBezTo>
                      <a:pt x="262449" y="1227829"/>
                      <a:pt x="265307" y="1244974"/>
                      <a:pt x="267212" y="1260214"/>
                    </a:cubicBezTo>
                    <a:cubicBezTo>
                      <a:pt x="271974" y="1292599"/>
                      <a:pt x="274832" y="1325937"/>
                      <a:pt x="276737" y="1359274"/>
                    </a:cubicBezTo>
                    <a:cubicBezTo>
                      <a:pt x="278642" y="1386897"/>
                      <a:pt x="278642" y="1415472"/>
                      <a:pt x="276737" y="1443094"/>
                    </a:cubicBezTo>
                    <a:cubicBezTo>
                      <a:pt x="307217" y="1444047"/>
                      <a:pt x="337697" y="1444047"/>
                      <a:pt x="367224" y="1444999"/>
                    </a:cubicBezTo>
                    <a:lnTo>
                      <a:pt x="368177" y="1428807"/>
                    </a:lnTo>
                    <a:cubicBezTo>
                      <a:pt x="368177" y="1417377"/>
                      <a:pt x="369129" y="1404994"/>
                      <a:pt x="371035" y="1393564"/>
                    </a:cubicBezTo>
                    <a:cubicBezTo>
                      <a:pt x="372939" y="1383087"/>
                      <a:pt x="374845" y="1371657"/>
                      <a:pt x="376749" y="1361179"/>
                    </a:cubicBezTo>
                    <a:cubicBezTo>
                      <a:pt x="379607" y="1342129"/>
                      <a:pt x="378654" y="1324032"/>
                      <a:pt x="379607" y="1304982"/>
                    </a:cubicBezTo>
                    <a:cubicBezTo>
                      <a:pt x="380560" y="1282122"/>
                      <a:pt x="384370" y="1259262"/>
                      <a:pt x="387227" y="1236402"/>
                    </a:cubicBezTo>
                    <a:cubicBezTo>
                      <a:pt x="399610" y="1148772"/>
                      <a:pt x="411992" y="1063047"/>
                      <a:pt x="428185" y="975417"/>
                    </a:cubicBezTo>
                    <a:cubicBezTo>
                      <a:pt x="442472" y="1028757"/>
                      <a:pt x="451045" y="1083049"/>
                      <a:pt x="453902" y="1137342"/>
                    </a:cubicBezTo>
                    <a:cubicBezTo>
                      <a:pt x="454854" y="1148772"/>
                      <a:pt x="457712" y="1166869"/>
                      <a:pt x="460570" y="1178299"/>
                    </a:cubicBezTo>
                    <a:cubicBezTo>
                      <a:pt x="469142" y="1208779"/>
                      <a:pt x="469142" y="1241164"/>
                      <a:pt x="467237" y="1272597"/>
                    </a:cubicBezTo>
                    <a:cubicBezTo>
                      <a:pt x="465332" y="1306887"/>
                      <a:pt x="461522" y="1340224"/>
                      <a:pt x="462474" y="1374514"/>
                    </a:cubicBezTo>
                    <a:cubicBezTo>
                      <a:pt x="463427" y="1386897"/>
                      <a:pt x="464379" y="1399279"/>
                      <a:pt x="463427" y="1410709"/>
                    </a:cubicBezTo>
                    <a:cubicBezTo>
                      <a:pt x="462474" y="1422139"/>
                      <a:pt x="458664" y="1434522"/>
                      <a:pt x="456760" y="1445952"/>
                    </a:cubicBezTo>
                    <a:cubicBezTo>
                      <a:pt x="489145" y="1445952"/>
                      <a:pt x="522482" y="1445952"/>
                      <a:pt x="554867" y="1444999"/>
                    </a:cubicBezTo>
                    <a:cubicBezTo>
                      <a:pt x="554867" y="1440237"/>
                      <a:pt x="555820" y="1435474"/>
                      <a:pt x="555820" y="1431664"/>
                    </a:cubicBezTo>
                    <a:cubicBezTo>
                      <a:pt x="556772" y="1408804"/>
                      <a:pt x="559629" y="1385944"/>
                      <a:pt x="563440" y="1364037"/>
                    </a:cubicBezTo>
                    <a:cubicBezTo>
                      <a:pt x="578679" y="1263072"/>
                      <a:pt x="579632" y="1161154"/>
                      <a:pt x="586300" y="1059237"/>
                    </a:cubicBezTo>
                    <a:cubicBezTo>
                      <a:pt x="591062" y="990657"/>
                      <a:pt x="613922" y="923982"/>
                      <a:pt x="609159" y="855402"/>
                    </a:cubicBezTo>
                    <a:cubicBezTo>
                      <a:pt x="608207" y="841114"/>
                      <a:pt x="606302" y="825874"/>
                      <a:pt x="604397" y="811587"/>
                    </a:cubicBezTo>
                    <a:cubicBezTo>
                      <a:pt x="613922" y="805872"/>
                      <a:pt x="621542" y="801109"/>
                      <a:pt x="620590" y="800157"/>
                    </a:cubicBezTo>
                    <a:cubicBezTo>
                      <a:pt x="615827" y="783012"/>
                      <a:pt x="600587" y="676332"/>
                      <a:pt x="588204" y="588702"/>
                    </a:cubicBezTo>
                    <a:cubicBezTo>
                      <a:pt x="592967" y="524884"/>
                      <a:pt x="607254" y="395344"/>
                      <a:pt x="613922" y="386772"/>
                    </a:cubicBezTo>
                    <a:cubicBezTo>
                      <a:pt x="615827" y="383914"/>
                      <a:pt x="617732" y="381057"/>
                      <a:pt x="621542" y="381057"/>
                    </a:cubicBezTo>
                    <a:cubicBezTo>
                      <a:pt x="624400" y="381057"/>
                      <a:pt x="627257" y="382009"/>
                      <a:pt x="629162" y="382962"/>
                    </a:cubicBezTo>
                    <a:cubicBezTo>
                      <a:pt x="665357" y="414394"/>
                      <a:pt x="785372" y="423919"/>
                      <a:pt x="792992" y="424872"/>
                    </a:cubicBezTo>
                    <a:cubicBezTo>
                      <a:pt x="806327" y="425824"/>
                      <a:pt x="819662" y="423919"/>
                      <a:pt x="832045" y="420109"/>
                    </a:cubicBezTo>
                    <a:cubicBezTo>
                      <a:pt x="837759" y="413442"/>
                      <a:pt x="848237" y="412489"/>
                      <a:pt x="853000" y="404869"/>
                    </a:cubicBezTo>
                    <a:cubicBezTo>
                      <a:pt x="855857" y="402012"/>
                      <a:pt x="856809" y="398202"/>
                      <a:pt x="856809" y="394392"/>
                    </a:cubicBezTo>
                    <a:cubicBezTo>
                      <a:pt x="865382" y="359149"/>
                      <a:pt x="862525" y="321049"/>
                      <a:pt x="853952" y="28485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97" name="Freeform: Shape 1108"/>
              <p:cNvSpPr/>
              <p:nvPr/>
            </p:nvSpPr>
            <p:spPr>
              <a:xfrm>
                <a:off x="7002000" y="4077720"/>
                <a:ext cx="49320" cy="223920"/>
              </a:xfrm>
              <a:custGeom>
                <a:avLst/>
                <a:gdLst/>
                <a:ahLst/>
                <a:rect l="l" t="t" r="r" b="b"/>
                <a:pathLst>
                  <a:path w="57283" h="260032">
                    <a:moveTo>
                      <a:pt x="57283" y="59055"/>
                    </a:moveTo>
                    <a:cubicBezTo>
                      <a:pt x="57283" y="59055"/>
                      <a:pt x="57283" y="60007"/>
                      <a:pt x="57283" y="59055"/>
                    </a:cubicBezTo>
                    <a:cubicBezTo>
                      <a:pt x="56331" y="63817"/>
                      <a:pt x="54426" y="67628"/>
                      <a:pt x="53473" y="71438"/>
                    </a:cubicBezTo>
                    <a:cubicBezTo>
                      <a:pt x="51568" y="79057"/>
                      <a:pt x="50616" y="87630"/>
                      <a:pt x="49663" y="96203"/>
                    </a:cubicBezTo>
                    <a:cubicBezTo>
                      <a:pt x="42996" y="150495"/>
                      <a:pt x="38233" y="205740"/>
                      <a:pt x="35376" y="260032"/>
                    </a:cubicBezTo>
                    <a:cubicBezTo>
                      <a:pt x="6801" y="177165"/>
                      <a:pt x="-9392" y="87630"/>
                      <a:pt x="5848" y="0"/>
                    </a:cubicBezTo>
                    <a:cubicBezTo>
                      <a:pt x="12516" y="20003"/>
                      <a:pt x="20136" y="40005"/>
                      <a:pt x="28708" y="60007"/>
                    </a:cubicBezTo>
                    <a:cubicBezTo>
                      <a:pt x="34423" y="55245"/>
                      <a:pt x="39186" y="51435"/>
                      <a:pt x="43948" y="46672"/>
                    </a:cubicBezTo>
                    <a:cubicBezTo>
                      <a:pt x="45853" y="44767"/>
                      <a:pt x="48711" y="42863"/>
                      <a:pt x="50616" y="40957"/>
                    </a:cubicBezTo>
                    <a:cubicBezTo>
                      <a:pt x="55378" y="45720"/>
                      <a:pt x="57283" y="52388"/>
                      <a:pt x="57283" y="5905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98" name="Freeform: Shape 1109"/>
              <p:cNvSpPr/>
              <p:nvPr/>
            </p:nvSpPr>
            <p:spPr>
              <a:xfrm>
                <a:off x="7065360" y="4083480"/>
                <a:ext cx="58680" cy="222480"/>
              </a:xfrm>
              <a:custGeom>
                <a:avLst/>
                <a:gdLst/>
                <a:ahLst/>
                <a:rect l="l" t="t" r="r" b="b"/>
                <a:pathLst>
                  <a:path w="68230" h="258127">
                    <a:moveTo>
                      <a:pt x="61913" y="99060"/>
                    </a:moveTo>
                    <a:cubicBezTo>
                      <a:pt x="59055" y="113348"/>
                      <a:pt x="57150" y="128588"/>
                      <a:pt x="52388" y="142875"/>
                    </a:cubicBezTo>
                    <a:cubicBezTo>
                      <a:pt x="48577" y="154305"/>
                      <a:pt x="43815" y="165735"/>
                      <a:pt x="39052" y="177165"/>
                    </a:cubicBezTo>
                    <a:cubicBezTo>
                      <a:pt x="27623" y="203835"/>
                      <a:pt x="16193" y="231458"/>
                      <a:pt x="4763" y="258128"/>
                    </a:cubicBezTo>
                    <a:cubicBezTo>
                      <a:pt x="-2857" y="199073"/>
                      <a:pt x="10477" y="138113"/>
                      <a:pt x="3810" y="79058"/>
                    </a:cubicBezTo>
                    <a:cubicBezTo>
                      <a:pt x="2858" y="71438"/>
                      <a:pt x="2858" y="64770"/>
                      <a:pt x="0" y="58103"/>
                    </a:cubicBezTo>
                    <a:cubicBezTo>
                      <a:pt x="952" y="52388"/>
                      <a:pt x="1905" y="46673"/>
                      <a:pt x="1905" y="40958"/>
                    </a:cubicBezTo>
                    <a:cubicBezTo>
                      <a:pt x="1905" y="39053"/>
                      <a:pt x="1905" y="37148"/>
                      <a:pt x="2858" y="35243"/>
                    </a:cubicBezTo>
                    <a:cubicBezTo>
                      <a:pt x="3810" y="32385"/>
                      <a:pt x="5715" y="31433"/>
                      <a:pt x="7620" y="29528"/>
                    </a:cubicBezTo>
                    <a:cubicBezTo>
                      <a:pt x="9525" y="32385"/>
                      <a:pt x="12383" y="34290"/>
                      <a:pt x="14288" y="37148"/>
                    </a:cubicBezTo>
                    <a:cubicBezTo>
                      <a:pt x="19050" y="42863"/>
                      <a:pt x="22860" y="49530"/>
                      <a:pt x="25718" y="56198"/>
                    </a:cubicBezTo>
                    <a:cubicBezTo>
                      <a:pt x="33338" y="46673"/>
                      <a:pt x="44768" y="37148"/>
                      <a:pt x="51435" y="27623"/>
                    </a:cubicBezTo>
                    <a:cubicBezTo>
                      <a:pt x="56198" y="21908"/>
                      <a:pt x="60008" y="16193"/>
                      <a:pt x="62865" y="9525"/>
                    </a:cubicBezTo>
                    <a:cubicBezTo>
                      <a:pt x="63818" y="6668"/>
                      <a:pt x="64770" y="3810"/>
                      <a:pt x="65723" y="953"/>
                    </a:cubicBezTo>
                    <a:cubicBezTo>
                      <a:pt x="65723" y="953"/>
                      <a:pt x="66675" y="953"/>
                      <a:pt x="66675" y="0"/>
                    </a:cubicBezTo>
                    <a:cubicBezTo>
                      <a:pt x="70485" y="33338"/>
                      <a:pt x="66675" y="66675"/>
                      <a:pt x="61913" y="9906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299" name="Freeform: Shape 1110"/>
              <p:cNvSpPr/>
              <p:nvPr/>
            </p:nvSpPr>
            <p:spPr>
              <a:xfrm>
                <a:off x="7033320" y="4099680"/>
                <a:ext cx="39960" cy="241200"/>
              </a:xfrm>
              <a:custGeom>
                <a:avLst/>
                <a:gdLst/>
                <a:ahLst/>
                <a:rect l="l" t="t" r="r" b="b"/>
                <a:pathLst>
                  <a:path w="46672" h="280035">
                    <a:moveTo>
                      <a:pt x="41910" y="239078"/>
                    </a:moveTo>
                    <a:cubicBezTo>
                      <a:pt x="38100" y="249555"/>
                      <a:pt x="14288" y="280035"/>
                      <a:pt x="14288" y="280035"/>
                    </a:cubicBezTo>
                    <a:cubicBezTo>
                      <a:pt x="14288" y="280035"/>
                      <a:pt x="953" y="239078"/>
                      <a:pt x="0" y="233363"/>
                    </a:cubicBezTo>
                    <a:cubicBezTo>
                      <a:pt x="2858" y="179070"/>
                      <a:pt x="6668" y="123825"/>
                      <a:pt x="14288" y="69533"/>
                    </a:cubicBezTo>
                    <a:cubicBezTo>
                      <a:pt x="15240" y="60960"/>
                      <a:pt x="16193" y="53340"/>
                      <a:pt x="18098" y="44768"/>
                    </a:cubicBezTo>
                    <a:cubicBezTo>
                      <a:pt x="19050" y="40958"/>
                      <a:pt x="20003" y="37148"/>
                      <a:pt x="21908" y="33338"/>
                    </a:cubicBezTo>
                    <a:cubicBezTo>
                      <a:pt x="21908" y="33338"/>
                      <a:pt x="21908" y="32385"/>
                      <a:pt x="21908" y="32385"/>
                    </a:cubicBezTo>
                    <a:cubicBezTo>
                      <a:pt x="21908" y="25718"/>
                      <a:pt x="20003" y="19050"/>
                      <a:pt x="16193" y="14288"/>
                    </a:cubicBezTo>
                    <a:cubicBezTo>
                      <a:pt x="18098" y="12383"/>
                      <a:pt x="20003" y="10478"/>
                      <a:pt x="21908" y="8573"/>
                    </a:cubicBezTo>
                    <a:cubicBezTo>
                      <a:pt x="21908" y="8573"/>
                      <a:pt x="22860" y="7620"/>
                      <a:pt x="22860" y="7620"/>
                    </a:cubicBezTo>
                    <a:cubicBezTo>
                      <a:pt x="24765" y="5715"/>
                      <a:pt x="26670" y="3810"/>
                      <a:pt x="29528" y="1905"/>
                    </a:cubicBezTo>
                    <a:cubicBezTo>
                      <a:pt x="29528" y="1905"/>
                      <a:pt x="30480" y="953"/>
                      <a:pt x="30480" y="953"/>
                    </a:cubicBezTo>
                    <a:cubicBezTo>
                      <a:pt x="30480" y="953"/>
                      <a:pt x="29528" y="0"/>
                      <a:pt x="29528" y="0"/>
                    </a:cubicBezTo>
                    <a:cubicBezTo>
                      <a:pt x="33338" y="0"/>
                      <a:pt x="37148" y="0"/>
                      <a:pt x="40005" y="0"/>
                    </a:cubicBezTo>
                    <a:cubicBezTo>
                      <a:pt x="39053" y="953"/>
                      <a:pt x="38100" y="953"/>
                      <a:pt x="38100" y="0"/>
                    </a:cubicBezTo>
                    <a:cubicBezTo>
                      <a:pt x="39053" y="953"/>
                      <a:pt x="40005" y="953"/>
                      <a:pt x="40005" y="1905"/>
                    </a:cubicBezTo>
                    <a:cubicBezTo>
                      <a:pt x="40958" y="2858"/>
                      <a:pt x="41910" y="3810"/>
                      <a:pt x="42863" y="4763"/>
                    </a:cubicBezTo>
                    <a:cubicBezTo>
                      <a:pt x="43815" y="5715"/>
                      <a:pt x="45720" y="7620"/>
                      <a:pt x="46673" y="8573"/>
                    </a:cubicBezTo>
                    <a:cubicBezTo>
                      <a:pt x="44768" y="10478"/>
                      <a:pt x="42863" y="12383"/>
                      <a:pt x="41910" y="14288"/>
                    </a:cubicBezTo>
                    <a:cubicBezTo>
                      <a:pt x="40958" y="16193"/>
                      <a:pt x="40958" y="18098"/>
                      <a:pt x="40958" y="20003"/>
                    </a:cubicBezTo>
                    <a:cubicBezTo>
                      <a:pt x="40005" y="25718"/>
                      <a:pt x="39053" y="31433"/>
                      <a:pt x="39053" y="37148"/>
                    </a:cubicBezTo>
                    <a:cubicBezTo>
                      <a:pt x="40958" y="43815"/>
                      <a:pt x="41910" y="50483"/>
                      <a:pt x="42863" y="58103"/>
                    </a:cubicBezTo>
                    <a:cubicBezTo>
                      <a:pt x="47625" y="119063"/>
                      <a:pt x="34290" y="180023"/>
                      <a:pt x="41910" y="239078"/>
                    </a:cubicBez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00" name="Freeform: Shape 1111"/>
              <p:cNvSpPr/>
              <p:nvPr/>
            </p:nvSpPr>
            <p:spPr>
              <a:xfrm>
                <a:off x="7065360" y="4043880"/>
                <a:ext cx="59040" cy="87840"/>
              </a:xfrm>
              <a:custGeom>
                <a:avLst/>
                <a:gdLst/>
                <a:ahLst/>
                <a:rect l="l" t="t" r="r" b="b"/>
                <a:pathLst>
                  <a:path w="68580" h="101917">
                    <a:moveTo>
                      <a:pt x="66675" y="46672"/>
                    </a:moveTo>
                    <a:cubicBezTo>
                      <a:pt x="65723" y="49530"/>
                      <a:pt x="65723" y="52388"/>
                      <a:pt x="63818" y="55245"/>
                    </a:cubicBezTo>
                    <a:cubicBezTo>
                      <a:pt x="60960" y="61913"/>
                      <a:pt x="56198" y="67628"/>
                      <a:pt x="52388" y="73343"/>
                    </a:cubicBezTo>
                    <a:cubicBezTo>
                      <a:pt x="44768" y="82868"/>
                      <a:pt x="33338" y="92393"/>
                      <a:pt x="26670" y="101918"/>
                    </a:cubicBezTo>
                    <a:cubicBezTo>
                      <a:pt x="23813" y="95250"/>
                      <a:pt x="19050" y="88582"/>
                      <a:pt x="15240" y="82868"/>
                    </a:cubicBezTo>
                    <a:cubicBezTo>
                      <a:pt x="13335" y="80010"/>
                      <a:pt x="11430" y="77153"/>
                      <a:pt x="8573" y="75247"/>
                    </a:cubicBezTo>
                    <a:cubicBezTo>
                      <a:pt x="7620" y="74295"/>
                      <a:pt x="5715" y="72390"/>
                      <a:pt x="4763" y="71438"/>
                    </a:cubicBezTo>
                    <a:cubicBezTo>
                      <a:pt x="3810" y="70485"/>
                      <a:pt x="2858" y="69532"/>
                      <a:pt x="1905" y="68580"/>
                    </a:cubicBezTo>
                    <a:cubicBezTo>
                      <a:pt x="952" y="67628"/>
                      <a:pt x="0" y="67628"/>
                      <a:pt x="0" y="66675"/>
                    </a:cubicBezTo>
                    <a:cubicBezTo>
                      <a:pt x="0" y="66675"/>
                      <a:pt x="952" y="66675"/>
                      <a:pt x="1905" y="66675"/>
                    </a:cubicBezTo>
                    <a:cubicBezTo>
                      <a:pt x="7620" y="63818"/>
                      <a:pt x="22860" y="54293"/>
                      <a:pt x="24765" y="52388"/>
                    </a:cubicBezTo>
                    <a:cubicBezTo>
                      <a:pt x="31433" y="46672"/>
                      <a:pt x="37148" y="40957"/>
                      <a:pt x="42863" y="34290"/>
                    </a:cubicBezTo>
                    <a:cubicBezTo>
                      <a:pt x="48577" y="27622"/>
                      <a:pt x="45720" y="6668"/>
                      <a:pt x="49530" y="0"/>
                    </a:cubicBezTo>
                    <a:cubicBezTo>
                      <a:pt x="54293" y="6668"/>
                      <a:pt x="67627" y="14288"/>
                      <a:pt x="68580" y="22860"/>
                    </a:cubicBezTo>
                    <a:cubicBezTo>
                      <a:pt x="68580" y="29528"/>
                      <a:pt x="68580" y="38100"/>
                      <a:pt x="66675" y="46672"/>
                    </a:cubicBezTo>
                    <a:close/>
                  </a:path>
                </a:pathLst>
              </a:custGeom>
              <a:solidFill>
                <a:srgbClr val="ffffff"/>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1301" name="Freeform: Shape 1112"/>
              <p:cNvSpPr/>
              <p:nvPr/>
            </p:nvSpPr>
            <p:spPr>
              <a:xfrm>
                <a:off x="7006320" y="4043160"/>
                <a:ext cx="51480" cy="86040"/>
              </a:xfrm>
              <a:custGeom>
                <a:avLst/>
                <a:gdLst/>
                <a:ahLst/>
                <a:rect l="l" t="t" r="r" b="b"/>
                <a:pathLst>
                  <a:path w="60007" h="100012">
                    <a:moveTo>
                      <a:pt x="60007" y="67628"/>
                    </a:moveTo>
                    <a:cubicBezTo>
                      <a:pt x="60007" y="67628"/>
                      <a:pt x="60007" y="67628"/>
                      <a:pt x="60007" y="67628"/>
                    </a:cubicBezTo>
                    <a:cubicBezTo>
                      <a:pt x="57150" y="70485"/>
                      <a:pt x="55245" y="72390"/>
                      <a:pt x="53340" y="74295"/>
                    </a:cubicBezTo>
                    <a:cubicBezTo>
                      <a:pt x="53340" y="74295"/>
                      <a:pt x="52388" y="75247"/>
                      <a:pt x="52388" y="75247"/>
                    </a:cubicBezTo>
                    <a:cubicBezTo>
                      <a:pt x="50482" y="77153"/>
                      <a:pt x="48577" y="79058"/>
                      <a:pt x="46673" y="80963"/>
                    </a:cubicBezTo>
                    <a:cubicBezTo>
                      <a:pt x="44767" y="82868"/>
                      <a:pt x="42863" y="84772"/>
                      <a:pt x="40005" y="86678"/>
                    </a:cubicBezTo>
                    <a:cubicBezTo>
                      <a:pt x="35242" y="91440"/>
                      <a:pt x="29527" y="95250"/>
                      <a:pt x="24765" y="100013"/>
                    </a:cubicBezTo>
                    <a:cubicBezTo>
                      <a:pt x="16192" y="80010"/>
                      <a:pt x="8573" y="60008"/>
                      <a:pt x="1905" y="40005"/>
                    </a:cubicBezTo>
                    <a:cubicBezTo>
                      <a:pt x="1905" y="39053"/>
                      <a:pt x="952" y="38100"/>
                      <a:pt x="952" y="37147"/>
                    </a:cubicBezTo>
                    <a:cubicBezTo>
                      <a:pt x="952" y="36195"/>
                      <a:pt x="0" y="34290"/>
                      <a:pt x="0" y="33338"/>
                    </a:cubicBezTo>
                    <a:cubicBezTo>
                      <a:pt x="0" y="31433"/>
                      <a:pt x="952" y="29528"/>
                      <a:pt x="952" y="27622"/>
                    </a:cubicBezTo>
                    <a:cubicBezTo>
                      <a:pt x="4763" y="16193"/>
                      <a:pt x="11430" y="11430"/>
                      <a:pt x="14288" y="0"/>
                    </a:cubicBezTo>
                    <a:cubicBezTo>
                      <a:pt x="16192" y="15240"/>
                      <a:pt x="20002" y="20955"/>
                      <a:pt x="28575" y="34290"/>
                    </a:cubicBezTo>
                    <a:cubicBezTo>
                      <a:pt x="37148" y="46672"/>
                      <a:pt x="48577" y="56197"/>
                      <a:pt x="59055" y="66675"/>
                    </a:cubicBezTo>
                    <a:cubicBezTo>
                      <a:pt x="59055" y="66675"/>
                      <a:pt x="60007" y="66675"/>
                      <a:pt x="60007" y="67628"/>
                    </a:cubicBezTo>
                    <a:close/>
                  </a:path>
                </a:pathLst>
              </a:custGeom>
              <a:solidFill>
                <a:srgbClr val="ffffff"/>
              </a:solidFill>
              <a:ln w="0">
                <a:noFill/>
              </a:ln>
            </p:spPr>
            <p:style>
              <a:lnRef idx="0"/>
              <a:fillRef idx="0"/>
              <a:effectRef idx="0"/>
              <a:fontRef idx="minor"/>
            </p:style>
            <p:txBody>
              <a:bodyPr lIns="90000" rIns="90000" tIns="39240" bIns="39240" anchor="ctr">
                <a:noAutofit/>
              </a:bodyPr>
              <a:p>
                <a:endParaRPr b="0" lang="en-US" sz="1800" spc="-1" strike="noStrike">
                  <a:solidFill>
                    <a:srgbClr val="313c3f"/>
                  </a:solidFill>
                  <a:latin typeface="Source Sans Pro"/>
                </a:endParaRPr>
              </a:p>
            </p:txBody>
          </p:sp>
        </p:grpSp>
        <p:grpSp>
          <p:nvGrpSpPr>
            <p:cNvPr id="1302" name="Graphic 106"/>
            <p:cNvGrpSpPr/>
            <p:nvPr/>
          </p:nvGrpSpPr>
          <p:grpSpPr>
            <a:xfrm>
              <a:off x="10217880" y="2770560"/>
              <a:ext cx="493920" cy="1252800"/>
              <a:chOff x="10217880" y="2770560"/>
              <a:chExt cx="493920" cy="1252800"/>
            </a:xfrm>
          </p:grpSpPr>
          <p:sp>
            <p:nvSpPr>
              <p:cNvPr id="1303" name="Freeform: Shape 1114"/>
              <p:cNvSpPr/>
              <p:nvPr/>
            </p:nvSpPr>
            <p:spPr>
              <a:xfrm>
                <a:off x="10217880" y="2954160"/>
                <a:ext cx="493920" cy="1069200"/>
              </a:xfrm>
              <a:custGeom>
                <a:avLst/>
                <a:gdLst/>
                <a:ahLst/>
                <a:rect l="l" t="t" r="r" b="b"/>
                <a:pathLst>
                  <a:path w="573294" h="1240154">
                    <a:moveTo>
                      <a:pt x="484618" y="498158"/>
                    </a:moveTo>
                    <a:cubicBezTo>
                      <a:pt x="507478" y="450533"/>
                      <a:pt x="530338" y="402908"/>
                      <a:pt x="553198" y="355283"/>
                    </a:cubicBezTo>
                    <a:cubicBezTo>
                      <a:pt x="564628" y="331470"/>
                      <a:pt x="580820" y="303847"/>
                      <a:pt x="569390" y="280035"/>
                    </a:cubicBezTo>
                    <a:cubicBezTo>
                      <a:pt x="557008" y="255270"/>
                      <a:pt x="558913" y="221933"/>
                      <a:pt x="547483" y="197167"/>
                    </a:cubicBezTo>
                    <a:cubicBezTo>
                      <a:pt x="539863" y="181927"/>
                      <a:pt x="495095" y="86677"/>
                      <a:pt x="492238" y="82867"/>
                    </a:cubicBezTo>
                    <a:cubicBezTo>
                      <a:pt x="482713" y="70485"/>
                      <a:pt x="469378" y="45720"/>
                      <a:pt x="456995" y="35242"/>
                    </a:cubicBezTo>
                    <a:cubicBezTo>
                      <a:pt x="450328" y="29527"/>
                      <a:pt x="425563" y="26670"/>
                      <a:pt x="416990" y="24765"/>
                    </a:cubicBezTo>
                    <a:cubicBezTo>
                      <a:pt x="390320" y="19050"/>
                      <a:pt x="363650" y="10477"/>
                      <a:pt x="338885" y="0"/>
                    </a:cubicBezTo>
                    <a:cubicBezTo>
                      <a:pt x="338885" y="952"/>
                      <a:pt x="338885" y="1905"/>
                      <a:pt x="337933" y="1905"/>
                    </a:cubicBezTo>
                    <a:cubicBezTo>
                      <a:pt x="333170" y="24765"/>
                      <a:pt x="322693" y="44767"/>
                      <a:pt x="308405" y="64770"/>
                    </a:cubicBezTo>
                    <a:cubicBezTo>
                      <a:pt x="307453" y="62865"/>
                      <a:pt x="305548" y="60008"/>
                      <a:pt x="304595" y="58102"/>
                    </a:cubicBezTo>
                    <a:cubicBezTo>
                      <a:pt x="300785" y="51435"/>
                      <a:pt x="295070" y="45720"/>
                      <a:pt x="290308" y="40958"/>
                    </a:cubicBezTo>
                    <a:cubicBezTo>
                      <a:pt x="288403" y="39052"/>
                      <a:pt x="286498" y="38100"/>
                      <a:pt x="285545" y="36195"/>
                    </a:cubicBezTo>
                    <a:cubicBezTo>
                      <a:pt x="284593" y="37147"/>
                      <a:pt x="283640" y="38100"/>
                      <a:pt x="283640" y="38100"/>
                    </a:cubicBezTo>
                    <a:cubicBezTo>
                      <a:pt x="283640" y="38100"/>
                      <a:pt x="283640" y="38100"/>
                      <a:pt x="283640" y="38100"/>
                    </a:cubicBezTo>
                    <a:cubicBezTo>
                      <a:pt x="282688" y="39052"/>
                      <a:pt x="282688" y="40005"/>
                      <a:pt x="281735" y="40005"/>
                    </a:cubicBezTo>
                    <a:cubicBezTo>
                      <a:pt x="281735" y="40958"/>
                      <a:pt x="280783" y="40958"/>
                      <a:pt x="280783" y="41910"/>
                    </a:cubicBezTo>
                    <a:cubicBezTo>
                      <a:pt x="280783" y="41910"/>
                      <a:pt x="280783" y="41910"/>
                      <a:pt x="280783" y="41910"/>
                    </a:cubicBezTo>
                    <a:cubicBezTo>
                      <a:pt x="280783" y="42863"/>
                      <a:pt x="279830" y="42863"/>
                      <a:pt x="279830" y="43815"/>
                    </a:cubicBezTo>
                    <a:cubicBezTo>
                      <a:pt x="279830" y="43815"/>
                      <a:pt x="279830" y="43815"/>
                      <a:pt x="279830" y="43815"/>
                    </a:cubicBezTo>
                    <a:cubicBezTo>
                      <a:pt x="279830" y="43815"/>
                      <a:pt x="279830" y="43815"/>
                      <a:pt x="279830" y="44767"/>
                    </a:cubicBezTo>
                    <a:cubicBezTo>
                      <a:pt x="279830" y="44767"/>
                      <a:pt x="279830" y="44767"/>
                      <a:pt x="279830" y="45720"/>
                    </a:cubicBezTo>
                    <a:cubicBezTo>
                      <a:pt x="279830" y="45720"/>
                      <a:pt x="279830" y="45720"/>
                      <a:pt x="279830" y="45720"/>
                    </a:cubicBezTo>
                    <a:cubicBezTo>
                      <a:pt x="278878" y="46672"/>
                      <a:pt x="278878" y="46672"/>
                      <a:pt x="277925" y="47625"/>
                    </a:cubicBezTo>
                    <a:cubicBezTo>
                      <a:pt x="277925" y="47625"/>
                      <a:pt x="276973" y="48577"/>
                      <a:pt x="276973" y="48577"/>
                    </a:cubicBezTo>
                    <a:cubicBezTo>
                      <a:pt x="276973" y="48577"/>
                      <a:pt x="276973" y="48577"/>
                      <a:pt x="276973" y="48577"/>
                    </a:cubicBezTo>
                    <a:cubicBezTo>
                      <a:pt x="276020" y="49530"/>
                      <a:pt x="276020" y="49530"/>
                      <a:pt x="276020" y="50483"/>
                    </a:cubicBezTo>
                    <a:cubicBezTo>
                      <a:pt x="276020" y="50483"/>
                      <a:pt x="276020" y="50483"/>
                      <a:pt x="276020" y="50483"/>
                    </a:cubicBezTo>
                    <a:cubicBezTo>
                      <a:pt x="276020" y="50483"/>
                      <a:pt x="276020" y="51435"/>
                      <a:pt x="275068" y="51435"/>
                    </a:cubicBezTo>
                    <a:cubicBezTo>
                      <a:pt x="275068" y="52388"/>
                      <a:pt x="274115" y="52388"/>
                      <a:pt x="274115" y="53340"/>
                    </a:cubicBezTo>
                    <a:cubicBezTo>
                      <a:pt x="274115" y="53340"/>
                      <a:pt x="274115" y="54292"/>
                      <a:pt x="274115" y="54292"/>
                    </a:cubicBezTo>
                    <a:cubicBezTo>
                      <a:pt x="274115" y="55245"/>
                      <a:pt x="273163" y="55245"/>
                      <a:pt x="273163" y="56197"/>
                    </a:cubicBezTo>
                    <a:cubicBezTo>
                      <a:pt x="273163" y="57150"/>
                      <a:pt x="272210" y="57150"/>
                      <a:pt x="272210" y="58102"/>
                    </a:cubicBezTo>
                    <a:cubicBezTo>
                      <a:pt x="272210" y="58102"/>
                      <a:pt x="272210" y="58102"/>
                      <a:pt x="272210" y="58102"/>
                    </a:cubicBezTo>
                    <a:cubicBezTo>
                      <a:pt x="272210" y="59055"/>
                      <a:pt x="271258" y="59055"/>
                      <a:pt x="271258" y="60008"/>
                    </a:cubicBezTo>
                    <a:cubicBezTo>
                      <a:pt x="270305" y="60960"/>
                      <a:pt x="270305" y="61913"/>
                      <a:pt x="270305" y="62865"/>
                    </a:cubicBezTo>
                    <a:cubicBezTo>
                      <a:pt x="270305" y="62865"/>
                      <a:pt x="270305" y="62865"/>
                      <a:pt x="270305" y="63817"/>
                    </a:cubicBezTo>
                    <a:cubicBezTo>
                      <a:pt x="270305" y="63817"/>
                      <a:pt x="270305" y="63817"/>
                      <a:pt x="270305" y="63817"/>
                    </a:cubicBezTo>
                    <a:cubicBezTo>
                      <a:pt x="270305" y="63817"/>
                      <a:pt x="270305" y="64770"/>
                      <a:pt x="269353" y="64770"/>
                    </a:cubicBezTo>
                    <a:cubicBezTo>
                      <a:pt x="269353" y="64770"/>
                      <a:pt x="269353" y="65722"/>
                      <a:pt x="268400" y="65722"/>
                    </a:cubicBezTo>
                    <a:cubicBezTo>
                      <a:pt x="263638" y="56197"/>
                      <a:pt x="257923" y="41910"/>
                      <a:pt x="251255" y="33338"/>
                    </a:cubicBezTo>
                    <a:cubicBezTo>
                      <a:pt x="250303" y="32385"/>
                      <a:pt x="250303" y="31433"/>
                      <a:pt x="249350" y="30480"/>
                    </a:cubicBezTo>
                    <a:cubicBezTo>
                      <a:pt x="248398" y="28575"/>
                      <a:pt x="247445" y="27622"/>
                      <a:pt x="246493" y="25717"/>
                    </a:cubicBezTo>
                    <a:cubicBezTo>
                      <a:pt x="245540" y="24765"/>
                      <a:pt x="245540" y="23813"/>
                      <a:pt x="245540" y="22860"/>
                    </a:cubicBezTo>
                    <a:cubicBezTo>
                      <a:pt x="245540" y="22860"/>
                      <a:pt x="245540" y="22860"/>
                      <a:pt x="245540" y="22860"/>
                    </a:cubicBezTo>
                    <a:cubicBezTo>
                      <a:pt x="245540" y="21908"/>
                      <a:pt x="244588" y="20955"/>
                      <a:pt x="244588" y="20955"/>
                    </a:cubicBezTo>
                    <a:cubicBezTo>
                      <a:pt x="244588" y="20002"/>
                      <a:pt x="243635" y="20002"/>
                      <a:pt x="243635" y="19050"/>
                    </a:cubicBezTo>
                    <a:cubicBezTo>
                      <a:pt x="242683" y="18097"/>
                      <a:pt x="242683" y="16192"/>
                      <a:pt x="242683" y="15240"/>
                    </a:cubicBezTo>
                    <a:cubicBezTo>
                      <a:pt x="242683" y="14288"/>
                      <a:pt x="242683" y="14288"/>
                      <a:pt x="241730" y="13335"/>
                    </a:cubicBezTo>
                    <a:cubicBezTo>
                      <a:pt x="241730" y="12383"/>
                      <a:pt x="241730" y="11430"/>
                      <a:pt x="240778" y="11430"/>
                    </a:cubicBezTo>
                    <a:cubicBezTo>
                      <a:pt x="240778" y="10477"/>
                      <a:pt x="240778" y="10477"/>
                      <a:pt x="240778" y="9525"/>
                    </a:cubicBezTo>
                    <a:cubicBezTo>
                      <a:pt x="240778" y="9525"/>
                      <a:pt x="240778" y="8572"/>
                      <a:pt x="240778" y="8572"/>
                    </a:cubicBezTo>
                    <a:cubicBezTo>
                      <a:pt x="240778" y="8572"/>
                      <a:pt x="240778" y="7620"/>
                      <a:pt x="240778" y="7620"/>
                    </a:cubicBezTo>
                    <a:cubicBezTo>
                      <a:pt x="240778" y="7620"/>
                      <a:pt x="239825" y="7620"/>
                      <a:pt x="239825" y="7620"/>
                    </a:cubicBezTo>
                    <a:cubicBezTo>
                      <a:pt x="209345" y="20002"/>
                      <a:pt x="176960" y="29527"/>
                      <a:pt x="145528" y="37147"/>
                    </a:cubicBezTo>
                    <a:cubicBezTo>
                      <a:pt x="136955" y="39052"/>
                      <a:pt x="129335" y="41910"/>
                      <a:pt x="120763" y="43815"/>
                    </a:cubicBezTo>
                    <a:cubicBezTo>
                      <a:pt x="116953" y="44767"/>
                      <a:pt x="113143" y="46672"/>
                      <a:pt x="109333" y="49530"/>
                    </a:cubicBezTo>
                    <a:cubicBezTo>
                      <a:pt x="104570" y="54292"/>
                      <a:pt x="95045" y="73342"/>
                      <a:pt x="92188" y="80010"/>
                    </a:cubicBezTo>
                    <a:cubicBezTo>
                      <a:pt x="70280" y="121920"/>
                      <a:pt x="62660" y="137160"/>
                      <a:pt x="36943" y="173355"/>
                    </a:cubicBezTo>
                    <a:cubicBezTo>
                      <a:pt x="26465" y="188595"/>
                      <a:pt x="15988" y="226695"/>
                      <a:pt x="5510" y="242888"/>
                    </a:cubicBezTo>
                    <a:cubicBezTo>
                      <a:pt x="-4015" y="259080"/>
                      <a:pt x="1700" y="270510"/>
                      <a:pt x="1700" y="289560"/>
                    </a:cubicBezTo>
                    <a:cubicBezTo>
                      <a:pt x="1700" y="315277"/>
                      <a:pt x="15988" y="339090"/>
                      <a:pt x="29323" y="360997"/>
                    </a:cubicBezTo>
                    <a:cubicBezTo>
                      <a:pt x="49325" y="396240"/>
                      <a:pt x="68375" y="432435"/>
                      <a:pt x="83615" y="469583"/>
                    </a:cubicBezTo>
                    <a:cubicBezTo>
                      <a:pt x="84568" y="471488"/>
                      <a:pt x="85520" y="473392"/>
                      <a:pt x="86473" y="474345"/>
                    </a:cubicBezTo>
                    <a:cubicBezTo>
                      <a:pt x="88378" y="475297"/>
                      <a:pt x="90283" y="474345"/>
                      <a:pt x="91235" y="473392"/>
                    </a:cubicBezTo>
                    <a:cubicBezTo>
                      <a:pt x="94093" y="477202"/>
                      <a:pt x="97903" y="483870"/>
                      <a:pt x="100760" y="486727"/>
                    </a:cubicBezTo>
                    <a:cubicBezTo>
                      <a:pt x="105523" y="524827"/>
                      <a:pt x="100760" y="563880"/>
                      <a:pt x="98855" y="601980"/>
                    </a:cubicBezTo>
                    <a:cubicBezTo>
                      <a:pt x="98855" y="602933"/>
                      <a:pt x="98855" y="603885"/>
                      <a:pt x="98855" y="604838"/>
                    </a:cubicBezTo>
                    <a:cubicBezTo>
                      <a:pt x="99808" y="605790"/>
                      <a:pt x="100760" y="606743"/>
                      <a:pt x="102665" y="606743"/>
                    </a:cubicBezTo>
                    <a:cubicBezTo>
                      <a:pt x="109333" y="607695"/>
                      <a:pt x="116000" y="608647"/>
                      <a:pt x="121715" y="609600"/>
                    </a:cubicBezTo>
                    <a:cubicBezTo>
                      <a:pt x="124573" y="602933"/>
                      <a:pt x="129335" y="598170"/>
                      <a:pt x="133145" y="591502"/>
                    </a:cubicBezTo>
                    <a:cubicBezTo>
                      <a:pt x="140765" y="593408"/>
                      <a:pt x="150290" y="597218"/>
                      <a:pt x="158863" y="597218"/>
                    </a:cubicBezTo>
                    <a:cubicBezTo>
                      <a:pt x="156958" y="625793"/>
                      <a:pt x="155053" y="653415"/>
                      <a:pt x="154100" y="681990"/>
                    </a:cubicBezTo>
                    <a:cubicBezTo>
                      <a:pt x="153148" y="701040"/>
                      <a:pt x="156005" y="718185"/>
                      <a:pt x="159815" y="736283"/>
                    </a:cubicBezTo>
                    <a:cubicBezTo>
                      <a:pt x="192200" y="879158"/>
                      <a:pt x="142670" y="1030605"/>
                      <a:pt x="175055" y="1173480"/>
                    </a:cubicBezTo>
                    <a:cubicBezTo>
                      <a:pt x="179818" y="1193483"/>
                      <a:pt x="185533" y="1213485"/>
                      <a:pt x="188390" y="1233487"/>
                    </a:cubicBezTo>
                    <a:cubicBezTo>
                      <a:pt x="188390" y="1235393"/>
                      <a:pt x="189343" y="1238250"/>
                      <a:pt x="189343" y="1240155"/>
                    </a:cubicBezTo>
                    <a:cubicBezTo>
                      <a:pt x="218870" y="1239202"/>
                      <a:pt x="249350" y="1238250"/>
                      <a:pt x="278878" y="1237298"/>
                    </a:cubicBezTo>
                    <a:cubicBezTo>
                      <a:pt x="277925" y="1229677"/>
                      <a:pt x="277925" y="1222058"/>
                      <a:pt x="277925" y="1213485"/>
                    </a:cubicBezTo>
                    <a:cubicBezTo>
                      <a:pt x="276020" y="1167765"/>
                      <a:pt x="297928" y="779145"/>
                      <a:pt x="308405" y="737235"/>
                    </a:cubicBezTo>
                    <a:cubicBezTo>
                      <a:pt x="346505" y="842010"/>
                      <a:pt x="366508" y="1111568"/>
                      <a:pt x="375080" y="1232535"/>
                    </a:cubicBezTo>
                    <a:cubicBezTo>
                      <a:pt x="405560" y="1230630"/>
                      <a:pt x="435088" y="1228725"/>
                      <a:pt x="465568" y="1225868"/>
                    </a:cubicBezTo>
                    <a:cubicBezTo>
                      <a:pt x="462710" y="1140143"/>
                      <a:pt x="465568" y="1000125"/>
                      <a:pt x="462710" y="948690"/>
                    </a:cubicBezTo>
                    <a:cubicBezTo>
                      <a:pt x="459853" y="876300"/>
                      <a:pt x="456043" y="804863"/>
                      <a:pt x="455090" y="733425"/>
                    </a:cubicBezTo>
                    <a:cubicBezTo>
                      <a:pt x="454138" y="694372"/>
                      <a:pt x="452233" y="655320"/>
                      <a:pt x="449375" y="616268"/>
                    </a:cubicBezTo>
                    <a:cubicBezTo>
                      <a:pt x="456995" y="611505"/>
                      <a:pt x="469378" y="613410"/>
                      <a:pt x="475093" y="605790"/>
                    </a:cubicBezTo>
                    <a:cubicBezTo>
                      <a:pt x="476998" y="602933"/>
                      <a:pt x="476998" y="600075"/>
                      <a:pt x="476998" y="597218"/>
                    </a:cubicBezTo>
                    <a:cubicBezTo>
                      <a:pt x="479855" y="572452"/>
                      <a:pt x="483665" y="547688"/>
                      <a:pt x="482713" y="522922"/>
                    </a:cubicBezTo>
                    <a:cubicBezTo>
                      <a:pt x="482713" y="519113"/>
                      <a:pt x="482713" y="515302"/>
                      <a:pt x="482713" y="512445"/>
                    </a:cubicBezTo>
                    <a:cubicBezTo>
                      <a:pt x="479855" y="506730"/>
                      <a:pt x="482713" y="502920"/>
                      <a:pt x="484618" y="498158"/>
                    </a:cubicBezTo>
                    <a:close/>
                    <a:moveTo>
                      <a:pt x="121715" y="267652"/>
                    </a:moveTo>
                    <a:lnTo>
                      <a:pt x="121715" y="267652"/>
                    </a:lnTo>
                    <a:cubicBezTo>
                      <a:pt x="119810" y="289560"/>
                      <a:pt x="104570" y="346710"/>
                      <a:pt x="103618" y="358140"/>
                    </a:cubicBezTo>
                    <a:cubicBezTo>
                      <a:pt x="100760" y="332422"/>
                      <a:pt x="101713" y="304800"/>
                      <a:pt x="85520" y="284797"/>
                    </a:cubicBezTo>
                    <a:cubicBezTo>
                      <a:pt x="100760" y="253365"/>
                      <a:pt x="112190" y="223838"/>
                      <a:pt x="114095" y="215265"/>
                    </a:cubicBezTo>
                    <a:cubicBezTo>
                      <a:pt x="124573" y="239077"/>
                      <a:pt x="122668" y="250508"/>
                      <a:pt x="121715" y="267652"/>
                    </a:cubicBezTo>
                    <a:close/>
                    <a:moveTo>
                      <a:pt x="478903" y="353377"/>
                    </a:moveTo>
                    <a:lnTo>
                      <a:pt x="478903" y="353377"/>
                    </a:lnTo>
                    <a:cubicBezTo>
                      <a:pt x="477950" y="356235"/>
                      <a:pt x="476045" y="360045"/>
                      <a:pt x="473188" y="360045"/>
                    </a:cubicBezTo>
                    <a:cubicBezTo>
                      <a:pt x="468425" y="330517"/>
                      <a:pt x="459853" y="309563"/>
                      <a:pt x="457948" y="279083"/>
                    </a:cubicBezTo>
                    <a:cubicBezTo>
                      <a:pt x="456043" y="249555"/>
                      <a:pt x="464615" y="256222"/>
                      <a:pt x="461758" y="226695"/>
                    </a:cubicBezTo>
                    <a:cubicBezTo>
                      <a:pt x="478903" y="255270"/>
                      <a:pt x="497953" y="286702"/>
                      <a:pt x="498905" y="290513"/>
                    </a:cubicBezTo>
                    <a:cubicBezTo>
                      <a:pt x="498905" y="294322"/>
                      <a:pt x="497953" y="299085"/>
                      <a:pt x="496048" y="302895"/>
                    </a:cubicBezTo>
                    <a:cubicBezTo>
                      <a:pt x="488428" y="319088"/>
                      <a:pt x="485570" y="336233"/>
                      <a:pt x="478903" y="35337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04" name="Freeform: Shape 1115"/>
              <p:cNvSpPr/>
              <p:nvPr/>
            </p:nvSpPr>
            <p:spPr>
              <a:xfrm>
                <a:off x="10396800" y="2770560"/>
                <a:ext cx="122400" cy="216360"/>
              </a:xfrm>
              <a:custGeom>
                <a:avLst/>
                <a:gdLst/>
                <a:ahLst/>
                <a:rect l="l" t="t" r="r" b="b"/>
                <a:pathLst>
                  <a:path w="142078" h="251235">
                    <a:moveTo>
                      <a:pt x="140732" y="119790"/>
                    </a:moveTo>
                    <a:cubicBezTo>
                      <a:pt x="138827" y="127410"/>
                      <a:pt x="136922" y="134078"/>
                      <a:pt x="135017" y="141698"/>
                    </a:cubicBezTo>
                    <a:cubicBezTo>
                      <a:pt x="134065" y="144555"/>
                      <a:pt x="133112" y="147413"/>
                      <a:pt x="132160" y="149318"/>
                    </a:cubicBezTo>
                    <a:cubicBezTo>
                      <a:pt x="130254" y="151223"/>
                      <a:pt x="127397" y="153128"/>
                      <a:pt x="125492" y="152175"/>
                    </a:cubicBezTo>
                    <a:cubicBezTo>
                      <a:pt x="120729" y="158843"/>
                      <a:pt x="118824" y="169320"/>
                      <a:pt x="118824" y="177893"/>
                    </a:cubicBezTo>
                    <a:cubicBezTo>
                      <a:pt x="118824" y="188370"/>
                      <a:pt x="119777" y="195990"/>
                      <a:pt x="120729" y="199800"/>
                    </a:cubicBezTo>
                    <a:cubicBezTo>
                      <a:pt x="121682" y="203610"/>
                      <a:pt x="122635" y="205515"/>
                      <a:pt x="122635" y="206468"/>
                    </a:cubicBezTo>
                    <a:cubicBezTo>
                      <a:pt x="122635" y="206468"/>
                      <a:pt x="122635" y="206468"/>
                      <a:pt x="122635" y="206468"/>
                    </a:cubicBezTo>
                    <a:cubicBezTo>
                      <a:pt x="122635" y="206468"/>
                      <a:pt x="122635" y="207420"/>
                      <a:pt x="121682" y="207420"/>
                    </a:cubicBezTo>
                    <a:cubicBezTo>
                      <a:pt x="121682" y="207420"/>
                      <a:pt x="120729" y="208373"/>
                      <a:pt x="120729" y="208373"/>
                    </a:cubicBezTo>
                    <a:cubicBezTo>
                      <a:pt x="116919" y="214088"/>
                      <a:pt x="110252" y="220755"/>
                      <a:pt x="102632" y="227423"/>
                    </a:cubicBezTo>
                    <a:cubicBezTo>
                      <a:pt x="101679" y="228375"/>
                      <a:pt x="100727" y="229328"/>
                      <a:pt x="99774" y="230280"/>
                    </a:cubicBezTo>
                    <a:cubicBezTo>
                      <a:pt x="98822" y="231233"/>
                      <a:pt x="98822" y="231233"/>
                      <a:pt x="97869" y="232185"/>
                    </a:cubicBezTo>
                    <a:cubicBezTo>
                      <a:pt x="96917" y="233138"/>
                      <a:pt x="95965" y="234090"/>
                      <a:pt x="94060" y="235043"/>
                    </a:cubicBezTo>
                    <a:cubicBezTo>
                      <a:pt x="93107" y="235995"/>
                      <a:pt x="91202" y="236948"/>
                      <a:pt x="90249" y="237900"/>
                    </a:cubicBezTo>
                    <a:cubicBezTo>
                      <a:pt x="89297" y="238853"/>
                      <a:pt x="88344" y="239805"/>
                      <a:pt x="87392" y="239805"/>
                    </a:cubicBezTo>
                    <a:cubicBezTo>
                      <a:pt x="86440" y="240758"/>
                      <a:pt x="84535" y="241710"/>
                      <a:pt x="83582" y="242663"/>
                    </a:cubicBezTo>
                    <a:cubicBezTo>
                      <a:pt x="82629" y="242663"/>
                      <a:pt x="82629" y="243615"/>
                      <a:pt x="81677" y="243615"/>
                    </a:cubicBezTo>
                    <a:cubicBezTo>
                      <a:pt x="78819" y="245520"/>
                      <a:pt x="75962" y="247425"/>
                      <a:pt x="75010" y="249330"/>
                    </a:cubicBezTo>
                    <a:cubicBezTo>
                      <a:pt x="74057" y="250283"/>
                      <a:pt x="73104" y="251235"/>
                      <a:pt x="73104" y="251235"/>
                    </a:cubicBezTo>
                    <a:cubicBezTo>
                      <a:pt x="73104" y="251235"/>
                      <a:pt x="73104" y="251235"/>
                      <a:pt x="73104" y="251235"/>
                    </a:cubicBezTo>
                    <a:cubicBezTo>
                      <a:pt x="70247" y="249330"/>
                      <a:pt x="44529" y="231233"/>
                      <a:pt x="29290" y="209325"/>
                    </a:cubicBezTo>
                    <a:cubicBezTo>
                      <a:pt x="32147" y="184560"/>
                      <a:pt x="19765" y="175035"/>
                      <a:pt x="15002" y="150270"/>
                    </a:cubicBezTo>
                    <a:cubicBezTo>
                      <a:pt x="10240" y="150270"/>
                      <a:pt x="7382" y="146460"/>
                      <a:pt x="6429" y="141698"/>
                    </a:cubicBezTo>
                    <a:cubicBezTo>
                      <a:pt x="5477" y="136935"/>
                      <a:pt x="4524" y="132173"/>
                      <a:pt x="3572" y="128363"/>
                    </a:cubicBezTo>
                    <a:cubicBezTo>
                      <a:pt x="2619" y="125505"/>
                      <a:pt x="1667" y="122648"/>
                      <a:pt x="715" y="119790"/>
                    </a:cubicBezTo>
                    <a:cubicBezTo>
                      <a:pt x="-238" y="115980"/>
                      <a:pt x="-238" y="112170"/>
                      <a:pt x="715" y="107408"/>
                    </a:cubicBezTo>
                    <a:cubicBezTo>
                      <a:pt x="1667" y="103598"/>
                      <a:pt x="5477" y="100740"/>
                      <a:pt x="8335" y="101693"/>
                    </a:cubicBezTo>
                    <a:cubicBezTo>
                      <a:pt x="6429" y="95025"/>
                      <a:pt x="4524" y="88358"/>
                      <a:pt x="3572" y="80738"/>
                    </a:cubicBezTo>
                    <a:cubicBezTo>
                      <a:pt x="2619" y="74070"/>
                      <a:pt x="3572" y="66450"/>
                      <a:pt x="5477" y="59783"/>
                    </a:cubicBezTo>
                    <a:cubicBezTo>
                      <a:pt x="2619" y="45495"/>
                      <a:pt x="5477" y="31208"/>
                      <a:pt x="14049" y="19778"/>
                    </a:cubicBezTo>
                    <a:cubicBezTo>
                      <a:pt x="22622" y="8348"/>
                      <a:pt x="35957" y="3585"/>
                      <a:pt x="49292" y="3585"/>
                    </a:cubicBezTo>
                    <a:cubicBezTo>
                      <a:pt x="60722" y="-3082"/>
                      <a:pt x="75010" y="728"/>
                      <a:pt x="87392" y="5490"/>
                    </a:cubicBezTo>
                    <a:cubicBezTo>
                      <a:pt x="95965" y="8348"/>
                      <a:pt x="104537" y="11205"/>
                      <a:pt x="112157" y="15968"/>
                    </a:cubicBezTo>
                    <a:cubicBezTo>
                      <a:pt x="119777" y="21683"/>
                      <a:pt x="127397" y="30255"/>
                      <a:pt x="128349" y="39780"/>
                    </a:cubicBezTo>
                    <a:cubicBezTo>
                      <a:pt x="134065" y="43590"/>
                      <a:pt x="137874" y="52163"/>
                      <a:pt x="137874" y="59783"/>
                    </a:cubicBezTo>
                    <a:cubicBezTo>
                      <a:pt x="138827" y="67403"/>
                      <a:pt x="136922" y="75023"/>
                      <a:pt x="135969" y="82643"/>
                    </a:cubicBezTo>
                    <a:cubicBezTo>
                      <a:pt x="135017" y="90263"/>
                      <a:pt x="134065" y="98835"/>
                      <a:pt x="136922" y="105503"/>
                    </a:cubicBezTo>
                    <a:cubicBezTo>
                      <a:pt x="139779" y="105503"/>
                      <a:pt x="141685" y="108360"/>
                      <a:pt x="141685" y="111218"/>
                    </a:cubicBezTo>
                    <a:cubicBezTo>
                      <a:pt x="142637" y="114075"/>
                      <a:pt x="141685" y="116933"/>
                      <a:pt x="140732" y="1197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05" name="Freeform: Shape 1116"/>
              <p:cNvSpPr/>
              <p:nvPr/>
            </p:nvSpPr>
            <p:spPr>
              <a:xfrm>
                <a:off x="10356480" y="2956680"/>
                <a:ext cx="232920" cy="417960"/>
              </a:xfrm>
              <a:custGeom>
                <a:avLst/>
                <a:gdLst/>
                <a:ahLst/>
                <a:rect l="l" t="t" r="r" b="b"/>
                <a:pathLst>
                  <a:path w="270509" h="485048">
                    <a:moveTo>
                      <a:pt x="270510" y="484822"/>
                    </a:moveTo>
                    <a:cubicBezTo>
                      <a:pt x="224790" y="485775"/>
                      <a:pt x="177165" y="483870"/>
                      <a:pt x="132397" y="476250"/>
                    </a:cubicBezTo>
                    <a:cubicBezTo>
                      <a:pt x="130492" y="476250"/>
                      <a:pt x="128588" y="475297"/>
                      <a:pt x="125730" y="475297"/>
                    </a:cubicBezTo>
                    <a:cubicBezTo>
                      <a:pt x="116205" y="473392"/>
                      <a:pt x="106680" y="470535"/>
                      <a:pt x="97155" y="467677"/>
                    </a:cubicBezTo>
                    <a:cubicBezTo>
                      <a:pt x="60960" y="456247"/>
                      <a:pt x="25717" y="438150"/>
                      <a:pt x="0" y="410527"/>
                    </a:cubicBezTo>
                    <a:cubicBezTo>
                      <a:pt x="31432" y="382905"/>
                      <a:pt x="60007" y="345757"/>
                      <a:pt x="60960" y="303847"/>
                    </a:cubicBezTo>
                    <a:cubicBezTo>
                      <a:pt x="61913" y="289560"/>
                      <a:pt x="70485" y="254317"/>
                      <a:pt x="68580" y="240982"/>
                    </a:cubicBezTo>
                    <a:cubicBezTo>
                      <a:pt x="60960" y="182880"/>
                      <a:pt x="69532" y="168592"/>
                      <a:pt x="73342" y="82867"/>
                    </a:cubicBezTo>
                    <a:cubicBezTo>
                      <a:pt x="74295" y="65722"/>
                      <a:pt x="69532" y="18097"/>
                      <a:pt x="73342" y="6667"/>
                    </a:cubicBezTo>
                    <a:cubicBezTo>
                      <a:pt x="73342" y="6667"/>
                      <a:pt x="73342" y="5715"/>
                      <a:pt x="73342" y="5715"/>
                    </a:cubicBezTo>
                    <a:cubicBezTo>
                      <a:pt x="73342" y="5715"/>
                      <a:pt x="73342" y="5715"/>
                      <a:pt x="73342" y="5715"/>
                    </a:cubicBezTo>
                    <a:cubicBezTo>
                      <a:pt x="73342" y="5715"/>
                      <a:pt x="73342" y="6667"/>
                      <a:pt x="73342" y="6667"/>
                    </a:cubicBezTo>
                    <a:cubicBezTo>
                      <a:pt x="73342" y="6667"/>
                      <a:pt x="73342" y="7620"/>
                      <a:pt x="73342" y="7620"/>
                    </a:cubicBezTo>
                    <a:cubicBezTo>
                      <a:pt x="73342" y="7620"/>
                      <a:pt x="73342" y="8572"/>
                      <a:pt x="73342" y="8572"/>
                    </a:cubicBezTo>
                    <a:cubicBezTo>
                      <a:pt x="73342" y="9525"/>
                      <a:pt x="73342" y="9525"/>
                      <a:pt x="73342" y="10477"/>
                    </a:cubicBezTo>
                    <a:cubicBezTo>
                      <a:pt x="73342" y="11430"/>
                      <a:pt x="73342" y="12382"/>
                      <a:pt x="74295" y="12382"/>
                    </a:cubicBezTo>
                    <a:cubicBezTo>
                      <a:pt x="74295" y="13335"/>
                      <a:pt x="74295" y="13335"/>
                      <a:pt x="75247" y="14288"/>
                    </a:cubicBezTo>
                    <a:cubicBezTo>
                      <a:pt x="75247" y="15240"/>
                      <a:pt x="76200" y="17145"/>
                      <a:pt x="76200" y="18097"/>
                    </a:cubicBezTo>
                    <a:cubicBezTo>
                      <a:pt x="76200" y="19050"/>
                      <a:pt x="77152" y="19050"/>
                      <a:pt x="77152" y="20002"/>
                    </a:cubicBezTo>
                    <a:cubicBezTo>
                      <a:pt x="77152" y="20955"/>
                      <a:pt x="78105" y="21907"/>
                      <a:pt x="78105" y="21907"/>
                    </a:cubicBezTo>
                    <a:cubicBezTo>
                      <a:pt x="78105" y="21907"/>
                      <a:pt x="78105" y="21907"/>
                      <a:pt x="78105" y="21907"/>
                    </a:cubicBezTo>
                    <a:cubicBezTo>
                      <a:pt x="78105" y="22860"/>
                      <a:pt x="79057" y="23813"/>
                      <a:pt x="80010" y="24765"/>
                    </a:cubicBezTo>
                    <a:cubicBezTo>
                      <a:pt x="80963" y="26670"/>
                      <a:pt x="81915" y="28575"/>
                      <a:pt x="82867" y="29527"/>
                    </a:cubicBezTo>
                    <a:cubicBezTo>
                      <a:pt x="83820" y="30480"/>
                      <a:pt x="83820" y="31432"/>
                      <a:pt x="84772" y="32385"/>
                    </a:cubicBezTo>
                    <a:cubicBezTo>
                      <a:pt x="90488" y="40957"/>
                      <a:pt x="96202" y="55245"/>
                      <a:pt x="101917" y="64770"/>
                    </a:cubicBezTo>
                    <a:cubicBezTo>
                      <a:pt x="101917" y="64770"/>
                      <a:pt x="101917" y="63817"/>
                      <a:pt x="102870" y="63817"/>
                    </a:cubicBezTo>
                    <a:cubicBezTo>
                      <a:pt x="102870" y="63817"/>
                      <a:pt x="102870" y="62865"/>
                      <a:pt x="102870" y="62865"/>
                    </a:cubicBezTo>
                    <a:cubicBezTo>
                      <a:pt x="102870" y="62865"/>
                      <a:pt x="102870" y="62865"/>
                      <a:pt x="102870" y="62865"/>
                    </a:cubicBezTo>
                    <a:cubicBezTo>
                      <a:pt x="103822" y="60960"/>
                      <a:pt x="104775" y="59055"/>
                      <a:pt x="105727" y="56197"/>
                    </a:cubicBezTo>
                    <a:cubicBezTo>
                      <a:pt x="108585" y="51435"/>
                      <a:pt x="111442" y="45720"/>
                      <a:pt x="114300" y="41910"/>
                    </a:cubicBezTo>
                    <a:cubicBezTo>
                      <a:pt x="117157" y="38100"/>
                      <a:pt x="119063" y="36195"/>
                      <a:pt x="120967" y="34290"/>
                    </a:cubicBezTo>
                    <a:cubicBezTo>
                      <a:pt x="122872" y="35242"/>
                      <a:pt x="124777" y="37147"/>
                      <a:pt x="125730" y="39052"/>
                    </a:cubicBezTo>
                    <a:cubicBezTo>
                      <a:pt x="131445" y="43815"/>
                      <a:pt x="136207" y="49530"/>
                      <a:pt x="140017" y="56197"/>
                    </a:cubicBezTo>
                    <a:cubicBezTo>
                      <a:pt x="141922" y="58102"/>
                      <a:pt x="142875" y="60960"/>
                      <a:pt x="143827" y="62865"/>
                    </a:cubicBezTo>
                    <a:cubicBezTo>
                      <a:pt x="158115" y="43815"/>
                      <a:pt x="168592" y="23813"/>
                      <a:pt x="173355" y="0"/>
                    </a:cubicBezTo>
                    <a:cubicBezTo>
                      <a:pt x="173355" y="0"/>
                      <a:pt x="173355" y="0"/>
                      <a:pt x="173355" y="0"/>
                    </a:cubicBezTo>
                    <a:cubicBezTo>
                      <a:pt x="175260" y="60007"/>
                      <a:pt x="177165" y="120015"/>
                      <a:pt x="180022" y="180022"/>
                    </a:cubicBezTo>
                    <a:cubicBezTo>
                      <a:pt x="181927" y="221932"/>
                      <a:pt x="182880" y="265747"/>
                      <a:pt x="202882" y="303847"/>
                    </a:cubicBezTo>
                    <a:cubicBezTo>
                      <a:pt x="210502" y="318135"/>
                      <a:pt x="220027" y="331470"/>
                      <a:pt x="227647" y="344805"/>
                    </a:cubicBezTo>
                    <a:cubicBezTo>
                      <a:pt x="255270" y="385763"/>
                      <a:pt x="269557" y="435292"/>
                      <a:pt x="270510" y="4848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06" name="Freeform: Shape 1117"/>
              <p:cNvSpPr/>
              <p:nvPr/>
            </p:nvSpPr>
            <p:spPr>
              <a:xfrm>
                <a:off x="10431000" y="2988720"/>
                <a:ext cx="61920" cy="397440"/>
              </a:xfrm>
              <a:custGeom>
                <a:avLst/>
                <a:gdLst/>
                <a:ahLst/>
                <a:rect l="l" t="t" r="r" b="b"/>
                <a:pathLst>
                  <a:path w="71988" h="461009">
                    <a:moveTo>
                      <a:pt x="56198" y="102870"/>
                    </a:moveTo>
                    <a:cubicBezTo>
                      <a:pt x="56198" y="88583"/>
                      <a:pt x="56198" y="74295"/>
                      <a:pt x="51435" y="60960"/>
                    </a:cubicBezTo>
                    <a:cubicBezTo>
                      <a:pt x="50482" y="56197"/>
                      <a:pt x="48577" y="52388"/>
                      <a:pt x="47625" y="47625"/>
                    </a:cubicBezTo>
                    <a:lnTo>
                      <a:pt x="53340" y="39053"/>
                    </a:lnTo>
                    <a:lnTo>
                      <a:pt x="49530" y="28575"/>
                    </a:lnTo>
                    <a:cubicBezTo>
                      <a:pt x="50482" y="24765"/>
                      <a:pt x="52388" y="20955"/>
                      <a:pt x="54293" y="17145"/>
                    </a:cubicBezTo>
                    <a:cubicBezTo>
                      <a:pt x="50482" y="10478"/>
                      <a:pt x="44768" y="4763"/>
                      <a:pt x="40005" y="0"/>
                    </a:cubicBezTo>
                    <a:cubicBezTo>
                      <a:pt x="36195" y="953"/>
                      <a:pt x="32385" y="2858"/>
                      <a:pt x="28575" y="3810"/>
                    </a:cubicBezTo>
                    <a:cubicBezTo>
                      <a:pt x="28575" y="3810"/>
                      <a:pt x="27623" y="3810"/>
                      <a:pt x="27623" y="3810"/>
                    </a:cubicBezTo>
                    <a:cubicBezTo>
                      <a:pt x="27623" y="3810"/>
                      <a:pt x="27623" y="3810"/>
                      <a:pt x="27623" y="4763"/>
                    </a:cubicBezTo>
                    <a:cubicBezTo>
                      <a:pt x="27623" y="4763"/>
                      <a:pt x="27623" y="4763"/>
                      <a:pt x="27623" y="4763"/>
                    </a:cubicBezTo>
                    <a:cubicBezTo>
                      <a:pt x="26670" y="5715"/>
                      <a:pt x="26670" y="5715"/>
                      <a:pt x="25718" y="6667"/>
                    </a:cubicBezTo>
                    <a:cubicBezTo>
                      <a:pt x="25718" y="6667"/>
                      <a:pt x="24765" y="7620"/>
                      <a:pt x="24765" y="7620"/>
                    </a:cubicBezTo>
                    <a:cubicBezTo>
                      <a:pt x="24765" y="7620"/>
                      <a:pt x="24765" y="7620"/>
                      <a:pt x="24765" y="7620"/>
                    </a:cubicBezTo>
                    <a:cubicBezTo>
                      <a:pt x="23813" y="8572"/>
                      <a:pt x="23813" y="8572"/>
                      <a:pt x="23813" y="9525"/>
                    </a:cubicBezTo>
                    <a:cubicBezTo>
                      <a:pt x="23813" y="9525"/>
                      <a:pt x="23813" y="9525"/>
                      <a:pt x="23813" y="9525"/>
                    </a:cubicBezTo>
                    <a:cubicBezTo>
                      <a:pt x="23813" y="9525"/>
                      <a:pt x="23813" y="10478"/>
                      <a:pt x="22860" y="10478"/>
                    </a:cubicBezTo>
                    <a:cubicBezTo>
                      <a:pt x="22860" y="11430"/>
                      <a:pt x="21907" y="11430"/>
                      <a:pt x="21907" y="12383"/>
                    </a:cubicBezTo>
                    <a:cubicBezTo>
                      <a:pt x="21907" y="12383"/>
                      <a:pt x="21907" y="13335"/>
                      <a:pt x="21907" y="13335"/>
                    </a:cubicBezTo>
                    <a:cubicBezTo>
                      <a:pt x="21907" y="14288"/>
                      <a:pt x="20955" y="14288"/>
                      <a:pt x="20955" y="15240"/>
                    </a:cubicBezTo>
                    <a:cubicBezTo>
                      <a:pt x="20955" y="16192"/>
                      <a:pt x="20002" y="16192"/>
                      <a:pt x="20002" y="17145"/>
                    </a:cubicBezTo>
                    <a:cubicBezTo>
                      <a:pt x="20002" y="17145"/>
                      <a:pt x="20002" y="17145"/>
                      <a:pt x="20002" y="17145"/>
                    </a:cubicBezTo>
                    <a:cubicBezTo>
                      <a:pt x="21907" y="22860"/>
                      <a:pt x="23813" y="27622"/>
                      <a:pt x="24765" y="33338"/>
                    </a:cubicBezTo>
                    <a:lnTo>
                      <a:pt x="21907" y="38100"/>
                    </a:lnTo>
                    <a:cubicBezTo>
                      <a:pt x="20955" y="39053"/>
                      <a:pt x="20955" y="40958"/>
                      <a:pt x="21907" y="41910"/>
                    </a:cubicBezTo>
                    <a:lnTo>
                      <a:pt x="25718" y="45720"/>
                    </a:lnTo>
                    <a:cubicBezTo>
                      <a:pt x="25718" y="48578"/>
                      <a:pt x="25718" y="51435"/>
                      <a:pt x="25718" y="55245"/>
                    </a:cubicBezTo>
                    <a:cubicBezTo>
                      <a:pt x="24765" y="61913"/>
                      <a:pt x="22860" y="67628"/>
                      <a:pt x="20955" y="74295"/>
                    </a:cubicBezTo>
                    <a:cubicBezTo>
                      <a:pt x="19050" y="84772"/>
                      <a:pt x="18098" y="95250"/>
                      <a:pt x="17145" y="104775"/>
                    </a:cubicBezTo>
                    <a:cubicBezTo>
                      <a:pt x="12382" y="186690"/>
                      <a:pt x="7620" y="268605"/>
                      <a:pt x="3810" y="350520"/>
                    </a:cubicBezTo>
                    <a:cubicBezTo>
                      <a:pt x="2857" y="369570"/>
                      <a:pt x="3810" y="393383"/>
                      <a:pt x="0" y="412433"/>
                    </a:cubicBezTo>
                    <a:cubicBezTo>
                      <a:pt x="3810" y="417195"/>
                      <a:pt x="6668" y="422910"/>
                      <a:pt x="10477" y="427672"/>
                    </a:cubicBezTo>
                    <a:cubicBezTo>
                      <a:pt x="17145" y="438150"/>
                      <a:pt x="22860" y="449580"/>
                      <a:pt x="27623" y="461010"/>
                    </a:cubicBezTo>
                    <a:cubicBezTo>
                      <a:pt x="33338" y="453390"/>
                      <a:pt x="40005" y="444817"/>
                      <a:pt x="45720" y="436245"/>
                    </a:cubicBezTo>
                    <a:cubicBezTo>
                      <a:pt x="54293" y="423863"/>
                      <a:pt x="63818" y="411480"/>
                      <a:pt x="71438" y="399097"/>
                    </a:cubicBezTo>
                    <a:cubicBezTo>
                      <a:pt x="75248" y="301942"/>
                      <a:pt x="58102" y="202883"/>
                      <a:pt x="56198" y="102870"/>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07" name="Freeform: Shape 1118"/>
              <p:cNvSpPr/>
              <p:nvPr/>
            </p:nvSpPr>
            <p:spPr>
              <a:xfrm>
                <a:off x="10461600" y="2941920"/>
                <a:ext cx="51480" cy="77040"/>
              </a:xfrm>
              <a:custGeom>
                <a:avLst/>
                <a:gdLst/>
                <a:ahLst/>
                <a:rect l="l" t="t" r="r" b="b"/>
                <a:pathLst>
                  <a:path w="60007" h="89534">
                    <a:moveTo>
                      <a:pt x="60007" y="18097"/>
                    </a:moveTo>
                    <a:cubicBezTo>
                      <a:pt x="60007" y="19050"/>
                      <a:pt x="56197" y="19050"/>
                      <a:pt x="56197" y="20002"/>
                    </a:cubicBezTo>
                    <a:cubicBezTo>
                      <a:pt x="56197" y="20955"/>
                      <a:pt x="55245" y="22860"/>
                      <a:pt x="54293" y="23813"/>
                    </a:cubicBezTo>
                    <a:cubicBezTo>
                      <a:pt x="49530" y="46672"/>
                      <a:pt x="40957" y="70485"/>
                      <a:pt x="26670" y="89535"/>
                    </a:cubicBezTo>
                    <a:cubicBezTo>
                      <a:pt x="25718" y="87630"/>
                      <a:pt x="20002" y="74295"/>
                      <a:pt x="19050" y="72390"/>
                    </a:cubicBezTo>
                    <a:cubicBezTo>
                      <a:pt x="15240" y="65722"/>
                      <a:pt x="9525" y="60008"/>
                      <a:pt x="4763" y="55245"/>
                    </a:cubicBezTo>
                    <a:cubicBezTo>
                      <a:pt x="2857" y="53340"/>
                      <a:pt x="952" y="52388"/>
                      <a:pt x="0" y="50483"/>
                    </a:cubicBezTo>
                    <a:cubicBezTo>
                      <a:pt x="7620" y="44767"/>
                      <a:pt x="35243" y="22860"/>
                      <a:pt x="44768" y="9525"/>
                    </a:cubicBezTo>
                    <a:cubicBezTo>
                      <a:pt x="45720" y="8572"/>
                      <a:pt x="45720" y="7620"/>
                      <a:pt x="46672" y="6667"/>
                    </a:cubicBezTo>
                    <a:cubicBezTo>
                      <a:pt x="46672" y="6667"/>
                      <a:pt x="46672" y="6667"/>
                      <a:pt x="46672" y="6667"/>
                    </a:cubicBezTo>
                    <a:cubicBezTo>
                      <a:pt x="45720" y="5715"/>
                      <a:pt x="44768" y="3810"/>
                      <a:pt x="44768" y="0"/>
                    </a:cubicBezTo>
                    <a:cubicBezTo>
                      <a:pt x="47625" y="3810"/>
                      <a:pt x="57150" y="14288"/>
                      <a:pt x="60007" y="18097"/>
                    </a:cubicBezTo>
                    <a:close/>
                  </a:path>
                </a:pathLst>
              </a:custGeom>
              <a:solidFill>
                <a:srgbClr val="ffffff"/>
              </a:solidFill>
              <a:ln w="0">
                <a:noFill/>
              </a:ln>
            </p:spPr>
            <p:style>
              <a:lnRef idx="0"/>
              <a:fillRef idx="0"/>
              <a:effectRef idx="0"/>
              <a:fontRef idx="minor"/>
            </p:style>
            <p:txBody>
              <a:bodyPr lIns="90000" rIns="90000" tIns="30240" bIns="30240" anchor="ctr">
                <a:noAutofit/>
              </a:bodyPr>
              <a:p>
                <a:endParaRPr b="0" lang="en-US" sz="1800" spc="-1" strike="noStrike">
                  <a:solidFill>
                    <a:srgbClr val="313c3f"/>
                  </a:solidFill>
                  <a:latin typeface="Source Sans Pro"/>
                </a:endParaRPr>
              </a:p>
            </p:txBody>
          </p:sp>
          <p:sp>
            <p:nvSpPr>
              <p:cNvPr id="1308" name="Freeform: Shape 1119"/>
              <p:cNvSpPr/>
              <p:nvPr/>
            </p:nvSpPr>
            <p:spPr>
              <a:xfrm>
                <a:off x="10417320" y="2943360"/>
                <a:ext cx="43920" cy="71280"/>
              </a:xfrm>
              <a:custGeom>
                <a:avLst/>
                <a:gdLst/>
                <a:ahLst/>
                <a:rect l="l" t="t" r="r" b="b"/>
                <a:pathLst>
                  <a:path w="51191" h="82867">
                    <a:moveTo>
                      <a:pt x="51191" y="47625"/>
                    </a:moveTo>
                    <a:cubicBezTo>
                      <a:pt x="50239" y="48578"/>
                      <a:pt x="32141" y="82867"/>
                      <a:pt x="32141" y="82867"/>
                    </a:cubicBezTo>
                    <a:cubicBezTo>
                      <a:pt x="27379" y="73342"/>
                      <a:pt x="19759" y="59055"/>
                      <a:pt x="14044" y="50483"/>
                    </a:cubicBezTo>
                    <a:cubicBezTo>
                      <a:pt x="13091" y="49530"/>
                      <a:pt x="4519" y="39053"/>
                      <a:pt x="3566" y="38100"/>
                    </a:cubicBezTo>
                    <a:cubicBezTo>
                      <a:pt x="2614" y="36195"/>
                      <a:pt x="-5006" y="21908"/>
                      <a:pt x="5472" y="0"/>
                    </a:cubicBezTo>
                    <a:cubicBezTo>
                      <a:pt x="8329" y="2858"/>
                      <a:pt x="11186" y="5715"/>
                      <a:pt x="13091" y="9525"/>
                    </a:cubicBezTo>
                    <a:cubicBezTo>
                      <a:pt x="14044" y="11430"/>
                      <a:pt x="15949" y="12383"/>
                      <a:pt x="16901" y="14288"/>
                    </a:cubicBezTo>
                    <a:cubicBezTo>
                      <a:pt x="23569" y="22860"/>
                      <a:pt x="30236" y="31433"/>
                      <a:pt x="38809" y="40005"/>
                    </a:cubicBezTo>
                    <a:cubicBezTo>
                      <a:pt x="42619" y="43815"/>
                      <a:pt x="46429" y="47625"/>
                      <a:pt x="51191" y="47625"/>
                    </a:cubicBezTo>
                    <a:close/>
                  </a:path>
                </a:pathLst>
              </a:custGeom>
              <a:solidFill>
                <a:srgbClr val="ffffff"/>
              </a:solidFill>
              <a:ln w="0">
                <a:noFill/>
              </a:ln>
            </p:spPr>
            <p:style>
              <a:lnRef idx="0"/>
              <a:fillRef idx="0"/>
              <a:effectRef idx="0"/>
              <a:fontRef idx="minor"/>
            </p:style>
            <p:txBody>
              <a:bodyPr lIns="90000" rIns="90000" tIns="24480" bIns="24480" anchor="ctr">
                <a:noAutofit/>
              </a:bodyPr>
              <a:p>
                <a:endParaRPr b="0" lang="en-US" sz="1800" spc="-1" strike="noStrike">
                  <a:solidFill>
                    <a:srgbClr val="313c3f"/>
                  </a:solidFill>
                  <a:latin typeface="Source Sans Pro"/>
                </a:endParaRPr>
              </a:p>
            </p:txBody>
          </p:sp>
        </p:grpSp>
        <p:grpSp>
          <p:nvGrpSpPr>
            <p:cNvPr id="1309" name="Graphic 106"/>
            <p:cNvGrpSpPr/>
            <p:nvPr/>
          </p:nvGrpSpPr>
          <p:grpSpPr>
            <a:xfrm>
              <a:off x="9816120" y="2785320"/>
              <a:ext cx="380880" cy="1239840"/>
              <a:chOff x="9816120" y="2785320"/>
              <a:chExt cx="380880" cy="1239840"/>
            </a:xfrm>
          </p:grpSpPr>
          <p:sp>
            <p:nvSpPr>
              <p:cNvPr id="1310" name="Freeform: Shape 1121"/>
              <p:cNvSpPr/>
              <p:nvPr/>
            </p:nvSpPr>
            <p:spPr>
              <a:xfrm>
                <a:off x="9816120" y="2912400"/>
                <a:ext cx="380880" cy="1112760"/>
              </a:xfrm>
              <a:custGeom>
                <a:avLst/>
                <a:gdLst/>
                <a:ahLst/>
                <a:rect l="l" t="t" r="r" b="b"/>
                <a:pathLst>
                  <a:path w="442081" h="1290637">
                    <a:moveTo>
                      <a:pt x="429578" y="144780"/>
                    </a:moveTo>
                    <a:cubicBezTo>
                      <a:pt x="426720" y="134303"/>
                      <a:pt x="423863" y="124778"/>
                      <a:pt x="416242" y="117158"/>
                    </a:cubicBezTo>
                    <a:cubicBezTo>
                      <a:pt x="410528" y="111442"/>
                      <a:pt x="403860" y="108585"/>
                      <a:pt x="396240" y="105728"/>
                    </a:cubicBezTo>
                    <a:cubicBezTo>
                      <a:pt x="378142" y="98108"/>
                      <a:pt x="359092" y="94298"/>
                      <a:pt x="340995" y="86678"/>
                    </a:cubicBezTo>
                    <a:cubicBezTo>
                      <a:pt x="322897" y="79058"/>
                      <a:pt x="305753" y="67628"/>
                      <a:pt x="298132" y="50483"/>
                    </a:cubicBezTo>
                    <a:cubicBezTo>
                      <a:pt x="296228" y="46673"/>
                      <a:pt x="295275" y="42863"/>
                      <a:pt x="291465" y="41910"/>
                    </a:cubicBezTo>
                    <a:cubicBezTo>
                      <a:pt x="288607" y="40005"/>
                      <a:pt x="284797" y="40958"/>
                      <a:pt x="281940" y="39053"/>
                    </a:cubicBezTo>
                    <a:cubicBezTo>
                      <a:pt x="278130" y="37148"/>
                      <a:pt x="277178" y="33338"/>
                      <a:pt x="276225" y="29528"/>
                    </a:cubicBezTo>
                    <a:cubicBezTo>
                      <a:pt x="273367" y="20003"/>
                      <a:pt x="271463" y="10478"/>
                      <a:pt x="268605" y="0"/>
                    </a:cubicBezTo>
                    <a:cubicBezTo>
                      <a:pt x="246697" y="5715"/>
                      <a:pt x="222885" y="10478"/>
                      <a:pt x="204788" y="22860"/>
                    </a:cubicBezTo>
                    <a:cubicBezTo>
                      <a:pt x="201930" y="24765"/>
                      <a:pt x="198120" y="27623"/>
                      <a:pt x="196215" y="30480"/>
                    </a:cubicBezTo>
                    <a:cubicBezTo>
                      <a:pt x="193357" y="34290"/>
                      <a:pt x="193357" y="39053"/>
                      <a:pt x="192405" y="43815"/>
                    </a:cubicBezTo>
                    <a:cubicBezTo>
                      <a:pt x="191453" y="59055"/>
                      <a:pt x="192405" y="75248"/>
                      <a:pt x="196215" y="89535"/>
                    </a:cubicBezTo>
                    <a:cubicBezTo>
                      <a:pt x="197167" y="92392"/>
                      <a:pt x="197167" y="95250"/>
                      <a:pt x="196215" y="97155"/>
                    </a:cubicBezTo>
                    <a:cubicBezTo>
                      <a:pt x="195263" y="98108"/>
                      <a:pt x="194310" y="99060"/>
                      <a:pt x="192405" y="100013"/>
                    </a:cubicBezTo>
                    <a:cubicBezTo>
                      <a:pt x="164782" y="117158"/>
                      <a:pt x="137160" y="135255"/>
                      <a:pt x="109538" y="152400"/>
                    </a:cubicBezTo>
                    <a:cubicBezTo>
                      <a:pt x="106680" y="154305"/>
                      <a:pt x="104775" y="155258"/>
                      <a:pt x="102870" y="158115"/>
                    </a:cubicBezTo>
                    <a:cubicBezTo>
                      <a:pt x="100965" y="160973"/>
                      <a:pt x="100013" y="164783"/>
                      <a:pt x="99060" y="168592"/>
                    </a:cubicBezTo>
                    <a:cubicBezTo>
                      <a:pt x="95250" y="194310"/>
                      <a:pt x="98107" y="220980"/>
                      <a:pt x="96203" y="246698"/>
                    </a:cubicBezTo>
                    <a:cubicBezTo>
                      <a:pt x="92392" y="283845"/>
                      <a:pt x="82867" y="323850"/>
                      <a:pt x="84772" y="361950"/>
                    </a:cubicBezTo>
                    <a:cubicBezTo>
                      <a:pt x="85725" y="389573"/>
                      <a:pt x="71438" y="414338"/>
                      <a:pt x="62865" y="441008"/>
                    </a:cubicBezTo>
                    <a:cubicBezTo>
                      <a:pt x="54292" y="466725"/>
                      <a:pt x="50482" y="494348"/>
                      <a:pt x="43815" y="521017"/>
                    </a:cubicBezTo>
                    <a:cubicBezTo>
                      <a:pt x="33338" y="564833"/>
                      <a:pt x="16192" y="605790"/>
                      <a:pt x="0" y="647700"/>
                    </a:cubicBezTo>
                    <a:cubicBezTo>
                      <a:pt x="2857" y="648653"/>
                      <a:pt x="7620" y="653415"/>
                      <a:pt x="10478" y="655320"/>
                    </a:cubicBezTo>
                    <a:cubicBezTo>
                      <a:pt x="9525" y="659130"/>
                      <a:pt x="8572" y="661988"/>
                      <a:pt x="7620" y="665798"/>
                    </a:cubicBezTo>
                    <a:cubicBezTo>
                      <a:pt x="10478" y="666750"/>
                      <a:pt x="13335" y="666750"/>
                      <a:pt x="16192" y="666750"/>
                    </a:cubicBezTo>
                    <a:cubicBezTo>
                      <a:pt x="12382" y="675323"/>
                      <a:pt x="11430" y="683895"/>
                      <a:pt x="12382" y="693420"/>
                    </a:cubicBezTo>
                    <a:cubicBezTo>
                      <a:pt x="12382" y="698183"/>
                      <a:pt x="13335" y="702945"/>
                      <a:pt x="14288" y="707708"/>
                    </a:cubicBezTo>
                    <a:cubicBezTo>
                      <a:pt x="15240" y="715328"/>
                      <a:pt x="17145" y="722948"/>
                      <a:pt x="20955" y="729615"/>
                    </a:cubicBezTo>
                    <a:cubicBezTo>
                      <a:pt x="23813" y="734378"/>
                      <a:pt x="27622" y="739140"/>
                      <a:pt x="31432" y="742950"/>
                    </a:cubicBezTo>
                    <a:cubicBezTo>
                      <a:pt x="35242" y="746760"/>
                      <a:pt x="39053" y="750570"/>
                      <a:pt x="43815" y="751523"/>
                    </a:cubicBezTo>
                    <a:cubicBezTo>
                      <a:pt x="49530" y="753428"/>
                      <a:pt x="56197" y="752475"/>
                      <a:pt x="61913" y="750570"/>
                    </a:cubicBezTo>
                    <a:cubicBezTo>
                      <a:pt x="65722" y="749618"/>
                      <a:pt x="69532" y="748665"/>
                      <a:pt x="72390" y="747713"/>
                    </a:cubicBezTo>
                    <a:cubicBezTo>
                      <a:pt x="73342" y="747713"/>
                      <a:pt x="74295" y="747713"/>
                      <a:pt x="75247" y="746760"/>
                    </a:cubicBezTo>
                    <a:cubicBezTo>
                      <a:pt x="77153" y="745808"/>
                      <a:pt x="77153" y="742950"/>
                      <a:pt x="75247" y="741998"/>
                    </a:cubicBezTo>
                    <a:cubicBezTo>
                      <a:pt x="74295" y="740093"/>
                      <a:pt x="72390" y="739140"/>
                      <a:pt x="70485" y="738188"/>
                    </a:cubicBezTo>
                    <a:cubicBezTo>
                      <a:pt x="67628" y="736283"/>
                      <a:pt x="65722" y="735330"/>
                      <a:pt x="63817" y="732473"/>
                    </a:cubicBezTo>
                    <a:cubicBezTo>
                      <a:pt x="62865" y="730568"/>
                      <a:pt x="62865" y="729615"/>
                      <a:pt x="62865" y="727710"/>
                    </a:cubicBezTo>
                    <a:cubicBezTo>
                      <a:pt x="62865" y="726758"/>
                      <a:pt x="63817" y="724853"/>
                      <a:pt x="63817" y="723900"/>
                    </a:cubicBezTo>
                    <a:cubicBezTo>
                      <a:pt x="69532" y="709613"/>
                      <a:pt x="72390" y="694373"/>
                      <a:pt x="63817" y="681038"/>
                    </a:cubicBezTo>
                    <a:cubicBezTo>
                      <a:pt x="67628" y="680085"/>
                      <a:pt x="74295" y="681990"/>
                      <a:pt x="78105" y="682943"/>
                    </a:cubicBezTo>
                    <a:cubicBezTo>
                      <a:pt x="80963" y="724853"/>
                      <a:pt x="86678" y="765810"/>
                      <a:pt x="96203" y="806768"/>
                    </a:cubicBezTo>
                    <a:cubicBezTo>
                      <a:pt x="102870" y="835343"/>
                      <a:pt x="110490" y="862965"/>
                      <a:pt x="115253" y="891540"/>
                    </a:cubicBezTo>
                    <a:cubicBezTo>
                      <a:pt x="124778" y="950595"/>
                      <a:pt x="133350" y="1010603"/>
                      <a:pt x="151447" y="1067752"/>
                    </a:cubicBezTo>
                    <a:cubicBezTo>
                      <a:pt x="159067" y="1090613"/>
                      <a:pt x="160972" y="1130618"/>
                      <a:pt x="159067" y="1144905"/>
                    </a:cubicBezTo>
                    <a:cubicBezTo>
                      <a:pt x="158115" y="1154430"/>
                      <a:pt x="158115" y="1163955"/>
                      <a:pt x="159067" y="1172527"/>
                    </a:cubicBezTo>
                    <a:cubicBezTo>
                      <a:pt x="160020" y="1183958"/>
                      <a:pt x="160020" y="1195388"/>
                      <a:pt x="162878" y="1205865"/>
                    </a:cubicBezTo>
                    <a:cubicBezTo>
                      <a:pt x="165735" y="1218248"/>
                      <a:pt x="169545" y="1229677"/>
                      <a:pt x="174307" y="1241108"/>
                    </a:cubicBezTo>
                    <a:cubicBezTo>
                      <a:pt x="177165" y="1246823"/>
                      <a:pt x="180022" y="1253490"/>
                      <a:pt x="180022" y="1260158"/>
                    </a:cubicBezTo>
                    <a:cubicBezTo>
                      <a:pt x="180022" y="1265873"/>
                      <a:pt x="178117" y="1271588"/>
                      <a:pt x="175260" y="1277302"/>
                    </a:cubicBezTo>
                    <a:cubicBezTo>
                      <a:pt x="174307" y="1279208"/>
                      <a:pt x="174307" y="1281113"/>
                      <a:pt x="173355" y="1283018"/>
                    </a:cubicBezTo>
                    <a:cubicBezTo>
                      <a:pt x="205740" y="1284923"/>
                      <a:pt x="238125" y="1285875"/>
                      <a:pt x="271463" y="1287780"/>
                    </a:cubicBezTo>
                    <a:cubicBezTo>
                      <a:pt x="270510" y="1280160"/>
                      <a:pt x="268605" y="1272540"/>
                      <a:pt x="266700" y="1263968"/>
                    </a:cubicBezTo>
                    <a:cubicBezTo>
                      <a:pt x="260032" y="1237298"/>
                      <a:pt x="263842" y="1233488"/>
                      <a:pt x="264795" y="1206818"/>
                    </a:cubicBezTo>
                    <a:cubicBezTo>
                      <a:pt x="264795" y="1206818"/>
                      <a:pt x="262890" y="1177290"/>
                      <a:pt x="262890" y="1177290"/>
                    </a:cubicBezTo>
                    <a:cubicBezTo>
                      <a:pt x="264795" y="1141095"/>
                      <a:pt x="262890" y="1110615"/>
                      <a:pt x="260985" y="1074420"/>
                    </a:cubicBezTo>
                    <a:cubicBezTo>
                      <a:pt x="269557" y="1122045"/>
                      <a:pt x="272415" y="1169670"/>
                      <a:pt x="271463" y="1217295"/>
                    </a:cubicBezTo>
                    <a:cubicBezTo>
                      <a:pt x="270510" y="1241108"/>
                      <a:pt x="269557" y="1264920"/>
                      <a:pt x="271463" y="1287780"/>
                    </a:cubicBezTo>
                    <a:cubicBezTo>
                      <a:pt x="302895" y="1288733"/>
                      <a:pt x="334328" y="1289685"/>
                      <a:pt x="364807" y="1290638"/>
                    </a:cubicBezTo>
                    <a:cubicBezTo>
                      <a:pt x="369570" y="1220152"/>
                      <a:pt x="381000" y="1149668"/>
                      <a:pt x="376238" y="1081088"/>
                    </a:cubicBezTo>
                    <a:cubicBezTo>
                      <a:pt x="371475" y="1013460"/>
                      <a:pt x="355282" y="953453"/>
                      <a:pt x="350520" y="885825"/>
                    </a:cubicBezTo>
                    <a:cubicBezTo>
                      <a:pt x="347663" y="848678"/>
                      <a:pt x="351472" y="811530"/>
                      <a:pt x="354330" y="774383"/>
                    </a:cubicBezTo>
                    <a:cubicBezTo>
                      <a:pt x="357188" y="743903"/>
                      <a:pt x="359092" y="717233"/>
                      <a:pt x="360997" y="686753"/>
                    </a:cubicBezTo>
                    <a:cubicBezTo>
                      <a:pt x="368617" y="681990"/>
                      <a:pt x="381000" y="684848"/>
                      <a:pt x="387667" y="678180"/>
                    </a:cubicBezTo>
                    <a:cubicBezTo>
                      <a:pt x="392430" y="673418"/>
                      <a:pt x="392430" y="665798"/>
                      <a:pt x="392430" y="660083"/>
                    </a:cubicBezTo>
                    <a:cubicBezTo>
                      <a:pt x="389572" y="612458"/>
                      <a:pt x="385763" y="565785"/>
                      <a:pt x="377190" y="519113"/>
                    </a:cubicBezTo>
                    <a:cubicBezTo>
                      <a:pt x="400050" y="475298"/>
                      <a:pt x="415290" y="428625"/>
                      <a:pt x="423863" y="381000"/>
                    </a:cubicBezTo>
                    <a:cubicBezTo>
                      <a:pt x="427672" y="359092"/>
                      <a:pt x="435292" y="336233"/>
                      <a:pt x="426720" y="315278"/>
                    </a:cubicBezTo>
                    <a:cubicBezTo>
                      <a:pt x="448628" y="260985"/>
                      <a:pt x="444817" y="200025"/>
                      <a:pt x="429578" y="14478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11" name="Freeform: Shape 1122"/>
              <p:cNvSpPr/>
              <p:nvPr/>
            </p:nvSpPr>
            <p:spPr>
              <a:xfrm>
                <a:off x="9898920" y="2991960"/>
                <a:ext cx="122040" cy="368640"/>
              </a:xfrm>
              <a:custGeom>
                <a:avLst/>
                <a:gdLst/>
                <a:ahLst/>
                <a:rect l="l" t="t" r="r" b="b"/>
                <a:pathLst>
                  <a:path w="141846" h="427672">
                    <a:moveTo>
                      <a:pt x="133274" y="38100"/>
                    </a:moveTo>
                    <a:cubicBezTo>
                      <a:pt x="128511" y="30480"/>
                      <a:pt x="123749" y="22860"/>
                      <a:pt x="117081" y="17145"/>
                    </a:cubicBezTo>
                    <a:cubicBezTo>
                      <a:pt x="117081" y="17145"/>
                      <a:pt x="118034" y="17145"/>
                      <a:pt x="118034" y="17145"/>
                    </a:cubicBezTo>
                    <a:cubicBezTo>
                      <a:pt x="117081" y="16193"/>
                      <a:pt x="117081" y="16193"/>
                      <a:pt x="117081" y="15240"/>
                    </a:cubicBezTo>
                    <a:cubicBezTo>
                      <a:pt x="117081" y="15240"/>
                      <a:pt x="117081" y="15240"/>
                      <a:pt x="117081" y="15240"/>
                    </a:cubicBezTo>
                    <a:cubicBezTo>
                      <a:pt x="115176" y="13335"/>
                      <a:pt x="114224" y="11430"/>
                      <a:pt x="112319" y="9525"/>
                    </a:cubicBezTo>
                    <a:cubicBezTo>
                      <a:pt x="111366" y="8573"/>
                      <a:pt x="111366" y="7620"/>
                      <a:pt x="110414" y="6668"/>
                    </a:cubicBezTo>
                    <a:cubicBezTo>
                      <a:pt x="107556" y="2858"/>
                      <a:pt x="100889" y="1905"/>
                      <a:pt x="96126" y="0"/>
                    </a:cubicBezTo>
                    <a:cubicBezTo>
                      <a:pt x="94221" y="1905"/>
                      <a:pt x="93269" y="3810"/>
                      <a:pt x="91364" y="6668"/>
                    </a:cubicBezTo>
                    <a:cubicBezTo>
                      <a:pt x="93269" y="8573"/>
                      <a:pt x="94221" y="10478"/>
                      <a:pt x="94221" y="12383"/>
                    </a:cubicBezTo>
                    <a:cubicBezTo>
                      <a:pt x="91364" y="29528"/>
                      <a:pt x="85649" y="40958"/>
                      <a:pt x="79934" y="55245"/>
                    </a:cubicBezTo>
                    <a:cubicBezTo>
                      <a:pt x="78029" y="59055"/>
                      <a:pt x="77076" y="62865"/>
                      <a:pt x="75171" y="66675"/>
                    </a:cubicBezTo>
                    <a:cubicBezTo>
                      <a:pt x="73266" y="71438"/>
                      <a:pt x="72314" y="75248"/>
                      <a:pt x="71361" y="80010"/>
                    </a:cubicBezTo>
                    <a:cubicBezTo>
                      <a:pt x="66599" y="97155"/>
                      <a:pt x="61836" y="117158"/>
                      <a:pt x="57074" y="136208"/>
                    </a:cubicBezTo>
                    <a:cubicBezTo>
                      <a:pt x="54216" y="148590"/>
                      <a:pt x="49454" y="168593"/>
                      <a:pt x="49454" y="167640"/>
                    </a:cubicBezTo>
                    <a:cubicBezTo>
                      <a:pt x="49454" y="169545"/>
                      <a:pt x="-7696" y="337185"/>
                      <a:pt x="876" y="420053"/>
                    </a:cubicBezTo>
                    <a:cubicBezTo>
                      <a:pt x="11354" y="421958"/>
                      <a:pt x="20879" y="423863"/>
                      <a:pt x="31356" y="426720"/>
                    </a:cubicBezTo>
                    <a:cubicBezTo>
                      <a:pt x="34214" y="427673"/>
                      <a:pt x="36119" y="427673"/>
                      <a:pt x="38976" y="427673"/>
                    </a:cubicBezTo>
                    <a:cubicBezTo>
                      <a:pt x="41834" y="427673"/>
                      <a:pt x="47549" y="426720"/>
                      <a:pt x="50406" y="425768"/>
                    </a:cubicBezTo>
                    <a:cubicBezTo>
                      <a:pt x="46596" y="374333"/>
                      <a:pt x="41834" y="321945"/>
                      <a:pt x="52311" y="271463"/>
                    </a:cubicBezTo>
                    <a:cubicBezTo>
                      <a:pt x="56121" y="253365"/>
                      <a:pt x="60884" y="235268"/>
                      <a:pt x="67551" y="218123"/>
                    </a:cubicBezTo>
                    <a:cubicBezTo>
                      <a:pt x="86601" y="160973"/>
                      <a:pt x="112319" y="103823"/>
                      <a:pt x="141846" y="51435"/>
                    </a:cubicBezTo>
                    <a:cubicBezTo>
                      <a:pt x="138989" y="46673"/>
                      <a:pt x="136131" y="42863"/>
                      <a:pt x="133274" y="3810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12" name="Freeform: Shape 1123"/>
              <p:cNvSpPr/>
              <p:nvPr/>
            </p:nvSpPr>
            <p:spPr>
              <a:xfrm>
                <a:off x="9912960" y="2785320"/>
                <a:ext cx="142200" cy="202320"/>
              </a:xfrm>
              <a:custGeom>
                <a:avLst/>
                <a:gdLst/>
                <a:ahLst/>
                <a:rect l="l" t="t" r="r" b="b"/>
                <a:pathLst>
                  <a:path w="165181" h="234814">
                    <a:moveTo>
                      <a:pt x="12387" y="79058"/>
                    </a:moveTo>
                    <a:cubicBezTo>
                      <a:pt x="15244" y="91440"/>
                      <a:pt x="17149" y="103823"/>
                      <a:pt x="17149" y="116205"/>
                    </a:cubicBezTo>
                    <a:cubicBezTo>
                      <a:pt x="17149" y="120967"/>
                      <a:pt x="17149" y="125730"/>
                      <a:pt x="19054" y="129540"/>
                    </a:cubicBezTo>
                    <a:cubicBezTo>
                      <a:pt x="21912" y="134303"/>
                      <a:pt x="30484" y="138113"/>
                      <a:pt x="30484" y="143828"/>
                    </a:cubicBezTo>
                    <a:cubicBezTo>
                      <a:pt x="30484" y="145733"/>
                      <a:pt x="30484" y="146685"/>
                      <a:pt x="30484" y="148590"/>
                    </a:cubicBezTo>
                    <a:cubicBezTo>
                      <a:pt x="30484" y="156210"/>
                      <a:pt x="33342" y="163830"/>
                      <a:pt x="37151" y="171450"/>
                    </a:cubicBezTo>
                    <a:cubicBezTo>
                      <a:pt x="43819" y="184785"/>
                      <a:pt x="57154" y="197167"/>
                      <a:pt x="62869" y="211455"/>
                    </a:cubicBezTo>
                    <a:cubicBezTo>
                      <a:pt x="66679" y="219075"/>
                      <a:pt x="70489" y="227648"/>
                      <a:pt x="78109" y="232410"/>
                    </a:cubicBezTo>
                    <a:cubicBezTo>
                      <a:pt x="87634" y="237173"/>
                      <a:pt x="99064" y="234315"/>
                      <a:pt x="107637" y="228600"/>
                    </a:cubicBezTo>
                    <a:cubicBezTo>
                      <a:pt x="112399" y="225742"/>
                      <a:pt x="116209" y="221933"/>
                      <a:pt x="120972" y="218123"/>
                    </a:cubicBezTo>
                    <a:cubicBezTo>
                      <a:pt x="129544" y="210503"/>
                      <a:pt x="137164" y="202883"/>
                      <a:pt x="143832" y="194310"/>
                    </a:cubicBezTo>
                    <a:cubicBezTo>
                      <a:pt x="157167" y="176213"/>
                      <a:pt x="165739" y="151448"/>
                      <a:pt x="160024" y="129540"/>
                    </a:cubicBezTo>
                    <a:cubicBezTo>
                      <a:pt x="162882" y="126683"/>
                      <a:pt x="161929" y="122873"/>
                      <a:pt x="162882" y="120015"/>
                    </a:cubicBezTo>
                    <a:cubicBezTo>
                      <a:pt x="162882" y="117158"/>
                      <a:pt x="163834" y="114300"/>
                      <a:pt x="164787" y="111442"/>
                    </a:cubicBezTo>
                    <a:cubicBezTo>
                      <a:pt x="165739" y="107633"/>
                      <a:pt x="164787" y="103823"/>
                      <a:pt x="163834" y="100013"/>
                    </a:cubicBezTo>
                    <a:cubicBezTo>
                      <a:pt x="162882" y="96203"/>
                      <a:pt x="161929" y="92392"/>
                      <a:pt x="159072" y="90488"/>
                    </a:cubicBezTo>
                    <a:cubicBezTo>
                      <a:pt x="156214" y="69533"/>
                      <a:pt x="152404" y="47625"/>
                      <a:pt x="141926" y="29528"/>
                    </a:cubicBezTo>
                    <a:cubicBezTo>
                      <a:pt x="137164" y="20955"/>
                      <a:pt x="129544" y="13335"/>
                      <a:pt x="120972" y="11430"/>
                    </a:cubicBezTo>
                    <a:cubicBezTo>
                      <a:pt x="120019" y="8573"/>
                      <a:pt x="115257" y="5715"/>
                      <a:pt x="112399" y="4763"/>
                    </a:cubicBezTo>
                    <a:cubicBezTo>
                      <a:pt x="105732" y="2858"/>
                      <a:pt x="98112" y="0"/>
                      <a:pt x="91444" y="0"/>
                    </a:cubicBezTo>
                    <a:cubicBezTo>
                      <a:pt x="89539" y="0"/>
                      <a:pt x="86682" y="0"/>
                      <a:pt x="84776" y="0"/>
                    </a:cubicBezTo>
                    <a:cubicBezTo>
                      <a:pt x="77157" y="2858"/>
                      <a:pt x="65726" y="-952"/>
                      <a:pt x="58107" y="2858"/>
                    </a:cubicBezTo>
                    <a:cubicBezTo>
                      <a:pt x="55249" y="3810"/>
                      <a:pt x="53344" y="6667"/>
                      <a:pt x="50487" y="7620"/>
                    </a:cubicBezTo>
                    <a:cubicBezTo>
                      <a:pt x="47629" y="8573"/>
                      <a:pt x="45724" y="7620"/>
                      <a:pt x="42867" y="8573"/>
                    </a:cubicBezTo>
                    <a:cubicBezTo>
                      <a:pt x="36199" y="10478"/>
                      <a:pt x="32389" y="17145"/>
                      <a:pt x="26674" y="21908"/>
                    </a:cubicBezTo>
                    <a:cubicBezTo>
                      <a:pt x="20007" y="26670"/>
                      <a:pt x="10482" y="28575"/>
                      <a:pt x="6672" y="35242"/>
                    </a:cubicBezTo>
                    <a:cubicBezTo>
                      <a:pt x="4767" y="38100"/>
                      <a:pt x="3814" y="41910"/>
                      <a:pt x="2862" y="44767"/>
                    </a:cubicBezTo>
                    <a:cubicBezTo>
                      <a:pt x="-6663" y="64770"/>
                      <a:pt x="10482" y="80963"/>
                      <a:pt x="12387" y="79058"/>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13" name="Freeform: Shape 1124"/>
              <p:cNvSpPr/>
              <p:nvPr/>
            </p:nvSpPr>
            <p:spPr>
              <a:xfrm>
                <a:off x="9995760" y="2941920"/>
                <a:ext cx="76320" cy="92880"/>
              </a:xfrm>
              <a:custGeom>
                <a:avLst/>
                <a:gdLst/>
                <a:ahLst/>
                <a:rect l="l" t="t" r="r" b="b"/>
                <a:pathLst>
                  <a:path w="88643" h="107838">
                    <a:moveTo>
                      <a:pt x="88582" y="15446"/>
                    </a:moveTo>
                    <a:cubicBezTo>
                      <a:pt x="85725" y="31638"/>
                      <a:pt x="77153" y="40211"/>
                      <a:pt x="66675" y="52593"/>
                    </a:cubicBezTo>
                    <a:cubicBezTo>
                      <a:pt x="52388" y="69738"/>
                      <a:pt x="40005" y="88788"/>
                      <a:pt x="29528" y="107838"/>
                    </a:cubicBezTo>
                    <a:cubicBezTo>
                      <a:pt x="26670" y="103076"/>
                      <a:pt x="22860" y="99266"/>
                      <a:pt x="20003" y="94503"/>
                    </a:cubicBezTo>
                    <a:cubicBezTo>
                      <a:pt x="15240" y="87836"/>
                      <a:pt x="9525" y="80216"/>
                      <a:pt x="4763" y="73548"/>
                    </a:cubicBezTo>
                    <a:cubicBezTo>
                      <a:pt x="4763" y="73548"/>
                      <a:pt x="4763" y="73548"/>
                      <a:pt x="4763" y="73548"/>
                    </a:cubicBezTo>
                    <a:cubicBezTo>
                      <a:pt x="3810" y="71643"/>
                      <a:pt x="1905" y="69738"/>
                      <a:pt x="953" y="67833"/>
                    </a:cubicBezTo>
                    <a:cubicBezTo>
                      <a:pt x="953" y="66881"/>
                      <a:pt x="0" y="66881"/>
                      <a:pt x="0" y="65928"/>
                    </a:cubicBezTo>
                    <a:cubicBezTo>
                      <a:pt x="23813" y="56403"/>
                      <a:pt x="45720" y="42116"/>
                      <a:pt x="63818" y="24018"/>
                    </a:cubicBezTo>
                    <a:cubicBezTo>
                      <a:pt x="67628" y="20208"/>
                      <a:pt x="70485" y="16398"/>
                      <a:pt x="73343" y="11636"/>
                    </a:cubicBezTo>
                    <a:cubicBezTo>
                      <a:pt x="74295" y="8778"/>
                      <a:pt x="74295" y="3063"/>
                      <a:pt x="76200" y="1158"/>
                    </a:cubicBezTo>
                    <a:cubicBezTo>
                      <a:pt x="79057" y="-4557"/>
                      <a:pt x="89535" y="12588"/>
                      <a:pt x="88582" y="15446"/>
                    </a:cubicBez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313c3f"/>
                  </a:solidFill>
                  <a:latin typeface="Source Sans Pro"/>
                </a:endParaRPr>
              </a:p>
            </p:txBody>
          </p:sp>
          <p:sp>
            <p:nvSpPr>
              <p:cNvPr id="1314" name="Freeform: Shape 1125"/>
              <p:cNvSpPr/>
              <p:nvPr/>
            </p:nvSpPr>
            <p:spPr>
              <a:xfrm>
                <a:off x="9902880" y="3006000"/>
                <a:ext cx="109800" cy="296280"/>
              </a:xfrm>
              <a:custGeom>
                <a:avLst/>
                <a:gdLst/>
                <a:ahLst/>
                <a:rect l="l" t="t" r="r" b="b"/>
                <a:pathLst>
                  <a:path w="127634" h="343852">
                    <a:moveTo>
                      <a:pt x="127635" y="20002"/>
                    </a:moveTo>
                    <a:cubicBezTo>
                      <a:pt x="127635" y="20002"/>
                      <a:pt x="127635" y="20955"/>
                      <a:pt x="127635" y="20002"/>
                    </a:cubicBezTo>
                    <a:cubicBezTo>
                      <a:pt x="122872" y="22860"/>
                      <a:pt x="118110" y="25717"/>
                      <a:pt x="112395" y="26670"/>
                    </a:cubicBezTo>
                    <a:cubicBezTo>
                      <a:pt x="111442" y="31432"/>
                      <a:pt x="111442" y="36195"/>
                      <a:pt x="110490" y="40957"/>
                    </a:cubicBezTo>
                    <a:cubicBezTo>
                      <a:pt x="109538" y="49530"/>
                      <a:pt x="108585" y="57150"/>
                      <a:pt x="105727" y="65722"/>
                    </a:cubicBezTo>
                    <a:cubicBezTo>
                      <a:pt x="102870" y="76200"/>
                      <a:pt x="98107" y="85725"/>
                      <a:pt x="93345" y="96202"/>
                    </a:cubicBezTo>
                    <a:cubicBezTo>
                      <a:pt x="88582" y="107632"/>
                      <a:pt x="84772" y="120015"/>
                      <a:pt x="80963" y="132397"/>
                    </a:cubicBezTo>
                    <a:cubicBezTo>
                      <a:pt x="60007" y="196215"/>
                      <a:pt x="40005" y="262890"/>
                      <a:pt x="19050" y="327660"/>
                    </a:cubicBezTo>
                    <a:cubicBezTo>
                      <a:pt x="12382" y="332422"/>
                      <a:pt x="5715" y="338138"/>
                      <a:pt x="0" y="343852"/>
                    </a:cubicBezTo>
                    <a:cubicBezTo>
                      <a:pt x="4763" y="266700"/>
                      <a:pt x="45720" y="144780"/>
                      <a:pt x="42863" y="156210"/>
                    </a:cubicBezTo>
                    <a:cubicBezTo>
                      <a:pt x="54292" y="132397"/>
                      <a:pt x="79057" y="52388"/>
                      <a:pt x="83820" y="38100"/>
                    </a:cubicBezTo>
                    <a:cubicBezTo>
                      <a:pt x="86677" y="30480"/>
                      <a:pt x="89535" y="22860"/>
                      <a:pt x="92392" y="16192"/>
                    </a:cubicBezTo>
                    <a:cubicBezTo>
                      <a:pt x="93345" y="14288"/>
                      <a:pt x="94297" y="11430"/>
                      <a:pt x="95250" y="9525"/>
                    </a:cubicBezTo>
                    <a:cubicBezTo>
                      <a:pt x="96202" y="7620"/>
                      <a:pt x="98107" y="4763"/>
                      <a:pt x="99060" y="2857"/>
                    </a:cubicBezTo>
                    <a:cubicBezTo>
                      <a:pt x="100013" y="1905"/>
                      <a:pt x="100965" y="0"/>
                      <a:pt x="102870" y="0"/>
                    </a:cubicBezTo>
                    <a:cubicBezTo>
                      <a:pt x="103822" y="0"/>
                      <a:pt x="103822" y="0"/>
                      <a:pt x="104775" y="952"/>
                    </a:cubicBezTo>
                    <a:cubicBezTo>
                      <a:pt x="106680" y="1905"/>
                      <a:pt x="109538" y="1905"/>
                      <a:pt x="111442" y="1905"/>
                    </a:cubicBezTo>
                    <a:cubicBezTo>
                      <a:pt x="111442" y="1905"/>
                      <a:pt x="111442" y="1905"/>
                      <a:pt x="111442" y="1905"/>
                    </a:cubicBezTo>
                    <a:cubicBezTo>
                      <a:pt x="111442" y="1905"/>
                      <a:pt x="111442" y="952"/>
                      <a:pt x="110490" y="952"/>
                    </a:cubicBezTo>
                    <a:cubicBezTo>
                      <a:pt x="110490" y="952"/>
                      <a:pt x="110490" y="0"/>
                      <a:pt x="110490" y="0"/>
                    </a:cubicBezTo>
                    <a:cubicBezTo>
                      <a:pt x="118110" y="6667"/>
                      <a:pt x="122872" y="13335"/>
                      <a:pt x="127635" y="20002"/>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sp>
        <p:nvSpPr>
          <p:cNvPr id="1315" name="TextBox 334"/>
          <p:cNvSpPr/>
          <p:nvPr/>
        </p:nvSpPr>
        <p:spPr>
          <a:xfrm>
            <a:off x="6332400" y="5581800"/>
            <a:ext cx="144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13c3f"/>
                </a:solidFill>
                <a:latin typeface="Lato"/>
              </a:rPr>
              <a:t>Team 01</a:t>
            </a:r>
            <a:endParaRPr b="0" lang="en-US" sz="1600" spc="-1" strike="noStrike">
              <a:solidFill>
                <a:srgbClr val="313c3f"/>
              </a:solidFill>
              <a:latin typeface="Source Sans Pro"/>
            </a:endParaRPr>
          </a:p>
        </p:txBody>
      </p:sp>
      <p:sp>
        <p:nvSpPr>
          <p:cNvPr id="1316" name="TextBox 335"/>
          <p:cNvSpPr/>
          <p:nvPr/>
        </p:nvSpPr>
        <p:spPr>
          <a:xfrm>
            <a:off x="9555120" y="4438800"/>
            <a:ext cx="1438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13c3f"/>
                </a:solidFill>
                <a:latin typeface="Lato"/>
              </a:rPr>
              <a:t>Team 02</a:t>
            </a:r>
            <a:endParaRPr b="0" lang="en-US" sz="1600" spc="-1" strike="noStrike">
              <a:solidFill>
                <a:srgbClr val="313c3f"/>
              </a:solidFill>
              <a:latin typeface="Source Sans Pro"/>
            </a:endParaRPr>
          </a:p>
        </p:txBody>
      </p:sp>
      <p:sp>
        <p:nvSpPr>
          <p:cNvPr id="1317" name="Rectangle 100"/>
          <p:cNvSpPr/>
          <p:nvPr/>
        </p:nvSpPr>
        <p:spPr>
          <a:xfrm>
            <a:off x="78588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318" name="Rectangle 101"/>
          <p:cNvSpPr/>
          <p:nvPr/>
        </p:nvSpPr>
        <p:spPr>
          <a:xfrm>
            <a:off x="852480" y="3025800"/>
            <a:ext cx="2179800" cy="61272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319" name="Freeform: Shape 102"/>
          <p:cNvSpPr/>
          <p:nvPr/>
        </p:nvSpPr>
        <p:spPr>
          <a:xfrm>
            <a:off x="78588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20" name="TextBox 103"/>
          <p:cNvSpPr/>
          <p:nvPr/>
        </p:nvSpPr>
        <p:spPr>
          <a:xfrm>
            <a:off x="3687840" y="304164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7d42"/>
                </a:solidFill>
                <a:latin typeface="Lato"/>
              </a:rPr>
              <a:t>80%</a:t>
            </a:r>
            <a:endParaRPr b="0" lang="en-US" sz="3600" spc="-1" strike="noStrike">
              <a:solidFill>
                <a:srgbClr val="313c3f"/>
              </a:solidFill>
              <a:latin typeface="Source Sans Pro"/>
            </a:endParaRPr>
          </a:p>
        </p:txBody>
      </p:sp>
      <p:sp>
        <p:nvSpPr>
          <p:cNvPr id="1321" name="Straight Connector 104"/>
          <p:cNvSpPr/>
          <p:nvPr/>
        </p:nvSpPr>
        <p:spPr>
          <a:xfrm>
            <a:off x="865080" y="3892680"/>
            <a:ext cx="48182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322" name="Rectangle 105"/>
          <p:cNvSpPr/>
          <p:nvPr/>
        </p:nvSpPr>
        <p:spPr>
          <a:xfrm>
            <a:off x="865080" y="2301840"/>
            <a:ext cx="4351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whole smil</a:t>
            </a:r>
            <a:endParaRPr b="0" lang="en-US" sz="1200" spc="-1" strike="noStrike">
              <a:solidFill>
                <a:srgbClr val="313c3f"/>
              </a:solidFill>
              <a:latin typeface="Source Sans Pro"/>
            </a:endParaRPr>
          </a:p>
        </p:txBody>
      </p:sp>
      <p:sp>
        <p:nvSpPr>
          <p:cNvPr id="1323" name="TextBox 106"/>
          <p:cNvSpPr/>
          <p:nvPr/>
        </p:nvSpPr>
        <p:spPr>
          <a:xfrm>
            <a:off x="865080" y="2039760"/>
            <a:ext cx="274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Team A Performances</a:t>
            </a:r>
            <a:endParaRPr b="0" lang="en-US" sz="1600" spc="-1" strike="noStrike">
              <a:solidFill>
                <a:srgbClr val="313c3f"/>
              </a:solidFill>
              <a:latin typeface="Source Sans Pro"/>
            </a:endParaRPr>
          </a:p>
        </p:txBody>
      </p:sp>
      <p:sp>
        <p:nvSpPr>
          <p:cNvPr id="1324" name="Rectangle 127"/>
          <p:cNvSpPr/>
          <p:nvPr/>
        </p:nvSpPr>
        <p:spPr>
          <a:xfrm>
            <a:off x="86508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whole smil</a:t>
            </a:r>
            <a:endParaRPr b="0" lang="en-US" sz="1200" spc="-1" strike="noStrike">
              <a:solidFill>
                <a:srgbClr val="313c3f"/>
              </a:solidFill>
              <a:latin typeface="Source Sans Pro"/>
            </a:endParaRPr>
          </a:p>
        </p:txBody>
      </p:sp>
      <p:sp>
        <p:nvSpPr>
          <p:cNvPr id="1325" name="TextBox 128"/>
          <p:cNvSpPr/>
          <p:nvPr/>
        </p:nvSpPr>
        <p:spPr>
          <a:xfrm>
            <a:off x="865080" y="4059360"/>
            <a:ext cx="24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Team B Performances</a:t>
            </a:r>
            <a:endParaRPr b="0" lang="en-US" sz="1600" spc="-1" strike="noStrike">
              <a:solidFill>
                <a:srgbClr val="313c3f"/>
              </a:solidFill>
              <a:latin typeface="Source Sans Pro"/>
            </a:endParaRPr>
          </a:p>
        </p:txBody>
      </p:sp>
      <p:sp>
        <p:nvSpPr>
          <p:cNvPr id="1326" name="Rectangle 130"/>
          <p:cNvSpPr/>
          <p:nvPr/>
        </p:nvSpPr>
        <p:spPr>
          <a:xfrm>
            <a:off x="78588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327" name="Rectangle 131"/>
          <p:cNvSpPr/>
          <p:nvPr/>
        </p:nvSpPr>
        <p:spPr>
          <a:xfrm>
            <a:off x="852480" y="5097600"/>
            <a:ext cx="1422360" cy="61272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328" name="Freeform: Shape 132"/>
          <p:cNvSpPr/>
          <p:nvPr/>
        </p:nvSpPr>
        <p:spPr>
          <a:xfrm>
            <a:off x="78588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29" name="TextBox 133"/>
          <p:cNvSpPr/>
          <p:nvPr/>
        </p:nvSpPr>
        <p:spPr>
          <a:xfrm>
            <a:off x="3687840" y="511488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c11e"/>
                </a:solidFill>
                <a:latin typeface="Lato"/>
              </a:rPr>
              <a:t>50%</a:t>
            </a:r>
            <a:endParaRPr b="0" lang="en-US" sz="3600" spc="-1" strike="noStrike">
              <a:solidFill>
                <a:srgbClr val="313c3f"/>
              </a:solidFill>
              <a:latin typeface="Source Sans Pro"/>
            </a:endParaRPr>
          </a:p>
        </p:txBody>
      </p:sp>
    </p:spTree>
  </p:cSld>
  <p:transition spd="med">
    <p:fade/>
  </p:transition>
  <p:timing>
    <p:tnLst>
      <p:par>
        <p:cTn id="1410" dur="indefinite" restart="never" nodeType="tmRoot">
          <p:childTnLst>
            <p:seq>
              <p:cTn id="1411" dur="indefinite" nodeType="mainSeq">
                <p:childTnLst>
                  <p:par>
                    <p:cTn id="1412" nodeType="clickEffect" fill="hold">
                      <p:stCondLst>
                        <p:cond delay="0"/>
                      </p:stCondLst>
                      <p:childTnLst>
                        <p:par>
                          <p:cTn id="1413" nodeType="withEffect" fill="hold">
                            <p:stCondLst>
                              <p:cond delay="0"/>
                            </p:stCondLst>
                            <p:childTnLst>
                              <p:par>
                                <p:cTn id="1414" nodeType="afterEffect" fill="hold" presetClass="entr" presetID="10">
                                  <p:stCondLst>
                                    <p:cond delay="0"/>
                                  </p:stCondLst>
                                  <p:childTnLst>
                                    <p:set>
                                      <p:cBhvr>
                                        <p:cTn id="1415" dur="1" fill="hold">
                                          <p:stCondLst>
                                            <p:cond delay="0"/>
                                          </p:stCondLst>
                                        </p:cTn>
                                        <p:tgtEl>
                                          <p:spTgt spid="1261"/>
                                        </p:tgtEl>
                                        <p:attrNameLst>
                                          <p:attrName>style.visibility</p:attrName>
                                        </p:attrNameLst>
                                      </p:cBhvr>
                                      <p:to>
                                        <p:strVal val="visible"/>
                                      </p:to>
                                    </p:set>
                                    <p:animEffect filter="fade" transition="in">
                                      <p:cBhvr additive="repl">
                                        <p:cTn id="1416" dur="500"/>
                                        <p:tgtEl>
                                          <p:spTgt spid="1261"/>
                                        </p:tgtEl>
                                      </p:cBhvr>
                                    </p:animEffect>
                                  </p:childTnLst>
                                </p:cTn>
                              </p:par>
                            </p:childTnLst>
                          </p:cTn>
                        </p:par>
                        <p:par>
                          <p:cTn id="1417" nodeType="afterEffect" fill="hold">
                            <p:stCondLst>
                              <p:cond delay="500"/>
                            </p:stCondLst>
                            <p:childTnLst>
                              <p:par>
                                <p:cTn id="1418" nodeType="afterEffect" fill="hold" presetClass="entr" presetID="47">
                                  <p:stCondLst>
                                    <p:cond delay="0"/>
                                  </p:stCondLst>
                                  <p:childTnLst>
                                    <p:set>
                                      <p:cBhvr>
                                        <p:cTn id="1419" dur="1" fill="hold">
                                          <p:stCondLst>
                                            <p:cond delay="0"/>
                                          </p:stCondLst>
                                        </p:cTn>
                                        <p:tgtEl>
                                          <p:spTgt spid="1262"/>
                                        </p:tgtEl>
                                        <p:attrNameLst>
                                          <p:attrName>style.visibility</p:attrName>
                                        </p:attrNameLst>
                                      </p:cBhvr>
                                      <p:to>
                                        <p:strVal val="visible"/>
                                      </p:to>
                                    </p:set>
                                    <p:animEffect filter="fade" transition="in">
                                      <p:cBhvr additive="repl">
                                        <p:cTn id="1420" dur="1000"/>
                                        <p:tgtEl>
                                          <p:spTgt spid="1262"/>
                                        </p:tgtEl>
                                      </p:cBhvr>
                                    </p:animEffect>
                                    <p:anim calcmode="lin" valueType="num">
                                      <p:cBhvr additive="repl">
                                        <p:cTn id="1421" dur="1000" fill="hold"/>
                                        <p:tgtEl>
                                          <p:spTgt spid="1262"/>
                                        </p:tgtEl>
                                        <p:attrNameLst>
                                          <p:attrName>ppt_x</p:attrName>
                                        </p:attrNameLst>
                                      </p:cBhvr>
                                      <p:tavLst>
                                        <p:tav tm="0">
                                          <p:val>
                                            <p:strVal val="#ppt_x"/>
                                          </p:val>
                                        </p:tav>
                                        <p:tav tm="100000">
                                          <p:val>
                                            <p:strVal val="#ppt_x"/>
                                          </p:val>
                                        </p:tav>
                                      </p:tavLst>
                                    </p:anim>
                                    <p:anim calcmode="lin" valueType="num">
                                      <p:cBhvr additive="repl">
                                        <p:cTn id="1422" dur="1000" fill="hold"/>
                                        <p:tgtEl>
                                          <p:spTgt spid="1262"/>
                                        </p:tgtEl>
                                        <p:attrNameLst>
                                          <p:attrName>ppt_y</p:attrName>
                                        </p:attrNameLst>
                                      </p:cBhvr>
                                      <p:tavLst>
                                        <p:tav tm="0">
                                          <p:val>
                                            <p:strVal val="#ppt_y-.1"/>
                                          </p:val>
                                        </p:tav>
                                        <p:tav tm="100000">
                                          <p:val>
                                            <p:strVal val="#ppt_y"/>
                                          </p:val>
                                        </p:tav>
                                      </p:tavLst>
                                    </p:anim>
                                  </p:childTnLst>
                                </p:cTn>
                              </p:par>
                            </p:childTnLst>
                          </p:cTn>
                        </p:par>
                        <p:par>
                          <p:cTn id="1423" nodeType="afterEffect" fill="hold">
                            <p:stCondLst>
                              <p:cond delay="1500"/>
                            </p:stCondLst>
                            <p:childTnLst>
                              <p:par>
                                <p:cTn id="1424" nodeType="afterEffect" fill="hold" presetClass="entr" presetID="10">
                                  <p:stCondLst>
                                    <p:cond delay="0"/>
                                  </p:stCondLst>
                                  <p:childTnLst>
                                    <p:set>
                                      <p:cBhvr>
                                        <p:cTn id="1425" dur="1" fill="hold">
                                          <p:stCondLst>
                                            <p:cond delay="0"/>
                                          </p:stCondLst>
                                        </p:cTn>
                                        <p:tgtEl>
                                          <p:spTgt spid="1315"/>
                                        </p:tgtEl>
                                        <p:attrNameLst>
                                          <p:attrName>style.visibility</p:attrName>
                                        </p:attrNameLst>
                                      </p:cBhvr>
                                      <p:to>
                                        <p:strVal val="visible"/>
                                      </p:to>
                                    </p:set>
                                    <p:animEffect filter="fade" transition="in">
                                      <p:cBhvr additive="repl">
                                        <p:cTn id="1426" dur="500"/>
                                        <p:tgtEl>
                                          <p:spTgt spid="1315"/>
                                        </p:tgtEl>
                                      </p:cBhvr>
                                    </p:animEffect>
                                  </p:childTnLst>
                                </p:cTn>
                              </p:par>
                              <p:par>
                                <p:cTn id="1427" nodeType="withEffect" fill="hold" presetClass="entr" presetID="10">
                                  <p:stCondLst>
                                    <p:cond delay="0"/>
                                  </p:stCondLst>
                                  <p:childTnLst>
                                    <p:set>
                                      <p:cBhvr>
                                        <p:cTn id="1428" dur="1" fill="hold">
                                          <p:stCondLst>
                                            <p:cond delay="0"/>
                                          </p:stCondLst>
                                        </p:cTn>
                                        <p:tgtEl>
                                          <p:spTgt spid="1316"/>
                                        </p:tgtEl>
                                        <p:attrNameLst>
                                          <p:attrName>style.visibility</p:attrName>
                                        </p:attrNameLst>
                                      </p:cBhvr>
                                      <p:to>
                                        <p:strVal val="visible"/>
                                      </p:to>
                                    </p:set>
                                    <p:animEffect filter="fade" transition="in">
                                      <p:cBhvr additive="repl">
                                        <p:cTn id="1429" dur="500"/>
                                        <p:tgtEl>
                                          <p:spTgt spid="1316"/>
                                        </p:tgtEl>
                                      </p:cBhvr>
                                    </p:animEffect>
                                  </p:childTnLst>
                                </p:cTn>
                              </p:par>
                            </p:childTnLst>
                          </p:cTn>
                        </p:par>
                        <p:par>
                          <p:cTn id="1430" nodeType="afterEffect" fill="hold">
                            <p:stCondLst>
                              <p:cond delay="2000"/>
                            </p:stCondLst>
                            <p:childTnLst>
                              <p:par>
                                <p:cTn id="1431" nodeType="afterEffect" fill="hold" presetClass="entr" presetID="10">
                                  <p:stCondLst>
                                    <p:cond delay="0"/>
                                  </p:stCondLst>
                                  <p:childTnLst>
                                    <p:set>
                                      <p:cBhvr>
                                        <p:cTn id="1432" dur="1" fill="hold">
                                          <p:stCondLst>
                                            <p:cond delay="0"/>
                                          </p:stCondLst>
                                        </p:cTn>
                                        <p:tgtEl>
                                          <p:spTgt spid="1323"/>
                                        </p:tgtEl>
                                        <p:attrNameLst>
                                          <p:attrName>style.visibility</p:attrName>
                                        </p:attrNameLst>
                                      </p:cBhvr>
                                      <p:to>
                                        <p:strVal val="visible"/>
                                      </p:to>
                                    </p:set>
                                    <p:animEffect filter="fade" transition="in">
                                      <p:cBhvr additive="repl">
                                        <p:cTn id="1433" dur="500"/>
                                        <p:tgtEl>
                                          <p:spTgt spid="1323"/>
                                        </p:tgtEl>
                                      </p:cBhvr>
                                    </p:animEffect>
                                  </p:childTnLst>
                                </p:cTn>
                              </p:par>
                              <p:par>
                                <p:cTn id="1434" nodeType="withEffect" fill="hold" presetClass="entr" presetID="10">
                                  <p:stCondLst>
                                    <p:cond delay="0"/>
                                  </p:stCondLst>
                                  <p:childTnLst>
                                    <p:set>
                                      <p:cBhvr>
                                        <p:cTn id="1435" dur="1" fill="hold">
                                          <p:stCondLst>
                                            <p:cond delay="0"/>
                                          </p:stCondLst>
                                        </p:cTn>
                                        <p:tgtEl>
                                          <p:spTgt spid="1325"/>
                                        </p:tgtEl>
                                        <p:attrNameLst>
                                          <p:attrName>style.visibility</p:attrName>
                                        </p:attrNameLst>
                                      </p:cBhvr>
                                      <p:to>
                                        <p:strVal val="visible"/>
                                      </p:to>
                                    </p:set>
                                    <p:animEffect filter="fade" transition="in">
                                      <p:cBhvr additive="repl">
                                        <p:cTn id="1436" dur="500"/>
                                        <p:tgtEl>
                                          <p:spTgt spid="1325"/>
                                        </p:tgtEl>
                                      </p:cBhvr>
                                    </p:animEffect>
                                  </p:childTnLst>
                                </p:cTn>
                              </p:par>
                              <p:par>
                                <p:cTn id="1437" nodeType="withEffect" fill="hold" presetClass="entr" presetID="22" presetSubtype="8">
                                  <p:stCondLst>
                                    <p:cond delay="0"/>
                                  </p:stCondLst>
                                  <p:childTnLst>
                                    <p:set>
                                      <p:cBhvr>
                                        <p:cTn id="1438" dur="1" fill="hold">
                                          <p:stCondLst>
                                            <p:cond delay="0"/>
                                          </p:stCondLst>
                                        </p:cTn>
                                        <p:tgtEl>
                                          <p:spTgt spid="1321"/>
                                        </p:tgtEl>
                                        <p:attrNameLst>
                                          <p:attrName>style.visibility</p:attrName>
                                        </p:attrNameLst>
                                      </p:cBhvr>
                                      <p:to>
                                        <p:strVal val="visible"/>
                                      </p:to>
                                    </p:set>
                                    <p:animEffect filter="wipe(left)" transition="in">
                                      <p:cBhvr additive="repl">
                                        <p:cTn id="1439" dur="500"/>
                                        <p:tgtEl>
                                          <p:spTgt spid="1321"/>
                                        </p:tgtEl>
                                      </p:cBhvr>
                                    </p:animEffect>
                                  </p:childTnLst>
                                </p:cTn>
                              </p:par>
                            </p:childTnLst>
                          </p:cTn>
                        </p:par>
                        <p:par>
                          <p:cTn id="1440" nodeType="afterEffect" fill="hold">
                            <p:stCondLst>
                              <p:cond delay="2500"/>
                            </p:stCondLst>
                            <p:childTnLst>
                              <p:par>
                                <p:cTn id="1441" nodeType="afterEffect" fill="hold" presetClass="entr" presetID="10">
                                  <p:stCondLst>
                                    <p:cond delay="0"/>
                                  </p:stCondLst>
                                  <p:childTnLst>
                                    <p:set>
                                      <p:cBhvr>
                                        <p:cTn id="1442" dur="1" fill="hold">
                                          <p:stCondLst>
                                            <p:cond delay="0"/>
                                          </p:stCondLst>
                                        </p:cTn>
                                        <p:tgtEl>
                                          <p:spTgt spid="1322"/>
                                        </p:tgtEl>
                                        <p:attrNameLst>
                                          <p:attrName>style.visibility</p:attrName>
                                        </p:attrNameLst>
                                      </p:cBhvr>
                                      <p:to>
                                        <p:strVal val="visible"/>
                                      </p:to>
                                    </p:set>
                                    <p:animEffect filter="fade" transition="in">
                                      <p:cBhvr additive="repl">
                                        <p:cTn id="1443" dur="500"/>
                                        <p:tgtEl>
                                          <p:spTgt spid="1322"/>
                                        </p:tgtEl>
                                      </p:cBhvr>
                                    </p:animEffect>
                                  </p:childTnLst>
                                </p:cTn>
                              </p:par>
                              <p:par>
                                <p:cTn id="1444" nodeType="withEffect" fill="hold" presetClass="entr" presetID="10">
                                  <p:stCondLst>
                                    <p:cond delay="0"/>
                                  </p:stCondLst>
                                  <p:childTnLst>
                                    <p:set>
                                      <p:cBhvr>
                                        <p:cTn id="1445" dur="1" fill="hold">
                                          <p:stCondLst>
                                            <p:cond delay="0"/>
                                          </p:stCondLst>
                                        </p:cTn>
                                        <p:tgtEl>
                                          <p:spTgt spid="1324"/>
                                        </p:tgtEl>
                                        <p:attrNameLst>
                                          <p:attrName>style.visibility</p:attrName>
                                        </p:attrNameLst>
                                      </p:cBhvr>
                                      <p:to>
                                        <p:strVal val="visible"/>
                                      </p:to>
                                    </p:set>
                                    <p:animEffect filter="fade" transition="in">
                                      <p:cBhvr additive="repl">
                                        <p:cTn id="1446" dur="500"/>
                                        <p:tgtEl>
                                          <p:spTgt spid="1324"/>
                                        </p:tgtEl>
                                      </p:cBhvr>
                                    </p:animEffect>
                                  </p:childTnLst>
                                </p:cTn>
                              </p:par>
                            </p:childTnLst>
                          </p:cTn>
                        </p:par>
                        <p:par>
                          <p:cTn id="1447" nodeType="afterEffect" fill="hold">
                            <p:stCondLst>
                              <p:cond delay="3000"/>
                            </p:stCondLst>
                            <p:childTnLst>
                              <p:par>
                                <p:cTn id="1448" nodeType="afterEffect" fill="hold" presetClass="entr" presetID="10">
                                  <p:stCondLst>
                                    <p:cond delay="0"/>
                                  </p:stCondLst>
                                  <p:childTnLst>
                                    <p:set>
                                      <p:cBhvr>
                                        <p:cTn id="1449" dur="1" fill="hold">
                                          <p:stCondLst>
                                            <p:cond delay="0"/>
                                          </p:stCondLst>
                                        </p:cTn>
                                        <p:tgtEl>
                                          <p:spTgt spid="1317"/>
                                        </p:tgtEl>
                                        <p:attrNameLst>
                                          <p:attrName>style.visibility</p:attrName>
                                        </p:attrNameLst>
                                      </p:cBhvr>
                                      <p:to>
                                        <p:strVal val="visible"/>
                                      </p:to>
                                    </p:set>
                                    <p:animEffect filter="fade" transition="in">
                                      <p:cBhvr additive="repl">
                                        <p:cTn id="1450" dur="500"/>
                                        <p:tgtEl>
                                          <p:spTgt spid="1317"/>
                                        </p:tgtEl>
                                      </p:cBhvr>
                                    </p:animEffect>
                                  </p:childTnLst>
                                </p:cTn>
                              </p:par>
                              <p:par>
                                <p:cTn id="1451" nodeType="withEffect" fill="hold" presetClass="entr" presetID="10">
                                  <p:stCondLst>
                                    <p:cond delay="0"/>
                                  </p:stCondLst>
                                  <p:childTnLst>
                                    <p:set>
                                      <p:cBhvr>
                                        <p:cTn id="1452" dur="1" fill="hold">
                                          <p:stCondLst>
                                            <p:cond delay="0"/>
                                          </p:stCondLst>
                                        </p:cTn>
                                        <p:tgtEl>
                                          <p:spTgt spid="1319"/>
                                        </p:tgtEl>
                                        <p:attrNameLst>
                                          <p:attrName>style.visibility</p:attrName>
                                        </p:attrNameLst>
                                      </p:cBhvr>
                                      <p:to>
                                        <p:strVal val="visible"/>
                                      </p:to>
                                    </p:set>
                                    <p:animEffect filter="fade" transition="in">
                                      <p:cBhvr additive="repl">
                                        <p:cTn id="1453" dur="500"/>
                                        <p:tgtEl>
                                          <p:spTgt spid="1319"/>
                                        </p:tgtEl>
                                      </p:cBhvr>
                                    </p:animEffect>
                                  </p:childTnLst>
                                </p:cTn>
                              </p:par>
                              <p:par>
                                <p:cTn id="1454" nodeType="withEffect" fill="hold" presetClass="entr" presetID="10">
                                  <p:stCondLst>
                                    <p:cond delay="0"/>
                                  </p:stCondLst>
                                  <p:childTnLst>
                                    <p:set>
                                      <p:cBhvr>
                                        <p:cTn id="1455" dur="1" fill="hold">
                                          <p:stCondLst>
                                            <p:cond delay="0"/>
                                          </p:stCondLst>
                                        </p:cTn>
                                        <p:tgtEl>
                                          <p:spTgt spid="1326"/>
                                        </p:tgtEl>
                                        <p:attrNameLst>
                                          <p:attrName>style.visibility</p:attrName>
                                        </p:attrNameLst>
                                      </p:cBhvr>
                                      <p:to>
                                        <p:strVal val="visible"/>
                                      </p:to>
                                    </p:set>
                                    <p:animEffect filter="fade" transition="in">
                                      <p:cBhvr additive="repl">
                                        <p:cTn id="1456" dur="500"/>
                                        <p:tgtEl>
                                          <p:spTgt spid="1326"/>
                                        </p:tgtEl>
                                      </p:cBhvr>
                                    </p:animEffect>
                                  </p:childTnLst>
                                </p:cTn>
                              </p:par>
                              <p:par>
                                <p:cTn id="1457" nodeType="withEffect" fill="hold" presetClass="entr" presetID="10">
                                  <p:stCondLst>
                                    <p:cond delay="0"/>
                                  </p:stCondLst>
                                  <p:childTnLst>
                                    <p:set>
                                      <p:cBhvr>
                                        <p:cTn id="1458" dur="1" fill="hold">
                                          <p:stCondLst>
                                            <p:cond delay="0"/>
                                          </p:stCondLst>
                                        </p:cTn>
                                        <p:tgtEl>
                                          <p:spTgt spid="1328"/>
                                        </p:tgtEl>
                                        <p:attrNameLst>
                                          <p:attrName>style.visibility</p:attrName>
                                        </p:attrNameLst>
                                      </p:cBhvr>
                                      <p:to>
                                        <p:strVal val="visible"/>
                                      </p:to>
                                    </p:set>
                                    <p:animEffect filter="fade" transition="in">
                                      <p:cBhvr additive="repl">
                                        <p:cTn id="1459" dur="500"/>
                                        <p:tgtEl>
                                          <p:spTgt spid="1328"/>
                                        </p:tgtEl>
                                      </p:cBhvr>
                                    </p:animEffect>
                                  </p:childTnLst>
                                </p:cTn>
                              </p:par>
                            </p:childTnLst>
                          </p:cTn>
                        </p:par>
                        <p:par>
                          <p:cTn id="1460" nodeType="afterEffect"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1318"/>
                                        </p:tgtEl>
                                        <p:attrNameLst>
                                          <p:attrName>style.visibility</p:attrName>
                                        </p:attrNameLst>
                                      </p:cBhvr>
                                      <p:to>
                                        <p:strVal val="visible"/>
                                      </p:to>
                                    </p:set>
                                    <p:animEffect filter="wipe(left)" transition="in">
                                      <p:cBhvr additive="repl">
                                        <p:cTn id="1463" dur="500"/>
                                        <p:tgtEl>
                                          <p:spTgt spid="131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1327"/>
                                        </p:tgtEl>
                                        <p:attrNameLst>
                                          <p:attrName>style.visibility</p:attrName>
                                        </p:attrNameLst>
                                      </p:cBhvr>
                                      <p:to>
                                        <p:strVal val="visible"/>
                                      </p:to>
                                    </p:set>
                                    <p:animEffect filter="wipe(left)" transition="in">
                                      <p:cBhvr additive="repl">
                                        <p:cTn id="1466" dur="500"/>
                                        <p:tgtEl>
                                          <p:spTgt spid="1327"/>
                                        </p:tgtEl>
                                      </p:cBhvr>
                                    </p:animEffect>
                                  </p:childTnLst>
                                </p:cTn>
                              </p:par>
                            </p:childTnLst>
                          </p:cTn>
                        </p:par>
                        <p:par>
                          <p:cTn id="1467" nodeType="afterEffect" fill="hold">
                            <p:stCondLst>
                              <p:cond delay="4000"/>
                            </p:stCondLst>
                            <p:childTnLst>
                              <p:par>
                                <p:cTn id="1468" nodeType="afterEffect" fill="hold" presetClass="entr" presetID="10">
                                  <p:stCondLst>
                                    <p:cond delay="0"/>
                                  </p:stCondLst>
                                  <p:childTnLst>
                                    <p:set>
                                      <p:cBhvr>
                                        <p:cTn id="1469" dur="1" fill="hold">
                                          <p:stCondLst>
                                            <p:cond delay="0"/>
                                          </p:stCondLst>
                                        </p:cTn>
                                        <p:tgtEl>
                                          <p:spTgt spid="1320"/>
                                        </p:tgtEl>
                                        <p:attrNameLst>
                                          <p:attrName>style.visibility</p:attrName>
                                        </p:attrNameLst>
                                      </p:cBhvr>
                                      <p:to>
                                        <p:strVal val="visible"/>
                                      </p:to>
                                    </p:set>
                                    <p:animEffect filter="fade" transition="in">
                                      <p:cBhvr additive="repl">
                                        <p:cTn id="1470" dur="500"/>
                                        <p:tgtEl>
                                          <p:spTgt spid="1320"/>
                                        </p:tgtEl>
                                      </p:cBhvr>
                                    </p:animEffect>
                                  </p:childTnLst>
                                </p:cTn>
                              </p:par>
                              <p:par>
                                <p:cTn id="1471" nodeType="withEffect" fill="hold" presetClass="entr" presetID="10">
                                  <p:stCondLst>
                                    <p:cond delay="0"/>
                                  </p:stCondLst>
                                  <p:childTnLst>
                                    <p:set>
                                      <p:cBhvr>
                                        <p:cTn id="1472" dur="1" fill="hold">
                                          <p:stCondLst>
                                            <p:cond delay="0"/>
                                          </p:stCondLst>
                                        </p:cTn>
                                        <p:tgtEl>
                                          <p:spTgt spid="1329"/>
                                        </p:tgtEl>
                                        <p:attrNameLst>
                                          <p:attrName>style.visibility</p:attrName>
                                        </p:attrNameLst>
                                      </p:cBhvr>
                                      <p:to>
                                        <p:strVal val="visible"/>
                                      </p:to>
                                    </p:set>
                                    <p:animEffect filter="fade" transition="in">
                                      <p:cBhvr additive="repl">
                                        <p:cTn id="1473"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21"/>
          <p:cNvSpPr/>
          <p:nvPr/>
        </p:nvSpPr>
        <p:spPr>
          <a:xfrm>
            <a:off x="787320" y="2598840"/>
            <a:ext cx="438948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331" name="Rectangle 122"/>
          <p:cNvSpPr/>
          <p:nvPr/>
        </p:nvSpPr>
        <p:spPr>
          <a:xfrm>
            <a:off x="866880" y="2687760"/>
            <a:ext cx="2936880" cy="53172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pic>
        <p:nvPicPr>
          <p:cNvPr id="1332" name="Graphic 4" descr=""/>
          <p:cNvPicPr/>
          <p:nvPr/>
        </p:nvPicPr>
        <p:blipFill>
          <a:blip r:embed="rId1"/>
          <a:stretch/>
        </p:blipFill>
        <p:spPr>
          <a:xfrm>
            <a:off x="785880" y="2597040"/>
            <a:ext cx="4395600" cy="725760"/>
          </a:xfrm>
          <a:prstGeom prst="rect">
            <a:avLst/>
          </a:prstGeom>
          <a:ln w="0">
            <a:noFill/>
          </a:ln>
        </p:spPr>
      </p:pic>
      <p:sp>
        <p:nvSpPr>
          <p:cNvPr id="1333" name="Rectangle 198"/>
          <p:cNvSpPr/>
          <p:nvPr/>
        </p:nvSpPr>
        <p:spPr>
          <a:xfrm>
            <a:off x="816120" y="4565520"/>
            <a:ext cx="4263840" cy="827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334" name="Rectangle 204"/>
          <p:cNvSpPr/>
          <p:nvPr/>
        </p:nvSpPr>
        <p:spPr>
          <a:xfrm>
            <a:off x="868320" y="4719600"/>
            <a:ext cx="2092320" cy="56052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pic>
        <p:nvPicPr>
          <p:cNvPr id="1335" name="Graphic 277" descr=""/>
          <p:cNvPicPr/>
          <p:nvPr/>
        </p:nvPicPr>
        <p:blipFill>
          <a:blip r:embed="rId2"/>
          <a:stretch/>
        </p:blipFill>
        <p:spPr>
          <a:xfrm>
            <a:off x="817560" y="4559400"/>
            <a:ext cx="4260960" cy="834840"/>
          </a:xfrm>
          <a:prstGeom prst="rect">
            <a:avLst/>
          </a:prstGeom>
          <a:ln w="0">
            <a:noFill/>
          </a:ln>
        </p:spPr>
      </p:pic>
      <p:sp>
        <p:nvSpPr>
          <p:cNvPr id="1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1337" name="Straight Connector 177"/>
          <p:cNvSpPr/>
          <p:nvPr/>
        </p:nvSpPr>
        <p:spPr>
          <a:xfrm>
            <a:off x="841320" y="405144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338" name="TextBox 179"/>
          <p:cNvSpPr/>
          <p:nvPr/>
        </p:nvSpPr>
        <p:spPr>
          <a:xfrm>
            <a:off x="841320" y="225900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Gold Value</a:t>
            </a:r>
            <a:endParaRPr b="0" lang="en-US" sz="1600" spc="-1" strike="noStrike">
              <a:solidFill>
                <a:srgbClr val="313c3f"/>
              </a:solidFill>
              <a:latin typeface="Source Sans Pro"/>
            </a:endParaRPr>
          </a:p>
        </p:txBody>
      </p:sp>
      <p:sp>
        <p:nvSpPr>
          <p:cNvPr id="1339" name="Rectangle 180"/>
          <p:cNvSpPr/>
          <p:nvPr/>
        </p:nvSpPr>
        <p:spPr>
          <a:xfrm>
            <a:off x="2195640" y="525456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a:t>
            </a:r>
            <a:endParaRPr b="0" lang="en-US" sz="1200" spc="-1" strike="noStrike">
              <a:solidFill>
                <a:srgbClr val="313c3f"/>
              </a:solidFill>
              <a:latin typeface="Source Sans Pro"/>
            </a:endParaRPr>
          </a:p>
        </p:txBody>
      </p:sp>
      <p:sp>
        <p:nvSpPr>
          <p:cNvPr id="1340" name="TextBox 181"/>
          <p:cNvSpPr/>
          <p:nvPr/>
        </p:nvSpPr>
        <p:spPr>
          <a:xfrm>
            <a:off x="841320" y="427824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Oil Value</a:t>
            </a:r>
            <a:endParaRPr b="0" lang="en-US" sz="1600" spc="-1" strike="noStrike">
              <a:solidFill>
                <a:srgbClr val="313c3f"/>
              </a:solidFill>
              <a:latin typeface="Source Sans Pro"/>
            </a:endParaRPr>
          </a:p>
        </p:txBody>
      </p:sp>
      <p:sp>
        <p:nvSpPr>
          <p:cNvPr id="1341" name="TextBox 278"/>
          <p:cNvSpPr/>
          <p:nvPr/>
        </p:nvSpPr>
        <p:spPr>
          <a:xfrm>
            <a:off x="835200" y="527688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c11e"/>
                </a:solidFill>
                <a:latin typeface="Lato"/>
              </a:rPr>
              <a:t>$5M/</a:t>
            </a:r>
            <a:endParaRPr b="0" lang="en-US" sz="3600" spc="-1" strike="noStrike">
              <a:solidFill>
                <a:srgbClr val="313c3f"/>
              </a:solidFill>
              <a:latin typeface="Source Sans Pro"/>
            </a:endParaRPr>
          </a:p>
        </p:txBody>
      </p:sp>
      <p:grpSp>
        <p:nvGrpSpPr>
          <p:cNvPr id="1342" name="Group 3"/>
          <p:cNvGrpSpPr/>
          <p:nvPr/>
        </p:nvGrpSpPr>
        <p:grpSpPr>
          <a:xfrm>
            <a:off x="6531120" y="4165560"/>
            <a:ext cx="1557360" cy="654120"/>
            <a:chOff x="6531120" y="4165560"/>
            <a:chExt cx="1557360" cy="654120"/>
          </a:xfrm>
        </p:grpSpPr>
        <p:grpSp>
          <p:nvGrpSpPr>
            <p:cNvPr id="1343" name="Graphic 4"/>
            <p:cNvGrpSpPr/>
            <p:nvPr/>
          </p:nvGrpSpPr>
          <p:grpSpPr>
            <a:xfrm>
              <a:off x="6790680" y="4383000"/>
              <a:ext cx="1037880" cy="218880"/>
              <a:chOff x="6790680" y="4383000"/>
              <a:chExt cx="1037880" cy="218880"/>
            </a:xfrm>
          </p:grpSpPr>
          <p:grpSp>
            <p:nvGrpSpPr>
              <p:cNvPr id="1344" name="Graphic 4"/>
              <p:cNvGrpSpPr/>
              <p:nvPr/>
            </p:nvGrpSpPr>
            <p:grpSpPr>
              <a:xfrm>
                <a:off x="6790680" y="4383000"/>
                <a:ext cx="518040" cy="218880"/>
                <a:chOff x="6790680" y="4383000"/>
                <a:chExt cx="518040" cy="218880"/>
              </a:xfrm>
            </p:grpSpPr>
            <p:sp>
              <p:nvSpPr>
                <p:cNvPr id="1345" name="Freeform: Shape 359"/>
                <p:cNvSpPr/>
                <p:nvPr/>
              </p:nvSpPr>
              <p:spPr>
                <a:xfrm>
                  <a:off x="6790680" y="4383000"/>
                  <a:ext cx="518040" cy="218880"/>
                </a:xfrm>
                <a:custGeom>
                  <a:avLst/>
                  <a:gdLst/>
                  <a:ahLst/>
                  <a:rect l="l" t="t" r="r" b="b"/>
                  <a:pathLst>
                    <a:path w="568969" h="240409">
                      <a:moveTo>
                        <a:pt x="97767" y="0"/>
                      </a:moveTo>
                      <a:lnTo>
                        <a:pt x="471203" y="0"/>
                      </a:lnTo>
                      <a:lnTo>
                        <a:pt x="568969" y="240410"/>
                      </a:lnTo>
                      <a:lnTo>
                        <a:pt x="0" y="240410"/>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46" name="Graphic 4" descr=""/>
                <p:cNvPicPr/>
                <p:nvPr/>
              </p:nvPicPr>
              <p:blipFill>
                <a:blip r:embed="rId3"/>
                <a:stretch/>
              </p:blipFill>
              <p:spPr>
                <a:xfrm>
                  <a:off x="6912720" y="4401000"/>
                  <a:ext cx="322920" cy="182880"/>
                </a:xfrm>
                <a:prstGeom prst="rect">
                  <a:avLst/>
                </a:prstGeom>
                <a:ln w="0">
                  <a:noFill/>
                </a:ln>
              </p:spPr>
            </p:pic>
          </p:grpSp>
          <p:grpSp>
            <p:nvGrpSpPr>
              <p:cNvPr id="1347" name="Graphic 4"/>
              <p:cNvGrpSpPr/>
              <p:nvPr/>
            </p:nvGrpSpPr>
            <p:grpSpPr>
              <a:xfrm>
                <a:off x="7308720" y="4383000"/>
                <a:ext cx="519840" cy="218880"/>
                <a:chOff x="7308720" y="4383000"/>
                <a:chExt cx="519840" cy="218880"/>
              </a:xfrm>
            </p:grpSpPr>
            <p:sp>
              <p:nvSpPr>
                <p:cNvPr id="1348" name="Freeform: Shape 354"/>
                <p:cNvSpPr/>
                <p:nvPr/>
              </p:nvSpPr>
              <p:spPr>
                <a:xfrm>
                  <a:off x="7308720" y="4383000"/>
                  <a:ext cx="519840" cy="218880"/>
                </a:xfrm>
                <a:custGeom>
                  <a:avLst/>
                  <a:gdLst/>
                  <a:ahLst/>
                  <a:rect l="l" t="t" r="r" b="b"/>
                  <a:pathLst>
                    <a:path w="570571" h="240409">
                      <a:moveTo>
                        <a:pt x="99369" y="0"/>
                      </a:moveTo>
                      <a:lnTo>
                        <a:pt x="471203" y="0"/>
                      </a:lnTo>
                      <a:lnTo>
                        <a:pt x="570572" y="240410"/>
                      </a:lnTo>
                      <a:lnTo>
                        <a:pt x="0" y="240410"/>
                      </a:lnTo>
                      <a:lnTo>
                        <a:pt x="99369"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49" name="Graphic 4" descr=""/>
                <p:cNvPicPr/>
                <p:nvPr/>
              </p:nvPicPr>
              <p:blipFill>
                <a:blip r:embed="rId4"/>
                <a:stretch/>
              </p:blipFill>
              <p:spPr>
                <a:xfrm>
                  <a:off x="7430760" y="4401000"/>
                  <a:ext cx="323280" cy="182880"/>
                </a:xfrm>
                <a:prstGeom prst="rect">
                  <a:avLst/>
                </a:prstGeom>
                <a:ln w="0">
                  <a:noFill/>
                </a:ln>
              </p:spPr>
            </p:pic>
          </p:grpSp>
        </p:grpSp>
        <p:grpSp>
          <p:nvGrpSpPr>
            <p:cNvPr id="1350" name="Graphic 4"/>
            <p:cNvGrpSpPr/>
            <p:nvPr/>
          </p:nvGrpSpPr>
          <p:grpSpPr>
            <a:xfrm>
              <a:off x="7050600" y="4165560"/>
              <a:ext cx="518040" cy="217440"/>
              <a:chOff x="7050600" y="4165560"/>
              <a:chExt cx="518040" cy="217440"/>
            </a:xfrm>
          </p:grpSpPr>
          <p:sp>
            <p:nvSpPr>
              <p:cNvPr id="1351" name="Freeform: Shape 365"/>
              <p:cNvSpPr/>
              <p:nvPr/>
            </p:nvSpPr>
            <p:spPr>
              <a:xfrm>
                <a:off x="7050600" y="4165560"/>
                <a:ext cx="518040" cy="217440"/>
              </a:xfrm>
              <a:custGeom>
                <a:avLst/>
                <a:gdLst/>
                <a:ahLst/>
                <a:rect l="l" t="t" r="r" b="b"/>
                <a:pathLst>
                  <a:path w="568969" h="238806">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52" name="Graphic 4" descr=""/>
              <p:cNvPicPr/>
              <p:nvPr/>
            </p:nvPicPr>
            <p:blipFill>
              <a:blip r:embed="rId5"/>
              <a:stretch/>
            </p:blipFill>
            <p:spPr>
              <a:xfrm>
                <a:off x="7174800" y="4181760"/>
                <a:ext cx="316800" cy="182880"/>
              </a:xfrm>
              <a:prstGeom prst="rect">
                <a:avLst/>
              </a:prstGeom>
              <a:ln w="0">
                <a:noFill/>
              </a:ln>
            </p:spPr>
          </p:pic>
        </p:grpSp>
        <p:grpSp>
          <p:nvGrpSpPr>
            <p:cNvPr id="1353" name="Graphic 4"/>
            <p:cNvGrpSpPr/>
            <p:nvPr/>
          </p:nvGrpSpPr>
          <p:grpSpPr>
            <a:xfrm>
              <a:off x="6531120" y="4602240"/>
              <a:ext cx="1557360" cy="217440"/>
              <a:chOff x="6531120" y="4602240"/>
              <a:chExt cx="1557360" cy="217440"/>
            </a:xfrm>
          </p:grpSpPr>
          <p:grpSp>
            <p:nvGrpSpPr>
              <p:cNvPr id="1354" name="Graphic 4"/>
              <p:cNvGrpSpPr/>
              <p:nvPr/>
            </p:nvGrpSpPr>
            <p:grpSpPr>
              <a:xfrm>
                <a:off x="6531120" y="4602240"/>
                <a:ext cx="519480" cy="217440"/>
                <a:chOff x="6531120" y="4602240"/>
                <a:chExt cx="519480" cy="217440"/>
              </a:xfrm>
            </p:grpSpPr>
            <p:sp>
              <p:nvSpPr>
                <p:cNvPr id="1355" name="Freeform: Shape 384"/>
                <p:cNvSpPr/>
                <p:nvPr/>
              </p:nvSpPr>
              <p:spPr>
                <a:xfrm>
                  <a:off x="653112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56" name="Graphic 4" descr=""/>
                <p:cNvPicPr/>
                <p:nvPr/>
              </p:nvPicPr>
              <p:blipFill>
                <a:blip r:embed="rId6"/>
                <a:stretch/>
              </p:blipFill>
              <p:spPr>
                <a:xfrm>
                  <a:off x="6656760" y="4620600"/>
                  <a:ext cx="316800" cy="182880"/>
                </a:xfrm>
                <a:prstGeom prst="rect">
                  <a:avLst/>
                </a:prstGeom>
                <a:ln w="0">
                  <a:noFill/>
                </a:ln>
              </p:spPr>
            </p:pic>
          </p:grpSp>
          <p:grpSp>
            <p:nvGrpSpPr>
              <p:cNvPr id="1357" name="Graphic 4"/>
              <p:cNvGrpSpPr/>
              <p:nvPr/>
            </p:nvGrpSpPr>
            <p:grpSpPr>
              <a:xfrm>
                <a:off x="7050600" y="4602240"/>
                <a:ext cx="518040" cy="217440"/>
                <a:chOff x="7050600" y="4602240"/>
                <a:chExt cx="518040" cy="217440"/>
              </a:xfrm>
            </p:grpSpPr>
            <p:sp>
              <p:nvSpPr>
                <p:cNvPr id="1358" name="Freeform: Shape 379"/>
                <p:cNvSpPr/>
                <p:nvPr/>
              </p:nvSpPr>
              <p:spPr>
                <a:xfrm>
                  <a:off x="7050600" y="4602240"/>
                  <a:ext cx="518040" cy="217440"/>
                </a:xfrm>
                <a:custGeom>
                  <a:avLst/>
                  <a:gdLst/>
                  <a:ahLst/>
                  <a:rect l="l" t="t" r="r" b="b"/>
                  <a:pathLst>
                    <a:path w="568969" h="238807">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59" name="Graphic 4" descr=""/>
                <p:cNvPicPr/>
                <p:nvPr/>
              </p:nvPicPr>
              <p:blipFill>
                <a:blip r:embed="rId7"/>
                <a:stretch/>
              </p:blipFill>
              <p:spPr>
                <a:xfrm>
                  <a:off x="7174800" y="4620600"/>
                  <a:ext cx="316800" cy="182880"/>
                </a:xfrm>
                <a:prstGeom prst="rect">
                  <a:avLst/>
                </a:prstGeom>
                <a:ln w="0">
                  <a:noFill/>
                </a:ln>
              </p:spPr>
            </p:pic>
          </p:grpSp>
          <p:grpSp>
            <p:nvGrpSpPr>
              <p:cNvPr id="1360" name="Graphic 4"/>
              <p:cNvGrpSpPr/>
              <p:nvPr/>
            </p:nvGrpSpPr>
            <p:grpSpPr>
              <a:xfrm>
                <a:off x="7569000" y="4602240"/>
                <a:ext cx="519480" cy="217440"/>
                <a:chOff x="7569000" y="4602240"/>
                <a:chExt cx="519480" cy="217440"/>
              </a:xfrm>
            </p:grpSpPr>
            <p:sp>
              <p:nvSpPr>
                <p:cNvPr id="1361" name="Freeform: Shape 374"/>
                <p:cNvSpPr/>
                <p:nvPr/>
              </p:nvSpPr>
              <p:spPr>
                <a:xfrm>
                  <a:off x="756900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62" name="Graphic 4" descr=""/>
                <p:cNvPicPr/>
                <p:nvPr/>
              </p:nvPicPr>
              <p:blipFill>
                <a:blip r:embed="rId8"/>
                <a:stretch/>
              </p:blipFill>
              <p:spPr>
                <a:xfrm>
                  <a:off x="7693200" y="4620600"/>
                  <a:ext cx="316800" cy="182880"/>
                </a:xfrm>
                <a:prstGeom prst="rect">
                  <a:avLst/>
                </a:prstGeom>
                <a:ln w="0">
                  <a:noFill/>
                </a:ln>
              </p:spPr>
            </p:pic>
          </p:grpSp>
        </p:grpSp>
      </p:grpSp>
      <p:grpSp>
        <p:nvGrpSpPr>
          <p:cNvPr id="1363" name="Group 4"/>
          <p:cNvGrpSpPr/>
          <p:nvPr/>
        </p:nvGrpSpPr>
        <p:grpSpPr>
          <a:xfrm>
            <a:off x="9944280" y="3019320"/>
            <a:ext cx="1136520" cy="1438560"/>
            <a:chOff x="9944280" y="3019320"/>
            <a:chExt cx="1136520" cy="1438560"/>
          </a:xfrm>
        </p:grpSpPr>
        <p:grpSp>
          <p:nvGrpSpPr>
            <p:cNvPr id="1364" name="Group 168"/>
            <p:cNvGrpSpPr/>
            <p:nvPr/>
          </p:nvGrpSpPr>
          <p:grpSpPr>
            <a:xfrm>
              <a:off x="10540080" y="3736800"/>
              <a:ext cx="540720" cy="721080"/>
              <a:chOff x="10540080" y="3736800"/>
              <a:chExt cx="540720" cy="721080"/>
            </a:xfrm>
          </p:grpSpPr>
          <p:sp>
            <p:nvSpPr>
              <p:cNvPr id="1365" name="Freeform: Shape 169"/>
              <p:cNvSpPr/>
              <p:nvPr/>
            </p:nvSpPr>
            <p:spPr>
              <a:xfrm>
                <a:off x="10552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66" name="Freeform: Shape 170"/>
              <p:cNvSpPr/>
              <p:nvPr/>
            </p:nvSpPr>
            <p:spPr>
              <a:xfrm>
                <a:off x="10862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67" name="Graphic 4" descr=""/>
              <p:cNvPicPr/>
              <p:nvPr/>
            </p:nvPicPr>
            <p:blipFill>
              <a:blip r:embed="rId9"/>
              <a:stretch/>
            </p:blipFill>
            <p:spPr>
              <a:xfrm>
                <a:off x="10540080" y="3736800"/>
                <a:ext cx="540720" cy="721080"/>
              </a:xfrm>
              <a:prstGeom prst="rect">
                <a:avLst/>
              </a:prstGeom>
              <a:ln w="0">
                <a:noFill/>
              </a:ln>
            </p:spPr>
          </p:pic>
          <p:pic>
            <p:nvPicPr>
              <p:cNvPr id="1368" name="Graphic 4" descr=""/>
              <p:cNvPicPr/>
              <p:nvPr/>
            </p:nvPicPr>
            <p:blipFill>
              <a:blip r:embed="rId10"/>
              <a:stretch/>
            </p:blipFill>
            <p:spPr>
              <a:xfrm>
                <a:off x="10545840" y="3742560"/>
                <a:ext cx="528840" cy="715320"/>
              </a:xfrm>
              <a:prstGeom prst="rect">
                <a:avLst/>
              </a:prstGeom>
              <a:ln w="0">
                <a:noFill/>
              </a:ln>
            </p:spPr>
          </p:pic>
          <p:sp>
            <p:nvSpPr>
              <p:cNvPr id="1369" name="Freeform: Shape 277"/>
              <p:cNvSpPr/>
              <p:nvPr/>
            </p:nvSpPr>
            <p:spPr>
              <a:xfrm>
                <a:off x="10669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70" name="Freeform: Shape 279"/>
              <p:cNvSpPr/>
              <p:nvPr/>
            </p:nvSpPr>
            <p:spPr>
              <a:xfrm>
                <a:off x="10700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71" name="Freeform: Shape 293"/>
              <p:cNvSpPr/>
              <p:nvPr/>
            </p:nvSpPr>
            <p:spPr>
              <a:xfrm>
                <a:off x="1076940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72" name="Freeform: Shape 294"/>
              <p:cNvSpPr/>
              <p:nvPr/>
            </p:nvSpPr>
            <p:spPr>
              <a:xfrm>
                <a:off x="10780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313c3f"/>
                  </a:solidFill>
                  <a:latin typeface="Source Sans Pro"/>
                </a:endParaRPr>
              </a:p>
            </p:txBody>
          </p:sp>
        </p:grpSp>
        <p:grpSp>
          <p:nvGrpSpPr>
            <p:cNvPr id="1373" name="Group 304"/>
            <p:cNvGrpSpPr/>
            <p:nvPr/>
          </p:nvGrpSpPr>
          <p:grpSpPr>
            <a:xfrm>
              <a:off x="9944280" y="3736800"/>
              <a:ext cx="540720" cy="721080"/>
              <a:chOff x="9944280" y="3736800"/>
              <a:chExt cx="540720" cy="721080"/>
            </a:xfrm>
          </p:grpSpPr>
          <p:sp>
            <p:nvSpPr>
              <p:cNvPr id="1374" name="Freeform: Shape 305"/>
              <p:cNvSpPr/>
              <p:nvPr/>
            </p:nvSpPr>
            <p:spPr>
              <a:xfrm>
                <a:off x="9958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75" name="Freeform: Shape 306"/>
              <p:cNvSpPr/>
              <p:nvPr/>
            </p:nvSpPr>
            <p:spPr>
              <a:xfrm>
                <a:off x="10268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76" name="Graphic 4" descr=""/>
              <p:cNvPicPr/>
              <p:nvPr/>
            </p:nvPicPr>
            <p:blipFill>
              <a:blip r:embed="rId11"/>
              <a:stretch/>
            </p:blipFill>
            <p:spPr>
              <a:xfrm>
                <a:off x="9944280" y="3736800"/>
                <a:ext cx="540720" cy="721080"/>
              </a:xfrm>
              <a:prstGeom prst="rect">
                <a:avLst/>
              </a:prstGeom>
              <a:ln w="0">
                <a:noFill/>
              </a:ln>
            </p:spPr>
          </p:pic>
          <p:pic>
            <p:nvPicPr>
              <p:cNvPr id="1377" name="Graphic 4" descr=""/>
              <p:cNvPicPr/>
              <p:nvPr/>
            </p:nvPicPr>
            <p:blipFill>
              <a:blip r:embed="rId12"/>
              <a:stretch/>
            </p:blipFill>
            <p:spPr>
              <a:xfrm>
                <a:off x="9950040" y="3742560"/>
                <a:ext cx="528840" cy="715320"/>
              </a:xfrm>
              <a:prstGeom prst="rect">
                <a:avLst/>
              </a:prstGeom>
              <a:ln w="0">
                <a:noFill/>
              </a:ln>
            </p:spPr>
          </p:pic>
          <p:sp>
            <p:nvSpPr>
              <p:cNvPr id="1378" name="Freeform: Shape 309"/>
              <p:cNvSpPr/>
              <p:nvPr/>
            </p:nvSpPr>
            <p:spPr>
              <a:xfrm>
                <a:off x="10075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79" name="Freeform: Shape 310"/>
              <p:cNvSpPr/>
              <p:nvPr/>
            </p:nvSpPr>
            <p:spPr>
              <a:xfrm>
                <a:off x="10106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80" name="Freeform: Shape 311"/>
              <p:cNvSpPr/>
              <p:nvPr/>
            </p:nvSpPr>
            <p:spPr>
              <a:xfrm>
                <a:off x="1017504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81" name="Freeform: Shape 312"/>
              <p:cNvSpPr/>
              <p:nvPr/>
            </p:nvSpPr>
            <p:spPr>
              <a:xfrm>
                <a:off x="10186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313c3f"/>
                  </a:solidFill>
                  <a:latin typeface="Source Sans Pro"/>
                </a:endParaRPr>
              </a:p>
            </p:txBody>
          </p:sp>
        </p:grpSp>
        <p:grpSp>
          <p:nvGrpSpPr>
            <p:cNvPr id="1382" name="Group 389"/>
            <p:cNvGrpSpPr/>
            <p:nvPr/>
          </p:nvGrpSpPr>
          <p:grpSpPr>
            <a:xfrm>
              <a:off x="10243080" y="3019320"/>
              <a:ext cx="540720" cy="721080"/>
              <a:chOff x="10243080" y="3019320"/>
              <a:chExt cx="540720" cy="721080"/>
            </a:xfrm>
          </p:grpSpPr>
          <p:sp>
            <p:nvSpPr>
              <p:cNvPr id="1383" name="Freeform: Shape 390"/>
              <p:cNvSpPr/>
              <p:nvPr/>
            </p:nvSpPr>
            <p:spPr>
              <a:xfrm>
                <a:off x="10257840" y="3042360"/>
                <a:ext cx="512280" cy="67428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84" name="Freeform: Shape 391"/>
              <p:cNvSpPr/>
              <p:nvPr/>
            </p:nvSpPr>
            <p:spPr>
              <a:xfrm>
                <a:off x="10567800" y="3062520"/>
                <a:ext cx="173880" cy="6343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385" name="Graphic 4" descr=""/>
              <p:cNvPicPr/>
              <p:nvPr/>
            </p:nvPicPr>
            <p:blipFill>
              <a:blip r:embed="rId13"/>
              <a:stretch/>
            </p:blipFill>
            <p:spPr>
              <a:xfrm>
                <a:off x="10243080" y="3019320"/>
                <a:ext cx="540720" cy="721080"/>
              </a:xfrm>
              <a:prstGeom prst="rect">
                <a:avLst/>
              </a:prstGeom>
              <a:ln w="0">
                <a:noFill/>
              </a:ln>
            </p:spPr>
          </p:pic>
          <p:pic>
            <p:nvPicPr>
              <p:cNvPr id="1386" name="Graphic 4" descr=""/>
              <p:cNvPicPr/>
              <p:nvPr/>
            </p:nvPicPr>
            <p:blipFill>
              <a:blip r:embed="rId14"/>
              <a:stretch/>
            </p:blipFill>
            <p:spPr>
              <a:xfrm>
                <a:off x="10248840" y="3031200"/>
                <a:ext cx="534960" cy="703080"/>
              </a:xfrm>
              <a:prstGeom prst="rect">
                <a:avLst/>
              </a:prstGeom>
              <a:ln w="0">
                <a:noFill/>
              </a:ln>
            </p:spPr>
          </p:pic>
          <p:sp>
            <p:nvSpPr>
              <p:cNvPr id="1387" name="Freeform: Shape 394"/>
              <p:cNvSpPr/>
              <p:nvPr/>
            </p:nvSpPr>
            <p:spPr>
              <a:xfrm>
                <a:off x="10374840" y="3235320"/>
                <a:ext cx="279360" cy="28980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88" name="Freeform: Shape 395"/>
              <p:cNvSpPr/>
              <p:nvPr/>
            </p:nvSpPr>
            <p:spPr>
              <a:xfrm>
                <a:off x="10405800" y="3267720"/>
                <a:ext cx="216360" cy="2239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89" name="Freeform: Shape 396"/>
              <p:cNvSpPr/>
              <p:nvPr/>
            </p:nvSpPr>
            <p:spPr>
              <a:xfrm>
                <a:off x="10474200" y="3310200"/>
                <a:ext cx="79920" cy="12528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90" name="Freeform: Shape 397"/>
              <p:cNvSpPr/>
              <p:nvPr/>
            </p:nvSpPr>
            <p:spPr>
              <a:xfrm>
                <a:off x="10486080" y="3379680"/>
                <a:ext cx="34920" cy="4464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2160" bIns="-2160" anchor="ctr">
                <a:noAutofit/>
              </a:bodyPr>
              <a:p>
                <a:endParaRPr b="0" lang="en-US" sz="1800" spc="-1" strike="noStrike">
                  <a:solidFill>
                    <a:srgbClr val="313c3f"/>
                  </a:solidFill>
                  <a:latin typeface="Source Sans Pro"/>
                </a:endParaRPr>
              </a:p>
            </p:txBody>
          </p:sp>
        </p:grpSp>
      </p:grpSp>
      <p:sp>
        <p:nvSpPr>
          <p:cNvPr id="1391" name="Freeform: Shape 407"/>
          <p:cNvSpPr/>
          <p:nvPr/>
        </p:nvSpPr>
        <p:spPr>
          <a:xfrm>
            <a:off x="6338880" y="3220920"/>
            <a:ext cx="420840" cy="3970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92" name="Freeform: Shape 408"/>
          <p:cNvSpPr/>
          <p:nvPr/>
        </p:nvSpPr>
        <p:spPr>
          <a:xfrm rot="10800000">
            <a:off x="11430000" y="3719520"/>
            <a:ext cx="419040" cy="3952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93" name="Rectangle 409"/>
          <p:cNvSpPr/>
          <p:nvPr/>
        </p:nvSpPr>
        <p:spPr>
          <a:xfrm>
            <a:off x="2195640" y="317988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a:t>
            </a:r>
            <a:endParaRPr b="0" lang="en-US" sz="1200" spc="-1" strike="noStrike">
              <a:solidFill>
                <a:srgbClr val="313c3f"/>
              </a:solidFill>
              <a:latin typeface="Source Sans Pro"/>
            </a:endParaRPr>
          </a:p>
        </p:txBody>
      </p:sp>
      <p:sp>
        <p:nvSpPr>
          <p:cNvPr id="1394" name="TextBox 410"/>
          <p:cNvSpPr/>
          <p:nvPr/>
        </p:nvSpPr>
        <p:spPr>
          <a:xfrm>
            <a:off x="835200" y="320184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7d42"/>
                </a:solidFill>
                <a:latin typeface="Lato"/>
              </a:rPr>
              <a:t>$7M/</a:t>
            </a:r>
            <a:endParaRPr b="0" lang="en-US" sz="3600" spc="-1" strike="noStrike">
              <a:solidFill>
                <a:srgbClr val="313c3f"/>
              </a:solidFill>
              <a:latin typeface="Source Sans Pro"/>
            </a:endParaRPr>
          </a:p>
        </p:txBody>
      </p:sp>
      <p:grpSp>
        <p:nvGrpSpPr>
          <p:cNvPr id="1395" name="Group 203"/>
          <p:cNvGrpSpPr/>
          <p:nvPr/>
        </p:nvGrpSpPr>
        <p:grpSpPr>
          <a:xfrm>
            <a:off x="6308640" y="1967040"/>
            <a:ext cx="5208840" cy="3924000"/>
            <a:chOff x="6308640" y="1967040"/>
            <a:chExt cx="5208840" cy="3924000"/>
          </a:xfrm>
        </p:grpSpPr>
        <p:sp>
          <p:nvSpPr>
            <p:cNvPr id="1396" name="Freeform: Shape 205"/>
            <p:cNvSpPr/>
            <p:nvPr/>
          </p:nvSpPr>
          <p:spPr>
            <a:xfrm>
              <a:off x="9470520" y="4254480"/>
              <a:ext cx="204696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97" name="Freeform: Shape 206"/>
            <p:cNvSpPr/>
            <p:nvPr/>
          </p:nvSpPr>
          <p:spPr>
            <a:xfrm>
              <a:off x="10615320" y="435492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98" name="Freeform: Shape 207"/>
            <p:cNvSpPr/>
            <p:nvPr/>
          </p:nvSpPr>
          <p:spPr>
            <a:xfrm>
              <a:off x="9697320" y="4354920"/>
              <a:ext cx="68796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399" name="Freeform: Shape 208"/>
            <p:cNvSpPr/>
            <p:nvPr/>
          </p:nvSpPr>
          <p:spPr>
            <a:xfrm>
              <a:off x="6308640" y="4752000"/>
              <a:ext cx="204696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0" name="Freeform: Shape 209"/>
            <p:cNvSpPr/>
            <p:nvPr/>
          </p:nvSpPr>
          <p:spPr>
            <a:xfrm>
              <a:off x="7452720" y="485244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1" name="Freeform: Shape 210"/>
            <p:cNvSpPr/>
            <p:nvPr/>
          </p:nvSpPr>
          <p:spPr>
            <a:xfrm>
              <a:off x="6534360" y="4852440"/>
              <a:ext cx="68796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2" name="Freeform: Shape 211"/>
            <p:cNvSpPr/>
            <p:nvPr/>
          </p:nvSpPr>
          <p:spPr>
            <a:xfrm>
              <a:off x="9566280" y="2306520"/>
              <a:ext cx="949320" cy="204768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3" name="Freeform: Shape 212"/>
            <p:cNvSpPr/>
            <p:nvPr/>
          </p:nvSpPr>
          <p:spPr>
            <a:xfrm>
              <a:off x="6403320" y="2804040"/>
              <a:ext cx="948960" cy="204768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4" name="Freeform: Shape 213"/>
            <p:cNvSpPr/>
            <p:nvPr/>
          </p:nvSpPr>
          <p:spPr>
            <a:xfrm>
              <a:off x="8632440" y="55933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5" name="Freeform: Shape 214"/>
            <p:cNvSpPr/>
            <p:nvPr/>
          </p:nvSpPr>
          <p:spPr>
            <a:xfrm>
              <a:off x="7981560" y="5739480"/>
              <a:ext cx="185256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6" name="Freeform: Shape 215"/>
            <p:cNvSpPr/>
            <p:nvPr/>
          </p:nvSpPr>
          <p:spPr>
            <a:xfrm>
              <a:off x="8751240" y="219996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7" name="Freeform: Shape 216"/>
            <p:cNvSpPr/>
            <p:nvPr/>
          </p:nvSpPr>
          <p:spPr>
            <a:xfrm>
              <a:off x="8750520" y="22863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8" name="Freeform: Shape 217"/>
            <p:cNvSpPr/>
            <p:nvPr/>
          </p:nvSpPr>
          <p:spPr>
            <a:xfrm>
              <a:off x="8812800" y="211212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09" name="Freeform: Shape 218"/>
            <p:cNvSpPr/>
            <p:nvPr/>
          </p:nvSpPr>
          <p:spPr>
            <a:xfrm>
              <a:off x="8796960" y="2901960"/>
              <a:ext cx="221760" cy="273600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10" name="Freeform: Shape 219"/>
            <p:cNvSpPr/>
            <p:nvPr/>
          </p:nvSpPr>
          <p:spPr>
            <a:xfrm>
              <a:off x="8825760" y="196704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11" name="Freeform: Shape 220"/>
            <p:cNvSpPr/>
            <p:nvPr/>
          </p:nvSpPr>
          <p:spPr>
            <a:xfrm>
              <a:off x="9010080" y="2217960"/>
              <a:ext cx="157500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12" name="Freeform: Shape 221"/>
            <p:cNvSpPr/>
            <p:nvPr/>
          </p:nvSpPr>
          <p:spPr>
            <a:xfrm>
              <a:off x="7239960" y="2456280"/>
              <a:ext cx="156852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13" name="Freeform: Shape 222"/>
            <p:cNvSpPr/>
            <p:nvPr/>
          </p:nvSpPr>
          <p:spPr>
            <a:xfrm rot="21058200">
              <a:off x="8724240" y="238644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14" name="Freeform: Shape 223"/>
            <p:cNvSpPr/>
            <p:nvPr/>
          </p:nvSpPr>
          <p:spPr>
            <a:xfrm rot="21058200">
              <a:off x="8803800" y="246672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15" name="Freeform: Shape 224"/>
            <p:cNvSpPr/>
            <p:nvPr/>
          </p:nvSpPr>
          <p:spPr>
            <a:xfrm rot="21058200">
              <a:off x="8855640" y="251820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416" name="Graphic 2" descr=""/>
            <p:cNvPicPr/>
            <p:nvPr/>
          </p:nvPicPr>
          <p:blipFill>
            <a:blip r:embed="rId15"/>
            <a:stretch/>
          </p:blipFill>
          <p:spPr>
            <a:xfrm>
              <a:off x="7876080" y="2328480"/>
              <a:ext cx="2194560" cy="499680"/>
            </a:xfrm>
            <a:prstGeom prst="rect">
              <a:avLst/>
            </a:prstGeom>
            <a:ln w="0">
              <a:noFill/>
            </a:ln>
          </p:spPr>
        </p:pic>
        <p:sp>
          <p:nvSpPr>
            <p:cNvPr id="1417" name="Freeform: Shape 226"/>
            <p:cNvSpPr/>
            <p:nvPr/>
          </p:nvSpPr>
          <p:spPr>
            <a:xfrm>
              <a:off x="10479240" y="2306520"/>
              <a:ext cx="948600" cy="204768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18" name="Freeform: Shape 227"/>
            <p:cNvSpPr/>
            <p:nvPr/>
          </p:nvSpPr>
          <p:spPr>
            <a:xfrm>
              <a:off x="7316280" y="2803680"/>
              <a:ext cx="948600" cy="204768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Tree>
  </p:cSld>
  <p:transition spd="med">
    <p:fade/>
  </p:transition>
  <p:timing>
    <p:tnLst>
      <p:par>
        <p:cTn id="1474" dur="indefinite" restart="never" nodeType="tmRoot">
          <p:childTnLst>
            <p:seq>
              <p:cTn id="1475" dur="indefinite" nodeType="mainSeq">
                <p:childTnLst>
                  <p:par>
                    <p:cTn id="1476" nodeType="clickEffect" fill="hold">
                      <p:stCondLst>
                        <p:cond delay="0"/>
                      </p:stCondLst>
                      <p:childTnLst>
                        <p:par>
                          <p:cTn id="1477" nodeType="withEffect" fill="hold">
                            <p:stCondLst>
                              <p:cond delay="0"/>
                            </p:stCondLst>
                            <p:childTnLst>
                              <p:par>
                                <p:cTn id="1478" nodeType="afterEffect" fill="hold" presetClass="entr" presetID="10">
                                  <p:stCondLst>
                                    <p:cond delay="0"/>
                                  </p:stCondLst>
                                  <p:childTnLst>
                                    <p:set>
                                      <p:cBhvr>
                                        <p:cTn id="1479" dur="1" fill="hold">
                                          <p:stCondLst>
                                            <p:cond delay="0"/>
                                          </p:stCondLst>
                                        </p:cTn>
                                        <p:tgtEl>
                                          <p:spTgt spid="1336"/>
                                        </p:tgtEl>
                                        <p:attrNameLst>
                                          <p:attrName>style.visibility</p:attrName>
                                        </p:attrNameLst>
                                      </p:cBhvr>
                                      <p:to>
                                        <p:strVal val="visible"/>
                                      </p:to>
                                    </p:set>
                                    <p:animEffect filter="fade" transition="in">
                                      <p:cBhvr additive="repl">
                                        <p:cTn id="1480" dur="500"/>
                                        <p:tgtEl>
                                          <p:spTgt spid="1336"/>
                                        </p:tgtEl>
                                      </p:cBhvr>
                                    </p:animEffect>
                                  </p:childTnLst>
                                </p:cTn>
                              </p:par>
                            </p:childTnLst>
                          </p:cTn>
                        </p:par>
                        <p:par>
                          <p:cTn id="1481" nodeType="afterEffect" fill="hold">
                            <p:stCondLst>
                              <p:cond delay="500"/>
                            </p:stCondLst>
                            <p:childTnLst>
                              <p:par>
                                <p:cTn id="1482" nodeType="afterEffect" fill="hold" presetClass="entr" presetID="42">
                                  <p:stCondLst>
                                    <p:cond delay="0"/>
                                  </p:stCondLst>
                                  <p:childTnLst>
                                    <p:set>
                                      <p:cBhvr>
                                        <p:cTn id="1483" dur="1" fill="hold">
                                          <p:stCondLst>
                                            <p:cond delay="0"/>
                                          </p:stCondLst>
                                        </p:cTn>
                                        <p:tgtEl>
                                          <p:spTgt spid="1395"/>
                                        </p:tgtEl>
                                        <p:attrNameLst>
                                          <p:attrName>style.visibility</p:attrName>
                                        </p:attrNameLst>
                                      </p:cBhvr>
                                      <p:to>
                                        <p:strVal val="visible"/>
                                      </p:to>
                                    </p:set>
                                    <p:animEffect filter="fade" transition="in">
                                      <p:cBhvr additive="repl">
                                        <p:cTn id="1484" dur="1000"/>
                                        <p:tgtEl>
                                          <p:spTgt spid="1395"/>
                                        </p:tgtEl>
                                      </p:cBhvr>
                                    </p:animEffect>
                                    <p:anim calcmode="lin" valueType="num">
                                      <p:cBhvr additive="repl">
                                        <p:cTn id="1485" dur="1000" fill="hold"/>
                                        <p:tgtEl>
                                          <p:spTgt spid="1395"/>
                                        </p:tgtEl>
                                        <p:attrNameLst>
                                          <p:attrName>ppt_x</p:attrName>
                                        </p:attrNameLst>
                                      </p:cBhvr>
                                      <p:tavLst>
                                        <p:tav tm="0">
                                          <p:val>
                                            <p:strVal val="#ppt_x"/>
                                          </p:val>
                                        </p:tav>
                                        <p:tav tm="100000">
                                          <p:val>
                                            <p:strVal val="#ppt_x"/>
                                          </p:val>
                                        </p:tav>
                                      </p:tavLst>
                                    </p:anim>
                                    <p:anim calcmode="lin" valueType="num">
                                      <p:cBhvr additive="repl">
                                        <p:cTn id="1486" dur="1000" fill="hold"/>
                                        <p:tgtEl>
                                          <p:spTgt spid="1395"/>
                                        </p:tgtEl>
                                        <p:attrNameLst>
                                          <p:attrName>ppt_y</p:attrName>
                                        </p:attrNameLst>
                                      </p:cBhvr>
                                      <p:tavLst>
                                        <p:tav tm="0">
                                          <p:val>
                                            <p:strVal val="#ppt_y+.1"/>
                                          </p:val>
                                        </p:tav>
                                        <p:tav tm="100000">
                                          <p:val>
                                            <p:strVal val="#ppt_y"/>
                                          </p:val>
                                        </p:tav>
                                      </p:tavLst>
                                    </p:anim>
                                  </p:childTnLst>
                                </p:cTn>
                              </p:par>
                            </p:childTnLst>
                          </p:cTn>
                        </p:par>
                        <p:par>
                          <p:cTn id="1487" nodeType="afterEffect" fill="hold">
                            <p:stCondLst>
                              <p:cond delay="1500"/>
                            </p:stCondLst>
                            <p:childTnLst>
                              <p:par>
                                <p:cTn id="1488" nodeType="afterEffect" fill="hold" presetClass="entr" presetID="10">
                                  <p:stCondLst>
                                    <p:cond delay="0"/>
                                  </p:stCondLst>
                                  <p:childTnLst>
                                    <p:set>
                                      <p:cBhvr>
                                        <p:cTn id="1489" dur="1" fill="hold">
                                          <p:stCondLst>
                                            <p:cond delay="0"/>
                                          </p:stCondLst>
                                        </p:cTn>
                                        <p:tgtEl>
                                          <p:spTgt spid="1342"/>
                                        </p:tgtEl>
                                        <p:attrNameLst>
                                          <p:attrName>style.visibility</p:attrName>
                                        </p:attrNameLst>
                                      </p:cBhvr>
                                      <p:to>
                                        <p:strVal val="visible"/>
                                      </p:to>
                                    </p:set>
                                    <p:animEffect filter="fade" transition="in">
                                      <p:cBhvr additive="repl">
                                        <p:cTn id="1490" dur="500"/>
                                        <p:tgtEl>
                                          <p:spTgt spid="1342"/>
                                        </p:tgtEl>
                                      </p:cBhvr>
                                    </p:animEffect>
                                  </p:childTnLst>
                                </p:cTn>
                              </p:par>
                            </p:childTnLst>
                          </p:cTn>
                        </p:par>
                        <p:par>
                          <p:cTn id="1491" nodeType="afterEffect" fill="hold">
                            <p:stCondLst>
                              <p:cond delay="2000"/>
                            </p:stCondLst>
                            <p:childTnLst>
                              <p:par>
                                <p:cTn id="1492" nodeType="afterEffect" fill="hold" presetClass="entr" presetID="10">
                                  <p:stCondLst>
                                    <p:cond delay="0"/>
                                  </p:stCondLst>
                                  <p:childTnLst>
                                    <p:set>
                                      <p:cBhvr>
                                        <p:cTn id="1493" dur="1" fill="hold">
                                          <p:stCondLst>
                                            <p:cond delay="0"/>
                                          </p:stCondLst>
                                        </p:cTn>
                                        <p:tgtEl>
                                          <p:spTgt spid="1363"/>
                                        </p:tgtEl>
                                        <p:attrNameLst>
                                          <p:attrName>style.visibility</p:attrName>
                                        </p:attrNameLst>
                                      </p:cBhvr>
                                      <p:to>
                                        <p:strVal val="visible"/>
                                      </p:to>
                                    </p:set>
                                    <p:animEffect filter="fade" transition="in">
                                      <p:cBhvr additive="repl">
                                        <p:cTn id="1494" dur="500"/>
                                        <p:tgtEl>
                                          <p:spTgt spid="1363"/>
                                        </p:tgtEl>
                                      </p:cBhvr>
                                    </p:animEffect>
                                  </p:childTnLst>
                                </p:cTn>
                              </p:par>
                            </p:childTnLst>
                          </p:cTn>
                        </p:par>
                        <p:par>
                          <p:cTn id="1495" nodeType="afterEffect" fill="hold">
                            <p:stCondLst>
                              <p:cond delay="2500"/>
                            </p:stCondLst>
                            <p:childTnLst>
                              <p:par>
                                <p:cTn id="1496" nodeType="afterEffect" fill="hold" presetClass="entr" presetID="10">
                                  <p:stCondLst>
                                    <p:cond delay="0"/>
                                  </p:stCondLst>
                                  <p:childTnLst>
                                    <p:set>
                                      <p:cBhvr>
                                        <p:cTn id="1497" dur="1" fill="hold">
                                          <p:stCondLst>
                                            <p:cond delay="0"/>
                                          </p:stCondLst>
                                        </p:cTn>
                                        <p:tgtEl>
                                          <p:spTgt spid="1391"/>
                                        </p:tgtEl>
                                        <p:attrNameLst>
                                          <p:attrName>style.visibility</p:attrName>
                                        </p:attrNameLst>
                                      </p:cBhvr>
                                      <p:to>
                                        <p:strVal val="visible"/>
                                      </p:to>
                                    </p:set>
                                    <p:animEffect filter="fade" transition="in">
                                      <p:cBhvr additive="repl">
                                        <p:cTn id="1498" dur="500"/>
                                        <p:tgtEl>
                                          <p:spTgt spid="1391"/>
                                        </p:tgtEl>
                                      </p:cBhvr>
                                    </p:animEffect>
                                  </p:childTnLst>
                                </p:cTn>
                              </p:par>
                              <p:par>
                                <p:cTn id="1499" nodeType="withEffect" fill="hold" presetClass="entr" presetID="10">
                                  <p:stCondLst>
                                    <p:cond delay="0"/>
                                  </p:stCondLst>
                                  <p:childTnLst>
                                    <p:set>
                                      <p:cBhvr>
                                        <p:cTn id="1500" dur="1" fill="hold">
                                          <p:stCondLst>
                                            <p:cond delay="0"/>
                                          </p:stCondLst>
                                        </p:cTn>
                                        <p:tgtEl>
                                          <p:spTgt spid="1392"/>
                                        </p:tgtEl>
                                        <p:attrNameLst>
                                          <p:attrName>style.visibility</p:attrName>
                                        </p:attrNameLst>
                                      </p:cBhvr>
                                      <p:to>
                                        <p:strVal val="visible"/>
                                      </p:to>
                                    </p:set>
                                    <p:animEffect filter="fade" transition="in">
                                      <p:cBhvr additive="repl">
                                        <p:cTn id="1501" dur="500"/>
                                        <p:tgtEl>
                                          <p:spTgt spid="1392"/>
                                        </p:tgtEl>
                                      </p:cBhvr>
                                    </p:animEffect>
                                  </p:childTnLst>
                                </p:cTn>
                              </p:par>
                            </p:childTnLst>
                          </p:cTn>
                        </p:par>
                        <p:par>
                          <p:cTn id="1502" nodeType="afterEffect" fill="hold">
                            <p:stCondLst>
                              <p:cond delay="3000"/>
                            </p:stCondLst>
                            <p:childTnLst>
                              <p:par>
                                <p:cTn id="1503" nodeType="afterEffect" fill="hold" presetClass="entr" presetID="10">
                                  <p:stCondLst>
                                    <p:cond delay="0"/>
                                  </p:stCondLst>
                                  <p:childTnLst>
                                    <p:set>
                                      <p:cBhvr>
                                        <p:cTn id="1504" dur="1" fill="hold">
                                          <p:stCondLst>
                                            <p:cond delay="0"/>
                                          </p:stCondLst>
                                        </p:cTn>
                                        <p:tgtEl>
                                          <p:spTgt spid="1338"/>
                                        </p:tgtEl>
                                        <p:attrNameLst>
                                          <p:attrName>style.visibility</p:attrName>
                                        </p:attrNameLst>
                                      </p:cBhvr>
                                      <p:to>
                                        <p:strVal val="visible"/>
                                      </p:to>
                                    </p:set>
                                    <p:animEffect filter="fade" transition="in">
                                      <p:cBhvr additive="repl">
                                        <p:cTn id="1505" dur="500"/>
                                        <p:tgtEl>
                                          <p:spTgt spid="1338"/>
                                        </p:tgtEl>
                                      </p:cBhvr>
                                    </p:animEffect>
                                  </p:childTnLst>
                                </p:cTn>
                              </p:par>
                              <p:par>
                                <p:cTn id="1506" nodeType="withEffect" fill="hold" presetClass="entr" presetID="10">
                                  <p:stCondLst>
                                    <p:cond delay="0"/>
                                  </p:stCondLst>
                                  <p:childTnLst>
                                    <p:set>
                                      <p:cBhvr>
                                        <p:cTn id="1507" dur="1" fill="hold">
                                          <p:stCondLst>
                                            <p:cond delay="0"/>
                                          </p:stCondLst>
                                        </p:cTn>
                                        <p:tgtEl>
                                          <p:spTgt spid="1340"/>
                                        </p:tgtEl>
                                        <p:attrNameLst>
                                          <p:attrName>style.visibility</p:attrName>
                                        </p:attrNameLst>
                                      </p:cBhvr>
                                      <p:to>
                                        <p:strVal val="visible"/>
                                      </p:to>
                                    </p:set>
                                    <p:animEffect filter="fade" transition="in">
                                      <p:cBhvr additive="repl">
                                        <p:cTn id="1508" dur="500"/>
                                        <p:tgtEl>
                                          <p:spTgt spid="1340"/>
                                        </p:tgtEl>
                                      </p:cBhvr>
                                    </p:animEffect>
                                  </p:childTnLst>
                                </p:cTn>
                              </p:par>
                            </p:childTnLst>
                          </p:cTn>
                        </p:par>
                        <p:par>
                          <p:cTn id="1509" nodeType="afterEffect" fill="hold">
                            <p:stCondLst>
                              <p:cond delay="3500"/>
                            </p:stCondLst>
                            <p:childTnLst>
                              <p:par>
                                <p:cTn id="1510" nodeType="afterEffect" fill="hold" presetClass="entr" presetID="22" presetSubtype="8">
                                  <p:stCondLst>
                                    <p:cond delay="0"/>
                                  </p:stCondLst>
                                  <p:childTnLst>
                                    <p:set>
                                      <p:cBhvr>
                                        <p:cTn id="1511" dur="1" fill="hold">
                                          <p:stCondLst>
                                            <p:cond delay="0"/>
                                          </p:stCondLst>
                                        </p:cTn>
                                        <p:tgtEl>
                                          <p:spTgt spid="1337"/>
                                        </p:tgtEl>
                                        <p:attrNameLst>
                                          <p:attrName>style.visibility</p:attrName>
                                        </p:attrNameLst>
                                      </p:cBhvr>
                                      <p:to>
                                        <p:strVal val="visible"/>
                                      </p:to>
                                    </p:set>
                                    <p:animEffect filter="wipe(left)" transition="in">
                                      <p:cBhvr additive="repl">
                                        <p:cTn id="1512" dur="500"/>
                                        <p:tgtEl>
                                          <p:spTgt spid="1337"/>
                                        </p:tgtEl>
                                      </p:cBhvr>
                                    </p:animEffect>
                                  </p:childTnLst>
                                </p:cTn>
                              </p:par>
                            </p:childTnLst>
                          </p:cTn>
                        </p:par>
                        <p:par>
                          <p:cTn id="1513" nodeType="afterEffect" fill="hold">
                            <p:stCondLst>
                              <p:cond delay="4000"/>
                            </p:stCondLst>
                            <p:childTnLst>
                              <p:par>
                                <p:cTn id="1514" nodeType="afterEffect" fill="hold" presetClass="entr" presetID="10">
                                  <p:stCondLst>
                                    <p:cond delay="0"/>
                                  </p:stCondLst>
                                  <p:childTnLst>
                                    <p:set>
                                      <p:cBhvr>
                                        <p:cTn id="1515" dur="1" fill="hold">
                                          <p:stCondLst>
                                            <p:cond delay="0"/>
                                          </p:stCondLst>
                                        </p:cTn>
                                        <p:tgtEl>
                                          <p:spTgt spid="1330"/>
                                        </p:tgtEl>
                                        <p:attrNameLst>
                                          <p:attrName>style.visibility</p:attrName>
                                        </p:attrNameLst>
                                      </p:cBhvr>
                                      <p:to>
                                        <p:strVal val="visible"/>
                                      </p:to>
                                    </p:set>
                                    <p:animEffect filter="fade" transition="in">
                                      <p:cBhvr additive="repl">
                                        <p:cTn id="1516" dur="500"/>
                                        <p:tgtEl>
                                          <p:spTgt spid="1330"/>
                                        </p:tgtEl>
                                      </p:cBhvr>
                                    </p:animEffect>
                                  </p:childTnLst>
                                </p:cTn>
                              </p:par>
                              <p:par>
                                <p:cTn id="1517" nodeType="withEffect" fill="hold" presetClass="entr" presetID="10">
                                  <p:stCondLst>
                                    <p:cond delay="0"/>
                                  </p:stCondLst>
                                  <p:childTnLst>
                                    <p:set>
                                      <p:cBhvr>
                                        <p:cTn id="1518" dur="1" fill="hold">
                                          <p:stCondLst>
                                            <p:cond delay="0"/>
                                          </p:stCondLst>
                                        </p:cTn>
                                        <p:tgtEl>
                                          <p:spTgt spid="1332"/>
                                        </p:tgtEl>
                                        <p:attrNameLst>
                                          <p:attrName>style.visibility</p:attrName>
                                        </p:attrNameLst>
                                      </p:cBhvr>
                                      <p:to>
                                        <p:strVal val="visible"/>
                                      </p:to>
                                    </p:set>
                                    <p:animEffect filter="fade" transition="in">
                                      <p:cBhvr additive="repl">
                                        <p:cTn id="1519" dur="500"/>
                                        <p:tgtEl>
                                          <p:spTgt spid="1332"/>
                                        </p:tgtEl>
                                      </p:cBhvr>
                                    </p:animEffect>
                                  </p:childTnLst>
                                </p:cTn>
                              </p:par>
                              <p:par>
                                <p:cTn id="1520" nodeType="withEffect" fill="hold" presetClass="entr" presetID="10">
                                  <p:stCondLst>
                                    <p:cond delay="0"/>
                                  </p:stCondLst>
                                  <p:childTnLst>
                                    <p:set>
                                      <p:cBhvr>
                                        <p:cTn id="1521" dur="1" fill="hold">
                                          <p:stCondLst>
                                            <p:cond delay="0"/>
                                          </p:stCondLst>
                                        </p:cTn>
                                        <p:tgtEl>
                                          <p:spTgt spid="1333"/>
                                        </p:tgtEl>
                                        <p:attrNameLst>
                                          <p:attrName>style.visibility</p:attrName>
                                        </p:attrNameLst>
                                      </p:cBhvr>
                                      <p:to>
                                        <p:strVal val="visible"/>
                                      </p:to>
                                    </p:set>
                                    <p:animEffect filter="fade" transition="in">
                                      <p:cBhvr additive="repl">
                                        <p:cTn id="1522" dur="500"/>
                                        <p:tgtEl>
                                          <p:spTgt spid="1333"/>
                                        </p:tgtEl>
                                      </p:cBhvr>
                                    </p:animEffect>
                                  </p:childTnLst>
                                </p:cTn>
                              </p:par>
                              <p:par>
                                <p:cTn id="1523" nodeType="withEffect" fill="hold" presetClass="entr" presetID="10">
                                  <p:stCondLst>
                                    <p:cond delay="0"/>
                                  </p:stCondLst>
                                  <p:childTnLst>
                                    <p:set>
                                      <p:cBhvr>
                                        <p:cTn id="1524" dur="1" fill="hold">
                                          <p:stCondLst>
                                            <p:cond delay="0"/>
                                          </p:stCondLst>
                                        </p:cTn>
                                        <p:tgtEl>
                                          <p:spTgt spid="1335"/>
                                        </p:tgtEl>
                                        <p:attrNameLst>
                                          <p:attrName>style.visibility</p:attrName>
                                        </p:attrNameLst>
                                      </p:cBhvr>
                                      <p:to>
                                        <p:strVal val="visible"/>
                                      </p:to>
                                    </p:set>
                                    <p:animEffect filter="fade" transition="in">
                                      <p:cBhvr additive="repl">
                                        <p:cTn id="1525" dur="500"/>
                                        <p:tgtEl>
                                          <p:spTgt spid="1335"/>
                                        </p:tgtEl>
                                      </p:cBhvr>
                                    </p:animEffect>
                                  </p:childTnLst>
                                </p:cTn>
                              </p:par>
                            </p:childTnLst>
                          </p:cTn>
                        </p:par>
                        <p:par>
                          <p:cTn id="1526" nodeType="afterEffect" fill="hold">
                            <p:stCondLst>
                              <p:cond delay="4500"/>
                            </p:stCondLst>
                            <p:childTnLst>
                              <p:par>
                                <p:cTn id="1527" nodeType="afterEffect" fill="hold" presetClass="entr" presetID="22" presetSubtype="8">
                                  <p:stCondLst>
                                    <p:cond delay="0"/>
                                  </p:stCondLst>
                                  <p:childTnLst>
                                    <p:set>
                                      <p:cBhvr>
                                        <p:cTn id="1528" dur="1" fill="hold">
                                          <p:stCondLst>
                                            <p:cond delay="0"/>
                                          </p:stCondLst>
                                        </p:cTn>
                                        <p:tgtEl>
                                          <p:spTgt spid="1334"/>
                                        </p:tgtEl>
                                        <p:attrNameLst>
                                          <p:attrName>style.visibility</p:attrName>
                                        </p:attrNameLst>
                                      </p:cBhvr>
                                      <p:to>
                                        <p:strVal val="visible"/>
                                      </p:to>
                                    </p:set>
                                    <p:animEffect filter="wipe(left)" transition="in">
                                      <p:cBhvr additive="repl">
                                        <p:cTn id="1529" dur="500"/>
                                        <p:tgtEl>
                                          <p:spTgt spid="1334"/>
                                        </p:tgtEl>
                                      </p:cBhvr>
                                    </p:animEffect>
                                  </p:childTnLst>
                                </p:cTn>
                              </p:par>
                              <p:par>
                                <p:cTn id="1530" nodeType="withEffect" fill="hold" presetClass="entr" presetID="22" presetSubtype="8">
                                  <p:stCondLst>
                                    <p:cond delay="0"/>
                                  </p:stCondLst>
                                  <p:childTnLst>
                                    <p:set>
                                      <p:cBhvr>
                                        <p:cTn id="1531" dur="1" fill="hold">
                                          <p:stCondLst>
                                            <p:cond delay="0"/>
                                          </p:stCondLst>
                                        </p:cTn>
                                        <p:tgtEl>
                                          <p:spTgt spid="1331"/>
                                        </p:tgtEl>
                                        <p:attrNameLst>
                                          <p:attrName>style.visibility</p:attrName>
                                        </p:attrNameLst>
                                      </p:cBhvr>
                                      <p:to>
                                        <p:strVal val="visible"/>
                                      </p:to>
                                    </p:set>
                                    <p:animEffect filter="wipe(left)" transition="in">
                                      <p:cBhvr additive="repl">
                                        <p:cTn id="1532" dur="500"/>
                                        <p:tgtEl>
                                          <p:spTgt spid="1331"/>
                                        </p:tgtEl>
                                      </p:cBhvr>
                                    </p:animEffect>
                                  </p:childTnLst>
                                </p:cTn>
                              </p:par>
                            </p:childTnLst>
                          </p:cTn>
                        </p:par>
                        <p:par>
                          <p:cTn id="1533" nodeType="afterEffect" fill="hold">
                            <p:stCondLst>
                              <p:cond delay="5000"/>
                            </p:stCondLst>
                            <p:childTnLst>
                              <p:par>
                                <p:cTn id="1534" nodeType="afterEffect" fill="hold" presetClass="entr" presetID="10">
                                  <p:stCondLst>
                                    <p:cond delay="0"/>
                                  </p:stCondLst>
                                  <p:childTnLst>
                                    <p:set>
                                      <p:cBhvr>
                                        <p:cTn id="1535" dur="1" fill="hold">
                                          <p:stCondLst>
                                            <p:cond delay="0"/>
                                          </p:stCondLst>
                                        </p:cTn>
                                        <p:tgtEl>
                                          <p:spTgt spid="1394"/>
                                        </p:tgtEl>
                                        <p:attrNameLst>
                                          <p:attrName>style.visibility</p:attrName>
                                        </p:attrNameLst>
                                      </p:cBhvr>
                                      <p:to>
                                        <p:strVal val="visible"/>
                                      </p:to>
                                    </p:set>
                                    <p:animEffect filter="fade" transition="in">
                                      <p:cBhvr additive="repl">
                                        <p:cTn id="1536" dur="500"/>
                                        <p:tgtEl>
                                          <p:spTgt spid="1394"/>
                                        </p:tgtEl>
                                      </p:cBhvr>
                                    </p:animEffect>
                                  </p:childTnLst>
                                </p:cTn>
                              </p:par>
                              <p:par>
                                <p:cTn id="1537" nodeType="withEffect" fill="hold" presetClass="entr" presetID="10">
                                  <p:stCondLst>
                                    <p:cond delay="0"/>
                                  </p:stCondLst>
                                  <p:childTnLst>
                                    <p:set>
                                      <p:cBhvr>
                                        <p:cTn id="1538" dur="1" fill="hold">
                                          <p:stCondLst>
                                            <p:cond delay="0"/>
                                          </p:stCondLst>
                                        </p:cTn>
                                        <p:tgtEl>
                                          <p:spTgt spid="1341"/>
                                        </p:tgtEl>
                                        <p:attrNameLst>
                                          <p:attrName>style.visibility</p:attrName>
                                        </p:attrNameLst>
                                      </p:cBhvr>
                                      <p:to>
                                        <p:strVal val="visible"/>
                                      </p:to>
                                    </p:set>
                                    <p:animEffect filter="fade" transition="in">
                                      <p:cBhvr additive="repl">
                                        <p:cTn id="1539" dur="500"/>
                                        <p:tgtEl>
                                          <p:spTgt spid="1341"/>
                                        </p:tgtEl>
                                      </p:cBhvr>
                                    </p:animEffect>
                                  </p:childTnLst>
                                </p:cTn>
                              </p:par>
                            </p:childTnLst>
                          </p:cTn>
                        </p:par>
                        <p:par>
                          <p:cTn id="1540" nodeType="afterEffect" fill="hold">
                            <p:stCondLst>
                              <p:cond delay="5500"/>
                            </p:stCondLst>
                            <p:childTnLst>
                              <p:par>
                                <p:cTn id="1541" nodeType="afterEffect" fill="hold" presetClass="entr" presetID="22" presetSubtype="8">
                                  <p:stCondLst>
                                    <p:cond delay="0"/>
                                  </p:stCondLst>
                                  <p:childTnLst>
                                    <p:set>
                                      <p:cBhvr>
                                        <p:cTn id="1542" dur="1" fill="hold">
                                          <p:stCondLst>
                                            <p:cond delay="0"/>
                                          </p:stCondLst>
                                        </p:cTn>
                                        <p:tgtEl>
                                          <p:spTgt spid="1393"/>
                                        </p:tgtEl>
                                        <p:attrNameLst>
                                          <p:attrName>style.visibility</p:attrName>
                                        </p:attrNameLst>
                                      </p:cBhvr>
                                      <p:to>
                                        <p:strVal val="visible"/>
                                      </p:to>
                                    </p:set>
                                    <p:animEffect filter="wipe(left)" transition="in">
                                      <p:cBhvr additive="repl">
                                        <p:cTn id="1543" dur="500"/>
                                        <p:tgtEl>
                                          <p:spTgt spid="139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1339"/>
                                        </p:tgtEl>
                                        <p:attrNameLst>
                                          <p:attrName>style.visibility</p:attrName>
                                        </p:attrNameLst>
                                      </p:cBhvr>
                                      <p:to>
                                        <p:strVal val="visible"/>
                                      </p:to>
                                    </p:set>
                                    <p:animEffect filter="wipe(left)" transition="in">
                                      <p:cBhvr additive="repl">
                                        <p:cTn id="1546"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420" name="Group 2"/>
          <p:cNvGrpSpPr/>
          <p:nvPr/>
        </p:nvGrpSpPr>
        <p:grpSpPr>
          <a:xfrm>
            <a:off x="4057560" y="2058840"/>
            <a:ext cx="4076640" cy="3846600"/>
            <a:chOff x="4057560" y="2058840"/>
            <a:chExt cx="4076640" cy="3846600"/>
          </a:xfrm>
        </p:grpSpPr>
        <p:sp>
          <p:nvSpPr>
            <p:cNvPr id="1421" name="Oval 3"/>
            <p:cNvSpPr/>
            <p:nvPr/>
          </p:nvSpPr>
          <p:spPr>
            <a:xfrm>
              <a:off x="5132160" y="5438880"/>
              <a:ext cx="1930320" cy="466560"/>
            </a:xfrm>
            <a:prstGeom prst="ellipse">
              <a:avLst/>
            </a:prstGeom>
            <a:solidFill>
              <a:srgbClr val="d9d9d9">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nvGrpSpPr>
            <p:cNvPr id="1422" name="Graphic 7"/>
            <p:cNvGrpSpPr/>
            <p:nvPr/>
          </p:nvGrpSpPr>
          <p:grpSpPr>
            <a:xfrm>
              <a:off x="4057560" y="4537080"/>
              <a:ext cx="1548000" cy="633960"/>
              <a:chOff x="4057560" y="4537080"/>
              <a:chExt cx="1548000" cy="633960"/>
            </a:xfrm>
          </p:grpSpPr>
          <p:sp>
            <p:nvSpPr>
              <p:cNvPr id="1423" name="Freeform: Shape 76"/>
              <p:cNvSpPr/>
              <p:nvPr/>
            </p:nvSpPr>
            <p:spPr>
              <a:xfrm>
                <a:off x="4057560" y="467748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8" y="20955"/>
                      <a:pt x="88583" y="0"/>
                      <a:pt x="59055" y="0"/>
                    </a:cubicBezTo>
                    <a:close/>
                    <a:moveTo>
                      <a:pt x="59055" y="25717"/>
                    </a:moveTo>
                    <a:cubicBezTo>
                      <a:pt x="77153" y="25717"/>
                      <a:pt x="92393" y="40958"/>
                      <a:pt x="92393" y="59055"/>
                    </a:cubicBezTo>
                    <a:cubicBezTo>
                      <a:pt x="92393" y="77152"/>
                      <a:pt x="77153" y="92392"/>
                      <a:pt x="59055" y="92392"/>
                    </a:cubicBezTo>
                    <a:cubicBezTo>
                      <a:pt x="40958" y="92392"/>
                      <a:pt x="25718" y="77152"/>
                      <a:pt x="25718" y="59055"/>
                    </a:cubicBezTo>
                    <a:cubicBezTo>
                      <a:pt x="25718"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24" name="Freeform: Shape 77"/>
              <p:cNvSpPr/>
              <p:nvPr/>
            </p:nvSpPr>
            <p:spPr>
              <a:xfrm>
                <a:off x="5385240" y="4676040"/>
                <a:ext cx="220320" cy="174240"/>
              </a:xfrm>
              <a:custGeom>
                <a:avLst/>
                <a:gdLst/>
                <a:ahLst/>
                <a:rect l="l" t="t" r="r" b="b"/>
                <a:pathLst>
                  <a:path w="155257" h="122872">
                    <a:moveTo>
                      <a:pt x="96203" y="0"/>
                    </a:moveTo>
                    <a:cubicBezTo>
                      <a:pt x="128588" y="0"/>
                      <a:pt x="155258" y="26670"/>
                      <a:pt x="155258" y="60008"/>
                    </a:cubicBezTo>
                    <a:cubicBezTo>
                      <a:pt x="155258" y="93345"/>
                      <a:pt x="128588" y="120015"/>
                      <a:pt x="96203" y="120015"/>
                    </a:cubicBezTo>
                    <a:lnTo>
                      <a:pt x="0" y="122873"/>
                    </a:lnTo>
                    <a:lnTo>
                      <a:pt x="0" y="50483"/>
                    </a:lnTo>
                    <a:lnTo>
                      <a:pt x="37148" y="52388"/>
                    </a:lnTo>
                    <a:cubicBezTo>
                      <a:pt x="41910" y="21908"/>
                      <a:pt x="66675" y="0"/>
                      <a:pt x="96203" y="0"/>
                    </a:cubicBezTo>
                    <a:close/>
                    <a:moveTo>
                      <a:pt x="96203" y="25717"/>
                    </a:moveTo>
                    <a:cubicBezTo>
                      <a:pt x="78105" y="25717"/>
                      <a:pt x="62865" y="40958"/>
                      <a:pt x="62865" y="59055"/>
                    </a:cubicBezTo>
                    <a:cubicBezTo>
                      <a:pt x="62865" y="78105"/>
                      <a:pt x="78105" y="92392"/>
                      <a:pt x="96203" y="92392"/>
                    </a:cubicBezTo>
                    <a:cubicBezTo>
                      <a:pt x="114300" y="92392"/>
                      <a:pt x="129540" y="77153"/>
                      <a:pt x="129540" y="59055"/>
                    </a:cubicBezTo>
                    <a:cubicBezTo>
                      <a:pt x="129540" y="40958"/>
                      <a:pt x="114300" y="25717"/>
                      <a:pt x="96203"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25" name="Freeform: Shape 78"/>
              <p:cNvSpPr/>
              <p:nvPr/>
            </p:nvSpPr>
            <p:spPr>
              <a:xfrm>
                <a:off x="4201920" y="4715280"/>
                <a:ext cx="1257480" cy="455760"/>
              </a:xfrm>
              <a:custGeom>
                <a:avLst/>
                <a:gdLst/>
                <a:ahLst/>
                <a:rect l="l" t="t" r="r" b="b"/>
                <a:pathLst>
                  <a:path w="885824" h="320992">
                    <a:moveTo>
                      <a:pt x="52388" y="93345"/>
                    </a:moveTo>
                    <a:lnTo>
                      <a:pt x="160020" y="236220"/>
                    </a:lnTo>
                    <a:cubicBezTo>
                      <a:pt x="175260" y="283845"/>
                      <a:pt x="296228" y="320992"/>
                      <a:pt x="442913" y="320992"/>
                    </a:cubicBezTo>
                    <a:cubicBezTo>
                      <a:pt x="590550" y="320992"/>
                      <a:pt x="711518" y="283845"/>
                      <a:pt x="725805" y="236220"/>
                    </a:cubicBezTo>
                    <a:lnTo>
                      <a:pt x="833438" y="93345"/>
                    </a:lnTo>
                    <a:lnTo>
                      <a:pt x="863918" y="93345"/>
                    </a:lnTo>
                    <a:cubicBezTo>
                      <a:pt x="875348" y="93345"/>
                      <a:pt x="885825" y="72390"/>
                      <a:pt x="885825" y="46672"/>
                    </a:cubicBezTo>
                    <a:cubicBezTo>
                      <a:pt x="885825" y="20955"/>
                      <a:pt x="876300" y="0"/>
                      <a:pt x="863918" y="0"/>
                    </a:cubicBezTo>
                    <a:lnTo>
                      <a:pt x="21908" y="0"/>
                    </a:lnTo>
                    <a:cubicBezTo>
                      <a:pt x="10478" y="0"/>
                      <a:pt x="0" y="20955"/>
                      <a:pt x="0" y="46672"/>
                    </a:cubicBezTo>
                    <a:cubicBezTo>
                      <a:pt x="0" y="72390"/>
                      <a:pt x="9525" y="93345"/>
                      <a:pt x="21908" y="93345"/>
                    </a:cubicBezTo>
                    <a:lnTo>
                      <a:pt x="52388"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26" name="Freeform: Shape 79"/>
              <p:cNvSpPr/>
              <p:nvPr/>
            </p:nvSpPr>
            <p:spPr>
              <a:xfrm>
                <a:off x="4229280" y="4537080"/>
                <a:ext cx="1203480" cy="424440"/>
              </a:xfrm>
              <a:custGeom>
                <a:avLst/>
                <a:gdLst/>
                <a:ahLst/>
                <a:rect l="l" t="t" r="r" b="b"/>
                <a:pathLst>
                  <a:path w="847725" h="299084">
                    <a:moveTo>
                      <a:pt x="847725" y="149543"/>
                    </a:moveTo>
                    <a:cubicBezTo>
                      <a:pt x="847725" y="232133"/>
                      <a:pt x="657955" y="299085"/>
                      <a:pt x="423862" y="299085"/>
                    </a:cubicBezTo>
                    <a:cubicBezTo>
                      <a:pt x="189770" y="299085"/>
                      <a:pt x="0" y="232133"/>
                      <a:pt x="0" y="149543"/>
                    </a:cubicBezTo>
                    <a:cubicBezTo>
                      <a:pt x="0" y="66953"/>
                      <a:pt x="189770" y="0"/>
                      <a:pt x="423862" y="0"/>
                    </a:cubicBezTo>
                    <a:cubicBezTo>
                      <a:pt x="657955" y="0"/>
                      <a:pt x="847725" y="66953"/>
                      <a:pt x="847725" y="14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27" name="Freeform: Shape 80"/>
              <p:cNvSpPr/>
              <p:nvPr/>
            </p:nvSpPr>
            <p:spPr>
              <a:xfrm>
                <a:off x="4280400" y="4588200"/>
                <a:ext cx="1100520" cy="321840"/>
              </a:xfrm>
              <a:custGeom>
                <a:avLst/>
                <a:gdLst/>
                <a:ahLst/>
                <a:rect l="l" t="t" r="r" b="b"/>
                <a:pathLst>
                  <a:path w="775335" h="226695">
                    <a:moveTo>
                      <a:pt x="775335" y="113348"/>
                    </a:moveTo>
                    <a:cubicBezTo>
                      <a:pt x="775335" y="175948"/>
                      <a:pt x="601770" y="226695"/>
                      <a:pt x="387668" y="226695"/>
                    </a:cubicBezTo>
                    <a:cubicBezTo>
                      <a:pt x="173565" y="226695"/>
                      <a:pt x="0" y="175948"/>
                      <a:pt x="0" y="113348"/>
                    </a:cubicBezTo>
                    <a:cubicBezTo>
                      <a:pt x="0" y="50747"/>
                      <a:pt x="173565" y="0"/>
                      <a:pt x="387668" y="0"/>
                    </a:cubicBezTo>
                    <a:cubicBezTo>
                      <a:pt x="601770" y="0"/>
                      <a:pt x="775335" y="50747"/>
                      <a:pt x="775335" y="113348"/>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28" name="Freeform: Shape 81"/>
              <p:cNvSpPr/>
              <p:nvPr/>
            </p:nvSpPr>
            <p:spPr>
              <a:xfrm>
                <a:off x="4442760" y="4815360"/>
                <a:ext cx="776160" cy="94320"/>
              </a:xfrm>
              <a:custGeom>
                <a:avLst/>
                <a:gdLst/>
                <a:ahLst/>
                <a:rect l="l" t="t" r="r" b="b"/>
                <a:pathLst>
                  <a:path w="546735" h="66675">
                    <a:moveTo>
                      <a:pt x="273368" y="0"/>
                    </a:moveTo>
                    <a:cubicBezTo>
                      <a:pt x="166688" y="0"/>
                      <a:pt x="69532" y="12383"/>
                      <a:pt x="0" y="33338"/>
                    </a:cubicBezTo>
                    <a:cubicBezTo>
                      <a:pt x="70485" y="53340"/>
                      <a:pt x="166688" y="66675"/>
                      <a:pt x="273368" y="66675"/>
                    </a:cubicBezTo>
                    <a:cubicBezTo>
                      <a:pt x="380048" y="66675"/>
                      <a:pt x="477203" y="54292"/>
                      <a:pt x="546735" y="33338"/>
                    </a:cubicBezTo>
                    <a:cubicBezTo>
                      <a:pt x="476250" y="12383"/>
                      <a:pt x="380048" y="0"/>
                      <a:pt x="273368"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429" name="Graphic 7"/>
            <p:cNvGrpSpPr/>
            <p:nvPr/>
          </p:nvGrpSpPr>
          <p:grpSpPr>
            <a:xfrm>
              <a:off x="5311080" y="5187240"/>
              <a:ext cx="1557720" cy="650160"/>
              <a:chOff x="5311080" y="5187240"/>
              <a:chExt cx="1557720" cy="650160"/>
            </a:xfrm>
          </p:grpSpPr>
          <p:sp>
            <p:nvSpPr>
              <p:cNvPr id="1430" name="Freeform: Shape 73"/>
              <p:cNvSpPr/>
              <p:nvPr/>
            </p:nvSpPr>
            <p:spPr>
              <a:xfrm>
                <a:off x="5311080" y="5427720"/>
                <a:ext cx="1557720" cy="409680"/>
              </a:xfrm>
              <a:custGeom>
                <a:avLst/>
                <a:gdLst/>
                <a:ahLst/>
                <a:rect l="l" t="t" r="r" b="b"/>
                <a:pathLst>
                  <a:path w="1097279" h="288607">
                    <a:moveTo>
                      <a:pt x="1097280" y="0"/>
                    </a:moveTo>
                    <a:lnTo>
                      <a:pt x="1097280" y="0"/>
                    </a:lnTo>
                    <a:lnTo>
                      <a:pt x="1097280" y="3810"/>
                    </a:lnTo>
                    <a:cubicBezTo>
                      <a:pt x="1097280" y="99060"/>
                      <a:pt x="851535" y="177165"/>
                      <a:pt x="548640" y="177165"/>
                    </a:cubicBezTo>
                    <a:cubicBezTo>
                      <a:pt x="245745" y="177165"/>
                      <a:pt x="0" y="100012"/>
                      <a:pt x="0" y="3810"/>
                    </a:cubicBezTo>
                    <a:lnTo>
                      <a:pt x="0" y="0"/>
                    </a:lnTo>
                    <a:cubicBezTo>
                      <a:pt x="0" y="952"/>
                      <a:pt x="0" y="2858"/>
                      <a:pt x="0" y="3810"/>
                    </a:cubicBezTo>
                    <a:lnTo>
                      <a:pt x="0" y="115252"/>
                    </a:lnTo>
                    <a:cubicBezTo>
                      <a:pt x="0" y="210502"/>
                      <a:pt x="245745" y="288608"/>
                      <a:pt x="548640" y="288608"/>
                    </a:cubicBezTo>
                    <a:cubicBezTo>
                      <a:pt x="851535" y="288608"/>
                      <a:pt x="1097280" y="211455"/>
                      <a:pt x="1097280" y="115252"/>
                    </a:cubicBezTo>
                    <a:lnTo>
                      <a:pt x="1097280" y="3810"/>
                    </a:lnTo>
                    <a:cubicBezTo>
                      <a:pt x="1097280" y="2858"/>
                      <a:pt x="1097280" y="952"/>
                      <a:pt x="109728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1" name="Freeform: Shape 74"/>
              <p:cNvSpPr/>
              <p:nvPr/>
            </p:nvSpPr>
            <p:spPr>
              <a:xfrm>
                <a:off x="5311080" y="5187240"/>
                <a:ext cx="1557720" cy="492120"/>
              </a:xfrm>
              <a:custGeom>
                <a:avLst/>
                <a:gdLst/>
                <a:ahLst/>
                <a:rect l="l" t="t" r="r" b="b"/>
                <a:pathLst>
                  <a:path w="1097279" h="346709">
                    <a:moveTo>
                      <a:pt x="548640" y="346710"/>
                    </a:moveTo>
                    <a:cubicBezTo>
                      <a:pt x="850583" y="346710"/>
                      <a:pt x="1097280" y="268605"/>
                      <a:pt x="1097280" y="173355"/>
                    </a:cubicBezTo>
                    <a:cubicBezTo>
                      <a:pt x="1097280" y="78105"/>
                      <a:pt x="850583" y="0"/>
                      <a:pt x="548640" y="0"/>
                    </a:cubicBezTo>
                    <a:cubicBezTo>
                      <a:pt x="246698" y="0"/>
                      <a:pt x="0" y="78105"/>
                      <a:pt x="0" y="173355"/>
                    </a:cubicBezTo>
                    <a:cubicBezTo>
                      <a:pt x="0" y="268605"/>
                      <a:pt x="245745" y="346710"/>
                      <a:pt x="548640" y="346710"/>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2" name="Freeform: Shape 75"/>
              <p:cNvSpPr/>
              <p:nvPr/>
            </p:nvSpPr>
            <p:spPr>
              <a:xfrm>
                <a:off x="5311080" y="5419800"/>
                <a:ext cx="1557720" cy="302760"/>
              </a:xfrm>
              <a:custGeom>
                <a:avLst/>
                <a:gdLst/>
                <a:ahLst/>
                <a:rect l="l" t="t" r="r" b="b"/>
                <a:pathLst>
                  <a:path w="1097279" h="213360">
                    <a:moveTo>
                      <a:pt x="1096328" y="953"/>
                    </a:moveTo>
                    <a:lnTo>
                      <a:pt x="1096328" y="953"/>
                    </a:lnTo>
                    <a:lnTo>
                      <a:pt x="1096328" y="4763"/>
                    </a:lnTo>
                    <a:cubicBezTo>
                      <a:pt x="1097280" y="3810"/>
                      <a:pt x="1097280" y="2858"/>
                      <a:pt x="1096328" y="953"/>
                    </a:cubicBezTo>
                    <a:close/>
                    <a:moveTo>
                      <a:pt x="1097280" y="14288"/>
                    </a:moveTo>
                    <a:cubicBezTo>
                      <a:pt x="1088708" y="107633"/>
                      <a:pt x="846773" y="181927"/>
                      <a:pt x="548640" y="181927"/>
                    </a:cubicBezTo>
                    <a:cubicBezTo>
                      <a:pt x="245745" y="181927"/>
                      <a:pt x="0" y="104775"/>
                      <a:pt x="0" y="8573"/>
                    </a:cubicBezTo>
                    <a:lnTo>
                      <a:pt x="0" y="0"/>
                    </a:lnTo>
                    <a:lnTo>
                      <a:pt x="953" y="0"/>
                    </a:lnTo>
                    <a:cubicBezTo>
                      <a:pt x="953" y="2858"/>
                      <a:pt x="0" y="5715"/>
                      <a:pt x="0" y="8573"/>
                    </a:cubicBezTo>
                    <a:lnTo>
                      <a:pt x="0" y="35242"/>
                    </a:lnTo>
                    <a:cubicBezTo>
                      <a:pt x="0" y="133350"/>
                      <a:pt x="245745" y="213360"/>
                      <a:pt x="548640" y="213360"/>
                    </a:cubicBezTo>
                    <a:cubicBezTo>
                      <a:pt x="851535" y="213360"/>
                      <a:pt x="1097280" y="133350"/>
                      <a:pt x="1097280" y="35242"/>
                    </a:cubicBezTo>
                    <a:cubicBezTo>
                      <a:pt x="1097280" y="33338"/>
                      <a:pt x="1097280" y="32385"/>
                      <a:pt x="1097280" y="30480"/>
                    </a:cubicBezTo>
                    <a:lnTo>
                      <a:pt x="1097280" y="14288"/>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433" name="Freeform: Shape 16"/>
            <p:cNvSpPr/>
            <p:nvPr/>
          </p:nvSpPr>
          <p:spPr>
            <a:xfrm>
              <a:off x="5417640" y="5288760"/>
              <a:ext cx="1343880" cy="353880"/>
            </a:xfrm>
            <a:custGeom>
              <a:avLst/>
              <a:gdLst/>
              <a:ahLst/>
              <a:rect l="l" t="t" r="r" b="b"/>
              <a:pathLst>
                <a:path w="946785" h="249555">
                  <a:moveTo>
                    <a:pt x="946785" y="0"/>
                  </a:moveTo>
                  <a:lnTo>
                    <a:pt x="946785" y="0"/>
                  </a:lnTo>
                  <a:lnTo>
                    <a:pt x="946785" y="3810"/>
                  </a:lnTo>
                  <a:cubicBezTo>
                    <a:pt x="946785" y="85725"/>
                    <a:pt x="735330" y="153353"/>
                    <a:pt x="473393" y="153353"/>
                  </a:cubicBezTo>
                  <a:cubicBezTo>
                    <a:pt x="212408" y="153353"/>
                    <a:pt x="0" y="86678"/>
                    <a:pt x="0" y="3810"/>
                  </a:cubicBezTo>
                  <a:lnTo>
                    <a:pt x="0" y="0"/>
                  </a:lnTo>
                  <a:cubicBezTo>
                    <a:pt x="0" y="953"/>
                    <a:pt x="0" y="1905"/>
                    <a:pt x="0" y="3810"/>
                  </a:cubicBezTo>
                  <a:lnTo>
                    <a:pt x="0" y="100013"/>
                  </a:lnTo>
                  <a:cubicBezTo>
                    <a:pt x="0" y="181928"/>
                    <a:pt x="211455" y="249555"/>
                    <a:pt x="473393" y="249555"/>
                  </a:cubicBezTo>
                  <a:cubicBezTo>
                    <a:pt x="734378" y="249555"/>
                    <a:pt x="946785" y="182880"/>
                    <a:pt x="946785" y="100013"/>
                  </a:cubicBezTo>
                  <a:lnTo>
                    <a:pt x="946785" y="3810"/>
                  </a:lnTo>
                  <a:cubicBezTo>
                    <a:pt x="946785" y="1905"/>
                    <a:pt x="946785" y="953"/>
                    <a:pt x="946785"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4" name="Freeform: Shape 17"/>
            <p:cNvSpPr/>
            <p:nvPr/>
          </p:nvSpPr>
          <p:spPr>
            <a:xfrm>
              <a:off x="5417640" y="5080320"/>
              <a:ext cx="1343880" cy="424440"/>
            </a:xfrm>
            <a:custGeom>
              <a:avLst/>
              <a:gdLst/>
              <a:ahLst/>
              <a:rect l="l" t="t" r="r" b="b"/>
              <a:pathLst>
                <a:path w="946785" h="299084">
                  <a:moveTo>
                    <a:pt x="473393" y="299085"/>
                  </a:moveTo>
                  <a:cubicBezTo>
                    <a:pt x="734378" y="299085"/>
                    <a:pt x="946785" y="232410"/>
                    <a:pt x="946785" y="149542"/>
                  </a:cubicBezTo>
                  <a:cubicBezTo>
                    <a:pt x="946785" y="66675"/>
                    <a:pt x="734378" y="0"/>
                    <a:pt x="473393" y="0"/>
                  </a:cubicBezTo>
                  <a:cubicBezTo>
                    <a:pt x="212408" y="0"/>
                    <a:pt x="0" y="66675"/>
                    <a:pt x="0" y="149542"/>
                  </a:cubicBezTo>
                  <a:cubicBezTo>
                    <a:pt x="0" y="232410"/>
                    <a:pt x="212408" y="299085"/>
                    <a:pt x="473393" y="299085"/>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5" name="Freeform: Shape 18"/>
            <p:cNvSpPr/>
            <p:nvPr/>
          </p:nvSpPr>
          <p:spPr>
            <a:xfrm>
              <a:off x="5417640" y="5283360"/>
              <a:ext cx="1343880" cy="260640"/>
            </a:xfrm>
            <a:custGeom>
              <a:avLst/>
              <a:gdLst/>
              <a:ahLst/>
              <a:rect l="l" t="t" r="r" b="b"/>
              <a:pathLst>
                <a:path w="946785" h="183832">
                  <a:moveTo>
                    <a:pt x="945832" y="0"/>
                  </a:moveTo>
                  <a:lnTo>
                    <a:pt x="945832" y="0"/>
                  </a:lnTo>
                  <a:lnTo>
                    <a:pt x="945832" y="2857"/>
                  </a:lnTo>
                  <a:cubicBezTo>
                    <a:pt x="945832" y="1905"/>
                    <a:pt x="945832" y="952"/>
                    <a:pt x="945832" y="0"/>
                  </a:cubicBezTo>
                  <a:close/>
                  <a:moveTo>
                    <a:pt x="946785" y="11430"/>
                  </a:moveTo>
                  <a:cubicBezTo>
                    <a:pt x="940118" y="91440"/>
                    <a:pt x="730568" y="156210"/>
                    <a:pt x="473393" y="156210"/>
                  </a:cubicBezTo>
                  <a:cubicBezTo>
                    <a:pt x="212408" y="156210"/>
                    <a:pt x="0" y="89535"/>
                    <a:pt x="0" y="6667"/>
                  </a:cubicBezTo>
                  <a:lnTo>
                    <a:pt x="0" y="0"/>
                  </a:lnTo>
                  <a:lnTo>
                    <a:pt x="952" y="0"/>
                  </a:lnTo>
                  <a:cubicBezTo>
                    <a:pt x="952" y="1905"/>
                    <a:pt x="0" y="4763"/>
                    <a:pt x="0" y="6667"/>
                  </a:cubicBezTo>
                  <a:lnTo>
                    <a:pt x="0" y="29527"/>
                  </a:lnTo>
                  <a:cubicBezTo>
                    <a:pt x="0" y="114300"/>
                    <a:pt x="211455" y="183832"/>
                    <a:pt x="473393" y="183832"/>
                  </a:cubicBezTo>
                  <a:cubicBezTo>
                    <a:pt x="734378" y="183832"/>
                    <a:pt x="946785" y="115252"/>
                    <a:pt x="946785" y="29527"/>
                  </a:cubicBezTo>
                  <a:cubicBezTo>
                    <a:pt x="946785" y="27622"/>
                    <a:pt x="946785" y="26670"/>
                    <a:pt x="946785" y="24765"/>
                  </a:cubicBezTo>
                  <a:lnTo>
                    <a:pt x="946785" y="11430"/>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6" name="Freeform: Shape 19"/>
            <p:cNvSpPr/>
            <p:nvPr/>
          </p:nvSpPr>
          <p:spPr>
            <a:xfrm>
              <a:off x="5858640" y="5121000"/>
              <a:ext cx="462240" cy="201240"/>
            </a:xfrm>
            <a:custGeom>
              <a:avLst/>
              <a:gdLst/>
              <a:ahLst/>
              <a:rect l="l" t="t" r="r" b="b"/>
              <a:pathLst>
                <a:path w="325754" h="141961">
                  <a:moveTo>
                    <a:pt x="159067" y="54332"/>
                  </a:moveTo>
                  <a:cubicBezTo>
                    <a:pt x="139065" y="54332"/>
                    <a:pt x="0" y="-17106"/>
                    <a:pt x="0" y="3849"/>
                  </a:cubicBezTo>
                  <a:lnTo>
                    <a:pt x="0" y="90527"/>
                  </a:lnTo>
                  <a:cubicBezTo>
                    <a:pt x="0" y="119102"/>
                    <a:pt x="73342" y="141962"/>
                    <a:pt x="162878" y="141962"/>
                  </a:cubicBezTo>
                  <a:cubicBezTo>
                    <a:pt x="252413" y="141962"/>
                    <a:pt x="325755" y="119102"/>
                    <a:pt x="325755" y="90527"/>
                  </a:cubicBezTo>
                  <a:lnTo>
                    <a:pt x="325755" y="3849"/>
                  </a:lnTo>
                  <a:cubicBezTo>
                    <a:pt x="325755" y="1944"/>
                    <a:pt x="213360" y="54332"/>
                    <a:pt x="159067" y="54332"/>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7" name="Freeform: Shape 20"/>
            <p:cNvSpPr/>
            <p:nvPr/>
          </p:nvSpPr>
          <p:spPr>
            <a:xfrm>
              <a:off x="5958720" y="2282400"/>
              <a:ext cx="262080" cy="114120"/>
            </a:xfrm>
            <a:custGeom>
              <a:avLst/>
              <a:gdLst/>
              <a:ahLst/>
              <a:rect l="l" t="t" r="r" b="b"/>
              <a:pathLst>
                <a:path w="184784" h="80437">
                  <a:moveTo>
                    <a:pt x="90488" y="30907"/>
                  </a:moveTo>
                  <a:cubicBezTo>
                    <a:pt x="79057" y="30907"/>
                    <a:pt x="0" y="-10050"/>
                    <a:pt x="0" y="2332"/>
                  </a:cubicBezTo>
                  <a:lnTo>
                    <a:pt x="0" y="50910"/>
                  </a:lnTo>
                  <a:cubicBezTo>
                    <a:pt x="0" y="67102"/>
                    <a:pt x="41910" y="80437"/>
                    <a:pt x="92392" y="80437"/>
                  </a:cubicBezTo>
                  <a:cubicBezTo>
                    <a:pt x="143827" y="80437"/>
                    <a:pt x="184785" y="67102"/>
                    <a:pt x="184785" y="50910"/>
                  </a:cubicBezTo>
                  <a:lnTo>
                    <a:pt x="184785" y="1380"/>
                  </a:lnTo>
                  <a:cubicBezTo>
                    <a:pt x="184785" y="427"/>
                    <a:pt x="120967" y="30907"/>
                    <a:pt x="90488" y="30907"/>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8" name="Freeform: Shape 21"/>
            <p:cNvSpPr/>
            <p:nvPr/>
          </p:nvSpPr>
          <p:spPr>
            <a:xfrm>
              <a:off x="5957280" y="2354760"/>
              <a:ext cx="262080" cy="535320"/>
            </a:xfrm>
            <a:custGeom>
              <a:avLst/>
              <a:gdLst/>
              <a:ahLst/>
              <a:rect l="l" t="t" r="r" b="b"/>
              <a:pathLst>
                <a:path w="184784" h="377189">
                  <a:moveTo>
                    <a:pt x="0" y="0"/>
                  </a:moveTo>
                  <a:lnTo>
                    <a:pt x="0" y="347663"/>
                  </a:lnTo>
                  <a:cubicBezTo>
                    <a:pt x="0" y="363855"/>
                    <a:pt x="41910" y="377190"/>
                    <a:pt x="92392" y="377190"/>
                  </a:cubicBezTo>
                  <a:cubicBezTo>
                    <a:pt x="143828" y="377190"/>
                    <a:pt x="184785" y="363855"/>
                    <a:pt x="184785" y="347663"/>
                  </a:cubicBezTo>
                  <a:lnTo>
                    <a:pt x="184785" y="0"/>
                  </a:lnTo>
                  <a:cubicBezTo>
                    <a:pt x="184785" y="16193"/>
                    <a:pt x="142875" y="29528"/>
                    <a:pt x="92392" y="29528"/>
                  </a:cubicBezTo>
                  <a:cubicBezTo>
                    <a:pt x="41910" y="29528"/>
                    <a:pt x="0" y="1619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39" name="Freeform: Shape 22"/>
            <p:cNvSpPr/>
            <p:nvPr/>
          </p:nvSpPr>
          <p:spPr>
            <a:xfrm>
              <a:off x="5858640" y="5042520"/>
              <a:ext cx="462240" cy="145800"/>
            </a:xfrm>
            <a:custGeom>
              <a:avLst/>
              <a:gdLst/>
              <a:ahLst/>
              <a:rect l="l" t="t" r="r" b="b"/>
              <a:pathLst>
                <a:path w="325754" h="102870">
                  <a:moveTo>
                    <a:pt x="162878" y="102870"/>
                  </a:moveTo>
                  <a:cubicBezTo>
                    <a:pt x="252413" y="102870"/>
                    <a:pt x="325755" y="80010"/>
                    <a:pt x="325755" y="51435"/>
                  </a:cubicBezTo>
                  <a:cubicBezTo>
                    <a:pt x="325755" y="22860"/>
                    <a:pt x="252413" y="0"/>
                    <a:pt x="162878" y="0"/>
                  </a:cubicBezTo>
                  <a:cubicBezTo>
                    <a:pt x="73342" y="0"/>
                    <a:pt x="0" y="22860"/>
                    <a:pt x="0" y="51435"/>
                  </a:cubicBezTo>
                  <a:cubicBezTo>
                    <a:pt x="0" y="80010"/>
                    <a:pt x="73342" y="102870"/>
                    <a:pt x="162878" y="102870"/>
                  </a:cubicBez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40" name="Freeform: Shape 23"/>
            <p:cNvSpPr/>
            <p:nvPr/>
          </p:nvSpPr>
          <p:spPr>
            <a:xfrm>
              <a:off x="5958720" y="2237040"/>
              <a:ext cx="262080" cy="83520"/>
            </a:xfrm>
            <a:custGeom>
              <a:avLst/>
              <a:gdLst/>
              <a:ahLst/>
              <a:rect l="l" t="t" r="r" b="b"/>
              <a:pathLst>
                <a:path w="184800" h="59054">
                  <a:moveTo>
                    <a:pt x="92408" y="59055"/>
                  </a:moveTo>
                  <a:cubicBezTo>
                    <a:pt x="143843" y="59055"/>
                    <a:pt x="184801" y="45720"/>
                    <a:pt x="184801" y="29527"/>
                  </a:cubicBezTo>
                  <a:cubicBezTo>
                    <a:pt x="184801" y="13335"/>
                    <a:pt x="142891" y="0"/>
                    <a:pt x="92408" y="0"/>
                  </a:cubicBezTo>
                  <a:cubicBezTo>
                    <a:pt x="40973" y="0"/>
                    <a:pt x="16" y="13335"/>
                    <a:pt x="16" y="29527"/>
                  </a:cubicBezTo>
                  <a:cubicBezTo>
                    <a:pt x="-937" y="45720"/>
                    <a:pt x="40973" y="59055"/>
                    <a:pt x="92408" y="59055"/>
                  </a:cubicBezTo>
                  <a:close/>
                </a:path>
              </a:pathLst>
            </a:custGeom>
            <a:solidFill>
              <a:srgbClr val="a55027"/>
            </a:solidFill>
            <a:ln w="0">
              <a:noFill/>
            </a:ln>
          </p:spPr>
          <p:style>
            <a:lnRef idx="0"/>
            <a:fillRef idx="0"/>
            <a:effectRef idx="0"/>
            <a:fontRef idx="minor"/>
          </p:style>
          <p:txBody>
            <a:bodyPr lIns="90000" rIns="90000" tIns="36720" bIns="36720" anchor="ctr">
              <a:noAutofit/>
            </a:bodyPr>
            <a:p>
              <a:endParaRPr b="0" lang="en-US" sz="1800" spc="-1" strike="noStrike">
                <a:solidFill>
                  <a:srgbClr val="313c3f"/>
                </a:solidFill>
                <a:latin typeface="Source Sans Pro"/>
              </a:endParaRPr>
            </a:p>
          </p:txBody>
        </p:sp>
        <p:sp>
          <p:nvSpPr>
            <p:cNvPr id="1441" name="Freeform: Shape 24"/>
            <p:cNvSpPr/>
            <p:nvPr/>
          </p:nvSpPr>
          <p:spPr>
            <a:xfrm>
              <a:off x="6009840" y="2169360"/>
              <a:ext cx="159480" cy="51120"/>
            </a:xfrm>
            <a:custGeom>
              <a:avLst/>
              <a:gdLst/>
              <a:ahLst/>
              <a:rect l="l" t="t" r="r" b="b"/>
              <a:pathLst>
                <a:path w="112420" h="36195">
                  <a:moveTo>
                    <a:pt x="56223" y="36195"/>
                  </a:moveTo>
                  <a:cubicBezTo>
                    <a:pt x="87656" y="36195"/>
                    <a:pt x="112421" y="28575"/>
                    <a:pt x="112421" y="18097"/>
                  </a:cubicBezTo>
                  <a:cubicBezTo>
                    <a:pt x="112421" y="8572"/>
                    <a:pt x="86703" y="0"/>
                    <a:pt x="56223" y="0"/>
                  </a:cubicBezTo>
                  <a:cubicBezTo>
                    <a:pt x="24791" y="0"/>
                    <a:pt x="26" y="7620"/>
                    <a:pt x="26" y="18097"/>
                  </a:cubicBezTo>
                  <a:cubicBezTo>
                    <a:pt x="-927" y="28575"/>
                    <a:pt x="24791" y="36195"/>
                    <a:pt x="56223" y="36195"/>
                  </a:cubicBezTo>
                  <a:close/>
                </a:path>
              </a:pathLst>
            </a:custGeom>
            <a:solidFill>
              <a:srgbClr val="a55027"/>
            </a:solidFill>
            <a:ln w="0">
              <a:noFill/>
            </a:ln>
          </p:spPr>
          <p:style>
            <a:lnRef idx="0"/>
            <a:fillRef idx="0"/>
            <a:effectRef idx="0"/>
            <a:fontRef idx="minor"/>
          </p:style>
          <p:txBody>
            <a:bodyPr lIns="90000" rIns="90000" tIns="4320" bIns="4320" anchor="ctr">
              <a:noAutofit/>
            </a:bodyPr>
            <a:p>
              <a:endParaRPr b="0" lang="en-US" sz="1800" spc="-1" strike="noStrike">
                <a:solidFill>
                  <a:srgbClr val="313c3f"/>
                </a:solidFill>
                <a:latin typeface="Source Sans Pro"/>
              </a:endParaRPr>
            </a:p>
          </p:txBody>
        </p:sp>
        <p:sp>
          <p:nvSpPr>
            <p:cNvPr id="1442" name="Freeform: Shape 25"/>
            <p:cNvSpPr/>
            <p:nvPr/>
          </p:nvSpPr>
          <p:spPr>
            <a:xfrm>
              <a:off x="6009840" y="2196720"/>
              <a:ext cx="159480" cy="101160"/>
            </a:xfrm>
            <a:custGeom>
              <a:avLst/>
              <a:gdLst/>
              <a:ahLst/>
              <a:rect l="l" t="t" r="r" b="b"/>
              <a:pathLst>
                <a:path w="112395" h="71437">
                  <a:moveTo>
                    <a:pt x="112395" y="53340"/>
                  </a:moveTo>
                  <a:cubicBezTo>
                    <a:pt x="112395" y="62865"/>
                    <a:pt x="86678" y="71437"/>
                    <a:pt x="56198" y="71437"/>
                  </a:cubicBezTo>
                  <a:cubicBezTo>
                    <a:pt x="25718" y="71437"/>
                    <a:pt x="0" y="63818"/>
                    <a:pt x="0" y="53340"/>
                  </a:cubicBezTo>
                  <a:lnTo>
                    <a:pt x="0" y="0"/>
                  </a:lnTo>
                  <a:cubicBezTo>
                    <a:pt x="0" y="9525"/>
                    <a:pt x="25718" y="18097"/>
                    <a:pt x="56198" y="18097"/>
                  </a:cubicBezTo>
                  <a:cubicBezTo>
                    <a:pt x="86678" y="18097"/>
                    <a:pt x="112395" y="10477"/>
                    <a:pt x="112395" y="0"/>
                  </a:cubicBezTo>
                  <a:lnTo>
                    <a:pt x="112395" y="53340"/>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43" name="Freeform: Shape 26"/>
            <p:cNvSpPr/>
            <p:nvPr/>
          </p:nvSpPr>
          <p:spPr>
            <a:xfrm>
              <a:off x="5858640" y="5115600"/>
              <a:ext cx="462240" cy="86400"/>
            </a:xfrm>
            <a:custGeom>
              <a:avLst/>
              <a:gdLst/>
              <a:ahLst/>
              <a:rect l="l" t="t" r="r" b="b"/>
              <a:pathLst>
                <a:path w="325754" h="60960">
                  <a:moveTo>
                    <a:pt x="325755" y="1905"/>
                  </a:moveTo>
                  <a:lnTo>
                    <a:pt x="325755" y="6667"/>
                  </a:lnTo>
                  <a:cubicBezTo>
                    <a:pt x="325755" y="7620"/>
                    <a:pt x="325755" y="7620"/>
                    <a:pt x="325755" y="8573"/>
                  </a:cubicBezTo>
                  <a:cubicBezTo>
                    <a:pt x="325755" y="8573"/>
                    <a:pt x="325755" y="8573"/>
                    <a:pt x="325755" y="8573"/>
                  </a:cubicBezTo>
                  <a:cubicBezTo>
                    <a:pt x="325755" y="38100"/>
                    <a:pt x="252413" y="60960"/>
                    <a:pt x="162878" y="60960"/>
                  </a:cubicBezTo>
                  <a:cubicBezTo>
                    <a:pt x="73342" y="60960"/>
                    <a:pt x="0" y="37148"/>
                    <a:pt x="0" y="7620"/>
                  </a:cubicBezTo>
                  <a:lnTo>
                    <a:pt x="0" y="0"/>
                  </a:lnTo>
                  <a:cubicBezTo>
                    <a:pt x="0" y="28575"/>
                    <a:pt x="73342" y="51435"/>
                    <a:pt x="162878" y="51435"/>
                  </a:cubicBezTo>
                  <a:cubicBezTo>
                    <a:pt x="251460" y="51435"/>
                    <a:pt x="322898" y="29528"/>
                    <a:pt x="325755" y="1905"/>
                  </a:cubicBezTo>
                  <a:close/>
                </a:path>
              </a:pathLst>
            </a:custGeom>
            <a:solidFill>
              <a:srgbClr val="933c1f"/>
            </a:solidFill>
            <a:ln w="0">
              <a:noFill/>
            </a:ln>
          </p:spPr>
          <p:style>
            <a:lnRef idx="0"/>
            <a:fillRef idx="0"/>
            <a:effectRef idx="0"/>
            <a:fontRef idx="minor"/>
          </p:style>
          <p:txBody>
            <a:bodyPr lIns="90000" rIns="90000" tIns="39600" bIns="39600" anchor="ctr">
              <a:noAutofit/>
            </a:bodyPr>
            <a:p>
              <a:endParaRPr b="0" lang="en-US" sz="1800" spc="-1" strike="noStrike">
                <a:solidFill>
                  <a:srgbClr val="313c3f"/>
                </a:solidFill>
                <a:latin typeface="Source Sans Pro"/>
              </a:endParaRPr>
            </a:p>
          </p:txBody>
        </p:sp>
        <p:sp>
          <p:nvSpPr>
            <p:cNvPr id="1444" name="Freeform: Shape 27"/>
            <p:cNvSpPr/>
            <p:nvPr/>
          </p:nvSpPr>
          <p:spPr>
            <a:xfrm>
              <a:off x="5958720" y="2279160"/>
              <a:ext cx="262080" cy="49680"/>
            </a:xfrm>
            <a:custGeom>
              <a:avLst/>
              <a:gdLst/>
              <a:ahLst/>
              <a:rect l="l" t="t" r="r" b="b"/>
              <a:pathLst>
                <a:path w="184784" h="35242">
                  <a:moveTo>
                    <a:pt x="184785" y="953"/>
                  </a:moveTo>
                  <a:lnTo>
                    <a:pt x="184785" y="3810"/>
                  </a:lnTo>
                  <a:cubicBezTo>
                    <a:pt x="184785" y="3810"/>
                    <a:pt x="184785" y="4763"/>
                    <a:pt x="184785" y="4763"/>
                  </a:cubicBezTo>
                  <a:cubicBezTo>
                    <a:pt x="184785" y="4763"/>
                    <a:pt x="184785" y="4763"/>
                    <a:pt x="184785" y="4763"/>
                  </a:cubicBezTo>
                  <a:cubicBezTo>
                    <a:pt x="184785" y="20955"/>
                    <a:pt x="142875" y="35243"/>
                    <a:pt x="92392" y="35243"/>
                  </a:cubicBezTo>
                  <a:cubicBezTo>
                    <a:pt x="40957" y="35243"/>
                    <a:pt x="0" y="21908"/>
                    <a:pt x="0" y="4763"/>
                  </a:cubicBezTo>
                  <a:lnTo>
                    <a:pt x="0" y="0"/>
                  </a:lnTo>
                  <a:cubicBezTo>
                    <a:pt x="0" y="16193"/>
                    <a:pt x="41910" y="29528"/>
                    <a:pt x="92392" y="29528"/>
                  </a:cubicBezTo>
                  <a:cubicBezTo>
                    <a:pt x="142875" y="29528"/>
                    <a:pt x="183832" y="16193"/>
                    <a:pt x="184785" y="953"/>
                  </a:cubicBezTo>
                  <a:close/>
                </a:path>
              </a:pathLst>
            </a:custGeom>
            <a:solidFill>
              <a:srgbClr val="933c1f"/>
            </a:solidFill>
            <a:ln w="0">
              <a:noFill/>
            </a:ln>
          </p:spPr>
          <p:style>
            <a:lnRef idx="0"/>
            <a:fillRef idx="0"/>
            <a:effectRef idx="0"/>
            <a:fontRef idx="minor"/>
          </p:style>
          <p:txBody>
            <a:bodyPr lIns="90000" rIns="90000" tIns="2880" bIns="2880" anchor="ctr">
              <a:noAutofit/>
            </a:bodyPr>
            <a:p>
              <a:endParaRPr b="0" lang="en-US" sz="1800" spc="-1" strike="noStrike">
                <a:solidFill>
                  <a:srgbClr val="313c3f"/>
                </a:solidFill>
                <a:latin typeface="Source Sans Pro"/>
              </a:endParaRPr>
            </a:p>
          </p:txBody>
        </p:sp>
        <p:sp>
          <p:nvSpPr>
            <p:cNvPr id="1445" name="Freeform: Shape 28"/>
            <p:cNvSpPr/>
            <p:nvPr/>
          </p:nvSpPr>
          <p:spPr>
            <a:xfrm>
              <a:off x="5996520" y="2879280"/>
              <a:ext cx="186480" cy="2286000"/>
            </a:xfrm>
            <a:custGeom>
              <a:avLst/>
              <a:gdLst/>
              <a:ahLst/>
              <a:rect l="l" t="t" r="r" b="b"/>
              <a:pathLst>
                <a:path w="131445" h="1610677">
                  <a:moveTo>
                    <a:pt x="0" y="0"/>
                  </a:moveTo>
                  <a:lnTo>
                    <a:pt x="0" y="1589723"/>
                  </a:lnTo>
                  <a:cubicBezTo>
                    <a:pt x="0" y="1601153"/>
                    <a:pt x="29528" y="1610678"/>
                    <a:pt x="65723" y="1610678"/>
                  </a:cubicBezTo>
                  <a:cubicBezTo>
                    <a:pt x="101918" y="1610678"/>
                    <a:pt x="131445" y="1601153"/>
                    <a:pt x="131445" y="1589723"/>
                  </a:cubicBezTo>
                  <a:lnTo>
                    <a:pt x="131445" y="0"/>
                  </a:lnTo>
                  <a:cubicBezTo>
                    <a:pt x="114300" y="5715"/>
                    <a:pt x="91440" y="8573"/>
                    <a:pt x="65723" y="8573"/>
                  </a:cubicBezTo>
                  <a:cubicBezTo>
                    <a:pt x="40005" y="8573"/>
                    <a:pt x="17145" y="476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46" name="Freeform: Shape 29"/>
            <p:cNvSpPr/>
            <p:nvPr/>
          </p:nvSpPr>
          <p:spPr>
            <a:xfrm>
              <a:off x="6021000" y="2058840"/>
              <a:ext cx="137880" cy="137880"/>
            </a:xfrm>
            <a:custGeom>
              <a:avLst/>
              <a:gdLst/>
              <a:ahLst/>
              <a:rect l="l" t="t" r="r" b="b"/>
              <a:pathLst>
                <a:path w="97154" h="97155">
                  <a:moveTo>
                    <a:pt x="48578" y="97155"/>
                  </a:moveTo>
                  <a:cubicBezTo>
                    <a:pt x="75248" y="97155"/>
                    <a:pt x="97155" y="75248"/>
                    <a:pt x="97155" y="48578"/>
                  </a:cubicBezTo>
                  <a:cubicBezTo>
                    <a:pt x="97155" y="21908"/>
                    <a:pt x="75248" y="0"/>
                    <a:pt x="48578" y="0"/>
                  </a:cubicBezTo>
                  <a:cubicBezTo>
                    <a:pt x="21908" y="0"/>
                    <a:pt x="0" y="21908"/>
                    <a:pt x="0" y="48578"/>
                  </a:cubicBezTo>
                  <a:cubicBezTo>
                    <a:pt x="0" y="75248"/>
                    <a:pt x="21908" y="97155"/>
                    <a:pt x="48578" y="97155"/>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47" name="Freeform: Shape 30"/>
            <p:cNvSpPr/>
            <p:nvPr/>
          </p:nvSpPr>
          <p:spPr>
            <a:xfrm>
              <a:off x="7913880" y="3802680"/>
              <a:ext cx="220320" cy="174240"/>
            </a:xfrm>
            <a:custGeom>
              <a:avLst/>
              <a:gdLst/>
              <a:ahLst/>
              <a:rect l="l" t="t" r="r" b="b"/>
              <a:pathLst>
                <a:path w="155257" h="122872">
                  <a:moveTo>
                    <a:pt x="96202" y="0"/>
                  </a:moveTo>
                  <a:cubicBezTo>
                    <a:pt x="128588" y="0"/>
                    <a:pt x="155257" y="26670"/>
                    <a:pt x="155257" y="60007"/>
                  </a:cubicBezTo>
                  <a:cubicBezTo>
                    <a:pt x="155257" y="93345"/>
                    <a:pt x="128588" y="120015"/>
                    <a:pt x="96202" y="120015"/>
                  </a:cubicBezTo>
                  <a:lnTo>
                    <a:pt x="0" y="122872"/>
                  </a:lnTo>
                  <a:lnTo>
                    <a:pt x="0" y="50482"/>
                  </a:lnTo>
                  <a:lnTo>
                    <a:pt x="37147" y="52388"/>
                  </a:lnTo>
                  <a:cubicBezTo>
                    <a:pt x="41910" y="21907"/>
                    <a:pt x="66675" y="0"/>
                    <a:pt x="96202" y="0"/>
                  </a:cubicBezTo>
                  <a:close/>
                  <a:moveTo>
                    <a:pt x="96202" y="25717"/>
                  </a:moveTo>
                  <a:cubicBezTo>
                    <a:pt x="78105" y="25717"/>
                    <a:pt x="62865" y="40957"/>
                    <a:pt x="62865" y="59055"/>
                  </a:cubicBezTo>
                  <a:cubicBezTo>
                    <a:pt x="62865" y="78105"/>
                    <a:pt x="78105" y="92392"/>
                    <a:pt x="96202" y="92392"/>
                  </a:cubicBezTo>
                  <a:cubicBezTo>
                    <a:pt x="114300" y="92392"/>
                    <a:pt x="129540" y="77152"/>
                    <a:pt x="129540" y="59055"/>
                  </a:cubicBezTo>
                  <a:cubicBezTo>
                    <a:pt x="129540" y="40957"/>
                    <a:pt x="114300" y="25717"/>
                    <a:pt x="96202"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48" name="Freeform: Shape 31"/>
            <p:cNvSpPr/>
            <p:nvPr/>
          </p:nvSpPr>
          <p:spPr>
            <a:xfrm>
              <a:off x="6586200" y="380160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7" y="21908"/>
                    <a:pt x="88583" y="0"/>
                    <a:pt x="59055" y="0"/>
                  </a:cubicBezTo>
                  <a:close/>
                  <a:moveTo>
                    <a:pt x="59055" y="25717"/>
                  </a:moveTo>
                  <a:cubicBezTo>
                    <a:pt x="77153" y="25717"/>
                    <a:pt x="92392" y="40958"/>
                    <a:pt x="92392" y="59055"/>
                  </a:cubicBezTo>
                  <a:cubicBezTo>
                    <a:pt x="92392" y="77153"/>
                    <a:pt x="77153" y="92392"/>
                    <a:pt x="59055" y="92392"/>
                  </a:cubicBezTo>
                  <a:cubicBezTo>
                    <a:pt x="40958" y="92392"/>
                    <a:pt x="25717" y="77153"/>
                    <a:pt x="25717" y="59055"/>
                  </a:cubicBezTo>
                  <a:cubicBezTo>
                    <a:pt x="25717"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49" name="Freeform: Shape 32"/>
            <p:cNvSpPr/>
            <p:nvPr/>
          </p:nvSpPr>
          <p:spPr>
            <a:xfrm>
              <a:off x="6732000" y="3841920"/>
              <a:ext cx="1257480" cy="455400"/>
            </a:xfrm>
            <a:custGeom>
              <a:avLst/>
              <a:gdLst/>
              <a:ahLst/>
              <a:rect l="l" t="t" r="r" b="b"/>
              <a:pathLst>
                <a:path w="885824" h="320992">
                  <a:moveTo>
                    <a:pt x="833437" y="93345"/>
                  </a:moveTo>
                  <a:lnTo>
                    <a:pt x="725805" y="236220"/>
                  </a:lnTo>
                  <a:cubicBezTo>
                    <a:pt x="710565" y="283845"/>
                    <a:pt x="589598" y="320992"/>
                    <a:pt x="442913" y="320992"/>
                  </a:cubicBezTo>
                  <a:cubicBezTo>
                    <a:pt x="295275" y="320992"/>
                    <a:pt x="174308" y="283845"/>
                    <a:pt x="160020" y="236220"/>
                  </a:cubicBezTo>
                  <a:lnTo>
                    <a:pt x="52388" y="93345"/>
                  </a:lnTo>
                  <a:lnTo>
                    <a:pt x="21908" y="93345"/>
                  </a:lnTo>
                  <a:cubicBezTo>
                    <a:pt x="10477" y="93345"/>
                    <a:pt x="0" y="72390"/>
                    <a:pt x="0" y="46672"/>
                  </a:cubicBezTo>
                  <a:cubicBezTo>
                    <a:pt x="0" y="20955"/>
                    <a:pt x="9525" y="0"/>
                    <a:pt x="21908" y="0"/>
                  </a:cubicBezTo>
                  <a:lnTo>
                    <a:pt x="863918" y="0"/>
                  </a:lnTo>
                  <a:cubicBezTo>
                    <a:pt x="875348" y="0"/>
                    <a:pt x="885825" y="20955"/>
                    <a:pt x="885825" y="46672"/>
                  </a:cubicBezTo>
                  <a:cubicBezTo>
                    <a:pt x="885825" y="72390"/>
                    <a:pt x="876300" y="93345"/>
                    <a:pt x="863918" y="93345"/>
                  </a:cubicBezTo>
                  <a:lnTo>
                    <a:pt x="833437"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0" name="Freeform: Shape 33"/>
            <p:cNvSpPr/>
            <p:nvPr/>
          </p:nvSpPr>
          <p:spPr>
            <a:xfrm>
              <a:off x="7458120" y="4027320"/>
              <a:ext cx="385200" cy="226800"/>
            </a:xfrm>
            <a:custGeom>
              <a:avLst/>
              <a:gdLst/>
              <a:ahLst/>
              <a:rect l="l" t="t" r="r" b="b"/>
              <a:pathLst>
                <a:path w="271462" h="160020">
                  <a:moveTo>
                    <a:pt x="68580" y="160020"/>
                  </a:moveTo>
                  <a:cubicBezTo>
                    <a:pt x="84772" y="157163"/>
                    <a:pt x="101918" y="153353"/>
                    <a:pt x="117157" y="148590"/>
                  </a:cubicBezTo>
                  <a:cubicBezTo>
                    <a:pt x="138113" y="141923"/>
                    <a:pt x="189547" y="123825"/>
                    <a:pt x="197168" y="100013"/>
                  </a:cubicBezTo>
                  <a:lnTo>
                    <a:pt x="198120" y="97155"/>
                  </a:lnTo>
                  <a:lnTo>
                    <a:pt x="271463" y="0"/>
                  </a:lnTo>
                  <a:cubicBezTo>
                    <a:pt x="203835" y="30480"/>
                    <a:pt x="108585" y="51435"/>
                    <a:pt x="0" y="58103"/>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1" name="Freeform: Shape 34"/>
            <p:cNvSpPr/>
            <p:nvPr/>
          </p:nvSpPr>
          <p:spPr>
            <a:xfrm>
              <a:off x="4926960" y="4904640"/>
              <a:ext cx="385200" cy="226800"/>
            </a:xfrm>
            <a:custGeom>
              <a:avLst/>
              <a:gdLst/>
              <a:ahLst/>
              <a:rect l="l" t="t" r="r" b="b"/>
              <a:pathLst>
                <a:path w="271462" h="160019">
                  <a:moveTo>
                    <a:pt x="68580" y="160020"/>
                  </a:moveTo>
                  <a:cubicBezTo>
                    <a:pt x="84772" y="157163"/>
                    <a:pt x="101917" y="153352"/>
                    <a:pt x="117157" y="148590"/>
                  </a:cubicBezTo>
                  <a:cubicBezTo>
                    <a:pt x="138113" y="141922"/>
                    <a:pt x="189547" y="123825"/>
                    <a:pt x="197167" y="100013"/>
                  </a:cubicBezTo>
                  <a:lnTo>
                    <a:pt x="198120" y="97155"/>
                  </a:lnTo>
                  <a:lnTo>
                    <a:pt x="271463" y="0"/>
                  </a:lnTo>
                  <a:cubicBezTo>
                    <a:pt x="203835" y="30480"/>
                    <a:pt x="108585" y="51435"/>
                    <a:pt x="0" y="58102"/>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2" name="Freeform: Shape 35"/>
            <p:cNvSpPr/>
            <p:nvPr/>
          </p:nvSpPr>
          <p:spPr>
            <a:xfrm>
              <a:off x="6876720" y="4025880"/>
              <a:ext cx="398880" cy="243360"/>
            </a:xfrm>
            <a:custGeom>
              <a:avLst/>
              <a:gdLst/>
              <a:ahLst/>
              <a:rect l="l" t="t" r="r" b="b"/>
              <a:pathLst>
                <a:path w="280987" h="171450">
                  <a:moveTo>
                    <a:pt x="0" y="0"/>
                  </a:moveTo>
                  <a:lnTo>
                    <a:pt x="74295" y="98107"/>
                  </a:lnTo>
                  <a:lnTo>
                    <a:pt x="75247" y="100965"/>
                  </a:lnTo>
                  <a:cubicBezTo>
                    <a:pt x="82867" y="124777"/>
                    <a:pt x="134303" y="142875"/>
                    <a:pt x="155258" y="149542"/>
                  </a:cubicBezTo>
                  <a:cubicBezTo>
                    <a:pt x="194310" y="161925"/>
                    <a:pt x="238125" y="168592"/>
                    <a:pt x="280988" y="171450"/>
                  </a:cubicBezTo>
                  <a:lnTo>
                    <a:pt x="201930" y="52388"/>
                  </a:lnTo>
                  <a:cubicBezTo>
                    <a:pt x="187642" y="50482"/>
                    <a:pt x="173355" y="48577"/>
                    <a:pt x="160020" y="45720"/>
                  </a:cubicBezTo>
                  <a:lnTo>
                    <a:pt x="199072" y="144780"/>
                  </a:lnTo>
                  <a:lnTo>
                    <a:pt x="101917" y="34290"/>
                  </a:lnTo>
                  <a:cubicBezTo>
                    <a:pt x="62865" y="24765"/>
                    <a:pt x="28575" y="12382"/>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3" name="Freeform: Shape 36"/>
            <p:cNvSpPr/>
            <p:nvPr/>
          </p:nvSpPr>
          <p:spPr>
            <a:xfrm>
              <a:off x="4345560" y="4903200"/>
              <a:ext cx="398880" cy="243360"/>
            </a:xfrm>
            <a:custGeom>
              <a:avLst/>
              <a:gdLst/>
              <a:ahLst/>
              <a:rect l="l" t="t" r="r" b="b"/>
              <a:pathLst>
                <a:path w="280987" h="171450">
                  <a:moveTo>
                    <a:pt x="0" y="0"/>
                  </a:moveTo>
                  <a:lnTo>
                    <a:pt x="74295" y="98108"/>
                  </a:lnTo>
                  <a:lnTo>
                    <a:pt x="75248" y="100965"/>
                  </a:lnTo>
                  <a:cubicBezTo>
                    <a:pt x="82868" y="124778"/>
                    <a:pt x="134303" y="142875"/>
                    <a:pt x="155258" y="149542"/>
                  </a:cubicBezTo>
                  <a:cubicBezTo>
                    <a:pt x="194310" y="161925"/>
                    <a:pt x="238125" y="168592"/>
                    <a:pt x="280988" y="171450"/>
                  </a:cubicBezTo>
                  <a:lnTo>
                    <a:pt x="200978" y="52388"/>
                  </a:lnTo>
                  <a:cubicBezTo>
                    <a:pt x="186690" y="50483"/>
                    <a:pt x="172403" y="48578"/>
                    <a:pt x="159068" y="45720"/>
                  </a:cubicBezTo>
                  <a:lnTo>
                    <a:pt x="198120" y="144780"/>
                  </a:lnTo>
                  <a:lnTo>
                    <a:pt x="100965" y="33338"/>
                  </a:lnTo>
                  <a:cubicBezTo>
                    <a:pt x="62865" y="24765"/>
                    <a:pt x="29528" y="12383"/>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4" name="Freeform: Shape 37"/>
            <p:cNvSpPr/>
            <p:nvPr/>
          </p:nvSpPr>
          <p:spPr>
            <a:xfrm>
              <a:off x="6760440" y="3662280"/>
              <a:ext cx="1203480" cy="424440"/>
            </a:xfrm>
            <a:custGeom>
              <a:avLst/>
              <a:gdLst/>
              <a:ahLst/>
              <a:rect l="l" t="t" r="r" b="b"/>
              <a:pathLst>
                <a:path w="847725" h="299085">
                  <a:moveTo>
                    <a:pt x="423863" y="299085"/>
                  </a:moveTo>
                  <a:cubicBezTo>
                    <a:pt x="657225" y="299085"/>
                    <a:pt x="847725" y="232410"/>
                    <a:pt x="847725" y="149542"/>
                  </a:cubicBezTo>
                  <a:cubicBezTo>
                    <a:pt x="847725" y="67628"/>
                    <a:pt x="657225" y="0"/>
                    <a:pt x="423863" y="0"/>
                  </a:cubicBezTo>
                  <a:cubicBezTo>
                    <a:pt x="190500" y="0"/>
                    <a:pt x="0" y="66675"/>
                    <a:pt x="0" y="149542"/>
                  </a:cubicBezTo>
                  <a:cubicBezTo>
                    <a:pt x="0" y="231458"/>
                    <a:pt x="190500" y="299085"/>
                    <a:pt x="423863" y="299085"/>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5" name="Freeform: Shape 38"/>
            <p:cNvSpPr/>
            <p:nvPr/>
          </p:nvSpPr>
          <p:spPr>
            <a:xfrm>
              <a:off x="6811920" y="3713400"/>
              <a:ext cx="1100520" cy="321480"/>
            </a:xfrm>
            <a:custGeom>
              <a:avLst/>
              <a:gdLst/>
              <a:ahLst/>
              <a:rect l="l" t="t" r="r" b="b"/>
              <a:pathLst>
                <a:path w="775335" h="226695">
                  <a:moveTo>
                    <a:pt x="387667" y="226695"/>
                  </a:moveTo>
                  <a:cubicBezTo>
                    <a:pt x="601027" y="226695"/>
                    <a:pt x="775335" y="176213"/>
                    <a:pt x="775335" y="113347"/>
                  </a:cubicBezTo>
                  <a:cubicBezTo>
                    <a:pt x="775335" y="51435"/>
                    <a:pt x="601027" y="0"/>
                    <a:pt x="387667" y="0"/>
                  </a:cubicBezTo>
                  <a:cubicBezTo>
                    <a:pt x="174308" y="0"/>
                    <a:pt x="0" y="50483"/>
                    <a:pt x="0" y="113347"/>
                  </a:cubicBezTo>
                  <a:cubicBezTo>
                    <a:pt x="0" y="176213"/>
                    <a:pt x="174308" y="226695"/>
                    <a:pt x="387667" y="226695"/>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6" name="Freeform: Shape 39"/>
            <p:cNvSpPr/>
            <p:nvPr/>
          </p:nvSpPr>
          <p:spPr>
            <a:xfrm>
              <a:off x="6974280" y="3942000"/>
              <a:ext cx="776160" cy="94320"/>
            </a:xfrm>
            <a:custGeom>
              <a:avLst/>
              <a:gdLst/>
              <a:ahLst/>
              <a:rect l="l" t="t" r="r" b="b"/>
              <a:pathLst>
                <a:path w="546735" h="66675">
                  <a:moveTo>
                    <a:pt x="273367" y="0"/>
                  </a:moveTo>
                  <a:cubicBezTo>
                    <a:pt x="380048" y="0"/>
                    <a:pt x="477202" y="12383"/>
                    <a:pt x="546735" y="33338"/>
                  </a:cubicBezTo>
                  <a:cubicBezTo>
                    <a:pt x="476250" y="53340"/>
                    <a:pt x="380048" y="66675"/>
                    <a:pt x="273367" y="66675"/>
                  </a:cubicBezTo>
                  <a:cubicBezTo>
                    <a:pt x="166688" y="66675"/>
                    <a:pt x="69533" y="54293"/>
                    <a:pt x="0" y="33338"/>
                  </a:cubicBezTo>
                  <a:cubicBezTo>
                    <a:pt x="69533" y="12383"/>
                    <a:pt x="166688" y="0"/>
                    <a:pt x="273367"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7" name="Freeform: Shape 40"/>
            <p:cNvSpPr/>
            <p:nvPr/>
          </p:nvSpPr>
          <p:spPr>
            <a:xfrm>
              <a:off x="6661800" y="2133360"/>
              <a:ext cx="714960" cy="1757520"/>
            </a:xfrm>
            <a:custGeom>
              <a:avLst/>
              <a:gdLst/>
              <a:ahLst/>
              <a:rect l="l" t="t" r="r" b="b"/>
              <a:pathLst>
                <a:path w="503756" h="1238350">
                  <a:moveTo>
                    <a:pt x="477214" y="14985"/>
                  </a:moveTo>
                  <a:lnTo>
                    <a:pt x="2869" y="1210372"/>
                  </a:lnTo>
                  <a:cubicBezTo>
                    <a:pt x="-8561" y="1242758"/>
                    <a:pt x="17156" y="1248472"/>
                    <a:pt x="27634" y="1219897"/>
                  </a:cubicBezTo>
                  <a:lnTo>
                    <a:pt x="42874" y="1177988"/>
                  </a:lnTo>
                  <a:lnTo>
                    <a:pt x="501979" y="25462"/>
                  </a:lnTo>
                  <a:cubicBezTo>
                    <a:pt x="510551" y="-2160"/>
                    <a:pt x="485786" y="-9780"/>
                    <a:pt x="477214" y="14985"/>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8" name="Freeform: Shape 41"/>
            <p:cNvSpPr/>
            <p:nvPr/>
          </p:nvSpPr>
          <p:spPr>
            <a:xfrm>
              <a:off x="6150600" y="2068920"/>
              <a:ext cx="1289520" cy="599400"/>
            </a:xfrm>
            <a:custGeom>
              <a:avLst/>
              <a:gdLst/>
              <a:ahLst/>
              <a:rect l="l" t="t" r="r" b="b"/>
              <a:pathLst>
                <a:path w="908436" h="422279">
                  <a:moveTo>
                    <a:pt x="198120" y="201300"/>
                  </a:moveTo>
                  <a:lnTo>
                    <a:pt x="0" y="269880"/>
                  </a:lnTo>
                  <a:lnTo>
                    <a:pt x="952" y="269880"/>
                  </a:lnTo>
                  <a:cubicBezTo>
                    <a:pt x="17145" y="277500"/>
                    <a:pt x="30480" y="287977"/>
                    <a:pt x="41910" y="301312"/>
                  </a:cubicBezTo>
                  <a:cubicBezTo>
                    <a:pt x="49530" y="310837"/>
                    <a:pt x="55245" y="321315"/>
                    <a:pt x="60008" y="333697"/>
                  </a:cubicBezTo>
                  <a:cubicBezTo>
                    <a:pt x="70485" y="364177"/>
                    <a:pt x="66675" y="396562"/>
                    <a:pt x="52388" y="422280"/>
                  </a:cubicBezTo>
                  <a:lnTo>
                    <a:pt x="70485" y="415612"/>
                  </a:lnTo>
                  <a:cubicBezTo>
                    <a:pt x="97155" y="406087"/>
                    <a:pt x="123825" y="395610"/>
                    <a:pt x="150495" y="386085"/>
                  </a:cubicBezTo>
                  <a:lnTo>
                    <a:pt x="388620" y="296550"/>
                  </a:lnTo>
                  <a:lnTo>
                    <a:pt x="391477" y="295597"/>
                  </a:lnTo>
                  <a:cubicBezTo>
                    <a:pt x="410527" y="288930"/>
                    <a:pt x="431483" y="281310"/>
                    <a:pt x="453390" y="271785"/>
                  </a:cubicBezTo>
                  <a:lnTo>
                    <a:pt x="868680" y="115575"/>
                  </a:lnTo>
                  <a:cubicBezTo>
                    <a:pt x="899160" y="105097"/>
                    <a:pt x="916305" y="70807"/>
                    <a:pt x="904875" y="40327"/>
                  </a:cubicBezTo>
                  <a:cubicBezTo>
                    <a:pt x="894397" y="8895"/>
                    <a:pt x="860108" y="-7298"/>
                    <a:pt x="829627" y="3180"/>
                  </a:cubicBezTo>
                  <a:cubicBezTo>
                    <a:pt x="802005" y="12705"/>
                    <a:pt x="785813" y="41280"/>
                    <a:pt x="790575" y="69855"/>
                  </a:cubicBezTo>
                  <a:cubicBezTo>
                    <a:pt x="684847" y="77475"/>
                    <a:pt x="376238" y="139387"/>
                    <a:pt x="198120" y="201300"/>
                  </a:cubicBezTo>
                  <a:close/>
                  <a:moveTo>
                    <a:pt x="837247" y="28897"/>
                  </a:moveTo>
                  <a:cubicBezTo>
                    <a:pt x="854393" y="23182"/>
                    <a:pt x="873443" y="31755"/>
                    <a:pt x="880110" y="49852"/>
                  </a:cubicBezTo>
                  <a:cubicBezTo>
                    <a:pt x="885825" y="66997"/>
                    <a:pt x="877252" y="87000"/>
                    <a:pt x="859155" y="92715"/>
                  </a:cubicBezTo>
                  <a:cubicBezTo>
                    <a:pt x="842010" y="98430"/>
                    <a:pt x="822960" y="89857"/>
                    <a:pt x="816293" y="71760"/>
                  </a:cubicBezTo>
                  <a:lnTo>
                    <a:pt x="816293" y="70807"/>
                  </a:lnTo>
                  <a:cubicBezTo>
                    <a:pt x="813435" y="47947"/>
                    <a:pt x="822008" y="33660"/>
                    <a:pt x="837247" y="28897"/>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59" name="Freeform: Shape 42"/>
            <p:cNvSpPr/>
            <p:nvPr/>
          </p:nvSpPr>
          <p:spPr>
            <a:xfrm>
              <a:off x="4815000" y="3007800"/>
              <a:ext cx="714960" cy="1756440"/>
            </a:xfrm>
            <a:custGeom>
              <a:avLst/>
              <a:gdLst/>
              <a:ahLst/>
              <a:rect l="l" t="t" r="r" b="b"/>
              <a:pathLst>
                <a:path w="503706" h="1237657">
                  <a:moveTo>
                    <a:pt x="26493" y="14292"/>
                  </a:moveTo>
                  <a:lnTo>
                    <a:pt x="500838" y="1209679"/>
                  </a:lnTo>
                  <a:cubicBezTo>
                    <a:pt x="512268" y="1242064"/>
                    <a:pt x="486550" y="1247779"/>
                    <a:pt x="476073" y="1219204"/>
                  </a:cubicBezTo>
                  <a:lnTo>
                    <a:pt x="460833" y="1177294"/>
                  </a:lnTo>
                  <a:lnTo>
                    <a:pt x="1728" y="24769"/>
                  </a:lnTo>
                  <a:cubicBezTo>
                    <a:pt x="-6845" y="-1901"/>
                    <a:pt x="18873" y="-9521"/>
                    <a:pt x="2649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60" name="Freeform: Shape 43"/>
            <p:cNvSpPr/>
            <p:nvPr/>
          </p:nvSpPr>
          <p:spPr>
            <a:xfrm>
              <a:off x="4749120" y="2519640"/>
              <a:ext cx="1280880" cy="593640"/>
            </a:xfrm>
            <a:custGeom>
              <a:avLst/>
              <a:gdLst/>
              <a:ahLst/>
              <a:rect l="l" t="t" r="r" b="b"/>
              <a:pathLst>
                <a:path w="902347" h="418469">
                  <a:moveTo>
                    <a:pt x="656603" y="66675"/>
                  </a:moveTo>
                  <a:lnTo>
                    <a:pt x="848056" y="0"/>
                  </a:lnTo>
                  <a:lnTo>
                    <a:pt x="847103" y="952"/>
                  </a:lnTo>
                  <a:lnTo>
                    <a:pt x="846151" y="1905"/>
                  </a:lnTo>
                  <a:cubicBezTo>
                    <a:pt x="842341" y="9525"/>
                    <a:pt x="839483" y="17145"/>
                    <a:pt x="837578" y="25718"/>
                  </a:cubicBezTo>
                  <a:cubicBezTo>
                    <a:pt x="835673" y="32385"/>
                    <a:pt x="834721" y="39052"/>
                    <a:pt x="834721" y="46672"/>
                  </a:cubicBezTo>
                  <a:cubicBezTo>
                    <a:pt x="832816" y="87630"/>
                    <a:pt x="853771" y="125730"/>
                    <a:pt x="890918" y="146685"/>
                  </a:cubicBezTo>
                  <a:cubicBezTo>
                    <a:pt x="894728" y="148590"/>
                    <a:pt x="898538" y="150495"/>
                    <a:pt x="902348" y="152400"/>
                  </a:cubicBezTo>
                  <a:cubicBezTo>
                    <a:pt x="870916" y="161925"/>
                    <a:pt x="840436" y="172402"/>
                    <a:pt x="809003" y="181927"/>
                  </a:cubicBezTo>
                  <a:lnTo>
                    <a:pt x="567068" y="259080"/>
                  </a:lnTo>
                  <a:lnTo>
                    <a:pt x="564211" y="260033"/>
                  </a:lnTo>
                  <a:cubicBezTo>
                    <a:pt x="545161" y="266700"/>
                    <a:pt x="523253" y="273368"/>
                    <a:pt x="501346" y="280035"/>
                  </a:cubicBezTo>
                  <a:lnTo>
                    <a:pt x="78436" y="415290"/>
                  </a:lnTo>
                  <a:cubicBezTo>
                    <a:pt x="47956" y="425768"/>
                    <a:pt x="13666" y="409575"/>
                    <a:pt x="3188" y="378143"/>
                  </a:cubicBezTo>
                  <a:cubicBezTo>
                    <a:pt x="-7289" y="346710"/>
                    <a:pt x="8903" y="313372"/>
                    <a:pt x="39383" y="302895"/>
                  </a:cubicBezTo>
                  <a:cubicBezTo>
                    <a:pt x="67006" y="293370"/>
                    <a:pt x="97486" y="305753"/>
                    <a:pt x="110821" y="331470"/>
                  </a:cubicBezTo>
                  <a:cubicBezTo>
                    <a:pt x="197498" y="271463"/>
                    <a:pt x="478486" y="128588"/>
                    <a:pt x="656603" y="66675"/>
                  </a:cubicBezTo>
                  <a:close/>
                  <a:moveTo>
                    <a:pt x="47956" y="326708"/>
                  </a:moveTo>
                  <a:cubicBezTo>
                    <a:pt x="30811" y="332422"/>
                    <a:pt x="21286" y="351472"/>
                    <a:pt x="27001" y="369570"/>
                  </a:cubicBezTo>
                  <a:cubicBezTo>
                    <a:pt x="32716" y="386715"/>
                    <a:pt x="51766" y="396240"/>
                    <a:pt x="69863" y="390525"/>
                  </a:cubicBezTo>
                  <a:cubicBezTo>
                    <a:pt x="87008" y="384810"/>
                    <a:pt x="96533" y="365760"/>
                    <a:pt x="90818" y="347662"/>
                  </a:cubicBezTo>
                  <a:cubicBezTo>
                    <a:pt x="78436" y="327660"/>
                    <a:pt x="62243" y="321945"/>
                    <a:pt x="47956" y="326708"/>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61" name="Freeform: Shape 44"/>
            <p:cNvSpPr/>
            <p:nvPr/>
          </p:nvSpPr>
          <p:spPr>
            <a:xfrm rot="20452800">
              <a:off x="5935320" y="2438640"/>
              <a:ext cx="308160" cy="310680"/>
            </a:xfrm>
            <a:custGeom>
              <a:avLst/>
              <a:gdLst/>
              <a:ahLst/>
              <a:rect l="l" t="t" r="r" b="b"/>
              <a:pathLst>
                <a:path w="217180" h="219085">
                  <a:moveTo>
                    <a:pt x="217180" y="109543"/>
                  </a:moveTo>
                  <a:cubicBezTo>
                    <a:pt x="217180" y="170041"/>
                    <a:pt x="168563" y="219085"/>
                    <a:pt x="108590" y="219085"/>
                  </a:cubicBezTo>
                  <a:cubicBezTo>
                    <a:pt x="48617" y="219085"/>
                    <a:pt x="0" y="170041"/>
                    <a:pt x="0" y="109543"/>
                  </a:cubicBezTo>
                  <a:cubicBezTo>
                    <a:pt x="0" y="49044"/>
                    <a:pt x="48618" y="0"/>
                    <a:pt x="108590" y="0"/>
                  </a:cubicBezTo>
                  <a:cubicBezTo>
                    <a:pt x="168563" y="0"/>
                    <a:pt x="217180" y="49044"/>
                    <a:pt x="217180" y="10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62" name="Freeform: Shape 45"/>
            <p:cNvSpPr/>
            <p:nvPr/>
          </p:nvSpPr>
          <p:spPr>
            <a:xfrm rot="20452800">
              <a:off x="6003000" y="2505600"/>
              <a:ext cx="172800" cy="175680"/>
            </a:xfrm>
            <a:custGeom>
              <a:avLst/>
              <a:gdLst/>
              <a:ahLst/>
              <a:rect l="l" t="t" r="r" b="b"/>
              <a:pathLst>
                <a:path w="121925" h="123830">
                  <a:moveTo>
                    <a:pt x="121926" y="61915"/>
                  </a:moveTo>
                  <a:cubicBezTo>
                    <a:pt x="121926" y="96110"/>
                    <a:pt x="94632" y="123831"/>
                    <a:pt x="60963" y="123831"/>
                  </a:cubicBezTo>
                  <a:cubicBezTo>
                    <a:pt x="27294" y="123831"/>
                    <a:pt x="0" y="96110"/>
                    <a:pt x="0" y="61915"/>
                  </a:cubicBezTo>
                  <a:cubicBezTo>
                    <a:pt x="0" y="27720"/>
                    <a:pt x="27294" y="0"/>
                    <a:pt x="60963" y="0"/>
                  </a:cubicBezTo>
                  <a:cubicBezTo>
                    <a:pt x="94632" y="0"/>
                    <a:pt x="121926" y="27720"/>
                    <a:pt x="121926" y="61915"/>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63" name="Freeform: Shape 46"/>
            <p:cNvSpPr/>
            <p:nvPr/>
          </p:nvSpPr>
          <p:spPr>
            <a:xfrm rot="20452800">
              <a:off x="6044760" y="2549160"/>
              <a:ext cx="88920" cy="88920"/>
            </a:xfrm>
            <a:custGeom>
              <a:avLst/>
              <a:gdLst/>
              <a:ahLst/>
              <a:rect l="l" t="t" r="r" b="b"/>
              <a:pathLst>
                <a:path w="62861" h="62861">
                  <a:moveTo>
                    <a:pt x="-2674" y="31431"/>
                  </a:moveTo>
                  <a:cubicBezTo>
                    <a:pt x="-2674" y="-16746"/>
                    <a:pt x="-16746" y="-2674"/>
                    <a:pt x="31431" y="-2674"/>
                  </a:cubicBezTo>
                  <a:cubicBezTo>
                    <a:pt x="14072" y="-2674"/>
                    <a:pt x="0" y="-16746"/>
                    <a:pt x="0" y="31431"/>
                  </a:cubicBezTo>
                  <a:cubicBezTo>
                    <a:pt x="0" y="14072"/>
                    <a:pt x="14072" y="0"/>
                    <a:pt x="31431" y="0"/>
                  </a:cubicBezTo>
                  <a:cubicBezTo>
                    <a:pt x="-16746" y="0"/>
                    <a:pt x="-2674" y="14072"/>
                    <a:pt x="-2674" y="31431"/>
                  </a:cubicBezTo>
                  <a:close/>
                </a:path>
              </a:pathLst>
            </a:custGeom>
            <a:solidFill>
              <a:srgbClr val="262813"/>
            </a:solidFill>
            <a:ln w="0">
              <a:noFill/>
            </a:ln>
          </p:spPr>
          <p:style>
            <a:lnRef idx="0"/>
            <a:fillRef idx="0"/>
            <a:effectRef idx="0"/>
            <a:fontRef idx="minor"/>
          </p:style>
          <p:txBody>
            <a:bodyPr lIns="90000" rIns="90000" tIns="42120" bIns="42120" anchor="ctr">
              <a:noAutofit/>
            </a:bodyPr>
            <a:p>
              <a:endParaRPr b="0" lang="en-US" sz="1800" spc="-1" strike="noStrike">
                <a:solidFill>
                  <a:srgbClr val="313c3f"/>
                </a:solidFill>
                <a:latin typeface="Source Sans Pro"/>
              </a:endParaRPr>
            </a:p>
          </p:txBody>
        </p:sp>
        <p:pic>
          <p:nvPicPr>
            <p:cNvPr id="1464" name="Graphic 7" descr=""/>
            <p:cNvPicPr/>
            <p:nvPr/>
          </p:nvPicPr>
          <p:blipFill>
            <a:blip r:embed="rId1"/>
            <a:stretch/>
          </p:blipFill>
          <p:spPr>
            <a:xfrm>
              <a:off x="5272920" y="2224800"/>
              <a:ext cx="1737360" cy="731520"/>
            </a:xfrm>
            <a:prstGeom prst="rect">
              <a:avLst/>
            </a:prstGeom>
            <a:ln w="0">
              <a:noFill/>
            </a:ln>
          </p:spPr>
        </p:pic>
        <p:sp>
          <p:nvSpPr>
            <p:cNvPr id="1465" name="Freeform: Shape 48"/>
            <p:cNvSpPr/>
            <p:nvPr/>
          </p:nvSpPr>
          <p:spPr>
            <a:xfrm>
              <a:off x="7342920" y="2133000"/>
              <a:ext cx="722520" cy="1758960"/>
            </a:xfrm>
            <a:custGeom>
              <a:avLst/>
              <a:gdLst/>
              <a:ahLst/>
              <a:rect l="l" t="t" r="r" b="b"/>
              <a:pathLst>
                <a:path w="508961" h="1239256">
                  <a:moveTo>
                    <a:pt x="25958" y="14292"/>
                  </a:moveTo>
                  <a:lnTo>
                    <a:pt x="506019" y="1211584"/>
                  </a:lnTo>
                  <a:cubicBezTo>
                    <a:pt x="517448" y="1243017"/>
                    <a:pt x="492684" y="1249684"/>
                    <a:pt x="481254" y="1221109"/>
                  </a:cubicBezTo>
                  <a:lnTo>
                    <a:pt x="466013" y="1179199"/>
                  </a:lnTo>
                  <a:lnTo>
                    <a:pt x="2146" y="24769"/>
                  </a:lnTo>
                  <a:cubicBezTo>
                    <a:pt x="-7379" y="-1901"/>
                    <a:pt x="17386" y="-9521"/>
                    <a:pt x="25958"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66" name="Freeform: Shape 49"/>
            <p:cNvSpPr/>
            <p:nvPr/>
          </p:nvSpPr>
          <p:spPr>
            <a:xfrm>
              <a:off x="4126320" y="3007800"/>
              <a:ext cx="722520" cy="1758960"/>
            </a:xfrm>
            <a:custGeom>
              <a:avLst/>
              <a:gdLst/>
              <a:ahLst/>
              <a:rect l="l" t="t" r="r" b="b"/>
              <a:pathLst>
                <a:path w="508961" h="1239256">
                  <a:moveTo>
                    <a:pt x="483003" y="14292"/>
                  </a:moveTo>
                  <a:lnTo>
                    <a:pt x="2943" y="1211584"/>
                  </a:lnTo>
                  <a:cubicBezTo>
                    <a:pt x="-8487" y="1243017"/>
                    <a:pt x="16278" y="1249684"/>
                    <a:pt x="27708" y="1221109"/>
                  </a:cubicBezTo>
                  <a:lnTo>
                    <a:pt x="42948" y="1179199"/>
                  </a:lnTo>
                  <a:lnTo>
                    <a:pt x="506815" y="24769"/>
                  </a:lnTo>
                  <a:cubicBezTo>
                    <a:pt x="516340" y="-1901"/>
                    <a:pt x="491575" y="-9521"/>
                    <a:pt x="48300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467" name="Graphic 7"/>
          <p:cNvGrpSpPr/>
          <p:nvPr/>
        </p:nvGrpSpPr>
        <p:grpSpPr>
          <a:xfrm>
            <a:off x="7035840" y="3386160"/>
            <a:ext cx="774720" cy="649440"/>
            <a:chOff x="7035840" y="3386160"/>
            <a:chExt cx="774720" cy="649440"/>
          </a:xfrm>
        </p:grpSpPr>
        <p:sp>
          <p:nvSpPr>
            <p:cNvPr id="1468" name="Freeform: Shape 57"/>
            <p:cNvSpPr/>
            <p:nvPr/>
          </p:nvSpPr>
          <p:spPr>
            <a:xfrm>
              <a:off x="7035840" y="3386160"/>
              <a:ext cx="774720" cy="649440"/>
            </a:xfrm>
            <a:custGeom>
              <a:avLst/>
              <a:gdLst/>
              <a:ahLst/>
              <a:rect l="l" t="t" r="r" b="b"/>
              <a:pathLst>
                <a:path w="545782" h="457200">
                  <a:moveTo>
                    <a:pt x="273367" y="0"/>
                  </a:moveTo>
                  <a:cubicBezTo>
                    <a:pt x="423863" y="0"/>
                    <a:pt x="545782" y="121920"/>
                    <a:pt x="545782" y="272415"/>
                  </a:cubicBezTo>
                  <a:cubicBezTo>
                    <a:pt x="545782" y="334327"/>
                    <a:pt x="524828" y="391477"/>
                    <a:pt x="489585" y="438150"/>
                  </a:cubicBezTo>
                  <a:cubicBezTo>
                    <a:pt x="427672" y="450533"/>
                    <a:pt x="353377" y="457200"/>
                    <a:pt x="273367" y="457200"/>
                  </a:cubicBezTo>
                  <a:cubicBezTo>
                    <a:pt x="192405" y="457200"/>
                    <a:pt x="118110" y="449580"/>
                    <a:pt x="55245" y="438150"/>
                  </a:cubicBezTo>
                  <a:cubicBezTo>
                    <a:pt x="20002" y="392430"/>
                    <a:pt x="0" y="335280"/>
                    <a:pt x="0" y="273367"/>
                  </a:cubicBezTo>
                  <a:cubicBezTo>
                    <a:pt x="952" y="121920"/>
                    <a:pt x="122872" y="0"/>
                    <a:pt x="273367"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69" name="Freeform: Shape 58"/>
            <p:cNvSpPr/>
            <p:nvPr/>
          </p:nvSpPr>
          <p:spPr>
            <a:xfrm>
              <a:off x="7124760" y="3474000"/>
              <a:ext cx="597600" cy="561600"/>
            </a:xfrm>
            <a:custGeom>
              <a:avLst/>
              <a:gdLst/>
              <a:ahLst/>
              <a:rect l="l" t="t" r="r" b="b"/>
              <a:pathLst>
                <a:path w="421004" h="395287">
                  <a:moveTo>
                    <a:pt x="210503" y="0"/>
                  </a:moveTo>
                  <a:cubicBezTo>
                    <a:pt x="326708" y="0"/>
                    <a:pt x="421005" y="94297"/>
                    <a:pt x="421005" y="210502"/>
                  </a:cubicBezTo>
                  <a:cubicBezTo>
                    <a:pt x="421005" y="286702"/>
                    <a:pt x="380048" y="353377"/>
                    <a:pt x="320040" y="390525"/>
                  </a:cubicBezTo>
                  <a:cubicBezTo>
                    <a:pt x="285750" y="393383"/>
                    <a:pt x="249555" y="395288"/>
                    <a:pt x="211455" y="395288"/>
                  </a:cubicBezTo>
                  <a:cubicBezTo>
                    <a:pt x="173355" y="395288"/>
                    <a:pt x="136208" y="393383"/>
                    <a:pt x="100965" y="390525"/>
                  </a:cubicBezTo>
                  <a:cubicBezTo>
                    <a:pt x="40005" y="353377"/>
                    <a:pt x="0" y="28670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0" name="Freeform: Shape 59"/>
            <p:cNvSpPr/>
            <p:nvPr/>
          </p:nvSpPr>
          <p:spPr>
            <a:xfrm>
              <a:off x="7225200" y="3880080"/>
              <a:ext cx="397440" cy="118800"/>
            </a:xfrm>
            <a:custGeom>
              <a:avLst/>
              <a:gdLst/>
              <a:ahLst/>
              <a:rect l="l" t="t" r="r" b="b"/>
              <a:pathLst>
                <a:path w="280034" h="83820">
                  <a:moveTo>
                    <a:pt x="280035" y="0"/>
                  </a:moveTo>
                  <a:cubicBezTo>
                    <a:pt x="253365" y="46672"/>
                    <a:pt x="200025" y="79058"/>
                    <a:pt x="140017" y="79058"/>
                  </a:cubicBezTo>
                  <a:cubicBezTo>
                    <a:pt x="79057" y="79058"/>
                    <a:pt x="26670" y="46672"/>
                    <a:pt x="0" y="0"/>
                  </a:cubicBezTo>
                  <a:cubicBezTo>
                    <a:pt x="26670" y="49530"/>
                    <a:pt x="80010" y="83820"/>
                    <a:pt x="140017" y="83820"/>
                  </a:cubicBezTo>
                  <a:cubicBezTo>
                    <a:pt x="200977" y="83820"/>
                    <a:pt x="253365" y="50483"/>
                    <a:pt x="28003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1" name="Freeform: Shape 60"/>
            <p:cNvSpPr/>
            <p:nvPr/>
          </p:nvSpPr>
          <p:spPr>
            <a:xfrm>
              <a:off x="7197840" y="3547080"/>
              <a:ext cx="451440" cy="228600"/>
            </a:xfrm>
            <a:custGeom>
              <a:avLst/>
              <a:gdLst/>
              <a:ahLst/>
              <a:rect l="l" t="t" r="r" b="b"/>
              <a:pathLst>
                <a:path w="318134" h="160972">
                  <a:moveTo>
                    <a:pt x="159067" y="13335"/>
                  </a:moveTo>
                  <a:cubicBezTo>
                    <a:pt x="246697" y="13335"/>
                    <a:pt x="317182" y="79058"/>
                    <a:pt x="318135" y="160973"/>
                  </a:cubicBezTo>
                  <a:lnTo>
                    <a:pt x="318135" y="159068"/>
                  </a:lnTo>
                  <a:cubicBezTo>
                    <a:pt x="318135" y="71438"/>
                    <a:pt x="246697" y="0"/>
                    <a:pt x="159067" y="0"/>
                  </a:cubicBezTo>
                  <a:cubicBezTo>
                    <a:pt x="71438" y="0"/>
                    <a:pt x="0" y="71438"/>
                    <a:pt x="0" y="159068"/>
                  </a:cubicBezTo>
                  <a:lnTo>
                    <a:pt x="0" y="160973"/>
                  </a:lnTo>
                  <a:cubicBezTo>
                    <a:pt x="952" y="79058"/>
                    <a:pt x="71438" y="13335"/>
                    <a:pt x="159067" y="13335"/>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2" name="Freeform: Shape 61"/>
            <p:cNvSpPr/>
            <p:nvPr/>
          </p:nvSpPr>
          <p:spPr>
            <a:xfrm>
              <a:off x="7165440" y="3777120"/>
              <a:ext cx="22680" cy="102600"/>
            </a:xfrm>
            <a:custGeom>
              <a:avLst/>
              <a:gdLst/>
              <a:ahLst/>
              <a:rect l="l" t="t" r="r" b="b"/>
              <a:pathLst>
                <a:path w="16192" h="72390">
                  <a:moveTo>
                    <a:pt x="16192" y="72390"/>
                  </a:moveTo>
                  <a:cubicBezTo>
                    <a:pt x="5715" y="50483"/>
                    <a:pt x="0" y="26670"/>
                    <a:pt x="0" y="1905"/>
                  </a:cubicBezTo>
                  <a:lnTo>
                    <a:pt x="0" y="0"/>
                  </a:lnTo>
                  <a:cubicBezTo>
                    <a:pt x="0" y="25717"/>
                    <a:pt x="5715" y="50483"/>
                    <a:pt x="16192" y="7239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3" name="Freeform: Shape 62"/>
            <p:cNvSpPr/>
            <p:nvPr/>
          </p:nvSpPr>
          <p:spPr>
            <a:xfrm>
              <a:off x="7659360" y="3775680"/>
              <a:ext cx="22680" cy="102600"/>
            </a:xfrm>
            <a:custGeom>
              <a:avLst/>
              <a:gdLst/>
              <a:ahLst/>
              <a:rect l="l" t="t" r="r" b="b"/>
              <a:pathLst>
                <a:path w="16192" h="72389">
                  <a:moveTo>
                    <a:pt x="16192" y="0"/>
                  </a:moveTo>
                  <a:lnTo>
                    <a:pt x="16192" y="1905"/>
                  </a:lnTo>
                  <a:cubicBezTo>
                    <a:pt x="16192" y="27623"/>
                    <a:pt x="10477" y="51435"/>
                    <a:pt x="0" y="72390"/>
                  </a:cubicBezTo>
                  <a:cubicBezTo>
                    <a:pt x="10477" y="51435"/>
                    <a:pt x="16192" y="26670"/>
                    <a:pt x="16192"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4" name="Freeform: Shape 63"/>
            <p:cNvSpPr/>
            <p:nvPr/>
          </p:nvSpPr>
          <p:spPr>
            <a:xfrm>
              <a:off x="7165440" y="3514680"/>
              <a:ext cx="516600" cy="516960"/>
            </a:xfrm>
            <a:custGeom>
              <a:avLst/>
              <a:gdLst/>
              <a:ahLst/>
              <a:rect l="l" t="t" r="r" b="b"/>
              <a:pathLst>
                <a:path w="363854" h="363854">
                  <a:moveTo>
                    <a:pt x="181928" y="0"/>
                  </a:moveTo>
                  <a:cubicBezTo>
                    <a:pt x="282892" y="0"/>
                    <a:pt x="363855" y="81915"/>
                    <a:pt x="363855" y="181927"/>
                  </a:cubicBezTo>
                  <a:cubicBezTo>
                    <a:pt x="363855" y="282892"/>
                    <a:pt x="281940" y="363855"/>
                    <a:pt x="181928" y="363855"/>
                  </a:cubicBezTo>
                  <a:cubicBezTo>
                    <a:pt x="80963" y="363855"/>
                    <a:pt x="0" y="281940"/>
                    <a:pt x="0" y="181927"/>
                  </a:cubicBezTo>
                  <a:cubicBezTo>
                    <a:pt x="0" y="81915"/>
                    <a:pt x="80963" y="0"/>
                    <a:pt x="181928" y="0"/>
                  </a:cubicBezTo>
                  <a:close/>
                  <a:moveTo>
                    <a:pt x="181928" y="22860"/>
                  </a:moveTo>
                  <a:cubicBezTo>
                    <a:pt x="94298" y="22860"/>
                    <a:pt x="22860" y="94297"/>
                    <a:pt x="22860" y="181927"/>
                  </a:cubicBezTo>
                  <a:cubicBezTo>
                    <a:pt x="22860" y="269558"/>
                    <a:pt x="94298" y="340995"/>
                    <a:pt x="181928" y="340995"/>
                  </a:cubicBezTo>
                  <a:cubicBezTo>
                    <a:pt x="269558" y="340995"/>
                    <a:pt x="340995" y="269558"/>
                    <a:pt x="340995" y="181927"/>
                  </a:cubicBezTo>
                  <a:cubicBezTo>
                    <a:pt x="340995" y="94297"/>
                    <a:pt x="269558" y="22860"/>
                    <a:pt x="181928" y="2286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5" name="Freeform: Shape 64"/>
            <p:cNvSpPr/>
            <p:nvPr/>
          </p:nvSpPr>
          <p:spPr>
            <a:xfrm>
              <a:off x="7143840" y="3474000"/>
              <a:ext cx="552960" cy="196200"/>
            </a:xfrm>
            <a:custGeom>
              <a:avLst/>
              <a:gdLst/>
              <a:ahLst/>
              <a:rect l="l" t="t" r="r" b="b"/>
              <a:pathLst>
                <a:path w="389572" h="138112">
                  <a:moveTo>
                    <a:pt x="197167" y="0"/>
                  </a:moveTo>
                  <a:cubicBezTo>
                    <a:pt x="282892" y="0"/>
                    <a:pt x="356235" y="50482"/>
                    <a:pt x="389572" y="123825"/>
                  </a:cubicBezTo>
                  <a:cubicBezTo>
                    <a:pt x="352425" y="59055"/>
                    <a:pt x="280988" y="15240"/>
                    <a:pt x="198120" y="15240"/>
                  </a:cubicBezTo>
                  <a:cubicBezTo>
                    <a:pt x="109538" y="15240"/>
                    <a:pt x="34290" y="65722"/>
                    <a:pt x="0" y="138113"/>
                  </a:cubicBezTo>
                  <a:cubicBezTo>
                    <a:pt x="28575" y="57150"/>
                    <a:pt x="106680" y="0"/>
                    <a:pt x="197167"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6" name="Freeform: Shape 65"/>
            <p:cNvSpPr/>
            <p:nvPr/>
          </p:nvSpPr>
          <p:spPr>
            <a:xfrm>
              <a:off x="7241400" y="3655440"/>
              <a:ext cx="278640" cy="266400"/>
            </a:xfrm>
            <a:custGeom>
              <a:avLst/>
              <a:gdLst/>
              <a:ahLst/>
              <a:rect l="l" t="t" r="r" b="b"/>
              <a:pathLst>
                <a:path w="196214" h="187642">
                  <a:moveTo>
                    <a:pt x="196215" y="176213"/>
                  </a:moveTo>
                  <a:cubicBezTo>
                    <a:pt x="182880" y="183833"/>
                    <a:pt x="166688" y="187642"/>
                    <a:pt x="145733" y="187642"/>
                  </a:cubicBezTo>
                  <a:cubicBezTo>
                    <a:pt x="120015" y="187642"/>
                    <a:pt x="99060" y="179070"/>
                    <a:pt x="82867" y="162878"/>
                  </a:cubicBezTo>
                  <a:cubicBezTo>
                    <a:pt x="74295" y="154305"/>
                    <a:pt x="68580" y="144780"/>
                    <a:pt x="64770" y="133350"/>
                  </a:cubicBezTo>
                  <a:lnTo>
                    <a:pt x="0" y="133350"/>
                  </a:lnTo>
                  <a:lnTo>
                    <a:pt x="17145" y="102870"/>
                  </a:lnTo>
                  <a:lnTo>
                    <a:pt x="58102" y="102870"/>
                  </a:lnTo>
                  <a:cubicBezTo>
                    <a:pt x="58102" y="100965"/>
                    <a:pt x="58102" y="100013"/>
                    <a:pt x="58102" y="98108"/>
                  </a:cubicBezTo>
                  <a:cubicBezTo>
                    <a:pt x="58102" y="96203"/>
                    <a:pt x="58102" y="95250"/>
                    <a:pt x="58102" y="93345"/>
                  </a:cubicBezTo>
                  <a:lnTo>
                    <a:pt x="19050" y="93345"/>
                  </a:lnTo>
                  <a:lnTo>
                    <a:pt x="36195" y="62865"/>
                  </a:lnTo>
                  <a:lnTo>
                    <a:pt x="62865" y="62865"/>
                  </a:lnTo>
                  <a:cubicBezTo>
                    <a:pt x="66675" y="48578"/>
                    <a:pt x="74295" y="37148"/>
                    <a:pt x="83820" y="26670"/>
                  </a:cubicBezTo>
                  <a:cubicBezTo>
                    <a:pt x="100965" y="9525"/>
                    <a:pt x="123825" y="0"/>
                    <a:pt x="153352" y="0"/>
                  </a:cubicBezTo>
                  <a:cubicBezTo>
                    <a:pt x="171450" y="0"/>
                    <a:pt x="185738" y="2858"/>
                    <a:pt x="196215" y="8573"/>
                  </a:cubicBezTo>
                  <a:lnTo>
                    <a:pt x="196215" y="43815"/>
                  </a:lnTo>
                  <a:cubicBezTo>
                    <a:pt x="183833" y="34290"/>
                    <a:pt x="169545" y="30480"/>
                    <a:pt x="155258" y="30480"/>
                  </a:cubicBezTo>
                  <a:cubicBezTo>
                    <a:pt x="138113" y="30480"/>
                    <a:pt x="123825" y="36195"/>
                    <a:pt x="113347" y="47625"/>
                  </a:cubicBezTo>
                  <a:cubicBezTo>
                    <a:pt x="109538" y="51435"/>
                    <a:pt x="105727" y="57150"/>
                    <a:pt x="103822" y="61913"/>
                  </a:cubicBezTo>
                  <a:lnTo>
                    <a:pt x="181927" y="61913"/>
                  </a:lnTo>
                  <a:lnTo>
                    <a:pt x="164783" y="92393"/>
                  </a:lnTo>
                  <a:lnTo>
                    <a:pt x="150495" y="92393"/>
                  </a:lnTo>
                  <a:lnTo>
                    <a:pt x="97155" y="92393"/>
                  </a:lnTo>
                  <a:lnTo>
                    <a:pt x="97155" y="94298"/>
                  </a:lnTo>
                  <a:cubicBezTo>
                    <a:pt x="97155" y="97155"/>
                    <a:pt x="97155" y="99060"/>
                    <a:pt x="97155" y="100965"/>
                  </a:cubicBezTo>
                  <a:lnTo>
                    <a:pt x="160972" y="100965"/>
                  </a:lnTo>
                  <a:lnTo>
                    <a:pt x="143827" y="131445"/>
                  </a:lnTo>
                  <a:lnTo>
                    <a:pt x="106680" y="131445"/>
                  </a:lnTo>
                  <a:cubicBezTo>
                    <a:pt x="108585" y="134303"/>
                    <a:pt x="110490" y="136208"/>
                    <a:pt x="112395" y="139065"/>
                  </a:cubicBezTo>
                  <a:cubicBezTo>
                    <a:pt x="122872" y="149542"/>
                    <a:pt x="136208" y="155258"/>
                    <a:pt x="153352" y="155258"/>
                  </a:cubicBezTo>
                  <a:cubicBezTo>
                    <a:pt x="168592" y="155258"/>
                    <a:pt x="182880" y="150495"/>
                    <a:pt x="196215" y="140970"/>
                  </a:cubicBezTo>
                  <a:lnTo>
                    <a:pt x="196215" y="176213"/>
                  </a:ln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77" name="Freeform: Shape 66"/>
            <p:cNvSpPr/>
            <p:nvPr/>
          </p:nvSpPr>
          <p:spPr>
            <a:xfrm>
              <a:off x="7250760" y="3639240"/>
              <a:ext cx="270360" cy="266400"/>
            </a:xfrm>
            <a:custGeom>
              <a:avLst/>
              <a:gdLst/>
              <a:ahLst/>
              <a:rect l="l" t="t" r="r" b="b"/>
              <a:pathLst>
                <a:path w="190500" h="187642">
                  <a:moveTo>
                    <a:pt x="189547" y="176213"/>
                  </a:moveTo>
                  <a:cubicBezTo>
                    <a:pt x="176213" y="183833"/>
                    <a:pt x="160020" y="187642"/>
                    <a:pt x="139065" y="187642"/>
                  </a:cubicBezTo>
                  <a:cubicBezTo>
                    <a:pt x="113347" y="187642"/>
                    <a:pt x="92392" y="179070"/>
                    <a:pt x="76200" y="162878"/>
                  </a:cubicBezTo>
                  <a:cubicBezTo>
                    <a:pt x="67628" y="154305"/>
                    <a:pt x="61913" y="144780"/>
                    <a:pt x="58103" y="133350"/>
                  </a:cubicBezTo>
                  <a:lnTo>
                    <a:pt x="0" y="133350"/>
                  </a:lnTo>
                  <a:lnTo>
                    <a:pt x="17145" y="102870"/>
                  </a:lnTo>
                  <a:lnTo>
                    <a:pt x="52388" y="102870"/>
                  </a:lnTo>
                  <a:cubicBezTo>
                    <a:pt x="52388" y="100965"/>
                    <a:pt x="52388" y="100013"/>
                    <a:pt x="52388" y="98108"/>
                  </a:cubicBezTo>
                  <a:cubicBezTo>
                    <a:pt x="52388" y="96202"/>
                    <a:pt x="52388" y="95250"/>
                    <a:pt x="52388" y="93345"/>
                  </a:cubicBezTo>
                  <a:lnTo>
                    <a:pt x="20003" y="93345"/>
                  </a:lnTo>
                  <a:lnTo>
                    <a:pt x="37147" y="62865"/>
                  </a:lnTo>
                  <a:lnTo>
                    <a:pt x="57150" y="62865"/>
                  </a:lnTo>
                  <a:cubicBezTo>
                    <a:pt x="60960" y="48577"/>
                    <a:pt x="68580" y="37148"/>
                    <a:pt x="78105" y="26670"/>
                  </a:cubicBezTo>
                  <a:cubicBezTo>
                    <a:pt x="95250" y="9525"/>
                    <a:pt x="118110" y="0"/>
                    <a:pt x="147638" y="0"/>
                  </a:cubicBezTo>
                  <a:cubicBezTo>
                    <a:pt x="165735" y="0"/>
                    <a:pt x="180022" y="2858"/>
                    <a:pt x="190500" y="8573"/>
                  </a:cubicBezTo>
                  <a:lnTo>
                    <a:pt x="190500" y="43815"/>
                  </a:lnTo>
                  <a:cubicBezTo>
                    <a:pt x="178117" y="34290"/>
                    <a:pt x="163830" y="30480"/>
                    <a:pt x="149542" y="30480"/>
                  </a:cubicBezTo>
                  <a:cubicBezTo>
                    <a:pt x="132397" y="30480"/>
                    <a:pt x="118110" y="36195"/>
                    <a:pt x="107633" y="47625"/>
                  </a:cubicBezTo>
                  <a:cubicBezTo>
                    <a:pt x="103822" y="51435"/>
                    <a:pt x="100013" y="57150"/>
                    <a:pt x="98108" y="61913"/>
                  </a:cubicBezTo>
                  <a:lnTo>
                    <a:pt x="182880" y="61913"/>
                  </a:lnTo>
                  <a:lnTo>
                    <a:pt x="165735" y="92392"/>
                  </a:lnTo>
                  <a:lnTo>
                    <a:pt x="151447" y="92392"/>
                  </a:lnTo>
                  <a:lnTo>
                    <a:pt x="90488" y="92392"/>
                  </a:lnTo>
                  <a:lnTo>
                    <a:pt x="90488" y="94298"/>
                  </a:lnTo>
                  <a:cubicBezTo>
                    <a:pt x="90488" y="97155"/>
                    <a:pt x="90488" y="99060"/>
                    <a:pt x="90488" y="100965"/>
                  </a:cubicBezTo>
                  <a:lnTo>
                    <a:pt x="160972" y="100965"/>
                  </a:lnTo>
                  <a:lnTo>
                    <a:pt x="143828" y="131445"/>
                  </a:lnTo>
                  <a:lnTo>
                    <a:pt x="100013" y="131445"/>
                  </a:lnTo>
                  <a:cubicBezTo>
                    <a:pt x="101917" y="134303"/>
                    <a:pt x="103822" y="136208"/>
                    <a:pt x="105728" y="139065"/>
                  </a:cubicBezTo>
                  <a:cubicBezTo>
                    <a:pt x="116205" y="149542"/>
                    <a:pt x="129540" y="155258"/>
                    <a:pt x="146685" y="155258"/>
                  </a:cubicBezTo>
                  <a:cubicBezTo>
                    <a:pt x="161925" y="155258"/>
                    <a:pt x="176213" y="150495"/>
                    <a:pt x="189547" y="140970"/>
                  </a:cubicBezTo>
                  <a:lnTo>
                    <a:pt x="189547" y="176213"/>
                  </a:ln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478" name="Graphic 7"/>
          <p:cNvGrpSpPr/>
          <p:nvPr/>
        </p:nvGrpSpPr>
        <p:grpSpPr>
          <a:xfrm>
            <a:off x="4505400" y="4227480"/>
            <a:ext cx="774720" cy="682560"/>
            <a:chOff x="4505400" y="4227480"/>
            <a:chExt cx="774720" cy="682560"/>
          </a:xfrm>
        </p:grpSpPr>
        <p:sp>
          <p:nvSpPr>
            <p:cNvPr id="1479" name="Freeform: Shape 52"/>
            <p:cNvSpPr/>
            <p:nvPr/>
          </p:nvSpPr>
          <p:spPr>
            <a:xfrm>
              <a:off x="4505400" y="4227480"/>
              <a:ext cx="774720" cy="681480"/>
            </a:xfrm>
            <a:custGeom>
              <a:avLst/>
              <a:gdLst/>
              <a:ahLst/>
              <a:rect l="l" t="t" r="r" b="b"/>
              <a:pathLst>
                <a:path w="545782" h="480059">
                  <a:moveTo>
                    <a:pt x="273368" y="0"/>
                  </a:moveTo>
                  <a:cubicBezTo>
                    <a:pt x="423863" y="0"/>
                    <a:pt x="545783" y="121920"/>
                    <a:pt x="545783" y="272415"/>
                  </a:cubicBezTo>
                  <a:cubicBezTo>
                    <a:pt x="545783" y="347663"/>
                    <a:pt x="515303" y="415290"/>
                    <a:pt x="466725" y="464820"/>
                  </a:cubicBezTo>
                  <a:cubicBezTo>
                    <a:pt x="409575" y="474345"/>
                    <a:pt x="342900" y="480060"/>
                    <a:pt x="272415" y="480060"/>
                  </a:cubicBezTo>
                  <a:cubicBezTo>
                    <a:pt x="202883" y="480060"/>
                    <a:pt x="137160" y="474345"/>
                    <a:pt x="80010" y="464820"/>
                  </a:cubicBezTo>
                  <a:cubicBezTo>
                    <a:pt x="30480" y="415290"/>
                    <a:pt x="0" y="347663"/>
                    <a:pt x="0" y="272415"/>
                  </a:cubicBezTo>
                  <a:cubicBezTo>
                    <a:pt x="953" y="122872"/>
                    <a:pt x="122873" y="0"/>
                    <a:pt x="273368"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80" name="Freeform: Shape 53"/>
            <p:cNvSpPr/>
            <p:nvPr/>
          </p:nvSpPr>
          <p:spPr>
            <a:xfrm>
              <a:off x="4594320" y="4316400"/>
              <a:ext cx="597600" cy="593640"/>
            </a:xfrm>
            <a:custGeom>
              <a:avLst/>
              <a:gdLst/>
              <a:ahLst/>
              <a:rect l="l" t="t" r="r" b="b"/>
              <a:pathLst>
                <a:path w="421005" h="418147">
                  <a:moveTo>
                    <a:pt x="210503" y="0"/>
                  </a:moveTo>
                  <a:cubicBezTo>
                    <a:pt x="326708" y="0"/>
                    <a:pt x="421005" y="94297"/>
                    <a:pt x="421005" y="210502"/>
                  </a:cubicBezTo>
                  <a:cubicBezTo>
                    <a:pt x="421005" y="313372"/>
                    <a:pt x="347663" y="399097"/>
                    <a:pt x="249555" y="417195"/>
                  </a:cubicBezTo>
                  <a:cubicBezTo>
                    <a:pt x="236220" y="417195"/>
                    <a:pt x="222885" y="418147"/>
                    <a:pt x="209550" y="418147"/>
                  </a:cubicBezTo>
                  <a:cubicBezTo>
                    <a:pt x="197168" y="418147"/>
                    <a:pt x="183833" y="418147"/>
                    <a:pt x="171450" y="417195"/>
                  </a:cubicBezTo>
                  <a:cubicBezTo>
                    <a:pt x="73343" y="399097"/>
                    <a:pt x="0" y="31337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81" name="Freeform: Shape 54"/>
            <p:cNvSpPr/>
            <p:nvPr/>
          </p:nvSpPr>
          <p:spPr>
            <a:xfrm>
              <a:off x="4748760" y="4408560"/>
              <a:ext cx="271800" cy="440640"/>
            </a:xfrm>
            <a:custGeom>
              <a:avLst/>
              <a:gdLst/>
              <a:ahLst/>
              <a:rect l="l" t="t" r="r" b="b"/>
              <a:pathLst>
                <a:path w="191452" h="310515">
                  <a:moveTo>
                    <a:pt x="76200" y="309563"/>
                  </a:moveTo>
                  <a:lnTo>
                    <a:pt x="76200" y="273368"/>
                  </a:lnTo>
                  <a:cubicBezTo>
                    <a:pt x="57150" y="270510"/>
                    <a:pt x="41910" y="264795"/>
                    <a:pt x="30480" y="256223"/>
                  </a:cubicBezTo>
                  <a:cubicBezTo>
                    <a:pt x="14288" y="243840"/>
                    <a:pt x="4763" y="225743"/>
                    <a:pt x="0" y="200978"/>
                  </a:cubicBezTo>
                  <a:lnTo>
                    <a:pt x="39052" y="194310"/>
                  </a:lnTo>
                  <a:cubicBezTo>
                    <a:pt x="40957" y="209550"/>
                    <a:pt x="47625" y="221933"/>
                    <a:pt x="57150" y="230505"/>
                  </a:cubicBezTo>
                  <a:cubicBezTo>
                    <a:pt x="61913" y="234315"/>
                    <a:pt x="68580" y="238125"/>
                    <a:pt x="75248" y="240030"/>
                  </a:cubicBezTo>
                  <a:lnTo>
                    <a:pt x="75248" y="165735"/>
                  </a:lnTo>
                  <a:cubicBezTo>
                    <a:pt x="59055" y="160973"/>
                    <a:pt x="47625" y="157163"/>
                    <a:pt x="40005" y="153353"/>
                  </a:cubicBezTo>
                  <a:cubicBezTo>
                    <a:pt x="28575" y="147638"/>
                    <a:pt x="20955" y="140970"/>
                    <a:pt x="15240" y="131445"/>
                  </a:cubicBezTo>
                  <a:cubicBezTo>
                    <a:pt x="9525" y="121920"/>
                    <a:pt x="6668" y="111443"/>
                    <a:pt x="6668" y="100965"/>
                  </a:cubicBezTo>
                  <a:cubicBezTo>
                    <a:pt x="6668" y="90488"/>
                    <a:pt x="8573" y="80963"/>
                    <a:pt x="13335" y="72390"/>
                  </a:cubicBezTo>
                  <a:cubicBezTo>
                    <a:pt x="18098" y="63818"/>
                    <a:pt x="24765" y="56198"/>
                    <a:pt x="32385" y="50483"/>
                  </a:cubicBezTo>
                  <a:cubicBezTo>
                    <a:pt x="38100" y="45720"/>
                    <a:pt x="46673" y="41910"/>
                    <a:pt x="57150" y="39053"/>
                  </a:cubicBezTo>
                  <a:cubicBezTo>
                    <a:pt x="62865" y="37148"/>
                    <a:pt x="68580" y="36195"/>
                    <a:pt x="75248" y="35243"/>
                  </a:cubicBezTo>
                  <a:lnTo>
                    <a:pt x="75248" y="0"/>
                  </a:lnTo>
                  <a:lnTo>
                    <a:pt x="116205" y="0"/>
                  </a:lnTo>
                  <a:lnTo>
                    <a:pt x="116205" y="36195"/>
                  </a:lnTo>
                  <a:cubicBezTo>
                    <a:pt x="124777" y="37148"/>
                    <a:pt x="132398" y="39053"/>
                    <a:pt x="139065" y="41910"/>
                  </a:cubicBezTo>
                  <a:cubicBezTo>
                    <a:pt x="152400" y="46673"/>
                    <a:pt x="162877" y="54293"/>
                    <a:pt x="169545" y="62865"/>
                  </a:cubicBezTo>
                  <a:cubicBezTo>
                    <a:pt x="176213" y="71438"/>
                    <a:pt x="180975" y="83820"/>
                    <a:pt x="182880" y="99060"/>
                  </a:cubicBezTo>
                  <a:lnTo>
                    <a:pt x="144780" y="104775"/>
                  </a:lnTo>
                  <a:cubicBezTo>
                    <a:pt x="142875" y="92393"/>
                    <a:pt x="138113" y="82868"/>
                    <a:pt x="129540" y="76200"/>
                  </a:cubicBezTo>
                  <a:cubicBezTo>
                    <a:pt x="125730" y="73343"/>
                    <a:pt x="120968" y="70485"/>
                    <a:pt x="116205" y="69533"/>
                  </a:cubicBezTo>
                  <a:lnTo>
                    <a:pt x="116205" y="135255"/>
                  </a:lnTo>
                  <a:cubicBezTo>
                    <a:pt x="134302" y="140018"/>
                    <a:pt x="147638" y="144780"/>
                    <a:pt x="156210" y="148590"/>
                  </a:cubicBezTo>
                  <a:cubicBezTo>
                    <a:pt x="167640" y="153353"/>
                    <a:pt x="176213" y="160020"/>
                    <a:pt x="181927" y="169545"/>
                  </a:cubicBezTo>
                  <a:cubicBezTo>
                    <a:pt x="188595" y="178118"/>
                    <a:pt x="191452" y="189548"/>
                    <a:pt x="191452" y="202883"/>
                  </a:cubicBezTo>
                  <a:cubicBezTo>
                    <a:pt x="191452" y="216218"/>
                    <a:pt x="187642" y="228600"/>
                    <a:pt x="180023" y="240030"/>
                  </a:cubicBezTo>
                  <a:cubicBezTo>
                    <a:pt x="172402" y="251460"/>
                    <a:pt x="160973" y="260033"/>
                    <a:pt x="146685" y="266700"/>
                  </a:cubicBezTo>
                  <a:cubicBezTo>
                    <a:pt x="137160" y="270510"/>
                    <a:pt x="126682" y="273368"/>
                    <a:pt x="115252" y="275273"/>
                  </a:cubicBezTo>
                  <a:lnTo>
                    <a:pt x="115252" y="310515"/>
                  </a:lnTo>
                  <a:lnTo>
                    <a:pt x="76200" y="310515"/>
                  </a:lnTo>
                  <a:lnTo>
                    <a:pt x="76200" y="309563"/>
                  </a:lnTo>
                  <a:close/>
                  <a:moveTo>
                    <a:pt x="76200" y="123825"/>
                  </a:moveTo>
                  <a:lnTo>
                    <a:pt x="76200" y="67628"/>
                  </a:lnTo>
                  <a:cubicBezTo>
                    <a:pt x="67627" y="68580"/>
                    <a:pt x="60960" y="71438"/>
                    <a:pt x="57150" y="75248"/>
                  </a:cubicBezTo>
                  <a:cubicBezTo>
                    <a:pt x="49530" y="80963"/>
                    <a:pt x="45720" y="88583"/>
                    <a:pt x="45720" y="96203"/>
                  </a:cubicBezTo>
                  <a:cubicBezTo>
                    <a:pt x="45720" y="100965"/>
                    <a:pt x="47625" y="105728"/>
                    <a:pt x="50482" y="109538"/>
                  </a:cubicBezTo>
                  <a:cubicBezTo>
                    <a:pt x="53340" y="113348"/>
                    <a:pt x="59055" y="117158"/>
                    <a:pt x="65723" y="120015"/>
                  </a:cubicBezTo>
                  <a:cubicBezTo>
                    <a:pt x="66675" y="120968"/>
                    <a:pt x="70485" y="121920"/>
                    <a:pt x="76200" y="123825"/>
                  </a:cubicBezTo>
                  <a:close/>
                  <a:moveTo>
                    <a:pt x="117157" y="176213"/>
                  </a:moveTo>
                  <a:lnTo>
                    <a:pt x="117157" y="240983"/>
                  </a:lnTo>
                  <a:cubicBezTo>
                    <a:pt x="126682" y="239078"/>
                    <a:pt x="134302" y="236220"/>
                    <a:pt x="139065" y="231458"/>
                  </a:cubicBezTo>
                  <a:cubicBezTo>
                    <a:pt x="147638" y="223838"/>
                    <a:pt x="152400" y="215265"/>
                    <a:pt x="152400" y="205740"/>
                  </a:cubicBezTo>
                  <a:cubicBezTo>
                    <a:pt x="152400" y="197168"/>
                    <a:pt x="148590" y="189548"/>
                    <a:pt x="140970" y="184785"/>
                  </a:cubicBezTo>
                  <a:cubicBezTo>
                    <a:pt x="137160" y="182880"/>
                    <a:pt x="129540" y="180023"/>
                    <a:pt x="117157" y="176213"/>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82" name="Freeform: Shape 55"/>
            <p:cNvSpPr/>
            <p:nvPr/>
          </p:nvSpPr>
          <p:spPr>
            <a:xfrm>
              <a:off x="4613400" y="4316400"/>
              <a:ext cx="552960" cy="195840"/>
            </a:xfrm>
            <a:custGeom>
              <a:avLst/>
              <a:gdLst/>
              <a:ahLst/>
              <a:rect l="l" t="t" r="r" b="b"/>
              <a:pathLst>
                <a:path w="389572" h="138112">
                  <a:moveTo>
                    <a:pt x="197168" y="0"/>
                  </a:moveTo>
                  <a:cubicBezTo>
                    <a:pt x="282892" y="0"/>
                    <a:pt x="356235" y="50482"/>
                    <a:pt x="389573" y="123825"/>
                  </a:cubicBezTo>
                  <a:cubicBezTo>
                    <a:pt x="352425" y="59055"/>
                    <a:pt x="280988" y="15240"/>
                    <a:pt x="198120" y="15240"/>
                  </a:cubicBezTo>
                  <a:cubicBezTo>
                    <a:pt x="109538" y="15240"/>
                    <a:pt x="34290" y="65722"/>
                    <a:pt x="0" y="138113"/>
                  </a:cubicBezTo>
                  <a:cubicBezTo>
                    <a:pt x="29527" y="57150"/>
                    <a:pt x="106680" y="0"/>
                    <a:pt x="197168"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483" name="Freeform: Shape 56"/>
            <p:cNvSpPr/>
            <p:nvPr/>
          </p:nvSpPr>
          <p:spPr>
            <a:xfrm>
              <a:off x="4758120" y="4393800"/>
              <a:ext cx="271800" cy="44064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484" name="TextBox 100"/>
          <p:cNvSpPr/>
          <p:nvPr/>
        </p:nvSpPr>
        <p:spPr>
          <a:xfrm>
            <a:off x="414720" y="223668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Dollar Performance</a:t>
            </a:r>
            <a:endParaRPr b="0" lang="en-US" sz="2000" spc="-1" strike="noStrike">
              <a:solidFill>
                <a:srgbClr val="313c3f"/>
              </a:solidFill>
              <a:latin typeface="Source Sans Pro"/>
            </a:endParaRPr>
          </a:p>
        </p:txBody>
      </p:sp>
      <p:sp>
        <p:nvSpPr>
          <p:cNvPr id="1485" name="TextBox 103"/>
          <p:cNvSpPr/>
          <p:nvPr/>
        </p:nvSpPr>
        <p:spPr>
          <a:xfrm>
            <a:off x="539640" y="483552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this mornings</a:t>
            </a:r>
            <a:endParaRPr b="0" lang="en-US" sz="1200" spc="-1" strike="noStrike">
              <a:solidFill>
                <a:srgbClr val="313c3f"/>
              </a:solidFill>
              <a:latin typeface="Source Sans Pro"/>
            </a:endParaRPr>
          </a:p>
        </p:txBody>
      </p:sp>
      <p:sp>
        <p:nvSpPr>
          <p:cNvPr id="1486" name="TextBox 208"/>
          <p:cNvSpPr/>
          <p:nvPr/>
        </p:nvSpPr>
        <p:spPr>
          <a:xfrm>
            <a:off x="556920" y="4041720"/>
            <a:ext cx="2797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157d42"/>
                </a:solidFill>
                <a:latin typeface="Lato"/>
              </a:rPr>
              <a:t>$123,000</a:t>
            </a:r>
            <a:endParaRPr b="0" lang="en-US" sz="4800" spc="-1" strike="noStrike">
              <a:solidFill>
                <a:srgbClr val="313c3f"/>
              </a:solidFill>
              <a:latin typeface="Source Sans Pro"/>
            </a:endParaRPr>
          </a:p>
        </p:txBody>
      </p:sp>
      <p:sp>
        <p:nvSpPr>
          <p:cNvPr id="1487" name="TextBox 127"/>
          <p:cNvSpPr/>
          <p:nvPr/>
        </p:nvSpPr>
        <p:spPr>
          <a:xfrm>
            <a:off x="8327160" y="2236680"/>
            <a:ext cx="24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Euro Performance</a:t>
            </a:r>
            <a:endParaRPr b="0" lang="en-US" sz="2000" spc="-1" strike="noStrike">
              <a:solidFill>
                <a:srgbClr val="313c3f"/>
              </a:solidFill>
              <a:latin typeface="Source Sans Pro"/>
            </a:endParaRPr>
          </a:p>
        </p:txBody>
      </p:sp>
      <p:sp>
        <p:nvSpPr>
          <p:cNvPr id="1488" name="TextBox 128"/>
          <p:cNvSpPr/>
          <p:nvPr/>
        </p:nvSpPr>
        <p:spPr>
          <a:xfrm>
            <a:off x="8439120" y="4835520"/>
            <a:ext cx="31622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this mornings</a:t>
            </a:r>
            <a:endParaRPr b="0" lang="en-US" sz="1200" spc="-1" strike="noStrike">
              <a:solidFill>
                <a:srgbClr val="313c3f"/>
              </a:solidFill>
              <a:latin typeface="Source Sans Pro"/>
            </a:endParaRPr>
          </a:p>
        </p:txBody>
      </p:sp>
      <p:sp>
        <p:nvSpPr>
          <p:cNvPr id="1489" name="TextBox 129"/>
          <p:cNvSpPr/>
          <p:nvPr/>
        </p:nvSpPr>
        <p:spPr>
          <a:xfrm>
            <a:off x="8451360" y="4041720"/>
            <a:ext cx="2448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e1c11e"/>
                </a:solidFill>
                <a:latin typeface="Lato"/>
              </a:rPr>
              <a:t>€</a:t>
            </a:r>
            <a:r>
              <a:rPr b="1" lang="en-ID" sz="4800" spc="-1" strike="noStrike">
                <a:solidFill>
                  <a:srgbClr val="e1c11e"/>
                </a:solidFill>
                <a:latin typeface="Lato"/>
              </a:rPr>
              <a:t>87,000</a:t>
            </a:r>
            <a:endParaRPr b="0" lang="en-US" sz="4800" spc="-1" strike="noStrike">
              <a:solidFill>
                <a:srgbClr val="313c3f"/>
              </a:solidFill>
              <a:latin typeface="Source Sans Pro"/>
            </a:endParaRPr>
          </a:p>
        </p:txBody>
      </p:sp>
      <p:grpSp>
        <p:nvGrpSpPr>
          <p:cNvPr id="1490" name="Group 5"/>
          <p:cNvGrpSpPr/>
          <p:nvPr/>
        </p:nvGrpSpPr>
        <p:grpSpPr>
          <a:xfrm>
            <a:off x="590400" y="2808360"/>
            <a:ext cx="2867040" cy="1076400"/>
            <a:chOff x="590400" y="2808360"/>
            <a:chExt cx="2867040" cy="1076400"/>
          </a:xfrm>
        </p:grpSpPr>
        <p:pic>
          <p:nvPicPr>
            <p:cNvPr id="1491" name="Group 403" descr=""/>
            <p:cNvPicPr/>
            <p:nvPr/>
          </p:nvPicPr>
          <p:blipFill>
            <a:blip r:embed="rId2"/>
            <a:stretch/>
          </p:blipFill>
          <p:spPr>
            <a:xfrm>
              <a:off x="590400" y="2808360"/>
              <a:ext cx="561240" cy="519840"/>
            </a:xfrm>
            <a:prstGeom prst="rect">
              <a:avLst/>
            </a:prstGeom>
            <a:ln w="0">
              <a:noFill/>
            </a:ln>
          </p:spPr>
        </p:pic>
        <p:pic>
          <p:nvPicPr>
            <p:cNvPr id="1492" name="Group 404" descr=""/>
            <p:cNvPicPr/>
            <p:nvPr/>
          </p:nvPicPr>
          <p:blipFill>
            <a:blip r:embed="rId3"/>
            <a:stretch/>
          </p:blipFill>
          <p:spPr>
            <a:xfrm>
              <a:off x="1157760" y="2808360"/>
              <a:ext cx="567360" cy="519840"/>
            </a:xfrm>
            <a:prstGeom prst="rect">
              <a:avLst/>
            </a:prstGeom>
            <a:ln w="0">
              <a:noFill/>
            </a:ln>
          </p:spPr>
        </p:pic>
        <p:pic>
          <p:nvPicPr>
            <p:cNvPr id="1493" name="Group 406" descr=""/>
            <p:cNvPicPr/>
            <p:nvPr/>
          </p:nvPicPr>
          <p:blipFill>
            <a:blip r:embed="rId4"/>
            <a:stretch/>
          </p:blipFill>
          <p:spPr>
            <a:xfrm>
              <a:off x="1731240" y="2808360"/>
              <a:ext cx="567360" cy="519840"/>
            </a:xfrm>
            <a:prstGeom prst="rect">
              <a:avLst/>
            </a:prstGeom>
            <a:ln w="0">
              <a:noFill/>
            </a:ln>
          </p:spPr>
        </p:pic>
        <p:pic>
          <p:nvPicPr>
            <p:cNvPr id="1494" name="Group 408" descr=""/>
            <p:cNvPicPr/>
            <p:nvPr/>
          </p:nvPicPr>
          <p:blipFill>
            <a:blip r:embed="rId5"/>
            <a:stretch/>
          </p:blipFill>
          <p:spPr>
            <a:xfrm>
              <a:off x="2304720" y="2808360"/>
              <a:ext cx="561240" cy="519840"/>
            </a:xfrm>
            <a:prstGeom prst="rect">
              <a:avLst/>
            </a:prstGeom>
            <a:ln w="0">
              <a:noFill/>
            </a:ln>
          </p:spPr>
        </p:pic>
        <p:pic>
          <p:nvPicPr>
            <p:cNvPr id="1495" name="Group 411" descr=""/>
            <p:cNvPicPr/>
            <p:nvPr/>
          </p:nvPicPr>
          <p:blipFill>
            <a:blip r:embed="rId6"/>
            <a:stretch/>
          </p:blipFill>
          <p:spPr>
            <a:xfrm>
              <a:off x="2878200" y="2808360"/>
              <a:ext cx="567360" cy="519840"/>
            </a:xfrm>
            <a:prstGeom prst="rect">
              <a:avLst/>
            </a:prstGeom>
            <a:ln w="0">
              <a:noFill/>
            </a:ln>
          </p:spPr>
        </p:pic>
        <p:pic>
          <p:nvPicPr>
            <p:cNvPr id="1496" name="Group 413" descr=""/>
            <p:cNvPicPr/>
            <p:nvPr/>
          </p:nvPicPr>
          <p:blipFill>
            <a:blip r:embed="rId7"/>
            <a:stretch/>
          </p:blipFill>
          <p:spPr>
            <a:xfrm>
              <a:off x="602280" y="3364920"/>
              <a:ext cx="567360" cy="519840"/>
            </a:xfrm>
            <a:prstGeom prst="rect">
              <a:avLst/>
            </a:prstGeom>
            <a:ln w="0">
              <a:noFill/>
            </a:ln>
          </p:spPr>
        </p:pic>
        <p:pic>
          <p:nvPicPr>
            <p:cNvPr id="1497" name="Group 415" descr=""/>
            <p:cNvPicPr/>
            <p:nvPr/>
          </p:nvPicPr>
          <p:blipFill>
            <a:blip r:embed="rId8"/>
            <a:stretch/>
          </p:blipFill>
          <p:spPr>
            <a:xfrm>
              <a:off x="1175760" y="3364920"/>
              <a:ext cx="561240" cy="519840"/>
            </a:xfrm>
            <a:prstGeom prst="rect">
              <a:avLst/>
            </a:prstGeom>
            <a:ln w="0">
              <a:noFill/>
            </a:ln>
          </p:spPr>
        </p:pic>
        <p:pic>
          <p:nvPicPr>
            <p:cNvPr id="1498" name="Group 417" descr=""/>
            <p:cNvPicPr/>
            <p:nvPr/>
          </p:nvPicPr>
          <p:blipFill>
            <a:blip r:embed="rId9"/>
            <a:stretch/>
          </p:blipFill>
          <p:spPr>
            <a:xfrm>
              <a:off x="1749240" y="3364920"/>
              <a:ext cx="561240" cy="519840"/>
            </a:xfrm>
            <a:prstGeom prst="rect">
              <a:avLst/>
            </a:prstGeom>
            <a:ln w="0">
              <a:noFill/>
            </a:ln>
          </p:spPr>
        </p:pic>
        <p:pic>
          <p:nvPicPr>
            <p:cNvPr id="1499" name="Group 419" descr=""/>
            <p:cNvPicPr/>
            <p:nvPr/>
          </p:nvPicPr>
          <p:blipFill>
            <a:blip r:embed="rId10"/>
            <a:stretch/>
          </p:blipFill>
          <p:spPr>
            <a:xfrm>
              <a:off x="2316600" y="3364920"/>
              <a:ext cx="567360" cy="519840"/>
            </a:xfrm>
            <a:prstGeom prst="rect">
              <a:avLst/>
            </a:prstGeom>
            <a:ln w="0">
              <a:noFill/>
            </a:ln>
          </p:spPr>
        </p:pic>
        <p:pic>
          <p:nvPicPr>
            <p:cNvPr id="1500" name="Group 421" descr=""/>
            <p:cNvPicPr/>
            <p:nvPr/>
          </p:nvPicPr>
          <p:blipFill>
            <a:blip r:embed="rId11"/>
            <a:stretch/>
          </p:blipFill>
          <p:spPr>
            <a:xfrm>
              <a:off x="2896200" y="3364920"/>
              <a:ext cx="561240" cy="519840"/>
            </a:xfrm>
            <a:prstGeom prst="rect">
              <a:avLst/>
            </a:prstGeom>
            <a:ln w="0">
              <a:noFill/>
            </a:ln>
          </p:spPr>
        </p:pic>
      </p:grpSp>
      <p:grpSp>
        <p:nvGrpSpPr>
          <p:cNvPr id="1501" name="Group 4"/>
          <p:cNvGrpSpPr/>
          <p:nvPr/>
        </p:nvGrpSpPr>
        <p:grpSpPr>
          <a:xfrm>
            <a:off x="8486640" y="2808360"/>
            <a:ext cx="2864160" cy="1076400"/>
            <a:chOff x="8486640" y="2808360"/>
            <a:chExt cx="2864160" cy="1076400"/>
          </a:xfrm>
        </p:grpSpPr>
        <p:pic>
          <p:nvPicPr>
            <p:cNvPr id="1502" name="Group 570" descr=""/>
            <p:cNvPicPr/>
            <p:nvPr/>
          </p:nvPicPr>
          <p:blipFill>
            <a:blip r:embed="rId12"/>
            <a:stretch/>
          </p:blipFill>
          <p:spPr>
            <a:xfrm>
              <a:off x="8486640" y="2814120"/>
              <a:ext cx="591120" cy="532080"/>
            </a:xfrm>
            <a:prstGeom prst="rect">
              <a:avLst/>
            </a:prstGeom>
            <a:ln w="0">
              <a:noFill/>
            </a:ln>
          </p:spPr>
        </p:pic>
        <p:pic>
          <p:nvPicPr>
            <p:cNvPr id="1503" name="Group 572" descr=""/>
            <p:cNvPicPr/>
            <p:nvPr/>
          </p:nvPicPr>
          <p:blipFill>
            <a:blip r:embed="rId13"/>
            <a:stretch/>
          </p:blipFill>
          <p:spPr>
            <a:xfrm>
              <a:off x="9065520" y="2808360"/>
              <a:ext cx="591120" cy="525960"/>
            </a:xfrm>
            <a:prstGeom prst="rect">
              <a:avLst/>
            </a:prstGeom>
            <a:ln w="0">
              <a:noFill/>
            </a:ln>
          </p:spPr>
        </p:pic>
        <p:pic>
          <p:nvPicPr>
            <p:cNvPr id="1504" name="Group 588" descr=""/>
            <p:cNvPicPr/>
            <p:nvPr/>
          </p:nvPicPr>
          <p:blipFill>
            <a:blip r:embed="rId14"/>
            <a:stretch/>
          </p:blipFill>
          <p:spPr>
            <a:xfrm>
              <a:off x="9614160" y="2814120"/>
              <a:ext cx="585000" cy="532080"/>
            </a:xfrm>
            <a:prstGeom prst="rect">
              <a:avLst/>
            </a:prstGeom>
            <a:ln w="0">
              <a:noFill/>
            </a:ln>
          </p:spPr>
        </p:pic>
        <p:pic>
          <p:nvPicPr>
            <p:cNvPr id="1505" name="Group 574" descr=""/>
            <p:cNvPicPr/>
            <p:nvPr/>
          </p:nvPicPr>
          <p:blipFill>
            <a:blip r:embed="rId15"/>
            <a:stretch/>
          </p:blipFill>
          <p:spPr>
            <a:xfrm>
              <a:off x="10193040" y="2808360"/>
              <a:ext cx="585000" cy="525960"/>
            </a:xfrm>
            <a:prstGeom prst="rect">
              <a:avLst/>
            </a:prstGeom>
            <a:ln w="0">
              <a:noFill/>
            </a:ln>
          </p:spPr>
        </p:pic>
        <p:pic>
          <p:nvPicPr>
            <p:cNvPr id="1506" name="Group 576" descr=""/>
            <p:cNvPicPr/>
            <p:nvPr/>
          </p:nvPicPr>
          <p:blipFill>
            <a:blip r:embed="rId16"/>
            <a:stretch/>
          </p:blipFill>
          <p:spPr>
            <a:xfrm>
              <a:off x="10765800" y="2808360"/>
              <a:ext cx="585000" cy="525960"/>
            </a:xfrm>
            <a:prstGeom prst="rect">
              <a:avLst/>
            </a:prstGeom>
            <a:ln w="0">
              <a:noFill/>
            </a:ln>
          </p:spPr>
        </p:pic>
        <p:pic>
          <p:nvPicPr>
            <p:cNvPr id="1507" name="Group 578" descr=""/>
            <p:cNvPicPr/>
            <p:nvPr/>
          </p:nvPicPr>
          <p:blipFill>
            <a:blip r:embed="rId17"/>
            <a:stretch/>
          </p:blipFill>
          <p:spPr>
            <a:xfrm>
              <a:off x="8486640" y="3358800"/>
              <a:ext cx="591120" cy="525960"/>
            </a:xfrm>
            <a:prstGeom prst="rect">
              <a:avLst/>
            </a:prstGeom>
            <a:ln w="0">
              <a:noFill/>
            </a:ln>
          </p:spPr>
        </p:pic>
        <p:pic>
          <p:nvPicPr>
            <p:cNvPr id="1508" name="Group 580" descr=""/>
            <p:cNvPicPr/>
            <p:nvPr/>
          </p:nvPicPr>
          <p:blipFill>
            <a:blip r:embed="rId18"/>
            <a:stretch/>
          </p:blipFill>
          <p:spPr>
            <a:xfrm>
              <a:off x="9065520" y="3346560"/>
              <a:ext cx="591120" cy="532080"/>
            </a:xfrm>
            <a:prstGeom prst="rect">
              <a:avLst/>
            </a:prstGeom>
            <a:ln w="0">
              <a:noFill/>
            </a:ln>
          </p:spPr>
        </p:pic>
        <p:pic>
          <p:nvPicPr>
            <p:cNvPr id="1509" name="Group 582" descr=""/>
            <p:cNvPicPr/>
            <p:nvPr/>
          </p:nvPicPr>
          <p:blipFill>
            <a:blip r:embed="rId19"/>
            <a:stretch/>
          </p:blipFill>
          <p:spPr>
            <a:xfrm>
              <a:off x="9614160" y="3358800"/>
              <a:ext cx="585000" cy="525960"/>
            </a:xfrm>
            <a:prstGeom prst="rect">
              <a:avLst/>
            </a:prstGeom>
            <a:ln w="0">
              <a:noFill/>
            </a:ln>
          </p:spPr>
        </p:pic>
        <p:pic>
          <p:nvPicPr>
            <p:cNvPr id="1510" name="Group 584" descr=""/>
            <p:cNvPicPr/>
            <p:nvPr/>
          </p:nvPicPr>
          <p:blipFill>
            <a:blip r:embed="rId20"/>
            <a:stretch/>
          </p:blipFill>
          <p:spPr>
            <a:xfrm>
              <a:off x="10193040" y="3346560"/>
              <a:ext cx="585000" cy="532080"/>
            </a:xfrm>
            <a:prstGeom prst="rect">
              <a:avLst/>
            </a:prstGeom>
            <a:ln w="0">
              <a:noFill/>
            </a:ln>
          </p:spPr>
        </p:pic>
        <p:pic>
          <p:nvPicPr>
            <p:cNvPr id="1511" name="Group 586" descr=""/>
            <p:cNvPicPr/>
            <p:nvPr/>
          </p:nvPicPr>
          <p:blipFill>
            <a:blip r:embed="rId21"/>
            <a:stretch/>
          </p:blipFill>
          <p:spPr>
            <a:xfrm>
              <a:off x="10765800" y="3346560"/>
              <a:ext cx="585000" cy="532080"/>
            </a:xfrm>
            <a:prstGeom prst="rect">
              <a:avLst/>
            </a:prstGeom>
            <a:ln w="0">
              <a:noFill/>
            </a:ln>
          </p:spPr>
        </p:pic>
      </p:grpSp>
    </p:spTree>
  </p:cSld>
  <p:transition spd="med">
    <p:fade/>
  </p:transition>
  <p:timing>
    <p:tnLst>
      <p:par>
        <p:cTn id="1547" dur="indefinite" restart="never" nodeType="tmRoot">
          <p:childTnLst>
            <p:seq>
              <p:cTn id="1548" dur="indefinite" nodeType="mainSeq">
                <p:childTnLst>
                  <p:par>
                    <p:cTn id="1549" nodeType="clickEffect" fill="hold">
                      <p:stCondLst>
                        <p:cond delay="0"/>
                      </p:stCondLst>
                      <p:childTnLst>
                        <p:par>
                          <p:cTn id="1550" nodeType="withEffect" fill="hold">
                            <p:stCondLst>
                              <p:cond delay="0"/>
                            </p:stCondLst>
                            <p:childTnLst>
                              <p:par>
                                <p:cTn id="1551" nodeType="afterEffect" fill="hold" presetClass="entr" presetID="10">
                                  <p:stCondLst>
                                    <p:cond delay="0"/>
                                  </p:stCondLst>
                                  <p:childTnLst>
                                    <p:set>
                                      <p:cBhvr>
                                        <p:cTn id="1552" dur="1" fill="hold">
                                          <p:stCondLst>
                                            <p:cond delay="0"/>
                                          </p:stCondLst>
                                        </p:cTn>
                                        <p:tgtEl>
                                          <p:spTgt spid="1419"/>
                                        </p:tgtEl>
                                        <p:attrNameLst>
                                          <p:attrName>style.visibility</p:attrName>
                                        </p:attrNameLst>
                                      </p:cBhvr>
                                      <p:to>
                                        <p:strVal val="visible"/>
                                      </p:to>
                                    </p:set>
                                    <p:animEffect filter="fade" transition="in">
                                      <p:cBhvr additive="repl">
                                        <p:cTn id="1553" dur="500"/>
                                        <p:tgtEl>
                                          <p:spTgt spid="1419"/>
                                        </p:tgtEl>
                                      </p:cBhvr>
                                    </p:animEffect>
                                  </p:childTnLst>
                                </p:cTn>
                              </p:par>
                            </p:childTnLst>
                          </p:cTn>
                        </p:par>
                        <p:par>
                          <p:cTn id="1554" nodeType="afterEffect" fill="hold">
                            <p:stCondLst>
                              <p:cond delay="500"/>
                            </p:stCondLst>
                            <p:childTnLst>
                              <p:par>
                                <p:cTn id="1555" nodeType="afterEffect" fill="hold" presetClass="entr" presetID="10">
                                  <p:stCondLst>
                                    <p:cond delay="0"/>
                                  </p:stCondLst>
                                  <p:childTnLst>
                                    <p:set>
                                      <p:cBhvr>
                                        <p:cTn id="1556" dur="1" fill="hold">
                                          <p:stCondLst>
                                            <p:cond delay="0"/>
                                          </p:stCondLst>
                                        </p:cTn>
                                        <p:tgtEl>
                                          <p:spTgt spid="1420"/>
                                        </p:tgtEl>
                                        <p:attrNameLst>
                                          <p:attrName>style.visibility</p:attrName>
                                        </p:attrNameLst>
                                      </p:cBhvr>
                                      <p:to>
                                        <p:strVal val="visible"/>
                                      </p:to>
                                    </p:set>
                                    <p:animEffect filter="fade" transition="in">
                                      <p:cBhvr additive="repl">
                                        <p:cTn id="1557" dur="500"/>
                                        <p:tgtEl>
                                          <p:spTgt spid="1420"/>
                                        </p:tgtEl>
                                      </p:cBhvr>
                                    </p:animEffect>
                                  </p:childTnLst>
                                </p:cTn>
                              </p:par>
                            </p:childTnLst>
                          </p:cTn>
                        </p:par>
                        <p:par>
                          <p:cTn id="1558" nodeType="afterEffect" fill="hold">
                            <p:stCondLst>
                              <p:cond delay="1000"/>
                            </p:stCondLst>
                            <p:childTnLst>
                              <p:par>
                                <p:cTn id="1559" nodeType="afterEffect" fill="hold" presetClass="entr" presetID="10">
                                  <p:stCondLst>
                                    <p:cond delay="0"/>
                                  </p:stCondLst>
                                  <p:childTnLst>
                                    <p:set>
                                      <p:cBhvr>
                                        <p:cTn id="1560" dur="1" fill="hold">
                                          <p:stCondLst>
                                            <p:cond delay="0"/>
                                          </p:stCondLst>
                                        </p:cTn>
                                        <p:tgtEl>
                                          <p:spTgt spid="1478"/>
                                        </p:tgtEl>
                                        <p:attrNameLst>
                                          <p:attrName>style.visibility</p:attrName>
                                        </p:attrNameLst>
                                      </p:cBhvr>
                                      <p:to>
                                        <p:strVal val="visible"/>
                                      </p:to>
                                    </p:set>
                                    <p:animEffect filter="fade" transition="in">
                                      <p:cBhvr additive="repl">
                                        <p:cTn id="1561" dur="500"/>
                                        <p:tgtEl>
                                          <p:spTgt spid="1478"/>
                                        </p:tgtEl>
                                      </p:cBhvr>
                                    </p:animEffect>
                                  </p:childTnLst>
                                </p:cTn>
                              </p:par>
                            </p:childTnLst>
                          </p:cTn>
                        </p:par>
                        <p:par>
                          <p:cTn id="1562" nodeType="afterEffect" fill="hold">
                            <p:stCondLst>
                              <p:cond delay="1500"/>
                            </p:stCondLst>
                            <p:childTnLst>
                              <p:par>
                                <p:cTn id="1563" nodeType="afterEffect" fill="hold" presetClass="entr" presetID="10">
                                  <p:stCondLst>
                                    <p:cond delay="0"/>
                                  </p:stCondLst>
                                  <p:childTnLst>
                                    <p:set>
                                      <p:cBhvr>
                                        <p:cTn id="1564" dur="1" fill="hold">
                                          <p:stCondLst>
                                            <p:cond delay="0"/>
                                          </p:stCondLst>
                                        </p:cTn>
                                        <p:tgtEl>
                                          <p:spTgt spid="1484"/>
                                        </p:tgtEl>
                                        <p:attrNameLst>
                                          <p:attrName>style.visibility</p:attrName>
                                        </p:attrNameLst>
                                      </p:cBhvr>
                                      <p:to>
                                        <p:strVal val="visible"/>
                                      </p:to>
                                    </p:set>
                                    <p:animEffect filter="fade" transition="in">
                                      <p:cBhvr additive="repl">
                                        <p:cTn id="1565" dur="500"/>
                                        <p:tgtEl>
                                          <p:spTgt spid="1484"/>
                                        </p:tgtEl>
                                      </p:cBhvr>
                                    </p:animEffect>
                                  </p:childTnLst>
                                </p:cTn>
                              </p:par>
                            </p:childTnLst>
                          </p:cTn>
                        </p:par>
                        <p:par>
                          <p:cTn id="1566" nodeType="afterEffect" fill="hold">
                            <p:stCondLst>
                              <p:cond delay="2000"/>
                            </p:stCondLst>
                            <p:childTnLst>
                              <p:par>
                                <p:cTn id="1567" nodeType="afterEffect" fill="hold" presetClass="entr" presetID="10">
                                  <p:stCondLst>
                                    <p:cond delay="0"/>
                                  </p:stCondLst>
                                  <p:childTnLst>
                                    <p:set>
                                      <p:cBhvr>
                                        <p:cTn id="1568" dur="1" fill="hold">
                                          <p:stCondLst>
                                            <p:cond delay="0"/>
                                          </p:stCondLst>
                                        </p:cTn>
                                        <p:tgtEl>
                                          <p:spTgt spid="1490"/>
                                        </p:tgtEl>
                                        <p:attrNameLst>
                                          <p:attrName>style.visibility</p:attrName>
                                        </p:attrNameLst>
                                      </p:cBhvr>
                                      <p:to>
                                        <p:strVal val="visible"/>
                                      </p:to>
                                    </p:set>
                                    <p:animEffect filter="fade" transition="in">
                                      <p:cBhvr additive="repl">
                                        <p:cTn id="1569" dur="500"/>
                                        <p:tgtEl>
                                          <p:spTgt spid="1490"/>
                                        </p:tgtEl>
                                      </p:cBhvr>
                                    </p:animEffect>
                                  </p:childTnLst>
                                </p:cTn>
                              </p:par>
                            </p:childTnLst>
                          </p:cTn>
                        </p:par>
                        <p:par>
                          <p:cTn id="1570" nodeType="afterEffect" fill="hold">
                            <p:stCondLst>
                              <p:cond delay="2500"/>
                            </p:stCondLst>
                            <p:childTnLst>
                              <p:par>
                                <p:cTn id="1571" nodeType="afterEffect" fill="hold" presetClass="entr" presetID="22" presetSubtype="8">
                                  <p:stCondLst>
                                    <p:cond delay="0"/>
                                  </p:stCondLst>
                                  <p:childTnLst>
                                    <p:set>
                                      <p:cBhvr>
                                        <p:cTn id="1572" dur="1" fill="hold">
                                          <p:stCondLst>
                                            <p:cond delay="0"/>
                                          </p:stCondLst>
                                        </p:cTn>
                                        <p:tgtEl>
                                          <p:spTgt spid="1486"/>
                                        </p:tgtEl>
                                        <p:attrNameLst>
                                          <p:attrName>style.visibility</p:attrName>
                                        </p:attrNameLst>
                                      </p:cBhvr>
                                      <p:to>
                                        <p:strVal val="visible"/>
                                      </p:to>
                                    </p:set>
                                    <p:animEffect filter="wipe(left)" transition="in">
                                      <p:cBhvr additive="repl">
                                        <p:cTn id="1573" dur="500"/>
                                        <p:tgtEl>
                                          <p:spTgt spid="1486"/>
                                        </p:tgtEl>
                                      </p:cBhvr>
                                    </p:animEffect>
                                  </p:childTnLst>
                                </p:cTn>
                              </p:par>
                            </p:childTnLst>
                          </p:cTn>
                        </p:par>
                        <p:par>
                          <p:cTn id="1574" nodeType="afterEffect" fill="hold">
                            <p:stCondLst>
                              <p:cond delay="3000"/>
                            </p:stCondLst>
                            <p:childTnLst>
                              <p:par>
                                <p:cTn id="1575" nodeType="afterEffect" fill="hold" presetClass="entr" presetID="10">
                                  <p:stCondLst>
                                    <p:cond delay="0"/>
                                  </p:stCondLst>
                                  <p:childTnLst>
                                    <p:set>
                                      <p:cBhvr>
                                        <p:cTn id="1576"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1577" dur="500"/>
                                        <p:tgtEl>
                                          <p:spTgt spid="1485">
                                            <p:txEl>
                                              <p:pRg st="0" end="0"/>
                                            </p:txEl>
                                          </p:spTgt>
                                        </p:tgtEl>
                                      </p:cBhvr>
                                    </p:animEffect>
                                  </p:childTnLst>
                                </p:cTn>
                              </p:par>
                            </p:childTnLst>
                          </p:cTn>
                        </p:par>
                        <p:par>
                          <p:cTn id="1578" nodeType="afterEffect" fill="hold">
                            <p:stCondLst>
                              <p:cond delay="3500"/>
                            </p:stCondLst>
                            <p:childTnLst>
                              <p:par>
                                <p:cTn id="1579" nodeType="afterEffect" fill="hold" presetClass="entr" presetID="10">
                                  <p:stCondLst>
                                    <p:cond delay="0"/>
                                  </p:stCondLst>
                                  <p:childTnLst>
                                    <p:set>
                                      <p:cBhvr>
                                        <p:cTn id="1580" dur="1" fill="hold">
                                          <p:stCondLst>
                                            <p:cond delay="0"/>
                                          </p:stCondLst>
                                        </p:cTn>
                                        <p:tgtEl>
                                          <p:spTgt spid="1467"/>
                                        </p:tgtEl>
                                        <p:attrNameLst>
                                          <p:attrName>style.visibility</p:attrName>
                                        </p:attrNameLst>
                                      </p:cBhvr>
                                      <p:to>
                                        <p:strVal val="visible"/>
                                      </p:to>
                                    </p:set>
                                    <p:animEffect filter="fade" transition="in">
                                      <p:cBhvr additive="repl">
                                        <p:cTn id="1581" dur="500"/>
                                        <p:tgtEl>
                                          <p:spTgt spid="1467"/>
                                        </p:tgtEl>
                                      </p:cBhvr>
                                    </p:animEffect>
                                  </p:childTnLst>
                                </p:cTn>
                              </p:par>
                            </p:childTnLst>
                          </p:cTn>
                        </p:par>
                        <p:par>
                          <p:cTn id="1582" nodeType="afterEffect" fill="hold">
                            <p:stCondLst>
                              <p:cond delay="4000"/>
                            </p:stCondLst>
                            <p:childTnLst>
                              <p:par>
                                <p:cTn id="1583" nodeType="afterEffect" fill="hold" presetClass="entr" presetID="10">
                                  <p:stCondLst>
                                    <p:cond delay="0"/>
                                  </p:stCondLst>
                                  <p:childTnLst>
                                    <p:set>
                                      <p:cBhvr>
                                        <p:cTn id="1584" dur="1" fill="hold">
                                          <p:stCondLst>
                                            <p:cond delay="0"/>
                                          </p:stCondLst>
                                        </p:cTn>
                                        <p:tgtEl>
                                          <p:spTgt spid="1487"/>
                                        </p:tgtEl>
                                        <p:attrNameLst>
                                          <p:attrName>style.visibility</p:attrName>
                                        </p:attrNameLst>
                                      </p:cBhvr>
                                      <p:to>
                                        <p:strVal val="visible"/>
                                      </p:to>
                                    </p:set>
                                    <p:animEffect filter="fade" transition="in">
                                      <p:cBhvr additive="repl">
                                        <p:cTn id="1585" dur="500"/>
                                        <p:tgtEl>
                                          <p:spTgt spid="1487"/>
                                        </p:tgtEl>
                                      </p:cBhvr>
                                    </p:animEffect>
                                  </p:childTnLst>
                                </p:cTn>
                              </p:par>
                            </p:childTnLst>
                          </p:cTn>
                        </p:par>
                        <p:par>
                          <p:cTn id="1586" nodeType="afterEffect" fill="hold">
                            <p:stCondLst>
                              <p:cond delay="4500"/>
                            </p:stCondLst>
                            <p:childTnLst>
                              <p:par>
                                <p:cTn id="1587" nodeType="afterEffect" fill="hold" presetClass="entr" presetID="10">
                                  <p:stCondLst>
                                    <p:cond delay="0"/>
                                  </p:stCondLst>
                                  <p:childTnLst>
                                    <p:set>
                                      <p:cBhvr>
                                        <p:cTn id="1588" dur="1" fill="hold">
                                          <p:stCondLst>
                                            <p:cond delay="0"/>
                                          </p:stCondLst>
                                        </p:cTn>
                                        <p:tgtEl>
                                          <p:spTgt spid="1501"/>
                                        </p:tgtEl>
                                        <p:attrNameLst>
                                          <p:attrName>style.visibility</p:attrName>
                                        </p:attrNameLst>
                                      </p:cBhvr>
                                      <p:to>
                                        <p:strVal val="visible"/>
                                      </p:to>
                                    </p:set>
                                    <p:animEffect filter="fade" transition="in">
                                      <p:cBhvr additive="repl">
                                        <p:cTn id="1589" dur="500"/>
                                        <p:tgtEl>
                                          <p:spTgt spid="1501"/>
                                        </p:tgtEl>
                                      </p:cBhvr>
                                    </p:animEffect>
                                  </p:childTnLst>
                                </p:cTn>
                              </p:par>
                            </p:childTnLst>
                          </p:cTn>
                        </p:par>
                        <p:par>
                          <p:cTn id="1590" nodeType="afterEffect" fill="hold">
                            <p:stCondLst>
                              <p:cond delay="5000"/>
                            </p:stCondLst>
                            <p:childTnLst>
                              <p:par>
                                <p:cTn id="1591" nodeType="afterEffect" fill="hold" presetClass="entr" presetID="22" presetSubtype="8">
                                  <p:stCondLst>
                                    <p:cond delay="0"/>
                                  </p:stCondLst>
                                  <p:childTnLst>
                                    <p:set>
                                      <p:cBhvr>
                                        <p:cTn id="1592" dur="1" fill="hold">
                                          <p:stCondLst>
                                            <p:cond delay="0"/>
                                          </p:stCondLst>
                                        </p:cTn>
                                        <p:tgtEl>
                                          <p:spTgt spid="1489"/>
                                        </p:tgtEl>
                                        <p:attrNameLst>
                                          <p:attrName>style.visibility</p:attrName>
                                        </p:attrNameLst>
                                      </p:cBhvr>
                                      <p:to>
                                        <p:strVal val="visible"/>
                                      </p:to>
                                    </p:set>
                                    <p:animEffect filter="wipe(left)" transition="in">
                                      <p:cBhvr additive="repl">
                                        <p:cTn id="1593" dur="500"/>
                                        <p:tgtEl>
                                          <p:spTgt spid="1489"/>
                                        </p:tgtEl>
                                      </p:cBhvr>
                                    </p:animEffect>
                                  </p:childTnLst>
                                </p:cTn>
                              </p:par>
                            </p:childTnLst>
                          </p:cTn>
                        </p:par>
                        <p:par>
                          <p:cTn id="1594" nodeType="afterEffect" fill="hold">
                            <p:stCondLst>
                              <p:cond delay="5500"/>
                            </p:stCondLst>
                            <p:childTnLst>
                              <p:par>
                                <p:cTn id="1595" nodeType="afterEffect" fill="hold" presetClass="entr" presetID="10">
                                  <p:stCondLst>
                                    <p:cond delay="0"/>
                                  </p:stCondLst>
                                  <p:childTnLst>
                                    <p:set>
                                      <p:cBhvr>
                                        <p:cTn id="1596" dur="1" fill="hold">
                                          <p:stCondLst>
                                            <p:cond delay="0"/>
                                          </p:stCondLst>
                                        </p:cTn>
                                        <p:tgtEl>
                                          <p:spTgt spid="1488">
                                            <p:txEl>
                                              <p:pRg st="0" end="0"/>
                                            </p:txEl>
                                          </p:spTgt>
                                        </p:tgtEl>
                                        <p:attrNameLst>
                                          <p:attrName>style.visibility</p:attrName>
                                        </p:attrNameLst>
                                      </p:cBhvr>
                                      <p:to>
                                        <p:strVal val="visible"/>
                                      </p:to>
                                    </p:set>
                                    <p:animEffect filter="fade" transition="in">
                                      <p:cBhvr additive="repl">
                                        <p:cTn id="1597"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2" name="Group 103"/>
          <p:cNvGrpSpPr/>
          <p:nvPr/>
        </p:nvGrpSpPr>
        <p:grpSpPr>
          <a:xfrm>
            <a:off x="888840" y="4203720"/>
            <a:ext cx="1535400" cy="649440"/>
            <a:chOff x="888840" y="4203720"/>
            <a:chExt cx="1535400" cy="649440"/>
          </a:xfrm>
        </p:grpSpPr>
        <p:grpSp>
          <p:nvGrpSpPr>
            <p:cNvPr id="1513" name="Graphic 2"/>
            <p:cNvGrpSpPr/>
            <p:nvPr/>
          </p:nvGrpSpPr>
          <p:grpSpPr>
            <a:xfrm>
              <a:off x="1146240" y="4420440"/>
              <a:ext cx="1020240" cy="216360"/>
              <a:chOff x="1146240" y="4420440"/>
              <a:chExt cx="1020240" cy="216360"/>
            </a:xfrm>
          </p:grpSpPr>
          <p:grpSp>
            <p:nvGrpSpPr>
              <p:cNvPr id="1514" name="Graphic 2"/>
              <p:cNvGrpSpPr/>
              <p:nvPr/>
            </p:nvGrpSpPr>
            <p:grpSpPr>
              <a:xfrm>
                <a:off x="1146240" y="4420440"/>
                <a:ext cx="504360" cy="216360"/>
                <a:chOff x="1146240" y="4420440"/>
                <a:chExt cx="504360" cy="216360"/>
              </a:xfrm>
            </p:grpSpPr>
            <p:sp>
              <p:nvSpPr>
                <p:cNvPr id="1515" name="Freeform: Shape 91"/>
                <p:cNvSpPr/>
                <p:nvPr/>
              </p:nvSpPr>
              <p:spPr>
                <a:xfrm>
                  <a:off x="1146240" y="4420440"/>
                  <a:ext cx="504360" cy="216360"/>
                </a:xfrm>
                <a:custGeom>
                  <a:avLst/>
                  <a:gdLst/>
                  <a:ahLst/>
                  <a:rect l="l" t="t" r="r" b="b"/>
                  <a:pathLst>
                    <a:path w="727005" h="311467">
                      <a:moveTo>
                        <a:pt x="130616" y="0"/>
                      </a:moveTo>
                      <a:lnTo>
                        <a:pt x="596389" y="0"/>
                      </a:lnTo>
                      <a:cubicBezTo>
                        <a:pt x="603056" y="0"/>
                        <a:pt x="607819" y="3810"/>
                        <a:pt x="610676" y="9525"/>
                      </a:cubicBezTo>
                      <a:lnTo>
                        <a:pt x="725929" y="290513"/>
                      </a:lnTo>
                      <a:cubicBezTo>
                        <a:pt x="729739" y="300990"/>
                        <a:pt x="723071" y="311467"/>
                        <a:pt x="711641" y="311467"/>
                      </a:cubicBezTo>
                      <a:lnTo>
                        <a:pt x="15364" y="311467"/>
                      </a:lnTo>
                      <a:cubicBezTo>
                        <a:pt x="3934" y="311467"/>
                        <a:pt x="-2734" y="300038"/>
                        <a:pt x="1076" y="290513"/>
                      </a:cubicBezTo>
                      <a:lnTo>
                        <a:pt x="116329" y="9525"/>
                      </a:lnTo>
                      <a:cubicBezTo>
                        <a:pt x="119186" y="3810"/>
                        <a:pt x="124901" y="0"/>
                        <a:pt x="130616"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16" name="Graphic 2" descr=""/>
                <p:cNvPicPr/>
                <p:nvPr/>
              </p:nvPicPr>
              <p:blipFill>
                <a:blip r:embed="rId1"/>
                <a:stretch/>
              </p:blipFill>
              <p:spPr>
                <a:xfrm>
                  <a:off x="1273680" y="4437720"/>
                  <a:ext cx="298800" cy="183240"/>
                </a:xfrm>
                <a:prstGeom prst="rect">
                  <a:avLst/>
                </a:prstGeom>
                <a:ln w="0">
                  <a:noFill/>
                </a:ln>
              </p:spPr>
            </p:pic>
          </p:grpSp>
          <p:grpSp>
            <p:nvGrpSpPr>
              <p:cNvPr id="1517" name="Graphic 2"/>
              <p:cNvGrpSpPr/>
              <p:nvPr/>
            </p:nvGrpSpPr>
            <p:grpSpPr>
              <a:xfrm>
                <a:off x="1661400" y="4420440"/>
                <a:ext cx="505080" cy="216360"/>
                <a:chOff x="1661400" y="4420440"/>
                <a:chExt cx="505080" cy="216360"/>
              </a:xfrm>
            </p:grpSpPr>
            <p:sp>
              <p:nvSpPr>
                <p:cNvPr id="1518" name="Freeform: Shape 86"/>
                <p:cNvSpPr/>
                <p:nvPr/>
              </p:nvSpPr>
              <p:spPr>
                <a:xfrm>
                  <a:off x="1661400" y="4420440"/>
                  <a:ext cx="50508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7"/>
                        <a:pt x="712594" y="311467"/>
                      </a:cubicBezTo>
                      <a:lnTo>
                        <a:pt x="15364" y="311467"/>
                      </a:lnTo>
                      <a:cubicBezTo>
                        <a:pt x="3934" y="311467"/>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19" name="Graphic 2" descr=""/>
                <p:cNvPicPr/>
                <p:nvPr/>
              </p:nvPicPr>
              <p:blipFill>
                <a:blip r:embed="rId2"/>
                <a:stretch/>
              </p:blipFill>
              <p:spPr>
                <a:xfrm>
                  <a:off x="1791720" y="4437720"/>
                  <a:ext cx="298800" cy="183240"/>
                </a:xfrm>
                <a:prstGeom prst="rect">
                  <a:avLst/>
                </a:prstGeom>
                <a:ln w="0">
                  <a:noFill/>
                </a:ln>
              </p:spPr>
            </p:pic>
          </p:grpSp>
        </p:grpSp>
        <p:grpSp>
          <p:nvGrpSpPr>
            <p:cNvPr id="1520" name="Graphic 2"/>
            <p:cNvGrpSpPr/>
            <p:nvPr/>
          </p:nvGrpSpPr>
          <p:grpSpPr>
            <a:xfrm>
              <a:off x="1398960" y="4203720"/>
              <a:ext cx="515160" cy="216720"/>
              <a:chOff x="1398960" y="4203720"/>
              <a:chExt cx="515160" cy="216720"/>
            </a:xfrm>
          </p:grpSpPr>
          <p:sp>
            <p:nvSpPr>
              <p:cNvPr id="1521" name="Freeform: Shape 79"/>
              <p:cNvSpPr/>
              <p:nvPr/>
            </p:nvSpPr>
            <p:spPr>
              <a:xfrm>
                <a:off x="1398960" y="4203720"/>
                <a:ext cx="515160" cy="216720"/>
              </a:xfrm>
              <a:custGeom>
                <a:avLst/>
                <a:gdLst/>
                <a:ahLst/>
                <a:rect l="l" t="t" r="r" b="b"/>
                <a:pathLst>
                  <a:path w="742950" h="312420">
                    <a:moveTo>
                      <a:pt x="128588" y="0"/>
                    </a:moveTo>
                    <a:lnTo>
                      <a:pt x="614363" y="0"/>
                    </a:lnTo>
                    <a:lnTo>
                      <a:pt x="742950" y="312420"/>
                    </a:lnTo>
                    <a:lnTo>
                      <a:pt x="0" y="312420"/>
                    </a:lnTo>
                    <a:lnTo>
                      <a:pt x="128588"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22" name="Graphic 2" descr=""/>
              <p:cNvPicPr/>
              <p:nvPr/>
            </p:nvPicPr>
            <p:blipFill>
              <a:blip r:embed="rId3"/>
              <a:stretch/>
            </p:blipFill>
            <p:spPr>
              <a:xfrm>
                <a:off x="1523880" y="4224240"/>
                <a:ext cx="317160" cy="176760"/>
              </a:xfrm>
              <a:prstGeom prst="rect">
                <a:avLst/>
              </a:prstGeom>
              <a:ln w="0">
                <a:noFill/>
              </a:ln>
            </p:spPr>
          </p:pic>
        </p:grpSp>
        <p:grpSp>
          <p:nvGrpSpPr>
            <p:cNvPr id="1523" name="Graphic 2"/>
            <p:cNvGrpSpPr/>
            <p:nvPr/>
          </p:nvGrpSpPr>
          <p:grpSpPr>
            <a:xfrm>
              <a:off x="888840" y="4636800"/>
              <a:ext cx="1535400" cy="216360"/>
              <a:chOff x="888840" y="4636800"/>
              <a:chExt cx="1535400" cy="216360"/>
            </a:xfrm>
          </p:grpSpPr>
          <p:grpSp>
            <p:nvGrpSpPr>
              <p:cNvPr id="1524" name="Graphic 2"/>
              <p:cNvGrpSpPr/>
              <p:nvPr/>
            </p:nvGrpSpPr>
            <p:grpSpPr>
              <a:xfrm>
                <a:off x="888840" y="4636800"/>
                <a:ext cx="504720" cy="216360"/>
                <a:chOff x="888840" y="4636800"/>
                <a:chExt cx="504720" cy="216360"/>
              </a:xfrm>
            </p:grpSpPr>
            <p:sp>
              <p:nvSpPr>
                <p:cNvPr id="1525" name="Freeform: Shape 74"/>
                <p:cNvSpPr/>
                <p:nvPr/>
              </p:nvSpPr>
              <p:spPr>
                <a:xfrm>
                  <a:off x="88884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26" name="Graphic 2" descr=""/>
                <p:cNvPicPr/>
                <p:nvPr/>
              </p:nvPicPr>
              <p:blipFill>
                <a:blip r:embed="rId4"/>
                <a:stretch/>
              </p:blipFill>
              <p:spPr>
                <a:xfrm>
                  <a:off x="1017720" y="4657320"/>
                  <a:ext cx="298800" cy="177120"/>
                </a:xfrm>
                <a:prstGeom prst="rect">
                  <a:avLst/>
                </a:prstGeom>
                <a:ln w="0">
                  <a:noFill/>
                </a:ln>
              </p:spPr>
            </p:pic>
          </p:grpSp>
          <p:grpSp>
            <p:nvGrpSpPr>
              <p:cNvPr id="1527" name="Graphic 2"/>
              <p:cNvGrpSpPr/>
              <p:nvPr/>
            </p:nvGrpSpPr>
            <p:grpSpPr>
              <a:xfrm>
                <a:off x="1404000" y="4636800"/>
                <a:ext cx="504720" cy="216360"/>
                <a:chOff x="1404000" y="4636800"/>
                <a:chExt cx="504720" cy="216360"/>
              </a:xfrm>
            </p:grpSpPr>
            <p:sp>
              <p:nvSpPr>
                <p:cNvPr id="1528" name="Freeform: Shape 69"/>
                <p:cNvSpPr/>
                <p:nvPr/>
              </p:nvSpPr>
              <p:spPr>
                <a:xfrm>
                  <a:off x="140400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29" name="Graphic 2" descr=""/>
                <p:cNvPicPr/>
                <p:nvPr/>
              </p:nvPicPr>
              <p:blipFill>
                <a:blip r:embed="rId5"/>
                <a:stretch/>
              </p:blipFill>
              <p:spPr>
                <a:xfrm>
                  <a:off x="1530000" y="4657320"/>
                  <a:ext cx="298800" cy="177120"/>
                </a:xfrm>
                <a:prstGeom prst="rect">
                  <a:avLst/>
                </a:prstGeom>
                <a:ln w="0">
                  <a:noFill/>
                </a:ln>
              </p:spPr>
            </p:pic>
          </p:grpSp>
          <p:grpSp>
            <p:nvGrpSpPr>
              <p:cNvPr id="1530" name="Graphic 2"/>
              <p:cNvGrpSpPr/>
              <p:nvPr/>
            </p:nvGrpSpPr>
            <p:grpSpPr>
              <a:xfrm>
                <a:off x="1919520" y="4636800"/>
                <a:ext cx="504720" cy="216360"/>
                <a:chOff x="1919520" y="4636800"/>
                <a:chExt cx="504720" cy="216360"/>
              </a:xfrm>
            </p:grpSpPr>
            <p:sp>
              <p:nvSpPr>
                <p:cNvPr id="1531" name="Freeform: Shape 64"/>
                <p:cNvSpPr/>
                <p:nvPr/>
              </p:nvSpPr>
              <p:spPr>
                <a:xfrm>
                  <a:off x="191952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32" name="Graphic 2" descr=""/>
                <p:cNvPicPr/>
                <p:nvPr/>
              </p:nvPicPr>
              <p:blipFill>
                <a:blip r:embed="rId6"/>
                <a:stretch/>
              </p:blipFill>
              <p:spPr>
                <a:xfrm>
                  <a:off x="2048400" y="4657320"/>
                  <a:ext cx="298800" cy="177120"/>
                </a:xfrm>
                <a:prstGeom prst="rect">
                  <a:avLst/>
                </a:prstGeom>
                <a:ln w="0">
                  <a:noFill/>
                </a:ln>
              </p:spPr>
            </p:pic>
          </p:grpSp>
        </p:grpSp>
      </p:grpSp>
      <p:grpSp>
        <p:nvGrpSpPr>
          <p:cNvPr id="1533" name="Group 104"/>
          <p:cNvGrpSpPr/>
          <p:nvPr/>
        </p:nvGrpSpPr>
        <p:grpSpPr>
          <a:xfrm>
            <a:off x="4048200" y="3932280"/>
            <a:ext cx="1535040" cy="431640"/>
            <a:chOff x="4048200" y="3932280"/>
            <a:chExt cx="1535040" cy="431640"/>
          </a:xfrm>
        </p:grpSpPr>
        <p:grpSp>
          <p:nvGrpSpPr>
            <p:cNvPr id="1534" name="Graphic 2"/>
            <p:cNvGrpSpPr/>
            <p:nvPr/>
          </p:nvGrpSpPr>
          <p:grpSpPr>
            <a:xfrm>
              <a:off x="4305600" y="3932280"/>
              <a:ext cx="1019880" cy="215640"/>
              <a:chOff x="4305600" y="3932280"/>
              <a:chExt cx="1019880" cy="215640"/>
            </a:xfrm>
          </p:grpSpPr>
          <p:grpSp>
            <p:nvGrpSpPr>
              <p:cNvPr id="1535" name="Graphic 2"/>
              <p:cNvGrpSpPr/>
              <p:nvPr/>
            </p:nvGrpSpPr>
            <p:grpSpPr>
              <a:xfrm>
                <a:off x="4305600" y="3932280"/>
                <a:ext cx="504720" cy="215640"/>
                <a:chOff x="4305600" y="3932280"/>
                <a:chExt cx="504720" cy="215640"/>
              </a:xfrm>
            </p:grpSpPr>
            <p:sp>
              <p:nvSpPr>
                <p:cNvPr id="1536" name="Freeform: Shape 56"/>
                <p:cNvSpPr/>
                <p:nvPr/>
              </p:nvSpPr>
              <p:spPr>
                <a:xfrm>
                  <a:off x="430560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37" name="Graphic 2" descr=""/>
                <p:cNvPicPr/>
                <p:nvPr/>
              </p:nvPicPr>
              <p:blipFill>
                <a:blip r:embed="rId7"/>
                <a:stretch/>
              </p:blipFill>
              <p:spPr>
                <a:xfrm>
                  <a:off x="4431600" y="3950280"/>
                  <a:ext cx="298800" cy="177120"/>
                </a:xfrm>
                <a:prstGeom prst="rect">
                  <a:avLst/>
                </a:prstGeom>
                <a:ln w="0">
                  <a:noFill/>
                </a:ln>
              </p:spPr>
            </p:pic>
          </p:grpSp>
          <p:grpSp>
            <p:nvGrpSpPr>
              <p:cNvPr id="1538" name="Graphic 2"/>
              <p:cNvGrpSpPr/>
              <p:nvPr/>
            </p:nvGrpSpPr>
            <p:grpSpPr>
              <a:xfrm>
                <a:off x="4820760" y="3932280"/>
                <a:ext cx="504720" cy="215640"/>
                <a:chOff x="4820760" y="3932280"/>
                <a:chExt cx="504720" cy="215640"/>
              </a:xfrm>
            </p:grpSpPr>
            <p:sp>
              <p:nvSpPr>
                <p:cNvPr id="1539" name="Freeform: Shape 51"/>
                <p:cNvSpPr/>
                <p:nvPr/>
              </p:nvSpPr>
              <p:spPr>
                <a:xfrm>
                  <a:off x="482076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40" name="Graphic 2" descr=""/>
                <p:cNvPicPr/>
                <p:nvPr/>
              </p:nvPicPr>
              <p:blipFill>
                <a:blip r:embed="rId8"/>
                <a:stretch/>
              </p:blipFill>
              <p:spPr>
                <a:xfrm>
                  <a:off x="4949640" y="3950280"/>
                  <a:ext cx="298800" cy="177120"/>
                </a:xfrm>
                <a:prstGeom prst="rect">
                  <a:avLst/>
                </a:prstGeom>
                <a:ln w="0">
                  <a:noFill/>
                </a:ln>
              </p:spPr>
            </p:pic>
          </p:grpSp>
        </p:grpSp>
        <p:grpSp>
          <p:nvGrpSpPr>
            <p:cNvPr id="1541" name="Graphic 2"/>
            <p:cNvGrpSpPr/>
            <p:nvPr/>
          </p:nvGrpSpPr>
          <p:grpSpPr>
            <a:xfrm>
              <a:off x="4048200" y="4148280"/>
              <a:ext cx="1535040" cy="215640"/>
              <a:chOff x="4048200" y="4148280"/>
              <a:chExt cx="1535040" cy="215640"/>
            </a:xfrm>
          </p:grpSpPr>
          <p:grpSp>
            <p:nvGrpSpPr>
              <p:cNvPr id="1542" name="Graphic 2"/>
              <p:cNvGrpSpPr/>
              <p:nvPr/>
            </p:nvGrpSpPr>
            <p:grpSpPr>
              <a:xfrm>
                <a:off x="4048200" y="4148280"/>
                <a:ext cx="504720" cy="215640"/>
                <a:chOff x="4048200" y="4148280"/>
                <a:chExt cx="504720" cy="215640"/>
              </a:xfrm>
            </p:grpSpPr>
            <p:sp>
              <p:nvSpPr>
                <p:cNvPr id="1543" name="Freeform: Shape 44"/>
                <p:cNvSpPr/>
                <p:nvPr/>
              </p:nvSpPr>
              <p:spPr>
                <a:xfrm>
                  <a:off x="404820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44" name="Graphic 2" descr=""/>
                <p:cNvPicPr/>
                <p:nvPr/>
              </p:nvPicPr>
              <p:blipFill>
                <a:blip r:embed="rId9"/>
                <a:stretch/>
              </p:blipFill>
              <p:spPr>
                <a:xfrm>
                  <a:off x="4175640" y="4163400"/>
                  <a:ext cx="298800" cy="183240"/>
                </a:xfrm>
                <a:prstGeom prst="rect">
                  <a:avLst/>
                </a:prstGeom>
                <a:ln w="0">
                  <a:noFill/>
                </a:ln>
              </p:spPr>
            </p:pic>
          </p:grpSp>
          <p:grpSp>
            <p:nvGrpSpPr>
              <p:cNvPr id="1545" name="Graphic 2"/>
              <p:cNvGrpSpPr/>
              <p:nvPr/>
            </p:nvGrpSpPr>
            <p:grpSpPr>
              <a:xfrm>
                <a:off x="4563360" y="4148280"/>
                <a:ext cx="504720" cy="215640"/>
                <a:chOff x="4563360" y="4148280"/>
                <a:chExt cx="504720" cy="215640"/>
              </a:xfrm>
            </p:grpSpPr>
            <p:sp>
              <p:nvSpPr>
                <p:cNvPr id="1546" name="Freeform: Shape 39"/>
                <p:cNvSpPr/>
                <p:nvPr/>
              </p:nvSpPr>
              <p:spPr>
                <a:xfrm>
                  <a:off x="456336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47" name="Graphic 2" descr=""/>
                <p:cNvPicPr/>
                <p:nvPr/>
              </p:nvPicPr>
              <p:blipFill>
                <a:blip r:embed="rId10"/>
                <a:stretch/>
              </p:blipFill>
              <p:spPr>
                <a:xfrm>
                  <a:off x="4694040" y="4163400"/>
                  <a:ext cx="298800" cy="183240"/>
                </a:xfrm>
                <a:prstGeom prst="rect">
                  <a:avLst/>
                </a:prstGeom>
                <a:ln w="0">
                  <a:noFill/>
                </a:ln>
              </p:spPr>
            </p:pic>
          </p:grpSp>
          <p:grpSp>
            <p:nvGrpSpPr>
              <p:cNvPr id="1548" name="Graphic 2"/>
              <p:cNvGrpSpPr/>
              <p:nvPr/>
            </p:nvGrpSpPr>
            <p:grpSpPr>
              <a:xfrm>
                <a:off x="5078520" y="4148280"/>
                <a:ext cx="504720" cy="215640"/>
                <a:chOff x="5078520" y="4148280"/>
                <a:chExt cx="504720" cy="215640"/>
              </a:xfrm>
            </p:grpSpPr>
            <p:sp>
              <p:nvSpPr>
                <p:cNvPr id="1549" name="Freeform: Shape 34"/>
                <p:cNvSpPr/>
                <p:nvPr/>
              </p:nvSpPr>
              <p:spPr>
                <a:xfrm>
                  <a:off x="507852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50" name="Graphic 2" descr=""/>
                <p:cNvPicPr/>
                <p:nvPr/>
              </p:nvPicPr>
              <p:blipFill>
                <a:blip r:embed="rId11"/>
                <a:stretch/>
              </p:blipFill>
              <p:spPr>
                <a:xfrm>
                  <a:off x="5205960" y="4163400"/>
                  <a:ext cx="298800" cy="183240"/>
                </a:xfrm>
                <a:prstGeom prst="rect">
                  <a:avLst/>
                </a:prstGeom>
                <a:ln w="0">
                  <a:noFill/>
                </a:ln>
              </p:spPr>
            </p:pic>
          </p:grpSp>
        </p:grpSp>
      </p:grpSp>
      <p:sp>
        <p:nvSpPr>
          <p:cNvPr id="155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552" name="Group 105"/>
          <p:cNvGrpSpPr/>
          <p:nvPr/>
        </p:nvGrpSpPr>
        <p:grpSpPr>
          <a:xfrm>
            <a:off x="644400" y="1981080"/>
            <a:ext cx="5210280" cy="3924360"/>
            <a:chOff x="644400" y="1981080"/>
            <a:chExt cx="5210280" cy="3924360"/>
          </a:xfrm>
        </p:grpSpPr>
        <p:sp>
          <p:nvSpPr>
            <p:cNvPr id="1553" name="Freeform: Shape 3"/>
            <p:cNvSpPr/>
            <p:nvPr/>
          </p:nvSpPr>
          <p:spPr>
            <a:xfrm>
              <a:off x="3807360" y="4268880"/>
              <a:ext cx="204732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54" name="Freeform: Shape 4"/>
            <p:cNvSpPr/>
            <p:nvPr/>
          </p:nvSpPr>
          <p:spPr>
            <a:xfrm>
              <a:off x="4952160" y="436932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55" name="Freeform: Shape 5"/>
            <p:cNvSpPr/>
            <p:nvPr/>
          </p:nvSpPr>
          <p:spPr>
            <a:xfrm>
              <a:off x="4033800" y="4369320"/>
              <a:ext cx="68832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56" name="Freeform: Shape 6"/>
            <p:cNvSpPr/>
            <p:nvPr/>
          </p:nvSpPr>
          <p:spPr>
            <a:xfrm>
              <a:off x="644400" y="4766400"/>
              <a:ext cx="204732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57" name="Freeform: Shape 7"/>
            <p:cNvSpPr/>
            <p:nvPr/>
          </p:nvSpPr>
          <p:spPr>
            <a:xfrm>
              <a:off x="1788480" y="486648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58" name="Freeform: Shape 8"/>
            <p:cNvSpPr/>
            <p:nvPr/>
          </p:nvSpPr>
          <p:spPr>
            <a:xfrm>
              <a:off x="870120" y="4866480"/>
              <a:ext cx="68832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59" name="Freeform: Shape 9"/>
            <p:cNvSpPr/>
            <p:nvPr/>
          </p:nvSpPr>
          <p:spPr>
            <a:xfrm>
              <a:off x="3902760" y="2320560"/>
              <a:ext cx="949320" cy="204804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0" name="Freeform: Shape 10"/>
            <p:cNvSpPr/>
            <p:nvPr/>
          </p:nvSpPr>
          <p:spPr>
            <a:xfrm>
              <a:off x="739080" y="2818080"/>
              <a:ext cx="948960" cy="204804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1" name="Freeform: Shape 11"/>
            <p:cNvSpPr/>
            <p:nvPr/>
          </p:nvSpPr>
          <p:spPr>
            <a:xfrm>
              <a:off x="2968560" y="56077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2" name="Freeform: Shape 12"/>
            <p:cNvSpPr/>
            <p:nvPr/>
          </p:nvSpPr>
          <p:spPr>
            <a:xfrm>
              <a:off x="2318040" y="5753880"/>
              <a:ext cx="185328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3" name="Freeform: Shape 13"/>
            <p:cNvSpPr/>
            <p:nvPr/>
          </p:nvSpPr>
          <p:spPr>
            <a:xfrm>
              <a:off x="3087720" y="221400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4" name="Freeform: Shape 14"/>
            <p:cNvSpPr/>
            <p:nvPr/>
          </p:nvSpPr>
          <p:spPr>
            <a:xfrm>
              <a:off x="3087000" y="23007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5" name="Freeform: Shape 15"/>
            <p:cNvSpPr/>
            <p:nvPr/>
          </p:nvSpPr>
          <p:spPr>
            <a:xfrm>
              <a:off x="3149280" y="212616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6" name="Freeform: Shape 16"/>
            <p:cNvSpPr/>
            <p:nvPr/>
          </p:nvSpPr>
          <p:spPr>
            <a:xfrm>
              <a:off x="3133080" y="2916000"/>
              <a:ext cx="221760" cy="273636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7" name="Freeform: Shape 17"/>
            <p:cNvSpPr/>
            <p:nvPr/>
          </p:nvSpPr>
          <p:spPr>
            <a:xfrm>
              <a:off x="3162240" y="198108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8" name="Freeform: Shape 18"/>
            <p:cNvSpPr/>
            <p:nvPr/>
          </p:nvSpPr>
          <p:spPr>
            <a:xfrm>
              <a:off x="3346560" y="2232000"/>
              <a:ext cx="157572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69" name="Freeform: Shape 19"/>
            <p:cNvSpPr/>
            <p:nvPr/>
          </p:nvSpPr>
          <p:spPr>
            <a:xfrm>
              <a:off x="1576080" y="2470320"/>
              <a:ext cx="156888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70" name="Freeform: Shape 20"/>
            <p:cNvSpPr/>
            <p:nvPr/>
          </p:nvSpPr>
          <p:spPr>
            <a:xfrm rot="21058200">
              <a:off x="3060720" y="240048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71" name="Freeform: Shape 21"/>
            <p:cNvSpPr/>
            <p:nvPr/>
          </p:nvSpPr>
          <p:spPr>
            <a:xfrm rot="21058200">
              <a:off x="3140280" y="248076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72" name="Freeform: Shape 22"/>
            <p:cNvSpPr/>
            <p:nvPr/>
          </p:nvSpPr>
          <p:spPr>
            <a:xfrm rot="21058200">
              <a:off x="3192120" y="253224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73" name="Graphic 2" descr=""/>
            <p:cNvPicPr/>
            <p:nvPr/>
          </p:nvPicPr>
          <p:blipFill>
            <a:blip r:embed="rId12"/>
            <a:stretch/>
          </p:blipFill>
          <p:spPr>
            <a:xfrm>
              <a:off x="2212560" y="2346840"/>
              <a:ext cx="2194560" cy="493560"/>
            </a:xfrm>
            <a:prstGeom prst="rect">
              <a:avLst/>
            </a:prstGeom>
            <a:ln w="0">
              <a:noFill/>
            </a:ln>
          </p:spPr>
        </p:pic>
        <p:sp>
          <p:nvSpPr>
            <p:cNvPr id="1574" name="Freeform: Shape 24"/>
            <p:cNvSpPr/>
            <p:nvPr/>
          </p:nvSpPr>
          <p:spPr>
            <a:xfrm>
              <a:off x="4816080" y="2320560"/>
              <a:ext cx="948960" cy="204804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75" name="Freeform: Shape 25"/>
            <p:cNvSpPr/>
            <p:nvPr/>
          </p:nvSpPr>
          <p:spPr>
            <a:xfrm>
              <a:off x="1652400" y="2818080"/>
              <a:ext cx="948960" cy="204804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576" name="Straight Connector 102"/>
          <p:cNvSpPr/>
          <p:nvPr/>
        </p:nvSpPr>
        <p:spPr>
          <a:xfrm>
            <a:off x="6296040" y="4068720"/>
            <a:ext cx="48196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577" name="Rectangle 170"/>
          <p:cNvSpPr/>
          <p:nvPr/>
        </p:nvSpPr>
        <p:spPr>
          <a:xfrm>
            <a:off x="6186600" y="277812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578" name="Rectangle 173"/>
          <p:cNvSpPr/>
          <p:nvPr/>
        </p:nvSpPr>
        <p:spPr>
          <a:xfrm>
            <a:off x="6311880" y="3387600"/>
            <a:ext cx="2630520" cy="44316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579" name="Rectangle 172"/>
          <p:cNvSpPr/>
          <p:nvPr/>
        </p:nvSpPr>
        <p:spPr>
          <a:xfrm>
            <a:off x="6311880" y="2909880"/>
            <a:ext cx="4303800" cy="44280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pic>
        <p:nvPicPr>
          <p:cNvPr id="1580" name="Graphic 103" descr=""/>
          <p:cNvPicPr/>
          <p:nvPr/>
        </p:nvPicPr>
        <p:blipFill>
          <a:blip r:embed="rId13"/>
          <a:stretch/>
        </p:blipFill>
        <p:spPr>
          <a:xfrm>
            <a:off x="6188040" y="2779560"/>
            <a:ext cx="4626000" cy="1176480"/>
          </a:xfrm>
          <a:prstGeom prst="rect">
            <a:avLst/>
          </a:prstGeom>
          <a:ln w="0">
            <a:noFill/>
          </a:ln>
        </p:spPr>
      </p:pic>
      <p:sp>
        <p:nvSpPr>
          <p:cNvPr id="1581" name="Rectangle 176"/>
          <p:cNvSpPr/>
          <p:nvPr/>
        </p:nvSpPr>
        <p:spPr>
          <a:xfrm>
            <a:off x="6186600" y="516240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582" name="Rectangle 177"/>
          <p:cNvSpPr/>
          <p:nvPr/>
        </p:nvSpPr>
        <p:spPr>
          <a:xfrm>
            <a:off x="6311880" y="5772240"/>
            <a:ext cx="933480" cy="44280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583" name="Rectangle 178"/>
          <p:cNvSpPr/>
          <p:nvPr/>
        </p:nvSpPr>
        <p:spPr>
          <a:xfrm>
            <a:off x="6311880" y="5295960"/>
            <a:ext cx="4303800" cy="44136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pic>
        <p:nvPicPr>
          <p:cNvPr id="1584" name="Graphic 103" descr=""/>
          <p:cNvPicPr/>
          <p:nvPr/>
        </p:nvPicPr>
        <p:blipFill>
          <a:blip r:embed="rId14"/>
          <a:stretch/>
        </p:blipFill>
        <p:spPr>
          <a:xfrm>
            <a:off x="6188040" y="5162400"/>
            <a:ext cx="4626000" cy="1182960"/>
          </a:xfrm>
          <a:prstGeom prst="rect">
            <a:avLst/>
          </a:prstGeom>
          <a:ln w="0">
            <a:noFill/>
          </a:ln>
        </p:spPr>
      </p:pic>
      <p:sp>
        <p:nvSpPr>
          <p:cNvPr id="1585" name="TextBox 213"/>
          <p:cNvSpPr/>
          <p:nvPr/>
        </p:nvSpPr>
        <p:spPr>
          <a:xfrm>
            <a:off x="6327720" y="459432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e1c11e"/>
                </a:solidFill>
                <a:latin typeface="Lato"/>
                <a:ea typeface="Calibri"/>
              </a:rPr>
              <a:t>60%</a:t>
            </a:r>
            <a:endParaRPr b="0" lang="en-US" sz="3600" spc="-1" strike="noStrike">
              <a:solidFill>
                <a:srgbClr val="313c3f"/>
              </a:solidFill>
              <a:latin typeface="Source Sans Pro"/>
            </a:endParaRPr>
          </a:p>
        </p:txBody>
      </p:sp>
      <p:sp>
        <p:nvSpPr>
          <p:cNvPr id="1586" name="Rectangle 214"/>
          <p:cNvSpPr/>
          <p:nvPr/>
        </p:nvSpPr>
        <p:spPr>
          <a:xfrm>
            <a:off x="7510320" y="4578480"/>
            <a:ext cx="3230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sit</a:t>
            </a:r>
            <a:endParaRPr b="0" lang="en-US" sz="1200" spc="-1" strike="noStrike">
              <a:solidFill>
                <a:srgbClr val="313c3f"/>
              </a:solidFill>
              <a:latin typeface="Source Sans Pro"/>
            </a:endParaRPr>
          </a:p>
        </p:txBody>
      </p:sp>
      <p:sp>
        <p:nvSpPr>
          <p:cNvPr id="1587" name="TextBox 215"/>
          <p:cNvSpPr/>
          <p:nvPr/>
        </p:nvSpPr>
        <p:spPr>
          <a:xfrm>
            <a:off x="6365880" y="43149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1588" name="TextBox 216"/>
          <p:cNvSpPr/>
          <p:nvPr/>
        </p:nvSpPr>
        <p:spPr>
          <a:xfrm>
            <a:off x="6328800" y="2178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157d42"/>
                </a:solidFill>
                <a:latin typeface="Lato"/>
                <a:ea typeface="Calibri"/>
              </a:rPr>
              <a:t>80%</a:t>
            </a:r>
            <a:endParaRPr b="0" lang="en-US" sz="4000" spc="-1" strike="noStrike">
              <a:solidFill>
                <a:srgbClr val="313c3f"/>
              </a:solidFill>
              <a:latin typeface="Source Sans Pro"/>
            </a:endParaRPr>
          </a:p>
        </p:txBody>
      </p:sp>
      <p:sp>
        <p:nvSpPr>
          <p:cNvPr id="1589" name="Rectangle 217"/>
          <p:cNvSpPr/>
          <p:nvPr/>
        </p:nvSpPr>
        <p:spPr>
          <a:xfrm>
            <a:off x="7572240" y="2182680"/>
            <a:ext cx="33274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sit</a:t>
            </a:r>
            <a:endParaRPr b="0" lang="en-US" sz="1200" spc="-1" strike="noStrike">
              <a:solidFill>
                <a:srgbClr val="313c3f"/>
              </a:solidFill>
              <a:latin typeface="Source Sans Pro"/>
            </a:endParaRPr>
          </a:p>
        </p:txBody>
      </p:sp>
      <p:sp>
        <p:nvSpPr>
          <p:cNvPr id="1590" name="TextBox 218"/>
          <p:cNvSpPr/>
          <p:nvPr/>
        </p:nvSpPr>
        <p:spPr>
          <a:xfrm>
            <a:off x="6340320" y="187956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1591" name="TextBox 211"/>
          <p:cNvSpPr/>
          <p:nvPr/>
        </p:nvSpPr>
        <p:spPr>
          <a:xfrm>
            <a:off x="1264680" y="52196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c3f"/>
                </a:solidFill>
                <a:latin typeface="Lato"/>
                <a:ea typeface="Calibri"/>
              </a:rPr>
              <a:t>2005</a:t>
            </a:r>
            <a:endParaRPr b="0" lang="en-US" sz="2000" spc="-1" strike="noStrike">
              <a:solidFill>
                <a:srgbClr val="313c3f"/>
              </a:solidFill>
              <a:latin typeface="Source Sans Pro"/>
            </a:endParaRPr>
          </a:p>
        </p:txBody>
      </p:sp>
      <p:sp>
        <p:nvSpPr>
          <p:cNvPr id="1592" name="TextBox 212"/>
          <p:cNvSpPr/>
          <p:nvPr/>
        </p:nvSpPr>
        <p:spPr>
          <a:xfrm>
            <a:off x="4492080" y="4686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c3f"/>
                </a:solidFill>
                <a:latin typeface="Lato"/>
                <a:ea typeface="Calibri"/>
              </a:rPr>
              <a:t>2010</a:t>
            </a:r>
            <a:endParaRPr b="0" lang="en-US" sz="2000" spc="-1" strike="noStrike">
              <a:solidFill>
                <a:srgbClr val="313c3f"/>
              </a:solidFill>
              <a:latin typeface="Source Sans Pro"/>
            </a:endParaRPr>
          </a:p>
        </p:txBody>
      </p:sp>
    </p:spTree>
  </p:cSld>
  <p:transition spd="med">
    <p:fade/>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10">
                                  <p:stCondLst>
                                    <p:cond delay="0"/>
                                  </p:stCondLst>
                                  <p:childTnLst>
                                    <p:set>
                                      <p:cBhvr>
                                        <p:cTn id="1603" dur="1" fill="hold">
                                          <p:stCondLst>
                                            <p:cond delay="0"/>
                                          </p:stCondLst>
                                        </p:cTn>
                                        <p:tgtEl>
                                          <p:spTgt spid="1551"/>
                                        </p:tgtEl>
                                        <p:attrNameLst>
                                          <p:attrName>style.visibility</p:attrName>
                                        </p:attrNameLst>
                                      </p:cBhvr>
                                      <p:to>
                                        <p:strVal val="visible"/>
                                      </p:to>
                                    </p:set>
                                    <p:animEffect filter="fade" transition="in">
                                      <p:cBhvr additive="repl">
                                        <p:cTn id="1604" dur="500"/>
                                        <p:tgtEl>
                                          <p:spTgt spid="1551"/>
                                        </p:tgtEl>
                                      </p:cBhvr>
                                    </p:animEffect>
                                  </p:childTnLst>
                                </p:cTn>
                              </p:par>
                            </p:childTnLst>
                          </p:cTn>
                        </p:par>
                        <p:par>
                          <p:cTn id="1605" nodeType="afterEffect" fill="hold">
                            <p:stCondLst>
                              <p:cond delay="500"/>
                            </p:stCondLst>
                            <p:childTnLst>
                              <p:par>
                                <p:cTn id="1606" nodeType="afterEffect" fill="hold" presetClass="entr" presetID="10">
                                  <p:stCondLst>
                                    <p:cond delay="0"/>
                                  </p:stCondLst>
                                  <p:childTnLst>
                                    <p:set>
                                      <p:cBhvr>
                                        <p:cTn id="1607" dur="1" fill="hold">
                                          <p:stCondLst>
                                            <p:cond delay="0"/>
                                          </p:stCondLst>
                                        </p:cTn>
                                        <p:tgtEl>
                                          <p:spTgt spid="1552"/>
                                        </p:tgtEl>
                                        <p:attrNameLst>
                                          <p:attrName>style.visibility</p:attrName>
                                        </p:attrNameLst>
                                      </p:cBhvr>
                                      <p:to>
                                        <p:strVal val="visible"/>
                                      </p:to>
                                    </p:set>
                                    <p:animEffect filter="fade" transition="in">
                                      <p:cBhvr additive="repl">
                                        <p:cTn id="1608" dur="500"/>
                                        <p:tgtEl>
                                          <p:spTgt spid="1552"/>
                                        </p:tgtEl>
                                      </p:cBhvr>
                                    </p:animEffect>
                                  </p:childTnLst>
                                </p:cTn>
                              </p:par>
                            </p:childTnLst>
                          </p:cTn>
                        </p:par>
                        <p:par>
                          <p:cTn id="1609" nodeType="afterEffect" fill="hold">
                            <p:stCondLst>
                              <p:cond delay="1000"/>
                            </p:stCondLst>
                            <p:childTnLst>
                              <p:par>
                                <p:cTn id="1610" nodeType="afterEffect" fill="hold" presetClass="entr" presetID="10">
                                  <p:stCondLst>
                                    <p:cond delay="0"/>
                                  </p:stCondLst>
                                  <p:childTnLst>
                                    <p:set>
                                      <p:cBhvr>
                                        <p:cTn id="1611" dur="1" fill="hold">
                                          <p:stCondLst>
                                            <p:cond delay="0"/>
                                          </p:stCondLst>
                                        </p:cTn>
                                        <p:tgtEl>
                                          <p:spTgt spid="1512"/>
                                        </p:tgtEl>
                                        <p:attrNameLst>
                                          <p:attrName>style.visibility</p:attrName>
                                        </p:attrNameLst>
                                      </p:cBhvr>
                                      <p:to>
                                        <p:strVal val="visible"/>
                                      </p:to>
                                    </p:set>
                                    <p:animEffect filter="fade" transition="in">
                                      <p:cBhvr additive="repl">
                                        <p:cTn id="1612" dur="500"/>
                                        <p:tgtEl>
                                          <p:spTgt spid="1512"/>
                                        </p:tgtEl>
                                      </p:cBhvr>
                                    </p:animEffect>
                                  </p:childTnLst>
                                </p:cTn>
                              </p:par>
                            </p:childTnLst>
                          </p:cTn>
                        </p:par>
                        <p:par>
                          <p:cTn id="1613" nodeType="afterEffect" fill="hold">
                            <p:stCondLst>
                              <p:cond delay="1500"/>
                            </p:stCondLst>
                            <p:childTnLst>
                              <p:par>
                                <p:cTn id="1614" nodeType="afterEffect" fill="hold" presetClass="entr" presetID="10">
                                  <p:stCondLst>
                                    <p:cond delay="0"/>
                                  </p:stCondLst>
                                  <p:childTnLst>
                                    <p:set>
                                      <p:cBhvr>
                                        <p:cTn id="1615" dur="1" fill="hold">
                                          <p:stCondLst>
                                            <p:cond delay="0"/>
                                          </p:stCondLst>
                                        </p:cTn>
                                        <p:tgtEl>
                                          <p:spTgt spid="1591"/>
                                        </p:tgtEl>
                                        <p:attrNameLst>
                                          <p:attrName>style.visibility</p:attrName>
                                        </p:attrNameLst>
                                      </p:cBhvr>
                                      <p:to>
                                        <p:strVal val="visible"/>
                                      </p:to>
                                    </p:set>
                                    <p:animEffect filter="fade" transition="in">
                                      <p:cBhvr additive="repl">
                                        <p:cTn id="1616" dur="500"/>
                                        <p:tgtEl>
                                          <p:spTgt spid="1591"/>
                                        </p:tgtEl>
                                      </p:cBhvr>
                                    </p:animEffect>
                                  </p:childTnLst>
                                </p:cTn>
                              </p:par>
                            </p:childTnLst>
                          </p:cTn>
                        </p:par>
                        <p:par>
                          <p:cTn id="1617" nodeType="afterEffect" fill="hold">
                            <p:stCondLst>
                              <p:cond delay="2000"/>
                            </p:stCondLst>
                            <p:childTnLst>
                              <p:par>
                                <p:cTn id="1618" nodeType="afterEffect" fill="hold" presetClass="entr" presetID="10">
                                  <p:stCondLst>
                                    <p:cond delay="0"/>
                                  </p:stCondLst>
                                  <p:childTnLst>
                                    <p:set>
                                      <p:cBhvr>
                                        <p:cTn id="1619" dur="1" fill="hold">
                                          <p:stCondLst>
                                            <p:cond delay="0"/>
                                          </p:stCondLst>
                                        </p:cTn>
                                        <p:tgtEl>
                                          <p:spTgt spid="1533"/>
                                        </p:tgtEl>
                                        <p:attrNameLst>
                                          <p:attrName>style.visibility</p:attrName>
                                        </p:attrNameLst>
                                      </p:cBhvr>
                                      <p:to>
                                        <p:strVal val="visible"/>
                                      </p:to>
                                    </p:set>
                                    <p:animEffect filter="fade" transition="in">
                                      <p:cBhvr additive="repl">
                                        <p:cTn id="1620" dur="500"/>
                                        <p:tgtEl>
                                          <p:spTgt spid="1533"/>
                                        </p:tgtEl>
                                      </p:cBhvr>
                                    </p:animEffect>
                                  </p:childTnLst>
                                </p:cTn>
                              </p:par>
                            </p:childTnLst>
                          </p:cTn>
                        </p:par>
                        <p:par>
                          <p:cTn id="1621" nodeType="afterEffect" fill="hold">
                            <p:stCondLst>
                              <p:cond delay="2500"/>
                            </p:stCondLst>
                            <p:childTnLst>
                              <p:par>
                                <p:cTn id="1622" nodeType="afterEffect" fill="hold" presetClass="entr" presetID="10">
                                  <p:stCondLst>
                                    <p:cond delay="0"/>
                                  </p:stCondLst>
                                  <p:childTnLst>
                                    <p:set>
                                      <p:cBhvr>
                                        <p:cTn id="1623" dur="1" fill="hold">
                                          <p:stCondLst>
                                            <p:cond delay="0"/>
                                          </p:stCondLst>
                                        </p:cTn>
                                        <p:tgtEl>
                                          <p:spTgt spid="1592">
                                            <p:txEl>
                                              <p:pRg st="0" end="0"/>
                                            </p:txEl>
                                          </p:spTgt>
                                        </p:tgtEl>
                                        <p:attrNameLst>
                                          <p:attrName>style.visibility</p:attrName>
                                        </p:attrNameLst>
                                      </p:cBhvr>
                                      <p:to>
                                        <p:strVal val="visible"/>
                                      </p:to>
                                    </p:set>
                                    <p:animEffect filter="fade" transition="in">
                                      <p:cBhvr additive="repl">
                                        <p:cTn id="1624" dur="500"/>
                                        <p:tgtEl>
                                          <p:spTgt spid="1592">
                                            <p:txEl>
                                              <p:pRg st="0" end="0"/>
                                            </p:txEl>
                                          </p:spTgt>
                                        </p:tgtEl>
                                      </p:cBhvr>
                                    </p:animEffect>
                                  </p:childTnLst>
                                </p:cTn>
                              </p:par>
                            </p:childTnLst>
                          </p:cTn>
                        </p:par>
                        <p:par>
                          <p:cTn id="1625" nodeType="afterEffect" fill="hold">
                            <p:stCondLst>
                              <p:cond delay="3000"/>
                            </p:stCondLst>
                            <p:childTnLst>
                              <p:par>
                                <p:cTn id="1626" nodeType="afterEffect" fill="hold" presetClass="entr" presetID="10">
                                  <p:stCondLst>
                                    <p:cond delay="0"/>
                                  </p:stCondLst>
                                  <p:childTnLst>
                                    <p:set>
                                      <p:cBhvr>
                                        <p:cTn id="1627" dur="1" fill="hold">
                                          <p:stCondLst>
                                            <p:cond delay="0"/>
                                          </p:stCondLst>
                                        </p:cTn>
                                        <p:tgtEl>
                                          <p:spTgt spid="1590"/>
                                        </p:tgtEl>
                                        <p:attrNameLst>
                                          <p:attrName>style.visibility</p:attrName>
                                        </p:attrNameLst>
                                      </p:cBhvr>
                                      <p:to>
                                        <p:strVal val="visible"/>
                                      </p:to>
                                    </p:set>
                                    <p:animEffect filter="fade" transition="in">
                                      <p:cBhvr additive="repl">
                                        <p:cTn id="1628" dur="500"/>
                                        <p:tgtEl>
                                          <p:spTgt spid="1590"/>
                                        </p:tgtEl>
                                      </p:cBhvr>
                                    </p:animEffect>
                                  </p:childTnLst>
                                </p:cTn>
                              </p:par>
                              <p:par>
                                <p:cTn id="1629" nodeType="withEffect" fill="hold" presetClass="entr" presetID="10">
                                  <p:stCondLst>
                                    <p:cond delay="0"/>
                                  </p:stCondLst>
                                  <p:childTnLst>
                                    <p:set>
                                      <p:cBhvr>
                                        <p:cTn id="1630" dur="1" fill="hold">
                                          <p:stCondLst>
                                            <p:cond delay="0"/>
                                          </p:stCondLst>
                                        </p:cTn>
                                        <p:tgtEl>
                                          <p:spTgt spid="1587"/>
                                        </p:tgtEl>
                                        <p:attrNameLst>
                                          <p:attrName>style.visibility</p:attrName>
                                        </p:attrNameLst>
                                      </p:cBhvr>
                                      <p:to>
                                        <p:strVal val="visible"/>
                                      </p:to>
                                    </p:set>
                                    <p:animEffect filter="fade" transition="in">
                                      <p:cBhvr additive="repl">
                                        <p:cTn id="1631" dur="500"/>
                                        <p:tgtEl>
                                          <p:spTgt spid="1587"/>
                                        </p:tgtEl>
                                      </p:cBhvr>
                                    </p:animEffect>
                                  </p:childTnLst>
                                </p:cTn>
                              </p:par>
                              <p:par>
                                <p:cTn id="1632" nodeType="withEffect" fill="hold" presetClass="entr" presetID="10">
                                  <p:stCondLst>
                                    <p:cond delay="0"/>
                                  </p:stCondLst>
                                  <p:childTnLst>
                                    <p:set>
                                      <p:cBhvr>
                                        <p:cTn id="1633" dur="1" fill="hold">
                                          <p:stCondLst>
                                            <p:cond delay="0"/>
                                          </p:stCondLst>
                                        </p:cTn>
                                        <p:tgtEl>
                                          <p:spTgt spid="1588"/>
                                        </p:tgtEl>
                                        <p:attrNameLst>
                                          <p:attrName>style.visibility</p:attrName>
                                        </p:attrNameLst>
                                      </p:cBhvr>
                                      <p:to>
                                        <p:strVal val="visible"/>
                                      </p:to>
                                    </p:set>
                                    <p:animEffect filter="fade" transition="in">
                                      <p:cBhvr additive="repl">
                                        <p:cTn id="1634" dur="500"/>
                                        <p:tgtEl>
                                          <p:spTgt spid="1588"/>
                                        </p:tgtEl>
                                      </p:cBhvr>
                                    </p:animEffect>
                                  </p:childTnLst>
                                </p:cTn>
                              </p:par>
                              <p:par>
                                <p:cTn id="1635" nodeType="withEffect" fill="hold" presetClass="entr" presetID="10">
                                  <p:stCondLst>
                                    <p:cond delay="0"/>
                                  </p:stCondLst>
                                  <p:childTnLst>
                                    <p:set>
                                      <p:cBhvr>
                                        <p:cTn id="1636" dur="1" fill="hold">
                                          <p:stCondLst>
                                            <p:cond delay="0"/>
                                          </p:stCondLst>
                                        </p:cTn>
                                        <p:tgtEl>
                                          <p:spTgt spid="1585"/>
                                        </p:tgtEl>
                                        <p:attrNameLst>
                                          <p:attrName>style.visibility</p:attrName>
                                        </p:attrNameLst>
                                      </p:cBhvr>
                                      <p:to>
                                        <p:strVal val="visible"/>
                                      </p:to>
                                    </p:set>
                                    <p:animEffect filter="fade" transition="in">
                                      <p:cBhvr additive="repl">
                                        <p:cTn id="1637" dur="500"/>
                                        <p:tgtEl>
                                          <p:spTgt spid="1585"/>
                                        </p:tgtEl>
                                      </p:cBhvr>
                                    </p:animEffect>
                                  </p:childTnLst>
                                </p:cTn>
                              </p:par>
                              <p:par>
                                <p:cTn id="1638" nodeType="withEffect" fill="hold" presetClass="entr" presetID="22" presetSubtype="8">
                                  <p:stCondLst>
                                    <p:cond delay="0"/>
                                  </p:stCondLst>
                                  <p:childTnLst>
                                    <p:set>
                                      <p:cBhvr>
                                        <p:cTn id="1639" dur="1" fill="hold">
                                          <p:stCondLst>
                                            <p:cond delay="0"/>
                                          </p:stCondLst>
                                        </p:cTn>
                                        <p:tgtEl>
                                          <p:spTgt spid="1576"/>
                                        </p:tgtEl>
                                        <p:attrNameLst>
                                          <p:attrName>style.visibility</p:attrName>
                                        </p:attrNameLst>
                                      </p:cBhvr>
                                      <p:to>
                                        <p:strVal val="visible"/>
                                      </p:to>
                                    </p:set>
                                    <p:animEffect filter="wipe(left)" transition="in">
                                      <p:cBhvr additive="repl">
                                        <p:cTn id="1640" dur="500"/>
                                        <p:tgtEl>
                                          <p:spTgt spid="1576"/>
                                        </p:tgtEl>
                                      </p:cBhvr>
                                    </p:animEffect>
                                  </p:childTnLst>
                                </p:cTn>
                              </p:par>
                            </p:childTnLst>
                          </p:cTn>
                        </p:par>
                        <p:par>
                          <p:cTn id="1641" nodeType="afterEffect" fill="hold">
                            <p:stCondLst>
                              <p:cond delay="3500"/>
                            </p:stCondLst>
                            <p:childTnLst>
                              <p:par>
                                <p:cTn id="1642" nodeType="afterEffect" fill="hold" presetClass="entr" presetID="10">
                                  <p:stCondLst>
                                    <p:cond delay="0"/>
                                  </p:stCondLst>
                                  <p:childTnLst>
                                    <p:set>
                                      <p:cBhvr>
                                        <p:cTn id="1643" dur="1" fill="hold">
                                          <p:stCondLst>
                                            <p:cond delay="0"/>
                                          </p:stCondLst>
                                        </p:cTn>
                                        <p:tgtEl>
                                          <p:spTgt spid="1589"/>
                                        </p:tgtEl>
                                        <p:attrNameLst>
                                          <p:attrName>style.visibility</p:attrName>
                                        </p:attrNameLst>
                                      </p:cBhvr>
                                      <p:to>
                                        <p:strVal val="visible"/>
                                      </p:to>
                                    </p:set>
                                    <p:animEffect filter="fade" transition="in">
                                      <p:cBhvr additive="repl">
                                        <p:cTn id="1644" dur="500"/>
                                        <p:tgtEl>
                                          <p:spTgt spid="1589"/>
                                        </p:tgtEl>
                                      </p:cBhvr>
                                    </p:animEffect>
                                  </p:childTnLst>
                                </p:cTn>
                              </p:par>
                              <p:par>
                                <p:cTn id="1645" nodeType="withEffect" fill="hold" presetClass="entr" presetID="10">
                                  <p:stCondLst>
                                    <p:cond delay="0"/>
                                  </p:stCondLst>
                                  <p:childTnLst>
                                    <p:set>
                                      <p:cBhvr>
                                        <p:cTn id="1646" dur="1" fill="hold">
                                          <p:stCondLst>
                                            <p:cond delay="0"/>
                                          </p:stCondLst>
                                        </p:cTn>
                                        <p:tgtEl>
                                          <p:spTgt spid="1586"/>
                                        </p:tgtEl>
                                        <p:attrNameLst>
                                          <p:attrName>style.visibility</p:attrName>
                                        </p:attrNameLst>
                                      </p:cBhvr>
                                      <p:to>
                                        <p:strVal val="visible"/>
                                      </p:to>
                                    </p:set>
                                    <p:animEffect filter="fade" transition="in">
                                      <p:cBhvr additive="repl">
                                        <p:cTn id="1647" dur="500"/>
                                        <p:tgtEl>
                                          <p:spTgt spid="1586"/>
                                        </p:tgtEl>
                                      </p:cBhvr>
                                    </p:animEffect>
                                  </p:childTnLst>
                                </p:cTn>
                              </p:par>
                            </p:childTnLst>
                          </p:cTn>
                        </p:par>
                        <p:par>
                          <p:cTn id="1648" nodeType="afterEffect" fill="hold">
                            <p:stCondLst>
                              <p:cond delay="4000"/>
                            </p:stCondLst>
                            <p:childTnLst>
                              <p:par>
                                <p:cTn id="1649" nodeType="afterEffect" fill="hold" presetClass="entr" presetID="10">
                                  <p:stCondLst>
                                    <p:cond delay="0"/>
                                  </p:stCondLst>
                                  <p:childTnLst>
                                    <p:set>
                                      <p:cBhvr>
                                        <p:cTn id="1650" dur="1" fill="hold">
                                          <p:stCondLst>
                                            <p:cond delay="0"/>
                                          </p:stCondLst>
                                        </p:cTn>
                                        <p:tgtEl>
                                          <p:spTgt spid="1577"/>
                                        </p:tgtEl>
                                        <p:attrNameLst>
                                          <p:attrName>style.visibility</p:attrName>
                                        </p:attrNameLst>
                                      </p:cBhvr>
                                      <p:to>
                                        <p:strVal val="visible"/>
                                      </p:to>
                                    </p:set>
                                    <p:animEffect filter="fade" transition="in">
                                      <p:cBhvr additive="repl">
                                        <p:cTn id="1651" dur="500"/>
                                        <p:tgtEl>
                                          <p:spTgt spid="1577"/>
                                        </p:tgtEl>
                                      </p:cBhvr>
                                    </p:animEffect>
                                  </p:childTnLst>
                                </p:cTn>
                              </p:par>
                              <p:par>
                                <p:cTn id="1652" nodeType="withEffect" fill="hold" presetClass="entr" presetID="10">
                                  <p:stCondLst>
                                    <p:cond delay="0"/>
                                  </p:stCondLst>
                                  <p:childTnLst>
                                    <p:set>
                                      <p:cBhvr>
                                        <p:cTn id="1653" dur="1" fill="hold">
                                          <p:stCondLst>
                                            <p:cond delay="0"/>
                                          </p:stCondLst>
                                        </p:cTn>
                                        <p:tgtEl>
                                          <p:spTgt spid="1580"/>
                                        </p:tgtEl>
                                        <p:attrNameLst>
                                          <p:attrName>style.visibility</p:attrName>
                                        </p:attrNameLst>
                                      </p:cBhvr>
                                      <p:to>
                                        <p:strVal val="visible"/>
                                      </p:to>
                                    </p:set>
                                    <p:animEffect filter="fade" transition="in">
                                      <p:cBhvr additive="repl">
                                        <p:cTn id="1654" dur="500"/>
                                        <p:tgtEl>
                                          <p:spTgt spid="1580"/>
                                        </p:tgtEl>
                                      </p:cBhvr>
                                    </p:animEffect>
                                  </p:childTnLst>
                                </p:cTn>
                              </p:par>
                              <p:par>
                                <p:cTn id="1655" nodeType="withEffect" fill="hold" presetClass="entr" presetID="10">
                                  <p:stCondLst>
                                    <p:cond delay="0"/>
                                  </p:stCondLst>
                                  <p:childTnLst>
                                    <p:set>
                                      <p:cBhvr>
                                        <p:cTn id="1656" dur="1" fill="hold">
                                          <p:stCondLst>
                                            <p:cond delay="0"/>
                                          </p:stCondLst>
                                        </p:cTn>
                                        <p:tgtEl>
                                          <p:spTgt spid="1581"/>
                                        </p:tgtEl>
                                        <p:attrNameLst>
                                          <p:attrName>style.visibility</p:attrName>
                                        </p:attrNameLst>
                                      </p:cBhvr>
                                      <p:to>
                                        <p:strVal val="visible"/>
                                      </p:to>
                                    </p:set>
                                    <p:animEffect filter="fade" transition="in">
                                      <p:cBhvr additive="repl">
                                        <p:cTn id="1657" dur="500"/>
                                        <p:tgtEl>
                                          <p:spTgt spid="1581"/>
                                        </p:tgtEl>
                                      </p:cBhvr>
                                    </p:animEffect>
                                  </p:childTnLst>
                                </p:cTn>
                              </p:par>
                              <p:par>
                                <p:cTn id="1658" nodeType="withEffect" fill="hold" presetClass="entr" presetID="10">
                                  <p:stCondLst>
                                    <p:cond delay="0"/>
                                  </p:stCondLst>
                                  <p:childTnLst>
                                    <p:set>
                                      <p:cBhvr>
                                        <p:cTn id="1659" dur="1" fill="hold">
                                          <p:stCondLst>
                                            <p:cond delay="0"/>
                                          </p:stCondLst>
                                        </p:cTn>
                                        <p:tgtEl>
                                          <p:spTgt spid="1584"/>
                                        </p:tgtEl>
                                        <p:attrNameLst>
                                          <p:attrName>style.visibility</p:attrName>
                                        </p:attrNameLst>
                                      </p:cBhvr>
                                      <p:to>
                                        <p:strVal val="visible"/>
                                      </p:to>
                                    </p:set>
                                    <p:animEffect filter="fade" transition="in">
                                      <p:cBhvr additive="repl">
                                        <p:cTn id="1660" dur="500"/>
                                        <p:tgtEl>
                                          <p:spTgt spid="1584"/>
                                        </p:tgtEl>
                                      </p:cBhvr>
                                    </p:animEffect>
                                  </p:childTnLst>
                                </p:cTn>
                              </p:par>
                            </p:childTnLst>
                          </p:cTn>
                        </p:par>
                        <p:par>
                          <p:cTn id="1661" nodeType="afterEffect" fill="hold">
                            <p:stCondLst>
                              <p:cond delay="4500"/>
                            </p:stCondLst>
                            <p:childTnLst>
                              <p:par>
                                <p:cTn id="1662" nodeType="afterEffect" fill="hold" presetClass="entr" presetID="22" presetSubtype="8">
                                  <p:stCondLst>
                                    <p:cond delay="0"/>
                                  </p:stCondLst>
                                  <p:childTnLst>
                                    <p:set>
                                      <p:cBhvr>
                                        <p:cTn id="1663" dur="1" fill="hold">
                                          <p:stCondLst>
                                            <p:cond delay="0"/>
                                          </p:stCondLst>
                                        </p:cTn>
                                        <p:tgtEl>
                                          <p:spTgt spid="1583"/>
                                        </p:tgtEl>
                                        <p:attrNameLst>
                                          <p:attrName>style.visibility</p:attrName>
                                        </p:attrNameLst>
                                      </p:cBhvr>
                                      <p:to>
                                        <p:strVal val="visible"/>
                                      </p:to>
                                    </p:set>
                                    <p:animEffect filter="wipe(left)" transition="in">
                                      <p:cBhvr additive="repl">
                                        <p:cTn id="1664" dur="500"/>
                                        <p:tgtEl>
                                          <p:spTgt spid="1583"/>
                                        </p:tgtEl>
                                      </p:cBhvr>
                                    </p:animEffect>
                                  </p:childTnLst>
                                </p:cTn>
                              </p:par>
                              <p:par>
                                <p:cTn id="1665" nodeType="withEffect" fill="hold" presetClass="entr" presetID="22" presetSubtype="8">
                                  <p:stCondLst>
                                    <p:cond delay="0"/>
                                  </p:stCondLst>
                                  <p:childTnLst>
                                    <p:set>
                                      <p:cBhvr>
                                        <p:cTn id="1666" dur="1" fill="hold">
                                          <p:stCondLst>
                                            <p:cond delay="0"/>
                                          </p:stCondLst>
                                        </p:cTn>
                                        <p:tgtEl>
                                          <p:spTgt spid="1579"/>
                                        </p:tgtEl>
                                        <p:attrNameLst>
                                          <p:attrName>style.visibility</p:attrName>
                                        </p:attrNameLst>
                                      </p:cBhvr>
                                      <p:to>
                                        <p:strVal val="visible"/>
                                      </p:to>
                                    </p:set>
                                    <p:animEffect filter="wipe(left)" transition="in">
                                      <p:cBhvr additive="repl">
                                        <p:cTn id="1667" dur="500"/>
                                        <p:tgtEl>
                                          <p:spTgt spid="1579"/>
                                        </p:tgtEl>
                                      </p:cBhvr>
                                    </p:animEffect>
                                  </p:childTnLst>
                                </p:cTn>
                              </p:par>
                            </p:childTnLst>
                          </p:cTn>
                        </p:par>
                        <p:par>
                          <p:cTn id="1668" nodeType="afterEffect" fill="hold">
                            <p:stCondLst>
                              <p:cond delay="5000"/>
                            </p:stCondLst>
                            <p:childTnLst>
                              <p:par>
                                <p:cTn id="1669" nodeType="afterEffect" fill="hold" presetClass="entr" presetID="22" presetSubtype="8">
                                  <p:stCondLst>
                                    <p:cond delay="0"/>
                                  </p:stCondLst>
                                  <p:childTnLst>
                                    <p:set>
                                      <p:cBhvr>
                                        <p:cTn id="1670" dur="1" fill="hold">
                                          <p:stCondLst>
                                            <p:cond delay="0"/>
                                          </p:stCondLst>
                                        </p:cTn>
                                        <p:tgtEl>
                                          <p:spTgt spid="1578"/>
                                        </p:tgtEl>
                                        <p:attrNameLst>
                                          <p:attrName>style.visibility</p:attrName>
                                        </p:attrNameLst>
                                      </p:cBhvr>
                                      <p:to>
                                        <p:strVal val="visible"/>
                                      </p:to>
                                    </p:set>
                                    <p:animEffect filter="wipe(left)" transition="in">
                                      <p:cBhvr additive="repl">
                                        <p:cTn id="1671" dur="500"/>
                                        <p:tgtEl>
                                          <p:spTgt spid="1578"/>
                                        </p:tgtEl>
                                      </p:cBhvr>
                                    </p:animEffect>
                                  </p:childTnLst>
                                </p:cTn>
                              </p:par>
                              <p:par>
                                <p:cTn id="1672" nodeType="withEffect" fill="hold" presetClass="entr" presetID="22" presetSubtype="8">
                                  <p:stCondLst>
                                    <p:cond delay="0"/>
                                  </p:stCondLst>
                                  <p:childTnLst>
                                    <p:set>
                                      <p:cBhvr>
                                        <p:cTn id="1673" dur="1" fill="hold">
                                          <p:stCondLst>
                                            <p:cond delay="0"/>
                                          </p:stCondLst>
                                        </p:cTn>
                                        <p:tgtEl>
                                          <p:spTgt spid="1582"/>
                                        </p:tgtEl>
                                        <p:attrNameLst>
                                          <p:attrName>style.visibility</p:attrName>
                                        </p:attrNameLst>
                                      </p:cBhvr>
                                      <p:to>
                                        <p:strVal val="visible"/>
                                      </p:to>
                                    </p:set>
                                    <p:animEffect filter="wipe(left)" transition="in">
                                      <p:cBhvr additive="repl">
                                        <p:cTn id="1674"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594" name="Graphic 1"/>
          <p:cNvGrpSpPr/>
          <p:nvPr/>
        </p:nvGrpSpPr>
        <p:grpSpPr>
          <a:xfrm>
            <a:off x="7551720" y="1668600"/>
            <a:ext cx="1155600" cy="1542960"/>
            <a:chOff x="7551720" y="1668600"/>
            <a:chExt cx="1155600" cy="1542960"/>
          </a:xfrm>
        </p:grpSpPr>
        <p:sp>
          <p:nvSpPr>
            <p:cNvPr id="1595" name="Freeform: Shape 26"/>
            <p:cNvSpPr/>
            <p:nvPr/>
          </p:nvSpPr>
          <p:spPr>
            <a:xfrm>
              <a:off x="7578360" y="1711080"/>
              <a:ext cx="1103400" cy="1455120"/>
            </a:xfrm>
            <a:custGeom>
              <a:avLst/>
              <a:gdLst/>
              <a:ahLst/>
              <a:rect l="l" t="t" r="r" b="b"/>
              <a:pathLst>
                <a:path w="1279207" h="1688782">
                  <a:moveTo>
                    <a:pt x="0" y="0"/>
                  </a:moveTo>
                  <a:lnTo>
                    <a:pt x="1279207" y="0"/>
                  </a:lnTo>
                  <a:lnTo>
                    <a:pt x="1279207" y="1390650"/>
                  </a:lnTo>
                  <a:cubicBezTo>
                    <a:pt x="1279207" y="1489710"/>
                    <a:pt x="1279207" y="1589723"/>
                    <a:pt x="1279207" y="1688783"/>
                  </a:cubicBezTo>
                  <a:lnTo>
                    <a:pt x="0" y="1688783"/>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596" name="Freeform: Shape 27"/>
            <p:cNvSpPr/>
            <p:nvPr/>
          </p:nvSpPr>
          <p:spPr>
            <a:xfrm>
              <a:off x="8246520" y="1754280"/>
              <a:ext cx="374400" cy="1368360"/>
            </a:xfrm>
            <a:custGeom>
              <a:avLst/>
              <a:gdLst/>
              <a:ahLst/>
              <a:rect l="l" t="t" r="r" b="b"/>
              <a:pathLst>
                <a:path w="434339" h="1587817">
                  <a:moveTo>
                    <a:pt x="0" y="302895"/>
                  </a:moveTo>
                  <a:lnTo>
                    <a:pt x="434340" y="302895"/>
                  </a:lnTo>
                  <a:lnTo>
                    <a:pt x="434340" y="0"/>
                  </a:lnTo>
                  <a:lnTo>
                    <a:pt x="0" y="0"/>
                  </a:lnTo>
                  <a:lnTo>
                    <a:pt x="0" y="302895"/>
                  </a:lnTo>
                  <a:close/>
                  <a:moveTo>
                    <a:pt x="0" y="1133475"/>
                  </a:moveTo>
                  <a:lnTo>
                    <a:pt x="434340" y="1133475"/>
                  </a:lnTo>
                  <a:lnTo>
                    <a:pt x="434340" y="454343"/>
                  </a:lnTo>
                  <a:lnTo>
                    <a:pt x="0" y="454343"/>
                  </a:lnTo>
                  <a:lnTo>
                    <a:pt x="0" y="1133475"/>
                  </a:lnTo>
                  <a:close/>
                  <a:moveTo>
                    <a:pt x="0" y="1587818"/>
                  </a:moveTo>
                  <a:lnTo>
                    <a:pt x="434340" y="1587818"/>
                  </a:lnTo>
                  <a:cubicBezTo>
                    <a:pt x="434340" y="1504950"/>
                    <a:pt x="434340" y="1422083"/>
                    <a:pt x="434340" y="1340168"/>
                  </a:cubicBezTo>
                  <a:lnTo>
                    <a:pt x="434340" y="1285875"/>
                  </a:lnTo>
                  <a:lnTo>
                    <a:pt x="0" y="1285875"/>
                  </a:lnTo>
                  <a:lnTo>
                    <a:pt x="0" y="1587818"/>
                  </a:lnTo>
                  <a:close/>
                </a:path>
              </a:pathLst>
            </a:custGeom>
            <a:solidFill>
              <a:srgbClr val="dc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597" name="Graphic 1" descr=""/>
            <p:cNvPicPr/>
            <p:nvPr/>
          </p:nvPicPr>
          <p:blipFill>
            <a:blip r:embed="rId1"/>
            <a:stretch/>
          </p:blipFill>
          <p:spPr>
            <a:xfrm>
              <a:off x="7551720" y="1668600"/>
              <a:ext cx="1155600" cy="1542960"/>
            </a:xfrm>
            <a:prstGeom prst="rect">
              <a:avLst/>
            </a:prstGeom>
            <a:ln w="0">
              <a:noFill/>
            </a:ln>
          </p:spPr>
        </p:pic>
        <p:pic>
          <p:nvPicPr>
            <p:cNvPr id="1598" name="Graphic 1" descr=""/>
            <p:cNvPicPr/>
            <p:nvPr/>
          </p:nvPicPr>
          <p:blipFill>
            <a:blip r:embed="rId2"/>
            <a:stretch/>
          </p:blipFill>
          <p:spPr>
            <a:xfrm>
              <a:off x="7557480" y="1680480"/>
              <a:ext cx="1143720" cy="1524960"/>
            </a:xfrm>
            <a:prstGeom prst="rect">
              <a:avLst/>
            </a:prstGeom>
            <a:ln w="0">
              <a:noFill/>
            </a:ln>
          </p:spPr>
        </p:pic>
        <p:pic>
          <p:nvPicPr>
            <p:cNvPr id="1599" name="Graphic 1" descr=""/>
            <p:cNvPicPr/>
            <p:nvPr/>
          </p:nvPicPr>
          <p:blipFill>
            <a:blip r:embed="rId3"/>
            <a:stretch/>
          </p:blipFill>
          <p:spPr>
            <a:xfrm>
              <a:off x="7949160" y="2845800"/>
              <a:ext cx="360720" cy="255960"/>
            </a:xfrm>
            <a:prstGeom prst="rect">
              <a:avLst/>
            </a:prstGeom>
            <a:ln w="0">
              <a:noFill/>
            </a:ln>
          </p:spPr>
        </p:pic>
        <p:sp>
          <p:nvSpPr>
            <p:cNvPr id="1600" name="Freeform: Shape 49"/>
            <p:cNvSpPr/>
            <p:nvPr/>
          </p:nvSpPr>
          <p:spPr>
            <a:xfrm>
              <a:off x="7828920" y="2126160"/>
              <a:ext cx="603000" cy="625320"/>
            </a:xfrm>
            <a:custGeom>
              <a:avLst/>
              <a:gdLst/>
              <a:ahLst/>
              <a:rect l="l" t="t" r="r" b="b"/>
              <a:pathLst>
                <a:path w="699134" h="725804">
                  <a:moveTo>
                    <a:pt x="349567" y="0"/>
                  </a:moveTo>
                  <a:lnTo>
                    <a:pt x="699135" y="362903"/>
                  </a:lnTo>
                  <a:lnTo>
                    <a:pt x="349567" y="725805"/>
                  </a:lnTo>
                  <a:lnTo>
                    <a:pt x="349567" y="684848"/>
                  </a:lnTo>
                  <a:lnTo>
                    <a:pt x="659130" y="363855"/>
                  </a:lnTo>
                  <a:lnTo>
                    <a:pt x="349567" y="42863"/>
                  </a:lnTo>
                  <a:lnTo>
                    <a:pt x="349567" y="0"/>
                  </a:lnTo>
                  <a:close/>
                  <a:moveTo>
                    <a:pt x="349567" y="0"/>
                  </a:moveTo>
                  <a:lnTo>
                    <a:pt x="349567" y="0"/>
                  </a:lnTo>
                  <a:lnTo>
                    <a:pt x="349567" y="40957"/>
                  </a:lnTo>
                  <a:lnTo>
                    <a:pt x="40005" y="361950"/>
                  </a:lnTo>
                  <a:lnTo>
                    <a:pt x="349567" y="682943"/>
                  </a:lnTo>
                  <a:lnTo>
                    <a:pt x="349567" y="723900"/>
                  </a:lnTo>
                  <a:lnTo>
                    <a:pt x="0" y="360998"/>
                  </a:lnTo>
                  <a:lnTo>
                    <a:pt x="34956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01" name="Freeform: Shape 50"/>
            <p:cNvSpPr/>
            <p:nvPr/>
          </p:nvSpPr>
          <p:spPr>
            <a:xfrm>
              <a:off x="7898040" y="2197800"/>
              <a:ext cx="465120" cy="481680"/>
            </a:xfrm>
            <a:custGeom>
              <a:avLst/>
              <a:gdLst/>
              <a:ahLst/>
              <a:rect l="l" t="t" r="r" b="b"/>
              <a:pathLst>
                <a:path w="539115" h="559117">
                  <a:moveTo>
                    <a:pt x="269557" y="0"/>
                  </a:moveTo>
                  <a:lnTo>
                    <a:pt x="403860" y="140018"/>
                  </a:lnTo>
                  <a:lnTo>
                    <a:pt x="539115" y="280035"/>
                  </a:lnTo>
                  <a:lnTo>
                    <a:pt x="403860" y="419100"/>
                  </a:lnTo>
                  <a:lnTo>
                    <a:pt x="269557" y="559118"/>
                  </a:lnTo>
                  <a:lnTo>
                    <a:pt x="134303" y="419100"/>
                  </a:lnTo>
                  <a:lnTo>
                    <a:pt x="0" y="280035"/>
                  </a:lnTo>
                  <a:lnTo>
                    <a:pt x="134303" y="140018"/>
                  </a:lnTo>
                  <a:lnTo>
                    <a:pt x="26955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02" name="Freeform: Shape 51"/>
            <p:cNvSpPr/>
            <p:nvPr/>
          </p:nvSpPr>
          <p:spPr>
            <a:xfrm>
              <a:off x="8044200" y="2289600"/>
              <a:ext cx="172080" cy="270720"/>
            </a:xfrm>
            <a:custGeom>
              <a:avLst/>
              <a:gdLst/>
              <a:ahLst/>
              <a:rect l="l" t="t" r="r" b="b"/>
              <a:pathLst>
                <a:path w="199734" h="314325">
                  <a:moveTo>
                    <a:pt x="99859" y="0"/>
                  </a:moveTo>
                  <a:cubicBezTo>
                    <a:pt x="127482" y="57150"/>
                    <a:pt x="176059" y="140017"/>
                    <a:pt x="196062" y="196215"/>
                  </a:cubicBezTo>
                  <a:cubicBezTo>
                    <a:pt x="214159" y="248602"/>
                    <a:pt x="162725" y="314325"/>
                    <a:pt x="99859" y="314325"/>
                  </a:cubicBezTo>
                  <a:cubicBezTo>
                    <a:pt x="38900" y="314325"/>
                    <a:pt x="-12535" y="251460"/>
                    <a:pt x="2705" y="199073"/>
                  </a:cubicBezTo>
                  <a:cubicBezTo>
                    <a:pt x="16992" y="149542"/>
                    <a:pt x="74142" y="52388"/>
                    <a:pt x="99859" y="0"/>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03" name="Freeform: Shape 52"/>
            <p:cNvSpPr/>
            <p:nvPr/>
          </p:nvSpPr>
          <p:spPr>
            <a:xfrm>
              <a:off x="8069040" y="2439000"/>
              <a:ext cx="75240" cy="95760"/>
            </a:xfrm>
            <a:custGeom>
              <a:avLst/>
              <a:gdLst/>
              <a:ahLst/>
              <a:rect l="l" t="t" r="r" b="b"/>
              <a:pathLst>
                <a:path w="87573" h="111442">
                  <a:moveTo>
                    <a:pt x="14231" y="0"/>
                  </a:moveTo>
                  <a:cubicBezTo>
                    <a:pt x="9469" y="11430"/>
                    <a:pt x="4706" y="22860"/>
                    <a:pt x="1849" y="33338"/>
                  </a:cubicBezTo>
                  <a:cubicBezTo>
                    <a:pt x="-9581" y="70485"/>
                    <a:pt x="34234" y="111443"/>
                    <a:pt x="71381" y="111443"/>
                  </a:cubicBezTo>
                  <a:cubicBezTo>
                    <a:pt x="77097" y="111443"/>
                    <a:pt x="82811" y="110490"/>
                    <a:pt x="87574" y="108585"/>
                  </a:cubicBezTo>
                  <a:cubicBezTo>
                    <a:pt x="44711" y="106680"/>
                    <a:pt x="-3866" y="60008"/>
                    <a:pt x="8517" y="16193"/>
                  </a:cubicBezTo>
                  <a:cubicBezTo>
                    <a:pt x="10422" y="11430"/>
                    <a:pt x="12327" y="5715"/>
                    <a:pt x="14231" y="0"/>
                  </a:cubicBezTo>
                  <a:close/>
                </a:path>
              </a:pathLst>
            </a:custGeom>
            <a:solidFill>
              <a:srgbClr val="bdbfc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604" name="Graphic 1"/>
          <p:cNvGrpSpPr/>
          <p:nvPr/>
        </p:nvGrpSpPr>
        <p:grpSpPr>
          <a:xfrm>
            <a:off x="3184560" y="3174840"/>
            <a:ext cx="1832040" cy="770040"/>
            <a:chOff x="3184560" y="3174840"/>
            <a:chExt cx="1832040" cy="770040"/>
          </a:xfrm>
        </p:grpSpPr>
        <p:grpSp>
          <p:nvGrpSpPr>
            <p:cNvPr id="1605" name="Graphic 1"/>
            <p:cNvGrpSpPr/>
            <p:nvPr/>
          </p:nvGrpSpPr>
          <p:grpSpPr>
            <a:xfrm>
              <a:off x="3184560" y="3688200"/>
              <a:ext cx="610560" cy="256680"/>
              <a:chOff x="3184560" y="3688200"/>
              <a:chExt cx="610560" cy="256680"/>
            </a:xfrm>
          </p:grpSpPr>
          <p:sp>
            <p:nvSpPr>
              <p:cNvPr id="1606" name="Freeform: Shape 55"/>
              <p:cNvSpPr/>
              <p:nvPr/>
            </p:nvSpPr>
            <p:spPr>
              <a:xfrm>
                <a:off x="318456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07" name="Graphic 1" descr=""/>
              <p:cNvPicPr/>
              <p:nvPr/>
            </p:nvPicPr>
            <p:blipFill>
              <a:blip r:embed="rId4"/>
              <a:stretch/>
            </p:blipFill>
            <p:spPr>
              <a:xfrm>
                <a:off x="3328200" y="3712320"/>
                <a:ext cx="378000" cy="213480"/>
              </a:xfrm>
              <a:prstGeom prst="rect">
                <a:avLst/>
              </a:prstGeom>
              <a:ln w="0">
                <a:noFill/>
              </a:ln>
            </p:spPr>
          </p:pic>
        </p:grpSp>
        <p:grpSp>
          <p:nvGrpSpPr>
            <p:cNvPr id="1608" name="Graphic 1"/>
            <p:cNvGrpSpPr/>
            <p:nvPr/>
          </p:nvGrpSpPr>
          <p:grpSpPr>
            <a:xfrm>
              <a:off x="3795120" y="3688200"/>
              <a:ext cx="610560" cy="256680"/>
              <a:chOff x="3795120" y="3688200"/>
              <a:chExt cx="610560" cy="256680"/>
            </a:xfrm>
          </p:grpSpPr>
          <p:sp>
            <p:nvSpPr>
              <p:cNvPr id="1609" name="Freeform: Shape 61"/>
              <p:cNvSpPr/>
              <p:nvPr/>
            </p:nvSpPr>
            <p:spPr>
              <a:xfrm>
                <a:off x="3795120" y="3688200"/>
                <a:ext cx="610560" cy="256680"/>
              </a:xfrm>
              <a:custGeom>
                <a:avLst/>
                <a:gdLst/>
                <a:ahLst/>
                <a:rect l="l" t="t" r="r" b="b"/>
                <a:pathLst>
                  <a:path w="709612" h="298132">
                    <a:moveTo>
                      <a:pt x="122873" y="0"/>
                    </a:moveTo>
                    <a:lnTo>
                      <a:pt x="587693" y="0"/>
                    </a:lnTo>
                    <a:lnTo>
                      <a:pt x="709612"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10" name="Graphic 1" descr=""/>
              <p:cNvPicPr/>
              <p:nvPr/>
            </p:nvPicPr>
            <p:blipFill>
              <a:blip r:embed="rId5"/>
              <a:stretch/>
            </p:blipFill>
            <p:spPr>
              <a:xfrm>
                <a:off x="3943800" y="3712320"/>
                <a:ext cx="371880" cy="213480"/>
              </a:xfrm>
              <a:prstGeom prst="rect">
                <a:avLst/>
              </a:prstGeom>
              <a:ln w="0">
                <a:noFill/>
              </a:ln>
            </p:spPr>
          </p:pic>
        </p:grpSp>
        <p:grpSp>
          <p:nvGrpSpPr>
            <p:cNvPr id="1611" name="Graphic 1"/>
            <p:cNvGrpSpPr/>
            <p:nvPr/>
          </p:nvGrpSpPr>
          <p:grpSpPr>
            <a:xfrm>
              <a:off x="4406040" y="3688200"/>
              <a:ext cx="610560" cy="256680"/>
              <a:chOff x="4406040" y="3688200"/>
              <a:chExt cx="610560" cy="256680"/>
            </a:xfrm>
          </p:grpSpPr>
          <p:sp>
            <p:nvSpPr>
              <p:cNvPr id="1612" name="Freeform: Shape 67"/>
              <p:cNvSpPr/>
              <p:nvPr/>
            </p:nvSpPr>
            <p:spPr>
              <a:xfrm>
                <a:off x="440604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13" name="Graphic 1" descr=""/>
              <p:cNvPicPr/>
              <p:nvPr/>
            </p:nvPicPr>
            <p:blipFill>
              <a:blip r:embed="rId6"/>
              <a:stretch/>
            </p:blipFill>
            <p:spPr>
              <a:xfrm>
                <a:off x="4553640" y="3712320"/>
                <a:ext cx="371880" cy="213480"/>
              </a:xfrm>
              <a:prstGeom prst="rect">
                <a:avLst/>
              </a:prstGeom>
              <a:ln w="0">
                <a:noFill/>
              </a:ln>
            </p:spPr>
          </p:pic>
        </p:grpSp>
        <p:grpSp>
          <p:nvGrpSpPr>
            <p:cNvPr id="1614" name="Graphic 1"/>
            <p:cNvGrpSpPr/>
            <p:nvPr/>
          </p:nvGrpSpPr>
          <p:grpSpPr>
            <a:xfrm>
              <a:off x="3795120" y="3174840"/>
              <a:ext cx="610560" cy="256680"/>
              <a:chOff x="3795120" y="3174840"/>
              <a:chExt cx="610560" cy="256680"/>
            </a:xfrm>
          </p:grpSpPr>
          <p:sp>
            <p:nvSpPr>
              <p:cNvPr id="1615" name="Freeform: Shape 73"/>
              <p:cNvSpPr/>
              <p:nvPr/>
            </p:nvSpPr>
            <p:spPr>
              <a:xfrm>
                <a:off x="3795120" y="3174840"/>
                <a:ext cx="610560" cy="256680"/>
              </a:xfrm>
              <a:custGeom>
                <a:avLst/>
                <a:gdLst/>
                <a:ahLst/>
                <a:rect l="l" t="t" r="r" b="b"/>
                <a:pathLst>
                  <a:path w="709612" h="298132">
                    <a:moveTo>
                      <a:pt x="122873" y="0"/>
                    </a:moveTo>
                    <a:lnTo>
                      <a:pt x="587693" y="0"/>
                    </a:lnTo>
                    <a:lnTo>
                      <a:pt x="709612" y="298132"/>
                    </a:lnTo>
                    <a:lnTo>
                      <a:pt x="0" y="298132"/>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16" name="Graphic 1" descr=""/>
              <p:cNvPicPr/>
              <p:nvPr/>
            </p:nvPicPr>
            <p:blipFill>
              <a:blip r:embed="rId7"/>
              <a:stretch/>
            </p:blipFill>
            <p:spPr>
              <a:xfrm>
                <a:off x="3943800" y="3193920"/>
                <a:ext cx="371880" cy="213480"/>
              </a:xfrm>
              <a:prstGeom prst="rect">
                <a:avLst/>
              </a:prstGeom>
              <a:ln w="0">
                <a:noFill/>
              </a:ln>
            </p:spPr>
          </p:pic>
        </p:grpSp>
        <p:grpSp>
          <p:nvGrpSpPr>
            <p:cNvPr id="1617" name="Graphic 1"/>
            <p:cNvGrpSpPr/>
            <p:nvPr/>
          </p:nvGrpSpPr>
          <p:grpSpPr>
            <a:xfrm>
              <a:off x="3490200" y="3431520"/>
              <a:ext cx="1221120" cy="256680"/>
              <a:chOff x="3490200" y="3431520"/>
              <a:chExt cx="1221120" cy="256680"/>
            </a:xfrm>
          </p:grpSpPr>
          <p:grpSp>
            <p:nvGrpSpPr>
              <p:cNvPr id="1618" name="Graphic 1"/>
              <p:cNvGrpSpPr/>
              <p:nvPr/>
            </p:nvGrpSpPr>
            <p:grpSpPr>
              <a:xfrm>
                <a:off x="3490200" y="3431520"/>
                <a:ext cx="610560" cy="256680"/>
                <a:chOff x="3490200" y="3431520"/>
                <a:chExt cx="610560" cy="256680"/>
              </a:xfrm>
            </p:grpSpPr>
            <p:sp>
              <p:nvSpPr>
                <p:cNvPr id="1619" name="Freeform: Shape 80"/>
                <p:cNvSpPr/>
                <p:nvPr/>
              </p:nvSpPr>
              <p:spPr>
                <a:xfrm>
                  <a:off x="3490200" y="3431520"/>
                  <a:ext cx="610560" cy="256680"/>
                </a:xfrm>
                <a:custGeom>
                  <a:avLst/>
                  <a:gdLst/>
                  <a:ahLst/>
                  <a:rect l="l" t="t" r="r" b="b"/>
                  <a:pathLst>
                    <a:path w="709612" h="298132">
                      <a:moveTo>
                        <a:pt x="122872" y="0"/>
                      </a:moveTo>
                      <a:lnTo>
                        <a:pt x="586740" y="0"/>
                      </a:lnTo>
                      <a:lnTo>
                        <a:pt x="709612" y="298133"/>
                      </a:lnTo>
                      <a:lnTo>
                        <a:pt x="0" y="298133"/>
                      </a:lnTo>
                      <a:lnTo>
                        <a:pt x="122872"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20" name="Graphic 1" descr=""/>
                <p:cNvPicPr/>
                <p:nvPr/>
              </p:nvPicPr>
              <p:blipFill>
                <a:blip r:embed="rId8"/>
                <a:stretch/>
              </p:blipFill>
              <p:spPr>
                <a:xfrm>
                  <a:off x="3633120" y="3449880"/>
                  <a:ext cx="378000" cy="219600"/>
                </a:xfrm>
                <a:prstGeom prst="rect">
                  <a:avLst/>
                </a:prstGeom>
                <a:ln w="0">
                  <a:noFill/>
                </a:ln>
              </p:spPr>
            </p:pic>
          </p:grpSp>
          <p:grpSp>
            <p:nvGrpSpPr>
              <p:cNvPr id="1621" name="Graphic 1"/>
              <p:cNvGrpSpPr/>
              <p:nvPr/>
            </p:nvGrpSpPr>
            <p:grpSpPr>
              <a:xfrm>
                <a:off x="4100760" y="3431520"/>
                <a:ext cx="610560" cy="256680"/>
                <a:chOff x="4100760" y="3431520"/>
                <a:chExt cx="610560" cy="256680"/>
              </a:xfrm>
            </p:grpSpPr>
            <p:sp>
              <p:nvSpPr>
                <p:cNvPr id="1622" name="Freeform: Shape 86"/>
                <p:cNvSpPr/>
                <p:nvPr/>
              </p:nvSpPr>
              <p:spPr>
                <a:xfrm>
                  <a:off x="4100760" y="3431520"/>
                  <a:ext cx="610560" cy="256680"/>
                </a:xfrm>
                <a:custGeom>
                  <a:avLst/>
                  <a:gdLst/>
                  <a:ahLst/>
                  <a:rect l="l" t="t" r="r" b="b"/>
                  <a:pathLst>
                    <a:path w="709612" h="298132">
                      <a:moveTo>
                        <a:pt x="121920" y="0"/>
                      </a:moveTo>
                      <a:lnTo>
                        <a:pt x="586740" y="0"/>
                      </a:lnTo>
                      <a:lnTo>
                        <a:pt x="709613" y="298133"/>
                      </a:lnTo>
                      <a:lnTo>
                        <a:pt x="0" y="298133"/>
                      </a:lnTo>
                      <a:lnTo>
                        <a:pt x="121920"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23" name="Graphic 1" descr=""/>
                <p:cNvPicPr/>
                <p:nvPr/>
              </p:nvPicPr>
              <p:blipFill>
                <a:blip r:embed="rId9"/>
                <a:stretch/>
              </p:blipFill>
              <p:spPr>
                <a:xfrm>
                  <a:off x="4248720" y="3449880"/>
                  <a:ext cx="371880" cy="219600"/>
                </a:xfrm>
                <a:prstGeom prst="rect">
                  <a:avLst/>
                </a:prstGeom>
                <a:ln w="0">
                  <a:noFill/>
                </a:ln>
              </p:spPr>
            </p:pic>
          </p:grpSp>
        </p:grpSp>
      </p:grpSp>
      <p:grpSp>
        <p:nvGrpSpPr>
          <p:cNvPr id="1624" name="Graphic 1"/>
          <p:cNvGrpSpPr/>
          <p:nvPr/>
        </p:nvGrpSpPr>
        <p:grpSpPr>
          <a:xfrm>
            <a:off x="3062160" y="3129120"/>
            <a:ext cx="6066000" cy="1573200"/>
            <a:chOff x="3062160" y="3129120"/>
            <a:chExt cx="6066000" cy="1573200"/>
          </a:xfrm>
        </p:grpSpPr>
        <p:sp>
          <p:nvSpPr>
            <p:cNvPr id="1625" name="Freeform: Shape 92"/>
            <p:cNvSpPr/>
            <p:nvPr/>
          </p:nvSpPr>
          <p:spPr>
            <a:xfrm>
              <a:off x="3976920" y="3973680"/>
              <a:ext cx="1976040" cy="593640"/>
            </a:xfrm>
            <a:custGeom>
              <a:avLst/>
              <a:gdLst/>
              <a:ahLst/>
              <a:rect l="l" t="t" r="r" b="b"/>
              <a:pathLst>
                <a:path w="2295525" h="689780">
                  <a:moveTo>
                    <a:pt x="1732598" y="92392"/>
                  </a:moveTo>
                  <a:lnTo>
                    <a:pt x="2229803" y="0"/>
                  </a:lnTo>
                  <a:lnTo>
                    <a:pt x="2227898" y="2857"/>
                  </a:lnTo>
                  <a:lnTo>
                    <a:pt x="2225993" y="4763"/>
                  </a:lnTo>
                  <a:cubicBezTo>
                    <a:pt x="2213610" y="19050"/>
                    <a:pt x="2203133" y="36195"/>
                    <a:pt x="2194560" y="52388"/>
                  </a:cubicBezTo>
                  <a:cubicBezTo>
                    <a:pt x="2187893" y="66675"/>
                    <a:pt x="2182178" y="80963"/>
                    <a:pt x="2178368" y="96203"/>
                  </a:cubicBezTo>
                  <a:cubicBezTo>
                    <a:pt x="2156460" y="182880"/>
                    <a:pt x="2190750" y="270510"/>
                    <a:pt x="2270760" y="323850"/>
                  </a:cubicBezTo>
                  <a:cubicBezTo>
                    <a:pt x="2278380" y="328613"/>
                    <a:pt x="2286953" y="334328"/>
                    <a:pt x="2295525" y="338138"/>
                  </a:cubicBezTo>
                  <a:cubicBezTo>
                    <a:pt x="2215515" y="351472"/>
                    <a:pt x="2135505" y="364807"/>
                    <a:pt x="2055495" y="377190"/>
                  </a:cubicBezTo>
                  <a:lnTo>
                    <a:pt x="1430655" y="480060"/>
                  </a:lnTo>
                  <a:lnTo>
                    <a:pt x="1423035" y="481965"/>
                  </a:lnTo>
                  <a:cubicBezTo>
                    <a:pt x="1373505" y="491490"/>
                    <a:pt x="1318260" y="500063"/>
                    <a:pt x="1260158" y="508635"/>
                  </a:cubicBezTo>
                  <a:lnTo>
                    <a:pt x="170498" y="686753"/>
                  </a:lnTo>
                  <a:cubicBezTo>
                    <a:pt x="90488" y="701992"/>
                    <a:pt x="15240" y="658178"/>
                    <a:pt x="1905" y="589597"/>
                  </a:cubicBezTo>
                  <a:cubicBezTo>
                    <a:pt x="952" y="582930"/>
                    <a:pt x="0" y="576263"/>
                    <a:pt x="0" y="570547"/>
                  </a:cubicBezTo>
                  <a:lnTo>
                    <a:pt x="64770" y="558165"/>
                  </a:lnTo>
                  <a:cubicBezTo>
                    <a:pt x="63818" y="564832"/>
                    <a:pt x="63818" y="571500"/>
                    <a:pt x="65723" y="578167"/>
                  </a:cubicBezTo>
                  <a:cubicBezTo>
                    <a:pt x="67627" y="588645"/>
                    <a:pt x="72390" y="598170"/>
                    <a:pt x="79058" y="605790"/>
                  </a:cubicBezTo>
                  <a:lnTo>
                    <a:pt x="70485" y="557213"/>
                  </a:lnTo>
                  <a:lnTo>
                    <a:pt x="223838" y="528638"/>
                  </a:lnTo>
                  <a:lnTo>
                    <a:pt x="271463" y="520065"/>
                  </a:lnTo>
                  <a:lnTo>
                    <a:pt x="288607" y="517207"/>
                  </a:lnTo>
                  <a:cubicBezTo>
                    <a:pt x="523875" y="410528"/>
                    <a:pt x="1271588" y="179070"/>
                    <a:pt x="1732598" y="92392"/>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26" name="Freeform: Shape 93"/>
            <p:cNvSpPr/>
            <p:nvPr/>
          </p:nvSpPr>
          <p:spPr>
            <a:xfrm>
              <a:off x="6207480" y="3679920"/>
              <a:ext cx="1972440" cy="526320"/>
            </a:xfrm>
            <a:custGeom>
              <a:avLst/>
              <a:gdLst/>
              <a:ahLst/>
              <a:rect l="l" t="t" r="r" b="b"/>
              <a:pathLst>
                <a:path w="2291568" h="611504">
                  <a:moveTo>
                    <a:pt x="497205" y="180975"/>
                  </a:moveTo>
                  <a:lnTo>
                    <a:pt x="0" y="273367"/>
                  </a:lnTo>
                  <a:lnTo>
                    <a:pt x="2857" y="275273"/>
                  </a:lnTo>
                  <a:lnTo>
                    <a:pt x="5715" y="276225"/>
                  </a:lnTo>
                  <a:cubicBezTo>
                    <a:pt x="21907" y="285750"/>
                    <a:pt x="38100" y="297180"/>
                    <a:pt x="51435" y="309562"/>
                  </a:cubicBezTo>
                  <a:cubicBezTo>
                    <a:pt x="62865" y="320992"/>
                    <a:pt x="72390" y="331470"/>
                    <a:pt x="81915" y="343852"/>
                  </a:cubicBezTo>
                  <a:cubicBezTo>
                    <a:pt x="133350" y="417195"/>
                    <a:pt x="133350" y="510540"/>
                    <a:pt x="77153" y="589598"/>
                  </a:cubicBezTo>
                  <a:cubicBezTo>
                    <a:pt x="71438" y="597218"/>
                    <a:pt x="65722" y="604837"/>
                    <a:pt x="59055" y="611505"/>
                  </a:cubicBezTo>
                  <a:cubicBezTo>
                    <a:pt x="138113" y="595312"/>
                    <a:pt x="218122" y="579120"/>
                    <a:pt x="297180" y="561975"/>
                  </a:cubicBezTo>
                  <a:lnTo>
                    <a:pt x="917257" y="432435"/>
                  </a:lnTo>
                  <a:lnTo>
                    <a:pt x="924878" y="430530"/>
                  </a:lnTo>
                  <a:cubicBezTo>
                    <a:pt x="974407" y="421005"/>
                    <a:pt x="1028700" y="409575"/>
                    <a:pt x="1086803" y="396240"/>
                  </a:cubicBezTo>
                  <a:lnTo>
                    <a:pt x="2167890" y="170498"/>
                  </a:lnTo>
                  <a:cubicBezTo>
                    <a:pt x="2247900" y="155258"/>
                    <a:pt x="2302192" y="87630"/>
                    <a:pt x="2289810" y="19050"/>
                  </a:cubicBezTo>
                  <a:cubicBezTo>
                    <a:pt x="2288858" y="12383"/>
                    <a:pt x="2286953" y="6667"/>
                    <a:pt x="2284095" y="0"/>
                  </a:cubicBezTo>
                  <a:lnTo>
                    <a:pt x="2219325" y="12383"/>
                  </a:lnTo>
                  <a:cubicBezTo>
                    <a:pt x="2222183" y="18097"/>
                    <a:pt x="2225040" y="24765"/>
                    <a:pt x="2225992" y="30480"/>
                  </a:cubicBezTo>
                  <a:cubicBezTo>
                    <a:pt x="2227898" y="40958"/>
                    <a:pt x="2226945" y="51435"/>
                    <a:pt x="2224087" y="60960"/>
                  </a:cubicBezTo>
                  <a:lnTo>
                    <a:pt x="2215515" y="12383"/>
                  </a:lnTo>
                  <a:lnTo>
                    <a:pt x="2062162" y="40958"/>
                  </a:lnTo>
                  <a:lnTo>
                    <a:pt x="2014537" y="49530"/>
                  </a:lnTo>
                  <a:lnTo>
                    <a:pt x="1997392" y="52388"/>
                  </a:lnTo>
                  <a:cubicBezTo>
                    <a:pt x="1740217" y="41910"/>
                    <a:pt x="958215" y="95250"/>
                    <a:pt x="497205" y="18097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27" name="Freeform: Shape 94"/>
            <p:cNvSpPr/>
            <p:nvPr/>
          </p:nvSpPr>
          <p:spPr>
            <a:xfrm rot="20966400">
              <a:off x="5846400" y="3889080"/>
              <a:ext cx="465480" cy="399960"/>
            </a:xfrm>
            <a:custGeom>
              <a:avLst/>
              <a:gdLst/>
              <a:ahLst/>
              <a:rect l="l" t="t" r="r" b="b"/>
              <a:pathLst>
                <a:path w="541032" h="464831">
                  <a:moveTo>
                    <a:pt x="541033" y="232416"/>
                  </a:moveTo>
                  <a:cubicBezTo>
                    <a:pt x="541033" y="360775"/>
                    <a:pt x="419919" y="464831"/>
                    <a:pt x="270517" y="464831"/>
                  </a:cubicBezTo>
                  <a:cubicBezTo>
                    <a:pt x="121114" y="464831"/>
                    <a:pt x="0" y="360775"/>
                    <a:pt x="0" y="232416"/>
                  </a:cubicBezTo>
                  <a:cubicBezTo>
                    <a:pt x="0" y="104056"/>
                    <a:pt x="121114" y="0"/>
                    <a:pt x="270517" y="0"/>
                  </a:cubicBezTo>
                  <a:cubicBezTo>
                    <a:pt x="419919" y="0"/>
                    <a:pt x="541033" y="104056"/>
                    <a:pt x="541033" y="232416"/>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28" name="Freeform: Shape 95"/>
            <p:cNvSpPr/>
            <p:nvPr/>
          </p:nvSpPr>
          <p:spPr>
            <a:xfrm>
              <a:off x="7978320" y="3589560"/>
              <a:ext cx="319680" cy="325440"/>
            </a:xfrm>
            <a:custGeom>
              <a:avLst/>
              <a:gdLst/>
              <a:ahLst/>
              <a:rect l="l" t="t" r="r" b="b"/>
              <a:pathLst>
                <a:path w="371420" h="378087">
                  <a:moveTo>
                    <a:pt x="156647" y="4259"/>
                  </a:moveTo>
                  <a:cubicBezTo>
                    <a:pt x="257612" y="-17649"/>
                    <a:pt x="352862" y="47121"/>
                    <a:pt x="369054" y="149039"/>
                  </a:cubicBezTo>
                  <a:cubicBezTo>
                    <a:pt x="385247" y="250956"/>
                    <a:pt x="316667" y="350969"/>
                    <a:pt x="214749" y="373829"/>
                  </a:cubicBezTo>
                  <a:cubicBezTo>
                    <a:pt x="113784" y="395736"/>
                    <a:pt x="18534" y="330966"/>
                    <a:pt x="2342" y="229049"/>
                  </a:cubicBezTo>
                  <a:cubicBezTo>
                    <a:pt x="-13851" y="127131"/>
                    <a:pt x="55682" y="26166"/>
                    <a:pt x="156647"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29" name="Freeform: Shape 96"/>
            <p:cNvSpPr/>
            <p:nvPr/>
          </p:nvSpPr>
          <p:spPr>
            <a:xfrm>
              <a:off x="3891600" y="4331520"/>
              <a:ext cx="319320" cy="325440"/>
            </a:xfrm>
            <a:custGeom>
              <a:avLst/>
              <a:gdLst/>
              <a:ahLst/>
              <a:rect l="l" t="t" r="r" b="b"/>
              <a:pathLst>
                <a:path w="371197" h="378087">
                  <a:moveTo>
                    <a:pt x="156424" y="4259"/>
                  </a:moveTo>
                  <a:cubicBezTo>
                    <a:pt x="257389" y="-17649"/>
                    <a:pt x="352639" y="47121"/>
                    <a:pt x="368831" y="149038"/>
                  </a:cubicBezTo>
                  <a:cubicBezTo>
                    <a:pt x="385024" y="250956"/>
                    <a:pt x="316443" y="350969"/>
                    <a:pt x="214526" y="373829"/>
                  </a:cubicBezTo>
                  <a:cubicBezTo>
                    <a:pt x="113561" y="395736"/>
                    <a:pt x="18311" y="330966"/>
                    <a:pt x="2119" y="229048"/>
                  </a:cubicBezTo>
                  <a:cubicBezTo>
                    <a:pt x="-13121" y="127131"/>
                    <a:pt x="55459" y="26166"/>
                    <a:pt x="156424"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30" name="Graphic 1" descr=""/>
            <p:cNvPicPr/>
            <p:nvPr/>
          </p:nvPicPr>
          <p:blipFill>
            <a:blip r:embed="rId10"/>
            <a:stretch/>
          </p:blipFill>
          <p:spPr>
            <a:xfrm>
              <a:off x="4779000" y="3755160"/>
              <a:ext cx="2761560" cy="676800"/>
            </a:xfrm>
            <a:prstGeom prst="rect">
              <a:avLst/>
            </a:prstGeom>
            <a:ln w="0">
              <a:noFill/>
            </a:ln>
          </p:spPr>
        </p:pic>
        <p:grpSp>
          <p:nvGrpSpPr>
            <p:cNvPr id="1631" name="Graphic 1"/>
            <p:cNvGrpSpPr/>
            <p:nvPr/>
          </p:nvGrpSpPr>
          <p:grpSpPr>
            <a:xfrm>
              <a:off x="5136480" y="3948840"/>
              <a:ext cx="1884240" cy="753480"/>
              <a:chOff x="5136480" y="3948840"/>
              <a:chExt cx="1884240" cy="753480"/>
            </a:xfrm>
          </p:grpSpPr>
          <p:sp>
            <p:nvSpPr>
              <p:cNvPr id="1632" name="Freeform: Shape 105"/>
              <p:cNvSpPr/>
              <p:nvPr/>
            </p:nvSpPr>
            <p:spPr>
              <a:xfrm>
                <a:off x="5136480" y="3948840"/>
                <a:ext cx="1884240" cy="753480"/>
              </a:xfrm>
              <a:custGeom>
                <a:avLst/>
                <a:gdLst/>
                <a:ahLst/>
                <a:rect l="l" t="t" r="r" b="b"/>
                <a:pathLst>
                  <a:path w="2188844" h="875347">
                    <a:moveTo>
                      <a:pt x="0" y="712470"/>
                    </a:moveTo>
                    <a:lnTo>
                      <a:pt x="662940" y="712470"/>
                    </a:lnTo>
                    <a:lnTo>
                      <a:pt x="662940" y="512445"/>
                    </a:lnTo>
                    <a:cubicBezTo>
                      <a:pt x="662940" y="402907"/>
                      <a:pt x="752475" y="312420"/>
                      <a:pt x="862965" y="312420"/>
                    </a:cubicBezTo>
                    <a:lnTo>
                      <a:pt x="879157" y="312420"/>
                    </a:lnTo>
                    <a:lnTo>
                      <a:pt x="879157" y="215265"/>
                    </a:lnTo>
                    <a:cubicBezTo>
                      <a:pt x="879157" y="97155"/>
                      <a:pt x="976313" y="0"/>
                      <a:pt x="1094423" y="0"/>
                    </a:cubicBezTo>
                    <a:cubicBezTo>
                      <a:pt x="1212532" y="0"/>
                      <a:pt x="1309688" y="97155"/>
                      <a:pt x="1309688" y="215265"/>
                    </a:cubicBezTo>
                    <a:lnTo>
                      <a:pt x="1309688" y="312420"/>
                    </a:lnTo>
                    <a:lnTo>
                      <a:pt x="1325880" y="312420"/>
                    </a:lnTo>
                    <a:cubicBezTo>
                      <a:pt x="1435418" y="312420"/>
                      <a:pt x="1525905" y="401955"/>
                      <a:pt x="1525905" y="512445"/>
                    </a:cubicBezTo>
                    <a:lnTo>
                      <a:pt x="1525905" y="712470"/>
                    </a:lnTo>
                    <a:lnTo>
                      <a:pt x="2188845" y="712470"/>
                    </a:lnTo>
                    <a:lnTo>
                      <a:pt x="2188845" y="875347"/>
                    </a:lnTo>
                    <a:lnTo>
                      <a:pt x="0" y="875347"/>
                    </a:lnTo>
                    <a:lnTo>
                      <a:pt x="0" y="712470"/>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33" name="Freeform: Shape 106"/>
              <p:cNvSpPr/>
              <p:nvPr/>
            </p:nvSpPr>
            <p:spPr>
              <a:xfrm>
                <a:off x="6115680" y="4034880"/>
                <a:ext cx="865080" cy="625680"/>
              </a:xfrm>
              <a:custGeom>
                <a:avLst/>
                <a:gdLst/>
                <a:ahLst/>
                <a:rect l="l" t="t" r="r" b="b"/>
                <a:pathLst>
                  <a:path w="1004887" h="726757">
                    <a:moveTo>
                      <a:pt x="216218" y="726757"/>
                    </a:moveTo>
                    <a:lnTo>
                      <a:pt x="879158" y="726757"/>
                    </a:lnTo>
                    <a:lnTo>
                      <a:pt x="1004888" y="726757"/>
                    </a:lnTo>
                    <a:lnTo>
                      <a:pt x="1004888" y="660082"/>
                    </a:lnTo>
                    <a:lnTo>
                      <a:pt x="341947" y="660082"/>
                    </a:lnTo>
                    <a:lnTo>
                      <a:pt x="341947" y="412432"/>
                    </a:lnTo>
                    <a:cubicBezTo>
                      <a:pt x="341947" y="328613"/>
                      <a:pt x="273368" y="260032"/>
                      <a:pt x="189547" y="260032"/>
                    </a:cubicBezTo>
                    <a:lnTo>
                      <a:pt x="125730" y="260032"/>
                    </a:lnTo>
                    <a:lnTo>
                      <a:pt x="125730" y="115253"/>
                    </a:lnTo>
                    <a:cubicBezTo>
                      <a:pt x="125730" y="70485"/>
                      <a:pt x="107633" y="29528"/>
                      <a:pt x="79058" y="0"/>
                    </a:cubicBezTo>
                    <a:cubicBezTo>
                      <a:pt x="89535" y="19050"/>
                      <a:pt x="95250" y="40005"/>
                      <a:pt x="95250" y="62865"/>
                    </a:cubicBezTo>
                    <a:cubicBezTo>
                      <a:pt x="95250" y="122872"/>
                      <a:pt x="55245" y="174307"/>
                      <a:pt x="0" y="190500"/>
                    </a:cubicBezTo>
                    <a:lnTo>
                      <a:pt x="0" y="327660"/>
                    </a:lnTo>
                    <a:lnTo>
                      <a:pt x="63818" y="327660"/>
                    </a:lnTo>
                    <a:cubicBezTo>
                      <a:pt x="147638" y="327660"/>
                      <a:pt x="216218" y="396240"/>
                      <a:pt x="216218" y="480060"/>
                    </a:cubicBezTo>
                    <a:lnTo>
                      <a:pt x="216218" y="726757"/>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34" name="Freeform: Shape 107"/>
              <p:cNvSpPr/>
              <p:nvPr/>
            </p:nvSpPr>
            <p:spPr>
              <a:xfrm>
                <a:off x="6005520" y="4015080"/>
                <a:ext cx="150840" cy="147600"/>
              </a:xfrm>
              <a:custGeom>
                <a:avLst/>
                <a:gdLst/>
                <a:ahLst/>
                <a:rect l="l" t="t" r="r" b="b"/>
                <a:pathLst>
                  <a:path w="175259" h="171450">
                    <a:moveTo>
                      <a:pt x="87630" y="171450"/>
                    </a:moveTo>
                    <a:cubicBezTo>
                      <a:pt x="135255" y="171450"/>
                      <a:pt x="175260" y="132397"/>
                      <a:pt x="175260" y="85725"/>
                    </a:cubicBezTo>
                    <a:cubicBezTo>
                      <a:pt x="175260" y="38100"/>
                      <a:pt x="136207" y="0"/>
                      <a:pt x="87630" y="0"/>
                    </a:cubicBezTo>
                    <a:cubicBezTo>
                      <a:pt x="40005" y="0"/>
                      <a:pt x="0" y="39052"/>
                      <a:pt x="0" y="85725"/>
                    </a:cubicBezTo>
                    <a:cubicBezTo>
                      <a:pt x="0" y="133350"/>
                      <a:pt x="40005" y="171450"/>
                      <a:pt x="87630" y="17145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635" name="Freeform: Shape 108"/>
            <p:cNvSpPr/>
            <p:nvPr/>
          </p:nvSpPr>
          <p:spPr>
            <a:xfrm>
              <a:off x="3974760" y="4165560"/>
              <a:ext cx="154800" cy="380160"/>
            </a:xfrm>
            <a:custGeom>
              <a:avLst/>
              <a:gdLst/>
              <a:ahLst/>
              <a:rect l="l" t="t" r="r" b="b"/>
              <a:pathLst>
                <a:path w="180022" h="441959">
                  <a:moveTo>
                    <a:pt x="0" y="0"/>
                  </a:moveTo>
                  <a:lnTo>
                    <a:pt x="180022" y="0"/>
                  </a:lnTo>
                  <a:lnTo>
                    <a:pt x="180022" y="320993"/>
                  </a:lnTo>
                  <a:lnTo>
                    <a:pt x="92392" y="441960"/>
                  </a:lnTo>
                  <a:lnTo>
                    <a:pt x="2857" y="345757"/>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36" name="Freeform: Shape 109"/>
            <p:cNvSpPr/>
            <p:nvPr/>
          </p:nvSpPr>
          <p:spPr>
            <a:xfrm>
              <a:off x="8060760" y="3423240"/>
              <a:ext cx="154800" cy="380160"/>
            </a:xfrm>
            <a:custGeom>
              <a:avLst/>
              <a:gdLst/>
              <a:ahLst/>
              <a:rect l="l" t="t" r="r" b="b"/>
              <a:pathLst>
                <a:path w="180022" h="441959">
                  <a:moveTo>
                    <a:pt x="180023" y="0"/>
                  </a:moveTo>
                  <a:lnTo>
                    <a:pt x="0" y="0"/>
                  </a:lnTo>
                  <a:lnTo>
                    <a:pt x="0" y="320992"/>
                  </a:lnTo>
                  <a:lnTo>
                    <a:pt x="87630" y="441960"/>
                  </a:lnTo>
                  <a:lnTo>
                    <a:pt x="180023" y="320992"/>
                  </a:lnTo>
                  <a:lnTo>
                    <a:pt x="180023"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37" name="Freeform: Shape 110"/>
            <p:cNvSpPr/>
            <p:nvPr/>
          </p:nvSpPr>
          <p:spPr>
            <a:xfrm>
              <a:off x="3062160" y="3870360"/>
              <a:ext cx="2077560" cy="294840"/>
            </a:xfrm>
            <a:custGeom>
              <a:avLst/>
              <a:gdLst/>
              <a:ahLst/>
              <a:rect l="l" t="t" r="r" b="b"/>
              <a:pathLst>
                <a:path w="2413634" h="342900">
                  <a:moveTo>
                    <a:pt x="2100263" y="342900"/>
                  </a:moveTo>
                  <a:lnTo>
                    <a:pt x="313373" y="342900"/>
                  </a:lnTo>
                  <a:lnTo>
                    <a:pt x="0" y="0"/>
                  </a:lnTo>
                  <a:lnTo>
                    <a:pt x="2413635" y="1905"/>
                  </a:lnTo>
                  <a:lnTo>
                    <a:pt x="2100263" y="34290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38" name="Freeform: Shape 111"/>
            <p:cNvSpPr/>
            <p:nvPr/>
          </p:nvSpPr>
          <p:spPr>
            <a:xfrm>
              <a:off x="7050600" y="3129120"/>
              <a:ext cx="2077560" cy="294120"/>
            </a:xfrm>
            <a:custGeom>
              <a:avLst/>
              <a:gdLst/>
              <a:ahLst/>
              <a:rect l="l" t="t" r="r" b="b"/>
              <a:pathLst>
                <a:path w="2413634" h="341947">
                  <a:moveTo>
                    <a:pt x="2101215" y="341947"/>
                  </a:moveTo>
                  <a:lnTo>
                    <a:pt x="313372" y="341947"/>
                  </a:lnTo>
                  <a:lnTo>
                    <a:pt x="0" y="0"/>
                  </a:lnTo>
                  <a:lnTo>
                    <a:pt x="2413635" y="952"/>
                  </a:lnTo>
                  <a:lnTo>
                    <a:pt x="2101215" y="34194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39" name="Freeform: Shape 112"/>
            <p:cNvSpPr/>
            <p:nvPr/>
          </p:nvSpPr>
          <p:spPr>
            <a:xfrm>
              <a:off x="3138120" y="3898800"/>
              <a:ext cx="865800" cy="238320"/>
            </a:xfrm>
            <a:custGeom>
              <a:avLst/>
              <a:gdLst/>
              <a:ahLst/>
              <a:rect l="l" t="t" r="r" b="b"/>
              <a:pathLst>
                <a:path w="1005840" h="277177">
                  <a:moveTo>
                    <a:pt x="338138" y="0"/>
                  </a:moveTo>
                  <a:lnTo>
                    <a:pt x="0" y="0"/>
                  </a:lnTo>
                  <a:lnTo>
                    <a:pt x="254318" y="277178"/>
                  </a:lnTo>
                  <a:lnTo>
                    <a:pt x="1005840" y="277178"/>
                  </a:lnTo>
                  <a:cubicBezTo>
                    <a:pt x="455295" y="252413"/>
                    <a:pt x="578168" y="316230"/>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40" name="Freeform: Shape 113"/>
            <p:cNvSpPr/>
            <p:nvPr/>
          </p:nvSpPr>
          <p:spPr>
            <a:xfrm>
              <a:off x="7127640" y="3156840"/>
              <a:ext cx="865080" cy="238320"/>
            </a:xfrm>
            <a:custGeom>
              <a:avLst/>
              <a:gdLst/>
              <a:ahLst/>
              <a:rect l="l" t="t" r="r" b="b"/>
              <a:pathLst>
                <a:path w="1004887" h="277177">
                  <a:moveTo>
                    <a:pt x="338138" y="0"/>
                  </a:moveTo>
                  <a:lnTo>
                    <a:pt x="0" y="0"/>
                  </a:lnTo>
                  <a:lnTo>
                    <a:pt x="253365" y="277178"/>
                  </a:lnTo>
                  <a:lnTo>
                    <a:pt x="1004888" y="277178"/>
                  </a:lnTo>
                  <a:cubicBezTo>
                    <a:pt x="455295" y="252413"/>
                    <a:pt x="577215" y="317183"/>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41" name="Freeform: Shape 114"/>
            <p:cNvSpPr/>
            <p:nvPr/>
          </p:nvSpPr>
          <p:spPr>
            <a:xfrm>
              <a:off x="4197600" y="3900600"/>
              <a:ext cx="865080" cy="236880"/>
            </a:xfrm>
            <a:custGeom>
              <a:avLst/>
              <a:gdLst/>
              <a:ahLst/>
              <a:rect l="l" t="t" r="r" b="b"/>
              <a:pathLst>
                <a:path w="1004887" h="275272">
                  <a:moveTo>
                    <a:pt x="752475" y="275272"/>
                  </a:moveTo>
                  <a:lnTo>
                    <a:pt x="1004888" y="0"/>
                  </a:lnTo>
                  <a:lnTo>
                    <a:pt x="633413" y="0"/>
                  </a:lnTo>
                  <a:cubicBezTo>
                    <a:pt x="515303" y="161925"/>
                    <a:pt x="389572" y="243840"/>
                    <a:pt x="267653" y="253365"/>
                  </a:cubicBezTo>
                  <a:lnTo>
                    <a:pt x="0" y="275272"/>
                  </a:lnTo>
                  <a:lnTo>
                    <a:pt x="752475" y="27527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42" name="Freeform: Shape 115"/>
            <p:cNvSpPr/>
            <p:nvPr/>
          </p:nvSpPr>
          <p:spPr>
            <a:xfrm>
              <a:off x="8186040" y="3158280"/>
              <a:ext cx="865080" cy="236880"/>
            </a:xfrm>
            <a:custGeom>
              <a:avLst/>
              <a:gdLst/>
              <a:ahLst/>
              <a:rect l="l" t="t" r="r" b="b"/>
              <a:pathLst>
                <a:path w="1004887" h="275272">
                  <a:moveTo>
                    <a:pt x="752475" y="275273"/>
                  </a:moveTo>
                  <a:lnTo>
                    <a:pt x="1004888" y="0"/>
                  </a:lnTo>
                  <a:lnTo>
                    <a:pt x="633413" y="0"/>
                  </a:lnTo>
                  <a:cubicBezTo>
                    <a:pt x="515302" y="161925"/>
                    <a:pt x="389572" y="243840"/>
                    <a:pt x="267652" y="253365"/>
                  </a:cubicBezTo>
                  <a:lnTo>
                    <a:pt x="0" y="275273"/>
                  </a:lnTo>
                  <a:lnTo>
                    <a:pt x="752475" y="275273"/>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643" name="Freeform: Shape 132"/>
          <p:cNvSpPr/>
          <p:nvPr/>
        </p:nvSpPr>
        <p:spPr>
          <a:xfrm>
            <a:off x="1521000" y="3913200"/>
            <a:ext cx="1433160" cy="322200"/>
          </a:xfrm>
          <a:prstGeom prst="pie">
            <a:avLst/>
          </a:prstGeom>
          <a:noFill/>
          <a:ln w="0">
            <a:noFill/>
          </a:ln>
        </p:spPr>
        <p:style>
          <a:lnRef idx="0"/>
          <a:fillRef idx="0"/>
          <a:effectRef idx="0"/>
          <a:fontRef idx="minor"/>
        </p:style>
        <p:txBody>
          <a:bodyPr lIns="185040" rIns="185040" tIns="137520" bIns="13752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13c3f"/>
                </a:solidFill>
                <a:latin typeface="Lato"/>
              </a:rPr>
              <a:t>Increasing</a:t>
            </a:r>
            <a:endParaRPr b="0" lang="en-US" sz="1600" spc="-1" strike="noStrike">
              <a:solidFill>
                <a:srgbClr val="313c3f"/>
              </a:solidFill>
              <a:latin typeface="Source Sans Pro"/>
            </a:endParaRPr>
          </a:p>
        </p:txBody>
      </p:sp>
      <p:sp>
        <p:nvSpPr>
          <p:cNvPr id="1644" name="Freeform: Shape 133"/>
          <p:cNvSpPr/>
          <p:nvPr/>
        </p:nvSpPr>
        <p:spPr>
          <a:xfrm>
            <a:off x="9221760" y="2192400"/>
            <a:ext cx="1432080" cy="323640"/>
          </a:xfrm>
          <a:prstGeom prst="pie">
            <a:avLst/>
          </a:prstGeom>
          <a:noFill/>
          <a:ln w="0">
            <a:noFill/>
          </a:ln>
        </p:spPr>
        <p:style>
          <a:lnRef idx="0"/>
          <a:fillRef idx="0"/>
          <a:effectRef idx="0"/>
          <a:fontRef idx="minor"/>
        </p:style>
        <p:txBody>
          <a:bodyPr lIns="185040" rIns="185040" tIns="138960" bIns="13896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13c3f"/>
                </a:solidFill>
                <a:latin typeface="Lato"/>
              </a:rPr>
              <a:t>Decreasing</a:t>
            </a:r>
            <a:endParaRPr b="0" lang="en-US" sz="1600" spc="-1" strike="noStrike">
              <a:solidFill>
                <a:srgbClr val="313c3f"/>
              </a:solidFill>
              <a:latin typeface="Source Sans Pro"/>
            </a:endParaRPr>
          </a:p>
        </p:txBody>
      </p:sp>
      <p:sp>
        <p:nvSpPr>
          <p:cNvPr id="1645" name="TextBox 134"/>
          <p:cNvSpPr/>
          <p:nvPr/>
        </p:nvSpPr>
        <p:spPr>
          <a:xfrm>
            <a:off x="1730520" y="343548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313c3f"/>
                </a:solidFill>
                <a:latin typeface="Lato"/>
                <a:ea typeface="Calibri"/>
              </a:rPr>
              <a:t>40%</a:t>
            </a:r>
            <a:endParaRPr b="0" lang="en-US" sz="3200" spc="-1" strike="noStrike">
              <a:solidFill>
                <a:srgbClr val="313c3f"/>
              </a:solidFill>
              <a:latin typeface="Source Sans Pro"/>
            </a:endParaRPr>
          </a:p>
        </p:txBody>
      </p:sp>
      <p:sp>
        <p:nvSpPr>
          <p:cNvPr id="1646" name="TextBox 135"/>
          <p:cNvSpPr/>
          <p:nvPr/>
        </p:nvSpPr>
        <p:spPr>
          <a:xfrm>
            <a:off x="9429840" y="170640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313c3f"/>
                </a:solidFill>
                <a:latin typeface="Lato"/>
                <a:ea typeface="Calibri"/>
              </a:rPr>
              <a:t>20%</a:t>
            </a:r>
            <a:endParaRPr b="0" lang="en-US" sz="3200" spc="-1" strike="noStrike">
              <a:solidFill>
                <a:srgbClr val="313c3f"/>
              </a:solidFill>
              <a:latin typeface="Source Sans Pro"/>
            </a:endParaRPr>
          </a:p>
        </p:txBody>
      </p:sp>
      <p:sp>
        <p:nvSpPr>
          <p:cNvPr id="1647" name="Freeform: Shape 122"/>
          <p:cNvSpPr/>
          <p:nvPr/>
        </p:nvSpPr>
        <p:spPr>
          <a:xfrm>
            <a:off x="1716120" y="243540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48" name="Freeform: Shape 124"/>
          <p:cNvSpPr/>
          <p:nvPr/>
        </p:nvSpPr>
        <p:spPr>
          <a:xfrm rot="10800000">
            <a:off x="9415080" y="261144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49" name="Rectangle 116"/>
          <p:cNvSpPr/>
          <p:nvPr/>
        </p:nvSpPr>
        <p:spPr>
          <a:xfrm>
            <a:off x="6095880" y="4702320"/>
            <a:ext cx="6096240" cy="215568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650" name="Rectangle 117"/>
          <p:cNvSpPr/>
          <p:nvPr/>
        </p:nvSpPr>
        <p:spPr>
          <a:xfrm>
            <a:off x="0" y="4702320"/>
            <a:ext cx="6095880" cy="215568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651" name="TextBox 118"/>
          <p:cNvSpPr/>
          <p:nvPr/>
        </p:nvSpPr>
        <p:spPr>
          <a:xfrm>
            <a:off x="77760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200</a:t>
            </a:r>
            <a:endParaRPr b="0" lang="en-US" sz="4800" spc="-1" strike="noStrike">
              <a:solidFill>
                <a:srgbClr val="313c3f"/>
              </a:solidFill>
              <a:latin typeface="Source Sans Pro"/>
            </a:endParaRPr>
          </a:p>
        </p:txBody>
      </p:sp>
      <p:sp>
        <p:nvSpPr>
          <p:cNvPr id="1652" name="TextBox 119"/>
          <p:cNvSpPr/>
          <p:nvPr/>
        </p:nvSpPr>
        <p:spPr>
          <a:xfrm>
            <a:off x="650988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150</a:t>
            </a:r>
            <a:endParaRPr b="0" lang="en-US" sz="4800" spc="-1" strike="noStrike">
              <a:solidFill>
                <a:srgbClr val="313c3f"/>
              </a:solidFill>
              <a:latin typeface="Source Sans Pro"/>
            </a:endParaRPr>
          </a:p>
        </p:txBody>
      </p:sp>
      <p:sp>
        <p:nvSpPr>
          <p:cNvPr id="1653" name="Rectangle 120"/>
          <p:cNvSpPr/>
          <p:nvPr/>
        </p:nvSpPr>
        <p:spPr>
          <a:xfrm>
            <a:off x="238140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313c3f"/>
              </a:solidFill>
              <a:latin typeface="Source Sans Pro"/>
            </a:endParaRPr>
          </a:p>
        </p:txBody>
      </p:sp>
      <p:sp>
        <p:nvSpPr>
          <p:cNvPr id="1654" name="Rectangle 121"/>
          <p:cNvSpPr/>
          <p:nvPr/>
        </p:nvSpPr>
        <p:spPr>
          <a:xfrm>
            <a:off x="819324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313c3f"/>
              </a:solidFill>
              <a:latin typeface="Source Sans Pro"/>
            </a:endParaRPr>
          </a:p>
        </p:txBody>
      </p:sp>
      <p:sp>
        <p:nvSpPr>
          <p:cNvPr id="1655" name="Freeform: Shape 123"/>
          <p:cNvSpPr/>
          <p:nvPr/>
        </p:nvSpPr>
        <p:spPr>
          <a:xfrm>
            <a:off x="7588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313c3f"/>
              </a:solidFill>
              <a:latin typeface="Source Sans Pro"/>
            </a:endParaRPr>
          </a:p>
        </p:txBody>
      </p:sp>
      <p:sp>
        <p:nvSpPr>
          <p:cNvPr id="1656" name="Freeform: Shape 125"/>
          <p:cNvSpPr/>
          <p:nvPr/>
        </p:nvSpPr>
        <p:spPr>
          <a:xfrm>
            <a:off x="65152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313c3f"/>
              </a:solidFill>
              <a:latin typeface="Source Sans Pro"/>
            </a:endParaRPr>
          </a:p>
        </p:txBody>
      </p:sp>
    </p:spTree>
  </p:cSld>
  <p:transition spd="med">
    <p:fade/>
  </p:transition>
  <p:timing>
    <p:tnLst>
      <p:par>
        <p:cTn id="1675" dur="indefinite" restart="never" nodeType="tmRoot">
          <p:childTnLst>
            <p:seq>
              <p:cTn id="1676" dur="indefinite" nodeType="mainSeq">
                <p:childTnLst>
                  <p:par>
                    <p:cTn id="1677" nodeType="clickEffect" fill="hold">
                      <p:stCondLst>
                        <p:cond delay="0"/>
                      </p:stCondLst>
                      <p:childTnLst>
                        <p:par>
                          <p:cTn id="1678" nodeType="withEffect" fill="hold">
                            <p:stCondLst>
                              <p:cond delay="0"/>
                            </p:stCondLst>
                            <p:childTnLst>
                              <p:par>
                                <p:cTn id="1679" nodeType="afterEffect" fill="hold" presetClass="entr" presetID="10">
                                  <p:stCondLst>
                                    <p:cond delay="0"/>
                                  </p:stCondLst>
                                  <p:childTnLst>
                                    <p:set>
                                      <p:cBhvr>
                                        <p:cTn id="1680" dur="1" fill="hold">
                                          <p:stCondLst>
                                            <p:cond delay="0"/>
                                          </p:stCondLst>
                                        </p:cTn>
                                        <p:tgtEl>
                                          <p:spTgt spid="1593"/>
                                        </p:tgtEl>
                                        <p:attrNameLst>
                                          <p:attrName>style.visibility</p:attrName>
                                        </p:attrNameLst>
                                      </p:cBhvr>
                                      <p:to>
                                        <p:strVal val="visible"/>
                                      </p:to>
                                    </p:set>
                                    <p:animEffect filter="fade" transition="in">
                                      <p:cBhvr additive="repl">
                                        <p:cTn id="1681" dur="500"/>
                                        <p:tgtEl>
                                          <p:spTgt spid="1593"/>
                                        </p:tgtEl>
                                      </p:cBhvr>
                                    </p:animEffect>
                                  </p:childTnLst>
                                </p:cTn>
                              </p:par>
                            </p:childTnLst>
                          </p:cTn>
                        </p:par>
                        <p:par>
                          <p:cTn id="1682" nodeType="afterEffect" fill="hold">
                            <p:stCondLst>
                              <p:cond delay="500"/>
                            </p:stCondLst>
                            <p:childTnLst>
                              <p:par>
                                <p:cTn id="1683" nodeType="afterEffect" fill="hold" presetClass="entr" presetID="2" presetSubtype="2">
                                  <p:stCondLst>
                                    <p:cond delay="0"/>
                                  </p:stCondLst>
                                  <p:childTnLst>
                                    <p:set>
                                      <p:cBhvr>
                                        <p:cTn id="1684" dur="1" fill="hold">
                                          <p:stCondLst>
                                            <p:cond delay="0"/>
                                          </p:stCondLst>
                                        </p:cTn>
                                        <p:tgtEl>
                                          <p:spTgt spid="1650"/>
                                        </p:tgtEl>
                                        <p:attrNameLst>
                                          <p:attrName>style.visibility</p:attrName>
                                        </p:attrNameLst>
                                      </p:cBhvr>
                                      <p:to>
                                        <p:strVal val="visible"/>
                                      </p:to>
                                    </p:set>
                                    <p:anim calcmode="lin" valueType="num">
                                      <p:cBhvr additive="base">
                                        <p:cTn id="1685" dur="500" fill="hold"/>
                                        <p:tgtEl>
                                          <p:spTgt spid="1650"/>
                                        </p:tgtEl>
                                        <p:attrNameLst>
                                          <p:attrName>ppt_x</p:attrName>
                                        </p:attrNameLst>
                                      </p:cBhvr>
                                      <p:tavLst>
                                        <p:tav tm="0">
                                          <p:val>
                                            <p:strVal val="1+#ppt_w/2"/>
                                          </p:val>
                                        </p:tav>
                                        <p:tav tm="100000">
                                          <p:val>
                                            <p:strVal val="#ppt_x"/>
                                          </p:val>
                                        </p:tav>
                                      </p:tavLst>
                                    </p:anim>
                                    <p:anim calcmode="lin" valueType="num">
                                      <p:cBhvr additive="base">
                                        <p:cTn id="1686" dur="500" fill="hold"/>
                                        <p:tgtEl>
                                          <p:spTgt spid="1650"/>
                                        </p:tgtEl>
                                        <p:attrNameLst>
                                          <p:attrName>ppt_y</p:attrName>
                                        </p:attrNameLst>
                                      </p:cBhvr>
                                      <p:tavLst>
                                        <p:tav tm="0">
                                          <p:val>
                                            <p:strVal val="#ppt_y"/>
                                          </p:val>
                                        </p:tav>
                                        <p:tav tm="100000">
                                          <p:val>
                                            <p:strVal val="#ppt_y"/>
                                          </p:val>
                                        </p:tav>
                                      </p:tavLst>
                                    </p:anim>
                                  </p:childTnLst>
                                </p:cTn>
                              </p:par>
                              <p:par>
                                <p:cTn id="1687" nodeType="withEffect" fill="hold" presetClass="entr" presetID="2" presetSubtype="8">
                                  <p:stCondLst>
                                    <p:cond delay="0"/>
                                  </p:stCondLst>
                                  <p:childTnLst>
                                    <p:set>
                                      <p:cBhvr>
                                        <p:cTn id="1688" dur="1" fill="hold">
                                          <p:stCondLst>
                                            <p:cond delay="0"/>
                                          </p:stCondLst>
                                        </p:cTn>
                                        <p:tgtEl>
                                          <p:spTgt spid="1649"/>
                                        </p:tgtEl>
                                        <p:attrNameLst>
                                          <p:attrName>style.visibility</p:attrName>
                                        </p:attrNameLst>
                                      </p:cBhvr>
                                      <p:to>
                                        <p:strVal val="visible"/>
                                      </p:to>
                                    </p:set>
                                    <p:anim calcmode="lin" valueType="num">
                                      <p:cBhvr additive="base">
                                        <p:cTn id="1689" dur="500" fill="hold"/>
                                        <p:tgtEl>
                                          <p:spTgt spid="1649"/>
                                        </p:tgtEl>
                                        <p:attrNameLst>
                                          <p:attrName>ppt_x</p:attrName>
                                        </p:attrNameLst>
                                      </p:cBhvr>
                                      <p:tavLst>
                                        <p:tav tm="0">
                                          <p:val>
                                            <p:strVal val="0-#ppt_w/2"/>
                                          </p:val>
                                        </p:tav>
                                        <p:tav tm="100000">
                                          <p:val>
                                            <p:strVal val="#ppt_x"/>
                                          </p:val>
                                        </p:tav>
                                      </p:tavLst>
                                    </p:anim>
                                    <p:anim calcmode="lin" valueType="num">
                                      <p:cBhvr additive="base">
                                        <p:cTn id="1690" dur="500" fill="hold"/>
                                        <p:tgtEl>
                                          <p:spTgt spid="1649"/>
                                        </p:tgtEl>
                                        <p:attrNameLst>
                                          <p:attrName>ppt_y</p:attrName>
                                        </p:attrNameLst>
                                      </p:cBhvr>
                                      <p:tavLst>
                                        <p:tav tm="0">
                                          <p:val>
                                            <p:strVal val="#ppt_y"/>
                                          </p:val>
                                        </p:tav>
                                        <p:tav tm="100000">
                                          <p:val>
                                            <p:strVal val="#ppt_y"/>
                                          </p:val>
                                        </p:tav>
                                      </p:tavLst>
                                    </p:anim>
                                  </p:childTnLst>
                                </p:cTn>
                              </p:par>
                            </p:childTnLst>
                          </p:cTn>
                        </p:par>
                        <p:par>
                          <p:cTn id="1691" nodeType="afterEffect" fill="hold">
                            <p:stCondLst>
                              <p:cond delay="1000"/>
                            </p:stCondLst>
                            <p:childTnLst>
                              <p:par>
                                <p:cTn id="1692" nodeType="afterEffect" fill="hold" presetClass="entr" presetID="2" presetSubtype="4">
                                  <p:stCondLst>
                                    <p:cond delay="0"/>
                                  </p:stCondLst>
                                  <p:childTnLst>
                                    <p:set>
                                      <p:cBhvr>
                                        <p:cTn id="1693" dur="1" fill="hold">
                                          <p:stCondLst>
                                            <p:cond delay="0"/>
                                          </p:stCondLst>
                                        </p:cTn>
                                        <p:tgtEl>
                                          <p:spTgt spid="1624"/>
                                        </p:tgtEl>
                                        <p:attrNameLst>
                                          <p:attrName>style.visibility</p:attrName>
                                        </p:attrNameLst>
                                      </p:cBhvr>
                                      <p:to>
                                        <p:strVal val="visible"/>
                                      </p:to>
                                    </p:set>
                                    <p:anim calcmode="lin" valueType="num">
                                      <p:cBhvr additive="base">
                                        <p:cTn id="1694" dur="750" fill="hold"/>
                                        <p:tgtEl>
                                          <p:spTgt spid="1624"/>
                                        </p:tgtEl>
                                        <p:attrNameLst>
                                          <p:attrName>ppt_x</p:attrName>
                                        </p:attrNameLst>
                                      </p:cBhvr>
                                      <p:tavLst>
                                        <p:tav tm="0">
                                          <p:val>
                                            <p:strVal val="#ppt_x"/>
                                          </p:val>
                                        </p:tav>
                                        <p:tav tm="100000">
                                          <p:val>
                                            <p:strVal val="#ppt_x"/>
                                          </p:val>
                                        </p:tav>
                                      </p:tavLst>
                                    </p:anim>
                                    <p:anim calcmode="lin" valueType="num">
                                      <p:cBhvr additive="base">
                                        <p:cTn id="1695" dur="750" fill="hold"/>
                                        <p:tgtEl>
                                          <p:spTgt spid="1624"/>
                                        </p:tgtEl>
                                        <p:attrNameLst>
                                          <p:attrName>ppt_y</p:attrName>
                                        </p:attrNameLst>
                                      </p:cBhvr>
                                      <p:tavLst>
                                        <p:tav tm="0">
                                          <p:val>
                                            <p:strVal val="1+#ppt_h/2"/>
                                          </p:val>
                                        </p:tav>
                                        <p:tav tm="100000">
                                          <p:val>
                                            <p:strVal val="#ppt_y"/>
                                          </p:val>
                                        </p:tav>
                                      </p:tavLst>
                                    </p:anim>
                                  </p:childTnLst>
                                </p:cTn>
                              </p:par>
                            </p:childTnLst>
                          </p:cTn>
                        </p:par>
                        <p:par>
                          <p:cTn id="1696" nodeType="afterEffect" fill="hold">
                            <p:stCondLst>
                              <p:cond delay="1750"/>
                            </p:stCondLst>
                            <p:childTnLst>
                              <p:par>
                                <p:cTn id="1697" nodeType="afterEffect" fill="hold" presetClass="entr" presetID="53" presetSubtype="16">
                                  <p:stCondLst>
                                    <p:cond delay="0"/>
                                  </p:stCondLst>
                                  <p:childTnLst>
                                    <p:set>
                                      <p:cBhvr>
                                        <p:cTn id="1698" dur="1" fill="hold">
                                          <p:stCondLst>
                                            <p:cond delay="0"/>
                                          </p:stCondLst>
                                        </p:cTn>
                                        <p:tgtEl>
                                          <p:spTgt spid="1604"/>
                                        </p:tgtEl>
                                        <p:attrNameLst>
                                          <p:attrName>style.visibility</p:attrName>
                                        </p:attrNameLst>
                                      </p:cBhvr>
                                      <p:to>
                                        <p:strVal val="visible"/>
                                      </p:to>
                                    </p:set>
                                    <p:anim calcmode="lin" valueType="num">
                                      <p:cBhvr additive="repl">
                                        <p:cTn id="1699" dur="500" fill="hold"/>
                                        <p:tgtEl>
                                          <p:spTgt spid="1604"/>
                                        </p:tgtEl>
                                        <p:attrNameLst>
                                          <p:attrName>ppt_w</p:attrName>
                                        </p:attrNameLst>
                                      </p:cBhvr>
                                      <p:tavLst>
                                        <p:tav tm="0">
                                          <p:val>
                                            <p:fltVal val="0"/>
                                          </p:val>
                                        </p:tav>
                                        <p:tav tm="100000">
                                          <p:val>
                                            <p:strVal val="#ppt_w"/>
                                          </p:val>
                                        </p:tav>
                                      </p:tavLst>
                                    </p:anim>
                                    <p:anim calcmode="lin" valueType="num">
                                      <p:cBhvr additive="repl">
                                        <p:cTn id="1700" dur="500" fill="hold"/>
                                        <p:tgtEl>
                                          <p:spTgt spid="1604"/>
                                        </p:tgtEl>
                                        <p:attrNameLst>
                                          <p:attrName>ppt_h</p:attrName>
                                        </p:attrNameLst>
                                      </p:cBhvr>
                                      <p:tavLst>
                                        <p:tav tm="0">
                                          <p:val>
                                            <p:fltVal val="0"/>
                                          </p:val>
                                        </p:tav>
                                        <p:tav tm="100000">
                                          <p:val>
                                            <p:strVal val="#ppt_h"/>
                                          </p:val>
                                        </p:tav>
                                      </p:tavLst>
                                    </p:anim>
                                    <p:animEffect filter="fade" transition="in">
                                      <p:cBhvr additive="repl">
                                        <p:cTn id="1701" dur="500"/>
                                        <p:tgtEl>
                                          <p:spTgt spid="1604"/>
                                        </p:tgtEl>
                                      </p:cBhvr>
                                    </p:animEffect>
                                  </p:childTnLst>
                                </p:cTn>
                              </p:par>
                              <p:par>
                                <p:cTn id="1702" nodeType="withEffect" fill="hold" presetClass="entr" presetID="53" presetSubtype="16">
                                  <p:stCondLst>
                                    <p:cond delay="0"/>
                                  </p:stCondLst>
                                  <p:childTnLst>
                                    <p:set>
                                      <p:cBhvr>
                                        <p:cTn id="1703" dur="1" fill="hold">
                                          <p:stCondLst>
                                            <p:cond delay="0"/>
                                          </p:stCondLst>
                                        </p:cTn>
                                        <p:tgtEl>
                                          <p:spTgt spid="1594"/>
                                        </p:tgtEl>
                                        <p:attrNameLst>
                                          <p:attrName>style.visibility</p:attrName>
                                        </p:attrNameLst>
                                      </p:cBhvr>
                                      <p:to>
                                        <p:strVal val="visible"/>
                                      </p:to>
                                    </p:set>
                                    <p:anim calcmode="lin" valueType="num">
                                      <p:cBhvr additive="repl">
                                        <p:cTn id="1704" dur="500" fill="hold"/>
                                        <p:tgtEl>
                                          <p:spTgt spid="1594"/>
                                        </p:tgtEl>
                                        <p:attrNameLst>
                                          <p:attrName>ppt_w</p:attrName>
                                        </p:attrNameLst>
                                      </p:cBhvr>
                                      <p:tavLst>
                                        <p:tav tm="0">
                                          <p:val>
                                            <p:fltVal val="0"/>
                                          </p:val>
                                        </p:tav>
                                        <p:tav tm="100000">
                                          <p:val>
                                            <p:strVal val="#ppt_w"/>
                                          </p:val>
                                        </p:tav>
                                      </p:tavLst>
                                    </p:anim>
                                    <p:anim calcmode="lin" valueType="num">
                                      <p:cBhvr additive="repl">
                                        <p:cTn id="1705" dur="500" fill="hold"/>
                                        <p:tgtEl>
                                          <p:spTgt spid="1594"/>
                                        </p:tgtEl>
                                        <p:attrNameLst>
                                          <p:attrName>ppt_h</p:attrName>
                                        </p:attrNameLst>
                                      </p:cBhvr>
                                      <p:tavLst>
                                        <p:tav tm="0">
                                          <p:val>
                                            <p:fltVal val="0"/>
                                          </p:val>
                                        </p:tav>
                                        <p:tav tm="100000">
                                          <p:val>
                                            <p:strVal val="#ppt_h"/>
                                          </p:val>
                                        </p:tav>
                                      </p:tavLst>
                                    </p:anim>
                                    <p:animEffect filter="fade" transition="in">
                                      <p:cBhvr additive="repl">
                                        <p:cTn id="1706" dur="500"/>
                                        <p:tgtEl>
                                          <p:spTgt spid="1594"/>
                                        </p:tgtEl>
                                      </p:cBhvr>
                                    </p:animEffect>
                                  </p:childTnLst>
                                </p:cTn>
                              </p:par>
                            </p:childTnLst>
                          </p:cTn>
                        </p:par>
                        <p:par>
                          <p:cTn id="1707" nodeType="afterEffect" fill="hold">
                            <p:stCondLst>
                              <p:cond delay="2250"/>
                            </p:stCondLst>
                            <p:childTnLst>
                              <p:par>
                                <p:cTn id="1708" nodeType="afterEffect" fill="hold" presetClass="entr" presetID="10">
                                  <p:stCondLst>
                                    <p:cond delay="0"/>
                                  </p:stCondLst>
                                  <p:childTnLst>
                                    <p:set>
                                      <p:cBhvr>
                                        <p:cTn id="1709" dur="1" fill="hold">
                                          <p:stCondLst>
                                            <p:cond delay="0"/>
                                          </p:stCondLst>
                                        </p:cTn>
                                        <p:tgtEl>
                                          <p:spTgt spid="1643"/>
                                        </p:tgtEl>
                                        <p:attrNameLst>
                                          <p:attrName>style.visibility</p:attrName>
                                        </p:attrNameLst>
                                      </p:cBhvr>
                                      <p:to>
                                        <p:strVal val="visible"/>
                                      </p:to>
                                    </p:set>
                                    <p:animEffect filter="fade" transition="in">
                                      <p:cBhvr additive="repl">
                                        <p:cTn id="1710" dur="500"/>
                                        <p:tgtEl>
                                          <p:spTgt spid="1643"/>
                                        </p:tgtEl>
                                      </p:cBhvr>
                                    </p:animEffect>
                                  </p:childTnLst>
                                </p:cTn>
                              </p:par>
                              <p:par>
                                <p:cTn id="1711" nodeType="withEffect" fill="hold" presetClass="entr" presetID="10">
                                  <p:stCondLst>
                                    <p:cond delay="0"/>
                                  </p:stCondLst>
                                  <p:childTnLst>
                                    <p:set>
                                      <p:cBhvr>
                                        <p:cTn id="1712" dur="1" fill="hold">
                                          <p:stCondLst>
                                            <p:cond delay="0"/>
                                          </p:stCondLst>
                                        </p:cTn>
                                        <p:tgtEl>
                                          <p:spTgt spid="1645"/>
                                        </p:tgtEl>
                                        <p:attrNameLst>
                                          <p:attrName>style.visibility</p:attrName>
                                        </p:attrNameLst>
                                      </p:cBhvr>
                                      <p:to>
                                        <p:strVal val="visible"/>
                                      </p:to>
                                    </p:set>
                                    <p:animEffect filter="fade" transition="in">
                                      <p:cBhvr additive="repl">
                                        <p:cTn id="1713" dur="500"/>
                                        <p:tgtEl>
                                          <p:spTgt spid="1645"/>
                                        </p:tgtEl>
                                      </p:cBhvr>
                                    </p:animEffect>
                                  </p:childTnLst>
                                </p:cTn>
                              </p:par>
                              <p:par>
                                <p:cTn id="1714" nodeType="withEffect" fill="hold" presetClass="entr" presetID="10">
                                  <p:stCondLst>
                                    <p:cond delay="0"/>
                                  </p:stCondLst>
                                  <p:childTnLst>
                                    <p:set>
                                      <p:cBhvr>
                                        <p:cTn id="1715" dur="1" fill="hold">
                                          <p:stCondLst>
                                            <p:cond delay="0"/>
                                          </p:stCondLst>
                                        </p:cTn>
                                        <p:tgtEl>
                                          <p:spTgt spid="1647"/>
                                        </p:tgtEl>
                                        <p:attrNameLst>
                                          <p:attrName>style.visibility</p:attrName>
                                        </p:attrNameLst>
                                      </p:cBhvr>
                                      <p:to>
                                        <p:strVal val="visible"/>
                                      </p:to>
                                    </p:set>
                                    <p:animEffect filter="fade" transition="in">
                                      <p:cBhvr additive="repl">
                                        <p:cTn id="1716" dur="500"/>
                                        <p:tgtEl>
                                          <p:spTgt spid="1647"/>
                                        </p:tgtEl>
                                      </p:cBhvr>
                                    </p:animEffect>
                                  </p:childTnLst>
                                </p:cTn>
                              </p:par>
                              <p:par>
                                <p:cTn id="1717" nodeType="withEffect" fill="hold" presetClass="entr" presetID="10">
                                  <p:stCondLst>
                                    <p:cond delay="0"/>
                                  </p:stCondLst>
                                  <p:childTnLst>
                                    <p:set>
                                      <p:cBhvr>
                                        <p:cTn id="1718" dur="1" fill="hold">
                                          <p:stCondLst>
                                            <p:cond delay="0"/>
                                          </p:stCondLst>
                                        </p:cTn>
                                        <p:tgtEl>
                                          <p:spTgt spid="1644"/>
                                        </p:tgtEl>
                                        <p:attrNameLst>
                                          <p:attrName>style.visibility</p:attrName>
                                        </p:attrNameLst>
                                      </p:cBhvr>
                                      <p:to>
                                        <p:strVal val="visible"/>
                                      </p:to>
                                    </p:set>
                                    <p:animEffect filter="fade" transition="in">
                                      <p:cBhvr additive="repl">
                                        <p:cTn id="1719" dur="500"/>
                                        <p:tgtEl>
                                          <p:spTgt spid="1644"/>
                                        </p:tgtEl>
                                      </p:cBhvr>
                                    </p:animEffect>
                                  </p:childTnLst>
                                </p:cTn>
                              </p:par>
                              <p:par>
                                <p:cTn id="1720" nodeType="withEffect" fill="hold" presetClass="entr" presetID="10">
                                  <p:stCondLst>
                                    <p:cond delay="0"/>
                                  </p:stCondLst>
                                  <p:childTnLst>
                                    <p:set>
                                      <p:cBhvr>
                                        <p:cTn id="1721" dur="1" fill="hold">
                                          <p:stCondLst>
                                            <p:cond delay="0"/>
                                          </p:stCondLst>
                                        </p:cTn>
                                        <p:tgtEl>
                                          <p:spTgt spid="1646"/>
                                        </p:tgtEl>
                                        <p:attrNameLst>
                                          <p:attrName>style.visibility</p:attrName>
                                        </p:attrNameLst>
                                      </p:cBhvr>
                                      <p:to>
                                        <p:strVal val="visible"/>
                                      </p:to>
                                    </p:set>
                                    <p:animEffect filter="fade" transition="in">
                                      <p:cBhvr additive="repl">
                                        <p:cTn id="1722" dur="500"/>
                                        <p:tgtEl>
                                          <p:spTgt spid="1646"/>
                                        </p:tgtEl>
                                      </p:cBhvr>
                                    </p:animEffect>
                                  </p:childTnLst>
                                </p:cTn>
                              </p:par>
                              <p:par>
                                <p:cTn id="1723" nodeType="withEffect" fill="hold" presetClass="entr" presetID="10">
                                  <p:stCondLst>
                                    <p:cond delay="0"/>
                                  </p:stCondLst>
                                  <p:childTnLst>
                                    <p:set>
                                      <p:cBhvr>
                                        <p:cTn id="1724" dur="1" fill="hold">
                                          <p:stCondLst>
                                            <p:cond delay="0"/>
                                          </p:stCondLst>
                                        </p:cTn>
                                        <p:tgtEl>
                                          <p:spTgt spid="1648"/>
                                        </p:tgtEl>
                                        <p:attrNameLst>
                                          <p:attrName>style.visibility</p:attrName>
                                        </p:attrNameLst>
                                      </p:cBhvr>
                                      <p:to>
                                        <p:strVal val="visible"/>
                                      </p:to>
                                    </p:set>
                                    <p:animEffect filter="fade" transition="in">
                                      <p:cBhvr additive="repl">
                                        <p:cTn id="1725" dur="500"/>
                                        <p:tgtEl>
                                          <p:spTgt spid="1648"/>
                                        </p:tgtEl>
                                      </p:cBhvr>
                                    </p:animEffect>
                                  </p:childTnLst>
                                </p:cTn>
                              </p:par>
                            </p:childTnLst>
                          </p:cTn>
                        </p:par>
                        <p:par>
                          <p:cTn id="1726" nodeType="afterEffect" fill="hold">
                            <p:stCondLst>
                              <p:cond delay="2750"/>
                            </p:stCondLst>
                            <p:childTnLst>
                              <p:par>
                                <p:cTn id="1727" nodeType="afterEffect" fill="hold" presetClass="entr" presetID="10">
                                  <p:stCondLst>
                                    <p:cond delay="0"/>
                                  </p:stCondLst>
                                  <p:childTnLst>
                                    <p:set>
                                      <p:cBhvr>
                                        <p:cTn id="1728" dur="1" fill="hold">
                                          <p:stCondLst>
                                            <p:cond delay="0"/>
                                          </p:stCondLst>
                                        </p:cTn>
                                        <p:tgtEl>
                                          <p:spTgt spid="1651"/>
                                        </p:tgtEl>
                                        <p:attrNameLst>
                                          <p:attrName>style.visibility</p:attrName>
                                        </p:attrNameLst>
                                      </p:cBhvr>
                                      <p:to>
                                        <p:strVal val="visible"/>
                                      </p:to>
                                    </p:set>
                                    <p:animEffect filter="fade" transition="in">
                                      <p:cBhvr additive="repl">
                                        <p:cTn id="1729" dur="500"/>
                                        <p:tgtEl>
                                          <p:spTgt spid="1651"/>
                                        </p:tgtEl>
                                      </p:cBhvr>
                                    </p:animEffect>
                                  </p:childTnLst>
                                </p:cTn>
                              </p:par>
                              <p:par>
                                <p:cTn id="1730" nodeType="withEffect" fill="hold" presetClass="entr" presetID="10">
                                  <p:stCondLst>
                                    <p:cond delay="0"/>
                                  </p:stCondLst>
                                  <p:childTnLst>
                                    <p:set>
                                      <p:cBhvr>
                                        <p:cTn id="1731" dur="1" fill="hold">
                                          <p:stCondLst>
                                            <p:cond delay="0"/>
                                          </p:stCondLst>
                                        </p:cTn>
                                        <p:tgtEl>
                                          <p:spTgt spid="1655"/>
                                        </p:tgtEl>
                                        <p:attrNameLst>
                                          <p:attrName>style.visibility</p:attrName>
                                        </p:attrNameLst>
                                      </p:cBhvr>
                                      <p:to>
                                        <p:strVal val="visible"/>
                                      </p:to>
                                    </p:set>
                                    <p:animEffect filter="fade" transition="in">
                                      <p:cBhvr additive="repl">
                                        <p:cTn id="1732" dur="500"/>
                                        <p:tgtEl>
                                          <p:spTgt spid="1655"/>
                                        </p:tgtEl>
                                      </p:cBhvr>
                                    </p:animEffect>
                                  </p:childTnLst>
                                </p:cTn>
                              </p:par>
                              <p:par>
                                <p:cTn id="1733" nodeType="withEffect" fill="hold" presetClass="entr" presetID="10">
                                  <p:stCondLst>
                                    <p:cond delay="0"/>
                                  </p:stCondLst>
                                  <p:childTnLst>
                                    <p:set>
                                      <p:cBhvr>
                                        <p:cTn id="1734" dur="1" fill="hold">
                                          <p:stCondLst>
                                            <p:cond delay="0"/>
                                          </p:stCondLst>
                                        </p:cTn>
                                        <p:tgtEl>
                                          <p:spTgt spid="1652"/>
                                        </p:tgtEl>
                                        <p:attrNameLst>
                                          <p:attrName>style.visibility</p:attrName>
                                        </p:attrNameLst>
                                      </p:cBhvr>
                                      <p:to>
                                        <p:strVal val="visible"/>
                                      </p:to>
                                    </p:set>
                                    <p:animEffect filter="fade" transition="in">
                                      <p:cBhvr additive="repl">
                                        <p:cTn id="1735" dur="500"/>
                                        <p:tgtEl>
                                          <p:spTgt spid="1652"/>
                                        </p:tgtEl>
                                      </p:cBhvr>
                                    </p:animEffect>
                                  </p:childTnLst>
                                </p:cTn>
                              </p:par>
                              <p:par>
                                <p:cTn id="1736" nodeType="withEffect" fill="hold" presetClass="entr" presetID="10">
                                  <p:stCondLst>
                                    <p:cond delay="0"/>
                                  </p:stCondLst>
                                  <p:childTnLst>
                                    <p:set>
                                      <p:cBhvr>
                                        <p:cTn id="1737" dur="1" fill="hold">
                                          <p:stCondLst>
                                            <p:cond delay="0"/>
                                          </p:stCondLst>
                                        </p:cTn>
                                        <p:tgtEl>
                                          <p:spTgt spid="1656"/>
                                        </p:tgtEl>
                                        <p:attrNameLst>
                                          <p:attrName>style.visibility</p:attrName>
                                        </p:attrNameLst>
                                      </p:cBhvr>
                                      <p:to>
                                        <p:strVal val="visible"/>
                                      </p:to>
                                    </p:set>
                                    <p:animEffect filter="fade" transition="in">
                                      <p:cBhvr additive="repl">
                                        <p:cTn id="1738" dur="500"/>
                                        <p:tgtEl>
                                          <p:spTgt spid="1656"/>
                                        </p:tgtEl>
                                      </p:cBhvr>
                                    </p:animEffect>
                                  </p:childTnLst>
                                </p:cTn>
                              </p:par>
                            </p:childTnLst>
                          </p:cTn>
                        </p:par>
                        <p:par>
                          <p:cTn id="1739" nodeType="afterEffect" fill="hold">
                            <p:stCondLst>
                              <p:cond delay="3250"/>
                            </p:stCondLst>
                            <p:childTnLst>
                              <p:par>
                                <p:cTn id="1740" nodeType="afterEffect" fill="hold" presetClass="entr" presetID="22" presetSubtype="8">
                                  <p:stCondLst>
                                    <p:cond delay="0"/>
                                  </p:stCondLst>
                                  <p:childTnLst>
                                    <p:set>
                                      <p:cBhvr>
                                        <p:cTn id="1741" dur="1" fill="hold">
                                          <p:stCondLst>
                                            <p:cond delay="0"/>
                                          </p:stCondLst>
                                        </p:cTn>
                                        <p:tgtEl>
                                          <p:spTgt spid="1653"/>
                                        </p:tgtEl>
                                        <p:attrNameLst>
                                          <p:attrName>style.visibility</p:attrName>
                                        </p:attrNameLst>
                                      </p:cBhvr>
                                      <p:to>
                                        <p:strVal val="visible"/>
                                      </p:to>
                                    </p:set>
                                    <p:animEffect filter="wipe(left)" transition="in">
                                      <p:cBhvr additive="repl">
                                        <p:cTn id="1742" dur="500"/>
                                        <p:tgtEl>
                                          <p:spTgt spid="1653"/>
                                        </p:tgtEl>
                                      </p:cBhvr>
                                    </p:animEffect>
                                  </p:childTnLst>
                                </p:cTn>
                              </p:par>
                              <p:par>
                                <p:cTn id="1743" nodeType="withEffect" fill="hold" presetClass="entr" presetID="22" presetSubtype="8">
                                  <p:stCondLst>
                                    <p:cond delay="0"/>
                                  </p:stCondLst>
                                  <p:childTnLst>
                                    <p:set>
                                      <p:cBhvr>
                                        <p:cTn id="1744" dur="1" fill="hold">
                                          <p:stCondLst>
                                            <p:cond delay="0"/>
                                          </p:stCondLst>
                                        </p:cTn>
                                        <p:tgtEl>
                                          <p:spTgt spid="1654"/>
                                        </p:tgtEl>
                                        <p:attrNameLst>
                                          <p:attrName>style.visibility</p:attrName>
                                        </p:attrNameLst>
                                      </p:cBhvr>
                                      <p:to>
                                        <p:strVal val="visible"/>
                                      </p:to>
                                    </p:set>
                                    <p:animEffect filter="wipe(left)" transition="in">
                                      <p:cBhvr additive="repl">
                                        <p:cTn id="1745"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19"/>
          <p:cNvSpPr/>
          <p:nvPr/>
        </p:nvSpPr>
        <p:spPr>
          <a:xfrm>
            <a:off x="0" y="5875200"/>
            <a:ext cx="12192120" cy="9828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658" name="Freeform: Shape 17"/>
          <p:cNvSpPr/>
          <p:nvPr/>
        </p:nvSpPr>
        <p:spPr>
          <a:xfrm>
            <a:off x="3371760" y="5875200"/>
            <a:ext cx="5448240" cy="136800"/>
          </a:xfrm>
          <a:custGeom>
            <a:avLst/>
            <a:gdLst/>
            <a:ahLst/>
            <a:rect l="l" t="t" r="r" b="b"/>
            <a:pathLst>
              <a:path w="5448296" h="136847">
                <a:moveTo>
                  <a:pt x="206135" y="0"/>
                </a:moveTo>
                <a:lnTo>
                  <a:pt x="5242161" y="0"/>
                </a:lnTo>
                <a:lnTo>
                  <a:pt x="5392951" y="17685"/>
                </a:lnTo>
                <a:cubicBezTo>
                  <a:pt x="5429239" y="24141"/>
                  <a:pt x="5448296" y="30826"/>
                  <a:pt x="5448296" y="37672"/>
                </a:cubicBezTo>
                <a:cubicBezTo>
                  <a:pt x="5448296" y="92445"/>
                  <a:pt x="4228653" y="136847"/>
                  <a:pt x="2724148" y="136847"/>
                </a:cubicBezTo>
                <a:cubicBezTo>
                  <a:pt x="1219643" y="136847"/>
                  <a:pt x="0" y="92445"/>
                  <a:pt x="0" y="37672"/>
                </a:cubicBezTo>
                <a:cubicBezTo>
                  <a:pt x="0" y="30826"/>
                  <a:pt x="19057" y="24141"/>
                  <a:pt x="55345" y="17685"/>
                </a:cubicBezTo>
                <a:lnTo>
                  <a:pt x="206135" y="0"/>
                </a:lnTo>
                <a:close/>
              </a:path>
            </a:pathLst>
          </a:custGeom>
          <a:solidFill>
            <a:srgbClr val="313131">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5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1660" name="Straight Connector 4"/>
          <p:cNvSpPr/>
          <p:nvPr/>
        </p:nvSpPr>
        <p:spPr>
          <a:xfrm>
            <a:off x="6095880" y="1900080"/>
            <a:ext cx="0" cy="26211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661" name="TextBox 12"/>
          <p:cNvSpPr/>
          <p:nvPr/>
        </p:nvSpPr>
        <p:spPr>
          <a:xfrm>
            <a:off x="1200240" y="181764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3c3f"/>
                </a:solidFill>
                <a:latin typeface="Lato"/>
              </a:rPr>
              <a:t>Gold</a:t>
            </a:r>
            <a:endParaRPr b="0" lang="en-US" sz="2000" spc="-1" strike="noStrike">
              <a:solidFill>
                <a:srgbClr val="313c3f"/>
              </a:solidFill>
              <a:latin typeface="Source Sans Pro"/>
            </a:endParaRPr>
          </a:p>
        </p:txBody>
      </p:sp>
      <p:sp>
        <p:nvSpPr>
          <p:cNvPr id="1662" name="TextBox 13"/>
          <p:cNvSpPr/>
          <p:nvPr/>
        </p:nvSpPr>
        <p:spPr>
          <a:xfrm>
            <a:off x="260208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a:t>
            </a:r>
            <a:endParaRPr b="0" lang="en-US" sz="1200" spc="-1" strike="noStrike">
              <a:solidFill>
                <a:srgbClr val="313c3f"/>
              </a:solidFill>
              <a:latin typeface="Source Sans Pro"/>
            </a:endParaRPr>
          </a:p>
        </p:txBody>
      </p:sp>
      <p:sp>
        <p:nvSpPr>
          <p:cNvPr id="1663" name="TextBox 14"/>
          <p:cNvSpPr/>
          <p:nvPr/>
        </p:nvSpPr>
        <p:spPr>
          <a:xfrm>
            <a:off x="1218600" y="2125800"/>
            <a:ext cx="1453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157d42"/>
                </a:solidFill>
                <a:latin typeface="Lato"/>
              </a:rPr>
              <a:t>$4M</a:t>
            </a:r>
            <a:endParaRPr b="0" lang="en-US" sz="4800" spc="-1" strike="noStrike">
              <a:solidFill>
                <a:srgbClr val="313c3f"/>
              </a:solidFill>
              <a:latin typeface="Source Sans Pro"/>
            </a:endParaRPr>
          </a:p>
        </p:txBody>
      </p:sp>
      <p:sp>
        <p:nvSpPr>
          <p:cNvPr id="1664" name="TextBox 15"/>
          <p:cNvSpPr/>
          <p:nvPr/>
        </p:nvSpPr>
        <p:spPr>
          <a:xfrm>
            <a:off x="127008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life Feels</a:t>
            </a:r>
            <a:endParaRPr b="0" lang="en-US" sz="1200" spc="-1" strike="noStrike">
              <a:solidFill>
                <a:srgbClr val="313c3f"/>
              </a:solidFill>
              <a:latin typeface="Source Sans Pro"/>
            </a:endParaRPr>
          </a:p>
        </p:txBody>
      </p:sp>
      <p:sp>
        <p:nvSpPr>
          <p:cNvPr id="1665" name="TextBox 16"/>
          <p:cNvSpPr/>
          <p:nvPr/>
        </p:nvSpPr>
        <p:spPr>
          <a:xfrm>
            <a:off x="6858000" y="1817640"/>
            <a:ext cx="9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13c3f"/>
                </a:solidFill>
                <a:latin typeface="Lato"/>
              </a:rPr>
              <a:t>Dollar</a:t>
            </a:r>
            <a:endParaRPr b="0" lang="en-US" sz="2000" spc="-1" strike="noStrike">
              <a:solidFill>
                <a:srgbClr val="313c3f"/>
              </a:solidFill>
              <a:latin typeface="Source Sans Pro"/>
            </a:endParaRPr>
          </a:p>
        </p:txBody>
      </p:sp>
      <p:sp>
        <p:nvSpPr>
          <p:cNvPr id="1666" name="TextBox 18"/>
          <p:cNvSpPr/>
          <p:nvPr/>
        </p:nvSpPr>
        <p:spPr>
          <a:xfrm>
            <a:off x="6875280" y="2125800"/>
            <a:ext cx="14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e1c11e"/>
                </a:solidFill>
                <a:latin typeface="Lato"/>
              </a:rPr>
              <a:t>$</a:t>
            </a:r>
            <a:r>
              <a:rPr b="1" lang="en-ID" sz="4800" spc="-1" strike="noStrike">
                <a:solidFill>
                  <a:srgbClr val="e1c11e"/>
                </a:solidFill>
                <a:latin typeface="Lato"/>
              </a:rPr>
              <a:t>4</a:t>
            </a:r>
            <a:r>
              <a:rPr b="1" lang="id-ID" sz="4800" spc="-1" strike="noStrike">
                <a:solidFill>
                  <a:srgbClr val="e1c11e"/>
                </a:solidFill>
                <a:latin typeface="Lato"/>
              </a:rPr>
              <a:t>M</a:t>
            </a:r>
            <a:endParaRPr b="0" lang="en-US" sz="4800" spc="-1" strike="noStrike">
              <a:solidFill>
                <a:srgbClr val="313c3f"/>
              </a:solidFill>
              <a:latin typeface="Source Sans Pro"/>
            </a:endParaRPr>
          </a:p>
        </p:txBody>
      </p:sp>
      <p:grpSp>
        <p:nvGrpSpPr>
          <p:cNvPr id="1667" name="Group 1"/>
          <p:cNvGrpSpPr/>
          <p:nvPr/>
        </p:nvGrpSpPr>
        <p:grpSpPr>
          <a:xfrm>
            <a:off x="7564320" y="3865680"/>
            <a:ext cx="1578240" cy="680400"/>
            <a:chOff x="7564320" y="3865680"/>
            <a:chExt cx="1578240" cy="680400"/>
          </a:xfrm>
        </p:grpSpPr>
        <p:grpSp>
          <p:nvGrpSpPr>
            <p:cNvPr id="1668" name="Group 88"/>
            <p:cNvGrpSpPr/>
            <p:nvPr/>
          </p:nvGrpSpPr>
          <p:grpSpPr>
            <a:xfrm>
              <a:off x="7662240" y="3865680"/>
              <a:ext cx="1480320" cy="340200"/>
              <a:chOff x="7662240" y="3865680"/>
              <a:chExt cx="1480320" cy="340200"/>
            </a:xfrm>
          </p:grpSpPr>
          <p:grpSp>
            <p:nvGrpSpPr>
              <p:cNvPr id="1669" name="Graphic 1"/>
              <p:cNvGrpSpPr/>
              <p:nvPr/>
            </p:nvGrpSpPr>
            <p:grpSpPr>
              <a:xfrm>
                <a:off x="7662240" y="3865680"/>
                <a:ext cx="1480320" cy="340200"/>
                <a:chOff x="7662240" y="3865680"/>
                <a:chExt cx="1480320" cy="340200"/>
              </a:xfrm>
            </p:grpSpPr>
            <p:sp>
              <p:nvSpPr>
                <p:cNvPr id="1670" name="Freeform: Shape 9"/>
                <p:cNvSpPr/>
                <p:nvPr/>
              </p:nvSpPr>
              <p:spPr>
                <a:xfrm>
                  <a:off x="7662240" y="3865680"/>
                  <a:ext cx="1480320" cy="34020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71" name="Freeform: Shape 10"/>
                <p:cNvSpPr/>
                <p:nvPr/>
              </p:nvSpPr>
              <p:spPr>
                <a:xfrm>
                  <a:off x="8040600" y="38656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672" name="Freeform: Shape 20"/>
              <p:cNvSpPr/>
              <p:nvPr/>
            </p:nvSpPr>
            <p:spPr>
              <a:xfrm>
                <a:off x="8317080" y="394524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1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673" name="Group 89"/>
            <p:cNvGrpSpPr/>
            <p:nvPr/>
          </p:nvGrpSpPr>
          <p:grpSpPr>
            <a:xfrm>
              <a:off x="7564320" y="4205880"/>
              <a:ext cx="1480320" cy="340200"/>
              <a:chOff x="7564320" y="4205880"/>
              <a:chExt cx="1480320" cy="340200"/>
            </a:xfrm>
          </p:grpSpPr>
          <p:grpSp>
            <p:nvGrpSpPr>
              <p:cNvPr id="1674" name="Graphic 1"/>
              <p:cNvGrpSpPr/>
              <p:nvPr/>
            </p:nvGrpSpPr>
            <p:grpSpPr>
              <a:xfrm>
                <a:off x="7564320" y="4205880"/>
                <a:ext cx="1480320" cy="340200"/>
                <a:chOff x="7564320" y="4205880"/>
                <a:chExt cx="1480320" cy="340200"/>
              </a:xfrm>
            </p:grpSpPr>
            <p:sp>
              <p:nvSpPr>
                <p:cNvPr id="1675" name="Freeform: Shape 6"/>
                <p:cNvSpPr/>
                <p:nvPr/>
              </p:nvSpPr>
              <p:spPr>
                <a:xfrm>
                  <a:off x="7564320" y="4205880"/>
                  <a:ext cx="1480320" cy="34020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676" name="Freeform: Shape 7"/>
                <p:cNvSpPr/>
                <p:nvPr/>
              </p:nvSpPr>
              <p:spPr>
                <a:xfrm>
                  <a:off x="7942680" y="42058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677" name="Freeform: Shape 21"/>
              <p:cNvSpPr/>
              <p:nvPr/>
            </p:nvSpPr>
            <p:spPr>
              <a:xfrm>
                <a:off x="8233200" y="428580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1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sp>
        <p:nvSpPr>
          <p:cNvPr id="1678" name="TextBox 22"/>
          <p:cNvSpPr/>
          <p:nvPr/>
        </p:nvSpPr>
        <p:spPr>
          <a:xfrm>
            <a:off x="819792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a:t>
            </a:r>
            <a:endParaRPr b="0" lang="en-US" sz="1200" spc="-1" strike="noStrike">
              <a:solidFill>
                <a:srgbClr val="313c3f"/>
              </a:solidFill>
              <a:latin typeface="Source Sans Pro"/>
            </a:endParaRPr>
          </a:p>
        </p:txBody>
      </p:sp>
      <p:sp>
        <p:nvSpPr>
          <p:cNvPr id="1679" name="TextBox 23"/>
          <p:cNvSpPr/>
          <p:nvPr/>
        </p:nvSpPr>
        <p:spPr>
          <a:xfrm>
            <a:off x="686592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life Feels</a:t>
            </a:r>
            <a:endParaRPr b="0" lang="en-US" sz="1200" spc="-1" strike="noStrike">
              <a:solidFill>
                <a:srgbClr val="313c3f"/>
              </a:solidFill>
              <a:latin typeface="Source Sans Pro"/>
            </a:endParaRPr>
          </a:p>
        </p:txBody>
      </p:sp>
      <p:grpSp>
        <p:nvGrpSpPr>
          <p:cNvPr id="1680" name="Group 87"/>
          <p:cNvGrpSpPr/>
          <p:nvPr/>
        </p:nvGrpSpPr>
        <p:grpSpPr>
          <a:xfrm>
            <a:off x="2892600" y="3846600"/>
            <a:ext cx="1900080" cy="799920"/>
            <a:chOff x="2892600" y="3846600"/>
            <a:chExt cx="1900080" cy="799920"/>
          </a:xfrm>
        </p:grpSpPr>
        <p:grpSp>
          <p:nvGrpSpPr>
            <p:cNvPr id="1681" name="Graphic 1"/>
            <p:cNvGrpSpPr/>
            <p:nvPr/>
          </p:nvGrpSpPr>
          <p:grpSpPr>
            <a:xfrm>
              <a:off x="2892600" y="4379760"/>
              <a:ext cx="633240" cy="266760"/>
              <a:chOff x="2892600" y="4379760"/>
              <a:chExt cx="633240" cy="266760"/>
            </a:xfrm>
          </p:grpSpPr>
          <p:sp>
            <p:nvSpPr>
              <p:cNvPr id="1682" name="Freeform: Shape 24"/>
              <p:cNvSpPr/>
              <p:nvPr/>
            </p:nvSpPr>
            <p:spPr>
              <a:xfrm>
                <a:off x="2892600" y="4379760"/>
                <a:ext cx="633240" cy="266760"/>
              </a:xfrm>
              <a:custGeom>
                <a:avLst/>
                <a:gdLst/>
                <a:ahLst/>
                <a:rect l="l" t="t" r="r" b="b"/>
                <a:pathLst>
                  <a:path w="633412" h="266700">
                    <a:moveTo>
                      <a:pt x="109537" y="0"/>
                    </a:moveTo>
                    <a:lnTo>
                      <a:pt x="523875" y="0"/>
                    </a:lnTo>
                    <a:lnTo>
                      <a:pt x="633413" y="266700"/>
                    </a:lnTo>
                    <a:lnTo>
                      <a:pt x="0" y="266700"/>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83" name="Graphic 1" descr=""/>
              <p:cNvPicPr/>
              <p:nvPr/>
            </p:nvPicPr>
            <p:blipFill>
              <a:blip r:embed="rId1"/>
              <a:stretch/>
            </p:blipFill>
            <p:spPr>
              <a:xfrm>
                <a:off x="3042000" y="4401360"/>
                <a:ext cx="390240" cy="219240"/>
              </a:xfrm>
              <a:prstGeom prst="rect">
                <a:avLst/>
              </a:prstGeom>
              <a:ln w="0">
                <a:noFill/>
              </a:ln>
            </p:spPr>
          </p:pic>
        </p:grpSp>
        <p:grpSp>
          <p:nvGrpSpPr>
            <p:cNvPr id="1684" name="Graphic 1"/>
            <p:cNvGrpSpPr/>
            <p:nvPr/>
          </p:nvGrpSpPr>
          <p:grpSpPr>
            <a:xfrm>
              <a:off x="3525840" y="4379760"/>
              <a:ext cx="633240" cy="266760"/>
              <a:chOff x="3525840" y="4379760"/>
              <a:chExt cx="633240" cy="266760"/>
            </a:xfrm>
          </p:grpSpPr>
          <p:sp>
            <p:nvSpPr>
              <p:cNvPr id="1685" name="Freeform: Shape 30"/>
              <p:cNvSpPr/>
              <p:nvPr/>
            </p:nvSpPr>
            <p:spPr>
              <a:xfrm>
                <a:off x="3525840" y="437976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86" name="Graphic 1" descr=""/>
              <p:cNvPicPr/>
              <p:nvPr/>
            </p:nvPicPr>
            <p:blipFill>
              <a:blip r:embed="rId2"/>
              <a:stretch/>
            </p:blipFill>
            <p:spPr>
              <a:xfrm>
                <a:off x="3675600" y="4401360"/>
                <a:ext cx="390240" cy="219240"/>
              </a:xfrm>
              <a:prstGeom prst="rect">
                <a:avLst/>
              </a:prstGeom>
              <a:ln w="0">
                <a:noFill/>
              </a:ln>
            </p:spPr>
          </p:pic>
        </p:grpSp>
        <p:grpSp>
          <p:nvGrpSpPr>
            <p:cNvPr id="1687" name="Graphic 1"/>
            <p:cNvGrpSpPr/>
            <p:nvPr/>
          </p:nvGrpSpPr>
          <p:grpSpPr>
            <a:xfrm>
              <a:off x="4159440" y="4379760"/>
              <a:ext cx="633240" cy="266760"/>
              <a:chOff x="4159440" y="4379760"/>
              <a:chExt cx="633240" cy="266760"/>
            </a:xfrm>
          </p:grpSpPr>
          <p:sp>
            <p:nvSpPr>
              <p:cNvPr id="1688" name="Freeform: Shape 36"/>
              <p:cNvSpPr/>
              <p:nvPr/>
            </p:nvSpPr>
            <p:spPr>
              <a:xfrm>
                <a:off x="4159440" y="4379760"/>
                <a:ext cx="633240" cy="266760"/>
              </a:xfrm>
              <a:custGeom>
                <a:avLst/>
                <a:gdLst/>
                <a:ahLst/>
                <a:rect l="l" t="t" r="r" b="b"/>
                <a:pathLst>
                  <a:path w="633412" h="266700">
                    <a:moveTo>
                      <a:pt x="109538" y="0"/>
                    </a:moveTo>
                    <a:lnTo>
                      <a:pt x="524827"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89" name="Graphic 1" descr=""/>
              <p:cNvPicPr/>
              <p:nvPr/>
            </p:nvPicPr>
            <p:blipFill>
              <a:blip r:embed="rId3"/>
              <a:stretch/>
            </p:blipFill>
            <p:spPr>
              <a:xfrm>
                <a:off x="4309920" y="4401360"/>
                <a:ext cx="390240" cy="219240"/>
              </a:xfrm>
              <a:prstGeom prst="rect">
                <a:avLst/>
              </a:prstGeom>
              <a:ln w="0">
                <a:noFill/>
              </a:ln>
            </p:spPr>
          </p:pic>
        </p:grpSp>
        <p:grpSp>
          <p:nvGrpSpPr>
            <p:cNvPr id="1690" name="Graphic 1"/>
            <p:cNvGrpSpPr/>
            <p:nvPr/>
          </p:nvGrpSpPr>
          <p:grpSpPr>
            <a:xfrm>
              <a:off x="3525840" y="3846600"/>
              <a:ext cx="633240" cy="266760"/>
              <a:chOff x="3525840" y="3846600"/>
              <a:chExt cx="633240" cy="266760"/>
            </a:xfrm>
          </p:grpSpPr>
          <p:sp>
            <p:nvSpPr>
              <p:cNvPr id="1691" name="Freeform: Shape 42"/>
              <p:cNvSpPr/>
              <p:nvPr/>
            </p:nvSpPr>
            <p:spPr>
              <a:xfrm>
                <a:off x="3525840" y="384660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92" name="Graphic 1" descr=""/>
              <p:cNvPicPr/>
              <p:nvPr/>
            </p:nvPicPr>
            <p:blipFill>
              <a:blip r:embed="rId4"/>
              <a:stretch/>
            </p:blipFill>
            <p:spPr>
              <a:xfrm>
                <a:off x="3675600" y="3870720"/>
                <a:ext cx="390240" cy="219240"/>
              </a:xfrm>
              <a:prstGeom prst="rect">
                <a:avLst/>
              </a:prstGeom>
              <a:ln w="0">
                <a:noFill/>
              </a:ln>
            </p:spPr>
          </p:pic>
        </p:grpSp>
        <p:grpSp>
          <p:nvGrpSpPr>
            <p:cNvPr id="1693" name="Graphic 1"/>
            <p:cNvGrpSpPr/>
            <p:nvPr/>
          </p:nvGrpSpPr>
          <p:grpSpPr>
            <a:xfrm>
              <a:off x="3208680" y="4113360"/>
              <a:ext cx="1267560" cy="266040"/>
              <a:chOff x="3208680" y="4113360"/>
              <a:chExt cx="1267560" cy="266040"/>
            </a:xfrm>
          </p:grpSpPr>
          <p:grpSp>
            <p:nvGrpSpPr>
              <p:cNvPr id="1694" name="Graphic 1"/>
              <p:cNvGrpSpPr/>
              <p:nvPr/>
            </p:nvGrpSpPr>
            <p:grpSpPr>
              <a:xfrm>
                <a:off x="3208680" y="4113360"/>
                <a:ext cx="634320" cy="266040"/>
                <a:chOff x="3208680" y="4113360"/>
                <a:chExt cx="634320" cy="266040"/>
              </a:xfrm>
            </p:grpSpPr>
            <p:sp>
              <p:nvSpPr>
                <p:cNvPr id="1695" name="Freeform: Shape 49"/>
                <p:cNvSpPr/>
                <p:nvPr/>
              </p:nvSpPr>
              <p:spPr>
                <a:xfrm>
                  <a:off x="3208680" y="4113360"/>
                  <a:ext cx="634320" cy="266040"/>
                </a:xfrm>
                <a:custGeom>
                  <a:avLst/>
                  <a:gdLst/>
                  <a:ahLst/>
                  <a:rect l="l" t="t" r="r" b="b"/>
                  <a:pathLst>
                    <a:path w="634365" h="265747">
                      <a:moveTo>
                        <a:pt x="109538" y="0"/>
                      </a:moveTo>
                      <a:lnTo>
                        <a:pt x="524828" y="0"/>
                      </a:lnTo>
                      <a:lnTo>
                        <a:pt x="634365" y="265748"/>
                      </a:lnTo>
                      <a:lnTo>
                        <a:pt x="0" y="265748"/>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96" name="Graphic 1" descr=""/>
                <p:cNvPicPr/>
                <p:nvPr/>
              </p:nvPicPr>
              <p:blipFill>
                <a:blip r:embed="rId5"/>
                <a:stretch/>
              </p:blipFill>
              <p:spPr>
                <a:xfrm>
                  <a:off x="3358800" y="4132800"/>
                  <a:ext cx="390240" cy="225720"/>
                </a:xfrm>
                <a:prstGeom prst="rect">
                  <a:avLst/>
                </a:prstGeom>
                <a:ln w="0">
                  <a:noFill/>
                </a:ln>
              </p:spPr>
            </p:pic>
          </p:grpSp>
          <p:grpSp>
            <p:nvGrpSpPr>
              <p:cNvPr id="1697" name="Graphic 1"/>
              <p:cNvGrpSpPr/>
              <p:nvPr/>
            </p:nvGrpSpPr>
            <p:grpSpPr>
              <a:xfrm>
                <a:off x="3843000" y="4113360"/>
                <a:ext cx="633240" cy="266040"/>
                <a:chOff x="3843000" y="4113360"/>
                <a:chExt cx="633240" cy="266040"/>
              </a:xfrm>
            </p:grpSpPr>
            <p:sp>
              <p:nvSpPr>
                <p:cNvPr id="1698" name="Freeform: Shape 55"/>
                <p:cNvSpPr/>
                <p:nvPr/>
              </p:nvSpPr>
              <p:spPr>
                <a:xfrm>
                  <a:off x="3843000" y="4113360"/>
                  <a:ext cx="633240" cy="266040"/>
                </a:xfrm>
                <a:custGeom>
                  <a:avLst/>
                  <a:gdLst/>
                  <a:ahLst/>
                  <a:rect l="l" t="t" r="r" b="b"/>
                  <a:pathLst>
                    <a:path w="633412" h="265747">
                      <a:moveTo>
                        <a:pt x="109537" y="0"/>
                      </a:moveTo>
                      <a:lnTo>
                        <a:pt x="523875" y="0"/>
                      </a:lnTo>
                      <a:lnTo>
                        <a:pt x="633412" y="265748"/>
                      </a:lnTo>
                      <a:lnTo>
                        <a:pt x="0" y="265748"/>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699" name="Graphic 1" descr=""/>
                <p:cNvPicPr/>
                <p:nvPr/>
              </p:nvPicPr>
              <p:blipFill>
                <a:blip r:embed="rId6"/>
                <a:stretch/>
              </p:blipFill>
              <p:spPr>
                <a:xfrm>
                  <a:off x="3992760" y="4132800"/>
                  <a:ext cx="390240" cy="225720"/>
                </a:xfrm>
                <a:prstGeom prst="rect">
                  <a:avLst/>
                </a:prstGeom>
                <a:ln w="0">
                  <a:noFill/>
                </a:ln>
              </p:spPr>
            </p:pic>
          </p:grpSp>
        </p:grpSp>
      </p:grpSp>
      <p:grpSp>
        <p:nvGrpSpPr>
          <p:cNvPr id="1700" name="Graphic 1"/>
          <p:cNvGrpSpPr/>
          <p:nvPr/>
        </p:nvGrpSpPr>
        <p:grpSpPr>
          <a:xfrm>
            <a:off x="2676600" y="4529160"/>
            <a:ext cx="6842160" cy="1347840"/>
            <a:chOff x="2676600" y="4529160"/>
            <a:chExt cx="6842160" cy="1347840"/>
          </a:xfrm>
        </p:grpSpPr>
        <p:sp>
          <p:nvSpPr>
            <p:cNvPr id="1701" name="Freeform: Shape 61"/>
            <p:cNvSpPr/>
            <p:nvPr/>
          </p:nvSpPr>
          <p:spPr>
            <a:xfrm>
              <a:off x="3700440" y="5024520"/>
              <a:ext cx="2223360" cy="332280"/>
            </a:xfrm>
            <a:custGeom>
              <a:avLst/>
              <a:gdLst/>
              <a:ahLst/>
              <a:rect l="l" t="t" r="r" b="b"/>
              <a:pathLst>
                <a:path w="2223134" h="332422">
                  <a:moveTo>
                    <a:pt x="1731645" y="0"/>
                  </a:moveTo>
                  <a:lnTo>
                    <a:pt x="2220278" y="0"/>
                  </a:lnTo>
                  <a:lnTo>
                    <a:pt x="2217420" y="1905"/>
                  </a:lnTo>
                  <a:lnTo>
                    <a:pt x="2215515" y="3810"/>
                  </a:lnTo>
                  <a:cubicBezTo>
                    <a:pt x="2201228" y="15240"/>
                    <a:pt x="2187893" y="29528"/>
                    <a:pt x="2177415" y="43815"/>
                  </a:cubicBezTo>
                  <a:cubicBezTo>
                    <a:pt x="2167890" y="56198"/>
                    <a:pt x="2161223" y="68580"/>
                    <a:pt x="2154555" y="81915"/>
                  </a:cubicBezTo>
                  <a:cubicBezTo>
                    <a:pt x="2118360" y="160973"/>
                    <a:pt x="2135505" y="249555"/>
                    <a:pt x="2202180" y="314325"/>
                  </a:cubicBezTo>
                  <a:cubicBezTo>
                    <a:pt x="2208848" y="320992"/>
                    <a:pt x="2215515" y="326708"/>
                    <a:pt x="2223135" y="332423"/>
                  </a:cubicBezTo>
                  <a:cubicBezTo>
                    <a:pt x="2145030" y="330517"/>
                    <a:pt x="2065973" y="329565"/>
                    <a:pt x="1987868" y="327660"/>
                  </a:cubicBezTo>
                  <a:lnTo>
                    <a:pt x="1376363" y="314325"/>
                  </a:lnTo>
                  <a:lnTo>
                    <a:pt x="1368743" y="314325"/>
                  </a:lnTo>
                  <a:cubicBezTo>
                    <a:pt x="1320165" y="314325"/>
                    <a:pt x="1265873" y="313373"/>
                    <a:pt x="1209675" y="310515"/>
                  </a:cubicBezTo>
                  <a:lnTo>
                    <a:pt x="142875" y="286703"/>
                  </a:lnTo>
                  <a:cubicBezTo>
                    <a:pt x="63817" y="286703"/>
                    <a:pt x="0" y="231458"/>
                    <a:pt x="0" y="163830"/>
                  </a:cubicBezTo>
                  <a:cubicBezTo>
                    <a:pt x="0" y="157163"/>
                    <a:pt x="952" y="151448"/>
                    <a:pt x="1905" y="144780"/>
                  </a:cubicBezTo>
                  <a:lnTo>
                    <a:pt x="65723" y="144780"/>
                  </a:lnTo>
                  <a:cubicBezTo>
                    <a:pt x="63817" y="150495"/>
                    <a:pt x="62865" y="157163"/>
                    <a:pt x="62865" y="163830"/>
                  </a:cubicBezTo>
                  <a:cubicBezTo>
                    <a:pt x="62865" y="174308"/>
                    <a:pt x="65723" y="183833"/>
                    <a:pt x="70485" y="192405"/>
                  </a:cubicBezTo>
                  <a:lnTo>
                    <a:pt x="70485" y="144780"/>
                  </a:lnTo>
                  <a:lnTo>
                    <a:pt x="220980" y="144780"/>
                  </a:lnTo>
                  <a:lnTo>
                    <a:pt x="267653" y="144780"/>
                  </a:lnTo>
                  <a:lnTo>
                    <a:pt x="283845" y="144780"/>
                  </a:lnTo>
                  <a:cubicBezTo>
                    <a:pt x="526733" y="87630"/>
                    <a:pt x="1278255" y="0"/>
                    <a:pt x="17316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02" name="Freeform: Shape 62"/>
            <p:cNvSpPr/>
            <p:nvPr/>
          </p:nvSpPr>
          <p:spPr>
            <a:xfrm>
              <a:off x="6272640" y="5024520"/>
              <a:ext cx="2223360" cy="332280"/>
            </a:xfrm>
            <a:custGeom>
              <a:avLst/>
              <a:gdLst/>
              <a:ahLst/>
              <a:rect l="l" t="t" r="r" b="b"/>
              <a:pathLst>
                <a:path w="2223135" h="332422">
                  <a:moveTo>
                    <a:pt x="491490" y="0"/>
                  </a:moveTo>
                  <a:lnTo>
                    <a:pt x="2857" y="0"/>
                  </a:lnTo>
                  <a:lnTo>
                    <a:pt x="5715" y="1905"/>
                  </a:lnTo>
                  <a:lnTo>
                    <a:pt x="7620" y="3810"/>
                  </a:lnTo>
                  <a:cubicBezTo>
                    <a:pt x="21907" y="15240"/>
                    <a:pt x="35243" y="29528"/>
                    <a:pt x="45720" y="43815"/>
                  </a:cubicBezTo>
                  <a:cubicBezTo>
                    <a:pt x="55245" y="56198"/>
                    <a:pt x="61913" y="68580"/>
                    <a:pt x="68580" y="81915"/>
                  </a:cubicBezTo>
                  <a:cubicBezTo>
                    <a:pt x="104775" y="160973"/>
                    <a:pt x="87630" y="249555"/>
                    <a:pt x="20955" y="314325"/>
                  </a:cubicBezTo>
                  <a:cubicBezTo>
                    <a:pt x="14288" y="320992"/>
                    <a:pt x="7620" y="326708"/>
                    <a:pt x="0" y="332423"/>
                  </a:cubicBezTo>
                  <a:cubicBezTo>
                    <a:pt x="78105" y="330517"/>
                    <a:pt x="157163" y="329565"/>
                    <a:pt x="235268" y="327660"/>
                  </a:cubicBezTo>
                  <a:lnTo>
                    <a:pt x="846772" y="314325"/>
                  </a:lnTo>
                  <a:lnTo>
                    <a:pt x="854393" y="314325"/>
                  </a:lnTo>
                  <a:cubicBezTo>
                    <a:pt x="902970" y="314325"/>
                    <a:pt x="957263" y="313373"/>
                    <a:pt x="1013460" y="310515"/>
                  </a:cubicBezTo>
                  <a:lnTo>
                    <a:pt x="2080260" y="286703"/>
                  </a:lnTo>
                  <a:cubicBezTo>
                    <a:pt x="2159318" y="286703"/>
                    <a:pt x="2223135" y="231458"/>
                    <a:pt x="2223135" y="163830"/>
                  </a:cubicBezTo>
                  <a:cubicBezTo>
                    <a:pt x="2223135" y="157163"/>
                    <a:pt x="2222183" y="151448"/>
                    <a:pt x="2221230" y="144780"/>
                  </a:cubicBezTo>
                  <a:lnTo>
                    <a:pt x="2157413" y="144780"/>
                  </a:lnTo>
                  <a:cubicBezTo>
                    <a:pt x="2159318" y="150495"/>
                    <a:pt x="2160270" y="157163"/>
                    <a:pt x="2160270" y="163830"/>
                  </a:cubicBezTo>
                  <a:cubicBezTo>
                    <a:pt x="2160270" y="174308"/>
                    <a:pt x="2157413" y="183833"/>
                    <a:pt x="2152650" y="192405"/>
                  </a:cubicBezTo>
                  <a:lnTo>
                    <a:pt x="2152650" y="144780"/>
                  </a:lnTo>
                  <a:lnTo>
                    <a:pt x="2002155" y="144780"/>
                  </a:lnTo>
                  <a:lnTo>
                    <a:pt x="1955482" y="144780"/>
                  </a:lnTo>
                  <a:lnTo>
                    <a:pt x="1939290" y="144780"/>
                  </a:lnTo>
                  <a:cubicBezTo>
                    <a:pt x="1695450" y="87630"/>
                    <a:pt x="943928" y="0"/>
                    <a:pt x="491490"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03" name="Freeform: Shape 63"/>
            <p:cNvSpPr/>
            <p:nvPr/>
          </p:nvSpPr>
          <p:spPr>
            <a:xfrm>
              <a:off x="5837040" y="4964400"/>
              <a:ext cx="522000" cy="449640"/>
            </a:xfrm>
            <a:custGeom>
              <a:avLst/>
              <a:gdLst/>
              <a:ahLst/>
              <a:rect l="l" t="t" r="r" b="b"/>
              <a:pathLst>
                <a:path w="521969" h="449579">
                  <a:moveTo>
                    <a:pt x="521970" y="224790"/>
                  </a:moveTo>
                  <a:cubicBezTo>
                    <a:pt x="521970" y="348938"/>
                    <a:pt x="405123" y="449580"/>
                    <a:pt x="260985" y="449580"/>
                  </a:cubicBezTo>
                  <a:cubicBezTo>
                    <a:pt x="116847" y="449580"/>
                    <a:pt x="0" y="348938"/>
                    <a:pt x="0" y="224790"/>
                  </a:cubicBezTo>
                  <a:cubicBezTo>
                    <a:pt x="0" y="100642"/>
                    <a:pt x="116847" y="0"/>
                    <a:pt x="260985" y="0"/>
                  </a:cubicBezTo>
                  <a:cubicBezTo>
                    <a:pt x="405123" y="0"/>
                    <a:pt x="521970" y="100642"/>
                    <a:pt x="521970" y="22479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04" name="Freeform: Shape 64"/>
            <p:cNvSpPr/>
            <p:nvPr/>
          </p:nvSpPr>
          <p:spPr>
            <a:xfrm>
              <a:off x="8228880" y="5035680"/>
              <a:ext cx="358560" cy="364320"/>
            </a:xfrm>
            <a:custGeom>
              <a:avLst/>
              <a:gdLst/>
              <a:ahLst/>
              <a:rect l="l" t="t" r="r" b="b"/>
              <a:pathLst>
                <a:path w="358693" h="364382">
                  <a:moveTo>
                    <a:pt x="150760" y="4074"/>
                  </a:moveTo>
                  <a:cubicBezTo>
                    <a:pt x="248868" y="-16881"/>
                    <a:pt x="340307" y="45032"/>
                    <a:pt x="356500" y="143139"/>
                  </a:cubicBezTo>
                  <a:cubicBezTo>
                    <a:pt x="371740" y="241246"/>
                    <a:pt x="306018" y="338401"/>
                    <a:pt x="207910" y="360309"/>
                  </a:cubicBezTo>
                  <a:cubicBezTo>
                    <a:pt x="109803"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05" name="Freeform: Shape 65"/>
            <p:cNvSpPr/>
            <p:nvPr/>
          </p:nvSpPr>
          <p:spPr>
            <a:xfrm>
              <a:off x="3607920" y="5035680"/>
              <a:ext cx="358560" cy="364320"/>
            </a:xfrm>
            <a:custGeom>
              <a:avLst/>
              <a:gdLst/>
              <a:ahLst/>
              <a:rect l="l" t="t" r="r" b="b"/>
              <a:pathLst>
                <a:path w="358693" h="364382">
                  <a:moveTo>
                    <a:pt x="150760" y="4074"/>
                  </a:moveTo>
                  <a:cubicBezTo>
                    <a:pt x="248867" y="-16881"/>
                    <a:pt x="340307" y="45032"/>
                    <a:pt x="356500" y="143139"/>
                  </a:cubicBezTo>
                  <a:cubicBezTo>
                    <a:pt x="371740" y="241246"/>
                    <a:pt x="306017" y="338401"/>
                    <a:pt x="207910" y="360309"/>
                  </a:cubicBezTo>
                  <a:cubicBezTo>
                    <a:pt x="109802"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706" name="Graphic 1" descr=""/>
            <p:cNvPicPr/>
            <p:nvPr/>
          </p:nvPicPr>
          <p:blipFill>
            <a:blip r:embed="rId7"/>
            <a:stretch/>
          </p:blipFill>
          <p:spPr>
            <a:xfrm>
              <a:off x="4590360" y="5047560"/>
              <a:ext cx="3188160" cy="274320"/>
            </a:xfrm>
            <a:prstGeom prst="rect">
              <a:avLst/>
            </a:prstGeom>
            <a:ln w="0">
              <a:noFill/>
            </a:ln>
          </p:spPr>
        </p:pic>
        <p:grpSp>
          <p:nvGrpSpPr>
            <p:cNvPr id="1707" name="Graphic 1"/>
            <p:cNvGrpSpPr/>
            <p:nvPr/>
          </p:nvGrpSpPr>
          <p:grpSpPr>
            <a:xfrm>
              <a:off x="5039640" y="5031000"/>
              <a:ext cx="2114640" cy="846000"/>
              <a:chOff x="5039640" y="5031000"/>
              <a:chExt cx="2114640" cy="846000"/>
            </a:xfrm>
          </p:grpSpPr>
          <p:sp>
            <p:nvSpPr>
              <p:cNvPr id="1708" name="Freeform: Shape 74"/>
              <p:cNvSpPr/>
              <p:nvPr/>
            </p:nvSpPr>
            <p:spPr>
              <a:xfrm>
                <a:off x="5039640" y="5031000"/>
                <a:ext cx="2114640" cy="846000"/>
              </a:xfrm>
              <a:custGeom>
                <a:avLst/>
                <a:gdLst/>
                <a:ahLst/>
                <a:rect l="l" t="t" r="r" b="b"/>
                <a:pathLst>
                  <a:path w="2114550" h="845819">
                    <a:moveTo>
                      <a:pt x="0" y="688657"/>
                    </a:moveTo>
                    <a:lnTo>
                      <a:pt x="640080" y="688657"/>
                    </a:lnTo>
                    <a:lnTo>
                      <a:pt x="640080" y="495300"/>
                    </a:lnTo>
                    <a:cubicBezTo>
                      <a:pt x="640080" y="389573"/>
                      <a:pt x="726757" y="301943"/>
                      <a:pt x="833438" y="301943"/>
                    </a:cubicBezTo>
                    <a:lnTo>
                      <a:pt x="849630" y="301943"/>
                    </a:lnTo>
                    <a:lnTo>
                      <a:pt x="849630" y="207645"/>
                    </a:lnTo>
                    <a:cubicBezTo>
                      <a:pt x="849630" y="93345"/>
                      <a:pt x="942975" y="0"/>
                      <a:pt x="1057275" y="0"/>
                    </a:cubicBezTo>
                    <a:cubicBezTo>
                      <a:pt x="1171575" y="0"/>
                      <a:pt x="1264920" y="93345"/>
                      <a:pt x="1264920" y="207645"/>
                    </a:cubicBezTo>
                    <a:lnTo>
                      <a:pt x="1264920" y="301943"/>
                    </a:lnTo>
                    <a:lnTo>
                      <a:pt x="1281113" y="301943"/>
                    </a:lnTo>
                    <a:cubicBezTo>
                      <a:pt x="1386840" y="301943"/>
                      <a:pt x="1474470" y="388620"/>
                      <a:pt x="1474470" y="495300"/>
                    </a:cubicBezTo>
                    <a:lnTo>
                      <a:pt x="1474470" y="688657"/>
                    </a:lnTo>
                    <a:lnTo>
                      <a:pt x="2114550" y="688657"/>
                    </a:lnTo>
                    <a:lnTo>
                      <a:pt x="2114550" y="845820"/>
                    </a:lnTo>
                    <a:lnTo>
                      <a:pt x="0" y="845820"/>
                    </a:lnTo>
                    <a:lnTo>
                      <a:pt x="0" y="688657"/>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09" name="Freeform: Shape 75"/>
              <p:cNvSpPr/>
              <p:nvPr/>
            </p:nvSpPr>
            <p:spPr>
              <a:xfrm>
                <a:off x="6138720" y="5128920"/>
                <a:ext cx="969840" cy="702360"/>
              </a:xfrm>
              <a:custGeom>
                <a:avLst/>
                <a:gdLst/>
                <a:ahLst/>
                <a:rect l="l" t="t" r="r" b="b"/>
                <a:pathLst>
                  <a:path w="969644" h="701992">
                    <a:moveTo>
                      <a:pt x="208597" y="701993"/>
                    </a:moveTo>
                    <a:lnTo>
                      <a:pt x="848678" y="701993"/>
                    </a:lnTo>
                    <a:lnTo>
                      <a:pt x="969645" y="701993"/>
                    </a:lnTo>
                    <a:lnTo>
                      <a:pt x="969645" y="637223"/>
                    </a:lnTo>
                    <a:lnTo>
                      <a:pt x="329565" y="637223"/>
                    </a:lnTo>
                    <a:lnTo>
                      <a:pt x="329565" y="398145"/>
                    </a:lnTo>
                    <a:cubicBezTo>
                      <a:pt x="329565" y="317183"/>
                      <a:pt x="263843" y="251460"/>
                      <a:pt x="182880" y="251460"/>
                    </a:cubicBezTo>
                    <a:lnTo>
                      <a:pt x="120968" y="251460"/>
                    </a:lnTo>
                    <a:lnTo>
                      <a:pt x="120968" y="111442"/>
                    </a:lnTo>
                    <a:cubicBezTo>
                      <a:pt x="120968" y="68580"/>
                      <a:pt x="103822" y="28575"/>
                      <a:pt x="76200" y="0"/>
                    </a:cubicBezTo>
                    <a:cubicBezTo>
                      <a:pt x="85725" y="18098"/>
                      <a:pt x="91440" y="39053"/>
                      <a:pt x="91440" y="60960"/>
                    </a:cubicBezTo>
                    <a:cubicBezTo>
                      <a:pt x="91440" y="119063"/>
                      <a:pt x="52388" y="168592"/>
                      <a:pt x="0" y="184785"/>
                    </a:cubicBezTo>
                    <a:lnTo>
                      <a:pt x="0" y="317183"/>
                    </a:lnTo>
                    <a:lnTo>
                      <a:pt x="61913" y="317183"/>
                    </a:lnTo>
                    <a:cubicBezTo>
                      <a:pt x="142875" y="317183"/>
                      <a:pt x="208597" y="382905"/>
                      <a:pt x="208597" y="463867"/>
                    </a:cubicBezTo>
                    <a:lnTo>
                      <a:pt x="208597" y="70199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0" name="Freeform: Shape 76"/>
              <p:cNvSpPr/>
              <p:nvPr/>
            </p:nvSpPr>
            <p:spPr>
              <a:xfrm>
                <a:off x="6015960" y="5106240"/>
                <a:ext cx="167400" cy="165600"/>
              </a:xfrm>
              <a:custGeom>
                <a:avLst/>
                <a:gdLst/>
                <a:ahLst/>
                <a:rect l="l" t="t" r="r" b="b"/>
                <a:pathLst>
                  <a:path w="167640" h="165734">
                    <a:moveTo>
                      <a:pt x="83820" y="165735"/>
                    </a:moveTo>
                    <a:cubicBezTo>
                      <a:pt x="130492" y="165735"/>
                      <a:pt x="167640" y="128588"/>
                      <a:pt x="167640" y="82867"/>
                    </a:cubicBezTo>
                    <a:cubicBezTo>
                      <a:pt x="167640" y="37147"/>
                      <a:pt x="129540" y="0"/>
                      <a:pt x="83820" y="0"/>
                    </a:cubicBezTo>
                    <a:cubicBezTo>
                      <a:pt x="37147" y="0"/>
                      <a:pt x="0" y="37147"/>
                      <a:pt x="0" y="82867"/>
                    </a:cubicBezTo>
                    <a:cubicBezTo>
                      <a:pt x="0" y="128588"/>
                      <a:pt x="37147" y="165735"/>
                      <a:pt x="83820" y="16573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711" name="Freeform: Shape 77"/>
            <p:cNvSpPr/>
            <p:nvPr/>
          </p:nvSpPr>
          <p:spPr>
            <a:xfrm>
              <a:off x="3700440" y="4859640"/>
              <a:ext cx="173160" cy="426600"/>
            </a:xfrm>
            <a:custGeom>
              <a:avLst/>
              <a:gdLst/>
              <a:ahLst/>
              <a:rect l="l" t="t" r="r" b="b"/>
              <a:pathLst>
                <a:path w="173354" h="426719">
                  <a:moveTo>
                    <a:pt x="0" y="0"/>
                  </a:moveTo>
                  <a:lnTo>
                    <a:pt x="173355" y="0"/>
                  </a:lnTo>
                  <a:lnTo>
                    <a:pt x="173355" y="310515"/>
                  </a:lnTo>
                  <a:lnTo>
                    <a:pt x="89535" y="426720"/>
                  </a:lnTo>
                  <a:lnTo>
                    <a:pt x="0" y="31051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2" name="Freeform: Shape 78"/>
            <p:cNvSpPr/>
            <p:nvPr/>
          </p:nvSpPr>
          <p:spPr>
            <a:xfrm>
              <a:off x="8321400" y="4859640"/>
              <a:ext cx="173160" cy="426600"/>
            </a:xfrm>
            <a:custGeom>
              <a:avLst/>
              <a:gdLst/>
              <a:ahLst/>
              <a:rect l="l" t="t" r="r" b="b"/>
              <a:pathLst>
                <a:path w="173355" h="426719">
                  <a:moveTo>
                    <a:pt x="173355" y="0"/>
                  </a:moveTo>
                  <a:lnTo>
                    <a:pt x="0" y="0"/>
                  </a:lnTo>
                  <a:lnTo>
                    <a:pt x="0" y="310515"/>
                  </a:lnTo>
                  <a:lnTo>
                    <a:pt x="84773" y="426720"/>
                  </a:lnTo>
                  <a:lnTo>
                    <a:pt x="173355" y="310515"/>
                  </a:lnTo>
                  <a:lnTo>
                    <a:pt x="173355"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3" name="Freeform: Shape 79"/>
            <p:cNvSpPr/>
            <p:nvPr/>
          </p:nvSpPr>
          <p:spPr>
            <a:xfrm>
              <a:off x="2676600" y="4529160"/>
              <a:ext cx="2331000" cy="330480"/>
            </a:xfrm>
            <a:custGeom>
              <a:avLst/>
              <a:gdLst/>
              <a:ahLst/>
              <a:rect l="l" t="t" r="r" b="b"/>
              <a:pathLst>
                <a:path w="2330767" h="330517">
                  <a:moveTo>
                    <a:pt x="2028825" y="330518"/>
                  </a:moveTo>
                  <a:lnTo>
                    <a:pt x="302895" y="330518"/>
                  </a:lnTo>
                  <a:lnTo>
                    <a:pt x="0" y="0"/>
                  </a:lnTo>
                  <a:lnTo>
                    <a:pt x="2330768"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4" name="Freeform: Shape 80"/>
            <p:cNvSpPr/>
            <p:nvPr/>
          </p:nvSpPr>
          <p:spPr>
            <a:xfrm>
              <a:off x="7187760" y="4529160"/>
              <a:ext cx="2331000" cy="330480"/>
            </a:xfrm>
            <a:custGeom>
              <a:avLst/>
              <a:gdLst/>
              <a:ahLst/>
              <a:rect l="l" t="t" r="r" b="b"/>
              <a:pathLst>
                <a:path w="2330767" h="330517">
                  <a:moveTo>
                    <a:pt x="2028825" y="330518"/>
                  </a:moveTo>
                  <a:lnTo>
                    <a:pt x="302895" y="330518"/>
                  </a:lnTo>
                  <a:lnTo>
                    <a:pt x="0" y="0"/>
                  </a:lnTo>
                  <a:lnTo>
                    <a:pt x="2330767"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5" name="Freeform: Shape 81"/>
            <p:cNvSpPr/>
            <p:nvPr/>
          </p:nvSpPr>
          <p:spPr>
            <a:xfrm>
              <a:off x="2762280" y="4560480"/>
              <a:ext cx="970560" cy="267480"/>
            </a:xfrm>
            <a:custGeom>
              <a:avLst/>
              <a:gdLst/>
              <a:ahLst/>
              <a:rect l="l" t="t" r="r" b="b"/>
              <a:pathLst>
                <a:path w="970597" h="267652">
                  <a:moveTo>
                    <a:pt x="326708" y="0"/>
                  </a:moveTo>
                  <a:lnTo>
                    <a:pt x="0" y="0"/>
                  </a:lnTo>
                  <a:lnTo>
                    <a:pt x="244793" y="267653"/>
                  </a:lnTo>
                  <a:lnTo>
                    <a:pt x="970598"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6" name="Freeform: Shape 82"/>
            <p:cNvSpPr/>
            <p:nvPr/>
          </p:nvSpPr>
          <p:spPr>
            <a:xfrm>
              <a:off x="7273800" y="4560480"/>
              <a:ext cx="970560" cy="267480"/>
            </a:xfrm>
            <a:custGeom>
              <a:avLst/>
              <a:gdLst/>
              <a:ahLst/>
              <a:rect l="l" t="t" r="r" b="b"/>
              <a:pathLst>
                <a:path w="970597" h="267652">
                  <a:moveTo>
                    <a:pt x="326708" y="0"/>
                  </a:moveTo>
                  <a:lnTo>
                    <a:pt x="0" y="0"/>
                  </a:lnTo>
                  <a:lnTo>
                    <a:pt x="244792" y="267653"/>
                  </a:lnTo>
                  <a:lnTo>
                    <a:pt x="970597"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7" name="Freeform: Shape 83"/>
            <p:cNvSpPr/>
            <p:nvPr/>
          </p:nvSpPr>
          <p:spPr>
            <a:xfrm>
              <a:off x="3949920" y="4562280"/>
              <a:ext cx="970560" cy="266760"/>
            </a:xfrm>
            <a:custGeom>
              <a:avLst/>
              <a:gdLst/>
              <a:ahLst/>
              <a:rect l="l" t="t" r="r" b="b"/>
              <a:pathLst>
                <a:path w="970597" h="266700">
                  <a:moveTo>
                    <a:pt x="726758" y="265748"/>
                  </a:moveTo>
                  <a:lnTo>
                    <a:pt x="970598" y="0"/>
                  </a:lnTo>
                  <a:lnTo>
                    <a:pt x="612458" y="0"/>
                  </a:lnTo>
                  <a:cubicBezTo>
                    <a:pt x="498158" y="156210"/>
                    <a:pt x="376238" y="235268"/>
                    <a:pt x="259080" y="244793"/>
                  </a:cubicBezTo>
                  <a:lnTo>
                    <a:pt x="0" y="266700"/>
                  </a:lnTo>
                  <a:lnTo>
                    <a:pt x="726758" y="266700"/>
                  </a:lnTo>
                  <a:lnTo>
                    <a:pt x="726758"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8" name="Freeform: Shape 84"/>
            <p:cNvSpPr/>
            <p:nvPr/>
          </p:nvSpPr>
          <p:spPr>
            <a:xfrm>
              <a:off x="8461440" y="4562280"/>
              <a:ext cx="970560" cy="266760"/>
            </a:xfrm>
            <a:custGeom>
              <a:avLst/>
              <a:gdLst/>
              <a:ahLst/>
              <a:rect l="l" t="t" r="r" b="b"/>
              <a:pathLst>
                <a:path w="970597" h="266700">
                  <a:moveTo>
                    <a:pt x="726757" y="265748"/>
                  </a:moveTo>
                  <a:lnTo>
                    <a:pt x="970598" y="0"/>
                  </a:lnTo>
                  <a:lnTo>
                    <a:pt x="612457" y="0"/>
                  </a:lnTo>
                  <a:cubicBezTo>
                    <a:pt x="498157" y="156210"/>
                    <a:pt x="376238" y="235268"/>
                    <a:pt x="259080" y="244793"/>
                  </a:cubicBezTo>
                  <a:lnTo>
                    <a:pt x="0" y="266700"/>
                  </a:lnTo>
                  <a:lnTo>
                    <a:pt x="726757" y="266700"/>
                  </a:lnTo>
                  <a:lnTo>
                    <a:pt x="726757"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19" name="Freeform: Shape 85"/>
            <p:cNvSpPr/>
            <p:nvPr/>
          </p:nvSpPr>
          <p:spPr>
            <a:xfrm>
              <a:off x="3700440" y="5043600"/>
              <a:ext cx="174240" cy="268560"/>
            </a:xfrm>
            <a:custGeom>
              <a:avLst/>
              <a:gdLst/>
              <a:ahLst/>
              <a:rect l="l" t="t" r="r" b="b"/>
              <a:pathLst>
                <a:path w="174307" h="268605">
                  <a:moveTo>
                    <a:pt x="0" y="0"/>
                  </a:moveTo>
                  <a:lnTo>
                    <a:pt x="174308" y="0"/>
                  </a:lnTo>
                  <a:lnTo>
                    <a:pt x="174308"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20" name="Freeform: Shape 86"/>
            <p:cNvSpPr/>
            <p:nvPr/>
          </p:nvSpPr>
          <p:spPr>
            <a:xfrm>
              <a:off x="8321400" y="5043600"/>
              <a:ext cx="174240" cy="268560"/>
            </a:xfrm>
            <a:custGeom>
              <a:avLst/>
              <a:gdLst/>
              <a:ahLst/>
              <a:rect l="l" t="t" r="r" b="b"/>
              <a:pathLst>
                <a:path w="174307" h="268605">
                  <a:moveTo>
                    <a:pt x="0" y="0"/>
                  </a:moveTo>
                  <a:lnTo>
                    <a:pt x="174307" y="0"/>
                  </a:lnTo>
                  <a:lnTo>
                    <a:pt x="174307"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Tree>
  </p:cSld>
  <p:transition spd="med">
    <p:fade/>
  </p:transition>
  <p:timing>
    <p:tnLst>
      <p:par>
        <p:cTn id="1746" dur="indefinite" restart="never" nodeType="tmRoot">
          <p:childTnLst>
            <p:seq>
              <p:cTn id="1747" dur="indefinite" nodeType="mainSeq">
                <p:childTnLst>
                  <p:par>
                    <p:cTn id="1748" nodeType="clickEffect" fill="hold">
                      <p:stCondLst>
                        <p:cond delay="0"/>
                      </p:stCondLst>
                      <p:childTnLst>
                        <p:par>
                          <p:cTn id="1749" nodeType="withEffect" fill="hold">
                            <p:stCondLst>
                              <p:cond delay="0"/>
                            </p:stCondLst>
                            <p:childTnLst>
                              <p:par>
                                <p:cTn id="1750" nodeType="afterEffect" fill="hold" presetClass="entr" presetID="10">
                                  <p:stCondLst>
                                    <p:cond delay="0"/>
                                  </p:stCondLst>
                                  <p:childTnLst>
                                    <p:set>
                                      <p:cBhvr>
                                        <p:cTn id="1751" dur="1" fill="hold">
                                          <p:stCondLst>
                                            <p:cond delay="0"/>
                                          </p:stCondLst>
                                        </p:cTn>
                                        <p:tgtEl>
                                          <p:spTgt spid="1659"/>
                                        </p:tgtEl>
                                        <p:attrNameLst>
                                          <p:attrName>style.visibility</p:attrName>
                                        </p:attrNameLst>
                                      </p:cBhvr>
                                      <p:to>
                                        <p:strVal val="visible"/>
                                      </p:to>
                                    </p:set>
                                    <p:animEffect filter="fade" transition="in">
                                      <p:cBhvr additive="repl">
                                        <p:cTn id="1752" dur="500"/>
                                        <p:tgtEl>
                                          <p:spTgt spid="1659"/>
                                        </p:tgtEl>
                                      </p:cBhvr>
                                    </p:animEffect>
                                  </p:childTnLst>
                                </p:cTn>
                              </p:par>
                              <p:par>
                                <p:cTn id="1753" nodeType="withEffect" fill="hold" presetClass="entr" presetID="10">
                                  <p:stCondLst>
                                    <p:cond delay="0"/>
                                  </p:stCondLst>
                                  <p:childTnLst>
                                    <p:set>
                                      <p:cBhvr>
                                        <p:cTn id="1754" dur="1" fill="hold">
                                          <p:stCondLst>
                                            <p:cond delay="0"/>
                                          </p:stCondLst>
                                        </p:cTn>
                                        <p:tgtEl>
                                          <p:spTgt spid="1657"/>
                                        </p:tgtEl>
                                        <p:attrNameLst>
                                          <p:attrName>style.visibility</p:attrName>
                                        </p:attrNameLst>
                                      </p:cBhvr>
                                      <p:to>
                                        <p:strVal val="visible"/>
                                      </p:to>
                                    </p:set>
                                    <p:animEffect filter="fade" transition="in">
                                      <p:cBhvr additive="repl">
                                        <p:cTn id="1755" dur="500"/>
                                        <p:tgtEl>
                                          <p:spTgt spid="1657"/>
                                        </p:tgtEl>
                                      </p:cBhvr>
                                    </p:animEffect>
                                  </p:childTnLst>
                                </p:cTn>
                              </p:par>
                              <p:par>
                                <p:cTn id="1756" nodeType="withEffect" fill="hold" presetClass="entr" presetID="16" presetSubtype="42">
                                  <p:stCondLst>
                                    <p:cond delay="0"/>
                                  </p:stCondLst>
                                  <p:childTnLst>
                                    <p:set>
                                      <p:cBhvr>
                                        <p:cTn id="1757" dur="1" fill="hold">
                                          <p:stCondLst>
                                            <p:cond delay="0"/>
                                          </p:stCondLst>
                                        </p:cTn>
                                        <p:tgtEl>
                                          <p:spTgt spid="1660"/>
                                        </p:tgtEl>
                                        <p:attrNameLst>
                                          <p:attrName>style.visibility</p:attrName>
                                        </p:attrNameLst>
                                      </p:cBhvr>
                                      <p:to>
                                        <p:strVal val="visible"/>
                                      </p:to>
                                    </p:set>
                                    <p:animEffect filter="barn(outHorizontal)" transition="in">
                                      <p:cBhvr additive="repl">
                                        <p:cTn id="1758" dur="500"/>
                                        <p:tgtEl>
                                          <p:spTgt spid="1660"/>
                                        </p:tgtEl>
                                      </p:cBhvr>
                                    </p:animEffect>
                                  </p:childTnLst>
                                </p:cTn>
                              </p:par>
                            </p:childTnLst>
                          </p:cTn>
                        </p:par>
                        <p:par>
                          <p:cTn id="1759" nodeType="afterEffect" fill="hold">
                            <p:stCondLst>
                              <p:cond delay="500"/>
                            </p:stCondLst>
                            <p:childTnLst>
                              <p:par>
                                <p:cTn id="1760" nodeType="afterEffect" fill="hold" presetClass="entr" presetID="10">
                                  <p:stCondLst>
                                    <p:cond delay="0"/>
                                  </p:stCondLst>
                                  <p:childTnLst>
                                    <p:set>
                                      <p:cBhvr>
                                        <p:cTn id="1761" dur="1" fill="hold">
                                          <p:stCondLst>
                                            <p:cond delay="0"/>
                                          </p:stCondLst>
                                        </p:cTn>
                                        <p:tgtEl>
                                          <p:spTgt spid="1700"/>
                                        </p:tgtEl>
                                        <p:attrNameLst>
                                          <p:attrName>style.visibility</p:attrName>
                                        </p:attrNameLst>
                                      </p:cBhvr>
                                      <p:to>
                                        <p:strVal val="visible"/>
                                      </p:to>
                                    </p:set>
                                    <p:animEffect filter="fade" transition="in">
                                      <p:cBhvr additive="repl">
                                        <p:cTn id="1762" dur="500"/>
                                        <p:tgtEl>
                                          <p:spTgt spid="1700"/>
                                        </p:tgtEl>
                                      </p:cBhvr>
                                    </p:animEffect>
                                  </p:childTnLst>
                                </p:cTn>
                              </p:par>
                              <p:par>
                                <p:cTn id="1763" nodeType="withEffect" fill="hold" presetClass="entr" presetID="10">
                                  <p:stCondLst>
                                    <p:cond delay="0"/>
                                  </p:stCondLst>
                                  <p:childTnLst>
                                    <p:set>
                                      <p:cBhvr>
                                        <p:cTn id="1764" dur="1" fill="hold">
                                          <p:stCondLst>
                                            <p:cond delay="0"/>
                                          </p:stCondLst>
                                        </p:cTn>
                                        <p:tgtEl>
                                          <p:spTgt spid="1658"/>
                                        </p:tgtEl>
                                        <p:attrNameLst>
                                          <p:attrName>style.visibility</p:attrName>
                                        </p:attrNameLst>
                                      </p:cBhvr>
                                      <p:to>
                                        <p:strVal val="visible"/>
                                      </p:to>
                                    </p:set>
                                    <p:animEffect filter="fade" transition="in">
                                      <p:cBhvr additive="repl">
                                        <p:cTn id="1765" dur="500"/>
                                        <p:tgtEl>
                                          <p:spTgt spid="1658"/>
                                        </p:tgtEl>
                                      </p:cBhvr>
                                    </p:animEffect>
                                  </p:childTnLst>
                                </p:cTn>
                              </p:par>
                            </p:childTnLst>
                          </p:cTn>
                        </p:par>
                        <p:par>
                          <p:cTn id="1766" nodeType="afterEffect" fill="hold">
                            <p:stCondLst>
                              <p:cond delay="1000"/>
                            </p:stCondLst>
                            <p:childTnLst>
                              <p:par>
                                <p:cTn id="1767" nodeType="afterEffect" fill="hold" presetClass="entr" presetID="10">
                                  <p:stCondLst>
                                    <p:cond delay="0"/>
                                  </p:stCondLst>
                                  <p:childTnLst>
                                    <p:set>
                                      <p:cBhvr>
                                        <p:cTn id="1768" dur="1" fill="hold">
                                          <p:stCondLst>
                                            <p:cond delay="0"/>
                                          </p:stCondLst>
                                        </p:cTn>
                                        <p:tgtEl>
                                          <p:spTgt spid="1667"/>
                                        </p:tgtEl>
                                        <p:attrNameLst>
                                          <p:attrName>style.visibility</p:attrName>
                                        </p:attrNameLst>
                                      </p:cBhvr>
                                      <p:to>
                                        <p:strVal val="visible"/>
                                      </p:to>
                                    </p:set>
                                    <p:animEffect filter="fade" transition="in">
                                      <p:cBhvr additive="repl">
                                        <p:cTn id="1769" dur="500"/>
                                        <p:tgtEl>
                                          <p:spTgt spid="1667"/>
                                        </p:tgtEl>
                                      </p:cBhvr>
                                    </p:animEffect>
                                  </p:childTnLst>
                                </p:cTn>
                              </p:par>
                              <p:par>
                                <p:cTn id="1770" nodeType="withEffect" fill="hold" presetClass="entr" presetID="10">
                                  <p:stCondLst>
                                    <p:cond delay="0"/>
                                  </p:stCondLst>
                                  <p:childTnLst>
                                    <p:set>
                                      <p:cBhvr>
                                        <p:cTn id="1771" dur="1" fill="hold">
                                          <p:stCondLst>
                                            <p:cond delay="0"/>
                                          </p:stCondLst>
                                        </p:cTn>
                                        <p:tgtEl>
                                          <p:spTgt spid="1680"/>
                                        </p:tgtEl>
                                        <p:attrNameLst>
                                          <p:attrName>style.visibility</p:attrName>
                                        </p:attrNameLst>
                                      </p:cBhvr>
                                      <p:to>
                                        <p:strVal val="visible"/>
                                      </p:to>
                                    </p:set>
                                    <p:animEffect filter="fade" transition="in">
                                      <p:cBhvr additive="repl">
                                        <p:cTn id="1772" dur="500"/>
                                        <p:tgtEl>
                                          <p:spTgt spid="1680"/>
                                        </p:tgtEl>
                                      </p:cBhvr>
                                    </p:animEffect>
                                  </p:childTnLst>
                                </p:cTn>
                              </p:par>
                            </p:childTnLst>
                          </p:cTn>
                        </p:par>
                        <p:par>
                          <p:cTn id="1773" nodeType="afterEffect" fill="hold">
                            <p:stCondLst>
                              <p:cond delay="1500"/>
                            </p:stCondLst>
                            <p:childTnLst>
                              <p:par>
                                <p:cTn id="1774" nodeType="afterEffect" fill="hold" presetClass="entr" presetID="10">
                                  <p:stCondLst>
                                    <p:cond delay="0"/>
                                  </p:stCondLst>
                                  <p:childTnLst>
                                    <p:set>
                                      <p:cBhvr>
                                        <p:cTn id="1775" dur="1" fill="hold">
                                          <p:stCondLst>
                                            <p:cond delay="0"/>
                                          </p:stCondLst>
                                        </p:cTn>
                                        <p:tgtEl>
                                          <p:spTgt spid="1661"/>
                                        </p:tgtEl>
                                        <p:attrNameLst>
                                          <p:attrName>style.visibility</p:attrName>
                                        </p:attrNameLst>
                                      </p:cBhvr>
                                      <p:to>
                                        <p:strVal val="visible"/>
                                      </p:to>
                                    </p:set>
                                    <p:animEffect filter="fade" transition="in">
                                      <p:cBhvr additive="repl">
                                        <p:cTn id="1776" dur="500"/>
                                        <p:tgtEl>
                                          <p:spTgt spid="1661"/>
                                        </p:tgtEl>
                                      </p:cBhvr>
                                    </p:animEffect>
                                  </p:childTnLst>
                                </p:cTn>
                              </p:par>
                              <p:par>
                                <p:cTn id="1777" nodeType="withEffect" fill="hold" presetClass="entr" presetID="10">
                                  <p:stCondLst>
                                    <p:cond delay="0"/>
                                  </p:stCondLst>
                                  <p:childTnLst>
                                    <p:set>
                                      <p:cBhvr>
                                        <p:cTn id="1778" dur="1" fill="hold">
                                          <p:stCondLst>
                                            <p:cond delay="0"/>
                                          </p:stCondLst>
                                        </p:cTn>
                                        <p:tgtEl>
                                          <p:spTgt spid="1666"/>
                                        </p:tgtEl>
                                        <p:attrNameLst>
                                          <p:attrName>style.visibility</p:attrName>
                                        </p:attrNameLst>
                                      </p:cBhvr>
                                      <p:to>
                                        <p:strVal val="visible"/>
                                      </p:to>
                                    </p:set>
                                    <p:animEffect filter="fade" transition="in">
                                      <p:cBhvr additive="repl">
                                        <p:cTn id="1779" dur="500"/>
                                        <p:tgtEl>
                                          <p:spTgt spid="1666"/>
                                        </p:tgtEl>
                                      </p:cBhvr>
                                    </p:animEffect>
                                  </p:childTnLst>
                                </p:cTn>
                              </p:par>
                              <p:par>
                                <p:cTn id="1780" nodeType="withEffect" fill="hold" presetClass="entr" presetID="10">
                                  <p:stCondLst>
                                    <p:cond delay="0"/>
                                  </p:stCondLst>
                                  <p:childTnLst>
                                    <p:set>
                                      <p:cBhvr>
                                        <p:cTn id="1781" dur="1" fill="hold">
                                          <p:stCondLst>
                                            <p:cond delay="0"/>
                                          </p:stCondLst>
                                        </p:cTn>
                                        <p:tgtEl>
                                          <p:spTgt spid="1665"/>
                                        </p:tgtEl>
                                        <p:attrNameLst>
                                          <p:attrName>style.visibility</p:attrName>
                                        </p:attrNameLst>
                                      </p:cBhvr>
                                      <p:to>
                                        <p:strVal val="visible"/>
                                      </p:to>
                                    </p:set>
                                    <p:animEffect filter="fade" transition="in">
                                      <p:cBhvr additive="repl">
                                        <p:cTn id="1782" dur="500"/>
                                        <p:tgtEl>
                                          <p:spTgt spid="1665"/>
                                        </p:tgtEl>
                                      </p:cBhvr>
                                    </p:animEffect>
                                  </p:childTnLst>
                                </p:cTn>
                              </p:par>
                              <p:par>
                                <p:cTn id="1783" nodeType="withEffect" fill="hold" presetClass="entr" presetID="10">
                                  <p:stCondLst>
                                    <p:cond delay="0"/>
                                  </p:stCondLst>
                                  <p:childTnLst>
                                    <p:set>
                                      <p:cBhvr>
                                        <p:cTn id="1784" dur="1" fill="hold">
                                          <p:stCondLst>
                                            <p:cond delay="0"/>
                                          </p:stCondLst>
                                        </p:cTn>
                                        <p:tgtEl>
                                          <p:spTgt spid="1663"/>
                                        </p:tgtEl>
                                        <p:attrNameLst>
                                          <p:attrName>style.visibility</p:attrName>
                                        </p:attrNameLst>
                                      </p:cBhvr>
                                      <p:to>
                                        <p:strVal val="visible"/>
                                      </p:to>
                                    </p:set>
                                    <p:animEffect filter="fade" transition="in">
                                      <p:cBhvr additive="repl">
                                        <p:cTn id="1785" dur="500"/>
                                        <p:tgtEl>
                                          <p:spTgt spid="1663"/>
                                        </p:tgtEl>
                                      </p:cBhvr>
                                    </p:animEffect>
                                  </p:childTnLst>
                                </p:cTn>
                              </p:par>
                            </p:childTnLst>
                          </p:cTn>
                        </p:par>
                        <p:par>
                          <p:cTn id="1786" nodeType="afterEffect" fill="hold">
                            <p:stCondLst>
                              <p:cond delay="2000"/>
                            </p:stCondLst>
                            <p:childTnLst>
                              <p:par>
                                <p:cTn id="1787" nodeType="afterEffect" fill="hold" presetClass="entr" presetID="10">
                                  <p:stCondLst>
                                    <p:cond delay="0"/>
                                  </p:stCondLst>
                                  <p:childTnLst>
                                    <p:set>
                                      <p:cBhvr>
                                        <p:cTn id="1788" dur="1" fill="hold">
                                          <p:stCondLst>
                                            <p:cond delay="0"/>
                                          </p:stCondLst>
                                        </p:cTn>
                                        <p:tgtEl>
                                          <p:spTgt spid="1662"/>
                                        </p:tgtEl>
                                        <p:attrNameLst>
                                          <p:attrName>style.visibility</p:attrName>
                                        </p:attrNameLst>
                                      </p:cBhvr>
                                      <p:to>
                                        <p:strVal val="visible"/>
                                      </p:to>
                                    </p:set>
                                    <p:animEffect filter="fade" transition="in">
                                      <p:cBhvr additive="repl">
                                        <p:cTn id="1789" dur="500"/>
                                        <p:tgtEl>
                                          <p:spTgt spid="1662"/>
                                        </p:tgtEl>
                                      </p:cBhvr>
                                    </p:animEffect>
                                  </p:childTnLst>
                                </p:cTn>
                              </p:par>
                              <p:par>
                                <p:cTn id="1790" nodeType="withEffect" fill="hold" presetClass="entr" presetID="10">
                                  <p:stCondLst>
                                    <p:cond delay="0"/>
                                  </p:stCondLst>
                                  <p:childTnLst>
                                    <p:set>
                                      <p:cBhvr>
                                        <p:cTn id="1791" dur="1" fill="hold">
                                          <p:stCondLst>
                                            <p:cond delay="0"/>
                                          </p:stCondLst>
                                        </p:cTn>
                                        <p:tgtEl>
                                          <p:spTgt spid="1664"/>
                                        </p:tgtEl>
                                        <p:attrNameLst>
                                          <p:attrName>style.visibility</p:attrName>
                                        </p:attrNameLst>
                                      </p:cBhvr>
                                      <p:to>
                                        <p:strVal val="visible"/>
                                      </p:to>
                                    </p:set>
                                    <p:animEffect filter="fade" transition="in">
                                      <p:cBhvr additive="repl">
                                        <p:cTn id="1792" dur="500"/>
                                        <p:tgtEl>
                                          <p:spTgt spid="1664"/>
                                        </p:tgtEl>
                                      </p:cBhvr>
                                    </p:animEffect>
                                  </p:childTnLst>
                                </p:cTn>
                              </p:par>
                              <p:par>
                                <p:cTn id="1793" nodeType="withEffect" fill="hold" presetClass="entr" presetID="10">
                                  <p:stCondLst>
                                    <p:cond delay="0"/>
                                  </p:stCondLst>
                                  <p:childTnLst>
                                    <p:set>
                                      <p:cBhvr>
                                        <p:cTn id="1794" dur="1" fill="hold">
                                          <p:stCondLst>
                                            <p:cond delay="0"/>
                                          </p:stCondLst>
                                        </p:cTn>
                                        <p:tgtEl>
                                          <p:spTgt spid="1678"/>
                                        </p:tgtEl>
                                        <p:attrNameLst>
                                          <p:attrName>style.visibility</p:attrName>
                                        </p:attrNameLst>
                                      </p:cBhvr>
                                      <p:to>
                                        <p:strVal val="visible"/>
                                      </p:to>
                                    </p:set>
                                    <p:animEffect filter="fade" transition="in">
                                      <p:cBhvr additive="repl">
                                        <p:cTn id="1795" dur="500"/>
                                        <p:tgtEl>
                                          <p:spTgt spid="1678"/>
                                        </p:tgtEl>
                                      </p:cBhvr>
                                    </p:animEffect>
                                  </p:childTnLst>
                                </p:cTn>
                              </p:par>
                              <p:par>
                                <p:cTn id="1796" nodeType="withEffect" fill="hold" presetClass="entr" presetID="10">
                                  <p:stCondLst>
                                    <p:cond delay="0"/>
                                  </p:stCondLst>
                                  <p:childTnLst>
                                    <p:set>
                                      <p:cBhvr>
                                        <p:cTn id="1797" dur="1" fill="hold">
                                          <p:stCondLst>
                                            <p:cond delay="0"/>
                                          </p:stCondLst>
                                        </p:cTn>
                                        <p:tgtEl>
                                          <p:spTgt spid="1679"/>
                                        </p:tgtEl>
                                        <p:attrNameLst>
                                          <p:attrName>style.visibility</p:attrName>
                                        </p:attrNameLst>
                                      </p:cBhvr>
                                      <p:to>
                                        <p:strVal val="visible"/>
                                      </p:to>
                                    </p:set>
                                    <p:animEffect filter="fade" transition="in">
                                      <p:cBhvr additive="repl">
                                        <p:cTn id="1798" dur="5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568" name="Oval 5"/>
          <p:cNvSpPr/>
          <p:nvPr/>
        </p:nvSpPr>
        <p:spPr>
          <a:xfrm>
            <a:off x="5724360" y="3135240"/>
            <a:ext cx="743040" cy="74448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69" name="Rectangle: Rounded Corners 7"/>
          <p:cNvSpPr/>
          <p:nvPr/>
        </p:nvSpPr>
        <p:spPr>
          <a:xfrm>
            <a:off x="865080" y="33354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0" name="Rectangle: Rounded Corners 8"/>
          <p:cNvSpPr/>
          <p:nvPr/>
        </p:nvSpPr>
        <p:spPr>
          <a:xfrm>
            <a:off x="1217520" y="3335400"/>
            <a:ext cx="4086360" cy="328680"/>
          </a:xfrm>
          <a:prstGeom prst="roundRect">
            <a:avLst>
              <a:gd name="adj" fmla="val 16667"/>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1" name="Rectangle: Rounded Corners 9"/>
          <p:cNvSpPr/>
          <p:nvPr/>
        </p:nvSpPr>
        <p:spPr>
          <a:xfrm>
            <a:off x="6907320" y="33354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2" name="Rectangle: Rounded Corners 10"/>
          <p:cNvSpPr/>
          <p:nvPr/>
        </p:nvSpPr>
        <p:spPr>
          <a:xfrm>
            <a:off x="6888240" y="3335400"/>
            <a:ext cx="3111480" cy="328680"/>
          </a:xfrm>
          <a:prstGeom prst="roundRect">
            <a:avLst>
              <a:gd name="adj" fmla="val 16667"/>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3" name="Oval 36"/>
          <p:cNvSpPr/>
          <p:nvPr/>
        </p:nvSpPr>
        <p:spPr>
          <a:xfrm>
            <a:off x="5724360" y="4075200"/>
            <a:ext cx="743040" cy="74448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4" name="Rectangle: Rounded Corners 37"/>
          <p:cNvSpPr/>
          <p:nvPr/>
        </p:nvSpPr>
        <p:spPr>
          <a:xfrm>
            <a:off x="865080" y="42750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5" name="Rectangle: Rounded Corners 38"/>
          <p:cNvSpPr/>
          <p:nvPr/>
        </p:nvSpPr>
        <p:spPr>
          <a:xfrm>
            <a:off x="2260440" y="4275000"/>
            <a:ext cx="3043440" cy="328680"/>
          </a:xfrm>
          <a:prstGeom prst="roundRect">
            <a:avLst>
              <a:gd name="adj" fmla="val 16667"/>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6" name="Rectangle: Rounded Corners 39"/>
          <p:cNvSpPr/>
          <p:nvPr/>
        </p:nvSpPr>
        <p:spPr>
          <a:xfrm>
            <a:off x="6907320" y="42750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7" name="Rectangle: Rounded Corners 40"/>
          <p:cNvSpPr/>
          <p:nvPr/>
        </p:nvSpPr>
        <p:spPr>
          <a:xfrm>
            <a:off x="6888240" y="4275000"/>
            <a:ext cx="3706560" cy="328680"/>
          </a:xfrm>
          <a:prstGeom prst="roundRect">
            <a:avLst>
              <a:gd name="adj" fmla="val 16667"/>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8" name="Oval 41"/>
          <p:cNvSpPr/>
          <p:nvPr/>
        </p:nvSpPr>
        <p:spPr>
          <a:xfrm>
            <a:off x="5724360" y="5046840"/>
            <a:ext cx="743040" cy="744480"/>
          </a:xfrm>
          <a:prstGeom prst="ellipse">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79" name="Rectangle: Rounded Corners 42"/>
          <p:cNvSpPr/>
          <p:nvPr/>
        </p:nvSpPr>
        <p:spPr>
          <a:xfrm>
            <a:off x="865080" y="5248440"/>
            <a:ext cx="441972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80" name="Rectangle: Rounded Corners 43"/>
          <p:cNvSpPr/>
          <p:nvPr/>
        </p:nvSpPr>
        <p:spPr>
          <a:xfrm>
            <a:off x="1933560" y="5248440"/>
            <a:ext cx="3370320" cy="326880"/>
          </a:xfrm>
          <a:prstGeom prst="roundRect">
            <a:avLst>
              <a:gd name="adj" fmla="val 16667"/>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81" name="Rectangle: Rounded Corners 44"/>
          <p:cNvSpPr/>
          <p:nvPr/>
        </p:nvSpPr>
        <p:spPr>
          <a:xfrm>
            <a:off x="6907320" y="5248440"/>
            <a:ext cx="441936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82" name="Rectangle: Rounded Corners 45"/>
          <p:cNvSpPr/>
          <p:nvPr/>
        </p:nvSpPr>
        <p:spPr>
          <a:xfrm>
            <a:off x="6888240" y="5248440"/>
            <a:ext cx="4086000" cy="326880"/>
          </a:xfrm>
          <a:prstGeom prst="roundRect">
            <a:avLst>
              <a:gd name="adj" fmla="val 16667"/>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pic>
        <p:nvPicPr>
          <p:cNvPr id="583" name="Group 66" descr=""/>
          <p:cNvPicPr/>
          <p:nvPr/>
        </p:nvPicPr>
        <p:blipFill>
          <a:blip r:embed="rId1"/>
          <a:stretch/>
        </p:blipFill>
        <p:spPr>
          <a:xfrm>
            <a:off x="5913360" y="3328920"/>
            <a:ext cx="365040" cy="352440"/>
          </a:xfrm>
          <a:prstGeom prst="rect">
            <a:avLst/>
          </a:prstGeom>
          <a:ln w="0">
            <a:noFill/>
          </a:ln>
        </p:spPr>
      </p:pic>
      <p:pic>
        <p:nvPicPr>
          <p:cNvPr id="584" name="Group 78" descr=""/>
          <p:cNvPicPr/>
          <p:nvPr/>
        </p:nvPicPr>
        <p:blipFill>
          <a:blip r:embed="rId2"/>
          <a:stretch/>
        </p:blipFill>
        <p:spPr>
          <a:xfrm>
            <a:off x="5907240" y="5230800"/>
            <a:ext cx="377640" cy="378000"/>
          </a:xfrm>
          <a:prstGeom prst="rect">
            <a:avLst/>
          </a:prstGeom>
          <a:ln w="0">
            <a:noFill/>
          </a:ln>
        </p:spPr>
      </p:pic>
      <p:sp>
        <p:nvSpPr>
          <p:cNvPr id="585" name="Rectangle 88"/>
          <p:cNvSpPr/>
          <p:nvPr/>
        </p:nvSpPr>
        <p:spPr>
          <a:xfrm>
            <a:off x="909720" y="2178000"/>
            <a:ext cx="3054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a:t>
            </a:r>
            <a:endParaRPr b="0" lang="en-US" sz="1200" spc="-1" strike="noStrike">
              <a:solidFill>
                <a:srgbClr val="313c3f"/>
              </a:solidFill>
              <a:latin typeface="Source Sans Pro"/>
            </a:endParaRPr>
          </a:p>
        </p:txBody>
      </p:sp>
      <p:sp>
        <p:nvSpPr>
          <p:cNvPr id="586" name="TextBox 89"/>
          <p:cNvSpPr/>
          <p:nvPr/>
        </p:nvSpPr>
        <p:spPr>
          <a:xfrm>
            <a:off x="1217520" y="1911240"/>
            <a:ext cx="2746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587" name="Rectangle 90"/>
          <p:cNvSpPr/>
          <p:nvPr/>
        </p:nvSpPr>
        <p:spPr>
          <a:xfrm>
            <a:off x="8228160" y="21780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a:t>
            </a:r>
            <a:endParaRPr b="0" lang="en-US" sz="1200" spc="-1" strike="noStrike">
              <a:solidFill>
                <a:srgbClr val="313c3f"/>
              </a:solidFill>
              <a:latin typeface="Source Sans Pro"/>
            </a:endParaRPr>
          </a:p>
        </p:txBody>
      </p:sp>
      <p:sp>
        <p:nvSpPr>
          <p:cNvPr id="588" name="TextBox 91"/>
          <p:cNvSpPr/>
          <p:nvPr/>
        </p:nvSpPr>
        <p:spPr>
          <a:xfrm>
            <a:off x="8228160" y="1911240"/>
            <a:ext cx="274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589" name="TextBox 92"/>
          <p:cNvSpPr/>
          <p:nvPr/>
        </p:nvSpPr>
        <p:spPr>
          <a:xfrm>
            <a:off x="9416160" y="33498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0%</a:t>
            </a:r>
            <a:endParaRPr b="0" lang="en-US" sz="1400" spc="-1" strike="noStrike">
              <a:solidFill>
                <a:srgbClr val="313c3f"/>
              </a:solidFill>
              <a:latin typeface="Source Sans Pro"/>
            </a:endParaRPr>
          </a:p>
        </p:txBody>
      </p:sp>
      <p:sp>
        <p:nvSpPr>
          <p:cNvPr id="590" name="TextBox 93"/>
          <p:cNvSpPr/>
          <p:nvPr/>
        </p:nvSpPr>
        <p:spPr>
          <a:xfrm>
            <a:off x="10012320" y="42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c3f"/>
              </a:solidFill>
              <a:latin typeface="Source Sans Pro"/>
            </a:endParaRPr>
          </a:p>
        </p:txBody>
      </p:sp>
      <p:sp>
        <p:nvSpPr>
          <p:cNvPr id="591" name="TextBox 94"/>
          <p:cNvSpPr/>
          <p:nvPr/>
        </p:nvSpPr>
        <p:spPr>
          <a:xfrm>
            <a:off x="10398600" y="52610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13c3f"/>
              </a:solidFill>
              <a:latin typeface="Source Sans Pro"/>
            </a:endParaRPr>
          </a:p>
        </p:txBody>
      </p:sp>
      <p:sp>
        <p:nvSpPr>
          <p:cNvPr id="592" name="TextBox 95"/>
          <p:cNvSpPr/>
          <p:nvPr/>
        </p:nvSpPr>
        <p:spPr>
          <a:xfrm>
            <a:off x="1270440" y="3340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0%</a:t>
            </a:r>
            <a:endParaRPr b="0" lang="en-US" sz="1400" spc="-1" strike="noStrike">
              <a:solidFill>
                <a:srgbClr val="313c3f"/>
              </a:solidFill>
              <a:latin typeface="Source Sans Pro"/>
            </a:endParaRPr>
          </a:p>
        </p:txBody>
      </p:sp>
      <p:sp>
        <p:nvSpPr>
          <p:cNvPr id="593" name="TextBox 96"/>
          <p:cNvSpPr/>
          <p:nvPr/>
        </p:nvSpPr>
        <p:spPr>
          <a:xfrm>
            <a:off x="2361240" y="42847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5%</a:t>
            </a:r>
            <a:endParaRPr b="0" lang="en-US" sz="1400" spc="-1" strike="noStrike">
              <a:solidFill>
                <a:srgbClr val="313c3f"/>
              </a:solidFill>
              <a:latin typeface="Source Sans Pro"/>
            </a:endParaRPr>
          </a:p>
        </p:txBody>
      </p:sp>
      <p:sp>
        <p:nvSpPr>
          <p:cNvPr id="594" name="TextBox 97"/>
          <p:cNvSpPr/>
          <p:nvPr/>
        </p:nvSpPr>
        <p:spPr>
          <a:xfrm>
            <a:off x="1951560" y="52513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c3f"/>
              </a:solidFill>
              <a:latin typeface="Source Sans Pro"/>
            </a:endParaRPr>
          </a:p>
        </p:txBody>
      </p:sp>
      <p:grpSp>
        <p:nvGrpSpPr>
          <p:cNvPr id="595" name="Group 2"/>
          <p:cNvGrpSpPr/>
          <p:nvPr/>
        </p:nvGrpSpPr>
        <p:grpSpPr>
          <a:xfrm>
            <a:off x="5624640" y="1974960"/>
            <a:ext cx="901440" cy="885600"/>
            <a:chOff x="5624640" y="1974960"/>
            <a:chExt cx="901440" cy="885600"/>
          </a:xfrm>
        </p:grpSpPr>
        <p:sp>
          <p:nvSpPr>
            <p:cNvPr id="596" name="Oval 47"/>
            <p:cNvSpPr/>
            <p:nvPr/>
          </p:nvSpPr>
          <p:spPr>
            <a:xfrm>
              <a:off x="5624640" y="1996920"/>
              <a:ext cx="8618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597" name="Oval 48"/>
            <p:cNvSpPr/>
            <p:nvPr/>
          </p:nvSpPr>
          <p:spPr>
            <a:xfrm>
              <a:off x="5664240" y="1974960"/>
              <a:ext cx="861840" cy="8636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598" name="TextBox 49"/>
          <p:cNvSpPr/>
          <p:nvPr/>
        </p:nvSpPr>
        <p:spPr>
          <a:xfrm>
            <a:off x="5654520" y="220680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VS</a:t>
            </a:r>
            <a:endParaRPr b="0" lang="en-US" sz="2000" spc="-1" strike="noStrike">
              <a:solidFill>
                <a:srgbClr val="313c3f"/>
              </a:solidFill>
              <a:latin typeface="Source Sans Pro"/>
            </a:endParaRPr>
          </a:p>
        </p:txBody>
      </p:sp>
      <p:sp>
        <p:nvSpPr>
          <p:cNvPr id="599" name="Freeform 350"/>
          <p:cNvSpPr/>
          <p:nvPr/>
        </p:nvSpPr>
        <p:spPr>
          <a:xfrm>
            <a:off x="5857920" y="4268880"/>
            <a:ext cx="476280" cy="35712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0"/>
                                  </p:stCondLst>
                                  <p:childTnLst>
                                    <p:set>
                                      <p:cBhvr>
                                        <p:cTn id="116" dur="1" fill="hold">
                                          <p:stCondLst>
                                            <p:cond delay="0"/>
                                          </p:stCondLst>
                                        </p:cTn>
                                        <p:tgtEl>
                                          <p:spTgt spid="567"/>
                                        </p:tgtEl>
                                        <p:attrNameLst>
                                          <p:attrName>style.visibility</p:attrName>
                                        </p:attrNameLst>
                                      </p:cBhvr>
                                      <p:to>
                                        <p:strVal val="visible"/>
                                      </p:to>
                                    </p:set>
                                    <p:animEffect filter="fade" transition="in">
                                      <p:cBhvr additive="repl">
                                        <p:cTn id="117" dur="500"/>
                                        <p:tgtEl>
                                          <p:spTgt spid="567"/>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595"/>
                                        </p:tgtEl>
                                        <p:attrNameLst>
                                          <p:attrName>style.visibility</p:attrName>
                                        </p:attrNameLst>
                                      </p:cBhvr>
                                      <p:to>
                                        <p:strVal val="visible"/>
                                      </p:to>
                                    </p:set>
                                    <p:anim calcmode="lin" valueType="num">
                                      <p:cBhvr additive="repl">
                                        <p:cTn id="121" dur="500" fill="hold"/>
                                        <p:tgtEl>
                                          <p:spTgt spid="595"/>
                                        </p:tgtEl>
                                        <p:attrNameLst>
                                          <p:attrName>ppt_w</p:attrName>
                                        </p:attrNameLst>
                                      </p:cBhvr>
                                      <p:tavLst>
                                        <p:tav tm="0">
                                          <p:val>
                                            <p:fltVal val="0"/>
                                          </p:val>
                                        </p:tav>
                                        <p:tav tm="100000">
                                          <p:val>
                                            <p:strVal val="#ppt_w"/>
                                          </p:val>
                                        </p:tav>
                                      </p:tavLst>
                                    </p:anim>
                                    <p:anim calcmode="lin" valueType="num">
                                      <p:cBhvr additive="repl">
                                        <p:cTn id="122" dur="500" fill="hold"/>
                                        <p:tgtEl>
                                          <p:spTgt spid="595"/>
                                        </p:tgtEl>
                                        <p:attrNameLst>
                                          <p:attrName>ppt_h</p:attrName>
                                        </p:attrNameLst>
                                      </p:cBhvr>
                                      <p:tavLst>
                                        <p:tav tm="0">
                                          <p:val>
                                            <p:fltVal val="0"/>
                                          </p:val>
                                        </p:tav>
                                        <p:tav tm="100000">
                                          <p:val>
                                            <p:strVal val="#ppt_h"/>
                                          </p:val>
                                        </p:tav>
                                      </p:tavLst>
                                    </p:anim>
                                    <p:animEffect filter="fade" transition="in">
                                      <p:cBhvr additive="repl">
                                        <p:cTn id="123" dur="500"/>
                                        <p:tgtEl>
                                          <p:spTgt spid="595"/>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98"/>
                                        </p:tgtEl>
                                        <p:attrNameLst>
                                          <p:attrName>style.visibility</p:attrName>
                                        </p:attrNameLst>
                                      </p:cBhvr>
                                      <p:to>
                                        <p:strVal val="visible"/>
                                      </p:to>
                                    </p:set>
                                    <p:animEffect filter="fade" transition="in">
                                      <p:cBhvr additive="repl">
                                        <p:cTn id="127" dur="500"/>
                                        <p:tgtEl>
                                          <p:spTgt spid="598"/>
                                        </p:tgtEl>
                                      </p:cBhvr>
                                    </p:animEffect>
                                  </p:childTnLst>
                                </p:cTn>
                              </p:par>
                            </p:childTnLst>
                          </p:cTn>
                        </p:par>
                        <p:par>
                          <p:cTn id="128" nodeType="afterEffect" fill="hold">
                            <p:stCondLst>
                              <p:cond delay="1500"/>
                            </p:stCondLst>
                            <p:childTnLst>
                              <p:par>
                                <p:cTn id="129" nodeType="afterEffect" fill="hold" presetClass="entr" presetID="10">
                                  <p:stCondLst>
                                    <p:cond delay="0"/>
                                  </p:stCondLst>
                                  <p:childTnLst>
                                    <p:set>
                                      <p:cBhvr>
                                        <p:cTn id="130" dur="1" fill="hold">
                                          <p:stCondLst>
                                            <p:cond delay="0"/>
                                          </p:stCondLst>
                                        </p:cTn>
                                        <p:tgtEl>
                                          <p:spTgt spid="586"/>
                                        </p:tgtEl>
                                        <p:attrNameLst>
                                          <p:attrName>style.visibility</p:attrName>
                                        </p:attrNameLst>
                                      </p:cBhvr>
                                      <p:to>
                                        <p:strVal val="visible"/>
                                      </p:to>
                                    </p:set>
                                    <p:animEffect filter="fade" transition="in">
                                      <p:cBhvr additive="repl">
                                        <p:cTn id="131" dur="500"/>
                                        <p:tgtEl>
                                          <p:spTgt spid="586"/>
                                        </p:tgtEl>
                                      </p:cBhvr>
                                    </p:animEffect>
                                  </p:childTnLst>
                                </p:cTn>
                              </p:par>
                              <p:par>
                                <p:cTn id="132" nodeType="withEffect" fill="hold" presetClass="entr" presetID="10">
                                  <p:stCondLst>
                                    <p:cond delay="0"/>
                                  </p:stCondLst>
                                  <p:childTnLst>
                                    <p:set>
                                      <p:cBhvr>
                                        <p:cTn id="133" dur="1" fill="hold">
                                          <p:stCondLst>
                                            <p:cond delay="0"/>
                                          </p:stCondLst>
                                        </p:cTn>
                                        <p:tgtEl>
                                          <p:spTgt spid="588"/>
                                        </p:tgtEl>
                                        <p:attrNameLst>
                                          <p:attrName>style.visibility</p:attrName>
                                        </p:attrNameLst>
                                      </p:cBhvr>
                                      <p:to>
                                        <p:strVal val="visible"/>
                                      </p:to>
                                    </p:set>
                                    <p:animEffect filter="fade" transition="in">
                                      <p:cBhvr additive="repl">
                                        <p:cTn id="134" dur="500"/>
                                        <p:tgtEl>
                                          <p:spTgt spid="588"/>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585"/>
                                        </p:tgtEl>
                                        <p:attrNameLst>
                                          <p:attrName>style.visibility</p:attrName>
                                        </p:attrNameLst>
                                      </p:cBhvr>
                                      <p:to>
                                        <p:strVal val="visible"/>
                                      </p:to>
                                    </p:set>
                                    <p:animEffect filter="fade" transition="in">
                                      <p:cBhvr additive="repl">
                                        <p:cTn id="138" dur="500"/>
                                        <p:tgtEl>
                                          <p:spTgt spid="585"/>
                                        </p:tgtEl>
                                      </p:cBhvr>
                                    </p:animEffect>
                                  </p:childTnLst>
                                </p:cTn>
                              </p:par>
                              <p:par>
                                <p:cTn id="139" nodeType="withEffect" fill="hold" presetClass="entr" presetID="10">
                                  <p:stCondLst>
                                    <p:cond delay="0"/>
                                  </p:stCondLst>
                                  <p:childTnLst>
                                    <p:set>
                                      <p:cBhvr>
                                        <p:cTn id="140" dur="1" fill="hold">
                                          <p:stCondLst>
                                            <p:cond delay="0"/>
                                          </p:stCondLst>
                                        </p:cTn>
                                        <p:tgtEl>
                                          <p:spTgt spid="587"/>
                                        </p:tgtEl>
                                        <p:attrNameLst>
                                          <p:attrName>style.visibility</p:attrName>
                                        </p:attrNameLst>
                                      </p:cBhvr>
                                      <p:to>
                                        <p:strVal val="visible"/>
                                      </p:to>
                                    </p:set>
                                    <p:animEffect filter="fade" transition="in">
                                      <p:cBhvr additive="repl">
                                        <p:cTn id="141" dur="500"/>
                                        <p:tgtEl>
                                          <p:spTgt spid="587"/>
                                        </p:tgtEl>
                                      </p:cBhvr>
                                    </p:animEffect>
                                  </p:childTnLst>
                                </p:cTn>
                              </p:par>
                            </p:childTnLst>
                          </p:cTn>
                        </p:par>
                        <p:par>
                          <p:cTn id="142" nodeType="afterEffect" fill="hold">
                            <p:stCondLst>
                              <p:cond delay="2500"/>
                            </p:stCondLst>
                            <p:childTnLst>
                              <p:par>
                                <p:cTn id="143" nodeType="afterEffect" fill="hold" presetClass="entr" presetID="53" presetSubtype="16">
                                  <p:stCondLst>
                                    <p:cond delay="0"/>
                                  </p:stCondLst>
                                  <p:childTnLst>
                                    <p:set>
                                      <p:cBhvr>
                                        <p:cTn id="144" dur="1" fill="hold">
                                          <p:stCondLst>
                                            <p:cond delay="0"/>
                                          </p:stCondLst>
                                        </p:cTn>
                                        <p:tgtEl>
                                          <p:spTgt spid="568"/>
                                        </p:tgtEl>
                                        <p:attrNameLst>
                                          <p:attrName>style.visibility</p:attrName>
                                        </p:attrNameLst>
                                      </p:cBhvr>
                                      <p:to>
                                        <p:strVal val="visible"/>
                                      </p:to>
                                    </p:set>
                                    <p:anim calcmode="lin" valueType="num">
                                      <p:cBhvr additive="repl">
                                        <p:cTn id="145" dur="500" fill="hold"/>
                                        <p:tgtEl>
                                          <p:spTgt spid="568"/>
                                        </p:tgtEl>
                                        <p:attrNameLst>
                                          <p:attrName>ppt_w</p:attrName>
                                        </p:attrNameLst>
                                      </p:cBhvr>
                                      <p:tavLst>
                                        <p:tav tm="0">
                                          <p:val>
                                            <p:fltVal val="0"/>
                                          </p:val>
                                        </p:tav>
                                        <p:tav tm="100000">
                                          <p:val>
                                            <p:strVal val="#ppt_w"/>
                                          </p:val>
                                        </p:tav>
                                      </p:tavLst>
                                    </p:anim>
                                    <p:anim calcmode="lin" valueType="num">
                                      <p:cBhvr additive="repl">
                                        <p:cTn id="146" dur="500" fill="hold"/>
                                        <p:tgtEl>
                                          <p:spTgt spid="568"/>
                                        </p:tgtEl>
                                        <p:attrNameLst>
                                          <p:attrName>ppt_h</p:attrName>
                                        </p:attrNameLst>
                                      </p:cBhvr>
                                      <p:tavLst>
                                        <p:tav tm="0">
                                          <p:val>
                                            <p:fltVal val="0"/>
                                          </p:val>
                                        </p:tav>
                                        <p:tav tm="100000">
                                          <p:val>
                                            <p:strVal val="#ppt_h"/>
                                          </p:val>
                                        </p:tav>
                                      </p:tavLst>
                                    </p:anim>
                                    <p:animEffect filter="fade" transition="in">
                                      <p:cBhvr additive="repl">
                                        <p:cTn id="147" dur="500"/>
                                        <p:tgtEl>
                                          <p:spTgt spid="568"/>
                                        </p:tgtEl>
                                      </p:cBhvr>
                                    </p:animEffect>
                                  </p:childTnLst>
                                </p:cTn>
                              </p:par>
                            </p:childTnLst>
                          </p:cTn>
                        </p:par>
                        <p:par>
                          <p:cTn id="148" nodeType="afterEffect" fill="hold">
                            <p:stCondLst>
                              <p:cond delay="3000"/>
                            </p:stCondLst>
                            <p:childTnLst>
                              <p:par>
                                <p:cTn id="149" nodeType="afterEffect" fill="hold" presetClass="entr" presetID="10">
                                  <p:stCondLst>
                                    <p:cond delay="0"/>
                                  </p:stCondLst>
                                  <p:childTnLst>
                                    <p:set>
                                      <p:cBhvr>
                                        <p:cTn id="150" dur="1" fill="hold">
                                          <p:stCondLst>
                                            <p:cond delay="0"/>
                                          </p:stCondLst>
                                        </p:cTn>
                                        <p:tgtEl>
                                          <p:spTgt spid="583"/>
                                        </p:tgtEl>
                                        <p:attrNameLst>
                                          <p:attrName>style.visibility</p:attrName>
                                        </p:attrNameLst>
                                      </p:cBhvr>
                                      <p:to>
                                        <p:strVal val="visible"/>
                                      </p:to>
                                    </p:set>
                                    <p:animEffect filter="fade" transition="in">
                                      <p:cBhvr additive="repl">
                                        <p:cTn id="151" dur="500"/>
                                        <p:tgtEl>
                                          <p:spTgt spid="583"/>
                                        </p:tgtEl>
                                      </p:cBhvr>
                                    </p:animEffect>
                                  </p:childTnLst>
                                </p:cTn>
                              </p:par>
                            </p:childTnLst>
                          </p:cTn>
                        </p:par>
                        <p:par>
                          <p:cTn id="152" nodeType="afterEffect" fill="hold">
                            <p:stCondLst>
                              <p:cond delay="3500"/>
                            </p:stCondLst>
                            <p:childTnLst>
                              <p:par>
                                <p:cTn id="153" nodeType="afterEffect" fill="hold" presetClass="entr" presetID="22" presetSubtype="8">
                                  <p:stCondLst>
                                    <p:cond delay="0"/>
                                  </p:stCondLst>
                                  <p:childTnLst>
                                    <p:set>
                                      <p:cBhvr>
                                        <p:cTn id="154" dur="1" fill="hold">
                                          <p:stCondLst>
                                            <p:cond delay="0"/>
                                          </p:stCondLst>
                                        </p:cTn>
                                        <p:tgtEl>
                                          <p:spTgt spid="572"/>
                                        </p:tgtEl>
                                        <p:attrNameLst>
                                          <p:attrName>style.visibility</p:attrName>
                                        </p:attrNameLst>
                                      </p:cBhvr>
                                      <p:to>
                                        <p:strVal val="visible"/>
                                      </p:to>
                                    </p:set>
                                    <p:animEffect filter="wipe(left)" transition="in">
                                      <p:cBhvr additive="repl">
                                        <p:cTn id="155" dur="500"/>
                                        <p:tgtEl>
                                          <p:spTgt spid="572"/>
                                        </p:tgtEl>
                                      </p:cBhvr>
                                    </p:animEffect>
                                  </p:childTnLst>
                                </p:cTn>
                              </p:par>
                              <p:par>
                                <p:cTn id="156" nodeType="withEffect" fill="hold" presetClass="entr" presetID="10">
                                  <p:stCondLst>
                                    <p:cond delay="0"/>
                                  </p:stCondLst>
                                  <p:childTnLst>
                                    <p:set>
                                      <p:cBhvr>
                                        <p:cTn id="157" dur="1" fill="hold">
                                          <p:stCondLst>
                                            <p:cond delay="0"/>
                                          </p:stCondLst>
                                        </p:cTn>
                                        <p:tgtEl>
                                          <p:spTgt spid="571"/>
                                        </p:tgtEl>
                                        <p:attrNameLst>
                                          <p:attrName>style.visibility</p:attrName>
                                        </p:attrNameLst>
                                      </p:cBhvr>
                                      <p:to>
                                        <p:strVal val="visible"/>
                                      </p:to>
                                    </p:set>
                                    <p:animEffect filter="fade" transition="in">
                                      <p:cBhvr additive="repl">
                                        <p:cTn id="158" dur="500"/>
                                        <p:tgtEl>
                                          <p:spTgt spid="571"/>
                                        </p:tgtEl>
                                      </p:cBhvr>
                                    </p:animEffect>
                                  </p:childTnLst>
                                </p:cTn>
                              </p:par>
                              <p:par>
                                <p:cTn id="159" nodeType="withEffect" fill="hold" presetClass="entr" presetID="22" presetSubtype="2">
                                  <p:stCondLst>
                                    <p:cond delay="0"/>
                                  </p:stCondLst>
                                  <p:childTnLst>
                                    <p:set>
                                      <p:cBhvr>
                                        <p:cTn id="160" dur="1" fill="hold">
                                          <p:stCondLst>
                                            <p:cond delay="0"/>
                                          </p:stCondLst>
                                        </p:cTn>
                                        <p:tgtEl>
                                          <p:spTgt spid="570"/>
                                        </p:tgtEl>
                                        <p:attrNameLst>
                                          <p:attrName>style.visibility</p:attrName>
                                        </p:attrNameLst>
                                      </p:cBhvr>
                                      <p:to>
                                        <p:strVal val="visible"/>
                                      </p:to>
                                    </p:set>
                                    <p:animEffect filter="wipe(right)" transition="in">
                                      <p:cBhvr additive="repl">
                                        <p:cTn id="161" dur="500"/>
                                        <p:tgtEl>
                                          <p:spTgt spid="570"/>
                                        </p:tgtEl>
                                      </p:cBhvr>
                                    </p:animEffect>
                                  </p:childTnLst>
                                </p:cTn>
                              </p:par>
                              <p:par>
                                <p:cTn id="162" nodeType="withEffect" fill="hold" presetClass="entr" presetID="10">
                                  <p:stCondLst>
                                    <p:cond delay="0"/>
                                  </p:stCondLst>
                                  <p:childTnLst>
                                    <p:set>
                                      <p:cBhvr>
                                        <p:cTn id="163" dur="1" fill="hold">
                                          <p:stCondLst>
                                            <p:cond delay="0"/>
                                          </p:stCondLst>
                                        </p:cTn>
                                        <p:tgtEl>
                                          <p:spTgt spid="569"/>
                                        </p:tgtEl>
                                        <p:attrNameLst>
                                          <p:attrName>style.visibility</p:attrName>
                                        </p:attrNameLst>
                                      </p:cBhvr>
                                      <p:to>
                                        <p:strVal val="visible"/>
                                      </p:to>
                                    </p:set>
                                    <p:animEffect filter="fade" transition="in">
                                      <p:cBhvr additive="repl">
                                        <p:cTn id="164" dur="500"/>
                                        <p:tgtEl>
                                          <p:spTgt spid="569"/>
                                        </p:tgtEl>
                                      </p:cBhvr>
                                    </p:animEffect>
                                  </p:childTnLst>
                                </p:cTn>
                              </p:par>
                            </p:childTnLst>
                          </p:cTn>
                        </p:par>
                        <p:par>
                          <p:cTn id="165" nodeType="afterEffect" fill="hold">
                            <p:stCondLst>
                              <p:cond delay="4000"/>
                            </p:stCondLst>
                            <p:childTnLst>
                              <p:par>
                                <p:cTn id="166" nodeType="afterEffect" fill="hold" presetClass="entr" presetID="10">
                                  <p:stCondLst>
                                    <p:cond delay="0"/>
                                  </p:stCondLst>
                                  <p:childTnLst>
                                    <p:set>
                                      <p:cBhvr>
                                        <p:cTn id="167" dur="1" fill="hold">
                                          <p:stCondLst>
                                            <p:cond delay="0"/>
                                          </p:stCondLst>
                                        </p:cTn>
                                        <p:tgtEl>
                                          <p:spTgt spid="592"/>
                                        </p:tgtEl>
                                        <p:attrNameLst>
                                          <p:attrName>style.visibility</p:attrName>
                                        </p:attrNameLst>
                                      </p:cBhvr>
                                      <p:to>
                                        <p:strVal val="visible"/>
                                      </p:to>
                                    </p:set>
                                    <p:animEffect filter="fade" transition="in">
                                      <p:cBhvr additive="repl">
                                        <p:cTn id="168" dur="500"/>
                                        <p:tgtEl>
                                          <p:spTgt spid="592"/>
                                        </p:tgtEl>
                                      </p:cBhvr>
                                    </p:animEffect>
                                  </p:childTnLst>
                                </p:cTn>
                              </p:par>
                              <p:par>
                                <p:cTn id="169" nodeType="withEffect" fill="hold" presetClass="entr" presetID="10">
                                  <p:stCondLst>
                                    <p:cond delay="0"/>
                                  </p:stCondLst>
                                  <p:childTnLst>
                                    <p:set>
                                      <p:cBhvr>
                                        <p:cTn id="170" dur="1" fill="hold">
                                          <p:stCondLst>
                                            <p:cond delay="0"/>
                                          </p:stCondLst>
                                        </p:cTn>
                                        <p:tgtEl>
                                          <p:spTgt spid="589"/>
                                        </p:tgtEl>
                                        <p:attrNameLst>
                                          <p:attrName>style.visibility</p:attrName>
                                        </p:attrNameLst>
                                      </p:cBhvr>
                                      <p:to>
                                        <p:strVal val="visible"/>
                                      </p:to>
                                    </p:set>
                                    <p:animEffect filter="fade" transition="in">
                                      <p:cBhvr additive="repl">
                                        <p:cTn id="171" dur="500"/>
                                        <p:tgtEl>
                                          <p:spTgt spid="589"/>
                                        </p:tgtEl>
                                      </p:cBhvr>
                                    </p:animEffect>
                                  </p:childTnLst>
                                </p:cTn>
                              </p:par>
                            </p:childTnLst>
                          </p:cTn>
                        </p:par>
                        <p:par>
                          <p:cTn id="172" nodeType="afterEffect" fill="hold">
                            <p:stCondLst>
                              <p:cond delay="4500"/>
                            </p:stCondLst>
                            <p:childTnLst>
                              <p:par>
                                <p:cTn id="173" nodeType="afterEffect" fill="hold" presetClass="entr" presetID="53" presetSubtype="16">
                                  <p:stCondLst>
                                    <p:cond delay="0"/>
                                  </p:stCondLst>
                                  <p:childTnLst>
                                    <p:set>
                                      <p:cBhvr>
                                        <p:cTn id="174" dur="1" fill="hold">
                                          <p:stCondLst>
                                            <p:cond delay="0"/>
                                          </p:stCondLst>
                                        </p:cTn>
                                        <p:tgtEl>
                                          <p:spTgt spid="573"/>
                                        </p:tgtEl>
                                        <p:attrNameLst>
                                          <p:attrName>style.visibility</p:attrName>
                                        </p:attrNameLst>
                                      </p:cBhvr>
                                      <p:to>
                                        <p:strVal val="visible"/>
                                      </p:to>
                                    </p:set>
                                    <p:anim calcmode="lin" valueType="num">
                                      <p:cBhvr additive="repl">
                                        <p:cTn id="175" dur="500" fill="hold"/>
                                        <p:tgtEl>
                                          <p:spTgt spid="573"/>
                                        </p:tgtEl>
                                        <p:attrNameLst>
                                          <p:attrName>ppt_w</p:attrName>
                                        </p:attrNameLst>
                                      </p:cBhvr>
                                      <p:tavLst>
                                        <p:tav tm="0">
                                          <p:val>
                                            <p:fltVal val="0"/>
                                          </p:val>
                                        </p:tav>
                                        <p:tav tm="100000">
                                          <p:val>
                                            <p:strVal val="#ppt_w"/>
                                          </p:val>
                                        </p:tav>
                                      </p:tavLst>
                                    </p:anim>
                                    <p:anim calcmode="lin" valueType="num">
                                      <p:cBhvr additive="repl">
                                        <p:cTn id="176" dur="500" fill="hold"/>
                                        <p:tgtEl>
                                          <p:spTgt spid="573"/>
                                        </p:tgtEl>
                                        <p:attrNameLst>
                                          <p:attrName>ppt_h</p:attrName>
                                        </p:attrNameLst>
                                      </p:cBhvr>
                                      <p:tavLst>
                                        <p:tav tm="0">
                                          <p:val>
                                            <p:fltVal val="0"/>
                                          </p:val>
                                        </p:tav>
                                        <p:tav tm="100000">
                                          <p:val>
                                            <p:strVal val="#ppt_h"/>
                                          </p:val>
                                        </p:tav>
                                      </p:tavLst>
                                    </p:anim>
                                    <p:animEffect filter="fade" transition="in">
                                      <p:cBhvr additive="repl">
                                        <p:cTn id="177" dur="500"/>
                                        <p:tgtEl>
                                          <p:spTgt spid="573"/>
                                        </p:tgtEl>
                                      </p:cBhvr>
                                    </p:animEffect>
                                  </p:childTnLst>
                                </p:cTn>
                              </p:par>
                            </p:childTnLst>
                          </p:cTn>
                        </p:par>
                        <p:par>
                          <p:cTn id="178" nodeType="afterEffect" fill="hold">
                            <p:stCondLst>
                              <p:cond delay="5000"/>
                            </p:stCondLst>
                            <p:childTnLst>
                              <p:par>
                                <p:cTn id="179" nodeType="afterEffect" fill="hold" presetClass="entr" presetID="10">
                                  <p:stCondLst>
                                    <p:cond delay="0"/>
                                  </p:stCondLst>
                                  <p:childTnLst>
                                    <p:set>
                                      <p:cBhvr>
                                        <p:cTn id="180" dur="1" fill="hold">
                                          <p:stCondLst>
                                            <p:cond delay="0"/>
                                          </p:stCondLst>
                                        </p:cTn>
                                        <p:tgtEl>
                                          <p:spTgt spid="599"/>
                                        </p:tgtEl>
                                        <p:attrNameLst>
                                          <p:attrName>style.visibility</p:attrName>
                                        </p:attrNameLst>
                                      </p:cBhvr>
                                      <p:to>
                                        <p:strVal val="visible"/>
                                      </p:to>
                                    </p:set>
                                    <p:animEffect filter="fade" transition="in">
                                      <p:cBhvr additive="repl">
                                        <p:cTn id="181" dur="500"/>
                                        <p:tgtEl>
                                          <p:spTgt spid="599"/>
                                        </p:tgtEl>
                                      </p:cBhvr>
                                    </p:animEffect>
                                  </p:childTnLst>
                                </p:cTn>
                              </p:par>
                            </p:childTnLst>
                          </p:cTn>
                        </p:par>
                        <p:par>
                          <p:cTn id="182" nodeType="afterEffect" fill="hold">
                            <p:stCondLst>
                              <p:cond delay="5500"/>
                            </p:stCondLst>
                            <p:childTnLst>
                              <p:par>
                                <p:cTn id="183" nodeType="afterEffect" fill="hold" presetClass="entr" presetID="10">
                                  <p:stCondLst>
                                    <p:cond delay="0"/>
                                  </p:stCondLst>
                                  <p:childTnLst>
                                    <p:set>
                                      <p:cBhvr>
                                        <p:cTn id="184" dur="1" fill="hold">
                                          <p:stCondLst>
                                            <p:cond delay="0"/>
                                          </p:stCondLst>
                                        </p:cTn>
                                        <p:tgtEl>
                                          <p:spTgt spid="574"/>
                                        </p:tgtEl>
                                        <p:attrNameLst>
                                          <p:attrName>style.visibility</p:attrName>
                                        </p:attrNameLst>
                                      </p:cBhvr>
                                      <p:to>
                                        <p:strVal val="visible"/>
                                      </p:to>
                                    </p:set>
                                    <p:animEffect filter="fade" transition="in">
                                      <p:cBhvr additive="repl">
                                        <p:cTn id="185" dur="500"/>
                                        <p:tgtEl>
                                          <p:spTgt spid="574"/>
                                        </p:tgtEl>
                                      </p:cBhvr>
                                    </p:animEffect>
                                  </p:childTnLst>
                                </p:cTn>
                              </p:par>
                              <p:par>
                                <p:cTn id="186" nodeType="withEffect" fill="hold" presetClass="entr" presetID="10">
                                  <p:stCondLst>
                                    <p:cond delay="0"/>
                                  </p:stCondLst>
                                  <p:childTnLst>
                                    <p:set>
                                      <p:cBhvr>
                                        <p:cTn id="187" dur="1" fill="hold">
                                          <p:stCondLst>
                                            <p:cond delay="0"/>
                                          </p:stCondLst>
                                        </p:cTn>
                                        <p:tgtEl>
                                          <p:spTgt spid="576"/>
                                        </p:tgtEl>
                                        <p:attrNameLst>
                                          <p:attrName>style.visibility</p:attrName>
                                        </p:attrNameLst>
                                      </p:cBhvr>
                                      <p:to>
                                        <p:strVal val="visible"/>
                                      </p:to>
                                    </p:set>
                                    <p:animEffect filter="fade" transition="in">
                                      <p:cBhvr additive="repl">
                                        <p:cTn id="188" dur="500"/>
                                        <p:tgtEl>
                                          <p:spTgt spid="576"/>
                                        </p:tgtEl>
                                      </p:cBhvr>
                                    </p:animEffect>
                                  </p:childTnLst>
                                </p:cTn>
                              </p:par>
                              <p:par>
                                <p:cTn id="189" nodeType="withEffect" fill="hold" presetClass="entr" presetID="22" presetSubtype="2">
                                  <p:stCondLst>
                                    <p:cond delay="0"/>
                                  </p:stCondLst>
                                  <p:childTnLst>
                                    <p:set>
                                      <p:cBhvr>
                                        <p:cTn id="190" dur="1" fill="hold">
                                          <p:stCondLst>
                                            <p:cond delay="0"/>
                                          </p:stCondLst>
                                        </p:cTn>
                                        <p:tgtEl>
                                          <p:spTgt spid="575"/>
                                        </p:tgtEl>
                                        <p:attrNameLst>
                                          <p:attrName>style.visibility</p:attrName>
                                        </p:attrNameLst>
                                      </p:cBhvr>
                                      <p:to>
                                        <p:strVal val="visible"/>
                                      </p:to>
                                    </p:set>
                                    <p:animEffect filter="wipe(right)" transition="in">
                                      <p:cBhvr additive="repl">
                                        <p:cTn id="191" dur="500"/>
                                        <p:tgtEl>
                                          <p:spTgt spid="575"/>
                                        </p:tgtEl>
                                      </p:cBhvr>
                                    </p:animEffect>
                                  </p:childTnLst>
                                </p:cTn>
                              </p:par>
                              <p:par>
                                <p:cTn id="192" nodeType="withEffect" fill="hold" presetClass="entr" presetID="22" presetSubtype="8">
                                  <p:stCondLst>
                                    <p:cond delay="0"/>
                                  </p:stCondLst>
                                  <p:childTnLst>
                                    <p:set>
                                      <p:cBhvr>
                                        <p:cTn id="193" dur="1" fill="hold">
                                          <p:stCondLst>
                                            <p:cond delay="0"/>
                                          </p:stCondLst>
                                        </p:cTn>
                                        <p:tgtEl>
                                          <p:spTgt spid="577"/>
                                        </p:tgtEl>
                                        <p:attrNameLst>
                                          <p:attrName>style.visibility</p:attrName>
                                        </p:attrNameLst>
                                      </p:cBhvr>
                                      <p:to>
                                        <p:strVal val="visible"/>
                                      </p:to>
                                    </p:set>
                                    <p:animEffect filter="wipe(left)" transition="in">
                                      <p:cBhvr additive="repl">
                                        <p:cTn id="194" dur="500"/>
                                        <p:tgtEl>
                                          <p:spTgt spid="577"/>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593"/>
                                        </p:tgtEl>
                                        <p:attrNameLst>
                                          <p:attrName>style.visibility</p:attrName>
                                        </p:attrNameLst>
                                      </p:cBhvr>
                                      <p:to>
                                        <p:strVal val="visible"/>
                                      </p:to>
                                    </p:set>
                                    <p:animEffect filter="fade" transition="in">
                                      <p:cBhvr additive="repl">
                                        <p:cTn id="198" dur="500"/>
                                        <p:tgtEl>
                                          <p:spTgt spid="593"/>
                                        </p:tgtEl>
                                      </p:cBhvr>
                                    </p:animEffect>
                                  </p:childTnLst>
                                </p:cTn>
                              </p:par>
                              <p:par>
                                <p:cTn id="199" nodeType="withEffect" fill="hold" presetClass="entr" presetID="10">
                                  <p:stCondLst>
                                    <p:cond delay="0"/>
                                  </p:stCondLst>
                                  <p:childTnLst>
                                    <p:set>
                                      <p:cBhvr>
                                        <p:cTn id="200" dur="1" fill="hold">
                                          <p:stCondLst>
                                            <p:cond delay="0"/>
                                          </p:stCondLst>
                                        </p:cTn>
                                        <p:tgtEl>
                                          <p:spTgt spid="590"/>
                                        </p:tgtEl>
                                        <p:attrNameLst>
                                          <p:attrName>style.visibility</p:attrName>
                                        </p:attrNameLst>
                                      </p:cBhvr>
                                      <p:to>
                                        <p:strVal val="visible"/>
                                      </p:to>
                                    </p:set>
                                    <p:animEffect filter="fade" transition="in">
                                      <p:cBhvr additive="repl">
                                        <p:cTn id="201" dur="500"/>
                                        <p:tgtEl>
                                          <p:spTgt spid="590"/>
                                        </p:tgtEl>
                                      </p:cBhvr>
                                    </p:animEffect>
                                  </p:childTnLst>
                                </p:cTn>
                              </p:par>
                            </p:childTnLst>
                          </p:cTn>
                        </p:par>
                        <p:par>
                          <p:cTn id="202" nodeType="afterEffect" fill="hold">
                            <p:stCondLst>
                              <p:cond delay="6500"/>
                            </p:stCondLst>
                            <p:childTnLst>
                              <p:par>
                                <p:cTn id="203" nodeType="afterEffect" fill="hold" presetClass="entr" presetID="53" presetSubtype="16">
                                  <p:stCondLst>
                                    <p:cond delay="0"/>
                                  </p:stCondLst>
                                  <p:childTnLst>
                                    <p:set>
                                      <p:cBhvr>
                                        <p:cTn id="204" dur="1" fill="hold">
                                          <p:stCondLst>
                                            <p:cond delay="0"/>
                                          </p:stCondLst>
                                        </p:cTn>
                                        <p:tgtEl>
                                          <p:spTgt spid="578"/>
                                        </p:tgtEl>
                                        <p:attrNameLst>
                                          <p:attrName>style.visibility</p:attrName>
                                        </p:attrNameLst>
                                      </p:cBhvr>
                                      <p:to>
                                        <p:strVal val="visible"/>
                                      </p:to>
                                    </p:set>
                                    <p:anim calcmode="lin" valueType="num">
                                      <p:cBhvr additive="repl">
                                        <p:cTn id="205" dur="500" fill="hold"/>
                                        <p:tgtEl>
                                          <p:spTgt spid="578"/>
                                        </p:tgtEl>
                                        <p:attrNameLst>
                                          <p:attrName>ppt_w</p:attrName>
                                        </p:attrNameLst>
                                      </p:cBhvr>
                                      <p:tavLst>
                                        <p:tav tm="0">
                                          <p:val>
                                            <p:fltVal val="0"/>
                                          </p:val>
                                        </p:tav>
                                        <p:tav tm="100000">
                                          <p:val>
                                            <p:strVal val="#ppt_w"/>
                                          </p:val>
                                        </p:tav>
                                      </p:tavLst>
                                    </p:anim>
                                    <p:anim calcmode="lin" valueType="num">
                                      <p:cBhvr additive="repl">
                                        <p:cTn id="206" dur="500" fill="hold"/>
                                        <p:tgtEl>
                                          <p:spTgt spid="578"/>
                                        </p:tgtEl>
                                        <p:attrNameLst>
                                          <p:attrName>ppt_h</p:attrName>
                                        </p:attrNameLst>
                                      </p:cBhvr>
                                      <p:tavLst>
                                        <p:tav tm="0">
                                          <p:val>
                                            <p:fltVal val="0"/>
                                          </p:val>
                                        </p:tav>
                                        <p:tav tm="100000">
                                          <p:val>
                                            <p:strVal val="#ppt_h"/>
                                          </p:val>
                                        </p:tav>
                                      </p:tavLst>
                                    </p:anim>
                                    <p:animEffect filter="fade" transition="in">
                                      <p:cBhvr additive="repl">
                                        <p:cTn id="207" dur="500"/>
                                        <p:tgtEl>
                                          <p:spTgt spid="578"/>
                                        </p:tgtEl>
                                      </p:cBhvr>
                                    </p:animEffect>
                                  </p:childTnLst>
                                </p:cTn>
                              </p:par>
                            </p:childTnLst>
                          </p:cTn>
                        </p:par>
                        <p:par>
                          <p:cTn id="208" nodeType="afterEffect" fill="hold">
                            <p:stCondLst>
                              <p:cond delay="7000"/>
                            </p:stCondLst>
                            <p:childTnLst>
                              <p:par>
                                <p:cTn id="209" nodeType="afterEffect" fill="hold" presetClass="entr" presetID="10">
                                  <p:stCondLst>
                                    <p:cond delay="0"/>
                                  </p:stCondLst>
                                  <p:childTnLst>
                                    <p:set>
                                      <p:cBhvr>
                                        <p:cTn id="210" dur="1" fill="hold">
                                          <p:stCondLst>
                                            <p:cond delay="0"/>
                                          </p:stCondLst>
                                        </p:cTn>
                                        <p:tgtEl>
                                          <p:spTgt spid="584"/>
                                        </p:tgtEl>
                                        <p:attrNameLst>
                                          <p:attrName>style.visibility</p:attrName>
                                        </p:attrNameLst>
                                      </p:cBhvr>
                                      <p:to>
                                        <p:strVal val="visible"/>
                                      </p:to>
                                    </p:set>
                                    <p:animEffect filter="fade" transition="in">
                                      <p:cBhvr additive="repl">
                                        <p:cTn id="211" dur="500"/>
                                        <p:tgtEl>
                                          <p:spTgt spid="584"/>
                                        </p:tgtEl>
                                      </p:cBhvr>
                                    </p:animEffect>
                                  </p:childTnLst>
                                </p:cTn>
                              </p:par>
                            </p:childTnLst>
                          </p:cTn>
                        </p:par>
                        <p:par>
                          <p:cTn id="212" nodeType="afterEffect" fill="hold">
                            <p:stCondLst>
                              <p:cond delay="7500"/>
                            </p:stCondLst>
                            <p:childTnLst>
                              <p:par>
                                <p:cTn id="213" nodeType="afterEffect" fill="hold" presetClass="entr" presetID="10">
                                  <p:stCondLst>
                                    <p:cond delay="0"/>
                                  </p:stCondLst>
                                  <p:childTnLst>
                                    <p:set>
                                      <p:cBhvr>
                                        <p:cTn id="214" dur="1" fill="hold">
                                          <p:stCondLst>
                                            <p:cond delay="0"/>
                                          </p:stCondLst>
                                        </p:cTn>
                                        <p:tgtEl>
                                          <p:spTgt spid="579"/>
                                        </p:tgtEl>
                                        <p:attrNameLst>
                                          <p:attrName>style.visibility</p:attrName>
                                        </p:attrNameLst>
                                      </p:cBhvr>
                                      <p:to>
                                        <p:strVal val="visible"/>
                                      </p:to>
                                    </p:set>
                                    <p:animEffect filter="fade" transition="in">
                                      <p:cBhvr additive="repl">
                                        <p:cTn id="215" dur="500"/>
                                        <p:tgtEl>
                                          <p:spTgt spid="579"/>
                                        </p:tgtEl>
                                      </p:cBhvr>
                                    </p:animEffect>
                                  </p:childTnLst>
                                </p:cTn>
                              </p:par>
                              <p:par>
                                <p:cTn id="216" nodeType="withEffect" fill="hold" presetClass="entr" presetID="10">
                                  <p:stCondLst>
                                    <p:cond delay="0"/>
                                  </p:stCondLst>
                                  <p:childTnLst>
                                    <p:set>
                                      <p:cBhvr>
                                        <p:cTn id="217" dur="1" fill="hold">
                                          <p:stCondLst>
                                            <p:cond delay="0"/>
                                          </p:stCondLst>
                                        </p:cTn>
                                        <p:tgtEl>
                                          <p:spTgt spid="581"/>
                                        </p:tgtEl>
                                        <p:attrNameLst>
                                          <p:attrName>style.visibility</p:attrName>
                                        </p:attrNameLst>
                                      </p:cBhvr>
                                      <p:to>
                                        <p:strVal val="visible"/>
                                      </p:to>
                                    </p:set>
                                    <p:animEffect filter="fade" transition="in">
                                      <p:cBhvr additive="repl">
                                        <p:cTn id="218" dur="500"/>
                                        <p:tgtEl>
                                          <p:spTgt spid="581"/>
                                        </p:tgtEl>
                                      </p:cBhvr>
                                    </p:animEffect>
                                  </p:childTnLst>
                                </p:cTn>
                              </p:par>
                            </p:childTnLst>
                          </p:cTn>
                        </p:par>
                        <p:par>
                          <p:cTn id="219" nodeType="afterEffect" fill="hold">
                            <p:stCondLst>
                              <p:cond delay="8000"/>
                            </p:stCondLst>
                            <p:childTnLst>
                              <p:par>
                                <p:cTn id="220" nodeType="afterEffect" fill="hold" presetClass="entr" presetID="22" presetSubtype="2">
                                  <p:stCondLst>
                                    <p:cond delay="0"/>
                                  </p:stCondLst>
                                  <p:childTnLst>
                                    <p:set>
                                      <p:cBhvr>
                                        <p:cTn id="221" dur="1" fill="hold">
                                          <p:stCondLst>
                                            <p:cond delay="0"/>
                                          </p:stCondLst>
                                        </p:cTn>
                                        <p:tgtEl>
                                          <p:spTgt spid="580"/>
                                        </p:tgtEl>
                                        <p:attrNameLst>
                                          <p:attrName>style.visibility</p:attrName>
                                        </p:attrNameLst>
                                      </p:cBhvr>
                                      <p:to>
                                        <p:strVal val="visible"/>
                                      </p:to>
                                    </p:set>
                                    <p:animEffect filter="wipe(right)" transition="in">
                                      <p:cBhvr additive="repl">
                                        <p:cTn id="222" dur="500"/>
                                        <p:tgtEl>
                                          <p:spTgt spid="580"/>
                                        </p:tgtEl>
                                      </p:cBhvr>
                                    </p:animEffect>
                                  </p:childTnLst>
                                </p:cTn>
                              </p:par>
                              <p:par>
                                <p:cTn id="223" nodeType="withEffect" fill="hold" presetClass="entr" presetID="22" presetSubtype="8">
                                  <p:stCondLst>
                                    <p:cond delay="0"/>
                                  </p:stCondLst>
                                  <p:childTnLst>
                                    <p:set>
                                      <p:cBhvr>
                                        <p:cTn id="224" dur="1" fill="hold">
                                          <p:stCondLst>
                                            <p:cond delay="0"/>
                                          </p:stCondLst>
                                        </p:cTn>
                                        <p:tgtEl>
                                          <p:spTgt spid="582"/>
                                        </p:tgtEl>
                                        <p:attrNameLst>
                                          <p:attrName>style.visibility</p:attrName>
                                        </p:attrNameLst>
                                      </p:cBhvr>
                                      <p:to>
                                        <p:strVal val="visible"/>
                                      </p:to>
                                    </p:set>
                                    <p:animEffect filter="wipe(left)" transition="in">
                                      <p:cBhvr additive="repl">
                                        <p:cTn id="22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oup 3"/>
          <p:cNvGrpSpPr/>
          <p:nvPr/>
        </p:nvGrpSpPr>
        <p:grpSpPr>
          <a:xfrm>
            <a:off x="4761000" y="3666960"/>
            <a:ext cx="1130040" cy="685800"/>
            <a:chOff x="4761000" y="3666960"/>
            <a:chExt cx="1130040" cy="685800"/>
          </a:xfrm>
        </p:grpSpPr>
        <p:grpSp>
          <p:nvGrpSpPr>
            <p:cNvPr id="1722" name="Group 326"/>
            <p:cNvGrpSpPr/>
            <p:nvPr/>
          </p:nvGrpSpPr>
          <p:grpSpPr>
            <a:xfrm>
              <a:off x="5106600" y="3716640"/>
              <a:ext cx="784440" cy="627840"/>
              <a:chOff x="5106600" y="3716640"/>
              <a:chExt cx="784440" cy="627840"/>
            </a:xfrm>
          </p:grpSpPr>
          <p:pic>
            <p:nvPicPr>
              <p:cNvPr id="1723" name="Graphic 36" descr=""/>
              <p:cNvPicPr/>
              <p:nvPr/>
            </p:nvPicPr>
            <p:blipFill>
              <a:blip r:embed="rId1"/>
              <a:stretch/>
            </p:blipFill>
            <p:spPr>
              <a:xfrm>
                <a:off x="5106600" y="3718080"/>
                <a:ext cx="784440" cy="626400"/>
              </a:xfrm>
              <a:prstGeom prst="rect">
                <a:avLst/>
              </a:prstGeom>
              <a:ln w="0">
                <a:noFill/>
              </a:ln>
            </p:spPr>
          </p:pic>
          <p:sp>
            <p:nvSpPr>
              <p:cNvPr id="1724" name="Freeform: Shape 328"/>
              <p:cNvSpPr/>
              <p:nvPr/>
            </p:nvSpPr>
            <p:spPr>
              <a:xfrm>
                <a:off x="5595120" y="3716640"/>
                <a:ext cx="18504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313c3f"/>
                  </a:solidFill>
                  <a:latin typeface="Source Sans Pro"/>
                </a:endParaRPr>
              </a:p>
            </p:txBody>
          </p:sp>
          <p:sp>
            <p:nvSpPr>
              <p:cNvPr id="1725" name="Freeform: Shape 329"/>
              <p:cNvSpPr/>
              <p:nvPr/>
            </p:nvSpPr>
            <p:spPr>
              <a:xfrm>
                <a:off x="5595120" y="3835800"/>
                <a:ext cx="2466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c3f"/>
                  </a:solidFill>
                  <a:latin typeface="Source Sans Pro"/>
                </a:endParaRPr>
              </a:p>
            </p:txBody>
          </p:sp>
          <p:sp>
            <p:nvSpPr>
              <p:cNvPr id="1726" name="Freeform: Shape 330"/>
              <p:cNvSpPr/>
              <p:nvPr/>
            </p:nvSpPr>
            <p:spPr>
              <a:xfrm>
                <a:off x="5595120" y="3939120"/>
                <a:ext cx="18504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727" name="Freeform: Shape 331"/>
              <p:cNvSpPr/>
              <p:nvPr/>
            </p:nvSpPr>
            <p:spPr>
              <a:xfrm>
                <a:off x="5595120" y="4042440"/>
                <a:ext cx="23040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728" name="Freeform: Shape 332"/>
              <p:cNvSpPr/>
              <p:nvPr/>
            </p:nvSpPr>
            <p:spPr>
              <a:xfrm>
                <a:off x="5595120" y="4252320"/>
                <a:ext cx="2401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729" name="Freeform: Shape 333"/>
              <p:cNvSpPr/>
              <p:nvPr/>
            </p:nvSpPr>
            <p:spPr>
              <a:xfrm>
                <a:off x="5595120" y="4149000"/>
                <a:ext cx="2854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c3f"/>
                  </a:solidFill>
                  <a:latin typeface="Source Sans Pro"/>
                </a:endParaRPr>
              </a:p>
            </p:txBody>
          </p:sp>
        </p:grpSp>
        <p:grpSp>
          <p:nvGrpSpPr>
            <p:cNvPr id="1730" name="Graphic 36"/>
            <p:cNvGrpSpPr/>
            <p:nvPr/>
          </p:nvGrpSpPr>
          <p:grpSpPr>
            <a:xfrm>
              <a:off x="4761000" y="3666960"/>
              <a:ext cx="684360" cy="685800"/>
              <a:chOff x="4761000" y="3666960"/>
              <a:chExt cx="684360" cy="685800"/>
            </a:xfrm>
          </p:grpSpPr>
          <p:sp>
            <p:nvSpPr>
              <p:cNvPr id="1731" name="Freeform: Shape 341"/>
              <p:cNvSpPr/>
              <p:nvPr/>
            </p:nvSpPr>
            <p:spPr>
              <a:xfrm>
                <a:off x="4761000" y="3666960"/>
                <a:ext cx="684360" cy="685800"/>
              </a:xfrm>
              <a:custGeom>
                <a:avLst/>
                <a:gdLst/>
                <a:ahLst/>
                <a:rect l="l" t="t" r="r" b="b"/>
                <a:pathLst>
                  <a:path w="599439" h="599440">
                    <a:moveTo>
                      <a:pt x="299720" y="599440"/>
                    </a:moveTo>
                    <a:cubicBezTo>
                      <a:pt x="466545" y="599440"/>
                      <a:pt x="599440" y="463718"/>
                      <a:pt x="599440" y="299720"/>
                    </a:cubicBezTo>
                    <a:cubicBezTo>
                      <a:pt x="599440" y="135722"/>
                      <a:pt x="463718" y="0"/>
                      <a:pt x="299720" y="0"/>
                    </a:cubicBezTo>
                    <a:cubicBezTo>
                      <a:pt x="132895" y="0"/>
                      <a:pt x="0" y="135722"/>
                      <a:pt x="0" y="299720"/>
                    </a:cubicBezTo>
                    <a:cubicBezTo>
                      <a:pt x="0" y="463718"/>
                      <a:pt x="132895" y="599440"/>
                      <a:pt x="299720" y="599440"/>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32" name="Freeform: Shape 342"/>
              <p:cNvSpPr/>
              <p:nvPr/>
            </p:nvSpPr>
            <p:spPr>
              <a:xfrm>
                <a:off x="4838400" y="3741120"/>
                <a:ext cx="529560" cy="530640"/>
              </a:xfrm>
              <a:custGeom>
                <a:avLst/>
                <a:gdLst/>
                <a:ahLst/>
                <a:rect l="l" t="t" r="r" b="b"/>
                <a:pathLst>
                  <a:path w="463717" h="463717">
                    <a:moveTo>
                      <a:pt x="231859" y="463718"/>
                    </a:moveTo>
                    <a:cubicBezTo>
                      <a:pt x="359098" y="463718"/>
                      <a:pt x="463717" y="359099"/>
                      <a:pt x="463717" y="231859"/>
                    </a:cubicBezTo>
                    <a:cubicBezTo>
                      <a:pt x="463717" y="104619"/>
                      <a:pt x="359098" y="0"/>
                      <a:pt x="231859" y="0"/>
                    </a:cubicBezTo>
                    <a:cubicBezTo>
                      <a:pt x="104619" y="0"/>
                      <a:pt x="0" y="104619"/>
                      <a:pt x="0" y="231859"/>
                    </a:cubicBezTo>
                    <a:cubicBezTo>
                      <a:pt x="0" y="361926"/>
                      <a:pt x="104619" y="463718"/>
                      <a:pt x="231859" y="463718"/>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33" name="Freeform: Shape 343"/>
              <p:cNvSpPr/>
              <p:nvPr/>
            </p:nvSpPr>
            <p:spPr>
              <a:xfrm>
                <a:off x="4977360" y="3835080"/>
                <a:ext cx="238680" cy="378360"/>
              </a:xfrm>
              <a:custGeom>
                <a:avLst/>
                <a:gdLst/>
                <a:ahLst/>
                <a:rect l="l" t="t" r="r" b="b"/>
                <a:pathLst>
                  <a:path w="209238" h="330823">
                    <a:moveTo>
                      <a:pt x="79171" y="327996"/>
                    </a:moveTo>
                    <a:lnTo>
                      <a:pt x="79171" y="288410"/>
                    </a:lnTo>
                    <a:cubicBezTo>
                      <a:pt x="59379" y="285582"/>
                      <a:pt x="42413" y="279927"/>
                      <a:pt x="31103" y="271445"/>
                    </a:cubicBezTo>
                    <a:cubicBezTo>
                      <a:pt x="14138" y="257307"/>
                      <a:pt x="2828" y="237514"/>
                      <a:pt x="0" y="212066"/>
                    </a:cubicBezTo>
                    <a:lnTo>
                      <a:pt x="42413" y="206411"/>
                    </a:lnTo>
                    <a:cubicBezTo>
                      <a:pt x="45241" y="223376"/>
                      <a:pt x="50896" y="234687"/>
                      <a:pt x="62206" y="243169"/>
                    </a:cubicBezTo>
                    <a:cubicBezTo>
                      <a:pt x="67861" y="248824"/>
                      <a:pt x="73516" y="251652"/>
                      <a:pt x="81999" y="254479"/>
                    </a:cubicBezTo>
                    <a:lnTo>
                      <a:pt x="81999" y="175308"/>
                    </a:lnTo>
                    <a:cubicBezTo>
                      <a:pt x="65034" y="169653"/>
                      <a:pt x="53724" y="166825"/>
                      <a:pt x="45241" y="161170"/>
                    </a:cubicBezTo>
                    <a:cubicBezTo>
                      <a:pt x="33931" y="155515"/>
                      <a:pt x="25448" y="147032"/>
                      <a:pt x="19793" y="138550"/>
                    </a:cubicBezTo>
                    <a:cubicBezTo>
                      <a:pt x="14138" y="130067"/>
                      <a:pt x="11310" y="118757"/>
                      <a:pt x="11310" y="104619"/>
                    </a:cubicBezTo>
                    <a:cubicBezTo>
                      <a:pt x="11310" y="93309"/>
                      <a:pt x="14138" y="84826"/>
                      <a:pt x="19793" y="73516"/>
                    </a:cubicBezTo>
                    <a:cubicBezTo>
                      <a:pt x="25448" y="65034"/>
                      <a:pt x="31103" y="56551"/>
                      <a:pt x="39586" y="50896"/>
                    </a:cubicBezTo>
                    <a:cubicBezTo>
                      <a:pt x="45241" y="45241"/>
                      <a:pt x="53724" y="42413"/>
                      <a:pt x="65034" y="39586"/>
                    </a:cubicBezTo>
                    <a:cubicBezTo>
                      <a:pt x="70689" y="36758"/>
                      <a:pt x="76344" y="36758"/>
                      <a:pt x="84826" y="36758"/>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3" y="149860"/>
                      <a:pt x="161171" y="155515"/>
                      <a:pt x="169653" y="158343"/>
                    </a:cubicBezTo>
                    <a:cubicBezTo>
                      <a:pt x="180963" y="163998"/>
                      <a:pt x="189446" y="169653"/>
                      <a:pt x="197928" y="180963"/>
                    </a:cubicBezTo>
                    <a:cubicBezTo>
                      <a:pt x="203584"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lnTo>
                      <a:pt x="79171" y="327996"/>
                    </a:lnTo>
                    <a:close/>
                    <a:moveTo>
                      <a:pt x="79171" y="130067"/>
                    </a:moveTo>
                    <a:lnTo>
                      <a:pt x="79171" y="70689"/>
                    </a:lnTo>
                    <a:cubicBezTo>
                      <a:pt x="70689" y="73516"/>
                      <a:pt x="62206" y="73516"/>
                      <a:pt x="59379" y="79171"/>
                    </a:cubicBezTo>
                    <a:cubicBezTo>
                      <a:pt x="50896" y="84826"/>
                      <a:pt x="48069" y="93309"/>
                      <a:pt x="48069" y="101792"/>
                    </a:cubicBezTo>
                    <a:cubicBezTo>
                      <a:pt x="48069" y="107447"/>
                      <a:pt x="50896" y="113102"/>
                      <a:pt x="53724" y="115929"/>
                    </a:cubicBezTo>
                    <a:cubicBezTo>
                      <a:pt x="56551" y="121585"/>
                      <a:pt x="62206" y="124412"/>
                      <a:pt x="70689" y="127240"/>
                    </a:cubicBezTo>
                    <a:cubicBezTo>
                      <a:pt x="70689" y="127240"/>
                      <a:pt x="73516" y="127240"/>
                      <a:pt x="79171" y="130067"/>
                    </a:cubicBezTo>
                    <a:close/>
                    <a:moveTo>
                      <a:pt x="124412" y="186618"/>
                    </a:moveTo>
                    <a:lnTo>
                      <a:pt x="124412" y="254479"/>
                    </a:lnTo>
                    <a:cubicBezTo>
                      <a:pt x="135722" y="251652"/>
                      <a:pt x="141377" y="248824"/>
                      <a:pt x="147033" y="243169"/>
                    </a:cubicBezTo>
                    <a:cubicBezTo>
                      <a:pt x="155515" y="234687"/>
                      <a:pt x="161171" y="226204"/>
                      <a:pt x="161171" y="214894"/>
                    </a:cubicBezTo>
                    <a:cubicBezTo>
                      <a:pt x="161171" y="206411"/>
                      <a:pt x="158343" y="197928"/>
                      <a:pt x="149860" y="192273"/>
                    </a:cubicBezTo>
                    <a:cubicBezTo>
                      <a:pt x="144205" y="192273"/>
                      <a:pt x="135722" y="189446"/>
                      <a:pt x="124412" y="186618"/>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34" name="Freeform: Shape 344"/>
              <p:cNvSpPr/>
              <p:nvPr/>
            </p:nvSpPr>
            <p:spPr>
              <a:xfrm>
                <a:off x="4854600" y="3741120"/>
                <a:ext cx="490680" cy="174600"/>
              </a:xfrm>
              <a:custGeom>
                <a:avLst/>
                <a:gdLst/>
                <a:ahLst/>
                <a:rect l="l" t="t" r="r" b="b"/>
                <a:pathLst>
                  <a:path w="429787" h="152687">
                    <a:moveTo>
                      <a:pt x="217721" y="0"/>
                    </a:moveTo>
                    <a:cubicBezTo>
                      <a:pt x="311030" y="0"/>
                      <a:pt x="393029" y="56551"/>
                      <a:pt x="429787" y="135722"/>
                    </a:cubicBezTo>
                    <a:cubicBezTo>
                      <a:pt x="390201" y="65034"/>
                      <a:pt x="311030" y="16965"/>
                      <a:pt x="217721" y="16965"/>
                    </a:cubicBezTo>
                    <a:cubicBezTo>
                      <a:pt x="121584" y="16965"/>
                      <a:pt x="36758" y="73516"/>
                      <a:pt x="0" y="152688"/>
                    </a:cubicBezTo>
                    <a:cubicBezTo>
                      <a:pt x="31103" y="65034"/>
                      <a:pt x="115929" y="0"/>
                      <a:pt x="217721"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35" name="Freeform: Shape 345"/>
              <p:cNvSpPr/>
              <p:nvPr/>
            </p:nvSpPr>
            <p:spPr>
              <a:xfrm>
                <a:off x="4987080" y="3818880"/>
                <a:ext cx="238680" cy="378360"/>
              </a:xfrm>
              <a:custGeom>
                <a:avLst/>
                <a:gdLst/>
                <a:ahLst/>
                <a:rect l="l" t="t" r="r" b="b"/>
                <a:pathLst>
                  <a:path w="209238" h="330823">
                    <a:moveTo>
                      <a:pt x="79171" y="330823"/>
                    </a:moveTo>
                    <a:lnTo>
                      <a:pt x="79171" y="291238"/>
                    </a:lnTo>
                    <a:cubicBezTo>
                      <a:pt x="59379" y="288410"/>
                      <a:pt x="42413" y="282755"/>
                      <a:pt x="31103" y="274272"/>
                    </a:cubicBezTo>
                    <a:cubicBezTo>
                      <a:pt x="14138" y="260134"/>
                      <a:pt x="2828" y="240342"/>
                      <a:pt x="0" y="214894"/>
                    </a:cubicBezTo>
                    <a:lnTo>
                      <a:pt x="42413" y="209239"/>
                    </a:lnTo>
                    <a:cubicBezTo>
                      <a:pt x="45241" y="226204"/>
                      <a:pt x="50896" y="237514"/>
                      <a:pt x="62206" y="245997"/>
                    </a:cubicBezTo>
                    <a:cubicBezTo>
                      <a:pt x="67861" y="251652"/>
                      <a:pt x="73516" y="254479"/>
                      <a:pt x="81999" y="257307"/>
                    </a:cubicBezTo>
                    <a:lnTo>
                      <a:pt x="81999" y="178136"/>
                    </a:lnTo>
                    <a:cubicBezTo>
                      <a:pt x="65034" y="172480"/>
                      <a:pt x="53724" y="169653"/>
                      <a:pt x="45241" y="163998"/>
                    </a:cubicBezTo>
                    <a:cubicBezTo>
                      <a:pt x="33930" y="158343"/>
                      <a:pt x="25448" y="149860"/>
                      <a:pt x="19793" y="141377"/>
                    </a:cubicBezTo>
                    <a:cubicBezTo>
                      <a:pt x="14138" y="132895"/>
                      <a:pt x="11310" y="121585"/>
                      <a:pt x="11310" y="107447"/>
                    </a:cubicBezTo>
                    <a:cubicBezTo>
                      <a:pt x="11310" y="96137"/>
                      <a:pt x="14138" y="87654"/>
                      <a:pt x="19793" y="76344"/>
                    </a:cubicBezTo>
                    <a:cubicBezTo>
                      <a:pt x="25448" y="67861"/>
                      <a:pt x="31103" y="59378"/>
                      <a:pt x="39586" y="53723"/>
                    </a:cubicBezTo>
                    <a:cubicBezTo>
                      <a:pt x="45241" y="48068"/>
                      <a:pt x="53724" y="45241"/>
                      <a:pt x="65034" y="42413"/>
                    </a:cubicBezTo>
                    <a:cubicBezTo>
                      <a:pt x="70689" y="39586"/>
                      <a:pt x="76344" y="39586"/>
                      <a:pt x="84826" y="39586"/>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2" y="149860"/>
                      <a:pt x="161170" y="155515"/>
                      <a:pt x="169653" y="158343"/>
                    </a:cubicBezTo>
                    <a:cubicBezTo>
                      <a:pt x="180963" y="163998"/>
                      <a:pt x="189446" y="169653"/>
                      <a:pt x="197928" y="180963"/>
                    </a:cubicBezTo>
                    <a:cubicBezTo>
                      <a:pt x="203583"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close/>
                    <a:moveTo>
                      <a:pt x="79171" y="132895"/>
                    </a:moveTo>
                    <a:lnTo>
                      <a:pt x="79171" y="73516"/>
                    </a:lnTo>
                    <a:cubicBezTo>
                      <a:pt x="70689" y="76344"/>
                      <a:pt x="62206" y="76344"/>
                      <a:pt x="59379" y="81999"/>
                    </a:cubicBezTo>
                    <a:cubicBezTo>
                      <a:pt x="50896" y="87654"/>
                      <a:pt x="48068" y="96137"/>
                      <a:pt x="48068" y="104619"/>
                    </a:cubicBezTo>
                    <a:cubicBezTo>
                      <a:pt x="48068" y="110274"/>
                      <a:pt x="50896" y="115929"/>
                      <a:pt x="53724" y="118757"/>
                    </a:cubicBezTo>
                    <a:cubicBezTo>
                      <a:pt x="56551" y="124412"/>
                      <a:pt x="62206" y="127240"/>
                      <a:pt x="70689" y="130067"/>
                    </a:cubicBezTo>
                    <a:cubicBezTo>
                      <a:pt x="70689" y="130067"/>
                      <a:pt x="73516" y="130067"/>
                      <a:pt x="79171" y="132895"/>
                    </a:cubicBezTo>
                    <a:close/>
                    <a:moveTo>
                      <a:pt x="121585" y="189446"/>
                    </a:moveTo>
                    <a:lnTo>
                      <a:pt x="121585" y="257307"/>
                    </a:lnTo>
                    <a:cubicBezTo>
                      <a:pt x="132895" y="254479"/>
                      <a:pt x="138550" y="251652"/>
                      <a:pt x="144205" y="245997"/>
                    </a:cubicBezTo>
                    <a:cubicBezTo>
                      <a:pt x="152688" y="237514"/>
                      <a:pt x="158343" y="229031"/>
                      <a:pt x="158343" y="217721"/>
                    </a:cubicBezTo>
                    <a:cubicBezTo>
                      <a:pt x="158343" y="209239"/>
                      <a:pt x="155515" y="200756"/>
                      <a:pt x="147032" y="195101"/>
                    </a:cubicBezTo>
                    <a:cubicBezTo>
                      <a:pt x="144205" y="195101"/>
                      <a:pt x="135722" y="192273"/>
                      <a:pt x="121585" y="189446"/>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nvGrpSpPr>
          <p:cNvPr id="1736" name="Group 2"/>
          <p:cNvGrpSpPr/>
          <p:nvPr/>
        </p:nvGrpSpPr>
        <p:grpSpPr>
          <a:xfrm>
            <a:off x="1122480" y="4191120"/>
            <a:ext cx="1157040" cy="699840"/>
            <a:chOff x="1122480" y="4191120"/>
            <a:chExt cx="1157040" cy="699840"/>
          </a:xfrm>
        </p:grpSpPr>
        <p:grpSp>
          <p:nvGrpSpPr>
            <p:cNvPr id="1737" name="Group 312"/>
            <p:cNvGrpSpPr/>
            <p:nvPr/>
          </p:nvGrpSpPr>
          <p:grpSpPr>
            <a:xfrm>
              <a:off x="1494720" y="4267080"/>
              <a:ext cx="784800" cy="614880"/>
              <a:chOff x="1494720" y="4267080"/>
              <a:chExt cx="784800" cy="614880"/>
            </a:xfrm>
          </p:grpSpPr>
          <p:pic>
            <p:nvPicPr>
              <p:cNvPr id="1738" name="Graphic 36" descr=""/>
              <p:cNvPicPr/>
              <p:nvPr/>
            </p:nvPicPr>
            <p:blipFill>
              <a:blip r:embed="rId2"/>
              <a:stretch/>
            </p:blipFill>
            <p:spPr>
              <a:xfrm>
                <a:off x="1494720" y="4267080"/>
                <a:ext cx="784800" cy="614880"/>
              </a:xfrm>
              <a:prstGeom prst="rect">
                <a:avLst/>
              </a:prstGeom>
              <a:ln w="0">
                <a:noFill/>
              </a:ln>
            </p:spPr>
          </p:pic>
          <p:sp>
            <p:nvSpPr>
              <p:cNvPr id="1739" name="Freeform: Shape 314"/>
              <p:cNvSpPr/>
              <p:nvPr/>
            </p:nvSpPr>
            <p:spPr>
              <a:xfrm>
                <a:off x="1982880" y="4267080"/>
                <a:ext cx="18360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313c3f"/>
                  </a:solidFill>
                  <a:latin typeface="Source Sans Pro"/>
                </a:endParaRPr>
              </a:p>
            </p:txBody>
          </p:sp>
          <p:sp>
            <p:nvSpPr>
              <p:cNvPr id="1740" name="Freeform: Shape 315"/>
              <p:cNvSpPr/>
              <p:nvPr/>
            </p:nvSpPr>
            <p:spPr>
              <a:xfrm>
                <a:off x="1982880" y="4386600"/>
                <a:ext cx="2448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c3f"/>
                  </a:solidFill>
                  <a:latin typeface="Source Sans Pro"/>
                </a:endParaRPr>
              </a:p>
            </p:txBody>
          </p:sp>
          <p:sp>
            <p:nvSpPr>
              <p:cNvPr id="1741" name="Freeform: Shape 316"/>
              <p:cNvSpPr/>
              <p:nvPr/>
            </p:nvSpPr>
            <p:spPr>
              <a:xfrm>
                <a:off x="1982880" y="4483800"/>
                <a:ext cx="18360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742" name="Freeform: Shape 317"/>
              <p:cNvSpPr/>
              <p:nvPr/>
            </p:nvSpPr>
            <p:spPr>
              <a:xfrm>
                <a:off x="1982880" y="4587120"/>
                <a:ext cx="22896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743" name="Freeform: Shape 318"/>
              <p:cNvSpPr/>
              <p:nvPr/>
            </p:nvSpPr>
            <p:spPr>
              <a:xfrm>
                <a:off x="1982880" y="4790880"/>
                <a:ext cx="2383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744" name="Freeform: Shape 319"/>
              <p:cNvSpPr/>
              <p:nvPr/>
            </p:nvSpPr>
            <p:spPr>
              <a:xfrm>
                <a:off x="1982880" y="4694040"/>
                <a:ext cx="2836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13c3f"/>
                  </a:solidFill>
                  <a:latin typeface="Source Sans Pro"/>
                </a:endParaRPr>
              </a:p>
            </p:txBody>
          </p:sp>
        </p:grpSp>
        <p:grpSp>
          <p:nvGrpSpPr>
            <p:cNvPr id="1745" name="Graphic 3"/>
            <p:cNvGrpSpPr/>
            <p:nvPr/>
          </p:nvGrpSpPr>
          <p:grpSpPr>
            <a:xfrm>
              <a:off x="1122480" y="4191120"/>
              <a:ext cx="698760" cy="699840"/>
              <a:chOff x="1122480" y="4191120"/>
              <a:chExt cx="698760" cy="699840"/>
            </a:xfrm>
          </p:grpSpPr>
          <p:sp>
            <p:nvSpPr>
              <p:cNvPr id="1746" name="Freeform: Shape 349"/>
              <p:cNvSpPr/>
              <p:nvPr/>
            </p:nvSpPr>
            <p:spPr>
              <a:xfrm>
                <a:off x="1122480" y="4191120"/>
                <a:ext cx="698760" cy="699840"/>
              </a:xfrm>
              <a:custGeom>
                <a:avLst/>
                <a:gdLst/>
                <a:ahLst/>
                <a:rect l="l" t="t" r="r" b="b"/>
                <a:pathLst>
                  <a:path w="558164" h="558164">
                    <a:moveTo>
                      <a:pt x="279083" y="558165"/>
                    </a:moveTo>
                    <a:cubicBezTo>
                      <a:pt x="432435" y="558165"/>
                      <a:pt x="558165" y="432435"/>
                      <a:pt x="558165" y="279083"/>
                    </a:cubicBezTo>
                    <a:cubicBezTo>
                      <a:pt x="558165" y="125730"/>
                      <a:pt x="433388" y="0"/>
                      <a:pt x="279083" y="0"/>
                    </a:cubicBezTo>
                    <a:cubicBezTo>
                      <a:pt x="125730" y="0"/>
                      <a:pt x="0" y="125730"/>
                      <a:pt x="0" y="279083"/>
                    </a:cubicBezTo>
                    <a:cubicBezTo>
                      <a:pt x="0" y="432435"/>
                      <a:pt x="125730" y="558165"/>
                      <a:pt x="279083" y="55816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47" name="Freeform: Shape 350"/>
              <p:cNvSpPr/>
              <p:nvPr/>
            </p:nvSpPr>
            <p:spPr>
              <a:xfrm>
                <a:off x="1202400" y="4271040"/>
                <a:ext cx="540360" cy="540000"/>
              </a:xfrm>
              <a:custGeom>
                <a:avLst/>
                <a:gdLst/>
                <a:ahLst/>
                <a:rect l="l" t="t" r="r" b="b"/>
                <a:pathLst>
                  <a:path w="431482" h="430530">
                    <a:moveTo>
                      <a:pt x="215265" y="430530"/>
                    </a:moveTo>
                    <a:cubicBezTo>
                      <a:pt x="334328" y="430530"/>
                      <a:pt x="431483" y="334328"/>
                      <a:pt x="431483" y="215265"/>
                    </a:cubicBezTo>
                    <a:cubicBezTo>
                      <a:pt x="431483" y="96202"/>
                      <a:pt x="334328" y="0"/>
                      <a:pt x="215265" y="0"/>
                    </a:cubicBezTo>
                    <a:cubicBezTo>
                      <a:pt x="96202" y="0"/>
                      <a:pt x="0" y="96202"/>
                      <a:pt x="0" y="215265"/>
                    </a:cubicBezTo>
                    <a:cubicBezTo>
                      <a:pt x="0" y="334328"/>
                      <a:pt x="96202" y="430530"/>
                      <a:pt x="215265" y="43053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48" name="Freeform: Shape 351"/>
              <p:cNvSpPr/>
              <p:nvPr/>
            </p:nvSpPr>
            <p:spPr>
              <a:xfrm>
                <a:off x="1291680" y="4637880"/>
                <a:ext cx="360000" cy="107280"/>
              </a:xfrm>
              <a:custGeom>
                <a:avLst/>
                <a:gdLst/>
                <a:ahLst/>
                <a:rect l="l" t="t" r="r" b="b"/>
                <a:pathLst>
                  <a:path w="287655" h="85725">
                    <a:moveTo>
                      <a:pt x="287655" y="0"/>
                    </a:moveTo>
                    <a:cubicBezTo>
                      <a:pt x="260033" y="48577"/>
                      <a:pt x="205740" y="80963"/>
                      <a:pt x="143828" y="80963"/>
                    </a:cubicBezTo>
                    <a:cubicBezTo>
                      <a:pt x="81915" y="80963"/>
                      <a:pt x="27623" y="48577"/>
                      <a:pt x="0" y="0"/>
                    </a:cubicBezTo>
                    <a:cubicBezTo>
                      <a:pt x="27623" y="51435"/>
                      <a:pt x="81915" y="85725"/>
                      <a:pt x="143828" y="85725"/>
                    </a:cubicBezTo>
                    <a:cubicBezTo>
                      <a:pt x="205740" y="85725"/>
                      <a:pt x="260033" y="51435"/>
                      <a:pt x="28765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49" name="Freeform: Shape 352"/>
              <p:cNvSpPr/>
              <p:nvPr/>
            </p:nvSpPr>
            <p:spPr>
              <a:xfrm>
                <a:off x="1267920" y="4336560"/>
                <a:ext cx="407880" cy="206640"/>
              </a:xfrm>
              <a:custGeom>
                <a:avLst/>
                <a:gdLst/>
                <a:ahLst/>
                <a:rect l="l" t="t" r="r" b="b"/>
                <a:pathLst>
                  <a:path w="325755" h="164782">
                    <a:moveTo>
                      <a:pt x="162878" y="13335"/>
                    </a:moveTo>
                    <a:cubicBezTo>
                      <a:pt x="252413" y="13335"/>
                      <a:pt x="324803" y="80963"/>
                      <a:pt x="325755" y="164783"/>
                    </a:cubicBezTo>
                    <a:lnTo>
                      <a:pt x="325755" y="162878"/>
                    </a:lnTo>
                    <a:cubicBezTo>
                      <a:pt x="325755" y="72390"/>
                      <a:pt x="252413" y="0"/>
                      <a:pt x="162878" y="0"/>
                    </a:cubicBezTo>
                    <a:cubicBezTo>
                      <a:pt x="73343" y="0"/>
                      <a:pt x="0" y="73343"/>
                      <a:pt x="0" y="162878"/>
                    </a:cubicBezTo>
                    <a:lnTo>
                      <a:pt x="0" y="164783"/>
                    </a:lnTo>
                    <a:cubicBezTo>
                      <a:pt x="953" y="80963"/>
                      <a:pt x="73343" y="13335"/>
                      <a:pt x="162878" y="1333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50" name="Freeform: Shape 353"/>
              <p:cNvSpPr/>
              <p:nvPr/>
            </p:nvSpPr>
            <p:spPr>
              <a:xfrm>
                <a:off x="1239120" y="4544640"/>
                <a:ext cx="20160" cy="92880"/>
              </a:xfrm>
              <a:custGeom>
                <a:avLst/>
                <a:gdLst/>
                <a:ahLst/>
                <a:rect l="l" t="t" r="r" b="b"/>
                <a:pathLst>
                  <a:path w="16192" h="74295">
                    <a:moveTo>
                      <a:pt x="16192" y="74295"/>
                    </a:moveTo>
                    <a:cubicBezTo>
                      <a:pt x="5715" y="52387"/>
                      <a:pt x="0" y="27622"/>
                      <a:pt x="0" y="1905"/>
                    </a:cubicBezTo>
                    <a:lnTo>
                      <a:pt x="0" y="0"/>
                    </a:lnTo>
                    <a:cubicBezTo>
                      <a:pt x="0" y="25717"/>
                      <a:pt x="5715" y="51435"/>
                      <a:pt x="16192" y="74295"/>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313c3f"/>
                  </a:solidFill>
                  <a:latin typeface="Source Sans Pro"/>
                </a:endParaRPr>
              </a:p>
            </p:txBody>
          </p:sp>
          <p:sp>
            <p:nvSpPr>
              <p:cNvPr id="1751" name="Freeform: Shape 354"/>
              <p:cNvSpPr/>
              <p:nvPr/>
            </p:nvSpPr>
            <p:spPr>
              <a:xfrm>
                <a:off x="1685520" y="4543560"/>
                <a:ext cx="20160" cy="92880"/>
              </a:xfrm>
              <a:custGeom>
                <a:avLst/>
                <a:gdLst/>
                <a:ahLst/>
                <a:rect l="l" t="t" r="r" b="b"/>
                <a:pathLst>
                  <a:path w="16192" h="74294">
                    <a:moveTo>
                      <a:pt x="16193" y="0"/>
                    </a:moveTo>
                    <a:lnTo>
                      <a:pt x="16193" y="1905"/>
                    </a:lnTo>
                    <a:cubicBezTo>
                      <a:pt x="16193" y="27623"/>
                      <a:pt x="10477" y="52388"/>
                      <a:pt x="0" y="74295"/>
                    </a:cubicBezTo>
                    <a:cubicBezTo>
                      <a:pt x="9525" y="52388"/>
                      <a:pt x="15240" y="26670"/>
                      <a:pt x="16193" y="0"/>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313c3f"/>
                  </a:solidFill>
                  <a:latin typeface="Source Sans Pro"/>
                </a:endParaRPr>
              </a:p>
            </p:txBody>
          </p:sp>
          <p:sp>
            <p:nvSpPr>
              <p:cNvPr id="1752" name="Freeform: Shape 355"/>
              <p:cNvSpPr/>
              <p:nvPr/>
            </p:nvSpPr>
            <p:spPr>
              <a:xfrm>
                <a:off x="1238040" y="4306680"/>
                <a:ext cx="467640" cy="468360"/>
              </a:xfrm>
              <a:custGeom>
                <a:avLst/>
                <a:gdLst/>
                <a:ahLst/>
                <a:rect l="l" t="t" r="r" b="b"/>
                <a:pathLst>
                  <a:path w="373380" h="373380">
                    <a:moveTo>
                      <a:pt x="186690" y="0"/>
                    </a:moveTo>
                    <a:cubicBezTo>
                      <a:pt x="289560" y="0"/>
                      <a:pt x="373380" y="83820"/>
                      <a:pt x="373380" y="186690"/>
                    </a:cubicBezTo>
                    <a:cubicBezTo>
                      <a:pt x="373380" y="289560"/>
                      <a:pt x="289560" y="373380"/>
                      <a:pt x="186690" y="373380"/>
                    </a:cubicBezTo>
                    <a:lnTo>
                      <a:pt x="186690" y="350520"/>
                    </a:lnTo>
                    <a:cubicBezTo>
                      <a:pt x="277178" y="350520"/>
                      <a:pt x="349568" y="277178"/>
                      <a:pt x="349568" y="187643"/>
                    </a:cubicBezTo>
                    <a:cubicBezTo>
                      <a:pt x="349568" y="97155"/>
                      <a:pt x="276225" y="24765"/>
                      <a:pt x="186690" y="24765"/>
                    </a:cubicBezTo>
                    <a:lnTo>
                      <a:pt x="186690" y="0"/>
                    </a:lnTo>
                    <a:close/>
                    <a:moveTo>
                      <a:pt x="186690" y="373380"/>
                    </a:moveTo>
                    <a:cubicBezTo>
                      <a:pt x="83820" y="373380"/>
                      <a:pt x="0" y="289560"/>
                      <a:pt x="0" y="186690"/>
                    </a:cubicBezTo>
                    <a:cubicBezTo>
                      <a:pt x="0" y="83820"/>
                      <a:pt x="83820" y="0"/>
                      <a:pt x="186690" y="0"/>
                    </a:cubicBezTo>
                    <a:lnTo>
                      <a:pt x="186690" y="22860"/>
                    </a:lnTo>
                    <a:cubicBezTo>
                      <a:pt x="96202" y="22860"/>
                      <a:pt x="23813" y="96202"/>
                      <a:pt x="23813" y="185738"/>
                    </a:cubicBezTo>
                    <a:cubicBezTo>
                      <a:pt x="23813" y="276225"/>
                      <a:pt x="97155" y="348615"/>
                      <a:pt x="186690" y="348615"/>
                    </a:cubicBezTo>
                    <a:lnTo>
                      <a:pt x="186690" y="37338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53" name="Freeform: Shape 356"/>
              <p:cNvSpPr/>
              <p:nvPr/>
            </p:nvSpPr>
            <p:spPr>
              <a:xfrm>
                <a:off x="1218960" y="4271040"/>
                <a:ext cx="498600" cy="176760"/>
              </a:xfrm>
              <a:custGeom>
                <a:avLst/>
                <a:gdLst/>
                <a:ahLst/>
                <a:rect l="l" t="t" r="r" b="b"/>
                <a:pathLst>
                  <a:path w="398145" h="140970">
                    <a:moveTo>
                      <a:pt x="201930" y="0"/>
                    </a:moveTo>
                    <a:cubicBezTo>
                      <a:pt x="289560" y="0"/>
                      <a:pt x="364808" y="52388"/>
                      <a:pt x="398145" y="126683"/>
                    </a:cubicBezTo>
                    <a:cubicBezTo>
                      <a:pt x="360998" y="60008"/>
                      <a:pt x="287655" y="15240"/>
                      <a:pt x="202883" y="15240"/>
                    </a:cubicBezTo>
                    <a:cubicBezTo>
                      <a:pt x="112395" y="15240"/>
                      <a:pt x="35243" y="66675"/>
                      <a:pt x="0" y="140970"/>
                    </a:cubicBezTo>
                    <a:cubicBezTo>
                      <a:pt x="29527" y="58103"/>
                      <a:pt x="109538" y="0"/>
                      <a:pt x="201930"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54" name="Freeform: Shape 357"/>
              <p:cNvSpPr/>
              <p:nvPr/>
            </p:nvSpPr>
            <p:spPr>
              <a:xfrm>
                <a:off x="1307160" y="4438440"/>
                <a:ext cx="251640" cy="237600"/>
              </a:xfrm>
              <a:custGeom>
                <a:avLst/>
                <a:gdLst/>
                <a:ahLst/>
                <a:rect l="l" t="t" r="r" b="b"/>
                <a:pathLst>
                  <a:path w="200977" h="189547">
                    <a:moveTo>
                      <a:pt x="200977" y="177165"/>
                    </a:moveTo>
                    <a:cubicBezTo>
                      <a:pt x="187643" y="184785"/>
                      <a:pt x="170498" y="189547"/>
                      <a:pt x="149543" y="189547"/>
                    </a:cubicBezTo>
                    <a:cubicBezTo>
                      <a:pt x="122873" y="189547"/>
                      <a:pt x="100965" y="180975"/>
                      <a:pt x="84773" y="164783"/>
                    </a:cubicBezTo>
                    <a:cubicBezTo>
                      <a:pt x="76200" y="156210"/>
                      <a:pt x="70485" y="146685"/>
                      <a:pt x="65723" y="135255"/>
                    </a:cubicBezTo>
                    <a:lnTo>
                      <a:pt x="0" y="135255"/>
                    </a:lnTo>
                    <a:lnTo>
                      <a:pt x="18097" y="103823"/>
                    </a:lnTo>
                    <a:lnTo>
                      <a:pt x="60007" y="103823"/>
                    </a:lnTo>
                    <a:cubicBezTo>
                      <a:pt x="60007" y="101917"/>
                      <a:pt x="60007" y="100965"/>
                      <a:pt x="60007" y="99060"/>
                    </a:cubicBezTo>
                    <a:cubicBezTo>
                      <a:pt x="60007" y="97155"/>
                      <a:pt x="60007" y="96202"/>
                      <a:pt x="60007" y="94298"/>
                    </a:cubicBezTo>
                    <a:lnTo>
                      <a:pt x="20003" y="94298"/>
                    </a:lnTo>
                    <a:lnTo>
                      <a:pt x="38100" y="62865"/>
                    </a:lnTo>
                    <a:lnTo>
                      <a:pt x="64770" y="62865"/>
                    </a:lnTo>
                    <a:cubicBezTo>
                      <a:pt x="69532" y="48577"/>
                      <a:pt x="76200" y="36195"/>
                      <a:pt x="86678" y="26670"/>
                    </a:cubicBezTo>
                    <a:cubicBezTo>
                      <a:pt x="104775" y="8572"/>
                      <a:pt x="127635" y="0"/>
                      <a:pt x="157163" y="0"/>
                    </a:cubicBezTo>
                    <a:cubicBezTo>
                      <a:pt x="175260" y="0"/>
                      <a:pt x="189548" y="2857"/>
                      <a:pt x="200977" y="8572"/>
                    </a:cubicBezTo>
                    <a:lnTo>
                      <a:pt x="200977" y="44767"/>
                    </a:lnTo>
                    <a:cubicBezTo>
                      <a:pt x="187643" y="35242"/>
                      <a:pt x="174308" y="30480"/>
                      <a:pt x="159068" y="30480"/>
                    </a:cubicBezTo>
                    <a:cubicBezTo>
                      <a:pt x="140970" y="30480"/>
                      <a:pt x="126682" y="36195"/>
                      <a:pt x="116205" y="48577"/>
                    </a:cubicBezTo>
                    <a:cubicBezTo>
                      <a:pt x="112395" y="53340"/>
                      <a:pt x="108585" y="58102"/>
                      <a:pt x="106680" y="62865"/>
                    </a:cubicBezTo>
                    <a:lnTo>
                      <a:pt x="185738" y="62865"/>
                    </a:lnTo>
                    <a:lnTo>
                      <a:pt x="167640" y="94298"/>
                    </a:lnTo>
                    <a:lnTo>
                      <a:pt x="153353" y="94298"/>
                    </a:lnTo>
                    <a:lnTo>
                      <a:pt x="100013" y="94298"/>
                    </a:lnTo>
                    <a:lnTo>
                      <a:pt x="100013" y="96202"/>
                    </a:lnTo>
                    <a:cubicBezTo>
                      <a:pt x="100013" y="99060"/>
                      <a:pt x="100013" y="100965"/>
                      <a:pt x="100013" y="103823"/>
                    </a:cubicBezTo>
                    <a:lnTo>
                      <a:pt x="165735" y="103823"/>
                    </a:lnTo>
                    <a:lnTo>
                      <a:pt x="147638" y="134302"/>
                    </a:lnTo>
                    <a:lnTo>
                      <a:pt x="109538" y="134302"/>
                    </a:lnTo>
                    <a:cubicBezTo>
                      <a:pt x="111443" y="137160"/>
                      <a:pt x="113348" y="139065"/>
                      <a:pt x="115253" y="141922"/>
                    </a:cubicBezTo>
                    <a:cubicBezTo>
                      <a:pt x="125730" y="153352"/>
                      <a:pt x="140018" y="159068"/>
                      <a:pt x="157163" y="159068"/>
                    </a:cubicBezTo>
                    <a:cubicBezTo>
                      <a:pt x="172402" y="159068"/>
                      <a:pt x="186690" y="154305"/>
                      <a:pt x="200977" y="143827"/>
                    </a:cubicBezTo>
                    <a:lnTo>
                      <a:pt x="200977" y="17716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55" name="Freeform: Shape 358"/>
              <p:cNvSpPr/>
              <p:nvPr/>
            </p:nvSpPr>
            <p:spPr>
              <a:xfrm>
                <a:off x="1315440" y="4424040"/>
                <a:ext cx="243360" cy="237600"/>
              </a:xfrm>
              <a:custGeom>
                <a:avLst/>
                <a:gdLst/>
                <a:ahLst/>
                <a:rect l="l" t="t" r="r" b="b"/>
                <a:pathLst>
                  <a:path w="194309" h="189547">
                    <a:moveTo>
                      <a:pt x="194310" y="177165"/>
                    </a:moveTo>
                    <a:cubicBezTo>
                      <a:pt x="180975" y="184785"/>
                      <a:pt x="163830" y="189548"/>
                      <a:pt x="142875" y="189548"/>
                    </a:cubicBezTo>
                    <a:cubicBezTo>
                      <a:pt x="116205" y="189548"/>
                      <a:pt x="94298" y="180975"/>
                      <a:pt x="78105" y="164783"/>
                    </a:cubicBezTo>
                    <a:cubicBezTo>
                      <a:pt x="69532" y="156210"/>
                      <a:pt x="63817" y="146685"/>
                      <a:pt x="59055" y="135255"/>
                    </a:cubicBezTo>
                    <a:lnTo>
                      <a:pt x="0" y="135255"/>
                    </a:lnTo>
                    <a:lnTo>
                      <a:pt x="18097" y="103823"/>
                    </a:lnTo>
                    <a:lnTo>
                      <a:pt x="53340" y="103823"/>
                    </a:lnTo>
                    <a:cubicBezTo>
                      <a:pt x="53340" y="101918"/>
                      <a:pt x="53340" y="100965"/>
                      <a:pt x="53340" y="99060"/>
                    </a:cubicBezTo>
                    <a:cubicBezTo>
                      <a:pt x="53340" y="97155"/>
                      <a:pt x="53340" y="96203"/>
                      <a:pt x="53340" y="94298"/>
                    </a:cubicBezTo>
                    <a:lnTo>
                      <a:pt x="20002" y="94298"/>
                    </a:lnTo>
                    <a:lnTo>
                      <a:pt x="38100" y="62865"/>
                    </a:lnTo>
                    <a:lnTo>
                      <a:pt x="58102" y="62865"/>
                    </a:lnTo>
                    <a:cubicBezTo>
                      <a:pt x="62865" y="48578"/>
                      <a:pt x="69532" y="36195"/>
                      <a:pt x="80010" y="26670"/>
                    </a:cubicBezTo>
                    <a:cubicBezTo>
                      <a:pt x="98107" y="8572"/>
                      <a:pt x="120967" y="0"/>
                      <a:pt x="150495" y="0"/>
                    </a:cubicBezTo>
                    <a:cubicBezTo>
                      <a:pt x="168593" y="0"/>
                      <a:pt x="182880" y="2857"/>
                      <a:pt x="194310" y="8572"/>
                    </a:cubicBezTo>
                    <a:lnTo>
                      <a:pt x="194310" y="42863"/>
                    </a:lnTo>
                    <a:cubicBezTo>
                      <a:pt x="180975" y="33338"/>
                      <a:pt x="167640" y="28575"/>
                      <a:pt x="152400" y="28575"/>
                    </a:cubicBezTo>
                    <a:cubicBezTo>
                      <a:pt x="134302" y="28575"/>
                      <a:pt x="120015" y="34290"/>
                      <a:pt x="109538" y="46672"/>
                    </a:cubicBezTo>
                    <a:cubicBezTo>
                      <a:pt x="105727" y="51435"/>
                      <a:pt x="101917" y="56197"/>
                      <a:pt x="100013" y="60960"/>
                    </a:cubicBezTo>
                    <a:lnTo>
                      <a:pt x="186690" y="60960"/>
                    </a:lnTo>
                    <a:lnTo>
                      <a:pt x="168593" y="92393"/>
                    </a:lnTo>
                    <a:lnTo>
                      <a:pt x="154305" y="92393"/>
                    </a:lnTo>
                    <a:lnTo>
                      <a:pt x="93345" y="92393"/>
                    </a:lnTo>
                    <a:lnTo>
                      <a:pt x="93345" y="94298"/>
                    </a:lnTo>
                    <a:cubicBezTo>
                      <a:pt x="93345" y="97155"/>
                      <a:pt x="93345" y="99060"/>
                      <a:pt x="93345" y="101918"/>
                    </a:cubicBezTo>
                    <a:lnTo>
                      <a:pt x="165735" y="101918"/>
                    </a:lnTo>
                    <a:lnTo>
                      <a:pt x="147638" y="133350"/>
                    </a:lnTo>
                    <a:lnTo>
                      <a:pt x="102870" y="133350"/>
                    </a:lnTo>
                    <a:cubicBezTo>
                      <a:pt x="104775" y="136208"/>
                      <a:pt x="106680" y="138113"/>
                      <a:pt x="108585" y="140970"/>
                    </a:cubicBezTo>
                    <a:cubicBezTo>
                      <a:pt x="119063" y="152400"/>
                      <a:pt x="133350" y="158115"/>
                      <a:pt x="150495" y="158115"/>
                    </a:cubicBezTo>
                    <a:cubicBezTo>
                      <a:pt x="165735" y="158115"/>
                      <a:pt x="180022" y="153352"/>
                      <a:pt x="194310" y="142875"/>
                    </a:cubicBezTo>
                    <a:lnTo>
                      <a:pt x="194310" y="17716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sp>
        <p:nvSpPr>
          <p:cNvPr id="175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1757" name="Rectangle: Rounded Corners 130"/>
          <p:cNvSpPr/>
          <p:nvPr/>
        </p:nvSpPr>
        <p:spPr>
          <a:xfrm>
            <a:off x="7047000" y="1716120"/>
            <a:ext cx="4430520" cy="4432320"/>
          </a:xfrm>
          <a:custGeom>
            <a:avLst/>
            <a:gdLst>
              <a:gd name="textAreaLeft" fmla="*/ 93240 w 4430520"/>
              <a:gd name="textAreaRight" fmla="*/ 4337280 w 4430520"/>
              <a:gd name="textAreaTop" fmla="*/ 93240 h 4432320"/>
              <a:gd name="textAreaBottom" fmla="*/ 4339080 h 4432320"/>
            </a:gdLst>
            <a:ahLst/>
            <a:rect l="textAreaLeft" t="textAreaTop" r="textAreaRight" b="textAreaBottom"/>
            <a:pathLst>
              <a:path w="21600" h="21609">
                <a:moveTo>
                  <a:pt x="1552" y="0"/>
                </a:moveTo>
                <a:arcTo wR="1552" hR="1552" stAng="16200000" swAng="-5400000"/>
                <a:lnTo>
                  <a:pt x="0" y="20057"/>
                </a:lnTo>
                <a:arcTo wR="1552" hR="1552" stAng="10800000" swAng="-5400000"/>
                <a:lnTo>
                  <a:pt x="20048" y="21609"/>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1758" name="TextBox 132"/>
          <p:cNvSpPr/>
          <p:nvPr/>
        </p:nvSpPr>
        <p:spPr>
          <a:xfrm>
            <a:off x="7289640" y="1895400"/>
            <a:ext cx="21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Description</a:t>
            </a:r>
            <a:endParaRPr b="0" lang="en-US" sz="2000" spc="-1" strike="noStrike">
              <a:solidFill>
                <a:srgbClr val="313c3f"/>
              </a:solidFill>
              <a:latin typeface="Source Sans Pro"/>
            </a:endParaRPr>
          </a:p>
        </p:txBody>
      </p:sp>
      <p:grpSp>
        <p:nvGrpSpPr>
          <p:cNvPr id="1759" name="Group 311"/>
          <p:cNvGrpSpPr/>
          <p:nvPr/>
        </p:nvGrpSpPr>
        <p:grpSpPr>
          <a:xfrm>
            <a:off x="560520" y="1722600"/>
            <a:ext cx="5930640" cy="4478040"/>
            <a:chOff x="560520" y="1722600"/>
            <a:chExt cx="5930640" cy="4478040"/>
          </a:xfrm>
        </p:grpSpPr>
        <p:sp>
          <p:nvSpPr>
            <p:cNvPr id="1760" name="Freeform: Shape 26"/>
            <p:cNvSpPr/>
            <p:nvPr/>
          </p:nvSpPr>
          <p:spPr>
            <a:xfrm>
              <a:off x="4161600" y="4163760"/>
              <a:ext cx="2329560" cy="463680"/>
            </a:xfrm>
            <a:custGeom>
              <a:avLst/>
              <a:gdLst/>
              <a:ahLst/>
              <a:rect l="l" t="t" r="r" b="b"/>
              <a:pathLst>
                <a:path w="2329654" h="464037">
                  <a:moveTo>
                    <a:pt x="2093848" y="174251"/>
                  </a:moveTo>
                  <a:lnTo>
                    <a:pt x="1838155" y="464037"/>
                  </a:lnTo>
                  <a:lnTo>
                    <a:pt x="492447" y="464037"/>
                  </a:lnTo>
                  <a:lnTo>
                    <a:pt x="236754" y="174251"/>
                  </a:lnTo>
                  <a:lnTo>
                    <a:pt x="210237" y="174251"/>
                  </a:lnTo>
                  <a:cubicBezTo>
                    <a:pt x="190350" y="207396"/>
                    <a:pt x="154363" y="229178"/>
                    <a:pt x="113642" y="229178"/>
                  </a:cubicBezTo>
                  <a:cubicBezTo>
                    <a:pt x="51139" y="229178"/>
                    <a:pt x="0" y="178039"/>
                    <a:pt x="0" y="114589"/>
                  </a:cubicBezTo>
                  <a:cubicBezTo>
                    <a:pt x="0" y="51139"/>
                    <a:pt x="51139" y="0"/>
                    <a:pt x="113642" y="0"/>
                  </a:cubicBezTo>
                  <a:cubicBezTo>
                    <a:pt x="154363" y="0"/>
                    <a:pt x="190350" y="21782"/>
                    <a:pt x="210237" y="54927"/>
                  </a:cubicBezTo>
                  <a:lnTo>
                    <a:pt x="2119417" y="54927"/>
                  </a:lnTo>
                  <a:cubicBezTo>
                    <a:pt x="2139305" y="21782"/>
                    <a:pt x="2175292" y="0"/>
                    <a:pt x="2216013" y="0"/>
                  </a:cubicBezTo>
                  <a:cubicBezTo>
                    <a:pt x="2278516" y="0"/>
                    <a:pt x="2329655" y="51139"/>
                    <a:pt x="2329655" y="114589"/>
                  </a:cubicBezTo>
                  <a:cubicBezTo>
                    <a:pt x="2329655" y="178039"/>
                    <a:pt x="2278516" y="229178"/>
                    <a:pt x="2216013" y="229178"/>
                  </a:cubicBezTo>
                  <a:cubicBezTo>
                    <a:pt x="2175292" y="229178"/>
                    <a:pt x="2139305" y="207396"/>
                    <a:pt x="2119417" y="174251"/>
                  </a:cubicBezTo>
                  <a:lnTo>
                    <a:pt x="2093848" y="174251"/>
                  </a:lnTo>
                  <a:close/>
                  <a:moveTo>
                    <a:pt x="147734" y="170463"/>
                  </a:moveTo>
                  <a:cubicBezTo>
                    <a:pt x="148681" y="169516"/>
                    <a:pt x="149628" y="169516"/>
                    <a:pt x="150575" y="168569"/>
                  </a:cubicBezTo>
                  <a:lnTo>
                    <a:pt x="151522" y="167622"/>
                  </a:lnTo>
                  <a:lnTo>
                    <a:pt x="152469" y="166675"/>
                  </a:lnTo>
                  <a:lnTo>
                    <a:pt x="153416" y="165728"/>
                  </a:lnTo>
                  <a:lnTo>
                    <a:pt x="154363" y="164781"/>
                  </a:lnTo>
                  <a:lnTo>
                    <a:pt x="155311" y="163834"/>
                  </a:lnTo>
                  <a:cubicBezTo>
                    <a:pt x="156257" y="162887"/>
                    <a:pt x="157204" y="162887"/>
                    <a:pt x="157204" y="161940"/>
                  </a:cubicBezTo>
                  <a:lnTo>
                    <a:pt x="158151" y="160992"/>
                  </a:lnTo>
                  <a:lnTo>
                    <a:pt x="159099" y="160046"/>
                  </a:lnTo>
                  <a:lnTo>
                    <a:pt x="160046" y="159099"/>
                  </a:lnTo>
                  <a:lnTo>
                    <a:pt x="160992" y="158152"/>
                  </a:lnTo>
                  <a:lnTo>
                    <a:pt x="161939" y="157204"/>
                  </a:lnTo>
                  <a:lnTo>
                    <a:pt x="161939" y="156257"/>
                  </a:lnTo>
                  <a:lnTo>
                    <a:pt x="162887" y="155311"/>
                  </a:lnTo>
                  <a:lnTo>
                    <a:pt x="163834" y="154364"/>
                  </a:lnTo>
                  <a:lnTo>
                    <a:pt x="164781" y="153416"/>
                  </a:lnTo>
                  <a:lnTo>
                    <a:pt x="165727" y="152469"/>
                  </a:lnTo>
                  <a:lnTo>
                    <a:pt x="166675" y="151522"/>
                  </a:lnTo>
                  <a:lnTo>
                    <a:pt x="167622" y="150576"/>
                  </a:lnTo>
                  <a:lnTo>
                    <a:pt x="168569" y="149628"/>
                  </a:lnTo>
                  <a:lnTo>
                    <a:pt x="169516" y="148681"/>
                  </a:lnTo>
                  <a:lnTo>
                    <a:pt x="170463" y="147734"/>
                  </a:lnTo>
                  <a:lnTo>
                    <a:pt x="171410" y="146787"/>
                  </a:lnTo>
                  <a:lnTo>
                    <a:pt x="172357" y="145840"/>
                  </a:lnTo>
                  <a:lnTo>
                    <a:pt x="172357" y="144893"/>
                  </a:lnTo>
                  <a:lnTo>
                    <a:pt x="172357"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30688"/>
                  </a:lnTo>
                  <a:lnTo>
                    <a:pt x="173304" y="129741"/>
                  </a:lnTo>
                  <a:lnTo>
                    <a:pt x="173304" y="127847"/>
                  </a:lnTo>
                  <a:lnTo>
                    <a:pt x="173304" y="126900"/>
                  </a:lnTo>
                  <a:lnTo>
                    <a:pt x="173304" y="125953"/>
                  </a:lnTo>
                  <a:lnTo>
                    <a:pt x="173304" y="125006"/>
                  </a:lnTo>
                  <a:lnTo>
                    <a:pt x="173304" y="124059"/>
                  </a:lnTo>
                  <a:lnTo>
                    <a:pt x="173304" y="123112"/>
                  </a:lnTo>
                  <a:lnTo>
                    <a:pt x="173304" y="122165"/>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6"/>
                  </a:lnTo>
                  <a:lnTo>
                    <a:pt x="173304" y="105119"/>
                  </a:lnTo>
                  <a:lnTo>
                    <a:pt x="173304" y="104172"/>
                  </a:lnTo>
                  <a:lnTo>
                    <a:pt x="173304" y="103225"/>
                  </a:lnTo>
                  <a:lnTo>
                    <a:pt x="173304" y="102278"/>
                  </a:lnTo>
                  <a:lnTo>
                    <a:pt x="173304" y="101331"/>
                  </a:lnTo>
                  <a:lnTo>
                    <a:pt x="173304" y="99437"/>
                  </a:lnTo>
                  <a:lnTo>
                    <a:pt x="173304" y="98490"/>
                  </a:lnTo>
                  <a:lnTo>
                    <a:pt x="173304" y="97543"/>
                  </a:lnTo>
                  <a:lnTo>
                    <a:pt x="173304" y="96596"/>
                  </a:lnTo>
                  <a:lnTo>
                    <a:pt x="173304" y="95649"/>
                  </a:lnTo>
                  <a:lnTo>
                    <a:pt x="173304" y="94701"/>
                  </a:lnTo>
                  <a:lnTo>
                    <a:pt x="173304" y="93755"/>
                  </a:lnTo>
                  <a:lnTo>
                    <a:pt x="173304" y="91861"/>
                  </a:lnTo>
                  <a:lnTo>
                    <a:pt x="173304" y="90913"/>
                  </a:lnTo>
                  <a:lnTo>
                    <a:pt x="173304" y="89966"/>
                  </a:lnTo>
                  <a:lnTo>
                    <a:pt x="173304" y="89020"/>
                  </a:lnTo>
                  <a:lnTo>
                    <a:pt x="173304" y="88073"/>
                  </a:lnTo>
                  <a:lnTo>
                    <a:pt x="173304" y="87125"/>
                  </a:lnTo>
                  <a:lnTo>
                    <a:pt x="173304" y="86178"/>
                  </a:lnTo>
                  <a:lnTo>
                    <a:pt x="173304" y="85231"/>
                  </a:lnTo>
                  <a:lnTo>
                    <a:pt x="173304" y="84285"/>
                  </a:lnTo>
                  <a:lnTo>
                    <a:pt x="173304" y="83337"/>
                  </a:lnTo>
                  <a:lnTo>
                    <a:pt x="173304" y="82390"/>
                  </a:lnTo>
                  <a:lnTo>
                    <a:pt x="173304" y="81443"/>
                  </a:lnTo>
                  <a:lnTo>
                    <a:pt x="173304" y="80496"/>
                  </a:lnTo>
                  <a:lnTo>
                    <a:pt x="172357" y="78602"/>
                  </a:lnTo>
                  <a:lnTo>
                    <a:pt x="171410" y="77655"/>
                  </a:lnTo>
                  <a:lnTo>
                    <a:pt x="171410" y="76708"/>
                  </a:lnTo>
                  <a:lnTo>
                    <a:pt x="171410" y="75761"/>
                  </a:lnTo>
                  <a:lnTo>
                    <a:pt x="170463" y="74814"/>
                  </a:lnTo>
                  <a:lnTo>
                    <a:pt x="170463" y="73867"/>
                  </a:lnTo>
                  <a:lnTo>
                    <a:pt x="167622" y="77655"/>
                  </a:lnTo>
                  <a:lnTo>
                    <a:pt x="166675" y="76708"/>
                  </a:lnTo>
                  <a:lnTo>
                    <a:pt x="166675" y="75761"/>
                  </a:lnTo>
                  <a:lnTo>
                    <a:pt x="165727" y="74814"/>
                  </a:lnTo>
                  <a:lnTo>
                    <a:pt x="164781" y="73867"/>
                  </a:lnTo>
                  <a:lnTo>
                    <a:pt x="163834" y="72920"/>
                  </a:lnTo>
                  <a:lnTo>
                    <a:pt x="162887" y="71973"/>
                  </a:lnTo>
                  <a:lnTo>
                    <a:pt x="161939" y="71026"/>
                  </a:lnTo>
                  <a:lnTo>
                    <a:pt x="160992" y="70079"/>
                  </a:lnTo>
                  <a:lnTo>
                    <a:pt x="160046" y="69132"/>
                  </a:lnTo>
                  <a:lnTo>
                    <a:pt x="159099" y="68185"/>
                  </a:lnTo>
                  <a:lnTo>
                    <a:pt x="158151" y="67238"/>
                  </a:lnTo>
                  <a:lnTo>
                    <a:pt x="157204" y="66291"/>
                  </a:lnTo>
                  <a:lnTo>
                    <a:pt x="156257" y="65344"/>
                  </a:lnTo>
                  <a:lnTo>
                    <a:pt x="155311" y="64397"/>
                  </a:lnTo>
                  <a:lnTo>
                    <a:pt x="154363" y="63450"/>
                  </a:lnTo>
                  <a:lnTo>
                    <a:pt x="153416" y="63450"/>
                  </a:lnTo>
                  <a:lnTo>
                    <a:pt x="152469" y="62503"/>
                  </a:lnTo>
                  <a:lnTo>
                    <a:pt x="151522" y="61556"/>
                  </a:lnTo>
                  <a:lnTo>
                    <a:pt x="150575" y="61556"/>
                  </a:lnTo>
                  <a:lnTo>
                    <a:pt x="149628" y="60609"/>
                  </a:lnTo>
                  <a:lnTo>
                    <a:pt x="148681" y="59662"/>
                  </a:lnTo>
                  <a:lnTo>
                    <a:pt x="147734"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0463"/>
                  </a:cubicBezTo>
                  <a:close/>
                  <a:moveTo>
                    <a:pt x="2182868" y="57768"/>
                  </a:moveTo>
                  <a:lnTo>
                    <a:pt x="2182868" y="57768"/>
                  </a:lnTo>
                  <a:lnTo>
                    <a:pt x="2180973" y="58715"/>
                  </a:lnTo>
                  <a:lnTo>
                    <a:pt x="2180027" y="59662"/>
                  </a:lnTo>
                  <a:lnTo>
                    <a:pt x="2179080" y="60609"/>
                  </a:lnTo>
                  <a:lnTo>
                    <a:pt x="2178132" y="61556"/>
                  </a:lnTo>
                  <a:lnTo>
                    <a:pt x="2177186" y="61556"/>
                  </a:lnTo>
                  <a:lnTo>
                    <a:pt x="2176238" y="62503"/>
                  </a:lnTo>
                  <a:lnTo>
                    <a:pt x="2175292" y="63450"/>
                  </a:lnTo>
                  <a:lnTo>
                    <a:pt x="2174345" y="64397"/>
                  </a:lnTo>
                  <a:lnTo>
                    <a:pt x="2173397" y="65344"/>
                  </a:lnTo>
                  <a:lnTo>
                    <a:pt x="2172451" y="66291"/>
                  </a:lnTo>
                  <a:lnTo>
                    <a:pt x="2171503" y="67238"/>
                  </a:lnTo>
                  <a:lnTo>
                    <a:pt x="2170556" y="68185"/>
                  </a:lnTo>
                  <a:lnTo>
                    <a:pt x="2169610" y="69132"/>
                  </a:lnTo>
                  <a:lnTo>
                    <a:pt x="2168662" y="70079"/>
                  </a:lnTo>
                  <a:lnTo>
                    <a:pt x="2167716" y="71026"/>
                  </a:lnTo>
                  <a:lnTo>
                    <a:pt x="2166768" y="71973"/>
                  </a:lnTo>
                  <a:lnTo>
                    <a:pt x="2165821" y="72920"/>
                  </a:lnTo>
                  <a:lnTo>
                    <a:pt x="2164875" y="73867"/>
                  </a:lnTo>
                  <a:lnTo>
                    <a:pt x="2163927" y="74814"/>
                  </a:lnTo>
                  <a:lnTo>
                    <a:pt x="2162980" y="75761"/>
                  </a:lnTo>
                  <a:lnTo>
                    <a:pt x="2162033" y="76708"/>
                  </a:lnTo>
                  <a:lnTo>
                    <a:pt x="2162033" y="77655"/>
                  </a:lnTo>
                  <a:lnTo>
                    <a:pt x="2161086" y="78602"/>
                  </a:lnTo>
                  <a:lnTo>
                    <a:pt x="2160140" y="79549"/>
                  </a:lnTo>
                  <a:lnTo>
                    <a:pt x="2160140" y="80496"/>
                  </a:lnTo>
                  <a:lnTo>
                    <a:pt x="2159192" y="81443"/>
                  </a:lnTo>
                  <a:lnTo>
                    <a:pt x="2159192" y="82390"/>
                  </a:lnTo>
                  <a:lnTo>
                    <a:pt x="2159192" y="83337"/>
                  </a:lnTo>
                  <a:lnTo>
                    <a:pt x="2158245" y="84285"/>
                  </a:lnTo>
                  <a:lnTo>
                    <a:pt x="2158245" y="85231"/>
                  </a:lnTo>
                  <a:lnTo>
                    <a:pt x="2158245" y="86178"/>
                  </a:lnTo>
                  <a:lnTo>
                    <a:pt x="2158245" y="87125"/>
                  </a:lnTo>
                  <a:lnTo>
                    <a:pt x="2158245" y="88073"/>
                  </a:lnTo>
                  <a:lnTo>
                    <a:pt x="2158245" y="89020"/>
                  </a:lnTo>
                  <a:lnTo>
                    <a:pt x="2158245" y="89966"/>
                  </a:lnTo>
                  <a:lnTo>
                    <a:pt x="2158245" y="90913"/>
                  </a:lnTo>
                  <a:lnTo>
                    <a:pt x="2158245" y="91861"/>
                  </a:lnTo>
                  <a:lnTo>
                    <a:pt x="2158245" y="92808"/>
                  </a:lnTo>
                  <a:lnTo>
                    <a:pt x="2158245" y="93755"/>
                  </a:lnTo>
                  <a:lnTo>
                    <a:pt x="2158245" y="94701"/>
                  </a:lnTo>
                  <a:lnTo>
                    <a:pt x="2158245" y="95649"/>
                  </a:lnTo>
                  <a:lnTo>
                    <a:pt x="2158245" y="96596"/>
                  </a:lnTo>
                  <a:lnTo>
                    <a:pt x="2158245" y="97543"/>
                  </a:lnTo>
                  <a:lnTo>
                    <a:pt x="2158245" y="99437"/>
                  </a:lnTo>
                  <a:lnTo>
                    <a:pt x="2158245" y="100384"/>
                  </a:lnTo>
                  <a:lnTo>
                    <a:pt x="2158245" y="101331"/>
                  </a:lnTo>
                  <a:lnTo>
                    <a:pt x="2158245" y="102278"/>
                  </a:lnTo>
                  <a:lnTo>
                    <a:pt x="2158245" y="103225"/>
                  </a:lnTo>
                  <a:lnTo>
                    <a:pt x="2158245" y="104172"/>
                  </a:lnTo>
                  <a:lnTo>
                    <a:pt x="2158245" y="105119"/>
                  </a:lnTo>
                  <a:lnTo>
                    <a:pt x="2158245" y="107013"/>
                  </a:lnTo>
                  <a:lnTo>
                    <a:pt x="2158245" y="107960"/>
                  </a:lnTo>
                  <a:lnTo>
                    <a:pt x="2158245" y="108907"/>
                  </a:lnTo>
                  <a:lnTo>
                    <a:pt x="2158245" y="109854"/>
                  </a:lnTo>
                  <a:lnTo>
                    <a:pt x="2158245" y="110801"/>
                  </a:lnTo>
                  <a:lnTo>
                    <a:pt x="2158245" y="111748"/>
                  </a:lnTo>
                  <a:lnTo>
                    <a:pt x="2158245" y="112695"/>
                  </a:lnTo>
                  <a:lnTo>
                    <a:pt x="2158245" y="113642"/>
                  </a:lnTo>
                  <a:lnTo>
                    <a:pt x="2158245" y="114589"/>
                  </a:lnTo>
                  <a:lnTo>
                    <a:pt x="2158245" y="115536"/>
                  </a:lnTo>
                  <a:lnTo>
                    <a:pt x="2158245" y="116483"/>
                  </a:lnTo>
                  <a:lnTo>
                    <a:pt x="2158245" y="117430"/>
                  </a:lnTo>
                  <a:lnTo>
                    <a:pt x="2158245" y="118377"/>
                  </a:lnTo>
                  <a:lnTo>
                    <a:pt x="2158245" y="119324"/>
                  </a:lnTo>
                  <a:lnTo>
                    <a:pt x="2158245" y="120271"/>
                  </a:lnTo>
                  <a:lnTo>
                    <a:pt x="2158245" y="121218"/>
                  </a:lnTo>
                  <a:lnTo>
                    <a:pt x="2158245" y="122165"/>
                  </a:lnTo>
                  <a:lnTo>
                    <a:pt x="2158245" y="123112"/>
                  </a:lnTo>
                  <a:lnTo>
                    <a:pt x="2158245" y="124059"/>
                  </a:lnTo>
                  <a:lnTo>
                    <a:pt x="2158245" y="125006"/>
                  </a:lnTo>
                  <a:lnTo>
                    <a:pt x="2158245" y="125953"/>
                  </a:lnTo>
                  <a:lnTo>
                    <a:pt x="2158245" y="127847"/>
                  </a:lnTo>
                  <a:lnTo>
                    <a:pt x="2158245" y="128794"/>
                  </a:lnTo>
                  <a:lnTo>
                    <a:pt x="2158245" y="129741"/>
                  </a:lnTo>
                  <a:lnTo>
                    <a:pt x="2158245" y="130688"/>
                  </a:lnTo>
                  <a:lnTo>
                    <a:pt x="2158245" y="131635"/>
                  </a:lnTo>
                  <a:lnTo>
                    <a:pt x="2158245" y="132582"/>
                  </a:lnTo>
                  <a:lnTo>
                    <a:pt x="2158245" y="133529"/>
                  </a:lnTo>
                  <a:lnTo>
                    <a:pt x="2158245" y="134476"/>
                  </a:lnTo>
                  <a:lnTo>
                    <a:pt x="2158245" y="135423"/>
                  </a:lnTo>
                  <a:lnTo>
                    <a:pt x="2158245" y="136370"/>
                  </a:lnTo>
                  <a:lnTo>
                    <a:pt x="2158245" y="137317"/>
                  </a:lnTo>
                  <a:lnTo>
                    <a:pt x="2158245" y="138264"/>
                  </a:lnTo>
                  <a:lnTo>
                    <a:pt x="2158245" y="139211"/>
                  </a:lnTo>
                  <a:lnTo>
                    <a:pt x="2158245" y="140158"/>
                  </a:lnTo>
                  <a:lnTo>
                    <a:pt x="2158245" y="141105"/>
                  </a:lnTo>
                  <a:lnTo>
                    <a:pt x="2158245" y="142052"/>
                  </a:lnTo>
                  <a:lnTo>
                    <a:pt x="2158245" y="142999"/>
                  </a:lnTo>
                  <a:lnTo>
                    <a:pt x="2158245" y="143946"/>
                  </a:lnTo>
                  <a:lnTo>
                    <a:pt x="2158245" y="144893"/>
                  </a:lnTo>
                  <a:lnTo>
                    <a:pt x="2158245" y="145840"/>
                  </a:lnTo>
                  <a:lnTo>
                    <a:pt x="2158245" y="146787"/>
                  </a:lnTo>
                  <a:lnTo>
                    <a:pt x="2158245" y="147734"/>
                  </a:lnTo>
                  <a:lnTo>
                    <a:pt x="2159192" y="148681"/>
                  </a:lnTo>
                  <a:lnTo>
                    <a:pt x="2159192" y="149628"/>
                  </a:lnTo>
                  <a:lnTo>
                    <a:pt x="2159192" y="150576"/>
                  </a:lnTo>
                  <a:lnTo>
                    <a:pt x="2160140" y="151522"/>
                  </a:lnTo>
                  <a:lnTo>
                    <a:pt x="2161086" y="152469"/>
                  </a:lnTo>
                  <a:lnTo>
                    <a:pt x="2162033" y="153416"/>
                  </a:lnTo>
                  <a:lnTo>
                    <a:pt x="2162033" y="154364"/>
                  </a:lnTo>
                  <a:lnTo>
                    <a:pt x="2162980" y="155311"/>
                  </a:lnTo>
                  <a:lnTo>
                    <a:pt x="2163927" y="156257"/>
                  </a:lnTo>
                  <a:lnTo>
                    <a:pt x="2164875" y="157204"/>
                  </a:lnTo>
                  <a:lnTo>
                    <a:pt x="2165821" y="158152"/>
                  </a:lnTo>
                  <a:lnTo>
                    <a:pt x="2166768" y="159099"/>
                  </a:lnTo>
                  <a:lnTo>
                    <a:pt x="2167716" y="160046"/>
                  </a:lnTo>
                  <a:lnTo>
                    <a:pt x="2168662" y="160992"/>
                  </a:lnTo>
                  <a:lnTo>
                    <a:pt x="2169610" y="161940"/>
                  </a:lnTo>
                  <a:lnTo>
                    <a:pt x="2170556" y="162887"/>
                  </a:lnTo>
                  <a:lnTo>
                    <a:pt x="2171503" y="163834"/>
                  </a:lnTo>
                  <a:lnTo>
                    <a:pt x="2172451" y="164781"/>
                  </a:lnTo>
                  <a:lnTo>
                    <a:pt x="2173397" y="165728"/>
                  </a:lnTo>
                  <a:lnTo>
                    <a:pt x="2174345" y="166675"/>
                  </a:lnTo>
                  <a:lnTo>
                    <a:pt x="2175292" y="166675"/>
                  </a:lnTo>
                  <a:lnTo>
                    <a:pt x="2176238" y="167622"/>
                  </a:lnTo>
                  <a:lnTo>
                    <a:pt x="2177186" y="168569"/>
                  </a:lnTo>
                  <a:lnTo>
                    <a:pt x="2178132" y="168569"/>
                  </a:lnTo>
                  <a:lnTo>
                    <a:pt x="2179080" y="169516"/>
                  </a:lnTo>
                  <a:lnTo>
                    <a:pt x="2180027" y="170463"/>
                  </a:lnTo>
                  <a:lnTo>
                    <a:pt x="2180973" y="170463"/>
                  </a:lnTo>
                  <a:lnTo>
                    <a:pt x="2181921" y="171410"/>
                  </a:lnTo>
                  <a:lnTo>
                    <a:pt x="2182868" y="172357"/>
                  </a:lnTo>
                  <a:cubicBezTo>
                    <a:pt x="2193285" y="178986"/>
                    <a:pt x="2204649" y="181827"/>
                    <a:pt x="2216960" y="181827"/>
                  </a:cubicBezTo>
                  <a:cubicBezTo>
                    <a:pt x="2252947" y="181827"/>
                    <a:pt x="2282304" y="152469"/>
                    <a:pt x="2282304" y="115536"/>
                  </a:cubicBezTo>
                  <a:cubicBezTo>
                    <a:pt x="2282304" y="78602"/>
                    <a:pt x="2252947" y="49245"/>
                    <a:pt x="2216960" y="49245"/>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1" name="Freeform: Shape 27"/>
            <p:cNvSpPr/>
            <p:nvPr/>
          </p:nvSpPr>
          <p:spPr>
            <a:xfrm>
              <a:off x="560520" y="4730040"/>
              <a:ext cx="2329560" cy="463680"/>
            </a:xfrm>
            <a:custGeom>
              <a:avLst/>
              <a:gdLst/>
              <a:ahLst/>
              <a:rect l="l" t="t" r="r" b="b"/>
              <a:pathLst>
                <a:path w="2329654" h="464037">
                  <a:moveTo>
                    <a:pt x="2093848" y="174251"/>
                  </a:moveTo>
                  <a:lnTo>
                    <a:pt x="1838154" y="464037"/>
                  </a:lnTo>
                  <a:lnTo>
                    <a:pt x="492447" y="464037"/>
                  </a:lnTo>
                  <a:lnTo>
                    <a:pt x="236754" y="174251"/>
                  </a:lnTo>
                  <a:lnTo>
                    <a:pt x="210237" y="174251"/>
                  </a:lnTo>
                  <a:cubicBezTo>
                    <a:pt x="190350" y="207396"/>
                    <a:pt x="154363" y="229177"/>
                    <a:pt x="113642" y="229177"/>
                  </a:cubicBezTo>
                  <a:cubicBezTo>
                    <a:pt x="51139" y="229177"/>
                    <a:pt x="0" y="178039"/>
                    <a:pt x="0" y="114589"/>
                  </a:cubicBezTo>
                  <a:cubicBezTo>
                    <a:pt x="0" y="51139"/>
                    <a:pt x="51139" y="0"/>
                    <a:pt x="113642" y="0"/>
                  </a:cubicBezTo>
                  <a:cubicBezTo>
                    <a:pt x="154363" y="0"/>
                    <a:pt x="190350" y="21781"/>
                    <a:pt x="210237" y="54927"/>
                  </a:cubicBezTo>
                  <a:lnTo>
                    <a:pt x="2119418" y="54927"/>
                  </a:lnTo>
                  <a:cubicBezTo>
                    <a:pt x="2139305" y="21781"/>
                    <a:pt x="2175291" y="0"/>
                    <a:pt x="2216013" y="0"/>
                  </a:cubicBezTo>
                  <a:cubicBezTo>
                    <a:pt x="2278516" y="0"/>
                    <a:pt x="2329655" y="51139"/>
                    <a:pt x="2329655" y="114589"/>
                  </a:cubicBezTo>
                  <a:cubicBezTo>
                    <a:pt x="2329655" y="178039"/>
                    <a:pt x="2278516" y="229177"/>
                    <a:pt x="2216013" y="229177"/>
                  </a:cubicBezTo>
                  <a:cubicBezTo>
                    <a:pt x="2175291" y="229177"/>
                    <a:pt x="2139305" y="207396"/>
                    <a:pt x="2119418" y="174251"/>
                  </a:cubicBezTo>
                  <a:lnTo>
                    <a:pt x="2093848" y="174251"/>
                  </a:lnTo>
                  <a:close/>
                  <a:moveTo>
                    <a:pt x="147734" y="171410"/>
                  </a:moveTo>
                  <a:cubicBezTo>
                    <a:pt x="148681" y="170463"/>
                    <a:pt x="149628" y="170463"/>
                    <a:pt x="150575" y="169516"/>
                  </a:cubicBezTo>
                  <a:lnTo>
                    <a:pt x="151522" y="168568"/>
                  </a:lnTo>
                  <a:lnTo>
                    <a:pt x="152469" y="167621"/>
                  </a:lnTo>
                  <a:lnTo>
                    <a:pt x="153416" y="166675"/>
                  </a:lnTo>
                  <a:lnTo>
                    <a:pt x="154363" y="165728"/>
                  </a:lnTo>
                  <a:lnTo>
                    <a:pt x="155310" y="164780"/>
                  </a:lnTo>
                  <a:cubicBezTo>
                    <a:pt x="156257" y="163833"/>
                    <a:pt x="157204" y="163833"/>
                    <a:pt x="157204" y="162886"/>
                  </a:cubicBezTo>
                  <a:lnTo>
                    <a:pt x="158151" y="161940"/>
                  </a:lnTo>
                  <a:lnTo>
                    <a:pt x="159098" y="160992"/>
                  </a:lnTo>
                  <a:lnTo>
                    <a:pt x="160045" y="160045"/>
                  </a:lnTo>
                  <a:lnTo>
                    <a:pt x="160992" y="159098"/>
                  </a:lnTo>
                  <a:lnTo>
                    <a:pt x="161939" y="158151"/>
                  </a:lnTo>
                  <a:lnTo>
                    <a:pt x="162886" y="157204"/>
                  </a:lnTo>
                  <a:lnTo>
                    <a:pt x="163833" y="156257"/>
                  </a:lnTo>
                  <a:lnTo>
                    <a:pt x="164780" y="155310"/>
                  </a:lnTo>
                  <a:lnTo>
                    <a:pt x="165727" y="154363"/>
                  </a:lnTo>
                  <a:lnTo>
                    <a:pt x="166674" y="153416"/>
                  </a:lnTo>
                  <a:lnTo>
                    <a:pt x="167622" y="152469"/>
                  </a:lnTo>
                  <a:lnTo>
                    <a:pt x="168569" y="151522"/>
                  </a:lnTo>
                  <a:lnTo>
                    <a:pt x="169516" y="150575"/>
                  </a:lnTo>
                  <a:lnTo>
                    <a:pt x="170463" y="149628"/>
                  </a:lnTo>
                  <a:lnTo>
                    <a:pt x="171410" y="148681"/>
                  </a:lnTo>
                  <a:lnTo>
                    <a:pt x="172357" y="147734"/>
                  </a:lnTo>
                  <a:lnTo>
                    <a:pt x="172357" y="146787"/>
                  </a:lnTo>
                  <a:lnTo>
                    <a:pt x="172357" y="145840"/>
                  </a:lnTo>
                  <a:lnTo>
                    <a:pt x="173304" y="144893"/>
                  </a:lnTo>
                  <a:lnTo>
                    <a:pt x="173304"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29741"/>
                  </a:lnTo>
                  <a:lnTo>
                    <a:pt x="173304" y="128794"/>
                  </a:lnTo>
                  <a:lnTo>
                    <a:pt x="173304" y="127847"/>
                  </a:lnTo>
                  <a:lnTo>
                    <a:pt x="173304" y="126900"/>
                  </a:lnTo>
                  <a:lnTo>
                    <a:pt x="173304" y="125953"/>
                  </a:lnTo>
                  <a:lnTo>
                    <a:pt x="173304" y="125006"/>
                  </a:lnTo>
                  <a:lnTo>
                    <a:pt x="173304" y="124059"/>
                  </a:lnTo>
                  <a:lnTo>
                    <a:pt x="173304" y="122165"/>
                  </a:lnTo>
                  <a:lnTo>
                    <a:pt x="173304" y="121218"/>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5"/>
                  </a:lnTo>
                  <a:lnTo>
                    <a:pt x="173304" y="105119"/>
                  </a:lnTo>
                  <a:lnTo>
                    <a:pt x="173304" y="104172"/>
                  </a:lnTo>
                  <a:lnTo>
                    <a:pt x="173304" y="103225"/>
                  </a:lnTo>
                  <a:lnTo>
                    <a:pt x="173304" y="101330"/>
                  </a:lnTo>
                  <a:lnTo>
                    <a:pt x="173304" y="100384"/>
                  </a:lnTo>
                  <a:lnTo>
                    <a:pt x="173304" y="99437"/>
                  </a:lnTo>
                  <a:lnTo>
                    <a:pt x="173304" y="98489"/>
                  </a:lnTo>
                  <a:lnTo>
                    <a:pt x="173304" y="97542"/>
                  </a:lnTo>
                  <a:lnTo>
                    <a:pt x="173304" y="96595"/>
                  </a:lnTo>
                  <a:lnTo>
                    <a:pt x="173304" y="95649"/>
                  </a:lnTo>
                  <a:lnTo>
                    <a:pt x="173304" y="93754"/>
                  </a:lnTo>
                  <a:lnTo>
                    <a:pt x="173304" y="92807"/>
                  </a:lnTo>
                  <a:lnTo>
                    <a:pt x="173304" y="91860"/>
                  </a:lnTo>
                  <a:lnTo>
                    <a:pt x="173304" y="90913"/>
                  </a:lnTo>
                  <a:lnTo>
                    <a:pt x="173304" y="89966"/>
                  </a:lnTo>
                  <a:lnTo>
                    <a:pt x="173304" y="89019"/>
                  </a:lnTo>
                  <a:lnTo>
                    <a:pt x="173304" y="88072"/>
                  </a:lnTo>
                  <a:lnTo>
                    <a:pt x="173304" y="87125"/>
                  </a:lnTo>
                  <a:lnTo>
                    <a:pt x="173304" y="86178"/>
                  </a:lnTo>
                  <a:lnTo>
                    <a:pt x="173304" y="85231"/>
                  </a:lnTo>
                  <a:lnTo>
                    <a:pt x="173304" y="84284"/>
                  </a:lnTo>
                  <a:lnTo>
                    <a:pt x="173304" y="83337"/>
                  </a:lnTo>
                  <a:lnTo>
                    <a:pt x="173304" y="82390"/>
                  </a:lnTo>
                  <a:lnTo>
                    <a:pt x="172357" y="81443"/>
                  </a:lnTo>
                  <a:lnTo>
                    <a:pt x="171410" y="80496"/>
                  </a:lnTo>
                  <a:lnTo>
                    <a:pt x="171410" y="79549"/>
                  </a:lnTo>
                  <a:lnTo>
                    <a:pt x="171410" y="78602"/>
                  </a:lnTo>
                  <a:lnTo>
                    <a:pt x="170463" y="77655"/>
                  </a:lnTo>
                  <a:lnTo>
                    <a:pt x="170463" y="76708"/>
                  </a:lnTo>
                  <a:lnTo>
                    <a:pt x="169516" y="75761"/>
                  </a:lnTo>
                  <a:lnTo>
                    <a:pt x="168569" y="74814"/>
                  </a:lnTo>
                  <a:lnTo>
                    <a:pt x="168569" y="73867"/>
                  </a:lnTo>
                  <a:lnTo>
                    <a:pt x="167622" y="72920"/>
                  </a:lnTo>
                  <a:lnTo>
                    <a:pt x="166674" y="71973"/>
                  </a:lnTo>
                  <a:lnTo>
                    <a:pt x="165727" y="71026"/>
                  </a:lnTo>
                  <a:lnTo>
                    <a:pt x="164780" y="70079"/>
                  </a:lnTo>
                  <a:lnTo>
                    <a:pt x="163833" y="69132"/>
                  </a:lnTo>
                  <a:lnTo>
                    <a:pt x="162886" y="68185"/>
                  </a:lnTo>
                  <a:lnTo>
                    <a:pt x="161939" y="67238"/>
                  </a:lnTo>
                  <a:lnTo>
                    <a:pt x="160992" y="66291"/>
                  </a:lnTo>
                  <a:lnTo>
                    <a:pt x="160045" y="65344"/>
                  </a:lnTo>
                  <a:lnTo>
                    <a:pt x="159098" y="64397"/>
                  </a:lnTo>
                  <a:lnTo>
                    <a:pt x="158151" y="63450"/>
                  </a:lnTo>
                  <a:lnTo>
                    <a:pt x="157204" y="62503"/>
                  </a:lnTo>
                  <a:lnTo>
                    <a:pt x="156257" y="61556"/>
                  </a:lnTo>
                  <a:lnTo>
                    <a:pt x="155310" y="61556"/>
                  </a:lnTo>
                  <a:lnTo>
                    <a:pt x="154363" y="60609"/>
                  </a:lnTo>
                  <a:lnTo>
                    <a:pt x="153416" y="59662"/>
                  </a:lnTo>
                  <a:lnTo>
                    <a:pt x="152469" y="59662"/>
                  </a:lnTo>
                  <a:lnTo>
                    <a:pt x="151522" y="60609"/>
                  </a:lnTo>
                  <a:lnTo>
                    <a:pt x="150575" y="59662"/>
                  </a:lnTo>
                  <a:lnTo>
                    <a:pt x="149628"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1410"/>
                  </a:cubicBezTo>
                  <a:close/>
                  <a:moveTo>
                    <a:pt x="2182868" y="57768"/>
                  </a:moveTo>
                  <a:lnTo>
                    <a:pt x="2182868" y="57768"/>
                  </a:lnTo>
                  <a:lnTo>
                    <a:pt x="2180974" y="58715"/>
                  </a:lnTo>
                  <a:lnTo>
                    <a:pt x="2180026" y="59662"/>
                  </a:lnTo>
                  <a:lnTo>
                    <a:pt x="2179080" y="60609"/>
                  </a:lnTo>
                  <a:lnTo>
                    <a:pt x="2178132" y="60609"/>
                  </a:lnTo>
                  <a:lnTo>
                    <a:pt x="2177185" y="60609"/>
                  </a:lnTo>
                  <a:lnTo>
                    <a:pt x="2176238" y="61556"/>
                  </a:lnTo>
                  <a:lnTo>
                    <a:pt x="2175291" y="62503"/>
                  </a:lnTo>
                  <a:lnTo>
                    <a:pt x="2174344" y="63450"/>
                  </a:lnTo>
                  <a:lnTo>
                    <a:pt x="2173397" y="64397"/>
                  </a:lnTo>
                  <a:lnTo>
                    <a:pt x="2172450" y="65344"/>
                  </a:lnTo>
                  <a:lnTo>
                    <a:pt x="2171503" y="66291"/>
                  </a:lnTo>
                  <a:lnTo>
                    <a:pt x="2170556" y="67238"/>
                  </a:lnTo>
                  <a:lnTo>
                    <a:pt x="2169609" y="68185"/>
                  </a:lnTo>
                  <a:lnTo>
                    <a:pt x="2168662" y="69132"/>
                  </a:lnTo>
                  <a:lnTo>
                    <a:pt x="2167715" y="70079"/>
                  </a:lnTo>
                  <a:lnTo>
                    <a:pt x="2168662" y="70079"/>
                  </a:lnTo>
                  <a:lnTo>
                    <a:pt x="2167715" y="71026"/>
                  </a:lnTo>
                  <a:lnTo>
                    <a:pt x="2166768" y="71973"/>
                  </a:lnTo>
                  <a:lnTo>
                    <a:pt x="2165821" y="72920"/>
                  </a:lnTo>
                  <a:lnTo>
                    <a:pt x="2164874" y="73867"/>
                  </a:lnTo>
                  <a:lnTo>
                    <a:pt x="2163927" y="74814"/>
                  </a:lnTo>
                  <a:lnTo>
                    <a:pt x="2163927" y="75761"/>
                  </a:lnTo>
                  <a:lnTo>
                    <a:pt x="2162980" y="76708"/>
                  </a:lnTo>
                  <a:lnTo>
                    <a:pt x="2162033" y="77655"/>
                  </a:lnTo>
                  <a:lnTo>
                    <a:pt x="2162033" y="78602"/>
                  </a:lnTo>
                  <a:lnTo>
                    <a:pt x="2161086" y="79549"/>
                  </a:lnTo>
                  <a:lnTo>
                    <a:pt x="2161086" y="80496"/>
                  </a:lnTo>
                  <a:lnTo>
                    <a:pt x="2161086" y="81443"/>
                  </a:lnTo>
                  <a:lnTo>
                    <a:pt x="2160139" y="82390"/>
                  </a:lnTo>
                  <a:lnTo>
                    <a:pt x="2160139" y="83337"/>
                  </a:lnTo>
                  <a:lnTo>
                    <a:pt x="2160139" y="84284"/>
                  </a:lnTo>
                  <a:lnTo>
                    <a:pt x="2160139" y="85231"/>
                  </a:lnTo>
                  <a:lnTo>
                    <a:pt x="2160139" y="86178"/>
                  </a:lnTo>
                  <a:lnTo>
                    <a:pt x="2160139" y="87125"/>
                  </a:lnTo>
                  <a:lnTo>
                    <a:pt x="2160139" y="88072"/>
                  </a:lnTo>
                  <a:lnTo>
                    <a:pt x="2160139" y="89019"/>
                  </a:lnTo>
                  <a:lnTo>
                    <a:pt x="2160139" y="89966"/>
                  </a:lnTo>
                  <a:lnTo>
                    <a:pt x="2160139" y="90913"/>
                  </a:lnTo>
                  <a:lnTo>
                    <a:pt x="2160139" y="91860"/>
                  </a:lnTo>
                  <a:lnTo>
                    <a:pt x="2160139" y="92807"/>
                  </a:lnTo>
                  <a:lnTo>
                    <a:pt x="2160139" y="93754"/>
                  </a:lnTo>
                  <a:lnTo>
                    <a:pt x="2160139" y="94701"/>
                  </a:lnTo>
                  <a:lnTo>
                    <a:pt x="2160139" y="95649"/>
                  </a:lnTo>
                  <a:lnTo>
                    <a:pt x="2160139" y="97542"/>
                  </a:lnTo>
                  <a:lnTo>
                    <a:pt x="2160139" y="98489"/>
                  </a:lnTo>
                  <a:lnTo>
                    <a:pt x="2160139" y="99437"/>
                  </a:lnTo>
                  <a:lnTo>
                    <a:pt x="2160139" y="100384"/>
                  </a:lnTo>
                  <a:lnTo>
                    <a:pt x="2160139" y="101330"/>
                  </a:lnTo>
                  <a:lnTo>
                    <a:pt x="2160139" y="102277"/>
                  </a:lnTo>
                  <a:lnTo>
                    <a:pt x="2160139" y="103225"/>
                  </a:lnTo>
                  <a:lnTo>
                    <a:pt x="2160139" y="105119"/>
                  </a:lnTo>
                  <a:lnTo>
                    <a:pt x="2160139" y="106065"/>
                  </a:lnTo>
                  <a:lnTo>
                    <a:pt x="2160139" y="107013"/>
                  </a:lnTo>
                  <a:lnTo>
                    <a:pt x="2160139" y="107960"/>
                  </a:lnTo>
                  <a:lnTo>
                    <a:pt x="2160139" y="108907"/>
                  </a:lnTo>
                  <a:lnTo>
                    <a:pt x="2160139" y="109854"/>
                  </a:lnTo>
                  <a:lnTo>
                    <a:pt x="2160139" y="110801"/>
                  </a:lnTo>
                  <a:lnTo>
                    <a:pt x="2160139" y="111748"/>
                  </a:lnTo>
                  <a:lnTo>
                    <a:pt x="2160139" y="112695"/>
                  </a:lnTo>
                  <a:lnTo>
                    <a:pt x="2160139" y="113642"/>
                  </a:lnTo>
                  <a:lnTo>
                    <a:pt x="2160139" y="114589"/>
                  </a:lnTo>
                  <a:lnTo>
                    <a:pt x="2160139" y="115536"/>
                  </a:lnTo>
                  <a:lnTo>
                    <a:pt x="2160139" y="116483"/>
                  </a:lnTo>
                  <a:lnTo>
                    <a:pt x="2160139" y="117430"/>
                  </a:lnTo>
                  <a:lnTo>
                    <a:pt x="2160139" y="118377"/>
                  </a:lnTo>
                  <a:lnTo>
                    <a:pt x="2160139" y="119324"/>
                  </a:lnTo>
                  <a:lnTo>
                    <a:pt x="2160139" y="120271"/>
                  </a:lnTo>
                  <a:lnTo>
                    <a:pt x="2160139" y="121218"/>
                  </a:lnTo>
                  <a:lnTo>
                    <a:pt x="2160139" y="122165"/>
                  </a:lnTo>
                  <a:lnTo>
                    <a:pt x="2160139" y="123112"/>
                  </a:lnTo>
                  <a:lnTo>
                    <a:pt x="2160139" y="124059"/>
                  </a:lnTo>
                  <a:lnTo>
                    <a:pt x="2160139" y="125953"/>
                  </a:lnTo>
                  <a:lnTo>
                    <a:pt x="2160139" y="126900"/>
                  </a:lnTo>
                  <a:lnTo>
                    <a:pt x="2160139" y="127847"/>
                  </a:lnTo>
                  <a:lnTo>
                    <a:pt x="2160139" y="128794"/>
                  </a:lnTo>
                  <a:lnTo>
                    <a:pt x="2160139" y="129741"/>
                  </a:lnTo>
                  <a:lnTo>
                    <a:pt x="2160139" y="130688"/>
                  </a:lnTo>
                  <a:lnTo>
                    <a:pt x="2160139" y="131635"/>
                  </a:lnTo>
                  <a:lnTo>
                    <a:pt x="2160139" y="132582"/>
                  </a:lnTo>
                  <a:lnTo>
                    <a:pt x="2160139" y="133529"/>
                  </a:lnTo>
                  <a:lnTo>
                    <a:pt x="2160139" y="134476"/>
                  </a:lnTo>
                  <a:lnTo>
                    <a:pt x="2160139" y="135423"/>
                  </a:lnTo>
                  <a:lnTo>
                    <a:pt x="2160139" y="136370"/>
                  </a:lnTo>
                  <a:lnTo>
                    <a:pt x="2160139" y="137317"/>
                  </a:lnTo>
                  <a:lnTo>
                    <a:pt x="2160139" y="138264"/>
                  </a:lnTo>
                  <a:lnTo>
                    <a:pt x="2160139" y="139211"/>
                  </a:lnTo>
                  <a:lnTo>
                    <a:pt x="2160139" y="140158"/>
                  </a:lnTo>
                  <a:lnTo>
                    <a:pt x="2160139" y="141105"/>
                  </a:lnTo>
                  <a:lnTo>
                    <a:pt x="2160139" y="142052"/>
                  </a:lnTo>
                  <a:lnTo>
                    <a:pt x="2160139" y="142999"/>
                  </a:lnTo>
                  <a:lnTo>
                    <a:pt x="2161086" y="143946"/>
                  </a:lnTo>
                  <a:lnTo>
                    <a:pt x="2161086" y="144893"/>
                  </a:lnTo>
                  <a:lnTo>
                    <a:pt x="2161086" y="145840"/>
                  </a:lnTo>
                  <a:lnTo>
                    <a:pt x="2162033" y="146787"/>
                  </a:lnTo>
                  <a:lnTo>
                    <a:pt x="2162033" y="147734"/>
                  </a:lnTo>
                  <a:lnTo>
                    <a:pt x="2162033" y="148681"/>
                  </a:lnTo>
                  <a:lnTo>
                    <a:pt x="2162980" y="149628"/>
                  </a:lnTo>
                  <a:lnTo>
                    <a:pt x="2163927" y="150575"/>
                  </a:lnTo>
                  <a:lnTo>
                    <a:pt x="2164874" y="151522"/>
                  </a:lnTo>
                  <a:lnTo>
                    <a:pt x="2164874" y="152469"/>
                  </a:lnTo>
                  <a:lnTo>
                    <a:pt x="2165821" y="153416"/>
                  </a:lnTo>
                  <a:lnTo>
                    <a:pt x="2166768" y="154363"/>
                  </a:lnTo>
                  <a:lnTo>
                    <a:pt x="2167715" y="155310"/>
                  </a:lnTo>
                  <a:lnTo>
                    <a:pt x="2168662" y="156257"/>
                  </a:lnTo>
                  <a:lnTo>
                    <a:pt x="2169609" y="157204"/>
                  </a:lnTo>
                  <a:lnTo>
                    <a:pt x="2170556" y="158151"/>
                  </a:lnTo>
                  <a:lnTo>
                    <a:pt x="2171503" y="159098"/>
                  </a:lnTo>
                  <a:lnTo>
                    <a:pt x="2172450" y="160045"/>
                  </a:lnTo>
                  <a:lnTo>
                    <a:pt x="2173397" y="160992"/>
                  </a:lnTo>
                  <a:lnTo>
                    <a:pt x="2174344" y="161940"/>
                  </a:lnTo>
                  <a:lnTo>
                    <a:pt x="2175291" y="162886"/>
                  </a:lnTo>
                  <a:lnTo>
                    <a:pt x="2176238" y="163833"/>
                  </a:lnTo>
                  <a:lnTo>
                    <a:pt x="2177185" y="164780"/>
                  </a:lnTo>
                  <a:lnTo>
                    <a:pt x="2178132" y="164780"/>
                  </a:lnTo>
                  <a:lnTo>
                    <a:pt x="2179080" y="165728"/>
                  </a:lnTo>
                  <a:lnTo>
                    <a:pt x="2180026" y="166675"/>
                  </a:lnTo>
                  <a:lnTo>
                    <a:pt x="2180974" y="166675"/>
                  </a:lnTo>
                  <a:lnTo>
                    <a:pt x="2181920" y="167621"/>
                  </a:lnTo>
                  <a:lnTo>
                    <a:pt x="2182868" y="168568"/>
                  </a:lnTo>
                  <a:lnTo>
                    <a:pt x="2183815" y="168568"/>
                  </a:lnTo>
                  <a:lnTo>
                    <a:pt x="2184762" y="169516"/>
                  </a:lnTo>
                  <a:lnTo>
                    <a:pt x="2185709" y="170463"/>
                  </a:lnTo>
                  <a:cubicBezTo>
                    <a:pt x="2196126" y="177092"/>
                    <a:pt x="2207490" y="179933"/>
                    <a:pt x="2219801" y="179933"/>
                  </a:cubicBezTo>
                  <a:cubicBezTo>
                    <a:pt x="2255788" y="179933"/>
                    <a:pt x="2285145" y="150575"/>
                    <a:pt x="2285145" y="113642"/>
                  </a:cubicBezTo>
                  <a:cubicBezTo>
                    <a:pt x="2285145" y="76708"/>
                    <a:pt x="2255788" y="47351"/>
                    <a:pt x="2219801" y="47351"/>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2" name="Freeform: Shape 28"/>
            <p:cNvSpPr/>
            <p:nvPr/>
          </p:nvSpPr>
          <p:spPr>
            <a:xfrm>
              <a:off x="4270320" y="1944000"/>
              <a:ext cx="1080000" cy="2332080"/>
            </a:xfrm>
            <a:custGeom>
              <a:avLst/>
              <a:gdLst/>
              <a:ahLst/>
              <a:rect l="l" t="t" r="r" b="b"/>
              <a:pathLst>
                <a:path w="1080239" h="2332137">
                  <a:moveTo>
                    <a:pt x="1029591" y="26701"/>
                  </a:moveTo>
                  <a:lnTo>
                    <a:pt x="6816" y="2277755"/>
                  </a:lnTo>
                  <a:cubicBezTo>
                    <a:pt x="-17806" y="2338363"/>
                    <a:pt x="30491" y="2352569"/>
                    <a:pt x="53220" y="2298589"/>
                  </a:cubicBezTo>
                  <a:lnTo>
                    <a:pt x="86365" y="2219040"/>
                  </a:lnTo>
                  <a:lnTo>
                    <a:pt x="1075048" y="48483"/>
                  </a:lnTo>
                  <a:cubicBezTo>
                    <a:pt x="1095882" y="-2656"/>
                    <a:pt x="1048532" y="-18755"/>
                    <a:pt x="1029591"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3" name="Freeform: Shape 29"/>
            <p:cNvSpPr/>
            <p:nvPr/>
          </p:nvSpPr>
          <p:spPr>
            <a:xfrm>
              <a:off x="668880" y="2510280"/>
              <a:ext cx="1080000" cy="2331720"/>
            </a:xfrm>
            <a:custGeom>
              <a:avLst/>
              <a:gdLst/>
              <a:ahLst/>
              <a:rect l="l" t="t" r="r" b="b"/>
              <a:pathLst>
                <a:path w="1080239" h="2332075">
                  <a:moveTo>
                    <a:pt x="1029591" y="26639"/>
                  </a:moveTo>
                  <a:lnTo>
                    <a:pt x="6816" y="2277692"/>
                  </a:lnTo>
                  <a:cubicBezTo>
                    <a:pt x="-17806" y="2338301"/>
                    <a:pt x="30491" y="2352506"/>
                    <a:pt x="53220" y="2298527"/>
                  </a:cubicBezTo>
                  <a:lnTo>
                    <a:pt x="86365" y="2218977"/>
                  </a:lnTo>
                  <a:lnTo>
                    <a:pt x="1075048" y="49367"/>
                  </a:lnTo>
                  <a:cubicBezTo>
                    <a:pt x="1095882" y="-2718"/>
                    <a:pt x="1048532" y="-18818"/>
                    <a:pt x="1029591"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4" name="Freeform: Shape 30"/>
            <p:cNvSpPr/>
            <p:nvPr/>
          </p:nvSpPr>
          <p:spPr>
            <a:xfrm>
              <a:off x="3206160" y="5687640"/>
              <a:ext cx="627840" cy="166320"/>
            </a:xfrm>
            <a:custGeom>
              <a:avLst/>
              <a:gdLst/>
              <a:ahLst/>
              <a:rect l="l" t="t" r="r" b="b"/>
              <a:pathLst>
                <a:path w="627870" h="166674">
                  <a:moveTo>
                    <a:pt x="0" y="0"/>
                  </a:moveTo>
                  <a:lnTo>
                    <a:pt x="0" y="166674"/>
                  </a:lnTo>
                  <a:lnTo>
                    <a:pt x="627871" y="166674"/>
                  </a:lnTo>
                  <a:lnTo>
                    <a:pt x="627871"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5" name="Freeform: Shape 31"/>
            <p:cNvSpPr/>
            <p:nvPr/>
          </p:nvSpPr>
          <p:spPr>
            <a:xfrm>
              <a:off x="2465640" y="5853240"/>
              <a:ext cx="2109600" cy="173160"/>
            </a:xfrm>
            <a:custGeom>
              <a:avLst/>
              <a:gdLst/>
              <a:ahLst/>
              <a:rect l="l" t="t" r="r" b="b"/>
              <a:pathLst>
                <a:path w="2109947" h="173303">
                  <a:moveTo>
                    <a:pt x="0" y="0"/>
                  </a:moveTo>
                  <a:lnTo>
                    <a:pt x="0" y="173304"/>
                  </a:lnTo>
                  <a:lnTo>
                    <a:pt x="2109947" y="173304"/>
                  </a:lnTo>
                  <a:lnTo>
                    <a:pt x="2109947"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6" name="Freeform: Shape 32"/>
            <p:cNvSpPr/>
            <p:nvPr/>
          </p:nvSpPr>
          <p:spPr>
            <a:xfrm>
              <a:off x="2080080" y="6026400"/>
              <a:ext cx="2879640" cy="174240"/>
            </a:xfrm>
            <a:custGeom>
              <a:avLst/>
              <a:gdLst/>
              <a:ahLst/>
              <a:rect l="l" t="t" r="r" b="b"/>
              <a:pathLst>
                <a:path w="2879869" h="174250">
                  <a:moveTo>
                    <a:pt x="0" y="0"/>
                  </a:moveTo>
                  <a:lnTo>
                    <a:pt x="0" y="174251"/>
                  </a:lnTo>
                  <a:lnTo>
                    <a:pt x="2879870" y="174251"/>
                  </a:lnTo>
                  <a:lnTo>
                    <a:pt x="2879870"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7" name="Freeform: Shape 33"/>
            <p:cNvSpPr/>
            <p:nvPr/>
          </p:nvSpPr>
          <p:spPr>
            <a:xfrm>
              <a:off x="3341520" y="1822680"/>
              <a:ext cx="357840" cy="825480"/>
            </a:xfrm>
            <a:custGeom>
              <a:avLst/>
              <a:gdLst/>
              <a:ahLst/>
              <a:rect l="l" t="t" r="r" b="b"/>
              <a:pathLst>
                <a:path w="357971" h="825796">
                  <a:moveTo>
                    <a:pt x="947" y="0"/>
                  </a:moveTo>
                  <a:cubicBezTo>
                    <a:pt x="0" y="947"/>
                    <a:pt x="0" y="1894"/>
                    <a:pt x="0" y="2841"/>
                  </a:cubicBezTo>
                  <a:lnTo>
                    <a:pt x="0" y="98489"/>
                  </a:lnTo>
                  <a:lnTo>
                    <a:pt x="0" y="140158"/>
                  </a:lnTo>
                  <a:lnTo>
                    <a:pt x="0" y="768976"/>
                  </a:lnTo>
                  <a:cubicBezTo>
                    <a:pt x="0" y="800227"/>
                    <a:pt x="80496" y="825797"/>
                    <a:pt x="178986" y="825797"/>
                  </a:cubicBezTo>
                  <a:cubicBezTo>
                    <a:pt x="277475" y="825797"/>
                    <a:pt x="357971" y="800227"/>
                    <a:pt x="357971" y="768976"/>
                  </a:cubicBezTo>
                  <a:lnTo>
                    <a:pt x="357971" y="140158"/>
                  </a:lnTo>
                  <a:lnTo>
                    <a:pt x="357971" y="2841"/>
                  </a:lnTo>
                  <a:cubicBezTo>
                    <a:pt x="357971" y="2841"/>
                    <a:pt x="357024" y="2841"/>
                    <a:pt x="356077" y="3788"/>
                  </a:cubicBezTo>
                  <a:lnTo>
                    <a:pt x="947"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8" name="Freeform: Shape 34"/>
            <p:cNvSpPr/>
            <p:nvPr/>
          </p:nvSpPr>
          <p:spPr>
            <a:xfrm>
              <a:off x="3411720" y="1722600"/>
              <a:ext cx="218520" cy="137160"/>
            </a:xfrm>
            <a:custGeom>
              <a:avLst/>
              <a:gdLst/>
              <a:ahLst/>
              <a:rect l="l" t="t" r="r" b="b"/>
              <a:pathLst>
                <a:path w="218760" h="137317">
                  <a:moveTo>
                    <a:pt x="217813" y="103225"/>
                  </a:moveTo>
                  <a:cubicBezTo>
                    <a:pt x="217813" y="122165"/>
                    <a:pt x="168568" y="137317"/>
                    <a:pt x="108907" y="137317"/>
                  </a:cubicBezTo>
                  <a:cubicBezTo>
                    <a:pt x="48298" y="137317"/>
                    <a:pt x="0" y="122165"/>
                    <a:pt x="0" y="103225"/>
                  </a:cubicBezTo>
                  <a:lnTo>
                    <a:pt x="0" y="0"/>
                  </a:lnTo>
                  <a:lnTo>
                    <a:pt x="218760" y="0"/>
                  </a:lnTo>
                  <a:lnTo>
                    <a:pt x="218760" y="103225"/>
                  </a:lnTo>
                  <a:lnTo>
                    <a:pt x="217813" y="10322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69" name="Freeform: Shape 35"/>
            <p:cNvSpPr/>
            <p:nvPr/>
          </p:nvSpPr>
          <p:spPr>
            <a:xfrm>
              <a:off x="3393720" y="2622240"/>
              <a:ext cx="253440" cy="3116520"/>
            </a:xfrm>
            <a:custGeom>
              <a:avLst/>
              <a:gdLst/>
              <a:ahLst/>
              <a:rect l="l" t="t" r="r" b="b"/>
              <a:pathLst>
                <a:path w="253799" h="3116624">
                  <a:moveTo>
                    <a:pt x="0" y="0"/>
                  </a:moveTo>
                  <a:lnTo>
                    <a:pt x="0" y="3076850"/>
                  </a:lnTo>
                  <a:cubicBezTo>
                    <a:pt x="0" y="3098631"/>
                    <a:pt x="56821" y="3116624"/>
                    <a:pt x="126900" y="3116624"/>
                  </a:cubicBezTo>
                  <a:cubicBezTo>
                    <a:pt x="196979" y="3116624"/>
                    <a:pt x="253800" y="3098631"/>
                    <a:pt x="253800" y="3076850"/>
                  </a:cubicBezTo>
                  <a:lnTo>
                    <a:pt x="253800" y="0"/>
                  </a:lnTo>
                  <a:cubicBezTo>
                    <a:pt x="221601" y="10417"/>
                    <a:pt x="177091" y="16099"/>
                    <a:pt x="126900" y="16099"/>
                  </a:cubicBezTo>
                  <a:cubicBezTo>
                    <a:pt x="77655" y="16099"/>
                    <a:pt x="32198" y="10417"/>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70" name="Freeform: Shape 36"/>
            <p:cNvSpPr/>
            <p:nvPr/>
          </p:nvSpPr>
          <p:spPr>
            <a:xfrm>
              <a:off x="3636000" y="1844280"/>
              <a:ext cx="1794960" cy="534240"/>
            </a:xfrm>
            <a:custGeom>
              <a:avLst/>
              <a:gdLst/>
              <a:ahLst/>
              <a:rect l="l" t="t" r="r" b="b"/>
              <a:pathLst>
                <a:path w="1795212" h="534485">
                  <a:moveTo>
                    <a:pt x="398693" y="162309"/>
                  </a:moveTo>
                  <a:lnTo>
                    <a:pt x="0" y="225759"/>
                  </a:lnTo>
                  <a:lnTo>
                    <a:pt x="947" y="226706"/>
                  </a:lnTo>
                  <a:cubicBezTo>
                    <a:pt x="29357" y="246593"/>
                    <a:pt x="51139" y="270269"/>
                    <a:pt x="67238" y="300573"/>
                  </a:cubicBezTo>
                  <a:cubicBezTo>
                    <a:pt x="78602" y="321408"/>
                    <a:pt x="86178" y="343189"/>
                    <a:pt x="89966" y="367811"/>
                  </a:cubicBezTo>
                  <a:cubicBezTo>
                    <a:pt x="99436" y="429367"/>
                    <a:pt x="81443" y="489029"/>
                    <a:pt x="45457" y="534486"/>
                  </a:cubicBezTo>
                  <a:lnTo>
                    <a:pt x="81443" y="527857"/>
                  </a:lnTo>
                  <a:cubicBezTo>
                    <a:pt x="134476" y="518387"/>
                    <a:pt x="188456" y="507969"/>
                    <a:pt x="242436" y="497552"/>
                  </a:cubicBezTo>
                  <a:lnTo>
                    <a:pt x="724466" y="408533"/>
                  </a:lnTo>
                  <a:lnTo>
                    <a:pt x="730148" y="407586"/>
                  </a:lnTo>
                  <a:cubicBezTo>
                    <a:pt x="768976" y="400957"/>
                    <a:pt x="811591" y="393381"/>
                    <a:pt x="856101" y="383910"/>
                  </a:cubicBezTo>
                  <a:lnTo>
                    <a:pt x="1698944" y="228600"/>
                  </a:lnTo>
                  <a:cubicBezTo>
                    <a:pt x="1761446" y="219130"/>
                    <a:pt x="1804062" y="159468"/>
                    <a:pt x="1793645" y="96965"/>
                  </a:cubicBezTo>
                  <a:cubicBezTo>
                    <a:pt x="1783227" y="34462"/>
                    <a:pt x="1725460" y="-8153"/>
                    <a:pt x="1662957" y="1317"/>
                  </a:cubicBezTo>
                  <a:cubicBezTo>
                    <a:pt x="1606136" y="9840"/>
                    <a:pt x="1566362" y="59085"/>
                    <a:pt x="1566362" y="114958"/>
                  </a:cubicBezTo>
                  <a:cubicBezTo>
                    <a:pt x="1364647" y="92230"/>
                    <a:pt x="757611" y="105488"/>
                    <a:pt x="398693" y="162309"/>
                  </a:cubicBezTo>
                  <a:close/>
                  <a:moveTo>
                    <a:pt x="1670533" y="50561"/>
                  </a:moveTo>
                  <a:cubicBezTo>
                    <a:pt x="1705572" y="44879"/>
                    <a:pt x="1738718" y="69502"/>
                    <a:pt x="1744400" y="104541"/>
                  </a:cubicBezTo>
                  <a:cubicBezTo>
                    <a:pt x="1750082" y="139581"/>
                    <a:pt x="1726407" y="172726"/>
                    <a:pt x="1690420" y="178408"/>
                  </a:cubicBezTo>
                  <a:cubicBezTo>
                    <a:pt x="1655381" y="184090"/>
                    <a:pt x="1622235" y="159468"/>
                    <a:pt x="1616553" y="124429"/>
                  </a:cubicBezTo>
                  <a:lnTo>
                    <a:pt x="1616553" y="123482"/>
                  </a:lnTo>
                  <a:lnTo>
                    <a:pt x="1616553" y="114958"/>
                  </a:lnTo>
                  <a:cubicBezTo>
                    <a:pt x="1619394" y="79919"/>
                    <a:pt x="1641176" y="55296"/>
                    <a:pt x="1670533" y="50561"/>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71" name="Freeform: Shape 136"/>
            <p:cNvSpPr/>
            <p:nvPr/>
          </p:nvSpPr>
          <p:spPr>
            <a:xfrm>
              <a:off x="1621440" y="2114640"/>
              <a:ext cx="1785600" cy="528480"/>
            </a:xfrm>
            <a:custGeom>
              <a:avLst/>
              <a:gdLst/>
              <a:ahLst/>
              <a:rect l="l" t="t" r="r" b="b"/>
              <a:pathLst>
                <a:path w="1785742" h="528803">
                  <a:moveTo>
                    <a:pt x="1348222" y="61556"/>
                  </a:moveTo>
                  <a:lnTo>
                    <a:pt x="1735550" y="0"/>
                  </a:lnTo>
                  <a:lnTo>
                    <a:pt x="1733656" y="1894"/>
                  </a:lnTo>
                  <a:lnTo>
                    <a:pt x="1731762" y="3788"/>
                  </a:lnTo>
                  <a:cubicBezTo>
                    <a:pt x="1722292" y="16099"/>
                    <a:pt x="1713769" y="31251"/>
                    <a:pt x="1707140" y="45457"/>
                  </a:cubicBezTo>
                  <a:cubicBezTo>
                    <a:pt x="1701458" y="58715"/>
                    <a:pt x="1697670" y="70079"/>
                    <a:pt x="1694829" y="84284"/>
                  </a:cubicBezTo>
                  <a:cubicBezTo>
                    <a:pt x="1677783" y="161939"/>
                    <a:pt x="1704299" y="241489"/>
                    <a:pt x="1766802" y="293574"/>
                  </a:cubicBezTo>
                  <a:cubicBezTo>
                    <a:pt x="1773431" y="298310"/>
                    <a:pt x="1779113" y="303045"/>
                    <a:pt x="1785742" y="307780"/>
                  </a:cubicBezTo>
                  <a:cubicBezTo>
                    <a:pt x="1723239" y="316303"/>
                    <a:pt x="1661683" y="324826"/>
                    <a:pt x="1599180" y="332402"/>
                  </a:cubicBezTo>
                  <a:lnTo>
                    <a:pt x="1112415" y="396799"/>
                  </a:lnTo>
                  <a:lnTo>
                    <a:pt x="1106733" y="397746"/>
                  </a:lnTo>
                  <a:cubicBezTo>
                    <a:pt x="1067906" y="403428"/>
                    <a:pt x="1025290" y="409110"/>
                    <a:pt x="979833" y="414792"/>
                  </a:cubicBezTo>
                  <a:lnTo>
                    <a:pt x="132256" y="527487"/>
                  </a:lnTo>
                  <a:cubicBezTo>
                    <a:pt x="69753" y="536957"/>
                    <a:pt x="11038" y="494341"/>
                    <a:pt x="1568" y="431839"/>
                  </a:cubicBezTo>
                  <a:cubicBezTo>
                    <a:pt x="-8850" y="369336"/>
                    <a:pt x="33766" y="310621"/>
                    <a:pt x="96269" y="300204"/>
                  </a:cubicBezTo>
                  <a:cubicBezTo>
                    <a:pt x="153090" y="291680"/>
                    <a:pt x="206123" y="325773"/>
                    <a:pt x="223169" y="378806"/>
                  </a:cubicBezTo>
                  <a:cubicBezTo>
                    <a:pt x="407837" y="294521"/>
                    <a:pt x="989303" y="119324"/>
                    <a:pt x="1348222" y="61556"/>
                  </a:cubicBezTo>
                  <a:close/>
                  <a:moveTo>
                    <a:pt x="103845" y="349448"/>
                  </a:moveTo>
                  <a:cubicBezTo>
                    <a:pt x="68806" y="355130"/>
                    <a:pt x="45130" y="388276"/>
                    <a:pt x="49865" y="423315"/>
                  </a:cubicBezTo>
                  <a:cubicBezTo>
                    <a:pt x="55547" y="458355"/>
                    <a:pt x="88693" y="482977"/>
                    <a:pt x="123732" y="477295"/>
                  </a:cubicBezTo>
                  <a:cubicBezTo>
                    <a:pt x="158772" y="471613"/>
                    <a:pt x="182447" y="438468"/>
                    <a:pt x="177712" y="403428"/>
                  </a:cubicBezTo>
                  <a:lnTo>
                    <a:pt x="177712" y="402481"/>
                  </a:lnTo>
                  <a:lnTo>
                    <a:pt x="177712" y="401534"/>
                  </a:lnTo>
                  <a:cubicBezTo>
                    <a:pt x="162560" y="361759"/>
                    <a:pt x="134150" y="344713"/>
                    <a:pt x="103845" y="3494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72" name="Freeform: Shape 137"/>
            <p:cNvSpPr/>
            <p:nvPr/>
          </p:nvSpPr>
          <p:spPr>
            <a:xfrm>
              <a:off x="5377680" y="4265280"/>
              <a:ext cx="889920" cy="316080"/>
            </a:xfrm>
            <a:custGeom>
              <a:avLst/>
              <a:gdLst/>
              <a:ahLst/>
              <a:rect l="l" t="t" r="r" b="b"/>
              <a:pathLst>
                <a:path w="890193" h="316302">
                  <a:moveTo>
                    <a:pt x="890193" y="26516"/>
                  </a:moveTo>
                  <a:lnTo>
                    <a:pt x="889246" y="24622"/>
                  </a:lnTo>
                  <a:lnTo>
                    <a:pt x="889246" y="19887"/>
                  </a:lnTo>
                  <a:lnTo>
                    <a:pt x="889246" y="17993"/>
                  </a:lnTo>
                  <a:lnTo>
                    <a:pt x="889246" y="17046"/>
                  </a:lnTo>
                  <a:lnTo>
                    <a:pt x="889246" y="14205"/>
                  </a:lnTo>
                  <a:lnTo>
                    <a:pt x="889246" y="8523"/>
                  </a:lnTo>
                  <a:lnTo>
                    <a:pt x="889246" y="3788"/>
                  </a:lnTo>
                  <a:lnTo>
                    <a:pt x="890193" y="0"/>
                  </a:lnTo>
                  <a:lnTo>
                    <a:pt x="0" y="0"/>
                  </a:lnTo>
                  <a:lnTo>
                    <a:pt x="0" y="316303"/>
                  </a:lnTo>
                  <a:lnTo>
                    <a:pt x="601354" y="316303"/>
                  </a:lnTo>
                  <a:lnTo>
                    <a:pt x="857048" y="26516"/>
                  </a:lnTo>
                  <a:lnTo>
                    <a:pt x="890193" y="2651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73" name="Freeform: Shape 138"/>
            <p:cNvSpPr/>
            <p:nvPr/>
          </p:nvSpPr>
          <p:spPr>
            <a:xfrm>
              <a:off x="1725120" y="4831560"/>
              <a:ext cx="941040" cy="316080"/>
            </a:xfrm>
            <a:custGeom>
              <a:avLst/>
              <a:gdLst/>
              <a:ahLst/>
              <a:rect l="l" t="t" r="r" b="b"/>
              <a:pathLst>
                <a:path w="941331" h="316303">
                  <a:moveTo>
                    <a:pt x="941332" y="26517"/>
                  </a:moveTo>
                  <a:lnTo>
                    <a:pt x="940385" y="24622"/>
                  </a:lnTo>
                  <a:lnTo>
                    <a:pt x="940385" y="20834"/>
                  </a:lnTo>
                  <a:lnTo>
                    <a:pt x="940385" y="17994"/>
                  </a:lnTo>
                  <a:lnTo>
                    <a:pt x="940385" y="17046"/>
                  </a:lnTo>
                  <a:lnTo>
                    <a:pt x="940385" y="14205"/>
                  </a:lnTo>
                  <a:lnTo>
                    <a:pt x="940385" y="8523"/>
                  </a:lnTo>
                  <a:lnTo>
                    <a:pt x="940385" y="3788"/>
                  </a:lnTo>
                  <a:lnTo>
                    <a:pt x="941332" y="0"/>
                  </a:lnTo>
                  <a:lnTo>
                    <a:pt x="0" y="0"/>
                  </a:lnTo>
                  <a:lnTo>
                    <a:pt x="0" y="316303"/>
                  </a:lnTo>
                  <a:lnTo>
                    <a:pt x="652493" y="316303"/>
                  </a:lnTo>
                  <a:lnTo>
                    <a:pt x="908186" y="26517"/>
                  </a:lnTo>
                  <a:lnTo>
                    <a:pt x="941332" y="2651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1774" name="Graphic 15"/>
            <p:cNvGrpSpPr/>
            <p:nvPr/>
          </p:nvGrpSpPr>
          <p:grpSpPr>
            <a:xfrm>
              <a:off x="1831320" y="1768680"/>
              <a:ext cx="3350160" cy="4385520"/>
              <a:chOff x="1831320" y="1768680"/>
              <a:chExt cx="3350160" cy="4385520"/>
            </a:xfrm>
          </p:grpSpPr>
          <p:pic>
            <p:nvPicPr>
              <p:cNvPr id="1775" name="Graphic 15" descr=""/>
              <p:cNvPicPr/>
              <p:nvPr/>
            </p:nvPicPr>
            <p:blipFill>
              <a:blip r:embed="rId3"/>
              <a:stretch/>
            </p:blipFill>
            <p:spPr>
              <a:xfrm>
                <a:off x="3529440" y="1768680"/>
                <a:ext cx="1383840" cy="4385520"/>
              </a:xfrm>
              <a:prstGeom prst="rect">
                <a:avLst/>
              </a:prstGeom>
              <a:ln w="0">
                <a:noFill/>
              </a:ln>
            </p:spPr>
          </p:pic>
          <p:sp>
            <p:nvSpPr>
              <p:cNvPr id="1776" name="Freeform: Shape 261"/>
              <p:cNvSpPr/>
              <p:nvPr/>
            </p:nvSpPr>
            <p:spPr>
              <a:xfrm>
                <a:off x="3766680" y="2023920"/>
                <a:ext cx="1414800" cy="292320"/>
              </a:xfrm>
              <a:custGeom>
                <a:avLst/>
                <a:gdLst/>
                <a:ahLst/>
                <a:rect l="l" t="t" r="r" b="b"/>
                <a:pathLst>
                  <a:path w="1414838" h="292627">
                    <a:moveTo>
                      <a:pt x="8523" y="196979"/>
                    </a:moveTo>
                    <a:cubicBezTo>
                      <a:pt x="11364" y="229177"/>
                      <a:pt x="8523" y="261376"/>
                      <a:pt x="0" y="292627"/>
                    </a:cubicBezTo>
                    <a:cubicBezTo>
                      <a:pt x="35039" y="285998"/>
                      <a:pt x="70079" y="279369"/>
                      <a:pt x="105119" y="272740"/>
                    </a:cubicBezTo>
                    <a:lnTo>
                      <a:pt x="588096" y="182774"/>
                    </a:lnTo>
                    <a:lnTo>
                      <a:pt x="593778" y="181827"/>
                    </a:lnTo>
                    <a:cubicBezTo>
                      <a:pt x="635447" y="175198"/>
                      <a:pt x="676168" y="167622"/>
                      <a:pt x="716889" y="159098"/>
                    </a:cubicBezTo>
                    <a:lnTo>
                      <a:pt x="1414839" y="30304"/>
                    </a:lnTo>
                    <a:cubicBezTo>
                      <a:pt x="1408210" y="20834"/>
                      <a:pt x="1402528" y="10417"/>
                      <a:pt x="1397793" y="0"/>
                    </a:cubicBezTo>
                    <a:lnTo>
                      <a:pt x="8523" y="19697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77" name="Freeform: Shape 262"/>
              <p:cNvSpPr/>
              <p:nvPr/>
            </p:nvSpPr>
            <p:spPr>
              <a:xfrm>
                <a:off x="1831320" y="2288160"/>
                <a:ext cx="1478160" cy="297000"/>
              </a:xfrm>
              <a:custGeom>
                <a:avLst/>
                <a:gdLst/>
                <a:ahLst/>
                <a:rect l="l" t="t" r="r" b="b"/>
                <a:pathLst>
                  <a:path w="1478288" h="297362">
                    <a:moveTo>
                      <a:pt x="9470" y="277475"/>
                    </a:moveTo>
                    <a:cubicBezTo>
                      <a:pt x="6629" y="284104"/>
                      <a:pt x="3788" y="290733"/>
                      <a:pt x="0" y="297363"/>
                    </a:cubicBezTo>
                    <a:lnTo>
                      <a:pt x="765187" y="195085"/>
                    </a:lnTo>
                    <a:cubicBezTo>
                      <a:pt x="806856" y="190350"/>
                      <a:pt x="848525" y="185615"/>
                      <a:pt x="890193" y="178986"/>
                    </a:cubicBezTo>
                    <a:lnTo>
                      <a:pt x="897769" y="178039"/>
                    </a:lnTo>
                    <a:lnTo>
                      <a:pt x="1384535" y="113642"/>
                    </a:lnTo>
                    <a:cubicBezTo>
                      <a:pt x="1415786" y="109854"/>
                      <a:pt x="1447038" y="105119"/>
                      <a:pt x="1478289" y="101331"/>
                    </a:cubicBezTo>
                    <a:cubicBezTo>
                      <a:pt x="1457455" y="71026"/>
                      <a:pt x="1444197" y="35987"/>
                      <a:pt x="1437567" y="0"/>
                    </a:cubicBezTo>
                    <a:lnTo>
                      <a:pt x="9470" y="2774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778" name="Freeform: Shape 263"/>
            <p:cNvSpPr/>
            <p:nvPr/>
          </p:nvSpPr>
          <p:spPr>
            <a:xfrm rot="21058200">
              <a:off x="3311280" y="2035080"/>
              <a:ext cx="418320" cy="420120"/>
            </a:xfrm>
            <a:custGeom>
              <a:avLst/>
              <a:gdLst/>
              <a:ahLst/>
              <a:rect l="l" t="t" r="r" b="b"/>
              <a:pathLst>
                <a:path w="418580" h="420474">
                  <a:moveTo>
                    <a:pt x="418581" y="210237"/>
                  </a:moveTo>
                  <a:cubicBezTo>
                    <a:pt x="418581" y="326348"/>
                    <a:pt x="324878" y="420475"/>
                    <a:pt x="209290" y="420475"/>
                  </a:cubicBezTo>
                  <a:cubicBezTo>
                    <a:pt x="93702" y="420475"/>
                    <a:pt x="0" y="326348"/>
                    <a:pt x="0" y="210237"/>
                  </a:cubicBezTo>
                  <a:cubicBezTo>
                    <a:pt x="0" y="94127"/>
                    <a:pt x="93702" y="0"/>
                    <a:pt x="209290" y="0"/>
                  </a:cubicBezTo>
                  <a:cubicBezTo>
                    <a:pt x="324878" y="0"/>
                    <a:pt x="418581" y="94127"/>
                    <a:pt x="418581" y="21023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79" name="Freeform: Shape 264"/>
            <p:cNvSpPr/>
            <p:nvPr/>
          </p:nvSpPr>
          <p:spPr>
            <a:xfrm rot="21058200">
              <a:off x="3402360" y="2126880"/>
              <a:ext cx="236520" cy="236520"/>
            </a:xfrm>
            <a:custGeom>
              <a:avLst/>
              <a:gdLst/>
              <a:ahLst/>
              <a:rect l="l" t="t" r="r" b="b"/>
              <a:pathLst>
                <a:path w="236753" h="236753">
                  <a:moveTo>
                    <a:pt x="236754" y="118377"/>
                  </a:moveTo>
                  <a:cubicBezTo>
                    <a:pt x="236754" y="183755"/>
                    <a:pt x="183755" y="236754"/>
                    <a:pt x="118377" y="236754"/>
                  </a:cubicBezTo>
                  <a:cubicBezTo>
                    <a:pt x="52999" y="236754"/>
                    <a:pt x="0" y="183755"/>
                    <a:pt x="0" y="118377"/>
                  </a:cubicBezTo>
                  <a:cubicBezTo>
                    <a:pt x="0" y="52999"/>
                    <a:pt x="52999" y="0"/>
                    <a:pt x="118377" y="0"/>
                  </a:cubicBezTo>
                  <a:cubicBezTo>
                    <a:pt x="183755" y="0"/>
                    <a:pt x="236754" y="52999"/>
                    <a:pt x="236754" y="118377"/>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80" name="Freeform: Shape 265"/>
            <p:cNvSpPr/>
            <p:nvPr/>
          </p:nvSpPr>
          <p:spPr>
            <a:xfrm rot="21058200">
              <a:off x="3460680" y="2184840"/>
              <a:ext cx="119160" cy="119160"/>
            </a:xfrm>
            <a:custGeom>
              <a:avLst/>
              <a:gdLst/>
              <a:ahLst/>
              <a:rect l="l" t="t" r="r" b="b"/>
              <a:pathLst>
                <a:path w="119325" h="119325">
                  <a:moveTo>
                    <a:pt x="119326" y="59663"/>
                  </a:moveTo>
                  <a:cubicBezTo>
                    <a:pt x="119326" y="92614"/>
                    <a:pt x="92614" y="119326"/>
                    <a:pt x="59663" y="119326"/>
                  </a:cubicBezTo>
                  <a:cubicBezTo>
                    <a:pt x="26712" y="119326"/>
                    <a:pt x="0" y="92614"/>
                    <a:pt x="0" y="59663"/>
                  </a:cubicBezTo>
                  <a:cubicBezTo>
                    <a:pt x="0" y="26712"/>
                    <a:pt x="26712" y="0"/>
                    <a:pt x="59663" y="0"/>
                  </a:cubicBezTo>
                  <a:cubicBezTo>
                    <a:pt x="92614" y="0"/>
                    <a:pt x="119326" y="26712"/>
                    <a:pt x="119326" y="59663"/>
                  </a:cubicBezTo>
                  <a:close/>
                </a:path>
              </a:pathLst>
            </a:custGeom>
            <a:solidFill>
              <a:srgbClr val="a782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81" name="Freeform: Shape 266"/>
            <p:cNvSpPr/>
            <p:nvPr/>
          </p:nvSpPr>
          <p:spPr>
            <a:xfrm>
              <a:off x="5309280" y="1944000"/>
              <a:ext cx="1080000" cy="2332080"/>
            </a:xfrm>
            <a:custGeom>
              <a:avLst/>
              <a:gdLst/>
              <a:ahLst/>
              <a:rect l="l" t="t" r="r" b="b"/>
              <a:pathLst>
                <a:path w="1080168" h="2332137">
                  <a:moveTo>
                    <a:pt x="50577" y="26701"/>
                  </a:moveTo>
                  <a:lnTo>
                    <a:pt x="1073353" y="2277755"/>
                  </a:lnTo>
                  <a:cubicBezTo>
                    <a:pt x="1097975" y="2338363"/>
                    <a:pt x="1049677" y="2352569"/>
                    <a:pt x="1026949" y="2298589"/>
                  </a:cubicBezTo>
                  <a:lnTo>
                    <a:pt x="993804" y="2219040"/>
                  </a:lnTo>
                  <a:lnTo>
                    <a:pt x="5121" y="48483"/>
                  </a:lnTo>
                  <a:cubicBezTo>
                    <a:pt x="-15714" y="-2656"/>
                    <a:pt x="32584" y="-18755"/>
                    <a:pt x="50577"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82" name="Freeform: Shape 267"/>
            <p:cNvSpPr/>
            <p:nvPr/>
          </p:nvSpPr>
          <p:spPr>
            <a:xfrm>
              <a:off x="1707840" y="2510280"/>
              <a:ext cx="1080000" cy="2331720"/>
            </a:xfrm>
            <a:custGeom>
              <a:avLst/>
              <a:gdLst/>
              <a:ahLst/>
              <a:rect l="l" t="t" r="r" b="b"/>
              <a:pathLst>
                <a:path w="1080168" h="2332075">
                  <a:moveTo>
                    <a:pt x="50578" y="26639"/>
                  </a:moveTo>
                  <a:lnTo>
                    <a:pt x="1073353" y="2277692"/>
                  </a:lnTo>
                  <a:cubicBezTo>
                    <a:pt x="1097975" y="2338301"/>
                    <a:pt x="1049677" y="2352506"/>
                    <a:pt x="1026949" y="2298527"/>
                  </a:cubicBezTo>
                  <a:lnTo>
                    <a:pt x="993804" y="2218977"/>
                  </a:lnTo>
                  <a:lnTo>
                    <a:pt x="5121" y="49367"/>
                  </a:lnTo>
                  <a:cubicBezTo>
                    <a:pt x="-15713" y="-2718"/>
                    <a:pt x="32584" y="-18818"/>
                    <a:pt x="50578"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783" name="Freeform: Shape 306"/>
            <p:cNvSpPr/>
            <p:nvPr/>
          </p:nvSpPr>
          <p:spPr>
            <a:xfrm>
              <a:off x="1080360" y="5074920"/>
              <a:ext cx="823680" cy="72720"/>
            </a:xfrm>
            <a:custGeom>
              <a:avLst/>
              <a:gdLst/>
              <a:ahLst/>
              <a:rect l="l" t="t" r="r" b="b"/>
              <a:pathLst>
                <a:path w="823902" h="72920">
                  <a:moveTo>
                    <a:pt x="823902" y="72920"/>
                  </a:moveTo>
                  <a:lnTo>
                    <a:pt x="0" y="72920"/>
                  </a:lnTo>
                  <a:lnTo>
                    <a:pt x="823902" y="0"/>
                  </a:lnTo>
                  <a:lnTo>
                    <a:pt x="823902" y="72920"/>
                  </a:lnTo>
                  <a:close/>
                </a:path>
              </a:pathLst>
            </a:custGeom>
            <a:solidFill>
              <a:srgbClr val="cccccc"/>
            </a:solidFill>
            <a:ln w="0">
              <a:noFill/>
            </a:ln>
          </p:spPr>
          <p:style>
            <a:lnRef idx="0"/>
            <a:fillRef idx="0"/>
            <a:effectRef idx="0"/>
            <a:fontRef idx="minor"/>
          </p:style>
          <p:txBody>
            <a:bodyPr lIns="90000" rIns="90000" tIns="25920" bIns="25920" anchor="ctr">
              <a:noAutofit/>
            </a:bodyPr>
            <a:p>
              <a:endParaRPr b="0" lang="en-US" sz="1800" spc="-1" strike="noStrike">
                <a:solidFill>
                  <a:srgbClr val="313c3f"/>
                </a:solidFill>
                <a:latin typeface="Source Sans Pro"/>
              </a:endParaRPr>
            </a:p>
          </p:txBody>
        </p:sp>
        <p:sp>
          <p:nvSpPr>
            <p:cNvPr id="1784" name="Freeform: Shape 307"/>
            <p:cNvSpPr/>
            <p:nvPr/>
          </p:nvSpPr>
          <p:spPr>
            <a:xfrm>
              <a:off x="4703400" y="4507560"/>
              <a:ext cx="823680" cy="73800"/>
            </a:xfrm>
            <a:custGeom>
              <a:avLst/>
              <a:gdLst/>
              <a:ahLst/>
              <a:rect l="l" t="t" r="r" b="b"/>
              <a:pathLst>
                <a:path w="823902" h="73867">
                  <a:moveTo>
                    <a:pt x="823902" y="73867"/>
                  </a:moveTo>
                  <a:lnTo>
                    <a:pt x="0" y="73867"/>
                  </a:lnTo>
                  <a:lnTo>
                    <a:pt x="823902" y="0"/>
                  </a:lnTo>
                  <a:lnTo>
                    <a:pt x="823902" y="73867"/>
                  </a:lnTo>
                  <a:close/>
                </a:path>
              </a:pathLst>
            </a:custGeom>
            <a:solidFill>
              <a:srgbClr val="cccccc"/>
            </a:solidFill>
            <a:ln w="0">
              <a:noFill/>
            </a:ln>
          </p:spPr>
          <p:style>
            <a:lnRef idx="0"/>
            <a:fillRef idx="0"/>
            <a:effectRef idx="0"/>
            <a:fontRef idx="minor"/>
          </p:style>
          <p:txBody>
            <a:bodyPr lIns="90000" rIns="90000" tIns="27000" bIns="27000" anchor="ctr">
              <a:noAutofit/>
            </a:bodyPr>
            <a:p>
              <a:endParaRPr b="0" lang="en-US" sz="1800" spc="-1" strike="noStrike">
                <a:solidFill>
                  <a:srgbClr val="313c3f"/>
                </a:solidFill>
                <a:latin typeface="Source Sans Pro"/>
              </a:endParaRPr>
            </a:p>
          </p:txBody>
        </p:sp>
        <p:sp>
          <p:nvSpPr>
            <p:cNvPr id="1785" name="Freeform: Shape 308"/>
            <p:cNvSpPr/>
            <p:nvPr/>
          </p:nvSpPr>
          <p:spPr>
            <a:xfrm>
              <a:off x="2706120" y="613080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13c3f"/>
                </a:solidFill>
                <a:latin typeface="Source Sans Pro"/>
              </a:endParaRPr>
            </a:p>
          </p:txBody>
        </p:sp>
        <p:sp>
          <p:nvSpPr>
            <p:cNvPr id="1786" name="Freeform: Shape 309"/>
            <p:cNvSpPr/>
            <p:nvPr/>
          </p:nvSpPr>
          <p:spPr>
            <a:xfrm>
              <a:off x="2706120" y="595656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13c3f"/>
                </a:solidFill>
                <a:latin typeface="Source Sans Pro"/>
              </a:endParaRPr>
            </a:p>
          </p:txBody>
        </p:sp>
        <p:sp>
          <p:nvSpPr>
            <p:cNvPr id="1787" name="Freeform: Shape 310"/>
            <p:cNvSpPr/>
            <p:nvPr/>
          </p:nvSpPr>
          <p:spPr>
            <a:xfrm>
              <a:off x="3253680" y="5784120"/>
              <a:ext cx="292320" cy="23400"/>
            </a:xfrm>
            <a:custGeom>
              <a:avLst/>
              <a:gdLst/>
              <a:ahLst/>
              <a:rect l="l" t="t" r="r" b="b"/>
              <a:pathLst>
                <a:path w="292627" h="23675">
                  <a:moveTo>
                    <a:pt x="292627" y="23675"/>
                  </a:moveTo>
                  <a:lnTo>
                    <a:pt x="0" y="23675"/>
                  </a:lnTo>
                  <a:lnTo>
                    <a:pt x="292627" y="0"/>
                  </a:lnTo>
                  <a:lnTo>
                    <a:pt x="292627"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13c3f"/>
                </a:solidFill>
                <a:latin typeface="Source Sans Pro"/>
              </a:endParaRPr>
            </a:p>
          </p:txBody>
        </p:sp>
      </p:grpSp>
      <p:sp>
        <p:nvSpPr>
          <p:cNvPr id="1788" name="Straight Connector 244"/>
          <p:cNvSpPr/>
          <p:nvPr/>
        </p:nvSpPr>
        <p:spPr>
          <a:xfrm>
            <a:off x="9188280" y="2517840"/>
            <a:ext cx="0" cy="768240"/>
          </a:xfrm>
          <a:prstGeom prst="line">
            <a:avLst/>
          </a:prstGeom>
          <a:ln w="6480">
            <a:solidFill>
              <a:srgbClr val="6e878d"/>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789" name="TextBox 245"/>
          <p:cNvSpPr/>
          <p:nvPr/>
        </p:nvSpPr>
        <p:spPr>
          <a:xfrm>
            <a:off x="7386120" y="2320920"/>
            <a:ext cx="145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157d42"/>
                </a:solidFill>
                <a:latin typeface="Lato"/>
              </a:rPr>
              <a:t>$2M</a:t>
            </a:r>
            <a:endParaRPr b="0" lang="en-US" sz="4800" spc="-1" strike="noStrike">
              <a:solidFill>
                <a:srgbClr val="313c3f"/>
              </a:solidFill>
              <a:latin typeface="Source Sans Pro"/>
            </a:endParaRPr>
          </a:p>
        </p:txBody>
      </p:sp>
      <p:sp>
        <p:nvSpPr>
          <p:cNvPr id="1790" name="TextBox 246"/>
          <p:cNvSpPr/>
          <p:nvPr/>
        </p:nvSpPr>
        <p:spPr>
          <a:xfrm>
            <a:off x="709920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c3f"/>
                </a:solidFill>
                <a:latin typeface="Source Sans Pro"/>
              </a:rPr>
              <a:t>Replace it with your data</a:t>
            </a:r>
            <a:endParaRPr b="0" lang="en-US" sz="1000" spc="-1" strike="noStrike">
              <a:solidFill>
                <a:srgbClr val="313c3f"/>
              </a:solidFill>
              <a:latin typeface="Source Sans Pro"/>
            </a:endParaRPr>
          </a:p>
        </p:txBody>
      </p:sp>
      <p:sp>
        <p:nvSpPr>
          <p:cNvPr id="1791" name="TextBox 247"/>
          <p:cNvSpPr/>
          <p:nvPr/>
        </p:nvSpPr>
        <p:spPr>
          <a:xfrm>
            <a:off x="9545400" y="2320920"/>
            <a:ext cx="14529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1c11e"/>
                </a:solidFill>
                <a:latin typeface="Lato"/>
              </a:rPr>
              <a:t>€</a:t>
            </a:r>
            <a:r>
              <a:rPr b="1" lang="en-US" sz="4800" spc="-1" strike="noStrike">
                <a:solidFill>
                  <a:srgbClr val="e1c11e"/>
                </a:solidFill>
                <a:latin typeface="Lato"/>
              </a:rPr>
              <a:t>3M</a:t>
            </a:r>
            <a:endParaRPr b="0" lang="en-US" sz="4800" spc="-1" strike="noStrike">
              <a:solidFill>
                <a:srgbClr val="313c3f"/>
              </a:solidFill>
              <a:latin typeface="Source Sans Pro"/>
            </a:endParaRPr>
          </a:p>
        </p:txBody>
      </p:sp>
      <p:sp>
        <p:nvSpPr>
          <p:cNvPr id="1792" name="TextBox 248"/>
          <p:cNvSpPr/>
          <p:nvPr/>
        </p:nvSpPr>
        <p:spPr>
          <a:xfrm>
            <a:off x="925848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3c3f"/>
                </a:solidFill>
                <a:latin typeface="Source Sans Pro"/>
              </a:rPr>
              <a:t>Replace it with your data</a:t>
            </a:r>
            <a:endParaRPr b="0" lang="en-US" sz="1000" spc="-1" strike="noStrike">
              <a:solidFill>
                <a:srgbClr val="313c3f"/>
              </a:solidFill>
              <a:latin typeface="Source Sans Pro"/>
            </a:endParaRPr>
          </a:p>
        </p:txBody>
      </p:sp>
      <p:sp>
        <p:nvSpPr>
          <p:cNvPr id="1793" name="TextBox 249"/>
          <p:cNvSpPr/>
          <p:nvPr/>
        </p:nvSpPr>
        <p:spPr>
          <a:xfrm>
            <a:off x="7345440" y="3390840"/>
            <a:ext cx="36496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Donec non elit eu tellus lacinia imperdiet Lorem ipsum sit amet dolor sit</a:t>
            </a:r>
            <a:endParaRPr b="0" lang="en-US" sz="1200" spc="-1" strike="noStrike">
              <a:solidFill>
                <a:srgbClr val="313c3f"/>
              </a:solidFill>
              <a:latin typeface="Source Sans Pro"/>
            </a:endParaRPr>
          </a:p>
        </p:txBody>
      </p:sp>
      <p:sp>
        <p:nvSpPr>
          <p:cNvPr id="1794" name="Freeform: Shape 273"/>
          <p:cNvSpPr/>
          <p:nvPr/>
        </p:nvSpPr>
        <p:spPr>
          <a:xfrm>
            <a:off x="1438200" y="3448080"/>
            <a:ext cx="514440" cy="4856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1795" name="Group 56"/>
          <p:cNvGrpSpPr/>
          <p:nvPr/>
        </p:nvGrpSpPr>
        <p:grpSpPr>
          <a:xfrm>
            <a:off x="7524720" y="5148360"/>
            <a:ext cx="3205080" cy="525240"/>
            <a:chOff x="7524720" y="5148360"/>
            <a:chExt cx="3205080" cy="525240"/>
          </a:xfrm>
        </p:grpSpPr>
        <p:pic>
          <p:nvPicPr>
            <p:cNvPr id="1796" name="Group 50" descr=""/>
            <p:cNvPicPr/>
            <p:nvPr/>
          </p:nvPicPr>
          <p:blipFill>
            <a:blip r:embed="rId4"/>
            <a:stretch/>
          </p:blipFill>
          <p:spPr>
            <a:xfrm>
              <a:off x="7524720" y="5148360"/>
              <a:ext cx="529920" cy="525240"/>
            </a:xfrm>
            <a:prstGeom prst="rect">
              <a:avLst/>
            </a:prstGeom>
            <a:ln w="0">
              <a:noFill/>
            </a:ln>
          </p:spPr>
        </p:pic>
        <p:pic>
          <p:nvPicPr>
            <p:cNvPr id="1797" name="Group 51" descr=""/>
            <p:cNvPicPr/>
            <p:nvPr/>
          </p:nvPicPr>
          <p:blipFill>
            <a:blip r:embed="rId5"/>
            <a:stretch/>
          </p:blipFill>
          <p:spPr>
            <a:xfrm>
              <a:off x="8195040" y="5148360"/>
              <a:ext cx="529920" cy="525240"/>
            </a:xfrm>
            <a:prstGeom prst="rect">
              <a:avLst/>
            </a:prstGeom>
            <a:ln w="0">
              <a:noFill/>
            </a:ln>
          </p:spPr>
        </p:pic>
        <p:pic>
          <p:nvPicPr>
            <p:cNvPr id="1798" name="Group 52" descr=""/>
            <p:cNvPicPr/>
            <p:nvPr/>
          </p:nvPicPr>
          <p:blipFill>
            <a:blip r:embed="rId6"/>
            <a:stretch/>
          </p:blipFill>
          <p:spPr>
            <a:xfrm>
              <a:off x="8865360" y="5148360"/>
              <a:ext cx="523800" cy="525240"/>
            </a:xfrm>
            <a:prstGeom prst="rect">
              <a:avLst/>
            </a:prstGeom>
            <a:ln w="0">
              <a:noFill/>
            </a:ln>
          </p:spPr>
        </p:pic>
        <p:pic>
          <p:nvPicPr>
            <p:cNvPr id="1799" name="Group 53" descr=""/>
            <p:cNvPicPr/>
            <p:nvPr/>
          </p:nvPicPr>
          <p:blipFill>
            <a:blip r:embed="rId7"/>
            <a:stretch/>
          </p:blipFill>
          <p:spPr>
            <a:xfrm>
              <a:off x="9535680" y="5148360"/>
              <a:ext cx="523800" cy="525240"/>
            </a:xfrm>
            <a:prstGeom prst="rect">
              <a:avLst/>
            </a:prstGeom>
            <a:ln w="0">
              <a:noFill/>
            </a:ln>
          </p:spPr>
        </p:pic>
        <p:pic>
          <p:nvPicPr>
            <p:cNvPr id="1800" name="Group 54" descr=""/>
            <p:cNvPicPr/>
            <p:nvPr/>
          </p:nvPicPr>
          <p:blipFill>
            <a:blip r:embed="rId8"/>
            <a:stretch/>
          </p:blipFill>
          <p:spPr>
            <a:xfrm>
              <a:off x="10206000" y="5148360"/>
              <a:ext cx="523800" cy="525240"/>
            </a:xfrm>
            <a:prstGeom prst="rect">
              <a:avLst/>
            </a:prstGeom>
            <a:ln w="0">
              <a:noFill/>
            </a:ln>
          </p:spPr>
        </p:pic>
      </p:grpSp>
      <p:grpSp>
        <p:nvGrpSpPr>
          <p:cNvPr id="1801" name="Group 55"/>
          <p:cNvGrpSpPr/>
          <p:nvPr/>
        </p:nvGrpSpPr>
        <p:grpSpPr>
          <a:xfrm>
            <a:off x="7524720" y="4422600"/>
            <a:ext cx="3203640" cy="525600"/>
            <a:chOff x="7524720" y="4422600"/>
            <a:chExt cx="3203640" cy="525600"/>
          </a:xfrm>
        </p:grpSpPr>
        <p:pic>
          <p:nvPicPr>
            <p:cNvPr id="1802" name="Graphic 2" descr=""/>
            <p:cNvPicPr/>
            <p:nvPr/>
          </p:nvPicPr>
          <p:blipFill>
            <a:blip r:embed="rId9"/>
            <a:stretch/>
          </p:blipFill>
          <p:spPr>
            <a:xfrm>
              <a:off x="7524720" y="4422600"/>
              <a:ext cx="529920" cy="525600"/>
            </a:xfrm>
            <a:prstGeom prst="rect">
              <a:avLst/>
            </a:prstGeom>
            <a:ln w="0">
              <a:noFill/>
            </a:ln>
          </p:spPr>
        </p:pic>
        <p:pic>
          <p:nvPicPr>
            <p:cNvPr id="1803" name="Graphic 2" descr=""/>
            <p:cNvPicPr/>
            <p:nvPr/>
          </p:nvPicPr>
          <p:blipFill>
            <a:blip r:embed="rId10"/>
            <a:stretch/>
          </p:blipFill>
          <p:spPr>
            <a:xfrm>
              <a:off x="8194680" y="4422600"/>
              <a:ext cx="523800" cy="525600"/>
            </a:xfrm>
            <a:prstGeom prst="rect">
              <a:avLst/>
            </a:prstGeom>
            <a:ln w="0">
              <a:noFill/>
            </a:ln>
          </p:spPr>
        </p:pic>
        <p:pic>
          <p:nvPicPr>
            <p:cNvPr id="1804" name="Graphic 2" descr=""/>
            <p:cNvPicPr/>
            <p:nvPr/>
          </p:nvPicPr>
          <p:blipFill>
            <a:blip r:embed="rId11"/>
            <a:stretch/>
          </p:blipFill>
          <p:spPr>
            <a:xfrm>
              <a:off x="8864640" y="4422600"/>
              <a:ext cx="523800" cy="525600"/>
            </a:xfrm>
            <a:prstGeom prst="rect">
              <a:avLst/>
            </a:prstGeom>
            <a:ln w="0">
              <a:noFill/>
            </a:ln>
          </p:spPr>
        </p:pic>
        <p:pic>
          <p:nvPicPr>
            <p:cNvPr id="1805" name="Graphic 2" descr=""/>
            <p:cNvPicPr/>
            <p:nvPr/>
          </p:nvPicPr>
          <p:blipFill>
            <a:blip r:embed="rId12"/>
            <a:stretch/>
          </p:blipFill>
          <p:spPr>
            <a:xfrm>
              <a:off x="9534600" y="4422600"/>
              <a:ext cx="523800" cy="525600"/>
            </a:xfrm>
            <a:prstGeom prst="rect">
              <a:avLst/>
            </a:prstGeom>
            <a:ln w="0">
              <a:noFill/>
            </a:ln>
          </p:spPr>
        </p:pic>
        <p:pic>
          <p:nvPicPr>
            <p:cNvPr id="1806" name="Graphic 2" descr=""/>
            <p:cNvPicPr/>
            <p:nvPr/>
          </p:nvPicPr>
          <p:blipFill>
            <a:blip r:embed="rId13"/>
            <a:stretch/>
          </p:blipFill>
          <p:spPr>
            <a:xfrm>
              <a:off x="10204560" y="4422600"/>
              <a:ext cx="523800" cy="525600"/>
            </a:xfrm>
            <a:prstGeom prst="rect">
              <a:avLst/>
            </a:prstGeom>
            <a:ln w="0">
              <a:noFill/>
            </a:ln>
          </p:spPr>
        </p:pic>
      </p:grpSp>
      <p:sp>
        <p:nvSpPr>
          <p:cNvPr id="1807" name="Freeform: Shape 133"/>
          <p:cNvSpPr/>
          <p:nvPr/>
        </p:nvSpPr>
        <p:spPr>
          <a:xfrm rot="10800000">
            <a:off x="5121000" y="2914560"/>
            <a:ext cx="514440" cy="48600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Tree>
  </p:cSld>
  <p:transition spd="med">
    <p:fade/>
  </p:transition>
  <p:timing>
    <p:tnLst>
      <p:par>
        <p:cTn id="1799" dur="indefinite" restart="never" nodeType="tmRoot">
          <p:childTnLst>
            <p:seq>
              <p:cTn id="1800" dur="indefinite" nodeType="mainSeq">
                <p:childTnLst>
                  <p:par>
                    <p:cTn id="1801" nodeType="clickEffect" fill="hold">
                      <p:stCondLst>
                        <p:cond delay="0"/>
                      </p:stCondLst>
                      <p:childTnLst>
                        <p:par>
                          <p:cTn id="1802" nodeType="withEffect" fill="hold">
                            <p:stCondLst>
                              <p:cond delay="0"/>
                            </p:stCondLst>
                            <p:childTnLst>
                              <p:par>
                                <p:cTn id="1803" nodeType="afterEffect" fill="hold" presetClass="entr" presetID="10">
                                  <p:stCondLst>
                                    <p:cond delay="0"/>
                                  </p:stCondLst>
                                  <p:childTnLst>
                                    <p:set>
                                      <p:cBhvr>
                                        <p:cTn id="1804" dur="1" fill="hold">
                                          <p:stCondLst>
                                            <p:cond delay="0"/>
                                          </p:stCondLst>
                                        </p:cTn>
                                        <p:tgtEl>
                                          <p:spTgt spid="1756"/>
                                        </p:tgtEl>
                                        <p:attrNameLst>
                                          <p:attrName>style.visibility</p:attrName>
                                        </p:attrNameLst>
                                      </p:cBhvr>
                                      <p:to>
                                        <p:strVal val="visible"/>
                                      </p:to>
                                    </p:set>
                                    <p:animEffect filter="fade" transition="in">
                                      <p:cBhvr additive="repl">
                                        <p:cTn id="1805" dur="500"/>
                                        <p:tgtEl>
                                          <p:spTgt spid="1756"/>
                                        </p:tgtEl>
                                      </p:cBhvr>
                                    </p:animEffect>
                                  </p:childTnLst>
                                </p:cTn>
                              </p:par>
                            </p:childTnLst>
                          </p:cTn>
                        </p:par>
                        <p:par>
                          <p:cTn id="1806" nodeType="afterEffect" fill="hold">
                            <p:stCondLst>
                              <p:cond delay="500"/>
                            </p:stCondLst>
                            <p:childTnLst>
                              <p:par>
                                <p:cTn id="1807" nodeType="afterEffect" fill="hold" presetClass="entr" presetID="42">
                                  <p:stCondLst>
                                    <p:cond delay="0"/>
                                  </p:stCondLst>
                                  <p:childTnLst>
                                    <p:set>
                                      <p:cBhvr>
                                        <p:cTn id="1808" dur="1" fill="hold">
                                          <p:stCondLst>
                                            <p:cond delay="0"/>
                                          </p:stCondLst>
                                        </p:cTn>
                                        <p:tgtEl>
                                          <p:spTgt spid="1759"/>
                                        </p:tgtEl>
                                        <p:attrNameLst>
                                          <p:attrName>style.visibility</p:attrName>
                                        </p:attrNameLst>
                                      </p:cBhvr>
                                      <p:to>
                                        <p:strVal val="visible"/>
                                      </p:to>
                                    </p:set>
                                    <p:animEffect filter="fade" transition="in">
                                      <p:cBhvr additive="repl">
                                        <p:cTn id="1809" dur="1000"/>
                                        <p:tgtEl>
                                          <p:spTgt spid="1759"/>
                                        </p:tgtEl>
                                      </p:cBhvr>
                                    </p:animEffect>
                                    <p:anim calcmode="lin" valueType="num">
                                      <p:cBhvr additive="repl">
                                        <p:cTn id="1810" dur="1000" fill="hold"/>
                                        <p:tgtEl>
                                          <p:spTgt spid="1759"/>
                                        </p:tgtEl>
                                        <p:attrNameLst>
                                          <p:attrName>ppt_x</p:attrName>
                                        </p:attrNameLst>
                                      </p:cBhvr>
                                      <p:tavLst>
                                        <p:tav tm="0">
                                          <p:val>
                                            <p:strVal val="#ppt_x"/>
                                          </p:val>
                                        </p:tav>
                                        <p:tav tm="100000">
                                          <p:val>
                                            <p:strVal val="#ppt_x"/>
                                          </p:val>
                                        </p:tav>
                                      </p:tavLst>
                                    </p:anim>
                                    <p:anim calcmode="lin" valueType="num">
                                      <p:cBhvr additive="repl">
                                        <p:cTn id="1811" dur="1000" fill="hold"/>
                                        <p:tgtEl>
                                          <p:spTgt spid="1759"/>
                                        </p:tgtEl>
                                        <p:attrNameLst>
                                          <p:attrName>ppt_y</p:attrName>
                                        </p:attrNameLst>
                                      </p:cBhvr>
                                      <p:tavLst>
                                        <p:tav tm="0">
                                          <p:val>
                                            <p:strVal val="#ppt_y+.1"/>
                                          </p:val>
                                        </p:tav>
                                        <p:tav tm="100000">
                                          <p:val>
                                            <p:strVal val="#ppt_y"/>
                                          </p:val>
                                        </p:tav>
                                      </p:tavLst>
                                    </p:anim>
                                  </p:childTnLst>
                                </p:cTn>
                              </p:par>
                            </p:childTnLst>
                          </p:cTn>
                        </p:par>
                        <p:par>
                          <p:cTn id="1812" nodeType="afterEffect" fill="hold">
                            <p:stCondLst>
                              <p:cond delay="1500"/>
                            </p:stCondLst>
                            <p:childTnLst>
                              <p:par>
                                <p:cTn id="1813" nodeType="afterEffect" fill="hold" presetClass="entr" presetID="10">
                                  <p:stCondLst>
                                    <p:cond delay="0"/>
                                  </p:stCondLst>
                                  <p:childTnLst>
                                    <p:set>
                                      <p:cBhvr>
                                        <p:cTn id="1814" dur="1" fill="hold">
                                          <p:stCondLst>
                                            <p:cond delay="0"/>
                                          </p:stCondLst>
                                        </p:cTn>
                                        <p:tgtEl>
                                          <p:spTgt spid="1736"/>
                                        </p:tgtEl>
                                        <p:attrNameLst>
                                          <p:attrName>style.visibility</p:attrName>
                                        </p:attrNameLst>
                                      </p:cBhvr>
                                      <p:to>
                                        <p:strVal val="visible"/>
                                      </p:to>
                                    </p:set>
                                    <p:animEffect filter="fade" transition="in">
                                      <p:cBhvr additive="repl">
                                        <p:cTn id="1815" dur="500"/>
                                        <p:tgtEl>
                                          <p:spTgt spid="1736"/>
                                        </p:tgtEl>
                                      </p:cBhvr>
                                    </p:animEffect>
                                  </p:childTnLst>
                                </p:cTn>
                              </p:par>
                            </p:childTnLst>
                          </p:cTn>
                        </p:par>
                        <p:par>
                          <p:cTn id="1816" nodeType="afterEffect" fill="hold">
                            <p:stCondLst>
                              <p:cond delay="2000"/>
                            </p:stCondLst>
                            <p:childTnLst>
                              <p:par>
                                <p:cTn id="1817" nodeType="afterEffect" fill="hold" presetClass="entr" presetID="10">
                                  <p:stCondLst>
                                    <p:cond delay="0"/>
                                  </p:stCondLst>
                                  <p:childTnLst>
                                    <p:set>
                                      <p:cBhvr>
                                        <p:cTn id="1818" dur="1" fill="hold">
                                          <p:stCondLst>
                                            <p:cond delay="0"/>
                                          </p:stCondLst>
                                        </p:cTn>
                                        <p:tgtEl>
                                          <p:spTgt spid="1794"/>
                                        </p:tgtEl>
                                        <p:attrNameLst>
                                          <p:attrName>style.visibility</p:attrName>
                                        </p:attrNameLst>
                                      </p:cBhvr>
                                      <p:to>
                                        <p:strVal val="visible"/>
                                      </p:to>
                                    </p:set>
                                    <p:animEffect filter="fade" transition="in">
                                      <p:cBhvr additive="repl">
                                        <p:cTn id="1819" dur="500"/>
                                        <p:tgtEl>
                                          <p:spTgt spid="1794"/>
                                        </p:tgtEl>
                                      </p:cBhvr>
                                    </p:animEffect>
                                  </p:childTnLst>
                                </p:cTn>
                              </p:par>
                            </p:childTnLst>
                          </p:cTn>
                        </p:par>
                        <p:par>
                          <p:cTn id="1820" nodeType="afterEffect" fill="hold">
                            <p:stCondLst>
                              <p:cond delay="2500"/>
                            </p:stCondLst>
                            <p:childTnLst>
                              <p:par>
                                <p:cTn id="1821" nodeType="afterEffect" fill="hold" presetClass="entr" presetID="10">
                                  <p:stCondLst>
                                    <p:cond delay="0"/>
                                  </p:stCondLst>
                                  <p:childTnLst>
                                    <p:set>
                                      <p:cBhvr>
                                        <p:cTn id="1822" dur="1" fill="hold">
                                          <p:stCondLst>
                                            <p:cond delay="0"/>
                                          </p:stCondLst>
                                        </p:cTn>
                                        <p:tgtEl>
                                          <p:spTgt spid="1721"/>
                                        </p:tgtEl>
                                        <p:attrNameLst>
                                          <p:attrName>style.visibility</p:attrName>
                                        </p:attrNameLst>
                                      </p:cBhvr>
                                      <p:to>
                                        <p:strVal val="visible"/>
                                      </p:to>
                                    </p:set>
                                    <p:animEffect filter="fade" transition="in">
                                      <p:cBhvr additive="repl">
                                        <p:cTn id="1823" dur="500"/>
                                        <p:tgtEl>
                                          <p:spTgt spid="1721"/>
                                        </p:tgtEl>
                                      </p:cBhvr>
                                    </p:animEffect>
                                  </p:childTnLst>
                                </p:cTn>
                              </p:par>
                              <p:par>
                                <p:cTn id="1824" nodeType="withEffect" fill="hold" presetClass="entr" presetID="10">
                                  <p:stCondLst>
                                    <p:cond delay="0"/>
                                  </p:stCondLst>
                                  <p:childTnLst>
                                    <p:set>
                                      <p:cBhvr>
                                        <p:cTn id="1825" dur="1" fill="hold">
                                          <p:stCondLst>
                                            <p:cond delay="0"/>
                                          </p:stCondLst>
                                        </p:cTn>
                                        <p:tgtEl>
                                          <p:spTgt spid="1807"/>
                                        </p:tgtEl>
                                        <p:attrNameLst>
                                          <p:attrName>style.visibility</p:attrName>
                                        </p:attrNameLst>
                                      </p:cBhvr>
                                      <p:to>
                                        <p:strVal val="visible"/>
                                      </p:to>
                                    </p:set>
                                    <p:animEffect filter="fade" transition="in">
                                      <p:cBhvr additive="repl">
                                        <p:cTn id="1826" dur="500"/>
                                        <p:tgtEl>
                                          <p:spTgt spid="1807"/>
                                        </p:tgtEl>
                                      </p:cBhvr>
                                    </p:animEffect>
                                  </p:childTnLst>
                                </p:cTn>
                              </p:par>
                            </p:childTnLst>
                          </p:cTn>
                        </p:par>
                        <p:par>
                          <p:cTn id="1827" nodeType="afterEffect" fill="hold">
                            <p:stCondLst>
                              <p:cond delay="3000"/>
                            </p:stCondLst>
                            <p:childTnLst>
                              <p:par>
                                <p:cTn id="1828" nodeType="afterEffect" fill="hold" presetClass="entr" presetID="10">
                                  <p:stCondLst>
                                    <p:cond delay="0"/>
                                  </p:stCondLst>
                                  <p:childTnLst>
                                    <p:set>
                                      <p:cBhvr>
                                        <p:cTn id="1829" dur="1" fill="hold">
                                          <p:stCondLst>
                                            <p:cond delay="0"/>
                                          </p:stCondLst>
                                        </p:cTn>
                                        <p:tgtEl>
                                          <p:spTgt spid="1757"/>
                                        </p:tgtEl>
                                        <p:attrNameLst>
                                          <p:attrName>style.visibility</p:attrName>
                                        </p:attrNameLst>
                                      </p:cBhvr>
                                      <p:to>
                                        <p:strVal val="visible"/>
                                      </p:to>
                                    </p:set>
                                    <p:animEffect filter="fade" transition="in">
                                      <p:cBhvr additive="repl">
                                        <p:cTn id="1830" dur="500"/>
                                        <p:tgtEl>
                                          <p:spTgt spid="1757"/>
                                        </p:tgtEl>
                                      </p:cBhvr>
                                    </p:animEffect>
                                  </p:childTnLst>
                                </p:cTn>
                              </p:par>
                            </p:childTnLst>
                          </p:cTn>
                        </p:par>
                        <p:par>
                          <p:cTn id="1831" nodeType="afterEffect" fill="hold">
                            <p:stCondLst>
                              <p:cond delay="3500"/>
                            </p:stCondLst>
                            <p:childTnLst>
                              <p:par>
                                <p:cTn id="1832" nodeType="afterEffect" fill="hold" presetClass="entr" presetID="10">
                                  <p:stCondLst>
                                    <p:cond delay="0"/>
                                  </p:stCondLst>
                                  <p:childTnLst>
                                    <p:set>
                                      <p:cBhvr>
                                        <p:cTn id="1833" dur="1" fill="hold">
                                          <p:stCondLst>
                                            <p:cond delay="0"/>
                                          </p:stCondLst>
                                        </p:cTn>
                                        <p:tgtEl>
                                          <p:spTgt spid="1758"/>
                                        </p:tgtEl>
                                        <p:attrNameLst>
                                          <p:attrName>style.visibility</p:attrName>
                                        </p:attrNameLst>
                                      </p:cBhvr>
                                      <p:to>
                                        <p:strVal val="visible"/>
                                      </p:to>
                                    </p:set>
                                    <p:animEffect filter="fade" transition="in">
                                      <p:cBhvr additive="repl">
                                        <p:cTn id="1834" dur="500"/>
                                        <p:tgtEl>
                                          <p:spTgt spid="1758"/>
                                        </p:tgtEl>
                                      </p:cBhvr>
                                    </p:animEffect>
                                  </p:childTnLst>
                                </p:cTn>
                              </p:par>
                            </p:childTnLst>
                          </p:cTn>
                        </p:par>
                        <p:par>
                          <p:cTn id="1835" nodeType="afterEffect" fill="hold">
                            <p:stCondLst>
                              <p:cond delay="4000"/>
                            </p:stCondLst>
                            <p:childTnLst>
                              <p:par>
                                <p:cTn id="1836" nodeType="afterEffect" fill="hold" presetClass="entr" presetID="10">
                                  <p:stCondLst>
                                    <p:cond delay="0"/>
                                  </p:stCondLst>
                                  <p:childTnLst>
                                    <p:set>
                                      <p:cBhvr>
                                        <p:cTn id="1837" dur="1" fill="hold">
                                          <p:stCondLst>
                                            <p:cond delay="0"/>
                                          </p:stCondLst>
                                        </p:cTn>
                                        <p:tgtEl>
                                          <p:spTgt spid="1788"/>
                                        </p:tgtEl>
                                        <p:attrNameLst>
                                          <p:attrName>style.visibility</p:attrName>
                                        </p:attrNameLst>
                                      </p:cBhvr>
                                      <p:to>
                                        <p:strVal val="visible"/>
                                      </p:to>
                                    </p:set>
                                    <p:animEffect filter="fade" transition="in">
                                      <p:cBhvr additive="repl">
                                        <p:cTn id="1838" dur="500"/>
                                        <p:tgtEl>
                                          <p:spTgt spid="1788"/>
                                        </p:tgtEl>
                                      </p:cBhvr>
                                    </p:animEffect>
                                  </p:childTnLst>
                                </p:cTn>
                              </p:par>
                              <p:par>
                                <p:cTn id="1839" nodeType="withEffect" fill="hold" presetClass="entr" presetID="10">
                                  <p:stCondLst>
                                    <p:cond delay="0"/>
                                  </p:stCondLst>
                                  <p:childTnLst>
                                    <p:set>
                                      <p:cBhvr>
                                        <p:cTn id="1840" dur="1" fill="hold">
                                          <p:stCondLst>
                                            <p:cond delay="0"/>
                                          </p:stCondLst>
                                        </p:cTn>
                                        <p:tgtEl>
                                          <p:spTgt spid="1790"/>
                                        </p:tgtEl>
                                        <p:attrNameLst>
                                          <p:attrName>style.visibility</p:attrName>
                                        </p:attrNameLst>
                                      </p:cBhvr>
                                      <p:to>
                                        <p:strVal val="visible"/>
                                      </p:to>
                                    </p:set>
                                    <p:animEffect filter="fade" transition="in">
                                      <p:cBhvr additive="repl">
                                        <p:cTn id="1841" dur="500"/>
                                        <p:tgtEl>
                                          <p:spTgt spid="1790"/>
                                        </p:tgtEl>
                                      </p:cBhvr>
                                    </p:animEffect>
                                  </p:childTnLst>
                                </p:cTn>
                              </p:par>
                              <p:par>
                                <p:cTn id="1842" nodeType="withEffect" fill="hold" presetClass="entr" presetID="10">
                                  <p:stCondLst>
                                    <p:cond delay="0"/>
                                  </p:stCondLst>
                                  <p:childTnLst>
                                    <p:set>
                                      <p:cBhvr>
                                        <p:cTn id="1843" dur="1" fill="hold">
                                          <p:stCondLst>
                                            <p:cond delay="0"/>
                                          </p:stCondLst>
                                        </p:cTn>
                                        <p:tgtEl>
                                          <p:spTgt spid="1792"/>
                                        </p:tgtEl>
                                        <p:attrNameLst>
                                          <p:attrName>style.visibility</p:attrName>
                                        </p:attrNameLst>
                                      </p:cBhvr>
                                      <p:to>
                                        <p:strVal val="visible"/>
                                      </p:to>
                                    </p:set>
                                    <p:animEffect filter="fade" transition="in">
                                      <p:cBhvr additive="repl">
                                        <p:cTn id="1844" dur="500"/>
                                        <p:tgtEl>
                                          <p:spTgt spid="1792"/>
                                        </p:tgtEl>
                                      </p:cBhvr>
                                    </p:animEffect>
                                  </p:childTnLst>
                                </p:cTn>
                              </p:par>
                              <p:par>
                                <p:cTn id="1845" nodeType="withEffect" fill="hold" presetClass="entr" presetID="10">
                                  <p:stCondLst>
                                    <p:cond delay="0"/>
                                  </p:stCondLst>
                                  <p:childTnLst>
                                    <p:set>
                                      <p:cBhvr>
                                        <p:cTn id="1846" dur="1" fill="hold">
                                          <p:stCondLst>
                                            <p:cond delay="0"/>
                                          </p:stCondLst>
                                        </p:cTn>
                                        <p:tgtEl>
                                          <p:spTgt spid="1789"/>
                                        </p:tgtEl>
                                        <p:attrNameLst>
                                          <p:attrName>style.visibility</p:attrName>
                                        </p:attrNameLst>
                                      </p:cBhvr>
                                      <p:to>
                                        <p:strVal val="visible"/>
                                      </p:to>
                                    </p:set>
                                    <p:animEffect filter="fade" transition="in">
                                      <p:cBhvr additive="repl">
                                        <p:cTn id="1847" dur="500"/>
                                        <p:tgtEl>
                                          <p:spTgt spid="1789"/>
                                        </p:tgtEl>
                                      </p:cBhvr>
                                    </p:animEffect>
                                  </p:childTnLst>
                                </p:cTn>
                              </p:par>
                              <p:par>
                                <p:cTn id="1848" nodeType="withEffect" fill="hold" presetClass="entr" presetID="10">
                                  <p:stCondLst>
                                    <p:cond delay="0"/>
                                  </p:stCondLst>
                                  <p:childTnLst>
                                    <p:set>
                                      <p:cBhvr>
                                        <p:cTn id="1849" dur="1" fill="hold">
                                          <p:stCondLst>
                                            <p:cond delay="0"/>
                                          </p:stCondLst>
                                        </p:cTn>
                                        <p:tgtEl>
                                          <p:spTgt spid="1791"/>
                                        </p:tgtEl>
                                        <p:attrNameLst>
                                          <p:attrName>style.visibility</p:attrName>
                                        </p:attrNameLst>
                                      </p:cBhvr>
                                      <p:to>
                                        <p:strVal val="visible"/>
                                      </p:to>
                                    </p:set>
                                    <p:animEffect filter="fade" transition="in">
                                      <p:cBhvr additive="repl">
                                        <p:cTn id="1850" dur="500"/>
                                        <p:tgtEl>
                                          <p:spTgt spid="1791"/>
                                        </p:tgtEl>
                                      </p:cBhvr>
                                    </p:animEffect>
                                  </p:childTnLst>
                                </p:cTn>
                              </p:par>
                            </p:childTnLst>
                          </p:cTn>
                        </p:par>
                        <p:par>
                          <p:cTn id="1851" nodeType="afterEffect" fill="hold">
                            <p:stCondLst>
                              <p:cond delay="4500"/>
                            </p:stCondLst>
                            <p:childTnLst>
                              <p:par>
                                <p:cTn id="1852" nodeType="afterEffect" fill="hold" presetClass="entr" presetID="10">
                                  <p:stCondLst>
                                    <p:cond delay="0"/>
                                  </p:stCondLst>
                                  <p:childTnLst>
                                    <p:set>
                                      <p:cBhvr>
                                        <p:cTn id="1853" dur="1" fill="hold">
                                          <p:stCondLst>
                                            <p:cond delay="0"/>
                                          </p:stCondLst>
                                        </p:cTn>
                                        <p:tgtEl>
                                          <p:spTgt spid="1793"/>
                                        </p:tgtEl>
                                        <p:attrNameLst>
                                          <p:attrName>style.visibility</p:attrName>
                                        </p:attrNameLst>
                                      </p:cBhvr>
                                      <p:to>
                                        <p:strVal val="visible"/>
                                      </p:to>
                                    </p:set>
                                    <p:animEffect filter="fade" transition="in">
                                      <p:cBhvr additive="repl">
                                        <p:cTn id="1854" dur="500"/>
                                        <p:tgtEl>
                                          <p:spTgt spid="1793"/>
                                        </p:tgtEl>
                                      </p:cBhvr>
                                    </p:animEffect>
                                  </p:childTnLst>
                                </p:cTn>
                              </p:par>
                            </p:childTnLst>
                          </p:cTn>
                        </p:par>
                        <p:par>
                          <p:cTn id="1855" nodeType="afterEffect" fill="hold">
                            <p:stCondLst>
                              <p:cond delay="5000"/>
                            </p:stCondLst>
                            <p:childTnLst>
                              <p:par>
                                <p:cTn id="1856" nodeType="afterEffect" fill="hold" presetClass="entr" presetID="22" presetSubtype="8">
                                  <p:stCondLst>
                                    <p:cond delay="0"/>
                                  </p:stCondLst>
                                  <p:childTnLst>
                                    <p:set>
                                      <p:cBhvr>
                                        <p:cTn id="1857" dur="1" fill="hold">
                                          <p:stCondLst>
                                            <p:cond delay="0"/>
                                          </p:stCondLst>
                                        </p:cTn>
                                        <p:tgtEl>
                                          <p:spTgt spid="1801"/>
                                        </p:tgtEl>
                                        <p:attrNameLst>
                                          <p:attrName>style.visibility</p:attrName>
                                        </p:attrNameLst>
                                      </p:cBhvr>
                                      <p:to>
                                        <p:strVal val="visible"/>
                                      </p:to>
                                    </p:set>
                                    <p:animEffect filter="wipe(left)" transition="in">
                                      <p:cBhvr additive="repl">
                                        <p:cTn id="1858" dur="500"/>
                                        <p:tgtEl>
                                          <p:spTgt spid="1801"/>
                                        </p:tgtEl>
                                      </p:cBhvr>
                                    </p:animEffect>
                                  </p:childTnLst>
                                </p:cTn>
                              </p:par>
                              <p:par>
                                <p:cTn id="1859" nodeType="withEffect" fill="hold" presetClass="entr" presetID="22" presetSubtype="8">
                                  <p:stCondLst>
                                    <p:cond delay="0"/>
                                  </p:stCondLst>
                                  <p:childTnLst>
                                    <p:set>
                                      <p:cBhvr>
                                        <p:cTn id="1860" dur="1" fill="hold">
                                          <p:stCondLst>
                                            <p:cond delay="0"/>
                                          </p:stCondLst>
                                        </p:cTn>
                                        <p:tgtEl>
                                          <p:spTgt spid="1795"/>
                                        </p:tgtEl>
                                        <p:attrNameLst>
                                          <p:attrName>style.visibility</p:attrName>
                                        </p:attrNameLst>
                                      </p:cBhvr>
                                      <p:to>
                                        <p:strVal val="visible"/>
                                      </p:to>
                                    </p:set>
                                    <p:animEffect filter="wipe(left)" transition="in">
                                      <p:cBhvr additive="repl">
                                        <p:cTn id="1861" dur="500"/>
                                        <p:tgtEl>
                                          <p:spTgt spid="1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8" name="Group 2"/>
          <p:cNvGrpSpPr/>
          <p:nvPr/>
        </p:nvGrpSpPr>
        <p:grpSpPr>
          <a:xfrm>
            <a:off x="2948040" y="4181400"/>
            <a:ext cx="2006640" cy="1359000"/>
            <a:chOff x="2948040" y="4181400"/>
            <a:chExt cx="2006640" cy="1359000"/>
          </a:xfrm>
        </p:grpSpPr>
        <p:grpSp>
          <p:nvGrpSpPr>
            <p:cNvPr id="1809" name="Graphic 2"/>
            <p:cNvGrpSpPr/>
            <p:nvPr/>
          </p:nvGrpSpPr>
          <p:grpSpPr>
            <a:xfrm>
              <a:off x="3827520" y="4181400"/>
              <a:ext cx="1127160" cy="1359000"/>
              <a:chOff x="3827520" y="4181400"/>
              <a:chExt cx="1127160" cy="1359000"/>
            </a:xfrm>
          </p:grpSpPr>
          <p:sp>
            <p:nvSpPr>
              <p:cNvPr id="1810" name="Freeform: Shape 115"/>
              <p:cNvSpPr/>
              <p:nvPr/>
            </p:nvSpPr>
            <p:spPr>
              <a:xfrm>
                <a:off x="382752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11" name="Freeform: Shape 116"/>
              <p:cNvSpPr/>
              <p:nvPr/>
            </p:nvSpPr>
            <p:spPr>
              <a:xfrm>
                <a:off x="416016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12" name="Freeform: Shape 121"/>
              <p:cNvSpPr/>
              <p:nvPr/>
            </p:nvSpPr>
            <p:spPr>
              <a:xfrm>
                <a:off x="435924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13" name="Freeform: Shape 128"/>
              <p:cNvSpPr/>
              <p:nvPr/>
            </p:nvSpPr>
            <p:spPr>
              <a:xfrm>
                <a:off x="422172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313c3f"/>
                  </a:solidFill>
                  <a:latin typeface="Source Sans Pro"/>
                </a:endParaRPr>
              </a:p>
            </p:txBody>
          </p:sp>
          <p:sp>
            <p:nvSpPr>
              <p:cNvPr id="1814" name="Freeform: Shape 129"/>
              <p:cNvSpPr/>
              <p:nvPr/>
            </p:nvSpPr>
            <p:spPr>
              <a:xfrm>
                <a:off x="421308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313c3f"/>
                  </a:solidFill>
                  <a:latin typeface="Source Sans Pro"/>
                </a:endParaRPr>
              </a:p>
            </p:txBody>
          </p:sp>
          <p:sp>
            <p:nvSpPr>
              <p:cNvPr id="1815" name="Freeform: Shape 130"/>
              <p:cNvSpPr/>
              <p:nvPr/>
            </p:nvSpPr>
            <p:spPr>
              <a:xfrm>
                <a:off x="436608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816" name="Freeform: Shape 131"/>
              <p:cNvSpPr/>
              <p:nvPr/>
            </p:nvSpPr>
            <p:spPr>
              <a:xfrm>
                <a:off x="420696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17" name="Freeform: Shape 132"/>
              <p:cNvSpPr/>
              <p:nvPr/>
            </p:nvSpPr>
            <p:spPr>
              <a:xfrm>
                <a:off x="428976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18" name="Freeform: Shape 133"/>
              <p:cNvSpPr/>
              <p:nvPr/>
            </p:nvSpPr>
            <p:spPr>
              <a:xfrm>
                <a:off x="421704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819" name="Graphic 2"/>
            <p:cNvGrpSpPr/>
            <p:nvPr/>
          </p:nvGrpSpPr>
          <p:grpSpPr>
            <a:xfrm>
              <a:off x="2948040" y="4181400"/>
              <a:ext cx="1127160" cy="1359000"/>
              <a:chOff x="2948040" y="4181400"/>
              <a:chExt cx="1127160" cy="1359000"/>
            </a:xfrm>
          </p:grpSpPr>
          <p:sp>
            <p:nvSpPr>
              <p:cNvPr id="1820" name="Freeform: Shape 27"/>
              <p:cNvSpPr/>
              <p:nvPr/>
            </p:nvSpPr>
            <p:spPr>
              <a:xfrm>
                <a:off x="294804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21" name="Freeform: Shape 28"/>
              <p:cNvSpPr/>
              <p:nvPr/>
            </p:nvSpPr>
            <p:spPr>
              <a:xfrm>
                <a:off x="328068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22" name="Freeform: Shape 29"/>
              <p:cNvSpPr/>
              <p:nvPr/>
            </p:nvSpPr>
            <p:spPr>
              <a:xfrm>
                <a:off x="347976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23" name="Freeform: Shape 30"/>
              <p:cNvSpPr/>
              <p:nvPr/>
            </p:nvSpPr>
            <p:spPr>
              <a:xfrm>
                <a:off x="334224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313c3f"/>
                  </a:solidFill>
                  <a:latin typeface="Source Sans Pro"/>
                </a:endParaRPr>
              </a:p>
            </p:txBody>
          </p:sp>
          <p:sp>
            <p:nvSpPr>
              <p:cNvPr id="1824" name="Freeform: Shape 31"/>
              <p:cNvSpPr/>
              <p:nvPr/>
            </p:nvSpPr>
            <p:spPr>
              <a:xfrm>
                <a:off x="333360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313c3f"/>
                  </a:solidFill>
                  <a:latin typeface="Source Sans Pro"/>
                </a:endParaRPr>
              </a:p>
            </p:txBody>
          </p:sp>
          <p:sp>
            <p:nvSpPr>
              <p:cNvPr id="1825" name="Freeform: Shape 32"/>
              <p:cNvSpPr/>
              <p:nvPr/>
            </p:nvSpPr>
            <p:spPr>
              <a:xfrm>
                <a:off x="348660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1826" name="Freeform: Shape 33"/>
              <p:cNvSpPr/>
              <p:nvPr/>
            </p:nvSpPr>
            <p:spPr>
              <a:xfrm>
                <a:off x="332748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27" name="Freeform: Shape 34"/>
              <p:cNvSpPr/>
              <p:nvPr/>
            </p:nvSpPr>
            <p:spPr>
              <a:xfrm>
                <a:off x="341028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28" name="Freeform: Shape 35"/>
              <p:cNvSpPr/>
              <p:nvPr/>
            </p:nvSpPr>
            <p:spPr>
              <a:xfrm>
                <a:off x="333756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sp>
        <p:nvSpPr>
          <p:cNvPr id="182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830" name="Group 36"/>
          <p:cNvGrpSpPr/>
          <p:nvPr/>
        </p:nvGrpSpPr>
        <p:grpSpPr>
          <a:xfrm>
            <a:off x="7275600" y="3686040"/>
            <a:ext cx="2090520" cy="981360"/>
            <a:chOff x="7275600" y="3686040"/>
            <a:chExt cx="2090520" cy="981360"/>
          </a:xfrm>
        </p:grpSpPr>
        <p:grpSp>
          <p:nvGrpSpPr>
            <p:cNvPr id="1831" name="Graphic 86"/>
            <p:cNvGrpSpPr/>
            <p:nvPr/>
          </p:nvGrpSpPr>
          <p:grpSpPr>
            <a:xfrm>
              <a:off x="8566200" y="3686040"/>
              <a:ext cx="799920" cy="966600"/>
              <a:chOff x="8566200" y="3686040"/>
              <a:chExt cx="799920" cy="966600"/>
            </a:xfrm>
          </p:grpSpPr>
          <p:sp>
            <p:nvSpPr>
              <p:cNvPr id="1832" name="Freeform: Shape 105"/>
              <p:cNvSpPr/>
              <p:nvPr/>
            </p:nvSpPr>
            <p:spPr>
              <a:xfrm>
                <a:off x="8566200" y="368604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33" name="Freeform: Shape 106"/>
              <p:cNvSpPr/>
              <p:nvPr/>
            </p:nvSpPr>
            <p:spPr>
              <a:xfrm>
                <a:off x="8802360" y="372528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34" name="Freeform: Shape 107"/>
              <p:cNvSpPr/>
              <p:nvPr/>
            </p:nvSpPr>
            <p:spPr>
              <a:xfrm>
                <a:off x="8943480" y="390636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35" name="Freeform: Shape 108"/>
              <p:cNvSpPr/>
              <p:nvPr/>
            </p:nvSpPr>
            <p:spPr>
              <a:xfrm>
                <a:off x="8845200" y="389160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c3f"/>
                  </a:solidFill>
                  <a:latin typeface="Source Sans Pro"/>
                </a:endParaRPr>
              </a:p>
            </p:txBody>
          </p:sp>
          <p:sp>
            <p:nvSpPr>
              <p:cNvPr id="1836" name="Freeform: Shape 109"/>
              <p:cNvSpPr/>
              <p:nvPr/>
            </p:nvSpPr>
            <p:spPr>
              <a:xfrm>
                <a:off x="8840520" y="387792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13c3f"/>
                  </a:solidFill>
                  <a:latin typeface="Source Sans Pro"/>
                </a:endParaRPr>
              </a:p>
            </p:txBody>
          </p:sp>
          <p:sp>
            <p:nvSpPr>
              <p:cNvPr id="1837" name="Freeform: Shape 110"/>
              <p:cNvSpPr/>
              <p:nvPr/>
            </p:nvSpPr>
            <p:spPr>
              <a:xfrm>
                <a:off x="8948880" y="390816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1838" name="Freeform: Shape 111"/>
              <p:cNvSpPr/>
              <p:nvPr/>
            </p:nvSpPr>
            <p:spPr>
              <a:xfrm>
                <a:off x="8836200" y="390852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39" name="Freeform: Shape 112"/>
              <p:cNvSpPr/>
              <p:nvPr/>
            </p:nvSpPr>
            <p:spPr>
              <a:xfrm>
                <a:off x="8894520" y="389268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40" name="Freeform: Shape 113"/>
              <p:cNvSpPr/>
              <p:nvPr/>
            </p:nvSpPr>
            <p:spPr>
              <a:xfrm>
                <a:off x="8845560" y="413208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841" name="Graphic 86"/>
            <p:cNvGrpSpPr/>
            <p:nvPr/>
          </p:nvGrpSpPr>
          <p:grpSpPr>
            <a:xfrm>
              <a:off x="7911720" y="3700800"/>
              <a:ext cx="799920" cy="966600"/>
              <a:chOff x="7911720" y="3700800"/>
              <a:chExt cx="799920" cy="966600"/>
            </a:xfrm>
          </p:grpSpPr>
          <p:sp>
            <p:nvSpPr>
              <p:cNvPr id="1842" name="Freeform: Shape 75"/>
              <p:cNvSpPr/>
              <p:nvPr/>
            </p:nvSpPr>
            <p:spPr>
              <a:xfrm>
                <a:off x="791172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43" name="Freeform: Shape 86"/>
              <p:cNvSpPr/>
              <p:nvPr/>
            </p:nvSpPr>
            <p:spPr>
              <a:xfrm>
                <a:off x="814788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44" name="Freeform: Shape 97"/>
              <p:cNvSpPr/>
              <p:nvPr/>
            </p:nvSpPr>
            <p:spPr>
              <a:xfrm>
                <a:off x="828900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45" name="Freeform: Shape 98"/>
              <p:cNvSpPr/>
              <p:nvPr/>
            </p:nvSpPr>
            <p:spPr>
              <a:xfrm>
                <a:off x="819072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c3f"/>
                  </a:solidFill>
                  <a:latin typeface="Source Sans Pro"/>
                </a:endParaRPr>
              </a:p>
            </p:txBody>
          </p:sp>
          <p:sp>
            <p:nvSpPr>
              <p:cNvPr id="1846" name="Freeform: Shape 99"/>
              <p:cNvSpPr/>
              <p:nvPr/>
            </p:nvSpPr>
            <p:spPr>
              <a:xfrm>
                <a:off x="818604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13c3f"/>
                  </a:solidFill>
                  <a:latin typeface="Source Sans Pro"/>
                </a:endParaRPr>
              </a:p>
            </p:txBody>
          </p:sp>
          <p:sp>
            <p:nvSpPr>
              <p:cNvPr id="1847" name="Freeform: Shape 100"/>
              <p:cNvSpPr/>
              <p:nvPr/>
            </p:nvSpPr>
            <p:spPr>
              <a:xfrm>
                <a:off x="829440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1848" name="Freeform: Shape 101"/>
              <p:cNvSpPr/>
              <p:nvPr/>
            </p:nvSpPr>
            <p:spPr>
              <a:xfrm>
                <a:off x="818172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49" name="Freeform: Shape 102"/>
              <p:cNvSpPr/>
              <p:nvPr/>
            </p:nvSpPr>
            <p:spPr>
              <a:xfrm>
                <a:off x="824004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50" name="Freeform: Shape 103"/>
              <p:cNvSpPr/>
              <p:nvPr/>
            </p:nvSpPr>
            <p:spPr>
              <a:xfrm>
                <a:off x="819108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851" name="Graphic 86"/>
            <p:cNvGrpSpPr/>
            <p:nvPr/>
          </p:nvGrpSpPr>
          <p:grpSpPr>
            <a:xfrm>
              <a:off x="7275600" y="3700800"/>
              <a:ext cx="799920" cy="966600"/>
              <a:chOff x="7275600" y="3700800"/>
              <a:chExt cx="799920" cy="966600"/>
            </a:xfrm>
          </p:grpSpPr>
          <p:sp>
            <p:nvSpPr>
              <p:cNvPr id="1852" name="Freeform: Shape 88"/>
              <p:cNvSpPr/>
              <p:nvPr/>
            </p:nvSpPr>
            <p:spPr>
              <a:xfrm>
                <a:off x="727560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53" name="Freeform: Shape 89"/>
              <p:cNvSpPr/>
              <p:nvPr/>
            </p:nvSpPr>
            <p:spPr>
              <a:xfrm>
                <a:off x="751176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54" name="Freeform: Shape 90"/>
              <p:cNvSpPr/>
              <p:nvPr/>
            </p:nvSpPr>
            <p:spPr>
              <a:xfrm>
                <a:off x="765288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55" name="Freeform: Shape 91"/>
              <p:cNvSpPr/>
              <p:nvPr/>
            </p:nvSpPr>
            <p:spPr>
              <a:xfrm>
                <a:off x="755460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c3f"/>
                  </a:solidFill>
                  <a:latin typeface="Source Sans Pro"/>
                </a:endParaRPr>
              </a:p>
            </p:txBody>
          </p:sp>
          <p:sp>
            <p:nvSpPr>
              <p:cNvPr id="1856" name="Freeform: Shape 92"/>
              <p:cNvSpPr/>
              <p:nvPr/>
            </p:nvSpPr>
            <p:spPr>
              <a:xfrm>
                <a:off x="754992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13c3f"/>
                  </a:solidFill>
                  <a:latin typeface="Source Sans Pro"/>
                </a:endParaRPr>
              </a:p>
            </p:txBody>
          </p:sp>
          <p:sp>
            <p:nvSpPr>
              <p:cNvPr id="1857" name="Freeform: Shape 93"/>
              <p:cNvSpPr/>
              <p:nvPr/>
            </p:nvSpPr>
            <p:spPr>
              <a:xfrm>
                <a:off x="765828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1858" name="Freeform: Shape 94"/>
              <p:cNvSpPr/>
              <p:nvPr/>
            </p:nvSpPr>
            <p:spPr>
              <a:xfrm>
                <a:off x="754560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59" name="Freeform: Shape 95"/>
              <p:cNvSpPr/>
              <p:nvPr/>
            </p:nvSpPr>
            <p:spPr>
              <a:xfrm>
                <a:off x="760392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60" name="Freeform: Shape 96"/>
              <p:cNvSpPr/>
              <p:nvPr/>
            </p:nvSpPr>
            <p:spPr>
              <a:xfrm>
                <a:off x="755496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sp>
        <p:nvSpPr>
          <p:cNvPr id="1861" name="TextBox 117"/>
          <p:cNvSpPr/>
          <p:nvPr/>
        </p:nvSpPr>
        <p:spPr>
          <a:xfrm>
            <a:off x="1102680" y="255168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7d42"/>
                </a:solidFill>
                <a:latin typeface="Lato"/>
              </a:rPr>
              <a:t>£39k</a:t>
            </a:r>
            <a:endParaRPr b="0" lang="en-US" sz="4000" spc="-1" strike="noStrike">
              <a:solidFill>
                <a:srgbClr val="313c3f"/>
              </a:solidFill>
              <a:latin typeface="Source Sans Pro"/>
            </a:endParaRPr>
          </a:p>
        </p:txBody>
      </p:sp>
      <p:sp>
        <p:nvSpPr>
          <p:cNvPr id="1862" name="TextBox 118"/>
          <p:cNvSpPr/>
          <p:nvPr/>
        </p:nvSpPr>
        <p:spPr>
          <a:xfrm>
            <a:off x="1108080" y="22161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Description</a:t>
            </a:r>
            <a:endParaRPr b="0" lang="en-US" sz="2000" spc="-1" strike="noStrike">
              <a:solidFill>
                <a:srgbClr val="313c3f"/>
              </a:solidFill>
              <a:latin typeface="Source Sans Pro"/>
            </a:endParaRPr>
          </a:p>
        </p:txBody>
      </p:sp>
      <p:sp>
        <p:nvSpPr>
          <p:cNvPr id="1863" name="TextBox 119"/>
          <p:cNvSpPr/>
          <p:nvPr/>
        </p:nvSpPr>
        <p:spPr>
          <a:xfrm>
            <a:off x="2790720" y="2551680"/>
            <a:ext cx="1386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1c11e"/>
                </a:solidFill>
                <a:latin typeface="Lato"/>
              </a:rPr>
              <a:t>$70K</a:t>
            </a:r>
            <a:endParaRPr b="0" lang="en-US" sz="4000" spc="-1" strike="noStrike">
              <a:solidFill>
                <a:srgbClr val="313c3f"/>
              </a:solidFill>
              <a:latin typeface="Source Sans Pro"/>
            </a:endParaRPr>
          </a:p>
        </p:txBody>
      </p:sp>
      <p:sp>
        <p:nvSpPr>
          <p:cNvPr id="1864" name="Rectangle 120"/>
          <p:cNvSpPr/>
          <p:nvPr/>
        </p:nvSpPr>
        <p:spPr>
          <a:xfrm>
            <a:off x="1108080" y="318924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c3f"/>
                </a:solidFill>
                <a:latin typeface="Source Sans Pro"/>
                <a:ea typeface="Times New Roman"/>
              </a:rPr>
              <a:t>Lorem ipsum dolor sit amet, consectetur adipiscing elit. Aenean sit amet ultrices sem. </a:t>
            </a:r>
            <a:endParaRPr b="0" lang="en-US" sz="1400" spc="-1" strike="noStrike">
              <a:solidFill>
                <a:srgbClr val="313c3f"/>
              </a:solidFill>
              <a:latin typeface="Source Sans Pro"/>
            </a:endParaRPr>
          </a:p>
        </p:txBody>
      </p:sp>
      <p:sp>
        <p:nvSpPr>
          <p:cNvPr id="1865" name="TextBox 122"/>
          <p:cNvSpPr/>
          <p:nvPr/>
        </p:nvSpPr>
        <p:spPr>
          <a:xfrm>
            <a:off x="2448720" y="255168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3c3f"/>
                </a:solidFill>
                <a:latin typeface="Lato"/>
              </a:rPr>
              <a:t>/</a:t>
            </a:r>
            <a:endParaRPr b="0" lang="en-US" sz="4000" spc="-1" strike="noStrike">
              <a:solidFill>
                <a:srgbClr val="313c3f"/>
              </a:solidFill>
              <a:latin typeface="Source Sans Pro"/>
            </a:endParaRPr>
          </a:p>
        </p:txBody>
      </p:sp>
      <p:sp>
        <p:nvSpPr>
          <p:cNvPr id="1866" name="TextBox 123"/>
          <p:cNvSpPr/>
          <p:nvPr/>
        </p:nvSpPr>
        <p:spPr>
          <a:xfrm>
            <a:off x="732960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1c11e"/>
                </a:solidFill>
                <a:latin typeface="Lato"/>
              </a:rPr>
              <a:t>$53k</a:t>
            </a:r>
            <a:endParaRPr b="0" lang="en-US" sz="4000" spc="-1" strike="noStrike">
              <a:solidFill>
                <a:srgbClr val="313c3f"/>
              </a:solidFill>
              <a:latin typeface="Source Sans Pro"/>
            </a:endParaRPr>
          </a:p>
        </p:txBody>
      </p:sp>
      <p:sp>
        <p:nvSpPr>
          <p:cNvPr id="1867" name="TextBox 124"/>
          <p:cNvSpPr/>
          <p:nvPr/>
        </p:nvSpPr>
        <p:spPr>
          <a:xfrm>
            <a:off x="7331040" y="15699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Description</a:t>
            </a:r>
            <a:endParaRPr b="0" lang="en-US" sz="2000" spc="-1" strike="noStrike">
              <a:solidFill>
                <a:srgbClr val="313c3f"/>
              </a:solidFill>
              <a:latin typeface="Source Sans Pro"/>
            </a:endParaRPr>
          </a:p>
        </p:txBody>
      </p:sp>
      <p:sp>
        <p:nvSpPr>
          <p:cNvPr id="1868" name="TextBox 125"/>
          <p:cNvSpPr/>
          <p:nvPr/>
        </p:nvSpPr>
        <p:spPr>
          <a:xfrm>
            <a:off x="898704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7d42"/>
                </a:solidFill>
                <a:latin typeface="Lato"/>
              </a:rPr>
              <a:t>£19k</a:t>
            </a:r>
            <a:endParaRPr b="0" lang="en-US" sz="4000" spc="-1" strike="noStrike">
              <a:solidFill>
                <a:srgbClr val="313c3f"/>
              </a:solidFill>
              <a:latin typeface="Source Sans Pro"/>
            </a:endParaRPr>
          </a:p>
        </p:txBody>
      </p:sp>
      <p:sp>
        <p:nvSpPr>
          <p:cNvPr id="1869" name="Rectangle 126"/>
          <p:cNvSpPr/>
          <p:nvPr/>
        </p:nvSpPr>
        <p:spPr>
          <a:xfrm>
            <a:off x="7331040" y="254160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c3f"/>
                </a:solidFill>
                <a:latin typeface="Source Sans Pro"/>
                <a:ea typeface="Times New Roman"/>
              </a:rPr>
              <a:t>Lorem ipsum dolor sit amet, consectetur adipiscing elit. Aenean sit amet ultrices sem. </a:t>
            </a:r>
            <a:endParaRPr b="0" lang="en-US" sz="1400" spc="-1" strike="noStrike">
              <a:solidFill>
                <a:srgbClr val="313c3f"/>
              </a:solidFill>
              <a:latin typeface="Source Sans Pro"/>
            </a:endParaRPr>
          </a:p>
        </p:txBody>
      </p:sp>
      <p:sp>
        <p:nvSpPr>
          <p:cNvPr id="1870" name="TextBox 127"/>
          <p:cNvSpPr/>
          <p:nvPr/>
        </p:nvSpPr>
        <p:spPr>
          <a:xfrm>
            <a:off x="8670960" y="190404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3c3f"/>
                </a:solidFill>
                <a:latin typeface="Lato"/>
              </a:rPr>
              <a:t>/</a:t>
            </a:r>
            <a:endParaRPr b="0" lang="en-US" sz="4000" spc="-1" strike="noStrike">
              <a:solidFill>
                <a:srgbClr val="313c3f"/>
              </a:solidFill>
              <a:latin typeface="Source Sans Pro"/>
            </a:endParaRPr>
          </a:p>
        </p:txBody>
      </p:sp>
      <p:grpSp>
        <p:nvGrpSpPr>
          <p:cNvPr id="1871" name="Graphic 2"/>
          <p:cNvGrpSpPr/>
          <p:nvPr/>
        </p:nvGrpSpPr>
        <p:grpSpPr>
          <a:xfrm>
            <a:off x="2820960" y="4532400"/>
            <a:ext cx="6548400" cy="1698480"/>
            <a:chOff x="2820960" y="4532400"/>
            <a:chExt cx="6548400" cy="1698480"/>
          </a:xfrm>
        </p:grpSpPr>
        <p:sp>
          <p:nvSpPr>
            <p:cNvPr id="1872" name="Freeform: Shape 4"/>
            <p:cNvSpPr/>
            <p:nvPr/>
          </p:nvSpPr>
          <p:spPr>
            <a:xfrm>
              <a:off x="3808800" y="5445000"/>
              <a:ext cx="2133000" cy="639000"/>
            </a:xfrm>
            <a:custGeom>
              <a:avLst/>
              <a:gdLst/>
              <a:ahLst/>
              <a:rect l="l" t="t" r="r" b="b"/>
              <a:pathLst>
                <a:path w="2133402" h="639293">
                  <a:moveTo>
                    <a:pt x="1610232" y="85867"/>
                  </a:moveTo>
                  <a:lnTo>
                    <a:pt x="2072322" y="0"/>
                  </a:lnTo>
                  <a:lnTo>
                    <a:pt x="2070551" y="2656"/>
                  </a:lnTo>
                  <a:lnTo>
                    <a:pt x="2068781" y="4426"/>
                  </a:lnTo>
                  <a:cubicBezTo>
                    <a:pt x="2057273" y="17705"/>
                    <a:pt x="2047535" y="33639"/>
                    <a:pt x="2039568" y="48688"/>
                  </a:cubicBezTo>
                  <a:cubicBezTo>
                    <a:pt x="2033371" y="61966"/>
                    <a:pt x="2028060" y="75244"/>
                    <a:pt x="2024519" y="89408"/>
                  </a:cubicBezTo>
                  <a:cubicBezTo>
                    <a:pt x="2004159" y="169964"/>
                    <a:pt x="2036027" y="251405"/>
                    <a:pt x="2110387" y="300978"/>
                  </a:cubicBezTo>
                  <a:cubicBezTo>
                    <a:pt x="2117468" y="305404"/>
                    <a:pt x="2125436" y="310715"/>
                    <a:pt x="2133403" y="314256"/>
                  </a:cubicBezTo>
                  <a:cubicBezTo>
                    <a:pt x="2059043" y="326650"/>
                    <a:pt x="1984684" y="339043"/>
                    <a:pt x="1910325" y="350551"/>
                  </a:cubicBezTo>
                  <a:lnTo>
                    <a:pt x="1329614" y="446156"/>
                  </a:lnTo>
                  <a:lnTo>
                    <a:pt x="1322532" y="447926"/>
                  </a:lnTo>
                  <a:cubicBezTo>
                    <a:pt x="1276501" y="456778"/>
                    <a:pt x="1225157" y="464745"/>
                    <a:pt x="1171158" y="472712"/>
                  </a:cubicBezTo>
                  <a:lnTo>
                    <a:pt x="158456" y="636480"/>
                  </a:lnTo>
                  <a:cubicBezTo>
                    <a:pt x="84097" y="650644"/>
                    <a:pt x="14164" y="609923"/>
                    <a:pt x="1770" y="546186"/>
                  </a:cubicBezTo>
                  <a:cubicBezTo>
                    <a:pt x="885" y="539990"/>
                    <a:pt x="0" y="533793"/>
                    <a:pt x="0" y="528482"/>
                  </a:cubicBezTo>
                  <a:lnTo>
                    <a:pt x="60196" y="516974"/>
                  </a:lnTo>
                  <a:cubicBezTo>
                    <a:pt x="59310" y="523170"/>
                    <a:pt x="59310" y="529367"/>
                    <a:pt x="61081" y="535564"/>
                  </a:cubicBezTo>
                  <a:cubicBezTo>
                    <a:pt x="62851" y="545301"/>
                    <a:pt x="67277" y="554153"/>
                    <a:pt x="73474" y="561235"/>
                  </a:cubicBezTo>
                  <a:lnTo>
                    <a:pt x="65507" y="516089"/>
                  </a:lnTo>
                  <a:lnTo>
                    <a:pt x="208029" y="489532"/>
                  </a:lnTo>
                  <a:lnTo>
                    <a:pt x="252290" y="481565"/>
                  </a:lnTo>
                  <a:lnTo>
                    <a:pt x="268224" y="478909"/>
                  </a:lnTo>
                  <a:cubicBezTo>
                    <a:pt x="486876" y="380649"/>
                    <a:pt x="1181781" y="165538"/>
                    <a:pt x="1610232" y="85867"/>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73" name="Freeform: Shape 5"/>
            <p:cNvSpPr/>
            <p:nvPr/>
          </p:nvSpPr>
          <p:spPr>
            <a:xfrm>
              <a:off x="6216480" y="5127840"/>
              <a:ext cx="2129400" cy="568080"/>
            </a:xfrm>
            <a:custGeom>
              <a:avLst/>
              <a:gdLst/>
              <a:ahLst/>
              <a:rect l="l" t="t" r="r" b="b"/>
              <a:pathLst>
                <a:path w="2129725" h="568317">
                  <a:moveTo>
                    <a:pt x="462089" y="168194"/>
                  </a:moveTo>
                  <a:lnTo>
                    <a:pt x="0" y="254061"/>
                  </a:lnTo>
                  <a:lnTo>
                    <a:pt x="2656" y="255831"/>
                  </a:lnTo>
                  <a:lnTo>
                    <a:pt x="5311" y="256716"/>
                  </a:lnTo>
                  <a:cubicBezTo>
                    <a:pt x="20360" y="265569"/>
                    <a:pt x="35409" y="276191"/>
                    <a:pt x="47802" y="287699"/>
                  </a:cubicBezTo>
                  <a:cubicBezTo>
                    <a:pt x="58425" y="298322"/>
                    <a:pt x="67277" y="308060"/>
                    <a:pt x="76130" y="319568"/>
                  </a:cubicBezTo>
                  <a:cubicBezTo>
                    <a:pt x="123932" y="387730"/>
                    <a:pt x="123932" y="474483"/>
                    <a:pt x="71704" y="547957"/>
                  </a:cubicBezTo>
                  <a:cubicBezTo>
                    <a:pt x="66392" y="555039"/>
                    <a:pt x="61081" y="562121"/>
                    <a:pt x="54884" y="568317"/>
                  </a:cubicBezTo>
                  <a:cubicBezTo>
                    <a:pt x="128358" y="553268"/>
                    <a:pt x="202717" y="538219"/>
                    <a:pt x="276191" y="522285"/>
                  </a:cubicBezTo>
                  <a:lnTo>
                    <a:pt x="852476" y="401894"/>
                  </a:lnTo>
                  <a:lnTo>
                    <a:pt x="859558" y="400124"/>
                  </a:lnTo>
                  <a:cubicBezTo>
                    <a:pt x="905589" y="391271"/>
                    <a:pt x="956048" y="380649"/>
                    <a:pt x="1010047" y="368255"/>
                  </a:cubicBezTo>
                  <a:lnTo>
                    <a:pt x="2014782" y="158456"/>
                  </a:lnTo>
                  <a:cubicBezTo>
                    <a:pt x="2089141" y="144292"/>
                    <a:pt x="2139599" y="81441"/>
                    <a:pt x="2128091" y="17705"/>
                  </a:cubicBezTo>
                  <a:cubicBezTo>
                    <a:pt x="2127206" y="11508"/>
                    <a:pt x="2125435" y="6197"/>
                    <a:pt x="2122780" y="0"/>
                  </a:cubicBezTo>
                  <a:lnTo>
                    <a:pt x="2062584" y="11508"/>
                  </a:lnTo>
                  <a:cubicBezTo>
                    <a:pt x="2065240" y="16819"/>
                    <a:pt x="2067896" y="23016"/>
                    <a:pt x="2068781" y="28327"/>
                  </a:cubicBezTo>
                  <a:cubicBezTo>
                    <a:pt x="2070551" y="38065"/>
                    <a:pt x="2069666" y="47802"/>
                    <a:pt x="2067010" y="56655"/>
                  </a:cubicBezTo>
                  <a:lnTo>
                    <a:pt x="2059043" y="11508"/>
                  </a:lnTo>
                  <a:lnTo>
                    <a:pt x="1916521" y="38065"/>
                  </a:lnTo>
                  <a:lnTo>
                    <a:pt x="1872260" y="46032"/>
                  </a:lnTo>
                  <a:lnTo>
                    <a:pt x="1856326" y="48688"/>
                  </a:lnTo>
                  <a:cubicBezTo>
                    <a:pt x="1617314" y="38065"/>
                    <a:pt x="890541" y="87638"/>
                    <a:pt x="462089" y="16819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74" name="Freeform: Shape 6"/>
            <p:cNvSpPr/>
            <p:nvPr/>
          </p:nvSpPr>
          <p:spPr>
            <a:xfrm rot="20966400">
              <a:off x="5826960" y="5352480"/>
              <a:ext cx="502560" cy="432000"/>
            </a:xfrm>
            <a:custGeom>
              <a:avLst/>
              <a:gdLst/>
              <a:ahLst/>
              <a:rect l="l" t="t" r="r" b="b"/>
              <a:pathLst>
                <a:path w="502822" h="432002">
                  <a:moveTo>
                    <a:pt x="502822" y="216001"/>
                  </a:moveTo>
                  <a:cubicBezTo>
                    <a:pt x="502822" y="335295"/>
                    <a:pt x="390262" y="432002"/>
                    <a:pt x="251411" y="432002"/>
                  </a:cubicBezTo>
                  <a:cubicBezTo>
                    <a:pt x="112561" y="432002"/>
                    <a:pt x="0" y="335295"/>
                    <a:pt x="0" y="216001"/>
                  </a:cubicBezTo>
                  <a:cubicBezTo>
                    <a:pt x="0" y="96707"/>
                    <a:pt x="112561" y="0"/>
                    <a:pt x="251411" y="0"/>
                  </a:cubicBezTo>
                  <a:cubicBezTo>
                    <a:pt x="390262" y="0"/>
                    <a:pt x="502822" y="96707"/>
                    <a:pt x="502822" y="216001"/>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75" name="Freeform: Shape 7"/>
            <p:cNvSpPr/>
            <p:nvPr/>
          </p:nvSpPr>
          <p:spPr>
            <a:xfrm>
              <a:off x="8128080" y="5029200"/>
              <a:ext cx="344880" cy="351360"/>
            </a:xfrm>
            <a:custGeom>
              <a:avLst/>
              <a:gdLst/>
              <a:ahLst/>
              <a:rect l="l" t="t" r="r" b="b"/>
              <a:pathLst>
                <a:path w="345189" h="351384">
                  <a:moveTo>
                    <a:pt x="145584" y="3958"/>
                  </a:moveTo>
                  <a:cubicBezTo>
                    <a:pt x="239418" y="-16402"/>
                    <a:pt x="327941" y="43793"/>
                    <a:pt x="342990" y="138513"/>
                  </a:cubicBezTo>
                  <a:cubicBezTo>
                    <a:pt x="358039" y="233232"/>
                    <a:pt x="294302" y="326181"/>
                    <a:pt x="199582" y="347427"/>
                  </a:cubicBezTo>
                  <a:cubicBezTo>
                    <a:pt x="105748" y="367787"/>
                    <a:pt x="17225" y="307591"/>
                    <a:pt x="2176" y="212872"/>
                  </a:cubicBezTo>
                  <a:cubicBezTo>
                    <a:pt x="-12873" y="118152"/>
                    <a:pt x="51750" y="24318"/>
                    <a:pt x="145584"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76" name="Freeform: Shape 8"/>
            <p:cNvSpPr/>
            <p:nvPr/>
          </p:nvSpPr>
          <p:spPr>
            <a:xfrm>
              <a:off x="3716280" y="5830560"/>
              <a:ext cx="344880" cy="351360"/>
            </a:xfrm>
            <a:custGeom>
              <a:avLst/>
              <a:gdLst/>
              <a:ahLst/>
              <a:rect l="l" t="t" r="r" b="b"/>
              <a:pathLst>
                <a:path w="344981" h="351384">
                  <a:moveTo>
                    <a:pt x="145376" y="3958"/>
                  </a:moveTo>
                  <a:cubicBezTo>
                    <a:pt x="239210" y="-16402"/>
                    <a:pt x="327733" y="43793"/>
                    <a:pt x="342782" y="138513"/>
                  </a:cubicBezTo>
                  <a:cubicBezTo>
                    <a:pt x="357831" y="233232"/>
                    <a:pt x="294094" y="326181"/>
                    <a:pt x="199375" y="347427"/>
                  </a:cubicBezTo>
                  <a:cubicBezTo>
                    <a:pt x="105541" y="367787"/>
                    <a:pt x="17018" y="307591"/>
                    <a:pt x="1969" y="212872"/>
                  </a:cubicBezTo>
                  <a:cubicBezTo>
                    <a:pt x="-12195" y="118152"/>
                    <a:pt x="51542" y="24318"/>
                    <a:pt x="145376"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1877" name="Graphic 2" descr=""/>
            <p:cNvPicPr/>
            <p:nvPr/>
          </p:nvPicPr>
          <p:blipFill>
            <a:blip r:embed="rId1"/>
            <a:stretch/>
          </p:blipFill>
          <p:spPr>
            <a:xfrm>
              <a:off x="4675680" y="5212080"/>
              <a:ext cx="2980800" cy="731520"/>
            </a:xfrm>
            <a:prstGeom prst="rect">
              <a:avLst/>
            </a:prstGeom>
            <a:ln w="0">
              <a:noFill/>
            </a:ln>
          </p:spPr>
        </p:pic>
        <p:grpSp>
          <p:nvGrpSpPr>
            <p:cNvPr id="1878" name="Graphic 2"/>
            <p:cNvGrpSpPr/>
            <p:nvPr/>
          </p:nvGrpSpPr>
          <p:grpSpPr>
            <a:xfrm>
              <a:off x="5060520" y="5417640"/>
              <a:ext cx="2034000" cy="813240"/>
              <a:chOff x="5060520" y="5417640"/>
              <a:chExt cx="2034000" cy="813240"/>
            </a:xfrm>
          </p:grpSpPr>
          <p:sp>
            <p:nvSpPr>
              <p:cNvPr id="1879" name="Freeform: Shape 17"/>
              <p:cNvSpPr/>
              <p:nvPr/>
            </p:nvSpPr>
            <p:spPr>
              <a:xfrm>
                <a:off x="5060520" y="5417640"/>
                <a:ext cx="2034000" cy="813240"/>
              </a:xfrm>
              <a:custGeom>
                <a:avLst/>
                <a:gdLst/>
                <a:ahLst/>
                <a:rect l="l" t="t" r="r" b="b"/>
                <a:pathLst>
                  <a:path w="2034256" h="813525">
                    <a:moveTo>
                      <a:pt x="0" y="662151"/>
                    </a:moveTo>
                    <a:lnTo>
                      <a:pt x="616120" y="662151"/>
                    </a:lnTo>
                    <a:lnTo>
                      <a:pt x="616120" y="476253"/>
                    </a:lnTo>
                    <a:cubicBezTo>
                      <a:pt x="616120" y="374452"/>
                      <a:pt x="699331" y="290355"/>
                      <a:pt x="802018" y="290355"/>
                    </a:cubicBezTo>
                    <a:lnTo>
                      <a:pt x="817066" y="290355"/>
                    </a:lnTo>
                    <a:lnTo>
                      <a:pt x="817066" y="200062"/>
                    </a:lnTo>
                    <a:cubicBezTo>
                      <a:pt x="817066" y="90293"/>
                      <a:pt x="907360" y="0"/>
                      <a:pt x="1017128" y="0"/>
                    </a:cubicBezTo>
                    <a:cubicBezTo>
                      <a:pt x="1126897" y="0"/>
                      <a:pt x="1217190" y="90293"/>
                      <a:pt x="1217190" y="200062"/>
                    </a:cubicBezTo>
                    <a:lnTo>
                      <a:pt x="1217190" y="290355"/>
                    </a:lnTo>
                    <a:lnTo>
                      <a:pt x="1232239" y="290355"/>
                    </a:lnTo>
                    <a:cubicBezTo>
                      <a:pt x="1334041" y="290355"/>
                      <a:pt x="1418137" y="373567"/>
                      <a:pt x="1418137" y="476253"/>
                    </a:cubicBezTo>
                    <a:lnTo>
                      <a:pt x="1418137" y="662151"/>
                    </a:lnTo>
                    <a:lnTo>
                      <a:pt x="2034257" y="662151"/>
                    </a:lnTo>
                    <a:lnTo>
                      <a:pt x="2034257" y="813526"/>
                    </a:lnTo>
                    <a:lnTo>
                      <a:pt x="0" y="813526"/>
                    </a:lnTo>
                    <a:lnTo>
                      <a:pt x="0" y="662151"/>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80" name="Freeform: Shape 18"/>
              <p:cNvSpPr/>
              <p:nvPr/>
            </p:nvSpPr>
            <p:spPr>
              <a:xfrm>
                <a:off x="6117480" y="5511240"/>
                <a:ext cx="933840" cy="675360"/>
              </a:xfrm>
              <a:custGeom>
                <a:avLst/>
                <a:gdLst/>
                <a:ahLst/>
                <a:rect l="l" t="t" r="r" b="b"/>
                <a:pathLst>
                  <a:path w="933916" h="675429">
                    <a:moveTo>
                      <a:pt x="200947" y="675430"/>
                    </a:moveTo>
                    <a:lnTo>
                      <a:pt x="817067" y="675430"/>
                    </a:lnTo>
                    <a:lnTo>
                      <a:pt x="933917" y="675430"/>
                    </a:lnTo>
                    <a:lnTo>
                      <a:pt x="933917" y="613464"/>
                    </a:lnTo>
                    <a:lnTo>
                      <a:pt x="317797" y="613464"/>
                    </a:lnTo>
                    <a:lnTo>
                      <a:pt x="317797" y="383304"/>
                    </a:lnTo>
                    <a:cubicBezTo>
                      <a:pt x="317797" y="305404"/>
                      <a:pt x="254061" y="241668"/>
                      <a:pt x="176161" y="241668"/>
                    </a:cubicBezTo>
                    <a:lnTo>
                      <a:pt x="116850" y="241668"/>
                    </a:lnTo>
                    <a:lnTo>
                      <a:pt x="116850" y="107113"/>
                    </a:lnTo>
                    <a:cubicBezTo>
                      <a:pt x="116850" y="65507"/>
                      <a:pt x="100031" y="27442"/>
                      <a:pt x="73474" y="0"/>
                    </a:cubicBezTo>
                    <a:cubicBezTo>
                      <a:pt x="83211" y="17705"/>
                      <a:pt x="88523" y="37180"/>
                      <a:pt x="88523" y="58425"/>
                    </a:cubicBezTo>
                    <a:cubicBezTo>
                      <a:pt x="88523" y="114195"/>
                      <a:pt x="51343" y="161997"/>
                      <a:pt x="0" y="177046"/>
                    </a:cubicBezTo>
                    <a:lnTo>
                      <a:pt x="0" y="304519"/>
                    </a:lnTo>
                    <a:lnTo>
                      <a:pt x="59310" y="304519"/>
                    </a:lnTo>
                    <a:cubicBezTo>
                      <a:pt x="137211" y="304519"/>
                      <a:pt x="200947" y="368255"/>
                      <a:pt x="200947" y="446156"/>
                    </a:cubicBezTo>
                    <a:lnTo>
                      <a:pt x="200947" y="67543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81" name="Freeform: Shape 19"/>
              <p:cNvSpPr/>
              <p:nvPr/>
            </p:nvSpPr>
            <p:spPr>
              <a:xfrm>
                <a:off x="5998680" y="5490000"/>
                <a:ext cx="162720" cy="159120"/>
              </a:xfrm>
              <a:custGeom>
                <a:avLst/>
                <a:gdLst/>
                <a:ahLst/>
                <a:rect l="l" t="t" r="r" b="b"/>
                <a:pathLst>
                  <a:path w="162882" h="159341">
                    <a:moveTo>
                      <a:pt x="81441" y="159341"/>
                    </a:moveTo>
                    <a:cubicBezTo>
                      <a:pt x="125703" y="159341"/>
                      <a:pt x="162882" y="123047"/>
                      <a:pt x="162882" y="79671"/>
                    </a:cubicBezTo>
                    <a:cubicBezTo>
                      <a:pt x="162882" y="35409"/>
                      <a:pt x="126588" y="0"/>
                      <a:pt x="81441" y="0"/>
                    </a:cubicBezTo>
                    <a:cubicBezTo>
                      <a:pt x="37180" y="0"/>
                      <a:pt x="0" y="36294"/>
                      <a:pt x="0" y="79671"/>
                    </a:cubicBezTo>
                    <a:cubicBezTo>
                      <a:pt x="0" y="123047"/>
                      <a:pt x="37180" y="159341"/>
                      <a:pt x="81441" y="159341"/>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882" name="Freeform: Shape 20"/>
            <p:cNvSpPr/>
            <p:nvPr/>
          </p:nvSpPr>
          <p:spPr>
            <a:xfrm>
              <a:off x="3805920" y="5651280"/>
              <a:ext cx="167040" cy="410760"/>
            </a:xfrm>
            <a:custGeom>
              <a:avLst/>
              <a:gdLst/>
              <a:ahLst/>
              <a:rect l="l" t="t" r="r" b="b"/>
              <a:pathLst>
                <a:path w="167308" h="410746">
                  <a:moveTo>
                    <a:pt x="0" y="0"/>
                  </a:moveTo>
                  <a:lnTo>
                    <a:pt x="167308" y="0"/>
                  </a:lnTo>
                  <a:lnTo>
                    <a:pt x="167308" y="298322"/>
                  </a:lnTo>
                  <a:lnTo>
                    <a:pt x="85867" y="410746"/>
                  </a:lnTo>
                  <a:lnTo>
                    <a:pt x="2656" y="32133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83" name="Freeform: Shape 21"/>
            <p:cNvSpPr/>
            <p:nvPr/>
          </p:nvSpPr>
          <p:spPr>
            <a:xfrm>
              <a:off x="8217000" y="4849920"/>
              <a:ext cx="167040" cy="410760"/>
            </a:xfrm>
            <a:custGeom>
              <a:avLst/>
              <a:gdLst/>
              <a:ahLst/>
              <a:rect l="l" t="t" r="r" b="b"/>
              <a:pathLst>
                <a:path w="167308" h="410746">
                  <a:moveTo>
                    <a:pt x="167309" y="0"/>
                  </a:moveTo>
                  <a:lnTo>
                    <a:pt x="0" y="0"/>
                  </a:lnTo>
                  <a:lnTo>
                    <a:pt x="0" y="299207"/>
                  </a:lnTo>
                  <a:lnTo>
                    <a:pt x="81441" y="410746"/>
                  </a:lnTo>
                  <a:lnTo>
                    <a:pt x="167309" y="299207"/>
                  </a:lnTo>
                  <a:lnTo>
                    <a:pt x="16730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84" name="Freeform: Shape 22"/>
            <p:cNvSpPr/>
            <p:nvPr/>
          </p:nvSpPr>
          <p:spPr>
            <a:xfrm>
              <a:off x="2820960" y="5333400"/>
              <a:ext cx="2242800" cy="317520"/>
            </a:xfrm>
            <a:custGeom>
              <a:avLst/>
              <a:gdLst/>
              <a:ahLst/>
              <a:rect l="l" t="t" r="r" b="b"/>
              <a:pathLst>
                <a:path w="2243170" h="317797">
                  <a:moveTo>
                    <a:pt x="1951930" y="317797"/>
                  </a:moveTo>
                  <a:lnTo>
                    <a:pt x="291240" y="317797"/>
                  </a:lnTo>
                  <a:lnTo>
                    <a:pt x="0" y="0"/>
                  </a:lnTo>
                  <a:lnTo>
                    <a:pt x="2243171" y="885"/>
                  </a:lnTo>
                  <a:lnTo>
                    <a:pt x="1951930"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85" name="Freeform: Shape 23"/>
            <p:cNvSpPr/>
            <p:nvPr/>
          </p:nvSpPr>
          <p:spPr>
            <a:xfrm>
              <a:off x="7126560" y="4532400"/>
              <a:ext cx="2242800" cy="317520"/>
            </a:xfrm>
            <a:custGeom>
              <a:avLst/>
              <a:gdLst/>
              <a:ahLst/>
              <a:rect l="l" t="t" r="r" b="b"/>
              <a:pathLst>
                <a:path w="2243170" h="317797">
                  <a:moveTo>
                    <a:pt x="1952816" y="317797"/>
                  </a:moveTo>
                  <a:lnTo>
                    <a:pt x="291240" y="317797"/>
                  </a:lnTo>
                  <a:lnTo>
                    <a:pt x="0" y="0"/>
                  </a:lnTo>
                  <a:lnTo>
                    <a:pt x="2243171" y="1770"/>
                  </a:lnTo>
                  <a:lnTo>
                    <a:pt x="1952816"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86" name="Freeform: Shape 24"/>
            <p:cNvSpPr/>
            <p:nvPr/>
          </p:nvSpPr>
          <p:spPr>
            <a:xfrm>
              <a:off x="4046760" y="5365440"/>
              <a:ext cx="933840" cy="255600"/>
            </a:xfrm>
            <a:custGeom>
              <a:avLst/>
              <a:gdLst/>
              <a:ahLst/>
              <a:rect l="l" t="t" r="r" b="b"/>
              <a:pathLst>
                <a:path w="933916" h="255831">
                  <a:moveTo>
                    <a:pt x="699331" y="255831"/>
                  </a:moveTo>
                  <a:lnTo>
                    <a:pt x="933917" y="0"/>
                  </a:lnTo>
                  <a:lnTo>
                    <a:pt x="588677" y="0"/>
                  </a:lnTo>
                  <a:cubicBezTo>
                    <a:pt x="478909" y="150489"/>
                    <a:pt x="362059" y="226619"/>
                    <a:pt x="248749" y="235471"/>
                  </a:cubicBezTo>
                  <a:lnTo>
                    <a:pt x="0" y="255831"/>
                  </a:lnTo>
                  <a:lnTo>
                    <a:pt x="699331"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87" name="Freeform: Shape 25"/>
            <p:cNvSpPr/>
            <p:nvPr/>
          </p:nvSpPr>
          <p:spPr>
            <a:xfrm>
              <a:off x="8353440" y="4564080"/>
              <a:ext cx="932760" cy="255600"/>
            </a:xfrm>
            <a:custGeom>
              <a:avLst/>
              <a:gdLst/>
              <a:ahLst/>
              <a:rect l="l" t="t" r="r" b="b"/>
              <a:pathLst>
                <a:path w="933031" h="255831">
                  <a:moveTo>
                    <a:pt x="698446" y="255831"/>
                  </a:moveTo>
                  <a:lnTo>
                    <a:pt x="933032" y="0"/>
                  </a:lnTo>
                  <a:lnTo>
                    <a:pt x="587792" y="0"/>
                  </a:lnTo>
                  <a:cubicBezTo>
                    <a:pt x="478024" y="150489"/>
                    <a:pt x="361173" y="226619"/>
                    <a:pt x="247864" y="235471"/>
                  </a:cubicBezTo>
                  <a:lnTo>
                    <a:pt x="0" y="255831"/>
                  </a:lnTo>
                  <a:lnTo>
                    <a:pt x="698446"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Tree>
  </p:cSld>
  <p:transition spd="med">
    <p:fade/>
  </p:transition>
  <p:timing>
    <p:tnLst>
      <p:par>
        <p:cTn id="1862" dur="indefinite" restart="never" nodeType="tmRoot">
          <p:childTnLst>
            <p:seq>
              <p:cTn id="1863" dur="indefinite" nodeType="mainSeq">
                <p:childTnLst>
                  <p:par>
                    <p:cTn id="1864" nodeType="clickEffect" fill="hold">
                      <p:stCondLst>
                        <p:cond delay="0"/>
                      </p:stCondLst>
                      <p:childTnLst>
                        <p:par>
                          <p:cTn id="1865" nodeType="withEffect" fill="hold">
                            <p:stCondLst>
                              <p:cond delay="0"/>
                            </p:stCondLst>
                            <p:childTnLst>
                              <p:par>
                                <p:cTn id="1866" nodeType="afterEffect" fill="hold" presetClass="entr" presetID="10">
                                  <p:stCondLst>
                                    <p:cond delay="0"/>
                                  </p:stCondLst>
                                  <p:childTnLst>
                                    <p:set>
                                      <p:cBhvr>
                                        <p:cTn id="1867" dur="1" fill="hold">
                                          <p:stCondLst>
                                            <p:cond delay="0"/>
                                          </p:stCondLst>
                                        </p:cTn>
                                        <p:tgtEl>
                                          <p:spTgt spid="1829"/>
                                        </p:tgtEl>
                                        <p:attrNameLst>
                                          <p:attrName>style.visibility</p:attrName>
                                        </p:attrNameLst>
                                      </p:cBhvr>
                                      <p:to>
                                        <p:strVal val="visible"/>
                                      </p:to>
                                    </p:set>
                                    <p:animEffect filter="fade" transition="in">
                                      <p:cBhvr additive="repl">
                                        <p:cTn id="1868" dur="500"/>
                                        <p:tgtEl>
                                          <p:spTgt spid="1829"/>
                                        </p:tgtEl>
                                      </p:cBhvr>
                                    </p:animEffect>
                                  </p:childTnLst>
                                </p:cTn>
                              </p:par>
                            </p:childTnLst>
                          </p:cTn>
                        </p:par>
                        <p:par>
                          <p:cTn id="1869" nodeType="afterEffect" fill="hold">
                            <p:stCondLst>
                              <p:cond delay="500"/>
                            </p:stCondLst>
                            <p:childTnLst>
                              <p:par>
                                <p:cTn id="1870" nodeType="afterEffect" fill="hold" presetClass="entr" presetID="47">
                                  <p:stCondLst>
                                    <p:cond delay="0"/>
                                  </p:stCondLst>
                                  <p:childTnLst>
                                    <p:set>
                                      <p:cBhvr>
                                        <p:cTn id="1871" dur="1" fill="hold">
                                          <p:stCondLst>
                                            <p:cond delay="0"/>
                                          </p:stCondLst>
                                        </p:cTn>
                                        <p:tgtEl>
                                          <p:spTgt spid="1871"/>
                                        </p:tgtEl>
                                        <p:attrNameLst>
                                          <p:attrName>style.visibility</p:attrName>
                                        </p:attrNameLst>
                                      </p:cBhvr>
                                      <p:to>
                                        <p:strVal val="visible"/>
                                      </p:to>
                                    </p:set>
                                    <p:animEffect filter="fade" transition="in">
                                      <p:cBhvr additive="repl">
                                        <p:cTn id="1872" dur="1000"/>
                                        <p:tgtEl>
                                          <p:spTgt spid="1871"/>
                                        </p:tgtEl>
                                      </p:cBhvr>
                                    </p:animEffect>
                                    <p:anim calcmode="lin" valueType="num">
                                      <p:cBhvr additive="repl">
                                        <p:cTn id="1873" dur="1000" fill="hold"/>
                                        <p:tgtEl>
                                          <p:spTgt spid="1871"/>
                                        </p:tgtEl>
                                        <p:attrNameLst>
                                          <p:attrName>ppt_x</p:attrName>
                                        </p:attrNameLst>
                                      </p:cBhvr>
                                      <p:tavLst>
                                        <p:tav tm="0">
                                          <p:val>
                                            <p:strVal val="#ppt_x"/>
                                          </p:val>
                                        </p:tav>
                                        <p:tav tm="100000">
                                          <p:val>
                                            <p:strVal val="#ppt_x"/>
                                          </p:val>
                                        </p:tav>
                                      </p:tavLst>
                                    </p:anim>
                                    <p:anim calcmode="lin" valueType="num">
                                      <p:cBhvr additive="repl">
                                        <p:cTn id="1874" dur="1000" fill="hold"/>
                                        <p:tgtEl>
                                          <p:spTgt spid="1871"/>
                                        </p:tgtEl>
                                        <p:attrNameLst>
                                          <p:attrName>ppt_y</p:attrName>
                                        </p:attrNameLst>
                                      </p:cBhvr>
                                      <p:tavLst>
                                        <p:tav tm="0">
                                          <p:val>
                                            <p:strVal val="#ppt_y-.1"/>
                                          </p:val>
                                        </p:tav>
                                        <p:tav tm="100000">
                                          <p:val>
                                            <p:strVal val="#ppt_y"/>
                                          </p:val>
                                        </p:tav>
                                      </p:tavLst>
                                    </p:anim>
                                  </p:childTnLst>
                                </p:cTn>
                              </p:par>
                            </p:childTnLst>
                          </p:cTn>
                        </p:par>
                        <p:par>
                          <p:cTn id="1875" nodeType="afterEffect" fill="hold">
                            <p:stCondLst>
                              <p:cond delay="1500"/>
                            </p:stCondLst>
                            <p:childTnLst>
                              <p:par>
                                <p:cTn id="1876" nodeType="afterEffect" fill="hold" presetClass="entr" presetID="47">
                                  <p:stCondLst>
                                    <p:cond delay="0"/>
                                  </p:stCondLst>
                                  <p:childTnLst>
                                    <p:set>
                                      <p:cBhvr>
                                        <p:cTn id="1877" dur="1" fill="hold">
                                          <p:stCondLst>
                                            <p:cond delay="0"/>
                                          </p:stCondLst>
                                        </p:cTn>
                                        <p:tgtEl>
                                          <p:spTgt spid="1830"/>
                                        </p:tgtEl>
                                        <p:attrNameLst>
                                          <p:attrName>style.visibility</p:attrName>
                                        </p:attrNameLst>
                                      </p:cBhvr>
                                      <p:to>
                                        <p:strVal val="visible"/>
                                      </p:to>
                                    </p:set>
                                    <p:animEffect filter="fade" transition="in">
                                      <p:cBhvr additive="repl">
                                        <p:cTn id="1878" dur="1000"/>
                                        <p:tgtEl>
                                          <p:spTgt spid="1830"/>
                                        </p:tgtEl>
                                      </p:cBhvr>
                                    </p:animEffect>
                                    <p:anim calcmode="lin" valueType="num">
                                      <p:cBhvr additive="repl">
                                        <p:cTn id="1879" dur="1000" fill="hold"/>
                                        <p:tgtEl>
                                          <p:spTgt spid="1830"/>
                                        </p:tgtEl>
                                        <p:attrNameLst>
                                          <p:attrName>ppt_x</p:attrName>
                                        </p:attrNameLst>
                                      </p:cBhvr>
                                      <p:tavLst>
                                        <p:tav tm="0">
                                          <p:val>
                                            <p:strVal val="#ppt_x"/>
                                          </p:val>
                                        </p:tav>
                                        <p:tav tm="100000">
                                          <p:val>
                                            <p:strVal val="#ppt_x"/>
                                          </p:val>
                                        </p:tav>
                                      </p:tavLst>
                                    </p:anim>
                                    <p:anim calcmode="lin" valueType="num">
                                      <p:cBhvr additive="repl">
                                        <p:cTn id="1880" dur="1000" fill="hold"/>
                                        <p:tgtEl>
                                          <p:spTgt spid="1830"/>
                                        </p:tgtEl>
                                        <p:attrNameLst>
                                          <p:attrName>ppt_y</p:attrName>
                                        </p:attrNameLst>
                                      </p:cBhvr>
                                      <p:tavLst>
                                        <p:tav tm="0">
                                          <p:val>
                                            <p:strVal val="#ppt_y-.1"/>
                                          </p:val>
                                        </p:tav>
                                        <p:tav tm="100000">
                                          <p:val>
                                            <p:strVal val="#ppt_y"/>
                                          </p:val>
                                        </p:tav>
                                      </p:tavLst>
                                    </p:anim>
                                  </p:childTnLst>
                                </p:cTn>
                              </p:par>
                              <p:par>
                                <p:cTn id="1881" nodeType="withEffect" fill="hold" presetClass="entr" presetID="47">
                                  <p:stCondLst>
                                    <p:cond delay="0"/>
                                  </p:stCondLst>
                                  <p:childTnLst>
                                    <p:set>
                                      <p:cBhvr>
                                        <p:cTn id="1882" dur="1" fill="hold">
                                          <p:stCondLst>
                                            <p:cond delay="0"/>
                                          </p:stCondLst>
                                        </p:cTn>
                                        <p:tgtEl>
                                          <p:spTgt spid="1808"/>
                                        </p:tgtEl>
                                        <p:attrNameLst>
                                          <p:attrName>style.visibility</p:attrName>
                                        </p:attrNameLst>
                                      </p:cBhvr>
                                      <p:to>
                                        <p:strVal val="visible"/>
                                      </p:to>
                                    </p:set>
                                    <p:animEffect filter="fade" transition="in">
                                      <p:cBhvr additive="repl">
                                        <p:cTn id="1883" dur="1000"/>
                                        <p:tgtEl>
                                          <p:spTgt spid="1808"/>
                                        </p:tgtEl>
                                      </p:cBhvr>
                                    </p:animEffect>
                                    <p:anim calcmode="lin" valueType="num">
                                      <p:cBhvr additive="repl">
                                        <p:cTn id="1884" dur="1000" fill="hold"/>
                                        <p:tgtEl>
                                          <p:spTgt spid="1808"/>
                                        </p:tgtEl>
                                        <p:attrNameLst>
                                          <p:attrName>ppt_x</p:attrName>
                                        </p:attrNameLst>
                                      </p:cBhvr>
                                      <p:tavLst>
                                        <p:tav tm="0">
                                          <p:val>
                                            <p:strVal val="#ppt_x"/>
                                          </p:val>
                                        </p:tav>
                                        <p:tav tm="100000">
                                          <p:val>
                                            <p:strVal val="#ppt_x"/>
                                          </p:val>
                                        </p:tav>
                                      </p:tavLst>
                                    </p:anim>
                                    <p:anim calcmode="lin" valueType="num">
                                      <p:cBhvr additive="repl">
                                        <p:cTn id="1885" dur="1000" fill="hold"/>
                                        <p:tgtEl>
                                          <p:spTgt spid="1808"/>
                                        </p:tgtEl>
                                        <p:attrNameLst>
                                          <p:attrName>ppt_y</p:attrName>
                                        </p:attrNameLst>
                                      </p:cBhvr>
                                      <p:tavLst>
                                        <p:tav tm="0">
                                          <p:val>
                                            <p:strVal val="#ppt_y-.1"/>
                                          </p:val>
                                        </p:tav>
                                        <p:tav tm="100000">
                                          <p:val>
                                            <p:strVal val="#ppt_y"/>
                                          </p:val>
                                        </p:tav>
                                      </p:tavLst>
                                    </p:anim>
                                  </p:childTnLst>
                                </p:cTn>
                              </p:par>
                            </p:childTnLst>
                          </p:cTn>
                        </p:par>
                        <p:par>
                          <p:cTn id="1886" nodeType="afterEffect" fill="hold">
                            <p:stCondLst>
                              <p:cond delay="2500"/>
                            </p:stCondLst>
                            <p:childTnLst>
                              <p:par>
                                <p:cTn id="1887" nodeType="afterEffect" fill="hold" presetClass="entr" presetID="10">
                                  <p:stCondLst>
                                    <p:cond delay="0"/>
                                  </p:stCondLst>
                                  <p:childTnLst>
                                    <p:set>
                                      <p:cBhvr>
                                        <p:cTn id="1888" dur="1" fill="hold">
                                          <p:stCondLst>
                                            <p:cond delay="0"/>
                                          </p:stCondLst>
                                        </p:cTn>
                                        <p:tgtEl>
                                          <p:spTgt spid="1862"/>
                                        </p:tgtEl>
                                        <p:attrNameLst>
                                          <p:attrName>style.visibility</p:attrName>
                                        </p:attrNameLst>
                                      </p:cBhvr>
                                      <p:to>
                                        <p:strVal val="visible"/>
                                      </p:to>
                                    </p:set>
                                    <p:animEffect filter="fade" transition="in">
                                      <p:cBhvr additive="repl">
                                        <p:cTn id="1889" dur="500"/>
                                        <p:tgtEl>
                                          <p:spTgt spid="1862"/>
                                        </p:tgtEl>
                                      </p:cBhvr>
                                    </p:animEffect>
                                  </p:childTnLst>
                                </p:cTn>
                              </p:par>
                              <p:par>
                                <p:cTn id="1890" nodeType="withEffect" fill="hold" presetClass="entr" presetID="10">
                                  <p:stCondLst>
                                    <p:cond delay="0"/>
                                  </p:stCondLst>
                                  <p:childTnLst>
                                    <p:set>
                                      <p:cBhvr>
                                        <p:cTn id="1891" dur="1" fill="hold">
                                          <p:stCondLst>
                                            <p:cond delay="0"/>
                                          </p:stCondLst>
                                        </p:cTn>
                                        <p:tgtEl>
                                          <p:spTgt spid="1867"/>
                                        </p:tgtEl>
                                        <p:attrNameLst>
                                          <p:attrName>style.visibility</p:attrName>
                                        </p:attrNameLst>
                                      </p:cBhvr>
                                      <p:to>
                                        <p:strVal val="visible"/>
                                      </p:to>
                                    </p:set>
                                    <p:animEffect filter="fade" transition="in">
                                      <p:cBhvr additive="repl">
                                        <p:cTn id="1892" dur="500"/>
                                        <p:tgtEl>
                                          <p:spTgt spid="1867"/>
                                        </p:tgtEl>
                                      </p:cBhvr>
                                    </p:animEffect>
                                  </p:childTnLst>
                                </p:cTn>
                              </p:par>
                            </p:childTnLst>
                          </p:cTn>
                        </p:par>
                        <p:par>
                          <p:cTn id="1893" nodeType="afterEffect" fill="hold">
                            <p:stCondLst>
                              <p:cond delay="3000"/>
                            </p:stCondLst>
                            <p:childTnLst>
                              <p:par>
                                <p:cTn id="1894" nodeType="afterEffect" fill="hold" presetClass="entr" presetID="10">
                                  <p:stCondLst>
                                    <p:cond delay="0"/>
                                  </p:stCondLst>
                                  <p:childTnLst>
                                    <p:set>
                                      <p:cBhvr>
                                        <p:cTn id="1895" dur="1" fill="hold">
                                          <p:stCondLst>
                                            <p:cond delay="0"/>
                                          </p:stCondLst>
                                        </p:cTn>
                                        <p:tgtEl>
                                          <p:spTgt spid="1865"/>
                                        </p:tgtEl>
                                        <p:attrNameLst>
                                          <p:attrName>style.visibility</p:attrName>
                                        </p:attrNameLst>
                                      </p:cBhvr>
                                      <p:to>
                                        <p:strVal val="visible"/>
                                      </p:to>
                                    </p:set>
                                    <p:animEffect filter="fade" transition="in">
                                      <p:cBhvr additive="repl">
                                        <p:cTn id="1896" dur="500"/>
                                        <p:tgtEl>
                                          <p:spTgt spid="1865"/>
                                        </p:tgtEl>
                                      </p:cBhvr>
                                    </p:animEffect>
                                  </p:childTnLst>
                                </p:cTn>
                              </p:par>
                              <p:par>
                                <p:cTn id="1897" nodeType="withEffect" fill="hold" presetClass="entr" presetID="10">
                                  <p:stCondLst>
                                    <p:cond delay="0"/>
                                  </p:stCondLst>
                                  <p:childTnLst>
                                    <p:set>
                                      <p:cBhvr>
                                        <p:cTn id="1898" dur="1" fill="hold">
                                          <p:stCondLst>
                                            <p:cond delay="0"/>
                                          </p:stCondLst>
                                        </p:cTn>
                                        <p:tgtEl>
                                          <p:spTgt spid="1861"/>
                                        </p:tgtEl>
                                        <p:attrNameLst>
                                          <p:attrName>style.visibility</p:attrName>
                                        </p:attrNameLst>
                                      </p:cBhvr>
                                      <p:to>
                                        <p:strVal val="visible"/>
                                      </p:to>
                                    </p:set>
                                    <p:animEffect filter="fade" transition="in">
                                      <p:cBhvr additive="repl">
                                        <p:cTn id="1899" dur="500"/>
                                        <p:tgtEl>
                                          <p:spTgt spid="1861"/>
                                        </p:tgtEl>
                                      </p:cBhvr>
                                    </p:animEffect>
                                  </p:childTnLst>
                                </p:cTn>
                              </p:par>
                              <p:par>
                                <p:cTn id="1900" nodeType="withEffect" fill="hold" presetClass="entr" presetID="10">
                                  <p:stCondLst>
                                    <p:cond delay="0"/>
                                  </p:stCondLst>
                                  <p:childTnLst>
                                    <p:set>
                                      <p:cBhvr>
                                        <p:cTn id="1901" dur="1" fill="hold">
                                          <p:stCondLst>
                                            <p:cond delay="0"/>
                                          </p:stCondLst>
                                        </p:cTn>
                                        <p:tgtEl>
                                          <p:spTgt spid="1863"/>
                                        </p:tgtEl>
                                        <p:attrNameLst>
                                          <p:attrName>style.visibility</p:attrName>
                                        </p:attrNameLst>
                                      </p:cBhvr>
                                      <p:to>
                                        <p:strVal val="visible"/>
                                      </p:to>
                                    </p:set>
                                    <p:animEffect filter="fade" transition="in">
                                      <p:cBhvr additive="repl">
                                        <p:cTn id="1902" dur="500"/>
                                        <p:tgtEl>
                                          <p:spTgt spid="1863"/>
                                        </p:tgtEl>
                                      </p:cBhvr>
                                    </p:animEffect>
                                  </p:childTnLst>
                                </p:cTn>
                              </p:par>
                              <p:par>
                                <p:cTn id="1903" nodeType="withEffect" fill="hold" presetClass="entr" presetID="10">
                                  <p:stCondLst>
                                    <p:cond delay="0"/>
                                  </p:stCondLst>
                                  <p:childTnLst>
                                    <p:set>
                                      <p:cBhvr>
                                        <p:cTn id="1904" dur="1" fill="hold">
                                          <p:stCondLst>
                                            <p:cond delay="0"/>
                                          </p:stCondLst>
                                        </p:cTn>
                                        <p:tgtEl>
                                          <p:spTgt spid="1866"/>
                                        </p:tgtEl>
                                        <p:attrNameLst>
                                          <p:attrName>style.visibility</p:attrName>
                                        </p:attrNameLst>
                                      </p:cBhvr>
                                      <p:to>
                                        <p:strVal val="visible"/>
                                      </p:to>
                                    </p:set>
                                    <p:animEffect filter="fade" transition="in">
                                      <p:cBhvr additive="repl">
                                        <p:cTn id="1905" dur="500"/>
                                        <p:tgtEl>
                                          <p:spTgt spid="1866"/>
                                        </p:tgtEl>
                                      </p:cBhvr>
                                    </p:animEffect>
                                  </p:childTnLst>
                                </p:cTn>
                              </p:par>
                              <p:par>
                                <p:cTn id="1906" nodeType="withEffect" fill="hold" presetClass="entr" presetID="10">
                                  <p:stCondLst>
                                    <p:cond delay="0"/>
                                  </p:stCondLst>
                                  <p:childTnLst>
                                    <p:set>
                                      <p:cBhvr>
                                        <p:cTn id="1907" dur="1" fill="hold">
                                          <p:stCondLst>
                                            <p:cond delay="0"/>
                                          </p:stCondLst>
                                        </p:cTn>
                                        <p:tgtEl>
                                          <p:spTgt spid="1870"/>
                                        </p:tgtEl>
                                        <p:attrNameLst>
                                          <p:attrName>style.visibility</p:attrName>
                                        </p:attrNameLst>
                                      </p:cBhvr>
                                      <p:to>
                                        <p:strVal val="visible"/>
                                      </p:to>
                                    </p:set>
                                    <p:animEffect filter="fade" transition="in">
                                      <p:cBhvr additive="repl">
                                        <p:cTn id="1908" dur="500"/>
                                        <p:tgtEl>
                                          <p:spTgt spid="1870"/>
                                        </p:tgtEl>
                                      </p:cBhvr>
                                    </p:animEffect>
                                  </p:childTnLst>
                                </p:cTn>
                              </p:par>
                              <p:par>
                                <p:cTn id="1909" nodeType="withEffect" fill="hold" presetClass="entr" presetID="10">
                                  <p:stCondLst>
                                    <p:cond delay="0"/>
                                  </p:stCondLst>
                                  <p:childTnLst>
                                    <p:set>
                                      <p:cBhvr>
                                        <p:cTn id="1910" dur="1" fill="hold">
                                          <p:stCondLst>
                                            <p:cond delay="0"/>
                                          </p:stCondLst>
                                        </p:cTn>
                                        <p:tgtEl>
                                          <p:spTgt spid="1868"/>
                                        </p:tgtEl>
                                        <p:attrNameLst>
                                          <p:attrName>style.visibility</p:attrName>
                                        </p:attrNameLst>
                                      </p:cBhvr>
                                      <p:to>
                                        <p:strVal val="visible"/>
                                      </p:to>
                                    </p:set>
                                    <p:animEffect filter="fade" transition="in">
                                      <p:cBhvr additive="repl">
                                        <p:cTn id="1911" dur="500"/>
                                        <p:tgtEl>
                                          <p:spTgt spid="1868"/>
                                        </p:tgtEl>
                                      </p:cBhvr>
                                    </p:animEffect>
                                  </p:childTnLst>
                                </p:cTn>
                              </p:par>
                            </p:childTnLst>
                          </p:cTn>
                        </p:par>
                        <p:par>
                          <p:cTn id="1912" nodeType="afterEffect" fill="hold">
                            <p:stCondLst>
                              <p:cond delay="3500"/>
                            </p:stCondLst>
                            <p:childTnLst>
                              <p:par>
                                <p:cTn id="1913" nodeType="afterEffect" fill="hold" presetClass="entr" presetID="22" presetSubtype="8">
                                  <p:stCondLst>
                                    <p:cond delay="0"/>
                                  </p:stCondLst>
                                  <p:childTnLst>
                                    <p:set>
                                      <p:cBhvr>
                                        <p:cTn id="1914" dur="1" fill="hold">
                                          <p:stCondLst>
                                            <p:cond delay="0"/>
                                          </p:stCondLst>
                                        </p:cTn>
                                        <p:tgtEl>
                                          <p:spTgt spid="1864"/>
                                        </p:tgtEl>
                                        <p:attrNameLst>
                                          <p:attrName>style.visibility</p:attrName>
                                        </p:attrNameLst>
                                      </p:cBhvr>
                                      <p:to>
                                        <p:strVal val="visible"/>
                                      </p:to>
                                    </p:set>
                                    <p:animEffect filter="wipe(left)" transition="in">
                                      <p:cBhvr additive="repl">
                                        <p:cTn id="1915" dur="500"/>
                                        <p:tgtEl>
                                          <p:spTgt spid="1864"/>
                                        </p:tgtEl>
                                      </p:cBhvr>
                                    </p:animEffect>
                                  </p:childTnLst>
                                </p:cTn>
                              </p:par>
                              <p:par>
                                <p:cTn id="1916" nodeType="withEffect" fill="hold" presetClass="entr" presetID="22" presetSubtype="8">
                                  <p:stCondLst>
                                    <p:cond delay="0"/>
                                  </p:stCondLst>
                                  <p:childTnLst>
                                    <p:set>
                                      <p:cBhvr>
                                        <p:cTn id="1917" dur="1" fill="hold">
                                          <p:stCondLst>
                                            <p:cond delay="0"/>
                                          </p:stCondLst>
                                        </p:cTn>
                                        <p:tgtEl>
                                          <p:spTgt spid="1869"/>
                                        </p:tgtEl>
                                        <p:attrNameLst>
                                          <p:attrName>style.visibility</p:attrName>
                                        </p:attrNameLst>
                                      </p:cBhvr>
                                      <p:to>
                                        <p:strVal val="visible"/>
                                      </p:to>
                                    </p:set>
                                    <p:animEffect filter="wipe(left)" transition="in">
                                      <p:cBhvr additive="repl">
                                        <p:cTn id="1918"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8" name="Graphic 164"/>
          <p:cNvGrpSpPr/>
          <p:nvPr/>
        </p:nvGrpSpPr>
        <p:grpSpPr>
          <a:xfrm>
            <a:off x="10234440" y="3792600"/>
            <a:ext cx="989280" cy="1192320"/>
            <a:chOff x="10234440" y="3792600"/>
            <a:chExt cx="989280" cy="1192320"/>
          </a:xfrm>
        </p:grpSpPr>
        <p:sp>
          <p:nvSpPr>
            <p:cNvPr id="1889" name="Freeform: Shape 166"/>
            <p:cNvSpPr/>
            <p:nvPr/>
          </p:nvSpPr>
          <p:spPr>
            <a:xfrm>
              <a:off x="10234440" y="3792600"/>
              <a:ext cx="989280" cy="11923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90" name="Freeform: Shape 167"/>
            <p:cNvSpPr/>
            <p:nvPr/>
          </p:nvSpPr>
          <p:spPr>
            <a:xfrm>
              <a:off x="10526400" y="3842280"/>
              <a:ext cx="654120" cy="110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91" name="Freeform: Shape 168"/>
            <p:cNvSpPr/>
            <p:nvPr/>
          </p:nvSpPr>
          <p:spPr>
            <a:xfrm>
              <a:off x="10701000" y="4065120"/>
              <a:ext cx="60840" cy="2260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92" name="Freeform: Shape 169"/>
            <p:cNvSpPr/>
            <p:nvPr/>
          </p:nvSpPr>
          <p:spPr>
            <a:xfrm>
              <a:off x="10580400" y="4046760"/>
              <a:ext cx="281160" cy="36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0800" bIns="-10800" anchor="ctr">
              <a:noAutofit/>
            </a:bodyPr>
            <a:p>
              <a:endParaRPr b="0" lang="en-US" sz="1800" spc="-1" strike="noStrike">
                <a:solidFill>
                  <a:srgbClr val="313c3f"/>
                </a:solidFill>
                <a:latin typeface="Source Sans Pro"/>
              </a:endParaRPr>
            </a:p>
          </p:txBody>
        </p:sp>
        <p:sp>
          <p:nvSpPr>
            <p:cNvPr id="1893" name="Freeform: Shape 170"/>
            <p:cNvSpPr/>
            <p:nvPr/>
          </p:nvSpPr>
          <p:spPr>
            <a:xfrm>
              <a:off x="10572840" y="4028400"/>
              <a:ext cx="278640" cy="7272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5920" bIns="25920" anchor="ctr">
              <a:noAutofit/>
            </a:bodyPr>
            <a:p>
              <a:endParaRPr b="0" lang="en-US" sz="1800" spc="-1" strike="noStrike">
                <a:solidFill>
                  <a:srgbClr val="313c3f"/>
                </a:solidFill>
                <a:latin typeface="Source Sans Pro"/>
              </a:endParaRPr>
            </a:p>
          </p:txBody>
        </p:sp>
        <p:sp>
          <p:nvSpPr>
            <p:cNvPr id="1894" name="Freeform: Shape 171"/>
            <p:cNvSpPr/>
            <p:nvPr/>
          </p:nvSpPr>
          <p:spPr>
            <a:xfrm>
              <a:off x="10707120" y="4066560"/>
              <a:ext cx="215280" cy="680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21240" bIns="21240" anchor="ctr">
              <a:noAutofit/>
            </a:bodyPr>
            <a:p>
              <a:endParaRPr b="0" lang="en-US" sz="1800" spc="-1" strike="noStrike">
                <a:solidFill>
                  <a:srgbClr val="313c3f"/>
                </a:solidFill>
                <a:latin typeface="Source Sans Pro"/>
              </a:endParaRPr>
            </a:p>
          </p:txBody>
        </p:sp>
        <p:sp>
          <p:nvSpPr>
            <p:cNvPr id="1895" name="Freeform: Shape 172"/>
            <p:cNvSpPr/>
            <p:nvPr/>
          </p:nvSpPr>
          <p:spPr>
            <a:xfrm>
              <a:off x="10567440" y="4067640"/>
              <a:ext cx="156240" cy="129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96" name="Freeform: Shape 173"/>
            <p:cNvSpPr/>
            <p:nvPr/>
          </p:nvSpPr>
          <p:spPr>
            <a:xfrm>
              <a:off x="10640160" y="4047120"/>
              <a:ext cx="115560" cy="229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897" name="Freeform: Shape 174"/>
            <p:cNvSpPr/>
            <p:nvPr/>
          </p:nvSpPr>
          <p:spPr>
            <a:xfrm>
              <a:off x="10576080" y="4387320"/>
              <a:ext cx="252720" cy="31608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898" name="Graphic 93"/>
          <p:cNvGrpSpPr/>
          <p:nvPr/>
        </p:nvGrpSpPr>
        <p:grpSpPr>
          <a:xfrm>
            <a:off x="6305400" y="3819600"/>
            <a:ext cx="944640" cy="1136520"/>
            <a:chOff x="6305400" y="3819600"/>
            <a:chExt cx="944640" cy="1136520"/>
          </a:xfrm>
        </p:grpSpPr>
        <p:sp>
          <p:nvSpPr>
            <p:cNvPr id="1899" name="Freeform: Shape 95"/>
            <p:cNvSpPr/>
            <p:nvPr/>
          </p:nvSpPr>
          <p:spPr>
            <a:xfrm>
              <a:off x="6305400" y="3819600"/>
              <a:ext cx="944640" cy="11365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00" name="Freeform: Shape 96"/>
            <p:cNvSpPr/>
            <p:nvPr/>
          </p:nvSpPr>
          <p:spPr>
            <a:xfrm>
              <a:off x="6584040" y="3867120"/>
              <a:ext cx="624600" cy="104868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01" name="Freeform: Shape 97"/>
            <p:cNvSpPr/>
            <p:nvPr/>
          </p:nvSpPr>
          <p:spPr>
            <a:xfrm>
              <a:off x="6751080" y="4079160"/>
              <a:ext cx="57960" cy="215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02" name="Freeform: Shape 98"/>
            <p:cNvSpPr/>
            <p:nvPr/>
          </p:nvSpPr>
          <p:spPr>
            <a:xfrm>
              <a:off x="6635880" y="4061880"/>
              <a:ext cx="268200" cy="342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2600" bIns="-12600" anchor="ctr">
              <a:noAutofit/>
            </a:bodyPr>
            <a:p>
              <a:endParaRPr b="0" lang="en-US" sz="1800" spc="-1" strike="noStrike">
                <a:solidFill>
                  <a:srgbClr val="313c3f"/>
                </a:solidFill>
                <a:latin typeface="Source Sans Pro"/>
              </a:endParaRPr>
            </a:p>
          </p:txBody>
        </p:sp>
        <p:sp>
          <p:nvSpPr>
            <p:cNvPr id="1903" name="Freeform: Shape 99"/>
            <p:cNvSpPr/>
            <p:nvPr/>
          </p:nvSpPr>
          <p:spPr>
            <a:xfrm>
              <a:off x="6628680" y="4044240"/>
              <a:ext cx="266040" cy="694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2680" bIns="22680" anchor="ctr">
              <a:noAutofit/>
            </a:bodyPr>
            <a:p>
              <a:endParaRPr b="0" lang="en-US" sz="1800" spc="-1" strike="noStrike">
                <a:solidFill>
                  <a:srgbClr val="313c3f"/>
                </a:solidFill>
                <a:latin typeface="Source Sans Pro"/>
              </a:endParaRPr>
            </a:p>
          </p:txBody>
        </p:sp>
        <p:sp>
          <p:nvSpPr>
            <p:cNvPr id="1904" name="Freeform: Shape 100"/>
            <p:cNvSpPr/>
            <p:nvPr/>
          </p:nvSpPr>
          <p:spPr>
            <a:xfrm>
              <a:off x="6756840" y="4080960"/>
              <a:ext cx="205560" cy="648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8000" bIns="18000" anchor="ctr">
              <a:noAutofit/>
            </a:bodyPr>
            <a:p>
              <a:endParaRPr b="0" lang="en-US" sz="1800" spc="-1" strike="noStrike">
                <a:solidFill>
                  <a:srgbClr val="313c3f"/>
                </a:solidFill>
                <a:latin typeface="Source Sans Pro"/>
              </a:endParaRPr>
            </a:p>
          </p:txBody>
        </p:sp>
        <p:sp>
          <p:nvSpPr>
            <p:cNvPr id="1905" name="Freeform: Shape 101"/>
            <p:cNvSpPr/>
            <p:nvPr/>
          </p:nvSpPr>
          <p:spPr>
            <a:xfrm>
              <a:off x="6623640" y="4082040"/>
              <a:ext cx="149040" cy="123840"/>
            </a:xfrm>
            <a:custGeom>
              <a:avLst/>
              <a:gdLst/>
              <a:ahLst/>
              <a:rect l="l" t="t" r="r" b="b"/>
              <a:pathLst>
                <a:path w="205687" h="171054">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7051"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5665"/>
                  </a:cubicBezTo>
                  <a:lnTo>
                    <a:pt x="89431" y="147575"/>
                  </a:lnTo>
                  <a:cubicBezTo>
                    <a:pt x="66571" y="168530"/>
                    <a:pt x="39901" y="174245"/>
                    <a:pt x="20851" y="169482"/>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06" name="Freeform: Shape 145"/>
            <p:cNvSpPr/>
            <p:nvPr/>
          </p:nvSpPr>
          <p:spPr>
            <a:xfrm>
              <a:off x="6692760" y="4062240"/>
              <a:ext cx="110520" cy="2188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07" name="Freeform: Shape 146"/>
            <p:cNvSpPr/>
            <p:nvPr/>
          </p:nvSpPr>
          <p:spPr>
            <a:xfrm>
              <a:off x="6651000" y="4359600"/>
              <a:ext cx="262080" cy="362520"/>
            </a:xfrm>
            <a:custGeom>
              <a:avLst/>
              <a:gdLst/>
              <a:ahLst/>
              <a:rect l="l" t="t" r="r" b="b"/>
              <a:pathLst>
                <a:path w="360997" h="500062">
                  <a:moveTo>
                    <a:pt x="140970" y="500063"/>
                  </a:moveTo>
                  <a:lnTo>
                    <a:pt x="140970" y="445770"/>
                  </a:lnTo>
                  <a:lnTo>
                    <a:pt x="0" y="445770"/>
                  </a:lnTo>
                  <a:lnTo>
                    <a:pt x="0" y="367665"/>
                  </a:lnTo>
                  <a:lnTo>
                    <a:pt x="140970" y="367665"/>
                  </a:lnTo>
                  <a:lnTo>
                    <a:pt x="140970" y="334328"/>
                  </a:lnTo>
                  <a:lnTo>
                    <a:pt x="0" y="334328"/>
                  </a:lnTo>
                  <a:lnTo>
                    <a:pt x="0" y="256223"/>
                  </a:lnTo>
                  <a:lnTo>
                    <a:pt x="140970" y="256223"/>
                  </a:lnTo>
                  <a:lnTo>
                    <a:pt x="140970" y="223838"/>
                  </a:lnTo>
                  <a:lnTo>
                    <a:pt x="0" y="0"/>
                  </a:lnTo>
                  <a:lnTo>
                    <a:pt x="91440" y="0"/>
                  </a:lnTo>
                  <a:lnTo>
                    <a:pt x="181927" y="153353"/>
                  </a:lnTo>
                  <a:lnTo>
                    <a:pt x="271463" y="0"/>
                  </a:lnTo>
                  <a:lnTo>
                    <a:pt x="360998" y="0"/>
                  </a:lnTo>
                  <a:lnTo>
                    <a:pt x="219075" y="224790"/>
                  </a:lnTo>
                  <a:lnTo>
                    <a:pt x="219075" y="256223"/>
                  </a:lnTo>
                  <a:lnTo>
                    <a:pt x="360998" y="256223"/>
                  </a:lnTo>
                  <a:lnTo>
                    <a:pt x="360998" y="334328"/>
                  </a:lnTo>
                  <a:lnTo>
                    <a:pt x="219075" y="334328"/>
                  </a:lnTo>
                  <a:lnTo>
                    <a:pt x="219075" y="367665"/>
                  </a:lnTo>
                  <a:lnTo>
                    <a:pt x="360998" y="367665"/>
                  </a:lnTo>
                  <a:lnTo>
                    <a:pt x="360998" y="445770"/>
                  </a:lnTo>
                  <a:lnTo>
                    <a:pt x="219075" y="445770"/>
                  </a:lnTo>
                  <a:lnTo>
                    <a:pt x="219075" y="500063"/>
                  </a:lnTo>
                  <a:lnTo>
                    <a:pt x="140970" y="5000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90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909" name="Graphic 3"/>
          <p:cNvGrpSpPr/>
          <p:nvPr/>
        </p:nvGrpSpPr>
        <p:grpSpPr>
          <a:xfrm>
            <a:off x="5869080" y="2077920"/>
            <a:ext cx="5783040" cy="3059280"/>
            <a:chOff x="5869080" y="2077920"/>
            <a:chExt cx="5783040" cy="3059280"/>
          </a:xfrm>
        </p:grpSpPr>
        <p:sp>
          <p:nvSpPr>
            <p:cNvPr id="1910" name="Freeform: Shape 5"/>
            <p:cNvSpPr/>
            <p:nvPr/>
          </p:nvSpPr>
          <p:spPr>
            <a:xfrm>
              <a:off x="72424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9"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11" name="Freeform: Shape 6"/>
            <p:cNvSpPr/>
            <p:nvPr/>
          </p:nvSpPr>
          <p:spPr>
            <a:xfrm>
              <a:off x="5869080" y="4726800"/>
              <a:ext cx="384840" cy="204840"/>
            </a:xfrm>
            <a:custGeom>
              <a:avLst/>
              <a:gdLst/>
              <a:ahLst/>
              <a:rect l="l" t="t" r="r" b="b"/>
              <a:pathLst>
                <a:path w="403352" h="214614">
                  <a:moveTo>
                    <a:pt x="106546" y="0"/>
                  </a:moveTo>
                  <a:cubicBezTo>
                    <a:pt x="47946" y="0"/>
                    <a:pt x="0" y="47946"/>
                    <a:pt x="0" y="106546"/>
                  </a:cubicBezTo>
                  <a:cubicBezTo>
                    <a:pt x="0" y="165907"/>
                    <a:pt x="47185" y="213092"/>
                    <a:pt x="106546" y="213092"/>
                  </a:cubicBezTo>
                  <a:lnTo>
                    <a:pt x="403353" y="214614"/>
                  </a:lnTo>
                  <a:lnTo>
                    <a:pt x="277781" y="90564"/>
                  </a:lnTo>
                  <a:lnTo>
                    <a:pt x="210809" y="90564"/>
                  </a:lnTo>
                  <a:cubicBezTo>
                    <a:pt x="203198" y="38813"/>
                    <a:pt x="159058" y="0"/>
                    <a:pt x="106546" y="0"/>
                  </a:cubicBezTo>
                  <a:close/>
                  <a:moveTo>
                    <a:pt x="106546" y="46424"/>
                  </a:moveTo>
                  <a:cubicBezTo>
                    <a:pt x="139271" y="46424"/>
                    <a:pt x="166668" y="74582"/>
                    <a:pt x="166668" y="106546"/>
                  </a:cubicBezTo>
                  <a:cubicBezTo>
                    <a:pt x="166668"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12" name="Freeform: Shape 7"/>
            <p:cNvSpPr/>
            <p:nvPr/>
          </p:nvSpPr>
          <p:spPr>
            <a:xfrm>
              <a:off x="60706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13" name="Freeform: Shape 8"/>
            <p:cNvSpPr/>
            <p:nvPr/>
          </p:nvSpPr>
          <p:spPr>
            <a:xfrm>
              <a:off x="6124680" y="4844520"/>
              <a:ext cx="608400" cy="262080"/>
            </a:xfrm>
            <a:custGeom>
              <a:avLst/>
              <a:gdLst/>
              <a:ahLst/>
              <a:rect l="l" t="t" r="r" b="b"/>
              <a:pathLst>
                <a:path w="637753" h="274736">
                  <a:moveTo>
                    <a:pt x="214614" y="0"/>
                  </a:moveTo>
                  <a:lnTo>
                    <a:pt x="0" y="0"/>
                  </a:lnTo>
                  <a:lnTo>
                    <a:pt x="161341" y="274736"/>
                  </a:lnTo>
                  <a:lnTo>
                    <a:pt x="637754"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14" name="Freeform: Shape 9"/>
            <p:cNvSpPr/>
            <p:nvPr/>
          </p:nvSpPr>
          <p:spPr>
            <a:xfrm>
              <a:off x="6869880" y="4845960"/>
              <a:ext cx="609120" cy="261360"/>
            </a:xfrm>
            <a:custGeom>
              <a:avLst/>
              <a:gdLst/>
              <a:ahLst/>
              <a:rect l="l" t="t" r="r" b="b"/>
              <a:pathLst>
                <a:path w="638514"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1915" name="Graphic 3"/>
            <p:cNvGrpSpPr/>
            <p:nvPr/>
          </p:nvGrpSpPr>
          <p:grpSpPr>
            <a:xfrm>
              <a:off x="7931520" y="2190960"/>
              <a:ext cx="1472040" cy="1578240"/>
              <a:chOff x="7931520" y="2190960"/>
              <a:chExt cx="1472040" cy="1578240"/>
            </a:xfrm>
          </p:grpSpPr>
          <p:sp>
            <p:nvSpPr>
              <p:cNvPr id="1916" name="Freeform: Shape 11"/>
              <p:cNvSpPr/>
              <p:nvPr/>
            </p:nvSpPr>
            <p:spPr>
              <a:xfrm>
                <a:off x="7931520" y="2190960"/>
                <a:ext cx="1472040" cy="1578240"/>
              </a:xfrm>
              <a:custGeom>
                <a:avLst/>
                <a:gdLst/>
                <a:ahLst/>
                <a:rect l="l" t="t" r="r" b="b"/>
                <a:pathLst>
                  <a:path w="1542633" h="1653745">
                    <a:moveTo>
                      <a:pt x="771697" y="0"/>
                    </a:moveTo>
                    <a:cubicBezTo>
                      <a:pt x="1197881" y="0"/>
                      <a:pt x="1542634" y="324965"/>
                      <a:pt x="1542634" y="726035"/>
                    </a:cubicBezTo>
                    <a:cubicBezTo>
                      <a:pt x="1542634" y="1127104"/>
                      <a:pt x="1458919" y="1653746"/>
                      <a:pt x="767131" y="1653746"/>
                    </a:cubicBezTo>
                    <a:cubicBezTo>
                      <a:pt x="75343" y="1653746"/>
                      <a:pt x="0" y="1126343"/>
                      <a:pt x="0" y="725274"/>
                    </a:cubicBezTo>
                    <a:cubicBezTo>
                      <a:pt x="0" y="324965"/>
                      <a:pt x="345513" y="0"/>
                      <a:pt x="771697" y="0"/>
                    </a:cubicBezTo>
                    <a:close/>
                  </a:path>
                </a:pathLst>
              </a:custGeom>
              <a:solidFill>
                <a:srgbClr val="1a1a1a"/>
              </a:solidFill>
              <a:ln w="396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17" name="Freeform: Shape 12"/>
              <p:cNvSpPr/>
              <p:nvPr/>
            </p:nvSpPr>
            <p:spPr>
              <a:xfrm>
                <a:off x="8002440" y="2233080"/>
                <a:ext cx="1327680" cy="1314720"/>
              </a:xfrm>
              <a:custGeom>
                <a:avLst/>
                <a:gdLst/>
                <a:ahLst/>
                <a:rect l="l" t="t" r="r" b="b"/>
                <a:pathLst>
                  <a:path w="1391186" h="1377487">
                    <a:moveTo>
                      <a:pt x="695593" y="1377487"/>
                    </a:moveTo>
                    <a:cubicBezTo>
                      <a:pt x="1078398" y="1377487"/>
                      <a:pt x="1391186" y="1068504"/>
                      <a:pt x="1391186" y="688744"/>
                    </a:cubicBezTo>
                    <a:cubicBezTo>
                      <a:pt x="1391186" y="309744"/>
                      <a:pt x="1078398" y="0"/>
                      <a:pt x="695593" y="0"/>
                    </a:cubicBezTo>
                    <a:cubicBezTo>
                      <a:pt x="312789" y="0"/>
                      <a:pt x="0" y="308983"/>
                      <a:pt x="0" y="688744"/>
                    </a:cubicBezTo>
                    <a:cubicBezTo>
                      <a:pt x="0" y="1067743"/>
                      <a:pt x="312789" y="1377487"/>
                      <a:pt x="695593" y="137748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18" name="Freeform: Shape 13"/>
              <p:cNvSpPr/>
              <p:nvPr/>
            </p:nvSpPr>
            <p:spPr>
              <a:xfrm>
                <a:off x="8061480" y="2288880"/>
                <a:ext cx="1209960" cy="1202760"/>
              </a:xfrm>
              <a:custGeom>
                <a:avLst/>
                <a:gdLst/>
                <a:ahLst/>
                <a:rect l="l" t="t" r="r" b="b"/>
                <a:pathLst>
                  <a:path w="1267897" h="1260286">
                    <a:moveTo>
                      <a:pt x="1267897" y="630143"/>
                    </a:moveTo>
                    <a:cubicBezTo>
                      <a:pt x="1267897" y="978162"/>
                      <a:pt x="984069" y="1260287"/>
                      <a:pt x="633949" y="1260287"/>
                    </a:cubicBezTo>
                    <a:cubicBezTo>
                      <a:pt x="283829" y="1260287"/>
                      <a:pt x="0" y="978162"/>
                      <a:pt x="0" y="630143"/>
                    </a:cubicBezTo>
                    <a:cubicBezTo>
                      <a:pt x="0" y="282125"/>
                      <a:pt x="283829" y="0"/>
                      <a:pt x="633949" y="0"/>
                    </a:cubicBezTo>
                    <a:cubicBezTo>
                      <a:pt x="984069" y="0"/>
                      <a:pt x="1267897" y="282125"/>
                      <a:pt x="1267897" y="63014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919" name="Freeform: Shape 14"/>
            <p:cNvSpPr/>
            <p:nvPr/>
          </p:nvSpPr>
          <p:spPr>
            <a:xfrm>
              <a:off x="111592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8"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0" name="Freeform: Shape 15"/>
            <p:cNvSpPr/>
            <p:nvPr/>
          </p:nvSpPr>
          <p:spPr>
            <a:xfrm>
              <a:off x="9785880" y="4726800"/>
              <a:ext cx="385560" cy="204120"/>
            </a:xfrm>
            <a:custGeom>
              <a:avLst/>
              <a:gdLst/>
              <a:ahLst/>
              <a:rect l="l" t="t" r="r" b="b"/>
              <a:pathLst>
                <a:path w="404113" h="213853">
                  <a:moveTo>
                    <a:pt x="106546" y="0"/>
                  </a:moveTo>
                  <a:cubicBezTo>
                    <a:pt x="47946" y="0"/>
                    <a:pt x="0" y="47946"/>
                    <a:pt x="0" y="106546"/>
                  </a:cubicBezTo>
                  <a:cubicBezTo>
                    <a:pt x="0" y="165907"/>
                    <a:pt x="47185" y="213092"/>
                    <a:pt x="106546" y="213092"/>
                  </a:cubicBezTo>
                  <a:lnTo>
                    <a:pt x="404114" y="213853"/>
                  </a:lnTo>
                  <a:lnTo>
                    <a:pt x="278542" y="89803"/>
                  </a:lnTo>
                  <a:lnTo>
                    <a:pt x="211570" y="89803"/>
                  </a:lnTo>
                  <a:cubicBezTo>
                    <a:pt x="203199" y="38813"/>
                    <a:pt x="159058" y="0"/>
                    <a:pt x="106546" y="0"/>
                  </a:cubicBezTo>
                  <a:close/>
                  <a:moveTo>
                    <a:pt x="106546" y="46424"/>
                  </a:moveTo>
                  <a:cubicBezTo>
                    <a:pt x="139271" y="46424"/>
                    <a:pt x="166669" y="74582"/>
                    <a:pt x="166669" y="106546"/>
                  </a:cubicBezTo>
                  <a:cubicBezTo>
                    <a:pt x="166669"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1" name="Freeform: Shape 16"/>
            <p:cNvSpPr/>
            <p:nvPr/>
          </p:nvSpPr>
          <p:spPr>
            <a:xfrm>
              <a:off x="99874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2" name="Freeform: Shape 17"/>
            <p:cNvSpPr/>
            <p:nvPr/>
          </p:nvSpPr>
          <p:spPr>
            <a:xfrm>
              <a:off x="10041480" y="4844520"/>
              <a:ext cx="609120" cy="262080"/>
            </a:xfrm>
            <a:custGeom>
              <a:avLst/>
              <a:gdLst/>
              <a:ahLst/>
              <a:rect l="l" t="t" r="r" b="b"/>
              <a:pathLst>
                <a:path w="638515" h="274736">
                  <a:moveTo>
                    <a:pt x="214614" y="0"/>
                  </a:moveTo>
                  <a:lnTo>
                    <a:pt x="0" y="0"/>
                  </a:lnTo>
                  <a:lnTo>
                    <a:pt x="161341" y="274736"/>
                  </a:lnTo>
                  <a:lnTo>
                    <a:pt x="638515"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3" name="Freeform: Shape 18"/>
            <p:cNvSpPr/>
            <p:nvPr/>
          </p:nvSpPr>
          <p:spPr>
            <a:xfrm>
              <a:off x="10786680" y="4845960"/>
              <a:ext cx="609120" cy="261360"/>
            </a:xfrm>
            <a:custGeom>
              <a:avLst/>
              <a:gdLst/>
              <a:ahLst/>
              <a:rect l="l" t="t" r="r" b="b"/>
              <a:pathLst>
                <a:path w="638515"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4" name="Freeform: Shape 19"/>
            <p:cNvSpPr/>
            <p:nvPr/>
          </p:nvSpPr>
          <p:spPr>
            <a:xfrm>
              <a:off x="5959800" y="2715840"/>
              <a:ext cx="861120" cy="2118960"/>
            </a:xfrm>
            <a:custGeom>
              <a:avLst/>
              <a:gdLst/>
              <a:ahLst/>
              <a:rect l="l" t="t" r="r" b="b"/>
              <a:pathLst>
                <a:path w="902350" h="2220097">
                  <a:moveTo>
                    <a:pt x="855288" y="26379"/>
                  </a:moveTo>
                  <a:lnTo>
                    <a:pt x="5203" y="2170236"/>
                  </a:lnTo>
                  <a:cubicBezTo>
                    <a:pt x="-15345" y="2227315"/>
                    <a:pt x="30317" y="2238730"/>
                    <a:pt x="49343" y="2186979"/>
                  </a:cubicBezTo>
                  <a:lnTo>
                    <a:pt x="75980" y="2111636"/>
                  </a:lnTo>
                  <a:lnTo>
                    <a:pt x="898667" y="44644"/>
                  </a:lnTo>
                  <a:cubicBezTo>
                    <a:pt x="915410" y="-4063"/>
                    <a:pt x="870509" y="-17001"/>
                    <a:pt x="855288"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5" name="Freeform: Shape 20"/>
            <p:cNvSpPr/>
            <p:nvPr/>
          </p:nvSpPr>
          <p:spPr>
            <a:xfrm>
              <a:off x="9876600" y="2715840"/>
              <a:ext cx="860760" cy="2118960"/>
            </a:xfrm>
            <a:custGeom>
              <a:avLst/>
              <a:gdLst/>
              <a:ahLst/>
              <a:rect l="l" t="t" r="r" b="b"/>
              <a:pathLst>
                <a:path w="902291" h="2220097">
                  <a:moveTo>
                    <a:pt x="855229" y="26379"/>
                  </a:moveTo>
                  <a:lnTo>
                    <a:pt x="5145" y="2170236"/>
                  </a:lnTo>
                  <a:cubicBezTo>
                    <a:pt x="-15404" y="2227315"/>
                    <a:pt x="31020" y="2238730"/>
                    <a:pt x="49285" y="2186979"/>
                  </a:cubicBezTo>
                  <a:lnTo>
                    <a:pt x="75921" y="2111636"/>
                  </a:lnTo>
                  <a:lnTo>
                    <a:pt x="898609" y="44644"/>
                  </a:lnTo>
                  <a:cubicBezTo>
                    <a:pt x="915352" y="-4063"/>
                    <a:pt x="870450" y="-17001"/>
                    <a:pt x="855229"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1926" name="Graphic 3"/>
            <p:cNvGrpSpPr/>
            <p:nvPr/>
          </p:nvGrpSpPr>
          <p:grpSpPr>
            <a:xfrm>
              <a:off x="7946640" y="2611800"/>
              <a:ext cx="892080" cy="820440"/>
              <a:chOff x="7946640" y="2611800"/>
              <a:chExt cx="892080" cy="820440"/>
            </a:xfrm>
          </p:grpSpPr>
          <p:sp>
            <p:nvSpPr>
              <p:cNvPr id="1927" name="Freeform: Shape 22"/>
              <p:cNvSpPr/>
              <p:nvPr/>
            </p:nvSpPr>
            <p:spPr>
              <a:xfrm>
                <a:off x="7946640" y="2611800"/>
                <a:ext cx="892080" cy="820440"/>
              </a:xfrm>
              <a:custGeom>
                <a:avLst/>
                <a:gdLst/>
                <a:ahLst/>
                <a:rect l="l" t="t" r="r" b="b"/>
                <a:pathLst>
                  <a:path w="934894" h="859865">
                    <a:moveTo>
                      <a:pt x="931516" y="676567"/>
                    </a:moveTo>
                    <a:cubicBezTo>
                      <a:pt x="926950" y="696354"/>
                      <a:pt x="900313" y="732123"/>
                      <a:pt x="887376" y="747344"/>
                    </a:cubicBezTo>
                    <a:cubicBezTo>
                      <a:pt x="856934" y="781591"/>
                      <a:pt x="735928" y="770936"/>
                      <a:pt x="690266" y="771697"/>
                    </a:cubicBezTo>
                    <a:cubicBezTo>
                      <a:pt x="592091" y="773981"/>
                      <a:pt x="562411" y="803661"/>
                      <a:pt x="470324" y="837908"/>
                    </a:cubicBezTo>
                    <a:cubicBezTo>
                      <a:pt x="439883" y="849324"/>
                      <a:pt x="407919" y="863023"/>
                      <a:pt x="375194" y="859217"/>
                    </a:cubicBezTo>
                    <a:cubicBezTo>
                      <a:pt x="350080" y="856173"/>
                      <a:pt x="327248" y="843235"/>
                      <a:pt x="306700" y="828015"/>
                    </a:cubicBezTo>
                    <a:cubicBezTo>
                      <a:pt x="302895" y="824970"/>
                      <a:pt x="299090" y="822687"/>
                      <a:pt x="296046" y="819643"/>
                    </a:cubicBezTo>
                    <a:cubicBezTo>
                      <a:pt x="262560" y="793007"/>
                      <a:pt x="231357" y="762565"/>
                      <a:pt x="203198" y="729079"/>
                    </a:cubicBezTo>
                    <a:cubicBezTo>
                      <a:pt x="195588" y="719946"/>
                      <a:pt x="188739" y="710814"/>
                      <a:pt x="181128" y="701681"/>
                    </a:cubicBezTo>
                    <a:cubicBezTo>
                      <a:pt x="156775" y="668957"/>
                      <a:pt x="135466" y="633949"/>
                      <a:pt x="115678" y="598180"/>
                    </a:cubicBezTo>
                    <a:cubicBezTo>
                      <a:pt x="98174" y="566216"/>
                      <a:pt x="82954" y="532730"/>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0" y="37291"/>
                      <a:pt x="158297" y="55556"/>
                    </a:cubicBezTo>
                    <a:cubicBezTo>
                      <a:pt x="172757" y="116440"/>
                      <a:pt x="178845" y="179606"/>
                      <a:pt x="175040" y="242773"/>
                    </a:cubicBezTo>
                    <a:cubicBezTo>
                      <a:pt x="174279" y="250383"/>
                      <a:pt x="174279" y="257994"/>
                      <a:pt x="173518" y="265604"/>
                    </a:cubicBezTo>
                    <a:cubicBezTo>
                      <a:pt x="173518" y="267126"/>
                      <a:pt x="173518" y="267887"/>
                      <a:pt x="173518" y="269409"/>
                    </a:cubicBezTo>
                    <a:cubicBezTo>
                      <a:pt x="173518" y="269409"/>
                      <a:pt x="173518" y="269409"/>
                      <a:pt x="173518" y="269409"/>
                    </a:cubicBezTo>
                    <a:cubicBezTo>
                      <a:pt x="171996" y="287674"/>
                      <a:pt x="170474" y="305178"/>
                      <a:pt x="168951" y="323443"/>
                    </a:cubicBezTo>
                    <a:cubicBezTo>
                      <a:pt x="168190" y="339425"/>
                      <a:pt x="167429" y="354646"/>
                      <a:pt x="167429" y="370628"/>
                    </a:cubicBezTo>
                    <a:cubicBezTo>
                      <a:pt x="168190" y="419335"/>
                      <a:pt x="178084" y="468041"/>
                      <a:pt x="196349" y="512943"/>
                    </a:cubicBezTo>
                    <a:cubicBezTo>
                      <a:pt x="204720" y="533491"/>
                      <a:pt x="215375" y="554039"/>
                      <a:pt x="231357" y="569260"/>
                    </a:cubicBezTo>
                    <a:cubicBezTo>
                      <a:pt x="260276" y="595136"/>
                      <a:pt x="302134" y="600463"/>
                      <a:pt x="340947" y="604268"/>
                    </a:cubicBezTo>
                    <a:cubicBezTo>
                      <a:pt x="408680" y="611117"/>
                      <a:pt x="488589" y="614162"/>
                      <a:pt x="540340" y="569260"/>
                    </a:cubicBezTo>
                    <a:cubicBezTo>
                      <a:pt x="567738" y="611878"/>
                      <a:pt x="617206" y="637754"/>
                      <a:pt x="667434" y="645364"/>
                    </a:cubicBezTo>
                    <a:cubicBezTo>
                      <a:pt x="676567" y="646886"/>
                      <a:pt x="686460" y="647647"/>
                      <a:pt x="695593" y="647647"/>
                    </a:cubicBezTo>
                    <a:cubicBezTo>
                      <a:pt x="727557" y="648408"/>
                      <a:pt x="760282" y="643842"/>
                      <a:pt x="791484" y="636232"/>
                    </a:cubicBezTo>
                    <a:cubicBezTo>
                      <a:pt x="793006" y="636232"/>
                      <a:pt x="794529" y="635471"/>
                      <a:pt x="796051" y="635471"/>
                    </a:cubicBezTo>
                    <a:cubicBezTo>
                      <a:pt x="797573" y="635471"/>
                      <a:pt x="799095" y="634710"/>
                      <a:pt x="800617" y="633949"/>
                    </a:cubicBezTo>
                    <a:cubicBezTo>
                      <a:pt x="806705" y="632427"/>
                      <a:pt x="812794" y="630904"/>
                      <a:pt x="818882" y="628621"/>
                    </a:cubicBezTo>
                    <a:cubicBezTo>
                      <a:pt x="845519" y="620250"/>
                      <a:pt x="874438" y="611878"/>
                      <a:pt x="897269" y="596658"/>
                    </a:cubicBezTo>
                    <a:cubicBezTo>
                      <a:pt x="904119" y="592091"/>
                      <a:pt x="912490" y="591330"/>
                      <a:pt x="919340" y="593613"/>
                    </a:cubicBezTo>
                    <a:cubicBezTo>
                      <a:pt x="931516" y="621011"/>
                      <a:pt x="939888" y="645364"/>
                      <a:pt x="931516" y="67656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8" name="Freeform: Shape 23"/>
              <p:cNvSpPr/>
              <p:nvPr/>
            </p:nvSpPr>
            <p:spPr>
              <a:xfrm>
                <a:off x="8140320" y="3178440"/>
                <a:ext cx="698400" cy="253800"/>
              </a:xfrm>
              <a:custGeom>
                <a:avLst/>
                <a:gdLst/>
                <a:ahLst/>
                <a:rect l="l" t="t" r="r" b="b"/>
                <a:pathLst>
                  <a:path w="731679" h="265977">
                    <a:moveTo>
                      <a:pt x="728318" y="82678"/>
                    </a:moveTo>
                    <a:cubicBezTo>
                      <a:pt x="723752" y="102465"/>
                      <a:pt x="697115" y="138234"/>
                      <a:pt x="684178" y="153455"/>
                    </a:cubicBezTo>
                    <a:cubicBezTo>
                      <a:pt x="653736" y="187702"/>
                      <a:pt x="532730" y="177048"/>
                      <a:pt x="487067" y="177809"/>
                    </a:cubicBezTo>
                    <a:cubicBezTo>
                      <a:pt x="388893" y="180092"/>
                      <a:pt x="359212" y="209772"/>
                      <a:pt x="267126" y="244019"/>
                    </a:cubicBezTo>
                    <a:cubicBezTo>
                      <a:pt x="236684" y="255435"/>
                      <a:pt x="204721" y="269134"/>
                      <a:pt x="171996" y="265329"/>
                    </a:cubicBezTo>
                    <a:cubicBezTo>
                      <a:pt x="142315" y="261523"/>
                      <a:pt x="115679" y="244019"/>
                      <a:pt x="92847" y="225754"/>
                    </a:cubicBezTo>
                    <a:cubicBezTo>
                      <a:pt x="59361" y="199118"/>
                      <a:pt x="28159" y="168676"/>
                      <a:pt x="0" y="135190"/>
                    </a:cubicBezTo>
                    <a:cubicBezTo>
                      <a:pt x="25876" y="149650"/>
                      <a:pt x="53273" y="162588"/>
                      <a:pt x="80671" y="174003"/>
                    </a:cubicBezTo>
                    <a:cubicBezTo>
                      <a:pt x="123289" y="190746"/>
                      <a:pt x="168190" y="204445"/>
                      <a:pt x="213853" y="199118"/>
                    </a:cubicBezTo>
                    <a:cubicBezTo>
                      <a:pt x="237445" y="196074"/>
                      <a:pt x="259516" y="188463"/>
                      <a:pt x="282347" y="180092"/>
                    </a:cubicBezTo>
                    <a:cubicBezTo>
                      <a:pt x="313550" y="168676"/>
                      <a:pt x="344753" y="158021"/>
                      <a:pt x="375955" y="146606"/>
                    </a:cubicBezTo>
                    <a:cubicBezTo>
                      <a:pt x="381282" y="145084"/>
                      <a:pt x="388132" y="144323"/>
                      <a:pt x="390415" y="139756"/>
                    </a:cubicBezTo>
                    <a:cubicBezTo>
                      <a:pt x="433034" y="59086"/>
                      <a:pt x="502288" y="41582"/>
                      <a:pt x="502288" y="41582"/>
                    </a:cubicBezTo>
                    <a:cubicBezTo>
                      <a:pt x="502288" y="41582"/>
                      <a:pt x="474130" y="87245"/>
                      <a:pt x="455865" y="114642"/>
                    </a:cubicBezTo>
                    <a:cubicBezTo>
                      <a:pt x="452060" y="119969"/>
                      <a:pt x="457387" y="126819"/>
                      <a:pt x="463475" y="125297"/>
                    </a:cubicBezTo>
                    <a:cubicBezTo>
                      <a:pt x="515226" y="109315"/>
                      <a:pt x="589808" y="111598"/>
                      <a:pt x="630905" y="121491"/>
                    </a:cubicBezTo>
                    <a:cubicBezTo>
                      <a:pt x="620250" y="101704"/>
                      <a:pt x="605029" y="63652"/>
                      <a:pt x="588286" y="43865"/>
                    </a:cubicBezTo>
                    <a:cubicBezTo>
                      <a:pt x="586003" y="40821"/>
                      <a:pt x="582959" y="37777"/>
                      <a:pt x="579915" y="36255"/>
                    </a:cubicBezTo>
                    <a:cubicBezTo>
                      <a:pt x="585242" y="37777"/>
                      <a:pt x="591330" y="40060"/>
                      <a:pt x="596658" y="41582"/>
                    </a:cubicBezTo>
                    <a:cubicBezTo>
                      <a:pt x="608834" y="46148"/>
                      <a:pt x="620250" y="51475"/>
                      <a:pt x="630905" y="59086"/>
                    </a:cubicBezTo>
                    <a:cubicBezTo>
                      <a:pt x="645364" y="70502"/>
                      <a:pt x="656019" y="89528"/>
                      <a:pt x="653736" y="107793"/>
                    </a:cubicBezTo>
                    <a:cubicBezTo>
                      <a:pt x="684938" y="84200"/>
                      <a:pt x="699398" y="42343"/>
                      <a:pt x="693310" y="4291"/>
                    </a:cubicBezTo>
                    <a:cubicBezTo>
                      <a:pt x="700159" y="-275"/>
                      <a:pt x="708531" y="-1036"/>
                      <a:pt x="715380" y="1247"/>
                    </a:cubicBezTo>
                    <a:cubicBezTo>
                      <a:pt x="728318" y="27122"/>
                      <a:pt x="736690" y="51475"/>
                      <a:pt x="728318" y="8267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29" name="Freeform: Shape 24"/>
              <p:cNvSpPr/>
              <p:nvPr/>
            </p:nvSpPr>
            <p:spPr>
              <a:xfrm>
                <a:off x="8556120" y="3218040"/>
                <a:ext cx="189720" cy="91080"/>
              </a:xfrm>
              <a:custGeom>
                <a:avLst/>
                <a:gdLst/>
                <a:ahLst/>
                <a:rect l="l" t="t" r="r" b="b"/>
                <a:pathLst>
                  <a:path w="199076" h="95463">
                    <a:moveTo>
                      <a:pt x="198554" y="87520"/>
                    </a:moveTo>
                    <a:cubicBezTo>
                      <a:pt x="139192" y="83715"/>
                      <a:pt x="79070" y="86759"/>
                      <a:pt x="20470" y="95130"/>
                    </a:cubicBezTo>
                    <a:cubicBezTo>
                      <a:pt x="12859" y="95891"/>
                      <a:pt x="2966" y="95891"/>
                      <a:pt x="683" y="89042"/>
                    </a:cubicBezTo>
                    <a:cubicBezTo>
                      <a:pt x="-1601" y="83715"/>
                      <a:pt x="2204" y="77626"/>
                      <a:pt x="6771" y="72299"/>
                    </a:cubicBezTo>
                    <a:cubicBezTo>
                      <a:pt x="24275" y="52512"/>
                      <a:pt x="41018" y="31964"/>
                      <a:pt x="58522" y="12177"/>
                    </a:cubicBezTo>
                    <a:cubicBezTo>
                      <a:pt x="90485" y="12938"/>
                      <a:pt x="123210" y="8371"/>
                      <a:pt x="154413" y="761"/>
                    </a:cubicBezTo>
                    <a:cubicBezTo>
                      <a:pt x="155935" y="761"/>
                      <a:pt x="157457" y="0"/>
                      <a:pt x="158979" y="0"/>
                    </a:cubicBezTo>
                    <a:cubicBezTo>
                      <a:pt x="165829" y="6849"/>
                      <a:pt x="171917" y="14460"/>
                      <a:pt x="177244" y="20548"/>
                    </a:cubicBezTo>
                    <a:cubicBezTo>
                      <a:pt x="190943" y="39574"/>
                      <a:pt x="201598" y="63928"/>
                      <a:pt x="198554" y="87520"/>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313c3f"/>
                  </a:solidFill>
                  <a:latin typeface="Source Sans Pro"/>
                </a:endParaRPr>
              </a:p>
            </p:txBody>
          </p:sp>
          <p:sp>
            <p:nvSpPr>
              <p:cNvPr id="1930" name="Freeform: Shape 25"/>
              <p:cNvSpPr/>
              <p:nvPr/>
            </p:nvSpPr>
            <p:spPr>
              <a:xfrm>
                <a:off x="7948080" y="2611800"/>
                <a:ext cx="167040" cy="476280"/>
              </a:xfrm>
              <a:custGeom>
                <a:avLst/>
                <a:gdLst/>
                <a:ahLst/>
                <a:rect l="l" t="t" r="r" b="b"/>
                <a:pathLst>
                  <a:path w="175050" h="499244">
                    <a:moveTo>
                      <a:pt x="174279" y="242773"/>
                    </a:moveTo>
                    <a:cubicBezTo>
                      <a:pt x="173518" y="250383"/>
                      <a:pt x="173518" y="257994"/>
                      <a:pt x="172757" y="265604"/>
                    </a:cubicBezTo>
                    <a:cubicBezTo>
                      <a:pt x="172757" y="265604"/>
                      <a:pt x="172757" y="264843"/>
                      <a:pt x="172757" y="264843"/>
                    </a:cubicBezTo>
                    <a:cubicBezTo>
                      <a:pt x="168952" y="245056"/>
                      <a:pt x="161341" y="224508"/>
                      <a:pt x="144598" y="213853"/>
                    </a:cubicBezTo>
                    <a:cubicBezTo>
                      <a:pt x="124811" y="200915"/>
                      <a:pt x="97414" y="206243"/>
                      <a:pt x="79149" y="221463"/>
                    </a:cubicBezTo>
                    <a:cubicBezTo>
                      <a:pt x="60883" y="235923"/>
                      <a:pt x="50990" y="258755"/>
                      <a:pt x="44902" y="281586"/>
                    </a:cubicBezTo>
                    <a:cubicBezTo>
                      <a:pt x="30442" y="337142"/>
                      <a:pt x="39574" y="395742"/>
                      <a:pt x="54034" y="451298"/>
                    </a:cubicBezTo>
                    <a:cubicBezTo>
                      <a:pt x="58600" y="467280"/>
                      <a:pt x="63167" y="483262"/>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1" y="37291"/>
                      <a:pt x="158297" y="55556"/>
                    </a:cubicBezTo>
                    <a:cubicBezTo>
                      <a:pt x="171235" y="117201"/>
                      <a:pt x="177323" y="180367"/>
                      <a:pt x="174279" y="2427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931" name="Graphic 3"/>
            <p:cNvGrpSpPr/>
            <p:nvPr/>
          </p:nvGrpSpPr>
          <p:grpSpPr>
            <a:xfrm>
              <a:off x="6681600" y="2500560"/>
              <a:ext cx="4162320" cy="454680"/>
              <a:chOff x="6681600" y="2500560"/>
              <a:chExt cx="4162320" cy="454680"/>
            </a:xfrm>
          </p:grpSpPr>
          <p:sp>
            <p:nvSpPr>
              <p:cNvPr id="1932" name="Freeform: Shape 27"/>
              <p:cNvSpPr/>
              <p:nvPr/>
            </p:nvSpPr>
            <p:spPr>
              <a:xfrm>
                <a:off x="8906040" y="2557800"/>
                <a:ext cx="1937880" cy="336960"/>
              </a:xfrm>
              <a:custGeom>
                <a:avLst/>
                <a:gdLst/>
                <a:ahLst/>
                <a:rect l="l" t="t" r="r" b="b"/>
                <a:pathLst>
                  <a:path w="2030461" h="353123">
                    <a:moveTo>
                      <a:pt x="459670" y="353124"/>
                    </a:moveTo>
                    <a:lnTo>
                      <a:pt x="3044" y="353124"/>
                    </a:lnTo>
                    <a:lnTo>
                      <a:pt x="4566" y="351602"/>
                    </a:lnTo>
                    <a:cubicBezTo>
                      <a:pt x="32725" y="324204"/>
                      <a:pt x="52512" y="293763"/>
                      <a:pt x="66211" y="257232"/>
                    </a:cubicBezTo>
                    <a:cubicBezTo>
                      <a:pt x="74582" y="232118"/>
                      <a:pt x="79909" y="206243"/>
                      <a:pt x="79909" y="178084"/>
                    </a:cubicBezTo>
                    <a:cubicBezTo>
                      <a:pt x="79909" y="107307"/>
                      <a:pt x="49468" y="43379"/>
                      <a:pt x="0" y="0"/>
                    </a:cubicBezTo>
                    <a:lnTo>
                      <a:pt x="41857" y="761"/>
                    </a:lnTo>
                    <a:cubicBezTo>
                      <a:pt x="103502" y="1522"/>
                      <a:pt x="165146" y="3805"/>
                      <a:pt x="227552" y="5327"/>
                    </a:cubicBezTo>
                    <a:lnTo>
                      <a:pt x="782352" y="19787"/>
                    </a:lnTo>
                    <a:lnTo>
                      <a:pt x="789201" y="19787"/>
                    </a:lnTo>
                    <a:cubicBezTo>
                      <a:pt x="833342" y="19787"/>
                      <a:pt x="882048" y="21309"/>
                      <a:pt x="933800" y="23592"/>
                    </a:cubicBezTo>
                    <a:lnTo>
                      <a:pt x="1901085" y="48707"/>
                    </a:lnTo>
                    <a:cubicBezTo>
                      <a:pt x="1972623" y="48707"/>
                      <a:pt x="2030462" y="106546"/>
                      <a:pt x="2030462" y="178845"/>
                    </a:cubicBezTo>
                    <a:cubicBezTo>
                      <a:pt x="2030462" y="250383"/>
                      <a:pt x="1972623" y="308983"/>
                      <a:pt x="1901085" y="308983"/>
                    </a:cubicBezTo>
                    <a:cubicBezTo>
                      <a:pt x="1836396" y="308983"/>
                      <a:pt x="1783123" y="261038"/>
                      <a:pt x="1773230" y="198632"/>
                    </a:cubicBezTo>
                    <a:cubicBezTo>
                      <a:pt x="1551766" y="260277"/>
                      <a:pt x="870633" y="353124"/>
                      <a:pt x="459670" y="353124"/>
                    </a:cubicBezTo>
                    <a:close/>
                    <a:moveTo>
                      <a:pt x="1901085" y="252666"/>
                    </a:moveTo>
                    <a:cubicBezTo>
                      <a:pt x="1941420" y="252666"/>
                      <a:pt x="1974145" y="219941"/>
                      <a:pt x="1974145" y="179606"/>
                    </a:cubicBezTo>
                    <a:cubicBezTo>
                      <a:pt x="1974145" y="139271"/>
                      <a:pt x="1941420" y="106546"/>
                      <a:pt x="1901085" y="106546"/>
                    </a:cubicBezTo>
                    <a:cubicBezTo>
                      <a:pt x="1860749" y="106546"/>
                      <a:pt x="1828025" y="139271"/>
                      <a:pt x="1828025" y="179606"/>
                    </a:cubicBezTo>
                    <a:lnTo>
                      <a:pt x="1828025" y="180367"/>
                    </a:lnTo>
                    <a:lnTo>
                      <a:pt x="1828025" y="181128"/>
                    </a:lnTo>
                    <a:cubicBezTo>
                      <a:pt x="1837918" y="229074"/>
                      <a:pt x="1866838" y="252666"/>
                      <a:pt x="1901085" y="25266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33" name="Freeform: Shape 28"/>
              <p:cNvSpPr/>
              <p:nvPr/>
            </p:nvSpPr>
            <p:spPr>
              <a:xfrm>
                <a:off x="6681600" y="2558520"/>
                <a:ext cx="1923840" cy="336240"/>
              </a:xfrm>
              <a:custGeom>
                <a:avLst/>
                <a:gdLst/>
                <a:ahLst/>
                <a:rect l="l" t="t" r="r" b="b"/>
                <a:pathLst>
                  <a:path w="2016002" h="352362">
                    <a:moveTo>
                      <a:pt x="1569270" y="352363"/>
                    </a:moveTo>
                    <a:lnTo>
                      <a:pt x="2012958" y="352363"/>
                    </a:lnTo>
                    <a:lnTo>
                      <a:pt x="2010675" y="350080"/>
                    </a:lnTo>
                    <a:lnTo>
                      <a:pt x="2008392" y="348558"/>
                    </a:lnTo>
                    <a:cubicBezTo>
                      <a:pt x="1995454" y="336381"/>
                      <a:pt x="1983277" y="321160"/>
                      <a:pt x="1974145" y="306700"/>
                    </a:cubicBezTo>
                    <a:cubicBezTo>
                      <a:pt x="1965773" y="293001"/>
                      <a:pt x="1958924" y="280825"/>
                      <a:pt x="1953597" y="265604"/>
                    </a:cubicBezTo>
                    <a:cubicBezTo>
                      <a:pt x="1920872" y="181889"/>
                      <a:pt x="1936093" y="88281"/>
                      <a:pt x="1996976" y="19026"/>
                    </a:cubicBezTo>
                    <a:cubicBezTo>
                      <a:pt x="2003065" y="12177"/>
                      <a:pt x="2009153" y="6088"/>
                      <a:pt x="2016002" y="0"/>
                    </a:cubicBezTo>
                    <a:cubicBezTo>
                      <a:pt x="1945225" y="1522"/>
                      <a:pt x="1873687" y="3044"/>
                      <a:pt x="1802910" y="5327"/>
                    </a:cubicBezTo>
                    <a:lnTo>
                      <a:pt x="1248110" y="19787"/>
                    </a:lnTo>
                    <a:lnTo>
                      <a:pt x="1241261" y="19787"/>
                    </a:lnTo>
                    <a:cubicBezTo>
                      <a:pt x="1197120" y="19787"/>
                      <a:pt x="1148413" y="21309"/>
                      <a:pt x="1096663" y="23592"/>
                    </a:cubicBezTo>
                    <a:lnTo>
                      <a:pt x="129377" y="48707"/>
                    </a:lnTo>
                    <a:cubicBezTo>
                      <a:pt x="57839" y="48707"/>
                      <a:pt x="0" y="106546"/>
                      <a:pt x="0" y="178845"/>
                    </a:cubicBezTo>
                    <a:cubicBezTo>
                      <a:pt x="0" y="250383"/>
                      <a:pt x="57839" y="308983"/>
                      <a:pt x="129377" y="308983"/>
                    </a:cubicBezTo>
                    <a:cubicBezTo>
                      <a:pt x="194066" y="308983"/>
                      <a:pt x="247339" y="261038"/>
                      <a:pt x="257232" y="198632"/>
                    </a:cubicBezTo>
                    <a:cubicBezTo>
                      <a:pt x="476413" y="259516"/>
                      <a:pt x="1158307" y="352363"/>
                      <a:pt x="1569270" y="352363"/>
                    </a:cubicBezTo>
                    <a:close/>
                    <a:moveTo>
                      <a:pt x="127855" y="251905"/>
                    </a:moveTo>
                    <a:cubicBezTo>
                      <a:pt x="87520" y="251905"/>
                      <a:pt x="54795" y="219180"/>
                      <a:pt x="54795" y="178845"/>
                    </a:cubicBezTo>
                    <a:cubicBezTo>
                      <a:pt x="54795" y="138510"/>
                      <a:pt x="87520" y="105785"/>
                      <a:pt x="127855" y="105785"/>
                    </a:cubicBezTo>
                    <a:cubicBezTo>
                      <a:pt x="168190" y="105785"/>
                      <a:pt x="200915" y="138510"/>
                      <a:pt x="200915" y="178845"/>
                    </a:cubicBezTo>
                    <a:lnTo>
                      <a:pt x="200915" y="179606"/>
                    </a:lnTo>
                    <a:lnTo>
                      <a:pt x="200915" y="180367"/>
                    </a:lnTo>
                    <a:cubicBezTo>
                      <a:pt x="191022" y="228313"/>
                      <a:pt x="162102" y="251905"/>
                      <a:pt x="127855" y="25190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34" name="Freeform: Shape 29"/>
              <p:cNvSpPr/>
              <p:nvPr/>
            </p:nvSpPr>
            <p:spPr>
              <a:xfrm>
                <a:off x="8529120" y="2500560"/>
                <a:ext cx="451440" cy="454680"/>
              </a:xfrm>
              <a:custGeom>
                <a:avLst/>
                <a:gdLst/>
                <a:ahLst/>
                <a:rect l="l" t="t" r="r" b="b"/>
                <a:pathLst>
                  <a:path w="473368" h="476412">
                    <a:moveTo>
                      <a:pt x="473369" y="238206"/>
                    </a:moveTo>
                    <a:cubicBezTo>
                      <a:pt x="473369" y="369764"/>
                      <a:pt x="367401" y="476413"/>
                      <a:pt x="236684" y="476413"/>
                    </a:cubicBezTo>
                    <a:cubicBezTo>
                      <a:pt x="105967" y="476413"/>
                      <a:pt x="0" y="369764"/>
                      <a:pt x="0" y="238206"/>
                    </a:cubicBezTo>
                    <a:cubicBezTo>
                      <a:pt x="0" y="106649"/>
                      <a:pt x="105967" y="0"/>
                      <a:pt x="236684" y="0"/>
                    </a:cubicBezTo>
                    <a:cubicBezTo>
                      <a:pt x="367401" y="0"/>
                      <a:pt x="473369" y="106649"/>
                      <a:pt x="473369" y="2382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35" name="Freeform: Shape 30"/>
              <p:cNvSpPr/>
              <p:nvPr/>
            </p:nvSpPr>
            <p:spPr>
              <a:xfrm>
                <a:off x="8627400" y="2599200"/>
                <a:ext cx="255600" cy="257040"/>
              </a:xfrm>
              <a:custGeom>
                <a:avLst/>
                <a:gdLst/>
                <a:ahLst/>
                <a:rect l="l" t="t" r="r" b="b"/>
                <a:pathLst>
                  <a:path w="267887" h="269409">
                    <a:moveTo>
                      <a:pt x="267887" y="134705"/>
                    </a:moveTo>
                    <a:cubicBezTo>
                      <a:pt x="267887" y="209100"/>
                      <a:pt x="207918" y="269409"/>
                      <a:pt x="133943" y="269409"/>
                    </a:cubicBezTo>
                    <a:cubicBezTo>
                      <a:pt x="59968" y="269409"/>
                      <a:pt x="0" y="209100"/>
                      <a:pt x="0" y="134705"/>
                    </a:cubicBezTo>
                    <a:cubicBezTo>
                      <a:pt x="0" y="60309"/>
                      <a:pt x="59968" y="0"/>
                      <a:pt x="133943" y="0"/>
                    </a:cubicBezTo>
                    <a:cubicBezTo>
                      <a:pt x="207918" y="0"/>
                      <a:pt x="267887" y="60309"/>
                      <a:pt x="267887" y="134705"/>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36" name="Freeform: Shape 31"/>
              <p:cNvSpPr/>
              <p:nvPr/>
            </p:nvSpPr>
            <p:spPr>
              <a:xfrm>
                <a:off x="8690400" y="2663280"/>
                <a:ext cx="129240" cy="129240"/>
              </a:xfrm>
              <a:custGeom>
                <a:avLst/>
                <a:gdLst/>
                <a:ahLst/>
                <a:rect l="l" t="t" r="r" b="b"/>
                <a:pathLst>
                  <a:path w="135465" h="135465">
                    <a:moveTo>
                      <a:pt x="135466" y="67733"/>
                    </a:moveTo>
                    <a:cubicBezTo>
                      <a:pt x="135466" y="105141"/>
                      <a:pt x="105140" y="135466"/>
                      <a:pt x="67733" y="135466"/>
                    </a:cubicBezTo>
                    <a:cubicBezTo>
                      <a:pt x="30325" y="135466"/>
                      <a:pt x="0" y="105141"/>
                      <a:pt x="0" y="67733"/>
                    </a:cubicBezTo>
                    <a:cubicBezTo>
                      <a:pt x="0" y="30325"/>
                      <a:pt x="30325" y="0"/>
                      <a:pt x="67733" y="0"/>
                    </a:cubicBezTo>
                    <a:cubicBezTo>
                      <a:pt x="105141" y="0"/>
                      <a:pt x="135466" y="30325"/>
                      <a:pt x="135466" y="67733"/>
                    </a:cubicBezTo>
                    <a:close/>
                  </a:path>
                </a:pathLst>
              </a:custGeom>
              <a:solidFill>
                <a:srgbClr val="3333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1937" name="Graphic 3"/>
              <p:cNvGrpSpPr/>
              <p:nvPr/>
            </p:nvGrpSpPr>
            <p:grpSpPr>
              <a:xfrm>
                <a:off x="7451280" y="2597040"/>
                <a:ext cx="2760480" cy="273240"/>
                <a:chOff x="7451280" y="2597040"/>
                <a:chExt cx="2760480" cy="273240"/>
              </a:xfrm>
            </p:grpSpPr>
            <p:grpSp>
              <p:nvGrpSpPr>
                <p:cNvPr id="1938" name="Graphic 3"/>
                <p:cNvGrpSpPr/>
                <p:nvPr/>
              </p:nvGrpSpPr>
              <p:grpSpPr>
                <a:xfrm>
                  <a:off x="9472680" y="2597760"/>
                  <a:ext cx="739080" cy="260280"/>
                  <a:chOff x="9472680" y="2597760"/>
                  <a:chExt cx="739080" cy="260280"/>
                </a:xfrm>
              </p:grpSpPr>
              <p:sp>
                <p:nvSpPr>
                  <p:cNvPr id="1939" name="Freeform: Shape 34"/>
                  <p:cNvSpPr/>
                  <p:nvPr/>
                </p:nvSpPr>
                <p:spPr>
                  <a:xfrm>
                    <a:off x="9995400" y="2610720"/>
                    <a:ext cx="216360" cy="196560"/>
                  </a:xfrm>
                  <a:custGeom>
                    <a:avLst/>
                    <a:gdLst/>
                    <a:ahLst/>
                    <a:rect l="l" t="t" r="r" b="b"/>
                    <a:pathLst>
                      <a:path w="226790" h="205481">
                        <a:moveTo>
                          <a:pt x="226791" y="192544"/>
                        </a:moveTo>
                        <a:lnTo>
                          <a:pt x="121006" y="3044"/>
                        </a:lnTo>
                        <a:lnTo>
                          <a:pt x="0" y="0"/>
                        </a:lnTo>
                        <a:lnTo>
                          <a:pt x="133943" y="205482"/>
                        </a:lnTo>
                        <a:cubicBezTo>
                          <a:pt x="164385" y="201676"/>
                          <a:pt x="195588" y="197110"/>
                          <a:pt x="226791" y="192544"/>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40" name="Freeform: Shape 35"/>
                  <p:cNvSpPr/>
                  <p:nvPr/>
                </p:nvSpPr>
                <p:spPr>
                  <a:xfrm>
                    <a:off x="9472680" y="2597760"/>
                    <a:ext cx="308520" cy="260280"/>
                  </a:xfrm>
                  <a:custGeom>
                    <a:avLst/>
                    <a:gdLst/>
                    <a:ahLst/>
                    <a:rect l="l" t="t" r="r" b="b"/>
                    <a:pathLst>
                      <a:path w="323443" h="272453">
                        <a:moveTo>
                          <a:pt x="323443" y="260277"/>
                        </a:moveTo>
                        <a:lnTo>
                          <a:pt x="180367" y="4566"/>
                        </a:lnTo>
                        <a:lnTo>
                          <a:pt x="0" y="0"/>
                        </a:lnTo>
                        <a:lnTo>
                          <a:pt x="178084" y="272453"/>
                        </a:lnTo>
                        <a:cubicBezTo>
                          <a:pt x="226791" y="268648"/>
                          <a:pt x="275498" y="264843"/>
                          <a:pt x="323443" y="260277"/>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941" name="Graphic 3"/>
                <p:cNvGrpSpPr/>
                <p:nvPr/>
              </p:nvGrpSpPr>
              <p:grpSpPr>
                <a:xfrm>
                  <a:off x="7451280" y="2597040"/>
                  <a:ext cx="790200" cy="273240"/>
                  <a:chOff x="7451280" y="2597040"/>
                  <a:chExt cx="790200" cy="273240"/>
                </a:xfrm>
              </p:grpSpPr>
              <p:sp>
                <p:nvSpPr>
                  <p:cNvPr id="1942" name="Freeform: Shape 37"/>
                  <p:cNvSpPr/>
                  <p:nvPr/>
                </p:nvSpPr>
                <p:spPr>
                  <a:xfrm>
                    <a:off x="7956000" y="2597040"/>
                    <a:ext cx="285480" cy="273240"/>
                  </a:xfrm>
                  <a:custGeom>
                    <a:avLst/>
                    <a:gdLst/>
                    <a:ahLst/>
                    <a:rect l="l" t="t" r="r" b="b"/>
                    <a:pathLst>
                      <a:path w="299089" h="286152">
                        <a:moveTo>
                          <a:pt x="299090" y="286152"/>
                        </a:moveTo>
                        <a:lnTo>
                          <a:pt x="138510" y="0"/>
                        </a:lnTo>
                        <a:lnTo>
                          <a:pt x="0" y="3044"/>
                        </a:lnTo>
                        <a:lnTo>
                          <a:pt x="184172" y="285391"/>
                        </a:lnTo>
                        <a:cubicBezTo>
                          <a:pt x="200915" y="285391"/>
                          <a:pt x="216897" y="285391"/>
                          <a:pt x="233640" y="285391"/>
                        </a:cubicBezTo>
                        <a:lnTo>
                          <a:pt x="299090" y="285391"/>
                        </a:lnTo>
                        <a:lnTo>
                          <a:pt x="299090" y="286152"/>
                        </a:ln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43" name="Freeform: Shape 38"/>
                  <p:cNvSpPr/>
                  <p:nvPr/>
                </p:nvSpPr>
                <p:spPr>
                  <a:xfrm>
                    <a:off x="7451280" y="2607840"/>
                    <a:ext cx="319680" cy="240840"/>
                  </a:xfrm>
                  <a:custGeom>
                    <a:avLst/>
                    <a:gdLst/>
                    <a:ahLst/>
                    <a:rect l="l" t="t" r="r" b="b"/>
                    <a:pathLst>
                      <a:path w="334858" h="251905">
                        <a:moveTo>
                          <a:pt x="334859" y="251905"/>
                        </a:moveTo>
                        <a:lnTo>
                          <a:pt x="194066" y="0"/>
                        </a:lnTo>
                        <a:lnTo>
                          <a:pt x="0" y="5327"/>
                        </a:lnTo>
                        <a:lnTo>
                          <a:pt x="149164" y="233640"/>
                        </a:lnTo>
                        <a:cubicBezTo>
                          <a:pt x="174279" y="236684"/>
                          <a:pt x="200154" y="238967"/>
                          <a:pt x="225269" y="242012"/>
                        </a:cubicBezTo>
                        <a:cubicBezTo>
                          <a:pt x="261038" y="245056"/>
                          <a:pt x="297568" y="248861"/>
                          <a:pt x="334859" y="251905"/>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sp>
          <p:nvSpPr>
            <p:cNvPr id="1944" name="Freeform: Shape 39"/>
            <p:cNvSpPr/>
            <p:nvPr/>
          </p:nvSpPr>
          <p:spPr>
            <a:xfrm>
              <a:off x="8068680" y="2077920"/>
              <a:ext cx="1386360" cy="1153800"/>
            </a:xfrm>
            <a:custGeom>
              <a:avLst/>
              <a:gdLst/>
              <a:ahLst/>
              <a:rect l="l" t="t" r="r" b="b"/>
              <a:pathLst>
                <a:path w="1452824" h="1208962">
                  <a:moveTo>
                    <a:pt x="1451619" y="755690"/>
                  </a:moveTo>
                  <a:cubicBezTo>
                    <a:pt x="1445530" y="820379"/>
                    <a:pt x="1420416" y="882023"/>
                    <a:pt x="1390736" y="939101"/>
                  </a:cubicBezTo>
                  <a:cubicBezTo>
                    <a:pt x="1361816" y="993896"/>
                    <a:pt x="1328330" y="1046408"/>
                    <a:pt x="1289517" y="1094354"/>
                  </a:cubicBezTo>
                  <a:cubicBezTo>
                    <a:pt x="1277340" y="1109575"/>
                    <a:pt x="1263641" y="1124796"/>
                    <a:pt x="1248420" y="1136973"/>
                  </a:cubicBezTo>
                  <a:cubicBezTo>
                    <a:pt x="1236244" y="1146866"/>
                    <a:pt x="1223306" y="1155238"/>
                    <a:pt x="1208846" y="1162087"/>
                  </a:cubicBezTo>
                  <a:cubicBezTo>
                    <a:pt x="1165467" y="1182635"/>
                    <a:pt x="1114477" y="1187201"/>
                    <a:pt x="1068814" y="1173503"/>
                  </a:cubicBezTo>
                  <a:cubicBezTo>
                    <a:pt x="1068814" y="1173503"/>
                    <a:pt x="1068814" y="1173503"/>
                    <a:pt x="1068053" y="1173503"/>
                  </a:cubicBezTo>
                  <a:cubicBezTo>
                    <a:pt x="1059682" y="1170458"/>
                    <a:pt x="1050549" y="1171981"/>
                    <a:pt x="1043700" y="1178069"/>
                  </a:cubicBezTo>
                  <a:cubicBezTo>
                    <a:pt x="1042178" y="1178830"/>
                    <a:pt x="1040656" y="1180352"/>
                    <a:pt x="1039134" y="1181113"/>
                  </a:cubicBezTo>
                  <a:cubicBezTo>
                    <a:pt x="1035328" y="1184157"/>
                    <a:pt x="1030762" y="1186440"/>
                    <a:pt x="1026196" y="1188723"/>
                  </a:cubicBezTo>
                  <a:cubicBezTo>
                    <a:pt x="1009453" y="1197095"/>
                    <a:pt x="980534" y="1204705"/>
                    <a:pt x="962268" y="1205466"/>
                  </a:cubicBezTo>
                  <a:cubicBezTo>
                    <a:pt x="905190" y="1210033"/>
                    <a:pt x="842785" y="1198617"/>
                    <a:pt x="800927" y="1159804"/>
                  </a:cubicBezTo>
                  <a:cubicBezTo>
                    <a:pt x="797883" y="1157521"/>
                    <a:pt x="794839" y="1155238"/>
                    <a:pt x="791795" y="1154477"/>
                  </a:cubicBezTo>
                  <a:cubicBezTo>
                    <a:pt x="784184" y="1152193"/>
                    <a:pt x="775813" y="1152955"/>
                    <a:pt x="769725" y="1157521"/>
                  </a:cubicBezTo>
                  <a:cubicBezTo>
                    <a:pt x="746893" y="1172742"/>
                    <a:pt x="717974" y="1181113"/>
                    <a:pt x="691337" y="1189484"/>
                  </a:cubicBezTo>
                  <a:cubicBezTo>
                    <a:pt x="642630" y="1204705"/>
                    <a:pt x="590880" y="1213838"/>
                    <a:pt x="540651" y="1206228"/>
                  </a:cubicBezTo>
                  <a:cubicBezTo>
                    <a:pt x="490422" y="1198617"/>
                    <a:pt x="440954" y="1172742"/>
                    <a:pt x="413557" y="1130123"/>
                  </a:cubicBezTo>
                  <a:cubicBezTo>
                    <a:pt x="362567" y="1175025"/>
                    <a:pt x="281896" y="1171981"/>
                    <a:pt x="214163" y="1165131"/>
                  </a:cubicBezTo>
                  <a:cubicBezTo>
                    <a:pt x="175350" y="1161326"/>
                    <a:pt x="133493" y="1155999"/>
                    <a:pt x="104573" y="1130123"/>
                  </a:cubicBezTo>
                  <a:cubicBezTo>
                    <a:pt x="87830" y="1114902"/>
                    <a:pt x="77937" y="1094354"/>
                    <a:pt x="69565" y="1073806"/>
                  </a:cubicBezTo>
                  <a:cubicBezTo>
                    <a:pt x="51300" y="1028904"/>
                    <a:pt x="41407" y="980198"/>
                    <a:pt x="40646" y="931491"/>
                  </a:cubicBezTo>
                  <a:cubicBezTo>
                    <a:pt x="39885" y="888873"/>
                    <a:pt x="46734" y="846254"/>
                    <a:pt x="48256" y="803636"/>
                  </a:cubicBezTo>
                  <a:cubicBezTo>
                    <a:pt x="48256" y="802114"/>
                    <a:pt x="48256" y="800592"/>
                    <a:pt x="48256" y="798309"/>
                  </a:cubicBezTo>
                  <a:cubicBezTo>
                    <a:pt x="51300" y="737425"/>
                    <a:pt x="45212" y="675781"/>
                    <a:pt x="30752" y="616419"/>
                  </a:cubicBezTo>
                  <a:cubicBezTo>
                    <a:pt x="26186" y="598154"/>
                    <a:pt x="20859" y="579128"/>
                    <a:pt x="16292" y="560863"/>
                  </a:cubicBezTo>
                  <a:cubicBezTo>
                    <a:pt x="3354" y="510634"/>
                    <a:pt x="-7300" y="459644"/>
                    <a:pt x="6399" y="410177"/>
                  </a:cubicBezTo>
                  <a:cubicBezTo>
                    <a:pt x="16292" y="375930"/>
                    <a:pt x="36841" y="345488"/>
                    <a:pt x="52061" y="313524"/>
                  </a:cubicBezTo>
                  <a:cubicBezTo>
                    <a:pt x="74132" y="265579"/>
                    <a:pt x="81742" y="211545"/>
                    <a:pt x="108378" y="165121"/>
                  </a:cubicBezTo>
                  <a:cubicBezTo>
                    <a:pt x="132732" y="122503"/>
                    <a:pt x="171545" y="89778"/>
                    <a:pt x="211119" y="61619"/>
                  </a:cubicBezTo>
                  <a:cubicBezTo>
                    <a:pt x="241561" y="40310"/>
                    <a:pt x="273525" y="20523"/>
                    <a:pt x="309294" y="11390"/>
                  </a:cubicBezTo>
                  <a:cubicBezTo>
                    <a:pt x="351912" y="736"/>
                    <a:pt x="397575" y="6824"/>
                    <a:pt x="436388" y="26611"/>
                  </a:cubicBezTo>
                  <a:cubicBezTo>
                    <a:pt x="454653" y="36505"/>
                    <a:pt x="472157" y="48681"/>
                    <a:pt x="485856" y="64663"/>
                  </a:cubicBezTo>
                  <a:cubicBezTo>
                    <a:pt x="504121" y="48681"/>
                    <a:pt x="525430" y="35744"/>
                    <a:pt x="547500" y="25089"/>
                  </a:cubicBezTo>
                  <a:cubicBezTo>
                    <a:pt x="590880" y="5302"/>
                    <a:pt x="639586" y="-3831"/>
                    <a:pt x="686010" y="1497"/>
                  </a:cubicBezTo>
                  <a:cubicBezTo>
                    <a:pt x="724062" y="5302"/>
                    <a:pt x="759831" y="17479"/>
                    <a:pt x="792556" y="37266"/>
                  </a:cubicBezTo>
                  <a:cubicBezTo>
                    <a:pt x="792556" y="37266"/>
                    <a:pt x="792556" y="37266"/>
                    <a:pt x="792556" y="37266"/>
                  </a:cubicBezTo>
                  <a:cubicBezTo>
                    <a:pt x="821475" y="54770"/>
                    <a:pt x="847351" y="77601"/>
                    <a:pt x="867138" y="104999"/>
                  </a:cubicBezTo>
                  <a:cubicBezTo>
                    <a:pt x="912040" y="85972"/>
                    <a:pt x="953897" y="79123"/>
                    <a:pt x="991949" y="81406"/>
                  </a:cubicBezTo>
                  <a:cubicBezTo>
                    <a:pt x="1024674" y="82928"/>
                    <a:pt x="1053593" y="90539"/>
                    <a:pt x="1079469" y="101193"/>
                  </a:cubicBezTo>
                  <a:cubicBezTo>
                    <a:pt x="1079469" y="101193"/>
                    <a:pt x="1080230" y="101193"/>
                    <a:pt x="1080991" y="101954"/>
                  </a:cubicBezTo>
                  <a:cubicBezTo>
                    <a:pt x="1152529" y="133157"/>
                    <a:pt x="1195147" y="189474"/>
                    <a:pt x="1192864" y="213828"/>
                  </a:cubicBezTo>
                  <a:cubicBezTo>
                    <a:pt x="1205041" y="203934"/>
                    <a:pt x="1217979" y="197085"/>
                    <a:pt x="1232439" y="194041"/>
                  </a:cubicBezTo>
                  <a:cubicBezTo>
                    <a:pt x="1232439" y="194041"/>
                    <a:pt x="1232439" y="194041"/>
                    <a:pt x="1232439" y="194041"/>
                  </a:cubicBezTo>
                  <a:cubicBezTo>
                    <a:pt x="1235483" y="193279"/>
                    <a:pt x="1238527" y="192518"/>
                    <a:pt x="1241571" y="192518"/>
                  </a:cubicBezTo>
                  <a:cubicBezTo>
                    <a:pt x="1241571" y="192518"/>
                    <a:pt x="1242332" y="192518"/>
                    <a:pt x="1242332" y="192518"/>
                  </a:cubicBezTo>
                  <a:cubicBezTo>
                    <a:pt x="1272013" y="188713"/>
                    <a:pt x="1303977" y="197846"/>
                    <a:pt x="1329852" y="216872"/>
                  </a:cubicBezTo>
                  <a:cubicBezTo>
                    <a:pt x="1348878" y="232093"/>
                    <a:pt x="1364099" y="251119"/>
                    <a:pt x="1376276" y="271667"/>
                  </a:cubicBezTo>
                  <a:cubicBezTo>
                    <a:pt x="1389974" y="294498"/>
                    <a:pt x="1399868" y="320374"/>
                    <a:pt x="1407478" y="346249"/>
                  </a:cubicBezTo>
                  <a:cubicBezTo>
                    <a:pt x="1439442" y="448990"/>
                    <a:pt x="1445530" y="557819"/>
                    <a:pt x="1451619" y="665887"/>
                  </a:cubicBezTo>
                  <a:cubicBezTo>
                    <a:pt x="1452380" y="695568"/>
                    <a:pt x="1453902" y="726009"/>
                    <a:pt x="1451619" y="755690"/>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45" name="Freeform: Shape 40"/>
            <p:cNvSpPr/>
            <p:nvPr/>
          </p:nvSpPr>
          <p:spPr>
            <a:xfrm>
              <a:off x="8107920" y="2336400"/>
              <a:ext cx="1347120" cy="893160"/>
            </a:xfrm>
            <a:custGeom>
              <a:avLst/>
              <a:gdLst/>
              <a:ahLst/>
              <a:rect l="l" t="t" r="r" b="b"/>
              <a:pathLst>
                <a:path w="1411669" h="935773">
                  <a:moveTo>
                    <a:pt x="1409517" y="394220"/>
                  </a:moveTo>
                  <a:cubicBezTo>
                    <a:pt x="1403428" y="286913"/>
                    <a:pt x="1397340" y="178084"/>
                    <a:pt x="1365376" y="74582"/>
                  </a:cubicBezTo>
                  <a:cubicBezTo>
                    <a:pt x="1357766" y="48707"/>
                    <a:pt x="1347872" y="22831"/>
                    <a:pt x="1334173" y="0"/>
                  </a:cubicBezTo>
                  <a:cubicBezTo>
                    <a:pt x="1357766" y="125572"/>
                    <a:pt x="1377553" y="251905"/>
                    <a:pt x="1369942" y="378999"/>
                  </a:cubicBezTo>
                  <a:cubicBezTo>
                    <a:pt x="1367659" y="415529"/>
                    <a:pt x="1363854" y="451298"/>
                    <a:pt x="1353961" y="486306"/>
                  </a:cubicBezTo>
                  <a:cubicBezTo>
                    <a:pt x="1346350" y="514465"/>
                    <a:pt x="1334935" y="541862"/>
                    <a:pt x="1324280" y="569260"/>
                  </a:cubicBezTo>
                  <a:cubicBezTo>
                    <a:pt x="1311342" y="601224"/>
                    <a:pt x="1298404" y="633188"/>
                    <a:pt x="1284706" y="665912"/>
                  </a:cubicBezTo>
                  <a:cubicBezTo>
                    <a:pt x="1266441" y="710814"/>
                    <a:pt x="1245892" y="757999"/>
                    <a:pt x="1205557" y="784635"/>
                  </a:cubicBezTo>
                  <a:cubicBezTo>
                    <a:pt x="1168266" y="808988"/>
                    <a:pt x="1121081" y="810511"/>
                    <a:pt x="1075419" y="803661"/>
                  </a:cubicBezTo>
                  <a:cubicBezTo>
                    <a:pt x="1075419" y="802900"/>
                    <a:pt x="1075419" y="802139"/>
                    <a:pt x="1075419" y="802139"/>
                  </a:cubicBezTo>
                  <a:cubicBezTo>
                    <a:pt x="1073897" y="768653"/>
                    <a:pt x="1083029" y="735167"/>
                    <a:pt x="1094445" y="703204"/>
                  </a:cubicBezTo>
                  <a:cubicBezTo>
                    <a:pt x="1105861" y="671240"/>
                    <a:pt x="1118798" y="640037"/>
                    <a:pt x="1125648" y="607312"/>
                  </a:cubicBezTo>
                  <a:cubicBezTo>
                    <a:pt x="1136302" y="553278"/>
                    <a:pt x="1116515" y="311266"/>
                    <a:pt x="1116515" y="227552"/>
                  </a:cubicBezTo>
                  <a:cubicBezTo>
                    <a:pt x="1099011" y="300612"/>
                    <a:pt x="1096728" y="503049"/>
                    <a:pt x="1091401" y="573065"/>
                  </a:cubicBezTo>
                  <a:cubicBezTo>
                    <a:pt x="1086073" y="643842"/>
                    <a:pt x="1068570" y="713858"/>
                    <a:pt x="1041172" y="778547"/>
                  </a:cubicBezTo>
                  <a:cubicBezTo>
                    <a:pt x="1033562" y="796812"/>
                    <a:pt x="1024429" y="815077"/>
                    <a:pt x="1008447" y="827253"/>
                  </a:cubicBezTo>
                  <a:cubicBezTo>
                    <a:pt x="998554" y="834864"/>
                    <a:pt x="985616" y="839430"/>
                    <a:pt x="973439" y="843235"/>
                  </a:cubicBezTo>
                  <a:cubicBezTo>
                    <a:pt x="937670" y="853890"/>
                    <a:pt x="899618" y="858456"/>
                    <a:pt x="862327" y="856173"/>
                  </a:cubicBezTo>
                  <a:cubicBezTo>
                    <a:pt x="844062" y="854651"/>
                    <a:pt x="825797" y="852368"/>
                    <a:pt x="809815" y="843235"/>
                  </a:cubicBezTo>
                  <a:cubicBezTo>
                    <a:pt x="780134" y="825731"/>
                    <a:pt x="795355" y="836386"/>
                    <a:pt x="781656" y="805183"/>
                  </a:cubicBezTo>
                  <a:cubicBezTo>
                    <a:pt x="806010" y="599702"/>
                    <a:pt x="828841" y="385849"/>
                    <a:pt x="832646" y="178845"/>
                  </a:cubicBezTo>
                  <a:cubicBezTo>
                    <a:pt x="824275" y="266365"/>
                    <a:pt x="760347" y="654497"/>
                    <a:pt x="744365" y="789201"/>
                  </a:cubicBezTo>
                  <a:cubicBezTo>
                    <a:pt x="742843" y="800617"/>
                    <a:pt x="737516" y="811272"/>
                    <a:pt x="729906" y="818882"/>
                  </a:cubicBezTo>
                  <a:cubicBezTo>
                    <a:pt x="721534" y="828015"/>
                    <a:pt x="708596" y="832581"/>
                    <a:pt x="697181" y="836386"/>
                  </a:cubicBezTo>
                  <a:cubicBezTo>
                    <a:pt x="672827" y="844757"/>
                    <a:pt x="648474" y="853129"/>
                    <a:pt x="623360" y="858456"/>
                  </a:cubicBezTo>
                  <a:cubicBezTo>
                    <a:pt x="566281" y="869872"/>
                    <a:pt x="506159" y="863023"/>
                    <a:pt x="453647" y="839430"/>
                  </a:cubicBezTo>
                  <a:cubicBezTo>
                    <a:pt x="439948" y="833342"/>
                    <a:pt x="424727" y="822687"/>
                    <a:pt x="424727" y="807466"/>
                  </a:cubicBezTo>
                  <a:cubicBezTo>
                    <a:pt x="426249" y="694071"/>
                    <a:pt x="432338" y="576870"/>
                    <a:pt x="437665" y="462714"/>
                  </a:cubicBezTo>
                  <a:cubicBezTo>
                    <a:pt x="439948" y="407919"/>
                    <a:pt x="450603" y="203198"/>
                    <a:pt x="441470" y="108068"/>
                  </a:cubicBezTo>
                  <a:cubicBezTo>
                    <a:pt x="434621" y="187978"/>
                    <a:pt x="406462" y="382805"/>
                    <a:pt x="404179" y="433033"/>
                  </a:cubicBezTo>
                  <a:cubicBezTo>
                    <a:pt x="402657" y="479457"/>
                    <a:pt x="397330" y="525120"/>
                    <a:pt x="392002" y="570782"/>
                  </a:cubicBezTo>
                  <a:cubicBezTo>
                    <a:pt x="387436" y="611878"/>
                    <a:pt x="382109" y="653736"/>
                    <a:pt x="377543" y="694832"/>
                  </a:cubicBezTo>
                  <a:cubicBezTo>
                    <a:pt x="374498" y="719946"/>
                    <a:pt x="371454" y="745061"/>
                    <a:pt x="363844" y="768653"/>
                  </a:cubicBezTo>
                  <a:cubicBezTo>
                    <a:pt x="359278" y="781591"/>
                    <a:pt x="353189" y="794529"/>
                    <a:pt x="342535" y="803661"/>
                  </a:cubicBezTo>
                  <a:cubicBezTo>
                    <a:pt x="333402" y="810511"/>
                    <a:pt x="322748" y="813555"/>
                    <a:pt x="312093" y="816599"/>
                  </a:cubicBezTo>
                  <a:cubicBezTo>
                    <a:pt x="283173" y="824970"/>
                    <a:pt x="251209" y="832581"/>
                    <a:pt x="224573" y="818121"/>
                  </a:cubicBezTo>
                  <a:cubicBezTo>
                    <a:pt x="176627" y="792246"/>
                    <a:pt x="107372" y="800617"/>
                    <a:pt x="70081" y="761804"/>
                  </a:cubicBezTo>
                  <a:cubicBezTo>
                    <a:pt x="36596" y="726796"/>
                    <a:pt x="28224" y="675045"/>
                    <a:pt x="21375" y="626338"/>
                  </a:cubicBezTo>
                  <a:cubicBezTo>
                    <a:pt x="16808" y="593613"/>
                    <a:pt x="12242" y="560128"/>
                    <a:pt x="7676" y="527403"/>
                  </a:cubicBezTo>
                  <a:cubicBezTo>
                    <a:pt x="7676" y="526642"/>
                    <a:pt x="7676" y="525881"/>
                    <a:pt x="7676" y="525120"/>
                  </a:cubicBezTo>
                  <a:cubicBezTo>
                    <a:pt x="7676" y="526642"/>
                    <a:pt x="7676" y="528164"/>
                    <a:pt x="7676" y="530447"/>
                  </a:cubicBezTo>
                  <a:cubicBezTo>
                    <a:pt x="5393" y="573065"/>
                    <a:pt x="-696" y="615684"/>
                    <a:pt x="65" y="658302"/>
                  </a:cubicBezTo>
                  <a:cubicBezTo>
                    <a:pt x="826" y="707009"/>
                    <a:pt x="10720" y="755715"/>
                    <a:pt x="28985" y="800617"/>
                  </a:cubicBezTo>
                  <a:cubicBezTo>
                    <a:pt x="37357" y="821165"/>
                    <a:pt x="48011" y="841713"/>
                    <a:pt x="63993" y="856934"/>
                  </a:cubicBezTo>
                  <a:cubicBezTo>
                    <a:pt x="92913" y="882810"/>
                    <a:pt x="134770" y="888137"/>
                    <a:pt x="173583" y="891942"/>
                  </a:cubicBezTo>
                  <a:cubicBezTo>
                    <a:pt x="241316" y="898792"/>
                    <a:pt x="321225" y="901836"/>
                    <a:pt x="372976" y="856934"/>
                  </a:cubicBezTo>
                  <a:cubicBezTo>
                    <a:pt x="400374" y="899553"/>
                    <a:pt x="449842" y="925428"/>
                    <a:pt x="500071" y="933038"/>
                  </a:cubicBezTo>
                  <a:cubicBezTo>
                    <a:pt x="550299" y="940649"/>
                    <a:pt x="602050" y="931516"/>
                    <a:pt x="650757" y="916296"/>
                  </a:cubicBezTo>
                  <a:cubicBezTo>
                    <a:pt x="677393" y="907924"/>
                    <a:pt x="706313" y="899553"/>
                    <a:pt x="729144" y="884332"/>
                  </a:cubicBezTo>
                  <a:cubicBezTo>
                    <a:pt x="735994" y="879765"/>
                    <a:pt x="744365" y="879004"/>
                    <a:pt x="751215" y="881288"/>
                  </a:cubicBezTo>
                  <a:cubicBezTo>
                    <a:pt x="755020" y="882810"/>
                    <a:pt x="758064" y="884332"/>
                    <a:pt x="760347" y="886615"/>
                  </a:cubicBezTo>
                  <a:cubicBezTo>
                    <a:pt x="802205" y="926189"/>
                    <a:pt x="864610" y="936844"/>
                    <a:pt x="921688" y="932277"/>
                  </a:cubicBezTo>
                  <a:cubicBezTo>
                    <a:pt x="939953" y="930755"/>
                    <a:pt x="968873" y="923145"/>
                    <a:pt x="985616" y="915534"/>
                  </a:cubicBezTo>
                  <a:cubicBezTo>
                    <a:pt x="990182" y="913251"/>
                    <a:pt x="994748" y="910207"/>
                    <a:pt x="998554" y="907163"/>
                  </a:cubicBezTo>
                  <a:cubicBezTo>
                    <a:pt x="998554" y="907163"/>
                    <a:pt x="998554" y="907163"/>
                    <a:pt x="998554" y="907163"/>
                  </a:cubicBezTo>
                  <a:cubicBezTo>
                    <a:pt x="1000076" y="906402"/>
                    <a:pt x="1001598" y="904880"/>
                    <a:pt x="1003120" y="904119"/>
                  </a:cubicBezTo>
                  <a:cubicBezTo>
                    <a:pt x="1009969" y="898792"/>
                    <a:pt x="1019102" y="897269"/>
                    <a:pt x="1027473" y="899553"/>
                  </a:cubicBezTo>
                  <a:cubicBezTo>
                    <a:pt x="1027473" y="899553"/>
                    <a:pt x="1027473" y="899553"/>
                    <a:pt x="1028234" y="899553"/>
                  </a:cubicBezTo>
                  <a:cubicBezTo>
                    <a:pt x="1073897" y="913251"/>
                    <a:pt x="1124887" y="908685"/>
                    <a:pt x="1168266" y="888137"/>
                  </a:cubicBezTo>
                  <a:cubicBezTo>
                    <a:pt x="1182726" y="881288"/>
                    <a:pt x="1195664" y="872916"/>
                    <a:pt x="1207840" y="863023"/>
                  </a:cubicBezTo>
                  <a:cubicBezTo>
                    <a:pt x="1223061" y="850085"/>
                    <a:pt x="1235999" y="835625"/>
                    <a:pt x="1248937" y="820404"/>
                  </a:cubicBezTo>
                  <a:cubicBezTo>
                    <a:pt x="1287750" y="772458"/>
                    <a:pt x="1321997" y="719946"/>
                    <a:pt x="1350155" y="665151"/>
                  </a:cubicBezTo>
                  <a:cubicBezTo>
                    <a:pt x="1379836" y="608073"/>
                    <a:pt x="1405711" y="546429"/>
                    <a:pt x="1411039" y="481740"/>
                  </a:cubicBezTo>
                  <a:cubicBezTo>
                    <a:pt x="1412561" y="455104"/>
                    <a:pt x="1411039" y="424662"/>
                    <a:pt x="1409517" y="39422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46" name="Freeform: Shape 41"/>
            <p:cNvSpPr/>
            <p:nvPr/>
          </p:nvSpPr>
          <p:spPr>
            <a:xfrm>
              <a:off x="8479080" y="2100960"/>
              <a:ext cx="111600" cy="182160"/>
            </a:xfrm>
            <a:custGeom>
              <a:avLst/>
              <a:gdLst/>
              <a:ahLst/>
              <a:rect l="l" t="t" r="r" b="b"/>
              <a:pathLst>
                <a:path w="117200" h="191021">
                  <a:moveTo>
                    <a:pt x="117201" y="0"/>
                  </a:moveTo>
                  <a:cubicBezTo>
                    <a:pt x="104263" y="14460"/>
                    <a:pt x="95130" y="31203"/>
                    <a:pt x="87520" y="49468"/>
                  </a:cubicBezTo>
                  <a:cubicBezTo>
                    <a:pt x="63167" y="106546"/>
                    <a:pt x="58600" y="128616"/>
                    <a:pt x="54795" y="191022"/>
                  </a:cubicBezTo>
                  <a:cubicBezTo>
                    <a:pt x="44901" y="147642"/>
                    <a:pt x="53273" y="152209"/>
                    <a:pt x="46424" y="112634"/>
                  </a:cubicBezTo>
                  <a:cubicBezTo>
                    <a:pt x="39574" y="69255"/>
                    <a:pt x="22070" y="37291"/>
                    <a:pt x="0" y="761"/>
                  </a:cubicBezTo>
                  <a:cubicBezTo>
                    <a:pt x="1522" y="761"/>
                    <a:pt x="3805" y="1522"/>
                    <a:pt x="5327" y="2283"/>
                  </a:cubicBezTo>
                  <a:cubicBezTo>
                    <a:pt x="23592" y="12177"/>
                    <a:pt x="41096" y="24353"/>
                    <a:pt x="54795" y="40335"/>
                  </a:cubicBezTo>
                  <a:cubicBezTo>
                    <a:pt x="73821" y="22831"/>
                    <a:pt x="95130" y="9894"/>
                    <a:pt x="117201"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47" name="Freeform: Shape 42"/>
            <p:cNvSpPr/>
            <p:nvPr/>
          </p:nvSpPr>
          <p:spPr>
            <a:xfrm>
              <a:off x="8825040" y="2113200"/>
              <a:ext cx="191520" cy="223560"/>
            </a:xfrm>
            <a:custGeom>
              <a:avLst/>
              <a:gdLst/>
              <a:ahLst/>
              <a:rect l="l" t="t" r="r" b="b"/>
              <a:pathLst>
                <a:path w="200915" h="234401">
                  <a:moveTo>
                    <a:pt x="200915" y="44140"/>
                  </a:moveTo>
                  <a:cubicBezTo>
                    <a:pt x="163624" y="58600"/>
                    <a:pt x="129377" y="86759"/>
                    <a:pt x="107307" y="119484"/>
                  </a:cubicBezTo>
                  <a:cubicBezTo>
                    <a:pt x="84476" y="152209"/>
                    <a:pt x="81432" y="194827"/>
                    <a:pt x="82193" y="234401"/>
                  </a:cubicBezTo>
                  <a:cubicBezTo>
                    <a:pt x="82193" y="208526"/>
                    <a:pt x="71538" y="180367"/>
                    <a:pt x="69255" y="155253"/>
                  </a:cubicBezTo>
                  <a:cubicBezTo>
                    <a:pt x="67733" y="140032"/>
                    <a:pt x="66211" y="125572"/>
                    <a:pt x="60883" y="111112"/>
                  </a:cubicBezTo>
                  <a:cubicBezTo>
                    <a:pt x="55556" y="95130"/>
                    <a:pt x="54034" y="50990"/>
                    <a:pt x="0" y="0"/>
                  </a:cubicBezTo>
                  <a:cubicBezTo>
                    <a:pt x="28920" y="17504"/>
                    <a:pt x="54795" y="40335"/>
                    <a:pt x="74582" y="67733"/>
                  </a:cubicBezTo>
                  <a:cubicBezTo>
                    <a:pt x="119484" y="48707"/>
                    <a:pt x="161341" y="41857"/>
                    <a:pt x="199393" y="44140"/>
                  </a:cubicBezTo>
                  <a:cubicBezTo>
                    <a:pt x="200154" y="44140"/>
                    <a:pt x="200154" y="44140"/>
                    <a:pt x="200915" y="441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48" name="Freeform: Shape 43"/>
            <p:cNvSpPr/>
            <p:nvPr/>
          </p:nvSpPr>
          <p:spPr>
            <a:xfrm>
              <a:off x="9100080" y="2174400"/>
              <a:ext cx="144360" cy="193680"/>
            </a:xfrm>
            <a:custGeom>
              <a:avLst/>
              <a:gdLst/>
              <a:ahLst/>
              <a:rect l="l" t="t" r="r" b="b"/>
              <a:pathLst>
                <a:path w="151447" h="203198">
                  <a:moveTo>
                    <a:pt x="111873" y="111873"/>
                  </a:moveTo>
                  <a:cubicBezTo>
                    <a:pt x="124050" y="101980"/>
                    <a:pt x="136988" y="95130"/>
                    <a:pt x="151447" y="92086"/>
                  </a:cubicBezTo>
                  <a:cubicBezTo>
                    <a:pt x="149926" y="92847"/>
                    <a:pt x="149164" y="93608"/>
                    <a:pt x="147642" y="94369"/>
                  </a:cubicBezTo>
                  <a:cubicBezTo>
                    <a:pt x="143837" y="98175"/>
                    <a:pt x="140793" y="102741"/>
                    <a:pt x="138510" y="107307"/>
                  </a:cubicBezTo>
                  <a:cubicBezTo>
                    <a:pt x="121767" y="136988"/>
                    <a:pt x="108829" y="170474"/>
                    <a:pt x="97414" y="203198"/>
                  </a:cubicBezTo>
                  <a:cubicBezTo>
                    <a:pt x="96653" y="182650"/>
                    <a:pt x="95130" y="161341"/>
                    <a:pt x="94369" y="140032"/>
                  </a:cubicBezTo>
                  <a:cubicBezTo>
                    <a:pt x="92847" y="112634"/>
                    <a:pt x="91325" y="85237"/>
                    <a:pt x="78388" y="60883"/>
                  </a:cubicBezTo>
                  <a:cubicBezTo>
                    <a:pt x="68494" y="42618"/>
                    <a:pt x="31203" y="15221"/>
                    <a:pt x="0" y="0"/>
                  </a:cubicBezTo>
                  <a:cubicBezTo>
                    <a:pt x="70777" y="31203"/>
                    <a:pt x="113395" y="88281"/>
                    <a:pt x="111873" y="1118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49" name="Freeform: Shape 44"/>
            <p:cNvSpPr/>
            <p:nvPr/>
          </p:nvSpPr>
          <p:spPr>
            <a:xfrm>
              <a:off x="9253440" y="2260800"/>
              <a:ext cx="1440" cy="7200"/>
            </a:xfrm>
            <a:custGeom>
              <a:avLst/>
              <a:gdLst/>
              <a:ahLst/>
              <a:rect l="l" t="t" r="r" b="b"/>
              <a:pathLst>
                <a:path w="1522" h="7610">
                  <a:moveTo>
                    <a:pt x="1522" y="0"/>
                  </a:moveTo>
                  <a:cubicBezTo>
                    <a:pt x="761" y="0"/>
                    <a:pt x="761" y="0"/>
                    <a:pt x="0" y="0"/>
                  </a:cubicBezTo>
                  <a:cubicBezTo>
                    <a:pt x="0" y="0"/>
                    <a:pt x="761" y="0"/>
                    <a:pt x="1522" y="0"/>
                  </a:cubicBezTo>
                  <a:cubicBezTo>
                    <a:pt x="761" y="0"/>
                    <a:pt x="1522" y="0"/>
                    <a:pt x="1522" y="0"/>
                  </a:cubicBezTo>
                  <a:close/>
                </a:path>
              </a:pathLst>
            </a:custGeom>
            <a:solidFill>
              <a:srgbClr val="cf9e76"/>
            </a:solidFill>
            <a:ln w="0">
              <a:noFill/>
            </a:ln>
          </p:spPr>
          <p:style>
            <a:lnRef idx="0"/>
            <a:fillRef idx="0"/>
            <a:effectRef idx="0"/>
            <a:fontRef idx="minor"/>
          </p:style>
          <p:txBody>
            <a:bodyPr lIns="90000" rIns="90000" tIns="-39600" bIns="-39600" anchor="ctr">
              <a:noAutofit/>
            </a:bodyPr>
            <a:p>
              <a:endParaRPr b="0" lang="en-US" sz="1800" spc="-1" strike="noStrike">
                <a:solidFill>
                  <a:srgbClr val="313c3f"/>
                </a:solidFill>
                <a:latin typeface="Source Sans Pro"/>
              </a:endParaRPr>
            </a:p>
          </p:txBody>
        </p:sp>
        <p:sp>
          <p:nvSpPr>
            <p:cNvPr id="1950" name="Freeform: Shape 45"/>
            <p:cNvSpPr/>
            <p:nvPr/>
          </p:nvSpPr>
          <p:spPr>
            <a:xfrm>
              <a:off x="6780960" y="2715120"/>
              <a:ext cx="870840" cy="2122560"/>
            </a:xfrm>
            <a:custGeom>
              <a:avLst/>
              <a:gdLst/>
              <a:ahLst/>
              <a:rect l="l" t="t" r="r" b="b"/>
              <a:pathLst>
                <a:path w="912548" h="2224073">
                  <a:moveTo>
                    <a:pt x="47363" y="26095"/>
                  </a:moveTo>
                  <a:lnTo>
                    <a:pt x="907341" y="2173757"/>
                  </a:lnTo>
                  <a:cubicBezTo>
                    <a:pt x="927889" y="2230836"/>
                    <a:pt x="882227" y="2243012"/>
                    <a:pt x="863962" y="2191261"/>
                  </a:cubicBezTo>
                  <a:lnTo>
                    <a:pt x="836564" y="2115918"/>
                  </a:lnTo>
                  <a:lnTo>
                    <a:pt x="3983" y="45121"/>
                  </a:lnTo>
                  <a:cubicBezTo>
                    <a:pt x="-13520"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51" name="Freeform: Shape 46"/>
            <p:cNvSpPr/>
            <p:nvPr/>
          </p:nvSpPr>
          <p:spPr>
            <a:xfrm>
              <a:off x="10697760" y="2715120"/>
              <a:ext cx="870840" cy="2122560"/>
            </a:xfrm>
            <a:custGeom>
              <a:avLst/>
              <a:gdLst/>
              <a:ahLst/>
              <a:rect l="l" t="t" r="r" b="b"/>
              <a:pathLst>
                <a:path w="912607" h="2224073">
                  <a:moveTo>
                    <a:pt x="47363" y="26095"/>
                  </a:moveTo>
                  <a:lnTo>
                    <a:pt x="907341" y="2173757"/>
                  </a:lnTo>
                  <a:cubicBezTo>
                    <a:pt x="927889" y="2230836"/>
                    <a:pt x="882988" y="2243012"/>
                    <a:pt x="863962" y="2191261"/>
                  </a:cubicBezTo>
                  <a:lnTo>
                    <a:pt x="836564" y="2115918"/>
                  </a:lnTo>
                  <a:lnTo>
                    <a:pt x="3984" y="45121"/>
                  </a:lnTo>
                  <a:cubicBezTo>
                    <a:pt x="-13521"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952" name="TextBox 68"/>
          <p:cNvSpPr/>
          <p:nvPr/>
        </p:nvSpPr>
        <p:spPr>
          <a:xfrm>
            <a:off x="852480" y="170820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3c3f"/>
                </a:solidFill>
                <a:latin typeface="Lato"/>
              </a:rPr>
              <a:t>Yen</a:t>
            </a:r>
            <a:endParaRPr b="0" lang="en-US" sz="2800" spc="-1" strike="noStrike">
              <a:solidFill>
                <a:srgbClr val="313c3f"/>
              </a:solidFill>
              <a:latin typeface="Source Sans Pro"/>
            </a:endParaRPr>
          </a:p>
        </p:txBody>
      </p:sp>
      <p:sp>
        <p:nvSpPr>
          <p:cNvPr id="1953" name="TextBox 70"/>
          <p:cNvSpPr/>
          <p:nvPr/>
        </p:nvSpPr>
        <p:spPr>
          <a:xfrm>
            <a:off x="852480" y="380988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3c3f"/>
                </a:solidFill>
                <a:latin typeface="Lato"/>
              </a:rPr>
              <a:t>Euro</a:t>
            </a:r>
            <a:endParaRPr b="0" lang="en-US" sz="2800" spc="-1" strike="noStrike">
              <a:solidFill>
                <a:srgbClr val="313c3f"/>
              </a:solidFill>
              <a:latin typeface="Source Sans Pro"/>
            </a:endParaRPr>
          </a:p>
        </p:txBody>
      </p:sp>
      <p:sp>
        <p:nvSpPr>
          <p:cNvPr id="1954" name="Straight Connector 73"/>
          <p:cNvSpPr/>
          <p:nvPr/>
        </p:nvSpPr>
        <p:spPr>
          <a:xfrm>
            <a:off x="852480" y="3755880"/>
            <a:ext cx="468144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1955" name="Rectangle 77"/>
          <p:cNvSpPr/>
          <p:nvPr/>
        </p:nvSpPr>
        <p:spPr>
          <a:xfrm>
            <a:off x="849240" y="2212920"/>
            <a:ext cx="4351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whole smil</a:t>
            </a:r>
            <a:endParaRPr b="0" lang="en-US" sz="1200" spc="-1" strike="noStrike">
              <a:solidFill>
                <a:srgbClr val="313c3f"/>
              </a:solidFill>
              <a:latin typeface="Source Sans Pro"/>
            </a:endParaRPr>
          </a:p>
        </p:txBody>
      </p:sp>
      <p:sp>
        <p:nvSpPr>
          <p:cNvPr id="1956" name="Rectangle 78"/>
          <p:cNvSpPr/>
          <p:nvPr/>
        </p:nvSpPr>
        <p:spPr>
          <a:xfrm>
            <a:off x="849240" y="4335480"/>
            <a:ext cx="4444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which I enjoy with my whole smil</a:t>
            </a:r>
            <a:endParaRPr b="0" lang="en-US" sz="1200" spc="-1" strike="noStrike">
              <a:solidFill>
                <a:srgbClr val="313c3f"/>
              </a:solidFill>
              <a:latin typeface="Source Sans Pro"/>
            </a:endParaRPr>
          </a:p>
        </p:txBody>
      </p:sp>
      <p:sp>
        <p:nvSpPr>
          <p:cNvPr id="1957" name="TextBox 142"/>
          <p:cNvSpPr/>
          <p:nvPr/>
        </p:nvSpPr>
        <p:spPr>
          <a:xfrm>
            <a:off x="4384800" y="29311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e1c11e"/>
                </a:solidFill>
                <a:latin typeface="Lato"/>
              </a:rPr>
              <a:t>¥</a:t>
            </a:r>
            <a:r>
              <a:rPr b="1" lang="en-US" sz="4000" spc="-1" strike="noStrike">
                <a:solidFill>
                  <a:srgbClr val="e1c11e"/>
                </a:solidFill>
                <a:latin typeface="Lato"/>
              </a:rPr>
              <a:t>39k</a:t>
            </a:r>
            <a:endParaRPr b="0" lang="en-US" sz="4000" spc="-1" strike="noStrike">
              <a:solidFill>
                <a:srgbClr val="313c3f"/>
              </a:solidFill>
              <a:latin typeface="Source Sans Pro"/>
            </a:endParaRPr>
          </a:p>
        </p:txBody>
      </p:sp>
      <p:sp>
        <p:nvSpPr>
          <p:cNvPr id="1958" name="TextBox 143"/>
          <p:cNvSpPr/>
          <p:nvPr/>
        </p:nvSpPr>
        <p:spPr>
          <a:xfrm>
            <a:off x="4384800" y="50677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7d42"/>
                </a:solidFill>
                <a:latin typeface="Lato"/>
              </a:rPr>
              <a:t>£53k</a:t>
            </a:r>
            <a:endParaRPr b="0" lang="en-US" sz="4000" spc="-1" strike="noStrike">
              <a:solidFill>
                <a:srgbClr val="313c3f"/>
              </a:solidFill>
              <a:latin typeface="Source Sans Pro"/>
            </a:endParaRPr>
          </a:p>
        </p:txBody>
      </p:sp>
      <p:grpSp>
        <p:nvGrpSpPr>
          <p:cNvPr id="1959" name="Group 2"/>
          <p:cNvGrpSpPr/>
          <p:nvPr/>
        </p:nvGrpSpPr>
        <p:grpSpPr>
          <a:xfrm>
            <a:off x="947880" y="3016080"/>
            <a:ext cx="3278160" cy="533520"/>
            <a:chOff x="947880" y="3016080"/>
            <a:chExt cx="3278160" cy="533520"/>
          </a:xfrm>
        </p:grpSpPr>
        <p:pic>
          <p:nvPicPr>
            <p:cNvPr id="1960" name="Group 82" descr=""/>
            <p:cNvPicPr/>
            <p:nvPr/>
          </p:nvPicPr>
          <p:blipFill>
            <a:blip r:embed="rId1"/>
            <a:stretch/>
          </p:blipFill>
          <p:spPr>
            <a:xfrm>
              <a:off x="947880" y="3016080"/>
              <a:ext cx="536040" cy="533520"/>
            </a:xfrm>
            <a:prstGeom prst="rect">
              <a:avLst/>
            </a:prstGeom>
            <a:ln w="0">
              <a:noFill/>
            </a:ln>
          </p:spPr>
        </p:pic>
        <p:pic>
          <p:nvPicPr>
            <p:cNvPr id="1961" name="Group 180" descr=""/>
            <p:cNvPicPr/>
            <p:nvPr/>
          </p:nvPicPr>
          <p:blipFill>
            <a:blip r:embed="rId2"/>
            <a:stretch/>
          </p:blipFill>
          <p:spPr>
            <a:xfrm>
              <a:off x="1636200" y="3016080"/>
              <a:ext cx="536040" cy="533520"/>
            </a:xfrm>
            <a:prstGeom prst="rect">
              <a:avLst/>
            </a:prstGeom>
            <a:ln w="0">
              <a:noFill/>
            </a:ln>
          </p:spPr>
        </p:pic>
        <p:pic>
          <p:nvPicPr>
            <p:cNvPr id="1962" name="Group 188" descr=""/>
            <p:cNvPicPr/>
            <p:nvPr/>
          </p:nvPicPr>
          <p:blipFill>
            <a:blip r:embed="rId3"/>
            <a:stretch/>
          </p:blipFill>
          <p:spPr>
            <a:xfrm>
              <a:off x="2324880" y="3016080"/>
              <a:ext cx="529920" cy="533520"/>
            </a:xfrm>
            <a:prstGeom prst="rect">
              <a:avLst/>
            </a:prstGeom>
            <a:ln w="0">
              <a:noFill/>
            </a:ln>
          </p:spPr>
        </p:pic>
        <p:pic>
          <p:nvPicPr>
            <p:cNvPr id="1963" name="Group 196" descr=""/>
            <p:cNvPicPr/>
            <p:nvPr/>
          </p:nvPicPr>
          <p:blipFill>
            <a:blip r:embed="rId4"/>
            <a:stretch/>
          </p:blipFill>
          <p:spPr>
            <a:xfrm>
              <a:off x="3007440" y="3016080"/>
              <a:ext cx="536040" cy="533520"/>
            </a:xfrm>
            <a:prstGeom prst="rect">
              <a:avLst/>
            </a:prstGeom>
            <a:ln w="0">
              <a:noFill/>
            </a:ln>
          </p:spPr>
        </p:pic>
        <p:pic>
          <p:nvPicPr>
            <p:cNvPr id="1964" name="Group 204" descr=""/>
            <p:cNvPicPr/>
            <p:nvPr/>
          </p:nvPicPr>
          <p:blipFill>
            <a:blip r:embed="rId5"/>
            <a:stretch/>
          </p:blipFill>
          <p:spPr>
            <a:xfrm>
              <a:off x="3696120" y="3016080"/>
              <a:ext cx="529920" cy="533520"/>
            </a:xfrm>
            <a:prstGeom prst="rect">
              <a:avLst/>
            </a:prstGeom>
            <a:ln w="0">
              <a:noFill/>
            </a:ln>
          </p:spPr>
        </p:pic>
      </p:grpSp>
      <p:grpSp>
        <p:nvGrpSpPr>
          <p:cNvPr id="1965" name="Group 3"/>
          <p:cNvGrpSpPr/>
          <p:nvPr/>
        </p:nvGrpSpPr>
        <p:grpSpPr>
          <a:xfrm>
            <a:off x="949320" y="5153040"/>
            <a:ext cx="3276720" cy="533520"/>
            <a:chOff x="949320" y="5153040"/>
            <a:chExt cx="3276720" cy="533520"/>
          </a:xfrm>
        </p:grpSpPr>
        <p:pic>
          <p:nvPicPr>
            <p:cNvPr id="1966" name="Group 175" descr=""/>
            <p:cNvPicPr/>
            <p:nvPr/>
          </p:nvPicPr>
          <p:blipFill>
            <a:blip r:embed="rId6"/>
            <a:stretch/>
          </p:blipFill>
          <p:spPr>
            <a:xfrm>
              <a:off x="949320" y="5153040"/>
              <a:ext cx="530640" cy="533520"/>
            </a:xfrm>
            <a:prstGeom prst="rect">
              <a:avLst/>
            </a:prstGeom>
            <a:ln w="0">
              <a:noFill/>
            </a:ln>
          </p:spPr>
        </p:pic>
        <p:pic>
          <p:nvPicPr>
            <p:cNvPr id="1967" name="Group 184" descr=""/>
            <p:cNvPicPr/>
            <p:nvPr/>
          </p:nvPicPr>
          <p:blipFill>
            <a:blip r:embed="rId7"/>
            <a:stretch/>
          </p:blipFill>
          <p:spPr>
            <a:xfrm>
              <a:off x="1632600" y="5153040"/>
              <a:ext cx="536760" cy="533520"/>
            </a:xfrm>
            <a:prstGeom prst="rect">
              <a:avLst/>
            </a:prstGeom>
            <a:ln w="0">
              <a:noFill/>
            </a:ln>
          </p:spPr>
        </p:pic>
        <p:pic>
          <p:nvPicPr>
            <p:cNvPr id="1968" name="Group 192" descr=""/>
            <p:cNvPicPr/>
            <p:nvPr/>
          </p:nvPicPr>
          <p:blipFill>
            <a:blip r:embed="rId8"/>
            <a:stretch/>
          </p:blipFill>
          <p:spPr>
            <a:xfrm>
              <a:off x="2322360" y="5153040"/>
              <a:ext cx="530640" cy="533520"/>
            </a:xfrm>
            <a:prstGeom prst="rect">
              <a:avLst/>
            </a:prstGeom>
            <a:ln w="0">
              <a:noFill/>
            </a:ln>
          </p:spPr>
        </p:pic>
        <p:pic>
          <p:nvPicPr>
            <p:cNvPr id="1969" name="Group 200" descr=""/>
            <p:cNvPicPr/>
            <p:nvPr/>
          </p:nvPicPr>
          <p:blipFill>
            <a:blip r:embed="rId9"/>
            <a:stretch/>
          </p:blipFill>
          <p:spPr>
            <a:xfrm>
              <a:off x="3005640" y="5153040"/>
              <a:ext cx="536760" cy="533520"/>
            </a:xfrm>
            <a:prstGeom prst="rect">
              <a:avLst/>
            </a:prstGeom>
            <a:ln w="0">
              <a:noFill/>
            </a:ln>
          </p:spPr>
        </p:pic>
        <p:pic>
          <p:nvPicPr>
            <p:cNvPr id="1970" name="Group 208" descr=""/>
            <p:cNvPicPr/>
            <p:nvPr/>
          </p:nvPicPr>
          <p:blipFill>
            <a:blip r:embed="rId10"/>
            <a:stretch/>
          </p:blipFill>
          <p:spPr>
            <a:xfrm>
              <a:off x="3695400" y="5153040"/>
              <a:ext cx="530640" cy="533520"/>
            </a:xfrm>
            <a:prstGeom prst="rect">
              <a:avLst/>
            </a:prstGeom>
            <a:ln w="0">
              <a:noFill/>
            </a:ln>
          </p:spPr>
        </p:pic>
      </p:grpSp>
    </p:spTree>
  </p:cSld>
  <p:transition spd="med">
    <p:fade/>
  </p:transition>
  <p:timing>
    <p:tnLst>
      <p:par>
        <p:cTn id="1919" dur="indefinite" restart="never" nodeType="tmRoot">
          <p:childTnLst>
            <p:seq>
              <p:cTn id="1920" dur="indefinite" nodeType="mainSeq">
                <p:childTnLst>
                  <p:par>
                    <p:cTn id="1921" nodeType="clickEffect" fill="hold">
                      <p:stCondLst>
                        <p:cond delay="0"/>
                      </p:stCondLst>
                      <p:childTnLst>
                        <p:par>
                          <p:cTn id="1922" nodeType="withEffect" fill="hold">
                            <p:stCondLst>
                              <p:cond delay="0"/>
                            </p:stCondLst>
                            <p:childTnLst>
                              <p:par>
                                <p:cTn id="1923" nodeType="withEffect" fill="hold" presetClass="entr" presetID="10">
                                  <p:stCondLst>
                                    <p:cond delay="0"/>
                                  </p:stCondLst>
                                  <p:childTnLst>
                                    <p:set>
                                      <p:cBhvr>
                                        <p:cTn id="1924" dur="1" fill="hold">
                                          <p:stCondLst>
                                            <p:cond delay="0"/>
                                          </p:stCondLst>
                                        </p:cTn>
                                        <p:tgtEl>
                                          <p:spTgt spid="1908"/>
                                        </p:tgtEl>
                                        <p:attrNameLst>
                                          <p:attrName>style.visibility</p:attrName>
                                        </p:attrNameLst>
                                      </p:cBhvr>
                                      <p:to>
                                        <p:strVal val="visible"/>
                                      </p:to>
                                    </p:set>
                                    <p:animEffect filter="fade" transition="in">
                                      <p:cBhvr additive="repl">
                                        <p:cTn id="1925" dur="500"/>
                                        <p:tgtEl>
                                          <p:spTgt spid="1908"/>
                                        </p:tgtEl>
                                      </p:cBhvr>
                                    </p:animEffect>
                                  </p:childTnLst>
                                </p:cTn>
                              </p:par>
                            </p:childTnLst>
                          </p:cTn>
                        </p:par>
                        <p:par>
                          <p:cTn id="1926" nodeType="afterEffect" fill="hold">
                            <p:stCondLst>
                              <p:cond delay="500"/>
                            </p:stCondLst>
                            <p:childTnLst>
                              <p:par>
                                <p:cTn id="1927" nodeType="afterEffect" fill="hold" presetClass="entr" presetID="10">
                                  <p:stCondLst>
                                    <p:cond delay="0"/>
                                  </p:stCondLst>
                                  <p:childTnLst>
                                    <p:set>
                                      <p:cBhvr>
                                        <p:cTn id="1928" dur="1" fill="hold">
                                          <p:stCondLst>
                                            <p:cond delay="0"/>
                                          </p:stCondLst>
                                        </p:cTn>
                                        <p:tgtEl>
                                          <p:spTgt spid="1909"/>
                                        </p:tgtEl>
                                        <p:attrNameLst>
                                          <p:attrName>style.visibility</p:attrName>
                                        </p:attrNameLst>
                                      </p:cBhvr>
                                      <p:to>
                                        <p:strVal val="visible"/>
                                      </p:to>
                                    </p:set>
                                    <p:animEffect filter="fade" transition="in">
                                      <p:cBhvr additive="repl">
                                        <p:cTn id="1929" dur="500"/>
                                        <p:tgtEl>
                                          <p:spTgt spid="1909"/>
                                        </p:tgtEl>
                                      </p:cBhvr>
                                    </p:animEffect>
                                  </p:childTnLst>
                                </p:cTn>
                              </p:par>
                            </p:childTnLst>
                          </p:cTn>
                        </p:par>
                        <p:par>
                          <p:cTn id="1930" nodeType="afterEffect" fill="hold">
                            <p:stCondLst>
                              <p:cond delay="1000"/>
                            </p:stCondLst>
                            <p:childTnLst>
                              <p:par>
                                <p:cTn id="1931" nodeType="afterEffect" fill="hold" presetClass="entr" presetID="10">
                                  <p:stCondLst>
                                    <p:cond delay="0"/>
                                  </p:stCondLst>
                                  <p:childTnLst>
                                    <p:set>
                                      <p:cBhvr>
                                        <p:cTn id="1932" dur="1" fill="hold">
                                          <p:stCondLst>
                                            <p:cond delay="0"/>
                                          </p:stCondLst>
                                        </p:cTn>
                                        <p:tgtEl>
                                          <p:spTgt spid="1898"/>
                                        </p:tgtEl>
                                        <p:attrNameLst>
                                          <p:attrName>style.visibility</p:attrName>
                                        </p:attrNameLst>
                                      </p:cBhvr>
                                      <p:to>
                                        <p:strVal val="visible"/>
                                      </p:to>
                                    </p:set>
                                    <p:animEffect filter="fade" transition="in">
                                      <p:cBhvr additive="repl">
                                        <p:cTn id="1933" dur="500"/>
                                        <p:tgtEl>
                                          <p:spTgt spid="1898"/>
                                        </p:tgtEl>
                                      </p:cBhvr>
                                    </p:animEffect>
                                  </p:childTnLst>
                                </p:cTn>
                              </p:par>
                              <p:par>
                                <p:cTn id="1934" nodeType="withEffect" fill="hold" presetClass="entr" presetID="10">
                                  <p:stCondLst>
                                    <p:cond delay="0"/>
                                  </p:stCondLst>
                                  <p:childTnLst>
                                    <p:set>
                                      <p:cBhvr>
                                        <p:cTn id="1935" dur="1" fill="hold">
                                          <p:stCondLst>
                                            <p:cond delay="0"/>
                                          </p:stCondLst>
                                        </p:cTn>
                                        <p:tgtEl>
                                          <p:spTgt spid="1888"/>
                                        </p:tgtEl>
                                        <p:attrNameLst>
                                          <p:attrName>style.visibility</p:attrName>
                                        </p:attrNameLst>
                                      </p:cBhvr>
                                      <p:to>
                                        <p:strVal val="visible"/>
                                      </p:to>
                                    </p:set>
                                    <p:animEffect filter="fade" transition="in">
                                      <p:cBhvr additive="repl">
                                        <p:cTn id="1936" dur="500"/>
                                        <p:tgtEl>
                                          <p:spTgt spid="1888"/>
                                        </p:tgtEl>
                                      </p:cBhvr>
                                    </p:animEffect>
                                  </p:childTnLst>
                                </p:cTn>
                              </p:par>
                            </p:childTnLst>
                          </p:cTn>
                        </p:par>
                        <p:par>
                          <p:cTn id="1937" nodeType="afterEffect" fill="hold">
                            <p:stCondLst>
                              <p:cond delay="1500"/>
                            </p:stCondLst>
                            <p:childTnLst>
                              <p:par>
                                <p:cTn id="1938" nodeType="afterEffect" fill="hold" presetClass="entr" presetID="10">
                                  <p:stCondLst>
                                    <p:cond delay="0"/>
                                  </p:stCondLst>
                                  <p:childTnLst>
                                    <p:set>
                                      <p:cBhvr>
                                        <p:cTn id="1939" dur="1" fill="hold">
                                          <p:stCondLst>
                                            <p:cond delay="0"/>
                                          </p:stCondLst>
                                        </p:cTn>
                                        <p:tgtEl>
                                          <p:spTgt spid="1952"/>
                                        </p:tgtEl>
                                        <p:attrNameLst>
                                          <p:attrName>style.visibility</p:attrName>
                                        </p:attrNameLst>
                                      </p:cBhvr>
                                      <p:to>
                                        <p:strVal val="visible"/>
                                      </p:to>
                                    </p:set>
                                    <p:animEffect filter="fade" transition="in">
                                      <p:cBhvr additive="repl">
                                        <p:cTn id="1940" dur="500"/>
                                        <p:tgtEl>
                                          <p:spTgt spid="1952"/>
                                        </p:tgtEl>
                                      </p:cBhvr>
                                    </p:animEffect>
                                  </p:childTnLst>
                                </p:cTn>
                              </p:par>
                              <p:par>
                                <p:cTn id="1941" nodeType="withEffect" fill="hold" presetClass="entr" presetID="10">
                                  <p:stCondLst>
                                    <p:cond delay="0"/>
                                  </p:stCondLst>
                                  <p:childTnLst>
                                    <p:set>
                                      <p:cBhvr>
                                        <p:cTn id="1942" dur="1" fill="hold">
                                          <p:stCondLst>
                                            <p:cond delay="0"/>
                                          </p:stCondLst>
                                        </p:cTn>
                                        <p:tgtEl>
                                          <p:spTgt spid="1953"/>
                                        </p:tgtEl>
                                        <p:attrNameLst>
                                          <p:attrName>style.visibility</p:attrName>
                                        </p:attrNameLst>
                                      </p:cBhvr>
                                      <p:to>
                                        <p:strVal val="visible"/>
                                      </p:to>
                                    </p:set>
                                    <p:animEffect filter="fade" transition="in">
                                      <p:cBhvr additive="repl">
                                        <p:cTn id="1943" dur="500"/>
                                        <p:tgtEl>
                                          <p:spTgt spid="1953"/>
                                        </p:tgtEl>
                                      </p:cBhvr>
                                    </p:animEffect>
                                  </p:childTnLst>
                                </p:cTn>
                              </p:par>
                            </p:childTnLst>
                          </p:cTn>
                        </p:par>
                        <p:par>
                          <p:cTn id="1944" nodeType="afterEffect" fill="hold">
                            <p:stCondLst>
                              <p:cond delay="2000"/>
                            </p:stCondLst>
                            <p:childTnLst>
                              <p:par>
                                <p:cTn id="1945" nodeType="afterEffect" fill="hold" presetClass="entr" presetID="22" presetSubtype="8">
                                  <p:stCondLst>
                                    <p:cond delay="0"/>
                                  </p:stCondLst>
                                  <p:childTnLst>
                                    <p:set>
                                      <p:cBhvr>
                                        <p:cTn id="1946" dur="1" fill="hold">
                                          <p:stCondLst>
                                            <p:cond delay="0"/>
                                          </p:stCondLst>
                                        </p:cTn>
                                        <p:tgtEl>
                                          <p:spTgt spid="1954"/>
                                        </p:tgtEl>
                                        <p:attrNameLst>
                                          <p:attrName>style.visibility</p:attrName>
                                        </p:attrNameLst>
                                      </p:cBhvr>
                                      <p:to>
                                        <p:strVal val="visible"/>
                                      </p:to>
                                    </p:set>
                                    <p:animEffect filter="wipe(left)" transition="in">
                                      <p:cBhvr additive="repl">
                                        <p:cTn id="1947" dur="500"/>
                                        <p:tgtEl>
                                          <p:spTgt spid="1954"/>
                                        </p:tgtEl>
                                      </p:cBhvr>
                                    </p:animEffect>
                                  </p:childTnLst>
                                </p:cTn>
                              </p:par>
                            </p:childTnLst>
                          </p:cTn>
                        </p:par>
                        <p:par>
                          <p:cTn id="1948" nodeType="afterEffect" fill="hold">
                            <p:stCondLst>
                              <p:cond delay="2500"/>
                            </p:stCondLst>
                            <p:childTnLst>
                              <p:par>
                                <p:cTn id="1949" nodeType="afterEffect" fill="hold" presetClass="entr" presetID="22" presetSubtype="8">
                                  <p:stCondLst>
                                    <p:cond delay="0"/>
                                  </p:stCondLst>
                                  <p:childTnLst>
                                    <p:set>
                                      <p:cBhvr>
                                        <p:cTn id="1950" dur="1" fill="hold">
                                          <p:stCondLst>
                                            <p:cond delay="0"/>
                                          </p:stCondLst>
                                        </p:cTn>
                                        <p:tgtEl>
                                          <p:spTgt spid="1955"/>
                                        </p:tgtEl>
                                        <p:attrNameLst>
                                          <p:attrName>style.visibility</p:attrName>
                                        </p:attrNameLst>
                                      </p:cBhvr>
                                      <p:to>
                                        <p:strVal val="visible"/>
                                      </p:to>
                                    </p:set>
                                    <p:animEffect filter="wipe(left)" transition="in">
                                      <p:cBhvr additive="repl">
                                        <p:cTn id="1951" dur="500"/>
                                        <p:tgtEl>
                                          <p:spTgt spid="1955"/>
                                        </p:tgtEl>
                                      </p:cBhvr>
                                    </p:animEffect>
                                  </p:childTnLst>
                                </p:cTn>
                              </p:par>
                              <p:par>
                                <p:cTn id="1952" nodeType="withEffect" fill="hold" presetClass="entr" presetID="22" presetSubtype="8">
                                  <p:stCondLst>
                                    <p:cond delay="0"/>
                                  </p:stCondLst>
                                  <p:childTnLst>
                                    <p:set>
                                      <p:cBhvr>
                                        <p:cTn id="1953" dur="1" fill="hold">
                                          <p:stCondLst>
                                            <p:cond delay="0"/>
                                          </p:stCondLst>
                                        </p:cTn>
                                        <p:tgtEl>
                                          <p:spTgt spid="1956"/>
                                        </p:tgtEl>
                                        <p:attrNameLst>
                                          <p:attrName>style.visibility</p:attrName>
                                        </p:attrNameLst>
                                      </p:cBhvr>
                                      <p:to>
                                        <p:strVal val="visible"/>
                                      </p:to>
                                    </p:set>
                                    <p:animEffect filter="wipe(left)" transition="in">
                                      <p:cBhvr additive="repl">
                                        <p:cTn id="1954" dur="500"/>
                                        <p:tgtEl>
                                          <p:spTgt spid="1956"/>
                                        </p:tgtEl>
                                      </p:cBhvr>
                                    </p:animEffect>
                                  </p:childTnLst>
                                </p:cTn>
                              </p:par>
                            </p:childTnLst>
                          </p:cTn>
                        </p:par>
                        <p:par>
                          <p:cTn id="1955" nodeType="afterEffect" fill="hold">
                            <p:stCondLst>
                              <p:cond delay="3000"/>
                            </p:stCondLst>
                            <p:childTnLst>
                              <p:par>
                                <p:cTn id="1956" nodeType="afterEffect" fill="hold" presetClass="entr" presetID="22" presetSubtype="8">
                                  <p:stCondLst>
                                    <p:cond delay="0"/>
                                  </p:stCondLst>
                                  <p:childTnLst>
                                    <p:set>
                                      <p:cBhvr>
                                        <p:cTn id="1957" dur="1" fill="hold">
                                          <p:stCondLst>
                                            <p:cond delay="0"/>
                                          </p:stCondLst>
                                        </p:cTn>
                                        <p:tgtEl>
                                          <p:spTgt spid="1965"/>
                                        </p:tgtEl>
                                        <p:attrNameLst>
                                          <p:attrName>style.visibility</p:attrName>
                                        </p:attrNameLst>
                                      </p:cBhvr>
                                      <p:to>
                                        <p:strVal val="visible"/>
                                      </p:to>
                                    </p:set>
                                    <p:animEffect filter="wipe(left)" transition="in">
                                      <p:cBhvr additive="repl">
                                        <p:cTn id="1958" dur="500"/>
                                        <p:tgtEl>
                                          <p:spTgt spid="1965"/>
                                        </p:tgtEl>
                                      </p:cBhvr>
                                    </p:animEffect>
                                  </p:childTnLst>
                                </p:cTn>
                              </p:par>
                              <p:par>
                                <p:cTn id="1959" nodeType="withEffect" fill="hold" presetClass="entr" presetID="22" presetSubtype="8">
                                  <p:stCondLst>
                                    <p:cond delay="0"/>
                                  </p:stCondLst>
                                  <p:childTnLst>
                                    <p:set>
                                      <p:cBhvr>
                                        <p:cTn id="1960" dur="1" fill="hold">
                                          <p:stCondLst>
                                            <p:cond delay="0"/>
                                          </p:stCondLst>
                                        </p:cTn>
                                        <p:tgtEl>
                                          <p:spTgt spid="1959"/>
                                        </p:tgtEl>
                                        <p:attrNameLst>
                                          <p:attrName>style.visibility</p:attrName>
                                        </p:attrNameLst>
                                      </p:cBhvr>
                                      <p:to>
                                        <p:strVal val="visible"/>
                                      </p:to>
                                    </p:set>
                                    <p:animEffect filter="wipe(left)" transition="in">
                                      <p:cBhvr additive="repl">
                                        <p:cTn id="1961" dur="500"/>
                                        <p:tgtEl>
                                          <p:spTgt spid="1959"/>
                                        </p:tgtEl>
                                      </p:cBhvr>
                                    </p:animEffect>
                                  </p:childTnLst>
                                </p:cTn>
                              </p:par>
                            </p:childTnLst>
                          </p:cTn>
                        </p:par>
                        <p:par>
                          <p:cTn id="1962" nodeType="afterEffect" fill="hold">
                            <p:stCondLst>
                              <p:cond delay="3500"/>
                            </p:stCondLst>
                            <p:childTnLst>
                              <p:par>
                                <p:cTn id="1963" nodeType="afterEffect" fill="hold" presetClass="entr" presetID="10">
                                  <p:stCondLst>
                                    <p:cond delay="0"/>
                                  </p:stCondLst>
                                  <p:childTnLst>
                                    <p:set>
                                      <p:cBhvr>
                                        <p:cTn id="1964" dur="1" fill="hold">
                                          <p:stCondLst>
                                            <p:cond delay="0"/>
                                          </p:stCondLst>
                                        </p:cTn>
                                        <p:tgtEl>
                                          <p:spTgt spid="1957"/>
                                        </p:tgtEl>
                                        <p:attrNameLst>
                                          <p:attrName>style.visibility</p:attrName>
                                        </p:attrNameLst>
                                      </p:cBhvr>
                                      <p:to>
                                        <p:strVal val="visible"/>
                                      </p:to>
                                    </p:set>
                                    <p:animEffect filter="fade" transition="in">
                                      <p:cBhvr additive="repl">
                                        <p:cTn id="1965" dur="500"/>
                                        <p:tgtEl>
                                          <p:spTgt spid="1957"/>
                                        </p:tgtEl>
                                      </p:cBhvr>
                                    </p:animEffect>
                                  </p:childTnLst>
                                </p:cTn>
                              </p:par>
                              <p:par>
                                <p:cTn id="1966" nodeType="withEffect" fill="hold" presetClass="entr" presetID="10">
                                  <p:stCondLst>
                                    <p:cond delay="0"/>
                                  </p:stCondLst>
                                  <p:childTnLst>
                                    <p:set>
                                      <p:cBhvr>
                                        <p:cTn id="1967" dur="1" fill="hold">
                                          <p:stCondLst>
                                            <p:cond delay="0"/>
                                          </p:stCondLst>
                                        </p:cTn>
                                        <p:tgtEl>
                                          <p:spTgt spid="1958"/>
                                        </p:tgtEl>
                                        <p:attrNameLst>
                                          <p:attrName>style.visibility</p:attrName>
                                        </p:attrNameLst>
                                      </p:cBhvr>
                                      <p:to>
                                        <p:strVal val="visible"/>
                                      </p:to>
                                    </p:set>
                                    <p:animEffect filter="fade" transition="in">
                                      <p:cBhvr additive="repl">
                                        <p:cTn id="1968"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Graphic 2"/>
          <p:cNvGrpSpPr/>
          <p:nvPr/>
        </p:nvGrpSpPr>
        <p:grpSpPr>
          <a:xfrm>
            <a:off x="7043760" y="4175280"/>
            <a:ext cx="792000" cy="934920"/>
            <a:chOff x="7043760" y="4175280"/>
            <a:chExt cx="792000" cy="934920"/>
          </a:xfrm>
        </p:grpSpPr>
        <p:sp>
          <p:nvSpPr>
            <p:cNvPr id="1972" name="Freeform: Shape 4"/>
            <p:cNvSpPr/>
            <p:nvPr/>
          </p:nvSpPr>
          <p:spPr>
            <a:xfrm>
              <a:off x="7141320" y="4175280"/>
              <a:ext cx="193320" cy="12420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73" name="Freeform: Shape 5"/>
            <p:cNvSpPr/>
            <p:nvPr/>
          </p:nvSpPr>
          <p:spPr>
            <a:xfrm>
              <a:off x="7545240" y="4181040"/>
              <a:ext cx="191520" cy="12780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74" name="Freeform: Shape 6"/>
            <p:cNvSpPr/>
            <p:nvPr/>
          </p:nvSpPr>
          <p:spPr>
            <a:xfrm rot="19974000">
              <a:off x="7231680" y="4243320"/>
              <a:ext cx="87480" cy="177840"/>
            </a:xfrm>
            <a:custGeom>
              <a:avLst/>
              <a:gdLst/>
              <a:ahLst/>
              <a:rect l="l" t="t" r="r" b="b"/>
              <a:pathLst>
                <a:path w="134304" h="272418">
                  <a:moveTo>
                    <a:pt x="0" y="0"/>
                  </a:moveTo>
                  <a:lnTo>
                    <a:pt x="134304" y="0"/>
                  </a:lnTo>
                  <a:lnTo>
                    <a:pt x="134304" y="272418"/>
                  </a:lnTo>
                  <a:lnTo>
                    <a:pt x="0" y="272418"/>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75" name="Freeform: Shape 7"/>
            <p:cNvSpPr/>
            <p:nvPr/>
          </p:nvSpPr>
          <p:spPr>
            <a:xfrm rot="18439800">
              <a:off x="7118640" y="4969800"/>
              <a:ext cx="177480" cy="8676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39960" bIns="39960" anchor="ctr">
              <a:noAutofit/>
            </a:bodyPr>
            <a:p>
              <a:endParaRPr b="0" lang="en-US" sz="1800" spc="-1" strike="noStrike">
                <a:solidFill>
                  <a:srgbClr val="313c3f"/>
                </a:solidFill>
                <a:latin typeface="Source Sans Pro"/>
              </a:endParaRPr>
            </a:p>
          </p:txBody>
        </p:sp>
        <p:sp>
          <p:nvSpPr>
            <p:cNvPr id="1976" name="Freeform: Shape 8"/>
            <p:cNvSpPr/>
            <p:nvPr/>
          </p:nvSpPr>
          <p:spPr>
            <a:xfrm rot="17917200">
              <a:off x="7513560" y="4294440"/>
              <a:ext cx="176400" cy="87480"/>
            </a:xfrm>
            <a:custGeom>
              <a:avLst/>
              <a:gdLst/>
              <a:ahLst/>
              <a:rect l="l" t="t" r="r" b="b"/>
              <a:pathLst>
                <a:path w="272411" h="134300">
                  <a:moveTo>
                    <a:pt x="0" y="0"/>
                  </a:moveTo>
                  <a:lnTo>
                    <a:pt x="272411" y="0"/>
                  </a:lnTo>
                  <a:lnTo>
                    <a:pt x="272411" y="134301"/>
                  </a:lnTo>
                  <a:lnTo>
                    <a:pt x="0" y="134301"/>
                  </a:lnTo>
                  <a:lnTo>
                    <a:pt x="0" y="0"/>
                  </a:lnTo>
                  <a:close/>
                </a:path>
              </a:pathLst>
            </a:custGeom>
            <a:solidFill>
              <a:srgbClr val="a99116"/>
            </a:solidFill>
            <a:ln w="0">
              <a:noFill/>
            </a:ln>
          </p:spPr>
          <p:style>
            <a:lnRef idx="0"/>
            <a:fillRef idx="0"/>
            <a:effectRef idx="0"/>
            <a:fontRef idx="minor"/>
          </p:style>
          <p:txBody>
            <a:bodyPr lIns="90000" rIns="90000" tIns="40680" bIns="40680" anchor="ctr">
              <a:noAutofit/>
            </a:bodyPr>
            <a:p>
              <a:endParaRPr b="0" lang="en-US" sz="1800" spc="-1" strike="noStrike">
                <a:solidFill>
                  <a:srgbClr val="313c3f"/>
                </a:solidFill>
                <a:latin typeface="Source Sans Pro"/>
              </a:endParaRPr>
            </a:p>
          </p:txBody>
        </p:sp>
        <p:sp>
          <p:nvSpPr>
            <p:cNvPr id="1977" name="Freeform: Shape 9"/>
            <p:cNvSpPr/>
            <p:nvPr/>
          </p:nvSpPr>
          <p:spPr>
            <a:xfrm rot="18976200">
              <a:off x="7653600" y="4898160"/>
              <a:ext cx="86760" cy="17748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78" name="Freeform: Shape 10"/>
            <p:cNvSpPr/>
            <p:nvPr/>
          </p:nvSpPr>
          <p:spPr>
            <a:xfrm>
              <a:off x="7043760" y="4252320"/>
              <a:ext cx="792000" cy="79812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79" name="Freeform: Shape 11"/>
            <p:cNvSpPr/>
            <p:nvPr/>
          </p:nvSpPr>
          <p:spPr>
            <a:xfrm>
              <a:off x="7113960" y="4323240"/>
              <a:ext cx="651600" cy="65664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80" name="Freeform: Shape 12"/>
            <p:cNvSpPr/>
            <p:nvPr/>
          </p:nvSpPr>
          <p:spPr>
            <a:xfrm>
              <a:off x="7375680" y="4587120"/>
              <a:ext cx="127800" cy="12888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81" name="Freeform: Shape 13"/>
            <p:cNvSpPr/>
            <p:nvPr/>
          </p:nvSpPr>
          <p:spPr>
            <a:xfrm>
              <a:off x="7384320" y="4197240"/>
              <a:ext cx="122400" cy="6084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a99116"/>
            </a:solidFill>
            <a:ln w="0">
              <a:noFill/>
            </a:ln>
          </p:spPr>
          <p:style>
            <a:lnRef idx="0"/>
            <a:fillRef idx="0"/>
            <a:effectRef idx="0"/>
            <a:fontRef idx="minor"/>
          </p:style>
          <p:txBody>
            <a:bodyPr lIns="90000" rIns="90000" tIns="14040" bIns="14040" anchor="ctr">
              <a:noAutofit/>
            </a:bodyPr>
            <a:p>
              <a:endParaRPr b="0" lang="en-US" sz="1800" spc="-1" strike="noStrike">
                <a:solidFill>
                  <a:srgbClr val="313c3f"/>
                </a:solidFill>
                <a:latin typeface="Source Sans Pro"/>
              </a:endParaRPr>
            </a:p>
          </p:txBody>
        </p:sp>
        <p:sp>
          <p:nvSpPr>
            <p:cNvPr id="1982" name="Freeform: Shape 14"/>
            <p:cNvSpPr/>
            <p:nvPr/>
          </p:nvSpPr>
          <p:spPr>
            <a:xfrm>
              <a:off x="7427880" y="4383360"/>
              <a:ext cx="23760" cy="29916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83" name="Freeform: Shape 15"/>
            <p:cNvSpPr/>
            <p:nvPr/>
          </p:nvSpPr>
          <p:spPr>
            <a:xfrm rot="18134400">
              <a:off x="7527600" y="4566600"/>
              <a:ext cx="24120" cy="29664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1984" name="Graphic 236"/>
          <p:cNvGrpSpPr/>
          <p:nvPr/>
        </p:nvGrpSpPr>
        <p:grpSpPr>
          <a:xfrm>
            <a:off x="4281480" y="3446640"/>
            <a:ext cx="911160" cy="1098360"/>
            <a:chOff x="4281480" y="3446640"/>
            <a:chExt cx="911160" cy="1098360"/>
          </a:xfrm>
        </p:grpSpPr>
        <p:sp>
          <p:nvSpPr>
            <p:cNvPr id="1985" name="Freeform: Shape 123"/>
            <p:cNvSpPr/>
            <p:nvPr/>
          </p:nvSpPr>
          <p:spPr>
            <a:xfrm>
              <a:off x="4281480" y="3446640"/>
              <a:ext cx="911160" cy="109836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86" name="Freeform: Shape 124"/>
            <p:cNvSpPr/>
            <p:nvPr/>
          </p:nvSpPr>
          <p:spPr>
            <a:xfrm>
              <a:off x="4550040" y="3492360"/>
              <a:ext cx="602280" cy="10137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87" name="Freeform: Shape 125"/>
            <p:cNvSpPr/>
            <p:nvPr/>
          </p:nvSpPr>
          <p:spPr>
            <a:xfrm>
              <a:off x="4711320" y="3697560"/>
              <a:ext cx="56160" cy="2084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88" name="Freeform: Shape 126"/>
            <p:cNvSpPr/>
            <p:nvPr/>
          </p:nvSpPr>
          <p:spPr>
            <a:xfrm>
              <a:off x="4600080" y="3680640"/>
              <a:ext cx="258840" cy="3312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3680" bIns="-13680" anchor="ctr">
              <a:noAutofit/>
            </a:bodyPr>
            <a:p>
              <a:endParaRPr b="0" lang="en-US" sz="1800" spc="-1" strike="noStrike">
                <a:solidFill>
                  <a:srgbClr val="313c3f"/>
                </a:solidFill>
                <a:latin typeface="Source Sans Pro"/>
              </a:endParaRPr>
            </a:p>
          </p:txBody>
        </p:sp>
        <p:sp>
          <p:nvSpPr>
            <p:cNvPr id="1989" name="Freeform: Shape 127"/>
            <p:cNvSpPr/>
            <p:nvPr/>
          </p:nvSpPr>
          <p:spPr>
            <a:xfrm>
              <a:off x="4593240" y="3663720"/>
              <a:ext cx="256680" cy="669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0160" bIns="20160" anchor="ctr">
              <a:noAutofit/>
            </a:bodyPr>
            <a:p>
              <a:endParaRPr b="0" lang="en-US" sz="1800" spc="-1" strike="noStrike">
                <a:solidFill>
                  <a:srgbClr val="313c3f"/>
                </a:solidFill>
                <a:latin typeface="Source Sans Pro"/>
              </a:endParaRPr>
            </a:p>
          </p:txBody>
        </p:sp>
        <p:sp>
          <p:nvSpPr>
            <p:cNvPr id="1990" name="Freeform: Shape 128"/>
            <p:cNvSpPr/>
            <p:nvPr/>
          </p:nvSpPr>
          <p:spPr>
            <a:xfrm>
              <a:off x="4716720" y="3699000"/>
              <a:ext cx="198000" cy="626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5840" bIns="15840" anchor="ctr">
              <a:noAutofit/>
            </a:bodyPr>
            <a:p>
              <a:endParaRPr b="0" lang="en-US" sz="1800" spc="-1" strike="noStrike">
                <a:solidFill>
                  <a:srgbClr val="313c3f"/>
                </a:solidFill>
                <a:latin typeface="Source Sans Pro"/>
              </a:endParaRPr>
            </a:p>
          </p:txBody>
        </p:sp>
        <p:sp>
          <p:nvSpPr>
            <p:cNvPr id="1991" name="Freeform: Shape 129"/>
            <p:cNvSpPr/>
            <p:nvPr/>
          </p:nvSpPr>
          <p:spPr>
            <a:xfrm>
              <a:off x="4588200" y="3700080"/>
              <a:ext cx="144000" cy="1191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92" name="Freeform: Shape 130"/>
            <p:cNvSpPr/>
            <p:nvPr/>
          </p:nvSpPr>
          <p:spPr>
            <a:xfrm>
              <a:off x="4655160" y="3681000"/>
              <a:ext cx="106560" cy="211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93" name="Freeform: Shape 131"/>
            <p:cNvSpPr/>
            <p:nvPr/>
          </p:nvSpPr>
          <p:spPr>
            <a:xfrm>
              <a:off x="4599720" y="3953880"/>
              <a:ext cx="273960" cy="44244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199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1995" name="Graphic 47"/>
          <p:cNvGrpSpPr/>
          <p:nvPr/>
        </p:nvGrpSpPr>
        <p:grpSpPr>
          <a:xfrm>
            <a:off x="4100400" y="2776680"/>
            <a:ext cx="3990960" cy="2385720"/>
            <a:chOff x="4100400" y="2776680"/>
            <a:chExt cx="3990960" cy="2385720"/>
          </a:xfrm>
        </p:grpSpPr>
        <p:sp>
          <p:nvSpPr>
            <p:cNvPr id="1996" name="Freeform: Shape 1053"/>
            <p:cNvSpPr/>
            <p:nvPr/>
          </p:nvSpPr>
          <p:spPr>
            <a:xfrm flipH="1">
              <a:off x="6789240" y="4876560"/>
              <a:ext cx="343440" cy="142200"/>
            </a:xfrm>
            <a:custGeom>
              <a:avLst/>
              <a:gdLst/>
              <a:ahLst/>
              <a:rect l="l" t="t" r="r" b="b"/>
              <a:pathLst>
                <a:path w="686752" h="284797">
                  <a:moveTo>
                    <a:pt x="545782" y="0"/>
                  </a:moveTo>
                  <a:cubicBezTo>
                    <a:pt x="623888" y="0"/>
                    <a:pt x="686753" y="63818"/>
                    <a:pt x="686753" y="141923"/>
                  </a:cubicBezTo>
                  <a:cubicBezTo>
                    <a:pt x="686753" y="220028"/>
                    <a:pt x="623888" y="283845"/>
                    <a:pt x="545782" y="283845"/>
                  </a:cubicBezTo>
                  <a:lnTo>
                    <a:pt x="0" y="284798"/>
                  </a:lnTo>
                  <a:lnTo>
                    <a:pt x="317182" y="120015"/>
                  </a:lnTo>
                  <a:lnTo>
                    <a:pt x="405765" y="120015"/>
                  </a:lnTo>
                  <a:cubicBezTo>
                    <a:pt x="416242" y="52388"/>
                    <a:pt x="475297" y="0"/>
                    <a:pt x="545782" y="0"/>
                  </a:cubicBezTo>
                  <a:close/>
                  <a:moveTo>
                    <a:pt x="545782" y="61913"/>
                  </a:moveTo>
                  <a:cubicBezTo>
                    <a:pt x="501967" y="61913"/>
                    <a:pt x="465772" y="99060"/>
                    <a:pt x="465772" y="141923"/>
                  </a:cubicBezTo>
                  <a:cubicBezTo>
                    <a:pt x="465772" y="186690"/>
                    <a:pt x="501967" y="221933"/>
                    <a:pt x="545782" y="221933"/>
                  </a:cubicBezTo>
                  <a:cubicBezTo>
                    <a:pt x="589597" y="221933"/>
                    <a:pt x="625792" y="185738"/>
                    <a:pt x="625792" y="141923"/>
                  </a:cubicBezTo>
                  <a:cubicBezTo>
                    <a:pt x="625792" y="98108"/>
                    <a:pt x="589597" y="61913"/>
                    <a:pt x="545782"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97" name="Freeform: Shape 1054"/>
            <p:cNvSpPr/>
            <p:nvPr/>
          </p:nvSpPr>
          <p:spPr>
            <a:xfrm flipH="1">
              <a:off x="7822800" y="487584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2408"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1913"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98" name="Freeform: Shape 1055"/>
            <p:cNvSpPr/>
            <p:nvPr/>
          </p:nvSpPr>
          <p:spPr>
            <a:xfrm flipH="1">
              <a:off x="6930000" y="4936320"/>
              <a:ext cx="1020960" cy="226080"/>
            </a:xfrm>
            <a:custGeom>
              <a:avLst/>
              <a:gdLst/>
              <a:ahLst/>
              <a:rect l="l" t="t" r="r" b="b"/>
              <a:pathLst>
                <a:path w="2040254" h="452437">
                  <a:moveTo>
                    <a:pt x="1776413" y="452438"/>
                  </a:moveTo>
                  <a:lnTo>
                    <a:pt x="264795" y="452438"/>
                  </a:lnTo>
                  <a:lnTo>
                    <a:pt x="0" y="0"/>
                  </a:lnTo>
                  <a:lnTo>
                    <a:pt x="2040255" y="1905"/>
                  </a:lnTo>
                  <a:lnTo>
                    <a:pt x="1776413"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1999" name="Freeform: Shape 1056"/>
            <p:cNvSpPr/>
            <p:nvPr/>
          </p:nvSpPr>
          <p:spPr>
            <a:xfrm flipH="1">
              <a:off x="7487640" y="4957560"/>
              <a:ext cx="425160" cy="182880"/>
            </a:xfrm>
            <a:custGeom>
              <a:avLst/>
              <a:gdLst/>
              <a:ahLst/>
              <a:rect l="l" t="t" r="r" b="b"/>
              <a:pathLst>
                <a:path w="849629" h="365760">
                  <a:moveTo>
                    <a:pt x="285750" y="0"/>
                  </a:moveTo>
                  <a:lnTo>
                    <a:pt x="0" y="0"/>
                  </a:lnTo>
                  <a:lnTo>
                    <a:pt x="214313" y="365760"/>
                  </a:lnTo>
                  <a:lnTo>
                    <a:pt x="849630" y="365760"/>
                  </a:lnTo>
                  <a:cubicBezTo>
                    <a:pt x="384810" y="334328"/>
                    <a:pt x="488632" y="419100"/>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00" name="Freeform: Shape 1057"/>
            <p:cNvSpPr/>
            <p:nvPr/>
          </p:nvSpPr>
          <p:spPr>
            <a:xfrm flipH="1">
              <a:off x="6967440" y="4959000"/>
              <a:ext cx="424440" cy="182160"/>
            </a:xfrm>
            <a:custGeom>
              <a:avLst/>
              <a:gdLst/>
              <a:ahLst/>
              <a:rect l="l" t="t" r="r" b="b"/>
              <a:pathLst>
                <a:path w="848677" h="364807">
                  <a:moveTo>
                    <a:pt x="635318" y="363855"/>
                  </a:moveTo>
                  <a:lnTo>
                    <a:pt x="848678" y="0"/>
                  </a:lnTo>
                  <a:lnTo>
                    <a:pt x="535305" y="0"/>
                  </a:lnTo>
                  <a:cubicBezTo>
                    <a:pt x="435292"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001" name="Graphic 47"/>
            <p:cNvGrpSpPr/>
            <p:nvPr/>
          </p:nvGrpSpPr>
          <p:grpSpPr>
            <a:xfrm>
              <a:off x="5643000" y="2844000"/>
              <a:ext cx="1027800" cy="1100880"/>
              <a:chOff x="5643000" y="2844000"/>
              <a:chExt cx="1027800" cy="1100880"/>
            </a:xfrm>
          </p:grpSpPr>
          <p:sp>
            <p:nvSpPr>
              <p:cNvPr id="2002" name="Freeform: Shape 1059"/>
              <p:cNvSpPr/>
              <p:nvPr/>
            </p:nvSpPr>
            <p:spPr>
              <a:xfrm flipH="1">
                <a:off x="5642640" y="2844000"/>
                <a:ext cx="1027800" cy="1100880"/>
              </a:xfrm>
              <a:custGeom>
                <a:avLst/>
                <a:gdLst/>
                <a:ahLst/>
                <a:rect l="l" t="t" r="r" b="b"/>
                <a:pathLst>
                  <a:path w="2053589" h="2201227">
                    <a:moveTo>
                      <a:pt x="1026795" y="0"/>
                    </a:moveTo>
                    <a:cubicBezTo>
                      <a:pt x="1593532" y="0"/>
                      <a:pt x="2053590" y="432435"/>
                      <a:pt x="2053590" y="965835"/>
                    </a:cubicBezTo>
                    <a:cubicBezTo>
                      <a:pt x="2053590" y="1499235"/>
                      <a:pt x="1942148" y="2201228"/>
                      <a:pt x="1021080" y="2201228"/>
                    </a:cubicBezTo>
                    <a:cubicBezTo>
                      <a:pt x="100013" y="2201228"/>
                      <a:pt x="0" y="1499235"/>
                      <a:pt x="0" y="965835"/>
                    </a:cubicBezTo>
                    <a:cubicBezTo>
                      <a:pt x="953" y="432435"/>
                      <a:pt x="460057" y="0"/>
                      <a:pt x="1026795"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03" name="Freeform: Shape 1060"/>
              <p:cNvSpPr/>
              <p:nvPr/>
            </p:nvSpPr>
            <p:spPr>
              <a:xfrm flipH="1">
                <a:off x="5694120" y="2873520"/>
                <a:ext cx="927000" cy="916560"/>
              </a:xfrm>
              <a:custGeom>
                <a:avLst/>
                <a:gdLst/>
                <a:ahLst/>
                <a:rect l="l" t="t" r="r" b="b"/>
                <a:pathLst>
                  <a:path w="1851659" h="1832610">
                    <a:moveTo>
                      <a:pt x="925830" y="1832610"/>
                    </a:moveTo>
                    <a:cubicBezTo>
                      <a:pt x="1435418" y="1832610"/>
                      <a:pt x="1851660" y="1421130"/>
                      <a:pt x="1851660" y="916305"/>
                    </a:cubicBezTo>
                    <a:cubicBezTo>
                      <a:pt x="1851660" y="411480"/>
                      <a:pt x="1435418" y="0"/>
                      <a:pt x="925830" y="0"/>
                    </a:cubicBezTo>
                    <a:cubicBezTo>
                      <a:pt x="416243" y="0"/>
                      <a:pt x="0" y="411480"/>
                      <a:pt x="0" y="916305"/>
                    </a:cubicBezTo>
                    <a:cubicBezTo>
                      <a:pt x="953" y="1421130"/>
                      <a:pt x="416243" y="1832610"/>
                      <a:pt x="925830" y="18326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04" name="Freeform: Shape 1061"/>
              <p:cNvSpPr/>
              <p:nvPr/>
            </p:nvSpPr>
            <p:spPr>
              <a:xfrm flipH="1">
                <a:off x="5735160" y="2912040"/>
                <a:ext cx="844920" cy="839520"/>
              </a:xfrm>
              <a:custGeom>
                <a:avLst/>
                <a:gdLst/>
                <a:ahLst/>
                <a:rect l="l" t="t" r="r" b="b"/>
                <a:pathLst>
                  <a:path w="1687830" h="1678305">
                    <a:moveTo>
                      <a:pt x="1687830" y="839153"/>
                    </a:moveTo>
                    <a:cubicBezTo>
                      <a:pt x="1687830" y="1302604"/>
                      <a:pt x="1309997" y="1678305"/>
                      <a:pt x="843915" y="1678305"/>
                    </a:cubicBezTo>
                    <a:cubicBezTo>
                      <a:pt x="377834" y="1678305"/>
                      <a:pt x="0" y="1302604"/>
                      <a:pt x="0" y="839153"/>
                    </a:cubicBezTo>
                    <a:cubicBezTo>
                      <a:pt x="0" y="375701"/>
                      <a:pt x="377834" y="0"/>
                      <a:pt x="843915" y="0"/>
                    </a:cubicBezTo>
                    <a:cubicBezTo>
                      <a:pt x="1309997" y="0"/>
                      <a:pt x="1687830" y="375701"/>
                      <a:pt x="1687830" y="83915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005" name="Freeform: Shape 1062"/>
            <p:cNvSpPr/>
            <p:nvPr/>
          </p:nvSpPr>
          <p:spPr>
            <a:xfrm flipH="1">
              <a:off x="4100400" y="4352400"/>
              <a:ext cx="343440" cy="142200"/>
            </a:xfrm>
            <a:custGeom>
              <a:avLst/>
              <a:gdLst/>
              <a:ahLst/>
              <a:rect l="l" t="t" r="r" b="b"/>
              <a:pathLst>
                <a:path w="686752" h="284797">
                  <a:moveTo>
                    <a:pt x="545783" y="0"/>
                  </a:moveTo>
                  <a:cubicBezTo>
                    <a:pt x="623888" y="0"/>
                    <a:pt x="686753" y="63818"/>
                    <a:pt x="686753" y="141923"/>
                  </a:cubicBezTo>
                  <a:cubicBezTo>
                    <a:pt x="686753" y="220028"/>
                    <a:pt x="623888" y="283845"/>
                    <a:pt x="545783" y="283845"/>
                  </a:cubicBezTo>
                  <a:lnTo>
                    <a:pt x="0" y="284798"/>
                  </a:lnTo>
                  <a:lnTo>
                    <a:pt x="317183" y="120015"/>
                  </a:lnTo>
                  <a:lnTo>
                    <a:pt x="405765" y="120015"/>
                  </a:lnTo>
                  <a:cubicBezTo>
                    <a:pt x="416243" y="51435"/>
                    <a:pt x="474345" y="0"/>
                    <a:pt x="545783" y="0"/>
                  </a:cubicBezTo>
                  <a:close/>
                  <a:moveTo>
                    <a:pt x="545783" y="61913"/>
                  </a:moveTo>
                  <a:cubicBezTo>
                    <a:pt x="501968" y="61913"/>
                    <a:pt x="465773" y="99060"/>
                    <a:pt x="465773" y="141923"/>
                  </a:cubicBezTo>
                  <a:cubicBezTo>
                    <a:pt x="465773" y="186690"/>
                    <a:pt x="501968" y="221933"/>
                    <a:pt x="545783" y="221933"/>
                  </a:cubicBezTo>
                  <a:cubicBezTo>
                    <a:pt x="589598" y="221933"/>
                    <a:pt x="625793" y="185738"/>
                    <a:pt x="625793" y="141923"/>
                  </a:cubicBezTo>
                  <a:cubicBezTo>
                    <a:pt x="624840" y="97155"/>
                    <a:pt x="589598" y="61913"/>
                    <a:pt x="545783"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06" name="Freeform: Shape 1063"/>
            <p:cNvSpPr/>
            <p:nvPr/>
          </p:nvSpPr>
          <p:spPr>
            <a:xfrm flipH="1">
              <a:off x="5133960" y="435168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1455"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0960"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07" name="Freeform: Shape 1064"/>
            <p:cNvSpPr/>
            <p:nvPr/>
          </p:nvSpPr>
          <p:spPr>
            <a:xfrm flipH="1">
              <a:off x="4241160" y="4411440"/>
              <a:ext cx="1020960" cy="226080"/>
            </a:xfrm>
            <a:custGeom>
              <a:avLst/>
              <a:gdLst/>
              <a:ahLst/>
              <a:rect l="l" t="t" r="r" b="b"/>
              <a:pathLst>
                <a:path w="2040255" h="452437">
                  <a:moveTo>
                    <a:pt x="1775460" y="452438"/>
                  </a:moveTo>
                  <a:lnTo>
                    <a:pt x="264795" y="452438"/>
                  </a:lnTo>
                  <a:lnTo>
                    <a:pt x="0" y="0"/>
                  </a:lnTo>
                  <a:lnTo>
                    <a:pt x="2040255" y="2857"/>
                  </a:lnTo>
                  <a:lnTo>
                    <a:pt x="1775460"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08" name="Freeform: Shape 1065"/>
            <p:cNvSpPr/>
            <p:nvPr/>
          </p:nvSpPr>
          <p:spPr>
            <a:xfrm flipH="1">
              <a:off x="4798800" y="4433400"/>
              <a:ext cx="425160" cy="182880"/>
            </a:xfrm>
            <a:custGeom>
              <a:avLst/>
              <a:gdLst/>
              <a:ahLst/>
              <a:rect l="l" t="t" r="r" b="b"/>
              <a:pathLst>
                <a:path w="849629" h="365760">
                  <a:moveTo>
                    <a:pt x="285750" y="0"/>
                  </a:moveTo>
                  <a:lnTo>
                    <a:pt x="0" y="0"/>
                  </a:lnTo>
                  <a:lnTo>
                    <a:pt x="214313" y="365760"/>
                  </a:lnTo>
                  <a:lnTo>
                    <a:pt x="849630" y="365760"/>
                  </a:lnTo>
                  <a:cubicBezTo>
                    <a:pt x="384810" y="333375"/>
                    <a:pt x="487680" y="418148"/>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09" name="Freeform: Shape 1066"/>
            <p:cNvSpPr/>
            <p:nvPr/>
          </p:nvSpPr>
          <p:spPr>
            <a:xfrm flipH="1">
              <a:off x="4278960" y="4434480"/>
              <a:ext cx="424440" cy="182160"/>
            </a:xfrm>
            <a:custGeom>
              <a:avLst/>
              <a:gdLst/>
              <a:ahLst/>
              <a:rect l="l" t="t" r="r" b="b"/>
              <a:pathLst>
                <a:path w="848677" h="364807">
                  <a:moveTo>
                    <a:pt x="635318" y="363855"/>
                  </a:moveTo>
                  <a:lnTo>
                    <a:pt x="848678" y="0"/>
                  </a:lnTo>
                  <a:lnTo>
                    <a:pt x="535305" y="0"/>
                  </a:lnTo>
                  <a:cubicBezTo>
                    <a:pt x="435293"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10" name="Freeform: Shape 1067"/>
            <p:cNvSpPr/>
            <p:nvPr/>
          </p:nvSpPr>
          <p:spPr>
            <a:xfrm flipH="1">
              <a:off x="7426800" y="3472920"/>
              <a:ext cx="600840" cy="1477800"/>
            </a:xfrm>
            <a:custGeom>
              <a:avLst/>
              <a:gdLst/>
              <a:ahLst/>
              <a:rect l="l" t="t" r="r" b="b"/>
              <a:pathLst>
                <a:path w="1200454" h="2954539">
                  <a:moveTo>
                    <a:pt x="1138190" y="35146"/>
                  </a:moveTo>
                  <a:lnTo>
                    <a:pt x="6620" y="2887883"/>
                  </a:lnTo>
                  <a:cubicBezTo>
                    <a:pt x="-20050" y="2964083"/>
                    <a:pt x="40910" y="2979323"/>
                    <a:pt x="64722" y="2910743"/>
                  </a:cubicBezTo>
                  <a:lnTo>
                    <a:pt x="99965" y="2809778"/>
                  </a:lnTo>
                  <a:lnTo>
                    <a:pt x="1195340" y="58958"/>
                  </a:lnTo>
                  <a:cubicBezTo>
                    <a:pt x="1218200" y="-4859"/>
                    <a:pt x="1158192" y="-22957"/>
                    <a:pt x="1138190" y="3514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11" name="Freeform: Shape 1068"/>
            <p:cNvSpPr/>
            <p:nvPr/>
          </p:nvSpPr>
          <p:spPr>
            <a:xfrm flipH="1">
              <a:off x="4737960" y="2948760"/>
              <a:ext cx="600840" cy="1478160"/>
            </a:xfrm>
            <a:custGeom>
              <a:avLst/>
              <a:gdLst/>
              <a:ahLst/>
              <a:rect l="l" t="t" r="r" b="b"/>
              <a:pathLst>
                <a:path w="1200454" h="2954828">
                  <a:moveTo>
                    <a:pt x="1138190" y="35435"/>
                  </a:moveTo>
                  <a:lnTo>
                    <a:pt x="6620" y="2888173"/>
                  </a:lnTo>
                  <a:cubicBezTo>
                    <a:pt x="-20050" y="2964373"/>
                    <a:pt x="40910" y="2979613"/>
                    <a:pt x="64722" y="2911033"/>
                  </a:cubicBezTo>
                  <a:lnTo>
                    <a:pt x="99965" y="2810068"/>
                  </a:lnTo>
                  <a:lnTo>
                    <a:pt x="1195340" y="59248"/>
                  </a:lnTo>
                  <a:cubicBezTo>
                    <a:pt x="1218200" y="-5522"/>
                    <a:pt x="1158193" y="-22667"/>
                    <a:pt x="1138190" y="3543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012" name="Graphic 47"/>
            <p:cNvGrpSpPr/>
            <p:nvPr/>
          </p:nvGrpSpPr>
          <p:grpSpPr>
            <a:xfrm>
              <a:off x="5923440" y="3302640"/>
              <a:ext cx="674640" cy="487800"/>
              <a:chOff x="5923440" y="3302640"/>
              <a:chExt cx="674640" cy="487800"/>
            </a:xfrm>
          </p:grpSpPr>
          <p:sp>
            <p:nvSpPr>
              <p:cNvPr id="2013" name="Freeform: Shape 1070"/>
              <p:cNvSpPr/>
              <p:nvPr/>
            </p:nvSpPr>
            <p:spPr>
              <a:xfrm flipH="1">
                <a:off x="5923440" y="3303000"/>
                <a:ext cx="674640" cy="487440"/>
              </a:xfrm>
              <a:custGeom>
                <a:avLst/>
                <a:gdLst/>
                <a:ahLst/>
                <a:rect l="l" t="t" r="r" b="b"/>
                <a:pathLst>
                  <a:path w="1348380" h="973906">
                    <a:moveTo>
                      <a:pt x="1348048" y="492443"/>
                    </a:moveTo>
                    <a:cubicBezTo>
                      <a:pt x="1350905" y="519113"/>
                      <a:pt x="1334713" y="576263"/>
                      <a:pt x="1324235" y="601028"/>
                    </a:cubicBezTo>
                    <a:cubicBezTo>
                      <a:pt x="1301375" y="657225"/>
                      <a:pt x="1145165" y="698182"/>
                      <a:pt x="1088015" y="720090"/>
                    </a:cubicBezTo>
                    <a:cubicBezTo>
                      <a:pt x="966095" y="767715"/>
                      <a:pt x="942283" y="817245"/>
                      <a:pt x="842270" y="902018"/>
                    </a:cubicBezTo>
                    <a:cubicBezTo>
                      <a:pt x="808933" y="930593"/>
                      <a:pt x="775595" y="961073"/>
                      <a:pt x="732733" y="970598"/>
                    </a:cubicBezTo>
                    <a:cubicBezTo>
                      <a:pt x="699395" y="978218"/>
                      <a:pt x="665105" y="971550"/>
                      <a:pt x="632720" y="962025"/>
                    </a:cubicBezTo>
                    <a:cubicBezTo>
                      <a:pt x="627005" y="960120"/>
                      <a:pt x="621290" y="958215"/>
                      <a:pt x="615575" y="956310"/>
                    </a:cubicBezTo>
                    <a:cubicBezTo>
                      <a:pt x="561283" y="938213"/>
                      <a:pt x="508895" y="913448"/>
                      <a:pt x="459365" y="884873"/>
                    </a:cubicBezTo>
                    <a:cubicBezTo>
                      <a:pt x="446030" y="877253"/>
                      <a:pt x="432695" y="868680"/>
                      <a:pt x="419360" y="860107"/>
                    </a:cubicBezTo>
                    <a:cubicBezTo>
                      <a:pt x="373640" y="830580"/>
                      <a:pt x="331730" y="796290"/>
                      <a:pt x="290773" y="760095"/>
                    </a:cubicBezTo>
                    <a:cubicBezTo>
                      <a:pt x="254578" y="727710"/>
                      <a:pt x="220288" y="692468"/>
                      <a:pt x="186950" y="657225"/>
                    </a:cubicBezTo>
                    <a:cubicBezTo>
                      <a:pt x="145993" y="613410"/>
                      <a:pt x="106940" y="567690"/>
                      <a:pt x="67888" y="521970"/>
                    </a:cubicBezTo>
                    <a:cubicBezTo>
                      <a:pt x="48838" y="500063"/>
                      <a:pt x="29788" y="477203"/>
                      <a:pt x="16453" y="450532"/>
                    </a:cubicBezTo>
                    <a:cubicBezTo>
                      <a:pt x="13595" y="443865"/>
                      <a:pt x="9785" y="437198"/>
                      <a:pt x="7880" y="429578"/>
                    </a:cubicBezTo>
                    <a:cubicBezTo>
                      <a:pt x="5023" y="421005"/>
                      <a:pt x="3118" y="412432"/>
                      <a:pt x="2165" y="403860"/>
                    </a:cubicBezTo>
                    <a:cubicBezTo>
                      <a:pt x="-3550" y="367665"/>
                      <a:pt x="3118" y="328613"/>
                      <a:pt x="9785" y="292418"/>
                    </a:cubicBezTo>
                    <a:cubicBezTo>
                      <a:pt x="24073" y="208598"/>
                      <a:pt x="38360" y="124777"/>
                      <a:pt x="52648" y="41910"/>
                    </a:cubicBezTo>
                    <a:cubicBezTo>
                      <a:pt x="54553" y="31433"/>
                      <a:pt x="55505" y="16193"/>
                      <a:pt x="56458" y="0"/>
                    </a:cubicBezTo>
                    <a:cubicBezTo>
                      <a:pt x="70745" y="20955"/>
                      <a:pt x="85985" y="41910"/>
                      <a:pt x="99320" y="63818"/>
                    </a:cubicBezTo>
                    <a:cubicBezTo>
                      <a:pt x="145040" y="133350"/>
                      <a:pt x="180283" y="210502"/>
                      <a:pt x="205048" y="290513"/>
                    </a:cubicBezTo>
                    <a:cubicBezTo>
                      <a:pt x="207905" y="300038"/>
                      <a:pt x="210763" y="309563"/>
                      <a:pt x="213620" y="319088"/>
                    </a:cubicBezTo>
                    <a:cubicBezTo>
                      <a:pt x="214573" y="320993"/>
                      <a:pt x="214573" y="322898"/>
                      <a:pt x="214573" y="323850"/>
                    </a:cubicBezTo>
                    <a:cubicBezTo>
                      <a:pt x="214573" y="323850"/>
                      <a:pt x="214573" y="323850"/>
                      <a:pt x="214573" y="323850"/>
                    </a:cubicBezTo>
                    <a:cubicBezTo>
                      <a:pt x="221240" y="346710"/>
                      <a:pt x="226955" y="370523"/>
                      <a:pt x="233623" y="393382"/>
                    </a:cubicBezTo>
                    <a:cubicBezTo>
                      <a:pt x="239338" y="413385"/>
                      <a:pt x="245053" y="433388"/>
                      <a:pt x="252673" y="453390"/>
                    </a:cubicBezTo>
                    <a:cubicBezTo>
                      <a:pt x="275533" y="514350"/>
                      <a:pt x="309823" y="570548"/>
                      <a:pt x="352685" y="619125"/>
                    </a:cubicBezTo>
                    <a:cubicBezTo>
                      <a:pt x="372688" y="641032"/>
                      <a:pt x="394595" y="661988"/>
                      <a:pt x="422218" y="673418"/>
                    </a:cubicBezTo>
                    <a:cubicBezTo>
                      <a:pt x="469843" y="693420"/>
                      <a:pt x="525088" y="681038"/>
                      <a:pt x="575570" y="668655"/>
                    </a:cubicBezTo>
                    <a:cubicBezTo>
                      <a:pt x="663200" y="646748"/>
                      <a:pt x="765118" y="614363"/>
                      <a:pt x="808933" y="534353"/>
                    </a:cubicBezTo>
                    <a:cubicBezTo>
                      <a:pt x="863225" y="575310"/>
                      <a:pt x="935615" y="585788"/>
                      <a:pt x="1002290" y="572453"/>
                    </a:cubicBezTo>
                    <a:cubicBezTo>
                      <a:pt x="1014673" y="569595"/>
                      <a:pt x="1027055" y="566738"/>
                      <a:pt x="1038485" y="562928"/>
                    </a:cubicBezTo>
                    <a:cubicBezTo>
                      <a:pt x="1079443" y="549593"/>
                      <a:pt x="1117543" y="529590"/>
                      <a:pt x="1153738" y="504825"/>
                    </a:cubicBezTo>
                    <a:cubicBezTo>
                      <a:pt x="1155643" y="503873"/>
                      <a:pt x="1156595" y="502920"/>
                      <a:pt x="1158500" y="501968"/>
                    </a:cubicBezTo>
                    <a:cubicBezTo>
                      <a:pt x="1160405" y="501015"/>
                      <a:pt x="1162310" y="500063"/>
                      <a:pt x="1163263" y="498157"/>
                    </a:cubicBezTo>
                    <a:cubicBezTo>
                      <a:pt x="1169930" y="493395"/>
                      <a:pt x="1176598" y="488632"/>
                      <a:pt x="1183265" y="483870"/>
                    </a:cubicBezTo>
                    <a:cubicBezTo>
                      <a:pt x="1212793" y="461963"/>
                      <a:pt x="1245178" y="438150"/>
                      <a:pt x="1267085" y="408623"/>
                    </a:cubicBezTo>
                    <a:cubicBezTo>
                      <a:pt x="1273753" y="400050"/>
                      <a:pt x="1283278" y="395288"/>
                      <a:pt x="1293755" y="395288"/>
                    </a:cubicBezTo>
                    <a:cubicBezTo>
                      <a:pt x="1322330" y="421957"/>
                      <a:pt x="1343285" y="449580"/>
                      <a:pt x="1348048" y="492443"/>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14" name="Freeform: Shape 1071"/>
              <p:cNvSpPr/>
              <p:nvPr/>
            </p:nvSpPr>
            <p:spPr>
              <a:xfrm flipH="1">
                <a:off x="5923440" y="3500280"/>
                <a:ext cx="444960" cy="290160"/>
              </a:xfrm>
              <a:custGeom>
                <a:avLst/>
                <a:gdLst/>
                <a:ahLst/>
                <a:rect l="l" t="t" r="r" b="b"/>
                <a:pathLst>
                  <a:path w="889015" h="579940">
                    <a:moveTo>
                      <a:pt x="888682" y="98108"/>
                    </a:moveTo>
                    <a:cubicBezTo>
                      <a:pt x="891540" y="124778"/>
                      <a:pt x="875347" y="181928"/>
                      <a:pt x="864870" y="206692"/>
                    </a:cubicBezTo>
                    <a:cubicBezTo>
                      <a:pt x="842010" y="262890"/>
                      <a:pt x="685800" y="303847"/>
                      <a:pt x="628650" y="325755"/>
                    </a:cubicBezTo>
                    <a:cubicBezTo>
                      <a:pt x="506730" y="373380"/>
                      <a:pt x="482918" y="422910"/>
                      <a:pt x="382905" y="507683"/>
                    </a:cubicBezTo>
                    <a:cubicBezTo>
                      <a:pt x="349568" y="536258"/>
                      <a:pt x="316230" y="566738"/>
                      <a:pt x="273368" y="576263"/>
                    </a:cubicBezTo>
                    <a:cubicBezTo>
                      <a:pt x="234315" y="585788"/>
                      <a:pt x="193357" y="575310"/>
                      <a:pt x="156210" y="561975"/>
                    </a:cubicBezTo>
                    <a:cubicBezTo>
                      <a:pt x="101918" y="543878"/>
                      <a:pt x="49530" y="519113"/>
                      <a:pt x="0" y="490538"/>
                    </a:cubicBezTo>
                    <a:cubicBezTo>
                      <a:pt x="39053" y="497205"/>
                      <a:pt x="79057" y="501015"/>
                      <a:pt x="118110" y="502920"/>
                    </a:cubicBezTo>
                    <a:cubicBezTo>
                      <a:pt x="179070" y="504825"/>
                      <a:pt x="241935" y="501967"/>
                      <a:pt x="296228" y="474345"/>
                    </a:cubicBezTo>
                    <a:cubicBezTo>
                      <a:pt x="323850" y="460058"/>
                      <a:pt x="348615" y="440055"/>
                      <a:pt x="373380" y="420053"/>
                    </a:cubicBezTo>
                    <a:cubicBezTo>
                      <a:pt x="407670" y="391478"/>
                      <a:pt x="441960" y="363855"/>
                      <a:pt x="475297" y="335280"/>
                    </a:cubicBezTo>
                    <a:cubicBezTo>
                      <a:pt x="481013" y="330517"/>
                      <a:pt x="489585" y="326708"/>
                      <a:pt x="490538" y="320040"/>
                    </a:cubicBezTo>
                    <a:cubicBezTo>
                      <a:pt x="507682" y="200025"/>
                      <a:pt x="586740" y="146685"/>
                      <a:pt x="586740" y="146685"/>
                    </a:cubicBezTo>
                    <a:cubicBezTo>
                      <a:pt x="586740" y="146685"/>
                      <a:pt x="571500" y="216217"/>
                      <a:pt x="561975" y="259080"/>
                    </a:cubicBezTo>
                    <a:cubicBezTo>
                      <a:pt x="560070" y="267653"/>
                      <a:pt x="569595" y="274320"/>
                      <a:pt x="576263" y="268605"/>
                    </a:cubicBezTo>
                    <a:cubicBezTo>
                      <a:pt x="633413" y="225742"/>
                      <a:pt x="728663" y="194310"/>
                      <a:pt x="784860" y="188595"/>
                    </a:cubicBezTo>
                    <a:cubicBezTo>
                      <a:pt x="762953" y="168592"/>
                      <a:pt x="726757" y="127635"/>
                      <a:pt x="696278" y="110490"/>
                    </a:cubicBezTo>
                    <a:cubicBezTo>
                      <a:pt x="691515" y="107633"/>
                      <a:pt x="686753" y="105728"/>
                      <a:pt x="682943" y="104775"/>
                    </a:cubicBezTo>
                    <a:cubicBezTo>
                      <a:pt x="690563" y="104775"/>
                      <a:pt x="698182" y="103822"/>
                      <a:pt x="706755" y="103822"/>
                    </a:cubicBezTo>
                    <a:cubicBezTo>
                      <a:pt x="723900" y="103822"/>
                      <a:pt x="741045" y="105728"/>
                      <a:pt x="757238" y="110490"/>
                    </a:cubicBezTo>
                    <a:cubicBezTo>
                      <a:pt x="781050" y="118110"/>
                      <a:pt x="802005" y="137160"/>
                      <a:pt x="807720" y="160972"/>
                    </a:cubicBezTo>
                    <a:cubicBezTo>
                      <a:pt x="835343" y="117158"/>
                      <a:pt x="835343" y="58103"/>
                      <a:pt x="810578" y="13335"/>
                    </a:cubicBezTo>
                    <a:cubicBezTo>
                      <a:pt x="817245" y="4763"/>
                      <a:pt x="826770" y="0"/>
                      <a:pt x="837247" y="0"/>
                    </a:cubicBezTo>
                    <a:cubicBezTo>
                      <a:pt x="862965" y="27622"/>
                      <a:pt x="883920" y="55245"/>
                      <a:pt x="888682" y="981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15" name="Freeform: Shape 1072"/>
              <p:cNvSpPr/>
              <p:nvPr/>
            </p:nvSpPr>
            <p:spPr>
              <a:xfrm flipH="1">
                <a:off x="5972760" y="3554640"/>
                <a:ext cx="125280" cy="93240"/>
              </a:xfrm>
              <a:custGeom>
                <a:avLst/>
                <a:gdLst/>
                <a:ahLst/>
                <a:rect l="l" t="t" r="r" b="b"/>
                <a:pathLst>
                  <a:path w="250949" h="186882">
                    <a:moveTo>
                      <a:pt x="250950" y="90488"/>
                    </a:moveTo>
                    <a:cubicBezTo>
                      <a:pt x="174750" y="112395"/>
                      <a:pt x="101407" y="142875"/>
                      <a:pt x="30922" y="180975"/>
                    </a:cubicBezTo>
                    <a:cubicBezTo>
                      <a:pt x="22350" y="185738"/>
                      <a:pt x="9967" y="190500"/>
                      <a:pt x="3300" y="182880"/>
                    </a:cubicBezTo>
                    <a:cubicBezTo>
                      <a:pt x="-2416" y="177165"/>
                      <a:pt x="442" y="167640"/>
                      <a:pt x="3300" y="160020"/>
                    </a:cubicBezTo>
                    <a:cubicBezTo>
                      <a:pt x="15682" y="126683"/>
                      <a:pt x="28065" y="94298"/>
                      <a:pt x="40447" y="60960"/>
                    </a:cubicBezTo>
                    <a:cubicBezTo>
                      <a:pt x="81405" y="47625"/>
                      <a:pt x="119505" y="27623"/>
                      <a:pt x="155700" y="2858"/>
                    </a:cubicBezTo>
                    <a:cubicBezTo>
                      <a:pt x="157605" y="1905"/>
                      <a:pt x="158557" y="953"/>
                      <a:pt x="160462" y="0"/>
                    </a:cubicBezTo>
                    <a:cubicBezTo>
                      <a:pt x="171892" y="5715"/>
                      <a:pt x="183322" y="11430"/>
                      <a:pt x="192847" y="18098"/>
                    </a:cubicBezTo>
                    <a:cubicBezTo>
                      <a:pt x="220469" y="33338"/>
                      <a:pt x="243330" y="59055"/>
                      <a:pt x="250950" y="90488"/>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2016" name="Freeform: Shape 1073"/>
              <p:cNvSpPr/>
              <p:nvPr/>
            </p:nvSpPr>
            <p:spPr>
              <a:xfrm flipH="1">
                <a:off x="6490800" y="3302640"/>
                <a:ext cx="106920" cy="328680"/>
              </a:xfrm>
              <a:custGeom>
                <a:avLst/>
                <a:gdLst/>
                <a:ahLst/>
                <a:rect l="l" t="t" r="r" b="b"/>
                <a:pathLst>
                  <a:path w="213620" h="657225">
                    <a:moveTo>
                      <a:pt x="205048" y="290513"/>
                    </a:moveTo>
                    <a:cubicBezTo>
                      <a:pt x="207905" y="300038"/>
                      <a:pt x="210763" y="309563"/>
                      <a:pt x="213620" y="319088"/>
                    </a:cubicBezTo>
                    <a:cubicBezTo>
                      <a:pt x="213620" y="319088"/>
                      <a:pt x="213620" y="318135"/>
                      <a:pt x="212668" y="318135"/>
                    </a:cubicBezTo>
                    <a:cubicBezTo>
                      <a:pt x="199333" y="295275"/>
                      <a:pt x="180283" y="273367"/>
                      <a:pt x="153613" y="266700"/>
                    </a:cubicBezTo>
                    <a:cubicBezTo>
                      <a:pt x="123133" y="260033"/>
                      <a:pt x="90748" y="278130"/>
                      <a:pt x="74555" y="304800"/>
                    </a:cubicBezTo>
                    <a:cubicBezTo>
                      <a:pt x="58363" y="331470"/>
                      <a:pt x="55505" y="364808"/>
                      <a:pt x="59315" y="395288"/>
                    </a:cubicBezTo>
                    <a:cubicBezTo>
                      <a:pt x="66935" y="471488"/>
                      <a:pt x="104083" y="541020"/>
                      <a:pt x="146945" y="603885"/>
                    </a:cubicBezTo>
                    <a:cubicBezTo>
                      <a:pt x="159328" y="621983"/>
                      <a:pt x="173615" y="640080"/>
                      <a:pt x="186950" y="657225"/>
                    </a:cubicBezTo>
                    <a:cubicBezTo>
                      <a:pt x="145993" y="613410"/>
                      <a:pt x="106940" y="567690"/>
                      <a:pt x="67888" y="521970"/>
                    </a:cubicBezTo>
                    <a:cubicBezTo>
                      <a:pt x="48838" y="500063"/>
                      <a:pt x="29788" y="477203"/>
                      <a:pt x="16453" y="450533"/>
                    </a:cubicBezTo>
                    <a:cubicBezTo>
                      <a:pt x="13595" y="443865"/>
                      <a:pt x="9785" y="437197"/>
                      <a:pt x="7880" y="429578"/>
                    </a:cubicBezTo>
                    <a:cubicBezTo>
                      <a:pt x="5023" y="421005"/>
                      <a:pt x="3118" y="412433"/>
                      <a:pt x="2165" y="403860"/>
                    </a:cubicBezTo>
                    <a:cubicBezTo>
                      <a:pt x="-3550" y="367665"/>
                      <a:pt x="3118" y="328613"/>
                      <a:pt x="9785" y="292417"/>
                    </a:cubicBezTo>
                    <a:cubicBezTo>
                      <a:pt x="24073" y="208597"/>
                      <a:pt x="38360" y="124777"/>
                      <a:pt x="52648" y="41910"/>
                    </a:cubicBezTo>
                    <a:cubicBezTo>
                      <a:pt x="54553" y="31433"/>
                      <a:pt x="55505" y="16192"/>
                      <a:pt x="56458" y="0"/>
                    </a:cubicBezTo>
                    <a:cubicBezTo>
                      <a:pt x="70745" y="20955"/>
                      <a:pt x="85985" y="41910"/>
                      <a:pt x="99320" y="63817"/>
                    </a:cubicBezTo>
                    <a:cubicBezTo>
                      <a:pt x="145040" y="134302"/>
                      <a:pt x="181235" y="210503"/>
                      <a:pt x="205048" y="29051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017" name="Graphic 47"/>
            <p:cNvGrpSpPr/>
            <p:nvPr/>
          </p:nvGrpSpPr>
          <p:grpSpPr>
            <a:xfrm>
              <a:off x="4669560" y="2871360"/>
              <a:ext cx="2855880" cy="697320"/>
              <a:chOff x="4669560" y="2871360"/>
              <a:chExt cx="2855880" cy="697320"/>
            </a:xfrm>
          </p:grpSpPr>
          <p:sp>
            <p:nvSpPr>
              <p:cNvPr id="2018" name="Freeform: Shape 1075"/>
              <p:cNvSpPr/>
              <p:nvPr/>
            </p:nvSpPr>
            <p:spPr>
              <a:xfrm flipH="1">
                <a:off x="4669560" y="2871360"/>
                <a:ext cx="1352160" cy="442440"/>
              </a:xfrm>
              <a:custGeom>
                <a:avLst/>
                <a:gdLst/>
                <a:ahLst/>
                <a:rect l="l" t="t" r="r" b="b"/>
                <a:pathLst>
                  <a:path w="2701614" h="884241">
                    <a:moveTo>
                      <a:pt x="691515" y="768037"/>
                    </a:moveTo>
                    <a:lnTo>
                      <a:pt x="95250" y="884242"/>
                    </a:lnTo>
                    <a:lnTo>
                      <a:pt x="96202" y="882337"/>
                    </a:lnTo>
                    <a:cubicBezTo>
                      <a:pt x="125730" y="839474"/>
                      <a:pt x="144780" y="794707"/>
                      <a:pt x="152400" y="743272"/>
                    </a:cubicBezTo>
                    <a:cubicBezTo>
                      <a:pt x="157163" y="708982"/>
                      <a:pt x="157163" y="672787"/>
                      <a:pt x="149542" y="636592"/>
                    </a:cubicBezTo>
                    <a:cubicBezTo>
                      <a:pt x="131445" y="544199"/>
                      <a:pt x="75247" y="468952"/>
                      <a:pt x="0" y="424184"/>
                    </a:cubicBezTo>
                    <a:lnTo>
                      <a:pt x="54292" y="414659"/>
                    </a:lnTo>
                    <a:cubicBezTo>
                      <a:pt x="135255" y="400372"/>
                      <a:pt x="216217" y="387037"/>
                      <a:pt x="298132" y="373702"/>
                    </a:cubicBezTo>
                    <a:lnTo>
                      <a:pt x="1026795" y="250829"/>
                    </a:lnTo>
                    <a:lnTo>
                      <a:pt x="1036320" y="248924"/>
                    </a:lnTo>
                    <a:cubicBezTo>
                      <a:pt x="1094422" y="237494"/>
                      <a:pt x="1158240" y="227017"/>
                      <a:pt x="1225868" y="217492"/>
                    </a:cubicBezTo>
                    <a:lnTo>
                      <a:pt x="2496502" y="3179"/>
                    </a:lnTo>
                    <a:cubicBezTo>
                      <a:pt x="2589847" y="-14918"/>
                      <a:pt x="2680335" y="46042"/>
                      <a:pt x="2698433" y="140339"/>
                    </a:cubicBezTo>
                    <a:cubicBezTo>
                      <a:pt x="2716530" y="233684"/>
                      <a:pt x="2655570" y="325124"/>
                      <a:pt x="2563177" y="343222"/>
                    </a:cubicBezTo>
                    <a:cubicBezTo>
                      <a:pt x="2478405" y="359414"/>
                      <a:pt x="2396490" y="310837"/>
                      <a:pt x="2367915" y="231779"/>
                    </a:cubicBezTo>
                    <a:cubicBezTo>
                      <a:pt x="2094547" y="367987"/>
                      <a:pt x="1227772" y="663262"/>
                      <a:pt x="691515" y="768037"/>
                    </a:cubicBezTo>
                    <a:close/>
                    <a:moveTo>
                      <a:pt x="2547938" y="268927"/>
                    </a:moveTo>
                    <a:cubicBezTo>
                      <a:pt x="2600325" y="258449"/>
                      <a:pt x="2634615" y="207014"/>
                      <a:pt x="2624138" y="154627"/>
                    </a:cubicBezTo>
                    <a:cubicBezTo>
                      <a:pt x="2613660" y="101287"/>
                      <a:pt x="2562225" y="66997"/>
                      <a:pt x="2509838" y="77474"/>
                    </a:cubicBezTo>
                    <a:cubicBezTo>
                      <a:pt x="2457450" y="87952"/>
                      <a:pt x="2423160" y="139387"/>
                      <a:pt x="2433638" y="191774"/>
                    </a:cubicBezTo>
                    <a:lnTo>
                      <a:pt x="2433638" y="192727"/>
                    </a:lnTo>
                    <a:lnTo>
                      <a:pt x="2434590" y="193679"/>
                    </a:lnTo>
                    <a:cubicBezTo>
                      <a:pt x="2459355" y="253687"/>
                      <a:pt x="2503170" y="277499"/>
                      <a:pt x="2547938" y="26892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19" name="Freeform: Shape 1076"/>
              <p:cNvSpPr/>
              <p:nvPr/>
            </p:nvSpPr>
            <p:spPr>
              <a:xfrm flipH="1">
                <a:off x="6184800" y="3124440"/>
                <a:ext cx="1340640" cy="444240"/>
              </a:xfrm>
              <a:custGeom>
                <a:avLst/>
                <a:gdLst/>
                <a:ahLst/>
                <a:rect l="l" t="t" r="r" b="b"/>
                <a:pathLst>
                  <a:path w="2679059" h="888016">
                    <a:moveTo>
                      <a:pt x="2099939" y="574357"/>
                    </a:moveTo>
                    <a:lnTo>
                      <a:pt x="2679059" y="461010"/>
                    </a:lnTo>
                    <a:lnTo>
                      <a:pt x="2675249" y="459105"/>
                    </a:lnTo>
                    <a:lnTo>
                      <a:pt x="2672392" y="457200"/>
                    </a:lnTo>
                    <a:cubicBezTo>
                      <a:pt x="2652389" y="444818"/>
                      <a:pt x="2633339" y="427673"/>
                      <a:pt x="2616194" y="410528"/>
                    </a:cubicBezTo>
                    <a:cubicBezTo>
                      <a:pt x="2601907" y="395288"/>
                      <a:pt x="2590477" y="380048"/>
                      <a:pt x="2578094" y="362903"/>
                    </a:cubicBezTo>
                    <a:cubicBezTo>
                      <a:pt x="2514277" y="261938"/>
                      <a:pt x="2510467" y="135255"/>
                      <a:pt x="2571427" y="29527"/>
                    </a:cubicBezTo>
                    <a:cubicBezTo>
                      <a:pt x="2577142" y="19050"/>
                      <a:pt x="2583809" y="9525"/>
                      <a:pt x="2591429" y="0"/>
                    </a:cubicBezTo>
                    <a:cubicBezTo>
                      <a:pt x="2499037" y="20955"/>
                      <a:pt x="2406644" y="40958"/>
                      <a:pt x="2314252" y="61913"/>
                    </a:cubicBezTo>
                    <a:lnTo>
                      <a:pt x="1593209" y="221933"/>
                    </a:lnTo>
                    <a:lnTo>
                      <a:pt x="1583684" y="223838"/>
                    </a:lnTo>
                    <a:cubicBezTo>
                      <a:pt x="1525582" y="235268"/>
                      <a:pt x="1462717" y="249555"/>
                      <a:pt x="1396042" y="265748"/>
                    </a:cubicBezTo>
                    <a:lnTo>
                      <a:pt x="138742" y="544830"/>
                    </a:lnTo>
                    <a:cubicBezTo>
                      <a:pt x="45397" y="562928"/>
                      <a:pt x="-15563" y="653415"/>
                      <a:pt x="3487" y="747713"/>
                    </a:cubicBezTo>
                    <a:cubicBezTo>
                      <a:pt x="21584" y="841057"/>
                      <a:pt x="112072" y="902970"/>
                      <a:pt x="205417" y="884873"/>
                    </a:cubicBezTo>
                    <a:cubicBezTo>
                      <a:pt x="290189" y="868680"/>
                      <a:pt x="347339" y="792480"/>
                      <a:pt x="344482" y="708660"/>
                    </a:cubicBezTo>
                    <a:cubicBezTo>
                      <a:pt x="649282" y="731520"/>
                      <a:pt x="1563682" y="679132"/>
                      <a:pt x="2099939" y="574357"/>
                    </a:cubicBezTo>
                    <a:close/>
                    <a:moveTo>
                      <a:pt x="192082" y="810578"/>
                    </a:moveTo>
                    <a:cubicBezTo>
                      <a:pt x="139694" y="821055"/>
                      <a:pt x="88259" y="785813"/>
                      <a:pt x="77782" y="733425"/>
                    </a:cubicBezTo>
                    <a:cubicBezTo>
                      <a:pt x="67304" y="680085"/>
                      <a:pt x="101594" y="629603"/>
                      <a:pt x="153982" y="619125"/>
                    </a:cubicBezTo>
                    <a:cubicBezTo>
                      <a:pt x="206369" y="608648"/>
                      <a:pt x="257804" y="642938"/>
                      <a:pt x="268282" y="696278"/>
                    </a:cubicBezTo>
                    <a:lnTo>
                      <a:pt x="268282" y="697230"/>
                    </a:lnTo>
                    <a:lnTo>
                      <a:pt x="268282" y="699135"/>
                    </a:lnTo>
                    <a:cubicBezTo>
                      <a:pt x="268282" y="763905"/>
                      <a:pt x="236849" y="802005"/>
                      <a:pt x="192082" y="8105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20" name="Freeform: Shape 1077"/>
              <p:cNvSpPr/>
              <p:nvPr/>
            </p:nvSpPr>
            <p:spPr>
              <a:xfrm flipH="1" rot="664200">
                <a:off x="5943600" y="3061080"/>
                <a:ext cx="315360" cy="316800"/>
              </a:xfrm>
              <a:custGeom>
                <a:avLst/>
                <a:gdLst/>
                <a:ahLst/>
                <a:rect l="l" t="t" r="r" b="b"/>
                <a:pathLst>
                  <a:path w="630546" h="634355">
                    <a:moveTo>
                      <a:pt x="630546" y="317178"/>
                    </a:moveTo>
                    <a:cubicBezTo>
                      <a:pt x="630546" y="492351"/>
                      <a:pt x="489394" y="634356"/>
                      <a:pt x="315273" y="634356"/>
                    </a:cubicBezTo>
                    <a:cubicBezTo>
                      <a:pt x="141152" y="634356"/>
                      <a:pt x="0" y="492351"/>
                      <a:pt x="0" y="317178"/>
                    </a:cubicBezTo>
                    <a:cubicBezTo>
                      <a:pt x="0" y="142005"/>
                      <a:pt x="141152" y="0"/>
                      <a:pt x="315273" y="0"/>
                    </a:cubicBezTo>
                    <a:cubicBezTo>
                      <a:pt x="489394" y="0"/>
                      <a:pt x="630546" y="142005"/>
                      <a:pt x="630546" y="3171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21" name="Freeform: Shape 1078"/>
              <p:cNvSpPr/>
              <p:nvPr/>
            </p:nvSpPr>
            <p:spPr>
              <a:xfrm flipH="1" rot="664200">
                <a:off x="6012360" y="3130200"/>
                <a:ext cx="178200" cy="178920"/>
              </a:xfrm>
              <a:custGeom>
                <a:avLst/>
                <a:gdLst/>
                <a:ahLst/>
                <a:rect l="l" t="t" r="r" b="b"/>
                <a:pathLst>
                  <a:path w="356229" h="358134">
                    <a:moveTo>
                      <a:pt x="356230" y="179067"/>
                    </a:moveTo>
                    <a:cubicBezTo>
                      <a:pt x="356230" y="277964"/>
                      <a:pt x="276485" y="358135"/>
                      <a:pt x="178115" y="358135"/>
                    </a:cubicBezTo>
                    <a:cubicBezTo>
                      <a:pt x="79745" y="358135"/>
                      <a:pt x="0" y="277964"/>
                      <a:pt x="0" y="179067"/>
                    </a:cubicBezTo>
                    <a:cubicBezTo>
                      <a:pt x="0" y="80171"/>
                      <a:pt x="79745" y="0"/>
                      <a:pt x="178115" y="0"/>
                    </a:cubicBezTo>
                    <a:cubicBezTo>
                      <a:pt x="276485" y="0"/>
                      <a:pt x="356230" y="80171"/>
                      <a:pt x="356230" y="179067"/>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22" name="Freeform: Shape 1079"/>
              <p:cNvSpPr/>
              <p:nvPr/>
            </p:nvSpPr>
            <p:spPr>
              <a:xfrm flipH="1" rot="664200">
                <a:off x="6056640" y="3174480"/>
                <a:ext cx="90360" cy="90360"/>
              </a:xfrm>
              <a:custGeom>
                <a:avLst/>
                <a:gdLst/>
                <a:ahLst/>
                <a:rect l="l" t="t" r="r" b="b"/>
                <a:pathLst>
                  <a:path w="180972" h="180972">
                    <a:moveTo>
                      <a:pt x="180972" y="90486"/>
                    </a:moveTo>
                    <a:cubicBezTo>
                      <a:pt x="180972" y="140460"/>
                      <a:pt x="140460" y="180972"/>
                      <a:pt x="90486" y="180972"/>
                    </a:cubicBezTo>
                    <a:cubicBezTo>
                      <a:pt x="40512" y="180972"/>
                      <a:pt x="0" y="140460"/>
                      <a:pt x="0" y="90486"/>
                    </a:cubicBezTo>
                    <a:cubicBezTo>
                      <a:pt x="0" y="40512"/>
                      <a:pt x="40512" y="0"/>
                      <a:pt x="90486" y="0"/>
                    </a:cubicBezTo>
                    <a:cubicBezTo>
                      <a:pt x="140460" y="0"/>
                      <a:pt x="180972" y="40512"/>
                      <a:pt x="180972" y="90486"/>
                    </a:cubicBezTo>
                    <a:close/>
                  </a:path>
                </a:pathLst>
              </a:custGeom>
              <a:solidFill>
                <a:srgbClr val="333300"/>
              </a:solidFill>
              <a:ln w="0">
                <a:noFill/>
              </a:ln>
            </p:spPr>
            <p:style>
              <a:lnRef idx="0"/>
              <a:fillRef idx="0"/>
              <a:effectRef idx="0"/>
              <a:fontRef idx="minor"/>
            </p:style>
            <p:txBody>
              <a:bodyPr lIns="90000" rIns="90000" tIns="43560" bIns="43560" anchor="ctr">
                <a:noAutofit/>
              </a:bodyPr>
              <a:p>
                <a:endParaRPr b="0" lang="en-US" sz="1800" spc="-1" strike="noStrike">
                  <a:solidFill>
                    <a:srgbClr val="313c3f"/>
                  </a:solidFill>
                  <a:latin typeface="Source Sans Pro"/>
                </a:endParaRPr>
              </a:p>
            </p:txBody>
          </p:sp>
          <p:grpSp>
            <p:nvGrpSpPr>
              <p:cNvPr id="2023" name="Graphic 47"/>
              <p:cNvGrpSpPr/>
              <p:nvPr/>
            </p:nvGrpSpPr>
            <p:grpSpPr>
              <a:xfrm>
                <a:off x="5095080" y="2961000"/>
                <a:ext cx="1915920" cy="484920"/>
                <a:chOff x="5095080" y="2961000"/>
                <a:chExt cx="1915920" cy="484920"/>
              </a:xfrm>
            </p:grpSpPr>
            <p:grpSp>
              <p:nvGrpSpPr>
                <p:cNvPr id="2024" name="Graphic 47"/>
                <p:cNvGrpSpPr/>
                <p:nvPr/>
              </p:nvGrpSpPr>
              <p:grpSpPr>
                <a:xfrm>
                  <a:off x="5095080" y="2961000"/>
                  <a:ext cx="532800" cy="228960"/>
                  <a:chOff x="5095080" y="2961000"/>
                  <a:chExt cx="532800" cy="228960"/>
                </a:xfrm>
              </p:grpSpPr>
              <p:sp>
                <p:nvSpPr>
                  <p:cNvPr id="2025" name="Freeform: Shape 1082"/>
                  <p:cNvSpPr/>
                  <p:nvPr/>
                </p:nvSpPr>
                <p:spPr>
                  <a:xfrm flipH="1">
                    <a:off x="5095080" y="2961000"/>
                    <a:ext cx="172800" cy="130320"/>
                  </a:xfrm>
                  <a:custGeom>
                    <a:avLst/>
                    <a:gdLst/>
                    <a:ahLst/>
                    <a:rect l="l" t="t" r="r" b="b"/>
                    <a:pathLst>
                      <a:path w="345757" h="260984">
                        <a:moveTo>
                          <a:pt x="345757" y="220028"/>
                        </a:moveTo>
                        <a:lnTo>
                          <a:pt x="159068" y="0"/>
                        </a:lnTo>
                        <a:lnTo>
                          <a:pt x="0" y="26670"/>
                        </a:lnTo>
                        <a:lnTo>
                          <a:pt x="227648" y="260985"/>
                        </a:lnTo>
                        <a:cubicBezTo>
                          <a:pt x="266700" y="246697"/>
                          <a:pt x="305753" y="233363"/>
                          <a:pt x="345757" y="22002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26" name="Freeform: Shape 1083"/>
                  <p:cNvSpPr/>
                  <p:nvPr/>
                </p:nvSpPr>
                <p:spPr>
                  <a:xfrm flipH="1">
                    <a:off x="5383080" y="3014640"/>
                    <a:ext cx="244800" cy="175320"/>
                  </a:xfrm>
                  <a:custGeom>
                    <a:avLst/>
                    <a:gdLst/>
                    <a:ahLst/>
                    <a:rect l="l" t="t" r="r" b="b"/>
                    <a:pathLst>
                      <a:path w="489585" h="350520">
                        <a:moveTo>
                          <a:pt x="489585" y="297180"/>
                        </a:moveTo>
                        <a:lnTo>
                          <a:pt x="237173" y="0"/>
                        </a:lnTo>
                        <a:lnTo>
                          <a:pt x="0" y="40005"/>
                        </a:lnTo>
                        <a:lnTo>
                          <a:pt x="301943" y="350520"/>
                        </a:lnTo>
                        <a:cubicBezTo>
                          <a:pt x="364807" y="333375"/>
                          <a:pt x="427673" y="316230"/>
                          <a:pt x="489585" y="29718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027" name="Graphic 47"/>
                <p:cNvGrpSpPr/>
                <p:nvPr/>
              </p:nvGrpSpPr>
              <p:grpSpPr>
                <a:xfrm>
                  <a:off x="6435360" y="3219120"/>
                  <a:ext cx="575640" cy="226800"/>
                  <a:chOff x="6435360" y="3219120"/>
                  <a:chExt cx="575640" cy="226800"/>
                </a:xfrm>
              </p:grpSpPr>
              <p:sp>
                <p:nvSpPr>
                  <p:cNvPr id="2028" name="Freeform: Shape 1085"/>
                  <p:cNvSpPr/>
                  <p:nvPr/>
                </p:nvSpPr>
                <p:spPr>
                  <a:xfrm flipH="1">
                    <a:off x="6435000" y="3219120"/>
                    <a:ext cx="232200" cy="181080"/>
                  </a:xfrm>
                  <a:custGeom>
                    <a:avLst/>
                    <a:gdLst/>
                    <a:ahLst/>
                    <a:rect l="l" t="t" r="r" b="b"/>
                    <a:pathLst>
                      <a:path w="463867" h="361950">
                        <a:moveTo>
                          <a:pt x="463868" y="333375"/>
                        </a:moveTo>
                        <a:lnTo>
                          <a:pt x="180975" y="0"/>
                        </a:lnTo>
                        <a:lnTo>
                          <a:pt x="0" y="40005"/>
                        </a:lnTo>
                        <a:lnTo>
                          <a:pt x="313373" y="361950"/>
                        </a:lnTo>
                        <a:cubicBezTo>
                          <a:pt x="335280" y="358140"/>
                          <a:pt x="356235" y="354330"/>
                          <a:pt x="378143" y="349567"/>
                        </a:cubicBezTo>
                        <a:lnTo>
                          <a:pt x="463868" y="333375"/>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29" name="Freeform: Shape 1086"/>
                  <p:cNvSpPr/>
                  <p:nvPr/>
                </p:nvSpPr>
                <p:spPr>
                  <a:xfrm flipH="1">
                    <a:off x="6760440" y="3287520"/>
                    <a:ext cx="250560" cy="158400"/>
                  </a:xfrm>
                  <a:custGeom>
                    <a:avLst/>
                    <a:gdLst/>
                    <a:ahLst/>
                    <a:rect l="l" t="t" r="r" b="b"/>
                    <a:pathLst>
                      <a:path w="501014" h="316230">
                        <a:moveTo>
                          <a:pt x="501015" y="293370"/>
                        </a:moveTo>
                        <a:lnTo>
                          <a:pt x="252413" y="0"/>
                        </a:lnTo>
                        <a:lnTo>
                          <a:pt x="0" y="56198"/>
                        </a:lnTo>
                        <a:lnTo>
                          <a:pt x="253365" y="316230"/>
                        </a:lnTo>
                        <a:cubicBezTo>
                          <a:pt x="287655" y="313373"/>
                          <a:pt x="320992" y="310515"/>
                          <a:pt x="355283" y="307657"/>
                        </a:cubicBezTo>
                        <a:cubicBezTo>
                          <a:pt x="402908" y="302895"/>
                          <a:pt x="451485" y="298132"/>
                          <a:pt x="501015" y="29337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sp>
          <p:nvSpPr>
            <p:cNvPr id="2030" name="Freeform: Shape 1087"/>
            <p:cNvSpPr/>
            <p:nvPr/>
          </p:nvSpPr>
          <p:spPr>
            <a:xfrm flipH="1">
              <a:off x="5618520" y="2776680"/>
              <a:ext cx="991800" cy="868680"/>
            </a:xfrm>
            <a:custGeom>
              <a:avLst/>
              <a:gdLst/>
              <a:ahLst/>
              <a:rect l="l" t="t" r="r" b="b"/>
              <a:pathLst>
                <a:path w="1981999" h="1736944">
                  <a:moveTo>
                    <a:pt x="1966637" y="651974"/>
                  </a:moveTo>
                  <a:cubicBezTo>
                    <a:pt x="1988545" y="735794"/>
                    <a:pt x="1983783" y="824376"/>
                    <a:pt x="1972352" y="909149"/>
                  </a:cubicBezTo>
                  <a:cubicBezTo>
                    <a:pt x="1960922" y="991064"/>
                    <a:pt x="1941872" y="1071074"/>
                    <a:pt x="1915202" y="1149179"/>
                  </a:cubicBezTo>
                  <a:cubicBezTo>
                    <a:pt x="1906630" y="1173944"/>
                    <a:pt x="1896152" y="1198709"/>
                    <a:pt x="1882817" y="1221569"/>
                  </a:cubicBezTo>
                  <a:cubicBezTo>
                    <a:pt x="1872340" y="1239666"/>
                    <a:pt x="1859005" y="1255859"/>
                    <a:pt x="1844717" y="1271099"/>
                  </a:cubicBezTo>
                  <a:cubicBezTo>
                    <a:pt x="1799950" y="1315866"/>
                    <a:pt x="1738037" y="1344441"/>
                    <a:pt x="1674220" y="1348251"/>
                  </a:cubicBezTo>
                  <a:cubicBezTo>
                    <a:pt x="1674220" y="1348251"/>
                    <a:pt x="1674220" y="1348251"/>
                    <a:pt x="1673267" y="1348251"/>
                  </a:cubicBezTo>
                  <a:cubicBezTo>
                    <a:pt x="1661837" y="1348251"/>
                    <a:pt x="1651360" y="1354919"/>
                    <a:pt x="1644692" y="1364444"/>
                  </a:cubicBezTo>
                  <a:cubicBezTo>
                    <a:pt x="1643740" y="1366349"/>
                    <a:pt x="1641835" y="1368254"/>
                    <a:pt x="1640882" y="1370159"/>
                  </a:cubicBezTo>
                  <a:cubicBezTo>
                    <a:pt x="1637072" y="1375874"/>
                    <a:pt x="1632310" y="1380636"/>
                    <a:pt x="1627547" y="1385399"/>
                  </a:cubicBezTo>
                  <a:cubicBezTo>
                    <a:pt x="1610402" y="1403496"/>
                    <a:pt x="1577065" y="1425404"/>
                    <a:pt x="1555157" y="1435881"/>
                  </a:cubicBezTo>
                  <a:cubicBezTo>
                    <a:pt x="1485625" y="1467314"/>
                    <a:pt x="1402757" y="1481601"/>
                    <a:pt x="1332272" y="1451121"/>
                  </a:cubicBezTo>
                  <a:cubicBezTo>
                    <a:pt x="1327510" y="1449216"/>
                    <a:pt x="1322747" y="1448264"/>
                    <a:pt x="1317985" y="1448264"/>
                  </a:cubicBezTo>
                  <a:cubicBezTo>
                    <a:pt x="1307507" y="1448264"/>
                    <a:pt x="1297982" y="1453026"/>
                    <a:pt x="1291315" y="1461599"/>
                  </a:cubicBezTo>
                  <a:cubicBezTo>
                    <a:pt x="1269407" y="1491126"/>
                    <a:pt x="1237022" y="1514939"/>
                    <a:pt x="1207495" y="1536846"/>
                  </a:cubicBezTo>
                  <a:cubicBezTo>
                    <a:pt x="1153202" y="1577804"/>
                    <a:pt x="1092242" y="1612094"/>
                    <a:pt x="1026520" y="1625429"/>
                  </a:cubicBezTo>
                  <a:cubicBezTo>
                    <a:pt x="959845" y="1638764"/>
                    <a:pt x="886502" y="1628286"/>
                    <a:pt x="833162" y="1587329"/>
                  </a:cubicBezTo>
                  <a:cubicBezTo>
                    <a:pt x="789347" y="1666386"/>
                    <a:pt x="687430" y="1698771"/>
                    <a:pt x="599800" y="1721631"/>
                  </a:cubicBezTo>
                  <a:cubicBezTo>
                    <a:pt x="549317" y="1734014"/>
                    <a:pt x="495025" y="1746396"/>
                    <a:pt x="446447" y="1726394"/>
                  </a:cubicBezTo>
                  <a:cubicBezTo>
                    <a:pt x="418825" y="1714964"/>
                    <a:pt x="396917" y="1694009"/>
                    <a:pt x="376915" y="1672101"/>
                  </a:cubicBezTo>
                  <a:cubicBezTo>
                    <a:pt x="334052" y="1623524"/>
                    <a:pt x="299762" y="1567326"/>
                    <a:pt x="276902" y="1506366"/>
                  </a:cubicBezTo>
                  <a:cubicBezTo>
                    <a:pt x="256900" y="1453026"/>
                    <a:pt x="245470" y="1396829"/>
                    <a:pt x="229277" y="1342536"/>
                  </a:cubicBezTo>
                  <a:cubicBezTo>
                    <a:pt x="228325" y="1340631"/>
                    <a:pt x="228325" y="1338726"/>
                    <a:pt x="227372" y="1335869"/>
                  </a:cubicBezTo>
                  <a:cubicBezTo>
                    <a:pt x="203560" y="1257764"/>
                    <a:pt x="168317" y="1183469"/>
                    <a:pt x="123550" y="1115841"/>
                  </a:cubicBezTo>
                  <a:cubicBezTo>
                    <a:pt x="109262" y="1094886"/>
                    <a:pt x="94975" y="1073931"/>
                    <a:pt x="80687" y="1052024"/>
                  </a:cubicBezTo>
                  <a:cubicBezTo>
                    <a:pt x="41635" y="994874"/>
                    <a:pt x="5440" y="935819"/>
                    <a:pt x="677" y="868191"/>
                  </a:cubicBezTo>
                  <a:cubicBezTo>
                    <a:pt x="-3133" y="820566"/>
                    <a:pt x="10202" y="773894"/>
                    <a:pt x="14012" y="726269"/>
                  </a:cubicBezTo>
                  <a:cubicBezTo>
                    <a:pt x="19727" y="655784"/>
                    <a:pt x="5440" y="585299"/>
                    <a:pt x="17822" y="515766"/>
                  </a:cubicBezTo>
                  <a:cubicBezTo>
                    <a:pt x="29252" y="450996"/>
                    <a:pt x="62590" y="392894"/>
                    <a:pt x="99737" y="339554"/>
                  </a:cubicBezTo>
                  <a:cubicBezTo>
                    <a:pt x="128312" y="299549"/>
                    <a:pt x="158792" y="259544"/>
                    <a:pt x="199750" y="231921"/>
                  </a:cubicBezTo>
                  <a:cubicBezTo>
                    <a:pt x="248327" y="199536"/>
                    <a:pt x="308335" y="187154"/>
                    <a:pt x="365485" y="194774"/>
                  </a:cubicBezTo>
                  <a:cubicBezTo>
                    <a:pt x="393107" y="198584"/>
                    <a:pt x="419777" y="206204"/>
                    <a:pt x="444542" y="219539"/>
                  </a:cubicBezTo>
                  <a:cubicBezTo>
                    <a:pt x="460735" y="190964"/>
                    <a:pt x="480737" y="165246"/>
                    <a:pt x="504550" y="142386"/>
                  </a:cubicBezTo>
                  <a:cubicBezTo>
                    <a:pt x="549317" y="97619"/>
                    <a:pt x="606467" y="65234"/>
                    <a:pt x="667427" y="50946"/>
                  </a:cubicBezTo>
                  <a:cubicBezTo>
                    <a:pt x="716005" y="39516"/>
                    <a:pt x="767440" y="39516"/>
                    <a:pt x="816017" y="49041"/>
                  </a:cubicBezTo>
                  <a:cubicBezTo>
                    <a:pt x="816017" y="49041"/>
                    <a:pt x="816017" y="49041"/>
                    <a:pt x="816017" y="49041"/>
                  </a:cubicBezTo>
                  <a:cubicBezTo>
                    <a:pt x="859832" y="57614"/>
                    <a:pt x="902695" y="74759"/>
                    <a:pt x="939842" y="100476"/>
                  </a:cubicBezTo>
                  <a:cubicBezTo>
                    <a:pt x="987467" y="56661"/>
                    <a:pt x="1036997" y="29039"/>
                    <a:pt x="1085575" y="14751"/>
                  </a:cubicBezTo>
                  <a:cubicBezTo>
                    <a:pt x="1126532" y="2369"/>
                    <a:pt x="1167490" y="-1441"/>
                    <a:pt x="1204637" y="464"/>
                  </a:cubicBezTo>
                  <a:cubicBezTo>
                    <a:pt x="1204637" y="464"/>
                    <a:pt x="1205590" y="464"/>
                    <a:pt x="1206542" y="464"/>
                  </a:cubicBezTo>
                  <a:cubicBezTo>
                    <a:pt x="1310365" y="7131"/>
                    <a:pt x="1388470" y="59519"/>
                    <a:pt x="1397042" y="89999"/>
                  </a:cubicBezTo>
                  <a:cubicBezTo>
                    <a:pt x="1407520" y="71901"/>
                    <a:pt x="1420855" y="57614"/>
                    <a:pt x="1437047" y="47136"/>
                  </a:cubicBezTo>
                  <a:cubicBezTo>
                    <a:pt x="1437047" y="47136"/>
                    <a:pt x="1437047" y="47136"/>
                    <a:pt x="1437047" y="47136"/>
                  </a:cubicBezTo>
                  <a:cubicBezTo>
                    <a:pt x="1440857" y="45231"/>
                    <a:pt x="1444667" y="42374"/>
                    <a:pt x="1448477" y="40469"/>
                  </a:cubicBezTo>
                  <a:cubicBezTo>
                    <a:pt x="1448477" y="40469"/>
                    <a:pt x="1449430" y="40469"/>
                    <a:pt x="1449430" y="39516"/>
                  </a:cubicBezTo>
                  <a:cubicBezTo>
                    <a:pt x="1485625" y="20466"/>
                    <a:pt x="1529440" y="17609"/>
                    <a:pt x="1569445" y="30944"/>
                  </a:cubicBezTo>
                  <a:cubicBezTo>
                    <a:pt x="1599925" y="41421"/>
                    <a:pt x="1627547" y="58566"/>
                    <a:pt x="1652312" y="79521"/>
                  </a:cubicBezTo>
                  <a:cubicBezTo>
                    <a:pt x="1679935" y="102381"/>
                    <a:pt x="1703747" y="130004"/>
                    <a:pt x="1724702" y="158579"/>
                  </a:cubicBezTo>
                  <a:cubicBezTo>
                    <a:pt x="1810427" y="272879"/>
                    <a:pt x="1867577" y="406229"/>
                    <a:pt x="1923775" y="538626"/>
                  </a:cubicBezTo>
                  <a:cubicBezTo>
                    <a:pt x="1940920" y="575774"/>
                    <a:pt x="1957112" y="612921"/>
                    <a:pt x="1966637" y="65197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31" name="Freeform: Shape 1088"/>
            <p:cNvSpPr/>
            <p:nvPr/>
          </p:nvSpPr>
          <p:spPr>
            <a:xfrm flipH="1">
              <a:off x="5617800" y="2816280"/>
              <a:ext cx="878040" cy="829440"/>
            </a:xfrm>
            <a:custGeom>
              <a:avLst/>
              <a:gdLst/>
              <a:ahLst/>
              <a:rect l="l" t="t" r="r" b="b"/>
              <a:pathLst>
                <a:path w="1754626" h="1658375">
                  <a:moveTo>
                    <a:pt x="1697355" y="459105"/>
                  </a:moveTo>
                  <a:cubicBezTo>
                    <a:pt x="1641157" y="326708"/>
                    <a:pt x="1584960" y="193358"/>
                    <a:pt x="1498282" y="79058"/>
                  </a:cubicBezTo>
                  <a:cubicBezTo>
                    <a:pt x="1476375" y="50483"/>
                    <a:pt x="1452563" y="22860"/>
                    <a:pt x="1425892" y="0"/>
                  </a:cubicBezTo>
                  <a:cubicBezTo>
                    <a:pt x="1511617" y="146685"/>
                    <a:pt x="1593532" y="296228"/>
                    <a:pt x="1641157" y="458153"/>
                  </a:cubicBezTo>
                  <a:cubicBezTo>
                    <a:pt x="1655445" y="504825"/>
                    <a:pt x="1665923" y="551498"/>
                    <a:pt x="1669732" y="600075"/>
                  </a:cubicBezTo>
                  <a:cubicBezTo>
                    <a:pt x="1672590" y="639128"/>
                    <a:pt x="1670685" y="678180"/>
                    <a:pt x="1669732" y="717233"/>
                  </a:cubicBezTo>
                  <a:cubicBezTo>
                    <a:pt x="1667828" y="762953"/>
                    <a:pt x="1665923" y="809625"/>
                    <a:pt x="1664017" y="855345"/>
                  </a:cubicBezTo>
                  <a:cubicBezTo>
                    <a:pt x="1661160" y="920115"/>
                    <a:pt x="1657350" y="988695"/>
                    <a:pt x="1618298" y="1040130"/>
                  </a:cubicBezTo>
                  <a:cubicBezTo>
                    <a:pt x="1582103" y="1087755"/>
                    <a:pt x="1524953" y="1110615"/>
                    <a:pt x="1463992" y="1122998"/>
                  </a:cubicBezTo>
                  <a:cubicBezTo>
                    <a:pt x="1463992" y="1122045"/>
                    <a:pt x="1463040" y="1121093"/>
                    <a:pt x="1463040" y="1121093"/>
                  </a:cubicBezTo>
                  <a:cubicBezTo>
                    <a:pt x="1445895" y="1079183"/>
                    <a:pt x="1443038" y="1033463"/>
                    <a:pt x="1443038" y="988695"/>
                  </a:cubicBezTo>
                  <a:cubicBezTo>
                    <a:pt x="1443038" y="943928"/>
                    <a:pt x="1444942" y="899160"/>
                    <a:pt x="1438275" y="854393"/>
                  </a:cubicBezTo>
                  <a:cubicBezTo>
                    <a:pt x="1427798" y="782003"/>
                    <a:pt x="1293495" y="487680"/>
                    <a:pt x="1255395" y="382905"/>
                  </a:cubicBezTo>
                  <a:cubicBezTo>
                    <a:pt x="1265873" y="481965"/>
                    <a:pt x="1355407" y="737235"/>
                    <a:pt x="1379220" y="826770"/>
                  </a:cubicBezTo>
                  <a:cubicBezTo>
                    <a:pt x="1403985" y="918210"/>
                    <a:pt x="1414463" y="1012508"/>
                    <a:pt x="1408748" y="1106805"/>
                  </a:cubicBezTo>
                  <a:cubicBezTo>
                    <a:pt x="1406842" y="1133475"/>
                    <a:pt x="1403985" y="1160145"/>
                    <a:pt x="1389698" y="1183005"/>
                  </a:cubicBezTo>
                  <a:cubicBezTo>
                    <a:pt x="1380173" y="1197293"/>
                    <a:pt x="1366838" y="1208723"/>
                    <a:pt x="1353503" y="1219200"/>
                  </a:cubicBezTo>
                  <a:cubicBezTo>
                    <a:pt x="1313498" y="1248728"/>
                    <a:pt x="1267778" y="1271588"/>
                    <a:pt x="1220153" y="1284923"/>
                  </a:cubicBezTo>
                  <a:cubicBezTo>
                    <a:pt x="1197292" y="1291590"/>
                    <a:pt x="1172528" y="1296353"/>
                    <a:pt x="1148715" y="1291590"/>
                  </a:cubicBezTo>
                  <a:cubicBezTo>
                    <a:pt x="1103948" y="1283018"/>
                    <a:pt x="1126807" y="1289685"/>
                    <a:pt x="1096328" y="1256348"/>
                  </a:cubicBezTo>
                  <a:cubicBezTo>
                    <a:pt x="1034415" y="987743"/>
                    <a:pt x="965835" y="709613"/>
                    <a:pt x="878205" y="448628"/>
                  </a:cubicBezTo>
                  <a:cubicBezTo>
                    <a:pt x="906780" y="561975"/>
                    <a:pt x="1002030" y="1077278"/>
                    <a:pt x="1042988" y="1253490"/>
                  </a:cubicBezTo>
                  <a:cubicBezTo>
                    <a:pt x="1046797" y="1267778"/>
                    <a:pt x="1043940" y="1283970"/>
                    <a:pt x="1038225" y="1297305"/>
                  </a:cubicBezTo>
                  <a:cubicBezTo>
                    <a:pt x="1031557" y="1312545"/>
                    <a:pt x="1018222" y="1323975"/>
                    <a:pt x="1004888" y="1334453"/>
                  </a:cubicBezTo>
                  <a:cubicBezTo>
                    <a:pt x="978217" y="1356360"/>
                    <a:pt x="951547" y="1377315"/>
                    <a:pt x="922020" y="1395413"/>
                  </a:cubicBezTo>
                  <a:cubicBezTo>
                    <a:pt x="856297" y="1435418"/>
                    <a:pt x="777240" y="1453515"/>
                    <a:pt x="701040" y="1448753"/>
                  </a:cubicBezTo>
                  <a:cubicBezTo>
                    <a:pt x="681038" y="1446848"/>
                    <a:pt x="657225" y="1441133"/>
                    <a:pt x="650557" y="1422083"/>
                  </a:cubicBezTo>
                  <a:cubicBezTo>
                    <a:pt x="601980" y="1279208"/>
                    <a:pt x="556260" y="1129665"/>
                    <a:pt x="511492" y="984885"/>
                  </a:cubicBezTo>
                  <a:cubicBezTo>
                    <a:pt x="489585" y="915353"/>
                    <a:pt x="410528" y="653415"/>
                    <a:pt x="356235" y="539115"/>
                  </a:cubicBezTo>
                  <a:cubicBezTo>
                    <a:pt x="383857" y="641985"/>
                    <a:pt x="436245" y="898208"/>
                    <a:pt x="456247" y="962978"/>
                  </a:cubicBezTo>
                  <a:cubicBezTo>
                    <a:pt x="474345" y="1022033"/>
                    <a:pt x="488632" y="1081088"/>
                    <a:pt x="502920" y="1141095"/>
                  </a:cubicBezTo>
                  <a:cubicBezTo>
                    <a:pt x="515303" y="1195388"/>
                    <a:pt x="527685" y="1248728"/>
                    <a:pt x="541020" y="1303020"/>
                  </a:cubicBezTo>
                  <a:cubicBezTo>
                    <a:pt x="548640" y="1335405"/>
                    <a:pt x="556260" y="1368743"/>
                    <a:pt x="557213" y="1402080"/>
                  </a:cubicBezTo>
                  <a:cubicBezTo>
                    <a:pt x="558165" y="1420178"/>
                    <a:pt x="555307" y="1440180"/>
                    <a:pt x="545782" y="1455420"/>
                  </a:cubicBezTo>
                  <a:cubicBezTo>
                    <a:pt x="538163" y="1467803"/>
                    <a:pt x="524828" y="1477328"/>
                    <a:pt x="513397" y="1485900"/>
                  </a:cubicBezTo>
                  <a:cubicBezTo>
                    <a:pt x="481013" y="1508760"/>
                    <a:pt x="443865" y="1533525"/>
                    <a:pt x="404813" y="1526858"/>
                  </a:cubicBezTo>
                  <a:cubicBezTo>
                    <a:pt x="333375" y="1516380"/>
                    <a:pt x="250507" y="1558290"/>
                    <a:pt x="185738" y="1525905"/>
                  </a:cubicBezTo>
                  <a:cubicBezTo>
                    <a:pt x="127635" y="1497330"/>
                    <a:pt x="93345" y="1435418"/>
                    <a:pt x="63817" y="1378268"/>
                  </a:cubicBezTo>
                  <a:cubicBezTo>
                    <a:pt x="42863" y="1339215"/>
                    <a:pt x="22860" y="1300163"/>
                    <a:pt x="1905" y="1260158"/>
                  </a:cubicBezTo>
                  <a:cubicBezTo>
                    <a:pt x="1905" y="1259205"/>
                    <a:pt x="953" y="1258253"/>
                    <a:pt x="0" y="1257300"/>
                  </a:cubicBezTo>
                  <a:cubicBezTo>
                    <a:pt x="953" y="1259205"/>
                    <a:pt x="953" y="1261110"/>
                    <a:pt x="1905" y="1263968"/>
                  </a:cubicBezTo>
                  <a:cubicBezTo>
                    <a:pt x="18097" y="1318260"/>
                    <a:pt x="29528" y="1374458"/>
                    <a:pt x="49530" y="1427798"/>
                  </a:cubicBezTo>
                  <a:cubicBezTo>
                    <a:pt x="72390" y="1488758"/>
                    <a:pt x="106680" y="1544955"/>
                    <a:pt x="149542" y="1593533"/>
                  </a:cubicBezTo>
                  <a:cubicBezTo>
                    <a:pt x="169545" y="1615440"/>
                    <a:pt x="191453" y="1636395"/>
                    <a:pt x="219075" y="1647825"/>
                  </a:cubicBezTo>
                  <a:cubicBezTo>
                    <a:pt x="266700" y="1667828"/>
                    <a:pt x="321945" y="1655445"/>
                    <a:pt x="372428" y="1643063"/>
                  </a:cubicBezTo>
                  <a:cubicBezTo>
                    <a:pt x="460057" y="1621155"/>
                    <a:pt x="561975" y="1588770"/>
                    <a:pt x="605790" y="1508760"/>
                  </a:cubicBezTo>
                  <a:cubicBezTo>
                    <a:pt x="660082" y="1549718"/>
                    <a:pt x="732472" y="1560195"/>
                    <a:pt x="799147" y="1546860"/>
                  </a:cubicBezTo>
                  <a:cubicBezTo>
                    <a:pt x="865822" y="1533525"/>
                    <a:pt x="925830" y="1499235"/>
                    <a:pt x="980122" y="1458278"/>
                  </a:cubicBezTo>
                  <a:cubicBezTo>
                    <a:pt x="1009650" y="1436370"/>
                    <a:pt x="1042035" y="1412558"/>
                    <a:pt x="1063942" y="1383030"/>
                  </a:cubicBezTo>
                  <a:cubicBezTo>
                    <a:pt x="1070610" y="1374458"/>
                    <a:pt x="1080135" y="1369695"/>
                    <a:pt x="1090613" y="1369695"/>
                  </a:cubicBezTo>
                  <a:cubicBezTo>
                    <a:pt x="1095375" y="1369695"/>
                    <a:pt x="1100138" y="1370648"/>
                    <a:pt x="1104900" y="1372553"/>
                  </a:cubicBezTo>
                  <a:cubicBezTo>
                    <a:pt x="1175385" y="1403033"/>
                    <a:pt x="1258253" y="1388745"/>
                    <a:pt x="1327785" y="1357313"/>
                  </a:cubicBezTo>
                  <a:cubicBezTo>
                    <a:pt x="1350645" y="1346835"/>
                    <a:pt x="1383030" y="1324928"/>
                    <a:pt x="1400175" y="1306830"/>
                  </a:cubicBezTo>
                  <a:cubicBezTo>
                    <a:pt x="1404938" y="1302068"/>
                    <a:pt x="1409700" y="1296353"/>
                    <a:pt x="1413510" y="1290638"/>
                  </a:cubicBezTo>
                  <a:cubicBezTo>
                    <a:pt x="1413510" y="1290638"/>
                    <a:pt x="1413510" y="1290638"/>
                    <a:pt x="1413510" y="1290638"/>
                  </a:cubicBezTo>
                  <a:cubicBezTo>
                    <a:pt x="1414463" y="1288733"/>
                    <a:pt x="1416367" y="1286828"/>
                    <a:pt x="1417320" y="1284923"/>
                  </a:cubicBezTo>
                  <a:cubicBezTo>
                    <a:pt x="1423035" y="1275398"/>
                    <a:pt x="1433513" y="1268730"/>
                    <a:pt x="1445895" y="1268730"/>
                  </a:cubicBezTo>
                  <a:cubicBezTo>
                    <a:pt x="1445895" y="1268730"/>
                    <a:pt x="1445895" y="1268730"/>
                    <a:pt x="1446848" y="1268730"/>
                  </a:cubicBezTo>
                  <a:cubicBezTo>
                    <a:pt x="1510665" y="1265873"/>
                    <a:pt x="1572578" y="1237298"/>
                    <a:pt x="1617345" y="1191578"/>
                  </a:cubicBezTo>
                  <a:cubicBezTo>
                    <a:pt x="1631632" y="1177290"/>
                    <a:pt x="1644967" y="1160145"/>
                    <a:pt x="1655445" y="1142048"/>
                  </a:cubicBezTo>
                  <a:cubicBezTo>
                    <a:pt x="1668780" y="1119188"/>
                    <a:pt x="1678305" y="1094423"/>
                    <a:pt x="1687830" y="1069658"/>
                  </a:cubicBezTo>
                  <a:cubicBezTo>
                    <a:pt x="1714500" y="991553"/>
                    <a:pt x="1733550" y="911543"/>
                    <a:pt x="1744980" y="829628"/>
                  </a:cubicBezTo>
                  <a:cubicBezTo>
                    <a:pt x="1756410" y="744855"/>
                    <a:pt x="1761173" y="656273"/>
                    <a:pt x="1739265" y="572453"/>
                  </a:cubicBezTo>
                  <a:cubicBezTo>
                    <a:pt x="1728787" y="533400"/>
                    <a:pt x="1712595" y="496253"/>
                    <a:pt x="1697355" y="45910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32" name="Freeform: Shape 1089"/>
            <p:cNvSpPr/>
            <p:nvPr/>
          </p:nvSpPr>
          <p:spPr>
            <a:xfrm flipH="1">
              <a:off x="6354000" y="2848320"/>
              <a:ext cx="77040" cy="133200"/>
            </a:xfrm>
            <a:custGeom>
              <a:avLst/>
              <a:gdLst/>
              <a:ahLst/>
              <a:rect l="l" t="t" r="r" b="b"/>
              <a:pathLst>
                <a:path w="154305" h="266699">
                  <a:moveTo>
                    <a:pt x="146685" y="0"/>
                  </a:moveTo>
                  <a:cubicBezTo>
                    <a:pt x="136208" y="23813"/>
                    <a:pt x="132398" y="49530"/>
                    <a:pt x="131445" y="75248"/>
                  </a:cubicBezTo>
                  <a:cubicBezTo>
                    <a:pt x="126683" y="158115"/>
                    <a:pt x="130493" y="187642"/>
                    <a:pt x="154305" y="266700"/>
                  </a:cubicBezTo>
                  <a:cubicBezTo>
                    <a:pt x="122873" y="217170"/>
                    <a:pt x="134303" y="219075"/>
                    <a:pt x="108585" y="172403"/>
                  </a:cubicBezTo>
                  <a:cubicBezTo>
                    <a:pt x="80010" y="121920"/>
                    <a:pt x="43815" y="88582"/>
                    <a:pt x="0" y="52388"/>
                  </a:cubicBezTo>
                  <a:cubicBezTo>
                    <a:pt x="2858" y="52388"/>
                    <a:pt x="4763" y="51435"/>
                    <a:pt x="7620" y="51435"/>
                  </a:cubicBezTo>
                  <a:cubicBezTo>
                    <a:pt x="35243" y="55245"/>
                    <a:pt x="61913" y="62865"/>
                    <a:pt x="86678" y="76200"/>
                  </a:cubicBezTo>
                  <a:cubicBezTo>
                    <a:pt x="102870" y="48578"/>
                    <a:pt x="122873" y="22860"/>
                    <a:pt x="14668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33" name="Freeform: Shape 1090"/>
            <p:cNvSpPr/>
            <p:nvPr/>
          </p:nvSpPr>
          <p:spPr>
            <a:xfrm flipH="1">
              <a:off x="6064560" y="2783520"/>
              <a:ext cx="135720" cy="145800"/>
            </a:xfrm>
            <a:custGeom>
              <a:avLst/>
              <a:gdLst/>
              <a:ahLst/>
              <a:rect l="l" t="t" r="r" b="b"/>
              <a:pathLst>
                <a:path w="271462" h="291464">
                  <a:moveTo>
                    <a:pt x="271463" y="0"/>
                  </a:moveTo>
                  <a:cubicBezTo>
                    <a:pt x="231457" y="34290"/>
                    <a:pt x="200978" y="84773"/>
                    <a:pt x="187642" y="136208"/>
                  </a:cubicBezTo>
                  <a:cubicBezTo>
                    <a:pt x="174307" y="187643"/>
                    <a:pt x="189547" y="241935"/>
                    <a:pt x="207645" y="291465"/>
                  </a:cubicBezTo>
                  <a:cubicBezTo>
                    <a:pt x="196215" y="259080"/>
                    <a:pt x="170497" y="228600"/>
                    <a:pt x="156210" y="198120"/>
                  </a:cubicBezTo>
                  <a:cubicBezTo>
                    <a:pt x="147638" y="180023"/>
                    <a:pt x="139065" y="161925"/>
                    <a:pt x="126682" y="146685"/>
                  </a:cubicBezTo>
                  <a:cubicBezTo>
                    <a:pt x="112395" y="129540"/>
                    <a:pt x="90488" y="74295"/>
                    <a:pt x="0" y="35243"/>
                  </a:cubicBezTo>
                  <a:cubicBezTo>
                    <a:pt x="43815" y="43815"/>
                    <a:pt x="86678" y="60960"/>
                    <a:pt x="123825" y="86678"/>
                  </a:cubicBezTo>
                  <a:cubicBezTo>
                    <a:pt x="171450" y="42863"/>
                    <a:pt x="220980" y="15240"/>
                    <a:pt x="269557" y="953"/>
                  </a:cubicBezTo>
                  <a:cubicBezTo>
                    <a:pt x="269557" y="953"/>
                    <a:pt x="270510" y="0"/>
                    <a:pt x="271463"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34" name="Freeform: Shape 1091"/>
            <p:cNvSpPr/>
            <p:nvPr/>
          </p:nvSpPr>
          <p:spPr>
            <a:xfrm flipH="1">
              <a:off x="5890680" y="2776680"/>
              <a:ext cx="115560" cy="104760"/>
            </a:xfrm>
            <a:custGeom>
              <a:avLst/>
              <a:gdLst/>
              <a:ahLst/>
              <a:rect l="l" t="t" r="r" b="b"/>
              <a:pathLst>
                <a:path w="231457" h="209550">
                  <a:moveTo>
                    <a:pt x="191453" y="89535"/>
                  </a:moveTo>
                  <a:cubicBezTo>
                    <a:pt x="201930" y="71438"/>
                    <a:pt x="215265" y="57150"/>
                    <a:pt x="231458" y="46673"/>
                  </a:cubicBezTo>
                  <a:cubicBezTo>
                    <a:pt x="230505" y="48578"/>
                    <a:pt x="228600" y="49530"/>
                    <a:pt x="227648" y="51435"/>
                  </a:cubicBezTo>
                  <a:cubicBezTo>
                    <a:pt x="223838" y="57150"/>
                    <a:pt x="222885" y="64770"/>
                    <a:pt x="221933" y="71438"/>
                  </a:cubicBezTo>
                  <a:cubicBezTo>
                    <a:pt x="214313" y="116205"/>
                    <a:pt x="213360" y="163830"/>
                    <a:pt x="213360" y="209550"/>
                  </a:cubicBezTo>
                  <a:cubicBezTo>
                    <a:pt x="202883" y="183833"/>
                    <a:pt x="191453" y="158115"/>
                    <a:pt x="180975" y="132398"/>
                  </a:cubicBezTo>
                  <a:cubicBezTo>
                    <a:pt x="166688" y="99060"/>
                    <a:pt x="152400" y="64770"/>
                    <a:pt x="125730" y="40958"/>
                  </a:cubicBezTo>
                  <a:cubicBezTo>
                    <a:pt x="104775" y="21908"/>
                    <a:pt x="46673" y="4763"/>
                    <a:pt x="0" y="0"/>
                  </a:cubicBezTo>
                  <a:cubicBezTo>
                    <a:pt x="104775" y="6668"/>
                    <a:pt x="182880" y="58103"/>
                    <a:pt x="191453" y="8953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35" name="Freeform: Shape 1092"/>
            <p:cNvSpPr/>
            <p:nvPr/>
          </p:nvSpPr>
          <p:spPr>
            <a:xfrm flipH="1">
              <a:off x="5883840" y="2796480"/>
              <a:ext cx="720" cy="360"/>
            </a:xfrm>
            <a:custGeom>
              <a:avLst/>
              <a:gdLst/>
              <a:ahLst/>
              <a:rect l="l" t="t" r="r" b="b"/>
              <a:pathLst>
                <a:path w="1905" h="714">
                  <a:moveTo>
                    <a:pt x="1905" y="714"/>
                  </a:moveTo>
                  <a:cubicBezTo>
                    <a:pt x="953" y="714"/>
                    <a:pt x="953" y="714"/>
                    <a:pt x="0" y="714"/>
                  </a:cubicBezTo>
                  <a:cubicBezTo>
                    <a:pt x="0" y="714"/>
                    <a:pt x="0" y="-238"/>
                    <a:pt x="1905" y="714"/>
                  </a:cubicBezTo>
                  <a:cubicBezTo>
                    <a:pt x="953" y="-238"/>
                    <a:pt x="953" y="-238"/>
                    <a:pt x="1905" y="714"/>
                  </a:cubicBezTo>
                  <a:close/>
                </a:path>
              </a:pathLst>
            </a:custGeom>
            <a:solidFill>
              <a:srgbClr val="cf9e76"/>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2036" name="Freeform: Shape 1093"/>
            <p:cNvSpPr/>
            <p:nvPr/>
          </p:nvSpPr>
          <p:spPr>
            <a:xfrm flipH="1">
              <a:off x="6847200" y="3472920"/>
              <a:ext cx="607680" cy="1480320"/>
            </a:xfrm>
            <a:custGeom>
              <a:avLst/>
              <a:gdLst/>
              <a:ahLst/>
              <a:rect l="l" t="t" r="r" b="b"/>
              <a:pathLst>
                <a:path w="1214585" h="2959492">
                  <a:moveTo>
                    <a:pt x="62646" y="34384"/>
                  </a:moveTo>
                  <a:lnTo>
                    <a:pt x="1207551" y="2892837"/>
                  </a:lnTo>
                  <a:cubicBezTo>
                    <a:pt x="1235174" y="2969037"/>
                    <a:pt x="1174214" y="2984277"/>
                    <a:pt x="1149449" y="2915697"/>
                  </a:cubicBezTo>
                  <a:lnTo>
                    <a:pt x="1112301" y="2815684"/>
                  </a:lnTo>
                  <a:lnTo>
                    <a:pt x="5496" y="59149"/>
                  </a:lnTo>
                  <a:cubicBezTo>
                    <a:pt x="-18316" y="-4668"/>
                    <a:pt x="41691" y="-22766"/>
                    <a:pt x="62646" y="3438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37" name="Freeform: Shape 1094"/>
            <p:cNvSpPr/>
            <p:nvPr/>
          </p:nvSpPr>
          <p:spPr>
            <a:xfrm flipH="1">
              <a:off x="4158360" y="2948400"/>
              <a:ext cx="607680" cy="1480680"/>
            </a:xfrm>
            <a:custGeom>
              <a:avLst/>
              <a:gdLst/>
              <a:ahLst/>
              <a:rect l="l" t="t" r="r" b="b"/>
              <a:pathLst>
                <a:path w="1214585" h="2960185">
                  <a:moveTo>
                    <a:pt x="62646" y="35077"/>
                  </a:moveTo>
                  <a:lnTo>
                    <a:pt x="1207551" y="2893530"/>
                  </a:lnTo>
                  <a:cubicBezTo>
                    <a:pt x="1235174" y="2969730"/>
                    <a:pt x="1174214" y="2984970"/>
                    <a:pt x="1149449" y="2916390"/>
                  </a:cubicBezTo>
                  <a:lnTo>
                    <a:pt x="1112301" y="2816377"/>
                  </a:lnTo>
                  <a:lnTo>
                    <a:pt x="5496" y="59842"/>
                  </a:lnTo>
                  <a:cubicBezTo>
                    <a:pt x="-18316" y="-4928"/>
                    <a:pt x="41692" y="-23025"/>
                    <a:pt x="62646" y="3507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038" name="Rectangle 137"/>
          <p:cNvSpPr/>
          <p:nvPr/>
        </p:nvSpPr>
        <p:spPr>
          <a:xfrm>
            <a:off x="1231920" y="2152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039" name="TextBox 138"/>
          <p:cNvSpPr/>
          <p:nvPr/>
        </p:nvSpPr>
        <p:spPr>
          <a:xfrm>
            <a:off x="1231920" y="1913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040" name="Oval 1095"/>
          <p:cNvSpPr/>
          <p:nvPr/>
        </p:nvSpPr>
        <p:spPr>
          <a:xfrm>
            <a:off x="955800" y="1996920"/>
            <a:ext cx="203040" cy="20340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41" name="Rectangle 140"/>
          <p:cNvSpPr/>
          <p:nvPr/>
        </p:nvSpPr>
        <p:spPr>
          <a:xfrm>
            <a:off x="1231920" y="356076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042" name="TextBox 141"/>
          <p:cNvSpPr/>
          <p:nvPr/>
        </p:nvSpPr>
        <p:spPr>
          <a:xfrm>
            <a:off x="1231920" y="332100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043" name="Oval 142"/>
          <p:cNvSpPr/>
          <p:nvPr/>
        </p:nvSpPr>
        <p:spPr>
          <a:xfrm>
            <a:off x="955800" y="3381480"/>
            <a:ext cx="203040" cy="20304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44" name="Rectangle 143"/>
          <p:cNvSpPr/>
          <p:nvPr/>
        </p:nvSpPr>
        <p:spPr>
          <a:xfrm>
            <a:off x="1231920" y="4933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045" name="TextBox 144"/>
          <p:cNvSpPr/>
          <p:nvPr/>
        </p:nvSpPr>
        <p:spPr>
          <a:xfrm>
            <a:off x="1231920" y="46958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046" name="Oval 145"/>
          <p:cNvSpPr/>
          <p:nvPr/>
        </p:nvSpPr>
        <p:spPr>
          <a:xfrm>
            <a:off x="955800" y="4754520"/>
            <a:ext cx="203040" cy="20340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47" name="Rectangle 151"/>
          <p:cNvSpPr/>
          <p:nvPr/>
        </p:nvSpPr>
        <p:spPr>
          <a:xfrm>
            <a:off x="9096480" y="2152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048" name="TextBox 152"/>
          <p:cNvSpPr/>
          <p:nvPr/>
        </p:nvSpPr>
        <p:spPr>
          <a:xfrm>
            <a:off x="9096480" y="19130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049" name="Oval 153"/>
          <p:cNvSpPr/>
          <p:nvPr/>
        </p:nvSpPr>
        <p:spPr>
          <a:xfrm>
            <a:off x="8818560" y="1996920"/>
            <a:ext cx="203040" cy="20340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50" name="Rectangle 154"/>
          <p:cNvSpPr/>
          <p:nvPr/>
        </p:nvSpPr>
        <p:spPr>
          <a:xfrm>
            <a:off x="9096480" y="355932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051" name="TextBox 155"/>
          <p:cNvSpPr/>
          <p:nvPr/>
        </p:nvSpPr>
        <p:spPr>
          <a:xfrm>
            <a:off x="9096480" y="33210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052" name="Oval 156"/>
          <p:cNvSpPr/>
          <p:nvPr/>
        </p:nvSpPr>
        <p:spPr>
          <a:xfrm>
            <a:off x="8818560" y="3381480"/>
            <a:ext cx="203040" cy="20304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53" name="Rectangle 157"/>
          <p:cNvSpPr/>
          <p:nvPr/>
        </p:nvSpPr>
        <p:spPr>
          <a:xfrm>
            <a:off x="9096480" y="4933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054" name="TextBox 158"/>
          <p:cNvSpPr/>
          <p:nvPr/>
        </p:nvSpPr>
        <p:spPr>
          <a:xfrm>
            <a:off x="9096480" y="46958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055" name="Oval 159"/>
          <p:cNvSpPr/>
          <p:nvPr/>
        </p:nvSpPr>
        <p:spPr>
          <a:xfrm>
            <a:off x="8818560" y="4754520"/>
            <a:ext cx="203040" cy="20340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Tree>
  </p:cSld>
  <p:transition spd="med">
    <p:fade/>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10">
                                  <p:stCondLst>
                                    <p:cond delay="0"/>
                                  </p:stCondLst>
                                  <p:childTnLst>
                                    <p:set>
                                      <p:cBhvr>
                                        <p:cTn id="1974" dur="1" fill="hold">
                                          <p:stCondLst>
                                            <p:cond delay="0"/>
                                          </p:stCondLst>
                                        </p:cTn>
                                        <p:tgtEl>
                                          <p:spTgt spid="1994"/>
                                        </p:tgtEl>
                                        <p:attrNameLst>
                                          <p:attrName>style.visibility</p:attrName>
                                        </p:attrNameLst>
                                      </p:cBhvr>
                                      <p:to>
                                        <p:strVal val="visible"/>
                                      </p:to>
                                    </p:set>
                                    <p:animEffect filter="fade" transition="in">
                                      <p:cBhvr additive="repl">
                                        <p:cTn id="1975" dur="500"/>
                                        <p:tgtEl>
                                          <p:spTgt spid="1994"/>
                                        </p:tgtEl>
                                      </p:cBhvr>
                                    </p:animEffect>
                                  </p:childTnLst>
                                </p:cTn>
                              </p:par>
                            </p:childTnLst>
                          </p:cTn>
                        </p:par>
                        <p:par>
                          <p:cTn id="1976" nodeType="afterEffect" fill="hold">
                            <p:stCondLst>
                              <p:cond delay="500"/>
                            </p:stCondLst>
                            <p:childTnLst>
                              <p:par>
                                <p:cTn id="1977" nodeType="afterEffect" fill="hold" presetClass="entr" presetID="10">
                                  <p:stCondLst>
                                    <p:cond delay="0"/>
                                  </p:stCondLst>
                                  <p:childTnLst>
                                    <p:set>
                                      <p:cBhvr>
                                        <p:cTn id="1978" dur="1" fill="hold">
                                          <p:stCondLst>
                                            <p:cond delay="0"/>
                                          </p:stCondLst>
                                        </p:cTn>
                                        <p:tgtEl>
                                          <p:spTgt spid="1995"/>
                                        </p:tgtEl>
                                        <p:attrNameLst>
                                          <p:attrName>style.visibility</p:attrName>
                                        </p:attrNameLst>
                                      </p:cBhvr>
                                      <p:to>
                                        <p:strVal val="visible"/>
                                      </p:to>
                                    </p:set>
                                    <p:animEffect filter="fade" transition="in">
                                      <p:cBhvr additive="repl">
                                        <p:cTn id="1979" dur="500"/>
                                        <p:tgtEl>
                                          <p:spTgt spid="1995"/>
                                        </p:tgtEl>
                                      </p:cBhvr>
                                    </p:animEffect>
                                  </p:childTnLst>
                                </p:cTn>
                              </p:par>
                            </p:childTnLst>
                          </p:cTn>
                        </p:par>
                        <p:par>
                          <p:cTn id="1980" nodeType="afterEffect" fill="hold">
                            <p:stCondLst>
                              <p:cond delay="1000"/>
                            </p:stCondLst>
                            <p:childTnLst>
                              <p:par>
                                <p:cTn id="1981" nodeType="afterEffect" fill="hold" presetClass="entr" presetID="47">
                                  <p:stCondLst>
                                    <p:cond delay="0"/>
                                  </p:stCondLst>
                                  <p:childTnLst>
                                    <p:set>
                                      <p:cBhvr>
                                        <p:cTn id="1982" dur="1" fill="hold">
                                          <p:stCondLst>
                                            <p:cond delay="0"/>
                                          </p:stCondLst>
                                        </p:cTn>
                                        <p:tgtEl>
                                          <p:spTgt spid="1971"/>
                                        </p:tgtEl>
                                        <p:attrNameLst>
                                          <p:attrName>style.visibility</p:attrName>
                                        </p:attrNameLst>
                                      </p:cBhvr>
                                      <p:to>
                                        <p:strVal val="visible"/>
                                      </p:to>
                                    </p:set>
                                    <p:animEffect filter="fade" transition="in">
                                      <p:cBhvr additive="repl">
                                        <p:cTn id="1983" dur="1000"/>
                                        <p:tgtEl>
                                          <p:spTgt spid="1971"/>
                                        </p:tgtEl>
                                      </p:cBhvr>
                                    </p:animEffect>
                                    <p:anim calcmode="lin" valueType="num">
                                      <p:cBhvr additive="repl">
                                        <p:cTn id="1984" dur="1000" fill="hold"/>
                                        <p:tgtEl>
                                          <p:spTgt spid="1971"/>
                                        </p:tgtEl>
                                        <p:attrNameLst>
                                          <p:attrName>ppt_x</p:attrName>
                                        </p:attrNameLst>
                                      </p:cBhvr>
                                      <p:tavLst>
                                        <p:tav tm="0">
                                          <p:val>
                                            <p:strVal val="#ppt_x"/>
                                          </p:val>
                                        </p:tav>
                                        <p:tav tm="100000">
                                          <p:val>
                                            <p:strVal val="#ppt_x"/>
                                          </p:val>
                                        </p:tav>
                                      </p:tavLst>
                                    </p:anim>
                                    <p:anim calcmode="lin" valueType="num">
                                      <p:cBhvr additive="repl">
                                        <p:cTn id="1985" dur="1000" fill="hold"/>
                                        <p:tgtEl>
                                          <p:spTgt spid="1971"/>
                                        </p:tgtEl>
                                        <p:attrNameLst>
                                          <p:attrName>ppt_y</p:attrName>
                                        </p:attrNameLst>
                                      </p:cBhvr>
                                      <p:tavLst>
                                        <p:tav tm="0">
                                          <p:val>
                                            <p:strVal val="#ppt_y-.1"/>
                                          </p:val>
                                        </p:tav>
                                        <p:tav tm="100000">
                                          <p:val>
                                            <p:strVal val="#ppt_y"/>
                                          </p:val>
                                        </p:tav>
                                      </p:tavLst>
                                    </p:anim>
                                  </p:childTnLst>
                                </p:cTn>
                              </p:par>
                              <p:par>
                                <p:cTn id="1986" nodeType="withEffect" fill="hold" presetClass="entr" presetID="47">
                                  <p:stCondLst>
                                    <p:cond delay="0"/>
                                  </p:stCondLst>
                                  <p:childTnLst>
                                    <p:set>
                                      <p:cBhvr>
                                        <p:cTn id="1987" dur="1" fill="hold">
                                          <p:stCondLst>
                                            <p:cond delay="0"/>
                                          </p:stCondLst>
                                        </p:cTn>
                                        <p:tgtEl>
                                          <p:spTgt spid="1984"/>
                                        </p:tgtEl>
                                        <p:attrNameLst>
                                          <p:attrName>style.visibility</p:attrName>
                                        </p:attrNameLst>
                                      </p:cBhvr>
                                      <p:to>
                                        <p:strVal val="visible"/>
                                      </p:to>
                                    </p:set>
                                    <p:animEffect filter="fade" transition="in">
                                      <p:cBhvr additive="repl">
                                        <p:cTn id="1988" dur="1000"/>
                                        <p:tgtEl>
                                          <p:spTgt spid="1984"/>
                                        </p:tgtEl>
                                      </p:cBhvr>
                                    </p:animEffect>
                                    <p:anim calcmode="lin" valueType="num">
                                      <p:cBhvr additive="repl">
                                        <p:cTn id="1989" dur="1000" fill="hold"/>
                                        <p:tgtEl>
                                          <p:spTgt spid="1984"/>
                                        </p:tgtEl>
                                        <p:attrNameLst>
                                          <p:attrName>ppt_x</p:attrName>
                                        </p:attrNameLst>
                                      </p:cBhvr>
                                      <p:tavLst>
                                        <p:tav tm="0">
                                          <p:val>
                                            <p:strVal val="#ppt_x"/>
                                          </p:val>
                                        </p:tav>
                                        <p:tav tm="100000">
                                          <p:val>
                                            <p:strVal val="#ppt_x"/>
                                          </p:val>
                                        </p:tav>
                                      </p:tavLst>
                                    </p:anim>
                                    <p:anim calcmode="lin" valueType="num">
                                      <p:cBhvr additive="repl">
                                        <p:cTn id="1990" dur="1000" fill="hold"/>
                                        <p:tgtEl>
                                          <p:spTgt spid="1984"/>
                                        </p:tgtEl>
                                        <p:attrNameLst>
                                          <p:attrName>ppt_y</p:attrName>
                                        </p:attrNameLst>
                                      </p:cBhvr>
                                      <p:tavLst>
                                        <p:tav tm="0">
                                          <p:val>
                                            <p:strVal val="#ppt_y-.1"/>
                                          </p:val>
                                        </p:tav>
                                        <p:tav tm="100000">
                                          <p:val>
                                            <p:strVal val="#ppt_y"/>
                                          </p:val>
                                        </p:tav>
                                      </p:tavLst>
                                    </p:anim>
                                  </p:childTnLst>
                                </p:cTn>
                              </p:par>
                            </p:childTnLst>
                          </p:cTn>
                        </p:par>
                        <p:par>
                          <p:cTn id="1991" nodeType="afterEffect" fill="hold">
                            <p:stCondLst>
                              <p:cond delay="2000"/>
                            </p:stCondLst>
                            <p:childTnLst>
                              <p:par>
                                <p:cTn id="1992" nodeType="afterEffect" fill="hold" presetClass="entr" presetID="10">
                                  <p:stCondLst>
                                    <p:cond delay="0"/>
                                  </p:stCondLst>
                                  <p:childTnLst>
                                    <p:set>
                                      <p:cBhvr>
                                        <p:cTn id="1993" dur="1" fill="hold">
                                          <p:stCondLst>
                                            <p:cond delay="0"/>
                                          </p:stCondLst>
                                        </p:cTn>
                                        <p:tgtEl>
                                          <p:spTgt spid="2040"/>
                                        </p:tgtEl>
                                        <p:attrNameLst>
                                          <p:attrName>style.visibility</p:attrName>
                                        </p:attrNameLst>
                                      </p:cBhvr>
                                      <p:to>
                                        <p:strVal val="visible"/>
                                      </p:to>
                                    </p:set>
                                    <p:animEffect filter="fade" transition="in">
                                      <p:cBhvr additive="repl">
                                        <p:cTn id="1994" dur="500"/>
                                        <p:tgtEl>
                                          <p:spTgt spid="2040"/>
                                        </p:tgtEl>
                                      </p:cBhvr>
                                    </p:animEffect>
                                  </p:childTnLst>
                                </p:cTn>
                              </p:par>
                              <p:par>
                                <p:cTn id="1995" nodeType="withEffect" fill="hold" presetClass="entr" presetID="10">
                                  <p:stCondLst>
                                    <p:cond delay="0"/>
                                  </p:stCondLst>
                                  <p:childTnLst>
                                    <p:set>
                                      <p:cBhvr>
                                        <p:cTn id="1996" dur="1" fill="hold">
                                          <p:stCondLst>
                                            <p:cond delay="0"/>
                                          </p:stCondLst>
                                        </p:cTn>
                                        <p:tgtEl>
                                          <p:spTgt spid="2043"/>
                                        </p:tgtEl>
                                        <p:attrNameLst>
                                          <p:attrName>style.visibility</p:attrName>
                                        </p:attrNameLst>
                                      </p:cBhvr>
                                      <p:to>
                                        <p:strVal val="visible"/>
                                      </p:to>
                                    </p:set>
                                    <p:animEffect filter="fade" transition="in">
                                      <p:cBhvr additive="repl">
                                        <p:cTn id="1997" dur="500"/>
                                        <p:tgtEl>
                                          <p:spTgt spid="2043"/>
                                        </p:tgtEl>
                                      </p:cBhvr>
                                    </p:animEffect>
                                  </p:childTnLst>
                                </p:cTn>
                              </p:par>
                              <p:par>
                                <p:cTn id="1998" nodeType="withEffect" fill="hold" presetClass="entr" presetID="10">
                                  <p:stCondLst>
                                    <p:cond delay="0"/>
                                  </p:stCondLst>
                                  <p:childTnLst>
                                    <p:set>
                                      <p:cBhvr>
                                        <p:cTn id="1999" dur="1" fill="hold">
                                          <p:stCondLst>
                                            <p:cond delay="0"/>
                                          </p:stCondLst>
                                        </p:cTn>
                                        <p:tgtEl>
                                          <p:spTgt spid="2046"/>
                                        </p:tgtEl>
                                        <p:attrNameLst>
                                          <p:attrName>style.visibility</p:attrName>
                                        </p:attrNameLst>
                                      </p:cBhvr>
                                      <p:to>
                                        <p:strVal val="visible"/>
                                      </p:to>
                                    </p:set>
                                    <p:animEffect filter="fade" transition="in">
                                      <p:cBhvr additive="repl">
                                        <p:cTn id="2000" dur="500"/>
                                        <p:tgtEl>
                                          <p:spTgt spid="2046"/>
                                        </p:tgtEl>
                                      </p:cBhvr>
                                    </p:animEffect>
                                  </p:childTnLst>
                                </p:cTn>
                              </p:par>
                              <p:par>
                                <p:cTn id="2001" nodeType="withEffect" fill="hold" presetClass="entr" presetID="10">
                                  <p:stCondLst>
                                    <p:cond delay="0"/>
                                  </p:stCondLst>
                                  <p:childTnLst>
                                    <p:set>
                                      <p:cBhvr>
                                        <p:cTn id="2002" dur="1" fill="hold">
                                          <p:stCondLst>
                                            <p:cond delay="0"/>
                                          </p:stCondLst>
                                        </p:cTn>
                                        <p:tgtEl>
                                          <p:spTgt spid="2049"/>
                                        </p:tgtEl>
                                        <p:attrNameLst>
                                          <p:attrName>style.visibility</p:attrName>
                                        </p:attrNameLst>
                                      </p:cBhvr>
                                      <p:to>
                                        <p:strVal val="visible"/>
                                      </p:to>
                                    </p:set>
                                    <p:animEffect filter="fade" transition="in">
                                      <p:cBhvr additive="repl">
                                        <p:cTn id="2003" dur="500"/>
                                        <p:tgtEl>
                                          <p:spTgt spid="2049"/>
                                        </p:tgtEl>
                                      </p:cBhvr>
                                    </p:animEffect>
                                  </p:childTnLst>
                                </p:cTn>
                              </p:par>
                              <p:par>
                                <p:cTn id="2004" nodeType="withEffect" fill="hold" presetClass="entr" presetID="10">
                                  <p:stCondLst>
                                    <p:cond delay="0"/>
                                  </p:stCondLst>
                                  <p:childTnLst>
                                    <p:set>
                                      <p:cBhvr>
                                        <p:cTn id="2005" dur="1" fill="hold">
                                          <p:stCondLst>
                                            <p:cond delay="0"/>
                                          </p:stCondLst>
                                        </p:cTn>
                                        <p:tgtEl>
                                          <p:spTgt spid="2052"/>
                                        </p:tgtEl>
                                        <p:attrNameLst>
                                          <p:attrName>style.visibility</p:attrName>
                                        </p:attrNameLst>
                                      </p:cBhvr>
                                      <p:to>
                                        <p:strVal val="visible"/>
                                      </p:to>
                                    </p:set>
                                    <p:animEffect filter="fade" transition="in">
                                      <p:cBhvr additive="repl">
                                        <p:cTn id="2006" dur="500"/>
                                        <p:tgtEl>
                                          <p:spTgt spid="2052"/>
                                        </p:tgtEl>
                                      </p:cBhvr>
                                    </p:animEffect>
                                  </p:childTnLst>
                                </p:cTn>
                              </p:par>
                              <p:par>
                                <p:cTn id="2007" nodeType="withEffect" fill="hold" presetClass="entr" presetID="10">
                                  <p:stCondLst>
                                    <p:cond delay="0"/>
                                  </p:stCondLst>
                                  <p:childTnLst>
                                    <p:set>
                                      <p:cBhvr>
                                        <p:cTn id="2008" dur="1" fill="hold">
                                          <p:stCondLst>
                                            <p:cond delay="0"/>
                                          </p:stCondLst>
                                        </p:cTn>
                                        <p:tgtEl>
                                          <p:spTgt spid="2055"/>
                                        </p:tgtEl>
                                        <p:attrNameLst>
                                          <p:attrName>style.visibility</p:attrName>
                                        </p:attrNameLst>
                                      </p:cBhvr>
                                      <p:to>
                                        <p:strVal val="visible"/>
                                      </p:to>
                                    </p:set>
                                    <p:animEffect filter="fade" transition="in">
                                      <p:cBhvr additive="repl">
                                        <p:cTn id="2009" dur="500"/>
                                        <p:tgtEl>
                                          <p:spTgt spid="2055"/>
                                        </p:tgtEl>
                                      </p:cBhvr>
                                    </p:animEffect>
                                  </p:childTnLst>
                                </p:cTn>
                              </p:par>
                              <p:par>
                                <p:cTn id="2010" nodeType="withEffect" fill="hold" presetClass="entr" presetID="10">
                                  <p:stCondLst>
                                    <p:cond delay="0"/>
                                  </p:stCondLst>
                                  <p:childTnLst>
                                    <p:set>
                                      <p:cBhvr>
                                        <p:cTn id="2011" dur="1" fill="hold">
                                          <p:stCondLst>
                                            <p:cond delay="0"/>
                                          </p:stCondLst>
                                        </p:cTn>
                                        <p:tgtEl>
                                          <p:spTgt spid="2039"/>
                                        </p:tgtEl>
                                        <p:attrNameLst>
                                          <p:attrName>style.visibility</p:attrName>
                                        </p:attrNameLst>
                                      </p:cBhvr>
                                      <p:to>
                                        <p:strVal val="visible"/>
                                      </p:to>
                                    </p:set>
                                    <p:animEffect filter="fade" transition="in">
                                      <p:cBhvr additive="repl">
                                        <p:cTn id="2012" dur="500"/>
                                        <p:tgtEl>
                                          <p:spTgt spid="2039"/>
                                        </p:tgtEl>
                                      </p:cBhvr>
                                    </p:animEffect>
                                  </p:childTnLst>
                                </p:cTn>
                              </p:par>
                              <p:par>
                                <p:cTn id="2013" nodeType="withEffect" fill="hold" presetClass="entr" presetID="10">
                                  <p:stCondLst>
                                    <p:cond delay="0"/>
                                  </p:stCondLst>
                                  <p:childTnLst>
                                    <p:set>
                                      <p:cBhvr>
                                        <p:cTn id="2014" dur="1" fill="hold">
                                          <p:stCondLst>
                                            <p:cond delay="0"/>
                                          </p:stCondLst>
                                        </p:cTn>
                                        <p:tgtEl>
                                          <p:spTgt spid="2042"/>
                                        </p:tgtEl>
                                        <p:attrNameLst>
                                          <p:attrName>style.visibility</p:attrName>
                                        </p:attrNameLst>
                                      </p:cBhvr>
                                      <p:to>
                                        <p:strVal val="visible"/>
                                      </p:to>
                                    </p:set>
                                    <p:animEffect filter="fade" transition="in">
                                      <p:cBhvr additive="repl">
                                        <p:cTn id="2015" dur="500"/>
                                        <p:tgtEl>
                                          <p:spTgt spid="2042"/>
                                        </p:tgtEl>
                                      </p:cBhvr>
                                    </p:animEffect>
                                  </p:childTnLst>
                                </p:cTn>
                              </p:par>
                              <p:par>
                                <p:cTn id="2016" nodeType="withEffect" fill="hold" presetClass="entr" presetID="10">
                                  <p:stCondLst>
                                    <p:cond delay="0"/>
                                  </p:stCondLst>
                                  <p:childTnLst>
                                    <p:set>
                                      <p:cBhvr>
                                        <p:cTn id="2017" dur="1" fill="hold">
                                          <p:stCondLst>
                                            <p:cond delay="0"/>
                                          </p:stCondLst>
                                        </p:cTn>
                                        <p:tgtEl>
                                          <p:spTgt spid="2045"/>
                                        </p:tgtEl>
                                        <p:attrNameLst>
                                          <p:attrName>style.visibility</p:attrName>
                                        </p:attrNameLst>
                                      </p:cBhvr>
                                      <p:to>
                                        <p:strVal val="visible"/>
                                      </p:to>
                                    </p:set>
                                    <p:animEffect filter="fade" transition="in">
                                      <p:cBhvr additive="repl">
                                        <p:cTn id="2018" dur="500"/>
                                        <p:tgtEl>
                                          <p:spTgt spid="2045"/>
                                        </p:tgtEl>
                                      </p:cBhvr>
                                    </p:animEffect>
                                  </p:childTnLst>
                                </p:cTn>
                              </p:par>
                              <p:par>
                                <p:cTn id="2019" nodeType="withEffect" fill="hold" presetClass="entr" presetID="10">
                                  <p:stCondLst>
                                    <p:cond delay="0"/>
                                  </p:stCondLst>
                                  <p:childTnLst>
                                    <p:set>
                                      <p:cBhvr>
                                        <p:cTn id="2020" dur="1" fill="hold">
                                          <p:stCondLst>
                                            <p:cond delay="0"/>
                                          </p:stCondLst>
                                        </p:cTn>
                                        <p:tgtEl>
                                          <p:spTgt spid="2048"/>
                                        </p:tgtEl>
                                        <p:attrNameLst>
                                          <p:attrName>style.visibility</p:attrName>
                                        </p:attrNameLst>
                                      </p:cBhvr>
                                      <p:to>
                                        <p:strVal val="visible"/>
                                      </p:to>
                                    </p:set>
                                    <p:animEffect filter="fade" transition="in">
                                      <p:cBhvr additive="repl">
                                        <p:cTn id="2021" dur="500"/>
                                        <p:tgtEl>
                                          <p:spTgt spid="2048"/>
                                        </p:tgtEl>
                                      </p:cBhvr>
                                    </p:animEffect>
                                  </p:childTnLst>
                                </p:cTn>
                              </p:par>
                              <p:par>
                                <p:cTn id="2022" nodeType="withEffect" fill="hold" presetClass="entr" presetID="10">
                                  <p:stCondLst>
                                    <p:cond delay="0"/>
                                  </p:stCondLst>
                                  <p:childTnLst>
                                    <p:set>
                                      <p:cBhvr>
                                        <p:cTn id="2023" dur="1" fill="hold">
                                          <p:stCondLst>
                                            <p:cond delay="0"/>
                                          </p:stCondLst>
                                        </p:cTn>
                                        <p:tgtEl>
                                          <p:spTgt spid="2051"/>
                                        </p:tgtEl>
                                        <p:attrNameLst>
                                          <p:attrName>style.visibility</p:attrName>
                                        </p:attrNameLst>
                                      </p:cBhvr>
                                      <p:to>
                                        <p:strVal val="visible"/>
                                      </p:to>
                                    </p:set>
                                    <p:animEffect filter="fade" transition="in">
                                      <p:cBhvr additive="repl">
                                        <p:cTn id="2024" dur="500"/>
                                        <p:tgtEl>
                                          <p:spTgt spid="2051"/>
                                        </p:tgtEl>
                                      </p:cBhvr>
                                    </p:animEffect>
                                  </p:childTnLst>
                                </p:cTn>
                              </p:par>
                              <p:par>
                                <p:cTn id="2025" nodeType="withEffect" fill="hold" presetClass="entr" presetID="10">
                                  <p:stCondLst>
                                    <p:cond delay="0"/>
                                  </p:stCondLst>
                                  <p:childTnLst>
                                    <p:set>
                                      <p:cBhvr>
                                        <p:cTn id="2026" dur="1" fill="hold">
                                          <p:stCondLst>
                                            <p:cond delay="0"/>
                                          </p:stCondLst>
                                        </p:cTn>
                                        <p:tgtEl>
                                          <p:spTgt spid="2054"/>
                                        </p:tgtEl>
                                        <p:attrNameLst>
                                          <p:attrName>style.visibility</p:attrName>
                                        </p:attrNameLst>
                                      </p:cBhvr>
                                      <p:to>
                                        <p:strVal val="visible"/>
                                      </p:to>
                                    </p:set>
                                    <p:animEffect filter="fade" transition="in">
                                      <p:cBhvr additive="repl">
                                        <p:cTn id="2027" dur="500"/>
                                        <p:tgtEl>
                                          <p:spTgt spid="2054"/>
                                        </p:tgtEl>
                                      </p:cBhvr>
                                    </p:animEffect>
                                  </p:childTnLst>
                                </p:cTn>
                              </p:par>
                            </p:childTnLst>
                          </p:cTn>
                        </p:par>
                        <p:par>
                          <p:cTn id="2028" nodeType="afterEffect" fill="hold">
                            <p:stCondLst>
                              <p:cond delay="2500"/>
                            </p:stCondLst>
                            <p:childTnLst>
                              <p:par>
                                <p:cTn id="2029" nodeType="afterEffect" fill="hold" presetClass="entr" presetID="22" presetSubtype="8">
                                  <p:stCondLst>
                                    <p:cond delay="0"/>
                                  </p:stCondLst>
                                  <p:childTnLst>
                                    <p:set>
                                      <p:cBhvr>
                                        <p:cTn id="2030" dur="1" fill="hold">
                                          <p:stCondLst>
                                            <p:cond delay="0"/>
                                          </p:stCondLst>
                                        </p:cTn>
                                        <p:tgtEl>
                                          <p:spTgt spid="2038"/>
                                        </p:tgtEl>
                                        <p:attrNameLst>
                                          <p:attrName>style.visibility</p:attrName>
                                        </p:attrNameLst>
                                      </p:cBhvr>
                                      <p:to>
                                        <p:strVal val="visible"/>
                                      </p:to>
                                    </p:set>
                                    <p:animEffect filter="wipe(left)" transition="in">
                                      <p:cBhvr additive="repl">
                                        <p:cTn id="2031" dur="500"/>
                                        <p:tgtEl>
                                          <p:spTgt spid="2038"/>
                                        </p:tgtEl>
                                      </p:cBhvr>
                                    </p:animEffect>
                                  </p:childTnLst>
                                </p:cTn>
                              </p:par>
                              <p:par>
                                <p:cTn id="2032" nodeType="withEffect" fill="hold" presetClass="entr" presetID="22" presetSubtype="8">
                                  <p:stCondLst>
                                    <p:cond delay="0"/>
                                  </p:stCondLst>
                                  <p:childTnLst>
                                    <p:set>
                                      <p:cBhvr>
                                        <p:cTn id="2033" dur="1" fill="hold">
                                          <p:stCondLst>
                                            <p:cond delay="0"/>
                                          </p:stCondLst>
                                        </p:cTn>
                                        <p:tgtEl>
                                          <p:spTgt spid="2041"/>
                                        </p:tgtEl>
                                        <p:attrNameLst>
                                          <p:attrName>style.visibility</p:attrName>
                                        </p:attrNameLst>
                                      </p:cBhvr>
                                      <p:to>
                                        <p:strVal val="visible"/>
                                      </p:to>
                                    </p:set>
                                    <p:animEffect filter="wipe(left)" transition="in">
                                      <p:cBhvr additive="repl">
                                        <p:cTn id="2034" dur="500"/>
                                        <p:tgtEl>
                                          <p:spTgt spid="2041"/>
                                        </p:tgtEl>
                                      </p:cBhvr>
                                    </p:animEffect>
                                  </p:childTnLst>
                                </p:cTn>
                              </p:par>
                              <p:par>
                                <p:cTn id="2035" nodeType="withEffect" fill="hold" presetClass="entr" presetID="22" presetSubtype="8">
                                  <p:stCondLst>
                                    <p:cond delay="0"/>
                                  </p:stCondLst>
                                  <p:childTnLst>
                                    <p:set>
                                      <p:cBhvr>
                                        <p:cTn id="2036" dur="1" fill="hold">
                                          <p:stCondLst>
                                            <p:cond delay="0"/>
                                          </p:stCondLst>
                                        </p:cTn>
                                        <p:tgtEl>
                                          <p:spTgt spid="2044"/>
                                        </p:tgtEl>
                                        <p:attrNameLst>
                                          <p:attrName>style.visibility</p:attrName>
                                        </p:attrNameLst>
                                      </p:cBhvr>
                                      <p:to>
                                        <p:strVal val="visible"/>
                                      </p:to>
                                    </p:set>
                                    <p:animEffect filter="wipe(left)" transition="in">
                                      <p:cBhvr additive="repl">
                                        <p:cTn id="2037" dur="500"/>
                                        <p:tgtEl>
                                          <p:spTgt spid="2044"/>
                                        </p:tgtEl>
                                      </p:cBhvr>
                                    </p:animEffect>
                                  </p:childTnLst>
                                </p:cTn>
                              </p:par>
                              <p:par>
                                <p:cTn id="2038" nodeType="withEffect" fill="hold" presetClass="entr" presetID="22" presetSubtype="8">
                                  <p:stCondLst>
                                    <p:cond delay="0"/>
                                  </p:stCondLst>
                                  <p:childTnLst>
                                    <p:set>
                                      <p:cBhvr>
                                        <p:cTn id="2039" dur="1" fill="hold">
                                          <p:stCondLst>
                                            <p:cond delay="0"/>
                                          </p:stCondLst>
                                        </p:cTn>
                                        <p:tgtEl>
                                          <p:spTgt spid="2047"/>
                                        </p:tgtEl>
                                        <p:attrNameLst>
                                          <p:attrName>style.visibility</p:attrName>
                                        </p:attrNameLst>
                                      </p:cBhvr>
                                      <p:to>
                                        <p:strVal val="visible"/>
                                      </p:to>
                                    </p:set>
                                    <p:animEffect filter="wipe(left)" transition="in">
                                      <p:cBhvr additive="repl">
                                        <p:cTn id="2040" dur="500"/>
                                        <p:tgtEl>
                                          <p:spTgt spid="2047"/>
                                        </p:tgtEl>
                                      </p:cBhvr>
                                    </p:animEffect>
                                  </p:childTnLst>
                                </p:cTn>
                              </p:par>
                              <p:par>
                                <p:cTn id="2041" nodeType="withEffect" fill="hold" presetClass="entr" presetID="22" presetSubtype="8">
                                  <p:stCondLst>
                                    <p:cond delay="0"/>
                                  </p:stCondLst>
                                  <p:childTnLst>
                                    <p:set>
                                      <p:cBhvr>
                                        <p:cTn id="2042" dur="1" fill="hold">
                                          <p:stCondLst>
                                            <p:cond delay="0"/>
                                          </p:stCondLst>
                                        </p:cTn>
                                        <p:tgtEl>
                                          <p:spTgt spid="2050"/>
                                        </p:tgtEl>
                                        <p:attrNameLst>
                                          <p:attrName>style.visibility</p:attrName>
                                        </p:attrNameLst>
                                      </p:cBhvr>
                                      <p:to>
                                        <p:strVal val="visible"/>
                                      </p:to>
                                    </p:set>
                                    <p:animEffect filter="wipe(left)" transition="in">
                                      <p:cBhvr additive="repl">
                                        <p:cTn id="2043" dur="500"/>
                                        <p:tgtEl>
                                          <p:spTgt spid="2050"/>
                                        </p:tgtEl>
                                      </p:cBhvr>
                                    </p:animEffect>
                                  </p:childTnLst>
                                </p:cTn>
                              </p:par>
                              <p:par>
                                <p:cTn id="2044" nodeType="withEffect" fill="hold" presetClass="entr" presetID="22" presetSubtype="8">
                                  <p:stCondLst>
                                    <p:cond delay="0"/>
                                  </p:stCondLst>
                                  <p:childTnLst>
                                    <p:set>
                                      <p:cBhvr>
                                        <p:cTn id="2045" dur="1" fill="hold">
                                          <p:stCondLst>
                                            <p:cond delay="0"/>
                                          </p:stCondLst>
                                        </p:cTn>
                                        <p:tgtEl>
                                          <p:spTgt spid="2053"/>
                                        </p:tgtEl>
                                        <p:attrNameLst>
                                          <p:attrName>style.visibility</p:attrName>
                                        </p:attrNameLst>
                                      </p:cBhvr>
                                      <p:to>
                                        <p:strVal val="visible"/>
                                      </p:to>
                                    </p:set>
                                    <p:animEffect filter="wipe(left)" transition="in">
                                      <p:cBhvr additive="repl">
                                        <p:cTn id="2046" dur="500"/>
                                        <p:tgtEl>
                                          <p:spTgt spid="2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219"/>
          <p:cNvSpPr/>
          <p:nvPr/>
        </p:nvSpPr>
        <p:spPr>
          <a:xfrm>
            <a:off x="638280" y="5076720"/>
            <a:ext cx="4792680" cy="95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57" name="Rectangle 220"/>
          <p:cNvSpPr/>
          <p:nvPr/>
        </p:nvSpPr>
        <p:spPr>
          <a:xfrm>
            <a:off x="774720" y="5111640"/>
            <a:ext cx="3567240" cy="81432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58" name="Freeform: Shape 151"/>
          <p:cNvSpPr/>
          <p:nvPr/>
        </p:nvSpPr>
        <p:spPr>
          <a:xfrm>
            <a:off x="638280" y="5000760"/>
            <a:ext cx="4792680" cy="1030320"/>
          </a:xfrm>
          <a:custGeom>
            <a:avLst/>
            <a:gdLst/>
            <a:ahLst/>
            <a:rect l="l" t="t" r="r" b="b"/>
            <a:pathLst>
              <a:path w="4792779" h="1028733">
                <a:moveTo>
                  <a:pt x="0" y="0"/>
                </a:moveTo>
                <a:lnTo>
                  <a:pt x="0" y="1028733"/>
                </a:lnTo>
                <a:lnTo>
                  <a:pt x="4792780" y="1028733"/>
                </a:lnTo>
                <a:lnTo>
                  <a:pt x="4792780" y="0"/>
                </a:lnTo>
                <a:lnTo>
                  <a:pt x="0" y="0"/>
                </a:lnTo>
                <a:close/>
                <a:moveTo>
                  <a:pt x="599696" y="285493"/>
                </a:moveTo>
                <a:cubicBezTo>
                  <a:pt x="599696" y="299316"/>
                  <a:pt x="588531" y="310481"/>
                  <a:pt x="574708" y="310481"/>
                </a:cubicBezTo>
                <a:lnTo>
                  <a:pt x="576303" y="310481"/>
                </a:lnTo>
                <a:lnTo>
                  <a:pt x="575240" y="381190"/>
                </a:lnTo>
                <a:cubicBezTo>
                  <a:pt x="557696" y="480076"/>
                  <a:pt x="446050" y="447645"/>
                  <a:pt x="446050" y="521012"/>
                </a:cubicBezTo>
                <a:lnTo>
                  <a:pt x="446050" y="521544"/>
                </a:lnTo>
                <a:cubicBezTo>
                  <a:pt x="446050" y="594911"/>
                  <a:pt x="557696" y="562481"/>
                  <a:pt x="575240" y="660835"/>
                </a:cubicBezTo>
                <a:lnTo>
                  <a:pt x="576303" y="731544"/>
                </a:lnTo>
                <a:lnTo>
                  <a:pt x="574708" y="731544"/>
                </a:lnTo>
                <a:cubicBezTo>
                  <a:pt x="588531" y="731544"/>
                  <a:pt x="599696" y="742708"/>
                  <a:pt x="599696" y="756531"/>
                </a:cubicBezTo>
                <a:cubicBezTo>
                  <a:pt x="599696" y="770354"/>
                  <a:pt x="588531" y="781518"/>
                  <a:pt x="574708" y="781518"/>
                </a:cubicBezTo>
                <a:lnTo>
                  <a:pt x="290810" y="781518"/>
                </a:lnTo>
                <a:cubicBezTo>
                  <a:pt x="276987" y="781518"/>
                  <a:pt x="265823" y="770354"/>
                  <a:pt x="265823" y="756531"/>
                </a:cubicBezTo>
                <a:cubicBezTo>
                  <a:pt x="265823" y="742708"/>
                  <a:pt x="276987" y="731544"/>
                  <a:pt x="290810" y="731544"/>
                </a:cubicBezTo>
                <a:lnTo>
                  <a:pt x="287088" y="731544"/>
                </a:lnTo>
                <a:lnTo>
                  <a:pt x="288152" y="660835"/>
                </a:lnTo>
                <a:cubicBezTo>
                  <a:pt x="305696" y="562481"/>
                  <a:pt x="417341" y="594911"/>
                  <a:pt x="417341" y="521544"/>
                </a:cubicBezTo>
                <a:lnTo>
                  <a:pt x="417341" y="521012"/>
                </a:lnTo>
                <a:cubicBezTo>
                  <a:pt x="417341" y="447645"/>
                  <a:pt x="305696" y="480076"/>
                  <a:pt x="288152" y="381721"/>
                </a:cubicBezTo>
                <a:lnTo>
                  <a:pt x="287088" y="311012"/>
                </a:lnTo>
                <a:lnTo>
                  <a:pt x="290810" y="311012"/>
                </a:lnTo>
                <a:cubicBezTo>
                  <a:pt x="276987" y="311012"/>
                  <a:pt x="265823" y="299848"/>
                  <a:pt x="265823" y="286025"/>
                </a:cubicBezTo>
                <a:cubicBezTo>
                  <a:pt x="265823" y="272202"/>
                  <a:pt x="276987" y="261038"/>
                  <a:pt x="290810" y="261038"/>
                </a:cubicBezTo>
                <a:lnTo>
                  <a:pt x="574708" y="261038"/>
                </a:lnTo>
                <a:cubicBezTo>
                  <a:pt x="588531" y="259974"/>
                  <a:pt x="599696" y="271671"/>
                  <a:pt x="599696" y="285493"/>
                </a:cubicBezTo>
                <a:close/>
                <a:moveTo>
                  <a:pt x="1038303" y="285493"/>
                </a:moveTo>
                <a:cubicBezTo>
                  <a:pt x="1038303" y="299316"/>
                  <a:pt x="1027138" y="310481"/>
                  <a:pt x="1013315" y="310481"/>
                </a:cubicBezTo>
                <a:lnTo>
                  <a:pt x="1014910" y="310481"/>
                </a:lnTo>
                <a:lnTo>
                  <a:pt x="1013847" y="381190"/>
                </a:lnTo>
                <a:cubicBezTo>
                  <a:pt x="996303" y="479544"/>
                  <a:pt x="884657" y="447114"/>
                  <a:pt x="884657" y="520481"/>
                </a:cubicBezTo>
                <a:lnTo>
                  <a:pt x="884657" y="521012"/>
                </a:lnTo>
                <a:cubicBezTo>
                  <a:pt x="884657" y="594379"/>
                  <a:pt x="996303" y="561949"/>
                  <a:pt x="1013847" y="660303"/>
                </a:cubicBezTo>
                <a:lnTo>
                  <a:pt x="1014910" y="731012"/>
                </a:lnTo>
                <a:lnTo>
                  <a:pt x="1013315" y="731012"/>
                </a:lnTo>
                <a:cubicBezTo>
                  <a:pt x="1027138" y="731012"/>
                  <a:pt x="1038303" y="742177"/>
                  <a:pt x="1038303" y="755999"/>
                </a:cubicBezTo>
                <a:cubicBezTo>
                  <a:pt x="1038303" y="769822"/>
                  <a:pt x="1027138" y="780987"/>
                  <a:pt x="1013315" y="780987"/>
                </a:cubicBezTo>
                <a:lnTo>
                  <a:pt x="729417" y="780987"/>
                </a:lnTo>
                <a:cubicBezTo>
                  <a:pt x="715594" y="780987"/>
                  <a:pt x="704430" y="769822"/>
                  <a:pt x="704430" y="755999"/>
                </a:cubicBezTo>
                <a:cubicBezTo>
                  <a:pt x="704430" y="742177"/>
                  <a:pt x="715594" y="731012"/>
                  <a:pt x="729417" y="731012"/>
                </a:cubicBezTo>
                <a:lnTo>
                  <a:pt x="725695" y="731012"/>
                </a:lnTo>
                <a:lnTo>
                  <a:pt x="726759" y="660303"/>
                </a:lnTo>
                <a:cubicBezTo>
                  <a:pt x="744303" y="561949"/>
                  <a:pt x="855948" y="594379"/>
                  <a:pt x="855948" y="521012"/>
                </a:cubicBezTo>
                <a:cubicBezTo>
                  <a:pt x="855948" y="447645"/>
                  <a:pt x="744303" y="480076"/>
                  <a:pt x="726759" y="381721"/>
                </a:cubicBezTo>
                <a:lnTo>
                  <a:pt x="725695" y="311012"/>
                </a:lnTo>
                <a:lnTo>
                  <a:pt x="729417" y="311012"/>
                </a:lnTo>
                <a:cubicBezTo>
                  <a:pt x="715594" y="311012"/>
                  <a:pt x="704430" y="299848"/>
                  <a:pt x="704430" y="286025"/>
                </a:cubicBezTo>
                <a:cubicBezTo>
                  <a:pt x="704430" y="272202"/>
                  <a:pt x="715594" y="261038"/>
                  <a:pt x="729417" y="261038"/>
                </a:cubicBezTo>
                <a:lnTo>
                  <a:pt x="1013315" y="261038"/>
                </a:lnTo>
                <a:cubicBezTo>
                  <a:pt x="1027138" y="259974"/>
                  <a:pt x="1038303" y="271671"/>
                  <a:pt x="1038303" y="285493"/>
                </a:cubicBezTo>
                <a:close/>
                <a:moveTo>
                  <a:pt x="1484885" y="285493"/>
                </a:moveTo>
                <a:cubicBezTo>
                  <a:pt x="1484885" y="299316"/>
                  <a:pt x="1473720" y="310481"/>
                  <a:pt x="1459897" y="310481"/>
                </a:cubicBezTo>
                <a:lnTo>
                  <a:pt x="1461492" y="310481"/>
                </a:lnTo>
                <a:lnTo>
                  <a:pt x="1460429" y="381190"/>
                </a:lnTo>
                <a:cubicBezTo>
                  <a:pt x="1442885" y="479544"/>
                  <a:pt x="1331239" y="447114"/>
                  <a:pt x="1331239" y="520481"/>
                </a:cubicBezTo>
                <a:lnTo>
                  <a:pt x="1331239" y="521012"/>
                </a:lnTo>
                <a:cubicBezTo>
                  <a:pt x="1331239" y="594379"/>
                  <a:pt x="1442885" y="561949"/>
                  <a:pt x="1460429" y="660303"/>
                </a:cubicBezTo>
                <a:lnTo>
                  <a:pt x="1461492" y="731012"/>
                </a:lnTo>
                <a:lnTo>
                  <a:pt x="1459897" y="731012"/>
                </a:lnTo>
                <a:cubicBezTo>
                  <a:pt x="1473720" y="731012"/>
                  <a:pt x="1484885" y="742177"/>
                  <a:pt x="1484885" y="755999"/>
                </a:cubicBezTo>
                <a:cubicBezTo>
                  <a:pt x="1484885" y="769822"/>
                  <a:pt x="1473720" y="780987"/>
                  <a:pt x="1459897" y="780987"/>
                </a:cubicBezTo>
                <a:lnTo>
                  <a:pt x="1175999" y="780987"/>
                </a:lnTo>
                <a:cubicBezTo>
                  <a:pt x="1162176" y="780987"/>
                  <a:pt x="1151012" y="769822"/>
                  <a:pt x="1151012" y="755999"/>
                </a:cubicBezTo>
                <a:cubicBezTo>
                  <a:pt x="1151012" y="742177"/>
                  <a:pt x="1162176" y="731012"/>
                  <a:pt x="1175999" y="731012"/>
                </a:cubicBezTo>
                <a:lnTo>
                  <a:pt x="1172277" y="731012"/>
                </a:lnTo>
                <a:lnTo>
                  <a:pt x="1173341" y="660303"/>
                </a:lnTo>
                <a:cubicBezTo>
                  <a:pt x="1190885" y="561949"/>
                  <a:pt x="1302530" y="594379"/>
                  <a:pt x="1302530" y="521012"/>
                </a:cubicBezTo>
                <a:cubicBezTo>
                  <a:pt x="1302530" y="447645"/>
                  <a:pt x="1190885" y="480076"/>
                  <a:pt x="1173341" y="381721"/>
                </a:cubicBezTo>
                <a:lnTo>
                  <a:pt x="1172277" y="311012"/>
                </a:lnTo>
                <a:lnTo>
                  <a:pt x="1175999" y="311012"/>
                </a:lnTo>
                <a:cubicBezTo>
                  <a:pt x="1162176" y="311012"/>
                  <a:pt x="1151012" y="299848"/>
                  <a:pt x="1151012" y="286025"/>
                </a:cubicBezTo>
                <a:cubicBezTo>
                  <a:pt x="1151012" y="272202"/>
                  <a:pt x="1162176" y="261038"/>
                  <a:pt x="1175999" y="261038"/>
                </a:cubicBezTo>
                <a:lnTo>
                  <a:pt x="1459897" y="261038"/>
                </a:lnTo>
                <a:cubicBezTo>
                  <a:pt x="1473720" y="259974"/>
                  <a:pt x="1484885" y="271671"/>
                  <a:pt x="1484885" y="285493"/>
                </a:cubicBezTo>
                <a:close/>
                <a:moveTo>
                  <a:pt x="1930935" y="285493"/>
                </a:moveTo>
                <a:cubicBezTo>
                  <a:pt x="1930935" y="299316"/>
                  <a:pt x="1919770" y="310481"/>
                  <a:pt x="1905947" y="310481"/>
                </a:cubicBezTo>
                <a:lnTo>
                  <a:pt x="1907542" y="310481"/>
                </a:lnTo>
                <a:lnTo>
                  <a:pt x="1906479" y="381190"/>
                </a:lnTo>
                <a:cubicBezTo>
                  <a:pt x="1888935" y="479544"/>
                  <a:pt x="1777289" y="447114"/>
                  <a:pt x="1777289" y="520481"/>
                </a:cubicBezTo>
                <a:lnTo>
                  <a:pt x="1777289" y="521012"/>
                </a:lnTo>
                <a:cubicBezTo>
                  <a:pt x="1777289" y="594379"/>
                  <a:pt x="1888935" y="561949"/>
                  <a:pt x="1906479" y="660303"/>
                </a:cubicBezTo>
                <a:lnTo>
                  <a:pt x="1907542" y="731012"/>
                </a:lnTo>
                <a:lnTo>
                  <a:pt x="1905947" y="731012"/>
                </a:lnTo>
                <a:cubicBezTo>
                  <a:pt x="1919770" y="731012"/>
                  <a:pt x="1930935" y="742177"/>
                  <a:pt x="1930935" y="755999"/>
                </a:cubicBezTo>
                <a:cubicBezTo>
                  <a:pt x="1930935" y="769822"/>
                  <a:pt x="1919770" y="780987"/>
                  <a:pt x="1905947" y="780987"/>
                </a:cubicBezTo>
                <a:lnTo>
                  <a:pt x="1621517" y="780987"/>
                </a:lnTo>
                <a:cubicBezTo>
                  <a:pt x="1607695" y="780987"/>
                  <a:pt x="1596530" y="769822"/>
                  <a:pt x="1596530" y="755999"/>
                </a:cubicBezTo>
                <a:cubicBezTo>
                  <a:pt x="1596530" y="742177"/>
                  <a:pt x="1607695" y="731012"/>
                  <a:pt x="1621517" y="731012"/>
                </a:cubicBezTo>
                <a:lnTo>
                  <a:pt x="1617796" y="731012"/>
                </a:lnTo>
                <a:lnTo>
                  <a:pt x="1618859" y="660303"/>
                </a:lnTo>
                <a:cubicBezTo>
                  <a:pt x="1636403" y="561949"/>
                  <a:pt x="1748049" y="594379"/>
                  <a:pt x="1748049" y="521012"/>
                </a:cubicBezTo>
                <a:cubicBezTo>
                  <a:pt x="1748049" y="447645"/>
                  <a:pt x="1636403" y="480076"/>
                  <a:pt x="1618859" y="381721"/>
                </a:cubicBezTo>
                <a:lnTo>
                  <a:pt x="1617796" y="311012"/>
                </a:lnTo>
                <a:lnTo>
                  <a:pt x="1621517" y="311012"/>
                </a:lnTo>
                <a:cubicBezTo>
                  <a:pt x="1607695" y="311012"/>
                  <a:pt x="1596530" y="299848"/>
                  <a:pt x="1596530" y="286025"/>
                </a:cubicBezTo>
                <a:cubicBezTo>
                  <a:pt x="1596530" y="272202"/>
                  <a:pt x="1607695" y="261038"/>
                  <a:pt x="1621517" y="261038"/>
                </a:cubicBezTo>
                <a:lnTo>
                  <a:pt x="1905416" y="261038"/>
                </a:lnTo>
                <a:cubicBezTo>
                  <a:pt x="1919239" y="259974"/>
                  <a:pt x="1930935" y="271671"/>
                  <a:pt x="1930935" y="285493"/>
                </a:cubicBezTo>
                <a:close/>
                <a:moveTo>
                  <a:pt x="2334453" y="285493"/>
                </a:moveTo>
                <a:cubicBezTo>
                  <a:pt x="2334453" y="299316"/>
                  <a:pt x="2323289" y="310481"/>
                  <a:pt x="2309466" y="310481"/>
                </a:cubicBezTo>
                <a:lnTo>
                  <a:pt x="2311061" y="310481"/>
                </a:lnTo>
                <a:lnTo>
                  <a:pt x="2309998" y="381190"/>
                </a:lnTo>
                <a:cubicBezTo>
                  <a:pt x="2292453" y="479544"/>
                  <a:pt x="2180808" y="447114"/>
                  <a:pt x="2180808" y="520481"/>
                </a:cubicBezTo>
                <a:lnTo>
                  <a:pt x="2180808" y="521012"/>
                </a:lnTo>
                <a:cubicBezTo>
                  <a:pt x="2180808" y="594379"/>
                  <a:pt x="2292453" y="561949"/>
                  <a:pt x="2309998" y="660303"/>
                </a:cubicBezTo>
                <a:lnTo>
                  <a:pt x="2311061" y="731012"/>
                </a:lnTo>
                <a:lnTo>
                  <a:pt x="2309466" y="731012"/>
                </a:lnTo>
                <a:cubicBezTo>
                  <a:pt x="2323289" y="731012"/>
                  <a:pt x="2334453" y="742177"/>
                  <a:pt x="2334453" y="755999"/>
                </a:cubicBezTo>
                <a:cubicBezTo>
                  <a:pt x="2334453" y="769822"/>
                  <a:pt x="2323289" y="780987"/>
                  <a:pt x="2309466" y="780987"/>
                </a:cubicBezTo>
                <a:lnTo>
                  <a:pt x="2025568" y="780987"/>
                </a:lnTo>
                <a:cubicBezTo>
                  <a:pt x="2011745" y="780987"/>
                  <a:pt x="2000580" y="769822"/>
                  <a:pt x="2000580" y="755999"/>
                </a:cubicBezTo>
                <a:cubicBezTo>
                  <a:pt x="2000580" y="742177"/>
                  <a:pt x="2011745" y="731012"/>
                  <a:pt x="2025568" y="731012"/>
                </a:cubicBezTo>
                <a:lnTo>
                  <a:pt x="2021846" y="731012"/>
                </a:lnTo>
                <a:lnTo>
                  <a:pt x="2022909" y="660303"/>
                </a:lnTo>
                <a:cubicBezTo>
                  <a:pt x="2040454" y="561949"/>
                  <a:pt x="2152099" y="594379"/>
                  <a:pt x="2152099" y="521012"/>
                </a:cubicBezTo>
                <a:cubicBezTo>
                  <a:pt x="2152099" y="447645"/>
                  <a:pt x="2040454" y="480076"/>
                  <a:pt x="2022909" y="381721"/>
                </a:cubicBezTo>
                <a:lnTo>
                  <a:pt x="2021846" y="311012"/>
                </a:lnTo>
                <a:lnTo>
                  <a:pt x="2025568" y="311012"/>
                </a:lnTo>
                <a:cubicBezTo>
                  <a:pt x="2011745" y="311012"/>
                  <a:pt x="2000580" y="299848"/>
                  <a:pt x="2000580" y="286025"/>
                </a:cubicBezTo>
                <a:cubicBezTo>
                  <a:pt x="2000580" y="272202"/>
                  <a:pt x="2011745" y="261038"/>
                  <a:pt x="2025568" y="261038"/>
                </a:cubicBezTo>
                <a:lnTo>
                  <a:pt x="2309466" y="261038"/>
                </a:lnTo>
                <a:cubicBezTo>
                  <a:pt x="2323289" y="259974"/>
                  <a:pt x="2334453" y="271671"/>
                  <a:pt x="2334453" y="285493"/>
                </a:cubicBezTo>
                <a:close/>
                <a:moveTo>
                  <a:pt x="2800174" y="285493"/>
                </a:moveTo>
                <a:cubicBezTo>
                  <a:pt x="2800174" y="299316"/>
                  <a:pt x="2789010" y="310481"/>
                  <a:pt x="2775187" y="310481"/>
                </a:cubicBezTo>
                <a:lnTo>
                  <a:pt x="2776782" y="310481"/>
                </a:lnTo>
                <a:lnTo>
                  <a:pt x="2775187" y="381190"/>
                </a:lnTo>
                <a:cubicBezTo>
                  <a:pt x="2757643" y="479544"/>
                  <a:pt x="2645997" y="447114"/>
                  <a:pt x="2645997" y="520481"/>
                </a:cubicBezTo>
                <a:lnTo>
                  <a:pt x="2645997" y="521012"/>
                </a:lnTo>
                <a:cubicBezTo>
                  <a:pt x="2645997" y="594379"/>
                  <a:pt x="2757643" y="561949"/>
                  <a:pt x="2775187" y="660303"/>
                </a:cubicBezTo>
                <a:lnTo>
                  <a:pt x="2776250" y="731012"/>
                </a:lnTo>
                <a:lnTo>
                  <a:pt x="2774656" y="731012"/>
                </a:lnTo>
                <a:cubicBezTo>
                  <a:pt x="2788478" y="731012"/>
                  <a:pt x="2799643" y="742177"/>
                  <a:pt x="2799643" y="755999"/>
                </a:cubicBezTo>
                <a:cubicBezTo>
                  <a:pt x="2799643" y="769822"/>
                  <a:pt x="2788478" y="780987"/>
                  <a:pt x="2774656" y="780987"/>
                </a:cubicBezTo>
                <a:lnTo>
                  <a:pt x="2490757" y="780987"/>
                </a:lnTo>
                <a:cubicBezTo>
                  <a:pt x="2476934" y="780987"/>
                  <a:pt x="2465770" y="769822"/>
                  <a:pt x="2465770" y="755999"/>
                </a:cubicBezTo>
                <a:cubicBezTo>
                  <a:pt x="2465770" y="742177"/>
                  <a:pt x="2476934" y="731012"/>
                  <a:pt x="2490757" y="731012"/>
                </a:cubicBezTo>
                <a:lnTo>
                  <a:pt x="2487035" y="731012"/>
                </a:lnTo>
                <a:lnTo>
                  <a:pt x="2488099" y="660303"/>
                </a:lnTo>
                <a:cubicBezTo>
                  <a:pt x="2505643" y="561949"/>
                  <a:pt x="2617288" y="594379"/>
                  <a:pt x="2617288" y="521012"/>
                </a:cubicBezTo>
                <a:cubicBezTo>
                  <a:pt x="2617288" y="447645"/>
                  <a:pt x="2505643" y="480076"/>
                  <a:pt x="2488099" y="381721"/>
                </a:cubicBezTo>
                <a:lnTo>
                  <a:pt x="2487035" y="311012"/>
                </a:lnTo>
                <a:lnTo>
                  <a:pt x="2490757" y="311012"/>
                </a:lnTo>
                <a:cubicBezTo>
                  <a:pt x="2476934" y="311012"/>
                  <a:pt x="2465770" y="299848"/>
                  <a:pt x="2465770" y="286025"/>
                </a:cubicBezTo>
                <a:cubicBezTo>
                  <a:pt x="2465770" y="272202"/>
                  <a:pt x="2476934" y="261038"/>
                  <a:pt x="2490757" y="261038"/>
                </a:cubicBezTo>
                <a:lnTo>
                  <a:pt x="2774656" y="261038"/>
                </a:lnTo>
                <a:cubicBezTo>
                  <a:pt x="2788478" y="259974"/>
                  <a:pt x="2800174" y="271671"/>
                  <a:pt x="2800174" y="285493"/>
                </a:cubicBezTo>
                <a:close/>
                <a:moveTo>
                  <a:pt x="3238782" y="285493"/>
                </a:moveTo>
                <a:cubicBezTo>
                  <a:pt x="3238782" y="299316"/>
                  <a:pt x="3227617" y="310481"/>
                  <a:pt x="3213794" y="310481"/>
                </a:cubicBezTo>
                <a:lnTo>
                  <a:pt x="3215389" y="310481"/>
                </a:lnTo>
                <a:lnTo>
                  <a:pt x="3214326" y="381190"/>
                </a:lnTo>
                <a:cubicBezTo>
                  <a:pt x="3196782" y="479544"/>
                  <a:pt x="3085136" y="447114"/>
                  <a:pt x="3085136" y="520481"/>
                </a:cubicBezTo>
                <a:lnTo>
                  <a:pt x="3085136" y="521012"/>
                </a:lnTo>
                <a:cubicBezTo>
                  <a:pt x="3085136" y="594379"/>
                  <a:pt x="3196782" y="561949"/>
                  <a:pt x="3214326" y="660303"/>
                </a:cubicBezTo>
                <a:lnTo>
                  <a:pt x="3215389" y="731012"/>
                </a:lnTo>
                <a:lnTo>
                  <a:pt x="3213794" y="731012"/>
                </a:lnTo>
                <a:cubicBezTo>
                  <a:pt x="3227617" y="731012"/>
                  <a:pt x="3238782" y="742177"/>
                  <a:pt x="3238782" y="755999"/>
                </a:cubicBezTo>
                <a:cubicBezTo>
                  <a:pt x="3238782" y="769822"/>
                  <a:pt x="3227617" y="780987"/>
                  <a:pt x="3213794" y="780987"/>
                </a:cubicBezTo>
                <a:lnTo>
                  <a:pt x="2929364" y="780987"/>
                </a:lnTo>
                <a:cubicBezTo>
                  <a:pt x="2915541" y="780987"/>
                  <a:pt x="2904377" y="769822"/>
                  <a:pt x="2904377" y="755999"/>
                </a:cubicBezTo>
                <a:cubicBezTo>
                  <a:pt x="2904377" y="742177"/>
                  <a:pt x="2915541" y="731012"/>
                  <a:pt x="2929364" y="731012"/>
                </a:cubicBezTo>
                <a:lnTo>
                  <a:pt x="2925643" y="731012"/>
                </a:lnTo>
                <a:lnTo>
                  <a:pt x="2926706" y="660303"/>
                </a:lnTo>
                <a:cubicBezTo>
                  <a:pt x="2944250" y="561949"/>
                  <a:pt x="3055896" y="594379"/>
                  <a:pt x="3055896" y="521012"/>
                </a:cubicBezTo>
                <a:cubicBezTo>
                  <a:pt x="3055896" y="447645"/>
                  <a:pt x="2944250" y="480076"/>
                  <a:pt x="2926706" y="381721"/>
                </a:cubicBezTo>
                <a:lnTo>
                  <a:pt x="2925643" y="311012"/>
                </a:lnTo>
                <a:lnTo>
                  <a:pt x="2929364" y="311012"/>
                </a:lnTo>
                <a:cubicBezTo>
                  <a:pt x="2915541" y="311012"/>
                  <a:pt x="2904377" y="299848"/>
                  <a:pt x="2904377" y="286025"/>
                </a:cubicBezTo>
                <a:cubicBezTo>
                  <a:pt x="2904377" y="272202"/>
                  <a:pt x="2915541" y="261038"/>
                  <a:pt x="2929364" y="261038"/>
                </a:cubicBezTo>
                <a:lnTo>
                  <a:pt x="3213263" y="261038"/>
                </a:lnTo>
                <a:cubicBezTo>
                  <a:pt x="3227085" y="259974"/>
                  <a:pt x="3238782" y="271671"/>
                  <a:pt x="3238782" y="285493"/>
                </a:cubicBezTo>
                <a:close/>
                <a:moveTo>
                  <a:pt x="3685363" y="285493"/>
                </a:moveTo>
                <a:cubicBezTo>
                  <a:pt x="3685363" y="299316"/>
                  <a:pt x="3674199" y="310481"/>
                  <a:pt x="3660376" y="310481"/>
                </a:cubicBezTo>
                <a:lnTo>
                  <a:pt x="3661971" y="310481"/>
                </a:lnTo>
                <a:lnTo>
                  <a:pt x="3660908" y="381190"/>
                </a:lnTo>
                <a:cubicBezTo>
                  <a:pt x="3643363" y="479544"/>
                  <a:pt x="3531718" y="447114"/>
                  <a:pt x="3531718" y="520481"/>
                </a:cubicBezTo>
                <a:lnTo>
                  <a:pt x="3531718" y="521012"/>
                </a:lnTo>
                <a:cubicBezTo>
                  <a:pt x="3531718" y="594379"/>
                  <a:pt x="3643363" y="561949"/>
                  <a:pt x="3660908" y="660303"/>
                </a:cubicBezTo>
                <a:lnTo>
                  <a:pt x="3661971" y="731012"/>
                </a:lnTo>
                <a:lnTo>
                  <a:pt x="3660376" y="731012"/>
                </a:lnTo>
                <a:cubicBezTo>
                  <a:pt x="3674199" y="731012"/>
                  <a:pt x="3685363" y="742177"/>
                  <a:pt x="3685363" y="755999"/>
                </a:cubicBezTo>
                <a:cubicBezTo>
                  <a:pt x="3685363" y="769822"/>
                  <a:pt x="3674199" y="780987"/>
                  <a:pt x="3660376" y="780987"/>
                </a:cubicBezTo>
                <a:lnTo>
                  <a:pt x="3375946" y="780987"/>
                </a:lnTo>
                <a:cubicBezTo>
                  <a:pt x="3362123" y="780987"/>
                  <a:pt x="3350959" y="769822"/>
                  <a:pt x="3350959" y="755999"/>
                </a:cubicBezTo>
                <a:cubicBezTo>
                  <a:pt x="3350959" y="742177"/>
                  <a:pt x="3362123" y="731012"/>
                  <a:pt x="3375946" y="731012"/>
                </a:cubicBezTo>
                <a:lnTo>
                  <a:pt x="3372224" y="731012"/>
                </a:lnTo>
                <a:lnTo>
                  <a:pt x="3373288" y="660303"/>
                </a:lnTo>
                <a:cubicBezTo>
                  <a:pt x="3390832" y="561949"/>
                  <a:pt x="3502477" y="594379"/>
                  <a:pt x="3502477" y="521012"/>
                </a:cubicBezTo>
                <a:cubicBezTo>
                  <a:pt x="3502477" y="447645"/>
                  <a:pt x="3390832" y="480076"/>
                  <a:pt x="3373288" y="381721"/>
                </a:cubicBezTo>
                <a:lnTo>
                  <a:pt x="3372224" y="311012"/>
                </a:lnTo>
                <a:lnTo>
                  <a:pt x="3375946" y="311012"/>
                </a:lnTo>
                <a:cubicBezTo>
                  <a:pt x="3362123" y="311012"/>
                  <a:pt x="3350959" y="299848"/>
                  <a:pt x="3350959" y="286025"/>
                </a:cubicBezTo>
                <a:cubicBezTo>
                  <a:pt x="3350959" y="272202"/>
                  <a:pt x="3362123" y="261038"/>
                  <a:pt x="3375946" y="261038"/>
                </a:cubicBezTo>
                <a:lnTo>
                  <a:pt x="3659845" y="261038"/>
                </a:lnTo>
                <a:cubicBezTo>
                  <a:pt x="3673667" y="259974"/>
                  <a:pt x="3685363" y="271671"/>
                  <a:pt x="3685363" y="285493"/>
                </a:cubicBezTo>
                <a:close/>
                <a:moveTo>
                  <a:pt x="4130882" y="285493"/>
                </a:moveTo>
                <a:cubicBezTo>
                  <a:pt x="4130882" y="299316"/>
                  <a:pt x="4119717" y="310481"/>
                  <a:pt x="4105894" y="310481"/>
                </a:cubicBezTo>
                <a:lnTo>
                  <a:pt x="4107489" y="310481"/>
                </a:lnTo>
                <a:lnTo>
                  <a:pt x="4106426" y="381190"/>
                </a:lnTo>
                <a:cubicBezTo>
                  <a:pt x="4088882" y="479544"/>
                  <a:pt x="3977236" y="447114"/>
                  <a:pt x="3977236" y="520481"/>
                </a:cubicBezTo>
                <a:lnTo>
                  <a:pt x="3977236" y="521012"/>
                </a:lnTo>
                <a:cubicBezTo>
                  <a:pt x="3977236" y="594379"/>
                  <a:pt x="4088882" y="561949"/>
                  <a:pt x="4106426" y="660303"/>
                </a:cubicBezTo>
                <a:lnTo>
                  <a:pt x="4107489" y="731012"/>
                </a:lnTo>
                <a:lnTo>
                  <a:pt x="4105894" y="731012"/>
                </a:lnTo>
                <a:cubicBezTo>
                  <a:pt x="4119717" y="731012"/>
                  <a:pt x="4130882" y="742177"/>
                  <a:pt x="4130882" y="755999"/>
                </a:cubicBezTo>
                <a:cubicBezTo>
                  <a:pt x="4130882" y="769822"/>
                  <a:pt x="4119717" y="780987"/>
                  <a:pt x="4105894" y="780987"/>
                </a:cubicBezTo>
                <a:lnTo>
                  <a:pt x="3821996" y="780987"/>
                </a:lnTo>
                <a:cubicBezTo>
                  <a:pt x="3808173" y="780987"/>
                  <a:pt x="3797009" y="769822"/>
                  <a:pt x="3797009" y="755999"/>
                </a:cubicBezTo>
                <a:cubicBezTo>
                  <a:pt x="3797009" y="742177"/>
                  <a:pt x="3808173" y="731012"/>
                  <a:pt x="3821996" y="731012"/>
                </a:cubicBezTo>
                <a:lnTo>
                  <a:pt x="3818275" y="731012"/>
                </a:lnTo>
                <a:lnTo>
                  <a:pt x="3819338" y="660303"/>
                </a:lnTo>
                <a:cubicBezTo>
                  <a:pt x="3836882" y="561949"/>
                  <a:pt x="3948528" y="594379"/>
                  <a:pt x="3948528" y="521012"/>
                </a:cubicBezTo>
                <a:cubicBezTo>
                  <a:pt x="3948528" y="447645"/>
                  <a:pt x="3836882" y="480076"/>
                  <a:pt x="3819338" y="381721"/>
                </a:cubicBezTo>
                <a:lnTo>
                  <a:pt x="3818275" y="311012"/>
                </a:lnTo>
                <a:lnTo>
                  <a:pt x="3821996" y="311012"/>
                </a:lnTo>
                <a:cubicBezTo>
                  <a:pt x="3808173" y="311012"/>
                  <a:pt x="3797009" y="299848"/>
                  <a:pt x="3797009" y="286025"/>
                </a:cubicBezTo>
                <a:cubicBezTo>
                  <a:pt x="3797009" y="272202"/>
                  <a:pt x="3808173" y="261038"/>
                  <a:pt x="3821996" y="261038"/>
                </a:cubicBezTo>
                <a:lnTo>
                  <a:pt x="4105894" y="261038"/>
                </a:lnTo>
                <a:cubicBezTo>
                  <a:pt x="4119717" y="259974"/>
                  <a:pt x="4130882" y="271671"/>
                  <a:pt x="4130882" y="285493"/>
                </a:cubicBezTo>
                <a:close/>
                <a:moveTo>
                  <a:pt x="4534932" y="285493"/>
                </a:moveTo>
                <a:cubicBezTo>
                  <a:pt x="4534932" y="299316"/>
                  <a:pt x="4523768" y="310481"/>
                  <a:pt x="4509945" y="310481"/>
                </a:cubicBezTo>
                <a:lnTo>
                  <a:pt x="4511540" y="310481"/>
                </a:lnTo>
                <a:lnTo>
                  <a:pt x="4510477" y="381190"/>
                </a:lnTo>
                <a:cubicBezTo>
                  <a:pt x="4492932" y="480076"/>
                  <a:pt x="4380755" y="447645"/>
                  <a:pt x="4380755" y="521012"/>
                </a:cubicBezTo>
                <a:lnTo>
                  <a:pt x="4380755" y="521544"/>
                </a:lnTo>
                <a:cubicBezTo>
                  <a:pt x="4380755" y="594911"/>
                  <a:pt x="4492401" y="562481"/>
                  <a:pt x="4509945" y="660835"/>
                </a:cubicBezTo>
                <a:lnTo>
                  <a:pt x="4511008" y="731544"/>
                </a:lnTo>
                <a:lnTo>
                  <a:pt x="4509413" y="731544"/>
                </a:lnTo>
                <a:cubicBezTo>
                  <a:pt x="4523236" y="731544"/>
                  <a:pt x="4534401" y="742708"/>
                  <a:pt x="4534401" y="756531"/>
                </a:cubicBezTo>
                <a:cubicBezTo>
                  <a:pt x="4534401" y="770354"/>
                  <a:pt x="4523236" y="781518"/>
                  <a:pt x="4509413" y="781518"/>
                </a:cubicBezTo>
                <a:lnTo>
                  <a:pt x="4225515" y="781518"/>
                </a:lnTo>
                <a:cubicBezTo>
                  <a:pt x="4211692" y="781518"/>
                  <a:pt x="4200527" y="770354"/>
                  <a:pt x="4200527" y="756531"/>
                </a:cubicBezTo>
                <a:cubicBezTo>
                  <a:pt x="4200527" y="742708"/>
                  <a:pt x="4211692" y="731544"/>
                  <a:pt x="4225515" y="731544"/>
                </a:cubicBezTo>
                <a:lnTo>
                  <a:pt x="4221793" y="731544"/>
                </a:lnTo>
                <a:lnTo>
                  <a:pt x="4222857" y="660835"/>
                </a:lnTo>
                <a:cubicBezTo>
                  <a:pt x="4240401" y="562481"/>
                  <a:pt x="4352046" y="594911"/>
                  <a:pt x="4352046" y="521544"/>
                </a:cubicBezTo>
                <a:lnTo>
                  <a:pt x="4352046" y="521012"/>
                </a:lnTo>
                <a:cubicBezTo>
                  <a:pt x="4352046" y="447645"/>
                  <a:pt x="4240401" y="480076"/>
                  <a:pt x="4222857" y="381721"/>
                </a:cubicBezTo>
                <a:lnTo>
                  <a:pt x="4221793" y="311012"/>
                </a:lnTo>
                <a:lnTo>
                  <a:pt x="4225515" y="311012"/>
                </a:lnTo>
                <a:cubicBezTo>
                  <a:pt x="4211692" y="311012"/>
                  <a:pt x="4200527" y="299848"/>
                  <a:pt x="4200527" y="286025"/>
                </a:cubicBezTo>
                <a:cubicBezTo>
                  <a:pt x="4200527" y="272202"/>
                  <a:pt x="4211692" y="261038"/>
                  <a:pt x="4225515" y="261038"/>
                </a:cubicBezTo>
                <a:lnTo>
                  <a:pt x="4509413" y="261038"/>
                </a:lnTo>
                <a:cubicBezTo>
                  <a:pt x="4523236" y="259974"/>
                  <a:pt x="4534932" y="271671"/>
                  <a:pt x="4534932" y="28549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059" name="Graphic 236"/>
          <p:cNvGrpSpPr/>
          <p:nvPr/>
        </p:nvGrpSpPr>
        <p:grpSpPr>
          <a:xfrm>
            <a:off x="6838920" y="3579840"/>
            <a:ext cx="785880" cy="1227240"/>
            <a:chOff x="6838920" y="3579840"/>
            <a:chExt cx="785880" cy="1227240"/>
          </a:xfrm>
        </p:grpSpPr>
        <p:sp>
          <p:nvSpPr>
            <p:cNvPr id="2060" name="Freeform: Shape 239"/>
            <p:cNvSpPr/>
            <p:nvPr/>
          </p:nvSpPr>
          <p:spPr>
            <a:xfrm>
              <a:off x="6888240" y="3698280"/>
              <a:ext cx="680760" cy="989280"/>
            </a:xfrm>
            <a:custGeom>
              <a:avLst/>
              <a:gdLst/>
              <a:ahLst/>
              <a:rect l="l" t="t" r="r" b="b"/>
              <a:pathLst>
                <a:path w="824865" h="1198245">
                  <a:moveTo>
                    <a:pt x="412433" y="0"/>
                  </a:moveTo>
                  <a:lnTo>
                    <a:pt x="361950" y="0"/>
                  </a:lnTo>
                  <a:lnTo>
                    <a:pt x="0" y="0"/>
                  </a:lnTo>
                  <a:lnTo>
                    <a:pt x="2858" y="200978"/>
                  </a:lnTo>
                  <a:cubicBezTo>
                    <a:pt x="52388" y="481965"/>
                    <a:pt x="370523" y="389572"/>
                    <a:pt x="370523" y="598170"/>
                  </a:cubicBezTo>
                  <a:lnTo>
                    <a:pt x="370523" y="600075"/>
                  </a:lnTo>
                  <a:cubicBezTo>
                    <a:pt x="370523" y="808672"/>
                    <a:pt x="52388" y="716280"/>
                    <a:pt x="2858" y="997268"/>
                  </a:cubicBezTo>
                  <a:lnTo>
                    <a:pt x="0" y="1198245"/>
                  </a:lnTo>
                  <a:lnTo>
                    <a:pt x="361950" y="1198245"/>
                  </a:lnTo>
                  <a:lnTo>
                    <a:pt x="412433" y="1198245"/>
                  </a:lnTo>
                  <a:lnTo>
                    <a:pt x="824865" y="1198245"/>
                  </a:lnTo>
                  <a:lnTo>
                    <a:pt x="822008" y="997268"/>
                  </a:lnTo>
                  <a:cubicBezTo>
                    <a:pt x="772478" y="716280"/>
                    <a:pt x="454343" y="808672"/>
                    <a:pt x="454343" y="600075"/>
                  </a:cubicBezTo>
                  <a:lnTo>
                    <a:pt x="454343" y="598170"/>
                  </a:lnTo>
                  <a:cubicBezTo>
                    <a:pt x="454343" y="389572"/>
                    <a:pt x="772478" y="481965"/>
                    <a:pt x="822008" y="200978"/>
                  </a:cubicBezTo>
                  <a:lnTo>
                    <a:pt x="824865" y="0"/>
                  </a:lnTo>
                  <a:lnTo>
                    <a:pt x="412433"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1" name="Freeform: Shape 240"/>
            <p:cNvSpPr/>
            <p:nvPr/>
          </p:nvSpPr>
          <p:spPr>
            <a:xfrm>
              <a:off x="7228800" y="3709440"/>
              <a:ext cx="329400" cy="966960"/>
            </a:xfrm>
            <a:custGeom>
              <a:avLst/>
              <a:gdLst/>
              <a:ahLst/>
              <a:rect l="l" t="t" r="r" b="b"/>
              <a:pathLst>
                <a:path w="399097" h="1171575">
                  <a:moveTo>
                    <a:pt x="229552" y="1171575"/>
                  </a:moveTo>
                  <a:lnTo>
                    <a:pt x="399097" y="1171575"/>
                  </a:lnTo>
                  <a:lnTo>
                    <a:pt x="396240" y="984885"/>
                  </a:lnTo>
                  <a:cubicBezTo>
                    <a:pt x="347663" y="714375"/>
                    <a:pt x="28575" y="806768"/>
                    <a:pt x="28575" y="586740"/>
                  </a:cubicBezTo>
                  <a:lnTo>
                    <a:pt x="28575" y="584835"/>
                  </a:lnTo>
                  <a:cubicBezTo>
                    <a:pt x="28575" y="364808"/>
                    <a:pt x="347663" y="457200"/>
                    <a:pt x="396240" y="186690"/>
                  </a:cubicBezTo>
                  <a:lnTo>
                    <a:pt x="399097" y="0"/>
                  </a:lnTo>
                  <a:lnTo>
                    <a:pt x="229552" y="0"/>
                  </a:lnTo>
                  <a:lnTo>
                    <a:pt x="227647" y="186690"/>
                  </a:lnTo>
                  <a:cubicBezTo>
                    <a:pt x="197167" y="467678"/>
                    <a:pt x="0" y="375285"/>
                    <a:pt x="0" y="583883"/>
                  </a:cubicBezTo>
                  <a:lnTo>
                    <a:pt x="0" y="585788"/>
                  </a:lnTo>
                  <a:cubicBezTo>
                    <a:pt x="0" y="794385"/>
                    <a:pt x="197167" y="701993"/>
                    <a:pt x="227647" y="982980"/>
                  </a:cubicBezTo>
                  <a:lnTo>
                    <a:pt x="229552" y="117157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2" name="Freeform: Shape 241"/>
            <p:cNvSpPr/>
            <p:nvPr/>
          </p:nvSpPr>
          <p:spPr>
            <a:xfrm>
              <a:off x="6910200" y="4520160"/>
              <a:ext cx="636840" cy="145440"/>
            </a:xfrm>
            <a:custGeom>
              <a:avLst/>
              <a:gdLst/>
              <a:ahLst/>
              <a:rect l="l" t="t" r="r" b="b"/>
              <a:pathLst>
                <a:path w="771525" h="176212">
                  <a:moveTo>
                    <a:pt x="768667" y="0"/>
                  </a:moveTo>
                  <a:lnTo>
                    <a:pt x="769620" y="3810"/>
                  </a:lnTo>
                  <a:lnTo>
                    <a:pt x="771525" y="176213"/>
                  </a:lnTo>
                  <a:lnTo>
                    <a:pt x="0" y="176213"/>
                  </a:lnTo>
                  <a:lnTo>
                    <a:pt x="1905" y="3810"/>
                  </a:lnTo>
                  <a:lnTo>
                    <a:pt x="2857" y="0"/>
                  </a:lnTo>
                  <a:lnTo>
                    <a:pt x="768667"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3" name="Freeform: Shape 242"/>
            <p:cNvSpPr/>
            <p:nvPr/>
          </p:nvSpPr>
          <p:spPr>
            <a:xfrm>
              <a:off x="7416720" y="4520160"/>
              <a:ext cx="130320" cy="145440"/>
            </a:xfrm>
            <a:custGeom>
              <a:avLst/>
              <a:gdLst/>
              <a:ahLst/>
              <a:rect l="l" t="t" r="r" b="b"/>
              <a:pathLst>
                <a:path w="158115" h="176212">
                  <a:moveTo>
                    <a:pt x="155257" y="0"/>
                  </a:moveTo>
                  <a:lnTo>
                    <a:pt x="156210" y="3810"/>
                  </a:lnTo>
                  <a:lnTo>
                    <a:pt x="158115" y="176213"/>
                  </a:lnTo>
                  <a:lnTo>
                    <a:pt x="1905" y="176213"/>
                  </a:lnTo>
                  <a:lnTo>
                    <a:pt x="0" y="953"/>
                  </a:lnTo>
                  <a:lnTo>
                    <a:pt x="0" y="0"/>
                  </a:lnTo>
                  <a:lnTo>
                    <a:pt x="155257"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4" name="Freeform: Shape 243"/>
            <p:cNvSpPr/>
            <p:nvPr/>
          </p:nvSpPr>
          <p:spPr>
            <a:xfrm>
              <a:off x="6914160" y="3874680"/>
              <a:ext cx="625680" cy="329400"/>
            </a:xfrm>
            <a:custGeom>
              <a:avLst/>
              <a:gdLst/>
              <a:ahLst/>
              <a:rect l="l" t="t" r="r" b="b"/>
              <a:pathLst>
                <a:path w="758189" h="399097">
                  <a:moveTo>
                    <a:pt x="758190" y="12383"/>
                  </a:moveTo>
                  <a:cubicBezTo>
                    <a:pt x="715327" y="160973"/>
                    <a:pt x="572452" y="179070"/>
                    <a:pt x="480060" y="236220"/>
                  </a:cubicBezTo>
                  <a:cubicBezTo>
                    <a:pt x="422910" y="268605"/>
                    <a:pt x="383857" y="329565"/>
                    <a:pt x="383857" y="399098"/>
                  </a:cubicBezTo>
                  <a:cubicBezTo>
                    <a:pt x="383857" y="319088"/>
                    <a:pt x="332422" y="250508"/>
                    <a:pt x="260032" y="223838"/>
                  </a:cubicBezTo>
                  <a:cubicBezTo>
                    <a:pt x="165735" y="173355"/>
                    <a:pt x="36195" y="148590"/>
                    <a:pt x="0" y="0"/>
                  </a:cubicBezTo>
                  <a:cubicBezTo>
                    <a:pt x="107632" y="35243"/>
                    <a:pt x="246697" y="57150"/>
                    <a:pt x="399097" y="57150"/>
                  </a:cubicBezTo>
                  <a:cubicBezTo>
                    <a:pt x="533400" y="58103"/>
                    <a:pt x="657225" y="40958"/>
                    <a:pt x="758190" y="12383"/>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5" name="Freeform: Shape 244"/>
            <p:cNvSpPr/>
            <p:nvPr/>
          </p:nvSpPr>
          <p:spPr>
            <a:xfrm>
              <a:off x="7229520" y="3884760"/>
              <a:ext cx="310320" cy="318960"/>
            </a:xfrm>
            <a:custGeom>
              <a:avLst/>
              <a:gdLst/>
              <a:ahLst/>
              <a:rect l="l" t="t" r="r" b="b"/>
              <a:pathLst>
                <a:path w="376237" h="386715">
                  <a:moveTo>
                    <a:pt x="376238" y="0"/>
                  </a:moveTo>
                  <a:cubicBezTo>
                    <a:pt x="333375" y="148590"/>
                    <a:pt x="190500" y="166688"/>
                    <a:pt x="98107" y="223838"/>
                  </a:cubicBezTo>
                  <a:cubicBezTo>
                    <a:pt x="40957" y="256222"/>
                    <a:pt x="1905" y="317182"/>
                    <a:pt x="1905" y="386715"/>
                  </a:cubicBezTo>
                  <a:cubicBezTo>
                    <a:pt x="1905" y="377190"/>
                    <a:pt x="952" y="366713"/>
                    <a:pt x="0" y="357188"/>
                  </a:cubicBezTo>
                  <a:cubicBezTo>
                    <a:pt x="7620" y="180975"/>
                    <a:pt x="168593" y="236220"/>
                    <a:pt x="217170" y="31432"/>
                  </a:cubicBezTo>
                  <a:cubicBezTo>
                    <a:pt x="274320" y="24765"/>
                    <a:pt x="327660" y="14288"/>
                    <a:pt x="376238"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6" name="Freeform: Shape 245"/>
            <p:cNvSpPr/>
            <p:nvPr/>
          </p:nvSpPr>
          <p:spPr>
            <a:xfrm>
              <a:off x="6904800" y="3705840"/>
              <a:ext cx="124200" cy="315360"/>
            </a:xfrm>
            <a:custGeom>
              <a:avLst/>
              <a:gdLst/>
              <a:ahLst/>
              <a:rect l="l" t="t" r="r" b="b"/>
              <a:pathLst>
                <a:path w="150494" h="382312">
                  <a:moveTo>
                    <a:pt x="45720" y="32745"/>
                  </a:moveTo>
                  <a:lnTo>
                    <a:pt x="48577" y="217530"/>
                  </a:lnTo>
                  <a:cubicBezTo>
                    <a:pt x="60960" y="284205"/>
                    <a:pt x="88582" y="339450"/>
                    <a:pt x="150495" y="382313"/>
                  </a:cubicBezTo>
                  <a:cubicBezTo>
                    <a:pt x="143827" y="379455"/>
                    <a:pt x="138113" y="375645"/>
                    <a:pt x="131445" y="371835"/>
                  </a:cubicBezTo>
                  <a:cubicBezTo>
                    <a:pt x="50482" y="326115"/>
                    <a:pt x="16193" y="266108"/>
                    <a:pt x="2857" y="189908"/>
                  </a:cubicBezTo>
                  <a:lnTo>
                    <a:pt x="0" y="5123"/>
                  </a:lnTo>
                  <a:cubicBezTo>
                    <a:pt x="0" y="-3450"/>
                    <a:pt x="45720" y="-5355"/>
                    <a:pt x="45720" y="327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7" name="Freeform: Shape 246"/>
            <p:cNvSpPr/>
            <p:nvPr/>
          </p:nvSpPr>
          <p:spPr>
            <a:xfrm>
              <a:off x="6910920" y="4362120"/>
              <a:ext cx="123120" cy="315360"/>
            </a:xfrm>
            <a:custGeom>
              <a:avLst/>
              <a:gdLst/>
              <a:ahLst/>
              <a:rect l="l" t="t" r="r" b="b"/>
              <a:pathLst>
                <a:path w="149542" h="382094">
                  <a:moveTo>
                    <a:pt x="45720" y="349568"/>
                  </a:moveTo>
                  <a:lnTo>
                    <a:pt x="47625" y="164783"/>
                  </a:lnTo>
                  <a:cubicBezTo>
                    <a:pt x="60007" y="98108"/>
                    <a:pt x="87630" y="42863"/>
                    <a:pt x="149543" y="0"/>
                  </a:cubicBezTo>
                  <a:cubicBezTo>
                    <a:pt x="142875" y="2858"/>
                    <a:pt x="137160" y="6668"/>
                    <a:pt x="130493" y="10478"/>
                  </a:cubicBezTo>
                  <a:cubicBezTo>
                    <a:pt x="49530" y="56198"/>
                    <a:pt x="15240" y="116205"/>
                    <a:pt x="1905" y="192405"/>
                  </a:cubicBezTo>
                  <a:lnTo>
                    <a:pt x="0" y="377190"/>
                  </a:lnTo>
                  <a:cubicBezTo>
                    <a:pt x="952" y="385763"/>
                    <a:pt x="45720" y="386715"/>
                    <a:pt x="45720" y="3495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8" name="Freeform: Shape 247"/>
            <p:cNvSpPr/>
            <p:nvPr/>
          </p:nvSpPr>
          <p:spPr>
            <a:xfrm>
              <a:off x="6838920" y="3579840"/>
              <a:ext cx="785880" cy="119520"/>
            </a:xfrm>
            <a:custGeom>
              <a:avLst/>
              <a:gdLst/>
              <a:ahLst/>
              <a:rect l="l" t="t" r="r" b="b"/>
              <a:pathLst>
                <a:path w="952500" h="144780">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69" name="Freeform: Shape 248"/>
            <p:cNvSpPr/>
            <p:nvPr/>
          </p:nvSpPr>
          <p:spPr>
            <a:xfrm>
              <a:off x="6838920" y="4687560"/>
              <a:ext cx="785880" cy="119520"/>
            </a:xfrm>
            <a:custGeom>
              <a:avLst/>
              <a:gdLst/>
              <a:ahLst/>
              <a:rect l="l" t="t" r="r" b="b"/>
              <a:pathLst>
                <a:path w="952500" h="144779">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70" name="Freeform: Shape 249"/>
            <p:cNvSpPr/>
            <p:nvPr/>
          </p:nvSpPr>
          <p:spPr>
            <a:xfrm>
              <a:off x="6861600" y="360180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7"/>
                    <a:pt x="18097" y="90488"/>
                    <a:pt x="30480" y="90488"/>
                  </a:cubicBezTo>
                  <a:lnTo>
                    <a:pt x="864870" y="90488"/>
                  </a:lnTo>
                  <a:cubicBezTo>
                    <a:pt x="885825" y="90488"/>
                    <a:pt x="902018" y="70485"/>
                    <a:pt x="902018" y="44767"/>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313c3f"/>
                </a:solidFill>
                <a:latin typeface="Source Sans Pro"/>
              </a:endParaRPr>
            </a:p>
          </p:txBody>
        </p:sp>
        <p:sp>
          <p:nvSpPr>
            <p:cNvPr id="2071" name="Freeform: Shape 250"/>
            <p:cNvSpPr/>
            <p:nvPr/>
          </p:nvSpPr>
          <p:spPr>
            <a:xfrm>
              <a:off x="6861600" y="470988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8"/>
                    <a:pt x="18097" y="90488"/>
                    <a:pt x="30480" y="90488"/>
                  </a:cubicBezTo>
                  <a:lnTo>
                    <a:pt x="864870" y="90488"/>
                  </a:lnTo>
                  <a:cubicBezTo>
                    <a:pt x="885825" y="90488"/>
                    <a:pt x="902018" y="70485"/>
                    <a:pt x="902018" y="44768"/>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313c3f"/>
                </a:solidFill>
                <a:latin typeface="Source Sans Pro"/>
              </a:endParaRPr>
            </a:p>
          </p:txBody>
        </p:sp>
        <p:sp>
          <p:nvSpPr>
            <p:cNvPr id="2072" name="Freeform: Shape 251"/>
            <p:cNvSpPr/>
            <p:nvPr/>
          </p:nvSpPr>
          <p:spPr>
            <a:xfrm>
              <a:off x="6880320" y="3606480"/>
              <a:ext cx="351360" cy="32760"/>
            </a:xfrm>
            <a:custGeom>
              <a:avLst/>
              <a:gdLst/>
              <a:ahLst/>
              <a:rect l="l" t="t" r="r" b="b"/>
              <a:pathLst>
                <a:path w="425767" h="40004">
                  <a:moveTo>
                    <a:pt x="20003" y="0"/>
                  </a:moveTo>
                  <a:lnTo>
                    <a:pt x="405765" y="0"/>
                  </a:lnTo>
                  <a:cubicBezTo>
                    <a:pt x="416243" y="0"/>
                    <a:pt x="425768" y="8572"/>
                    <a:pt x="425768" y="20002"/>
                  </a:cubicBezTo>
                  <a:cubicBezTo>
                    <a:pt x="425768" y="30480"/>
                    <a:pt x="417195" y="40005"/>
                    <a:pt x="405765" y="40005"/>
                  </a:cubicBezTo>
                  <a:lnTo>
                    <a:pt x="20003" y="40005"/>
                  </a:lnTo>
                  <a:cubicBezTo>
                    <a:pt x="9525" y="40005"/>
                    <a:pt x="0" y="31432"/>
                    <a:pt x="0" y="20002"/>
                  </a:cubicBezTo>
                  <a:cubicBezTo>
                    <a:pt x="953" y="8572"/>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313c3f"/>
                </a:solidFill>
                <a:latin typeface="Source Sans Pro"/>
              </a:endParaRPr>
            </a:p>
          </p:txBody>
        </p:sp>
        <p:sp>
          <p:nvSpPr>
            <p:cNvPr id="2073" name="Freeform: Shape 252"/>
            <p:cNvSpPr/>
            <p:nvPr/>
          </p:nvSpPr>
          <p:spPr>
            <a:xfrm>
              <a:off x="6880320" y="4714560"/>
              <a:ext cx="351360" cy="32760"/>
            </a:xfrm>
            <a:custGeom>
              <a:avLst/>
              <a:gdLst/>
              <a:ahLst/>
              <a:rect l="l" t="t" r="r" b="b"/>
              <a:pathLst>
                <a:path w="425767" h="40004">
                  <a:moveTo>
                    <a:pt x="20003" y="0"/>
                  </a:moveTo>
                  <a:lnTo>
                    <a:pt x="405765" y="0"/>
                  </a:lnTo>
                  <a:cubicBezTo>
                    <a:pt x="416243" y="0"/>
                    <a:pt x="425768" y="8572"/>
                    <a:pt x="425768" y="20003"/>
                  </a:cubicBezTo>
                  <a:cubicBezTo>
                    <a:pt x="425768" y="30480"/>
                    <a:pt x="417195" y="40005"/>
                    <a:pt x="405765" y="40005"/>
                  </a:cubicBezTo>
                  <a:lnTo>
                    <a:pt x="20003" y="40005"/>
                  </a:lnTo>
                  <a:cubicBezTo>
                    <a:pt x="9525" y="40005"/>
                    <a:pt x="0" y="31432"/>
                    <a:pt x="0" y="20003"/>
                  </a:cubicBezTo>
                  <a:cubicBezTo>
                    <a:pt x="953" y="9525"/>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313c3f"/>
                </a:solidFill>
                <a:latin typeface="Source Sans Pro"/>
              </a:endParaRPr>
            </a:p>
          </p:txBody>
        </p:sp>
      </p:grpSp>
      <p:grpSp>
        <p:nvGrpSpPr>
          <p:cNvPr id="2074" name="Graphic 236"/>
          <p:cNvGrpSpPr/>
          <p:nvPr/>
        </p:nvGrpSpPr>
        <p:grpSpPr>
          <a:xfrm>
            <a:off x="10010880" y="2906640"/>
            <a:ext cx="1216080" cy="1467000"/>
            <a:chOff x="10010880" y="2906640"/>
            <a:chExt cx="1216080" cy="1467000"/>
          </a:xfrm>
        </p:grpSpPr>
        <p:sp>
          <p:nvSpPr>
            <p:cNvPr id="2075" name="Freeform: Shape 254"/>
            <p:cNvSpPr/>
            <p:nvPr/>
          </p:nvSpPr>
          <p:spPr>
            <a:xfrm>
              <a:off x="10010880" y="2906640"/>
              <a:ext cx="1216080" cy="1467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76" name="Freeform: Shape 255"/>
            <p:cNvSpPr/>
            <p:nvPr/>
          </p:nvSpPr>
          <p:spPr>
            <a:xfrm>
              <a:off x="10369440" y="2967840"/>
              <a:ext cx="803880" cy="1353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77" name="Freeform: Shape 256"/>
            <p:cNvSpPr/>
            <p:nvPr/>
          </p:nvSpPr>
          <p:spPr>
            <a:xfrm>
              <a:off x="10584720" y="3241800"/>
              <a:ext cx="74880" cy="2782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78" name="Freeform: Shape 257"/>
            <p:cNvSpPr/>
            <p:nvPr/>
          </p:nvSpPr>
          <p:spPr>
            <a:xfrm>
              <a:off x="10436400" y="3219480"/>
              <a:ext cx="345600" cy="4428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2520" bIns="-2520" anchor="ctr">
              <a:noAutofit/>
            </a:bodyPr>
            <a:p>
              <a:endParaRPr b="0" lang="en-US" sz="1800" spc="-1" strike="noStrike">
                <a:solidFill>
                  <a:srgbClr val="313c3f"/>
                </a:solidFill>
                <a:latin typeface="Source Sans Pro"/>
              </a:endParaRPr>
            </a:p>
          </p:txBody>
        </p:sp>
        <p:sp>
          <p:nvSpPr>
            <p:cNvPr id="2079" name="Freeform: Shape 258"/>
            <p:cNvSpPr/>
            <p:nvPr/>
          </p:nvSpPr>
          <p:spPr>
            <a:xfrm>
              <a:off x="10427040" y="3196800"/>
              <a:ext cx="342360" cy="8964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42840" bIns="42840" anchor="ctr">
              <a:noAutofit/>
            </a:bodyPr>
            <a:p>
              <a:endParaRPr b="0" lang="en-US" sz="1800" spc="-1" strike="noStrike">
                <a:solidFill>
                  <a:srgbClr val="313c3f"/>
                </a:solidFill>
                <a:latin typeface="Source Sans Pro"/>
              </a:endParaRPr>
            </a:p>
          </p:txBody>
        </p:sp>
        <p:sp>
          <p:nvSpPr>
            <p:cNvPr id="2080" name="Freeform: Shape 259"/>
            <p:cNvSpPr/>
            <p:nvPr/>
          </p:nvSpPr>
          <p:spPr>
            <a:xfrm>
              <a:off x="10591920" y="3243960"/>
              <a:ext cx="264600" cy="835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6720" bIns="36720" anchor="ctr">
              <a:noAutofit/>
            </a:bodyPr>
            <a:p>
              <a:endParaRPr b="0" lang="en-US" sz="1800" spc="-1" strike="noStrike">
                <a:solidFill>
                  <a:srgbClr val="313c3f"/>
                </a:solidFill>
                <a:latin typeface="Source Sans Pro"/>
              </a:endParaRPr>
            </a:p>
          </p:txBody>
        </p:sp>
        <p:sp>
          <p:nvSpPr>
            <p:cNvPr id="2081" name="Freeform: Shape 260"/>
            <p:cNvSpPr/>
            <p:nvPr/>
          </p:nvSpPr>
          <p:spPr>
            <a:xfrm>
              <a:off x="10420560" y="3245400"/>
              <a:ext cx="192240" cy="15912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82" name="Freeform: Shape 261"/>
            <p:cNvSpPr/>
            <p:nvPr/>
          </p:nvSpPr>
          <p:spPr>
            <a:xfrm>
              <a:off x="10509840" y="3219840"/>
              <a:ext cx="142200" cy="28260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83" name="Freeform: Shape 262"/>
            <p:cNvSpPr/>
            <p:nvPr/>
          </p:nvSpPr>
          <p:spPr>
            <a:xfrm>
              <a:off x="10435320" y="3583800"/>
              <a:ext cx="365760" cy="59076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08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c3f"/>
                </a:solidFill>
                <a:latin typeface="Lato"/>
              </a:rPr>
              <a:t>Comparison Chart</a:t>
            </a:r>
            <a:endParaRPr b="0" lang="en-US" sz="3600" spc="-1" strike="noStrike">
              <a:solidFill>
                <a:srgbClr val="313c3f"/>
              </a:solidFill>
              <a:latin typeface="Lato"/>
            </a:endParaRPr>
          </a:p>
        </p:txBody>
      </p:sp>
      <p:sp>
        <p:nvSpPr>
          <p:cNvPr id="2085" name="Straight Connector 102"/>
          <p:cNvSpPr/>
          <p:nvPr/>
        </p:nvSpPr>
        <p:spPr>
          <a:xfrm>
            <a:off x="722160" y="4068720"/>
            <a:ext cx="48196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2086" name="TextBox 213"/>
          <p:cNvSpPr/>
          <p:nvPr/>
        </p:nvSpPr>
        <p:spPr>
          <a:xfrm>
            <a:off x="753840" y="454644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e1c11e"/>
                </a:solidFill>
                <a:latin typeface="Lato"/>
                <a:ea typeface="Calibri"/>
              </a:rPr>
              <a:t>80%</a:t>
            </a:r>
            <a:endParaRPr b="0" lang="en-US" sz="3600" spc="-1" strike="noStrike">
              <a:solidFill>
                <a:srgbClr val="313c3f"/>
              </a:solidFill>
              <a:latin typeface="Source Sans Pro"/>
            </a:endParaRPr>
          </a:p>
        </p:txBody>
      </p:sp>
      <p:sp>
        <p:nvSpPr>
          <p:cNvPr id="2087" name="Rectangle 214"/>
          <p:cNvSpPr/>
          <p:nvPr/>
        </p:nvSpPr>
        <p:spPr>
          <a:xfrm>
            <a:off x="1936800" y="4530600"/>
            <a:ext cx="3198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sit</a:t>
            </a:r>
            <a:endParaRPr b="0" lang="en-US" sz="1200" spc="-1" strike="noStrike">
              <a:solidFill>
                <a:srgbClr val="313c3f"/>
              </a:solidFill>
              <a:latin typeface="Source Sans Pro"/>
            </a:endParaRPr>
          </a:p>
        </p:txBody>
      </p:sp>
      <p:sp>
        <p:nvSpPr>
          <p:cNvPr id="2088" name="TextBox 215"/>
          <p:cNvSpPr/>
          <p:nvPr/>
        </p:nvSpPr>
        <p:spPr>
          <a:xfrm>
            <a:off x="793800" y="42670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2089" name="TextBox 216"/>
          <p:cNvSpPr/>
          <p:nvPr/>
        </p:nvSpPr>
        <p:spPr>
          <a:xfrm>
            <a:off x="755280" y="246384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157d42"/>
                </a:solidFill>
                <a:latin typeface="Lato"/>
                <a:ea typeface="Calibri"/>
              </a:rPr>
              <a:t>50%</a:t>
            </a:r>
            <a:endParaRPr b="0" lang="en-US" sz="4000" spc="-1" strike="noStrike">
              <a:solidFill>
                <a:srgbClr val="313c3f"/>
              </a:solidFill>
              <a:latin typeface="Source Sans Pro"/>
            </a:endParaRPr>
          </a:p>
        </p:txBody>
      </p:sp>
      <p:sp>
        <p:nvSpPr>
          <p:cNvPr id="2090" name="Rectangle 217"/>
          <p:cNvSpPr/>
          <p:nvPr/>
        </p:nvSpPr>
        <p:spPr>
          <a:xfrm>
            <a:off x="1998720" y="2509920"/>
            <a:ext cx="3168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sit</a:t>
            </a:r>
            <a:endParaRPr b="0" lang="en-US" sz="1200" spc="-1" strike="noStrike">
              <a:solidFill>
                <a:srgbClr val="313c3f"/>
              </a:solidFill>
              <a:latin typeface="Source Sans Pro"/>
            </a:endParaRPr>
          </a:p>
        </p:txBody>
      </p:sp>
      <p:sp>
        <p:nvSpPr>
          <p:cNvPr id="2091" name="TextBox 218"/>
          <p:cNvSpPr/>
          <p:nvPr/>
        </p:nvSpPr>
        <p:spPr>
          <a:xfrm>
            <a:off x="766800" y="21654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2092" name="Rectangle 152"/>
          <p:cNvSpPr/>
          <p:nvPr/>
        </p:nvSpPr>
        <p:spPr>
          <a:xfrm>
            <a:off x="649440" y="3089160"/>
            <a:ext cx="4792680" cy="779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93" name="Rectangle 153"/>
          <p:cNvSpPr/>
          <p:nvPr/>
        </p:nvSpPr>
        <p:spPr>
          <a:xfrm>
            <a:off x="787320" y="3171960"/>
            <a:ext cx="2224080" cy="60480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094" name="Freeform: Shape 221"/>
          <p:cNvSpPr/>
          <p:nvPr/>
        </p:nvSpPr>
        <p:spPr>
          <a:xfrm>
            <a:off x="649440" y="3089160"/>
            <a:ext cx="4792680" cy="782640"/>
          </a:xfrm>
          <a:custGeom>
            <a:avLst/>
            <a:gdLst/>
            <a:ahLst/>
            <a:rect l="l" t="t" r="r" b="b"/>
            <a:pathLst>
              <a:path w="4792779" h="782582">
                <a:moveTo>
                  <a:pt x="2571034" y="462000"/>
                </a:moveTo>
                <a:lnTo>
                  <a:pt x="2571034" y="497088"/>
                </a:lnTo>
                <a:cubicBezTo>
                  <a:pt x="2574756" y="496557"/>
                  <a:pt x="2577946" y="495493"/>
                  <a:pt x="2580604" y="493899"/>
                </a:cubicBezTo>
                <a:cubicBezTo>
                  <a:pt x="2581667" y="493367"/>
                  <a:pt x="2582730" y="492835"/>
                  <a:pt x="2583262" y="492303"/>
                </a:cubicBezTo>
                <a:cubicBezTo>
                  <a:pt x="2588047" y="488050"/>
                  <a:pt x="2590173" y="483797"/>
                  <a:pt x="2590173" y="477949"/>
                </a:cubicBezTo>
                <a:cubicBezTo>
                  <a:pt x="2590173" y="473164"/>
                  <a:pt x="2588047" y="469443"/>
                  <a:pt x="2583794" y="466785"/>
                </a:cubicBezTo>
                <a:cubicBezTo>
                  <a:pt x="2583262" y="466253"/>
                  <a:pt x="2582199" y="465721"/>
                  <a:pt x="2580604" y="465190"/>
                </a:cubicBezTo>
                <a:cubicBezTo>
                  <a:pt x="2578477" y="464126"/>
                  <a:pt x="2575287" y="463063"/>
                  <a:pt x="2571034" y="462000"/>
                </a:cubicBezTo>
                <a:close/>
                <a:moveTo>
                  <a:pt x="450303" y="462000"/>
                </a:moveTo>
                <a:lnTo>
                  <a:pt x="450303" y="497088"/>
                </a:lnTo>
                <a:cubicBezTo>
                  <a:pt x="454025" y="496557"/>
                  <a:pt x="457214" y="495493"/>
                  <a:pt x="459873" y="493899"/>
                </a:cubicBezTo>
                <a:cubicBezTo>
                  <a:pt x="460936" y="493367"/>
                  <a:pt x="461999" y="492835"/>
                  <a:pt x="462531" y="492303"/>
                </a:cubicBezTo>
                <a:cubicBezTo>
                  <a:pt x="467316" y="488050"/>
                  <a:pt x="469442" y="483797"/>
                  <a:pt x="469442" y="477949"/>
                </a:cubicBezTo>
                <a:cubicBezTo>
                  <a:pt x="469442" y="473164"/>
                  <a:pt x="467316" y="469443"/>
                  <a:pt x="463063" y="466785"/>
                </a:cubicBezTo>
                <a:cubicBezTo>
                  <a:pt x="462531" y="466253"/>
                  <a:pt x="461468" y="465721"/>
                  <a:pt x="459873" y="465190"/>
                </a:cubicBezTo>
                <a:cubicBezTo>
                  <a:pt x="457746" y="464126"/>
                  <a:pt x="454556" y="463063"/>
                  <a:pt x="450303" y="462000"/>
                </a:cubicBezTo>
                <a:close/>
                <a:moveTo>
                  <a:pt x="4266450" y="460405"/>
                </a:moveTo>
                <a:lnTo>
                  <a:pt x="4266450" y="495493"/>
                </a:lnTo>
                <a:cubicBezTo>
                  <a:pt x="4270172" y="494962"/>
                  <a:pt x="4273361" y="493899"/>
                  <a:pt x="4276020" y="492304"/>
                </a:cubicBezTo>
                <a:cubicBezTo>
                  <a:pt x="4277083" y="491772"/>
                  <a:pt x="4278146" y="491240"/>
                  <a:pt x="4278678" y="490709"/>
                </a:cubicBezTo>
                <a:cubicBezTo>
                  <a:pt x="4283463" y="486455"/>
                  <a:pt x="4285589" y="481671"/>
                  <a:pt x="4285589" y="476354"/>
                </a:cubicBezTo>
                <a:cubicBezTo>
                  <a:pt x="4285589" y="471569"/>
                  <a:pt x="4283463" y="467848"/>
                  <a:pt x="4279210" y="465190"/>
                </a:cubicBezTo>
                <a:cubicBezTo>
                  <a:pt x="4278678" y="464658"/>
                  <a:pt x="4277614" y="464126"/>
                  <a:pt x="4276020" y="463595"/>
                </a:cubicBezTo>
                <a:cubicBezTo>
                  <a:pt x="4273893" y="462531"/>
                  <a:pt x="4270703" y="461468"/>
                  <a:pt x="4266450" y="460405"/>
                </a:cubicBezTo>
                <a:close/>
                <a:moveTo>
                  <a:pt x="3843260" y="460405"/>
                </a:moveTo>
                <a:lnTo>
                  <a:pt x="3843260" y="495493"/>
                </a:lnTo>
                <a:cubicBezTo>
                  <a:pt x="3846982" y="494962"/>
                  <a:pt x="3850172" y="493899"/>
                  <a:pt x="3852830" y="492304"/>
                </a:cubicBezTo>
                <a:cubicBezTo>
                  <a:pt x="3853893" y="491772"/>
                  <a:pt x="3854956" y="491240"/>
                  <a:pt x="3855488" y="490709"/>
                </a:cubicBezTo>
                <a:cubicBezTo>
                  <a:pt x="3860273" y="486455"/>
                  <a:pt x="3862399" y="481671"/>
                  <a:pt x="3862399" y="476354"/>
                </a:cubicBezTo>
                <a:cubicBezTo>
                  <a:pt x="3862399" y="471569"/>
                  <a:pt x="3860273" y="467848"/>
                  <a:pt x="3856020" y="465190"/>
                </a:cubicBezTo>
                <a:cubicBezTo>
                  <a:pt x="3855488" y="464658"/>
                  <a:pt x="3854425" y="464126"/>
                  <a:pt x="3852830" y="463595"/>
                </a:cubicBezTo>
                <a:cubicBezTo>
                  <a:pt x="3850703" y="462531"/>
                  <a:pt x="3847513" y="461468"/>
                  <a:pt x="3843260" y="460405"/>
                </a:cubicBezTo>
                <a:close/>
                <a:moveTo>
                  <a:pt x="2995286" y="460405"/>
                </a:moveTo>
                <a:lnTo>
                  <a:pt x="2995286" y="495493"/>
                </a:lnTo>
                <a:cubicBezTo>
                  <a:pt x="2999008" y="494962"/>
                  <a:pt x="3002198" y="493899"/>
                  <a:pt x="3004856" y="492304"/>
                </a:cubicBezTo>
                <a:cubicBezTo>
                  <a:pt x="3005919" y="491772"/>
                  <a:pt x="3006982" y="491240"/>
                  <a:pt x="3007514" y="490709"/>
                </a:cubicBezTo>
                <a:cubicBezTo>
                  <a:pt x="3012299" y="486455"/>
                  <a:pt x="3014425" y="481671"/>
                  <a:pt x="3014425" y="476354"/>
                </a:cubicBezTo>
                <a:cubicBezTo>
                  <a:pt x="3014425" y="471569"/>
                  <a:pt x="3012299" y="467848"/>
                  <a:pt x="3008046" y="465190"/>
                </a:cubicBezTo>
                <a:cubicBezTo>
                  <a:pt x="3007514" y="464658"/>
                  <a:pt x="3006451" y="464126"/>
                  <a:pt x="3004856" y="463595"/>
                </a:cubicBezTo>
                <a:cubicBezTo>
                  <a:pt x="3002729" y="462531"/>
                  <a:pt x="2999539" y="461468"/>
                  <a:pt x="2995286" y="460405"/>
                </a:cubicBezTo>
                <a:close/>
                <a:moveTo>
                  <a:pt x="2145718" y="460405"/>
                </a:moveTo>
                <a:lnTo>
                  <a:pt x="2145718" y="495493"/>
                </a:lnTo>
                <a:cubicBezTo>
                  <a:pt x="2149440" y="494962"/>
                  <a:pt x="2152630" y="493899"/>
                  <a:pt x="2155288" y="492304"/>
                </a:cubicBezTo>
                <a:cubicBezTo>
                  <a:pt x="2156351" y="491772"/>
                  <a:pt x="2157414" y="491240"/>
                  <a:pt x="2157946" y="490709"/>
                </a:cubicBezTo>
                <a:cubicBezTo>
                  <a:pt x="2162731" y="486455"/>
                  <a:pt x="2164857" y="481671"/>
                  <a:pt x="2164857" y="476354"/>
                </a:cubicBezTo>
                <a:cubicBezTo>
                  <a:pt x="2164857" y="471569"/>
                  <a:pt x="2162731" y="467848"/>
                  <a:pt x="2158478" y="465190"/>
                </a:cubicBezTo>
                <a:cubicBezTo>
                  <a:pt x="2157946" y="464658"/>
                  <a:pt x="2156883" y="464126"/>
                  <a:pt x="2155288" y="463595"/>
                </a:cubicBezTo>
                <a:cubicBezTo>
                  <a:pt x="2153161" y="462531"/>
                  <a:pt x="2149971" y="461468"/>
                  <a:pt x="2145718" y="460405"/>
                </a:cubicBezTo>
                <a:close/>
                <a:moveTo>
                  <a:pt x="1722528" y="460405"/>
                </a:moveTo>
                <a:lnTo>
                  <a:pt x="1722528" y="495493"/>
                </a:lnTo>
                <a:cubicBezTo>
                  <a:pt x="1726250" y="494962"/>
                  <a:pt x="1729439" y="493899"/>
                  <a:pt x="1732098" y="492304"/>
                </a:cubicBezTo>
                <a:cubicBezTo>
                  <a:pt x="1733161" y="491772"/>
                  <a:pt x="1734224" y="491240"/>
                  <a:pt x="1734756" y="490709"/>
                </a:cubicBezTo>
                <a:cubicBezTo>
                  <a:pt x="1739009" y="486455"/>
                  <a:pt x="1741667" y="481671"/>
                  <a:pt x="1741667" y="476354"/>
                </a:cubicBezTo>
                <a:cubicBezTo>
                  <a:pt x="1741667" y="471569"/>
                  <a:pt x="1739541" y="467848"/>
                  <a:pt x="1735287" y="465190"/>
                </a:cubicBezTo>
                <a:cubicBezTo>
                  <a:pt x="1734756" y="464658"/>
                  <a:pt x="1733693" y="464126"/>
                  <a:pt x="1732098" y="463595"/>
                </a:cubicBezTo>
                <a:cubicBezTo>
                  <a:pt x="1729971" y="462531"/>
                  <a:pt x="1726781" y="461468"/>
                  <a:pt x="1722528" y="460405"/>
                </a:cubicBezTo>
                <a:close/>
                <a:moveTo>
                  <a:pt x="874555" y="460405"/>
                </a:moveTo>
                <a:lnTo>
                  <a:pt x="874555" y="495493"/>
                </a:lnTo>
                <a:cubicBezTo>
                  <a:pt x="878277" y="494962"/>
                  <a:pt x="881467" y="493899"/>
                  <a:pt x="884125" y="492304"/>
                </a:cubicBezTo>
                <a:cubicBezTo>
                  <a:pt x="885188" y="491772"/>
                  <a:pt x="886251" y="491240"/>
                  <a:pt x="886783" y="490709"/>
                </a:cubicBezTo>
                <a:cubicBezTo>
                  <a:pt x="891568" y="486455"/>
                  <a:pt x="893694" y="481671"/>
                  <a:pt x="893694" y="476354"/>
                </a:cubicBezTo>
                <a:cubicBezTo>
                  <a:pt x="893694" y="471569"/>
                  <a:pt x="891568" y="467848"/>
                  <a:pt x="887315" y="465190"/>
                </a:cubicBezTo>
                <a:cubicBezTo>
                  <a:pt x="886783" y="464658"/>
                  <a:pt x="885720" y="464126"/>
                  <a:pt x="884125" y="463595"/>
                </a:cubicBezTo>
                <a:cubicBezTo>
                  <a:pt x="881998" y="462531"/>
                  <a:pt x="878808" y="461468"/>
                  <a:pt x="874555" y="460405"/>
                </a:cubicBezTo>
                <a:close/>
                <a:moveTo>
                  <a:pt x="3419007" y="455620"/>
                </a:moveTo>
                <a:lnTo>
                  <a:pt x="3419007" y="490709"/>
                </a:lnTo>
                <a:cubicBezTo>
                  <a:pt x="3422729" y="490177"/>
                  <a:pt x="3425919" y="489114"/>
                  <a:pt x="3428577" y="487519"/>
                </a:cubicBezTo>
                <a:cubicBezTo>
                  <a:pt x="3429640" y="486987"/>
                  <a:pt x="3430703" y="486455"/>
                  <a:pt x="3431235" y="485924"/>
                </a:cubicBezTo>
                <a:cubicBezTo>
                  <a:pt x="3436020" y="482202"/>
                  <a:pt x="3438678" y="477418"/>
                  <a:pt x="3438147" y="471569"/>
                </a:cubicBezTo>
                <a:cubicBezTo>
                  <a:pt x="3438147" y="466785"/>
                  <a:pt x="3436020" y="463063"/>
                  <a:pt x="3431767" y="460405"/>
                </a:cubicBezTo>
                <a:cubicBezTo>
                  <a:pt x="3431235" y="459873"/>
                  <a:pt x="3430172" y="459342"/>
                  <a:pt x="3428577" y="458810"/>
                </a:cubicBezTo>
                <a:cubicBezTo>
                  <a:pt x="3426450" y="457747"/>
                  <a:pt x="3423261" y="456683"/>
                  <a:pt x="3419007" y="455620"/>
                </a:cubicBezTo>
                <a:close/>
                <a:moveTo>
                  <a:pt x="1298276" y="455620"/>
                </a:moveTo>
                <a:lnTo>
                  <a:pt x="1298276" y="490709"/>
                </a:lnTo>
                <a:cubicBezTo>
                  <a:pt x="1301998" y="490177"/>
                  <a:pt x="1305188" y="489114"/>
                  <a:pt x="1307846" y="487519"/>
                </a:cubicBezTo>
                <a:cubicBezTo>
                  <a:pt x="1308909" y="486987"/>
                  <a:pt x="1309972" y="486455"/>
                  <a:pt x="1310504" y="485924"/>
                </a:cubicBezTo>
                <a:cubicBezTo>
                  <a:pt x="1315289" y="482202"/>
                  <a:pt x="1317947" y="477418"/>
                  <a:pt x="1317415" y="471569"/>
                </a:cubicBezTo>
                <a:cubicBezTo>
                  <a:pt x="1317415" y="466785"/>
                  <a:pt x="1315289" y="463063"/>
                  <a:pt x="1311036" y="460405"/>
                </a:cubicBezTo>
                <a:cubicBezTo>
                  <a:pt x="1310504" y="459873"/>
                  <a:pt x="1309441" y="459342"/>
                  <a:pt x="1307846" y="458810"/>
                </a:cubicBezTo>
                <a:cubicBezTo>
                  <a:pt x="1305719" y="457747"/>
                  <a:pt x="1302529" y="456683"/>
                  <a:pt x="1298276" y="455620"/>
                </a:cubicBezTo>
                <a:close/>
                <a:moveTo>
                  <a:pt x="2549237" y="402455"/>
                </a:moveTo>
                <a:cubicBezTo>
                  <a:pt x="2545515" y="402987"/>
                  <a:pt x="2542857" y="404050"/>
                  <a:pt x="2540730" y="405114"/>
                </a:cubicBezTo>
                <a:cubicBezTo>
                  <a:pt x="2540199" y="405645"/>
                  <a:pt x="2539136" y="406177"/>
                  <a:pt x="2538604" y="406709"/>
                </a:cubicBezTo>
                <a:cubicBezTo>
                  <a:pt x="2534351" y="409898"/>
                  <a:pt x="2532224" y="413620"/>
                  <a:pt x="2532224" y="417873"/>
                </a:cubicBezTo>
                <a:cubicBezTo>
                  <a:pt x="2532224" y="420531"/>
                  <a:pt x="2533287" y="423190"/>
                  <a:pt x="2534882" y="425316"/>
                </a:cubicBezTo>
                <a:cubicBezTo>
                  <a:pt x="2536477" y="427443"/>
                  <a:pt x="2538072" y="429038"/>
                  <a:pt x="2540730" y="430101"/>
                </a:cubicBezTo>
                <a:cubicBezTo>
                  <a:pt x="2541262" y="430633"/>
                  <a:pt x="2541794" y="430633"/>
                  <a:pt x="2542857" y="431164"/>
                </a:cubicBezTo>
                <a:cubicBezTo>
                  <a:pt x="2543920" y="431696"/>
                  <a:pt x="2545515" y="432228"/>
                  <a:pt x="2548705" y="433291"/>
                </a:cubicBezTo>
                <a:lnTo>
                  <a:pt x="2549237" y="433291"/>
                </a:lnTo>
                <a:lnTo>
                  <a:pt x="2549237" y="402455"/>
                </a:lnTo>
                <a:close/>
                <a:moveTo>
                  <a:pt x="428506" y="402455"/>
                </a:moveTo>
                <a:cubicBezTo>
                  <a:pt x="424784" y="402987"/>
                  <a:pt x="422126" y="404050"/>
                  <a:pt x="419999" y="405114"/>
                </a:cubicBezTo>
                <a:cubicBezTo>
                  <a:pt x="419468" y="405645"/>
                  <a:pt x="418404" y="406177"/>
                  <a:pt x="417873" y="406709"/>
                </a:cubicBezTo>
                <a:cubicBezTo>
                  <a:pt x="413620" y="409898"/>
                  <a:pt x="411493" y="413620"/>
                  <a:pt x="411493" y="417873"/>
                </a:cubicBezTo>
                <a:cubicBezTo>
                  <a:pt x="411493" y="420531"/>
                  <a:pt x="412556" y="423190"/>
                  <a:pt x="414151" y="425316"/>
                </a:cubicBezTo>
                <a:cubicBezTo>
                  <a:pt x="415746" y="427443"/>
                  <a:pt x="417341" y="429038"/>
                  <a:pt x="419999" y="430101"/>
                </a:cubicBezTo>
                <a:cubicBezTo>
                  <a:pt x="420531" y="430633"/>
                  <a:pt x="421063" y="430633"/>
                  <a:pt x="422126" y="431164"/>
                </a:cubicBezTo>
                <a:cubicBezTo>
                  <a:pt x="423189" y="431696"/>
                  <a:pt x="424784" y="432228"/>
                  <a:pt x="427974" y="433291"/>
                </a:cubicBezTo>
                <a:lnTo>
                  <a:pt x="428506" y="433291"/>
                </a:lnTo>
                <a:lnTo>
                  <a:pt x="428506" y="402455"/>
                </a:lnTo>
                <a:close/>
                <a:moveTo>
                  <a:pt x="4244653" y="400861"/>
                </a:moveTo>
                <a:cubicBezTo>
                  <a:pt x="4240931" y="401392"/>
                  <a:pt x="4238273" y="402456"/>
                  <a:pt x="4236146" y="403519"/>
                </a:cubicBezTo>
                <a:cubicBezTo>
                  <a:pt x="4235615" y="404050"/>
                  <a:pt x="4234551" y="404582"/>
                  <a:pt x="4234020" y="405114"/>
                </a:cubicBezTo>
                <a:cubicBezTo>
                  <a:pt x="4229766" y="408304"/>
                  <a:pt x="4227640" y="412025"/>
                  <a:pt x="4227640" y="416278"/>
                </a:cubicBezTo>
                <a:cubicBezTo>
                  <a:pt x="4227640" y="418937"/>
                  <a:pt x="4228703" y="421595"/>
                  <a:pt x="4230298" y="423721"/>
                </a:cubicBezTo>
                <a:cubicBezTo>
                  <a:pt x="4231893" y="425848"/>
                  <a:pt x="4233488" y="427443"/>
                  <a:pt x="4236146" y="428506"/>
                </a:cubicBezTo>
                <a:cubicBezTo>
                  <a:pt x="4236678" y="429038"/>
                  <a:pt x="4237210" y="429038"/>
                  <a:pt x="4238273" y="429569"/>
                </a:cubicBezTo>
                <a:cubicBezTo>
                  <a:pt x="4239336" y="430101"/>
                  <a:pt x="4240931" y="430633"/>
                  <a:pt x="4244121" y="431696"/>
                </a:cubicBezTo>
                <a:lnTo>
                  <a:pt x="4244653" y="431696"/>
                </a:lnTo>
                <a:lnTo>
                  <a:pt x="4244653" y="400861"/>
                </a:lnTo>
                <a:close/>
                <a:moveTo>
                  <a:pt x="3821463" y="400861"/>
                </a:moveTo>
                <a:cubicBezTo>
                  <a:pt x="3817741" y="401392"/>
                  <a:pt x="3815083" y="402456"/>
                  <a:pt x="3812957" y="403519"/>
                </a:cubicBezTo>
                <a:cubicBezTo>
                  <a:pt x="3812425" y="404050"/>
                  <a:pt x="3811362" y="404582"/>
                  <a:pt x="3810830" y="405114"/>
                </a:cubicBezTo>
                <a:cubicBezTo>
                  <a:pt x="3806577" y="408304"/>
                  <a:pt x="3804450" y="412025"/>
                  <a:pt x="3804450" y="416278"/>
                </a:cubicBezTo>
                <a:cubicBezTo>
                  <a:pt x="3804450" y="418937"/>
                  <a:pt x="3805513" y="421595"/>
                  <a:pt x="3807108" y="423721"/>
                </a:cubicBezTo>
                <a:cubicBezTo>
                  <a:pt x="3808703" y="425848"/>
                  <a:pt x="3810298" y="427443"/>
                  <a:pt x="3812957" y="428506"/>
                </a:cubicBezTo>
                <a:cubicBezTo>
                  <a:pt x="3813488" y="429038"/>
                  <a:pt x="3814020" y="429038"/>
                  <a:pt x="3815083" y="429569"/>
                </a:cubicBezTo>
                <a:cubicBezTo>
                  <a:pt x="3816146" y="430101"/>
                  <a:pt x="3817741" y="430633"/>
                  <a:pt x="3820931" y="431696"/>
                </a:cubicBezTo>
                <a:lnTo>
                  <a:pt x="3821463" y="431696"/>
                </a:lnTo>
                <a:lnTo>
                  <a:pt x="3821463" y="400861"/>
                </a:lnTo>
                <a:close/>
                <a:moveTo>
                  <a:pt x="2974021" y="400861"/>
                </a:moveTo>
                <a:cubicBezTo>
                  <a:pt x="2970299" y="401392"/>
                  <a:pt x="2967641" y="402456"/>
                  <a:pt x="2965514" y="403519"/>
                </a:cubicBezTo>
                <a:cubicBezTo>
                  <a:pt x="2964983" y="404050"/>
                  <a:pt x="2963919" y="404582"/>
                  <a:pt x="2963388" y="405114"/>
                </a:cubicBezTo>
                <a:cubicBezTo>
                  <a:pt x="2959134" y="408304"/>
                  <a:pt x="2957008" y="412025"/>
                  <a:pt x="2957008" y="416278"/>
                </a:cubicBezTo>
                <a:cubicBezTo>
                  <a:pt x="2957008" y="418937"/>
                  <a:pt x="2958071" y="421595"/>
                  <a:pt x="2959666" y="423721"/>
                </a:cubicBezTo>
                <a:cubicBezTo>
                  <a:pt x="2961261" y="425848"/>
                  <a:pt x="2962856" y="427443"/>
                  <a:pt x="2965514" y="428506"/>
                </a:cubicBezTo>
                <a:cubicBezTo>
                  <a:pt x="2966046" y="429038"/>
                  <a:pt x="2966577" y="429038"/>
                  <a:pt x="2967641" y="429569"/>
                </a:cubicBezTo>
                <a:cubicBezTo>
                  <a:pt x="2968704" y="430101"/>
                  <a:pt x="2970299" y="430633"/>
                  <a:pt x="2973489" y="431696"/>
                </a:cubicBezTo>
                <a:lnTo>
                  <a:pt x="2974021" y="431696"/>
                </a:lnTo>
                <a:lnTo>
                  <a:pt x="2974021" y="400861"/>
                </a:lnTo>
                <a:close/>
                <a:moveTo>
                  <a:pt x="2123921" y="400861"/>
                </a:moveTo>
                <a:cubicBezTo>
                  <a:pt x="2120199" y="401392"/>
                  <a:pt x="2117541" y="402456"/>
                  <a:pt x="2115414" y="403519"/>
                </a:cubicBezTo>
                <a:cubicBezTo>
                  <a:pt x="2114883" y="404050"/>
                  <a:pt x="2113820" y="404582"/>
                  <a:pt x="2113288" y="405114"/>
                </a:cubicBezTo>
                <a:cubicBezTo>
                  <a:pt x="2109035" y="408304"/>
                  <a:pt x="2106908" y="412025"/>
                  <a:pt x="2106908" y="416278"/>
                </a:cubicBezTo>
                <a:cubicBezTo>
                  <a:pt x="2106908" y="418937"/>
                  <a:pt x="2107971" y="421595"/>
                  <a:pt x="2109566" y="423721"/>
                </a:cubicBezTo>
                <a:cubicBezTo>
                  <a:pt x="2111161" y="425848"/>
                  <a:pt x="2112756" y="427443"/>
                  <a:pt x="2115414" y="428506"/>
                </a:cubicBezTo>
                <a:cubicBezTo>
                  <a:pt x="2115946" y="429038"/>
                  <a:pt x="2116478" y="429038"/>
                  <a:pt x="2117541" y="429569"/>
                </a:cubicBezTo>
                <a:cubicBezTo>
                  <a:pt x="2118604" y="430101"/>
                  <a:pt x="2120199" y="430633"/>
                  <a:pt x="2123389" y="431696"/>
                </a:cubicBezTo>
                <a:lnTo>
                  <a:pt x="2123921" y="431696"/>
                </a:lnTo>
                <a:lnTo>
                  <a:pt x="2123921" y="400861"/>
                </a:lnTo>
                <a:close/>
                <a:moveTo>
                  <a:pt x="1700731" y="400861"/>
                </a:moveTo>
                <a:cubicBezTo>
                  <a:pt x="1697009" y="401392"/>
                  <a:pt x="1694351" y="402456"/>
                  <a:pt x="1692224" y="403519"/>
                </a:cubicBezTo>
                <a:cubicBezTo>
                  <a:pt x="1691693" y="404050"/>
                  <a:pt x="1690629" y="404582"/>
                  <a:pt x="1690098" y="405114"/>
                </a:cubicBezTo>
                <a:cubicBezTo>
                  <a:pt x="1685845" y="408304"/>
                  <a:pt x="1683718" y="412025"/>
                  <a:pt x="1683718" y="416278"/>
                </a:cubicBezTo>
                <a:cubicBezTo>
                  <a:pt x="1683718" y="418937"/>
                  <a:pt x="1684781" y="421595"/>
                  <a:pt x="1686376" y="423721"/>
                </a:cubicBezTo>
                <a:cubicBezTo>
                  <a:pt x="1687971" y="425848"/>
                  <a:pt x="1689566" y="427443"/>
                  <a:pt x="1692224" y="428506"/>
                </a:cubicBezTo>
                <a:cubicBezTo>
                  <a:pt x="1692756" y="429038"/>
                  <a:pt x="1693288" y="429038"/>
                  <a:pt x="1694351" y="429569"/>
                </a:cubicBezTo>
                <a:cubicBezTo>
                  <a:pt x="1695414" y="430101"/>
                  <a:pt x="1697009" y="430633"/>
                  <a:pt x="1700199" y="431696"/>
                </a:cubicBezTo>
                <a:lnTo>
                  <a:pt x="1700731" y="431696"/>
                </a:lnTo>
                <a:lnTo>
                  <a:pt x="1700731" y="400861"/>
                </a:lnTo>
                <a:close/>
                <a:moveTo>
                  <a:pt x="852758" y="400861"/>
                </a:moveTo>
                <a:cubicBezTo>
                  <a:pt x="849036" y="401392"/>
                  <a:pt x="846378" y="402456"/>
                  <a:pt x="844251" y="403519"/>
                </a:cubicBezTo>
                <a:cubicBezTo>
                  <a:pt x="843720" y="404050"/>
                  <a:pt x="842656" y="404582"/>
                  <a:pt x="842125" y="405114"/>
                </a:cubicBezTo>
                <a:cubicBezTo>
                  <a:pt x="837872" y="408304"/>
                  <a:pt x="835745" y="412025"/>
                  <a:pt x="835745" y="416278"/>
                </a:cubicBezTo>
                <a:cubicBezTo>
                  <a:pt x="835745" y="418937"/>
                  <a:pt x="836808" y="421595"/>
                  <a:pt x="838403" y="423721"/>
                </a:cubicBezTo>
                <a:cubicBezTo>
                  <a:pt x="839998" y="425848"/>
                  <a:pt x="841593" y="427443"/>
                  <a:pt x="844251" y="428506"/>
                </a:cubicBezTo>
                <a:cubicBezTo>
                  <a:pt x="844783" y="429038"/>
                  <a:pt x="845315" y="429038"/>
                  <a:pt x="846378" y="429569"/>
                </a:cubicBezTo>
                <a:cubicBezTo>
                  <a:pt x="847441" y="430101"/>
                  <a:pt x="849036" y="430633"/>
                  <a:pt x="852226" y="431696"/>
                </a:cubicBezTo>
                <a:lnTo>
                  <a:pt x="852758" y="431696"/>
                </a:lnTo>
                <a:lnTo>
                  <a:pt x="852758" y="400861"/>
                </a:lnTo>
                <a:close/>
                <a:moveTo>
                  <a:pt x="3397741" y="396607"/>
                </a:moveTo>
                <a:cubicBezTo>
                  <a:pt x="3394020" y="397139"/>
                  <a:pt x="3391362" y="398203"/>
                  <a:pt x="3389235" y="399266"/>
                </a:cubicBezTo>
                <a:cubicBezTo>
                  <a:pt x="3388704" y="399797"/>
                  <a:pt x="3387640" y="400329"/>
                  <a:pt x="3387109" y="400861"/>
                </a:cubicBezTo>
                <a:cubicBezTo>
                  <a:pt x="3382855" y="404050"/>
                  <a:pt x="3380729" y="407772"/>
                  <a:pt x="3380729" y="412025"/>
                </a:cubicBezTo>
                <a:cubicBezTo>
                  <a:pt x="3380729" y="414683"/>
                  <a:pt x="3381792" y="417342"/>
                  <a:pt x="3383387" y="419468"/>
                </a:cubicBezTo>
                <a:cubicBezTo>
                  <a:pt x="3384982" y="421595"/>
                  <a:pt x="3386577" y="423190"/>
                  <a:pt x="3389235" y="424253"/>
                </a:cubicBezTo>
                <a:cubicBezTo>
                  <a:pt x="3389767" y="424785"/>
                  <a:pt x="3390299" y="424785"/>
                  <a:pt x="3391362" y="425316"/>
                </a:cubicBezTo>
                <a:cubicBezTo>
                  <a:pt x="3392425" y="425848"/>
                  <a:pt x="3394020" y="426380"/>
                  <a:pt x="3397210" y="427443"/>
                </a:cubicBezTo>
                <a:lnTo>
                  <a:pt x="3397741" y="427443"/>
                </a:lnTo>
                <a:lnTo>
                  <a:pt x="3397741" y="396607"/>
                </a:lnTo>
                <a:close/>
                <a:moveTo>
                  <a:pt x="1277010" y="396607"/>
                </a:moveTo>
                <a:cubicBezTo>
                  <a:pt x="1273289" y="397139"/>
                  <a:pt x="1270631" y="398203"/>
                  <a:pt x="1268504" y="399266"/>
                </a:cubicBezTo>
                <a:cubicBezTo>
                  <a:pt x="1267972" y="399797"/>
                  <a:pt x="1266909" y="400329"/>
                  <a:pt x="1266377" y="400861"/>
                </a:cubicBezTo>
                <a:cubicBezTo>
                  <a:pt x="1262124" y="404050"/>
                  <a:pt x="1259998" y="407772"/>
                  <a:pt x="1259998" y="412025"/>
                </a:cubicBezTo>
                <a:cubicBezTo>
                  <a:pt x="1259998" y="414683"/>
                  <a:pt x="1261061" y="417342"/>
                  <a:pt x="1262656" y="419468"/>
                </a:cubicBezTo>
                <a:cubicBezTo>
                  <a:pt x="1264251" y="421595"/>
                  <a:pt x="1265846" y="423190"/>
                  <a:pt x="1268504" y="424253"/>
                </a:cubicBezTo>
                <a:cubicBezTo>
                  <a:pt x="1269036" y="424785"/>
                  <a:pt x="1269567" y="424785"/>
                  <a:pt x="1270631" y="425316"/>
                </a:cubicBezTo>
                <a:cubicBezTo>
                  <a:pt x="1271694" y="425848"/>
                  <a:pt x="1273289" y="426380"/>
                  <a:pt x="1276479" y="427443"/>
                </a:cubicBezTo>
                <a:lnTo>
                  <a:pt x="1277010" y="427443"/>
                </a:lnTo>
                <a:lnTo>
                  <a:pt x="1277010" y="396607"/>
                </a:lnTo>
                <a:close/>
                <a:moveTo>
                  <a:pt x="2548705" y="365772"/>
                </a:moveTo>
                <a:lnTo>
                  <a:pt x="2571034" y="365772"/>
                </a:lnTo>
                <a:lnTo>
                  <a:pt x="2571034" y="385443"/>
                </a:lnTo>
                <a:cubicBezTo>
                  <a:pt x="2574224" y="385974"/>
                  <a:pt x="2577414" y="386506"/>
                  <a:pt x="2580604" y="387569"/>
                </a:cubicBezTo>
                <a:cubicBezTo>
                  <a:pt x="2581667" y="388101"/>
                  <a:pt x="2582199" y="388101"/>
                  <a:pt x="2583262" y="388633"/>
                </a:cubicBezTo>
                <a:cubicBezTo>
                  <a:pt x="2590705" y="391823"/>
                  <a:pt x="2596021" y="395544"/>
                  <a:pt x="2599743" y="400329"/>
                </a:cubicBezTo>
                <a:cubicBezTo>
                  <a:pt x="2603465" y="405645"/>
                  <a:pt x="2605591" y="412025"/>
                  <a:pt x="2607186" y="420000"/>
                </a:cubicBezTo>
                <a:lnTo>
                  <a:pt x="2586452" y="422658"/>
                </a:lnTo>
                <a:cubicBezTo>
                  <a:pt x="2585389" y="417873"/>
                  <a:pt x="2583794" y="413088"/>
                  <a:pt x="2580604" y="409898"/>
                </a:cubicBezTo>
                <a:cubicBezTo>
                  <a:pt x="2579541" y="409367"/>
                  <a:pt x="2579009" y="408304"/>
                  <a:pt x="2577946" y="407772"/>
                </a:cubicBezTo>
                <a:cubicBezTo>
                  <a:pt x="2576351" y="406177"/>
                  <a:pt x="2573692" y="405114"/>
                  <a:pt x="2571034" y="404050"/>
                </a:cubicBezTo>
                <a:lnTo>
                  <a:pt x="2571034" y="439671"/>
                </a:lnTo>
                <a:cubicBezTo>
                  <a:pt x="2574756" y="440734"/>
                  <a:pt x="2577946" y="441266"/>
                  <a:pt x="2580604" y="442329"/>
                </a:cubicBezTo>
                <a:cubicBezTo>
                  <a:pt x="2585920" y="443924"/>
                  <a:pt x="2589642" y="445519"/>
                  <a:pt x="2592832" y="446582"/>
                </a:cubicBezTo>
                <a:cubicBezTo>
                  <a:pt x="2598680" y="449240"/>
                  <a:pt x="2603465" y="452962"/>
                  <a:pt x="2607718" y="457747"/>
                </a:cubicBezTo>
                <a:cubicBezTo>
                  <a:pt x="2611439" y="462531"/>
                  <a:pt x="2613034" y="468379"/>
                  <a:pt x="2613034" y="475822"/>
                </a:cubicBezTo>
                <a:cubicBezTo>
                  <a:pt x="2613034" y="482734"/>
                  <a:pt x="2610908" y="489114"/>
                  <a:pt x="2606654" y="495493"/>
                </a:cubicBezTo>
                <a:cubicBezTo>
                  <a:pt x="2602401" y="501342"/>
                  <a:pt x="2596553" y="506658"/>
                  <a:pt x="2588578" y="509848"/>
                </a:cubicBezTo>
                <a:cubicBezTo>
                  <a:pt x="2585920" y="510911"/>
                  <a:pt x="2583794" y="511974"/>
                  <a:pt x="2581135" y="512506"/>
                </a:cubicBezTo>
                <a:cubicBezTo>
                  <a:pt x="2577946" y="513569"/>
                  <a:pt x="2574756" y="514101"/>
                  <a:pt x="2571566" y="514633"/>
                </a:cubicBezTo>
                <a:lnTo>
                  <a:pt x="2571566" y="533772"/>
                </a:lnTo>
                <a:lnTo>
                  <a:pt x="2549237" y="533772"/>
                </a:lnTo>
                <a:lnTo>
                  <a:pt x="2549237" y="514101"/>
                </a:lnTo>
                <a:cubicBezTo>
                  <a:pt x="2546047" y="513569"/>
                  <a:pt x="2543389" y="513038"/>
                  <a:pt x="2540730" y="512506"/>
                </a:cubicBezTo>
                <a:cubicBezTo>
                  <a:pt x="2534351" y="510911"/>
                  <a:pt x="2529034" y="508253"/>
                  <a:pt x="2524781" y="505063"/>
                </a:cubicBezTo>
                <a:cubicBezTo>
                  <a:pt x="2516275" y="498683"/>
                  <a:pt x="2510427" y="488582"/>
                  <a:pt x="2508300" y="475291"/>
                </a:cubicBezTo>
                <a:lnTo>
                  <a:pt x="2529034" y="472101"/>
                </a:lnTo>
                <a:cubicBezTo>
                  <a:pt x="2530629" y="480076"/>
                  <a:pt x="2533819" y="486987"/>
                  <a:pt x="2539136" y="491240"/>
                </a:cubicBezTo>
                <a:cubicBezTo>
                  <a:pt x="2539667" y="491240"/>
                  <a:pt x="2540199" y="491772"/>
                  <a:pt x="2540730" y="492303"/>
                </a:cubicBezTo>
                <a:cubicBezTo>
                  <a:pt x="2543389" y="493899"/>
                  <a:pt x="2546047" y="494962"/>
                  <a:pt x="2549237" y="496025"/>
                </a:cubicBezTo>
                <a:lnTo>
                  <a:pt x="2549237" y="455620"/>
                </a:lnTo>
                <a:cubicBezTo>
                  <a:pt x="2546047" y="454557"/>
                  <a:pt x="2543389" y="454025"/>
                  <a:pt x="2540730" y="452962"/>
                </a:cubicBezTo>
                <a:cubicBezTo>
                  <a:pt x="2536477" y="451367"/>
                  <a:pt x="2532756" y="449772"/>
                  <a:pt x="2530097" y="448709"/>
                </a:cubicBezTo>
                <a:cubicBezTo>
                  <a:pt x="2523718" y="446050"/>
                  <a:pt x="2519465" y="442329"/>
                  <a:pt x="2516275" y="437012"/>
                </a:cubicBezTo>
                <a:cubicBezTo>
                  <a:pt x="2513085" y="432228"/>
                  <a:pt x="2511490" y="426380"/>
                  <a:pt x="2511490" y="420531"/>
                </a:cubicBezTo>
                <a:cubicBezTo>
                  <a:pt x="2511490" y="415215"/>
                  <a:pt x="2512553" y="409898"/>
                  <a:pt x="2515211" y="405114"/>
                </a:cubicBezTo>
                <a:cubicBezTo>
                  <a:pt x="2517870" y="400329"/>
                  <a:pt x="2521591" y="396607"/>
                  <a:pt x="2525844" y="393417"/>
                </a:cubicBezTo>
                <a:cubicBezTo>
                  <a:pt x="2529034" y="390759"/>
                  <a:pt x="2533287" y="388633"/>
                  <a:pt x="2539136" y="387038"/>
                </a:cubicBezTo>
                <a:lnTo>
                  <a:pt x="2540199" y="386506"/>
                </a:lnTo>
                <a:cubicBezTo>
                  <a:pt x="2542857" y="385974"/>
                  <a:pt x="2546047" y="385443"/>
                  <a:pt x="2548705" y="384911"/>
                </a:cubicBezTo>
                <a:lnTo>
                  <a:pt x="2548705" y="365772"/>
                </a:lnTo>
                <a:close/>
                <a:moveTo>
                  <a:pt x="427974" y="365772"/>
                </a:moveTo>
                <a:lnTo>
                  <a:pt x="450303" y="365772"/>
                </a:lnTo>
                <a:lnTo>
                  <a:pt x="450303" y="385443"/>
                </a:lnTo>
                <a:cubicBezTo>
                  <a:pt x="453493" y="385974"/>
                  <a:pt x="456683" y="386506"/>
                  <a:pt x="459873" y="387569"/>
                </a:cubicBezTo>
                <a:cubicBezTo>
                  <a:pt x="460936" y="388101"/>
                  <a:pt x="461468" y="388101"/>
                  <a:pt x="462531" y="388633"/>
                </a:cubicBezTo>
                <a:cubicBezTo>
                  <a:pt x="469974" y="391823"/>
                  <a:pt x="475290" y="395544"/>
                  <a:pt x="479012" y="400329"/>
                </a:cubicBezTo>
                <a:cubicBezTo>
                  <a:pt x="482733" y="405645"/>
                  <a:pt x="484860" y="412025"/>
                  <a:pt x="486455" y="420000"/>
                </a:cubicBezTo>
                <a:lnTo>
                  <a:pt x="465721" y="422658"/>
                </a:lnTo>
                <a:cubicBezTo>
                  <a:pt x="464658" y="417873"/>
                  <a:pt x="463063" y="413088"/>
                  <a:pt x="459873" y="409898"/>
                </a:cubicBezTo>
                <a:cubicBezTo>
                  <a:pt x="458809" y="409367"/>
                  <a:pt x="458278" y="408304"/>
                  <a:pt x="457214" y="407772"/>
                </a:cubicBezTo>
                <a:cubicBezTo>
                  <a:pt x="455620" y="406177"/>
                  <a:pt x="452961" y="405114"/>
                  <a:pt x="450303" y="404050"/>
                </a:cubicBezTo>
                <a:lnTo>
                  <a:pt x="450303" y="439671"/>
                </a:lnTo>
                <a:cubicBezTo>
                  <a:pt x="454025" y="440734"/>
                  <a:pt x="457214" y="441266"/>
                  <a:pt x="459873" y="442329"/>
                </a:cubicBezTo>
                <a:cubicBezTo>
                  <a:pt x="465189" y="443924"/>
                  <a:pt x="468911" y="445519"/>
                  <a:pt x="472101" y="446582"/>
                </a:cubicBezTo>
                <a:cubicBezTo>
                  <a:pt x="477949" y="449240"/>
                  <a:pt x="482733" y="452962"/>
                  <a:pt x="486987" y="457747"/>
                </a:cubicBezTo>
                <a:cubicBezTo>
                  <a:pt x="490708" y="462531"/>
                  <a:pt x="492303" y="468379"/>
                  <a:pt x="492303" y="475822"/>
                </a:cubicBezTo>
                <a:cubicBezTo>
                  <a:pt x="492303" y="482734"/>
                  <a:pt x="490176" y="489114"/>
                  <a:pt x="485923" y="495493"/>
                </a:cubicBezTo>
                <a:cubicBezTo>
                  <a:pt x="481670" y="501342"/>
                  <a:pt x="475822" y="506658"/>
                  <a:pt x="467847" y="509848"/>
                </a:cubicBezTo>
                <a:cubicBezTo>
                  <a:pt x="465189" y="510911"/>
                  <a:pt x="463063" y="511974"/>
                  <a:pt x="460404" y="512506"/>
                </a:cubicBezTo>
                <a:cubicBezTo>
                  <a:pt x="457214" y="513569"/>
                  <a:pt x="454025" y="514101"/>
                  <a:pt x="450835" y="514633"/>
                </a:cubicBezTo>
                <a:lnTo>
                  <a:pt x="450835" y="533772"/>
                </a:lnTo>
                <a:lnTo>
                  <a:pt x="428506" y="533772"/>
                </a:lnTo>
                <a:lnTo>
                  <a:pt x="428506" y="514101"/>
                </a:lnTo>
                <a:cubicBezTo>
                  <a:pt x="425316" y="513569"/>
                  <a:pt x="422658" y="513038"/>
                  <a:pt x="419999" y="512506"/>
                </a:cubicBezTo>
                <a:cubicBezTo>
                  <a:pt x="413620" y="510911"/>
                  <a:pt x="408303" y="508253"/>
                  <a:pt x="404050" y="505063"/>
                </a:cubicBezTo>
                <a:cubicBezTo>
                  <a:pt x="395544" y="498683"/>
                  <a:pt x="389696" y="488582"/>
                  <a:pt x="387569" y="475291"/>
                </a:cubicBezTo>
                <a:lnTo>
                  <a:pt x="408303" y="472101"/>
                </a:lnTo>
                <a:cubicBezTo>
                  <a:pt x="409898" y="480076"/>
                  <a:pt x="413088" y="486987"/>
                  <a:pt x="418404" y="491240"/>
                </a:cubicBezTo>
                <a:cubicBezTo>
                  <a:pt x="418936" y="491240"/>
                  <a:pt x="419468" y="491772"/>
                  <a:pt x="419999" y="492303"/>
                </a:cubicBezTo>
                <a:cubicBezTo>
                  <a:pt x="422658" y="493899"/>
                  <a:pt x="425316" y="494962"/>
                  <a:pt x="428506" y="496025"/>
                </a:cubicBezTo>
                <a:lnTo>
                  <a:pt x="428506" y="455620"/>
                </a:lnTo>
                <a:cubicBezTo>
                  <a:pt x="425316" y="454557"/>
                  <a:pt x="422658" y="454025"/>
                  <a:pt x="419999" y="452962"/>
                </a:cubicBezTo>
                <a:cubicBezTo>
                  <a:pt x="415746" y="451367"/>
                  <a:pt x="412025" y="449772"/>
                  <a:pt x="409366" y="448709"/>
                </a:cubicBezTo>
                <a:cubicBezTo>
                  <a:pt x="402987" y="446050"/>
                  <a:pt x="398734" y="442329"/>
                  <a:pt x="395544" y="437012"/>
                </a:cubicBezTo>
                <a:cubicBezTo>
                  <a:pt x="392354" y="432228"/>
                  <a:pt x="390759" y="426380"/>
                  <a:pt x="390759" y="420531"/>
                </a:cubicBezTo>
                <a:cubicBezTo>
                  <a:pt x="390759" y="415215"/>
                  <a:pt x="391822" y="409898"/>
                  <a:pt x="394480" y="405114"/>
                </a:cubicBezTo>
                <a:cubicBezTo>
                  <a:pt x="397139" y="400329"/>
                  <a:pt x="400860" y="396607"/>
                  <a:pt x="405113" y="393417"/>
                </a:cubicBezTo>
                <a:cubicBezTo>
                  <a:pt x="408303" y="390759"/>
                  <a:pt x="412556" y="388633"/>
                  <a:pt x="418404" y="387038"/>
                </a:cubicBezTo>
                <a:lnTo>
                  <a:pt x="419468" y="386506"/>
                </a:lnTo>
                <a:cubicBezTo>
                  <a:pt x="422126" y="385974"/>
                  <a:pt x="425316" y="385443"/>
                  <a:pt x="427974" y="384911"/>
                </a:cubicBezTo>
                <a:lnTo>
                  <a:pt x="427974" y="365772"/>
                </a:lnTo>
                <a:close/>
                <a:moveTo>
                  <a:pt x="4244121" y="364177"/>
                </a:moveTo>
                <a:lnTo>
                  <a:pt x="4266450" y="364177"/>
                </a:lnTo>
                <a:lnTo>
                  <a:pt x="4266450" y="383848"/>
                </a:lnTo>
                <a:cubicBezTo>
                  <a:pt x="4269640" y="384380"/>
                  <a:pt x="4272830" y="384911"/>
                  <a:pt x="4276020" y="385974"/>
                </a:cubicBezTo>
                <a:cubicBezTo>
                  <a:pt x="4277083" y="386506"/>
                  <a:pt x="4277614" y="386506"/>
                  <a:pt x="4278678" y="387038"/>
                </a:cubicBezTo>
                <a:cubicBezTo>
                  <a:pt x="4286121" y="390228"/>
                  <a:pt x="4291437" y="393949"/>
                  <a:pt x="4295159" y="398734"/>
                </a:cubicBezTo>
                <a:cubicBezTo>
                  <a:pt x="4298880" y="404050"/>
                  <a:pt x="4301007" y="410430"/>
                  <a:pt x="4302602" y="418405"/>
                </a:cubicBezTo>
                <a:lnTo>
                  <a:pt x="4281868" y="421063"/>
                </a:lnTo>
                <a:cubicBezTo>
                  <a:pt x="4280805" y="416278"/>
                  <a:pt x="4279210" y="411494"/>
                  <a:pt x="4276020" y="408304"/>
                </a:cubicBezTo>
                <a:cubicBezTo>
                  <a:pt x="4274956" y="407772"/>
                  <a:pt x="4274425" y="406709"/>
                  <a:pt x="4273361" y="406177"/>
                </a:cubicBezTo>
                <a:cubicBezTo>
                  <a:pt x="4271767" y="404582"/>
                  <a:pt x="4269108" y="403519"/>
                  <a:pt x="4266450" y="402456"/>
                </a:cubicBezTo>
                <a:lnTo>
                  <a:pt x="4266450" y="438076"/>
                </a:lnTo>
                <a:cubicBezTo>
                  <a:pt x="4270172" y="439139"/>
                  <a:pt x="4273361" y="439671"/>
                  <a:pt x="4276020" y="440734"/>
                </a:cubicBezTo>
                <a:cubicBezTo>
                  <a:pt x="4281336" y="442329"/>
                  <a:pt x="4285058" y="443924"/>
                  <a:pt x="4288247" y="444987"/>
                </a:cubicBezTo>
                <a:cubicBezTo>
                  <a:pt x="4294096" y="447645"/>
                  <a:pt x="4298880" y="451367"/>
                  <a:pt x="4303134" y="456152"/>
                </a:cubicBezTo>
                <a:cubicBezTo>
                  <a:pt x="4306855" y="460936"/>
                  <a:pt x="4308450" y="466785"/>
                  <a:pt x="4308450" y="474228"/>
                </a:cubicBezTo>
                <a:cubicBezTo>
                  <a:pt x="4308450" y="481139"/>
                  <a:pt x="4306323" y="487519"/>
                  <a:pt x="4302070" y="493899"/>
                </a:cubicBezTo>
                <a:cubicBezTo>
                  <a:pt x="4297817" y="499747"/>
                  <a:pt x="4291969" y="505063"/>
                  <a:pt x="4283994" y="508253"/>
                </a:cubicBezTo>
                <a:cubicBezTo>
                  <a:pt x="4281336" y="509316"/>
                  <a:pt x="4279210" y="510379"/>
                  <a:pt x="4276551" y="510911"/>
                </a:cubicBezTo>
                <a:cubicBezTo>
                  <a:pt x="4273361" y="511974"/>
                  <a:pt x="4270172" y="512506"/>
                  <a:pt x="4266982" y="513038"/>
                </a:cubicBezTo>
                <a:lnTo>
                  <a:pt x="4266982" y="532177"/>
                </a:lnTo>
                <a:lnTo>
                  <a:pt x="4244653" y="532177"/>
                </a:lnTo>
                <a:lnTo>
                  <a:pt x="4244653" y="512506"/>
                </a:lnTo>
                <a:cubicBezTo>
                  <a:pt x="4241463" y="511974"/>
                  <a:pt x="4238804" y="511443"/>
                  <a:pt x="4236146" y="510911"/>
                </a:cubicBezTo>
                <a:cubicBezTo>
                  <a:pt x="4229766" y="509316"/>
                  <a:pt x="4224450" y="506658"/>
                  <a:pt x="4220197" y="503468"/>
                </a:cubicBezTo>
                <a:cubicBezTo>
                  <a:pt x="4211691" y="497088"/>
                  <a:pt x="4205842" y="486987"/>
                  <a:pt x="4203716" y="473696"/>
                </a:cubicBezTo>
                <a:lnTo>
                  <a:pt x="4224450" y="470506"/>
                </a:lnTo>
                <a:cubicBezTo>
                  <a:pt x="4226045" y="478481"/>
                  <a:pt x="4229235" y="485392"/>
                  <a:pt x="4234551" y="489645"/>
                </a:cubicBezTo>
                <a:cubicBezTo>
                  <a:pt x="4235083" y="489645"/>
                  <a:pt x="4235615" y="490177"/>
                  <a:pt x="4236146" y="490709"/>
                </a:cubicBezTo>
                <a:cubicBezTo>
                  <a:pt x="4238804" y="492304"/>
                  <a:pt x="4241463" y="493367"/>
                  <a:pt x="4244653" y="494430"/>
                </a:cubicBezTo>
                <a:lnTo>
                  <a:pt x="4244653" y="454025"/>
                </a:lnTo>
                <a:cubicBezTo>
                  <a:pt x="4241463" y="452962"/>
                  <a:pt x="4238804" y="452430"/>
                  <a:pt x="4236146" y="451367"/>
                </a:cubicBezTo>
                <a:cubicBezTo>
                  <a:pt x="4231893" y="449772"/>
                  <a:pt x="4228172" y="448177"/>
                  <a:pt x="4225513" y="447114"/>
                </a:cubicBezTo>
                <a:cubicBezTo>
                  <a:pt x="4219134" y="444455"/>
                  <a:pt x="4214880" y="440734"/>
                  <a:pt x="4211691" y="435418"/>
                </a:cubicBezTo>
                <a:cubicBezTo>
                  <a:pt x="4208501" y="430633"/>
                  <a:pt x="4206906" y="424785"/>
                  <a:pt x="4206906" y="418937"/>
                </a:cubicBezTo>
                <a:cubicBezTo>
                  <a:pt x="4206906" y="413620"/>
                  <a:pt x="4207969" y="408304"/>
                  <a:pt x="4210627" y="403519"/>
                </a:cubicBezTo>
                <a:cubicBezTo>
                  <a:pt x="4213286" y="398734"/>
                  <a:pt x="4217007" y="395013"/>
                  <a:pt x="4221260" y="391823"/>
                </a:cubicBezTo>
                <a:cubicBezTo>
                  <a:pt x="4224450" y="389164"/>
                  <a:pt x="4228703" y="387038"/>
                  <a:pt x="4234551" y="385443"/>
                </a:cubicBezTo>
                <a:lnTo>
                  <a:pt x="4235615" y="384911"/>
                </a:lnTo>
                <a:cubicBezTo>
                  <a:pt x="4238273" y="384380"/>
                  <a:pt x="4241463" y="383848"/>
                  <a:pt x="4244121" y="383316"/>
                </a:cubicBezTo>
                <a:lnTo>
                  <a:pt x="4244121" y="364177"/>
                </a:lnTo>
                <a:close/>
                <a:moveTo>
                  <a:pt x="3820931" y="364177"/>
                </a:moveTo>
                <a:lnTo>
                  <a:pt x="3843260" y="364177"/>
                </a:lnTo>
                <a:lnTo>
                  <a:pt x="3843260" y="383848"/>
                </a:lnTo>
                <a:cubicBezTo>
                  <a:pt x="3846450" y="384380"/>
                  <a:pt x="3849640" y="384911"/>
                  <a:pt x="3852830" y="385974"/>
                </a:cubicBezTo>
                <a:cubicBezTo>
                  <a:pt x="3853893" y="386506"/>
                  <a:pt x="3854425" y="386506"/>
                  <a:pt x="3855488" y="387038"/>
                </a:cubicBezTo>
                <a:cubicBezTo>
                  <a:pt x="3862931" y="390228"/>
                  <a:pt x="3868247" y="393949"/>
                  <a:pt x="3871969" y="398734"/>
                </a:cubicBezTo>
                <a:cubicBezTo>
                  <a:pt x="3875691" y="404050"/>
                  <a:pt x="3877817" y="410430"/>
                  <a:pt x="3879412" y="418405"/>
                </a:cubicBezTo>
                <a:lnTo>
                  <a:pt x="3858678" y="421063"/>
                </a:lnTo>
                <a:cubicBezTo>
                  <a:pt x="3857615" y="416278"/>
                  <a:pt x="3856020" y="411494"/>
                  <a:pt x="3852830" y="408304"/>
                </a:cubicBezTo>
                <a:cubicBezTo>
                  <a:pt x="3851767" y="407772"/>
                  <a:pt x="3851235" y="406709"/>
                  <a:pt x="3850172" y="406177"/>
                </a:cubicBezTo>
                <a:cubicBezTo>
                  <a:pt x="3848577" y="404582"/>
                  <a:pt x="3845919" y="403519"/>
                  <a:pt x="3843260" y="402456"/>
                </a:cubicBezTo>
                <a:lnTo>
                  <a:pt x="3843260" y="438076"/>
                </a:lnTo>
                <a:cubicBezTo>
                  <a:pt x="3846982" y="439139"/>
                  <a:pt x="3850172" y="439671"/>
                  <a:pt x="3852830" y="440734"/>
                </a:cubicBezTo>
                <a:cubicBezTo>
                  <a:pt x="3858146" y="442329"/>
                  <a:pt x="3861868" y="443924"/>
                  <a:pt x="3865058" y="444987"/>
                </a:cubicBezTo>
                <a:cubicBezTo>
                  <a:pt x="3870906" y="447645"/>
                  <a:pt x="3875691" y="451367"/>
                  <a:pt x="3879944" y="456152"/>
                </a:cubicBezTo>
                <a:cubicBezTo>
                  <a:pt x="3883665" y="460936"/>
                  <a:pt x="3885260" y="466785"/>
                  <a:pt x="3885260" y="474228"/>
                </a:cubicBezTo>
                <a:cubicBezTo>
                  <a:pt x="3885260" y="481139"/>
                  <a:pt x="3883134" y="488050"/>
                  <a:pt x="3878880" y="493899"/>
                </a:cubicBezTo>
                <a:cubicBezTo>
                  <a:pt x="3874627" y="499747"/>
                  <a:pt x="3868779" y="505063"/>
                  <a:pt x="3860805" y="508253"/>
                </a:cubicBezTo>
                <a:cubicBezTo>
                  <a:pt x="3858146" y="509316"/>
                  <a:pt x="3856020" y="510379"/>
                  <a:pt x="3853361" y="510911"/>
                </a:cubicBezTo>
                <a:cubicBezTo>
                  <a:pt x="3850172" y="511974"/>
                  <a:pt x="3846982" y="512506"/>
                  <a:pt x="3843792" y="513038"/>
                </a:cubicBezTo>
                <a:lnTo>
                  <a:pt x="3843792" y="532177"/>
                </a:lnTo>
                <a:lnTo>
                  <a:pt x="3821463" y="532177"/>
                </a:lnTo>
                <a:lnTo>
                  <a:pt x="3821463" y="512506"/>
                </a:lnTo>
                <a:cubicBezTo>
                  <a:pt x="3818273" y="511974"/>
                  <a:pt x="3815615" y="511443"/>
                  <a:pt x="3812957" y="510911"/>
                </a:cubicBezTo>
                <a:cubicBezTo>
                  <a:pt x="3806577" y="509316"/>
                  <a:pt x="3801260" y="506658"/>
                  <a:pt x="3797007" y="503468"/>
                </a:cubicBezTo>
                <a:cubicBezTo>
                  <a:pt x="3788501" y="497088"/>
                  <a:pt x="3782653" y="486987"/>
                  <a:pt x="3780526" y="473696"/>
                </a:cubicBezTo>
                <a:lnTo>
                  <a:pt x="3801260" y="470506"/>
                </a:lnTo>
                <a:cubicBezTo>
                  <a:pt x="3802855" y="478481"/>
                  <a:pt x="3806045" y="485392"/>
                  <a:pt x="3811362" y="489645"/>
                </a:cubicBezTo>
                <a:cubicBezTo>
                  <a:pt x="3811893" y="489645"/>
                  <a:pt x="3812425" y="490177"/>
                  <a:pt x="3812957" y="490709"/>
                </a:cubicBezTo>
                <a:cubicBezTo>
                  <a:pt x="3815615" y="492304"/>
                  <a:pt x="3818273" y="493367"/>
                  <a:pt x="3821463" y="494430"/>
                </a:cubicBezTo>
                <a:lnTo>
                  <a:pt x="3821463" y="454025"/>
                </a:lnTo>
                <a:cubicBezTo>
                  <a:pt x="3818273" y="452962"/>
                  <a:pt x="3815615" y="452430"/>
                  <a:pt x="3812957" y="451367"/>
                </a:cubicBezTo>
                <a:cubicBezTo>
                  <a:pt x="3808703" y="449772"/>
                  <a:pt x="3804982" y="448177"/>
                  <a:pt x="3802324" y="447114"/>
                </a:cubicBezTo>
                <a:cubicBezTo>
                  <a:pt x="3795944" y="444455"/>
                  <a:pt x="3791691" y="440734"/>
                  <a:pt x="3788501" y="435418"/>
                </a:cubicBezTo>
                <a:cubicBezTo>
                  <a:pt x="3785311" y="430633"/>
                  <a:pt x="3783716" y="424785"/>
                  <a:pt x="3783716" y="418937"/>
                </a:cubicBezTo>
                <a:cubicBezTo>
                  <a:pt x="3783716" y="413620"/>
                  <a:pt x="3784779" y="408304"/>
                  <a:pt x="3787438" y="403519"/>
                </a:cubicBezTo>
                <a:cubicBezTo>
                  <a:pt x="3790096" y="398734"/>
                  <a:pt x="3793817" y="395013"/>
                  <a:pt x="3798071" y="391823"/>
                </a:cubicBezTo>
                <a:cubicBezTo>
                  <a:pt x="3801260" y="389164"/>
                  <a:pt x="3805513" y="387038"/>
                  <a:pt x="3811362" y="385443"/>
                </a:cubicBezTo>
                <a:lnTo>
                  <a:pt x="3812425" y="384911"/>
                </a:lnTo>
                <a:cubicBezTo>
                  <a:pt x="3815083" y="384380"/>
                  <a:pt x="3818273" y="383848"/>
                  <a:pt x="3820931" y="383316"/>
                </a:cubicBezTo>
                <a:lnTo>
                  <a:pt x="3820931" y="364177"/>
                </a:lnTo>
                <a:close/>
                <a:moveTo>
                  <a:pt x="2972957" y="364177"/>
                </a:moveTo>
                <a:lnTo>
                  <a:pt x="2995286" y="364177"/>
                </a:lnTo>
                <a:lnTo>
                  <a:pt x="2995286" y="383848"/>
                </a:lnTo>
                <a:cubicBezTo>
                  <a:pt x="2998476" y="384380"/>
                  <a:pt x="3001666" y="384911"/>
                  <a:pt x="3004856" y="385974"/>
                </a:cubicBezTo>
                <a:cubicBezTo>
                  <a:pt x="3005919" y="386506"/>
                  <a:pt x="3006451" y="386506"/>
                  <a:pt x="3007514" y="387038"/>
                </a:cubicBezTo>
                <a:cubicBezTo>
                  <a:pt x="3014957" y="390228"/>
                  <a:pt x="3020273" y="393949"/>
                  <a:pt x="3023995" y="398734"/>
                </a:cubicBezTo>
                <a:cubicBezTo>
                  <a:pt x="3027717" y="404050"/>
                  <a:pt x="3029843" y="410430"/>
                  <a:pt x="3031438" y="418405"/>
                </a:cubicBezTo>
                <a:lnTo>
                  <a:pt x="3010704" y="421063"/>
                </a:lnTo>
                <a:cubicBezTo>
                  <a:pt x="3009641" y="416278"/>
                  <a:pt x="3008046" y="411494"/>
                  <a:pt x="3004856" y="408304"/>
                </a:cubicBezTo>
                <a:cubicBezTo>
                  <a:pt x="3003793" y="407772"/>
                  <a:pt x="3003261" y="406709"/>
                  <a:pt x="3002198" y="406177"/>
                </a:cubicBezTo>
                <a:cubicBezTo>
                  <a:pt x="3000603" y="404582"/>
                  <a:pt x="2997945" y="403519"/>
                  <a:pt x="2995286" y="402456"/>
                </a:cubicBezTo>
                <a:lnTo>
                  <a:pt x="2995286" y="438076"/>
                </a:lnTo>
                <a:cubicBezTo>
                  <a:pt x="2999008" y="439139"/>
                  <a:pt x="3002198" y="439671"/>
                  <a:pt x="3004856" y="440734"/>
                </a:cubicBezTo>
                <a:cubicBezTo>
                  <a:pt x="3010172" y="442329"/>
                  <a:pt x="3013894" y="443924"/>
                  <a:pt x="3017084" y="444987"/>
                </a:cubicBezTo>
                <a:cubicBezTo>
                  <a:pt x="3023463" y="447645"/>
                  <a:pt x="3027717" y="451367"/>
                  <a:pt x="3031970" y="456152"/>
                </a:cubicBezTo>
                <a:cubicBezTo>
                  <a:pt x="3035691" y="460936"/>
                  <a:pt x="3037286" y="466785"/>
                  <a:pt x="3037286" y="474228"/>
                </a:cubicBezTo>
                <a:cubicBezTo>
                  <a:pt x="3037286" y="481139"/>
                  <a:pt x="3035160" y="488050"/>
                  <a:pt x="3030906" y="493899"/>
                </a:cubicBezTo>
                <a:cubicBezTo>
                  <a:pt x="3026653" y="499747"/>
                  <a:pt x="3020805" y="505063"/>
                  <a:pt x="3012831" y="508253"/>
                </a:cubicBezTo>
                <a:cubicBezTo>
                  <a:pt x="3010172" y="509316"/>
                  <a:pt x="3008046" y="510379"/>
                  <a:pt x="3005387" y="510911"/>
                </a:cubicBezTo>
                <a:cubicBezTo>
                  <a:pt x="3002198" y="511974"/>
                  <a:pt x="2999008" y="512506"/>
                  <a:pt x="2995818" y="513038"/>
                </a:cubicBezTo>
                <a:lnTo>
                  <a:pt x="2995818" y="532177"/>
                </a:lnTo>
                <a:lnTo>
                  <a:pt x="2973489" y="532177"/>
                </a:lnTo>
                <a:lnTo>
                  <a:pt x="2973489" y="512506"/>
                </a:lnTo>
                <a:cubicBezTo>
                  <a:pt x="2970299" y="511974"/>
                  <a:pt x="2967641" y="511443"/>
                  <a:pt x="2964983" y="510911"/>
                </a:cubicBezTo>
                <a:cubicBezTo>
                  <a:pt x="2958603" y="509316"/>
                  <a:pt x="2953286" y="506658"/>
                  <a:pt x="2949033" y="503468"/>
                </a:cubicBezTo>
                <a:cubicBezTo>
                  <a:pt x="2940527" y="497088"/>
                  <a:pt x="2934679" y="486987"/>
                  <a:pt x="2932552" y="473696"/>
                </a:cubicBezTo>
                <a:lnTo>
                  <a:pt x="2953286" y="470506"/>
                </a:lnTo>
                <a:cubicBezTo>
                  <a:pt x="2954881" y="478481"/>
                  <a:pt x="2958071" y="485392"/>
                  <a:pt x="2963388" y="489645"/>
                </a:cubicBezTo>
                <a:cubicBezTo>
                  <a:pt x="2963919" y="489645"/>
                  <a:pt x="2964451" y="490177"/>
                  <a:pt x="2964983" y="490709"/>
                </a:cubicBezTo>
                <a:cubicBezTo>
                  <a:pt x="2967641" y="492304"/>
                  <a:pt x="2970299" y="493367"/>
                  <a:pt x="2973489" y="494430"/>
                </a:cubicBezTo>
                <a:lnTo>
                  <a:pt x="2973489" y="454025"/>
                </a:lnTo>
                <a:cubicBezTo>
                  <a:pt x="2970299" y="452962"/>
                  <a:pt x="2967641" y="452430"/>
                  <a:pt x="2964983" y="451367"/>
                </a:cubicBezTo>
                <a:cubicBezTo>
                  <a:pt x="2960729" y="449772"/>
                  <a:pt x="2957008" y="448177"/>
                  <a:pt x="2954350" y="447114"/>
                </a:cubicBezTo>
                <a:cubicBezTo>
                  <a:pt x="2947970" y="444455"/>
                  <a:pt x="2943717" y="440734"/>
                  <a:pt x="2940527" y="435418"/>
                </a:cubicBezTo>
                <a:cubicBezTo>
                  <a:pt x="2937337" y="430633"/>
                  <a:pt x="2935742" y="424785"/>
                  <a:pt x="2935742" y="418937"/>
                </a:cubicBezTo>
                <a:cubicBezTo>
                  <a:pt x="2935742" y="413620"/>
                  <a:pt x="2936805" y="408304"/>
                  <a:pt x="2939464" y="403519"/>
                </a:cubicBezTo>
                <a:cubicBezTo>
                  <a:pt x="2942122" y="398734"/>
                  <a:pt x="2945843" y="395013"/>
                  <a:pt x="2950097" y="391823"/>
                </a:cubicBezTo>
                <a:cubicBezTo>
                  <a:pt x="2953286" y="389164"/>
                  <a:pt x="2957539" y="387038"/>
                  <a:pt x="2963388" y="385443"/>
                </a:cubicBezTo>
                <a:lnTo>
                  <a:pt x="2964451" y="384911"/>
                </a:lnTo>
                <a:cubicBezTo>
                  <a:pt x="2967109" y="384380"/>
                  <a:pt x="2970299" y="383848"/>
                  <a:pt x="2972957" y="383316"/>
                </a:cubicBezTo>
                <a:lnTo>
                  <a:pt x="2972957" y="364177"/>
                </a:lnTo>
                <a:close/>
                <a:moveTo>
                  <a:pt x="2123389" y="364177"/>
                </a:moveTo>
                <a:lnTo>
                  <a:pt x="2145718" y="364177"/>
                </a:lnTo>
                <a:lnTo>
                  <a:pt x="2145718" y="383848"/>
                </a:lnTo>
                <a:cubicBezTo>
                  <a:pt x="2148908" y="384380"/>
                  <a:pt x="2152098" y="384911"/>
                  <a:pt x="2155288" y="385974"/>
                </a:cubicBezTo>
                <a:cubicBezTo>
                  <a:pt x="2156351" y="386506"/>
                  <a:pt x="2156883" y="386506"/>
                  <a:pt x="2157946" y="387038"/>
                </a:cubicBezTo>
                <a:cubicBezTo>
                  <a:pt x="2165389" y="390228"/>
                  <a:pt x="2170705" y="393949"/>
                  <a:pt x="2174427" y="398734"/>
                </a:cubicBezTo>
                <a:cubicBezTo>
                  <a:pt x="2178149" y="404050"/>
                  <a:pt x="2180275" y="410430"/>
                  <a:pt x="2181870" y="418405"/>
                </a:cubicBezTo>
                <a:lnTo>
                  <a:pt x="2161136" y="421063"/>
                </a:lnTo>
                <a:cubicBezTo>
                  <a:pt x="2160073" y="416278"/>
                  <a:pt x="2158478" y="411494"/>
                  <a:pt x="2155288" y="408304"/>
                </a:cubicBezTo>
                <a:cubicBezTo>
                  <a:pt x="2154225" y="407772"/>
                  <a:pt x="2153693" y="406709"/>
                  <a:pt x="2152630" y="406177"/>
                </a:cubicBezTo>
                <a:cubicBezTo>
                  <a:pt x="2151035" y="404582"/>
                  <a:pt x="2148376" y="403519"/>
                  <a:pt x="2145718" y="402456"/>
                </a:cubicBezTo>
                <a:lnTo>
                  <a:pt x="2145718" y="438076"/>
                </a:lnTo>
                <a:cubicBezTo>
                  <a:pt x="2149440" y="439139"/>
                  <a:pt x="2152630" y="439671"/>
                  <a:pt x="2155288" y="440734"/>
                </a:cubicBezTo>
                <a:cubicBezTo>
                  <a:pt x="2160604" y="442329"/>
                  <a:pt x="2164326" y="443924"/>
                  <a:pt x="2167516" y="444987"/>
                </a:cubicBezTo>
                <a:cubicBezTo>
                  <a:pt x="2173364" y="447645"/>
                  <a:pt x="2178149" y="451367"/>
                  <a:pt x="2182402" y="456152"/>
                </a:cubicBezTo>
                <a:cubicBezTo>
                  <a:pt x="2186123" y="460936"/>
                  <a:pt x="2187718" y="466785"/>
                  <a:pt x="2187718" y="474228"/>
                </a:cubicBezTo>
                <a:cubicBezTo>
                  <a:pt x="2187718" y="481139"/>
                  <a:pt x="2185592" y="488050"/>
                  <a:pt x="2181338" y="493899"/>
                </a:cubicBezTo>
                <a:cubicBezTo>
                  <a:pt x="2177085" y="499747"/>
                  <a:pt x="2171237" y="505063"/>
                  <a:pt x="2163262" y="508253"/>
                </a:cubicBezTo>
                <a:cubicBezTo>
                  <a:pt x="2160604" y="509316"/>
                  <a:pt x="2158478" y="510379"/>
                  <a:pt x="2155819" y="510911"/>
                </a:cubicBezTo>
                <a:cubicBezTo>
                  <a:pt x="2152630" y="511974"/>
                  <a:pt x="2149440" y="512506"/>
                  <a:pt x="2146250" y="513038"/>
                </a:cubicBezTo>
                <a:lnTo>
                  <a:pt x="2146250" y="532177"/>
                </a:lnTo>
                <a:lnTo>
                  <a:pt x="2123921" y="532177"/>
                </a:lnTo>
                <a:lnTo>
                  <a:pt x="2123921" y="512506"/>
                </a:lnTo>
                <a:cubicBezTo>
                  <a:pt x="2120731" y="511974"/>
                  <a:pt x="2118073" y="511443"/>
                  <a:pt x="2115414" y="510911"/>
                </a:cubicBezTo>
                <a:cubicBezTo>
                  <a:pt x="2109035" y="509316"/>
                  <a:pt x="2103718" y="506658"/>
                  <a:pt x="2099465" y="503468"/>
                </a:cubicBezTo>
                <a:cubicBezTo>
                  <a:pt x="2090959" y="497088"/>
                  <a:pt x="2085111" y="486987"/>
                  <a:pt x="2082984" y="473696"/>
                </a:cubicBezTo>
                <a:lnTo>
                  <a:pt x="2103718" y="470506"/>
                </a:lnTo>
                <a:cubicBezTo>
                  <a:pt x="2105313" y="478481"/>
                  <a:pt x="2108503" y="485392"/>
                  <a:pt x="2113820" y="489645"/>
                </a:cubicBezTo>
                <a:cubicBezTo>
                  <a:pt x="2114351" y="489645"/>
                  <a:pt x="2114883" y="490177"/>
                  <a:pt x="2115414" y="490709"/>
                </a:cubicBezTo>
                <a:cubicBezTo>
                  <a:pt x="2118073" y="492304"/>
                  <a:pt x="2120731" y="493367"/>
                  <a:pt x="2123921" y="494430"/>
                </a:cubicBezTo>
                <a:lnTo>
                  <a:pt x="2123921" y="454025"/>
                </a:lnTo>
                <a:cubicBezTo>
                  <a:pt x="2120731" y="452962"/>
                  <a:pt x="2118073" y="452430"/>
                  <a:pt x="2115414" y="451367"/>
                </a:cubicBezTo>
                <a:cubicBezTo>
                  <a:pt x="2111161" y="449772"/>
                  <a:pt x="2107440" y="448177"/>
                  <a:pt x="2104781" y="447114"/>
                </a:cubicBezTo>
                <a:cubicBezTo>
                  <a:pt x="2098402" y="444455"/>
                  <a:pt x="2094149" y="440734"/>
                  <a:pt x="2090959" y="435418"/>
                </a:cubicBezTo>
                <a:cubicBezTo>
                  <a:pt x="2087769" y="430633"/>
                  <a:pt x="2086174" y="424785"/>
                  <a:pt x="2086174" y="418937"/>
                </a:cubicBezTo>
                <a:cubicBezTo>
                  <a:pt x="2086174" y="413620"/>
                  <a:pt x="2087237" y="408304"/>
                  <a:pt x="2089895" y="403519"/>
                </a:cubicBezTo>
                <a:cubicBezTo>
                  <a:pt x="2092554" y="398734"/>
                  <a:pt x="2096275" y="395013"/>
                  <a:pt x="2100528" y="391823"/>
                </a:cubicBezTo>
                <a:cubicBezTo>
                  <a:pt x="2103718" y="389164"/>
                  <a:pt x="2107971" y="387038"/>
                  <a:pt x="2113820" y="385443"/>
                </a:cubicBezTo>
                <a:lnTo>
                  <a:pt x="2114883" y="384911"/>
                </a:lnTo>
                <a:cubicBezTo>
                  <a:pt x="2117541" y="384380"/>
                  <a:pt x="2120731" y="383848"/>
                  <a:pt x="2123389" y="383316"/>
                </a:cubicBezTo>
                <a:lnTo>
                  <a:pt x="2123389" y="364177"/>
                </a:lnTo>
                <a:close/>
                <a:moveTo>
                  <a:pt x="1700199" y="364177"/>
                </a:moveTo>
                <a:lnTo>
                  <a:pt x="1722528" y="364177"/>
                </a:lnTo>
                <a:lnTo>
                  <a:pt x="1722528" y="383848"/>
                </a:lnTo>
                <a:cubicBezTo>
                  <a:pt x="1725718" y="384380"/>
                  <a:pt x="1728908" y="384911"/>
                  <a:pt x="1732098" y="385974"/>
                </a:cubicBezTo>
                <a:cubicBezTo>
                  <a:pt x="1733161" y="386506"/>
                  <a:pt x="1733693" y="386506"/>
                  <a:pt x="1734756" y="387038"/>
                </a:cubicBezTo>
                <a:cubicBezTo>
                  <a:pt x="1742199" y="390228"/>
                  <a:pt x="1747515" y="393949"/>
                  <a:pt x="1751237" y="398734"/>
                </a:cubicBezTo>
                <a:cubicBezTo>
                  <a:pt x="1754958" y="404050"/>
                  <a:pt x="1757085" y="410430"/>
                  <a:pt x="1758680" y="418405"/>
                </a:cubicBezTo>
                <a:lnTo>
                  <a:pt x="1737946" y="421063"/>
                </a:lnTo>
                <a:cubicBezTo>
                  <a:pt x="1736883" y="416278"/>
                  <a:pt x="1735287" y="411494"/>
                  <a:pt x="1732098" y="408304"/>
                </a:cubicBezTo>
                <a:cubicBezTo>
                  <a:pt x="1731034" y="407772"/>
                  <a:pt x="1730503" y="406709"/>
                  <a:pt x="1729439" y="406177"/>
                </a:cubicBezTo>
                <a:cubicBezTo>
                  <a:pt x="1727845" y="404582"/>
                  <a:pt x="1725186" y="403519"/>
                  <a:pt x="1722528" y="402456"/>
                </a:cubicBezTo>
                <a:lnTo>
                  <a:pt x="1722528" y="438076"/>
                </a:lnTo>
                <a:cubicBezTo>
                  <a:pt x="1726250" y="439139"/>
                  <a:pt x="1729439" y="439671"/>
                  <a:pt x="1732098" y="440734"/>
                </a:cubicBezTo>
                <a:cubicBezTo>
                  <a:pt x="1737414" y="442329"/>
                  <a:pt x="1741136" y="443924"/>
                  <a:pt x="1744326" y="444987"/>
                </a:cubicBezTo>
                <a:cubicBezTo>
                  <a:pt x="1750174" y="447645"/>
                  <a:pt x="1754958" y="451367"/>
                  <a:pt x="1759212" y="456152"/>
                </a:cubicBezTo>
                <a:cubicBezTo>
                  <a:pt x="1762933" y="460936"/>
                  <a:pt x="1764528" y="466785"/>
                  <a:pt x="1764528" y="474228"/>
                </a:cubicBezTo>
                <a:cubicBezTo>
                  <a:pt x="1764528" y="481139"/>
                  <a:pt x="1762401" y="488050"/>
                  <a:pt x="1758148" y="493899"/>
                </a:cubicBezTo>
                <a:cubicBezTo>
                  <a:pt x="1753895" y="499747"/>
                  <a:pt x="1748047" y="505063"/>
                  <a:pt x="1740072" y="508253"/>
                </a:cubicBezTo>
                <a:cubicBezTo>
                  <a:pt x="1737414" y="509316"/>
                  <a:pt x="1735287" y="510379"/>
                  <a:pt x="1732629" y="510911"/>
                </a:cubicBezTo>
                <a:cubicBezTo>
                  <a:pt x="1729439" y="511974"/>
                  <a:pt x="1726250" y="512506"/>
                  <a:pt x="1723060" y="513038"/>
                </a:cubicBezTo>
                <a:lnTo>
                  <a:pt x="1723060" y="532177"/>
                </a:lnTo>
                <a:lnTo>
                  <a:pt x="1700731" y="532177"/>
                </a:lnTo>
                <a:lnTo>
                  <a:pt x="1700731" y="512506"/>
                </a:lnTo>
                <a:cubicBezTo>
                  <a:pt x="1697541" y="511974"/>
                  <a:pt x="1694882" y="511443"/>
                  <a:pt x="1692224" y="510911"/>
                </a:cubicBezTo>
                <a:cubicBezTo>
                  <a:pt x="1685845" y="509316"/>
                  <a:pt x="1680528" y="506658"/>
                  <a:pt x="1676275" y="503468"/>
                </a:cubicBezTo>
                <a:cubicBezTo>
                  <a:pt x="1667769" y="497088"/>
                  <a:pt x="1661921" y="486987"/>
                  <a:pt x="1659794" y="473696"/>
                </a:cubicBezTo>
                <a:lnTo>
                  <a:pt x="1680528" y="470506"/>
                </a:lnTo>
                <a:cubicBezTo>
                  <a:pt x="1682123" y="478481"/>
                  <a:pt x="1685313" y="485392"/>
                  <a:pt x="1690629" y="489645"/>
                </a:cubicBezTo>
                <a:cubicBezTo>
                  <a:pt x="1691161" y="489645"/>
                  <a:pt x="1691693" y="490177"/>
                  <a:pt x="1692224" y="490709"/>
                </a:cubicBezTo>
                <a:cubicBezTo>
                  <a:pt x="1694882" y="492304"/>
                  <a:pt x="1697541" y="493367"/>
                  <a:pt x="1700731" y="494430"/>
                </a:cubicBezTo>
                <a:lnTo>
                  <a:pt x="1700731" y="454025"/>
                </a:lnTo>
                <a:cubicBezTo>
                  <a:pt x="1697541" y="452962"/>
                  <a:pt x="1694882" y="452430"/>
                  <a:pt x="1692224" y="451367"/>
                </a:cubicBezTo>
                <a:cubicBezTo>
                  <a:pt x="1687971" y="449772"/>
                  <a:pt x="1684250" y="448177"/>
                  <a:pt x="1681591" y="447114"/>
                </a:cubicBezTo>
                <a:cubicBezTo>
                  <a:pt x="1675212" y="444455"/>
                  <a:pt x="1670958" y="440734"/>
                  <a:pt x="1667769" y="435418"/>
                </a:cubicBezTo>
                <a:cubicBezTo>
                  <a:pt x="1664579" y="430633"/>
                  <a:pt x="1662984" y="424785"/>
                  <a:pt x="1662984" y="418937"/>
                </a:cubicBezTo>
                <a:cubicBezTo>
                  <a:pt x="1662984" y="413620"/>
                  <a:pt x="1664047" y="408304"/>
                  <a:pt x="1666705" y="403519"/>
                </a:cubicBezTo>
                <a:cubicBezTo>
                  <a:pt x="1669364" y="398734"/>
                  <a:pt x="1673085" y="395013"/>
                  <a:pt x="1677338" y="391823"/>
                </a:cubicBezTo>
                <a:cubicBezTo>
                  <a:pt x="1680528" y="389164"/>
                  <a:pt x="1684781" y="387038"/>
                  <a:pt x="1690629" y="385443"/>
                </a:cubicBezTo>
                <a:lnTo>
                  <a:pt x="1691693" y="384911"/>
                </a:lnTo>
                <a:cubicBezTo>
                  <a:pt x="1694351" y="384380"/>
                  <a:pt x="1697541" y="383848"/>
                  <a:pt x="1700199" y="383316"/>
                </a:cubicBezTo>
                <a:lnTo>
                  <a:pt x="1700199" y="364177"/>
                </a:lnTo>
                <a:close/>
                <a:moveTo>
                  <a:pt x="852226" y="364177"/>
                </a:moveTo>
                <a:lnTo>
                  <a:pt x="874555" y="364177"/>
                </a:lnTo>
                <a:lnTo>
                  <a:pt x="874555" y="383848"/>
                </a:lnTo>
                <a:cubicBezTo>
                  <a:pt x="877745" y="384380"/>
                  <a:pt x="880935" y="384911"/>
                  <a:pt x="884125" y="385974"/>
                </a:cubicBezTo>
                <a:cubicBezTo>
                  <a:pt x="885188" y="386506"/>
                  <a:pt x="885720" y="386506"/>
                  <a:pt x="886783" y="387038"/>
                </a:cubicBezTo>
                <a:cubicBezTo>
                  <a:pt x="894226" y="390228"/>
                  <a:pt x="899542" y="393949"/>
                  <a:pt x="903264" y="398734"/>
                </a:cubicBezTo>
                <a:cubicBezTo>
                  <a:pt x="906986" y="404050"/>
                  <a:pt x="909112" y="410430"/>
                  <a:pt x="910707" y="418405"/>
                </a:cubicBezTo>
                <a:lnTo>
                  <a:pt x="889973" y="421063"/>
                </a:lnTo>
                <a:cubicBezTo>
                  <a:pt x="888910" y="416278"/>
                  <a:pt x="887315" y="411494"/>
                  <a:pt x="884125" y="408304"/>
                </a:cubicBezTo>
                <a:cubicBezTo>
                  <a:pt x="883061" y="407772"/>
                  <a:pt x="882530" y="406709"/>
                  <a:pt x="881467" y="406177"/>
                </a:cubicBezTo>
                <a:cubicBezTo>
                  <a:pt x="879872" y="404582"/>
                  <a:pt x="877213" y="403519"/>
                  <a:pt x="874555" y="402456"/>
                </a:cubicBezTo>
                <a:lnTo>
                  <a:pt x="874555" y="438076"/>
                </a:lnTo>
                <a:cubicBezTo>
                  <a:pt x="878277" y="439139"/>
                  <a:pt x="881467" y="439671"/>
                  <a:pt x="884125" y="440734"/>
                </a:cubicBezTo>
                <a:cubicBezTo>
                  <a:pt x="889441" y="442329"/>
                  <a:pt x="893163" y="443924"/>
                  <a:pt x="896353" y="444987"/>
                </a:cubicBezTo>
                <a:cubicBezTo>
                  <a:pt x="902201" y="447645"/>
                  <a:pt x="906986" y="451367"/>
                  <a:pt x="911239" y="456152"/>
                </a:cubicBezTo>
                <a:cubicBezTo>
                  <a:pt x="914960" y="460936"/>
                  <a:pt x="916555" y="466785"/>
                  <a:pt x="916555" y="474228"/>
                </a:cubicBezTo>
                <a:cubicBezTo>
                  <a:pt x="916555" y="481139"/>
                  <a:pt x="914429" y="488050"/>
                  <a:pt x="910175" y="493899"/>
                </a:cubicBezTo>
                <a:cubicBezTo>
                  <a:pt x="905922" y="499747"/>
                  <a:pt x="900074" y="505063"/>
                  <a:pt x="892099" y="508253"/>
                </a:cubicBezTo>
                <a:cubicBezTo>
                  <a:pt x="889441" y="509316"/>
                  <a:pt x="887315" y="510379"/>
                  <a:pt x="884656" y="510911"/>
                </a:cubicBezTo>
                <a:cubicBezTo>
                  <a:pt x="881467" y="511974"/>
                  <a:pt x="878277" y="512506"/>
                  <a:pt x="875087" y="513038"/>
                </a:cubicBezTo>
                <a:lnTo>
                  <a:pt x="875087" y="532177"/>
                </a:lnTo>
                <a:lnTo>
                  <a:pt x="852758" y="532177"/>
                </a:lnTo>
                <a:lnTo>
                  <a:pt x="852758" y="512506"/>
                </a:lnTo>
                <a:cubicBezTo>
                  <a:pt x="849568" y="511974"/>
                  <a:pt x="846910" y="511443"/>
                  <a:pt x="844251" y="510911"/>
                </a:cubicBezTo>
                <a:cubicBezTo>
                  <a:pt x="837872" y="509316"/>
                  <a:pt x="832555" y="506658"/>
                  <a:pt x="828302" y="503468"/>
                </a:cubicBezTo>
                <a:cubicBezTo>
                  <a:pt x="819796" y="497088"/>
                  <a:pt x="813948" y="486987"/>
                  <a:pt x="811821" y="473696"/>
                </a:cubicBezTo>
                <a:lnTo>
                  <a:pt x="832555" y="470506"/>
                </a:lnTo>
                <a:cubicBezTo>
                  <a:pt x="834150" y="478481"/>
                  <a:pt x="837340" y="485392"/>
                  <a:pt x="842656" y="489645"/>
                </a:cubicBezTo>
                <a:cubicBezTo>
                  <a:pt x="843188" y="489645"/>
                  <a:pt x="843720" y="490177"/>
                  <a:pt x="844251" y="490709"/>
                </a:cubicBezTo>
                <a:cubicBezTo>
                  <a:pt x="846910" y="492304"/>
                  <a:pt x="849568" y="493367"/>
                  <a:pt x="852758" y="494430"/>
                </a:cubicBezTo>
                <a:lnTo>
                  <a:pt x="852758" y="454025"/>
                </a:lnTo>
                <a:cubicBezTo>
                  <a:pt x="849568" y="452962"/>
                  <a:pt x="846910" y="452430"/>
                  <a:pt x="844251" y="451367"/>
                </a:cubicBezTo>
                <a:cubicBezTo>
                  <a:pt x="839998" y="449772"/>
                  <a:pt x="836277" y="448177"/>
                  <a:pt x="833618" y="447114"/>
                </a:cubicBezTo>
                <a:cubicBezTo>
                  <a:pt x="827239" y="444455"/>
                  <a:pt x="822986" y="440734"/>
                  <a:pt x="819796" y="435418"/>
                </a:cubicBezTo>
                <a:cubicBezTo>
                  <a:pt x="816606" y="430633"/>
                  <a:pt x="815011" y="424785"/>
                  <a:pt x="815011" y="418937"/>
                </a:cubicBezTo>
                <a:cubicBezTo>
                  <a:pt x="815011" y="413620"/>
                  <a:pt x="816074" y="408304"/>
                  <a:pt x="818732" y="403519"/>
                </a:cubicBezTo>
                <a:cubicBezTo>
                  <a:pt x="821391" y="398734"/>
                  <a:pt x="825112" y="395013"/>
                  <a:pt x="829365" y="391823"/>
                </a:cubicBezTo>
                <a:cubicBezTo>
                  <a:pt x="832555" y="389164"/>
                  <a:pt x="836808" y="387038"/>
                  <a:pt x="842656" y="385443"/>
                </a:cubicBezTo>
                <a:lnTo>
                  <a:pt x="843720" y="384911"/>
                </a:lnTo>
                <a:cubicBezTo>
                  <a:pt x="846378" y="384380"/>
                  <a:pt x="849568" y="383848"/>
                  <a:pt x="852226" y="383316"/>
                </a:cubicBezTo>
                <a:lnTo>
                  <a:pt x="852226" y="364177"/>
                </a:lnTo>
                <a:close/>
                <a:moveTo>
                  <a:pt x="3397210" y="359924"/>
                </a:moveTo>
                <a:lnTo>
                  <a:pt x="3419539" y="359924"/>
                </a:lnTo>
                <a:lnTo>
                  <a:pt x="3419539" y="379595"/>
                </a:lnTo>
                <a:cubicBezTo>
                  <a:pt x="3422729" y="380126"/>
                  <a:pt x="3425919" y="380658"/>
                  <a:pt x="3429109" y="381721"/>
                </a:cubicBezTo>
                <a:cubicBezTo>
                  <a:pt x="3430172" y="382253"/>
                  <a:pt x="3430703" y="382253"/>
                  <a:pt x="3431767" y="382785"/>
                </a:cubicBezTo>
                <a:cubicBezTo>
                  <a:pt x="3439210" y="385975"/>
                  <a:pt x="3444526" y="389696"/>
                  <a:pt x="3448248" y="394481"/>
                </a:cubicBezTo>
                <a:cubicBezTo>
                  <a:pt x="3451969" y="399797"/>
                  <a:pt x="3454096" y="406177"/>
                  <a:pt x="3455691" y="414152"/>
                </a:cubicBezTo>
                <a:lnTo>
                  <a:pt x="3434957" y="416810"/>
                </a:lnTo>
                <a:cubicBezTo>
                  <a:pt x="3433894" y="412025"/>
                  <a:pt x="3432298" y="407240"/>
                  <a:pt x="3429109" y="404050"/>
                </a:cubicBezTo>
                <a:cubicBezTo>
                  <a:pt x="3428045" y="403519"/>
                  <a:pt x="3427514" y="402456"/>
                  <a:pt x="3426450" y="401924"/>
                </a:cubicBezTo>
                <a:cubicBezTo>
                  <a:pt x="3424856" y="400329"/>
                  <a:pt x="3422197" y="399266"/>
                  <a:pt x="3419539" y="398203"/>
                </a:cubicBezTo>
                <a:lnTo>
                  <a:pt x="3419539" y="433823"/>
                </a:lnTo>
                <a:cubicBezTo>
                  <a:pt x="3423261" y="434886"/>
                  <a:pt x="3426450" y="435418"/>
                  <a:pt x="3429109" y="436481"/>
                </a:cubicBezTo>
                <a:cubicBezTo>
                  <a:pt x="3434425" y="438076"/>
                  <a:pt x="3438147" y="439671"/>
                  <a:pt x="3441336" y="440734"/>
                </a:cubicBezTo>
                <a:cubicBezTo>
                  <a:pt x="3447185" y="443392"/>
                  <a:pt x="3451969" y="447114"/>
                  <a:pt x="3456222" y="451899"/>
                </a:cubicBezTo>
                <a:cubicBezTo>
                  <a:pt x="3459944" y="456683"/>
                  <a:pt x="3461539" y="462531"/>
                  <a:pt x="3461539" y="469975"/>
                </a:cubicBezTo>
                <a:cubicBezTo>
                  <a:pt x="3461539" y="476886"/>
                  <a:pt x="3459412" y="483266"/>
                  <a:pt x="3455159" y="489645"/>
                </a:cubicBezTo>
                <a:cubicBezTo>
                  <a:pt x="3450906" y="495494"/>
                  <a:pt x="3445058" y="500810"/>
                  <a:pt x="3437083" y="504000"/>
                </a:cubicBezTo>
                <a:cubicBezTo>
                  <a:pt x="3434425" y="505063"/>
                  <a:pt x="3432298" y="506126"/>
                  <a:pt x="3429640" y="506658"/>
                </a:cubicBezTo>
                <a:cubicBezTo>
                  <a:pt x="3426450" y="507721"/>
                  <a:pt x="3423261" y="508253"/>
                  <a:pt x="3420071" y="508785"/>
                </a:cubicBezTo>
                <a:lnTo>
                  <a:pt x="3420071" y="527924"/>
                </a:lnTo>
                <a:lnTo>
                  <a:pt x="3397741" y="527924"/>
                </a:lnTo>
                <a:lnTo>
                  <a:pt x="3397741" y="508253"/>
                </a:lnTo>
                <a:cubicBezTo>
                  <a:pt x="3394552" y="507721"/>
                  <a:pt x="3391893" y="507190"/>
                  <a:pt x="3389235" y="506658"/>
                </a:cubicBezTo>
                <a:cubicBezTo>
                  <a:pt x="3382855" y="505063"/>
                  <a:pt x="3377539" y="502405"/>
                  <a:pt x="3373286" y="499215"/>
                </a:cubicBezTo>
                <a:cubicBezTo>
                  <a:pt x="3364780" y="492835"/>
                  <a:pt x="3358931" y="482734"/>
                  <a:pt x="3356805" y="469443"/>
                </a:cubicBezTo>
                <a:lnTo>
                  <a:pt x="3377539" y="466253"/>
                </a:lnTo>
                <a:cubicBezTo>
                  <a:pt x="3379134" y="474228"/>
                  <a:pt x="3382324" y="481139"/>
                  <a:pt x="3387640" y="485392"/>
                </a:cubicBezTo>
                <a:cubicBezTo>
                  <a:pt x="3388172" y="485392"/>
                  <a:pt x="3388704" y="485924"/>
                  <a:pt x="3389235" y="486455"/>
                </a:cubicBezTo>
                <a:cubicBezTo>
                  <a:pt x="3391893" y="488051"/>
                  <a:pt x="3394552" y="489114"/>
                  <a:pt x="3397741" y="490177"/>
                </a:cubicBezTo>
                <a:lnTo>
                  <a:pt x="3397741" y="449772"/>
                </a:lnTo>
                <a:cubicBezTo>
                  <a:pt x="3394552" y="448709"/>
                  <a:pt x="3391893" y="448177"/>
                  <a:pt x="3389235" y="447114"/>
                </a:cubicBezTo>
                <a:cubicBezTo>
                  <a:pt x="3384982" y="445519"/>
                  <a:pt x="3381261" y="443924"/>
                  <a:pt x="3378602" y="442861"/>
                </a:cubicBezTo>
                <a:cubicBezTo>
                  <a:pt x="3372223" y="440202"/>
                  <a:pt x="3367969" y="436481"/>
                  <a:pt x="3364780" y="431164"/>
                </a:cubicBezTo>
                <a:cubicBezTo>
                  <a:pt x="3361590" y="426380"/>
                  <a:pt x="3359995" y="420532"/>
                  <a:pt x="3359995" y="414683"/>
                </a:cubicBezTo>
                <a:cubicBezTo>
                  <a:pt x="3359995" y="409367"/>
                  <a:pt x="3361058" y="404050"/>
                  <a:pt x="3363716" y="399266"/>
                </a:cubicBezTo>
                <a:cubicBezTo>
                  <a:pt x="3366375" y="394481"/>
                  <a:pt x="3370096" y="390759"/>
                  <a:pt x="3374349" y="387570"/>
                </a:cubicBezTo>
                <a:cubicBezTo>
                  <a:pt x="3377539" y="384911"/>
                  <a:pt x="3381792" y="382785"/>
                  <a:pt x="3387640" y="381190"/>
                </a:cubicBezTo>
                <a:lnTo>
                  <a:pt x="3388704" y="380658"/>
                </a:lnTo>
                <a:cubicBezTo>
                  <a:pt x="3391362" y="380126"/>
                  <a:pt x="3394552" y="379595"/>
                  <a:pt x="3397210" y="379063"/>
                </a:cubicBezTo>
                <a:lnTo>
                  <a:pt x="3397210" y="359924"/>
                </a:lnTo>
                <a:close/>
                <a:moveTo>
                  <a:pt x="1275947" y="359924"/>
                </a:moveTo>
                <a:lnTo>
                  <a:pt x="1298276" y="359924"/>
                </a:lnTo>
                <a:lnTo>
                  <a:pt x="1298276" y="379595"/>
                </a:lnTo>
                <a:cubicBezTo>
                  <a:pt x="1301466" y="380126"/>
                  <a:pt x="1304656" y="380658"/>
                  <a:pt x="1307846" y="381721"/>
                </a:cubicBezTo>
                <a:cubicBezTo>
                  <a:pt x="1308909" y="382253"/>
                  <a:pt x="1309441" y="382253"/>
                  <a:pt x="1310504" y="382785"/>
                </a:cubicBezTo>
                <a:cubicBezTo>
                  <a:pt x="1317947" y="385975"/>
                  <a:pt x="1323263" y="389696"/>
                  <a:pt x="1326985" y="394481"/>
                </a:cubicBezTo>
                <a:cubicBezTo>
                  <a:pt x="1330706" y="399797"/>
                  <a:pt x="1332832" y="406177"/>
                  <a:pt x="1334427" y="414152"/>
                </a:cubicBezTo>
                <a:lnTo>
                  <a:pt x="1313694" y="416810"/>
                </a:lnTo>
                <a:cubicBezTo>
                  <a:pt x="1312631" y="412025"/>
                  <a:pt x="1311036" y="407240"/>
                  <a:pt x="1307846" y="404050"/>
                </a:cubicBezTo>
                <a:cubicBezTo>
                  <a:pt x="1306782" y="403519"/>
                  <a:pt x="1306251" y="402456"/>
                  <a:pt x="1305188" y="401924"/>
                </a:cubicBezTo>
                <a:cubicBezTo>
                  <a:pt x="1303593" y="400329"/>
                  <a:pt x="1300934" y="399266"/>
                  <a:pt x="1298276" y="398203"/>
                </a:cubicBezTo>
                <a:lnTo>
                  <a:pt x="1298276" y="433823"/>
                </a:lnTo>
                <a:cubicBezTo>
                  <a:pt x="1301998" y="434886"/>
                  <a:pt x="1305188" y="435418"/>
                  <a:pt x="1307846" y="436481"/>
                </a:cubicBezTo>
                <a:cubicBezTo>
                  <a:pt x="1313162" y="438076"/>
                  <a:pt x="1316884" y="439671"/>
                  <a:pt x="1320074" y="440734"/>
                </a:cubicBezTo>
                <a:cubicBezTo>
                  <a:pt x="1326453" y="443392"/>
                  <a:pt x="1330706" y="447114"/>
                  <a:pt x="1334959" y="451899"/>
                </a:cubicBezTo>
                <a:cubicBezTo>
                  <a:pt x="1338680" y="456683"/>
                  <a:pt x="1340275" y="462531"/>
                  <a:pt x="1340275" y="469975"/>
                </a:cubicBezTo>
                <a:cubicBezTo>
                  <a:pt x="1340275" y="476886"/>
                  <a:pt x="1338149" y="483266"/>
                  <a:pt x="1333895" y="489645"/>
                </a:cubicBezTo>
                <a:cubicBezTo>
                  <a:pt x="1329643" y="495494"/>
                  <a:pt x="1323795" y="500810"/>
                  <a:pt x="1315820" y="504000"/>
                </a:cubicBezTo>
                <a:cubicBezTo>
                  <a:pt x="1313162" y="505063"/>
                  <a:pt x="1311036" y="506126"/>
                  <a:pt x="1308377" y="506658"/>
                </a:cubicBezTo>
                <a:cubicBezTo>
                  <a:pt x="1305188" y="507721"/>
                  <a:pt x="1301998" y="508253"/>
                  <a:pt x="1298808" y="508785"/>
                </a:cubicBezTo>
                <a:lnTo>
                  <a:pt x="1298808" y="527924"/>
                </a:lnTo>
                <a:lnTo>
                  <a:pt x="1276479" y="527924"/>
                </a:lnTo>
                <a:lnTo>
                  <a:pt x="1276479" y="508253"/>
                </a:lnTo>
                <a:cubicBezTo>
                  <a:pt x="1273289" y="507721"/>
                  <a:pt x="1270631" y="507190"/>
                  <a:pt x="1267972" y="506658"/>
                </a:cubicBezTo>
                <a:cubicBezTo>
                  <a:pt x="1261593" y="505063"/>
                  <a:pt x="1256276" y="502405"/>
                  <a:pt x="1252023" y="499215"/>
                </a:cubicBezTo>
                <a:cubicBezTo>
                  <a:pt x="1243517" y="492835"/>
                  <a:pt x="1237669" y="482734"/>
                  <a:pt x="1235542" y="469443"/>
                </a:cubicBezTo>
                <a:lnTo>
                  <a:pt x="1256276" y="466253"/>
                </a:lnTo>
                <a:cubicBezTo>
                  <a:pt x="1257871" y="474228"/>
                  <a:pt x="1261061" y="481139"/>
                  <a:pt x="1266377" y="485392"/>
                </a:cubicBezTo>
                <a:cubicBezTo>
                  <a:pt x="1266909" y="485392"/>
                  <a:pt x="1267441" y="485924"/>
                  <a:pt x="1267972" y="486455"/>
                </a:cubicBezTo>
                <a:cubicBezTo>
                  <a:pt x="1270631" y="488051"/>
                  <a:pt x="1273289" y="489114"/>
                  <a:pt x="1276479" y="490177"/>
                </a:cubicBezTo>
                <a:lnTo>
                  <a:pt x="1276479" y="449772"/>
                </a:lnTo>
                <a:cubicBezTo>
                  <a:pt x="1273289" y="448709"/>
                  <a:pt x="1270631" y="448177"/>
                  <a:pt x="1267972" y="447114"/>
                </a:cubicBezTo>
                <a:cubicBezTo>
                  <a:pt x="1263719" y="445519"/>
                  <a:pt x="1259998" y="443924"/>
                  <a:pt x="1257339" y="442861"/>
                </a:cubicBezTo>
                <a:cubicBezTo>
                  <a:pt x="1250960" y="440202"/>
                  <a:pt x="1246707" y="436481"/>
                  <a:pt x="1243517" y="431164"/>
                </a:cubicBezTo>
                <a:cubicBezTo>
                  <a:pt x="1240327" y="426380"/>
                  <a:pt x="1238732" y="420532"/>
                  <a:pt x="1238732" y="414683"/>
                </a:cubicBezTo>
                <a:cubicBezTo>
                  <a:pt x="1238732" y="409367"/>
                  <a:pt x="1239795" y="404050"/>
                  <a:pt x="1242453" y="399266"/>
                </a:cubicBezTo>
                <a:cubicBezTo>
                  <a:pt x="1245112" y="394481"/>
                  <a:pt x="1248833" y="390759"/>
                  <a:pt x="1253086" y="387570"/>
                </a:cubicBezTo>
                <a:cubicBezTo>
                  <a:pt x="1256276" y="384911"/>
                  <a:pt x="1260529" y="382785"/>
                  <a:pt x="1266377" y="381190"/>
                </a:cubicBezTo>
                <a:lnTo>
                  <a:pt x="1267441" y="380658"/>
                </a:lnTo>
                <a:cubicBezTo>
                  <a:pt x="1270099" y="380126"/>
                  <a:pt x="1273289" y="379595"/>
                  <a:pt x="1275947" y="379063"/>
                </a:cubicBezTo>
                <a:lnTo>
                  <a:pt x="1275947" y="359924"/>
                </a:lnTo>
                <a:close/>
                <a:moveTo>
                  <a:pt x="2658756" y="173316"/>
                </a:moveTo>
                <a:cubicBezTo>
                  <a:pt x="2617819" y="192456"/>
                  <a:pt x="2635895" y="169595"/>
                  <a:pt x="2599743" y="185544"/>
                </a:cubicBezTo>
                <a:cubicBezTo>
                  <a:pt x="2560933" y="202557"/>
                  <a:pt x="2564655" y="177038"/>
                  <a:pt x="2546047" y="178101"/>
                </a:cubicBezTo>
                <a:cubicBezTo>
                  <a:pt x="2524781" y="187671"/>
                  <a:pt x="2504047" y="189797"/>
                  <a:pt x="2479591" y="183949"/>
                </a:cubicBezTo>
                <a:cubicBezTo>
                  <a:pt x="2470554" y="181823"/>
                  <a:pt x="2479591" y="189797"/>
                  <a:pt x="2483313" y="194582"/>
                </a:cubicBezTo>
                <a:cubicBezTo>
                  <a:pt x="2494478" y="208405"/>
                  <a:pt x="2526376" y="240835"/>
                  <a:pt x="2530629" y="263164"/>
                </a:cubicBezTo>
                <a:lnTo>
                  <a:pt x="2513085" y="262101"/>
                </a:lnTo>
                <a:cubicBezTo>
                  <a:pt x="2510427" y="262101"/>
                  <a:pt x="2508300" y="264228"/>
                  <a:pt x="2508300" y="266354"/>
                </a:cubicBezTo>
                <a:cubicBezTo>
                  <a:pt x="2507769" y="268481"/>
                  <a:pt x="2509895" y="270608"/>
                  <a:pt x="2512022" y="270608"/>
                </a:cubicBezTo>
                <a:lnTo>
                  <a:pt x="2518933" y="271139"/>
                </a:lnTo>
                <a:lnTo>
                  <a:pt x="2508300" y="273266"/>
                </a:lnTo>
                <a:cubicBezTo>
                  <a:pt x="2506174" y="273797"/>
                  <a:pt x="2505110" y="275924"/>
                  <a:pt x="2506174" y="278051"/>
                </a:cubicBezTo>
                <a:cubicBezTo>
                  <a:pt x="2507237" y="280177"/>
                  <a:pt x="2510427" y="281772"/>
                  <a:pt x="2512553" y="281240"/>
                </a:cubicBezTo>
                <a:lnTo>
                  <a:pt x="2520528" y="279645"/>
                </a:lnTo>
                <a:cubicBezTo>
                  <a:pt x="2515212" y="282835"/>
                  <a:pt x="2510958" y="287088"/>
                  <a:pt x="2508832" y="291342"/>
                </a:cubicBezTo>
                <a:cubicBezTo>
                  <a:pt x="2508832" y="291873"/>
                  <a:pt x="2508300" y="292405"/>
                  <a:pt x="2508300" y="292937"/>
                </a:cubicBezTo>
                <a:cubicBezTo>
                  <a:pt x="2428022" y="352481"/>
                  <a:pt x="2387617" y="403519"/>
                  <a:pt x="2387617" y="501341"/>
                </a:cubicBezTo>
                <a:cubicBezTo>
                  <a:pt x="2387617" y="543341"/>
                  <a:pt x="2412073" y="573645"/>
                  <a:pt x="2451946" y="584810"/>
                </a:cubicBezTo>
                <a:cubicBezTo>
                  <a:pt x="2481186" y="592784"/>
                  <a:pt x="2518933" y="586936"/>
                  <a:pt x="2559870" y="586936"/>
                </a:cubicBezTo>
                <a:cubicBezTo>
                  <a:pt x="2603465" y="586936"/>
                  <a:pt x="2637490" y="595974"/>
                  <a:pt x="2667794" y="584810"/>
                </a:cubicBezTo>
                <a:cubicBezTo>
                  <a:pt x="2703946" y="571519"/>
                  <a:pt x="2732654" y="534303"/>
                  <a:pt x="2733186" y="486455"/>
                </a:cubicBezTo>
                <a:cubicBezTo>
                  <a:pt x="2733186" y="418405"/>
                  <a:pt x="2685870" y="325899"/>
                  <a:pt x="2619414" y="288683"/>
                </a:cubicBezTo>
                <a:cubicBezTo>
                  <a:pt x="2626325" y="286557"/>
                  <a:pt x="2628984" y="284430"/>
                  <a:pt x="2627920" y="280709"/>
                </a:cubicBezTo>
                <a:cubicBezTo>
                  <a:pt x="2626857" y="275924"/>
                  <a:pt x="2619414" y="271671"/>
                  <a:pt x="2606655" y="271139"/>
                </a:cubicBezTo>
                <a:cubicBezTo>
                  <a:pt x="2606655" y="269012"/>
                  <a:pt x="2605060" y="266886"/>
                  <a:pt x="2602933" y="266886"/>
                </a:cubicBezTo>
                <a:lnTo>
                  <a:pt x="2594427" y="266354"/>
                </a:lnTo>
                <a:cubicBezTo>
                  <a:pt x="2594427" y="265823"/>
                  <a:pt x="2594427" y="265823"/>
                  <a:pt x="2594427" y="265291"/>
                </a:cubicBezTo>
                <a:lnTo>
                  <a:pt x="2600807" y="264228"/>
                </a:lnTo>
                <a:cubicBezTo>
                  <a:pt x="2602933" y="263696"/>
                  <a:pt x="2603996" y="261569"/>
                  <a:pt x="2602933" y="259443"/>
                </a:cubicBezTo>
                <a:cubicBezTo>
                  <a:pt x="2601870" y="257316"/>
                  <a:pt x="2598680" y="255721"/>
                  <a:pt x="2596553" y="256253"/>
                </a:cubicBezTo>
                <a:lnTo>
                  <a:pt x="2592832" y="256785"/>
                </a:lnTo>
                <a:cubicBezTo>
                  <a:pt x="2590705" y="237114"/>
                  <a:pt x="2607718" y="218506"/>
                  <a:pt x="2627920" y="206810"/>
                </a:cubicBezTo>
                <a:cubicBezTo>
                  <a:pt x="2648655" y="195114"/>
                  <a:pt x="2650250" y="189797"/>
                  <a:pt x="2658756" y="173316"/>
                </a:cubicBezTo>
                <a:close/>
                <a:moveTo>
                  <a:pt x="537493" y="173316"/>
                </a:moveTo>
                <a:cubicBezTo>
                  <a:pt x="496556" y="192456"/>
                  <a:pt x="514632" y="169595"/>
                  <a:pt x="478481" y="185544"/>
                </a:cubicBezTo>
                <a:cubicBezTo>
                  <a:pt x="439670" y="202557"/>
                  <a:pt x="443392" y="177038"/>
                  <a:pt x="424784" y="178101"/>
                </a:cubicBezTo>
                <a:cubicBezTo>
                  <a:pt x="403519" y="187671"/>
                  <a:pt x="382784" y="189797"/>
                  <a:pt x="358329" y="183949"/>
                </a:cubicBezTo>
                <a:cubicBezTo>
                  <a:pt x="349291" y="181823"/>
                  <a:pt x="358329" y="189797"/>
                  <a:pt x="362050" y="194582"/>
                </a:cubicBezTo>
                <a:cubicBezTo>
                  <a:pt x="373215" y="208405"/>
                  <a:pt x="405113" y="240835"/>
                  <a:pt x="409367" y="263164"/>
                </a:cubicBezTo>
                <a:lnTo>
                  <a:pt x="391822" y="262101"/>
                </a:lnTo>
                <a:cubicBezTo>
                  <a:pt x="389164" y="262101"/>
                  <a:pt x="387038" y="264228"/>
                  <a:pt x="387038" y="266354"/>
                </a:cubicBezTo>
                <a:cubicBezTo>
                  <a:pt x="386506" y="268481"/>
                  <a:pt x="388633" y="270608"/>
                  <a:pt x="390759" y="270608"/>
                </a:cubicBezTo>
                <a:lnTo>
                  <a:pt x="397671" y="271139"/>
                </a:lnTo>
                <a:lnTo>
                  <a:pt x="387038" y="273266"/>
                </a:lnTo>
                <a:cubicBezTo>
                  <a:pt x="384911" y="273797"/>
                  <a:pt x="383848" y="275924"/>
                  <a:pt x="384911" y="278051"/>
                </a:cubicBezTo>
                <a:cubicBezTo>
                  <a:pt x="385974" y="280177"/>
                  <a:pt x="389164" y="281772"/>
                  <a:pt x="391291" y="281240"/>
                </a:cubicBezTo>
                <a:lnTo>
                  <a:pt x="399265" y="279645"/>
                </a:lnTo>
                <a:cubicBezTo>
                  <a:pt x="393949" y="282835"/>
                  <a:pt x="389696" y="287088"/>
                  <a:pt x="387569" y="291342"/>
                </a:cubicBezTo>
                <a:cubicBezTo>
                  <a:pt x="387569" y="291873"/>
                  <a:pt x="387038" y="292405"/>
                  <a:pt x="387038" y="292937"/>
                </a:cubicBezTo>
                <a:cubicBezTo>
                  <a:pt x="306759" y="352481"/>
                  <a:pt x="266354" y="403519"/>
                  <a:pt x="266354" y="501341"/>
                </a:cubicBezTo>
                <a:cubicBezTo>
                  <a:pt x="266354" y="543341"/>
                  <a:pt x="290810" y="573645"/>
                  <a:pt x="330683" y="584810"/>
                </a:cubicBezTo>
                <a:cubicBezTo>
                  <a:pt x="359924" y="592784"/>
                  <a:pt x="397671" y="586936"/>
                  <a:pt x="438607" y="586936"/>
                </a:cubicBezTo>
                <a:cubicBezTo>
                  <a:pt x="482202" y="586936"/>
                  <a:pt x="516227" y="595974"/>
                  <a:pt x="546531" y="584810"/>
                </a:cubicBezTo>
                <a:cubicBezTo>
                  <a:pt x="583215" y="571519"/>
                  <a:pt x="611923" y="534303"/>
                  <a:pt x="611923" y="486455"/>
                </a:cubicBezTo>
                <a:cubicBezTo>
                  <a:pt x="611923" y="418405"/>
                  <a:pt x="564607" y="325899"/>
                  <a:pt x="498151" y="288683"/>
                </a:cubicBezTo>
                <a:cubicBezTo>
                  <a:pt x="505063" y="286557"/>
                  <a:pt x="507721" y="284430"/>
                  <a:pt x="506658" y="280709"/>
                </a:cubicBezTo>
                <a:cubicBezTo>
                  <a:pt x="505594" y="275924"/>
                  <a:pt x="498151" y="271671"/>
                  <a:pt x="485392" y="271139"/>
                </a:cubicBezTo>
                <a:cubicBezTo>
                  <a:pt x="485392" y="269012"/>
                  <a:pt x="483797" y="266886"/>
                  <a:pt x="481670" y="266886"/>
                </a:cubicBezTo>
                <a:lnTo>
                  <a:pt x="473164" y="266354"/>
                </a:lnTo>
                <a:cubicBezTo>
                  <a:pt x="473164" y="265823"/>
                  <a:pt x="473164" y="265823"/>
                  <a:pt x="473164" y="265291"/>
                </a:cubicBezTo>
                <a:lnTo>
                  <a:pt x="479544" y="264228"/>
                </a:lnTo>
                <a:cubicBezTo>
                  <a:pt x="481670" y="263696"/>
                  <a:pt x="482734" y="261569"/>
                  <a:pt x="481670" y="259443"/>
                </a:cubicBezTo>
                <a:cubicBezTo>
                  <a:pt x="480607" y="257316"/>
                  <a:pt x="477417" y="255721"/>
                  <a:pt x="475291" y="256253"/>
                </a:cubicBezTo>
                <a:lnTo>
                  <a:pt x="471569" y="256785"/>
                </a:lnTo>
                <a:cubicBezTo>
                  <a:pt x="469443" y="237114"/>
                  <a:pt x="486455" y="218506"/>
                  <a:pt x="506658" y="206810"/>
                </a:cubicBezTo>
                <a:cubicBezTo>
                  <a:pt x="527392" y="195114"/>
                  <a:pt x="528987" y="189797"/>
                  <a:pt x="537493" y="173316"/>
                </a:cubicBezTo>
                <a:close/>
                <a:moveTo>
                  <a:pt x="4353640" y="171721"/>
                </a:moveTo>
                <a:cubicBezTo>
                  <a:pt x="4312704" y="190861"/>
                  <a:pt x="4330779" y="168000"/>
                  <a:pt x="4294628" y="183949"/>
                </a:cubicBezTo>
                <a:cubicBezTo>
                  <a:pt x="4255818" y="200962"/>
                  <a:pt x="4259539" y="175443"/>
                  <a:pt x="4240932" y="176506"/>
                </a:cubicBezTo>
                <a:cubicBezTo>
                  <a:pt x="4219666" y="186076"/>
                  <a:pt x="4198931" y="188203"/>
                  <a:pt x="4174476" y="182354"/>
                </a:cubicBezTo>
                <a:cubicBezTo>
                  <a:pt x="4165438" y="180228"/>
                  <a:pt x="4174476" y="188203"/>
                  <a:pt x="4178197" y="192987"/>
                </a:cubicBezTo>
                <a:cubicBezTo>
                  <a:pt x="4189362" y="206810"/>
                  <a:pt x="4221261" y="239240"/>
                  <a:pt x="4225514" y="261569"/>
                </a:cubicBezTo>
                <a:lnTo>
                  <a:pt x="4207970" y="260506"/>
                </a:lnTo>
                <a:cubicBezTo>
                  <a:pt x="4205311" y="260506"/>
                  <a:pt x="4203185" y="262633"/>
                  <a:pt x="4203185" y="264759"/>
                </a:cubicBezTo>
                <a:cubicBezTo>
                  <a:pt x="4202653" y="266886"/>
                  <a:pt x="4204780" y="269012"/>
                  <a:pt x="4206906" y="269012"/>
                </a:cubicBezTo>
                <a:lnTo>
                  <a:pt x="4213817" y="269544"/>
                </a:lnTo>
                <a:lnTo>
                  <a:pt x="4203185" y="271671"/>
                </a:lnTo>
                <a:cubicBezTo>
                  <a:pt x="4201058" y="272202"/>
                  <a:pt x="4199995" y="274329"/>
                  <a:pt x="4201058" y="276455"/>
                </a:cubicBezTo>
                <a:cubicBezTo>
                  <a:pt x="4202122" y="278582"/>
                  <a:pt x="4205311" y="280177"/>
                  <a:pt x="4207438" y="279645"/>
                </a:cubicBezTo>
                <a:lnTo>
                  <a:pt x="4215413" y="278051"/>
                </a:lnTo>
                <a:cubicBezTo>
                  <a:pt x="4210096" y="281240"/>
                  <a:pt x="4205843" y="285494"/>
                  <a:pt x="4203716" y="289747"/>
                </a:cubicBezTo>
                <a:cubicBezTo>
                  <a:pt x="4203716" y="290278"/>
                  <a:pt x="4203185" y="290810"/>
                  <a:pt x="4203185" y="291342"/>
                </a:cubicBezTo>
                <a:cubicBezTo>
                  <a:pt x="4122906" y="350886"/>
                  <a:pt x="4082501" y="401924"/>
                  <a:pt x="4082501" y="499746"/>
                </a:cubicBezTo>
                <a:cubicBezTo>
                  <a:pt x="4082501" y="541747"/>
                  <a:pt x="4106957" y="572050"/>
                  <a:pt x="4146830" y="583215"/>
                </a:cubicBezTo>
                <a:cubicBezTo>
                  <a:pt x="4176071" y="591189"/>
                  <a:pt x="4213817" y="585341"/>
                  <a:pt x="4254754" y="585341"/>
                </a:cubicBezTo>
                <a:cubicBezTo>
                  <a:pt x="4298349" y="585341"/>
                  <a:pt x="4332375" y="594379"/>
                  <a:pt x="4362678" y="583215"/>
                </a:cubicBezTo>
                <a:cubicBezTo>
                  <a:pt x="4399362" y="569924"/>
                  <a:pt x="4428071" y="532177"/>
                  <a:pt x="4428071" y="484860"/>
                </a:cubicBezTo>
                <a:cubicBezTo>
                  <a:pt x="4428071" y="416810"/>
                  <a:pt x="4380754" y="324304"/>
                  <a:pt x="4314299" y="287088"/>
                </a:cubicBezTo>
                <a:cubicBezTo>
                  <a:pt x="4321210" y="284962"/>
                  <a:pt x="4323868" y="282835"/>
                  <a:pt x="4322805" y="279114"/>
                </a:cubicBezTo>
                <a:cubicBezTo>
                  <a:pt x="4321742" y="274329"/>
                  <a:pt x="4314299" y="270076"/>
                  <a:pt x="4301539" y="269544"/>
                </a:cubicBezTo>
                <a:cubicBezTo>
                  <a:pt x="4301539" y="267418"/>
                  <a:pt x="4299944" y="265291"/>
                  <a:pt x="4297818" y="265291"/>
                </a:cubicBezTo>
                <a:lnTo>
                  <a:pt x="4289311" y="264759"/>
                </a:lnTo>
                <a:cubicBezTo>
                  <a:pt x="4289311" y="264228"/>
                  <a:pt x="4289311" y="264228"/>
                  <a:pt x="4289311" y="263696"/>
                </a:cubicBezTo>
                <a:lnTo>
                  <a:pt x="4295691" y="262633"/>
                </a:lnTo>
                <a:cubicBezTo>
                  <a:pt x="4297818" y="262101"/>
                  <a:pt x="4298881" y="259975"/>
                  <a:pt x="4297818" y="257848"/>
                </a:cubicBezTo>
                <a:cubicBezTo>
                  <a:pt x="4296754" y="255721"/>
                  <a:pt x="4293564" y="254126"/>
                  <a:pt x="4291438" y="254658"/>
                </a:cubicBezTo>
                <a:lnTo>
                  <a:pt x="4287716" y="255190"/>
                </a:lnTo>
                <a:cubicBezTo>
                  <a:pt x="4285590" y="235519"/>
                  <a:pt x="4302602" y="216911"/>
                  <a:pt x="4322805" y="205215"/>
                </a:cubicBezTo>
                <a:cubicBezTo>
                  <a:pt x="4343539" y="193519"/>
                  <a:pt x="4345134" y="188203"/>
                  <a:pt x="4353640" y="171721"/>
                </a:cubicBezTo>
                <a:close/>
                <a:moveTo>
                  <a:pt x="3930451" y="171721"/>
                </a:moveTo>
                <a:cubicBezTo>
                  <a:pt x="3889514" y="190861"/>
                  <a:pt x="3907590" y="168000"/>
                  <a:pt x="3871438" y="183949"/>
                </a:cubicBezTo>
                <a:cubicBezTo>
                  <a:pt x="3832628" y="200962"/>
                  <a:pt x="3836349" y="175443"/>
                  <a:pt x="3817742" y="176506"/>
                </a:cubicBezTo>
                <a:cubicBezTo>
                  <a:pt x="3796476" y="186076"/>
                  <a:pt x="3775742" y="188203"/>
                  <a:pt x="3751286" y="182354"/>
                </a:cubicBezTo>
                <a:cubicBezTo>
                  <a:pt x="3742248" y="180228"/>
                  <a:pt x="3751286" y="188203"/>
                  <a:pt x="3755008" y="192987"/>
                </a:cubicBezTo>
                <a:cubicBezTo>
                  <a:pt x="3766173" y="206810"/>
                  <a:pt x="3798071" y="239240"/>
                  <a:pt x="3802324" y="261569"/>
                </a:cubicBezTo>
                <a:lnTo>
                  <a:pt x="3784780" y="260506"/>
                </a:lnTo>
                <a:cubicBezTo>
                  <a:pt x="3782122" y="260506"/>
                  <a:pt x="3779995" y="262633"/>
                  <a:pt x="3779995" y="264759"/>
                </a:cubicBezTo>
                <a:cubicBezTo>
                  <a:pt x="3779464" y="266886"/>
                  <a:pt x="3781590" y="269012"/>
                  <a:pt x="3783717" y="269012"/>
                </a:cubicBezTo>
                <a:lnTo>
                  <a:pt x="3790628" y="269544"/>
                </a:lnTo>
                <a:lnTo>
                  <a:pt x="3779995" y="271671"/>
                </a:lnTo>
                <a:cubicBezTo>
                  <a:pt x="3777868" y="272202"/>
                  <a:pt x="3776805" y="274329"/>
                  <a:pt x="3777868" y="276455"/>
                </a:cubicBezTo>
                <a:cubicBezTo>
                  <a:pt x="3778932" y="278582"/>
                  <a:pt x="3782122" y="280177"/>
                  <a:pt x="3784248" y="279645"/>
                </a:cubicBezTo>
                <a:lnTo>
                  <a:pt x="3792223" y="278051"/>
                </a:lnTo>
                <a:cubicBezTo>
                  <a:pt x="3786906" y="281240"/>
                  <a:pt x="3782653" y="285494"/>
                  <a:pt x="3780527" y="289747"/>
                </a:cubicBezTo>
                <a:cubicBezTo>
                  <a:pt x="3780527" y="290278"/>
                  <a:pt x="3779995" y="290810"/>
                  <a:pt x="3779995" y="291342"/>
                </a:cubicBezTo>
                <a:cubicBezTo>
                  <a:pt x="3699717" y="350886"/>
                  <a:pt x="3659312" y="401924"/>
                  <a:pt x="3659312" y="499746"/>
                </a:cubicBezTo>
                <a:cubicBezTo>
                  <a:pt x="3659312" y="541747"/>
                  <a:pt x="3683768" y="572050"/>
                  <a:pt x="3723641" y="583215"/>
                </a:cubicBezTo>
                <a:cubicBezTo>
                  <a:pt x="3752881" y="591189"/>
                  <a:pt x="3790628" y="585341"/>
                  <a:pt x="3831565" y="585341"/>
                </a:cubicBezTo>
                <a:cubicBezTo>
                  <a:pt x="3875160" y="585341"/>
                  <a:pt x="3909185" y="594379"/>
                  <a:pt x="3939489" y="583215"/>
                </a:cubicBezTo>
                <a:cubicBezTo>
                  <a:pt x="3976172" y="569924"/>
                  <a:pt x="4004881" y="532177"/>
                  <a:pt x="4004881" y="484860"/>
                </a:cubicBezTo>
                <a:cubicBezTo>
                  <a:pt x="4004881" y="416810"/>
                  <a:pt x="3957565" y="324304"/>
                  <a:pt x="3891109" y="287088"/>
                </a:cubicBezTo>
                <a:cubicBezTo>
                  <a:pt x="3898020" y="284962"/>
                  <a:pt x="3900679" y="282835"/>
                  <a:pt x="3899615" y="279114"/>
                </a:cubicBezTo>
                <a:cubicBezTo>
                  <a:pt x="3898552" y="274329"/>
                  <a:pt x="3891109" y="270076"/>
                  <a:pt x="3878349" y="269544"/>
                </a:cubicBezTo>
                <a:cubicBezTo>
                  <a:pt x="3878349" y="267418"/>
                  <a:pt x="3876755" y="265291"/>
                  <a:pt x="3874628" y="265291"/>
                </a:cubicBezTo>
                <a:lnTo>
                  <a:pt x="3866122" y="264759"/>
                </a:lnTo>
                <a:cubicBezTo>
                  <a:pt x="3866122" y="264228"/>
                  <a:pt x="3866122" y="264228"/>
                  <a:pt x="3866122" y="263696"/>
                </a:cubicBezTo>
                <a:lnTo>
                  <a:pt x="3872502" y="262633"/>
                </a:lnTo>
                <a:cubicBezTo>
                  <a:pt x="3874628" y="262101"/>
                  <a:pt x="3875691" y="259975"/>
                  <a:pt x="3874628" y="257848"/>
                </a:cubicBezTo>
                <a:cubicBezTo>
                  <a:pt x="3873565" y="255721"/>
                  <a:pt x="3870375" y="254126"/>
                  <a:pt x="3868248" y="254658"/>
                </a:cubicBezTo>
                <a:lnTo>
                  <a:pt x="3864527" y="255190"/>
                </a:lnTo>
                <a:cubicBezTo>
                  <a:pt x="3862400" y="235519"/>
                  <a:pt x="3879413" y="216911"/>
                  <a:pt x="3899615" y="205215"/>
                </a:cubicBezTo>
                <a:cubicBezTo>
                  <a:pt x="3920350" y="193519"/>
                  <a:pt x="3921944" y="188203"/>
                  <a:pt x="3930451" y="171721"/>
                </a:cubicBezTo>
                <a:close/>
                <a:moveTo>
                  <a:pt x="3083009" y="171721"/>
                </a:moveTo>
                <a:cubicBezTo>
                  <a:pt x="3042072" y="190861"/>
                  <a:pt x="3060148" y="168000"/>
                  <a:pt x="3023996" y="183949"/>
                </a:cubicBezTo>
                <a:cubicBezTo>
                  <a:pt x="2985186" y="200962"/>
                  <a:pt x="2988907" y="175443"/>
                  <a:pt x="2970300" y="176506"/>
                </a:cubicBezTo>
                <a:cubicBezTo>
                  <a:pt x="2949034" y="186076"/>
                  <a:pt x="2928300" y="188203"/>
                  <a:pt x="2903844" y="182354"/>
                </a:cubicBezTo>
                <a:cubicBezTo>
                  <a:pt x="2894806" y="180228"/>
                  <a:pt x="2903844" y="188203"/>
                  <a:pt x="2907566" y="192987"/>
                </a:cubicBezTo>
                <a:cubicBezTo>
                  <a:pt x="2918730" y="206810"/>
                  <a:pt x="2950629" y="239240"/>
                  <a:pt x="2954882" y="261569"/>
                </a:cubicBezTo>
                <a:lnTo>
                  <a:pt x="2937338" y="260506"/>
                </a:lnTo>
                <a:cubicBezTo>
                  <a:pt x="2934680" y="260506"/>
                  <a:pt x="2932553" y="262633"/>
                  <a:pt x="2932553" y="264759"/>
                </a:cubicBezTo>
                <a:cubicBezTo>
                  <a:pt x="2932021" y="266886"/>
                  <a:pt x="2934148" y="269012"/>
                  <a:pt x="2936274" y="269012"/>
                </a:cubicBezTo>
                <a:lnTo>
                  <a:pt x="2943186" y="269544"/>
                </a:lnTo>
                <a:lnTo>
                  <a:pt x="2932553" y="271671"/>
                </a:lnTo>
                <a:cubicBezTo>
                  <a:pt x="2930426" y="272202"/>
                  <a:pt x="2929363" y="274329"/>
                  <a:pt x="2930426" y="276455"/>
                </a:cubicBezTo>
                <a:cubicBezTo>
                  <a:pt x="2931490" y="278582"/>
                  <a:pt x="2934680" y="280177"/>
                  <a:pt x="2936806" y="279645"/>
                </a:cubicBezTo>
                <a:lnTo>
                  <a:pt x="2944781" y="278051"/>
                </a:lnTo>
                <a:cubicBezTo>
                  <a:pt x="2939465" y="281240"/>
                  <a:pt x="2935211" y="285494"/>
                  <a:pt x="2933085" y="289747"/>
                </a:cubicBezTo>
                <a:cubicBezTo>
                  <a:pt x="2933085" y="290278"/>
                  <a:pt x="2932553" y="290810"/>
                  <a:pt x="2932553" y="291342"/>
                </a:cubicBezTo>
                <a:cubicBezTo>
                  <a:pt x="2852275" y="350886"/>
                  <a:pt x="2811870" y="401924"/>
                  <a:pt x="2811870" y="499746"/>
                </a:cubicBezTo>
                <a:cubicBezTo>
                  <a:pt x="2811870" y="541747"/>
                  <a:pt x="2836325" y="572050"/>
                  <a:pt x="2876199" y="583215"/>
                </a:cubicBezTo>
                <a:cubicBezTo>
                  <a:pt x="2905439" y="591189"/>
                  <a:pt x="2943186" y="585341"/>
                  <a:pt x="2984123" y="585341"/>
                </a:cubicBezTo>
                <a:cubicBezTo>
                  <a:pt x="3027717" y="585341"/>
                  <a:pt x="3061743" y="594379"/>
                  <a:pt x="3092046" y="583215"/>
                </a:cubicBezTo>
                <a:cubicBezTo>
                  <a:pt x="3128199" y="569924"/>
                  <a:pt x="3157439" y="532177"/>
                  <a:pt x="3157439" y="484860"/>
                </a:cubicBezTo>
                <a:cubicBezTo>
                  <a:pt x="3157439" y="416810"/>
                  <a:pt x="3110122" y="324304"/>
                  <a:pt x="3043667" y="287088"/>
                </a:cubicBezTo>
                <a:cubicBezTo>
                  <a:pt x="3050578" y="284962"/>
                  <a:pt x="3053236" y="282835"/>
                  <a:pt x="3052173" y="279114"/>
                </a:cubicBezTo>
                <a:cubicBezTo>
                  <a:pt x="3051110" y="274329"/>
                  <a:pt x="3043667" y="270076"/>
                  <a:pt x="3030907" y="269544"/>
                </a:cubicBezTo>
                <a:cubicBezTo>
                  <a:pt x="3030907" y="267418"/>
                  <a:pt x="3029312" y="265291"/>
                  <a:pt x="3027186" y="265291"/>
                </a:cubicBezTo>
                <a:lnTo>
                  <a:pt x="3018679" y="264759"/>
                </a:lnTo>
                <a:cubicBezTo>
                  <a:pt x="3018679" y="264228"/>
                  <a:pt x="3018679" y="264228"/>
                  <a:pt x="3018679" y="263696"/>
                </a:cubicBezTo>
                <a:lnTo>
                  <a:pt x="3025059" y="262633"/>
                </a:lnTo>
                <a:cubicBezTo>
                  <a:pt x="3027186" y="262101"/>
                  <a:pt x="3028249" y="259975"/>
                  <a:pt x="3027186" y="257848"/>
                </a:cubicBezTo>
                <a:cubicBezTo>
                  <a:pt x="3026123" y="255721"/>
                  <a:pt x="3022933" y="254126"/>
                  <a:pt x="3020806" y="254658"/>
                </a:cubicBezTo>
                <a:lnTo>
                  <a:pt x="3017085" y="255190"/>
                </a:lnTo>
                <a:cubicBezTo>
                  <a:pt x="3014958" y="235519"/>
                  <a:pt x="3031971" y="216911"/>
                  <a:pt x="3052173" y="205215"/>
                </a:cubicBezTo>
                <a:cubicBezTo>
                  <a:pt x="3072907" y="193519"/>
                  <a:pt x="3074502" y="188203"/>
                  <a:pt x="3083009" y="171721"/>
                </a:cubicBezTo>
                <a:close/>
                <a:moveTo>
                  <a:pt x="2232908" y="171721"/>
                </a:moveTo>
                <a:cubicBezTo>
                  <a:pt x="2191971" y="190861"/>
                  <a:pt x="2210048" y="168000"/>
                  <a:pt x="2173896" y="183949"/>
                </a:cubicBezTo>
                <a:cubicBezTo>
                  <a:pt x="2135086" y="200962"/>
                  <a:pt x="2138807" y="175443"/>
                  <a:pt x="2120199" y="176506"/>
                </a:cubicBezTo>
                <a:cubicBezTo>
                  <a:pt x="2098934" y="186076"/>
                  <a:pt x="2078199" y="188203"/>
                  <a:pt x="2053744" y="182354"/>
                </a:cubicBezTo>
                <a:cubicBezTo>
                  <a:pt x="2044706" y="180228"/>
                  <a:pt x="2053744" y="188203"/>
                  <a:pt x="2057465" y="192987"/>
                </a:cubicBezTo>
                <a:cubicBezTo>
                  <a:pt x="2068630" y="206810"/>
                  <a:pt x="2100529" y="239240"/>
                  <a:pt x="2104782" y="261569"/>
                </a:cubicBezTo>
                <a:lnTo>
                  <a:pt x="2087237" y="260506"/>
                </a:lnTo>
                <a:cubicBezTo>
                  <a:pt x="2084579" y="260506"/>
                  <a:pt x="2082453" y="262633"/>
                  <a:pt x="2082453" y="264759"/>
                </a:cubicBezTo>
                <a:cubicBezTo>
                  <a:pt x="2081921" y="266886"/>
                  <a:pt x="2084048" y="269012"/>
                  <a:pt x="2086174" y="269012"/>
                </a:cubicBezTo>
                <a:lnTo>
                  <a:pt x="2093086" y="269544"/>
                </a:lnTo>
                <a:lnTo>
                  <a:pt x="2082453" y="271671"/>
                </a:lnTo>
                <a:cubicBezTo>
                  <a:pt x="2080326" y="272202"/>
                  <a:pt x="2079263" y="274329"/>
                  <a:pt x="2080326" y="276455"/>
                </a:cubicBezTo>
                <a:cubicBezTo>
                  <a:pt x="2081389" y="278582"/>
                  <a:pt x="2084579" y="280177"/>
                  <a:pt x="2086706" y="279645"/>
                </a:cubicBezTo>
                <a:lnTo>
                  <a:pt x="2094680" y="278051"/>
                </a:lnTo>
                <a:cubicBezTo>
                  <a:pt x="2089364" y="281240"/>
                  <a:pt x="2085111" y="285494"/>
                  <a:pt x="2082984" y="289747"/>
                </a:cubicBezTo>
                <a:cubicBezTo>
                  <a:pt x="2082984" y="290278"/>
                  <a:pt x="2082453" y="290810"/>
                  <a:pt x="2082453" y="291342"/>
                </a:cubicBezTo>
                <a:cubicBezTo>
                  <a:pt x="2002174" y="350886"/>
                  <a:pt x="1961769" y="401924"/>
                  <a:pt x="1961769" y="499746"/>
                </a:cubicBezTo>
                <a:cubicBezTo>
                  <a:pt x="1961769" y="541747"/>
                  <a:pt x="1986225" y="572050"/>
                  <a:pt x="2026098" y="583215"/>
                </a:cubicBezTo>
                <a:cubicBezTo>
                  <a:pt x="2055339" y="591189"/>
                  <a:pt x="2093086" y="585341"/>
                  <a:pt x="2134022" y="585341"/>
                </a:cubicBezTo>
                <a:cubicBezTo>
                  <a:pt x="2177617" y="585341"/>
                  <a:pt x="2211642" y="594379"/>
                  <a:pt x="2241946" y="583215"/>
                </a:cubicBezTo>
                <a:cubicBezTo>
                  <a:pt x="2278630" y="569924"/>
                  <a:pt x="2307338" y="532177"/>
                  <a:pt x="2307338" y="484860"/>
                </a:cubicBezTo>
                <a:cubicBezTo>
                  <a:pt x="2307338" y="416810"/>
                  <a:pt x="2260022" y="324304"/>
                  <a:pt x="2193566" y="287088"/>
                </a:cubicBezTo>
                <a:cubicBezTo>
                  <a:pt x="2200478" y="284962"/>
                  <a:pt x="2203136" y="282835"/>
                  <a:pt x="2202073" y="279114"/>
                </a:cubicBezTo>
                <a:cubicBezTo>
                  <a:pt x="2201009" y="274329"/>
                  <a:pt x="2193566" y="270076"/>
                  <a:pt x="2180807" y="269544"/>
                </a:cubicBezTo>
                <a:cubicBezTo>
                  <a:pt x="2180807" y="267418"/>
                  <a:pt x="2179212" y="265291"/>
                  <a:pt x="2177085" y="265291"/>
                </a:cubicBezTo>
                <a:lnTo>
                  <a:pt x="2168579" y="264759"/>
                </a:lnTo>
                <a:cubicBezTo>
                  <a:pt x="2168579" y="264228"/>
                  <a:pt x="2168579" y="264228"/>
                  <a:pt x="2168579" y="263696"/>
                </a:cubicBezTo>
                <a:lnTo>
                  <a:pt x="2174959" y="262633"/>
                </a:lnTo>
                <a:cubicBezTo>
                  <a:pt x="2177085" y="262101"/>
                  <a:pt x="2178149" y="259975"/>
                  <a:pt x="2177085" y="257848"/>
                </a:cubicBezTo>
                <a:cubicBezTo>
                  <a:pt x="2176022" y="255721"/>
                  <a:pt x="2172832" y="254126"/>
                  <a:pt x="2170706" y="254658"/>
                </a:cubicBezTo>
                <a:lnTo>
                  <a:pt x="2166984" y="255190"/>
                </a:lnTo>
                <a:cubicBezTo>
                  <a:pt x="2164858" y="235519"/>
                  <a:pt x="2181870" y="216911"/>
                  <a:pt x="2202073" y="205215"/>
                </a:cubicBezTo>
                <a:cubicBezTo>
                  <a:pt x="2222807" y="193519"/>
                  <a:pt x="2224402" y="188203"/>
                  <a:pt x="2232908" y="171721"/>
                </a:cubicBezTo>
                <a:close/>
                <a:moveTo>
                  <a:pt x="1809719" y="171721"/>
                </a:moveTo>
                <a:cubicBezTo>
                  <a:pt x="1768782" y="190861"/>
                  <a:pt x="1786858" y="168000"/>
                  <a:pt x="1750706" y="183949"/>
                </a:cubicBezTo>
                <a:cubicBezTo>
                  <a:pt x="1711896" y="200962"/>
                  <a:pt x="1715618" y="175443"/>
                  <a:pt x="1697010" y="176506"/>
                </a:cubicBezTo>
                <a:cubicBezTo>
                  <a:pt x="1675744" y="186076"/>
                  <a:pt x="1655010" y="188203"/>
                  <a:pt x="1630554" y="182354"/>
                </a:cubicBezTo>
                <a:cubicBezTo>
                  <a:pt x="1621516" y="180228"/>
                  <a:pt x="1630554" y="188203"/>
                  <a:pt x="1634276" y="192987"/>
                </a:cubicBezTo>
                <a:cubicBezTo>
                  <a:pt x="1645440" y="206810"/>
                  <a:pt x="1677339" y="239240"/>
                  <a:pt x="1681592" y="261569"/>
                </a:cubicBezTo>
                <a:lnTo>
                  <a:pt x="1664048" y="260506"/>
                </a:lnTo>
                <a:cubicBezTo>
                  <a:pt x="1661390" y="260506"/>
                  <a:pt x="1659263" y="262633"/>
                  <a:pt x="1659263" y="264759"/>
                </a:cubicBezTo>
                <a:cubicBezTo>
                  <a:pt x="1658731" y="266886"/>
                  <a:pt x="1660858" y="269012"/>
                  <a:pt x="1662985" y="269012"/>
                </a:cubicBezTo>
                <a:lnTo>
                  <a:pt x="1669896" y="269544"/>
                </a:lnTo>
                <a:lnTo>
                  <a:pt x="1659263" y="271671"/>
                </a:lnTo>
                <a:cubicBezTo>
                  <a:pt x="1657137" y="272202"/>
                  <a:pt x="1656073" y="274329"/>
                  <a:pt x="1657137" y="276455"/>
                </a:cubicBezTo>
                <a:cubicBezTo>
                  <a:pt x="1658200" y="278582"/>
                  <a:pt x="1661390" y="280177"/>
                  <a:pt x="1663516" y="279645"/>
                </a:cubicBezTo>
                <a:lnTo>
                  <a:pt x="1671491" y="278051"/>
                </a:lnTo>
                <a:cubicBezTo>
                  <a:pt x="1666174" y="281240"/>
                  <a:pt x="1661921" y="285494"/>
                  <a:pt x="1659795" y="289747"/>
                </a:cubicBezTo>
                <a:cubicBezTo>
                  <a:pt x="1659795" y="290278"/>
                  <a:pt x="1659263" y="290810"/>
                  <a:pt x="1659263" y="291342"/>
                </a:cubicBezTo>
                <a:cubicBezTo>
                  <a:pt x="1578985" y="350886"/>
                  <a:pt x="1538580" y="401924"/>
                  <a:pt x="1538580" y="499746"/>
                </a:cubicBezTo>
                <a:cubicBezTo>
                  <a:pt x="1538580" y="541747"/>
                  <a:pt x="1563035" y="572050"/>
                  <a:pt x="1602909" y="583215"/>
                </a:cubicBezTo>
                <a:cubicBezTo>
                  <a:pt x="1632149" y="591189"/>
                  <a:pt x="1669896" y="585341"/>
                  <a:pt x="1710833" y="585341"/>
                </a:cubicBezTo>
                <a:cubicBezTo>
                  <a:pt x="1754428" y="585341"/>
                  <a:pt x="1788453" y="594379"/>
                  <a:pt x="1818757" y="583215"/>
                </a:cubicBezTo>
                <a:cubicBezTo>
                  <a:pt x="1855440" y="569924"/>
                  <a:pt x="1884149" y="532177"/>
                  <a:pt x="1884149" y="484860"/>
                </a:cubicBezTo>
                <a:cubicBezTo>
                  <a:pt x="1884149" y="416810"/>
                  <a:pt x="1836833" y="324304"/>
                  <a:pt x="1770377" y="287088"/>
                </a:cubicBezTo>
                <a:cubicBezTo>
                  <a:pt x="1777288" y="284962"/>
                  <a:pt x="1779946" y="282835"/>
                  <a:pt x="1778883" y="279114"/>
                </a:cubicBezTo>
                <a:cubicBezTo>
                  <a:pt x="1777820" y="274329"/>
                  <a:pt x="1770377" y="270076"/>
                  <a:pt x="1757618" y="269544"/>
                </a:cubicBezTo>
                <a:cubicBezTo>
                  <a:pt x="1757618" y="267418"/>
                  <a:pt x="1756022" y="265291"/>
                  <a:pt x="1753896" y="265291"/>
                </a:cubicBezTo>
                <a:lnTo>
                  <a:pt x="1745390" y="264759"/>
                </a:lnTo>
                <a:cubicBezTo>
                  <a:pt x="1745390" y="264228"/>
                  <a:pt x="1745390" y="264228"/>
                  <a:pt x="1745390" y="263696"/>
                </a:cubicBezTo>
                <a:lnTo>
                  <a:pt x="1751769" y="262633"/>
                </a:lnTo>
                <a:cubicBezTo>
                  <a:pt x="1753896" y="262101"/>
                  <a:pt x="1754959" y="259975"/>
                  <a:pt x="1753896" y="257848"/>
                </a:cubicBezTo>
                <a:cubicBezTo>
                  <a:pt x="1752833" y="255721"/>
                  <a:pt x="1749643" y="254126"/>
                  <a:pt x="1747516" y="254658"/>
                </a:cubicBezTo>
                <a:lnTo>
                  <a:pt x="1743795" y="255190"/>
                </a:lnTo>
                <a:cubicBezTo>
                  <a:pt x="1741668" y="235519"/>
                  <a:pt x="1758681" y="216911"/>
                  <a:pt x="1778883" y="205215"/>
                </a:cubicBezTo>
                <a:cubicBezTo>
                  <a:pt x="1799617" y="193519"/>
                  <a:pt x="1801212" y="188203"/>
                  <a:pt x="1809719" y="171721"/>
                </a:cubicBezTo>
                <a:close/>
                <a:moveTo>
                  <a:pt x="962278" y="171721"/>
                </a:moveTo>
                <a:cubicBezTo>
                  <a:pt x="921341" y="190861"/>
                  <a:pt x="939417" y="168000"/>
                  <a:pt x="903265" y="183949"/>
                </a:cubicBezTo>
                <a:cubicBezTo>
                  <a:pt x="864455" y="200962"/>
                  <a:pt x="868176" y="175443"/>
                  <a:pt x="849569" y="176506"/>
                </a:cubicBezTo>
                <a:cubicBezTo>
                  <a:pt x="828303" y="186076"/>
                  <a:pt x="807569" y="188203"/>
                  <a:pt x="783113" y="182354"/>
                </a:cubicBezTo>
                <a:cubicBezTo>
                  <a:pt x="774075" y="180228"/>
                  <a:pt x="783113" y="188203"/>
                  <a:pt x="786835" y="192987"/>
                </a:cubicBezTo>
                <a:cubicBezTo>
                  <a:pt x="797999" y="206810"/>
                  <a:pt x="829898" y="239240"/>
                  <a:pt x="834151" y="261569"/>
                </a:cubicBezTo>
                <a:lnTo>
                  <a:pt x="816607" y="260506"/>
                </a:lnTo>
                <a:cubicBezTo>
                  <a:pt x="813949" y="260506"/>
                  <a:pt x="811822" y="262633"/>
                  <a:pt x="811822" y="264759"/>
                </a:cubicBezTo>
                <a:cubicBezTo>
                  <a:pt x="811290" y="266886"/>
                  <a:pt x="813417" y="269012"/>
                  <a:pt x="815543" y="269012"/>
                </a:cubicBezTo>
                <a:lnTo>
                  <a:pt x="822455" y="269544"/>
                </a:lnTo>
                <a:lnTo>
                  <a:pt x="811822" y="271671"/>
                </a:lnTo>
                <a:cubicBezTo>
                  <a:pt x="809695" y="272202"/>
                  <a:pt x="808632" y="274329"/>
                  <a:pt x="809695" y="276455"/>
                </a:cubicBezTo>
                <a:cubicBezTo>
                  <a:pt x="810759" y="278582"/>
                  <a:pt x="813949" y="280177"/>
                  <a:pt x="816075" y="279645"/>
                </a:cubicBezTo>
                <a:lnTo>
                  <a:pt x="824050" y="278051"/>
                </a:lnTo>
                <a:cubicBezTo>
                  <a:pt x="818733" y="281240"/>
                  <a:pt x="814480" y="285494"/>
                  <a:pt x="812354" y="289747"/>
                </a:cubicBezTo>
                <a:cubicBezTo>
                  <a:pt x="812354" y="290278"/>
                  <a:pt x="811822" y="290810"/>
                  <a:pt x="811822" y="291342"/>
                </a:cubicBezTo>
                <a:cubicBezTo>
                  <a:pt x="731544" y="350886"/>
                  <a:pt x="691139" y="401924"/>
                  <a:pt x="691139" y="499746"/>
                </a:cubicBezTo>
                <a:cubicBezTo>
                  <a:pt x="691139" y="541747"/>
                  <a:pt x="715594" y="572050"/>
                  <a:pt x="755468" y="583215"/>
                </a:cubicBezTo>
                <a:cubicBezTo>
                  <a:pt x="784708" y="591189"/>
                  <a:pt x="822455" y="585341"/>
                  <a:pt x="863391" y="585341"/>
                </a:cubicBezTo>
                <a:cubicBezTo>
                  <a:pt x="906986" y="585341"/>
                  <a:pt x="941012" y="594379"/>
                  <a:pt x="971315" y="583215"/>
                </a:cubicBezTo>
                <a:cubicBezTo>
                  <a:pt x="1007467" y="569924"/>
                  <a:pt x="1036176" y="532177"/>
                  <a:pt x="1036708" y="484860"/>
                </a:cubicBezTo>
                <a:cubicBezTo>
                  <a:pt x="1036708" y="416810"/>
                  <a:pt x="989391" y="324304"/>
                  <a:pt x="922936" y="287088"/>
                </a:cubicBezTo>
                <a:cubicBezTo>
                  <a:pt x="929847" y="284962"/>
                  <a:pt x="932505" y="282835"/>
                  <a:pt x="931442" y="279114"/>
                </a:cubicBezTo>
                <a:cubicBezTo>
                  <a:pt x="930379" y="274329"/>
                  <a:pt x="922936" y="270076"/>
                  <a:pt x="910176" y="269544"/>
                </a:cubicBezTo>
                <a:cubicBezTo>
                  <a:pt x="910176" y="267418"/>
                  <a:pt x="908581" y="265291"/>
                  <a:pt x="906455" y="265291"/>
                </a:cubicBezTo>
                <a:lnTo>
                  <a:pt x="897948" y="264759"/>
                </a:lnTo>
                <a:cubicBezTo>
                  <a:pt x="897948" y="264228"/>
                  <a:pt x="897948" y="264228"/>
                  <a:pt x="897948" y="263696"/>
                </a:cubicBezTo>
                <a:lnTo>
                  <a:pt x="904328" y="262633"/>
                </a:lnTo>
                <a:cubicBezTo>
                  <a:pt x="906455" y="262101"/>
                  <a:pt x="907518" y="259975"/>
                  <a:pt x="906455" y="257848"/>
                </a:cubicBezTo>
                <a:cubicBezTo>
                  <a:pt x="905392" y="255721"/>
                  <a:pt x="902202" y="254126"/>
                  <a:pt x="900075" y="254658"/>
                </a:cubicBezTo>
                <a:lnTo>
                  <a:pt x="896354" y="255190"/>
                </a:lnTo>
                <a:cubicBezTo>
                  <a:pt x="894227" y="235519"/>
                  <a:pt x="911240" y="216911"/>
                  <a:pt x="931442" y="205215"/>
                </a:cubicBezTo>
                <a:cubicBezTo>
                  <a:pt x="952176" y="193519"/>
                  <a:pt x="953771" y="188203"/>
                  <a:pt x="962278" y="171721"/>
                </a:cubicBezTo>
                <a:close/>
                <a:moveTo>
                  <a:pt x="3506729" y="167468"/>
                </a:moveTo>
                <a:cubicBezTo>
                  <a:pt x="3465793" y="186607"/>
                  <a:pt x="3483869" y="163747"/>
                  <a:pt x="3447717" y="179696"/>
                </a:cubicBezTo>
                <a:cubicBezTo>
                  <a:pt x="3408907" y="196709"/>
                  <a:pt x="3412629" y="171190"/>
                  <a:pt x="3394021" y="172253"/>
                </a:cubicBezTo>
                <a:cubicBezTo>
                  <a:pt x="3372755" y="181823"/>
                  <a:pt x="3352021" y="183949"/>
                  <a:pt x="3327565" y="178101"/>
                </a:cubicBezTo>
                <a:cubicBezTo>
                  <a:pt x="3318527" y="175975"/>
                  <a:pt x="3327565" y="183949"/>
                  <a:pt x="3331287" y="188734"/>
                </a:cubicBezTo>
                <a:cubicBezTo>
                  <a:pt x="3342451" y="202557"/>
                  <a:pt x="3374350" y="234987"/>
                  <a:pt x="3378603" y="257316"/>
                </a:cubicBezTo>
                <a:lnTo>
                  <a:pt x="3361059" y="256253"/>
                </a:lnTo>
                <a:cubicBezTo>
                  <a:pt x="3358401" y="256253"/>
                  <a:pt x="3356274" y="258380"/>
                  <a:pt x="3356274" y="260506"/>
                </a:cubicBezTo>
                <a:cubicBezTo>
                  <a:pt x="3355742" y="262633"/>
                  <a:pt x="3357869" y="264759"/>
                  <a:pt x="3359996" y="264759"/>
                </a:cubicBezTo>
                <a:lnTo>
                  <a:pt x="3366907" y="265291"/>
                </a:lnTo>
                <a:lnTo>
                  <a:pt x="3356274" y="267418"/>
                </a:lnTo>
                <a:cubicBezTo>
                  <a:pt x="3354148" y="267949"/>
                  <a:pt x="3353084" y="270076"/>
                  <a:pt x="3354148" y="272202"/>
                </a:cubicBezTo>
                <a:cubicBezTo>
                  <a:pt x="3355211" y="274329"/>
                  <a:pt x="3358401" y="275924"/>
                  <a:pt x="3360527" y="275392"/>
                </a:cubicBezTo>
                <a:lnTo>
                  <a:pt x="3368502" y="273797"/>
                </a:lnTo>
                <a:cubicBezTo>
                  <a:pt x="3363185" y="276987"/>
                  <a:pt x="3358932" y="281240"/>
                  <a:pt x="3356806" y="285494"/>
                </a:cubicBezTo>
                <a:cubicBezTo>
                  <a:pt x="3356806" y="286025"/>
                  <a:pt x="3356274" y="286557"/>
                  <a:pt x="3356274" y="287088"/>
                </a:cubicBezTo>
                <a:cubicBezTo>
                  <a:pt x="3275996" y="346633"/>
                  <a:pt x="3235591" y="397671"/>
                  <a:pt x="3235591" y="495493"/>
                </a:cubicBezTo>
                <a:cubicBezTo>
                  <a:pt x="3235591" y="537493"/>
                  <a:pt x="3260046" y="567797"/>
                  <a:pt x="3299920" y="578962"/>
                </a:cubicBezTo>
                <a:cubicBezTo>
                  <a:pt x="3329160" y="586936"/>
                  <a:pt x="3366907" y="581088"/>
                  <a:pt x="3407844" y="581088"/>
                </a:cubicBezTo>
                <a:cubicBezTo>
                  <a:pt x="3451439" y="581088"/>
                  <a:pt x="3485464" y="590126"/>
                  <a:pt x="3515768" y="578962"/>
                </a:cubicBezTo>
                <a:cubicBezTo>
                  <a:pt x="3552451" y="565671"/>
                  <a:pt x="3581160" y="527924"/>
                  <a:pt x="3581160" y="480607"/>
                </a:cubicBezTo>
                <a:cubicBezTo>
                  <a:pt x="3581160" y="412557"/>
                  <a:pt x="3533844" y="320050"/>
                  <a:pt x="3467388" y="282835"/>
                </a:cubicBezTo>
                <a:cubicBezTo>
                  <a:pt x="3474299" y="280709"/>
                  <a:pt x="3476957" y="278582"/>
                  <a:pt x="3475894" y="274861"/>
                </a:cubicBezTo>
                <a:cubicBezTo>
                  <a:pt x="3474831" y="270076"/>
                  <a:pt x="3467388" y="265823"/>
                  <a:pt x="3454628" y="265291"/>
                </a:cubicBezTo>
                <a:cubicBezTo>
                  <a:pt x="3454628" y="263164"/>
                  <a:pt x="3453033" y="261038"/>
                  <a:pt x="3450907" y="261038"/>
                </a:cubicBezTo>
                <a:lnTo>
                  <a:pt x="3442401" y="260506"/>
                </a:lnTo>
                <a:cubicBezTo>
                  <a:pt x="3442401" y="259975"/>
                  <a:pt x="3442401" y="259975"/>
                  <a:pt x="3442401" y="259443"/>
                </a:cubicBezTo>
                <a:lnTo>
                  <a:pt x="3448780" y="258380"/>
                </a:lnTo>
                <a:cubicBezTo>
                  <a:pt x="3450907" y="257848"/>
                  <a:pt x="3451970" y="255721"/>
                  <a:pt x="3450907" y="253595"/>
                </a:cubicBezTo>
                <a:cubicBezTo>
                  <a:pt x="3449844" y="251468"/>
                  <a:pt x="3446654" y="249873"/>
                  <a:pt x="3444527" y="250405"/>
                </a:cubicBezTo>
                <a:lnTo>
                  <a:pt x="3440806" y="250937"/>
                </a:lnTo>
                <a:cubicBezTo>
                  <a:pt x="3438679" y="231266"/>
                  <a:pt x="3455692" y="212658"/>
                  <a:pt x="3475894" y="200962"/>
                </a:cubicBezTo>
                <a:cubicBezTo>
                  <a:pt x="3496628" y="189266"/>
                  <a:pt x="3498223" y="183949"/>
                  <a:pt x="3506729" y="167468"/>
                </a:cubicBezTo>
                <a:close/>
                <a:moveTo>
                  <a:pt x="1385998" y="167468"/>
                </a:moveTo>
                <a:cubicBezTo>
                  <a:pt x="1345061" y="186607"/>
                  <a:pt x="1363137" y="163747"/>
                  <a:pt x="1326986" y="179696"/>
                </a:cubicBezTo>
                <a:cubicBezTo>
                  <a:pt x="1288176" y="196709"/>
                  <a:pt x="1291897" y="171190"/>
                  <a:pt x="1273290" y="172253"/>
                </a:cubicBezTo>
                <a:cubicBezTo>
                  <a:pt x="1252024" y="181823"/>
                  <a:pt x="1231290" y="183949"/>
                  <a:pt x="1206834" y="178101"/>
                </a:cubicBezTo>
                <a:cubicBezTo>
                  <a:pt x="1197796" y="175975"/>
                  <a:pt x="1206834" y="183949"/>
                  <a:pt x="1210556" y="188734"/>
                </a:cubicBezTo>
                <a:cubicBezTo>
                  <a:pt x="1221720" y="202557"/>
                  <a:pt x="1253619" y="234987"/>
                  <a:pt x="1257872" y="257316"/>
                </a:cubicBezTo>
                <a:lnTo>
                  <a:pt x="1240328" y="256253"/>
                </a:lnTo>
                <a:cubicBezTo>
                  <a:pt x="1237670" y="256253"/>
                  <a:pt x="1235543" y="258380"/>
                  <a:pt x="1235543" y="260506"/>
                </a:cubicBezTo>
                <a:cubicBezTo>
                  <a:pt x="1235011" y="262633"/>
                  <a:pt x="1237138" y="264759"/>
                  <a:pt x="1239265" y="264759"/>
                </a:cubicBezTo>
                <a:lnTo>
                  <a:pt x="1246176" y="265291"/>
                </a:lnTo>
                <a:lnTo>
                  <a:pt x="1235543" y="267418"/>
                </a:lnTo>
                <a:cubicBezTo>
                  <a:pt x="1233416" y="267949"/>
                  <a:pt x="1232353" y="270076"/>
                  <a:pt x="1233416" y="272202"/>
                </a:cubicBezTo>
                <a:cubicBezTo>
                  <a:pt x="1234480" y="274329"/>
                  <a:pt x="1237670" y="275924"/>
                  <a:pt x="1239796" y="275392"/>
                </a:cubicBezTo>
                <a:lnTo>
                  <a:pt x="1247771" y="273797"/>
                </a:lnTo>
                <a:cubicBezTo>
                  <a:pt x="1242454" y="276987"/>
                  <a:pt x="1238201" y="281240"/>
                  <a:pt x="1236075" y="285494"/>
                </a:cubicBezTo>
                <a:cubicBezTo>
                  <a:pt x="1236075" y="286025"/>
                  <a:pt x="1235543" y="286557"/>
                  <a:pt x="1235543" y="287088"/>
                </a:cubicBezTo>
                <a:cubicBezTo>
                  <a:pt x="1155265" y="346633"/>
                  <a:pt x="1114860" y="397671"/>
                  <a:pt x="1114860" y="495493"/>
                </a:cubicBezTo>
                <a:cubicBezTo>
                  <a:pt x="1114860" y="537493"/>
                  <a:pt x="1139315" y="567797"/>
                  <a:pt x="1179189" y="578962"/>
                </a:cubicBezTo>
                <a:cubicBezTo>
                  <a:pt x="1208429" y="586936"/>
                  <a:pt x="1246176" y="581088"/>
                  <a:pt x="1287113" y="581088"/>
                </a:cubicBezTo>
                <a:cubicBezTo>
                  <a:pt x="1330707" y="581088"/>
                  <a:pt x="1364732" y="590126"/>
                  <a:pt x="1395036" y="578962"/>
                </a:cubicBezTo>
                <a:cubicBezTo>
                  <a:pt x="1431187" y="565671"/>
                  <a:pt x="1460428" y="527924"/>
                  <a:pt x="1460428" y="480607"/>
                </a:cubicBezTo>
                <a:cubicBezTo>
                  <a:pt x="1460428" y="412557"/>
                  <a:pt x="1413111" y="320050"/>
                  <a:pt x="1346656" y="282835"/>
                </a:cubicBezTo>
                <a:cubicBezTo>
                  <a:pt x="1353567" y="280709"/>
                  <a:pt x="1356226" y="278582"/>
                  <a:pt x="1355162" y="274861"/>
                </a:cubicBezTo>
                <a:cubicBezTo>
                  <a:pt x="1354099" y="270076"/>
                  <a:pt x="1346656" y="265823"/>
                  <a:pt x="1333896" y="265291"/>
                </a:cubicBezTo>
                <a:cubicBezTo>
                  <a:pt x="1333896" y="263164"/>
                  <a:pt x="1332301" y="261038"/>
                  <a:pt x="1330175" y="261038"/>
                </a:cubicBezTo>
                <a:lnTo>
                  <a:pt x="1321670" y="260506"/>
                </a:lnTo>
                <a:cubicBezTo>
                  <a:pt x="1321670" y="259975"/>
                  <a:pt x="1321670" y="259975"/>
                  <a:pt x="1321670" y="259443"/>
                </a:cubicBezTo>
                <a:lnTo>
                  <a:pt x="1328049" y="258380"/>
                </a:lnTo>
                <a:cubicBezTo>
                  <a:pt x="1330175" y="257848"/>
                  <a:pt x="1331238" y="255721"/>
                  <a:pt x="1330175" y="253595"/>
                </a:cubicBezTo>
                <a:cubicBezTo>
                  <a:pt x="1329113" y="251468"/>
                  <a:pt x="1325923" y="249873"/>
                  <a:pt x="1323796" y="250405"/>
                </a:cubicBezTo>
                <a:lnTo>
                  <a:pt x="1320075" y="250937"/>
                </a:lnTo>
                <a:cubicBezTo>
                  <a:pt x="1317948" y="231266"/>
                  <a:pt x="1334960" y="212658"/>
                  <a:pt x="1355162" y="200962"/>
                </a:cubicBezTo>
                <a:cubicBezTo>
                  <a:pt x="1375896" y="189266"/>
                  <a:pt x="1377491" y="183949"/>
                  <a:pt x="1385998" y="167468"/>
                </a:cubicBezTo>
                <a:close/>
                <a:moveTo>
                  <a:pt x="0" y="0"/>
                </a:moveTo>
                <a:lnTo>
                  <a:pt x="4792779" y="0"/>
                </a:lnTo>
                <a:lnTo>
                  <a:pt x="4792779" y="782582"/>
                </a:lnTo>
                <a:lnTo>
                  <a:pt x="0" y="782582"/>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095" name="Graphic 154"/>
          <p:cNvGrpSpPr/>
          <p:nvPr/>
        </p:nvGrpSpPr>
        <p:grpSpPr>
          <a:xfrm>
            <a:off x="6118200" y="1704960"/>
            <a:ext cx="5594400" cy="4214880"/>
            <a:chOff x="6118200" y="1704960"/>
            <a:chExt cx="5594400" cy="4214880"/>
          </a:xfrm>
        </p:grpSpPr>
        <p:sp>
          <p:nvSpPr>
            <p:cNvPr id="2096" name="Freeform: Shape 156"/>
            <p:cNvSpPr/>
            <p:nvPr/>
          </p:nvSpPr>
          <p:spPr>
            <a:xfrm>
              <a:off x="9514080" y="4162680"/>
              <a:ext cx="2198520" cy="438120"/>
            </a:xfrm>
            <a:custGeom>
              <a:avLst/>
              <a:gdLst/>
              <a:ahLst/>
              <a:rect l="l" t="t" r="r" b="b"/>
              <a:pathLst>
                <a:path w="3010852" h="600075">
                  <a:moveTo>
                    <a:pt x="2705100" y="225743"/>
                  </a:moveTo>
                  <a:lnTo>
                    <a:pt x="2375535" y="600075"/>
                  </a:lnTo>
                  <a:lnTo>
                    <a:pt x="636270" y="600075"/>
                  </a:lnTo>
                  <a:lnTo>
                    <a:pt x="306705" y="225743"/>
                  </a:lnTo>
                  <a:lnTo>
                    <a:pt x="272415" y="225743"/>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3"/>
                  </a:cubicBezTo>
                  <a:lnTo>
                    <a:pt x="2705100" y="225743"/>
                  </a:lnTo>
                  <a:close/>
                  <a:moveTo>
                    <a:pt x="191453" y="220980"/>
                  </a:moveTo>
                  <a:cubicBezTo>
                    <a:pt x="192405" y="220028"/>
                    <a:pt x="193358" y="219075"/>
                    <a:pt x="195263" y="219075"/>
                  </a:cubicBezTo>
                  <a:lnTo>
                    <a:pt x="196215" y="218122"/>
                  </a:lnTo>
                  <a:lnTo>
                    <a:pt x="197168" y="217170"/>
                  </a:lnTo>
                  <a:lnTo>
                    <a:pt x="198120" y="216218"/>
                  </a:lnTo>
                  <a:lnTo>
                    <a:pt x="199073" y="215265"/>
                  </a:lnTo>
                  <a:lnTo>
                    <a:pt x="200025" y="214313"/>
                  </a:lnTo>
                  <a:cubicBezTo>
                    <a:pt x="200978" y="213360"/>
                    <a:pt x="201930" y="212408"/>
                    <a:pt x="202883" y="211455"/>
                  </a:cubicBezTo>
                  <a:lnTo>
                    <a:pt x="203835" y="210503"/>
                  </a:lnTo>
                  <a:lnTo>
                    <a:pt x="204788" y="209550"/>
                  </a:lnTo>
                  <a:lnTo>
                    <a:pt x="205740" y="208597"/>
                  </a:lnTo>
                  <a:lnTo>
                    <a:pt x="206693" y="207645"/>
                  </a:lnTo>
                  <a:lnTo>
                    <a:pt x="207645" y="206693"/>
                  </a:lnTo>
                  <a:lnTo>
                    <a:pt x="208598" y="205740"/>
                  </a:lnTo>
                  <a:lnTo>
                    <a:pt x="209550" y="204788"/>
                  </a:lnTo>
                  <a:lnTo>
                    <a:pt x="210503" y="203835"/>
                  </a:lnTo>
                  <a:lnTo>
                    <a:pt x="211455" y="202883"/>
                  </a:lnTo>
                  <a:lnTo>
                    <a:pt x="212408" y="201930"/>
                  </a:lnTo>
                  <a:lnTo>
                    <a:pt x="213360" y="200978"/>
                  </a:lnTo>
                  <a:lnTo>
                    <a:pt x="213360" y="200025"/>
                  </a:lnTo>
                  <a:lnTo>
                    <a:pt x="213360" y="199072"/>
                  </a:lnTo>
                  <a:lnTo>
                    <a:pt x="214313" y="198120"/>
                  </a:lnTo>
                  <a:lnTo>
                    <a:pt x="215265" y="197168"/>
                  </a:lnTo>
                  <a:lnTo>
                    <a:pt x="216218" y="196215"/>
                  </a:lnTo>
                  <a:lnTo>
                    <a:pt x="217170" y="195263"/>
                  </a:lnTo>
                  <a:lnTo>
                    <a:pt x="218123" y="194310"/>
                  </a:lnTo>
                  <a:lnTo>
                    <a:pt x="219075" y="193358"/>
                  </a:lnTo>
                  <a:lnTo>
                    <a:pt x="220028" y="192405"/>
                  </a:lnTo>
                  <a:lnTo>
                    <a:pt x="220980" y="191453"/>
                  </a:lnTo>
                  <a:lnTo>
                    <a:pt x="221933" y="190500"/>
                  </a:lnTo>
                  <a:lnTo>
                    <a:pt x="222885" y="189547"/>
                  </a:lnTo>
                  <a:lnTo>
                    <a:pt x="222885" y="188595"/>
                  </a:lnTo>
                  <a:lnTo>
                    <a:pt x="223838" y="187643"/>
                  </a:lnTo>
                  <a:lnTo>
                    <a:pt x="224790" y="186690"/>
                  </a:lnTo>
                  <a:lnTo>
                    <a:pt x="224790" y="185738"/>
                  </a:lnTo>
                  <a:lnTo>
                    <a:pt x="225743" y="184785"/>
                  </a:lnTo>
                  <a:lnTo>
                    <a:pt x="226695" y="183833"/>
                  </a:lnTo>
                  <a:lnTo>
                    <a:pt x="226695" y="182880"/>
                  </a:lnTo>
                  <a:lnTo>
                    <a:pt x="226695" y="181928"/>
                  </a:lnTo>
                  <a:lnTo>
                    <a:pt x="227648" y="180975"/>
                  </a:lnTo>
                  <a:lnTo>
                    <a:pt x="228600" y="180022"/>
                  </a:lnTo>
                  <a:lnTo>
                    <a:pt x="228600" y="179070"/>
                  </a:lnTo>
                  <a:lnTo>
                    <a:pt x="228600" y="178118"/>
                  </a:lnTo>
                  <a:lnTo>
                    <a:pt x="228600" y="177165"/>
                  </a:lnTo>
                  <a:lnTo>
                    <a:pt x="228600" y="176213"/>
                  </a:lnTo>
                  <a:lnTo>
                    <a:pt x="228600" y="175260"/>
                  </a:lnTo>
                  <a:lnTo>
                    <a:pt x="229553" y="173355"/>
                  </a:lnTo>
                  <a:lnTo>
                    <a:pt x="229553" y="172403"/>
                  </a:lnTo>
                  <a:lnTo>
                    <a:pt x="229553" y="171450"/>
                  </a:lnTo>
                  <a:lnTo>
                    <a:pt x="229553" y="170497"/>
                  </a:lnTo>
                  <a:lnTo>
                    <a:pt x="229553" y="169545"/>
                  </a:lnTo>
                  <a:lnTo>
                    <a:pt x="229553" y="168593"/>
                  </a:lnTo>
                  <a:lnTo>
                    <a:pt x="229553" y="167640"/>
                  </a:lnTo>
                  <a:lnTo>
                    <a:pt x="229553" y="166688"/>
                  </a:lnTo>
                  <a:lnTo>
                    <a:pt x="229553" y="164783"/>
                  </a:lnTo>
                  <a:lnTo>
                    <a:pt x="229553" y="163830"/>
                  </a:lnTo>
                  <a:lnTo>
                    <a:pt x="229553" y="162878"/>
                  </a:lnTo>
                  <a:lnTo>
                    <a:pt x="229553" y="161925"/>
                  </a:lnTo>
                  <a:lnTo>
                    <a:pt x="229553" y="160972"/>
                  </a:lnTo>
                  <a:lnTo>
                    <a:pt x="229553" y="160020"/>
                  </a:lnTo>
                  <a:lnTo>
                    <a:pt x="229553" y="159068"/>
                  </a:lnTo>
                  <a:lnTo>
                    <a:pt x="229553" y="158115"/>
                  </a:lnTo>
                  <a:lnTo>
                    <a:pt x="229553" y="157163"/>
                  </a:lnTo>
                  <a:lnTo>
                    <a:pt x="229553" y="156210"/>
                  </a:lnTo>
                  <a:lnTo>
                    <a:pt x="229553" y="155258"/>
                  </a:lnTo>
                  <a:lnTo>
                    <a:pt x="229553" y="153353"/>
                  </a:lnTo>
                  <a:lnTo>
                    <a:pt x="229553" y="151447"/>
                  </a:lnTo>
                  <a:lnTo>
                    <a:pt x="229553" y="150495"/>
                  </a:lnTo>
                  <a:lnTo>
                    <a:pt x="229553" y="149543"/>
                  </a:lnTo>
                  <a:lnTo>
                    <a:pt x="229553" y="148590"/>
                  </a:lnTo>
                  <a:lnTo>
                    <a:pt x="229553" y="147638"/>
                  </a:lnTo>
                  <a:lnTo>
                    <a:pt x="229553" y="146685"/>
                  </a:lnTo>
                  <a:lnTo>
                    <a:pt x="229553" y="145733"/>
                  </a:lnTo>
                  <a:lnTo>
                    <a:pt x="229553" y="144780"/>
                  </a:lnTo>
                  <a:lnTo>
                    <a:pt x="229553" y="143828"/>
                  </a:lnTo>
                  <a:lnTo>
                    <a:pt x="229553" y="142875"/>
                  </a:lnTo>
                  <a:lnTo>
                    <a:pt x="229553" y="141922"/>
                  </a:lnTo>
                  <a:lnTo>
                    <a:pt x="229553" y="140018"/>
                  </a:lnTo>
                  <a:lnTo>
                    <a:pt x="229553" y="139065"/>
                  </a:lnTo>
                  <a:lnTo>
                    <a:pt x="229553" y="138113"/>
                  </a:lnTo>
                  <a:lnTo>
                    <a:pt x="229553" y="137160"/>
                  </a:lnTo>
                  <a:lnTo>
                    <a:pt x="229553" y="136208"/>
                  </a:lnTo>
                  <a:lnTo>
                    <a:pt x="229553" y="135255"/>
                  </a:lnTo>
                  <a:lnTo>
                    <a:pt x="229553" y="134303"/>
                  </a:lnTo>
                  <a:lnTo>
                    <a:pt x="229553" y="133350"/>
                  </a:lnTo>
                  <a:lnTo>
                    <a:pt x="228600" y="131445"/>
                  </a:lnTo>
                  <a:lnTo>
                    <a:pt x="228600" y="130493"/>
                  </a:lnTo>
                  <a:lnTo>
                    <a:pt x="228600" y="129540"/>
                  </a:lnTo>
                  <a:lnTo>
                    <a:pt x="228600" y="128588"/>
                  </a:lnTo>
                  <a:lnTo>
                    <a:pt x="228600" y="127635"/>
                  </a:lnTo>
                  <a:lnTo>
                    <a:pt x="228600" y="126683"/>
                  </a:lnTo>
                  <a:lnTo>
                    <a:pt x="227648" y="125730"/>
                  </a:lnTo>
                  <a:lnTo>
                    <a:pt x="226695" y="124778"/>
                  </a:lnTo>
                  <a:lnTo>
                    <a:pt x="226695" y="123825"/>
                  </a:lnTo>
                  <a:lnTo>
                    <a:pt x="226695" y="122872"/>
                  </a:lnTo>
                  <a:lnTo>
                    <a:pt x="225743" y="121920"/>
                  </a:lnTo>
                  <a:lnTo>
                    <a:pt x="224790" y="120968"/>
                  </a:lnTo>
                  <a:lnTo>
                    <a:pt x="224790" y="120015"/>
                  </a:lnTo>
                  <a:lnTo>
                    <a:pt x="223838" y="119063"/>
                  </a:lnTo>
                  <a:lnTo>
                    <a:pt x="222885" y="117158"/>
                  </a:lnTo>
                  <a:lnTo>
                    <a:pt x="221933" y="116205"/>
                  </a:lnTo>
                  <a:lnTo>
                    <a:pt x="220980" y="115253"/>
                  </a:lnTo>
                  <a:lnTo>
                    <a:pt x="220028" y="114300"/>
                  </a:lnTo>
                  <a:lnTo>
                    <a:pt x="219075" y="113347"/>
                  </a:lnTo>
                  <a:lnTo>
                    <a:pt x="218123" y="112395"/>
                  </a:lnTo>
                  <a:lnTo>
                    <a:pt x="217170" y="111443"/>
                  </a:lnTo>
                  <a:lnTo>
                    <a:pt x="216218" y="110490"/>
                  </a:lnTo>
                  <a:lnTo>
                    <a:pt x="216218" y="109538"/>
                  </a:lnTo>
                  <a:lnTo>
                    <a:pt x="215265" y="108585"/>
                  </a:lnTo>
                  <a:lnTo>
                    <a:pt x="214313" y="106680"/>
                  </a:lnTo>
                  <a:lnTo>
                    <a:pt x="214313" y="105728"/>
                  </a:lnTo>
                  <a:lnTo>
                    <a:pt x="213360" y="104775"/>
                  </a:lnTo>
                  <a:lnTo>
                    <a:pt x="212408" y="103822"/>
                  </a:lnTo>
                  <a:lnTo>
                    <a:pt x="211455" y="102870"/>
                  </a:lnTo>
                  <a:lnTo>
                    <a:pt x="210503" y="101918"/>
                  </a:lnTo>
                  <a:lnTo>
                    <a:pt x="209550" y="100965"/>
                  </a:lnTo>
                  <a:lnTo>
                    <a:pt x="208598" y="100013"/>
                  </a:lnTo>
                  <a:lnTo>
                    <a:pt x="207645" y="99060"/>
                  </a:lnTo>
                  <a:lnTo>
                    <a:pt x="206693" y="98108"/>
                  </a:lnTo>
                  <a:lnTo>
                    <a:pt x="205740" y="97155"/>
                  </a:lnTo>
                  <a:lnTo>
                    <a:pt x="204788" y="96203"/>
                  </a:lnTo>
                  <a:lnTo>
                    <a:pt x="203835" y="95250"/>
                  </a:lnTo>
                  <a:lnTo>
                    <a:pt x="202883" y="94297"/>
                  </a:lnTo>
                  <a:lnTo>
                    <a:pt x="201930" y="93345"/>
                  </a:lnTo>
                  <a:lnTo>
                    <a:pt x="200978" y="92393"/>
                  </a:lnTo>
                  <a:lnTo>
                    <a:pt x="200025" y="91440"/>
                  </a:lnTo>
                  <a:lnTo>
                    <a:pt x="199073" y="90488"/>
                  </a:lnTo>
                  <a:lnTo>
                    <a:pt x="198120" y="89535"/>
                  </a:lnTo>
                  <a:lnTo>
                    <a:pt x="197168" y="88583"/>
                  </a:lnTo>
                  <a:lnTo>
                    <a:pt x="196215" y="87630"/>
                  </a:lnTo>
                  <a:lnTo>
                    <a:pt x="195263" y="87630"/>
                  </a:lnTo>
                  <a:lnTo>
                    <a:pt x="194310" y="87630"/>
                  </a:lnTo>
                  <a:lnTo>
                    <a:pt x="193358" y="86678"/>
                  </a:lnTo>
                  <a:lnTo>
                    <a:pt x="192405" y="85725"/>
                  </a:lnTo>
                  <a:cubicBezTo>
                    <a:pt x="179070" y="78105"/>
                    <a:pt x="163830" y="73343"/>
                    <a:pt x="147638" y="73343"/>
                  </a:cubicBezTo>
                  <a:cubicBezTo>
                    <a:pt x="100965" y="73343"/>
                    <a:pt x="62865" y="111443"/>
                    <a:pt x="62865" y="159068"/>
                  </a:cubicBezTo>
                  <a:cubicBezTo>
                    <a:pt x="62865" y="206693"/>
                    <a:pt x="100965" y="244793"/>
                    <a:pt x="147638" y="244793"/>
                  </a:cubicBezTo>
                  <a:cubicBezTo>
                    <a:pt x="163830" y="234315"/>
                    <a:pt x="179070" y="229553"/>
                    <a:pt x="191453" y="220980"/>
                  </a:cubicBezTo>
                  <a:close/>
                  <a:moveTo>
                    <a:pt x="2819400" y="75247"/>
                  </a:moveTo>
                  <a:lnTo>
                    <a:pt x="2818448" y="76200"/>
                  </a:lnTo>
                  <a:lnTo>
                    <a:pt x="2817495" y="77153"/>
                  </a:lnTo>
                  <a:lnTo>
                    <a:pt x="2816543" y="78105"/>
                  </a:lnTo>
                  <a:lnTo>
                    <a:pt x="2815590" y="79058"/>
                  </a:lnTo>
                  <a:lnTo>
                    <a:pt x="2814638" y="80010"/>
                  </a:lnTo>
                  <a:lnTo>
                    <a:pt x="2813685" y="80963"/>
                  </a:lnTo>
                  <a:lnTo>
                    <a:pt x="2812733" y="81915"/>
                  </a:lnTo>
                  <a:lnTo>
                    <a:pt x="2811780" y="82868"/>
                  </a:lnTo>
                  <a:lnTo>
                    <a:pt x="2810828" y="83820"/>
                  </a:lnTo>
                  <a:lnTo>
                    <a:pt x="2809875" y="84772"/>
                  </a:lnTo>
                  <a:lnTo>
                    <a:pt x="2808923" y="85725"/>
                  </a:lnTo>
                  <a:lnTo>
                    <a:pt x="2807970" y="86678"/>
                  </a:lnTo>
                  <a:lnTo>
                    <a:pt x="2807018" y="87630"/>
                  </a:lnTo>
                  <a:lnTo>
                    <a:pt x="2806065" y="88583"/>
                  </a:lnTo>
                  <a:lnTo>
                    <a:pt x="2805113" y="89535"/>
                  </a:lnTo>
                  <a:lnTo>
                    <a:pt x="2804160" y="90488"/>
                  </a:lnTo>
                  <a:lnTo>
                    <a:pt x="2803208" y="91440"/>
                  </a:lnTo>
                  <a:lnTo>
                    <a:pt x="2802255" y="92393"/>
                  </a:lnTo>
                  <a:lnTo>
                    <a:pt x="2801303" y="93345"/>
                  </a:lnTo>
                  <a:lnTo>
                    <a:pt x="2801303" y="94297"/>
                  </a:lnTo>
                  <a:lnTo>
                    <a:pt x="2800350" y="95250"/>
                  </a:lnTo>
                  <a:lnTo>
                    <a:pt x="2799398" y="96203"/>
                  </a:lnTo>
                  <a:lnTo>
                    <a:pt x="2799398" y="97155"/>
                  </a:lnTo>
                  <a:lnTo>
                    <a:pt x="2799398" y="98108"/>
                  </a:lnTo>
                  <a:lnTo>
                    <a:pt x="2798445" y="99060"/>
                  </a:lnTo>
                  <a:lnTo>
                    <a:pt x="2797493" y="100013"/>
                  </a:lnTo>
                  <a:lnTo>
                    <a:pt x="2797493" y="100965"/>
                  </a:lnTo>
                  <a:lnTo>
                    <a:pt x="2796540" y="101918"/>
                  </a:lnTo>
                  <a:lnTo>
                    <a:pt x="2795588" y="102870"/>
                  </a:lnTo>
                  <a:lnTo>
                    <a:pt x="2794635" y="103822"/>
                  </a:lnTo>
                  <a:lnTo>
                    <a:pt x="2793683" y="104775"/>
                  </a:lnTo>
                  <a:lnTo>
                    <a:pt x="2792730" y="105728"/>
                  </a:lnTo>
                  <a:lnTo>
                    <a:pt x="2791778" y="106680"/>
                  </a:lnTo>
                  <a:lnTo>
                    <a:pt x="2790825" y="107633"/>
                  </a:lnTo>
                  <a:lnTo>
                    <a:pt x="2790825" y="108585"/>
                  </a:lnTo>
                  <a:lnTo>
                    <a:pt x="2789873" y="109538"/>
                  </a:lnTo>
                  <a:lnTo>
                    <a:pt x="2787968" y="110490"/>
                  </a:lnTo>
                  <a:lnTo>
                    <a:pt x="2787968" y="111443"/>
                  </a:lnTo>
                  <a:lnTo>
                    <a:pt x="2787015" y="112395"/>
                  </a:lnTo>
                  <a:lnTo>
                    <a:pt x="2786063" y="113347"/>
                  </a:lnTo>
                  <a:lnTo>
                    <a:pt x="2786063" y="114300"/>
                  </a:lnTo>
                  <a:lnTo>
                    <a:pt x="2786063" y="115253"/>
                  </a:lnTo>
                  <a:lnTo>
                    <a:pt x="2785110" y="116205"/>
                  </a:lnTo>
                  <a:lnTo>
                    <a:pt x="2784158" y="117158"/>
                  </a:lnTo>
                  <a:lnTo>
                    <a:pt x="2784158" y="118110"/>
                  </a:lnTo>
                  <a:lnTo>
                    <a:pt x="2784158" y="119063"/>
                  </a:lnTo>
                  <a:lnTo>
                    <a:pt x="2784158" y="120015"/>
                  </a:lnTo>
                  <a:lnTo>
                    <a:pt x="2784158" y="120968"/>
                  </a:lnTo>
                  <a:lnTo>
                    <a:pt x="2784158" y="121920"/>
                  </a:lnTo>
                  <a:lnTo>
                    <a:pt x="2783205" y="123825"/>
                  </a:lnTo>
                  <a:lnTo>
                    <a:pt x="2783205" y="124778"/>
                  </a:lnTo>
                  <a:lnTo>
                    <a:pt x="2783205" y="125730"/>
                  </a:lnTo>
                  <a:lnTo>
                    <a:pt x="2783205" y="126683"/>
                  </a:lnTo>
                  <a:lnTo>
                    <a:pt x="2783205" y="127635"/>
                  </a:lnTo>
                  <a:lnTo>
                    <a:pt x="2783205" y="128588"/>
                  </a:lnTo>
                  <a:lnTo>
                    <a:pt x="2783205" y="129540"/>
                  </a:lnTo>
                  <a:lnTo>
                    <a:pt x="2783205" y="130493"/>
                  </a:lnTo>
                  <a:lnTo>
                    <a:pt x="2783205" y="132397"/>
                  </a:lnTo>
                  <a:lnTo>
                    <a:pt x="2783205" y="133350"/>
                  </a:lnTo>
                  <a:lnTo>
                    <a:pt x="2783205" y="134303"/>
                  </a:lnTo>
                  <a:lnTo>
                    <a:pt x="2783205" y="135255"/>
                  </a:lnTo>
                  <a:lnTo>
                    <a:pt x="2783205" y="136208"/>
                  </a:lnTo>
                  <a:lnTo>
                    <a:pt x="2783205" y="137160"/>
                  </a:lnTo>
                  <a:lnTo>
                    <a:pt x="2783205" y="138113"/>
                  </a:lnTo>
                  <a:lnTo>
                    <a:pt x="2783205" y="139065"/>
                  </a:lnTo>
                  <a:lnTo>
                    <a:pt x="2783205" y="140018"/>
                  </a:lnTo>
                  <a:lnTo>
                    <a:pt x="2783205" y="140970"/>
                  </a:lnTo>
                  <a:lnTo>
                    <a:pt x="2783205" y="141922"/>
                  </a:lnTo>
                  <a:lnTo>
                    <a:pt x="2783205" y="143828"/>
                  </a:lnTo>
                  <a:lnTo>
                    <a:pt x="2783205" y="145733"/>
                  </a:lnTo>
                  <a:lnTo>
                    <a:pt x="2783205" y="146685"/>
                  </a:lnTo>
                  <a:lnTo>
                    <a:pt x="2783205" y="147638"/>
                  </a:lnTo>
                  <a:lnTo>
                    <a:pt x="2783205" y="148590"/>
                  </a:lnTo>
                  <a:lnTo>
                    <a:pt x="2783205" y="149543"/>
                  </a:lnTo>
                  <a:lnTo>
                    <a:pt x="2783205" y="150495"/>
                  </a:lnTo>
                  <a:lnTo>
                    <a:pt x="2783205" y="151447"/>
                  </a:lnTo>
                  <a:lnTo>
                    <a:pt x="2783205" y="152400"/>
                  </a:lnTo>
                  <a:lnTo>
                    <a:pt x="2783205" y="153353"/>
                  </a:lnTo>
                  <a:lnTo>
                    <a:pt x="2783205" y="154305"/>
                  </a:lnTo>
                  <a:lnTo>
                    <a:pt x="2783205" y="155258"/>
                  </a:lnTo>
                  <a:lnTo>
                    <a:pt x="2783205" y="157163"/>
                  </a:lnTo>
                  <a:lnTo>
                    <a:pt x="2783205" y="158115"/>
                  </a:lnTo>
                  <a:lnTo>
                    <a:pt x="2783205" y="159068"/>
                  </a:lnTo>
                  <a:lnTo>
                    <a:pt x="2783205" y="160020"/>
                  </a:lnTo>
                  <a:lnTo>
                    <a:pt x="2783205" y="160972"/>
                  </a:lnTo>
                  <a:lnTo>
                    <a:pt x="2783205" y="161925"/>
                  </a:lnTo>
                  <a:lnTo>
                    <a:pt x="2783205" y="162878"/>
                  </a:lnTo>
                  <a:lnTo>
                    <a:pt x="2783205" y="163830"/>
                  </a:lnTo>
                  <a:lnTo>
                    <a:pt x="2783205" y="164783"/>
                  </a:lnTo>
                  <a:lnTo>
                    <a:pt x="2783205" y="165735"/>
                  </a:lnTo>
                  <a:lnTo>
                    <a:pt x="2783205" y="166688"/>
                  </a:lnTo>
                  <a:lnTo>
                    <a:pt x="2783205" y="167640"/>
                  </a:lnTo>
                  <a:lnTo>
                    <a:pt x="2783205" y="168593"/>
                  </a:lnTo>
                  <a:lnTo>
                    <a:pt x="2783205" y="169545"/>
                  </a:lnTo>
                  <a:lnTo>
                    <a:pt x="2783205" y="170497"/>
                  </a:lnTo>
                  <a:lnTo>
                    <a:pt x="2784158" y="171450"/>
                  </a:lnTo>
                  <a:lnTo>
                    <a:pt x="2785110" y="172403"/>
                  </a:lnTo>
                  <a:lnTo>
                    <a:pt x="2785110" y="173355"/>
                  </a:lnTo>
                  <a:lnTo>
                    <a:pt x="2785110" y="174308"/>
                  </a:lnTo>
                  <a:lnTo>
                    <a:pt x="2786063" y="175260"/>
                  </a:lnTo>
                  <a:lnTo>
                    <a:pt x="2787015" y="176213"/>
                  </a:lnTo>
                  <a:lnTo>
                    <a:pt x="2787015" y="177165"/>
                  </a:lnTo>
                  <a:lnTo>
                    <a:pt x="2787968" y="178118"/>
                  </a:lnTo>
                  <a:lnTo>
                    <a:pt x="2788920" y="179070"/>
                  </a:lnTo>
                  <a:lnTo>
                    <a:pt x="2788920" y="180022"/>
                  </a:lnTo>
                  <a:lnTo>
                    <a:pt x="2789873" y="180975"/>
                  </a:lnTo>
                  <a:lnTo>
                    <a:pt x="2790825" y="181928"/>
                  </a:lnTo>
                  <a:lnTo>
                    <a:pt x="2791778" y="182880"/>
                  </a:lnTo>
                  <a:lnTo>
                    <a:pt x="2792730" y="183833"/>
                  </a:lnTo>
                  <a:lnTo>
                    <a:pt x="2793683" y="185738"/>
                  </a:lnTo>
                  <a:lnTo>
                    <a:pt x="2794635" y="186690"/>
                  </a:lnTo>
                  <a:lnTo>
                    <a:pt x="2795588" y="187643"/>
                  </a:lnTo>
                  <a:lnTo>
                    <a:pt x="2796540" y="188595"/>
                  </a:lnTo>
                  <a:lnTo>
                    <a:pt x="2797493" y="189547"/>
                  </a:lnTo>
                  <a:lnTo>
                    <a:pt x="2797493" y="190500"/>
                  </a:lnTo>
                  <a:lnTo>
                    <a:pt x="2797493" y="191453"/>
                  </a:lnTo>
                  <a:lnTo>
                    <a:pt x="2798445" y="192405"/>
                  </a:lnTo>
                  <a:lnTo>
                    <a:pt x="2799398" y="193358"/>
                  </a:lnTo>
                  <a:lnTo>
                    <a:pt x="2799398" y="194310"/>
                  </a:lnTo>
                  <a:lnTo>
                    <a:pt x="2800350" y="195263"/>
                  </a:lnTo>
                  <a:lnTo>
                    <a:pt x="2801303" y="196215"/>
                  </a:lnTo>
                  <a:lnTo>
                    <a:pt x="2802255" y="197168"/>
                  </a:lnTo>
                  <a:lnTo>
                    <a:pt x="2803208" y="198120"/>
                  </a:lnTo>
                  <a:lnTo>
                    <a:pt x="2804160" y="199072"/>
                  </a:lnTo>
                  <a:lnTo>
                    <a:pt x="2805113" y="200025"/>
                  </a:lnTo>
                  <a:lnTo>
                    <a:pt x="2806065" y="200978"/>
                  </a:lnTo>
                  <a:lnTo>
                    <a:pt x="2807018" y="201930"/>
                  </a:lnTo>
                  <a:lnTo>
                    <a:pt x="2807970" y="202883"/>
                  </a:lnTo>
                  <a:lnTo>
                    <a:pt x="2808923" y="203835"/>
                  </a:lnTo>
                  <a:lnTo>
                    <a:pt x="2809875" y="204788"/>
                  </a:lnTo>
                  <a:lnTo>
                    <a:pt x="2810828" y="205740"/>
                  </a:lnTo>
                  <a:lnTo>
                    <a:pt x="2811780" y="206693"/>
                  </a:lnTo>
                  <a:lnTo>
                    <a:pt x="2812733" y="207645"/>
                  </a:lnTo>
                  <a:lnTo>
                    <a:pt x="2813685" y="208597"/>
                  </a:lnTo>
                  <a:lnTo>
                    <a:pt x="2814638" y="209550"/>
                  </a:lnTo>
                  <a:lnTo>
                    <a:pt x="2815590" y="209550"/>
                  </a:lnTo>
                  <a:lnTo>
                    <a:pt x="2816543" y="209550"/>
                  </a:lnTo>
                  <a:lnTo>
                    <a:pt x="2817495" y="210503"/>
                  </a:lnTo>
                  <a:lnTo>
                    <a:pt x="2818448" y="211455"/>
                  </a:lnTo>
                  <a:cubicBezTo>
                    <a:pt x="2831783" y="219075"/>
                    <a:pt x="2847023" y="223838"/>
                    <a:pt x="2863215" y="223838"/>
                  </a:cubicBezTo>
                  <a:cubicBezTo>
                    <a:pt x="2909888" y="223838"/>
                    <a:pt x="2947988" y="185738"/>
                    <a:pt x="2947988" y="138113"/>
                  </a:cubicBezTo>
                  <a:cubicBezTo>
                    <a:pt x="2947988" y="90488"/>
                    <a:pt x="2909888" y="52388"/>
                    <a:pt x="2863215" y="52388"/>
                  </a:cubicBezTo>
                  <a:cubicBezTo>
                    <a:pt x="2847975" y="62865"/>
                    <a:pt x="2832735" y="67628"/>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97" name="Freeform: Shape 157"/>
            <p:cNvSpPr/>
            <p:nvPr/>
          </p:nvSpPr>
          <p:spPr>
            <a:xfrm>
              <a:off x="10743120" y="4269600"/>
              <a:ext cx="726480" cy="275760"/>
            </a:xfrm>
            <a:custGeom>
              <a:avLst/>
              <a:gdLst/>
              <a:ahLst/>
              <a:rect l="l" t="t" r="r" b="b"/>
              <a:pathLst>
                <a:path w="995362" h="378142">
                  <a:moveTo>
                    <a:pt x="0" y="378143"/>
                  </a:moveTo>
                  <a:lnTo>
                    <a:pt x="665798" y="378143"/>
                  </a:lnTo>
                  <a:lnTo>
                    <a:pt x="995363" y="3810"/>
                  </a:lnTo>
                  <a:lnTo>
                    <a:pt x="344805" y="0"/>
                  </a:lnTo>
                  <a:lnTo>
                    <a:pt x="344805" y="324803"/>
                  </a:lnTo>
                  <a:lnTo>
                    <a:pt x="0" y="378143"/>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98" name="Freeform: Shape 158"/>
            <p:cNvSpPr/>
            <p:nvPr/>
          </p:nvSpPr>
          <p:spPr>
            <a:xfrm>
              <a:off x="9757080" y="4269600"/>
              <a:ext cx="739080" cy="275760"/>
            </a:xfrm>
            <a:custGeom>
              <a:avLst/>
              <a:gdLst/>
              <a:ahLst/>
              <a:rect l="l" t="t" r="r" b="b"/>
              <a:pathLst>
                <a:path w="1012507" h="378142">
                  <a:moveTo>
                    <a:pt x="330518" y="378143"/>
                  </a:moveTo>
                  <a:lnTo>
                    <a:pt x="564832" y="378143"/>
                  </a:lnTo>
                  <a:lnTo>
                    <a:pt x="564832" y="66675"/>
                  </a:lnTo>
                  <a:lnTo>
                    <a:pt x="1012507" y="0"/>
                  </a:lnTo>
                  <a:lnTo>
                    <a:pt x="0" y="3810"/>
                  </a:lnTo>
                  <a:lnTo>
                    <a:pt x="330518" y="3781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099" name="Freeform: Shape 159"/>
            <p:cNvSpPr/>
            <p:nvPr/>
          </p:nvSpPr>
          <p:spPr>
            <a:xfrm>
              <a:off x="6118200" y="4696560"/>
              <a:ext cx="2198520" cy="438120"/>
            </a:xfrm>
            <a:custGeom>
              <a:avLst/>
              <a:gdLst/>
              <a:ahLst/>
              <a:rect l="l" t="t" r="r" b="b"/>
              <a:pathLst>
                <a:path w="3010852" h="600075">
                  <a:moveTo>
                    <a:pt x="2704148" y="225742"/>
                  </a:moveTo>
                  <a:lnTo>
                    <a:pt x="2374583" y="600075"/>
                  </a:lnTo>
                  <a:lnTo>
                    <a:pt x="636270" y="600075"/>
                  </a:lnTo>
                  <a:lnTo>
                    <a:pt x="306705" y="225742"/>
                  </a:lnTo>
                  <a:lnTo>
                    <a:pt x="272415" y="225742"/>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2"/>
                  </a:cubicBezTo>
                  <a:lnTo>
                    <a:pt x="2704148" y="225742"/>
                  </a:lnTo>
                  <a:close/>
                  <a:moveTo>
                    <a:pt x="191453" y="221932"/>
                  </a:moveTo>
                  <a:cubicBezTo>
                    <a:pt x="192405" y="220980"/>
                    <a:pt x="193358" y="220027"/>
                    <a:pt x="195263" y="220027"/>
                  </a:cubicBezTo>
                  <a:lnTo>
                    <a:pt x="196215" y="219075"/>
                  </a:lnTo>
                  <a:lnTo>
                    <a:pt x="197168" y="218122"/>
                  </a:lnTo>
                  <a:lnTo>
                    <a:pt x="198120" y="217170"/>
                  </a:lnTo>
                  <a:lnTo>
                    <a:pt x="199073" y="216217"/>
                  </a:lnTo>
                  <a:lnTo>
                    <a:pt x="200025" y="215265"/>
                  </a:lnTo>
                  <a:cubicBezTo>
                    <a:pt x="200978" y="214313"/>
                    <a:pt x="201930" y="213360"/>
                    <a:pt x="202883" y="212407"/>
                  </a:cubicBezTo>
                  <a:lnTo>
                    <a:pt x="203835" y="211455"/>
                  </a:lnTo>
                  <a:lnTo>
                    <a:pt x="204788" y="210502"/>
                  </a:lnTo>
                  <a:lnTo>
                    <a:pt x="205740" y="209550"/>
                  </a:lnTo>
                  <a:lnTo>
                    <a:pt x="206693" y="208597"/>
                  </a:lnTo>
                  <a:lnTo>
                    <a:pt x="207645" y="207645"/>
                  </a:lnTo>
                  <a:lnTo>
                    <a:pt x="208598" y="206692"/>
                  </a:lnTo>
                  <a:lnTo>
                    <a:pt x="209550" y="205740"/>
                  </a:lnTo>
                  <a:lnTo>
                    <a:pt x="210503" y="204788"/>
                  </a:lnTo>
                  <a:lnTo>
                    <a:pt x="210503" y="203835"/>
                  </a:lnTo>
                  <a:lnTo>
                    <a:pt x="211455" y="202882"/>
                  </a:lnTo>
                  <a:lnTo>
                    <a:pt x="212408" y="201930"/>
                  </a:lnTo>
                  <a:lnTo>
                    <a:pt x="212408" y="200977"/>
                  </a:lnTo>
                  <a:lnTo>
                    <a:pt x="212408" y="200025"/>
                  </a:lnTo>
                  <a:lnTo>
                    <a:pt x="213360" y="199072"/>
                  </a:lnTo>
                  <a:lnTo>
                    <a:pt x="214313" y="198120"/>
                  </a:lnTo>
                  <a:lnTo>
                    <a:pt x="215265" y="197167"/>
                  </a:lnTo>
                  <a:lnTo>
                    <a:pt x="216218" y="196215"/>
                  </a:lnTo>
                  <a:lnTo>
                    <a:pt x="217170" y="195263"/>
                  </a:lnTo>
                  <a:lnTo>
                    <a:pt x="218123" y="194310"/>
                  </a:lnTo>
                  <a:lnTo>
                    <a:pt x="219075" y="193357"/>
                  </a:lnTo>
                  <a:lnTo>
                    <a:pt x="220028" y="192405"/>
                  </a:lnTo>
                  <a:lnTo>
                    <a:pt x="220980" y="191452"/>
                  </a:lnTo>
                  <a:lnTo>
                    <a:pt x="221933" y="190500"/>
                  </a:lnTo>
                  <a:lnTo>
                    <a:pt x="221933" y="189547"/>
                  </a:lnTo>
                  <a:lnTo>
                    <a:pt x="222885" y="188595"/>
                  </a:lnTo>
                  <a:lnTo>
                    <a:pt x="223838" y="187642"/>
                  </a:lnTo>
                  <a:lnTo>
                    <a:pt x="223838" y="186690"/>
                  </a:lnTo>
                  <a:lnTo>
                    <a:pt x="224790" y="185738"/>
                  </a:lnTo>
                  <a:lnTo>
                    <a:pt x="225743" y="184785"/>
                  </a:lnTo>
                  <a:lnTo>
                    <a:pt x="225743" y="183832"/>
                  </a:lnTo>
                  <a:lnTo>
                    <a:pt x="225743" y="182880"/>
                  </a:lnTo>
                  <a:lnTo>
                    <a:pt x="226695" y="181927"/>
                  </a:lnTo>
                  <a:lnTo>
                    <a:pt x="227648" y="180975"/>
                  </a:lnTo>
                  <a:lnTo>
                    <a:pt x="227648" y="180022"/>
                  </a:lnTo>
                  <a:lnTo>
                    <a:pt x="227648" y="179070"/>
                  </a:lnTo>
                  <a:lnTo>
                    <a:pt x="227648" y="178117"/>
                  </a:lnTo>
                  <a:lnTo>
                    <a:pt x="227648" y="177165"/>
                  </a:lnTo>
                  <a:lnTo>
                    <a:pt x="227648" y="176213"/>
                  </a:lnTo>
                  <a:lnTo>
                    <a:pt x="228600" y="174307"/>
                  </a:lnTo>
                  <a:lnTo>
                    <a:pt x="228600" y="173355"/>
                  </a:lnTo>
                  <a:lnTo>
                    <a:pt x="228600" y="172402"/>
                  </a:lnTo>
                  <a:lnTo>
                    <a:pt x="228600" y="171450"/>
                  </a:lnTo>
                  <a:lnTo>
                    <a:pt x="228600" y="170497"/>
                  </a:lnTo>
                  <a:lnTo>
                    <a:pt x="228600" y="169545"/>
                  </a:lnTo>
                  <a:lnTo>
                    <a:pt x="228600" y="168592"/>
                  </a:lnTo>
                  <a:lnTo>
                    <a:pt x="228600" y="167640"/>
                  </a:lnTo>
                  <a:lnTo>
                    <a:pt x="228600" y="165735"/>
                  </a:lnTo>
                  <a:lnTo>
                    <a:pt x="228600" y="164782"/>
                  </a:lnTo>
                  <a:lnTo>
                    <a:pt x="228600" y="163830"/>
                  </a:lnTo>
                  <a:lnTo>
                    <a:pt x="228600" y="162877"/>
                  </a:lnTo>
                  <a:lnTo>
                    <a:pt x="228600" y="161925"/>
                  </a:lnTo>
                  <a:lnTo>
                    <a:pt x="228600" y="160972"/>
                  </a:lnTo>
                  <a:lnTo>
                    <a:pt x="228600" y="160020"/>
                  </a:lnTo>
                  <a:lnTo>
                    <a:pt x="228600" y="159067"/>
                  </a:lnTo>
                  <a:lnTo>
                    <a:pt x="228600" y="157163"/>
                  </a:lnTo>
                  <a:lnTo>
                    <a:pt x="228600" y="156210"/>
                  </a:lnTo>
                  <a:lnTo>
                    <a:pt x="228600" y="155257"/>
                  </a:lnTo>
                  <a:lnTo>
                    <a:pt x="228600" y="153352"/>
                  </a:lnTo>
                  <a:lnTo>
                    <a:pt x="228600" y="151447"/>
                  </a:lnTo>
                  <a:lnTo>
                    <a:pt x="228600" y="150495"/>
                  </a:lnTo>
                  <a:lnTo>
                    <a:pt x="228600" y="149542"/>
                  </a:lnTo>
                  <a:lnTo>
                    <a:pt x="228600" y="147638"/>
                  </a:lnTo>
                  <a:lnTo>
                    <a:pt x="228600" y="146685"/>
                  </a:lnTo>
                  <a:lnTo>
                    <a:pt x="228600" y="145732"/>
                  </a:lnTo>
                  <a:lnTo>
                    <a:pt x="228600" y="144780"/>
                  </a:lnTo>
                  <a:lnTo>
                    <a:pt x="228600" y="143827"/>
                  </a:lnTo>
                  <a:lnTo>
                    <a:pt x="228600" y="142875"/>
                  </a:lnTo>
                  <a:lnTo>
                    <a:pt x="228600" y="141922"/>
                  </a:lnTo>
                  <a:lnTo>
                    <a:pt x="228600" y="140970"/>
                  </a:lnTo>
                  <a:lnTo>
                    <a:pt x="228600" y="139065"/>
                  </a:lnTo>
                  <a:lnTo>
                    <a:pt x="228600" y="138113"/>
                  </a:lnTo>
                  <a:lnTo>
                    <a:pt x="228600" y="137160"/>
                  </a:lnTo>
                  <a:lnTo>
                    <a:pt x="228600" y="136207"/>
                  </a:lnTo>
                  <a:lnTo>
                    <a:pt x="228600" y="135255"/>
                  </a:lnTo>
                  <a:lnTo>
                    <a:pt x="228600" y="134302"/>
                  </a:lnTo>
                  <a:lnTo>
                    <a:pt x="228600" y="133350"/>
                  </a:lnTo>
                  <a:lnTo>
                    <a:pt x="228600" y="132397"/>
                  </a:lnTo>
                  <a:lnTo>
                    <a:pt x="227648" y="130492"/>
                  </a:lnTo>
                  <a:lnTo>
                    <a:pt x="227648" y="129540"/>
                  </a:lnTo>
                  <a:lnTo>
                    <a:pt x="227648" y="128588"/>
                  </a:lnTo>
                  <a:lnTo>
                    <a:pt x="227648" y="127635"/>
                  </a:lnTo>
                  <a:lnTo>
                    <a:pt x="227648" y="126682"/>
                  </a:lnTo>
                  <a:lnTo>
                    <a:pt x="227648" y="125730"/>
                  </a:lnTo>
                  <a:lnTo>
                    <a:pt x="226695" y="124777"/>
                  </a:lnTo>
                  <a:lnTo>
                    <a:pt x="225743" y="123825"/>
                  </a:lnTo>
                  <a:lnTo>
                    <a:pt x="225743" y="122872"/>
                  </a:lnTo>
                  <a:lnTo>
                    <a:pt x="225743" y="121920"/>
                  </a:lnTo>
                  <a:lnTo>
                    <a:pt x="224790" y="120967"/>
                  </a:lnTo>
                  <a:lnTo>
                    <a:pt x="223838" y="120015"/>
                  </a:lnTo>
                  <a:lnTo>
                    <a:pt x="223838" y="119063"/>
                  </a:lnTo>
                  <a:lnTo>
                    <a:pt x="222885" y="118110"/>
                  </a:lnTo>
                  <a:lnTo>
                    <a:pt x="221933" y="116205"/>
                  </a:lnTo>
                  <a:lnTo>
                    <a:pt x="220980" y="115252"/>
                  </a:lnTo>
                  <a:lnTo>
                    <a:pt x="220028" y="114300"/>
                  </a:lnTo>
                  <a:lnTo>
                    <a:pt x="219075" y="113347"/>
                  </a:lnTo>
                  <a:lnTo>
                    <a:pt x="218123" y="112395"/>
                  </a:lnTo>
                  <a:lnTo>
                    <a:pt x="217170" y="111442"/>
                  </a:lnTo>
                  <a:lnTo>
                    <a:pt x="216218" y="110490"/>
                  </a:lnTo>
                  <a:lnTo>
                    <a:pt x="215265" y="109538"/>
                  </a:lnTo>
                  <a:lnTo>
                    <a:pt x="215265" y="108585"/>
                  </a:lnTo>
                  <a:lnTo>
                    <a:pt x="214313" y="107632"/>
                  </a:lnTo>
                  <a:lnTo>
                    <a:pt x="213360" y="105727"/>
                  </a:lnTo>
                  <a:lnTo>
                    <a:pt x="213360" y="104775"/>
                  </a:lnTo>
                  <a:lnTo>
                    <a:pt x="212408" y="103822"/>
                  </a:lnTo>
                  <a:lnTo>
                    <a:pt x="211455" y="102870"/>
                  </a:lnTo>
                  <a:lnTo>
                    <a:pt x="211455" y="101917"/>
                  </a:lnTo>
                  <a:lnTo>
                    <a:pt x="210503" y="100965"/>
                  </a:lnTo>
                  <a:lnTo>
                    <a:pt x="209550" y="100013"/>
                  </a:lnTo>
                  <a:lnTo>
                    <a:pt x="208598" y="99060"/>
                  </a:lnTo>
                  <a:lnTo>
                    <a:pt x="207645" y="98107"/>
                  </a:lnTo>
                  <a:lnTo>
                    <a:pt x="206693" y="97155"/>
                  </a:lnTo>
                  <a:lnTo>
                    <a:pt x="205740" y="96202"/>
                  </a:lnTo>
                  <a:lnTo>
                    <a:pt x="204788" y="95250"/>
                  </a:lnTo>
                  <a:lnTo>
                    <a:pt x="203835" y="94297"/>
                  </a:lnTo>
                  <a:lnTo>
                    <a:pt x="202883" y="93345"/>
                  </a:lnTo>
                  <a:lnTo>
                    <a:pt x="201930" y="92392"/>
                  </a:lnTo>
                  <a:lnTo>
                    <a:pt x="200978" y="91440"/>
                  </a:lnTo>
                  <a:lnTo>
                    <a:pt x="200025" y="90488"/>
                  </a:lnTo>
                  <a:lnTo>
                    <a:pt x="199073" y="89535"/>
                  </a:lnTo>
                  <a:lnTo>
                    <a:pt x="198120" y="88582"/>
                  </a:lnTo>
                  <a:lnTo>
                    <a:pt x="197168" y="87630"/>
                  </a:lnTo>
                  <a:lnTo>
                    <a:pt x="196215" y="86677"/>
                  </a:lnTo>
                  <a:lnTo>
                    <a:pt x="195263" y="86677"/>
                  </a:lnTo>
                  <a:lnTo>
                    <a:pt x="194310" y="86677"/>
                  </a:lnTo>
                  <a:lnTo>
                    <a:pt x="193358" y="85725"/>
                  </a:lnTo>
                  <a:lnTo>
                    <a:pt x="192405" y="84772"/>
                  </a:lnTo>
                  <a:cubicBezTo>
                    <a:pt x="179070" y="77152"/>
                    <a:pt x="163830" y="72390"/>
                    <a:pt x="147638" y="72390"/>
                  </a:cubicBezTo>
                  <a:cubicBezTo>
                    <a:pt x="100965" y="72390"/>
                    <a:pt x="62865" y="110490"/>
                    <a:pt x="62865" y="158115"/>
                  </a:cubicBezTo>
                  <a:cubicBezTo>
                    <a:pt x="62865" y="205740"/>
                    <a:pt x="100965" y="243840"/>
                    <a:pt x="147638" y="243840"/>
                  </a:cubicBezTo>
                  <a:cubicBezTo>
                    <a:pt x="162878" y="234315"/>
                    <a:pt x="178118" y="229552"/>
                    <a:pt x="191453" y="221932"/>
                  </a:cubicBezTo>
                  <a:close/>
                  <a:moveTo>
                    <a:pt x="2819400" y="75247"/>
                  </a:moveTo>
                  <a:lnTo>
                    <a:pt x="2818448" y="76200"/>
                  </a:lnTo>
                  <a:lnTo>
                    <a:pt x="2817495" y="77152"/>
                  </a:lnTo>
                  <a:lnTo>
                    <a:pt x="2816543" y="78105"/>
                  </a:lnTo>
                  <a:lnTo>
                    <a:pt x="2815590" y="79057"/>
                  </a:lnTo>
                  <a:lnTo>
                    <a:pt x="2814638" y="80010"/>
                  </a:lnTo>
                  <a:lnTo>
                    <a:pt x="2813685" y="80963"/>
                  </a:lnTo>
                  <a:lnTo>
                    <a:pt x="2812733" y="81915"/>
                  </a:lnTo>
                  <a:lnTo>
                    <a:pt x="2811780" y="82867"/>
                  </a:lnTo>
                  <a:lnTo>
                    <a:pt x="2810828" y="83820"/>
                  </a:lnTo>
                  <a:lnTo>
                    <a:pt x="2809875" y="84772"/>
                  </a:lnTo>
                  <a:lnTo>
                    <a:pt x="2808923" y="85725"/>
                  </a:lnTo>
                  <a:lnTo>
                    <a:pt x="2807970" y="86677"/>
                  </a:lnTo>
                  <a:lnTo>
                    <a:pt x="2807018" y="87630"/>
                  </a:lnTo>
                  <a:lnTo>
                    <a:pt x="2806065" y="88582"/>
                  </a:lnTo>
                  <a:lnTo>
                    <a:pt x="2805113" y="89535"/>
                  </a:lnTo>
                  <a:lnTo>
                    <a:pt x="2804160" y="90488"/>
                  </a:lnTo>
                  <a:lnTo>
                    <a:pt x="2803208" y="91440"/>
                  </a:lnTo>
                  <a:lnTo>
                    <a:pt x="2802255" y="92392"/>
                  </a:lnTo>
                  <a:lnTo>
                    <a:pt x="2801303" y="93345"/>
                  </a:lnTo>
                  <a:lnTo>
                    <a:pt x="2800350" y="94297"/>
                  </a:lnTo>
                  <a:lnTo>
                    <a:pt x="2799398" y="95250"/>
                  </a:lnTo>
                  <a:lnTo>
                    <a:pt x="2798445" y="96202"/>
                  </a:lnTo>
                  <a:lnTo>
                    <a:pt x="2798445" y="97155"/>
                  </a:lnTo>
                  <a:lnTo>
                    <a:pt x="2798445" y="98107"/>
                  </a:lnTo>
                  <a:lnTo>
                    <a:pt x="2797493" y="99060"/>
                  </a:lnTo>
                  <a:lnTo>
                    <a:pt x="2796540" y="100013"/>
                  </a:lnTo>
                  <a:lnTo>
                    <a:pt x="2796540" y="100965"/>
                  </a:lnTo>
                  <a:lnTo>
                    <a:pt x="2795588" y="101917"/>
                  </a:lnTo>
                  <a:lnTo>
                    <a:pt x="2794635" y="102870"/>
                  </a:lnTo>
                  <a:lnTo>
                    <a:pt x="2793683" y="103822"/>
                  </a:lnTo>
                  <a:lnTo>
                    <a:pt x="2792730" y="104775"/>
                  </a:lnTo>
                  <a:lnTo>
                    <a:pt x="2791778" y="105727"/>
                  </a:lnTo>
                  <a:lnTo>
                    <a:pt x="2790825" y="106680"/>
                  </a:lnTo>
                  <a:lnTo>
                    <a:pt x="2789873" y="107632"/>
                  </a:lnTo>
                  <a:lnTo>
                    <a:pt x="2789873" y="108585"/>
                  </a:lnTo>
                  <a:lnTo>
                    <a:pt x="2788920" y="109538"/>
                  </a:lnTo>
                  <a:lnTo>
                    <a:pt x="2787968" y="110490"/>
                  </a:lnTo>
                  <a:lnTo>
                    <a:pt x="2787968" y="111442"/>
                  </a:lnTo>
                  <a:lnTo>
                    <a:pt x="2787015" y="112395"/>
                  </a:lnTo>
                  <a:lnTo>
                    <a:pt x="2786063" y="113347"/>
                  </a:lnTo>
                  <a:lnTo>
                    <a:pt x="2786063" y="114300"/>
                  </a:lnTo>
                  <a:lnTo>
                    <a:pt x="2786063" y="115252"/>
                  </a:lnTo>
                  <a:lnTo>
                    <a:pt x="2785110" y="116205"/>
                  </a:lnTo>
                  <a:lnTo>
                    <a:pt x="2784158" y="117157"/>
                  </a:lnTo>
                  <a:lnTo>
                    <a:pt x="2784158" y="118110"/>
                  </a:lnTo>
                  <a:lnTo>
                    <a:pt x="2784158" y="119063"/>
                  </a:lnTo>
                  <a:lnTo>
                    <a:pt x="2784158" y="120015"/>
                  </a:lnTo>
                  <a:lnTo>
                    <a:pt x="2784158" y="120967"/>
                  </a:lnTo>
                  <a:lnTo>
                    <a:pt x="2784158" y="121920"/>
                  </a:lnTo>
                  <a:lnTo>
                    <a:pt x="2783205" y="123825"/>
                  </a:lnTo>
                  <a:lnTo>
                    <a:pt x="2783205" y="124777"/>
                  </a:lnTo>
                  <a:lnTo>
                    <a:pt x="2783205" y="125730"/>
                  </a:lnTo>
                  <a:lnTo>
                    <a:pt x="2783205" y="126682"/>
                  </a:lnTo>
                  <a:lnTo>
                    <a:pt x="2783205" y="127635"/>
                  </a:lnTo>
                  <a:lnTo>
                    <a:pt x="2783205" y="128588"/>
                  </a:lnTo>
                  <a:lnTo>
                    <a:pt x="2783205" y="129540"/>
                  </a:lnTo>
                  <a:lnTo>
                    <a:pt x="2783205" y="130492"/>
                  </a:lnTo>
                  <a:lnTo>
                    <a:pt x="2783205" y="132397"/>
                  </a:lnTo>
                  <a:lnTo>
                    <a:pt x="2783205" y="133350"/>
                  </a:lnTo>
                  <a:lnTo>
                    <a:pt x="2783205" y="134302"/>
                  </a:lnTo>
                  <a:lnTo>
                    <a:pt x="2783205" y="135255"/>
                  </a:lnTo>
                  <a:lnTo>
                    <a:pt x="2783205" y="136207"/>
                  </a:lnTo>
                  <a:lnTo>
                    <a:pt x="2783205" y="137160"/>
                  </a:lnTo>
                  <a:lnTo>
                    <a:pt x="2783205" y="138113"/>
                  </a:lnTo>
                  <a:lnTo>
                    <a:pt x="2783205" y="139065"/>
                  </a:lnTo>
                  <a:lnTo>
                    <a:pt x="2783205" y="140970"/>
                  </a:lnTo>
                  <a:lnTo>
                    <a:pt x="2783205" y="141922"/>
                  </a:lnTo>
                  <a:lnTo>
                    <a:pt x="2783205" y="142875"/>
                  </a:lnTo>
                  <a:lnTo>
                    <a:pt x="2783205" y="144780"/>
                  </a:lnTo>
                  <a:lnTo>
                    <a:pt x="2783205" y="146685"/>
                  </a:lnTo>
                  <a:lnTo>
                    <a:pt x="2783205" y="147638"/>
                  </a:lnTo>
                  <a:lnTo>
                    <a:pt x="2783205" y="148590"/>
                  </a:lnTo>
                  <a:lnTo>
                    <a:pt x="2783205" y="150495"/>
                  </a:lnTo>
                  <a:lnTo>
                    <a:pt x="2783205" y="151447"/>
                  </a:lnTo>
                  <a:lnTo>
                    <a:pt x="2783205" y="152400"/>
                  </a:lnTo>
                  <a:lnTo>
                    <a:pt x="2783205" y="153352"/>
                  </a:lnTo>
                  <a:lnTo>
                    <a:pt x="2783205" y="154305"/>
                  </a:lnTo>
                  <a:lnTo>
                    <a:pt x="2783205" y="155257"/>
                  </a:lnTo>
                  <a:lnTo>
                    <a:pt x="2783205" y="156210"/>
                  </a:lnTo>
                  <a:lnTo>
                    <a:pt x="2783205" y="157163"/>
                  </a:lnTo>
                  <a:lnTo>
                    <a:pt x="2783205" y="159067"/>
                  </a:lnTo>
                  <a:lnTo>
                    <a:pt x="2783205" y="160020"/>
                  </a:lnTo>
                  <a:lnTo>
                    <a:pt x="2783205" y="160972"/>
                  </a:lnTo>
                  <a:lnTo>
                    <a:pt x="2783205" y="161925"/>
                  </a:lnTo>
                  <a:lnTo>
                    <a:pt x="2783205" y="162877"/>
                  </a:lnTo>
                  <a:lnTo>
                    <a:pt x="2783205" y="163830"/>
                  </a:lnTo>
                  <a:lnTo>
                    <a:pt x="2783205" y="164782"/>
                  </a:lnTo>
                  <a:lnTo>
                    <a:pt x="2783205" y="165735"/>
                  </a:lnTo>
                  <a:lnTo>
                    <a:pt x="2783205" y="166688"/>
                  </a:lnTo>
                  <a:lnTo>
                    <a:pt x="2783205" y="167640"/>
                  </a:lnTo>
                  <a:lnTo>
                    <a:pt x="2783205" y="168592"/>
                  </a:lnTo>
                  <a:lnTo>
                    <a:pt x="2783205" y="169545"/>
                  </a:lnTo>
                  <a:lnTo>
                    <a:pt x="2783205" y="170497"/>
                  </a:lnTo>
                  <a:lnTo>
                    <a:pt x="2783205" y="171450"/>
                  </a:lnTo>
                  <a:lnTo>
                    <a:pt x="2783205" y="172402"/>
                  </a:lnTo>
                  <a:lnTo>
                    <a:pt x="2784158" y="173355"/>
                  </a:lnTo>
                  <a:lnTo>
                    <a:pt x="2785110" y="174307"/>
                  </a:lnTo>
                  <a:lnTo>
                    <a:pt x="2785110" y="175260"/>
                  </a:lnTo>
                  <a:lnTo>
                    <a:pt x="2785110" y="176213"/>
                  </a:lnTo>
                  <a:lnTo>
                    <a:pt x="2786063" y="177165"/>
                  </a:lnTo>
                  <a:lnTo>
                    <a:pt x="2787015" y="178117"/>
                  </a:lnTo>
                  <a:lnTo>
                    <a:pt x="2787015" y="179070"/>
                  </a:lnTo>
                  <a:lnTo>
                    <a:pt x="2787968" y="180022"/>
                  </a:lnTo>
                  <a:lnTo>
                    <a:pt x="2788920" y="180975"/>
                  </a:lnTo>
                  <a:lnTo>
                    <a:pt x="2788920" y="181927"/>
                  </a:lnTo>
                  <a:lnTo>
                    <a:pt x="2789873" y="182880"/>
                  </a:lnTo>
                  <a:lnTo>
                    <a:pt x="2790825" y="183832"/>
                  </a:lnTo>
                  <a:lnTo>
                    <a:pt x="2791778" y="184785"/>
                  </a:lnTo>
                  <a:lnTo>
                    <a:pt x="2792730" y="185738"/>
                  </a:lnTo>
                  <a:lnTo>
                    <a:pt x="2793683" y="187642"/>
                  </a:lnTo>
                  <a:lnTo>
                    <a:pt x="2794635" y="188595"/>
                  </a:lnTo>
                  <a:lnTo>
                    <a:pt x="2795588" y="189547"/>
                  </a:lnTo>
                  <a:lnTo>
                    <a:pt x="2796540" y="190500"/>
                  </a:lnTo>
                  <a:lnTo>
                    <a:pt x="2797493" y="191452"/>
                  </a:lnTo>
                  <a:lnTo>
                    <a:pt x="2797493" y="192405"/>
                  </a:lnTo>
                  <a:lnTo>
                    <a:pt x="2797493" y="193357"/>
                  </a:lnTo>
                  <a:lnTo>
                    <a:pt x="2798445" y="194310"/>
                  </a:lnTo>
                  <a:lnTo>
                    <a:pt x="2799398" y="195263"/>
                  </a:lnTo>
                  <a:lnTo>
                    <a:pt x="2799398" y="196215"/>
                  </a:lnTo>
                  <a:lnTo>
                    <a:pt x="2800350" y="197167"/>
                  </a:lnTo>
                  <a:lnTo>
                    <a:pt x="2801303" y="198120"/>
                  </a:lnTo>
                  <a:lnTo>
                    <a:pt x="2802255" y="199072"/>
                  </a:lnTo>
                  <a:lnTo>
                    <a:pt x="2803208" y="200025"/>
                  </a:lnTo>
                  <a:lnTo>
                    <a:pt x="2804160" y="200977"/>
                  </a:lnTo>
                  <a:lnTo>
                    <a:pt x="2805113" y="201930"/>
                  </a:lnTo>
                  <a:lnTo>
                    <a:pt x="2806065" y="202882"/>
                  </a:lnTo>
                  <a:lnTo>
                    <a:pt x="2807018" y="203835"/>
                  </a:lnTo>
                  <a:lnTo>
                    <a:pt x="2807970" y="204788"/>
                  </a:lnTo>
                  <a:lnTo>
                    <a:pt x="2808923" y="205740"/>
                  </a:lnTo>
                  <a:lnTo>
                    <a:pt x="2809875" y="206692"/>
                  </a:lnTo>
                  <a:lnTo>
                    <a:pt x="2810828" y="207645"/>
                  </a:lnTo>
                  <a:lnTo>
                    <a:pt x="2811780" y="208597"/>
                  </a:lnTo>
                  <a:lnTo>
                    <a:pt x="2812733" y="209550"/>
                  </a:lnTo>
                  <a:lnTo>
                    <a:pt x="2813685" y="210502"/>
                  </a:lnTo>
                  <a:lnTo>
                    <a:pt x="2814638" y="211455"/>
                  </a:lnTo>
                  <a:lnTo>
                    <a:pt x="2815590" y="211455"/>
                  </a:lnTo>
                  <a:lnTo>
                    <a:pt x="2816543" y="212407"/>
                  </a:lnTo>
                  <a:lnTo>
                    <a:pt x="2817495" y="213360"/>
                  </a:lnTo>
                  <a:cubicBezTo>
                    <a:pt x="2830830" y="220980"/>
                    <a:pt x="2846070" y="225742"/>
                    <a:pt x="2862263" y="225742"/>
                  </a:cubicBezTo>
                  <a:cubicBezTo>
                    <a:pt x="2908935" y="225742"/>
                    <a:pt x="2947035" y="187642"/>
                    <a:pt x="2947035" y="140017"/>
                  </a:cubicBezTo>
                  <a:cubicBezTo>
                    <a:pt x="2947035" y="92392"/>
                    <a:pt x="2908935" y="54292"/>
                    <a:pt x="2862263" y="54292"/>
                  </a:cubicBezTo>
                  <a:cubicBezTo>
                    <a:pt x="2847023" y="62865"/>
                    <a:pt x="2831783" y="67627"/>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0" name="Freeform: Shape 160"/>
            <p:cNvSpPr/>
            <p:nvPr/>
          </p:nvSpPr>
          <p:spPr>
            <a:xfrm>
              <a:off x="7346880" y="4803840"/>
              <a:ext cx="726480" cy="275760"/>
            </a:xfrm>
            <a:custGeom>
              <a:avLst/>
              <a:gdLst/>
              <a:ahLst/>
              <a:rect l="l" t="t" r="r" b="b"/>
              <a:pathLst>
                <a:path w="995362" h="378142">
                  <a:moveTo>
                    <a:pt x="0" y="378142"/>
                  </a:moveTo>
                  <a:lnTo>
                    <a:pt x="665798" y="378142"/>
                  </a:lnTo>
                  <a:lnTo>
                    <a:pt x="995363" y="3810"/>
                  </a:lnTo>
                  <a:lnTo>
                    <a:pt x="343853" y="0"/>
                  </a:lnTo>
                  <a:lnTo>
                    <a:pt x="343853" y="325755"/>
                  </a:lnTo>
                  <a:lnTo>
                    <a:pt x="0" y="378142"/>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1" name="Freeform: Shape 161"/>
            <p:cNvSpPr/>
            <p:nvPr/>
          </p:nvSpPr>
          <p:spPr>
            <a:xfrm>
              <a:off x="6360840" y="4803840"/>
              <a:ext cx="738360" cy="275760"/>
            </a:xfrm>
            <a:custGeom>
              <a:avLst/>
              <a:gdLst/>
              <a:ahLst/>
              <a:rect l="l" t="t" r="r" b="b"/>
              <a:pathLst>
                <a:path w="1011555" h="378142">
                  <a:moveTo>
                    <a:pt x="329565" y="378142"/>
                  </a:moveTo>
                  <a:lnTo>
                    <a:pt x="563880" y="378142"/>
                  </a:lnTo>
                  <a:lnTo>
                    <a:pt x="563880" y="66675"/>
                  </a:lnTo>
                  <a:lnTo>
                    <a:pt x="1011555" y="0"/>
                  </a:lnTo>
                  <a:lnTo>
                    <a:pt x="0" y="3810"/>
                  </a:lnTo>
                  <a:lnTo>
                    <a:pt x="329565" y="37814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2" name="Freeform: Shape 162"/>
            <p:cNvSpPr/>
            <p:nvPr/>
          </p:nvSpPr>
          <p:spPr>
            <a:xfrm>
              <a:off x="9616680" y="2069640"/>
              <a:ext cx="1019160" cy="2199240"/>
            </a:xfrm>
            <a:custGeom>
              <a:avLst/>
              <a:gdLst/>
              <a:ahLst/>
              <a:rect l="l" t="t" r="r" b="b"/>
              <a:pathLst>
                <a:path w="1395750" h="3012050">
                  <a:moveTo>
                    <a:pt x="1330151" y="34659"/>
                  </a:moveTo>
                  <a:lnTo>
                    <a:pt x="9033" y="2941689"/>
                  </a:lnTo>
                  <a:cubicBezTo>
                    <a:pt x="-23352" y="3019794"/>
                    <a:pt x="39513" y="3038844"/>
                    <a:pt x="69041" y="2968359"/>
                  </a:cubicBezTo>
                  <a:lnTo>
                    <a:pt x="111903" y="2865489"/>
                  </a:lnTo>
                  <a:lnTo>
                    <a:pt x="1389206" y="63234"/>
                  </a:lnTo>
                  <a:cubicBezTo>
                    <a:pt x="1415876" y="-3441"/>
                    <a:pt x="1353963"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3" name="Freeform: Shape 163"/>
            <p:cNvSpPr/>
            <p:nvPr/>
          </p:nvSpPr>
          <p:spPr>
            <a:xfrm>
              <a:off x="6220080" y="2603880"/>
              <a:ext cx="1019520" cy="2199240"/>
            </a:xfrm>
            <a:custGeom>
              <a:avLst/>
              <a:gdLst/>
              <a:ahLst/>
              <a:rect l="l" t="t" r="r" b="b"/>
              <a:pathLst>
                <a:path w="1396697" h="3012050">
                  <a:moveTo>
                    <a:pt x="1330151" y="34659"/>
                  </a:moveTo>
                  <a:lnTo>
                    <a:pt x="9033" y="2941689"/>
                  </a:lnTo>
                  <a:cubicBezTo>
                    <a:pt x="-23352" y="3019794"/>
                    <a:pt x="39513" y="3038844"/>
                    <a:pt x="69041" y="2968359"/>
                  </a:cubicBezTo>
                  <a:lnTo>
                    <a:pt x="111903" y="2865489"/>
                  </a:lnTo>
                  <a:lnTo>
                    <a:pt x="1390158" y="63234"/>
                  </a:lnTo>
                  <a:cubicBezTo>
                    <a:pt x="1416828" y="-3441"/>
                    <a:pt x="1354916"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4" name="Freeform: Shape 164"/>
            <p:cNvSpPr/>
            <p:nvPr/>
          </p:nvSpPr>
          <p:spPr>
            <a:xfrm>
              <a:off x="8613720" y="5600160"/>
              <a:ext cx="592560" cy="156960"/>
            </a:xfrm>
            <a:custGeom>
              <a:avLst/>
              <a:gdLst/>
              <a:ahLst/>
              <a:rect l="l" t="t" r="r" b="b"/>
              <a:pathLst>
                <a:path w="811530" h="215265">
                  <a:moveTo>
                    <a:pt x="0" y="0"/>
                  </a:moveTo>
                  <a:lnTo>
                    <a:pt x="0" y="215265"/>
                  </a:lnTo>
                  <a:lnTo>
                    <a:pt x="811530" y="215265"/>
                  </a:lnTo>
                  <a:lnTo>
                    <a:pt x="811530"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5" name="Freeform: Shape 165"/>
            <p:cNvSpPr/>
            <p:nvPr/>
          </p:nvSpPr>
          <p:spPr>
            <a:xfrm>
              <a:off x="7914600" y="5756760"/>
              <a:ext cx="1990440" cy="163080"/>
            </a:xfrm>
            <a:custGeom>
              <a:avLst/>
              <a:gdLst/>
              <a:ahLst/>
              <a:rect l="l" t="t" r="r" b="b"/>
              <a:pathLst>
                <a:path w="2726055" h="223837">
                  <a:moveTo>
                    <a:pt x="0" y="0"/>
                  </a:moveTo>
                  <a:lnTo>
                    <a:pt x="0" y="223838"/>
                  </a:lnTo>
                  <a:lnTo>
                    <a:pt x="2726055" y="223838"/>
                  </a:lnTo>
                  <a:lnTo>
                    <a:pt x="2726055"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6" name="Freeform: Shape 166"/>
            <p:cNvSpPr/>
            <p:nvPr/>
          </p:nvSpPr>
          <p:spPr>
            <a:xfrm>
              <a:off x="8740800" y="1955880"/>
              <a:ext cx="337680" cy="183960"/>
            </a:xfrm>
            <a:custGeom>
              <a:avLst/>
              <a:gdLst/>
              <a:ahLst/>
              <a:rect l="l" t="t" r="r" b="b"/>
              <a:pathLst>
                <a:path w="462915" h="252412">
                  <a:moveTo>
                    <a:pt x="953" y="0"/>
                  </a:moveTo>
                  <a:cubicBezTo>
                    <a:pt x="0" y="953"/>
                    <a:pt x="0" y="1905"/>
                    <a:pt x="0" y="2858"/>
                  </a:cubicBezTo>
                  <a:lnTo>
                    <a:pt x="0" y="180023"/>
                  </a:lnTo>
                  <a:cubicBezTo>
                    <a:pt x="0" y="220028"/>
                    <a:pt x="103822" y="252413"/>
                    <a:pt x="231457" y="252413"/>
                  </a:cubicBezTo>
                  <a:cubicBezTo>
                    <a:pt x="359092" y="252413"/>
                    <a:pt x="462915" y="220028"/>
                    <a:pt x="462915" y="180023"/>
                  </a:cubicBezTo>
                  <a:lnTo>
                    <a:pt x="462915" y="2858"/>
                  </a:lnTo>
                  <a:cubicBezTo>
                    <a:pt x="462915" y="2858"/>
                    <a:pt x="461963" y="2858"/>
                    <a:pt x="460057"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7" name="Freeform: Shape 167"/>
            <p:cNvSpPr/>
            <p:nvPr/>
          </p:nvSpPr>
          <p:spPr>
            <a:xfrm>
              <a:off x="8740800" y="2048400"/>
              <a:ext cx="337680" cy="685440"/>
            </a:xfrm>
            <a:custGeom>
              <a:avLst/>
              <a:gdLst/>
              <a:ahLst/>
              <a:rect l="l" t="t" r="r" b="b"/>
              <a:pathLst>
                <a:path w="462915" h="939164">
                  <a:moveTo>
                    <a:pt x="0" y="0"/>
                  </a:moveTo>
                  <a:lnTo>
                    <a:pt x="0" y="866775"/>
                  </a:lnTo>
                  <a:cubicBezTo>
                    <a:pt x="0" y="906780"/>
                    <a:pt x="103822" y="939165"/>
                    <a:pt x="231457" y="939165"/>
                  </a:cubicBezTo>
                  <a:cubicBezTo>
                    <a:pt x="359092" y="939165"/>
                    <a:pt x="462915" y="906780"/>
                    <a:pt x="462915" y="866775"/>
                  </a:cubicBezTo>
                  <a:lnTo>
                    <a:pt x="462915" y="952"/>
                  </a:lnTo>
                  <a:cubicBezTo>
                    <a:pt x="461963" y="40957"/>
                    <a:pt x="359092" y="73342"/>
                    <a:pt x="231457" y="73342"/>
                  </a:cubicBezTo>
                  <a:cubicBezTo>
                    <a:pt x="103822" y="72390"/>
                    <a:pt x="0" y="4000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8" name="Freeform: Shape 168"/>
            <p:cNvSpPr/>
            <p:nvPr/>
          </p:nvSpPr>
          <p:spPr>
            <a:xfrm>
              <a:off x="8807040" y="1860480"/>
              <a:ext cx="205560" cy="129960"/>
            </a:xfrm>
            <a:custGeom>
              <a:avLst/>
              <a:gdLst/>
              <a:ahLst/>
              <a:rect l="l" t="t" r="r" b="b"/>
              <a:pathLst>
                <a:path w="281940" h="178117">
                  <a:moveTo>
                    <a:pt x="281940" y="133350"/>
                  </a:moveTo>
                  <a:cubicBezTo>
                    <a:pt x="281940" y="158115"/>
                    <a:pt x="219075" y="178117"/>
                    <a:pt x="140970" y="178117"/>
                  </a:cubicBezTo>
                  <a:cubicBezTo>
                    <a:pt x="62865" y="178117"/>
                    <a:pt x="0" y="158115"/>
                    <a:pt x="0" y="133350"/>
                  </a:cubicBezTo>
                  <a:lnTo>
                    <a:pt x="0" y="0"/>
                  </a:lnTo>
                  <a:lnTo>
                    <a:pt x="281940" y="0"/>
                  </a:lnTo>
                  <a:lnTo>
                    <a:pt x="281940" y="13335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09" name="Freeform: Shape 169"/>
            <p:cNvSpPr/>
            <p:nvPr/>
          </p:nvSpPr>
          <p:spPr>
            <a:xfrm>
              <a:off x="8790840" y="2709000"/>
              <a:ext cx="237600" cy="2939040"/>
            </a:xfrm>
            <a:custGeom>
              <a:avLst/>
              <a:gdLst/>
              <a:ahLst/>
              <a:rect l="l" t="t" r="r" b="b"/>
              <a:pathLst>
                <a:path w="325755" h="4025265">
                  <a:moveTo>
                    <a:pt x="0" y="0"/>
                  </a:moveTo>
                  <a:lnTo>
                    <a:pt x="0" y="3973830"/>
                  </a:lnTo>
                  <a:cubicBezTo>
                    <a:pt x="0" y="4002405"/>
                    <a:pt x="73343" y="4025265"/>
                    <a:pt x="162878" y="4025265"/>
                  </a:cubicBezTo>
                  <a:cubicBezTo>
                    <a:pt x="253365" y="4025265"/>
                    <a:pt x="325755" y="4002405"/>
                    <a:pt x="325755" y="3973830"/>
                  </a:cubicBezTo>
                  <a:lnTo>
                    <a:pt x="325755" y="0"/>
                  </a:lnTo>
                  <a:cubicBezTo>
                    <a:pt x="283845" y="13335"/>
                    <a:pt x="225743" y="20955"/>
                    <a:pt x="162878" y="20955"/>
                  </a:cubicBezTo>
                  <a:cubicBezTo>
                    <a:pt x="99060" y="20955"/>
                    <a:pt x="40958" y="1333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10" name="Freeform: Shape 171"/>
            <p:cNvSpPr/>
            <p:nvPr/>
          </p:nvSpPr>
          <p:spPr>
            <a:xfrm>
              <a:off x="8822160" y="1704960"/>
              <a:ext cx="174960" cy="177840"/>
            </a:xfrm>
            <a:custGeom>
              <a:avLst/>
              <a:gdLst/>
              <a:ahLst/>
              <a:rect l="l" t="t" r="r" b="b"/>
              <a:pathLst>
                <a:path w="240030" h="243840">
                  <a:moveTo>
                    <a:pt x="120015" y="243840"/>
                  </a:moveTo>
                  <a:cubicBezTo>
                    <a:pt x="185738" y="243840"/>
                    <a:pt x="240030" y="189548"/>
                    <a:pt x="240030" y="121920"/>
                  </a:cubicBezTo>
                  <a:cubicBezTo>
                    <a:pt x="240030" y="54293"/>
                    <a:pt x="186690" y="0"/>
                    <a:pt x="120015" y="0"/>
                  </a:cubicBezTo>
                  <a:cubicBezTo>
                    <a:pt x="54293" y="0"/>
                    <a:pt x="0" y="54293"/>
                    <a:pt x="0" y="121920"/>
                  </a:cubicBezTo>
                  <a:cubicBezTo>
                    <a:pt x="0" y="189548"/>
                    <a:pt x="54293" y="243840"/>
                    <a:pt x="120015" y="24384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11" name="Freeform: Shape 222"/>
            <p:cNvSpPr/>
            <p:nvPr/>
          </p:nvSpPr>
          <p:spPr>
            <a:xfrm>
              <a:off x="9019080" y="1975320"/>
              <a:ext cx="1692000" cy="504000"/>
            </a:xfrm>
            <a:custGeom>
              <a:avLst/>
              <a:gdLst/>
              <a:ahLst/>
              <a:rect l="l" t="t" r="r" b="b"/>
              <a:pathLst>
                <a:path w="2317285" h="690391">
                  <a:moveTo>
                    <a:pt x="515303" y="210332"/>
                  </a:moveTo>
                  <a:lnTo>
                    <a:pt x="0" y="292247"/>
                  </a:lnTo>
                  <a:lnTo>
                    <a:pt x="1905" y="293199"/>
                  </a:lnTo>
                  <a:cubicBezTo>
                    <a:pt x="38100" y="318917"/>
                    <a:pt x="66675" y="349397"/>
                    <a:pt x="87630" y="388449"/>
                  </a:cubicBezTo>
                  <a:cubicBezTo>
                    <a:pt x="101917" y="415119"/>
                    <a:pt x="112395" y="443694"/>
                    <a:pt x="117157" y="475127"/>
                  </a:cubicBezTo>
                  <a:cubicBezTo>
                    <a:pt x="129540" y="555137"/>
                    <a:pt x="106680" y="632289"/>
                    <a:pt x="59055" y="690392"/>
                  </a:cubicBezTo>
                  <a:lnTo>
                    <a:pt x="105728" y="681819"/>
                  </a:lnTo>
                  <a:cubicBezTo>
                    <a:pt x="175260" y="669437"/>
                    <a:pt x="244792" y="656102"/>
                    <a:pt x="314325" y="642767"/>
                  </a:cubicBezTo>
                  <a:lnTo>
                    <a:pt x="937260" y="527514"/>
                  </a:lnTo>
                  <a:lnTo>
                    <a:pt x="944880" y="526562"/>
                  </a:lnTo>
                  <a:cubicBezTo>
                    <a:pt x="994410" y="518942"/>
                    <a:pt x="1049655" y="508464"/>
                    <a:pt x="1106805" y="496082"/>
                  </a:cubicBezTo>
                  <a:lnTo>
                    <a:pt x="2192655" y="295104"/>
                  </a:lnTo>
                  <a:cubicBezTo>
                    <a:pt x="2273617" y="282722"/>
                    <a:pt x="2327910" y="206522"/>
                    <a:pt x="2315528" y="125559"/>
                  </a:cubicBezTo>
                  <a:cubicBezTo>
                    <a:pt x="2302192" y="44597"/>
                    <a:pt x="2226945" y="-10648"/>
                    <a:pt x="2145983" y="1734"/>
                  </a:cubicBezTo>
                  <a:cubicBezTo>
                    <a:pt x="2072640" y="13164"/>
                    <a:pt x="2021205" y="76982"/>
                    <a:pt x="2021205" y="148419"/>
                  </a:cubicBezTo>
                  <a:cubicBezTo>
                    <a:pt x="1763078" y="119844"/>
                    <a:pt x="978217" y="136989"/>
                    <a:pt x="515303" y="210332"/>
                  </a:cubicBezTo>
                  <a:close/>
                  <a:moveTo>
                    <a:pt x="2157412" y="65552"/>
                  </a:moveTo>
                  <a:cubicBezTo>
                    <a:pt x="2203133" y="57932"/>
                    <a:pt x="2245995" y="89364"/>
                    <a:pt x="2252662" y="135084"/>
                  </a:cubicBezTo>
                  <a:cubicBezTo>
                    <a:pt x="2260283" y="180804"/>
                    <a:pt x="2228850" y="223667"/>
                    <a:pt x="2183130" y="231287"/>
                  </a:cubicBezTo>
                  <a:cubicBezTo>
                    <a:pt x="2137410" y="238907"/>
                    <a:pt x="2094548" y="207474"/>
                    <a:pt x="2087880" y="161754"/>
                  </a:cubicBezTo>
                  <a:lnTo>
                    <a:pt x="2087880" y="160802"/>
                  </a:lnTo>
                  <a:lnTo>
                    <a:pt x="2087880" y="159849"/>
                  </a:lnTo>
                  <a:cubicBezTo>
                    <a:pt x="2090737" y="103652"/>
                    <a:pt x="2119312" y="71267"/>
                    <a:pt x="2157412" y="65552"/>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12" name="Freeform: Shape 223"/>
            <p:cNvSpPr/>
            <p:nvPr/>
          </p:nvSpPr>
          <p:spPr>
            <a:xfrm>
              <a:off x="7118280" y="2231280"/>
              <a:ext cx="1685160" cy="498960"/>
            </a:xfrm>
            <a:custGeom>
              <a:avLst/>
              <a:gdLst/>
              <a:ahLst/>
              <a:rect l="l" t="t" r="r" b="b"/>
              <a:pathLst>
                <a:path w="2307988" h="683724">
                  <a:moveTo>
                    <a:pt x="1741251" y="79058"/>
                  </a:moveTo>
                  <a:lnTo>
                    <a:pt x="2241314" y="0"/>
                  </a:lnTo>
                  <a:lnTo>
                    <a:pt x="2239409" y="2858"/>
                  </a:lnTo>
                  <a:lnTo>
                    <a:pt x="2237504" y="5715"/>
                  </a:lnTo>
                  <a:cubicBezTo>
                    <a:pt x="2225121" y="21908"/>
                    <a:pt x="2214643" y="40958"/>
                    <a:pt x="2206071" y="59055"/>
                  </a:cubicBezTo>
                  <a:cubicBezTo>
                    <a:pt x="2199404" y="75248"/>
                    <a:pt x="2193689" y="91440"/>
                    <a:pt x="2189879" y="108585"/>
                  </a:cubicBezTo>
                  <a:cubicBezTo>
                    <a:pt x="2167971" y="208598"/>
                    <a:pt x="2202261" y="311468"/>
                    <a:pt x="2283224" y="379095"/>
                  </a:cubicBezTo>
                  <a:cubicBezTo>
                    <a:pt x="2290843" y="385763"/>
                    <a:pt x="2299416" y="391478"/>
                    <a:pt x="2307989" y="397193"/>
                  </a:cubicBezTo>
                  <a:cubicBezTo>
                    <a:pt x="2227979" y="407670"/>
                    <a:pt x="2147016" y="419100"/>
                    <a:pt x="2067006" y="429578"/>
                  </a:cubicBezTo>
                  <a:lnTo>
                    <a:pt x="1438356" y="513398"/>
                  </a:lnTo>
                  <a:lnTo>
                    <a:pt x="1430736" y="514350"/>
                  </a:lnTo>
                  <a:cubicBezTo>
                    <a:pt x="1381206" y="521970"/>
                    <a:pt x="1325961" y="529590"/>
                    <a:pt x="1266906" y="536258"/>
                  </a:cubicBezTo>
                  <a:lnTo>
                    <a:pt x="171531" y="681990"/>
                  </a:lnTo>
                  <a:cubicBezTo>
                    <a:pt x="90569" y="694373"/>
                    <a:pt x="15321" y="639128"/>
                    <a:pt x="1986" y="558165"/>
                  </a:cubicBezTo>
                  <a:cubicBezTo>
                    <a:pt x="-11349" y="477203"/>
                    <a:pt x="43896" y="401003"/>
                    <a:pt x="124858" y="388620"/>
                  </a:cubicBezTo>
                  <a:cubicBezTo>
                    <a:pt x="198201" y="377190"/>
                    <a:pt x="266781" y="421005"/>
                    <a:pt x="288689" y="489585"/>
                  </a:cubicBezTo>
                  <a:cubicBezTo>
                    <a:pt x="526814" y="380048"/>
                    <a:pt x="1278336" y="152400"/>
                    <a:pt x="1741251" y="79058"/>
                  </a:cubicBezTo>
                  <a:close/>
                  <a:moveTo>
                    <a:pt x="135336" y="450533"/>
                  </a:moveTo>
                  <a:cubicBezTo>
                    <a:pt x="89616" y="458153"/>
                    <a:pt x="59136" y="501015"/>
                    <a:pt x="65803" y="546735"/>
                  </a:cubicBezTo>
                  <a:cubicBezTo>
                    <a:pt x="73423" y="592455"/>
                    <a:pt x="115333" y="623888"/>
                    <a:pt x="161053" y="616268"/>
                  </a:cubicBezTo>
                  <a:cubicBezTo>
                    <a:pt x="206773" y="608648"/>
                    <a:pt x="237253" y="565785"/>
                    <a:pt x="230586" y="520065"/>
                  </a:cubicBezTo>
                  <a:lnTo>
                    <a:pt x="230586" y="519113"/>
                  </a:lnTo>
                  <a:lnTo>
                    <a:pt x="230586" y="518160"/>
                  </a:lnTo>
                  <a:cubicBezTo>
                    <a:pt x="210583" y="465773"/>
                    <a:pt x="173436" y="444818"/>
                    <a:pt x="135336" y="45053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13" name="Freeform: Shape 224"/>
            <p:cNvSpPr/>
            <p:nvPr/>
          </p:nvSpPr>
          <p:spPr>
            <a:xfrm rot="21058200">
              <a:off x="8712000" y="2155320"/>
              <a:ext cx="394920" cy="396360"/>
            </a:xfrm>
            <a:custGeom>
              <a:avLst/>
              <a:gdLst/>
              <a:ahLst/>
              <a:rect l="l" t="t" r="r" b="b"/>
              <a:pathLst>
                <a:path w="541020" h="542925">
                  <a:moveTo>
                    <a:pt x="541021" y="271463"/>
                  </a:moveTo>
                  <a:cubicBezTo>
                    <a:pt x="541021" y="421388"/>
                    <a:pt x="419909" y="542926"/>
                    <a:pt x="270510" y="542926"/>
                  </a:cubicBezTo>
                  <a:cubicBezTo>
                    <a:pt x="121112" y="542926"/>
                    <a:pt x="0" y="421388"/>
                    <a:pt x="0" y="271463"/>
                  </a:cubicBezTo>
                  <a:cubicBezTo>
                    <a:pt x="0" y="121538"/>
                    <a:pt x="121112" y="0"/>
                    <a:pt x="270510" y="0"/>
                  </a:cubicBezTo>
                  <a:cubicBezTo>
                    <a:pt x="419909" y="0"/>
                    <a:pt x="541021" y="121538"/>
                    <a:pt x="541021" y="27146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14" name="Freeform: Shape 225"/>
            <p:cNvSpPr/>
            <p:nvPr/>
          </p:nvSpPr>
          <p:spPr>
            <a:xfrm rot="21058200">
              <a:off x="8798760" y="2241360"/>
              <a:ext cx="222480" cy="223920"/>
            </a:xfrm>
            <a:custGeom>
              <a:avLst/>
              <a:gdLst/>
              <a:ahLst/>
              <a:rect l="l" t="t" r="r" b="b"/>
              <a:pathLst>
                <a:path w="304805" h="306710">
                  <a:moveTo>
                    <a:pt x="304805" y="153355"/>
                  </a:moveTo>
                  <a:cubicBezTo>
                    <a:pt x="304805" y="238051"/>
                    <a:pt x="236572" y="306710"/>
                    <a:pt x="152403" y="306710"/>
                  </a:cubicBezTo>
                  <a:cubicBezTo>
                    <a:pt x="68233" y="306710"/>
                    <a:pt x="0" y="238051"/>
                    <a:pt x="0" y="153355"/>
                  </a:cubicBezTo>
                  <a:cubicBezTo>
                    <a:pt x="0" y="68659"/>
                    <a:pt x="68233" y="0"/>
                    <a:pt x="152403" y="0"/>
                  </a:cubicBezTo>
                  <a:cubicBezTo>
                    <a:pt x="236572" y="0"/>
                    <a:pt x="304805" y="68659"/>
                    <a:pt x="304805" y="153355"/>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15" name="Freeform: Shape 226"/>
            <p:cNvSpPr/>
            <p:nvPr/>
          </p:nvSpPr>
          <p:spPr>
            <a:xfrm rot="21058200">
              <a:off x="8853120" y="2297160"/>
              <a:ext cx="112320" cy="112320"/>
            </a:xfrm>
            <a:custGeom>
              <a:avLst/>
              <a:gdLst/>
              <a:ahLst/>
              <a:rect l="l" t="t" r="r" b="b"/>
              <a:pathLst>
                <a:path w="154307" h="154307">
                  <a:moveTo>
                    <a:pt x="154308" y="77154"/>
                  </a:moveTo>
                  <a:cubicBezTo>
                    <a:pt x="154308" y="119765"/>
                    <a:pt x="119765" y="154308"/>
                    <a:pt x="77154" y="154308"/>
                  </a:cubicBezTo>
                  <a:cubicBezTo>
                    <a:pt x="34543" y="154308"/>
                    <a:pt x="0" y="119765"/>
                    <a:pt x="0" y="77154"/>
                  </a:cubicBezTo>
                  <a:cubicBezTo>
                    <a:pt x="0" y="34543"/>
                    <a:pt x="34543" y="0"/>
                    <a:pt x="77154" y="0"/>
                  </a:cubicBezTo>
                  <a:cubicBezTo>
                    <a:pt x="119765" y="0"/>
                    <a:pt x="154308" y="34543"/>
                    <a:pt x="154308" y="7715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116" name="Graphic 154" descr=""/>
            <p:cNvPicPr/>
            <p:nvPr/>
          </p:nvPicPr>
          <p:blipFill>
            <a:blip r:embed="rId1"/>
            <a:stretch/>
          </p:blipFill>
          <p:spPr>
            <a:xfrm>
              <a:off x="7802640" y="2097000"/>
              <a:ext cx="2352960" cy="536400"/>
            </a:xfrm>
            <a:prstGeom prst="rect">
              <a:avLst/>
            </a:prstGeom>
            <a:ln w="0">
              <a:noFill/>
            </a:ln>
          </p:spPr>
        </p:pic>
        <p:sp>
          <p:nvSpPr>
            <p:cNvPr id="2117" name="Freeform: Shape 234"/>
            <p:cNvSpPr/>
            <p:nvPr/>
          </p:nvSpPr>
          <p:spPr>
            <a:xfrm>
              <a:off x="10596960" y="2069640"/>
              <a:ext cx="1019160" cy="2199240"/>
            </a:xfrm>
            <a:custGeom>
              <a:avLst/>
              <a:gdLst/>
              <a:ahLst/>
              <a:rect l="l" t="t" r="r" b="b"/>
              <a:pathLst>
                <a:path w="1396160" h="3012050">
                  <a:moveTo>
                    <a:pt x="66010" y="34659"/>
                  </a:moveTo>
                  <a:lnTo>
                    <a:pt x="1387127" y="2941689"/>
                  </a:lnTo>
                  <a:cubicBezTo>
                    <a:pt x="1419513" y="3019794"/>
                    <a:pt x="1356648" y="3038844"/>
                    <a:pt x="1327120" y="2968359"/>
                  </a:cubicBezTo>
                  <a:lnTo>
                    <a:pt x="1284257" y="2865489"/>
                  </a:lnTo>
                  <a:lnTo>
                    <a:pt x="6955" y="63234"/>
                  </a:lnTo>
                  <a:cubicBezTo>
                    <a:pt x="-20668" y="-3441"/>
                    <a:pt x="41245" y="-24396"/>
                    <a:pt x="66010"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18" name="Freeform: Shape 235"/>
            <p:cNvSpPr/>
            <p:nvPr/>
          </p:nvSpPr>
          <p:spPr>
            <a:xfrm>
              <a:off x="7200360" y="2603880"/>
              <a:ext cx="1019160" cy="2199240"/>
            </a:xfrm>
            <a:custGeom>
              <a:avLst/>
              <a:gdLst/>
              <a:ahLst/>
              <a:rect l="l" t="t" r="r" b="b"/>
              <a:pathLst>
                <a:path w="1395750" h="3012050">
                  <a:moveTo>
                    <a:pt x="65599" y="34659"/>
                  </a:moveTo>
                  <a:lnTo>
                    <a:pt x="1386717" y="2941689"/>
                  </a:lnTo>
                  <a:cubicBezTo>
                    <a:pt x="1419102" y="3019794"/>
                    <a:pt x="1356237" y="3038844"/>
                    <a:pt x="1326709" y="2968359"/>
                  </a:cubicBezTo>
                  <a:lnTo>
                    <a:pt x="1283847" y="2865489"/>
                  </a:lnTo>
                  <a:lnTo>
                    <a:pt x="6545" y="63234"/>
                  </a:lnTo>
                  <a:cubicBezTo>
                    <a:pt x="-20126" y="-3441"/>
                    <a:pt x="41787" y="-24396"/>
                    <a:pt x="65599"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Tree>
  </p:cSld>
  <p:transition spd="med">
    <p:fade/>
  </p:transition>
  <p:timing>
    <p:tnLst>
      <p:par>
        <p:cTn id="2047" dur="indefinite" restart="never" nodeType="tmRoot">
          <p:childTnLst>
            <p:seq>
              <p:cTn id="2048" dur="indefinite" nodeType="mainSeq">
                <p:childTnLst>
                  <p:par>
                    <p:cTn id="2049" nodeType="clickEffect" fill="hold">
                      <p:stCondLst>
                        <p:cond delay="0"/>
                      </p:stCondLst>
                      <p:childTnLst>
                        <p:par>
                          <p:cTn id="2050" nodeType="withEffect" fill="hold">
                            <p:stCondLst>
                              <p:cond delay="0"/>
                            </p:stCondLst>
                            <p:childTnLst>
                              <p:par>
                                <p:cTn id="2051" nodeType="afterEffect" fill="hold" presetClass="entr" presetID="42">
                                  <p:stCondLst>
                                    <p:cond delay="0"/>
                                  </p:stCondLst>
                                  <p:childTnLst>
                                    <p:set>
                                      <p:cBhvr>
                                        <p:cTn id="2052" dur="1" fill="hold">
                                          <p:stCondLst>
                                            <p:cond delay="0"/>
                                          </p:stCondLst>
                                        </p:cTn>
                                        <p:tgtEl>
                                          <p:spTgt spid="2095"/>
                                        </p:tgtEl>
                                        <p:attrNameLst>
                                          <p:attrName>style.visibility</p:attrName>
                                        </p:attrNameLst>
                                      </p:cBhvr>
                                      <p:to>
                                        <p:strVal val="visible"/>
                                      </p:to>
                                    </p:set>
                                    <p:animEffect filter="fade" transition="in">
                                      <p:cBhvr additive="repl">
                                        <p:cTn id="2053" dur="1000"/>
                                        <p:tgtEl>
                                          <p:spTgt spid="2095"/>
                                        </p:tgtEl>
                                      </p:cBhvr>
                                    </p:animEffect>
                                    <p:anim calcmode="lin" valueType="num">
                                      <p:cBhvr additive="repl">
                                        <p:cTn id="2054" dur="1000" fill="hold"/>
                                        <p:tgtEl>
                                          <p:spTgt spid="2095"/>
                                        </p:tgtEl>
                                        <p:attrNameLst>
                                          <p:attrName>ppt_x</p:attrName>
                                        </p:attrNameLst>
                                      </p:cBhvr>
                                      <p:tavLst>
                                        <p:tav tm="0">
                                          <p:val>
                                            <p:strVal val="#ppt_x"/>
                                          </p:val>
                                        </p:tav>
                                        <p:tav tm="100000">
                                          <p:val>
                                            <p:strVal val="#ppt_x"/>
                                          </p:val>
                                        </p:tav>
                                      </p:tavLst>
                                    </p:anim>
                                    <p:anim calcmode="lin" valueType="num">
                                      <p:cBhvr additive="repl">
                                        <p:cTn id="2055" dur="1000" fill="hold"/>
                                        <p:tgtEl>
                                          <p:spTgt spid="2095"/>
                                        </p:tgtEl>
                                        <p:attrNameLst>
                                          <p:attrName>ppt_y</p:attrName>
                                        </p:attrNameLst>
                                      </p:cBhvr>
                                      <p:tavLst>
                                        <p:tav tm="0">
                                          <p:val>
                                            <p:strVal val="#ppt_y+.1"/>
                                          </p:val>
                                        </p:tav>
                                        <p:tav tm="100000">
                                          <p:val>
                                            <p:strVal val="#ppt_y"/>
                                          </p:val>
                                        </p:tav>
                                      </p:tavLst>
                                    </p:anim>
                                  </p:childTnLst>
                                </p:cTn>
                              </p:par>
                            </p:childTnLst>
                          </p:cTn>
                        </p:par>
                        <p:par>
                          <p:cTn id="2056" nodeType="afterEffect" fill="hold">
                            <p:stCondLst>
                              <p:cond delay="1000"/>
                            </p:stCondLst>
                            <p:childTnLst>
                              <p:par>
                                <p:cTn id="2057" nodeType="afterEffect" fill="hold" presetClass="entr" presetID="47">
                                  <p:stCondLst>
                                    <p:cond delay="0"/>
                                  </p:stCondLst>
                                  <p:childTnLst>
                                    <p:set>
                                      <p:cBhvr>
                                        <p:cTn id="2058" dur="1" fill="hold">
                                          <p:stCondLst>
                                            <p:cond delay="0"/>
                                          </p:stCondLst>
                                        </p:cTn>
                                        <p:tgtEl>
                                          <p:spTgt spid="2059"/>
                                        </p:tgtEl>
                                        <p:attrNameLst>
                                          <p:attrName>style.visibility</p:attrName>
                                        </p:attrNameLst>
                                      </p:cBhvr>
                                      <p:to>
                                        <p:strVal val="visible"/>
                                      </p:to>
                                    </p:set>
                                    <p:animEffect filter="fade" transition="in">
                                      <p:cBhvr additive="repl">
                                        <p:cTn id="2059" dur="1000"/>
                                        <p:tgtEl>
                                          <p:spTgt spid="2059"/>
                                        </p:tgtEl>
                                      </p:cBhvr>
                                    </p:animEffect>
                                    <p:anim calcmode="lin" valueType="num">
                                      <p:cBhvr additive="repl">
                                        <p:cTn id="2060" dur="1000" fill="hold"/>
                                        <p:tgtEl>
                                          <p:spTgt spid="2059"/>
                                        </p:tgtEl>
                                        <p:attrNameLst>
                                          <p:attrName>ppt_x</p:attrName>
                                        </p:attrNameLst>
                                      </p:cBhvr>
                                      <p:tavLst>
                                        <p:tav tm="0">
                                          <p:val>
                                            <p:strVal val="#ppt_x"/>
                                          </p:val>
                                        </p:tav>
                                        <p:tav tm="100000">
                                          <p:val>
                                            <p:strVal val="#ppt_x"/>
                                          </p:val>
                                        </p:tav>
                                      </p:tavLst>
                                    </p:anim>
                                    <p:anim calcmode="lin" valueType="num">
                                      <p:cBhvr additive="repl">
                                        <p:cTn id="2061" dur="1000" fill="hold"/>
                                        <p:tgtEl>
                                          <p:spTgt spid="2059"/>
                                        </p:tgtEl>
                                        <p:attrNameLst>
                                          <p:attrName>ppt_y</p:attrName>
                                        </p:attrNameLst>
                                      </p:cBhvr>
                                      <p:tavLst>
                                        <p:tav tm="0">
                                          <p:val>
                                            <p:strVal val="#ppt_y-.1"/>
                                          </p:val>
                                        </p:tav>
                                        <p:tav tm="100000">
                                          <p:val>
                                            <p:strVal val="#ppt_y"/>
                                          </p:val>
                                        </p:tav>
                                      </p:tavLst>
                                    </p:anim>
                                  </p:childTnLst>
                                </p:cTn>
                              </p:par>
                              <p:par>
                                <p:cTn id="2062" nodeType="withEffect" fill="hold" presetClass="entr" presetID="47">
                                  <p:stCondLst>
                                    <p:cond delay="0"/>
                                  </p:stCondLst>
                                  <p:childTnLst>
                                    <p:set>
                                      <p:cBhvr>
                                        <p:cTn id="2063" dur="1" fill="hold">
                                          <p:stCondLst>
                                            <p:cond delay="0"/>
                                          </p:stCondLst>
                                        </p:cTn>
                                        <p:tgtEl>
                                          <p:spTgt spid="2074"/>
                                        </p:tgtEl>
                                        <p:attrNameLst>
                                          <p:attrName>style.visibility</p:attrName>
                                        </p:attrNameLst>
                                      </p:cBhvr>
                                      <p:to>
                                        <p:strVal val="visible"/>
                                      </p:to>
                                    </p:set>
                                    <p:animEffect filter="fade" transition="in">
                                      <p:cBhvr additive="repl">
                                        <p:cTn id="2064" dur="1000"/>
                                        <p:tgtEl>
                                          <p:spTgt spid="2074"/>
                                        </p:tgtEl>
                                      </p:cBhvr>
                                    </p:animEffect>
                                    <p:anim calcmode="lin" valueType="num">
                                      <p:cBhvr additive="repl">
                                        <p:cTn id="2065" dur="1000" fill="hold"/>
                                        <p:tgtEl>
                                          <p:spTgt spid="2074"/>
                                        </p:tgtEl>
                                        <p:attrNameLst>
                                          <p:attrName>ppt_x</p:attrName>
                                        </p:attrNameLst>
                                      </p:cBhvr>
                                      <p:tavLst>
                                        <p:tav tm="0">
                                          <p:val>
                                            <p:strVal val="#ppt_x"/>
                                          </p:val>
                                        </p:tav>
                                        <p:tav tm="100000">
                                          <p:val>
                                            <p:strVal val="#ppt_x"/>
                                          </p:val>
                                        </p:tav>
                                      </p:tavLst>
                                    </p:anim>
                                    <p:anim calcmode="lin" valueType="num">
                                      <p:cBhvr additive="repl">
                                        <p:cTn id="2066" dur="1000" fill="hold"/>
                                        <p:tgtEl>
                                          <p:spTgt spid="2074"/>
                                        </p:tgtEl>
                                        <p:attrNameLst>
                                          <p:attrName>ppt_y</p:attrName>
                                        </p:attrNameLst>
                                      </p:cBhvr>
                                      <p:tavLst>
                                        <p:tav tm="0">
                                          <p:val>
                                            <p:strVal val="#ppt_y-.1"/>
                                          </p:val>
                                        </p:tav>
                                        <p:tav tm="100000">
                                          <p:val>
                                            <p:strVal val="#ppt_y"/>
                                          </p:val>
                                        </p:tav>
                                      </p:tavLst>
                                    </p:anim>
                                  </p:childTnLst>
                                </p:cTn>
                              </p:par>
                            </p:childTnLst>
                          </p:cTn>
                        </p:par>
                        <p:par>
                          <p:cTn id="2067" nodeType="afterEffect" fill="hold">
                            <p:stCondLst>
                              <p:cond delay="2000"/>
                            </p:stCondLst>
                            <p:childTnLst>
                              <p:par>
                                <p:cTn id="2068" nodeType="afterEffect" fill="hold" presetClass="entr" presetID="10">
                                  <p:stCondLst>
                                    <p:cond delay="0"/>
                                  </p:stCondLst>
                                  <p:childTnLst>
                                    <p:set>
                                      <p:cBhvr>
                                        <p:cTn id="2069" dur="1" fill="hold">
                                          <p:stCondLst>
                                            <p:cond delay="0"/>
                                          </p:stCondLst>
                                        </p:cTn>
                                        <p:tgtEl>
                                          <p:spTgt spid="2091"/>
                                        </p:tgtEl>
                                        <p:attrNameLst>
                                          <p:attrName>style.visibility</p:attrName>
                                        </p:attrNameLst>
                                      </p:cBhvr>
                                      <p:to>
                                        <p:strVal val="visible"/>
                                      </p:to>
                                    </p:set>
                                    <p:animEffect filter="fade" transition="in">
                                      <p:cBhvr additive="repl">
                                        <p:cTn id="2070" dur="500"/>
                                        <p:tgtEl>
                                          <p:spTgt spid="2091"/>
                                        </p:tgtEl>
                                      </p:cBhvr>
                                    </p:animEffect>
                                  </p:childTnLst>
                                </p:cTn>
                              </p:par>
                              <p:par>
                                <p:cTn id="2071" nodeType="withEffect" fill="hold" presetClass="entr" presetID="10">
                                  <p:stCondLst>
                                    <p:cond delay="0"/>
                                  </p:stCondLst>
                                  <p:childTnLst>
                                    <p:set>
                                      <p:cBhvr>
                                        <p:cTn id="2072" dur="1" fill="hold">
                                          <p:stCondLst>
                                            <p:cond delay="0"/>
                                          </p:stCondLst>
                                        </p:cTn>
                                        <p:tgtEl>
                                          <p:spTgt spid="2088"/>
                                        </p:tgtEl>
                                        <p:attrNameLst>
                                          <p:attrName>style.visibility</p:attrName>
                                        </p:attrNameLst>
                                      </p:cBhvr>
                                      <p:to>
                                        <p:strVal val="visible"/>
                                      </p:to>
                                    </p:set>
                                    <p:animEffect filter="fade" transition="in">
                                      <p:cBhvr additive="repl">
                                        <p:cTn id="2073" dur="500"/>
                                        <p:tgtEl>
                                          <p:spTgt spid="2088"/>
                                        </p:tgtEl>
                                      </p:cBhvr>
                                    </p:animEffect>
                                  </p:childTnLst>
                                </p:cTn>
                              </p:par>
                              <p:par>
                                <p:cTn id="2074" nodeType="withEffect" fill="hold" presetClass="entr" presetID="10">
                                  <p:stCondLst>
                                    <p:cond delay="0"/>
                                  </p:stCondLst>
                                  <p:childTnLst>
                                    <p:set>
                                      <p:cBhvr>
                                        <p:cTn id="2075" dur="1" fill="hold">
                                          <p:stCondLst>
                                            <p:cond delay="0"/>
                                          </p:stCondLst>
                                        </p:cTn>
                                        <p:tgtEl>
                                          <p:spTgt spid="2089"/>
                                        </p:tgtEl>
                                        <p:attrNameLst>
                                          <p:attrName>style.visibility</p:attrName>
                                        </p:attrNameLst>
                                      </p:cBhvr>
                                      <p:to>
                                        <p:strVal val="visible"/>
                                      </p:to>
                                    </p:set>
                                    <p:animEffect filter="fade" transition="in">
                                      <p:cBhvr additive="repl">
                                        <p:cTn id="2076" dur="500"/>
                                        <p:tgtEl>
                                          <p:spTgt spid="2089"/>
                                        </p:tgtEl>
                                      </p:cBhvr>
                                    </p:animEffect>
                                  </p:childTnLst>
                                </p:cTn>
                              </p:par>
                              <p:par>
                                <p:cTn id="2077" nodeType="withEffect" fill="hold" presetClass="entr" presetID="10">
                                  <p:stCondLst>
                                    <p:cond delay="0"/>
                                  </p:stCondLst>
                                  <p:childTnLst>
                                    <p:set>
                                      <p:cBhvr>
                                        <p:cTn id="2078" dur="1" fill="hold">
                                          <p:stCondLst>
                                            <p:cond delay="0"/>
                                          </p:stCondLst>
                                        </p:cTn>
                                        <p:tgtEl>
                                          <p:spTgt spid="2086"/>
                                        </p:tgtEl>
                                        <p:attrNameLst>
                                          <p:attrName>style.visibility</p:attrName>
                                        </p:attrNameLst>
                                      </p:cBhvr>
                                      <p:to>
                                        <p:strVal val="visible"/>
                                      </p:to>
                                    </p:set>
                                    <p:animEffect filter="fade" transition="in">
                                      <p:cBhvr additive="repl">
                                        <p:cTn id="2079" dur="500"/>
                                        <p:tgtEl>
                                          <p:spTgt spid="2086"/>
                                        </p:tgtEl>
                                      </p:cBhvr>
                                    </p:animEffect>
                                  </p:childTnLst>
                                </p:cTn>
                              </p:par>
                              <p:par>
                                <p:cTn id="2080" nodeType="withEffect" fill="hold" presetClass="entr" presetID="22" presetSubtype="8">
                                  <p:stCondLst>
                                    <p:cond delay="0"/>
                                  </p:stCondLst>
                                  <p:childTnLst>
                                    <p:set>
                                      <p:cBhvr>
                                        <p:cTn id="2081" dur="1" fill="hold">
                                          <p:stCondLst>
                                            <p:cond delay="0"/>
                                          </p:stCondLst>
                                        </p:cTn>
                                        <p:tgtEl>
                                          <p:spTgt spid="2085"/>
                                        </p:tgtEl>
                                        <p:attrNameLst>
                                          <p:attrName>style.visibility</p:attrName>
                                        </p:attrNameLst>
                                      </p:cBhvr>
                                      <p:to>
                                        <p:strVal val="visible"/>
                                      </p:to>
                                    </p:set>
                                    <p:animEffect filter="wipe(left)" transition="in">
                                      <p:cBhvr additive="repl">
                                        <p:cTn id="2082" dur="500"/>
                                        <p:tgtEl>
                                          <p:spTgt spid="2085"/>
                                        </p:tgtEl>
                                      </p:cBhvr>
                                    </p:animEffect>
                                  </p:childTnLst>
                                </p:cTn>
                              </p:par>
                            </p:childTnLst>
                          </p:cTn>
                        </p:par>
                        <p:par>
                          <p:cTn id="2083" nodeType="afterEffect" fill="hold">
                            <p:stCondLst>
                              <p:cond delay="2500"/>
                            </p:stCondLst>
                            <p:childTnLst>
                              <p:par>
                                <p:cTn id="2084" nodeType="afterEffect" fill="hold" presetClass="entr" presetID="22" presetSubtype="8">
                                  <p:stCondLst>
                                    <p:cond delay="0"/>
                                  </p:stCondLst>
                                  <p:childTnLst>
                                    <p:set>
                                      <p:cBhvr>
                                        <p:cTn id="2085" dur="1" fill="hold">
                                          <p:stCondLst>
                                            <p:cond delay="0"/>
                                          </p:stCondLst>
                                        </p:cTn>
                                        <p:tgtEl>
                                          <p:spTgt spid="2090"/>
                                        </p:tgtEl>
                                        <p:attrNameLst>
                                          <p:attrName>style.visibility</p:attrName>
                                        </p:attrNameLst>
                                      </p:cBhvr>
                                      <p:to>
                                        <p:strVal val="visible"/>
                                      </p:to>
                                    </p:set>
                                    <p:animEffect filter="wipe(left)" transition="in">
                                      <p:cBhvr additive="repl">
                                        <p:cTn id="2086" dur="500"/>
                                        <p:tgtEl>
                                          <p:spTgt spid="2090"/>
                                        </p:tgtEl>
                                      </p:cBhvr>
                                    </p:animEffect>
                                  </p:childTnLst>
                                </p:cTn>
                              </p:par>
                              <p:par>
                                <p:cTn id="2087" nodeType="withEffect" fill="hold" presetClass="entr" presetID="22" presetSubtype="8">
                                  <p:stCondLst>
                                    <p:cond delay="0"/>
                                  </p:stCondLst>
                                  <p:childTnLst>
                                    <p:set>
                                      <p:cBhvr>
                                        <p:cTn id="2088" dur="1" fill="hold">
                                          <p:stCondLst>
                                            <p:cond delay="0"/>
                                          </p:stCondLst>
                                        </p:cTn>
                                        <p:tgtEl>
                                          <p:spTgt spid="2087"/>
                                        </p:tgtEl>
                                        <p:attrNameLst>
                                          <p:attrName>style.visibility</p:attrName>
                                        </p:attrNameLst>
                                      </p:cBhvr>
                                      <p:to>
                                        <p:strVal val="visible"/>
                                      </p:to>
                                    </p:set>
                                    <p:animEffect filter="wipe(left)" transition="in">
                                      <p:cBhvr additive="repl">
                                        <p:cTn id="2089" dur="500"/>
                                        <p:tgtEl>
                                          <p:spTgt spid="2087"/>
                                        </p:tgtEl>
                                      </p:cBhvr>
                                    </p:animEffect>
                                  </p:childTnLst>
                                </p:cTn>
                              </p:par>
                            </p:childTnLst>
                          </p:cTn>
                        </p:par>
                        <p:par>
                          <p:cTn id="2090" nodeType="afterEffect" fill="hold">
                            <p:stCondLst>
                              <p:cond delay="3000"/>
                            </p:stCondLst>
                            <p:childTnLst>
                              <p:par>
                                <p:cTn id="2091" nodeType="afterEffect" fill="hold" presetClass="entr" presetID="10">
                                  <p:stCondLst>
                                    <p:cond delay="0"/>
                                  </p:stCondLst>
                                  <p:childTnLst>
                                    <p:set>
                                      <p:cBhvr>
                                        <p:cTn id="2092" dur="1" fill="hold">
                                          <p:stCondLst>
                                            <p:cond delay="0"/>
                                          </p:stCondLst>
                                        </p:cTn>
                                        <p:tgtEl>
                                          <p:spTgt spid="2094"/>
                                        </p:tgtEl>
                                        <p:attrNameLst>
                                          <p:attrName>style.visibility</p:attrName>
                                        </p:attrNameLst>
                                      </p:cBhvr>
                                      <p:to>
                                        <p:strVal val="visible"/>
                                      </p:to>
                                    </p:set>
                                    <p:animEffect filter="fade" transition="in">
                                      <p:cBhvr additive="repl">
                                        <p:cTn id="2093" dur="500"/>
                                        <p:tgtEl>
                                          <p:spTgt spid="2094"/>
                                        </p:tgtEl>
                                      </p:cBhvr>
                                    </p:animEffect>
                                  </p:childTnLst>
                                </p:cTn>
                              </p:par>
                              <p:par>
                                <p:cTn id="2094" nodeType="withEffect" fill="hold" presetClass="entr" presetID="10">
                                  <p:stCondLst>
                                    <p:cond delay="0"/>
                                  </p:stCondLst>
                                  <p:childTnLst>
                                    <p:set>
                                      <p:cBhvr>
                                        <p:cTn id="2095" dur="1" fill="hold">
                                          <p:stCondLst>
                                            <p:cond delay="0"/>
                                          </p:stCondLst>
                                        </p:cTn>
                                        <p:tgtEl>
                                          <p:spTgt spid="2058"/>
                                        </p:tgtEl>
                                        <p:attrNameLst>
                                          <p:attrName>style.visibility</p:attrName>
                                        </p:attrNameLst>
                                      </p:cBhvr>
                                      <p:to>
                                        <p:strVal val="visible"/>
                                      </p:to>
                                    </p:set>
                                    <p:animEffect filter="fade" transition="in">
                                      <p:cBhvr additive="repl">
                                        <p:cTn id="2096" dur="500"/>
                                        <p:tgtEl>
                                          <p:spTgt spid="2058"/>
                                        </p:tgtEl>
                                      </p:cBhvr>
                                    </p:animEffect>
                                  </p:childTnLst>
                                </p:cTn>
                              </p:par>
                              <p:par>
                                <p:cTn id="2097" nodeType="withEffect" fill="hold" presetClass="entr" presetID="10">
                                  <p:stCondLst>
                                    <p:cond delay="0"/>
                                  </p:stCondLst>
                                  <p:childTnLst>
                                    <p:set>
                                      <p:cBhvr>
                                        <p:cTn id="2098" dur="1" fill="hold">
                                          <p:stCondLst>
                                            <p:cond delay="0"/>
                                          </p:stCondLst>
                                        </p:cTn>
                                        <p:tgtEl>
                                          <p:spTgt spid="2056"/>
                                        </p:tgtEl>
                                        <p:attrNameLst>
                                          <p:attrName>style.visibility</p:attrName>
                                        </p:attrNameLst>
                                      </p:cBhvr>
                                      <p:to>
                                        <p:strVal val="visible"/>
                                      </p:to>
                                    </p:set>
                                    <p:animEffect filter="fade" transition="in">
                                      <p:cBhvr additive="repl">
                                        <p:cTn id="2099" dur="500"/>
                                        <p:tgtEl>
                                          <p:spTgt spid="2056"/>
                                        </p:tgtEl>
                                      </p:cBhvr>
                                    </p:animEffect>
                                  </p:childTnLst>
                                </p:cTn>
                              </p:par>
                              <p:par>
                                <p:cTn id="2100" nodeType="withEffect" fill="hold" presetClass="entr" presetID="10">
                                  <p:stCondLst>
                                    <p:cond delay="0"/>
                                  </p:stCondLst>
                                  <p:childTnLst>
                                    <p:set>
                                      <p:cBhvr>
                                        <p:cTn id="2101" dur="1" fill="hold">
                                          <p:stCondLst>
                                            <p:cond delay="0"/>
                                          </p:stCondLst>
                                        </p:cTn>
                                        <p:tgtEl>
                                          <p:spTgt spid="2092"/>
                                        </p:tgtEl>
                                        <p:attrNameLst>
                                          <p:attrName>style.visibility</p:attrName>
                                        </p:attrNameLst>
                                      </p:cBhvr>
                                      <p:to>
                                        <p:strVal val="visible"/>
                                      </p:to>
                                    </p:set>
                                    <p:animEffect filter="fade" transition="in">
                                      <p:cBhvr additive="repl">
                                        <p:cTn id="2102" dur="500"/>
                                        <p:tgtEl>
                                          <p:spTgt spid="2092"/>
                                        </p:tgtEl>
                                      </p:cBhvr>
                                    </p:animEffect>
                                  </p:childTnLst>
                                </p:cTn>
                              </p:par>
                            </p:childTnLst>
                          </p:cTn>
                        </p:par>
                        <p:par>
                          <p:cTn id="2103" nodeType="afterEffect" fill="hold">
                            <p:stCondLst>
                              <p:cond delay="3500"/>
                            </p:stCondLst>
                            <p:childTnLst>
                              <p:par>
                                <p:cTn id="2104" nodeType="afterEffect" fill="hold" presetClass="entr" presetID="22" presetSubtype="8">
                                  <p:stCondLst>
                                    <p:cond delay="0"/>
                                  </p:stCondLst>
                                  <p:childTnLst>
                                    <p:set>
                                      <p:cBhvr>
                                        <p:cTn id="2105" dur="1" fill="hold">
                                          <p:stCondLst>
                                            <p:cond delay="0"/>
                                          </p:stCondLst>
                                        </p:cTn>
                                        <p:tgtEl>
                                          <p:spTgt spid="2093"/>
                                        </p:tgtEl>
                                        <p:attrNameLst>
                                          <p:attrName>style.visibility</p:attrName>
                                        </p:attrNameLst>
                                      </p:cBhvr>
                                      <p:to>
                                        <p:strVal val="visible"/>
                                      </p:to>
                                    </p:set>
                                    <p:animEffect filter="wipe(left)" transition="in">
                                      <p:cBhvr additive="repl">
                                        <p:cTn id="2106" dur="500"/>
                                        <p:tgtEl>
                                          <p:spTgt spid="2093"/>
                                        </p:tgtEl>
                                      </p:cBhvr>
                                    </p:animEffect>
                                  </p:childTnLst>
                                </p:cTn>
                              </p:par>
                              <p:par>
                                <p:cTn id="2107" nodeType="withEffect" fill="hold" presetClass="entr" presetID="22" presetSubtype="8">
                                  <p:stCondLst>
                                    <p:cond delay="0"/>
                                  </p:stCondLst>
                                  <p:childTnLst>
                                    <p:set>
                                      <p:cBhvr>
                                        <p:cTn id="2108" dur="1" fill="hold">
                                          <p:stCondLst>
                                            <p:cond delay="0"/>
                                          </p:stCondLst>
                                        </p:cTn>
                                        <p:tgtEl>
                                          <p:spTgt spid="2057"/>
                                        </p:tgtEl>
                                        <p:attrNameLst>
                                          <p:attrName>style.visibility</p:attrName>
                                        </p:attrNameLst>
                                      </p:cBhvr>
                                      <p:to>
                                        <p:strVal val="visible"/>
                                      </p:to>
                                    </p:set>
                                    <p:animEffect filter="wipe(left)" transition="in">
                                      <p:cBhvr additive="repl">
                                        <p:cTn id="2109" dur="500"/>
                                        <p:tgtEl>
                                          <p:spTgt spid="2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9" name="Group 154"/>
          <p:cNvGrpSpPr/>
          <p:nvPr/>
        </p:nvGrpSpPr>
        <p:grpSpPr>
          <a:xfrm>
            <a:off x="4141800" y="3441600"/>
            <a:ext cx="3935520" cy="1757520"/>
            <a:chOff x="4141800" y="3441600"/>
            <a:chExt cx="3935520" cy="1757520"/>
          </a:xfrm>
        </p:grpSpPr>
        <p:sp>
          <p:nvSpPr>
            <p:cNvPr id="2120" name="Freeform: Shape 5"/>
            <p:cNvSpPr/>
            <p:nvPr/>
          </p:nvSpPr>
          <p:spPr>
            <a:xfrm>
              <a:off x="6058800" y="4619160"/>
              <a:ext cx="286560" cy="221760"/>
            </a:xfrm>
            <a:custGeom>
              <a:avLst/>
              <a:gdLst/>
              <a:ahLst/>
              <a:rect l="l" t="t" r="r" b="b"/>
              <a:pathLst>
                <a:path w="359635" h="278170">
                  <a:moveTo>
                    <a:pt x="49673" y="214589"/>
                  </a:moveTo>
                  <a:lnTo>
                    <a:pt x="274197" y="278171"/>
                  </a:lnTo>
                  <a:lnTo>
                    <a:pt x="359635" y="101334"/>
                  </a:lnTo>
                  <a:lnTo>
                    <a:pt x="160942" y="17882"/>
                  </a:lnTo>
                  <a:lnTo>
                    <a:pt x="63582" y="0"/>
                  </a:lnTo>
                  <a:lnTo>
                    <a:pt x="41726" y="61595"/>
                  </a:lnTo>
                  <a:lnTo>
                    <a:pt x="0" y="139085"/>
                  </a:lnTo>
                  <a:lnTo>
                    <a:pt x="49673" y="214589"/>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1" name="Freeform: Shape 6"/>
            <p:cNvSpPr/>
            <p:nvPr/>
          </p:nvSpPr>
          <p:spPr>
            <a:xfrm>
              <a:off x="5043240" y="4333680"/>
              <a:ext cx="551160" cy="320040"/>
            </a:xfrm>
            <a:custGeom>
              <a:avLst/>
              <a:gdLst/>
              <a:ahLst/>
              <a:rect l="l" t="t" r="r" b="b"/>
              <a:pathLst>
                <a:path w="691453" h="401360">
                  <a:moveTo>
                    <a:pt x="516603" y="401361"/>
                  </a:moveTo>
                  <a:lnTo>
                    <a:pt x="643767" y="351687"/>
                  </a:lnTo>
                  <a:lnTo>
                    <a:pt x="516603" y="305988"/>
                  </a:lnTo>
                  <a:lnTo>
                    <a:pt x="516603" y="246380"/>
                  </a:lnTo>
                  <a:cubicBezTo>
                    <a:pt x="516603" y="160942"/>
                    <a:pt x="586146" y="113255"/>
                    <a:pt x="671584" y="143059"/>
                  </a:cubicBezTo>
                  <a:lnTo>
                    <a:pt x="683506" y="147033"/>
                  </a:lnTo>
                  <a:lnTo>
                    <a:pt x="683506" y="71530"/>
                  </a:lnTo>
                  <a:cubicBezTo>
                    <a:pt x="683506" y="53647"/>
                    <a:pt x="687480" y="35765"/>
                    <a:pt x="691453" y="21856"/>
                  </a:cubicBezTo>
                  <a:lnTo>
                    <a:pt x="629859" y="0"/>
                  </a:lnTo>
                  <a:lnTo>
                    <a:pt x="0" y="232471"/>
                  </a:lnTo>
                  <a:lnTo>
                    <a:pt x="516603" y="401361"/>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2" name="Freeform: Shape 7"/>
            <p:cNvSpPr/>
            <p:nvPr/>
          </p:nvSpPr>
          <p:spPr>
            <a:xfrm>
              <a:off x="5624640" y="4081320"/>
              <a:ext cx="1357560" cy="774000"/>
            </a:xfrm>
            <a:custGeom>
              <a:avLst/>
              <a:gdLst/>
              <a:ahLst/>
              <a:rect l="l" t="t" r="r" b="b"/>
              <a:pathLst>
                <a:path w="1702803" h="970325">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3" name="Freeform: Shape 8"/>
            <p:cNvSpPr/>
            <p:nvPr/>
          </p:nvSpPr>
          <p:spPr>
            <a:xfrm>
              <a:off x="5851440" y="4438440"/>
              <a:ext cx="446760" cy="269280"/>
            </a:xfrm>
            <a:custGeom>
              <a:avLst/>
              <a:gdLst/>
              <a:ahLst/>
              <a:rect l="l" t="t" r="r" b="b"/>
              <a:pathLst>
                <a:path w="560315" h="337778">
                  <a:moveTo>
                    <a:pt x="0" y="0"/>
                  </a:moveTo>
                  <a:lnTo>
                    <a:pt x="560316" y="192733"/>
                  </a:lnTo>
                  <a:lnTo>
                    <a:pt x="174850" y="337779"/>
                  </a:lnTo>
                  <a:cubicBezTo>
                    <a:pt x="174850" y="252341"/>
                    <a:pt x="105307" y="158955"/>
                    <a:pt x="19869" y="131138"/>
                  </a:cubicBezTo>
                  <a:lnTo>
                    <a:pt x="7948" y="127164"/>
                  </a:lnTo>
                  <a:lnTo>
                    <a:pt x="7948" y="51660"/>
                  </a:lnTo>
                  <a:cubicBezTo>
                    <a:pt x="5961" y="33778"/>
                    <a:pt x="3974" y="17882"/>
                    <a:pt x="0" y="0"/>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4" name="Freeform: Shape 9"/>
            <p:cNvSpPr/>
            <p:nvPr/>
          </p:nvSpPr>
          <p:spPr>
            <a:xfrm>
              <a:off x="5990760" y="4577760"/>
              <a:ext cx="1091520" cy="391320"/>
            </a:xfrm>
            <a:custGeom>
              <a:avLst/>
              <a:gdLst/>
              <a:ahLst/>
              <a:rect l="l" t="t" r="r" b="b"/>
              <a:pathLst>
                <a:path w="1368998" h="490772">
                  <a:moveTo>
                    <a:pt x="208628" y="238432"/>
                  </a:moveTo>
                  <a:lnTo>
                    <a:pt x="854382" y="0"/>
                  </a:lnTo>
                  <a:lnTo>
                    <a:pt x="1368999" y="170877"/>
                  </a:lnTo>
                  <a:lnTo>
                    <a:pt x="725231" y="409309"/>
                  </a:lnTo>
                  <a:lnTo>
                    <a:pt x="516603" y="490773"/>
                  </a:lnTo>
                  <a:lnTo>
                    <a:pt x="0" y="319897"/>
                  </a:lnTo>
                  <a:lnTo>
                    <a:pt x="127164" y="270223"/>
                  </a:lnTo>
                  <a:lnTo>
                    <a:pt x="208628" y="238432"/>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5" name="Freeform: Shape 10"/>
            <p:cNvSpPr/>
            <p:nvPr/>
          </p:nvSpPr>
          <p:spPr>
            <a:xfrm>
              <a:off x="6570720" y="4577760"/>
              <a:ext cx="511560" cy="175680"/>
            </a:xfrm>
            <a:custGeom>
              <a:avLst/>
              <a:gdLst/>
              <a:ahLst/>
              <a:rect l="l" t="t" r="r" b="b"/>
              <a:pathLst>
                <a:path w="641780" h="220549">
                  <a:moveTo>
                    <a:pt x="514616" y="220550"/>
                  </a:moveTo>
                  <a:lnTo>
                    <a:pt x="641780" y="170877"/>
                  </a:lnTo>
                  <a:lnTo>
                    <a:pt x="127164" y="0"/>
                  </a:lnTo>
                  <a:lnTo>
                    <a:pt x="0" y="49673"/>
                  </a:lnTo>
                  <a:lnTo>
                    <a:pt x="514616" y="220550"/>
                  </a:lnTo>
                  <a:close/>
                </a:path>
              </a:pathLst>
            </a:custGeom>
            <a:solidFill>
              <a:srgbClr val="6633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6" name="Freeform: Shape 11"/>
            <p:cNvSpPr/>
            <p:nvPr/>
          </p:nvSpPr>
          <p:spPr>
            <a:xfrm>
              <a:off x="6402600" y="4046760"/>
              <a:ext cx="15840" cy="15840"/>
            </a:xfrm>
            <a:custGeom>
              <a:avLst/>
              <a:gdLst/>
              <a:ahLst/>
              <a:rect l="l" t="t" r="r" b="b"/>
              <a:pathLst>
                <a:path w="19869" h="19869">
                  <a:moveTo>
                    <a:pt x="0" y="0"/>
                  </a:moveTo>
                  <a:lnTo>
                    <a:pt x="0" y="0"/>
                  </a:lnTo>
                  <a:close/>
                </a:path>
              </a:pathLst>
            </a:custGeom>
            <a:solidFill>
              <a:srgbClr val="663300"/>
            </a:solidFill>
            <a:ln w="0">
              <a:noFill/>
            </a:ln>
          </p:spPr>
          <p:style>
            <a:lnRef idx="0"/>
            <a:fillRef idx="0"/>
            <a:effectRef idx="0"/>
            <a:fontRef idx="minor"/>
          </p:style>
          <p:txBody>
            <a:bodyPr lIns="90000" rIns="90000" tIns="-30960" bIns="-30960" anchor="ctr">
              <a:noAutofit/>
            </a:bodyPr>
            <a:p>
              <a:endParaRPr b="0" lang="en-US" sz="1800" spc="-1" strike="noStrike">
                <a:solidFill>
                  <a:srgbClr val="313c3f"/>
                </a:solidFill>
                <a:latin typeface="Source Sans Pro"/>
              </a:endParaRPr>
            </a:p>
          </p:txBody>
        </p:sp>
        <p:sp>
          <p:nvSpPr>
            <p:cNvPr id="2127" name="Freeform: Shape 12"/>
            <p:cNvSpPr/>
            <p:nvPr/>
          </p:nvSpPr>
          <p:spPr>
            <a:xfrm>
              <a:off x="6226920" y="4038840"/>
              <a:ext cx="310320" cy="285120"/>
            </a:xfrm>
            <a:custGeom>
              <a:avLst/>
              <a:gdLst/>
              <a:ahLst/>
              <a:rect l="l" t="t" r="r" b="b"/>
              <a:pathLst>
                <a:path w="389439" h="357648">
                  <a:moveTo>
                    <a:pt x="220550" y="9935"/>
                  </a:moveTo>
                  <a:lnTo>
                    <a:pt x="204654" y="3974"/>
                  </a:lnTo>
                  <a:lnTo>
                    <a:pt x="188759" y="1987"/>
                  </a:lnTo>
                  <a:lnTo>
                    <a:pt x="170876" y="0"/>
                  </a:lnTo>
                  <a:lnTo>
                    <a:pt x="156968" y="0"/>
                  </a:lnTo>
                  <a:lnTo>
                    <a:pt x="141072" y="3974"/>
                  </a:lnTo>
                  <a:lnTo>
                    <a:pt x="127164" y="7948"/>
                  </a:lnTo>
                  <a:lnTo>
                    <a:pt x="0" y="57621"/>
                  </a:lnTo>
                  <a:lnTo>
                    <a:pt x="13908" y="53647"/>
                  </a:lnTo>
                  <a:lnTo>
                    <a:pt x="29804" y="49673"/>
                  </a:lnTo>
                  <a:lnTo>
                    <a:pt x="45699" y="49673"/>
                  </a:lnTo>
                  <a:lnTo>
                    <a:pt x="61595" y="51660"/>
                  </a:lnTo>
                  <a:lnTo>
                    <a:pt x="77490" y="53647"/>
                  </a:lnTo>
                  <a:lnTo>
                    <a:pt x="95373" y="59608"/>
                  </a:lnTo>
                  <a:lnTo>
                    <a:pt x="111268" y="65569"/>
                  </a:lnTo>
                  <a:lnTo>
                    <a:pt x="129151" y="73517"/>
                  </a:lnTo>
                  <a:lnTo>
                    <a:pt x="145046" y="83451"/>
                  </a:lnTo>
                  <a:lnTo>
                    <a:pt x="158955" y="93386"/>
                  </a:lnTo>
                  <a:lnTo>
                    <a:pt x="174850" y="105308"/>
                  </a:lnTo>
                  <a:lnTo>
                    <a:pt x="188759" y="119216"/>
                  </a:lnTo>
                  <a:lnTo>
                    <a:pt x="200680" y="133125"/>
                  </a:lnTo>
                  <a:lnTo>
                    <a:pt x="212602" y="147033"/>
                  </a:lnTo>
                  <a:lnTo>
                    <a:pt x="224523" y="162929"/>
                  </a:lnTo>
                  <a:lnTo>
                    <a:pt x="232471" y="178824"/>
                  </a:lnTo>
                  <a:lnTo>
                    <a:pt x="242406" y="194720"/>
                  </a:lnTo>
                  <a:lnTo>
                    <a:pt x="248367" y="212602"/>
                  </a:lnTo>
                  <a:lnTo>
                    <a:pt x="254328" y="230485"/>
                  </a:lnTo>
                  <a:lnTo>
                    <a:pt x="258302" y="246380"/>
                  </a:lnTo>
                  <a:lnTo>
                    <a:pt x="260288" y="264262"/>
                  </a:lnTo>
                  <a:lnTo>
                    <a:pt x="262275" y="282145"/>
                  </a:lnTo>
                  <a:lnTo>
                    <a:pt x="262275" y="357648"/>
                  </a:lnTo>
                  <a:lnTo>
                    <a:pt x="389439" y="307975"/>
                  </a:lnTo>
                  <a:lnTo>
                    <a:pt x="389439" y="232472"/>
                  </a:lnTo>
                  <a:lnTo>
                    <a:pt x="387452" y="214589"/>
                  </a:lnTo>
                  <a:lnTo>
                    <a:pt x="385465" y="196707"/>
                  </a:lnTo>
                  <a:lnTo>
                    <a:pt x="381492" y="180811"/>
                  </a:lnTo>
                  <a:lnTo>
                    <a:pt x="375531" y="162929"/>
                  </a:lnTo>
                  <a:lnTo>
                    <a:pt x="369570" y="145046"/>
                  </a:lnTo>
                  <a:lnTo>
                    <a:pt x="359635" y="129151"/>
                  </a:lnTo>
                  <a:lnTo>
                    <a:pt x="349700" y="113255"/>
                  </a:lnTo>
                  <a:lnTo>
                    <a:pt x="339766" y="97360"/>
                  </a:lnTo>
                  <a:lnTo>
                    <a:pt x="327844" y="83451"/>
                  </a:lnTo>
                  <a:lnTo>
                    <a:pt x="315923" y="69543"/>
                  </a:lnTo>
                  <a:lnTo>
                    <a:pt x="302014" y="55634"/>
                  </a:lnTo>
                  <a:lnTo>
                    <a:pt x="286119" y="43713"/>
                  </a:lnTo>
                  <a:lnTo>
                    <a:pt x="270223" y="33778"/>
                  </a:lnTo>
                  <a:lnTo>
                    <a:pt x="254328" y="23843"/>
                  </a:lnTo>
                  <a:lnTo>
                    <a:pt x="238432" y="15896"/>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8" name="Freeform: Shape 13"/>
            <p:cNvSpPr/>
            <p:nvPr/>
          </p:nvSpPr>
          <p:spPr>
            <a:xfrm>
              <a:off x="6402600" y="4714200"/>
              <a:ext cx="679680" cy="354960"/>
            </a:xfrm>
            <a:custGeom>
              <a:avLst/>
              <a:gdLst/>
              <a:ahLst/>
              <a:rect l="l" t="t" r="r" b="b"/>
              <a:pathLst>
                <a:path w="852395" h="445073">
                  <a:moveTo>
                    <a:pt x="852396" y="125177"/>
                  </a:moveTo>
                  <a:lnTo>
                    <a:pt x="852396" y="0"/>
                  </a:lnTo>
                  <a:lnTo>
                    <a:pt x="290093" y="208628"/>
                  </a:lnTo>
                  <a:lnTo>
                    <a:pt x="127164" y="270223"/>
                  </a:lnTo>
                  <a:lnTo>
                    <a:pt x="0" y="319896"/>
                  </a:lnTo>
                  <a:lnTo>
                    <a:pt x="0" y="445073"/>
                  </a:lnTo>
                  <a:lnTo>
                    <a:pt x="852396" y="125177"/>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29" name="Freeform: Shape 14"/>
            <p:cNvSpPr/>
            <p:nvPr/>
          </p:nvSpPr>
          <p:spPr>
            <a:xfrm>
              <a:off x="6092280" y="4474800"/>
              <a:ext cx="532080" cy="193320"/>
            </a:xfrm>
            <a:custGeom>
              <a:avLst/>
              <a:gdLst/>
              <a:ahLst/>
              <a:rect l="l" t="t" r="r" b="b"/>
              <a:pathLst>
                <a:path w="667610" h="242406">
                  <a:moveTo>
                    <a:pt x="0" y="242406"/>
                  </a:moveTo>
                  <a:lnTo>
                    <a:pt x="667610" y="0"/>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30" name="Freeform: Shape 15"/>
            <p:cNvSpPr/>
            <p:nvPr/>
          </p:nvSpPr>
          <p:spPr>
            <a:xfrm>
              <a:off x="4141800" y="3441600"/>
              <a:ext cx="3935520" cy="1613520"/>
            </a:xfrm>
            <a:custGeom>
              <a:avLst/>
              <a:gdLst/>
              <a:ahLst/>
              <a:rect l="l" t="t" r="r" b="b"/>
              <a:pathLst>
                <a:path w="4935547" h="2022699">
                  <a:moveTo>
                    <a:pt x="0" y="242406"/>
                  </a:moveTo>
                  <a:lnTo>
                    <a:pt x="665623" y="0"/>
                  </a:lnTo>
                  <a:lnTo>
                    <a:pt x="2340610" y="697414"/>
                  </a:lnTo>
                  <a:lnTo>
                    <a:pt x="4935548" y="1780294"/>
                  </a:lnTo>
                  <a:lnTo>
                    <a:pt x="4267938" y="2022700"/>
                  </a:lnTo>
                  <a:lnTo>
                    <a:pt x="2016740" y="1082880"/>
                  </a:lnTo>
                  <a:lnTo>
                    <a:pt x="0" y="242406"/>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31" name="Freeform: Shape 16"/>
            <p:cNvSpPr/>
            <p:nvPr/>
          </p:nvSpPr>
          <p:spPr>
            <a:xfrm>
              <a:off x="7545240" y="4861800"/>
              <a:ext cx="532080" cy="337320"/>
            </a:xfrm>
            <a:custGeom>
              <a:avLst/>
              <a:gdLst/>
              <a:ahLst/>
              <a:rect l="l" t="t" r="r" b="b"/>
              <a:pathLst>
                <a:path w="667610" h="423216">
                  <a:moveTo>
                    <a:pt x="0" y="242406"/>
                  </a:moveTo>
                  <a:lnTo>
                    <a:pt x="667610" y="0"/>
                  </a:lnTo>
                  <a:lnTo>
                    <a:pt x="667610" y="180811"/>
                  </a:lnTo>
                  <a:lnTo>
                    <a:pt x="0" y="423217"/>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32" name="Freeform: Shape 17"/>
            <p:cNvSpPr/>
            <p:nvPr/>
          </p:nvSpPr>
          <p:spPr>
            <a:xfrm>
              <a:off x="4141800" y="3634920"/>
              <a:ext cx="3403440" cy="1564200"/>
            </a:xfrm>
            <a:custGeom>
              <a:avLst/>
              <a:gdLst/>
              <a:ahLst/>
              <a:rect l="l" t="t" r="r" b="b"/>
              <a:pathLst>
                <a:path w="4267937" h="1961104">
                  <a:moveTo>
                    <a:pt x="0" y="0"/>
                  </a:moveTo>
                  <a:lnTo>
                    <a:pt x="4267938" y="1780294"/>
                  </a:lnTo>
                  <a:lnTo>
                    <a:pt x="4267938" y="1961105"/>
                  </a:lnTo>
                  <a:lnTo>
                    <a:pt x="0" y="180811"/>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33" name="Freeform: Shape 18"/>
            <p:cNvSpPr/>
            <p:nvPr/>
          </p:nvSpPr>
          <p:spPr>
            <a:xfrm>
              <a:off x="5856120" y="4500360"/>
              <a:ext cx="242280" cy="332640"/>
            </a:xfrm>
            <a:custGeom>
              <a:avLst/>
              <a:gdLst/>
              <a:ahLst/>
              <a:rect l="l" t="t" r="r" b="b"/>
              <a:pathLst>
                <a:path w="304001" h="417256">
                  <a:moveTo>
                    <a:pt x="168890" y="260288"/>
                  </a:moveTo>
                  <a:lnTo>
                    <a:pt x="168890" y="325857"/>
                  </a:lnTo>
                  <a:lnTo>
                    <a:pt x="168890" y="417256"/>
                  </a:lnTo>
                  <a:lnTo>
                    <a:pt x="304001" y="365596"/>
                  </a:lnTo>
                  <a:lnTo>
                    <a:pt x="296053" y="194720"/>
                  </a:lnTo>
                  <a:lnTo>
                    <a:pt x="292080" y="178824"/>
                  </a:lnTo>
                  <a:lnTo>
                    <a:pt x="290093" y="162929"/>
                  </a:lnTo>
                  <a:lnTo>
                    <a:pt x="284132" y="147033"/>
                  </a:lnTo>
                  <a:lnTo>
                    <a:pt x="278171" y="131138"/>
                  </a:lnTo>
                  <a:lnTo>
                    <a:pt x="270223" y="115242"/>
                  </a:lnTo>
                  <a:lnTo>
                    <a:pt x="260289" y="101334"/>
                  </a:lnTo>
                  <a:lnTo>
                    <a:pt x="250354" y="85438"/>
                  </a:lnTo>
                  <a:lnTo>
                    <a:pt x="240419" y="73517"/>
                  </a:lnTo>
                  <a:lnTo>
                    <a:pt x="228498" y="59608"/>
                  </a:lnTo>
                  <a:lnTo>
                    <a:pt x="214589" y="47686"/>
                  </a:lnTo>
                  <a:lnTo>
                    <a:pt x="200681" y="35765"/>
                  </a:lnTo>
                  <a:lnTo>
                    <a:pt x="186772" y="25830"/>
                  </a:lnTo>
                  <a:lnTo>
                    <a:pt x="172863" y="17882"/>
                  </a:lnTo>
                  <a:lnTo>
                    <a:pt x="156968" y="9935"/>
                  </a:lnTo>
                  <a:lnTo>
                    <a:pt x="141073" y="3974"/>
                  </a:lnTo>
                  <a:lnTo>
                    <a:pt x="127164" y="0"/>
                  </a:lnTo>
                  <a:lnTo>
                    <a:pt x="0" y="49673"/>
                  </a:lnTo>
                  <a:lnTo>
                    <a:pt x="13909" y="53647"/>
                  </a:lnTo>
                  <a:lnTo>
                    <a:pt x="29804" y="59608"/>
                  </a:lnTo>
                  <a:lnTo>
                    <a:pt x="45700" y="67556"/>
                  </a:lnTo>
                  <a:lnTo>
                    <a:pt x="59608" y="75503"/>
                  </a:lnTo>
                  <a:lnTo>
                    <a:pt x="73517" y="85438"/>
                  </a:lnTo>
                  <a:lnTo>
                    <a:pt x="87425" y="97360"/>
                  </a:lnTo>
                  <a:lnTo>
                    <a:pt x="101334" y="109281"/>
                  </a:lnTo>
                  <a:lnTo>
                    <a:pt x="113255" y="123190"/>
                  </a:lnTo>
                  <a:lnTo>
                    <a:pt x="123190" y="135112"/>
                  </a:lnTo>
                  <a:lnTo>
                    <a:pt x="133125" y="151007"/>
                  </a:lnTo>
                  <a:lnTo>
                    <a:pt x="143059" y="164916"/>
                  </a:lnTo>
                  <a:lnTo>
                    <a:pt x="151007" y="180811"/>
                  </a:lnTo>
                  <a:lnTo>
                    <a:pt x="156968" y="196706"/>
                  </a:lnTo>
                  <a:lnTo>
                    <a:pt x="162929" y="212602"/>
                  </a:lnTo>
                  <a:lnTo>
                    <a:pt x="166903" y="228498"/>
                  </a:lnTo>
                  <a:lnTo>
                    <a:pt x="168890" y="244393"/>
                  </a:lnTo>
                  <a:lnTo>
                    <a:pt x="168890" y="260288"/>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34" name="Freeform: Shape 19"/>
            <p:cNvSpPr/>
            <p:nvPr/>
          </p:nvSpPr>
          <p:spPr>
            <a:xfrm>
              <a:off x="5990760" y="4668120"/>
              <a:ext cx="101160" cy="39600"/>
            </a:xfrm>
            <a:custGeom>
              <a:avLst/>
              <a:gdLst/>
              <a:ahLst/>
              <a:rect l="l" t="t" r="r" b="b"/>
              <a:pathLst>
                <a:path w="127163" h="49673">
                  <a:moveTo>
                    <a:pt x="0" y="49673"/>
                  </a:moveTo>
                  <a:lnTo>
                    <a:pt x="127164" y="0"/>
                  </a:lnTo>
                  <a:lnTo>
                    <a:pt x="0" y="49673"/>
                  </a:lnTo>
                  <a:close/>
                </a:path>
              </a:pathLst>
            </a:custGeom>
            <a:solidFill>
              <a:srgbClr val="994f14"/>
            </a:solidFill>
            <a:ln w="0">
              <a:noFill/>
            </a:ln>
          </p:spPr>
          <p:style>
            <a:lnRef idx="0"/>
            <a:fillRef idx="0"/>
            <a:effectRef idx="0"/>
            <a:fontRef idx="minor"/>
          </p:style>
          <p:txBody>
            <a:bodyPr lIns="90000" rIns="90000" tIns="-7200" bIns="-7200" anchor="ctr">
              <a:noAutofit/>
            </a:bodyPr>
            <a:p>
              <a:endParaRPr b="0" lang="en-US" sz="1800" spc="-1" strike="noStrike">
                <a:solidFill>
                  <a:srgbClr val="313c3f"/>
                </a:solidFill>
                <a:latin typeface="Source Sans Pro"/>
              </a:endParaRPr>
            </a:p>
          </p:txBody>
        </p:sp>
        <p:sp>
          <p:nvSpPr>
            <p:cNvPr id="2135" name="Freeform: Shape 20"/>
            <p:cNvSpPr/>
            <p:nvPr/>
          </p:nvSpPr>
          <p:spPr>
            <a:xfrm>
              <a:off x="5824440" y="4262400"/>
              <a:ext cx="15840" cy="15840"/>
            </a:xfrm>
            <a:custGeom>
              <a:avLst/>
              <a:gdLst/>
              <a:ahLst/>
              <a:rect l="l" t="t" r="r" b="b"/>
              <a:pathLst>
                <a:path w="19869" h="19869">
                  <a:moveTo>
                    <a:pt x="0" y="0"/>
                  </a:moveTo>
                  <a:lnTo>
                    <a:pt x="0" y="0"/>
                  </a:lnTo>
                  <a:close/>
                </a:path>
              </a:pathLst>
            </a:custGeom>
            <a:solidFill>
              <a:srgbClr val="994f14"/>
            </a:solidFill>
            <a:ln w="0">
              <a:noFill/>
            </a:ln>
          </p:spPr>
          <p:style>
            <a:lnRef idx="0"/>
            <a:fillRef idx="0"/>
            <a:effectRef idx="0"/>
            <a:fontRef idx="minor"/>
          </p:style>
          <p:txBody>
            <a:bodyPr lIns="90000" rIns="90000" tIns="-30960" bIns="-30960" anchor="ctr">
              <a:noAutofit/>
            </a:bodyPr>
            <a:p>
              <a:endParaRPr b="0" lang="en-US" sz="1800" spc="-1" strike="noStrike">
                <a:solidFill>
                  <a:srgbClr val="313c3f"/>
                </a:solidFill>
                <a:latin typeface="Source Sans Pro"/>
              </a:endParaRPr>
            </a:p>
          </p:txBody>
        </p:sp>
        <p:sp>
          <p:nvSpPr>
            <p:cNvPr id="2136" name="Freeform: Shape 21"/>
            <p:cNvSpPr/>
            <p:nvPr/>
          </p:nvSpPr>
          <p:spPr>
            <a:xfrm>
              <a:off x="5648400" y="4254480"/>
              <a:ext cx="308880" cy="285120"/>
            </a:xfrm>
            <a:custGeom>
              <a:avLst/>
              <a:gdLst/>
              <a:ahLst/>
              <a:rect l="l" t="t" r="r" b="b"/>
              <a:pathLst>
                <a:path w="387452" h="357648">
                  <a:moveTo>
                    <a:pt x="220550" y="9935"/>
                  </a:moveTo>
                  <a:lnTo>
                    <a:pt x="202668" y="3974"/>
                  </a:lnTo>
                  <a:lnTo>
                    <a:pt x="186772" y="1987"/>
                  </a:lnTo>
                  <a:lnTo>
                    <a:pt x="170876" y="0"/>
                  </a:lnTo>
                  <a:lnTo>
                    <a:pt x="154981" y="0"/>
                  </a:lnTo>
                  <a:lnTo>
                    <a:pt x="141072" y="1987"/>
                  </a:lnTo>
                  <a:lnTo>
                    <a:pt x="127164" y="5961"/>
                  </a:lnTo>
                  <a:lnTo>
                    <a:pt x="0" y="55634"/>
                  </a:lnTo>
                  <a:lnTo>
                    <a:pt x="13909" y="51660"/>
                  </a:lnTo>
                  <a:lnTo>
                    <a:pt x="27817" y="49673"/>
                  </a:lnTo>
                  <a:lnTo>
                    <a:pt x="43713" y="49673"/>
                  </a:lnTo>
                  <a:lnTo>
                    <a:pt x="59608" y="51660"/>
                  </a:lnTo>
                  <a:lnTo>
                    <a:pt x="77491" y="53647"/>
                  </a:lnTo>
                  <a:lnTo>
                    <a:pt x="93386" y="59608"/>
                  </a:lnTo>
                  <a:lnTo>
                    <a:pt x="111268" y="65569"/>
                  </a:lnTo>
                  <a:lnTo>
                    <a:pt x="127164" y="73517"/>
                  </a:lnTo>
                  <a:lnTo>
                    <a:pt x="143059" y="83451"/>
                  </a:lnTo>
                  <a:lnTo>
                    <a:pt x="158955" y="93386"/>
                  </a:lnTo>
                  <a:lnTo>
                    <a:pt x="172863" y="105307"/>
                  </a:lnTo>
                  <a:lnTo>
                    <a:pt x="186772" y="119216"/>
                  </a:lnTo>
                  <a:lnTo>
                    <a:pt x="200680" y="133125"/>
                  </a:lnTo>
                  <a:lnTo>
                    <a:pt x="212602" y="147033"/>
                  </a:lnTo>
                  <a:lnTo>
                    <a:pt x="222537" y="162929"/>
                  </a:lnTo>
                  <a:lnTo>
                    <a:pt x="232472" y="178824"/>
                  </a:lnTo>
                  <a:lnTo>
                    <a:pt x="240419" y="194720"/>
                  </a:lnTo>
                  <a:lnTo>
                    <a:pt x="248367" y="212602"/>
                  </a:lnTo>
                  <a:lnTo>
                    <a:pt x="254328" y="230484"/>
                  </a:lnTo>
                  <a:lnTo>
                    <a:pt x="258302" y="246380"/>
                  </a:lnTo>
                  <a:lnTo>
                    <a:pt x="260289" y="264262"/>
                  </a:lnTo>
                  <a:lnTo>
                    <a:pt x="260289" y="282145"/>
                  </a:lnTo>
                  <a:lnTo>
                    <a:pt x="260289" y="357648"/>
                  </a:lnTo>
                  <a:lnTo>
                    <a:pt x="387452" y="307975"/>
                  </a:lnTo>
                  <a:lnTo>
                    <a:pt x="387452" y="232471"/>
                  </a:lnTo>
                  <a:lnTo>
                    <a:pt x="387452" y="214589"/>
                  </a:lnTo>
                  <a:lnTo>
                    <a:pt x="385466" y="196706"/>
                  </a:lnTo>
                  <a:lnTo>
                    <a:pt x="381492" y="180811"/>
                  </a:lnTo>
                  <a:lnTo>
                    <a:pt x="375531" y="162929"/>
                  </a:lnTo>
                  <a:lnTo>
                    <a:pt x="367583" y="145046"/>
                  </a:lnTo>
                  <a:lnTo>
                    <a:pt x="359635" y="129151"/>
                  </a:lnTo>
                  <a:lnTo>
                    <a:pt x="349701" y="113255"/>
                  </a:lnTo>
                  <a:lnTo>
                    <a:pt x="339766" y="97360"/>
                  </a:lnTo>
                  <a:lnTo>
                    <a:pt x="327844" y="83451"/>
                  </a:lnTo>
                  <a:lnTo>
                    <a:pt x="313936" y="69543"/>
                  </a:lnTo>
                  <a:lnTo>
                    <a:pt x="300027" y="55634"/>
                  </a:lnTo>
                  <a:lnTo>
                    <a:pt x="286119" y="43713"/>
                  </a:lnTo>
                  <a:lnTo>
                    <a:pt x="270223" y="33778"/>
                  </a:lnTo>
                  <a:lnTo>
                    <a:pt x="254328" y="23843"/>
                  </a:lnTo>
                  <a:lnTo>
                    <a:pt x="238432" y="15895"/>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37" name="Freeform: Shape 22"/>
            <p:cNvSpPr/>
            <p:nvPr/>
          </p:nvSpPr>
          <p:spPr>
            <a:xfrm>
              <a:off x="5510520" y="4402080"/>
              <a:ext cx="180360" cy="48960"/>
            </a:xfrm>
            <a:custGeom>
              <a:avLst/>
              <a:gdLst/>
              <a:ahLst/>
              <a:rect l="l" t="t" r="r" b="b"/>
              <a:pathLst>
                <a:path w="226510" h="61594">
                  <a:moveTo>
                    <a:pt x="99347" y="61595"/>
                  </a:moveTo>
                  <a:lnTo>
                    <a:pt x="226511" y="11922"/>
                  </a:lnTo>
                  <a:lnTo>
                    <a:pt x="212602" y="7948"/>
                  </a:lnTo>
                  <a:lnTo>
                    <a:pt x="196707" y="3974"/>
                  </a:lnTo>
                  <a:lnTo>
                    <a:pt x="180811" y="0"/>
                  </a:lnTo>
                  <a:lnTo>
                    <a:pt x="166903" y="0"/>
                  </a:lnTo>
                  <a:lnTo>
                    <a:pt x="152994" y="0"/>
                  </a:lnTo>
                  <a:lnTo>
                    <a:pt x="139085" y="1987"/>
                  </a:lnTo>
                  <a:lnTo>
                    <a:pt x="127164" y="5961"/>
                  </a:lnTo>
                  <a:lnTo>
                    <a:pt x="0" y="55634"/>
                  </a:lnTo>
                  <a:lnTo>
                    <a:pt x="11922" y="51660"/>
                  </a:lnTo>
                  <a:lnTo>
                    <a:pt x="25830" y="49673"/>
                  </a:lnTo>
                  <a:lnTo>
                    <a:pt x="39739" y="49673"/>
                  </a:lnTo>
                  <a:lnTo>
                    <a:pt x="55634" y="49673"/>
                  </a:lnTo>
                  <a:lnTo>
                    <a:pt x="69543" y="53647"/>
                  </a:lnTo>
                  <a:lnTo>
                    <a:pt x="85438" y="57621"/>
                  </a:lnTo>
                  <a:lnTo>
                    <a:pt x="99347" y="61595"/>
                  </a:lnTo>
                  <a:close/>
                </a:path>
              </a:pathLst>
            </a:custGeom>
            <a:solidFill>
              <a:srgbClr val="80562c"/>
            </a:solidFill>
            <a:ln w="0">
              <a:noFill/>
            </a:ln>
          </p:spPr>
          <p:style>
            <a:lnRef idx="0"/>
            <a:fillRef idx="0"/>
            <a:effectRef idx="0"/>
            <a:fontRef idx="minor"/>
          </p:style>
          <p:txBody>
            <a:bodyPr lIns="90000" rIns="90000" tIns="2160" bIns="2160" anchor="ctr">
              <a:noAutofit/>
            </a:bodyPr>
            <a:p>
              <a:endParaRPr b="0" lang="en-US" sz="1800" spc="-1" strike="noStrike">
                <a:solidFill>
                  <a:srgbClr val="313c3f"/>
                </a:solidFill>
                <a:latin typeface="Source Sans Pro"/>
              </a:endParaRPr>
            </a:p>
          </p:txBody>
        </p:sp>
        <p:sp>
          <p:nvSpPr>
            <p:cNvPr id="2138" name="Freeform: Shape 23"/>
            <p:cNvSpPr/>
            <p:nvPr/>
          </p:nvSpPr>
          <p:spPr>
            <a:xfrm>
              <a:off x="5046480" y="4296960"/>
              <a:ext cx="1357560" cy="774000"/>
            </a:xfrm>
            <a:custGeom>
              <a:avLst/>
              <a:gdLst/>
              <a:ahLst/>
              <a:rect l="l" t="t" r="r" b="b"/>
              <a:pathLst>
                <a:path w="1702803" h="970326">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39" name="Freeform: Shape 24"/>
            <p:cNvSpPr/>
            <p:nvPr/>
          </p:nvSpPr>
          <p:spPr>
            <a:xfrm>
              <a:off x="5667480" y="4345200"/>
              <a:ext cx="107640" cy="112320"/>
            </a:xfrm>
            <a:custGeom>
              <a:avLst/>
              <a:gdLst/>
              <a:ahLst/>
              <a:rect l="l" t="t" r="r" b="b"/>
              <a:pathLst>
                <a:path w="135111" h="141035">
                  <a:moveTo>
                    <a:pt x="67556" y="3466"/>
                  </a:moveTo>
                  <a:cubicBezTo>
                    <a:pt x="105307" y="15388"/>
                    <a:pt x="135112" y="55126"/>
                    <a:pt x="135112" y="92878"/>
                  </a:cubicBezTo>
                  <a:cubicBezTo>
                    <a:pt x="135112" y="130630"/>
                    <a:pt x="105307" y="150499"/>
                    <a:pt x="67556" y="136591"/>
                  </a:cubicBezTo>
                  <a:cubicBezTo>
                    <a:pt x="29804" y="124669"/>
                    <a:pt x="0" y="84930"/>
                    <a:pt x="0" y="47179"/>
                  </a:cubicBezTo>
                  <a:cubicBezTo>
                    <a:pt x="0" y="11414"/>
                    <a:pt x="29804" y="-8456"/>
                    <a:pt x="67556" y="346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140" name="Graphic 2"/>
          <p:cNvGrpSpPr/>
          <p:nvPr/>
        </p:nvGrpSpPr>
        <p:grpSpPr>
          <a:xfrm>
            <a:off x="4332240" y="2747880"/>
            <a:ext cx="812880" cy="979560"/>
            <a:chOff x="4332240" y="2747880"/>
            <a:chExt cx="812880" cy="979560"/>
          </a:xfrm>
        </p:grpSpPr>
        <p:sp>
          <p:nvSpPr>
            <p:cNvPr id="2141" name="Freeform: Shape 144"/>
            <p:cNvSpPr/>
            <p:nvPr/>
          </p:nvSpPr>
          <p:spPr>
            <a:xfrm>
              <a:off x="4332240" y="2747880"/>
              <a:ext cx="812880" cy="979560"/>
            </a:xfrm>
            <a:custGeom>
              <a:avLst/>
              <a:gdLst/>
              <a:ahLst/>
              <a:rect l="l" t="t" r="r" b="b"/>
              <a:pathLst>
                <a:path w="1067906" h="1286958">
                  <a:moveTo>
                    <a:pt x="661383" y="329910"/>
                  </a:moveTo>
                  <a:cubicBezTo>
                    <a:pt x="895134" y="420596"/>
                    <a:pt x="1067907" y="738779"/>
                    <a:pt x="1067907" y="966276"/>
                  </a:cubicBezTo>
                  <a:cubicBezTo>
                    <a:pt x="1067907" y="1112469"/>
                    <a:pt x="978784" y="1228172"/>
                    <a:pt x="866209" y="1269606"/>
                  </a:cubicBezTo>
                  <a:cubicBezTo>
                    <a:pt x="772395" y="1304004"/>
                    <a:pt x="666856" y="1276642"/>
                    <a:pt x="532390" y="1276642"/>
                  </a:cubicBezTo>
                  <a:cubicBezTo>
                    <a:pt x="406524" y="1276642"/>
                    <a:pt x="290039" y="1295404"/>
                    <a:pt x="199353" y="1269606"/>
                  </a:cubicBezTo>
                  <a:cubicBezTo>
                    <a:pt x="75832" y="1235208"/>
                    <a:pt x="0" y="1140613"/>
                    <a:pt x="0" y="1011619"/>
                  </a:cubicBezTo>
                  <a:cubicBezTo>
                    <a:pt x="0" y="687964"/>
                    <a:pt x="143065" y="530827"/>
                    <a:pt x="424505" y="329910"/>
                  </a:cubicBezTo>
                  <a:cubicBezTo>
                    <a:pt x="497210" y="278313"/>
                    <a:pt x="340855" y="122739"/>
                    <a:pt x="295512" y="65669"/>
                  </a:cubicBezTo>
                  <a:cubicBezTo>
                    <a:pt x="284567" y="51597"/>
                    <a:pt x="256423" y="25799"/>
                    <a:pt x="284567" y="32053"/>
                  </a:cubicBezTo>
                  <a:cubicBezTo>
                    <a:pt x="359617" y="50034"/>
                    <a:pt x="423723" y="43780"/>
                    <a:pt x="489392" y="14854"/>
                  </a:cubicBezTo>
                  <a:cubicBezTo>
                    <a:pt x="546462" y="11727"/>
                    <a:pt x="534735" y="91468"/>
                    <a:pt x="655129" y="37525"/>
                  </a:cubicBezTo>
                  <a:cubicBezTo>
                    <a:pt x="766141" y="-11727"/>
                    <a:pt x="711417" y="58633"/>
                    <a:pt x="836501" y="0"/>
                  </a:cubicBezTo>
                  <a:cubicBezTo>
                    <a:pt x="809139" y="50816"/>
                    <a:pt x="806012" y="67233"/>
                    <a:pt x="741906" y="103195"/>
                  </a:cubicBezTo>
                  <a:cubicBezTo>
                    <a:pt x="678582" y="139156"/>
                    <a:pt x="626203" y="197008"/>
                    <a:pt x="634021" y="258768"/>
                  </a:cubicBezTo>
                  <a:cubicBezTo>
                    <a:pt x="639493" y="298639"/>
                    <a:pt x="641839" y="294730"/>
                    <a:pt x="661383" y="329910"/>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42" name="Freeform: Shape 145"/>
            <p:cNvSpPr/>
            <p:nvPr/>
          </p:nvSpPr>
          <p:spPr>
            <a:xfrm>
              <a:off x="4572000" y="2788920"/>
              <a:ext cx="537480" cy="903960"/>
            </a:xfrm>
            <a:custGeom>
              <a:avLst/>
              <a:gdLst/>
              <a:ahLst/>
              <a:rect l="l" t="t" r="r" b="b"/>
              <a:pathLst>
                <a:path w="705944" h="1187519">
                  <a:moveTo>
                    <a:pt x="426850" y="4691"/>
                  </a:moveTo>
                  <a:cubicBezTo>
                    <a:pt x="420596" y="3909"/>
                    <a:pt x="413560" y="2345"/>
                    <a:pt x="407306" y="782"/>
                  </a:cubicBezTo>
                  <a:cubicBezTo>
                    <a:pt x="405742" y="782"/>
                    <a:pt x="404960" y="0"/>
                    <a:pt x="403397" y="0"/>
                  </a:cubicBezTo>
                  <a:cubicBezTo>
                    <a:pt x="394797" y="0"/>
                    <a:pt x="370562" y="10945"/>
                    <a:pt x="363526" y="14072"/>
                  </a:cubicBezTo>
                  <a:cubicBezTo>
                    <a:pt x="336164" y="26580"/>
                    <a:pt x="304893" y="36744"/>
                    <a:pt x="272840" y="37525"/>
                  </a:cubicBezTo>
                  <a:cubicBezTo>
                    <a:pt x="232188" y="71923"/>
                    <a:pt x="204044" y="115703"/>
                    <a:pt x="210298" y="161828"/>
                  </a:cubicBezTo>
                  <a:cubicBezTo>
                    <a:pt x="214989" y="202480"/>
                    <a:pt x="217334" y="197790"/>
                    <a:pt x="236878" y="232970"/>
                  </a:cubicBezTo>
                  <a:cubicBezTo>
                    <a:pt x="252514" y="239224"/>
                    <a:pt x="268149" y="246260"/>
                    <a:pt x="283785" y="254078"/>
                  </a:cubicBezTo>
                  <a:cubicBezTo>
                    <a:pt x="278313" y="242351"/>
                    <a:pt x="275967" y="230624"/>
                    <a:pt x="272840" y="208734"/>
                  </a:cubicBezTo>
                  <a:cubicBezTo>
                    <a:pt x="264241" y="133684"/>
                    <a:pt x="322874" y="64887"/>
                    <a:pt x="399488" y="21890"/>
                  </a:cubicBezTo>
                  <a:cubicBezTo>
                    <a:pt x="410433" y="14854"/>
                    <a:pt x="419814" y="9381"/>
                    <a:pt x="426850" y="4691"/>
                  </a:cubicBezTo>
                  <a:close/>
                  <a:moveTo>
                    <a:pt x="0" y="1176574"/>
                  </a:moveTo>
                  <a:cubicBezTo>
                    <a:pt x="75051" y="1186737"/>
                    <a:pt x="154010" y="1187519"/>
                    <a:pt x="216552" y="1187519"/>
                  </a:cubicBezTo>
                  <a:cubicBezTo>
                    <a:pt x="492519" y="1187519"/>
                    <a:pt x="705944" y="1155466"/>
                    <a:pt x="705944" y="912334"/>
                  </a:cubicBezTo>
                  <a:cubicBezTo>
                    <a:pt x="705944" y="819302"/>
                    <a:pt x="677019" y="720017"/>
                    <a:pt x="635584" y="633239"/>
                  </a:cubicBezTo>
                  <a:cubicBezTo>
                    <a:pt x="594932" y="547244"/>
                    <a:pt x="523009" y="437795"/>
                    <a:pt x="426068" y="364308"/>
                  </a:cubicBezTo>
                  <a:cubicBezTo>
                    <a:pt x="558189" y="503464"/>
                    <a:pt x="643402" y="708290"/>
                    <a:pt x="643402" y="868554"/>
                  </a:cubicBezTo>
                  <a:cubicBezTo>
                    <a:pt x="643402" y="1136704"/>
                    <a:pt x="403397" y="1178920"/>
                    <a:pt x="107885" y="1178920"/>
                  </a:cubicBezTo>
                  <a:cubicBezTo>
                    <a:pt x="71142" y="1178920"/>
                    <a:pt x="35180" y="1178138"/>
                    <a:pt x="0" y="117657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43" name="Freeform: Shape 146"/>
            <p:cNvSpPr/>
            <p:nvPr/>
          </p:nvSpPr>
          <p:spPr>
            <a:xfrm>
              <a:off x="4715640" y="2971800"/>
              <a:ext cx="50040" cy="185760"/>
            </a:xfrm>
            <a:custGeom>
              <a:avLst/>
              <a:gdLst/>
              <a:ahLst/>
              <a:rect l="l" t="t" r="r" b="b"/>
              <a:pathLst>
                <a:path w="65893" h="244161">
                  <a:moveTo>
                    <a:pt x="21537" y="500"/>
                  </a:moveTo>
                  <a:cubicBezTo>
                    <a:pt x="41081" y="2845"/>
                    <a:pt x="74698" y="204543"/>
                    <a:pt x="63753" y="220961"/>
                  </a:cubicBezTo>
                  <a:cubicBezTo>
                    <a:pt x="47335" y="247541"/>
                    <a:pt x="27791" y="257704"/>
                    <a:pt x="23100" y="216270"/>
                  </a:cubicBezTo>
                  <a:cubicBezTo>
                    <a:pt x="19191" y="177181"/>
                    <a:pt x="-7389" y="29425"/>
                    <a:pt x="1992" y="3627"/>
                  </a:cubicBezTo>
                  <a:cubicBezTo>
                    <a:pt x="3556" y="-1846"/>
                    <a:pt x="20755" y="500"/>
                    <a:pt x="21537" y="50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44" name="Freeform: Shape 147"/>
            <p:cNvSpPr/>
            <p:nvPr/>
          </p:nvSpPr>
          <p:spPr>
            <a:xfrm>
              <a:off x="4616640" y="2956680"/>
              <a:ext cx="230760" cy="29520"/>
            </a:xfrm>
            <a:custGeom>
              <a:avLst/>
              <a:gdLst/>
              <a:ahLst/>
              <a:rect l="l" t="t" r="r" b="b"/>
              <a:pathLst>
                <a:path w="303478" h="39088">
                  <a:moveTo>
                    <a:pt x="14146" y="0"/>
                  </a:moveTo>
                  <a:lnTo>
                    <a:pt x="291677" y="13290"/>
                  </a:lnTo>
                  <a:cubicBezTo>
                    <a:pt x="298713" y="13290"/>
                    <a:pt x="304186" y="19544"/>
                    <a:pt x="303404" y="26580"/>
                  </a:cubicBezTo>
                  <a:cubicBezTo>
                    <a:pt x="302622" y="33616"/>
                    <a:pt x="296368" y="39089"/>
                    <a:pt x="289332" y="39089"/>
                  </a:cubicBezTo>
                  <a:lnTo>
                    <a:pt x="11801" y="25799"/>
                  </a:lnTo>
                  <a:cubicBezTo>
                    <a:pt x="4765" y="25799"/>
                    <a:pt x="-707" y="19544"/>
                    <a:pt x="74" y="12508"/>
                  </a:cubicBezTo>
                  <a:cubicBezTo>
                    <a:pt x="856" y="5472"/>
                    <a:pt x="7110" y="0"/>
                    <a:pt x="14146"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13c3f"/>
                </a:solidFill>
                <a:latin typeface="Source Sans Pro"/>
              </a:endParaRPr>
            </a:p>
          </p:txBody>
        </p:sp>
        <p:sp>
          <p:nvSpPr>
            <p:cNvPr id="2145" name="Freeform: Shape 148"/>
            <p:cNvSpPr/>
            <p:nvPr/>
          </p:nvSpPr>
          <p:spPr>
            <a:xfrm>
              <a:off x="4610520" y="2941560"/>
              <a:ext cx="228960" cy="59760"/>
            </a:xfrm>
            <a:custGeom>
              <a:avLst/>
              <a:gdLst/>
              <a:ahLst/>
              <a:rect l="l" t="t" r="r" b="b"/>
              <a:pathLst>
                <a:path w="300751" h="78780">
                  <a:moveTo>
                    <a:pt x="8248" y="53462"/>
                  </a:moveTo>
                  <a:lnTo>
                    <a:pt x="279525" y="301"/>
                  </a:lnTo>
                  <a:cubicBezTo>
                    <a:pt x="286561" y="-1262"/>
                    <a:pt x="295942" y="3428"/>
                    <a:pt x="299069" y="10464"/>
                  </a:cubicBezTo>
                  <a:cubicBezTo>
                    <a:pt x="302978" y="17500"/>
                    <a:pt x="299851" y="23755"/>
                    <a:pt x="292033" y="25318"/>
                  </a:cubicBezTo>
                  <a:lnTo>
                    <a:pt x="20757" y="78479"/>
                  </a:lnTo>
                  <a:cubicBezTo>
                    <a:pt x="13721" y="80043"/>
                    <a:pt x="4339" y="75352"/>
                    <a:pt x="1212" y="68316"/>
                  </a:cubicBezTo>
                  <a:cubicBezTo>
                    <a:pt x="-1915" y="61280"/>
                    <a:pt x="1212" y="55026"/>
                    <a:pt x="8248" y="53462"/>
                  </a:cubicBezTo>
                  <a:close/>
                </a:path>
              </a:pathLst>
            </a:custGeom>
            <a:solidFill>
              <a:srgbClr val="666666"/>
            </a:solidFill>
            <a:ln w="0">
              <a:noFill/>
            </a:ln>
          </p:spPr>
          <p:style>
            <a:lnRef idx="0"/>
            <a:fillRef idx="0"/>
            <a:effectRef idx="0"/>
            <a:fontRef idx="minor"/>
          </p:style>
          <p:txBody>
            <a:bodyPr lIns="90000" rIns="90000" tIns="12960" bIns="12960" anchor="ctr">
              <a:noAutofit/>
            </a:bodyPr>
            <a:p>
              <a:endParaRPr b="0" lang="en-US" sz="1800" spc="-1" strike="noStrike">
                <a:solidFill>
                  <a:srgbClr val="313c3f"/>
                </a:solidFill>
                <a:latin typeface="Source Sans Pro"/>
              </a:endParaRPr>
            </a:p>
          </p:txBody>
        </p:sp>
        <p:sp>
          <p:nvSpPr>
            <p:cNvPr id="2146" name="Freeform: Shape 149"/>
            <p:cNvSpPr/>
            <p:nvPr/>
          </p:nvSpPr>
          <p:spPr>
            <a:xfrm>
              <a:off x="4720680" y="2972880"/>
              <a:ext cx="176760" cy="55800"/>
            </a:xfrm>
            <a:custGeom>
              <a:avLst/>
              <a:gdLst/>
              <a:ahLst/>
              <a:rect l="l" t="t" r="r" b="b"/>
              <a:pathLst>
                <a:path w="232362" h="73444">
                  <a:moveTo>
                    <a:pt x="149544" y="72339"/>
                  </a:moveTo>
                  <a:cubicBezTo>
                    <a:pt x="141726" y="73121"/>
                    <a:pt x="134690" y="73903"/>
                    <a:pt x="126091" y="73121"/>
                  </a:cubicBezTo>
                  <a:lnTo>
                    <a:pt x="126091" y="55922"/>
                  </a:lnTo>
                  <a:cubicBezTo>
                    <a:pt x="132345" y="56704"/>
                    <a:pt x="138599" y="56704"/>
                    <a:pt x="144854" y="55922"/>
                  </a:cubicBezTo>
                  <a:cubicBezTo>
                    <a:pt x="154235" y="54358"/>
                    <a:pt x="205050" y="46540"/>
                    <a:pt x="210523" y="39504"/>
                  </a:cubicBezTo>
                  <a:cubicBezTo>
                    <a:pt x="210523" y="39504"/>
                    <a:pt x="210523" y="38723"/>
                    <a:pt x="210523" y="38723"/>
                  </a:cubicBezTo>
                  <a:cubicBezTo>
                    <a:pt x="208959" y="33250"/>
                    <a:pt x="201141" y="28560"/>
                    <a:pt x="194887" y="26996"/>
                  </a:cubicBezTo>
                  <a:cubicBezTo>
                    <a:pt x="177688" y="20742"/>
                    <a:pt x="155017" y="22305"/>
                    <a:pt x="137036" y="24651"/>
                  </a:cubicBezTo>
                  <a:cubicBezTo>
                    <a:pt x="133909" y="25432"/>
                    <a:pt x="130000" y="25432"/>
                    <a:pt x="126091" y="26214"/>
                  </a:cubicBezTo>
                  <a:lnTo>
                    <a:pt x="126091" y="9015"/>
                  </a:lnTo>
                  <a:cubicBezTo>
                    <a:pt x="128436" y="9015"/>
                    <a:pt x="130000" y="8233"/>
                    <a:pt x="132345" y="8233"/>
                  </a:cubicBezTo>
                  <a:cubicBezTo>
                    <a:pt x="194887" y="-1148"/>
                    <a:pt x="226940" y="17615"/>
                    <a:pt x="231631" y="35596"/>
                  </a:cubicBezTo>
                  <a:cubicBezTo>
                    <a:pt x="237103" y="52795"/>
                    <a:pt x="212086" y="62958"/>
                    <a:pt x="149544" y="72339"/>
                  </a:cubicBezTo>
                  <a:close/>
                  <a:moveTo>
                    <a:pt x="126091" y="73121"/>
                  </a:moveTo>
                  <a:cubicBezTo>
                    <a:pt x="68239" y="68430"/>
                    <a:pt x="4134" y="21524"/>
                    <a:pt x="225" y="5888"/>
                  </a:cubicBezTo>
                  <a:cubicBezTo>
                    <a:pt x="-4466" y="-11311"/>
                    <a:pt x="65112" y="15269"/>
                    <a:pt x="126091" y="9015"/>
                  </a:cubicBezTo>
                  <a:lnTo>
                    <a:pt x="126091" y="26214"/>
                  </a:lnTo>
                  <a:cubicBezTo>
                    <a:pt x="120618" y="26996"/>
                    <a:pt x="115146" y="26996"/>
                    <a:pt x="109674" y="26996"/>
                  </a:cubicBezTo>
                  <a:cubicBezTo>
                    <a:pt x="87784" y="26996"/>
                    <a:pt x="65894" y="24651"/>
                    <a:pt x="44004" y="21524"/>
                  </a:cubicBezTo>
                  <a:cubicBezTo>
                    <a:pt x="43223" y="21524"/>
                    <a:pt x="42441" y="21524"/>
                    <a:pt x="41659" y="20742"/>
                  </a:cubicBezTo>
                  <a:cubicBezTo>
                    <a:pt x="55731" y="30905"/>
                    <a:pt x="73712" y="40286"/>
                    <a:pt x="82311" y="44195"/>
                  </a:cubicBezTo>
                  <a:cubicBezTo>
                    <a:pt x="94820" y="49668"/>
                    <a:pt x="110455" y="55140"/>
                    <a:pt x="125309" y="56704"/>
                  </a:cubicBezTo>
                  <a:lnTo>
                    <a:pt x="125309" y="73121"/>
                  </a:lnTo>
                  <a:lnTo>
                    <a:pt x="126091" y="73121"/>
                  </a:lnTo>
                  <a:close/>
                </a:path>
              </a:pathLst>
            </a:custGeom>
            <a:solidFill>
              <a:srgbClr val="666666"/>
            </a:solidFill>
            <a:ln w="0">
              <a:noFill/>
            </a:ln>
          </p:spPr>
          <p:style>
            <a:lnRef idx="0"/>
            <a:fillRef idx="0"/>
            <a:effectRef idx="0"/>
            <a:fontRef idx="minor"/>
          </p:style>
          <p:txBody>
            <a:bodyPr lIns="90000" rIns="90000" tIns="9000" bIns="9000" anchor="ctr">
              <a:noAutofit/>
            </a:bodyPr>
            <a:p>
              <a:endParaRPr b="0" lang="en-US" sz="1800" spc="-1" strike="noStrike">
                <a:solidFill>
                  <a:srgbClr val="313c3f"/>
                </a:solidFill>
                <a:latin typeface="Source Sans Pro"/>
              </a:endParaRPr>
            </a:p>
          </p:txBody>
        </p:sp>
        <p:sp>
          <p:nvSpPr>
            <p:cNvPr id="2147" name="Freeform: Shape 150"/>
            <p:cNvSpPr/>
            <p:nvPr/>
          </p:nvSpPr>
          <p:spPr>
            <a:xfrm>
              <a:off x="4605840" y="2973960"/>
              <a:ext cx="128520" cy="106200"/>
            </a:xfrm>
            <a:custGeom>
              <a:avLst/>
              <a:gdLst/>
              <a:ahLst/>
              <a:rect l="l" t="t" r="r" b="b"/>
              <a:pathLst>
                <a:path w="168821" h="139613">
                  <a:moveTo>
                    <a:pt x="74184" y="19493"/>
                  </a:moveTo>
                  <a:cubicBezTo>
                    <a:pt x="110145" y="4639"/>
                    <a:pt x="150798" y="-2397"/>
                    <a:pt x="164088" y="730"/>
                  </a:cubicBezTo>
                  <a:cubicBezTo>
                    <a:pt x="187541" y="6203"/>
                    <a:pt x="117181" y="41383"/>
                    <a:pt x="98419" y="86726"/>
                  </a:cubicBezTo>
                  <a:cubicBezTo>
                    <a:pt x="92164" y="101580"/>
                    <a:pt x="83565" y="112525"/>
                    <a:pt x="74965" y="121124"/>
                  </a:cubicBezTo>
                  <a:lnTo>
                    <a:pt x="74965" y="86726"/>
                  </a:lnTo>
                  <a:cubicBezTo>
                    <a:pt x="75747" y="85162"/>
                    <a:pt x="76529" y="82817"/>
                    <a:pt x="77311" y="81253"/>
                  </a:cubicBezTo>
                  <a:cubicBezTo>
                    <a:pt x="79656" y="74999"/>
                    <a:pt x="83565" y="68745"/>
                    <a:pt x="87474" y="62491"/>
                  </a:cubicBezTo>
                  <a:cubicBezTo>
                    <a:pt x="97637" y="47637"/>
                    <a:pt x="110927" y="34347"/>
                    <a:pt x="124999" y="21838"/>
                  </a:cubicBezTo>
                  <a:cubicBezTo>
                    <a:pt x="125781" y="21057"/>
                    <a:pt x="125781" y="21057"/>
                    <a:pt x="126563" y="20275"/>
                  </a:cubicBezTo>
                  <a:cubicBezTo>
                    <a:pt x="108582" y="24966"/>
                    <a:pt x="88255" y="32001"/>
                    <a:pt x="79656" y="35910"/>
                  </a:cubicBezTo>
                  <a:lnTo>
                    <a:pt x="74184" y="39037"/>
                  </a:lnTo>
                  <a:lnTo>
                    <a:pt x="74184" y="19493"/>
                  </a:lnTo>
                  <a:close/>
                  <a:moveTo>
                    <a:pt x="13987" y="66400"/>
                  </a:moveTo>
                  <a:cubicBezTo>
                    <a:pt x="22586" y="46855"/>
                    <a:pt x="46821" y="31220"/>
                    <a:pt x="74184" y="19493"/>
                  </a:cubicBezTo>
                  <a:lnTo>
                    <a:pt x="74184" y="39037"/>
                  </a:lnTo>
                  <a:cubicBezTo>
                    <a:pt x="58548" y="46855"/>
                    <a:pt x="41349" y="57800"/>
                    <a:pt x="35095" y="71872"/>
                  </a:cubicBezTo>
                  <a:cubicBezTo>
                    <a:pt x="31968" y="78908"/>
                    <a:pt x="17114" y="116433"/>
                    <a:pt x="23368" y="122688"/>
                  </a:cubicBezTo>
                  <a:cubicBezTo>
                    <a:pt x="23368" y="122688"/>
                    <a:pt x="24150" y="122688"/>
                    <a:pt x="24150" y="122688"/>
                  </a:cubicBezTo>
                  <a:cubicBezTo>
                    <a:pt x="31186" y="124251"/>
                    <a:pt x="39785" y="121124"/>
                    <a:pt x="45258" y="117997"/>
                  </a:cubicBezTo>
                  <a:cubicBezTo>
                    <a:pt x="58548" y="110961"/>
                    <a:pt x="67929" y="98453"/>
                    <a:pt x="73402" y="85944"/>
                  </a:cubicBezTo>
                  <a:lnTo>
                    <a:pt x="73402" y="120342"/>
                  </a:lnTo>
                  <a:cubicBezTo>
                    <a:pt x="54639" y="137541"/>
                    <a:pt x="32749" y="142232"/>
                    <a:pt x="17114" y="138323"/>
                  </a:cubicBezTo>
                  <a:cubicBezTo>
                    <a:pt x="-5558" y="133633"/>
                    <a:pt x="-4776" y="112525"/>
                    <a:pt x="13987" y="664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48" name="Freeform: Shape 151"/>
            <p:cNvSpPr/>
            <p:nvPr/>
          </p:nvSpPr>
          <p:spPr>
            <a:xfrm>
              <a:off x="4665600" y="2957040"/>
              <a:ext cx="95040" cy="188640"/>
            </a:xfrm>
            <a:custGeom>
              <a:avLst/>
              <a:gdLst/>
              <a:ahLst/>
              <a:rect l="l" t="t" r="r" b="b"/>
              <a:pathLst>
                <a:path w="125001" h="248126">
                  <a:moveTo>
                    <a:pt x="119333" y="24538"/>
                  </a:moveTo>
                  <a:cubicBezTo>
                    <a:pt x="30992" y="64409"/>
                    <a:pt x="33338" y="169949"/>
                    <a:pt x="34120" y="235618"/>
                  </a:cubicBezTo>
                  <a:cubicBezTo>
                    <a:pt x="34120" y="242654"/>
                    <a:pt x="27084" y="248126"/>
                    <a:pt x="17702" y="248126"/>
                  </a:cubicBezTo>
                  <a:cubicBezTo>
                    <a:pt x="8321" y="248126"/>
                    <a:pt x="1285" y="242654"/>
                    <a:pt x="503" y="235618"/>
                  </a:cubicBezTo>
                  <a:cubicBezTo>
                    <a:pt x="-279" y="161349"/>
                    <a:pt x="-9660" y="37828"/>
                    <a:pt x="102916" y="303"/>
                  </a:cubicBezTo>
                  <a:cubicBezTo>
                    <a:pt x="111515" y="-1261"/>
                    <a:pt x="120897" y="3430"/>
                    <a:pt x="122460" y="9684"/>
                  </a:cubicBezTo>
                  <a:cubicBezTo>
                    <a:pt x="124806" y="16720"/>
                    <a:pt x="127933" y="22975"/>
                    <a:pt x="119333" y="24538"/>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49" name="Freeform: Shape 152"/>
            <p:cNvSpPr/>
            <p:nvPr/>
          </p:nvSpPr>
          <p:spPr>
            <a:xfrm>
              <a:off x="4546440" y="3229920"/>
              <a:ext cx="277200" cy="272880"/>
            </a:xfrm>
            <a:custGeom>
              <a:avLst/>
              <a:gdLst/>
              <a:ahLst/>
              <a:rect l="l" t="t" r="r" b="b"/>
              <a:pathLst>
                <a:path w="364307" h="358835">
                  <a:moveTo>
                    <a:pt x="363526" y="336164"/>
                  </a:moveTo>
                  <a:cubicBezTo>
                    <a:pt x="338509" y="351018"/>
                    <a:pt x="306456" y="358836"/>
                    <a:pt x="267368" y="358836"/>
                  </a:cubicBezTo>
                  <a:cubicBezTo>
                    <a:pt x="217334" y="358836"/>
                    <a:pt x="177463" y="343200"/>
                    <a:pt x="146192" y="311929"/>
                  </a:cubicBezTo>
                  <a:cubicBezTo>
                    <a:pt x="130557" y="295512"/>
                    <a:pt x="118830" y="277531"/>
                    <a:pt x="111012" y="255641"/>
                  </a:cubicBezTo>
                  <a:lnTo>
                    <a:pt x="0" y="255641"/>
                  </a:lnTo>
                  <a:lnTo>
                    <a:pt x="33616" y="196226"/>
                  </a:lnTo>
                  <a:lnTo>
                    <a:pt x="100067" y="196226"/>
                  </a:lnTo>
                  <a:cubicBezTo>
                    <a:pt x="100067" y="193099"/>
                    <a:pt x="100067" y="190754"/>
                    <a:pt x="100067" y="187626"/>
                  </a:cubicBezTo>
                  <a:cubicBezTo>
                    <a:pt x="100067" y="184499"/>
                    <a:pt x="100067" y="182154"/>
                    <a:pt x="100067" y="179027"/>
                  </a:cubicBezTo>
                  <a:lnTo>
                    <a:pt x="37525" y="179027"/>
                  </a:lnTo>
                  <a:lnTo>
                    <a:pt x="71142" y="119612"/>
                  </a:lnTo>
                  <a:lnTo>
                    <a:pt x="109449" y="119612"/>
                  </a:lnTo>
                  <a:cubicBezTo>
                    <a:pt x="117267" y="93031"/>
                    <a:pt x="131338" y="70360"/>
                    <a:pt x="150101" y="50816"/>
                  </a:cubicBezTo>
                  <a:cubicBezTo>
                    <a:pt x="182936" y="17199"/>
                    <a:pt x="227497" y="0"/>
                    <a:pt x="282221" y="0"/>
                  </a:cubicBezTo>
                  <a:cubicBezTo>
                    <a:pt x="315838" y="0"/>
                    <a:pt x="343982" y="5472"/>
                    <a:pt x="364308" y="16417"/>
                  </a:cubicBezTo>
                  <a:lnTo>
                    <a:pt x="364308" y="85995"/>
                  </a:lnTo>
                  <a:cubicBezTo>
                    <a:pt x="340073" y="68796"/>
                    <a:pt x="313492" y="59415"/>
                    <a:pt x="285348" y="59415"/>
                  </a:cubicBezTo>
                  <a:cubicBezTo>
                    <a:pt x="251732" y="59415"/>
                    <a:pt x="225152" y="70360"/>
                    <a:pt x="204044" y="93031"/>
                  </a:cubicBezTo>
                  <a:cubicBezTo>
                    <a:pt x="196226" y="100849"/>
                    <a:pt x="189972" y="110231"/>
                    <a:pt x="185281" y="120394"/>
                  </a:cubicBezTo>
                  <a:lnTo>
                    <a:pt x="347109" y="120394"/>
                  </a:lnTo>
                  <a:lnTo>
                    <a:pt x="313492" y="179809"/>
                  </a:lnTo>
                  <a:lnTo>
                    <a:pt x="286130" y="179809"/>
                  </a:lnTo>
                  <a:lnTo>
                    <a:pt x="173554" y="179809"/>
                  </a:lnTo>
                  <a:lnTo>
                    <a:pt x="173554" y="182936"/>
                  </a:lnTo>
                  <a:cubicBezTo>
                    <a:pt x="173554" y="187626"/>
                    <a:pt x="173554" y="192317"/>
                    <a:pt x="174336" y="196226"/>
                  </a:cubicBezTo>
                  <a:lnTo>
                    <a:pt x="309584" y="196226"/>
                  </a:lnTo>
                  <a:lnTo>
                    <a:pt x="275967" y="255641"/>
                  </a:lnTo>
                  <a:lnTo>
                    <a:pt x="192317" y="255641"/>
                  </a:lnTo>
                  <a:cubicBezTo>
                    <a:pt x="195444" y="260332"/>
                    <a:pt x="199353" y="265022"/>
                    <a:pt x="203262" y="269713"/>
                  </a:cubicBezTo>
                  <a:cubicBezTo>
                    <a:pt x="222806" y="290821"/>
                    <a:pt x="249387" y="300984"/>
                    <a:pt x="282221" y="300984"/>
                  </a:cubicBezTo>
                  <a:cubicBezTo>
                    <a:pt x="311147" y="300984"/>
                    <a:pt x="338509" y="291603"/>
                    <a:pt x="363526" y="273622"/>
                  </a:cubicBezTo>
                  <a:lnTo>
                    <a:pt x="363526" y="336164"/>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150" name="Graphic 2"/>
          <p:cNvGrpSpPr/>
          <p:nvPr/>
        </p:nvGrpSpPr>
        <p:grpSpPr>
          <a:xfrm>
            <a:off x="6775560" y="3711600"/>
            <a:ext cx="846000" cy="1020600"/>
            <a:chOff x="6775560" y="3711600"/>
            <a:chExt cx="846000" cy="1020600"/>
          </a:xfrm>
        </p:grpSpPr>
        <p:sp>
          <p:nvSpPr>
            <p:cNvPr id="2151" name="Freeform: Shape 26"/>
            <p:cNvSpPr/>
            <p:nvPr/>
          </p:nvSpPr>
          <p:spPr>
            <a:xfrm>
              <a:off x="6775560" y="3711600"/>
              <a:ext cx="846000" cy="1020600"/>
            </a:xfrm>
            <a:custGeom>
              <a:avLst/>
              <a:gdLst/>
              <a:ahLst/>
              <a:rect l="l" t="t" r="r" b="b"/>
              <a:pathLst>
                <a:path w="1061023" h="1280421">
                  <a:moveTo>
                    <a:pt x="657676" y="331818"/>
                  </a:moveTo>
                  <a:cubicBezTo>
                    <a:pt x="890147" y="421230"/>
                    <a:pt x="1061024" y="737153"/>
                    <a:pt x="1061024" y="963664"/>
                  </a:cubicBezTo>
                  <a:cubicBezTo>
                    <a:pt x="1061024" y="1108710"/>
                    <a:pt x="971612" y="1223952"/>
                    <a:pt x="860343" y="1263691"/>
                  </a:cubicBezTo>
                  <a:cubicBezTo>
                    <a:pt x="766957" y="1297469"/>
                    <a:pt x="661650" y="1269652"/>
                    <a:pt x="528525" y="1269652"/>
                  </a:cubicBezTo>
                  <a:cubicBezTo>
                    <a:pt x="403348" y="1269652"/>
                    <a:pt x="288106" y="1287534"/>
                    <a:pt x="196707" y="1263691"/>
                  </a:cubicBezTo>
                  <a:cubicBezTo>
                    <a:pt x="75504" y="1229913"/>
                    <a:pt x="0" y="1136527"/>
                    <a:pt x="0" y="1007376"/>
                  </a:cubicBezTo>
                  <a:cubicBezTo>
                    <a:pt x="0" y="685493"/>
                    <a:pt x="143060" y="530512"/>
                    <a:pt x="421231" y="329831"/>
                  </a:cubicBezTo>
                  <a:cubicBezTo>
                    <a:pt x="492760" y="278171"/>
                    <a:pt x="337779" y="123190"/>
                    <a:pt x="294067" y="67556"/>
                  </a:cubicBezTo>
                  <a:cubicBezTo>
                    <a:pt x="282145" y="53647"/>
                    <a:pt x="254328" y="27817"/>
                    <a:pt x="282145" y="33778"/>
                  </a:cubicBezTo>
                  <a:cubicBezTo>
                    <a:pt x="357648" y="51660"/>
                    <a:pt x="419244" y="45700"/>
                    <a:pt x="484812" y="15896"/>
                  </a:cubicBezTo>
                  <a:cubicBezTo>
                    <a:pt x="540447" y="11922"/>
                    <a:pt x="530512" y="91399"/>
                    <a:pt x="649728" y="37752"/>
                  </a:cubicBezTo>
                  <a:cubicBezTo>
                    <a:pt x="759010" y="-11922"/>
                    <a:pt x="705362" y="59608"/>
                    <a:pt x="830539" y="0"/>
                  </a:cubicBezTo>
                  <a:cubicBezTo>
                    <a:pt x="804709" y="51660"/>
                    <a:pt x="800735" y="67556"/>
                    <a:pt x="737153" y="103321"/>
                  </a:cubicBezTo>
                  <a:cubicBezTo>
                    <a:pt x="673571" y="139085"/>
                    <a:pt x="621911" y="196707"/>
                    <a:pt x="629859" y="258302"/>
                  </a:cubicBezTo>
                  <a:cubicBezTo>
                    <a:pt x="635819" y="302014"/>
                    <a:pt x="637806" y="298040"/>
                    <a:pt x="657676" y="331818"/>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52" name="Freeform: Shape 27"/>
            <p:cNvSpPr/>
            <p:nvPr/>
          </p:nvSpPr>
          <p:spPr>
            <a:xfrm>
              <a:off x="7025760" y="3757320"/>
              <a:ext cx="557640" cy="942480"/>
            </a:xfrm>
            <a:custGeom>
              <a:avLst/>
              <a:gdLst/>
              <a:ahLst/>
              <a:rect l="l" t="t" r="r" b="b"/>
              <a:pathLst>
                <a:path w="699401" h="1182226">
                  <a:moveTo>
                    <a:pt x="423217" y="5961"/>
                  </a:moveTo>
                  <a:cubicBezTo>
                    <a:pt x="417256" y="5961"/>
                    <a:pt x="411296" y="3974"/>
                    <a:pt x="403348" y="1987"/>
                  </a:cubicBezTo>
                  <a:cubicBezTo>
                    <a:pt x="401361" y="1987"/>
                    <a:pt x="401361" y="1987"/>
                    <a:pt x="399374" y="0"/>
                  </a:cubicBezTo>
                  <a:cubicBezTo>
                    <a:pt x="391426" y="0"/>
                    <a:pt x="367583" y="9935"/>
                    <a:pt x="359635" y="13908"/>
                  </a:cubicBezTo>
                  <a:cubicBezTo>
                    <a:pt x="331818" y="25830"/>
                    <a:pt x="302014" y="35765"/>
                    <a:pt x="270223" y="37752"/>
                  </a:cubicBezTo>
                  <a:cubicBezTo>
                    <a:pt x="230485" y="71530"/>
                    <a:pt x="202667" y="115242"/>
                    <a:pt x="208628" y="160942"/>
                  </a:cubicBezTo>
                  <a:cubicBezTo>
                    <a:pt x="214589" y="200680"/>
                    <a:pt x="216576" y="196707"/>
                    <a:pt x="234458" y="232471"/>
                  </a:cubicBezTo>
                  <a:cubicBezTo>
                    <a:pt x="250354" y="238432"/>
                    <a:pt x="266250" y="246380"/>
                    <a:pt x="280158" y="254328"/>
                  </a:cubicBezTo>
                  <a:cubicBezTo>
                    <a:pt x="274197" y="242406"/>
                    <a:pt x="272210" y="230484"/>
                    <a:pt x="270223" y="208628"/>
                  </a:cubicBezTo>
                  <a:cubicBezTo>
                    <a:pt x="260289" y="135112"/>
                    <a:pt x="319897" y="65569"/>
                    <a:pt x="395400" y="23843"/>
                  </a:cubicBezTo>
                  <a:cubicBezTo>
                    <a:pt x="407322" y="15896"/>
                    <a:pt x="415270" y="9935"/>
                    <a:pt x="423217" y="5961"/>
                  </a:cubicBezTo>
                  <a:close/>
                  <a:moveTo>
                    <a:pt x="0" y="1170305"/>
                  </a:moveTo>
                  <a:cubicBezTo>
                    <a:pt x="75504" y="1180240"/>
                    <a:pt x="152994" y="1182226"/>
                    <a:pt x="214589" y="1182226"/>
                  </a:cubicBezTo>
                  <a:cubicBezTo>
                    <a:pt x="488786" y="1182226"/>
                    <a:pt x="699401" y="1150435"/>
                    <a:pt x="699401" y="908029"/>
                  </a:cubicBezTo>
                  <a:cubicBezTo>
                    <a:pt x="699401" y="816630"/>
                    <a:pt x="669597" y="717284"/>
                    <a:pt x="629859" y="629858"/>
                  </a:cubicBezTo>
                  <a:cubicBezTo>
                    <a:pt x="590120" y="544420"/>
                    <a:pt x="518590" y="435139"/>
                    <a:pt x="421230" y="363609"/>
                  </a:cubicBezTo>
                  <a:cubicBezTo>
                    <a:pt x="552368" y="500708"/>
                    <a:pt x="637806" y="705362"/>
                    <a:pt x="637806" y="864317"/>
                  </a:cubicBezTo>
                  <a:cubicBezTo>
                    <a:pt x="637806" y="1130566"/>
                    <a:pt x="399374" y="1172292"/>
                    <a:pt x="105308" y="1172292"/>
                  </a:cubicBezTo>
                  <a:cubicBezTo>
                    <a:pt x="69543" y="1172292"/>
                    <a:pt x="33778" y="1170305"/>
                    <a:pt x="0" y="117030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53" name="Freeform: Shape 28"/>
            <p:cNvSpPr/>
            <p:nvPr/>
          </p:nvSpPr>
          <p:spPr>
            <a:xfrm>
              <a:off x="7175160" y="3948840"/>
              <a:ext cx="51480" cy="192240"/>
            </a:xfrm>
            <a:custGeom>
              <a:avLst/>
              <a:gdLst/>
              <a:ahLst/>
              <a:rect l="l" t="t" r="r" b="b"/>
              <a:pathLst>
                <a:path w="64981" h="241532">
                  <a:moveTo>
                    <a:pt x="21379" y="318"/>
                  </a:moveTo>
                  <a:cubicBezTo>
                    <a:pt x="41248" y="2305"/>
                    <a:pt x="73039" y="202985"/>
                    <a:pt x="63105" y="218881"/>
                  </a:cubicBezTo>
                  <a:cubicBezTo>
                    <a:pt x="47209" y="244711"/>
                    <a:pt x="27340" y="254646"/>
                    <a:pt x="23366" y="214907"/>
                  </a:cubicBezTo>
                  <a:cubicBezTo>
                    <a:pt x="19392" y="177155"/>
                    <a:pt x="-6438" y="30122"/>
                    <a:pt x="1510" y="4292"/>
                  </a:cubicBezTo>
                  <a:cubicBezTo>
                    <a:pt x="3497" y="-1669"/>
                    <a:pt x="19392" y="318"/>
                    <a:pt x="21379" y="318"/>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54" name="Freeform: Shape 29"/>
            <p:cNvSpPr/>
            <p:nvPr/>
          </p:nvSpPr>
          <p:spPr>
            <a:xfrm>
              <a:off x="7071840" y="3933360"/>
              <a:ext cx="240840" cy="31680"/>
            </a:xfrm>
            <a:custGeom>
              <a:avLst/>
              <a:gdLst/>
              <a:ahLst/>
              <a:rect l="l" t="t" r="r" b="b"/>
              <a:pathLst>
                <a:path w="302014" h="39738">
                  <a:moveTo>
                    <a:pt x="13908" y="0"/>
                  </a:moveTo>
                  <a:lnTo>
                    <a:pt x="290092" y="13909"/>
                  </a:lnTo>
                  <a:cubicBezTo>
                    <a:pt x="298040" y="13909"/>
                    <a:pt x="302014" y="19869"/>
                    <a:pt x="302014" y="27817"/>
                  </a:cubicBezTo>
                  <a:cubicBezTo>
                    <a:pt x="302014" y="35765"/>
                    <a:pt x="294066" y="39739"/>
                    <a:pt x="288106" y="39739"/>
                  </a:cubicBezTo>
                  <a:lnTo>
                    <a:pt x="11921" y="25830"/>
                  </a:lnTo>
                  <a:cubicBezTo>
                    <a:pt x="3974" y="25830"/>
                    <a:pt x="0" y="19869"/>
                    <a:pt x="0" y="11922"/>
                  </a:cubicBezTo>
                  <a:cubicBezTo>
                    <a:pt x="0" y="5961"/>
                    <a:pt x="5961" y="0"/>
                    <a:pt x="13908" y="0"/>
                  </a:cubicBezTo>
                  <a:close/>
                </a:path>
              </a:pathLst>
            </a:custGeom>
            <a:solidFill>
              <a:srgbClr val="4d4d4d"/>
            </a:solidFill>
            <a:ln w="0">
              <a:noFill/>
            </a:ln>
          </p:spPr>
          <p:style>
            <a:lnRef idx="0"/>
            <a:fillRef idx="0"/>
            <a:effectRef idx="0"/>
            <a:fontRef idx="minor"/>
          </p:style>
          <p:txBody>
            <a:bodyPr lIns="90000" rIns="90000" tIns="-15120" bIns="-15120" anchor="ctr">
              <a:noAutofit/>
            </a:bodyPr>
            <a:p>
              <a:endParaRPr b="0" lang="en-US" sz="1800" spc="-1" strike="noStrike">
                <a:solidFill>
                  <a:srgbClr val="313c3f"/>
                </a:solidFill>
                <a:latin typeface="Source Sans Pro"/>
              </a:endParaRPr>
            </a:p>
          </p:txBody>
        </p:sp>
        <p:sp>
          <p:nvSpPr>
            <p:cNvPr id="2155" name="Freeform: Shape 30"/>
            <p:cNvSpPr/>
            <p:nvPr/>
          </p:nvSpPr>
          <p:spPr>
            <a:xfrm>
              <a:off x="7065720" y="3918600"/>
              <a:ext cx="238680" cy="60480"/>
            </a:xfrm>
            <a:custGeom>
              <a:avLst/>
              <a:gdLst/>
              <a:ahLst/>
              <a:rect l="l" t="t" r="r" b="b"/>
              <a:pathLst>
                <a:path w="299252" h="76283">
                  <a:moveTo>
                    <a:pt x="7560" y="52050"/>
                  </a:moveTo>
                  <a:lnTo>
                    <a:pt x="277784" y="390"/>
                  </a:lnTo>
                  <a:cubicBezTo>
                    <a:pt x="285731" y="-1597"/>
                    <a:pt x="293679" y="4364"/>
                    <a:pt x="297653" y="10324"/>
                  </a:cubicBezTo>
                  <a:cubicBezTo>
                    <a:pt x="301627" y="16285"/>
                    <a:pt x="297653" y="24233"/>
                    <a:pt x="291692" y="26220"/>
                  </a:cubicBezTo>
                  <a:lnTo>
                    <a:pt x="21469" y="75893"/>
                  </a:lnTo>
                  <a:cubicBezTo>
                    <a:pt x="13521" y="77880"/>
                    <a:pt x="5573" y="71920"/>
                    <a:pt x="1600" y="65959"/>
                  </a:cubicBezTo>
                  <a:cubicBezTo>
                    <a:pt x="-2374" y="59998"/>
                    <a:pt x="1600" y="52050"/>
                    <a:pt x="7560" y="52050"/>
                  </a:cubicBezTo>
                  <a:close/>
                </a:path>
              </a:pathLst>
            </a:custGeom>
            <a:solidFill>
              <a:srgbClr val="666666"/>
            </a:solidFill>
            <a:ln w="0">
              <a:noFill/>
            </a:ln>
          </p:spPr>
          <p:style>
            <a:lnRef idx="0"/>
            <a:fillRef idx="0"/>
            <a:effectRef idx="0"/>
            <a:fontRef idx="minor"/>
          </p:style>
          <p:txBody>
            <a:bodyPr lIns="90000" rIns="90000" tIns="13680" bIns="13680" anchor="ctr">
              <a:noAutofit/>
            </a:bodyPr>
            <a:p>
              <a:endParaRPr b="0" lang="en-US" sz="1800" spc="-1" strike="noStrike">
                <a:solidFill>
                  <a:srgbClr val="313c3f"/>
                </a:solidFill>
                <a:latin typeface="Source Sans Pro"/>
              </a:endParaRPr>
            </a:p>
          </p:txBody>
        </p:sp>
        <p:sp>
          <p:nvSpPr>
            <p:cNvPr id="2156" name="Freeform: Shape 31"/>
            <p:cNvSpPr/>
            <p:nvPr/>
          </p:nvSpPr>
          <p:spPr>
            <a:xfrm>
              <a:off x="7180920" y="3950640"/>
              <a:ext cx="183960" cy="57600"/>
            </a:xfrm>
            <a:custGeom>
              <a:avLst/>
              <a:gdLst/>
              <a:ahLst/>
              <a:rect l="l" t="t" r="r" b="b"/>
              <a:pathLst>
                <a:path w="231034" h="72522">
                  <a:moveTo>
                    <a:pt x="147187" y="71413"/>
                  </a:moveTo>
                  <a:cubicBezTo>
                    <a:pt x="85593" y="81347"/>
                    <a:pt x="4128" y="21739"/>
                    <a:pt x="154" y="5844"/>
                  </a:cubicBezTo>
                  <a:cubicBezTo>
                    <a:pt x="-3819" y="-12039"/>
                    <a:pt x="69697" y="17765"/>
                    <a:pt x="131292" y="7831"/>
                  </a:cubicBezTo>
                  <a:cubicBezTo>
                    <a:pt x="192887" y="-2104"/>
                    <a:pt x="224678" y="17765"/>
                    <a:pt x="230639" y="35648"/>
                  </a:cubicBezTo>
                  <a:cubicBezTo>
                    <a:pt x="234613" y="51543"/>
                    <a:pt x="208783" y="61478"/>
                    <a:pt x="147187" y="71413"/>
                  </a:cubicBezTo>
                  <a:close/>
                  <a:moveTo>
                    <a:pt x="39893" y="19752"/>
                  </a:moveTo>
                  <a:cubicBezTo>
                    <a:pt x="53802" y="29687"/>
                    <a:pt x="71684" y="39622"/>
                    <a:pt x="79632" y="43596"/>
                  </a:cubicBezTo>
                  <a:cubicBezTo>
                    <a:pt x="97514" y="51543"/>
                    <a:pt x="121358" y="59491"/>
                    <a:pt x="141227" y="55517"/>
                  </a:cubicBezTo>
                  <a:cubicBezTo>
                    <a:pt x="151162" y="53530"/>
                    <a:pt x="200835" y="45582"/>
                    <a:pt x="206796" y="39622"/>
                  </a:cubicBezTo>
                  <a:cubicBezTo>
                    <a:pt x="206796" y="39622"/>
                    <a:pt x="206796" y="39622"/>
                    <a:pt x="206796" y="39622"/>
                  </a:cubicBezTo>
                  <a:cubicBezTo>
                    <a:pt x="204809" y="33661"/>
                    <a:pt x="196861" y="29687"/>
                    <a:pt x="190900" y="27700"/>
                  </a:cubicBezTo>
                  <a:cubicBezTo>
                    <a:pt x="173018" y="21739"/>
                    <a:pt x="151162" y="21739"/>
                    <a:pt x="133279" y="25713"/>
                  </a:cubicBezTo>
                  <a:cubicBezTo>
                    <a:pt x="125331" y="27700"/>
                    <a:pt x="115397" y="27700"/>
                    <a:pt x="107449" y="27700"/>
                  </a:cubicBezTo>
                  <a:cubicBezTo>
                    <a:pt x="85593" y="27700"/>
                    <a:pt x="63736" y="25713"/>
                    <a:pt x="41880" y="21739"/>
                  </a:cubicBezTo>
                  <a:cubicBezTo>
                    <a:pt x="41880" y="19752"/>
                    <a:pt x="41880" y="19752"/>
                    <a:pt x="39893" y="19752"/>
                  </a:cubicBezTo>
                  <a:close/>
                </a:path>
              </a:pathLst>
            </a:custGeom>
            <a:solidFill>
              <a:srgbClr val="666666"/>
            </a:solidFill>
            <a:ln w="0">
              <a:noFill/>
            </a:ln>
          </p:spPr>
          <p:style>
            <a:lnRef idx="0"/>
            <a:fillRef idx="0"/>
            <a:effectRef idx="0"/>
            <a:fontRef idx="minor"/>
          </p:style>
          <p:txBody>
            <a:bodyPr lIns="90000" rIns="90000" tIns="10800" bIns="10800" anchor="ctr">
              <a:noAutofit/>
            </a:bodyPr>
            <a:p>
              <a:endParaRPr b="0" lang="en-US" sz="1800" spc="-1" strike="noStrike">
                <a:solidFill>
                  <a:srgbClr val="313c3f"/>
                </a:solidFill>
                <a:latin typeface="Source Sans Pro"/>
              </a:endParaRPr>
            </a:p>
          </p:txBody>
        </p:sp>
        <p:sp>
          <p:nvSpPr>
            <p:cNvPr id="2157" name="Freeform: Shape 32"/>
            <p:cNvSpPr/>
            <p:nvPr/>
          </p:nvSpPr>
          <p:spPr>
            <a:xfrm>
              <a:off x="7060320" y="3949920"/>
              <a:ext cx="134280" cy="110880"/>
            </a:xfrm>
            <a:custGeom>
              <a:avLst/>
              <a:gdLst/>
              <a:ahLst/>
              <a:rect l="l" t="t" r="r" b="b"/>
              <a:pathLst>
                <a:path w="168377" h="139370">
                  <a:moveTo>
                    <a:pt x="14439" y="66417"/>
                  </a:moveTo>
                  <a:cubicBezTo>
                    <a:pt x="34309" y="20718"/>
                    <a:pt x="139616" y="-5112"/>
                    <a:pt x="163459" y="848"/>
                  </a:cubicBezTo>
                  <a:cubicBezTo>
                    <a:pt x="187303" y="6809"/>
                    <a:pt x="117760" y="40587"/>
                    <a:pt x="97890" y="86287"/>
                  </a:cubicBezTo>
                  <a:cubicBezTo>
                    <a:pt x="78021" y="131986"/>
                    <a:pt x="42256" y="143908"/>
                    <a:pt x="18413" y="137947"/>
                  </a:cubicBezTo>
                  <a:cubicBezTo>
                    <a:pt x="-5430" y="133973"/>
                    <a:pt x="-5430" y="112117"/>
                    <a:pt x="14439" y="66417"/>
                  </a:cubicBezTo>
                  <a:close/>
                  <a:moveTo>
                    <a:pt x="125707" y="22705"/>
                  </a:moveTo>
                  <a:cubicBezTo>
                    <a:pt x="107825" y="26679"/>
                    <a:pt x="87956" y="34626"/>
                    <a:pt x="80008" y="38600"/>
                  </a:cubicBezTo>
                  <a:cubicBezTo>
                    <a:pt x="62126" y="46548"/>
                    <a:pt x="42256" y="58469"/>
                    <a:pt x="36295" y="74365"/>
                  </a:cubicBezTo>
                  <a:cubicBezTo>
                    <a:pt x="34309" y="82313"/>
                    <a:pt x="18413" y="118078"/>
                    <a:pt x="24374" y="126025"/>
                  </a:cubicBezTo>
                  <a:cubicBezTo>
                    <a:pt x="24374" y="126025"/>
                    <a:pt x="24374" y="126025"/>
                    <a:pt x="26361" y="126025"/>
                  </a:cubicBezTo>
                  <a:cubicBezTo>
                    <a:pt x="34309" y="128012"/>
                    <a:pt x="42256" y="124038"/>
                    <a:pt x="48217" y="122051"/>
                  </a:cubicBezTo>
                  <a:cubicBezTo>
                    <a:pt x="64113" y="114104"/>
                    <a:pt x="72060" y="98208"/>
                    <a:pt x="78021" y="86287"/>
                  </a:cubicBezTo>
                  <a:cubicBezTo>
                    <a:pt x="80008" y="80326"/>
                    <a:pt x="83982" y="74365"/>
                    <a:pt x="87956" y="68404"/>
                  </a:cubicBezTo>
                  <a:cubicBezTo>
                    <a:pt x="97890" y="48535"/>
                    <a:pt x="109812" y="36613"/>
                    <a:pt x="125707" y="22705"/>
                  </a:cubicBezTo>
                  <a:cubicBezTo>
                    <a:pt x="125707" y="22705"/>
                    <a:pt x="125707" y="22705"/>
                    <a:pt x="125707" y="2270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58" name="Freeform: Shape 33"/>
            <p:cNvSpPr/>
            <p:nvPr/>
          </p:nvSpPr>
          <p:spPr>
            <a:xfrm>
              <a:off x="7124040" y="3932640"/>
              <a:ext cx="97560" cy="196560"/>
            </a:xfrm>
            <a:custGeom>
              <a:avLst/>
              <a:gdLst/>
              <a:ahLst/>
              <a:rect l="l" t="t" r="r" b="b"/>
              <a:pathLst>
                <a:path w="122424" h="246886">
                  <a:moveTo>
                    <a:pt x="117457" y="24350"/>
                  </a:moveTo>
                  <a:cubicBezTo>
                    <a:pt x="30032" y="64088"/>
                    <a:pt x="32019" y="169396"/>
                    <a:pt x="32019" y="234965"/>
                  </a:cubicBezTo>
                  <a:cubicBezTo>
                    <a:pt x="32019" y="240925"/>
                    <a:pt x="24072" y="246886"/>
                    <a:pt x="16124" y="246886"/>
                  </a:cubicBezTo>
                  <a:cubicBezTo>
                    <a:pt x="6189" y="246886"/>
                    <a:pt x="228" y="240925"/>
                    <a:pt x="228" y="234965"/>
                  </a:cubicBezTo>
                  <a:cubicBezTo>
                    <a:pt x="228" y="161448"/>
                    <a:pt x="-9707" y="38258"/>
                    <a:pt x="101562" y="506"/>
                  </a:cubicBezTo>
                  <a:cubicBezTo>
                    <a:pt x="109510" y="-1481"/>
                    <a:pt x="119444" y="2493"/>
                    <a:pt x="121431" y="10441"/>
                  </a:cubicBezTo>
                  <a:cubicBezTo>
                    <a:pt x="121431" y="18389"/>
                    <a:pt x="125405" y="24350"/>
                    <a:pt x="117457" y="2435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59" name="Freeform: Shape 34"/>
            <p:cNvSpPr/>
            <p:nvPr/>
          </p:nvSpPr>
          <p:spPr>
            <a:xfrm>
              <a:off x="7071840" y="4190040"/>
              <a:ext cx="253440" cy="408600"/>
            </a:xfrm>
            <a:custGeom>
              <a:avLst/>
              <a:gdLst/>
              <a:ahLst/>
              <a:rect l="l" t="t" r="r" b="b"/>
              <a:pathLst>
                <a:path w="317909" h="512629">
                  <a:moveTo>
                    <a:pt x="125177" y="510642"/>
                  </a:moveTo>
                  <a:lnTo>
                    <a:pt x="125177" y="451034"/>
                  </a:lnTo>
                  <a:cubicBezTo>
                    <a:pt x="93386" y="447060"/>
                    <a:pt x="69543" y="437126"/>
                    <a:pt x="49673" y="423217"/>
                  </a:cubicBezTo>
                  <a:cubicBezTo>
                    <a:pt x="23843" y="403348"/>
                    <a:pt x="5961" y="371557"/>
                    <a:pt x="0" y="331818"/>
                  </a:cubicBezTo>
                  <a:lnTo>
                    <a:pt x="63582" y="321883"/>
                  </a:lnTo>
                  <a:cubicBezTo>
                    <a:pt x="67556" y="347714"/>
                    <a:pt x="77490" y="367583"/>
                    <a:pt x="93386" y="381491"/>
                  </a:cubicBezTo>
                  <a:cubicBezTo>
                    <a:pt x="101334" y="389439"/>
                    <a:pt x="111268" y="393413"/>
                    <a:pt x="123190" y="397387"/>
                  </a:cubicBezTo>
                  <a:lnTo>
                    <a:pt x="123190" y="274197"/>
                  </a:lnTo>
                  <a:cubicBezTo>
                    <a:pt x="97360" y="266249"/>
                    <a:pt x="77490" y="260288"/>
                    <a:pt x="65569" y="254328"/>
                  </a:cubicBezTo>
                  <a:cubicBezTo>
                    <a:pt x="47686" y="246380"/>
                    <a:pt x="33778" y="232471"/>
                    <a:pt x="23843" y="218563"/>
                  </a:cubicBezTo>
                  <a:cubicBezTo>
                    <a:pt x="13908" y="202667"/>
                    <a:pt x="9935" y="186772"/>
                    <a:pt x="9935" y="166902"/>
                  </a:cubicBezTo>
                  <a:cubicBezTo>
                    <a:pt x="9935" y="149020"/>
                    <a:pt x="13908" y="133125"/>
                    <a:pt x="21856" y="119216"/>
                  </a:cubicBezTo>
                  <a:cubicBezTo>
                    <a:pt x="29804" y="105307"/>
                    <a:pt x="39739" y="93386"/>
                    <a:pt x="53647" y="83451"/>
                  </a:cubicBezTo>
                  <a:cubicBezTo>
                    <a:pt x="63582" y="75503"/>
                    <a:pt x="77490" y="69543"/>
                    <a:pt x="95373" y="65569"/>
                  </a:cubicBezTo>
                  <a:cubicBezTo>
                    <a:pt x="105307" y="63582"/>
                    <a:pt x="115242" y="61595"/>
                    <a:pt x="125177" y="59608"/>
                  </a:cubicBezTo>
                  <a:lnTo>
                    <a:pt x="125177" y="0"/>
                  </a:lnTo>
                  <a:lnTo>
                    <a:pt x="192733" y="0"/>
                  </a:lnTo>
                  <a:lnTo>
                    <a:pt x="192733" y="59608"/>
                  </a:lnTo>
                  <a:cubicBezTo>
                    <a:pt x="206641" y="61595"/>
                    <a:pt x="218563" y="65569"/>
                    <a:pt x="230484" y="69543"/>
                  </a:cubicBezTo>
                  <a:cubicBezTo>
                    <a:pt x="252341" y="77490"/>
                    <a:pt x="270223" y="89412"/>
                    <a:pt x="280158" y="105307"/>
                  </a:cubicBezTo>
                  <a:cubicBezTo>
                    <a:pt x="290092" y="121203"/>
                    <a:pt x="298040" y="141072"/>
                    <a:pt x="302014" y="164916"/>
                  </a:cubicBezTo>
                  <a:lnTo>
                    <a:pt x="238432" y="172863"/>
                  </a:lnTo>
                  <a:cubicBezTo>
                    <a:pt x="236445" y="152994"/>
                    <a:pt x="226511" y="137098"/>
                    <a:pt x="212602" y="125177"/>
                  </a:cubicBezTo>
                  <a:cubicBezTo>
                    <a:pt x="206641" y="119216"/>
                    <a:pt x="198694" y="117229"/>
                    <a:pt x="190746" y="113255"/>
                  </a:cubicBezTo>
                  <a:lnTo>
                    <a:pt x="190746" y="222537"/>
                  </a:lnTo>
                  <a:cubicBezTo>
                    <a:pt x="220550" y="230484"/>
                    <a:pt x="244393" y="238432"/>
                    <a:pt x="258302" y="244393"/>
                  </a:cubicBezTo>
                  <a:cubicBezTo>
                    <a:pt x="276184" y="252341"/>
                    <a:pt x="290092" y="264262"/>
                    <a:pt x="302014" y="278171"/>
                  </a:cubicBezTo>
                  <a:cubicBezTo>
                    <a:pt x="311949" y="294066"/>
                    <a:pt x="317910" y="311949"/>
                    <a:pt x="317910" y="333805"/>
                  </a:cubicBezTo>
                  <a:cubicBezTo>
                    <a:pt x="317910" y="355661"/>
                    <a:pt x="311949" y="375531"/>
                    <a:pt x="298040" y="395400"/>
                  </a:cubicBezTo>
                  <a:cubicBezTo>
                    <a:pt x="286119" y="415269"/>
                    <a:pt x="266249" y="429178"/>
                    <a:pt x="242406" y="439113"/>
                  </a:cubicBezTo>
                  <a:cubicBezTo>
                    <a:pt x="226511" y="445073"/>
                    <a:pt x="208628" y="451034"/>
                    <a:pt x="190746" y="453021"/>
                  </a:cubicBezTo>
                  <a:lnTo>
                    <a:pt x="190746" y="512629"/>
                  </a:lnTo>
                  <a:lnTo>
                    <a:pt x="125177" y="512629"/>
                  </a:lnTo>
                  <a:lnTo>
                    <a:pt x="125177" y="510642"/>
                  </a:lnTo>
                  <a:close/>
                  <a:moveTo>
                    <a:pt x="125177" y="200680"/>
                  </a:moveTo>
                  <a:lnTo>
                    <a:pt x="125177" y="107294"/>
                  </a:lnTo>
                  <a:cubicBezTo>
                    <a:pt x="111268" y="109281"/>
                    <a:pt x="101334" y="113255"/>
                    <a:pt x="93386" y="119216"/>
                  </a:cubicBezTo>
                  <a:cubicBezTo>
                    <a:pt x="81464" y="129151"/>
                    <a:pt x="73517" y="141072"/>
                    <a:pt x="73517" y="152994"/>
                  </a:cubicBezTo>
                  <a:cubicBezTo>
                    <a:pt x="73517" y="160942"/>
                    <a:pt x="75503" y="168889"/>
                    <a:pt x="81464" y="174850"/>
                  </a:cubicBezTo>
                  <a:cubicBezTo>
                    <a:pt x="87425" y="180811"/>
                    <a:pt x="95373" y="186772"/>
                    <a:pt x="107294" y="192733"/>
                  </a:cubicBezTo>
                  <a:cubicBezTo>
                    <a:pt x="109281" y="196706"/>
                    <a:pt x="115242" y="198694"/>
                    <a:pt x="125177" y="200680"/>
                  </a:cubicBezTo>
                  <a:close/>
                  <a:moveTo>
                    <a:pt x="192733" y="288106"/>
                  </a:moveTo>
                  <a:lnTo>
                    <a:pt x="192733" y="395400"/>
                  </a:lnTo>
                  <a:cubicBezTo>
                    <a:pt x="208628" y="393413"/>
                    <a:pt x="220550" y="387452"/>
                    <a:pt x="230484" y="379505"/>
                  </a:cubicBezTo>
                  <a:cubicBezTo>
                    <a:pt x="244393" y="367583"/>
                    <a:pt x="252341" y="353674"/>
                    <a:pt x="252341" y="335792"/>
                  </a:cubicBezTo>
                  <a:cubicBezTo>
                    <a:pt x="252341" y="321883"/>
                    <a:pt x="246380" y="309962"/>
                    <a:pt x="232471" y="302014"/>
                  </a:cubicBezTo>
                  <a:cubicBezTo>
                    <a:pt x="226511" y="300027"/>
                    <a:pt x="212602" y="294066"/>
                    <a:pt x="192733" y="28810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160" name="Graphic 2"/>
          <p:cNvGrpSpPr/>
          <p:nvPr/>
        </p:nvGrpSpPr>
        <p:grpSpPr>
          <a:xfrm>
            <a:off x="7267680" y="4327560"/>
            <a:ext cx="563400" cy="541440"/>
            <a:chOff x="7267680" y="4327560"/>
            <a:chExt cx="563400" cy="541440"/>
          </a:xfrm>
        </p:grpSpPr>
        <p:grpSp>
          <p:nvGrpSpPr>
            <p:cNvPr id="2161" name="Graphic 2"/>
            <p:cNvGrpSpPr/>
            <p:nvPr/>
          </p:nvGrpSpPr>
          <p:grpSpPr>
            <a:xfrm>
              <a:off x="7267680" y="4595040"/>
              <a:ext cx="480960" cy="273960"/>
              <a:chOff x="7267680" y="4595040"/>
              <a:chExt cx="480960" cy="273960"/>
            </a:xfrm>
          </p:grpSpPr>
          <p:sp>
            <p:nvSpPr>
              <p:cNvPr id="2162" name="Freeform: Shape 47"/>
              <p:cNvSpPr/>
              <p:nvPr/>
            </p:nvSpPr>
            <p:spPr>
              <a:xfrm>
                <a:off x="7270200" y="4705920"/>
                <a:ext cx="4784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4943" y="139085"/>
                      <a:pt x="600054" y="77490"/>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63" name="Freeform: Shape 48"/>
              <p:cNvSpPr/>
              <p:nvPr/>
            </p:nvSpPr>
            <p:spPr>
              <a:xfrm>
                <a:off x="7306560" y="4752000"/>
                <a:ext cx="432360" cy="107640"/>
              </a:xfrm>
              <a:custGeom>
                <a:avLst/>
                <a:gdLst/>
                <a:ahLst/>
                <a:rect l="l" t="t" r="r" b="b"/>
                <a:pathLst>
                  <a:path w="542433" h="135111">
                    <a:moveTo>
                      <a:pt x="542433" y="0"/>
                    </a:moveTo>
                    <a:cubicBezTo>
                      <a:pt x="532498"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6" y="89412"/>
                      <a:pt x="300027" y="91399"/>
                    </a:cubicBezTo>
                    <a:lnTo>
                      <a:pt x="300027" y="133125"/>
                    </a:lnTo>
                    <a:cubicBezTo>
                      <a:pt x="319896" y="131138"/>
                      <a:pt x="339766" y="129151"/>
                      <a:pt x="359635" y="125177"/>
                    </a:cubicBezTo>
                    <a:lnTo>
                      <a:pt x="359635" y="83451"/>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7" y="75504"/>
                      <a:pt x="87425" y="71530"/>
                    </a:cubicBezTo>
                    <a:lnTo>
                      <a:pt x="87425" y="113255"/>
                    </a:lnTo>
                    <a:cubicBezTo>
                      <a:pt x="103321" y="119216"/>
                      <a:pt x="121203" y="123190"/>
                      <a:pt x="139085" y="125177"/>
                    </a:cubicBezTo>
                    <a:lnTo>
                      <a:pt x="139085" y="83451"/>
                    </a:lnTo>
                    <a:close/>
                    <a:moveTo>
                      <a:pt x="43713" y="53647"/>
                    </a:moveTo>
                    <a:cubicBezTo>
                      <a:pt x="41725" y="51660"/>
                      <a:pt x="37752" y="51660"/>
                      <a:pt x="35765" y="49673"/>
                    </a:cubicBezTo>
                    <a:cubicBezTo>
                      <a:pt x="23843" y="43713"/>
                      <a:pt x="11921" y="37752"/>
                      <a:pt x="0" y="29804"/>
                    </a:cubicBezTo>
                    <a:lnTo>
                      <a:pt x="0" y="65569"/>
                    </a:lnTo>
                    <a:cubicBezTo>
                      <a:pt x="13908" y="77490"/>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64" name="Freeform: Shape 49"/>
              <p:cNvSpPr/>
              <p:nvPr/>
            </p:nvSpPr>
            <p:spPr>
              <a:xfrm>
                <a:off x="7268760" y="4595040"/>
                <a:ext cx="478440" cy="221760"/>
              </a:xfrm>
              <a:custGeom>
                <a:avLst/>
                <a:gdLst/>
                <a:ahLst/>
                <a:rect l="l" t="t" r="r" b="b"/>
                <a:pathLst>
                  <a:path w="600054" h="278171">
                    <a:moveTo>
                      <a:pt x="300027" y="278171"/>
                    </a:moveTo>
                    <a:cubicBezTo>
                      <a:pt x="464943" y="278171"/>
                      <a:pt x="600054" y="216576"/>
                      <a:pt x="600054" y="139086"/>
                    </a:cubicBezTo>
                    <a:cubicBezTo>
                      <a:pt x="600054" y="61595"/>
                      <a:pt x="464943" y="0"/>
                      <a:pt x="300027" y="0"/>
                    </a:cubicBezTo>
                    <a:cubicBezTo>
                      <a:pt x="135112" y="0"/>
                      <a:pt x="0" y="61595"/>
                      <a:pt x="0" y="139086"/>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65" name="Freeform: Shape 50"/>
              <p:cNvSpPr/>
              <p:nvPr/>
            </p:nvSpPr>
            <p:spPr>
              <a:xfrm>
                <a:off x="7300440" y="4620240"/>
                <a:ext cx="41508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66" name="Freeform: Shape 51"/>
              <p:cNvSpPr/>
              <p:nvPr/>
            </p:nvSpPr>
            <p:spPr>
              <a:xfrm>
                <a:off x="7306560" y="4631400"/>
                <a:ext cx="405360" cy="158400"/>
              </a:xfrm>
              <a:custGeom>
                <a:avLst/>
                <a:gdLst/>
                <a:ahLst/>
                <a:rect l="l" t="t" r="r" b="b"/>
                <a:pathLst>
                  <a:path w="508680" h="198693">
                    <a:moveTo>
                      <a:pt x="254353" y="0"/>
                    </a:moveTo>
                    <a:cubicBezTo>
                      <a:pt x="395425" y="0"/>
                      <a:pt x="508681" y="45699"/>
                      <a:pt x="508681" y="101334"/>
                    </a:cubicBezTo>
                    <a:cubicBezTo>
                      <a:pt x="508681" y="111268"/>
                      <a:pt x="504707" y="121203"/>
                      <a:pt x="498746" y="129151"/>
                    </a:cubicBezTo>
                    <a:cubicBezTo>
                      <a:pt x="462981" y="170876"/>
                      <a:pt x="365621" y="198693"/>
                      <a:pt x="254353" y="198693"/>
                    </a:cubicBezTo>
                    <a:cubicBezTo>
                      <a:pt x="143085" y="198693"/>
                      <a:pt x="47712" y="168889"/>
                      <a:pt x="9960" y="129151"/>
                    </a:cubicBezTo>
                    <a:cubicBezTo>
                      <a:pt x="3999" y="119216"/>
                      <a:pt x="25" y="109281"/>
                      <a:pt x="25" y="99347"/>
                    </a:cubicBezTo>
                    <a:cubicBezTo>
                      <a:pt x="-1962" y="45699"/>
                      <a:pt x="113281" y="0"/>
                      <a:pt x="254353"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167" name="Graphic 2" descr=""/>
              <p:cNvPicPr/>
              <p:nvPr/>
            </p:nvPicPr>
            <p:blipFill>
              <a:blip r:embed="rId1"/>
              <a:stretch/>
            </p:blipFill>
            <p:spPr>
              <a:xfrm>
                <a:off x="7267680" y="4645080"/>
                <a:ext cx="480600" cy="122040"/>
              </a:xfrm>
              <a:prstGeom prst="rect">
                <a:avLst/>
              </a:prstGeom>
              <a:ln w="0">
                <a:noFill/>
              </a:ln>
            </p:spPr>
          </p:pic>
        </p:grpSp>
        <p:grpSp>
          <p:nvGrpSpPr>
            <p:cNvPr id="2168" name="Graphic 2"/>
            <p:cNvGrpSpPr/>
            <p:nvPr/>
          </p:nvGrpSpPr>
          <p:grpSpPr>
            <a:xfrm>
              <a:off x="7296120" y="4503240"/>
              <a:ext cx="479520" cy="273960"/>
              <a:chOff x="7296120" y="4503240"/>
              <a:chExt cx="479520" cy="273960"/>
            </a:xfrm>
          </p:grpSpPr>
          <p:sp>
            <p:nvSpPr>
              <p:cNvPr id="2169" name="Freeform: Shape 59"/>
              <p:cNvSpPr/>
              <p:nvPr/>
            </p:nvSpPr>
            <p:spPr>
              <a:xfrm>
                <a:off x="7296120" y="4614120"/>
                <a:ext cx="4766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6930" y="139085"/>
                      <a:pt x="600054" y="75503"/>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70" name="Freeform: Shape 60"/>
              <p:cNvSpPr/>
              <p:nvPr/>
            </p:nvSpPr>
            <p:spPr>
              <a:xfrm>
                <a:off x="7333920" y="4660200"/>
                <a:ext cx="43092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3386"/>
                    </a:moveTo>
                    <a:lnTo>
                      <a:pt x="254328" y="93386"/>
                    </a:lnTo>
                    <a:cubicBezTo>
                      <a:pt x="232472" y="93386"/>
                      <a:pt x="208628" y="91399"/>
                      <a:pt x="184785" y="89412"/>
                    </a:cubicBezTo>
                    <a:lnTo>
                      <a:pt x="184785" y="131138"/>
                    </a:lnTo>
                    <a:cubicBezTo>
                      <a:pt x="208628" y="133125"/>
                      <a:pt x="232472" y="135112"/>
                      <a:pt x="254328" y="135112"/>
                    </a:cubicBezTo>
                    <a:lnTo>
                      <a:pt x="256315" y="135112"/>
                    </a:lnTo>
                    <a:lnTo>
                      <a:pt x="256315" y="93386"/>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71" name="Freeform: Shape 61"/>
              <p:cNvSpPr/>
              <p:nvPr/>
            </p:nvSpPr>
            <p:spPr>
              <a:xfrm>
                <a:off x="7296120" y="4503240"/>
                <a:ext cx="47664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72" name="Freeform: Shape 62"/>
              <p:cNvSpPr/>
              <p:nvPr/>
            </p:nvSpPr>
            <p:spPr>
              <a:xfrm>
                <a:off x="7327440" y="4528440"/>
                <a:ext cx="413640" cy="17100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73" name="Freeform: Shape 63"/>
              <p:cNvSpPr/>
              <p:nvPr/>
            </p:nvSpPr>
            <p:spPr>
              <a:xfrm>
                <a:off x="7332120" y="4539600"/>
                <a:ext cx="4042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5242"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174" name="Graphic 2" descr=""/>
              <p:cNvPicPr/>
              <p:nvPr/>
            </p:nvPicPr>
            <p:blipFill>
              <a:blip r:embed="rId2"/>
              <a:stretch/>
            </p:blipFill>
            <p:spPr>
              <a:xfrm>
                <a:off x="7296840" y="4553640"/>
                <a:ext cx="478800" cy="122040"/>
              </a:xfrm>
              <a:prstGeom prst="rect">
                <a:avLst/>
              </a:prstGeom>
              <a:ln w="0">
                <a:noFill/>
              </a:ln>
            </p:spPr>
          </p:pic>
        </p:grpSp>
        <p:grpSp>
          <p:nvGrpSpPr>
            <p:cNvPr id="2175" name="Graphic 2"/>
            <p:cNvGrpSpPr/>
            <p:nvPr/>
          </p:nvGrpSpPr>
          <p:grpSpPr>
            <a:xfrm>
              <a:off x="7316640" y="4411440"/>
              <a:ext cx="480960" cy="273960"/>
              <a:chOff x="7316640" y="4411440"/>
              <a:chExt cx="480960" cy="273960"/>
            </a:xfrm>
          </p:grpSpPr>
          <p:sp>
            <p:nvSpPr>
              <p:cNvPr id="2176" name="Freeform: Shape 71"/>
              <p:cNvSpPr/>
              <p:nvPr/>
            </p:nvSpPr>
            <p:spPr>
              <a:xfrm>
                <a:off x="7319520" y="4522320"/>
                <a:ext cx="478080" cy="163080"/>
              </a:xfrm>
              <a:custGeom>
                <a:avLst/>
                <a:gdLst/>
                <a:ahLst/>
                <a:rect l="l" t="t" r="r" b="b"/>
                <a:pathLst>
                  <a:path w="600054" h="204654">
                    <a:moveTo>
                      <a:pt x="600055" y="0"/>
                    </a:moveTo>
                    <a:lnTo>
                      <a:pt x="600055" y="65569"/>
                    </a:lnTo>
                    <a:cubicBezTo>
                      <a:pt x="600055" y="143059"/>
                      <a:pt x="464943" y="204654"/>
                      <a:pt x="300027" y="204654"/>
                    </a:cubicBezTo>
                    <a:cubicBezTo>
                      <a:pt x="135112" y="204654"/>
                      <a:pt x="0" y="143059"/>
                      <a:pt x="0" y="65569"/>
                    </a:cubicBezTo>
                    <a:lnTo>
                      <a:pt x="0" y="0"/>
                    </a:lnTo>
                    <a:cubicBezTo>
                      <a:pt x="0" y="77491"/>
                      <a:pt x="135112" y="139085"/>
                      <a:pt x="300027" y="139085"/>
                    </a:cubicBezTo>
                    <a:cubicBezTo>
                      <a:pt x="464943" y="139085"/>
                      <a:pt x="600055" y="77491"/>
                      <a:pt x="600055"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77" name="Freeform: Shape 72"/>
              <p:cNvSpPr/>
              <p:nvPr/>
            </p:nvSpPr>
            <p:spPr>
              <a:xfrm>
                <a:off x="7355880" y="4568400"/>
                <a:ext cx="43200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60969" y="55634"/>
                    </a:moveTo>
                    <a:cubicBezTo>
                      <a:pt x="443087" y="63582"/>
                      <a:pt x="425204" y="69543"/>
                      <a:pt x="405335" y="73517"/>
                    </a:cubicBezTo>
                    <a:lnTo>
                      <a:pt x="405335" y="115242"/>
                    </a:lnTo>
                    <a:cubicBezTo>
                      <a:pt x="425204" y="109281"/>
                      <a:pt x="443087" y="103321"/>
                      <a:pt x="460969" y="95373"/>
                    </a:cubicBezTo>
                    <a:lnTo>
                      <a:pt x="460969" y="55634"/>
                    </a:lnTo>
                    <a:close/>
                    <a:moveTo>
                      <a:pt x="359635" y="85438"/>
                    </a:moveTo>
                    <a:cubicBezTo>
                      <a:pt x="339766" y="89412"/>
                      <a:pt x="319897" y="91399"/>
                      <a:pt x="300027" y="93386"/>
                    </a:cubicBezTo>
                    <a:lnTo>
                      <a:pt x="300027" y="135112"/>
                    </a:lnTo>
                    <a:cubicBezTo>
                      <a:pt x="319897" y="133125"/>
                      <a:pt x="339766" y="131138"/>
                      <a:pt x="359635" y="127164"/>
                    </a:cubicBezTo>
                    <a:lnTo>
                      <a:pt x="359635" y="85438"/>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8" y="75503"/>
                      <a:pt x="87425" y="71530"/>
                    </a:cubicBezTo>
                    <a:lnTo>
                      <a:pt x="87425" y="113255"/>
                    </a:lnTo>
                    <a:cubicBezTo>
                      <a:pt x="103321" y="119216"/>
                      <a:pt x="121203" y="123190"/>
                      <a:pt x="139085" y="125177"/>
                    </a:cubicBezTo>
                    <a:lnTo>
                      <a:pt x="139085" y="83451"/>
                    </a:lnTo>
                    <a:close/>
                    <a:moveTo>
                      <a:pt x="43713" y="55634"/>
                    </a:moveTo>
                    <a:cubicBezTo>
                      <a:pt x="41726" y="53647"/>
                      <a:pt x="37752" y="53647"/>
                      <a:pt x="35765" y="51660"/>
                    </a:cubicBezTo>
                    <a:cubicBezTo>
                      <a:pt x="23843" y="45699"/>
                      <a:pt x="11922" y="39739"/>
                      <a:pt x="0" y="31791"/>
                    </a:cubicBezTo>
                    <a:lnTo>
                      <a:pt x="0" y="67556"/>
                    </a:lnTo>
                    <a:cubicBezTo>
                      <a:pt x="13908" y="79477"/>
                      <a:pt x="29804" y="87425"/>
                      <a:pt x="43713" y="93386"/>
                    </a:cubicBezTo>
                    <a:lnTo>
                      <a:pt x="43713"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78" name="Freeform: Shape 73"/>
              <p:cNvSpPr/>
              <p:nvPr/>
            </p:nvSpPr>
            <p:spPr>
              <a:xfrm>
                <a:off x="7319520" y="4411440"/>
                <a:ext cx="478080" cy="22176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79" name="Freeform: Shape 74"/>
              <p:cNvSpPr/>
              <p:nvPr/>
            </p:nvSpPr>
            <p:spPr>
              <a:xfrm>
                <a:off x="7351200" y="4436640"/>
                <a:ext cx="41472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80" name="Freeform: Shape 75"/>
              <p:cNvSpPr/>
              <p:nvPr/>
            </p:nvSpPr>
            <p:spPr>
              <a:xfrm>
                <a:off x="7355880" y="4449240"/>
                <a:ext cx="405000" cy="158400"/>
              </a:xfrm>
              <a:custGeom>
                <a:avLst/>
                <a:gdLst/>
                <a:ahLst/>
                <a:rect l="l" t="t" r="r" b="b"/>
                <a:pathLst>
                  <a:path w="508655" h="198693">
                    <a:moveTo>
                      <a:pt x="254328" y="0"/>
                    </a:moveTo>
                    <a:cubicBezTo>
                      <a:pt x="395400" y="0"/>
                      <a:pt x="508656" y="45699"/>
                      <a:pt x="508656" y="101334"/>
                    </a:cubicBezTo>
                    <a:cubicBezTo>
                      <a:pt x="508656" y="111268"/>
                      <a:pt x="504682" y="121203"/>
                      <a:pt x="498721" y="129151"/>
                    </a:cubicBezTo>
                    <a:cubicBezTo>
                      <a:pt x="462956" y="170876"/>
                      <a:pt x="365596" y="198694"/>
                      <a:pt x="254328" y="198694"/>
                    </a:cubicBezTo>
                    <a:cubicBezTo>
                      <a:pt x="143059" y="198694"/>
                      <a:pt x="47687" y="168889"/>
                      <a:pt x="9935" y="129151"/>
                    </a:cubicBezTo>
                    <a:cubicBezTo>
                      <a:pt x="3974" y="119216"/>
                      <a:pt x="0" y="109281"/>
                      <a:pt x="0" y="99347"/>
                    </a:cubicBezTo>
                    <a:cubicBezTo>
                      <a:pt x="0" y="43713"/>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181" name="Graphic 2" descr=""/>
              <p:cNvPicPr/>
              <p:nvPr/>
            </p:nvPicPr>
            <p:blipFill>
              <a:blip r:embed="rId3"/>
              <a:stretch/>
            </p:blipFill>
            <p:spPr>
              <a:xfrm>
                <a:off x="7316640" y="4462200"/>
                <a:ext cx="480240" cy="115920"/>
              </a:xfrm>
              <a:prstGeom prst="rect">
                <a:avLst/>
              </a:prstGeom>
              <a:ln w="0">
                <a:noFill/>
              </a:ln>
            </p:spPr>
          </p:pic>
        </p:grpSp>
        <p:grpSp>
          <p:nvGrpSpPr>
            <p:cNvPr id="2182" name="Graphic 2"/>
            <p:cNvGrpSpPr/>
            <p:nvPr/>
          </p:nvGrpSpPr>
          <p:grpSpPr>
            <a:xfrm>
              <a:off x="7350120" y="4327560"/>
              <a:ext cx="480960" cy="273960"/>
              <a:chOff x="7350120" y="4327560"/>
              <a:chExt cx="480960" cy="273960"/>
            </a:xfrm>
          </p:grpSpPr>
          <p:sp>
            <p:nvSpPr>
              <p:cNvPr id="2183" name="Freeform: Shape 83"/>
              <p:cNvSpPr/>
              <p:nvPr/>
            </p:nvSpPr>
            <p:spPr>
              <a:xfrm>
                <a:off x="7350120" y="4438440"/>
                <a:ext cx="47880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1"/>
                      <a:pt x="135112" y="139085"/>
                      <a:pt x="300027" y="139085"/>
                    </a:cubicBezTo>
                    <a:cubicBezTo>
                      <a:pt x="466930" y="139085"/>
                      <a:pt x="600054" y="77491"/>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84" name="Freeform: Shape 84"/>
              <p:cNvSpPr/>
              <p:nvPr/>
            </p:nvSpPr>
            <p:spPr>
              <a:xfrm>
                <a:off x="7387920" y="4485960"/>
                <a:ext cx="431280" cy="106200"/>
              </a:xfrm>
              <a:custGeom>
                <a:avLst/>
                <a:gdLst/>
                <a:ahLst/>
                <a:rect l="l" t="t" r="r" b="b"/>
                <a:pathLst>
                  <a:path w="540446" h="133124">
                    <a:moveTo>
                      <a:pt x="540447" y="0"/>
                    </a:moveTo>
                    <a:cubicBezTo>
                      <a:pt x="530512" y="11922"/>
                      <a:pt x="516603" y="23843"/>
                      <a:pt x="502695" y="31791"/>
                    </a:cubicBezTo>
                    <a:lnTo>
                      <a:pt x="502695" y="69543"/>
                    </a:lnTo>
                    <a:cubicBezTo>
                      <a:pt x="524551" y="53647"/>
                      <a:pt x="540447" y="31791"/>
                      <a:pt x="540447" y="7948"/>
                    </a:cubicBezTo>
                    <a:lnTo>
                      <a:pt x="540447"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1399"/>
                    </a:moveTo>
                    <a:lnTo>
                      <a:pt x="254328" y="91399"/>
                    </a:lnTo>
                    <a:cubicBezTo>
                      <a:pt x="232472" y="91399"/>
                      <a:pt x="208628" y="89412"/>
                      <a:pt x="184785" y="87425"/>
                    </a:cubicBezTo>
                    <a:lnTo>
                      <a:pt x="184785" y="129151"/>
                    </a:lnTo>
                    <a:cubicBezTo>
                      <a:pt x="208628" y="131138"/>
                      <a:pt x="232472" y="133125"/>
                      <a:pt x="254328" y="133125"/>
                    </a:cubicBezTo>
                    <a:lnTo>
                      <a:pt x="256315" y="133125"/>
                    </a:lnTo>
                    <a:lnTo>
                      <a:pt x="256315" y="91399"/>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85" name="Freeform: Shape 85"/>
              <p:cNvSpPr/>
              <p:nvPr/>
            </p:nvSpPr>
            <p:spPr>
              <a:xfrm>
                <a:off x="7350120" y="4327560"/>
                <a:ext cx="47880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86" name="Freeform: Shape 86"/>
              <p:cNvSpPr/>
              <p:nvPr/>
            </p:nvSpPr>
            <p:spPr>
              <a:xfrm>
                <a:off x="7381800" y="4352760"/>
                <a:ext cx="415440" cy="171000"/>
              </a:xfrm>
              <a:custGeom>
                <a:avLst/>
                <a:gdLst/>
                <a:ahLst/>
                <a:rect l="l" t="t" r="r" b="b"/>
                <a:pathLst>
                  <a:path w="520577" h="214588">
                    <a:moveTo>
                      <a:pt x="260289" y="214589"/>
                    </a:moveTo>
                    <a:cubicBezTo>
                      <a:pt x="403348" y="214589"/>
                      <a:pt x="520577" y="166902"/>
                      <a:pt x="520577" y="107294"/>
                    </a:cubicBezTo>
                    <a:cubicBezTo>
                      <a:pt x="520577" y="47686"/>
                      <a:pt x="403348" y="0"/>
                      <a:pt x="260289" y="0"/>
                    </a:cubicBezTo>
                    <a:cubicBezTo>
                      <a:pt x="117229" y="0"/>
                      <a:pt x="0" y="47686"/>
                      <a:pt x="0" y="107294"/>
                    </a:cubicBezTo>
                    <a:cubicBezTo>
                      <a:pt x="0" y="166902"/>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87" name="Freeform: Shape 87"/>
              <p:cNvSpPr/>
              <p:nvPr/>
            </p:nvSpPr>
            <p:spPr>
              <a:xfrm>
                <a:off x="7386480" y="4365360"/>
                <a:ext cx="4060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188" name="Graphic 2" descr=""/>
              <p:cNvPicPr/>
              <p:nvPr/>
            </p:nvPicPr>
            <p:blipFill>
              <a:blip r:embed="rId4"/>
              <a:stretch/>
            </p:blipFill>
            <p:spPr>
              <a:xfrm>
                <a:off x="7350120" y="4376880"/>
                <a:ext cx="480960" cy="122040"/>
              </a:xfrm>
              <a:prstGeom prst="rect">
                <a:avLst/>
              </a:prstGeom>
              <a:ln w="0">
                <a:noFill/>
              </a:ln>
            </p:spPr>
          </p:pic>
        </p:grpSp>
      </p:grpSp>
      <p:grpSp>
        <p:nvGrpSpPr>
          <p:cNvPr id="2189" name="Graphic 2"/>
          <p:cNvGrpSpPr/>
          <p:nvPr/>
        </p:nvGrpSpPr>
        <p:grpSpPr>
          <a:xfrm>
            <a:off x="4749840" y="3402000"/>
            <a:ext cx="565200" cy="541440"/>
            <a:chOff x="4749840" y="3402000"/>
            <a:chExt cx="565200" cy="541440"/>
          </a:xfrm>
        </p:grpSpPr>
        <p:grpSp>
          <p:nvGrpSpPr>
            <p:cNvPr id="2190" name="Graphic 2"/>
            <p:cNvGrpSpPr/>
            <p:nvPr/>
          </p:nvGrpSpPr>
          <p:grpSpPr>
            <a:xfrm>
              <a:off x="4833720" y="3668760"/>
              <a:ext cx="481320" cy="274680"/>
              <a:chOff x="4833720" y="3668760"/>
              <a:chExt cx="481320" cy="274680"/>
            </a:xfrm>
          </p:grpSpPr>
          <p:sp>
            <p:nvSpPr>
              <p:cNvPr id="2191" name="Freeform: Shape 96"/>
              <p:cNvSpPr/>
              <p:nvPr/>
            </p:nvSpPr>
            <p:spPr>
              <a:xfrm>
                <a:off x="4833720" y="378000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92" name="Freeform: Shape 97"/>
              <p:cNvSpPr/>
              <p:nvPr/>
            </p:nvSpPr>
            <p:spPr>
              <a:xfrm>
                <a:off x="4843080" y="3826080"/>
                <a:ext cx="431640" cy="1080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93" name="Freeform: Shape 98"/>
              <p:cNvSpPr/>
              <p:nvPr/>
            </p:nvSpPr>
            <p:spPr>
              <a:xfrm>
                <a:off x="4833720" y="3668760"/>
                <a:ext cx="47916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94" name="Freeform: Shape 99"/>
              <p:cNvSpPr/>
              <p:nvPr/>
            </p:nvSpPr>
            <p:spPr>
              <a:xfrm>
                <a:off x="4865400" y="3693960"/>
                <a:ext cx="415800" cy="17136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95" name="Freeform: Shape 100"/>
              <p:cNvSpPr/>
              <p:nvPr/>
            </p:nvSpPr>
            <p:spPr>
              <a:xfrm>
                <a:off x="4870080" y="3705120"/>
                <a:ext cx="40608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196" name="Graphic 2" descr=""/>
              <p:cNvPicPr/>
              <p:nvPr/>
            </p:nvPicPr>
            <p:blipFill>
              <a:blip r:embed="rId5"/>
              <a:stretch/>
            </p:blipFill>
            <p:spPr>
              <a:xfrm>
                <a:off x="4833720" y="3718440"/>
                <a:ext cx="481320" cy="122040"/>
              </a:xfrm>
              <a:prstGeom prst="rect">
                <a:avLst/>
              </a:prstGeom>
              <a:ln w="0">
                <a:noFill/>
              </a:ln>
            </p:spPr>
          </p:pic>
        </p:grpSp>
        <p:grpSp>
          <p:nvGrpSpPr>
            <p:cNvPr id="2197" name="Graphic 2"/>
            <p:cNvGrpSpPr/>
            <p:nvPr/>
          </p:nvGrpSpPr>
          <p:grpSpPr>
            <a:xfrm>
              <a:off x="4805280" y="3576600"/>
              <a:ext cx="479520" cy="274680"/>
              <a:chOff x="4805280" y="3576600"/>
              <a:chExt cx="479520" cy="274680"/>
            </a:xfrm>
          </p:grpSpPr>
          <p:sp>
            <p:nvSpPr>
              <p:cNvPr id="2198" name="Freeform: Shape 108"/>
              <p:cNvSpPr/>
              <p:nvPr/>
            </p:nvSpPr>
            <p:spPr>
              <a:xfrm>
                <a:off x="4806720" y="3687840"/>
                <a:ext cx="47772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199" name="Freeform: Shape 109"/>
              <p:cNvSpPr/>
              <p:nvPr/>
            </p:nvSpPr>
            <p:spPr>
              <a:xfrm>
                <a:off x="4816440" y="3733920"/>
                <a:ext cx="430200" cy="1080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00" name="Freeform: Shape 110"/>
              <p:cNvSpPr/>
              <p:nvPr/>
            </p:nvSpPr>
            <p:spPr>
              <a:xfrm>
                <a:off x="4806720" y="3576600"/>
                <a:ext cx="47772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01" name="Freeform: Shape 111"/>
              <p:cNvSpPr/>
              <p:nvPr/>
            </p:nvSpPr>
            <p:spPr>
              <a:xfrm>
                <a:off x="4838400" y="3601800"/>
                <a:ext cx="414360" cy="17136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02" name="Freeform: Shape 112"/>
              <p:cNvSpPr/>
              <p:nvPr/>
            </p:nvSpPr>
            <p:spPr>
              <a:xfrm>
                <a:off x="4843080" y="3612960"/>
                <a:ext cx="4046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203" name="Graphic 2" descr=""/>
              <p:cNvPicPr/>
              <p:nvPr/>
            </p:nvPicPr>
            <p:blipFill>
              <a:blip r:embed="rId6"/>
              <a:stretch/>
            </p:blipFill>
            <p:spPr>
              <a:xfrm>
                <a:off x="4805280" y="3627000"/>
                <a:ext cx="479520" cy="122040"/>
              </a:xfrm>
              <a:prstGeom prst="rect">
                <a:avLst/>
              </a:prstGeom>
              <a:ln w="0">
                <a:noFill/>
              </a:ln>
            </p:spPr>
          </p:pic>
        </p:grpSp>
        <p:grpSp>
          <p:nvGrpSpPr>
            <p:cNvPr id="2204" name="Graphic 2"/>
            <p:cNvGrpSpPr/>
            <p:nvPr/>
          </p:nvGrpSpPr>
          <p:grpSpPr>
            <a:xfrm>
              <a:off x="4782960" y="3485880"/>
              <a:ext cx="481320" cy="274680"/>
              <a:chOff x="4782960" y="3485880"/>
              <a:chExt cx="481320" cy="274680"/>
            </a:xfrm>
          </p:grpSpPr>
          <p:sp>
            <p:nvSpPr>
              <p:cNvPr id="2205" name="Freeform: Shape 120"/>
              <p:cNvSpPr/>
              <p:nvPr/>
            </p:nvSpPr>
            <p:spPr>
              <a:xfrm>
                <a:off x="4782960" y="3597120"/>
                <a:ext cx="47700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06" name="Freeform: Shape 121"/>
              <p:cNvSpPr/>
              <p:nvPr/>
            </p:nvSpPr>
            <p:spPr>
              <a:xfrm>
                <a:off x="4792320" y="3643200"/>
                <a:ext cx="431280" cy="10620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07" name="Freeform: Shape 122"/>
              <p:cNvSpPr/>
              <p:nvPr/>
            </p:nvSpPr>
            <p:spPr>
              <a:xfrm>
                <a:off x="4782960" y="3485880"/>
                <a:ext cx="47700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08" name="Freeform: Shape 123"/>
              <p:cNvSpPr/>
              <p:nvPr/>
            </p:nvSpPr>
            <p:spPr>
              <a:xfrm>
                <a:off x="4814280" y="3511080"/>
                <a:ext cx="4140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09" name="Freeform: Shape 124"/>
              <p:cNvSpPr/>
              <p:nvPr/>
            </p:nvSpPr>
            <p:spPr>
              <a:xfrm>
                <a:off x="4818960" y="3522240"/>
                <a:ext cx="404280" cy="1587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210" name="Graphic 2" descr=""/>
              <p:cNvPicPr/>
              <p:nvPr/>
            </p:nvPicPr>
            <p:blipFill>
              <a:blip r:embed="rId7"/>
              <a:stretch/>
            </p:blipFill>
            <p:spPr>
              <a:xfrm>
                <a:off x="4785120" y="3535200"/>
                <a:ext cx="479160" cy="122040"/>
              </a:xfrm>
              <a:prstGeom prst="rect">
                <a:avLst/>
              </a:prstGeom>
              <a:ln w="0">
                <a:noFill/>
              </a:ln>
            </p:spPr>
          </p:pic>
        </p:grpSp>
        <p:grpSp>
          <p:nvGrpSpPr>
            <p:cNvPr id="2211" name="Graphic 2"/>
            <p:cNvGrpSpPr/>
            <p:nvPr/>
          </p:nvGrpSpPr>
          <p:grpSpPr>
            <a:xfrm>
              <a:off x="4749840" y="3402000"/>
              <a:ext cx="481320" cy="274680"/>
              <a:chOff x="4749840" y="3402000"/>
              <a:chExt cx="481320" cy="274680"/>
            </a:xfrm>
          </p:grpSpPr>
          <p:sp>
            <p:nvSpPr>
              <p:cNvPr id="2212" name="Freeform: Shape 132"/>
              <p:cNvSpPr/>
              <p:nvPr/>
            </p:nvSpPr>
            <p:spPr>
              <a:xfrm>
                <a:off x="4750560" y="351324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13" name="Freeform: Shape 133"/>
              <p:cNvSpPr/>
              <p:nvPr/>
            </p:nvSpPr>
            <p:spPr>
              <a:xfrm>
                <a:off x="4760280" y="3559320"/>
                <a:ext cx="433440" cy="10620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14" name="Freeform: Shape 134"/>
              <p:cNvSpPr/>
              <p:nvPr/>
            </p:nvSpPr>
            <p:spPr>
              <a:xfrm>
                <a:off x="4750560" y="3402000"/>
                <a:ext cx="47916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15" name="Freeform: Shape 135"/>
              <p:cNvSpPr/>
              <p:nvPr/>
            </p:nvSpPr>
            <p:spPr>
              <a:xfrm>
                <a:off x="4782600" y="3427200"/>
                <a:ext cx="4158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16" name="Freeform: Shape 136"/>
              <p:cNvSpPr/>
              <p:nvPr/>
            </p:nvSpPr>
            <p:spPr>
              <a:xfrm>
                <a:off x="4787280" y="3438360"/>
                <a:ext cx="4064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217" name="Graphic 2" descr=""/>
              <p:cNvPicPr/>
              <p:nvPr/>
            </p:nvPicPr>
            <p:blipFill>
              <a:blip r:embed="rId8"/>
              <a:stretch/>
            </p:blipFill>
            <p:spPr>
              <a:xfrm>
                <a:off x="4749840" y="3450240"/>
                <a:ext cx="481320" cy="122040"/>
              </a:xfrm>
              <a:prstGeom prst="rect">
                <a:avLst/>
              </a:prstGeom>
              <a:ln w="0">
                <a:noFill/>
              </a:ln>
            </p:spPr>
          </p:pic>
        </p:grpSp>
      </p:grpSp>
      <p:sp>
        <p:nvSpPr>
          <p:cNvPr id="221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2219" name="Freeform: Shape 156"/>
          <p:cNvSpPr/>
          <p:nvPr/>
        </p:nvSpPr>
        <p:spPr>
          <a:xfrm>
            <a:off x="6980400" y="313056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20" name="Freeform: Shape 157"/>
          <p:cNvSpPr/>
          <p:nvPr/>
        </p:nvSpPr>
        <p:spPr>
          <a:xfrm rot="10800000">
            <a:off x="4421160" y="429732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21" name="TextBox 163"/>
          <p:cNvSpPr/>
          <p:nvPr/>
        </p:nvSpPr>
        <p:spPr>
          <a:xfrm>
            <a:off x="43380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c3f"/>
                </a:solidFill>
                <a:latin typeface="Lato"/>
              </a:rPr>
              <a:t>Description</a:t>
            </a:r>
            <a:endParaRPr b="0" lang="en-US" sz="2000" spc="-1" strike="noStrike">
              <a:solidFill>
                <a:srgbClr val="313c3f"/>
              </a:solidFill>
              <a:latin typeface="Source Sans Pro"/>
            </a:endParaRPr>
          </a:p>
        </p:txBody>
      </p:sp>
      <p:sp>
        <p:nvSpPr>
          <p:cNvPr id="2222" name="TextBox 164"/>
          <p:cNvSpPr/>
          <p:nvPr/>
        </p:nvSpPr>
        <p:spPr>
          <a:xfrm>
            <a:off x="1884240" y="2303640"/>
            <a:ext cx="1987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life</a:t>
            </a:r>
            <a:endParaRPr b="0" lang="en-US" sz="1200" spc="-1" strike="noStrike">
              <a:solidFill>
                <a:srgbClr val="313c3f"/>
              </a:solidFill>
              <a:latin typeface="Source Sans Pro"/>
            </a:endParaRPr>
          </a:p>
        </p:txBody>
      </p:sp>
      <p:sp>
        <p:nvSpPr>
          <p:cNvPr id="2223" name="TextBox 165"/>
          <p:cNvSpPr/>
          <p:nvPr/>
        </p:nvSpPr>
        <p:spPr>
          <a:xfrm>
            <a:off x="47628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157d42"/>
                </a:solidFill>
                <a:latin typeface="Lato"/>
              </a:rPr>
              <a:t>40%</a:t>
            </a:r>
            <a:endParaRPr b="0" lang="en-US" sz="4800" spc="-1" strike="noStrike">
              <a:solidFill>
                <a:srgbClr val="313c3f"/>
              </a:solidFill>
              <a:latin typeface="Source Sans Pro"/>
            </a:endParaRPr>
          </a:p>
        </p:txBody>
      </p:sp>
      <p:sp>
        <p:nvSpPr>
          <p:cNvPr id="2224" name="TextBox 166"/>
          <p:cNvSpPr/>
          <p:nvPr/>
        </p:nvSpPr>
        <p:spPr>
          <a:xfrm>
            <a:off x="493560" y="2921040"/>
            <a:ext cx="3370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of</a:t>
            </a:r>
            <a:endParaRPr b="0" lang="en-US" sz="1200" spc="-1" strike="noStrike">
              <a:solidFill>
                <a:srgbClr val="313c3f"/>
              </a:solidFill>
              <a:latin typeface="Source Sans Pro"/>
            </a:endParaRPr>
          </a:p>
        </p:txBody>
      </p:sp>
      <p:sp>
        <p:nvSpPr>
          <p:cNvPr id="2225" name="TextBox 167"/>
          <p:cNvSpPr/>
          <p:nvPr/>
        </p:nvSpPr>
        <p:spPr>
          <a:xfrm>
            <a:off x="826128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13c3f"/>
                </a:solidFill>
                <a:latin typeface="Lato"/>
              </a:rPr>
              <a:t>Description</a:t>
            </a:r>
            <a:endParaRPr b="0" lang="en-US" sz="2000" spc="-1" strike="noStrike">
              <a:solidFill>
                <a:srgbClr val="313c3f"/>
              </a:solidFill>
              <a:latin typeface="Source Sans Pro"/>
            </a:endParaRPr>
          </a:p>
        </p:txBody>
      </p:sp>
      <p:sp>
        <p:nvSpPr>
          <p:cNvPr id="2226" name="TextBox 168"/>
          <p:cNvSpPr/>
          <p:nvPr/>
        </p:nvSpPr>
        <p:spPr>
          <a:xfrm>
            <a:off x="9712440" y="2303640"/>
            <a:ext cx="1985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life</a:t>
            </a:r>
            <a:endParaRPr b="0" lang="en-US" sz="1200" spc="-1" strike="noStrike">
              <a:solidFill>
                <a:srgbClr val="313c3f"/>
              </a:solidFill>
              <a:latin typeface="Source Sans Pro"/>
            </a:endParaRPr>
          </a:p>
        </p:txBody>
      </p:sp>
      <p:sp>
        <p:nvSpPr>
          <p:cNvPr id="2227" name="TextBox 169"/>
          <p:cNvSpPr/>
          <p:nvPr/>
        </p:nvSpPr>
        <p:spPr>
          <a:xfrm>
            <a:off x="830340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e1c11e"/>
                </a:solidFill>
                <a:latin typeface="Lato"/>
              </a:rPr>
              <a:t>60%</a:t>
            </a:r>
            <a:endParaRPr b="0" lang="en-US" sz="4800" spc="-1" strike="noStrike">
              <a:solidFill>
                <a:srgbClr val="313c3f"/>
              </a:solidFill>
              <a:latin typeface="Source Sans Pro"/>
            </a:endParaRPr>
          </a:p>
        </p:txBody>
      </p:sp>
      <p:sp>
        <p:nvSpPr>
          <p:cNvPr id="2228" name="TextBox 170"/>
          <p:cNvSpPr/>
          <p:nvPr/>
        </p:nvSpPr>
        <p:spPr>
          <a:xfrm>
            <a:off x="8319960" y="2921040"/>
            <a:ext cx="33721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s of spring of</a:t>
            </a:r>
            <a:endParaRPr b="0" lang="en-US" sz="1200" spc="-1" strike="noStrike">
              <a:solidFill>
                <a:srgbClr val="313c3f"/>
              </a:solidFill>
              <a:latin typeface="Source Sans Pro"/>
            </a:endParaRPr>
          </a:p>
        </p:txBody>
      </p:sp>
      <p:sp>
        <p:nvSpPr>
          <p:cNvPr id="2229" name="Rectangle 171"/>
          <p:cNvSpPr/>
          <p:nvPr/>
        </p:nvSpPr>
        <p:spPr>
          <a:xfrm>
            <a:off x="88272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30" name="TextBox 172"/>
          <p:cNvSpPr/>
          <p:nvPr/>
        </p:nvSpPr>
        <p:spPr>
          <a:xfrm>
            <a:off x="88272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31" name="Oval 173"/>
          <p:cNvSpPr/>
          <p:nvPr/>
        </p:nvSpPr>
        <p:spPr>
          <a:xfrm>
            <a:off x="604800" y="3722760"/>
            <a:ext cx="203400" cy="20304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32" name="Rectangle 174"/>
          <p:cNvSpPr/>
          <p:nvPr/>
        </p:nvSpPr>
        <p:spPr>
          <a:xfrm>
            <a:off x="88272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33" name="TextBox 175"/>
          <p:cNvSpPr/>
          <p:nvPr/>
        </p:nvSpPr>
        <p:spPr>
          <a:xfrm>
            <a:off x="88272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34" name="Oval 176"/>
          <p:cNvSpPr/>
          <p:nvPr/>
        </p:nvSpPr>
        <p:spPr>
          <a:xfrm>
            <a:off x="604800" y="4815000"/>
            <a:ext cx="203400" cy="20304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35" name="Rectangle 177"/>
          <p:cNvSpPr/>
          <p:nvPr/>
        </p:nvSpPr>
        <p:spPr>
          <a:xfrm>
            <a:off x="868536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36" name="TextBox 178"/>
          <p:cNvSpPr/>
          <p:nvPr/>
        </p:nvSpPr>
        <p:spPr>
          <a:xfrm>
            <a:off x="868536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37" name="Oval 179"/>
          <p:cNvSpPr/>
          <p:nvPr/>
        </p:nvSpPr>
        <p:spPr>
          <a:xfrm>
            <a:off x="8407440" y="3722760"/>
            <a:ext cx="203040" cy="20304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38" name="Rectangle 180"/>
          <p:cNvSpPr/>
          <p:nvPr/>
        </p:nvSpPr>
        <p:spPr>
          <a:xfrm>
            <a:off x="868536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39" name="TextBox 181"/>
          <p:cNvSpPr/>
          <p:nvPr/>
        </p:nvSpPr>
        <p:spPr>
          <a:xfrm>
            <a:off x="868536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40" name="Oval 182"/>
          <p:cNvSpPr/>
          <p:nvPr/>
        </p:nvSpPr>
        <p:spPr>
          <a:xfrm>
            <a:off x="8407440" y="4815000"/>
            <a:ext cx="203040" cy="20304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Tree>
  </p:cSld>
  <p:transition spd="med">
    <p:fade/>
  </p:transition>
  <p:timing>
    <p:tnLst>
      <p:par>
        <p:cTn id="2110" dur="indefinite" restart="never" nodeType="tmRoot">
          <p:childTnLst>
            <p:seq>
              <p:cTn id="2111" dur="indefinite" nodeType="mainSeq">
                <p:childTnLst>
                  <p:par>
                    <p:cTn id="2112" nodeType="clickEffect" fill="hold">
                      <p:stCondLst>
                        <p:cond delay="0"/>
                      </p:stCondLst>
                      <p:childTnLst>
                        <p:par>
                          <p:cTn id="2113" nodeType="withEffect" fill="hold">
                            <p:stCondLst>
                              <p:cond delay="0"/>
                            </p:stCondLst>
                            <p:childTnLst>
                              <p:par>
                                <p:cTn id="2114" nodeType="afterEffect" fill="hold" presetClass="entr" presetID="10">
                                  <p:stCondLst>
                                    <p:cond delay="0"/>
                                  </p:stCondLst>
                                  <p:childTnLst>
                                    <p:set>
                                      <p:cBhvr>
                                        <p:cTn id="2115" dur="1" fill="hold">
                                          <p:stCondLst>
                                            <p:cond delay="0"/>
                                          </p:stCondLst>
                                        </p:cTn>
                                        <p:tgtEl>
                                          <p:spTgt spid="2218"/>
                                        </p:tgtEl>
                                        <p:attrNameLst>
                                          <p:attrName>style.visibility</p:attrName>
                                        </p:attrNameLst>
                                      </p:cBhvr>
                                      <p:to>
                                        <p:strVal val="visible"/>
                                      </p:to>
                                    </p:set>
                                    <p:animEffect filter="fade" transition="in">
                                      <p:cBhvr additive="repl">
                                        <p:cTn id="2116" dur="500"/>
                                        <p:tgtEl>
                                          <p:spTgt spid="2218"/>
                                        </p:tgtEl>
                                      </p:cBhvr>
                                    </p:animEffect>
                                  </p:childTnLst>
                                </p:cTn>
                              </p:par>
                            </p:childTnLst>
                          </p:cTn>
                        </p:par>
                        <p:par>
                          <p:cTn id="2117" nodeType="afterEffect" fill="hold">
                            <p:stCondLst>
                              <p:cond delay="500"/>
                            </p:stCondLst>
                            <p:childTnLst>
                              <p:par>
                                <p:cTn id="2118" nodeType="afterEffect" fill="hold" presetClass="entr" presetID="22" presetSubtype="2">
                                  <p:stCondLst>
                                    <p:cond delay="0"/>
                                  </p:stCondLst>
                                  <p:childTnLst>
                                    <p:set>
                                      <p:cBhvr>
                                        <p:cTn id="2119" dur="1" fill="hold">
                                          <p:stCondLst>
                                            <p:cond delay="0"/>
                                          </p:stCondLst>
                                        </p:cTn>
                                        <p:tgtEl>
                                          <p:spTgt spid="2119"/>
                                        </p:tgtEl>
                                        <p:attrNameLst>
                                          <p:attrName>style.visibility</p:attrName>
                                        </p:attrNameLst>
                                      </p:cBhvr>
                                      <p:to>
                                        <p:strVal val="visible"/>
                                      </p:to>
                                    </p:set>
                                    <p:animEffect filter="wipe(right)" transition="in">
                                      <p:cBhvr additive="repl">
                                        <p:cTn id="2120" dur="500"/>
                                        <p:tgtEl>
                                          <p:spTgt spid="2119"/>
                                        </p:tgtEl>
                                      </p:cBhvr>
                                    </p:animEffect>
                                  </p:childTnLst>
                                </p:cTn>
                              </p:par>
                            </p:childTnLst>
                          </p:cTn>
                        </p:par>
                        <p:par>
                          <p:cTn id="2121" nodeType="afterEffect" fill="hold">
                            <p:stCondLst>
                              <p:cond delay="1000"/>
                            </p:stCondLst>
                            <p:childTnLst>
                              <p:par>
                                <p:cTn id="2122" nodeType="afterEffect" fill="hold" presetClass="entr" presetID="10">
                                  <p:stCondLst>
                                    <p:cond delay="0"/>
                                  </p:stCondLst>
                                  <p:childTnLst>
                                    <p:set>
                                      <p:cBhvr>
                                        <p:cTn id="2123" dur="1" fill="hold">
                                          <p:stCondLst>
                                            <p:cond delay="0"/>
                                          </p:stCondLst>
                                        </p:cTn>
                                        <p:tgtEl>
                                          <p:spTgt spid="2150"/>
                                        </p:tgtEl>
                                        <p:attrNameLst>
                                          <p:attrName>style.visibility</p:attrName>
                                        </p:attrNameLst>
                                      </p:cBhvr>
                                      <p:to>
                                        <p:strVal val="visible"/>
                                      </p:to>
                                    </p:set>
                                    <p:animEffect filter="fade" transition="in">
                                      <p:cBhvr additive="repl">
                                        <p:cTn id="2124" dur="500"/>
                                        <p:tgtEl>
                                          <p:spTgt spid="2150"/>
                                        </p:tgtEl>
                                      </p:cBhvr>
                                    </p:animEffect>
                                  </p:childTnLst>
                                </p:cTn>
                              </p:par>
                              <p:par>
                                <p:cTn id="2125" nodeType="withEffect" fill="hold" presetClass="entr" presetID="10">
                                  <p:stCondLst>
                                    <p:cond delay="0"/>
                                  </p:stCondLst>
                                  <p:childTnLst>
                                    <p:set>
                                      <p:cBhvr>
                                        <p:cTn id="2126" dur="1" fill="hold">
                                          <p:stCondLst>
                                            <p:cond delay="0"/>
                                          </p:stCondLst>
                                        </p:cTn>
                                        <p:tgtEl>
                                          <p:spTgt spid="2160"/>
                                        </p:tgtEl>
                                        <p:attrNameLst>
                                          <p:attrName>style.visibility</p:attrName>
                                        </p:attrNameLst>
                                      </p:cBhvr>
                                      <p:to>
                                        <p:strVal val="visible"/>
                                      </p:to>
                                    </p:set>
                                    <p:animEffect filter="fade" transition="in">
                                      <p:cBhvr additive="repl">
                                        <p:cTn id="2127" dur="500"/>
                                        <p:tgtEl>
                                          <p:spTgt spid="2160"/>
                                        </p:tgtEl>
                                      </p:cBhvr>
                                    </p:animEffect>
                                  </p:childTnLst>
                                </p:cTn>
                              </p:par>
                              <p:par>
                                <p:cTn id="2128" nodeType="withEffect" fill="hold" presetClass="entr" presetID="10">
                                  <p:stCondLst>
                                    <p:cond delay="0"/>
                                  </p:stCondLst>
                                  <p:childTnLst>
                                    <p:set>
                                      <p:cBhvr>
                                        <p:cTn id="2129" dur="1" fill="hold">
                                          <p:stCondLst>
                                            <p:cond delay="0"/>
                                          </p:stCondLst>
                                        </p:cTn>
                                        <p:tgtEl>
                                          <p:spTgt spid="2219"/>
                                        </p:tgtEl>
                                        <p:attrNameLst>
                                          <p:attrName>style.visibility</p:attrName>
                                        </p:attrNameLst>
                                      </p:cBhvr>
                                      <p:to>
                                        <p:strVal val="visible"/>
                                      </p:to>
                                    </p:set>
                                    <p:animEffect filter="fade" transition="in">
                                      <p:cBhvr additive="repl">
                                        <p:cTn id="2130" dur="500"/>
                                        <p:tgtEl>
                                          <p:spTgt spid="2219"/>
                                        </p:tgtEl>
                                      </p:cBhvr>
                                    </p:animEffect>
                                  </p:childTnLst>
                                </p:cTn>
                              </p:par>
                            </p:childTnLst>
                          </p:cTn>
                        </p:par>
                        <p:par>
                          <p:cTn id="2131" nodeType="afterEffect" fill="hold">
                            <p:stCondLst>
                              <p:cond delay="1500"/>
                            </p:stCondLst>
                            <p:childTnLst>
                              <p:par>
                                <p:cTn id="2132" nodeType="afterEffect" fill="hold" presetClass="entr" presetID="10">
                                  <p:stCondLst>
                                    <p:cond delay="0"/>
                                  </p:stCondLst>
                                  <p:childTnLst>
                                    <p:set>
                                      <p:cBhvr>
                                        <p:cTn id="2133" dur="1" fill="hold">
                                          <p:stCondLst>
                                            <p:cond delay="0"/>
                                          </p:stCondLst>
                                        </p:cTn>
                                        <p:tgtEl>
                                          <p:spTgt spid="2140"/>
                                        </p:tgtEl>
                                        <p:attrNameLst>
                                          <p:attrName>style.visibility</p:attrName>
                                        </p:attrNameLst>
                                      </p:cBhvr>
                                      <p:to>
                                        <p:strVal val="visible"/>
                                      </p:to>
                                    </p:set>
                                    <p:animEffect filter="fade" transition="in">
                                      <p:cBhvr additive="repl">
                                        <p:cTn id="2134" dur="500"/>
                                        <p:tgtEl>
                                          <p:spTgt spid="2140"/>
                                        </p:tgtEl>
                                      </p:cBhvr>
                                    </p:animEffect>
                                  </p:childTnLst>
                                </p:cTn>
                              </p:par>
                              <p:par>
                                <p:cTn id="2135" nodeType="withEffect" fill="hold" presetClass="entr" presetID="10">
                                  <p:stCondLst>
                                    <p:cond delay="0"/>
                                  </p:stCondLst>
                                  <p:childTnLst>
                                    <p:set>
                                      <p:cBhvr>
                                        <p:cTn id="2136" dur="1" fill="hold">
                                          <p:stCondLst>
                                            <p:cond delay="0"/>
                                          </p:stCondLst>
                                        </p:cTn>
                                        <p:tgtEl>
                                          <p:spTgt spid="2189"/>
                                        </p:tgtEl>
                                        <p:attrNameLst>
                                          <p:attrName>style.visibility</p:attrName>
                                        </p:attrNameLst>
                                      </p:cBhvr>
                                      <p:to>
                                        <p:strVal val="visible"/>
                                      </p:to>
                                    </p:set>
                                    <p:animEffect filter="fade" transition="in">
                                      <p:cBhvr additive="repl">
                                        <p:cTn id="2137" dur="500"/>
                                        <p:tgtEl>
                                          <p:spTgt spid="2189"/>
                                        </p:tgtEl>
                                      </p:cBhvr>
                                    </p:animEffect>
                                  </p:childTnLst>
                                </p:cTn>
                              </p:par>
                              <p:par>
                                <p:cTn id="2138" nodeType="withEffect" fill="hold" presetClass="entr" presetID="10">
                                  <p:stCondLst>
                                    <p:cond delay="0"/>
                                  </p:stCondLst>
                                  <p:childTnLst>
                                    <p:set>
                                      <p:cBhvr>
                                        <p:cTn id="2139" dur="1" fill="hold">
                                          <p:stCondLst>
                                            <p:cond delay="0"/>
                                          </p:stCondLst>
                                        </p:cTn>
                                        <p:tgtEl>
                                          <p:spTgt spid="2220"/>
                                        </p:tgtEl>
                                        <p:attrNameLst>
                                          <p:attrName>style.visibility</p:attrName>
                                        </p:attrNameLst>
                                      </p:cBhvr>
                                      <p:to>
                                        <p:strVal val="visible"/>
                                      </p:to>
                                    </p:set>
                                    <p:animEffect filter="fade" transition="in">
                                      <p:cBhvr additive="repl">
                                        <p:cTn id="2140" dur="500"/>
                                        <p:tgtEl>
                                          <p:spTgt spid="2220"/>
                                        </p:tgtEl>
                                      </p:cBhvr>
                                    </p:animEffect>
                                  </p:childTnLst>
                                </p:cTn>
                              </p:par>
                            </p:childTnLst>
                          </p:cTn>
                        </p:par>
                        <p:par>
                          <p:cTn id="2141" nodeType="afterEffect" fill="hold">
                            <p:stCondLst>
                              <p:cond delay="2000"/>
                            </p:stCondLst>
                            <p:childTnLst>
                              <p:par>
                                <p:cTn id="2142" nodeType="afterEffect" fill="hold" presetClass="entr" presetID="10">
                                  <p:stCondLst>
                                    <p:cond delay="0"/>
                                  </p:stCondLst>
                                  <p:childTnLst>
                                    <p:set>
                                      <p:cBhvr>
                                        <p:cTn id="2143" dur="1" fill="hold">
                                          <p:stCondLst>
                                            <p:cond delay="0"/>
                                          </p:stCondLst>
                                        </p:cTn>
                                        <p:tgtEl>
                                          <p:spTgt spid="2221"/>
                                        </p:tgtEl>
                                        <p:attrNameLst>
                                          <p:attrName>style.visibility</p:attrName>
                                        </p:attrNameLst>
                                      </p:cBhvr>
                                      <p:to>
                                        <p:strVal val="visible"/>
                                      </p:to>
                                    </p:set>
                                    <p:animEffect filter="fade" transition="in">
                                      <p:cBhvr additive="repl">
                                        <p:cTn id="2144" dur="500"/>
                                        <p:tgtEl>
                                          <p:spTgt spid="2221"/>
                                        </p:tgtEl>
                                      </p:cBhvr>
                                    </p:animEffect>
                                  </p:childTnLst>
                                </p:cTn>
                              </p:par>
                              <p:par>
                                <p:cTn id="2145" nodeType="withEffect" fill="hold" presetClass="entr" presetID="10">
                                  <p:stCondLst>
                                    <p:cond delay="0"/>
                                  </p:stCondLst>
                                  <p:childTnLst>
                                    <p:set>
                                      <p:cBhvr>
                                        <p:cTn id="2146" dur="1" fill="hold">
                                          <p:stCondLst>
                                            <p:cond delay="0"/>
                                          </p:stCondLst>
                                        </p:cTn>
                                        <p:tgtEl>
                                          <p:spTgt spid="2225"/>
                                        </p:tgtEl>
                                        <p:attrNameLst>
                                          <p:attrName>style.visibility</p:attrName>
                                        </p:attrNameLst>
                                      </p:cBhvr>
                                      <p:to>
                                        <p:strVal val="visible"/>
                                      </p:to>
                                    </p:set>
                                    <p:animEffect filter="fade" transition="in">
                                      <p:cBhvr additive="repl">
                                        <p:cTn id="2147" dur="500"/>
                                        <p:tgtEl>
                                          <p:spTgt spid="2225"/>
                                        </p:tgtEl>
                                      </p:cBhvr>
                                    </p:animEffect>
                                  </p:childTnLst>
                                </p:cTn>
                              </p:par>
                            </p:childTnLst>
                          </p:cTn>
                        </p:par>
                        <p:par>
                          <p:cTn id="2148" nodeType="afterEffect" fill="hold">
                            <p:stCondLst>
                              <p:cond delay="2500"/>
                            </p:stCondLst>
                            <p:childTnLst>
                              <p:par>
                                <p:cTn id="2149" nodeType="afterEffect" fill="hold" presetClass="entr" presetID="10">
                                  <p:stCondLst>
                                    <p:cond delay="0"/>
                                  </p:stCondLst>
                                  <p:childTnLst>
                                    <p:set>
                                      <p:cBhvr>
                                        <p:cTn id="2150" dur="1" fill="hold">
                                          <p:stCondLst>
                                            <p:cond delay="0"/>
                                          </p:stCondLst>
                                        </p:cTn>
                                        <p:tgtEl>
                                          <p:spTgt spid="2223"/>
                                        </p:tgtEl>
                                        <p:attrNameLst>
                                          <p:attrName>style.visibility</p:attrName>
                                        </p:attrNameLst>
                                      </p:cBhvr>
                                      <p:to>
                                        <p:strVal val="visible"/>
                                      </p:to>
                                    </p:set>
                                    <p:animEffect filter="fade" transition="in">
                                      <p:cBhvr additive="repl">
                                        <p:cTn id="2151" dur="500"/>
                                        <p:tgtEl>
                                          <p:spTgt spid="2223"/>
                                        </p:tgtEl>
                                      </p:cBhvr>
                                    </p:animEffect>
                                  </p:childTnLst>
                                </p:cTn>
                              </p:par>
                              <p:par>
                                <p:cTn id="2152" nodeType="withEffect" fill="hold" presetClass="entr" presetID="10">
                                  <p:stCondLst>
                                    <p:cond delay="0"/>
                                  </p:stCondLst>
                                  <p:childTnLst>
                                    <p:set>
                                      <p:cBhvr>
                                        <p:cTn id="2153" dur="1" fill="hold">
                                          <p:stCondLst>
                                            <p:cond delay="0"/>
                                          </p:stCondLst>
                                        </p:cTn>
                                        <p:tgtEl>
                                          <p:spTgt spid="2227"/>
                                        </p:tgtEl>
                                        <p:attrNameLst>
                                          <p:attrName>style.visibility</p:attrName>
                                        </p:attrNameLst>
                                      </p:cBhvr>
                                      <p:to>
                                        <p:strVal val="visible"/>
                                      </p:to>
                                    </p:set>
                                    <p:animEffect filter="fade" transition="in">
                                      <p:cBhvr additive="repl">
                                        <p:cTn id="2154" dur="500"/>
                                        <p:tgtEl>
                                          <p:spTgt spid="2227"/>
                                        </p:tgtEl>
                                      </p:cBhvr>
                                    </p:animEffect>
                                  </p:childTnLst>
                                </p:cTn>
                              </p:par>
                            </p:childTnLst>
                          </p:cTn>
                        </p:par>
                        <p:par>
                          <p:cTn id="2155" nodeType="afterEffect" fill="hold">
                            <p:stCondLst>
                              <p:cond delay="3000"/>
                            </p:stCondLst>
                            <p:childTnLst>
                              <p:par>
                                <p:cTn id="2156" nodeType="afterEffect" fill="hold" presetClass="entr" presetID="10">
                                  <p:stCondLst>
                                    <p:cond delay="0"/>
                                  </p:stCondLst>
                                  <p:childTnLst>
                                    <p:set>
                                      <p:cBhvr>
                                        <p:cTn id="2157" dur="1" fill="hold">
                                          <p:stCondLst>
                                            <p:cond delay="0"/>
                                          </p:stCondLst>
                                        </p:cTn>
                                        <p:tgtEl>
                                          <p:spTgt spid="2222"/>
                                        </p:tgtEl>
                                        <p:attrNameLst>
                                          <p:attrName>style.visibility</p:attrName>
                                        </p:attrNameLst>
                                      </p:cBhvr>
                                      <p:to>
                                        <p:strVal val="visible"/>
                                      </p:to>
                                    </p:set>
                                    <p:animEffect filter="fade" transition="in">
                                      <p:cBhvr additive="repl">
                                        <p:cTn id="2158" dur="500"/>
                                        <p:tgtEl>
                                          <p:spTgt spid="2222"/>
                                        </p:tgtEl>
                                      </p:cBhvr>
                                    </p:animEffect>
                                  </p:childTnLst>
                                </p:cTn>
                              </p:par>
                              <p:par>
                                <p:cTn id="2159" nodeType="withEffect" fill="hold" presetClass="entr" presetID="10">
                                  <p:stCondLst>
                                    <p:cond delay="0"/>
                                  </p:stCondLst>
                                  <p:childTnLst>
                                    <p:set>
                                      <p:cBhvr>
                                        <p:cTn id="2160" dur="1" fill="hold">
                                          <p:stCondLst>
                                            <p:cond delay="0"/>
                                          </p:stCondLst>
                                        </p:cTn>
                                        <p:tgtEl>
                                          <p:spTgt spid="2226"/>
                                        </p:tgtEl>
                                        <p:attrNameLst>
                                          <p:attrName>style.visibility</p:attrName>
                                        </p:attrNameLst>
                                      </p:cBhvr>
                                      <p:to>
                                        <p:strVal val="visible"/>
                                      </p:to>
                                    </p:set>
                                    <p:animEffect filter="fade" transition="in">
                                      <p:cBhvr additive="repl">
                                        <p:cTn id="2161" dur="500"/>
                                        <p:tgtEl>
                                          <p:spTgt spid="2226"/>
                                        </p:tgtEl>
                                      </p:cBhvr>
                                    </p:animEffect>
                                  </p:childTnLst>
                                </p:cTn>
                              </p:par>
                            </p:childTnLst>
                          </p:cTn>
                        </p:par>
                        <p:par>
                          <p:cTn id="2162" nodeType="afterEffect" fill="hold">
                            <p:stCondLst>
                              <p:cond delay="3500"/>
                            </p:stCondLst>
                            <p:childTnLst>
                              <p:par>
                                <p:cTn id="2163" nodeType="afterEffect" fill="hold" presetClass="entr" presetID="10">
                                  <p:stCondLst>
                                    <p:cond delay="0"/>
                                  </p:stCondLst>
                                  <p:childTnLst>
                                    <p:set>
                                      <p:cBhvr>
                                        <p:cTn id="2164" dur="1" fill="hold">
                                          <p:stCondLst>
                                            <p:cond delay="0"/>
                                          </p:stCondLst>
                                        </p:cTn>
                                        <p:tgtEl>
                                          <p:spTgt spid="2224"/>
                                        </p:tgtEl>
                                        <p:attrNameLst>
                                          <p:attrName>style.visibility</p:attrName>
                                        </p:attrNameLst>
                                      </p:cBhvr>
                                      <p:to>
                                        <p:strVal val="visible"/>
                                      </p:to>
                                    </p:set>
                                    <p:animEffect filter="fade" transition="in">
                                      <p:cBhvr additive="repl">
                                        <p:cTn id="2165" dur="500"/>
                                        <p:tgtEl>
                                          <p:spTgt spid="2224"/>
                                        </p:tgtEl>
                                      </p:cBhvr>
                                    </p:animEffect>
                                  </p:childTnLst>
                                </p:cTn>
                              </p:par>
                              <p:par>
                                <p:cTn id="2166" nodeType="withEffect" fill="hold" presetClass="entr" presetID="10">
                                  <p:stCondLst>
                                    <p:cond delay="0"/>
                                  </p:stCondLst>
                                  <p:childTnLst>
                                    <p:set>
                                      <p:cBhvr>
                                        <p:cTn id="2167" dur="1" fill="hold">
                                          <p:stCondLst>
                                            <p:cond delay="0"/>
                                          </p:stCondLst>
                                        </p:cTn>
                                        <p:tgtEl>
                                          <p:spTgt spid="2228"/>
                                        </p:tgtEl>
                                        <p:attrNameLst>
                                          <p:attrName>style.visibility</p:attrName>
                                        </p:attrNameLst>
                                      </p:cBhvr>
                                      <p:to>
                                        <p:strVal val="visible"/>
                                      </p:to>
                                    </p:set>
                                    <p:animEffect filter="fade" transition="in">
                                      <p:cBhvr additive="repl">
                                        <p:cTn id="2168" dur="500"/>
                                        <p:tgtEl>
                                          <p:spTgt spid="2228"/>
                                        </p:tgtEl>
                                      </p:cBhvr>
                                    </p:animEffect>
                                  </p:childTnLst>
                                </p:cTn>
                              </p:par>
                            </p:childTnLst>
                          </p:cTn>
                        </p:par>
                        <p:par>
                          <p:cTn id="2169" nodeType="afterEffect" fill="hold">
                            <p:stCondLst>
                              <p:cond delay="4000"/>
                            </p:stCondLst>
                            <p:childTnLst>
                              <p:par>
                                <p:cTn id="2170" nodeType="afterEffect" fill="hold" presetClass="entr" presetID="10">
                                  <p:stCondLst>
                                    <p:cond delay="0"/>
                                  </p:stCondLst>
                                  <p:childTnLst>
                                    <p:set>
                                      <p:cBhvr>
                                        <p:cTn id="2171" dur="1" fill="hold">
                                          <p:stCondLst>
                                            <p:cond delay="0"/>
                                          </p:stCondLst>
                                        </p:cTn>
                                        <p:tgtEl>
                                          <p:spTgt spid="2231"/>
                                        </p:tgtEl>
                                        <p:attrNameLst>
                                          <p:attrName>style.visibility</p:attrName>
                                        </p:attrNameLst>
                                      </p:cBhvr>
                                      <p:to>
                                        <p:strVal val="visible"/>
                                      </p:to>
                                    </p:set>
                                    <p:animEffect filter="fade" transition="in">
                                      <p:cBhvr additive="repl">
                                        <p:cTn id="2172" dur="500"/>
                                        <p:tgtEl>
                                          <p:spTgt spid="2231"/>
                                        </p:tgtEl>
                                      </p:cBhvr>
                                    </p:animEffect>
                                  </p:childTnLst>
                                </p:cTn>
                              </p:par>
                              <p:par>
                                <p:cTn id="2173" nodeType="withEffect" fill="hold" presetClass="entr" presetID="10">
                                  <p:stCondLst>
                                    <p:cond delay="0"/>
                                  </p:stCondLst>
                                  <p:childTnLst>
                                    <p:set>
                                      <p:cBhvr>
                                        <p:cTn id="2174" dur="1" fill="hold">
                                          <p:stCondLst>
                                            <p:cond delay="0"/>
                                          </p:stCondLst>
                                        </p:cTn>
                                        <p:tgtEl>
                                          <p:spTgt spid="2234"/>
                                        </p:tgtEl>
                                        <p:attrNameLst>
                                          <p:attrName>style.visibility</p:attrName>
                                        </p:attrNameLst>
                                      </p:cBhvr>
                                      <p:to>
                                        <p:strVal val="visible"/>
                                      </p:to>
                                    </p:set>
                                    <p:animEffect filter="fade" transition="in">
                                      <p:cBhvr additive="repl">
                                        <p:cTn id="2175" dur="500"/>
                                        <p:tgtEl>
                                          <p:spTgt spid="2234"/>
                                        </p:tgtEl>
                                      </p:cBhvr>
                                    </p:animEffect>
                                  </p:childTnLst>
                                </p:cTn>
                              </p:par>
                              <p:par>
                                <p:cTn id="2176" nodeType="withEffect" fill="hold" presetClass="entr" presetID="10">
                                  <p:stCondLst>
                                    <p:cond delay="0"/>
                                  </p:stCondLst>
                                  <p:childTnLst>
                                    <p:set>
                                      <p:cBhvr>
                                        <p:cTn id="2177" dur="1" fill="hold">
                                          <p:stCondLst>
                                            <p:cond delay="0"/>
                                          </p:stCondLst>
                                        </p:cTn>
                                        <p:tgtEl>
                                          <p:spTgt spid="2237"/>
                                        </p:tgtEl>
                                        <p:attrNameLst>
                                          <p:attrName>style.visibility</p:attrName>
                                        </p:attrNameLst>
                                      </p:cBhvr>
                                      <p:to>
                                        <p:strVal val="visible"/>
                                      </p:to>
                                    </p:set>
                                    <p:animEffect filter="fade" transition="in">
                                      <p:cBhvr additive="repl">
                                        <p:cTn id="2178" dur="500"/>
                                        <p:tgtEl>
                                          <p:spTgt spid="2237"/>
                                        </p:tgtEl>
                                      </p:cBhvr>
                                    </p:animEffect>
                                  </p:childTnLst>
                                </p:cTn>
                              </p:par>
                              <p:par>
                                <p:cTn id="2179" nodeType="withEffect" fill="hold" presetClass="entr" presetID="10">
                                  <p:stCondLst>
                                    <p:cond delay="0"/>
                                  </p:stCondLst>
                                  <p:childTnLst>
                                    <p:set>
                                      <p:cBhvr>
                                        <p:cTn id="2180" dur="1" fill="hold">
                                          <p:stCondLst>
                                            <p:cond delay="0"/>
                                          </p:stCondLst>
                                        </p:cTn>
                                        <p:tgtEl>
                                          <p:spTgt spid="2240"/>
                                        </p:tgtEl>
                                        <p:attrNameLst>
                                          <p:attrName>style.visibility</p:attrName>
                                        </p:attrNameLst>
                                      </p:cBhvr>
                                      <p:to>
                                        <p:strVal val="visible"/>
                                      </p:to>
                                    </p:set>
                                    <p:animEffect filter="fade" transition="in">
                                      <p:cBhvr additive="repl">
                                        <p:cTn id="2181" dur="500"/>
                                        <p:tgtEl>
                                          <p:spTgt spid="2240"/>
                                        </p:tgtEl>
                                      </p:cBhvr>
                                    </p:animEffect>
                                  </p:childTnLst>
                                </p:cTn>
                              </p:par>
                              <p:par>
                                <p:cTn id="2182" nodeType="withEffect" fill="hold" presetClass="entr" presetID="10">
                                  <p:stCondLst>
                                    <p:cond delay="0"/>
                                  </p:stCondLst>
                                  <p:childTnLst>
                                    <p:set>
                                      <p:cBhvr>
                                        <p:cTn id="2183" dur="1" fill="hold">
                                          <p:stCondLst>
                                            <p:cond delay="0"/>
                                          </p:stCondLst>
                                        </p:cTn>
                                        <p:tgtEl>
                                          <p:spTgt spid="2230"/>
                                        </p:tgtEl>
                                        <p:attrNameLst>
                                          <p:attrName>style.visibility</p:attrName>
                                        </p:attrNameLst>
                                      </p:cBhvr>
                                      <p:to>
                                        <p:strVal val="visible"/>
                                      </p:to>
                                    </p:set>
                                    <p:animEffect filter="fade" transition="in">
                                      <p:cBhvr additive="repl">
                                        <p:cTn id="2184" dur="500"/>
                                        <p:tgtEl>
                                          <p:spTgt spid="2230"/>
                                        </p:tgtEl>
                                      </p:cBhvr>
                                    </p:animEffect>
                                  </p:childTnLst>
                                </p:cTn>
                              </p:par>
                              <p:par>
                                <p:cTn id="2185" nodeType="withEffect" fill="hold" presetClass="entr" presetID="10">
                                  <p:stCondLst>
                                    <p:cond delay="0"/>
                                  </p:stCondLst>
                                  <p:childTnLst>
                                    <p:set>
                                      <p:cBhvr>
                                        <p:cTn id="2186" dur="1" fill="hold">
                                          <p:stCondLst>
                                            <p:cond delay="0"/>
                                          </p:stCondLst>
                                        </p:cTn>
                                        <p:tgtEl>
                                          <p:spTgt spid="2233"/>
                                        </p:tgtEl>
                                        <p:attrNameLst>
                                          <p:attrName>style.visibility</p:attrName>
                                        </p:attrNameLst>
                                      </p:cBhvr>
                                      <p:to>
                                        <p:strVal val="visible"/>
                                      </p:to>
                                    </p:set>
                                    <p:animEffect filter="fade" transition="in">
                                      <p:cBhvr additive="repl">
                                        <p:cTn id="2187" dur="500"/>
                                        <p:tgtEl>
                                          <p:spTgt spid="2233"/>
                                        </p:tgtEl>
                                      </p:cBhvr>
                                    </p:animEffect>
                                  </p:childTnLst>
                                </p:cTn>
                              </p:par>
                              <p:par>
                                <p:cTn id="2188" nodeType="withEffect" fill="hold" presetClass="entr" presetID="10">
                                  <p:stCondLst>
                                    <p:cond delay="0"/>
                                  </p:stCondLst>
                                  <p:childTnLst>
                                    <p:set>
                                      <p:cBhvr>
                                        <p:cTn id="2189" dur="1" fill="hold">
                                          <p:stCondLst>
                                            <p:cond delay="0"/>
                                          </p:stCondLst>
                                        </p:cTn>
                                        <p:tgtEl>
                                          <p:spTgt spid="2236"/>
                                        </p:tgtEl>
                                        <p:attrNameLst>
                                          <p:attrName>style.visibility</p:attrName>
                                        </p:attrNameLst>
                                      </p:cBhvr>
                                      <p:to>
                                        <p:strVal val="visible"/>
                                      </p:to>
                                    </p:set>
                                    <p:animEffect filter="fade" transition="in">
                                      <p:cBhvr additive="repl">
                                        <p:cTn id="2190" dur="500"/>
                                        <p:tgtEl>
                                          <p:spTgt spid="2236"/>
                                        </p:tgtEl>
                                      </p:cBhvr>
                                    </p:animEffect>
                                  </p:childTnLst>
                                </p:cTn>
                              </p:par>
                              <p:par>
                                <p:cTn id="2191" nodeType="withEffect" fill="hold" presetClass="entr" presetID="10">
                                  <p:stCondLst>
                                    <p:cond delay="0"/>
                                  </p:stCondLst>
                                  <p:childTnLst>
                                    <p:set>
                                      <p:cBhvr>
                                        <p:cTn id="2192" dur="1" fill="hold">
                                          <p:stCondLst>
                                            <p:cond delay="0"/>
                                          </p:stCondLst>
                                        </p:cTn>
                                        <p:tgtEl>
                                          <p:spTgt spid="2239"/>
                                        </p:tgtEl>
                                        <p:attrNameLst>
                                          <p:attrName>style.visibility</p:attrName>
                                        </p:attrNameLst>
                                      </p:cBhvr>
                                      <p:to>
                                        <p:strVal val="visible"/>
                                      </p:to>
                                    </p:set>
                                    <p:animEffect filter="fade" transition="in">
                                      <p:cBhvr additive="repl">
                                        <p:cTn id="2193" dur="500"/>
                                        <p:tgtEl>
                                          <p:spTgt spid="2239"/>
                                        </p:tgtEl>
                                      </p:cBhvr>
                                    </p:animEffect>
                                  </p:childTnLst>
                                </p:cTn>
                              </p:par>
                            </p:childTnLst>
                          </p:cTn>
                        </p:par>
                        <p:par>
                          <p:cTn id="2194" nodeType="afterEffect" fill="hold">
                            <p:stCondLst>
                              <p:cond delay="4500"/>
                            </p:stCondLst>
                            <p:childTnLst>
                              <p:par>
                                <p:cTn id="2195" nodeType="afterEffect" fill="hold" presetClass="entr" presetID="10">
                                  <p:stCondLst>
                                    <p:cond delay="0"/>
                                  </p:stCondLst>
                                  <p:childTnLst>
                                    <p:set>
                                      <p:cBhvr>
                                        <p:cTn id="2196" dur="1" fill="hold">
                                          <p:stCondLst>
                                            <p:cond delay="0"/>
                                          </p:stCondLst>
                                        </p:cTn>
                                        <p:tgtEl>
                                          <p:spTgt spid="2229"/>
                                        </p:tgtEl>
                                        <p:attrNameLst>
                                          <p:attrName>style.visibility</p:attrName>
                                        </p:attrNameLst>
                                      </p:cBhvr>
                                      <p:to>
                                        <p:strVal val="visible"/>
                                      </p:to>
                                    </p:set>
                                    <p:animEffect filter="fade" transition="in">
                                      <p:cBhvr additive="repl">
                                        <p:cTn id="2197" dur="500"/>
                                        <p:tgtEl>
                                          <p:spTgt spid="2229"/>
                                        </p:tgtEl>
                                      </p:cBhvr>
                                    </p:animEffect>
                                  </p:childTnLst>
                                </p:cTn>
                              </p:par>
                              <p:par>
                                <p:cTn id="2198" nodeType="withEffect" fill="hold" presetClass="entr" presetID="10">
                                  <p:stCondLst>
                                    <p:cond delay="0"/>
                                  </p:stCondLst>
                                  <p:childTnLst>
                                    <p:set>
                                      <p:cBhvr>
                                        <p:cTn id="2199" dur="1" fill="hold">
                                          <p:stCondLst>
                                            <p:cond delay="0"/>
                                          </p:stCondLst>
                                        </p:cTn>
                                        <p:tgtEl>
                                          <p:spTgt spid="2232"/>
                                        </p:tgtEl>
                                        <p:attrNameLst>
                                          <p:attrName>style.visibility</p:attrName>
                                        </p:attrNameLst>
                                      </p:cBhvr>
                                      <p:to>
                                        <p:strVal val="visible"/>
                                      </p:to>
                                    </p:set>
                                    <p:animEffect filter="fade" transition="in">
                                      <p:cBhvr additive="repl">
                                        <p:cTn id="2200" dur="500"/>
                                        <p:tgtEl>
                                          <p:spTgt spid="2232"/>
                                        </p:tgtEl>
                                      </p:cBhvr>
                                    </p:animEffect>
                                  </p:childTnLst>
                                </p:cTn>
                              </p:par>
                              <p:par>
                                <p:cTn id="2201" nodeType="withEffect" fill="hold" presetClass="entr" presetID="10">
                                  <p:stCondLst>
                                    <p:cond delay="0"/>
                                  </p:stCondLst>
                                  <p:childTnLst>
                                    <p:set>
                                      <p:cBhvr>
                                        <p:cTn id="2202" dur="1" fill="hold">
                                          <p:stCondLst>
                                            <p:cond delay="0"/>
                                          </p:stCondLst>
                                        </p:cTn>
                                        <p:tgtEl>
                                          <p:spTgt spid="2235"/>
                                        </p:tgtEl>
                                        <p:attrNameLst>
                                          <p:attrName>style.visibility</p:attrName>
                                        </p:attrNameLst>
                                      </p:cBhvr>
                                      <p:to>
                                        <p:strVal val="visible"/>
                                      </p:to>
                                    </p:set>
                                    <p:animEffect filter="fade" transition="in">
                                      <p:cBhvr additive="repl">
                                        <p:cTn id="2203" dur="500"/>
                                        <p:tgtEl>
                                          <p:spTgt spid="2235"/>
                                        </p:tgtEl>
                                      </p:cBhvr>
                                    </p:animEffect>
                                  </p:childTnLst>
                                </p:cTn>
                              </p:par>
                              <p:par>
                                <p:cTn id="2204" nodeType="withEffect" fill="hold" presetClass="entr" presetID="10">
                                  <p:stCondLst>
                                    <p:cond delay="0"/>
                                  </p:stCondLst>
                                  <p:childTnLst>
                                    <p:set>
                                      <p:cBhvr>
                                        <p:cTn id="2205" dur="1" fill="hold">
                                          <p:stCondLst>
                                            <p:cond delay="0"/>
                                          </p:stCondLst>
                                        </p:cTn>
                                        <p:tgtEl>
                                          <p:spTgt spid="2238"/>
                                        </p:tgtEl>
                                        <p:attrNameLst>
                                          <p:attrName>style.visibility</p:attrName>
                                        </p:attrNameLst>
                                      </p:cBhvr>
                                      <p:to>
                                        <p:strVal val="visible"/>
                                      </p:to>
                                    </p:set>
                                    <p:animEffect filter="fade" transition="in">
                                      <p:cBhvr additive="repl">
                                        <p:cTn id="2206" dur="500"/>
                                        <p:tgtEl>
                                          <p:spTgt spid="2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2242" name="Freeform: Shape 16"/>
          <p:cNvSpPr/>
          <p:nvPr/>
        </p:nvSpPr>
        <p:spPr>
          <a:xfrm>
            <a:off x="645804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7160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43" name="Freeform: Shape 17"/>
          <p:cNvSpPr/>
          <p:nvPr/>
        </p:nvSpPr>
        <p:spPr>
          <a:xfrm>
            <a:off x="420228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0b3f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44" name="Freeform: Shape 18"/>
          <p:cNvSpPr/>
          <p:nvPr/>
        </p:nvSpPr>
        <p:spPr>
          <a:xfrm>
            <a:off x="645804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45" name="Freeform: Shape 19"/>
          <p:cNvSpPr/>
          <p:nvPr/>
        </p:nvSpPr>
        <p:spPr>
          <a:xfrm>
            <a:off x="420228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46" name="Freeform: Shape 20"/>
          <p:cNvSpPr/>
          <p:nvPr/>
        </p:nvSpPr>
        <p:spPr>
          <a:xfrm>
            <a:off x="645804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47" name="Freeform: Shape 21"/>
          <p:cNvSpPr/>
          <p:nvPr/>
        </p:nvSpPr>
        <p:spPr>
          <a:xfrm>
            <a:off x="420228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248" name="Group 26"/>
          <p:cNvGrpSpPr/>
          <p:nvPr/>
        </p:nvGrpSpPr>
        <p:grpSpPr>
          <a:xfrm>
            <a:off x="4100400" y="4794120"/>
            <a:ext cx="3990960" cy="1514520"/>
            <a:chOff x="4100400" y="4794120"/>
            <a:chExt cx="3990960" cy="1514520"/>
          </a:xfrm>
        </p:grpSpPr>
        <p:grpSp>
          <p:nvGrpSpPr>
            <p:cNvPr id="2249" name="Graphic 2"/>
            <p:cNvGrpSpPr/>
            <p:nvPr/>
          </p:nvGrpSpPr>
          <p:grpSpPr>
            <a:xfrm>
              <a:off x="4100400" y="4794120"/>
              <a:ext cx="1733760" cy="289800"/>
              <a:chOff x="4100400" y="4794120"/>
              <a:chExt cx="1733760" cy="289800"/>
            </a:xfrm>
          </p:grpSpPr>
          <p:sp>
            <p:nvSpPr>
              <p:cNvPr id="2250" name="Freeform: Shape 5"/>
              <p:cNvSpPr/>
              <p:nvPr/>
            </p:nvSpPr>
            <p:spPr>
              <a:xfrm>
                <a:off x="4100400" y="4794120"/>
                <a:ext cx="1733760" cy="289800"/>
              </a:xfrm>
              <a:custGeom>
                <a:avLst/>
                <a:gdLst/>
                <a:ahLst/>
                <a:rect l="l" t="t" r="r" b="b"/>
                <a:pathLst>
                  <a:path w="1734107" h="289814">
                    <a:moveTo>
                      <a:pt x="1631926" y="84853"/>
                    </a:moveTo>
                    <a:lnTo>
                      <a:pt x="1421586" y="289815"/>
                    </a:lnTo>
                    <a:lnTo>
                      <a:pt x="311924" y="289815"/>
                    </a:lnTo>
                    <a:lnTo>
                      <a:pt x="101585" y="84853"/>
                    </a:lnTo>
                    <a:lnTo>
                      <a:pt x="42426" y="84853"/>
                    </a:lnTo>
                    <a:cubicBezTo>
                      <a:pt x="19122" y="84853"/>
                      <a:pt x="0" y="65731"/>
                      <a:pt x="0" y="42427"/>
                    </a:cubicBezTo>
                    <a:cubicBezTo>
                      <a:pt x="0" y="19122"/>
                      <a:pt x="19122" y="0"/>
                      <a:pt x="42426"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51" name="Freeform: Shape 6"/>
              <p:cNvSpPr/>
              <p:nvPr/>
            </p:nvSpPr>
            <p:spPr>
              <a:xfrm>
                <a:off x="5080680" y="4835880"/>
                <a:ext cx="634320" cy="207000"/>
              </a:xfrm>
              <a:custGeom>
                <a:avLst/>
                <a:gdLst/>
                <a:ahLst/>
                <a:rect l="l" t="t" r="r" b="b"/>
                <a:pathLst>
                  <a:path w="634604" h="206754">
                    <a:moveTo>
                      <a:pt x="0" y="206754"/>
                    </a:moveTo>
                    <a:lnTo>
                      <a:pt x="424265" y="206754"/>
                    </a:lnTo>
                    <a:lnTo>
                      <a:pt x="634604" y="1793"/>
                    </a:lnTo>
                    <a:lnTo>
                      <a:pt x="219303" y="0"/>
                    </a:lnTo>
                    <a:lnTo>
                      <a:pt x="219303"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52" name="Freeform: Shape 7"/>
              <p:cNvSpPr/>
              <p:nvPr/>
            </p:nvSpPr>
            <p:spPr>
              <a:xfrm>
                <a:off x="4218480" y="4835880"/>
                <a:ext cx="645840" cy="207000"/>
              </a:xfrm>
              <a:custGeom>
                <a:avLst/>
                <a:gdLst/>
                <a:ahLst/>
                <a:rect l="l" t="t" r="r" b="b"/>
                <a:pathLst>
                  <a:path w="645958" h="206754">
                    <a:moveTo>
                      <a:pt x="210340" y="206754"/>
                    </a:moveTo>
                    <a:lnTo>
                      <a:pt x="360326" y="206754"/>
                    </a:lnTo>
                    <a:lnTo>
                      <a:pt x="360326" y="35853"/>
                    </a:lnTo>
                    <a:lnTo>
                      <a:pt x="645958" y="0"/>
                    </a:lnTo>
                    <a:lnTo>
                      <a:pt x="0" y="1793"/>
                    </a:lnTo>
                    <a:lnTo>
                      <a:pt x="210340"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253" name="Graphic 2"/>
            <p:cNvGrpSpPr/>
            <p:nvPr/>
          </p:nvGrpSpPr>
          <p:grpSpPr>
            <a:xfrm>
              <a:off x="6357600" y="4794120"/>
              <a:ext cx="1733760" cy="289800"/>
              <a:chOff x="6357600" y="4794120"/>
              <a:chExt cx="1733760" cy="289800"/>
            </a:xfrm>
          </p:grpSpPr>
          <p:sp>
            <p:nvSpPr>
              <p:cNvPr id="2254" name="Freeform: Shape 9"/>
              <p:cNvSpPr/>
              <p:nvPr/>
            </p:nvSpPr>
            <p:spPr>
              <a:xfrm>
                <a:off x="6357600" y="4794120"/>
                <a:ext cx="1733760" cy="289800"/>
              </a:xfrm>
              <a:custGeom>
                <a:avLst/>
                <a:gdLst/>
                <a:ahLst/>
                <a:rect l="l" t="t" r="r" b="b"/>
                <a:pathLst>
                  <a:path w="1734107" h="289814">
                    <a:moveTo>
                      <a:pt x="1631926" y="84853"/>
                    </a:moveTo>
                    <a:lnTo>
                      <a:pt x="1421586" y="289815"/>
                    </a:lnTo>
                    <a:lnTo>
                      <a:pt x="311924" y="289815"/>
                    </a:lnTo>
                    <a:lnTo>
                      <a:pt x="101585" y="84853"/>
                    </a:lnTo>
                    <a:lnTo>
                      <a:pt x="42427" y="84853"/>
                    </a:lnTo>
                    <a:cubicBezTo>
                      <a:pt x="19122" y="84853"/>
                      <a:pt x="0" y="65731"/>
                      <a:pt x="0" y="42427"/>
                    </a:cubicBezTo>
                    <a:cubicBezTo>
                      <a:pt x="0" y="19122"/>
                      <a:pt x="19122" y="0"/>
                      <a:pt x="42427"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55" name="Freeform: Shape 10"/>
              <p:cNvSpPr/>
              <p:nvPr/>
            </p:nvSpPr>
            <p:spPr>
              <a:xfrm>
                <a:off x="7337520" y="4835880"/>
                <a:ext cx="635040" cy="207000"/>
              </a:xfrm>
              <a:custGeom>
                <a:avLst/>
                <a:gdLst/>
                <a:ahLst/>
                <a:rect l="l" t="t" r="r" b="b"/>
                <a:pathLst>
                  <a:path w="635201" h="206754">
                    <a:moveTo>
                      <a:pt x="0" y="206754"/>
                    </a:moveTo>
                    <a:lnTo>
                      <a:pt x="424863" y="206754"/>
                    </a:lnTo>
                    <a:lnTo>
                      <a:pt x="635202" y="1793"/>
                    </a:lnTo>
                    <a:lnTo>
                      <a:pt x="219901" y="0"/>
                    </a:lnTo>
                    <a:lnTo>
                      <a:pt x="219901"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56" name="Freeform: Shape 11"/>
              <p:cNvSpPr/>
              <p:nvPr/>
            </p:nvSpPr>
            <p:spPr>
              <a:xfrm>
                <a:off x="6474960" y="4835880"/>
                <a:ext cx="645840" cy="207000"/>
              </a:xfrm>
              <a:custGeom>
                <a:avLst/>
                <a:gdLst/>
                <a:ahLst/>
                <a:rect l="l" t="t" r="r" b="b"/>
                <a:pathLst>
                  <a:path w="645958" h="206754">
                    <a:moveTo>
                      <a:pt x="210937" y="206754"/>
                    </a:moveTo>
                    <a:lnTo>
                      <a:pt x="360326" y="206754"/>
                    </a:lnTo>
                    <a:lnTo>
                      <a:pt x="360326" y="35853"/>
                    </a:lnTo>
                    <a:lnTo>
                      <a:pt x="645958" y="0"/>
                    </a:lnTo>
                    <a:lnTo>
                      <a:pt x="0" y="1793"/>
                    </a:lnTo>
                    <a:lnTo>
                      <a:pt x="210937"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257" name="Freeform: Shape 12"/>
            <p:cNvSpPr/>
            <p:nvPr/>
          </p:nvSpPr>
          <p:spPr>
            <a:xfrm>
              <a:off x="4901040" y="5044320"/>
              <a:ext cx="2388240" cy="719280"/>
            </a:xfrm>
            <a:custGeom>
              <a:avLst/>
              <a:gdLst/>
              <a:ahLst/>
              <a:rect l="l" t="t" r="r" b="b"/>
              <a:pathLst>
                <a:path w="2388580" h="719457">
                  <a:moveTo>
                    <a:pt x="2387834" y="112938"/>
                  </a:moveTo>
                  <a:cubicBezTo>
                    <a:pt x="2389029" y="127279"/>
                    <a:pt x="2388431" y="146401"/>
                    <a:pt x="2388431" y="160743"/>
                  </a:cubicBezTo>
                  <a:cubicBezTo>
                    <a:pt x="2388431" y="175681"/>
                    <a:pt x="2387834" y="191218"/>
                    <a:pt x="2387834" y="206157"/>
                  </a:cubicBezTo>
                  <a:cubicBezTo>
                    <a:pt x="2387834" y="393789"/>
                    <a:pt x="2175702" y="516288"/>
                    <a:pt x="2025117" y="577837"/>
                  </a:cubicBezTo>
                  <a:cubicBezTo>
                    <a:pt x="1772351" y="681811"/>
                    <a:pt x="1465207" y="719457"/>
                    <a:pt x="1193917" y="719457"/>
                  </a:cubicBezTo>
                  <a:cubicBezTo>
                    <a:pt x="922626" y="719457"/>
                    <a:pt x="615483" y="681214"/>
                    <a:pt x="362716" y="577837"/>
                  </a:cubicBezTo>
                  <a:cubicBezTo>
                    <a:pt x="212132" y="515691"/>
                    <a:pt x="0" y="393192"/>
                    <a:pt x="0" y="205559"/>
                  </a:cubicBezTo>
                  <a:lnTo>
                    <a:pt x="1195" y="100987"/>
                  </a:lnTo>
                  <a:lnTo>
                    <a:pt x="1195" y="0"/>
                  </a:lnTo>
                  <a:lnTo>
                    <a:pt x="130865" y="0"/>
                  </a:lnTo>
                  <a:lnTo>
                    <a:pt x="129670" y="109353"/>
                  </a:lnTo>
                  <a:lnTo>
                    <a:pt x="129072" y="206157"/>
                  </a:lnTo>
                  <a:cubicBezTo>
                    <a:pt x="128475" y="332241"/>
                    <a:pt x="329851" y="423667"/>
                    <a:pt x="426057" y="459520"/>
                  </a:cubicBezTo>
                  <a:cubicBezTo>
                    <a:pt x="660299" y="546764"/>
                    <a:pt x="944736" y="577239"/>
                    <a:pt x="1193319" y="577239"/>
                  </a:cubicBezTo>
                  <a:cubicBezTo>
                    <a:pt x="1441903" y="577239"/>
                    <a:pt x="1725742" y="546764"/>
                    <a:pt x="1959984" y="459520"/>
                  </a:cubicBezTo>
                  <a:cubicBezTo>
                    <a:pt x="2056788" y="423667"/>
                    <a:pt x="2257567" y="332241"/>
                    <a:pt x="2257567" y="206157"/>
                  </a:cubicBezTo>
                  <a:lnTo>
                    <a:pt x="2257567" y="0"/>
                  </a:lnTo>
                  <a:lnTo>
                    <a:pt x="2387236" y="0"/>
                  </a:lnTo>
                  <a:lnTo>
                    <a:pt x="2387236" y="112938"/>
                  </a:lnTo>
                  <a:lnTo>
                    <a:pt x="2387834" y="112938"/>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58" name="Freeform: Shape 13"/>
            <p:cNvSpPr/>
            <p:nvPr/>
          </p:nvSpPr>
          <p:spPr>
            <a:xfrm>
              <a:off x="5013720" y="5470560"/>
              <a:ext cx="2164680" cy="293400"/>
            </a:xfrm>
            <a:custGeom>
              <a:avLst/>
              <a:gdLst/>
              <a:ahLst/>
              <a:rect l="l" t="t" r="r" b="b"/>
              <a:pathLst>
                <a:path w="2164945" h="293399">
                  <a:moveTo>
                    <a:pt x="2164946" y="0"/>
                  </a:moveTo>
                  <a:cubicBezTo>
                    <a:pt x="2091446" y="51987"/>
                    <a:pt x="1998227" y="90231"/>
                    <a:pt x="1930106" y="113536"/>
                  </a:cubicBezTo>
                  <a:cubicBezTo>
                    <a:pt x="1668974" y="203169"/>
                    <a:pt x="1358842" y="233644"/>
                    <a:pt x="1080979" y="233644"/>
                  </a:cubicBezTo>
                  <a:cubicBezTo>
                    <a:pt x="803115" y="233644"/>
                    <a:pt x="492984" y="202572"/>
                    <a:pt x="231254" y="113536"/>
                  </a:cubicBezTo>
                  <a:cubicBezTo>
                    <a:pt x="164328" y="90829"/>
                    <a:pt x="72902" y="53780"/>
                    <a:pt x="0" y="2390"/>
                  </a:cubicBezTo>
                  <a:cubicBezTo>
                    <a:pt x="73499" y="69317"/>
                    <a:pt x="170303" y="118914"/>
                    <a:pt x="249778" y="151779"/>
                  </a:cubicBezTo>
                  <a:cubicBezTo>
                    <a:pt x="495374" y="252766"/>
                    <a:pt x="792359" y="291607"/>
                    <a:pt x="1058272" y="293400"/>
                  </a:cubicBezTo>
                  <a:cubicBezTo>
                    <a:pt x="1066040" y="293400"/>
                    <a:pt x="1073808" y="293400"/>
                    <a:pt x="1080979" y="293400"/>
                  </a:cubicBezTo>
                  <a:cubicBezTo>
                    <a:pt x="1088747" y="293400"/>
                    <a:pt x="1096515" y="293400"/>
                    <a:pt x="1104284" y="293400"/>
                  </a:cubicBezTo>
                  <a:cubicBezTo>
                    <a:pt x="1369598" y="291010"/>
                    <a:pt x="1666584" y="252169"/>
                    <a:pt x="1912179" y="151779"/>
                  </a:cubicBezTo>
                  <a:cubicBezTo>
                    <a:pt x="1993447" y="118914"/>
                    <a:pt x="2091446" y="68719"/>
                    <a:pt x="2164946"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59" name="Freeform: Shape 14"/>
            <p:cNvSpPr/>
            <p:nvPr/>
          </p:nvSpPr>
          <p:spPr>
            <a:xfrm>
              <a:off x="70290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2260" name="Freeform: Shape 15"/>
            <p:cNvSpPr/>
            <p:nvPr/>
          </p:nvSpPr>
          <p:spPr>
            <a:xfrm>
              <a:off x="47718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grpSp>
          <p:nvGrpSpPr>
            <p:cNvPr id="2261" name="Graphic 2"/>
            <p:cNvGrpSpPr/>
            <p:nvPr/>
          </p:nvGrpSpPr>
          <p:grpSpPr>
            <a:xfrm>
              <a:off x="5149440" y="5553360"/>
              <a:ext cx="1890360" cy="755280"/>
              <a:chOff x="5149440" y="5553360"/>
              <a:chExt cx="1890360" cy="755280"/>
            </a:xfrm>
          </p:grpSpPr>
          <p:sp>
            <p:nvSpPr>
              <p:cNvPr id="2262" name="Freeform: Shape 23"/>
              <p:cNvSpPr/>
              <p:nvPr/>
            </p:nvSpPr>
            <p:spPr>
              <a:xfrm>
                <a:off x="5149440" y="5553360"/>
                <a:ext cx="1890360" cy="755280"/>
              </a:xfrm>
              <a:custGeom>
                <a:avLst/>
                <a:gdLst/>
                <a:ahLst/>
                <a:rect l="l" t="t" r="r" b="b"/>
                <a:pathLst>
                  <a:path w="1890667" h="755310">
                    <a:moveTo>
                      <a:pt x="0" y="614885"/>
                    </a:moveTo>
                    <a:lnTo>
                      <a:pt x="572459" y="614885"/>
                    </a:lnTo>
                    <a:lnTo>
                      <a:pt x="572459" y="442191"/>
                    </a:lnTo>
                    <a:cubicBezTo>
                      <a:pt x="572459" y="347180"/>
                      <a:pt x="650141" y="270095"/>
                      <a:pt x="745152" y="270095"/>
                    </a:cubicBezTo>
                    <a:lnTo>
                      <a:pt x="759494" y="270095"/>
                    </a:lnTo>
                    <a:lnTo>
                      <a:pt x="759494" y="185840"/>
                    </a:lnTo>
                    <a:cubicBezTo>
                      <a:pt x="759494" y="83658"/>
                      <a:pt x="843152" y="0"/>
                      <a:pt x="945333" y="0"/>
                    </a:cubicBezTo>
                    <a:cubicBezTo>
                      <a:pt x="1047516" y="0"/>
                      <a:pt x="1131173" y="83658"/>
                      <a:pt x="1131173" y="185840"/>
                    </a:cubicBezTo>
                    <a:lnTo>
                      <a:pt x="1131173" y="270095"/>
                    </a:lnTo>
                    <a:lnTo>
                      <a:pt x="1145515" y="270095"/>
                    </a:lnTo>
                    <a:cubicBezTo>
                      <a:pt x="1240526" y="270095"/>
                      <a:pt x="1318209" y="347777"/>
                      <a:pt x="1318209" y="442191"/>
                    </a:cubicBezTo>
                    <a:lnTo>
                      <a:pt x="1318209" y="614885"/>
                    </a:lnTo>
                    <a:lnTo>
                      <a:pt x="1890667" y="614885"/>
                    </a:lnTo>
                    <a:lnTo>
                      <a:pt x="1890667" y="755311"/>
                    </a:lnTo>
                    <a:lnTo>
                      <a:pt x="0" y="755311"/>
                    </a:lnTo>
                    <a:lnTo>
                      <a:pt x="0" y="614885"/>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63" name="Freeform: Shape 24"/>
              <p:cNvSpPr/>
              <p:nvPr/>
            </p:nvSpPr>
            <p:spPr>
              <a:xfrm>
                <a:off x="6130440" y="5639400"/>
                <a:ext cx="867600" cy="628200"/>
              </a:xfrm>
              <a:custGeom>
                <a:avLst/>
                <a:gdLst/>
                <a:ahLst/>
                <a:rect l="l" t="t" r="r" b="b"/>
                <a:pathLst>
                  <a:path w="867651" h="628031">
                    <a:moveTo>
                      <a:pt x="186438" y="628031"/>
                    </a:moveTo>
                    <a:lnTo>
                      <a:pt x="758896" y="628031"/>
                    </a:lnTo>
                    <a:lnTo>
                      <a:pt x="867651" y="628031"/>
                    </a:lnTo>
                    <a:lnTo>
                      <a:pt x="867651" y="570068"/>
                    </a:lnTo>
                    <a:lnTo>
                      <a:pt x="295193" y="570068"/>
                    </a:lnTo>
                    <a:lnTo>
                      <a:pt x="295193" y="356741"/>
                    </a:lnTo>
                    <a:cubicBezTo>
                      <a:pt x="295193" y="284437"/>
                      <a:pt x="236035" y="225278"/>
                      <a:pt x="163730" y="225278"/>
                    </a:cubicBezTo>
                    <a:lnTo>
                      <a:pt x="108158" y="225278"/>
                    </a:lnTo>
                    <a:lnTo>
                      <a:pt x="108158" y="99792"/>
                    </a:lnTo>
                    <a:cubicBezTo>
                      <a:pt x="108158" y="61548"/>
                      <a:pt x="92621" y="26292"/>
                      <a:pt x="68122" y="0"/>
                    </a:cubicBezTo>
                    <a:cubicBezTo>
                      <a:pt x="77085" y="16134"/>
                      <a:pt x="81865" y="34658"/>
                      <a:pt x="81865" y="54378"/>
                    </a:cubicBezTo>
                    <a:cubicBezTo>
                      <a:pt x="81865" y="106365"/>
                      <a:pt x="47207" y="149987"/>
                      <a:pt x="0" y="164925"/>
                    </a:cubicBezTo>
                    <a:lnTo>
                      <a:pt x="0" y="283241"/>
                    </a:lnTo>
                    <a:lnTo>
                      <a:pt x="55573" y="283241"/>
                    </a:lnTo>
                    <a:cubicBezTo>
                      <a:pt x="127877" y="283241"/>
                      <a:pt x="187035" y="342399"/>
                      <a:pt x="187035" y="414704"/>
                    </a:cubicBezTo>
                    <a:lnTo>
                      <a:pt x="187035" y="628031"/>
                    </a:lnTo>
                    <a:lnTo>
                      <a:pt x="186438" y="628031"/>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64" name="Freeform: Shape 25"/>
              <p:cNvSpPr/>
              <p:nvPr/>
            </p:nvSpPr>
            <p:spPr>
              <a:xfrm>
                <a:off x="6020640" y="5619960"/>
                <a:ext cx="150480" cy="147960"/>
              </a:xfrm>
              <a:custGeom>
                <a:avLst/>
                <a:gdLst/>
                <a:ahLst/>
                <a:rect l="l" t="t" r="r" b="b"/>
                <a:pathLst>
                  <a:path w="150584" h="148193">
                    <a:moveTo>
                      <a:pt x="75292" y="148194"/>
                    </a:moveTo>
                    <a:cubicBezTo>
                      <a:pt x="116523" y="148194"/>
                      <a:pt x="150584" y="114731"/>
                      <a:pt x="150584" y="74097"/>
                    </a:cubicBezTo>
                    <a:cubicBezTo>
                      <a:pt x="150584" y="33463"/>
                      <a:pt x="116523" y="0"/>
                      <a:pt x="75292" y="0"/>
                    </a:cubicBezTo>
                    <a:cubicBezTo>
                      <a:pt x="34061" y="0"/>
                      <a:pt x="0" y="33463"/>
                      <a:pt x="0" y="74097"/>
                    </a:cubicBezTo>
                    <a:cubicBezTo>
                      <a:pt x="0" y="114731"/>
                      <a:pt x="33463" y="148194"/>
                      <a:pt x="75292" y="14819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sp>
        <p:nvSpPr>
          <p:cNvPr id="2265" name="Rectangle 28"/>
          <p:cNvSpPr/>
          <p:nvPr/>
        </p:nvSpPr>
        <p:spPr>
          <a:xfrm>
            <a:off x="541440" y="260352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66" name="TextBox 29"/>
          <p:cNvSpPr/>
          <p:nvPr/>
        </p:nvSpPr>
        <p:spPr>
          <a:xfrm>
            <a:off x="1339920" y="234000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67" name="Oval 30"/>
          <p:cNvSpPr/>
          <p:nvPr/>
        </p:nvSpPr>
        <p:spPr>
          <a:xfrm>
            <a:off x="3575160" y="2392200"/>
            <a:ext cx="203040" cy="20340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68" name="Rectangle 31"/>
          <p:cNvSpPr/>
          <p:nvPr/>
        </p:nvSpPr>
        <p:spPr>
          <a:xfrm>
            <a:off x="541440" y="369576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69" name="TextBox 32"/>
          <p:cNvSpPr/>
          <p:nvPr/>
        </p:nvSpPr>
        <p:spPr>
          <a:xfrm>
            <a:off x="1339920" y="343224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70" name="Oval 33"/>
          <p:cNvSpPr/>
          <p:nvPr/>
        </p:nvSpPr>
        <p:spPr>
          <a:xfrm>
            <a:off x="3575160" y="3484440"/>
            <a:ext cx="203040" cy="203400"/>
          </a:xfrm>
          <a:prstGeom prst="ellipse">
            <a:avLst/>
          </a:prstGeom>
          <a:solidFill>
            <a:srgbClr val="105e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71" name="Rectangle 34"/>
          <p:cNvSpPr/>
          <p:nvPr/>
        </p:nvSpPr>
        <p:spPr>
          <a:xfrm>
            <a:off x="541440" y="481320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72" name="TextBox 35"/>
          <p:cNvSpPr/>
          <p:nvPr/>
        </p:nvSpPr>
        <p:spPr>
          <a:xfrm>
            <a:off x="1339920" y="454968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73" name="Oval 36"/>
          <p:cNvSpPr/>
          <p:nvPr/>
        </p:nvSpPr>
        <p:spPr>
          <a:xfrm>
            <a:off x="3575160" y="4602240"/>
            <a:ext cx="203040" cy="203040"/>
          </a:xfrm>
          <a:prstGeom prst="ellipse">
            <a:avLst/>
          </a:prstGeom>
          <a:solidFill>
            <a:srgbClr val="0b3f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74" name="Rectangle 37"/>
          <p:cNvSpPr/>
          <p:nvPr/>
        </p:nvSpPr>
        <p:spPr>
          <a:xfrm>
            <a:off x="8623440" y="2577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75" name="TextBox 38"/>
          <p:cNvSpPr/>
          <p:nvPr/>
        </p:nvSpPr>
        <p:spPr>
          <a:xfrm>
            <a:off x="8623440" y="23162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76" name="Oval 39"/>
          <p:cNvSpPr/>
          <p:nvPr/>
        </p:nvSpPr>
        <p:spPr>
          <a:xfrm>
            <a:off x="8345520" y="2368440"/>
            <a:ext cx="203040" cy="20340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77" name="Rectangle 40"/>
          <p:cNvSpPr/>
          <p:nvPr/>
        </p:nvSpPr>
        <p:spPr>
          <a:xfrm>
            <a:off x="8623440" y="3670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78" name="TextBox 41"/>
          <p:cNvSpPr/>
          <p:nvPr/>
        </p:nvSpPr>
        <p:spPr>
          <a:xfrm>
            <a:off x="8623440" y="340848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79" name="Oval 42"/>
          <p:cNvSpPr/>
          <p:nvPr/>
        </p:nvSpPr>
        <p:spPr>
          <a:xfrm>
            <a:off x="8345520" y="3460680"/>
            <a:ext cx="203040" cy="203400"/>
          </a:xfrm>
          <a:prstGeom prst="ellipse">
            <a:avLst/>
          </a:prstGeom>
          <a:solidFill>
            <a:srgbClr val="a991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80" name="Rectangle 43"/>
          <p:cNvSpPr/>
          <p:nvPr/>
        </p:nvSpPr>
        <p:spPr>
          <a:xfrm>
            <a:off x="8559720" y="4813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A wonderful serenity has taken possession of my entire soul, like these sweet morning</a:t>
            </a:r>
            <a:endParaRPr b="0" lang="en-US" sz="1200" spc="-1" strike="noStrike">
              <a:solidFill>
                <a:srgbClr val="313c3f"/>
              </a:solidFill>
              <a:latin typeface="Source Sans Pro"/>
            </a:endParaRPr>
          </a:p>
        </p:txBody>
      </p:sp>
      <p:sp>
        <p:nvSpPr>
          <p:cNvPr id="2281" name="TextBox 44"/>
          <p:cNvSpPr/>
          <p:nvPr/>
        </p:nvSpPr>
        <p:spPr>
          <a:xfrm>
            <a:off x="8623440" y="45259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Performance</a:t>
            </a:r>
            <a:endParaRPr b="0" lang="en-US" sz="1400" spc="-1" strike="noStrike">
              <a:solidFill>
                <a:srgbClr val="313c3f"/>
              </a:solidFill>
              <a:latin typeface="Source Sans Pro"/>
            </a:endParaRPr>
          </a:p>
        </p:txBody>
      </p:sp>
      <p:sp>
        <p:nvSpPr>
          <p:cNvPr id="2282" name="Oval 45"/>
          <p:cNvSpPr/>
          <p:nvPr/>
        </p:nvSpPr>
        <p:spPr>
          <a:xfrm>
            <a:off x="8345520" y="4578480"/>
            <a:ext cx="203040" cy="203040"/>
          </a:xfrm>
          <a:prstGeom prst="ellipse">
            <a:avLst/>
          </a:prstGeom>
          <a:solidFill>
            <a:srgbClr val="71600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283" name="TextBox 46"/>
          <p:cNvSpPr/>
          <p:nvPr/>
        </p:nvSpPr>
        <p:spPr>
          <a:xfrm>
            <a:off x="45662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13c3f"/>
              </a:solidFill>
              <a:latin typeface="Source Sans Pro"/>
            </a:endParaRPr>
          </a:p>
        </p:txBody>
      </p:sp>
      <p:sp>
        <p:nvSpPr>
          <p:cNvPr id="2284" name="TextBox 47"/>
          <p:cNvSpPr/>
          <p:nvPr/>
        </p:nvSpPr>
        <p:spPr>
          <a:xfrm>
            <a:off x="45662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313c3f"/>
              </a:solidFill>
              <a:latin typeface="Source Sans Pro"/>
            </a:endParaRPr>
          </a:p>
        </p:txBody>
      </p:sp>
      <p:sp>
        <p:nvSpPr>
          <p:cNvPr id="2285" name="TextBox 48"/>
          <p:cNvSpPr/>
          <p:nvPr/>
        </p:nvSpPr>
        <p:spPr>
          <a:xfrm>
            <a:off x="45662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13c3f"/>
              </a:solidFill>
              <a:latin typeface="Source Sans Pro"/>
            </a:endParaRPr>
          </a:p>
        </p:txBody>
      </p:sp>
      <p:sp>
        <p:nvSpPr>
          <p:cNvPr id="2286" name="TextBox 49"/>
          <p:cNvSpPr/>
          <p:nvPr/>
        </p:nvSpPr>
        <p:spPr>
          <a:xfrm>
            <a:off x="68234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13c3f"/>
              </a:solidFill>
              <a:latin typeface="Source Sans Pro"/>
            </a:endParaRPr>
          </a:p>
        </p:txBody>
      </p:sp>
      <p:sp>
        <p:nvSpPr>
          <p:cNvPr id="2287" name="TextBox 50"/>
          <p:cNvSpPr/>
          <p:nvPr/>
        </p:nvSpPr>
        <p:spPr>
          <a:xfrm>
            <a:off x="68234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313c3f"/>
              </a:solidFill>
              <a:latin typeface="Source Sans Pro"/>
            </a:endParaRPr>
          </a:p>
        </p:txBody>
      </p:sp>
      <p:sp>
        <p:nvSpPr>
          <p:cNvPr id="2288" name="TextBox 51"/>
          <p:cNvSpPr/>
          <p:nvPr/>
        </p:nvSpPr>
        <p:spPr>
          <a:xfrm>
            <a:off x="68234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313c3f"/>
              </a:solidFill>
              <a:latin typeface="Source Sans Pro"/>
            </a:endParaRPr>
          </a:p>
        </p:txBody>
      </p:sp>
      <p:sp>
        <p:nvSpPr>
          <p:cNvPr id="2289" name="TextBox 52"/>
          <p:cNvSpPr/>
          <p:nvPr/>
        </p:nvSpPr>
        <p:spPr>
          <a:xfrm>
            <a:off x="4303800" y="2673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Title</a:t>
            </a:r>
            <a:endParaRPr b="0" lang="en-US" sz="1400" spc="-1" strike="noStrike">
              <a:solidFill>
                <a:srgbClr val="313c3f"/>
              </a:solidFill>
              <a:latin typeface="Source Sans Pro"/>
            </a:endParaRPr>
          </a:p>
        </p:txBody>
      </p:sp>
      <p:sp>
        <p:nvSpPr>
          <p:cNvPr id="2290" name="TextBox 53"/>
          <p:cNvSpPr/>
          <p:nvPr/>
        </p:nvSpPr>
        <p:spPr>
          <a:xfrm>
            <a:off x="6561000" y="2673360"/>
            <a:ext cx="132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Title</a:t>
            </a:r>
            <a:endParaRPr b="0" lang="en-US" sz="1400" spc="-1" strike="noStrike">
              <a:solidFill>
                <a:srgbClr val="313c3f"/>
              </a:solidFill>
              <a:latin typeface="Source Sans Pro"/>
            </a:endParaRPr>
          </a:p>
        </p:txBody>
      </p:sp>
    </p:spTree>
  </p:cSld>
  <p:transition spd="med">
    <p:fade/>
  </p:transition>
  <p:timing>
    <p:tnLst>
      <p:par>
        <p:cTn id="2207" dur="indefinite" restart="never" nodeType="tmRoot">
          <p:childTnLst>
            <p:seq>
              <p:cTn id="2208" dur="indefinite" nodeType="mainSeq">
                <p:childTnLst>
                  <p:par>
                    <p:cTn id="2209" nodeType="clickEffect" fill="hold">
                      <p:stCondLst>
                        <p:cond delay="0"/>
                      </p:stCondLst>
                      <p:childTnLst>
                        <p:par>
                          <p:cTn id="2210" nodeType="withEffect" fill="hold">
                            <p:stCondLst>
                              <p:cond delay="0"/>
                            </p:stCondLst>
                            <p:childTnLst>
                              <p:par>
                                <p:cTn id="2211" nodeType="afterEffect" fill="hold" presetClass="entr" presetID="10">
                                  <p:stCondLst>
                                    <p:cond delay="0"/>
                                  </p:stCondLst>
                                  <p:childTnLst>
                                    <p:set>
                                      <p:cBhvr>
                                        <p:cTn id="2212" dur="1" fill="hold">
                                          <p:stCondLst>
                                            <p:cond delay="0"/>
                                          </p:stCondLst>
                                        </p:cTn>
                                        <p:tgtEl>
                                          <p:spTgt spid="2241"/>
                                        </p:tgtEl>
                                        <p:attrNameLst>
                                          <p:attrName>style.visibility</p:attrName>
                                        </p:attrNameLst>
                                      </p:cBhvr>
                                      <p:to>
                                        <p:strVal val="visible"/>
                                      </p:to>
                                    </p:set>
                                    <p:animEffect filter="fade" transition="in">
                                      <p:cBhvr additive="repl">
                                        <p:cTn id="2213" dur="500"/>
                                        <p:tgtEl>
                                          <p:spTgt spid="2241"/>
                                        </p:tgtEl>
                                      </p:cBhvr>
                                    </p:animEffect>
                                  </p:childTnLst>
                                </p:cTn>
                              </p:par>
                            </p:childTnLst>
                          </p:cTn>
                        </p:par>
                        <p:par>
                          <p:cTn id="2214" nodeType="afterEffect" fill="hold">
                            <p:stCondLst>
                              <p:cond delay="500"/>
                            </p:stCondLst>
                            <p:childTnLst>
                              <p:par>
                                <p:cTn id="2215" nodeType="afterEffect" fill="hold" presetClass="entr" presetID="47">
                                  <p:stCondLst>
                                    <p:cond delay="0"/>
                                  </p:stCondLst>
                                  <p:childTnLst>
                                    <p:set>
                                      <p:cBhvr>
                                        <p:cTn id="2216" dur="1" fill="hold">
                                          <p:stCondLst>
                                            <p:cond delay="0"/>
                                          </p:stCondLst>
                                        </p:cTn>
                                        <p:tgtEl>
                                          <p:spTgt spid="2248"/>
                                        </p:tgtEl>
                                        <p:attrNameLst>
                                          <p:attrName>style.visibility</p:attrName>
                                        </p:attrNameLst>
                                      </p:cBhvr>
                                      <p:to>
                                        <p:strVal val="visible"/>
                                      </p:to>
                                    </p:set>
                                    <p:animEffect filter="fade" transition="in">
                                      <p:cBhvr additive="repl">
                                        <p:cTn id="2217" dur="1000"/>
                                        <p:tgtEl>
                                          <p:spTgt spid="2248"/>
                                        </p:tgtEl>
                                      </p:cBhvr>
                                    </p:animEffect>
                                    <p:anim calcmode="lin" valueType="num">
                                      <p:cBhvr additive="repl">
                                        <p:cTn id="2218" dur="1000" fill="hold"/>
                                        <p:tgtEl>
                                          <p:spTgt spid="2248"/>
                                        </p:tgtEl>
                                        <p:attrNameLst>
                                          <p:attrName>ppt_x</p:attrName>
                                        </p:attrNameLst>
                                      </p:cBhvr>
                                      <p:tavLst>
                                        <p:tav tm="0">
                                          <p:val>
                                            <p:strVal val="#ppt_x"/>
                                          </p:val>
                                        </p:tav>
                                        <p:tav tm="100000">
                                          <p:val>
                                            <p:strVal val="#ppt_x"/>
                                          </p:val>
                                        </p:tav>
                                      </p:tavLst>
                                    </p:anim>
                                    <p:anim calcmode="lin" valueType="num">
                                      <p:cBhvr additive="repl">
                                        <p:cTn id="2219" dur="1000" fill="hold"/>
                                        <p:tgtEl>
                                          <p:spTgt spid="2248"/>
                                        </p:tgtEl>
                                        <p:attrNameLst>
                                          <p:attrName>ppt_y</p:attrName>
                                        </p:attrNameLst>
                                      </p:cBhvr>
                                      <p:tavLst>
                                        <p:tav tm="0">
                                          <p:val>
                                            <p:strVal val="#ppt_y-.1"/>
                                          </p:val>
                                        </p:tav>
                                        <p:tav tm="100000">
                                          <p:val>
                                            <p:strVal val="#ppt_y"/>
                                          </p:val>
                                        </p:tav>
                                      </p:tavLst>
                                    </p:anim>
                                  </p:childTnLst>
                                </p:cTn>
                              </p:par>
                            </p:childTnLst>
                          </p:cTn>
                        </p:par>
                        <p:par>
                          <p:cTn id="2220" nodeType="afterEffect" fill="hold">
                            <p:stCondLst>
                              <p:cond delay="1500"/>
                            </p:stCondLst>
                            <p:childTnLst>
                              <p:par>
                                <p:cTn id="2221" nodeType="afterEffect" fill="hold" presetClass="entr" presetID="10">
                                  <p:stCondLst>
                                    <p:cond delay="0"/>
                                  </p:stCondLst>
                                  <p:childTnLst>
                                    <p:set>
                                      <p:cBhvr>
                                        <p:cTn id="2222" dur="1" fill="hold">
                                          <p:stCondLst>
                                            <p:cond delay="0"/>
                                          </p:stCondLst>
                                        </p:cTn>
                                        <p:tgtEl>
                                          <p:spTgt spid="2289"/>
                                        </p:tgtEl>
                                        <p:attrNameLst>
                                          <p:attrName>style.visibility</p:attrName>
                                        </p:attrNameLst>
                                      </p:cBhvr>
                                      <p:to>
                                        <p:strVal val="visible"/>
                                      </p:to>
                                    </p:set>
                                    <p:animEffect filter="fade" transition="in">
                                      <p:cBhvr additive="repl">
                                        <p:cTn id="2223" dur="500"/>
                                        <p:tgtEl>
                                          <p:spTgt spid="2289"/>
                                        </p:tgtEl>
                                      </p:cBhvr>
                                    </p:animEffect>
                                  </p:childTnLst>
                                </p:cTn>
                              </p:par>
                              <p:par>
                                <p:cTn id="2224" nodeType="withEffect" fill="hold" presetClass="entr" presetID="10">
                                  <p:stCondLst>
                                    <p:cond delay="0"/>
                                  </p:stCondLst>
                                  <p:childTnLst>
                                    <p:set>
                                      <p:cBhvr>
                                        <p:cTn id="2225" dur="1" fill="hold">
                                          <p:stCondLst>
                                            <p:cond delay="0"/>
                                          </p:stCondLst>
                                        </p:cTn>
                                        <p:tgtEl>
                                          <p:spTgt spid="2290"/>
                                        </p:tgtEl>
                                        <p:attrNameLst>
                                          <p:attrName>style.visibility</p:attrName>
                                        </p:attrNameLst>
                                      </p:cBhvr>
                                      <p:to>
                                        <p:strVal val="visible"/>
                                      </p:to>
                                    </p:set>
                                    <p:animEffect filter="fade" transition="in">
                                      <p:cBhvr additive="repl">
                                        <p:cTn id="2226" dur="500"/>
                                        <p:tgtEl>
                                          <p:spTgt spid="2290"/>
                                        </p:tgtEl>
                                      </p:cBhvr>
                                    </p:animEffect>
                                  </p:childTnLst>
                                </p:cTn>
                              </p:par>
                            </p:childTnLst>
                          </p:cTn>
                        </p:par>
                        <p:par>
                          <p:cTn id="2227" nodeType="afterEffect" fill="hold">
                            <p:stCondLst>
                              <p:cond delay="2000"/>
                            </p:stCondLst>
                            <p:childTnLst>
                              <p:par>
                                <p:cTn id="2228" nodeType="afterEffect" fill="hold" presetClass="entr" presetID="10">
                                  <p:stCondLst>
                                    <p:cond delay="0"/>
                                  </p:stCondLst>
                                  <p:childTnLst>
                                    <p:set>
                                      <p:cBhvr>
                                        <p:cTn id="2229" dur="1" fill="hold">
                                          <p:stCondLst>
                                            <p:cond delay="0"/>
                                          </p:stCondLst>
                                        </p:cTn>
                                        <p:tgtEl>
                                          <p:spTgt spid="2243"/>
                                        </p:tgtEl>
                                        <p:attrNameLst>
                                          <p:attrName>style.visibility</p:attrName>
                                        </p:attrNameLst>
                                      </p:cBhvr>
                                      <p:to>
                                        <p:strVal val="visible"/>
                                      </p:to>
                                    </p:set>
                                    <p:animEffect filter="fade" transition="in">
                                      <p:cBhvr additive="repl">
                                        <p:cTn id="2230" dur="500"/>
                                        <p:tgtEl>
                                          <p:spTgt spid="2243"/>
                                        </p:tgtEl>
                                      </p:cBhvr>
                                    </p:animEffect>
                                  </p:childTnLst>
                                </p:cTn>
                              </p:par>
                              <p:par>
                                <p:cTn id="2231" nodeType="withEffect" fill="hold" presetClass="entr" presetID="10">
                                  <p:stCondLst>
                                    <p:cond delay="0"/>
                                  </p:stCondLst>
                                  <p:childTnLst>
                                    <p:set>
                                      <p:cBhvr>
                                        <p:cTn id="2232" dur="1" fill="hold">
                                          <p:stCondLst>
                                            <p:cond delay="0"/>
                                          </p:stCondLst>
                                        </p:cTn>
                                        <p:tgtEl>
                                          <p:spTgt spid="2285"/>
                                        </p:tgtEl>
                                        <p:attrNameLst>
                                          <p:attrName>style.visibility</p:attrName>
                                        </p:attrNameLst>
                                      </p:cBhvr>
                                      <p:to>
                                        <p:strVal val="visible"/>
                                      </p:to>
                                    </p:set>
                                    <p:animEffect filter="fade" transition="in">
                                      <p:cBhvr additive="repl">
                                        <p:cTn id="2233" dur="500"/>
                                        <p:tgtEl>
                                          <p:spTgt spid="2285"/>
                                        </p:tgtEl>
                                      </p:cBhvr>
                                    </p:animEffect>
                                  </p:childTnLst>
                                </p:cTn>
                              </p:par>
                              <p:par>
                                <p:cTn id="2234" nodeType="withEffect" fill="hold" presetClass="entr" presetID="10">
                                  <p:stCondLst>
                                    <p:cond delay="0"/>
                                  </p:stCondLst>
                                  <p:childTnLst>
                                    <p:set>
                                      <p:cBhvr>
                                        <p:cTn id="2235" dur="1" fill="hold">
                                          <p:stCondLst>
                                            <p:cond delay="0"/>
                                          </p:stCondLst>
                                        </p:cTn>
                                        <p:tgtEl>
                                          <p:spTgt spid="2242"/>
                                        </p:tgtEl>
                                        <p:attrNameLst>
                                          <p:attrName>style.visibility</p:attrName>
                                        </p:attrNameLst>
                                      </p:cBhvr>
                                      <p:to>
                                        <p:strVal val="visible"/>
                                      </p:to>
                                    </p:set>
                                    <p:animEffect filter="fade" transition="in">
                                      <p:cBhvr additive="repl">
                                        <p:cTn id="2236" dur="500"/>
                                        <p:tgtEl>
                                          <p:spTgt spid="2242"/>
                                        </p:tgtEl>
                                      </p:cBhvr>
                                    </p:animEffect>
                                  </p:childTnLst>
                                </p:cTn>
                              </p:par>
                              <p:par>
                                <p:cTn id="2237" nodeType="withEffect" fill="hold" presetClass="entr" presetID="10">
                                  <p:stCondLst>
                                    <p:cond delay="0"/>
                                  </p:stCondLst>
                                  <p:childTnLst>
                                    <p:set>
                                      <p:cBhvr>
                                        <p:cTn id="2238" dur="1" fill="hold">
                                          <p:stCondLst>
                                            <p:cond delay="0"/>
                                          </p:stCondLst>
                                        </p:cTn>
                                        <p:tgtEl>
                                          <p:spTgt spid="2288"/>
                                        </p:tgtEl>
                                        <p:attrNameLst>
                                          <p:attrName>style.visibility</p:attrName>
                                        </p:attrNameLst>
                                      </p:cBhvr>
                                      <p:to>
                                        <p:strVal val="visible"/>
                                      </p:to>
                                    </p:set>
                                    <p:animEffect filter="fade" transition="in">
                                      <p:cBhvr additive="repl">
                                        <p:cTn id="2239" dur="500"/>
                                        <p:tgtEl>
                                          <p:spTgt spid="2288"/>
                                        </p:tgtEl>
                                      </p:cBhvr>
                                    </p:animEffect>
                                  </p:childTnLst>
                                </p:cTn>
                              </p:par>
                            </p:childTnLst>
                          </p:cTn>
                        </p:par>
                        <p:par>
                          <p:cTn id="2240" nodeType="afterEffect" fill="hold">
                            <p:stCondLst>
                              <p:cond delay="2500"/>
                            </p:stCondLst>
                            <p:childTnLst>
                              <p:par>
                                <p:cTn id="2241" nodeType="afterEffect" fill="hold" presetClass="entr" presetID="10">
                                  <p:stCondLst>
                                    <p:cond delay="0"/>
                                  </p:stCondLst>
                                  <p:childTnLst>
                                    <p:set>
                                      <p:cBhvr>
                                        <p:cTn id="2242" dur="1" fill="hold">
                                          <p:stCondLst>
                                            <p:cond delay="0"/>
                                          </p:stCondLst>
                                        </p:cTn>
                                        <p:tgtEl>
                                          <p:spTgt spid="2245"/>
                                        </p:tgtEl>
                                        <p:attrNameLst>
                                          <p:attrName>style.visibility</p:attrName>
                                        </p:attrNameLst>
                                      </p:cBhvr>
                                      <p:to>
                                        <p:strVal val="visible"/>
                                      </p:to>
                                    </p:set>
                                    <p:animEffect filter="fade" transition="in">
                                      <p:cBhvr additive="repl">
                                        <p:cTn id="2243" dur="500"/>
                                        <p:tgtEl>
                                          <p:spTgt spid="2245"/>
                                        </p:tgtEl>
                                      </p:cBhvr>
                                    </p:animEffect>
                                  </p:childTnLst>
                                </p:cTn>
                              </p:par>
                              <p:par>
                                <p:cTn id="2244" nodeType="withEffect" fill="hold" presetClass="entr" presetID="10">
                                  <p:stCondLst>
                                    <p:cond delay="0"/>
                                  </p:stCondLst>
                                  <p:childTnLst>
                                    <p:set>
                                      <p:cBhvr>
                                        <p:cTn id="2245" dur="1" fill="hold">
                                          <p:stCondLst>
                                            <p:cond delay="0"/>
                                          </p:stCondLst>
                                        </p:cTn>
                                        <p:tgtEl>
                                          <p:spTgt spid="2284"/>
                                        </p:tgtEl>
                                        <p:attrNameLst>
                                          <p:attrName>style.visibility</p:attrName>
                                        </p:attrNameLst>
                                      </p:cBhvr>
                                      <p:to>
                                        <p:strVal val="visible"/>
                                      </p:to>
                                    </p:set>
                                    <p:animEffect filter="fade" transition="in">
                                      <p:cBhvr additive="repl">
                                        <p:cTn id="2246" dur="500"/>
                                        <p:tgtEl>
                                          <p:spTgt spid="2284"/>
                                        </p:tgtEl>
                                      </p:cBhvr>
                                    </p:animEffect>
                                  </p:childTnLst>
                                </p:cTn>
                              </p:par>
                              <p:par>
                                <p:cTn id="2247" nodeType="withEffect" fill="hold" presetClass="entr" presetID="10">
                                  <p:stCondLst>
                                    <p:cond delay="0"/>
                                  </p:stCondLst>
                                  <p:childTnLst>
                                    <p:set>
                                      <p:cBhvr>
                                        <p:cTn id="2248" dur="1" fill="hold">
                                          <p:stCondLst>
                                            <p:cond delay="0"/>
                                          </p:stCondLst>
                                        </p:cTn>
                                        <p:tgtEl>
                                          <p:spTgt spid="2244"/>
                                        </p:tgtEl>
                                        <p:attrNameLst>
                                          <p:attrName>style.visibility</p:attrName>
                                        </p:attrNameLst>
                                      </p:cBhvr>
                                      <p:to>
                                        <p:strVal val="visible"/>
                                      </p:to>
                                    </p:set>
                                    <p:animEffect filter="fade" transition="in">
                                      <p:cBhvr additive="repl">
                                        <p:cTn id="2249" dur="500"/>
                                        <p:tgtEl>
                                          <p:spTgt spid="2244"/>
                                        </p:tgtEl>
                                      </p:cBhvr>
                                    </p:animEffect>
                                  </p:childTnLst>
                                </p:cTn>
                              </p:par>
                              <p:par>
                                <p:cTn id="2250" nodeType="withEffect" fill="hold" presetClass="entr" presetID="10">
                                  <p:stCondLst>
                                    <p:cond delay="0"/>
                                  </p:stCondLst>
                                  <p:childTnLst>
                                    <p:set>
                                      <p:cBhvr>
                                        <p:cTn id="2251" dur="1" fill="hold">
                                          <p:stCondLst>
                                            <p:cond delay="0"/>
                                          </p:stCondLst>
                                        </p:cTn>
                                        <p:tgtEl>
                                          <p:spTgt spid="2287"/>
                                        </p:tgtEl>
                                        <p:attrNameLst>
                                          <p:attrName>style.visibility</p:attrName>
                                        </p:attrNameLst>
                                      </p:cBhvr>
                                      <p:to>
                                        <p:strVal val="visible"/>
                                      </p:to>
                                    </p:set>
                                    <p:animEffect filter="fade" transition="in">
                                      <p:cBhvr additive="repl">
                                        <p:cTn id="2252" dur="500"/>
                                        <p:tgtEl>
                                          <p:spTgt spid="2287"/>
                                        </p:tgtEl>
                                      </p:cBhvr>
                                    </p:animEffect>
                                  </p:childTnLst>
                                </p:cTn>
                              </p:par>
                            </p:childTnLst>
                          </p:cTn>
                        </p:par>
                        <p:par>
                          <p:cTn id="2253" nodeType="afterEffect" fill="hold">
                            <p:stCondLst>
                              <p:cond delay="3000"/>
                            </p:stCondLst>
                            <p:childTnLst>
                              <p:par>
                                <p:cTn id="2254" nodeType="afterEffect" fill="hold" presetClass="entr" presetID="10">
                                  <p:stCondLst>
                                    <p:cond delay="0"/>
                                  </p:stCondLst>
                                  <p:childTnLst>
                                    <p:set>
                                      <p:cBhvr>
                                        <p:cTn id="2255" dur="1" fill="hold">
                                          <p:stCondLst>
                                            <p:cond delay="0"/>
                                          </p:stCondLst>
                                        </p:cTn>
                                        <p:tgtEl>
                                          <p:spTgt spid="2283"/>
                                        </p:tgtEl>
                                        <p:attrNameLst>
                                          <p:attrName>style.visibility</p:attrName>
                                        </p:attrNameLst>
                                      </p:cBhvr>
                                      <p:to>
                                        <p:strVal val="visible"/>
                                      </p:to>
                                    </p:set>
                                    <p:animEffect filter="fade" transition="in">
                                      <p:cBhvr additive="repl">
                                        <p:cTn id="2256" dur="500"/>
                                        <p:tgtEl>
                                          <p:spTgt spid="2283"/>
                                        </p:tgtEl>
                                      </p:cBhvr>
                                    </p:animEffect>
                                  </p:childTnLst>
                                </p:cTn>
                              </p:par>
                              <p:par>
                                <p:cTn id="2257" nodeType="withEffect" fill="hold" presetClass="entr" presetID="10">
                                  <p:stCondLst>
                                    <p:cond delay="0"/>
                                  </p:stCondLst>
                                  <p:childTnLst>
                                    <p:set>
                                      <p:cBhvr>
                                        <p:cTn id="2258" dur="1" fill="hold">
                                          <p:stCondLst>
                                            <p:cond delay="0"/>
                                          </p:stCondLst>
                                        </p:cTn>
                                        <p:tgtEl>
                                          <p:spTgt spid="2247"/>
                                        </p:tgtEl>
                                        <p:attrNameLst>
                                          <p:attrName>style.visibility</p:attrName>
                                        </p:attrNameLst>
                                      </p:cBhvr>
                                      <p:to>
                                        <p:strVal val="visible"/>
                                      </p:to>
                                    </p:set>
                                    <p:animEffect filter="fade" transition="in">
                                      <p:cBhvr additive="repl">
                                        <p:cTn id="2259" dur="500"/>
                                        <p:tgtEl>
                                          <p:spTgt spid="2247"/>
                                        </p:tgtEl>
                                      </p:cBhvr>
                                    </p:animEffect>
                                  </p:childTnLst>
                                </p:cTn>
                              </p:par>
                              <p:par>
                                <p:cTn id="2260" nodeType="withEffect" fill="hold" presetClass="entr" presetID="10">
                                  <p:stCondLst>
                                    <p:cond delay="0"/>
                                  </p:stCondLst>
                                  <p:childTnLst>
                                    <p:set>
                                      <p:cBhvr>
                                        <p:cTn id="2261" dur="1" fill="hold">
                                          <p:stCondLst>
                                            <p:cond delay="0"/>
                                          </p:stCondLst>
                                        </p:cTn>
                                        <p:tgtEl>
                                          <p:spTgt spid="2246"/>
                                        </p:tgtEl>
                                        <p:attrNameLst>
                                          <p:attrName>style.visibility</p:attrName>
                                        </p:attrNameLst>
                                      </p:cBhvr>
                                      <p:to>
                                        <p:strVal val="visible"/>
                                      </p:to>
                                    </p:set>
                                    <p:animEffect filter="fade" transition="in">
                                      <p:cBhvr additive="repl">
                                        <p:cTn id="2262" dur="500"/>
                                        <p:tgtEl>
                                          <p:spTgt spid="2246"/>
                                        </p:tgtEl>
                                      </p:cBhvr>
                                    </p:animEffect>
                                  </p:childTnLst>
                                </p:cTn>
                              </p:par>
                              <p:par>
                                <p:cTn id="2263" nodeType="withEffect" fill="hold" presetClass="entr" presetID="10">
                                  <p:stCondLst>
                                    <p:cond delay="0"/>
                                  </p:stCondLst>
                                  <p:childTnLst>
                                    <p:set>
                                      <p:cBhvr>
                                        <p:cTn id="2264" dur="1" fill="hold">
                                          <p:stCondLst>
                                            <p:cond delay="0"/>
                                          </p:stCondLst>
                                        </p:cTn>
                                        <p:tgtEl>
                                          <p:spTgt spid="2286"/>
                                        </p:tgtEl>
                                        <p:attrNameLst>
                                          <p:attrName>style.visibility</p:attrName>
                                        </p:attrNameLst>
                                      </p:cBhvr>
                                      <p:to>
                                        <p:strVal val="visible"/>
                                      </p:to>
                                    </p:set>
                                    <p:animEffect filter="fade" transition="in">
                                      <p:cBhvr additive="repl">
                                        <p:cTn id="2265" dur="500"/>
                                        <p:tgtEl>
                                          <p:spTgt spid="2286"/>
                                        </p:tgtEl>
                                      </p:cBhvr>
                                    </p:animEffect>
                                  </p:childTnLst>
                                </p:cTn>
                              </p:par>
                            </p:childTnLst>
                          </p:cTn>
                        </p:par>
                        <p:par>
                          <p:cTn id="2266" nodeType="afterEffect" fill="hold">
                            <p:stCondLst>
                              <p:cond delay="3500"/>
                            </p:stCondLst>
                            <p:childTnLst>
                              <p:par>
                                <p:cTn id="2267" nodeType="afterEffect" fill="hold" presetClass="entr" presetID="10">
                                  <p:stCondLst>
                                    <p:cond delay="0"/>
                                  </p:stCondLst>
                                  <p:childTnLst>
                                    <p:set>
                                      <p:cBhvr>
                                        <p:cTn id="2268" dur="1" fill="hold">
                                          <p:stCondLst>
                                            <p:cond delay="0"/>
                                          </p:stCondLst>
                                        </p:cTn>
                                        <p:tgtEl>
                                          <p:spTgt spid="2267"/>
                                        </p:tgtEl>
                                        <p:attrNameLst>
                                          <p:attrName>style.visibility</p:attrName>
                                        </p:attrNameLst>
                                      </p:cBhvr>
                                      <p:to>
                                        <p:strVal val="visible"/>
                                      </p:to>
                                    </p:set>
                                    <p:animEffect filter="fade" transition="in">
                                      <p:cBhvr additive="repl">
                                        <p:cTn id="2269" dur="500"/>
                                        <p:tgtEl>
                                          <p:spTgt spid="2267"/>
                                        </p:tgtEl>
                                      </p:cBhvr>
                                    </p:animEffect>
                                  </p:childTnLst>
                                </p:cTn>
                              </p:par>
                              <p:par>
                                <p:cTn id="2270" nodeType="withEffect" fill="hold" presetClass="entr" presetID="10">
                                  <p:stCondLst>
                                    <p:cond delay="0"/>
                                  </p:stCondLst>
                                  <p:childTnLst>
                                    <p:set>
                                      <p:cBhvr>
                                        <p:cTn id="2271" dur="1" fill="hold">
                                          <p:stCondLst>
                                            <p:cond delay="0"/>
                                          </p:stCondLst>
                                        </p:cTn>
                                        <p:tgtEl>
                                          <p:spTgt spid="2276"/>
                                        </p:tgtEl>
                                        <p:attrNameLst>
                                          <p:attrName>style.visibility</p:attrName>
                                        </p:attrNameLst>
                                      </p:cBhvr>
                                      <p:to>
                                        <p:strVal val="visible"/>
                                      </p:to>
                                    </p:set>
                                    <p:animEffect filter="fade" transition="in">
                                      <p:cBhvr additive="repl">
                                        <p:cTn id="2272" dur="500"/>
                                        <p:tgtEl>
                                          <p:spTgt spid="2276"/>
                                        </p:tgtEl>
                                      </p:cBhvr>
                                    </p:animEffect>
                                  </p:childTnLst>
                                </p:cTn>
                              </p:par>
                              <p:par>
                                <p:cTn id="2273" nodeType="withEffect" fill="hold" presetClass="entr" presetID="10">
                                  <p:stCondLst>
                                    <p:cond delay="0"/>
                                  </p:stCondLst>
                                  <p:childTnLst>
                                    <p:set>
                                      <p:cBhvr>
                                        <p:cTn id="2274" dur="1" fill="hold">
                                          <p:stCondLst>
                                            <p:cond delay="0"/>
                                          </p:stCondLst>
                                        </p:cTn>
                                        <p:tgtEl>
                                          <p:spTgt spid="2266"/>
                                        </p:tgtEl>
                                        <p:attrNameLst>
                                          <p:attrName>style.visibility</p:attrName>
                                        </p:attrNameLst>
                                      </p:cBhvr>
                                      <p:to>
                                        <p:strVal val="visible"/>
                                      </p:to>
                                    </p:set>
                                    <p:animEffect filter="fade" transition="in">
                                      <p:cBhvr additive="repl">
                                        <p:cTn id="2275" dur="500"/>
                                        <p:tgtEl>
                                          <p:spTgt spid="2266"/>
                                        </p:tgtEl>
                                      </p:cBhvr>
                                    </p:animEffect>
                                  </p:childTnLst>
                                </p:cTn>
                              </p:par>
                              <p:par>
                                <p:cTn id="2276" nodeType="withEffect" fill="hold" presetClass="entr" presetID="10">
                                  <p:stCondLst>
                                    <p:cond delay="0"/>
                                  </p:stCondLst>
                                  <p:childTnLst>
                                    <p:set>
                                      <p:cBhvr>
                                        <p:cTn id="2277" dur="1" fill="hold">
                                          <p:stCondLst>
                                            <p:cond delay="0"/>
                                          </p:stCondLst>
                                        </p:cTn>
                                        <p:tgtEl>
                                          <p:spTgt spid="2275"/>
                                        </p:tgtEl>
                                        <p:attrNameLst>
                                          <p:attrName>style.visibility</p:attrName>
                                        </p:attrNameLst>
                                      </p:cBhvr>
                                      <p:to>
                                        <p:strVal val="visible"/>
                                      </p:to>
                                    </p:set>
                                    <p:animEffect filter="fade" transition="in">
                                      <p:cBhvr additive="repl">
                                        <p:cTn id="2278" dur="500"/>
                                        <p:tgtEl>
                                          <p:spTgt spid="2275"/>
                                        </p:tgtEl>
                                      </p:cBhvr>
                                    </p:animEffect>
                                  </p:childTnLst>
                                </p:cTn>
                              </p:par>
                              <p:par>
                                <p:cTn id="2279" nodeType="withEffect" fill="hold" presetClass="entr" presetID="10">
                                  <p:stCondLst>
                                    <p:cond delay="0"/>
                                  </p:stCondLst>
                                  <p:childTnLst>
                                    <p:set>
                                      <p:cBhvr>
                                        <p:cTn id="2280" dur="1" fill="hold">
                                          <p:stCondLst>
                                            <p:cond delay="0"/>
                                          </p:stCondLst>
                                        </p:cTn>
                                        <p:tgtEl>
                                          <p:spTgt spid="2265"/>
                                        </p:tgtEl>
                                        <p:attrNameLst>
                                          <p:attrName>style.visibility</p:attrName>
                                        </p:attrNameLst>
                                      </p:cBhvr>
                                      <p:to>
                                        <p:strVal val="visible"/>
                                      </p:to>
                                    </p:set>
                                    <p:animEffect filter="fade" transition="in">
                                      <p:cBhvr additive="repl">
                                        <p:cTn id="2281" dur="500"/>
                                        <p:tgtEl>
                                          <p:spTgt spid="2265"/>
                                        </p:tgtEl>
                                      </p:cBhvr>
                                    </p:animEffect>
                                  </p:childTnLst>
                                </p:cTn>
                              </p:par>
                              <p:par>
                                <p:cTn id="2282" nodeType="withEffect" fill="hold" presetClass="entr" presetID="10">
                                  <p:stCondLst>
                                    <p:cond delay="0"/>
                                  </p:stCondLst>
                                  <p:childTnLst>
                                    <p:set>
                                      <p:cBhvr>
                                        <p:cTn id="2283" dur="1" fill="hold">
                                          <p:stCondLst>
                                            <p:cond delay="0"/>
                                          </p:stCondLst>
                                        </p:cTn>
                                        <p:tgtEl>
                                          <p:spTgt spid="2274"/>
                                        </p:tgtEl>
                                        <p:attrNameLst>
                                          <p:attrName>style.visibility</p:attrName>
                                        </p:attrNameLst>
                                      </p:cBhvr>
                                      <p:to>
                                        <p:strVal val="visible"/>
                                      </p:to>
                                    </p:set>
                                    <p:animEffect filter="fade" transition="in">
                                      <p:cBhvr additive="repl">
                                        <p:cTn id="2284" dur="500"/>
                                        <p:tgtEl>
                                          <p:spTgt spid="2274"/>
                                        </p:tgtEl>
                                      </p:cBhvr>
                                    </p:animEffect>
                                  </p:childTnLst>
                                </p:cTn>
                              </p:par>
                            </p:childTnLst>
                          </p:cTn>
                        </p:par>
                        <p:par>
                          <p:cTn id="2285" nodeType="afterEffect" fill="hold">
                            <p:stCondLst>
                              <p:cond delay="4000"/>
                            </p:stCondLst>
                            <p:childTnLst>
                              <p:par>
                                <p:cTn id="2286" nodeType="afterEffect" fill="hold" presetClass="entr" presetID="10">
                                  <p:stCondLst>
                                    <p:cond delay="0"/>
                                  </p:stCondLst>
                                  <p:childTnLst>
                                    <p:set>
                                      <p:cBhvr>
                                        <p:cTn id="2287" dur="1" fill="hold">
                                          <p:stCondLst>
                                            <p:cond delay="0"/>
                                          </p:stCondLst>
                                        </p:cTn>
                                        <p:tgtEl>
                                          <p:spTgt spid="2269"/>
                                        </p:tgtEl>
                                        <p:attrNameLst>
                                          <p:attrName>style.visibility</p:attrName>
                                        </p:attrNameLst>
                                      </p:cBhvr>
                                      <p:to>
                                        <p:strVal val="visible"/>
                                      </p:to>
                                    </p:set>
                                    <p:animEffect filter="fade" transition="in">
                                      <p:cBhvr additive="repl">
                                        <p:cTn id="2288" dur="500"/>
                                        <p:tgtEl>
                                          <p:spTgt spid="2269"/>
                                        </p:tgtEl>
                                      </p:cBhvr>
                                    </p:animEffect>
                                  </p:childTnLst>
                                </p:cTn>
                              </p:par>
                              <p:par>
                                <p:cTn id="2289" nodeType="withEffect" fill="hold" presetClass="entr" presetID="10">
                                  <p:stCondLst>
                                    <p:cond delay="0"/>
                                  </p:stCondLst>
                                  <p:childTnLst>
                                    <p:set>
                                      <p:cBhvr>
                                        <p:cTn id="2290" dur="1" fill="hold">
                                          <p:stCondLst>
                                            <p:cond delay="0"/>
                                          </p:stCondLst>
                                        </p:cTn>
                                        <p:tgtEl>
                                          <p:spTgt spid="2270"/>
                                        </p:tgtEl>
                                        <p:attrNameLst>
                                          <p:attrName>style.visibility</p:attrName>
                                        </p:attrNameLst>
                                      </p:cBhvr>
                                      <p:to>
                                        <p:strVal val="visible"/>
                                      </p:to>
                                    </p:set>
                                    <p:animEffect filter="fade" transition="in">
                                      <p:cBhvr additive="repl">
                                        <p:cTn id="2291" dur="500"/>
                                        <p:tgtEl>
                                          <p:spTgt spid="2270"/>
                                        </p:tgtEl>
                                      </p:cBhvr>
                                    </p:animEffect>
                                  </p:childTnLst>
                                </p:cTn>
                              </p:par>
                              <p:par>
                                <p:cTn id="2292" nodeType="withEffect" fill="hold" presetClass="entr" presetID="10">
                                  <p:stCondLst>
                                    <p:cond delay="0"/>
                                  </p:stCondLst>
                                  <p:childTnLst>
                                    <p:set>
                                      <p:cBhvr>
                                        <p:cTn id="2293" dur="1" fill="hold">
                                          <p:stCondLst>
                                            <p:cond delay="0"/>
                                          </p:stCondLst>
                                        </p:cTn>
                                        <p:tgtEl>
                                          <p:spTgt spid="2268"/>
                                        </p:tgtEl>
                                        <p:attrNameLst>
                                          <p:attrName>style.visibility</p:attrName>
                                        </p:attrNameLst>
                                      </p:cBhvr>
                                      <p:to>
                                        <p:strVal val="visible"/>
                                      </p:to>
                                    </p:set>
                                    <p:animEffect filter="fade" transition="in">
                                      <p:cBhvr additive="repl">
                                        <p:cTn id="2294" dur="500"/>
                                        <p:tgtEl>
                                          <p:spTgt spid="2268"/>
                                        </p:tgtEl>
                                      </p:cBhvr>
                                    </p:animEffect>
                                  </p:childTnLst>
                                </p:cTn>
                              </p:par>
                              <p:par>
                                <p:cTn id="2295" nodeType="withEffect" fill="hold" presetClass="entr" presetID="10">
                                  <p:stCondLst>
                                    <p:cond delay="0"/>
                                  </p:stCondLst>
                                  <p:childTnLst>
                                    <p:set>
                                      <p:cBhvr>
                                        <p:cTn id="2296" dur="1" fill="hold">
                                          <p:stCondLst>
                                            <p:cond delay="0"/>
                                          </p:stCondLst>
                                        </p:cTn>
                                        <p:tgtEl>
                                          <p:spTgt spid="2279"/>
                                        </p:tgtEl>
                                        <p:attrNameLst>
                                          <p:attrName>style.visibility</p:attrName>
                                        </p:attrNameLst>
                                      </p:cBhvr>
                                      <p:to>
                                        <p:strVal val="visible"/>
                                      </p:to>
                                    </p:set>
                                    <p:animEffect filter="fade" transition="in">
                                      <p:cBhvr additive="repl">
                                        <p:cTn id="2297" dur="500"/>
                                        <p:tgtEl>
                                          <p:spTgt spid="2279"/>
                                        </p:tgtEl>
                                      </p:cBhvr>
                                    </p:animEffect>
                                  </p:childTnLst>
                                </p:cTn>
                              </p:par>
                              <p:par>
                                <p:cTn id="2298" nodeType="withEffect" fill="hold" presetClass="entr" presetID="10">
                                  <p:stCondLst>
                                    <p:cond delay="0"/>
                                  </p:stCondLst>
                                  <p:childTnLst>
                                    <p:set>
                                      <p:cBhvr>
                                        <p:cTn id="2299" dur="1" fill="hold">
                                          <p:stCondLst>
                                            <p:cond delay="0"/>
                                          </p:stCondLst>
                                        </p:cTn>
                                        <p:tgtEl>
                                          <p:spTgt spid="2278"/>
                                        </p:tgtEl>
                                        <p:attrNameLst>
                                          <p:attrName>style.visibility</p:attrName>
                                        </p:attrNameLst>
                                      </p:cBhvr>
                                      <p:to>
                                        <p:strVal val="visible"/>
                                      </p:to>
                                    </p:set>
                                    <p:animEffect filter="fade" transition="in">
                                      <p:cBhvr additive="repl">
                                        <p:cTn id="2300" dur="500"/>
                                        <p:tgtEl>
                                          <p:spTgt spid="2278"/>
                                        </p:tgtEl>
                                      </p:cBhvr>
                                    </p:animEffect>
                                  </p:childTnLst>
                                </p:cTn>
                              </p:par>
                              <p:par>
                                <p:cTn id="2301" nodeType="withEffect" fill="hold" presetClass="entr" presetID="10">
                                  <p:stCondLst>
                                    <p:cond delay="0"/>
                                  </p:stCondLst>
                                  <p:childTnLst>
                                    <p:set>
                                      <p:cBhvr>
                                        <p:cTn id="2302" dur="1" fill="hold">
                                          <p:stCondLst>
                                            <p:cond delay="0"/>
                                          </p:stCondLst>
                                        </p:cTn>
                                        <p:tgtEl>
                                          <p:spTgt spid="2277"/>
                                        </p:tgtEl>
                                        <p:attrNameLst>
                                          <p:attrName>style.visibility</p:attrName>
                                        </p:attrNameLst>
                                      </p:cBhvr>
                                      <p:to>
                                        <p:strVal val="visible"/>
                                      </p:to>
                                    </p:set>
                                    <p:animEffect filter="fade" transition="in">
                                      <p:cBhvr additive="repl">
                                        <p:cTn id="2303" dur="500"/>
                                        <p:tgtEl>
                                          <p:spTgt spid="2277"/>
                                        </p:tgtEl>
                                      </p:cBhvr>
                                    </p:animEffect>
                                  </p:childTnLst>
                                </p:cTn>
                              </p:par>
                            </p:childTnLst>
                          </p:cTn>
                        </p:par>
                        <p:par>
                          <p:cTn id="2304" nodeType="afterEffect" fill="hold">
                            <p:stCondLst>
                              <p:cond delay="4500"/>
                            </p:stCondLst>
                            <p:childTnLst>
                              <p:par>
                                <p:cTn id="2305" nodeType="afterEffect" fill="hold" presetClass="entr" presetID="10">
                                  <p:stCondLst>
                                    <p:cond delay="0"/>
                                  </p:stCondLst>
                                  <p:childTnLst>
                                    <p:set>
                                      <p:cBhvr>
                                        <p:cTn id="2306" dur="1" fill="hold">
                                          <p:stCondLst>
                                            <p:cond delay="0"/>
                                          </p:stCondLst>
                                        </p:cTn>
                                        <p:tgtEl>
                                          <p:spTgt spid="2272"/>
                                        </p:tgtEl>
                                        <p:attrNameLst>
                                          <p:attrName>style.visibility</p:attrName>
                                        </p:attrNameLst>
                                      </p:cBhvr>
                                      <p:to>
                                        <p:strVal val="visible"/>
                                      </p:to>
                                    </p:set>
                                    <p:animEffect filter="fade" transition="in">
                                      <p:cBhvr additive="repl">
                                        <p:cTn id="2307" dur="500"/>
                                        <p:tgtEl>
                                          <p:spTgt spid="2272"/>
                                        </p:tgtEl>
                                      </p:cBhvr>
                                    </p:animEffect>
                                  </p:childTnLst>
                                </p:cTn>
                              </p:par>
                              <p:par>
                                <p:cTn id="2308" nodeType="withEffect" fill="hold" presetClass="entr" presetID="10">
                                  <p:stCondLst>
                                    <p:cond delay="0"/>
                                  </p:stCondLst>
                                  <p:childTnLst>
                                    <p:set>
                                      <p:cBhvr>
                                        <p:cTn id="2309" dur="1" fill="hold">
                                          <p:stCondLst>
                                            <p:cond delay="0"/>
                                          </p:stCondLst>
                                        </p:cTn>
                                        <p:tgtEl>
                                          <p:spTgt spid="2273"/>
                                        </p:tgtEl>
                                        <p:attrNameLst>
                                          <p:attrName>style.visibility</p:attrName>
                                        </p:attrNameLst>
                                      </p:cBhvr>
                                      <p:to>
                                        <p:strVal val="visible"/>
                                      </p:to>
                                    </p:set>
                                    <p:animEffect filter="fade" transition="in">
                                      <p:cBhvr additive="repl">
                                        <p:cTn id="2310" dur="500"/>
                                        <p:tgtEl>
                                          <p:spTgt spid="2273"/>
                                        </p:tgtEl>
                                      </p:cBhvr>
                                    </p:animEffect>
                                  </p:childTnLst>
                                </p:cTn>
                              </p:par>
                              <p:par>
                                <p:cTn id="2311" nodeType="withEffect" fill="hold" presetClass="entr" presetID="10">
                                  <p:stCondLst>
                                    <p:cond delay="0"/>
                                  </p:stCondLst>
                                  <p:childTnLst>
                                    <p:set>
                                      <p:cBhvr>
                                        <p:cTn id="2312" dur="1" fill="hold">
                                          <p:stCondLst>
                                            <p:cond delay="0"/>
                                          </p:stCondLst>
                                        </p:cTn>
                                        <p:tgtEl>
                                          <p:spTgt spid="2271"/>
                                        </p:tgtEl>
                                        <p:attrNameLst>
                                          <p:attrName>style.visibility</p:attrName>
                                        </p:attrNameLst>
                                      </p:cBhvr>
                                      <p:to>
                                        <p:strVal val="visible"/>
                                      </p:to>
                                    </p:set>
                                    <p:animEffect filter="fade" transition="in">
                                      <p:cBhvr additive="repl">
                                        <p:cTn id="2313" dur="500"/>
                                        <p:tgtEl>
                                          <p:spTgt spid="2271"/>
                                        </p:tgtEl>
                                      </p:cBhvr>
                                    </p:animEffect>
                                  </p:childTnLst>
                                </p:cTn>
                              </p:par>
                              <p:par>
                                <p:cTn id="2314" nodeType="withEffect" fill="hold" presetClass="entr" presetID="10">
                                  <p:stCondLst>
                                    <p:cond delay="0"/>
                                  </p:stCondLst>
                                  <p:childTnLst>
                                    <p:set>
                                      <p:cBhvr>
                                        <p:cTn id="2315" dur="1" fill="hold">
                                          <p:stCondLst>
                                            <p:cond delay="0"/>
                                          </p:stCondLst>
                                        </p:cTn>
                                        <p:tgtEl>
                                          <p:spTgt spid="2281"/>
                                        </p:tgtEl>
                                        <p:attrNameLst>
                                          <p:attrName>style.visibility</p:attrName>
                                        </p:attrNameLst>
                                      </p:cBhvr>
                                      <p:to>
                                        <p:strVal val="visible"/>
                                      </p:to>
                                    </p:set>
                                    <p:animEffect filter="fade" transition="in">
                                      <p:cBhvr additive="repl">
                                        <p:cTn id="2316" dur="500"/>
                                        <p:tgtEl>
                                          <p:spTgt spid="2281"/>
                                        </p:tgtEl>
                                      </p:cBhvr>
                                    </p:animEffect>
                                  </p:childTnLst>
                                </p:cTn>
                              </p:par>
                              <p:par>
                                <p:cTn id="2317" nodeType="withEffect" fill="hold" presetClass="entr" presetID="10">
                                  <p:stCondLst>
                                    <p:cond delay="0"/>
                                  </p:stCondLst>
                                  <p:childTnLst>
                                    <p:set>
                                      <p:cBhvr>
                                        <p:cTn id="2318" dur="1" fill="hold">
                                          <p:stCondLst>
                                            <p:cond delay="0"/>
                                          </p:stCondLst>
                                        </p:cTn>
                                        <p:tgtEl>
                                          <p:spTgt spid="2282"/>
                                        </p:tgtEl>
                                        <p:attrNameLst>
                                          <p:attrName>style.visibility</p:attrName>
                                        </p:attrNameLst>
                                      </p:cBhvr>
                                      <p:to>
                                        <p:strVal val="visible"/>
                                      </p:to>
                                    </p:set>
                                    <p:animEffect filter="fade" transition="in">
                                      <p:cBhvr additive="repl">
                                        <p:cTn id="2319" dur="500"/>
                                        <p:tgtEl>
                                          <p:spTgt spid="2282"/>
                                        </p:tgtEl>
                                      </p:cBhvr>
                                    </p:animEffect>
                                  </p:childTnLst>
                                </p:cTn>
                              </p:par>
                              <p:par>
                                <p:cTn id="2320" nodeType="withEffect" fill="hold" presetClass="entr" presetID="10">
                                  <p:stCondLst>
                                    <p:cond delay="0"/>
                                  </p:stCondLst>
                                  <p:childTnLst>
                                    <p:set>
                                      <p:cBhvr>
                                        <p:cTn id="2321" dur="1" fill="hold">
                                          <p:stCondLst>
                                            <p:cond delay="0"/>
                                          </p:stCondLst>
                                        </p:cTn>
                                        <p:tgtEl>
                                          <p:spTgt spid="2280"/>
                                        </p:tgtEl>
                                        <p:attrNameLst>
                                          <p:attrName>style.visibility</p:attrName>
                                        </p:attrNameLst>
                                      </p:cBhvr>
                                      <p:to>
                                        <p:strVal val="visible"/>
                                      </p:to>
                                    </p:set>
                                    <p:animEffect filter="fade" transition="in">
                                      <p:cBhvr additive="repl">
                                        <p:cTn id="2322"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c3f"/>
                </a:solidFill>
                <a:latin typeface="Lato"/>
              </a:rPr>
              <a:t>Comparison Chart</a:t>
            </a:r>
            <a:endParaRPr b="0" lang="en-US" sz="3600" spc="-1" strike="noStrike">
              <a:solidFill>
                <a:srgbClr val="313c3f"/>
              </a:solidFill>
              <a:latin typeface="Lato"/>
            </a:endParaRPr>
          </a:p>
        </p:txBody>
      </p:sp>
      <p:sp>
        <p:nvSpPr>
          <p:cNvPr id="2292" name="Freeform: Shape 16"/>
          <p:cNvSpPr/>
          <p:nvPr/>
        </p:nvSpPr>
        <p:spPr>
          <a:xfrm>
            <a:off x="3405240" y="325584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93" name="Freeform: Shape 17"/>
          <p:cNvSpPr/>
          <p:nvPr/>
        </p:nvSpPr>
        <p:spPr>
          <a:xfrm>
            <a:off x="963720" y="3678120"/>
            <a:ext cx="1681200" cy="6080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0b3f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94" name="Freeform: Shape 18"/>
          <p:cNvSpPr/>
          <p:nvPr/>
        </p:nvSpPr>
        <p:spPr>
          <a:xfrm>
            <a:off x="3405240" y="264780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95" name="Freeform: Shape 19"/>
          <p:cNvSpPr/>
          <p:nvPr/>
        </p:nvSpPr>
        <p:spPr>
          <a:xfrm>
            <a:off x="963720" y="3070080"/>
            <a:ext cx="168120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296" name="Freeform: Shape 20"/>
          <p:cNvSpPr/>
          <p:nvPr/>
        </p:nvSpPr>
        <p:spPr>
          <a:xfrm>
            <a:off x="963720" y="2463840"/>
            <a:ext cx="1681200" cy="606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297" name="Group 34"/>
          <p:cNvGrpSpPr/>
          <p:nvPr/>
        </p:nvGrpSpPr>
        <p:grpSpPr>
          <a:xfrm>
            <a:off x="852480" y="3863880"/>
            <a:ext cx="4346640" cy="1955880"/>
            <a:chOff x="852480" y="3863880"/>
            <a:chExt cx="4346640" cy="1955880"/>
          </a:xfrm>
        </p:grpSpPr>
        <p:grpSp>
          <p:nvGrpSpPr>
            <p:cNvPr id="2298" name="Graphic 2"/>
            <p:cNvGrpSpPr/>
            <p:nvPr/>
          </p:nvGrpSpPr>
          <p:grpSpPr>
            <a:xfrm>
              <a:off x="852480" y="4286160"/>
              <a:ext cx="1904760" cy="317880"/>
              <a:chOff x="852480" y="4286160"/>
              <a:chExt cx="1904760" cy="317880"/>
            </a:xfrm>
          </p:grpSpPr>
          <p:sp>
            <p:nvSpPr>
              <p:cNvPr id="2299" name="Freeform: Shape 5"/>
              <p:cNvSpPr/>
              <p:nvPr/>
            </p:nvSpPr>
            <p:spPr>
              <a:xfrm>
                <a:off x="852480" y="4286160"/>
                <a:ext cx="1904760" cy="31788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00" name="Freeform: Shape 6"/>
              <p:cNvSpPr/>
              <p:nvPr/>
            </p:nvSpPr>
            <p:spPr>
              <a:xfrm>
                <a:off x="1928880" y="4331160"/>
                <a:ext cx="697680" cy="22788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01" name="Freeform: Shape 7"/>
              <p:cNvSpPr/>
              <p:nvPr/>
            </p:nvSpPr>
            <p:spPr>
              <a:xfrm>
                <a:off x="982080" y="4331160"/>
                <a:ext cx="709920" cy="22788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302" name="Graphic 2"/>
            <p:cNvGrpSpPr/>
            <p:nvPr/>
          </p:nvGrpSpPr>
          <p:grpSpPr>
            <a:xfrm>
              <a:off x="3294360" y="3863880"/>
              <a:ext cx="1904760" cy="317880"/>
              <a:chOff x="3294360" y="3863880"/>
              <a:chExt cx="1904760" cy="317880"/>
            </a:xfrm>
          </p:grpSpPr>
          <p:sp>
            <p:nvSpPr>
              <p:cNvPr id="2303" name="Freeform: Shape 9"/>
              <p:cNvSpPr/>
              <p:nvPr/>
            </p:nvSpPr>
            <p:spPr>
              <a:xfrm>
                <a:off x="3294360" y="3863880"/>
                <a:ext cx="1904760" cy="31788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04" name="Freeform: Shape 10"/>
              <p:cNvSpPr/>
              <p:nvPr/>
            </p:nvSpPr>
            <p:spPr>
              <a:xfrm>
                <a:off x="4370760" y="3908880"/>
                <a:ext cx="697680" cy="22788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05" name="Freeform: Shape 11"/>
              <p:cNvSpPr/>
              <p:nvPr/>
            </p:nvSpPr>
            <p:spPr>
              <a:xfrm>
                <a:off x="3423960" y="3908880"/>
                <a:ext cx="709200" cy="22788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306" name="Freeform: Shape 12"/>
            <p:cNvSpPr/>
            <p:nvPr/>
          </p:nvSpPr>
          <p:spPr>
            <a:xfrm>
              <a:off x="1726560" y="4218480"/>
              <a:ext cx="2625120" cy="104724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07" name="Freeform: Shape 13"/>
            <p:cNvSpPr/>
            <p:nvPr/>
          </p:nvSpPr>
          <p:spPr>
            <a:xfrm>
              <a:off x="1870200" y="4845960"/>
              <a:ext cx="2249280" cy="4197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08" name="Freeform: Shape 14"/>
            <p:cNvSpPr/>
            <p:nvPr/>
          </p:nvSpPr>
          <p:spPr>
            <a:xfrm>
              <a:off x="1590480" y="4604040"/>
              <a:ext cx="428400" cy="9648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09" name="Freeform: Shape 15"/>
            <p:cNvSpPr/>
            <p:nvPr/>
          </p:nvSpPr>
          <p:spPr>
            <a:xfrm>
              <a:off x="4032000" y="4181760"/>
              <a:ext cx="428400" cy="9648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310" name="Graphic 2"/>
            <p:cNvGrpSpPr/>
            <p:nvPr/>
          </p:nvGrpSpPr>
          <p:grpSpPr>
            <a:xfrm>
              <a:off x="2099520" y="4989960"/>
              <a:ext cx="2076840" cy="829800"/>
              <a:chOff x="2099520" y="4989960"/>
              <a:chExt cx="2076840" cy="829800"/>
            </a:xfrm>
          </p:grpSpPr>
          <p:sp>
            <p:nvSpPr>
              <p:cNvPr id="2311" name="Freeform: Shape 22"/>
              <p:cNvSpPr/>
              <p:nvPr/>
            </p:nvSpPr>
            <p:spPr>
              <a:xfrm>
                <a:off x="2099520" y="4989960"/>
                <a:ext cx="2076840" cy="82980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12" name="Freeform: Shape 23"/>
              <p:cNvSpPr/>
              <p:nvPr/>
            </p:nvSpPr>
            <p:spPr>
              <a:xfrm>
                <a:off x="3177360" y="5086440"/>
                <a:ext cx="952560" cy="68904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13" name="Freeform: Shape 24"/>
              <p:cNvSpPr/>
              <p:nvPr/>
            </p:nvSpPr>
            <p:spPr>
              <a:xfrm>
                <a:off x="3056760" y="5063040"/>
                <a:ext cx="164880" cy="16344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sp>
        <p:nvSpPr>
          <p:cNvPr id="2314" name="TextBox 41"/>
          <p:cNvSpPr/>
          <p:nvPr/>
        </p:nvSpPr>
        <p:spPr>
          <a:xfrm>
            <a:off x="1403640" y="2536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35%</a:t>
            </a:r>
            <a:endParaRPr b="0" lang="en-US" sz="2400" spc="-1" strike="noStrike">
              <a:solidFill>
                <a:srgbClr val="313c3f"/>
              </a:solidFill>
              <a:latin typeface="Source Sans Pro"/>
            </a:endParaRPr>
          </a:p>
        </p:txBody>
      </p:sp>
      <p:sp>
        <p:nvSpPr>
          <p:cNvPr id="2315" name="TextBox 42"/>
          <p:cNvSpPr/>
          <p:nvPr/>
        </p:nvSpPr>
        <p:spPr>
          <a:xfrm>
            <a:off x="1403640" y="3127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313c3f"/>
              </a:solidFill>
              <a:latin typeface="Source Sans Pro"/>
            </a:endParaRPr>
          </a:p>
        </p:txBody>
      </p:sp>
      <p:sp>
        <p:nvSpPr>
          <p:cNvPr id="2316" name="TextBox 43"/>
          <p:cNvSpPr/>
          <p:nvPr/>
        </p:nvSpPr>
        <p:spPr>
          <a:xfrm>
            <a:off x="1403640" y="3755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13c3f"/>
              </a:solidFill>
              <a:latin typeface="Source Sans Pro"/>
            </a:endParaRPr>
          </a:p>
        </p:txBody>
      </p:sp>
      <p:sp>
        <p:nvSpPr>
          <p:cNvPr id="2317" name="TextBox 44"/>
          <p:cNvSpPr/>
          <p:nvPr/>
        </p:nvSpPr>
        <p:spPr>
          <a:xfrm>
            <a:off x="3845520" y="272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13c3f"/>
              </a:solidFill>
              <a:latin typeface="Source Sans Pro"/>
            </a:endParaRPr>
          </a:p>
        </p:txBody>
      </p:sp>
      <p:sp>
        <p:nvSpPr>
          <p:cNvPr id="2318" name="TextBox 45"/>
          <p:cNvSpPr/>
          <p:nvPr/>
        </p:nvSpPr>
        <p:spPr>
          <a:xfrm>
            <a:off x="3845520" y="332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13c3f"/>
              </a:solidFill>
              <a:latin typeface="Source Sans Pro"/>
            </a:endParaRPr>
          </a:p>
        </p:txBody>
      </p:sp>
      <p:sp>
        <p:nvSpPr>
          <p:cNvPr id="2319" name="TextBox 124"/>
          <p:cNvSpPr/>
          <p:nvPr/>
        </p:nvSpPr>
        <p:spPr>
          <a:xfrm>
            <a:off x="5860800" y="44226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e1c11e"/>
                </a:solidFill>
                <a:latin typeface="Lato"/>
                <a:ea typeface="Calibri"/>
              </a:rPr>
              <a:t>25%</a:t>
            </a:r>
            <a:endParaRPr b="0" lang="en-US" sz="4000" spc="-1" strike="noStrike">
              <a:solidFill>
                <a:srgbClr val="313c3f"/>
              </a:solidFill>
              <a:latin typeface="Source Sans Pro"/>
            </a:endParaRPr>
          </a:p>
        </p:txBody>
      </p:sp>
      <p:sp>
        <p:nvSpPr>
          <p:cNvPr id="2320" name="Rectangle 125"/>
          <p:cNvSpPr/>
          <p:nvPr/>
        </p:nvSpPr>
        <p:spPr>
          <a:xfrm>
            <a:off x="7070760" y="4470480"/>
            <a:ext cx="3220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sit</a:t>
            </a:r>
            <a:endParaRPr b="0" lang="en-US" sz="1200" spc="-1" strike="noStrike">
              <a:solidFill>
                <a:srgbClr val="313c3f"/>
              </a:solidFill>
              <a:latin typeface="Source Sans Pro"/>
            </a:endParaRPr>
          </a:p>
        </p:txBody>
      </p:sp>
      <p:sp>
        <p:nvSpPr>
          <p:cNvPr id="2321" name="TextBox 126"/>
          <p:cNvSpPr/>
          <p:nvPr/>
        </p:nvSpPr>
        <p:spPr>
          <a:xfrm>
            <a:off x="5897520" y="4145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2322" name="TextBox 127"/>
          <p:cNvSpPr/>
          <p:nvPr/>
        </p:nvSpPr>
        <p:spPr>
          <a:xfrm>
            <a:off x="5860800" y="2529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157d42"/>
                </a:solidFill>
                <a:latin typeface="Lato"/>
                <a:ea typeface="Calibri"/>
              </a:rPr>
              <a:t>75%</a:t>
            </a:r>
            <a:endParaRPr b="0" lang="en-US" sz="4000" spc="-1" strike="noStrike">
              <a:solidFill>
                <a:srgbClr val="313c3f"/>
              </a:solidFill>
              <a:latin typeface="Source Sans Pro"/>
            </a:endParaRPr>
          </a:p>
        </p:txBody>
      </p:sp>
      <p:sp>
        <p:nvSpPr>
          <p:cNvPr id="2323" name="Rectangle 128"/>
          <p:cNvSpPr/>
          <p:nvPr/>
        </p:nvSpPr>
        <p:spPr>
          <a:xfrm>
            <a:off x="7099200" y="259704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sit</a:t>
            </a:r>
            <a:endParaRPr b="0" lang="en-US" sz="1200" spc="-1" strike="noStrike">
              <a:solidFill>
                <a:srgbClr val="313c3f"/>
              </a:solidFill>
              <a:latin typeface="Source Sans Pro"/>
            </a:endParaRPr>
          </a:p>
        </p:txBody>
      </p:sp>
      <p:sp>
        <p:nvSpPr>
          <p:cNvPr id="2324" name="TextBox 129"/>
          <p:cNvSpPr/>
          <p:nvPr/>
        </p:nvSpPr>
        <p:spPr>
          <a:xfrm>
            <a:off x="5872320" y="22305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2325" name="TextBox 131"/>
          <p:cNvSpPr/>
          <p:nvPr/>
        </p:nvSpPr>
        <p:spPr>
          <a:xfrm>
            <a:off x="627840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326" name="Oval 132"/>
          <p:cNvSpPr/>
          <p:nvPr/>
        </p:nvSpPr>
        <p:spPr>
          <a:xfrm>
            <a:off x="6000840" y="3387600"/>
            <a:ext cx="203040" cy="20340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327" name="TextBox 134"/>
          <p:cNvSpPr/>
          <p:nvPr/>
        </p:nvSpPr>
        <p:spPr>
          <a:xfrm>
            <a:off x="995832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328" name="Oval 135"/>
          <p:cNvSpPr/>
          <p:nvPr/>
        </p:nvSpPr>
        <p:spPr>
          <a:xfrm>
            <a:off x="9680400" y="3387600"/>
            <a:ext cx="203400" cy="203400"/>
          </a:xfrm>
          <a:prstGeom prst="ellipse">
            <a:avLst/>
          </a:prstGeom>
          <a:solidFill>
            <a:srgbClr val="0b3f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329" name="TextBox 140"/>
          <p:cNvSpPr/>
          <p:nvPr/>
        </p:nvSpPr>
        <p:spPr>
          <a:xfrm>
            <a:off x="8120160" y="33210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330" name="Oval 141"/>
          <p:cNvSpPr/>
          <p:nvPr/>
        </p:nvSpPr>
        <p:spPr>
          <a:xfrm>
            <a:off x="7843680" y="3387600"/>
            <a:ext cx="203400" cy="203400"/>
          </a:xfrm>
          <a:prstGeom prst="ellipse">
            <a:avLst/>
          </a:prstGeom>
          <a:solidFill>
            <a:srgbClr val="105e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331" name="Straight Connector 142"/>
          <p:cNvSpPr/>
          <p:nvPr/>
        </p:nvSpPr>
        <p:spPr>
          <a:xfrm>
            <a:off x="5897520" y="3962520"/>
            <a:ext cx="533088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2332" name="TextBox 46"/>
          <p:cNvSpPr/>
          <p:nvPr/>
        </p:nvSpPr>
        <p:spPr>
          <a:xfrm>
            <a:off x="6278400" y="51642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333" name="Oval 47"/>
          <p:cNvSpPr/>
          <p:nvPr/>
        </p:nvSpPr>
        <p:spPr>
          <a:xfrm>
            <a:off x="6000840" y="5232240"/>
            <a:ext cx="203040" cy="20340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2334" name="TextBox 48"/>
          <p:cNvSpPr/>
          <p:nvPr/>
        </p:nvSpPr>
        <p:spPr>
          <a:xfrm>
            <a:off x="8120160" y="51642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erformance</a:t>
            </a:r>
            <a:endParaRPr b="0" lang="en-US" sz="1600" spc="-1" strike="noStrike">
              <a:solidFill>
                <a:srgbClr val="313c3f"/>
              </a:solidFill>
              <a:latin typeface="Source Sans Pro"/>
            </a:endParaRPr>
          </a:p>
        </p:txBody>
      </p:sp>
      <p:sp>
        <p:nvSpPr>
          <p:cNvPr id="2335" name="Oval 49"/>
          <p:cNvSpPr/>
          <p:nvPr/>
        </p:nvSpPr>
        <p:spPr>
          <a:xfrm>
            <a:off x="7843680" y="5232240"/>
            <a:ext cx="203400" cy="203400"/>
          </a:xfrm>
          <a:prstGeom prst="ellipse">
            <a:avLst/>
          </a:prstGeom>
          <a:solidFill>
            <a:srgbClr val="a991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Tree>
  </p:cSld>
  <p:transition spd="med">
    <p:fade/>
  </p:transition>
  <p:timing>
    <p:tnLst>
      <p:par>
        <p:cTn id="2323" dur="indefinite" restart="never" nodeType="tmRoot">
          <p:childTnLst>
            <p:seq>
              <p:cTn id="2324" dur="indefinite" nodeType="mainSeq">
                <p:childTnLst>
                  <p:par>
                    <p:cTn id="2325" nodeType="clickEffect" fill="hold">
                      <p:stCondLst>
                        <p:cond delay="0"/>
                      </p:stCondLst>
                      <p:childTnLst>
                        <p:par>
                          <p:cTn id="2326" nodeType="withEffect" fill="hold">
                            <p:stCondLst>
                              <p:cond delay="0"/>
                            </p:stCondLst>
                            <p:childTnLst>
                              <p:par>
                                <p:cTn id="2327" nodeType="afterEffect" fill="hold" presetClass="entr" presetID="10">
                                  <p:stCondLst>
                                    <p:cond delay="0"/>
                                  </p:stCondLst>
                                  <p:childTnLst>
                                    <p:set>
                                      <p:cBhvr>
                                        <p:cTn id="2328" dur="1" fill="hold">
                                          <p:stCondLst>
                                            <p:cond delay="0"/>
                                          </p:stCondLst>
                                        </p:cTn>
                                        <p:tgtEl>
                                          <p:spTgt spid="2291"/>
                                        </p:tgtEl>
                                        <p:attrNameLst>
                                          <p:attrName>style.visibility</p:attrName>
                                        </p:attrNameLst>
                                      </p:cBhvr>
                                      <p:to>
                                        <p:strVal val="visible"/>
                                      </p:to>
                                    </p:set>
                                    <p:animEffect filter="fade" transition="in">
                                      <p:cBhvr additive="repl">
                                        <p:cTn id="2329" dur="500"/>
                                        <p:tgtEl>
                                          <p:spTgt spid="2291"/>
                                        </p:tgtEl>
                                      </p:cBhvr>
                                    </p:animEffect>
                                  </p:childTnLst>
                                </p:cTn>
                              </p:par>
                            </p:childTnLst>
                          </p:cTn>
                        </p:par>
                        <p:par>
                          <p:cTn id="2330" nodeType="afterEffect" fill="hold">
                            <p:stCondLst>
                              <p:cond delay="500"/>
                            </p:stCondLst>
                            <p:childTnLst>
                              <p:par>
                                <p:cTn id="2331" nodeType="afterEffect" fill="hold" presetClass="entr" presetID="47">
                                  <p:stCondLst>
                                    <p:cond delay="0"/>
                                  </p:stCondLst>
                                  <p:childTnLst>
                                    <p:set>
                                      <p:cBhvr>
                                        <p:cTn id="2332" dur="1" fill="hold">
                                          <p:stCondLst>
                                            <p:cond delay="0"/>
                                          </p:stCondLst>
                                        </p:cTn>
                                        <p:tgtEl>
                                          <p:spTgt spid="2297"/>
                                        </p:tgtEl>
                                        <p:attrNameLst>
                                          <p:attrName>style.visibility</p:attrName>
                                        </p:attrNameLst>
                                      </p:cBhvr>
                                      <p:to>
                                        <p:strVal val="visible"/>
                                      </p:to>
                                    </p:set>
                                    <p:animEffect filter="fade" transition="in">
                                      <p:cBhvr additive="repl">
                                        <p:cTn id="2333" dur="1000"/>
                                        <p:tgtEl>
                                          <p:spTgt spid="2297"/>
                                        </p:tgtEl>
                                      </p:cBhvr>
                                    </p:animEffect>
                                    <p:anim calcmode="lin" valueType="num">
                                      <p:cBhvr additive="repl">
                                        <p:cTn id="2334" dur="1000" fill="hold"/>
                                        <p:tgtEl>
                                          <p:spTgt spid="2297"/>
                                        </p:tgtEl>
                                        <p:attrNameLst>
                                          <p:attrName>ppt_x</p:attrName>
                                        </p:attrNameLst>
                                      </p:cBhvr>
                                      <p:tavLst>
                                        <p:tav tm="0">
                                          <p:val>
                                            <p:strVal val="#ppt_x"/>
                                          </p:val>
                                        </p:tav>
                                        <p:tav tm="100000">
                                          <p:val>
                                            <p:strVal val="#ppt_x"/>
                                          </p:val>
                                        </p:tav>
                                      </p:tavLst>
                                    </p:anim>
                                    <p:anim calcmode="lin" valueType="num">
                                      <p:cBhvr additive="repl">
                                        <p:cTn id="2335" dur="1000" fill="hold"/>
                                        <p:tgtEl>
                                          <p:spTgt spid="2297"/>
                                        </p:tgtEl>
                                        <p:attrNameLst>
                                          <p:attrName>ppt_y</p:attrName>
                                        </p:attrNameLst>
                                      </p:cBhvr>
                                      <p:tavLst>
                                        <p:tav tm="0">
                                          <p:val>
                                            <p:strVal val="#ppt_y-.1"/>
                                          </p:val>
                                        </p:tav>
                                        <p:tav tm="100000">
                                          <p:val>
                                            <p:strVal val="#ppt_y"/>
                                          </p:val>
                                        </p:tav>
                                      </p:tavLst>
                                    </p:anim>
                                  </p:childTnLst>
                                </p:cTn>
                              </p:par>
                            </p:childTnLst>
                          </p:cTn>
                        </p:par>
                        <p:par>
                          <p:cTn id="2336" nodeType="afterEffect" fill="hold">
                            <p:stCondLst>
                              <p:cond delay="1500"/>
                            </p:stCondLst>
                            <p:childTnLst>
                              <p:par>
                                <p:cTn id="2337" nodeType="afterEffect" fill="hold" presetClass="entr" presetID="10">
                                  <p:stCondLst>
                                    <p:cond delay="0"/>
                                  </p:stCondLst>
                                  <p:childTnLst>
                                    <p:set>
                                      <p:cBhvr>
                                        <p:cTn id="2338" dur="1" fill="hold">
                                          <p:stCondLst>
                                            <p:cond delay="0"/>
                                          </p:stCondLst>
                                        </p:cTn>
                                        <p:tgtEl>
                                          <p:spTgt spid="2293"/>
                                        </p:tgtEl>
                                        <p:attrNameLst>
                                          <p:attrName>style.visibility</p:attrName>
                                        </p:attrNameLst>
                                      </p:cBhvr>
                                      <p:to>
                                        <p:strVal val="visible"/>
                                      </p:to>
                                    </p:set>
                                    <p:animEffect filter="fade" transition="in">
                                      <p:cBhvr additive="repl">
                                        <p:cTn id="2339" dur="500"/>
                                        <p:tgtEl>
                                          <p:spTgt spid="2293"/>
                                        </p:tgtEl>
                                      </p:cBhvr>
                                    </p:animEffect>
                                  </p:childTnLst>
                                </p:cTn>
                              </p:par>
                              <p:par>
                                <p:cTn id="2340" nodeType="withEffect" fill="hold" presetClass="entr" presetID="10">
                                  <p:stCondLst>
                                    <p:cond delay="0"/>
                                  </p:stCondLst>
                                  <p:childTnLst>
                                    <p:set>
                                      <p:cBhvr>
                                        <p:cTn id="2341" dur="1" fill="hold">
                                          <p:stCondLst>
                                            <p:cond delay="0"/>
                                          </p:stCondLst>
                                        </p:cTn>
                                        <p:tgtEl>
                                          <p:spTgt spid="2316"/>
                                        </p:tgtEl>
                                        <p:attrNameLst>
                                          <p:attrName>style.visibility</p:attrName>
                                        </p:attrNameLst>
                                      </p:cBhvr>
                                      <p:to>
                                        <p:strVal val="visible"/>
                                      </p:to>
                                    </p:set>
                                    <p:animEffect filter="fade" transition="in">
                                      <p:cBhvr additive="repl">
                                        <p:cTn id="2342" dur="500"/>
                                        <p:tgtEl>
                                          <p:spTgt spid="2316"/>
                                        </p:tgtEl>
                                      </p:cBhvr>
                                    </p:animEffect>
                                  </p:childTnLst>
                                </p:cTn>
                              </p:par>
                              <p:par>
                                <p:cTn id="2343" nodeType="withEffect" fill="hold" presetClass="entr" presetID="10">
                                  <p:stCondLst>
                                    <p:cond delay="0"/>
                                  </p:stCondLst>
                                  <p:childTnLst>
                                    <p:set>
                                      <p:cBhvr>
                                        <p:cTn id="2344" dur="1" fill="hold">
                                          <p:stCondLst>
                                            <p:cond delay="0"/>
                                          </p:stCondLst>
                                        </p:cTn>
                                        <p:tgtEl>
                                          <p:spTgt spid="2292"/>
                                        </p:tgtEl>
                                        <p:attrNameLst>
                                          <p:attrName>style.visibility</p:attrName>
                                        </p:attrNameLst>
                                      </p:cBhvr>
                                      <p:to>
                                        <p:strVal val="visible"/>
                                      </p:to>
                                    </p:set>
                                    <p:animEffect filter="fade" transition="in">
                                      <p:cBhvr additive="repl">
                                        <p:cTn id="2345" dur="500"/>
                                        <p:tgtEl>
                                          <p:spTgt spid="2292"/>
                                        </p:tgtEl>
                                      </p:cBhvr>
                                    </p:animEffect>
                                  </p:childTnLst>
                                </p:cTn>
                              </p:par>
                              <p:par>
                                <p:cTn id="2346" nodeType="withEffect" fill="hold" presetClass="entr" presetID="10">
                                  <p:stCondLst>
                                    <p:cond delay="0"/>
                                  </p:stCondLst>
                                  <p:childTnLst>
                                    <p:set>
                                      <p:cBhvr>
                                        <p:cTn id="2347" dur="1" fill="hold">
                                          <p:stCondLst>
                                            <p:cond delay="0"/>
                                          </p:stCondLst>
                                        </p:cTn>
                                        <p:tgtEl>
                                          <p:spTgt spid="2318"/>
                                        </p:tgtEl>
                                        <p:attrNameLst>
                                          <p:attrName>style.visibility</p:attrName>
                                        </p:attrNameLst>
                                      </p:cBhvr>
                                      <p:to>
                                        <p:strVal val="visible"/>
                                      </p:to>
                                    </p:set>
                                    <p:animEffect filter="fade" transition="in">
                                      <p:cBhvr additive="repl">
                                        <p:cTn id="2348" dur="500"/>
                                        <p:tgtEl>
                                          <p:spTgt spid="2318"/>
                                        </p:tgtEl>
                                      </p:cBhvr>
                                    </p:animEffect>
                                  </p:childTnLst>
                                </p:cTn>
                              </p:par>
                            </p:childTnLst>
                          </p:cTn>
                        </p:par>
                        <p:par>
                          <p:cTn id="2349" nodeType="afterEffect" fill="hold">
                            <p:stCondLst>
                              <p:cond delay="2000"/>
                            </p:stCondLst>
                            <p:childTnLst>
                              <p:par>
                                <p:cTn id="2350" nodeType="afterEffect" fill="hold" presetClass="entr" presetID="10">
                                  <p:stCondLst>
                                    <p:cond delay="0"/>
                                  </p:stCondLst>
                                  <p:childTnLst>
                                    <p:set>
                                      <p:cBhvr>
                                        <p:cTn id="2351" dur="1" fill="hold">
                                          <p:stCondLst>
                                            <p:cond delay="0"/>
                                          </p:stCondLst>
                                        </p:cTn>
                                        <p:tgtEl>
                                          <p:spTgt spid="2295"/>
                                        </p:tgtEl>
                                        <p:attrNameLst>
                                          <p:attrName>style.visibility</p:attrName>
                                        </p:attrNameLst>
                                      </p:cBhvr>
                                      <p:to>
                                        <p:strVal val="visible"/>
                                      </p:to>
                                    </p:set>
                                    <p:animEffect filter="fade" transition="in">
                                      <p:cBhvr additive="repl">
                                        <p:cTn id="2352" dur="500"/>
                                        <p:tgtEl>
                                          <p:spTgt spid="2295"/>
                                        </p:tgtEl>
                                      </p:cBhvr>
                                    </p:animEffect>
                                  </p:childTnLst>
                                </p:cTn>
                              </p:par>
                              <p:par>
                                <p:cTn id="2353" nodeType="withEffect" fill="hold" presetClass="entr" presetID="10">
                                  <p:stCondLst>
                                    <p:cond delay="0"/>
                                  </p:stCondLst>
                                  <p:childTnLst>
                                    <p:set>
                                      <p:cBhvr>
                                        <p:cTn id="2354" dur="1" fill="hold">
                                          <p:stCondLst>
                                            <p:cond delay="0"/>
                                          </p:stCondLst>
                                        </p:cTn>
                                        <p:tgtEl>
                                          <p:spTgt spid="2315"/>
                                        </p:tgtEl>
                                        <p:attrNameLst>
                                          <p:attrName>style.visibility</p:attrName>
                                        </p:attrNameLst>
                                      </p:cBhvr>
                                      <p:to>
                                        <p:strVal val="visible"/>
                                      </p:to>
                                    </p:set>
                                    <p:animEffect filter="fade" transition="in">
                                      <p:cBhvr additive="repl">
                                        <p:cTn id="2355" dur="500"/>
                                        <p:tgtEl>
                                          <p:spTgt spid="2315"/>
                                        </p:tgtEl>
                                      </p:cBhvr>
                                    </p:animEffect>
                                  </p:childTnLst>
                                </p:cTn>
                              </p:par>
                              <p:par>
                                <p:cTn id="2356" nodeType="withEffect" fill="hold" presetClass="entr" presetID="10">
                                  <p:stCondLst>
                                    <p:cond delay="0"/>
                                  </p:stCondLst>
                                  <p:childTnLst>
                                    <p:set>
                                      <p:cBhvr>
                                        <p:cTn id="2357" dur="1" fill="hold">
                                          <p:stCondLst>
                                            <p:cond delay="0"/>
                                          </p:stCondLst>
                                        </p:cTn>
                                        <p:tgtEl>
                                          <p:spTgt spid="2317"/>
                                        </p:tgtEl>
                                        <p:attrNameLst>
                                          <p:attrName>style.visibility</p:attrName>
                                        </p:attrNameLst>
                                      </p:cBhvr>
                                      <p:to>
                                        <p:strVal val="visible"/>
                                      </p:to>
                                    </p:set>
                                    <p:animEffect filter="fade" transition="in">
                                      <p:cBhvr additive="repl">
                                        <p:cTn id="2358" dur="500"/>
                                        <p:tgtEl>
                                          <p:spTgt spid="2317"/>
                                        </p:tgtEl>
                                      </p:cBhvr>
                                    </p:animEffect>
                                  </p:childTnLst>
                                </p:cTn>
                              </p:par>
                              <p:par>
                                <p:cTn id="2359" nodeType="withEffect" fill="hold" presetClass="entr" presetID="10">
                                  <p:stCondLst>
                                    <p:cond delay="0"/>
                                  </p:stCondLst>
                                  <p:childTnLst>
                                    <p:set>
                                      <p:cBhvr>
                                        <p:cTn id="2360" dur="1" fill="hold">
                                          <p:stCondLst>
                                            <p:cond delay="0"/>
                                          </p:stCondLst>
                                        </p:cTn>
                                        <p:tgtEl>
                                          <p:spTgt spid="2294"/>
                                        </p:tgtEl>
                                        <p:attrNameLst>
                                          <p:attrName>style.visibility</p:attrName>
                                        </p:attrNameLst>
                                      </p:cBhvr>
                                      <p:to>
                                        <p:strVal val="visible"/>
                                      </p:to>
                                    </p:set>
                                    <p:animEffect filter="fade" transition="in">
                                      <p:cBhvr additive="repl">
                                        <p:cTn id="2361" dur="500"/>
                                        <p:tgtEl>
                                          <p:spTgt spid="2294"/>
                                        </p:tgtEl>
                                      </p:cBhvr>
                                    </p:animEffect>
                                  </p:childTnLst>
                                </p:cTn>
                              </p:par>
                            </p:childTnLst>
                          </p:cTn>
                        </p:par>
                        <p:par>
                          <p:cTn id="2362" nodeType="afterEffect" fill="hold">
                            <p:stCondLst>
                              <p:cond delay="2500"/>
                            </p:stCondLst>
                            <p:childTnLst>
                              <p:par>
                                <p:cTn id="2363" nodeType="afterEffect" fill="hold" presetClass="entr" presetID="10">
                                  <p:stCondLst>
                                    <p:cond delay="0"/>
                                  </p:stCondLst>
                                  <p:childTnLst>
                                    <p:set>
                                      <p:cBhvr>
                                        <p:cTn id="2364" dur="1" fill="hold">
                                          <p:stCondLst>
                                            <p:cond delay="0"/>
                                          </p:stCondLst>
                                        </p:cTn>
                                        <p:tgtEl>
                                          <p:spTgt spid="2296"/>
                                        </p:tgtEl>
                                        <p:attrNameLst>
                                          <p:attrName>style.visibility</p:attrName>
                                        </p:attrNameLst>
                                      </p:cBhvr>
                                      <p:to>
                                        <p:strVal val="visible"/>
                                      </p:to>
                                    </p:set>
                                    <p:animEffect filter="fade" transition="in">
                                      <p:cBhvr additive="repl">
                                        <p:cTn id="2365" dur="500"/>
                                        <p:tgtEl>
                                          <p:spTgt spid="2296"/>
                                        </p:tgtEl>
                                      </p:cBhvr>
                                    </p:animEffect>
                                  </p:childTnLst>
                                </p:cTn>
                              </p:par>
                              <p:par>
                                <p:cTn id="2366" nodeType="withEffect" fill="hold" presetClass="entr" presetID="10">
                                  <p:stCondLst>
                                    <p:cond delay="0"/>
                                  </p:stCondLst>
                                  <p:childTnLst>
                                    <p:set>
                                      <p:cBhvr>
                                        <p:cTn id="2367" dur="1" fill="hold">
                                          <p:stCondLst>
                                            <p:cond delay="0"/>
                                          </p:stCondLst>
                                        </p:cTn>
                                        <p:tgtEl>
                                          <p:spTgt spid="2314"/>
                                        </p:tgtEl>
                                        <p:attrNameLst>
                                          <p:attrName>style.visibility</p:attrName>
                                        </p:attrNameLst>
                                      </p:cBhvr>
                                      <p:to>
                                        <p:strVal val="visible"/>
                                      </p:to>
                                    </p:set>
                                    <p:animEffect filter="fade" transition="in">
                                      <p:cBhvr additive="repl">
                                        <p:cTn id="2368" dur="500"/>
                                        <p:tgtEl>
                                          <p:spTgt spid="2314"/>
                                        </p:tgtEl>
                                      </p:cBhvr>
                                    </p:animEffect>
                                  </p:childTnLst>
                                </p:cTn>
                              </p:par>
                            </p:childTnLst>
                          </p:cTn>
                        </p:par>
                        <p:par>
                          <p:cTn id="2369" nodeType="afterEffect" fill="hold">
                            <p:stCondLst>
                              <p:cond delay="3000"/>
                            </p:stCondLst>
                            <p:childTnLst>
                              <p:par>
                                <p:cTn id="2370" nodeType="afterEffect" fill="hold" presetClass="entr" presetID="10">
                                  <p:stCondLst>
                                    <p:cond delay="0"/>
                                  </p:stCondLst>
                                  <p:childTnLst>
                                    <p:set>
                                      <p:cBhvr>
                                        <p:cTn id="2371" dur="1" fill="hold">
                                          <p:stCondLst>
                                            <p:cond delay="0"/>
                                          </p:stCondLst>
                                        </p:cTn>
                                        <p:tgtEl>
                                          <p:spTgt spid="2321"/>
                                        </p:tgtEl>
                                        <p:attrNameLst>
                                          <p:attrName>style.visibility</p:attrName>
                                        </p:attrNameLst>
                                      </p:cBhvr>
                                      <p:to>
                                        <p:strVal val="visible"/>
                                      </p:to>
                                    </p:set>
                                    <p:animEffect filter="fade" transition="in">
                                      <p:cBhvr additive="repl">
                                        <p:cTn id="2372" dur="500"/>
                                        <p:tgtEl>
                                          <p:spTgt spid="2321"/>
                                        </p:tgtEl>
                                      </p:cBhvr>
                                    </p:animEffect>
                                  </p:childTnLst>
                                </p:cTn>
                              </p:par>
                              <p:par>
                                <p:cTn id="2373" nodeType="withEffect" fill="hold" presetClass="entr" presetID="10">
                                  <p:stCondLst>
                                    <p:cond delay="0"/>
                                  </p:stCondLst>
                                  <p:childTnLst>
                                    <p:set>
                                      <p:cBhvr>
                                        <p:cTn id="2374" dur="1" fill="hold">
                                          <p:stCondLst>
                                            <p:cond delay="0"/>
                                          </p:stCondLst>
                                        </p:cTn>
                                        <p:tgtEl>
                                          <p:spTgt spid="2324"/>
                                        </p:tgtEl>
                                        <p:attrNameLst>
                                          <p:attrName>style.visibility</p:attrName>
                                        </p:attrNameLst>
                                      </p:cBhvr>
                                      <p:to>
                                        <p:strVal val="visible"/>
                                      </p:to>
                                    </p:set>
                                    <p:animEffect filter="fade" transition="in">
                                      <p:cBhvr additive="repl">
                                        <p:cTn id="2375" dur="500"/>
                                        <p:tgtEl>
                                          <p:spTgt spid="2324"/>
                                        </p:tgtEl>
                                      </p:cBhvr>
                                    </p:animEffect>
                                  </p:childTnLst>
                                </p:cTn>
                              </p:par>
                              <p:par>
                                <p:cTn id="2376" nodeType="withEffect" fill="hold" presetClass="entr" presetID="10">
                                  <p:stCondLst>
                                    <p:cond delay="0"/>
                                  </p:stCondLst>
                                  <p:childTnLst>
                                    <p:set>
                                      <p:cBhvr>
                                        <p:cTn id="2377" dur="1" fill="hold">
                                          <p:stCondLst>
                                            <p:cond delay="0"/>
                                          </p:stCondLst>
                                        </p:cTn>
                                        <p:tgtEl>
                                          <p:spTgt spid="2331"/>
                                        </p:tgtEl>
                                        <p:attrNameLst>
                                          <p:attrName>style.visibility</p:attrName>
                                        </p:attrNameLst>
                                      </p:cBhvr>
                                      <p:to>
                                        <p:strVal val="visible"/>
                                      </p:to>
                                    </p:set>
                                    <p:animEffect filter="fade" transition="in">
                                      <p:cBhvr additive="repl">
                                        <p:cTn id="2378" dur="500"/>
                                        <p:tgtEl>
                                          <p:spTgt spid="2331"/>
                                        </p:tgtEl>
                                      </p:cBhvr>
                                    </p:animEffect>
                                  </p:childTnLst>
                                </p:cTn>
                              </p:par>
                              <p:par>
                                <p:cTn id="2379" nodeType="withEffect" fill="hold" presetClass="entr" presetID="10">
                                  <p:stCondLst>
                                    <p:cond delay="0"/>
                                  </p:stCondLst>
                                  <p:childTnLst>
                                    <p:set>
                                      <p:cBhvr>
                                        <p:cTn id="2380" dur="1" fill="hold">
                                          <p:stCondLst>
                                            <p:cond delay="0"/>
                                          </p:stCondLst>
                                        </p:cTn>
                                        <p:tgtEl>
                                          <p:spTgt spid="2322"/>
                                        </p:tgtEl>
                                        <p:attrNameLst>
                                          <p:attrName>style.visibility</p:attrName>
                                        </p:attrNameLst>
                                      </p:cBhvr>
                                      <p:to>
                                        <p:strVal val="visible"/>
                                      </p:to>
                                    </p:set>
                                    <p:animEffect filter="fade" transition="in">
                                      <p:cBhvr additive="repl">
                                        <p:cTn id="2381" dur="500"/>
                                        <p:tgtEl>
                                          <p:spTgt spid="2322"/>
                                        </p:tgtEl>
                                      </p:cBhvr>
                                    </p:animEffect>
                                  </p:childTnLst>
                                </p:cTn>
                              </p:par>
                              <p:par>
                                <p:cTn id="2382" nodeType="withEffect" fill="hold" presetClass="entr" presetID="10">
                                  <p:stCondLst>
                                    <p:cond delay="0"/>
                                  </p:stCondLst>
                                  <p:childTnLst>
                                    <p:set>
                                      <p:cBhvr>
                                        <p:cTn id="2383" dur="1" fill="hold">
                                          <p:stCondLst>
                                            <p:cond delay="0"/>
                                          </p:stCondLst>
                                        </p:cTn>
                                        <p:tgtEl>
                                          <p:spTgt spid="2319"/>
                                        </p:tgtEl>
                                        <p:attrNameLst>
                                          <p:attrName>style.visibility</p:attrName>
                                        </p:attrNameLst>
                                      </p:cBhvr>
                                      <p:to>
                                        <p:strVal val="visible"/>
                                      </p:to>
                                    </p:set>
                                    <p:animEffect filter="fade" transition="in">
                                      <p:cBhvr additive="repl">
                                        <p:cTn id="2384" dur="500"/>
                                        <p:tgtEl>
                                          <p:spTgt spid="2319"/>
                                        </p:tgtEl>
                                      </p:cBhvr>
                                    </p:animEffect>
                                  </p:childTnLst>
                                </p:cTn>
                              </p:par>
                            </p:childTnLst>
                          </p:cTn>
                        </p:par>
                        <p:par>
                          <p:cTn id="2385" nodeType="afterEffect" fill="hold">
                            <p:stCondLst>
                              <p:cond delay="3500"/>
                            </p:stCondLst>
                            <p:childTnLst>
                              <p:par>
                                <p:cTn id="2386" nodeType="afterEffect" fill="hold" presetClass="entr" presetID="10">
                                  <p:stCondLst>
                                    <p:cond delay="0"/>
                                  </p:stCondLst>
                                  <p:childTnLst>
                                    <p:set>
                                      <p:cBhvr>
                                        <p:cTn id="2387" dur="1" fill="hold">
                                          <p:stCondLst>
                                            <p:cond delay="0"/>
                                          </p:stCondLst>
                                        </p:cTn>
                                        <p:tgtEl>
                                          <p:spTgt spid="2323"/>
                                        </p:tgtEl>
                                        <p:attrNameLst>
                                          <p:attrName>style.visibility</p:attrName>
                                        </p:attrNameLst>
                                      </p:cBhvr>
                                      <p:to>
                                        <p:strVal val="visible"/>
                                      </p:to>
                                    </p:set>
                                    <p:animEffect filter="fade" transition="in">
                                      <p:cBhvr additive="repl">
                                        <p:cTn id="2388" dur="500"/>
                                        <p:tgtEl>
                                          <p:spTgt spid="2323"/>
                                        </p:tgtEl>
                                      </p:cBhvr>
                                    </p:animEffect>
                                  </p:childTnLst>
                                </p:cTn>
                              </p:par>
                              <p:par>
                                <p:cTn id="2389" nodeType="withEffect" fill="hold" presetClass="entr" presetID="10">
                                  <p:stCondLst>
                                    <p:cond delay="0"/>
                                  </p:stCondLst>
                                  <p:childTnLst>
                                    <p:set>
                                      <p:cBhvr>
                                        <p:cTn id="2390" dur="1" fill="hold">
                                          <p:stCondLst>
                                            <p:cond delay="0"/>
                                          </p:stCondLst>
                                        </p:cTn>
                                        <p:tgtEl>
                                          <p:spTgt spid="2320"/>
                                        </p:tgtEl>
                                        <p:attrNameLst>
                                          <p:attrName>style.visibility</p:attrName>
                                        </p:attrNameLst>
                                      </p:cBhvr>
                                      <p:to>
                                        <p:strVal val="visible"/>
                                      </p:to>
                                    </p:set>
                                    <p:animEffect filter="fade" transition="in">
                                      <p:cBhvr additive="repl">
                                        <p:cTn id="2391" dur="500"/>
                                        <p:tgtEl>
                                          <p:spTgt spid="2320"/>
                                        </p:tgtEl>
                                      </p:cBhvr>
                                    </p:animEffect>
                                  </p:childTnLst>
                                </p:cTn>
                              </p:par>
                            </p:childTnLst>
                          </p:cTn>
                        </p:par>
                        <p:par>
                          <p:cTn id="2392" nodeType="afterEffect" fill="hold">
                            <p:stCondLst>
                              <p:cond delay="4000"/>
                            </p:stCondLst>
                            <p:childTnLst>
                              <p:par>
                                <p:cTn id="2393" nodeType="afterEffect" fill="hold" presetClass="entr" presetID="10">
                                  <p:stCondLst>
                                    <p:cond delay="0"/>
                                  </p:stCondLst>
                                  <p:childTnLst>
                                    <p:set>
                                      <p:cBhvr>
                                        <p:cTn id="2394" dur="1" fill="hold">
                                          <p:stCondLst>
                                            <p:cond delay="0"/>
                                          </p:stCondLst>
                                        </p:cTn>
                                        <p:tgtEl>
                                          <p:spTgt spid="2325"/>
                                        </p:tgtEl>
                                        <p:attrNameLst>
                                          <p:attrName>style.visibility</p:attrName>
                                        </p:attrNameLst>
                                      </p:cBhvr>
                                      <p:to>
                                        <p:strVal val="visible"/>
                                      </p:to>
                                    </p:set>
                                    <p:animEffect filter="fade" transition="in">
                                      <p:cBhvr additive="repl">
                                        <p:cTn id="2395" dur="500"/>
                                        <p:tgtEl>
                                          <p:spTgt spid="2325"/>
                                        </p:tgtEl>
                                      </p:cBhvr>
                                    </p:animEffect>
                                  </p:childTnLst>
                                </p:cTn>
                              </p:par>
                              <p:par>
                                <p:cTn id="2396" nodeType="withEffect" fill="hold" presetClass="entr" presetID="10">
                                  <p:stCondLst>
                                    <p:cond delay="0"/>
                                  </p:stCondLst>
                                  <p:childTnLst>
                                    <p:set>
                                      <p:cBhvr>
                                        <p:cTn id="2397" dur="1" fill="hold">
                                          <p:stCondLst>
                                            <p:cond delay="0"/>
                                          </p:stCondLst>
                                        </p:cTn>
                                        <p:tgtEl>
                                          <p:spTgt spid="2326"/>
                                        </p:tgtEl>
                                        <p:attrNameLst>
                                          <p:attrName>style.visibility</p:attrName>
                                        </p:attrNameLst>
                                      </p:cBhvr>
                                      <p:to>
                                        <p:strVal val="visible"/>
                                      </p:to>
                                    </p:set>
                                    <p:animEffect filter="fade" transition="in">
                                      <p:cBhvr additive="repl">
                                        <p:cTn id="2398" dur="500"/>
                                        <p:tgtEl>
                                          <p:spTgt spid="2326"/>
                                        </p:tgtEl>
                                      </p:cBhvr>
                                    </p:animEffect>
                                  </p:childTnLst>
                                </p:cTn>
                              </p:par>
                              <p:par>
                                <p:cTn id="2399" nodeType="withEffect" fill="hold" presetClass="entr" presetID="10">
                                  <p:stCondLst>
                                    <p:cond delay="0"/>
                                  </p:stCondLst>
                                  <p:childTnLst>
                                    <p:set>
                                      <p:cBhvr>
                                        <p:cTn id="2400" dur="1" fill="hold">
                                          <p:stCondLst>
                                            <p:cond delay="0"/>
                                          </p:stCondLst>
                                        </p:cTn>
                                        <p:tgtEl>
                                          <p:spTgt spid="2332"/>
                                        </p:tgtEl>
                                        <p:attrNameLst>
                                          <p:attrName>style.visibility</p:attrName>
                                        </p:attrNameLst>
                                      </p:cBhvr>
                                      <p:to>
                                        <p:strVal val="visible"/>
                                      </p:to>
                                    </p:set>
                                    <p:animEffect filter="fade" transition="in">
                                      <p:cBhvr additive="repl">
                                        <p:cTn id="2401" dur="500"/>
                                        <p:tgtEl>
                                          <p:spTgt spid="2332"/>
                                        </p:tgtEl>
                                      </p:cBhvr>
                                    </p:animEffect>
                                  </p:childTnLst>
                                </p:cTn>
                              </p:par>
                              <p:par>
                                <p:cTn id="2402" nodeType="withEffect" fill="hold" presetClass="entr" presetID="10">
                                  <p:stCondLst>
                                    <p:cond delay="0"/>
                                  </p:stCondLst>
                                  <p:childTnLst>
                                    <p:set>
                                      <p:cBhvr>
                                        <p:cTn id="2403" dur="1" fill="hold">
                                          <p:stCondLst>
                                            <p:cond delay="0"/>
                                          </p:stCondLst>
                                        </p:cTn>
                                        <p:tgtEl>
                                          <p:spTgt spid="2333"/>
                                        </p:tgtEl>
                                        <p:attrNameLst>
                                          <p:attrName>style.visibility</p:attrName>
                                        </p:attrNameLst>
                                      </p:cBhvr>
                                      <p:to>
                                        <p:strVal val="visible"/>
                                      </p:to>
                                    </p:set>
                                    <p:animEffect filter="fade" transition="in">
                                      <p:cBhvr additive="repl">
                                        <p:cTn id="2404" dur="500"/>
                                        <p:tgtEl>
                                          <p:spTgt spid="2333"/>
                                        </p:tgtEl>
                                      </p:cBhvr>
                                    </p:animEffect>
                                  </p:childTnLst>
                                </p:cTn>
                              </p:par>
                            </p:childTnLst>
                          </p:cTn>
                        </p:par>
                        <p:par>
                          <p:cTn id="2405" nodeType="afterEffect" fill="hold">
                            <p:stCondLst>
                              <p:cond delay="4500"/>
                            </p:stCondLst>
                            <p:childTnLst>
                              <p:par>
                                <p:cTn id="2406" nodeType="afterEffect" fill="hold" presetClass="entr" presetID="10">
                                  <p:stCondLst>
                                    <p:cond delay="0"/>
                                  </p:stCondLst>
                                  <p:childTnLst>
                                    <p:set>
                                      <p:cBhvr>
                                        <p:cTn id="2407" dur="1" fill="hold">
                                          <p:stCondLst>
                                            <p:cond delay="0"/>
                                          </p:stCondLst>
                                        </p:cTn>
                                        <p:tgtEl>
                                          <p:spTgt spid="2330"/>
                                        </p:tgtEl>
                                        <p:attrNameLst>
                                          <p:attrName>style.visibility</p:attrName>
                                        </p:attrNameLst>
                                      </p:cBhvr>
                                      <p:to>
                                        <p:strVal val="visible"/>
                                      </p:to>
                                    </p:set>
                                    <p:animEffect filter="fade" transition="in">
                                      <p:cBhvr additive="repl">
                                        <p:cTn id="2408" dur="500"/>
                                        <p:tgtEl>
                                          <p:spTgt spid="2330"/>
                                        </p:tgtEl>
                                      </p:cBhvr>
                                    </p:animEffect>
                                  </p:childTnLst>
                                </p:cTn>
                              </p:par>
                              <p:par>
                                <p:cTn id="2409" nodeType="withEffect" fill="hold" presetClass="entr" presetID="10">
                                  <p:stCondLst>
                                    <p:cond delay="0"/>
                                  </p:stCondLst>
                                  <p:childTnLst>
                                    <p:set>
                                      <p:cBhvr>
                                        <p:cTn id="2410" dur="1" fill="hold">
                                          <p:stCondLst>
                                            <p:cond delay="0"/>
                                          </p:stCondLst>
                                        </p:cTn>
                                        <p:tgtEl>
                                          <p:spTgt spid="2329"/>
                                        </p:tgtEl>
                                        <p:attrNameLst>
                                          <p:attrName>style.visibility</p:attrName>
                                        </p:attrNameLst>
                                      </p:cBhvr>
                                      <p:to>
                                        <p:strVal val="visible"/>
                                      </p:to>
                                    </p:set>
                                    <p:animEffect filter="fade" transition="in">
                                      <p:cBhvr additive="repl">
                                        <p:cTn id="2411" dur="500"/>
                                        <p:tgtEl>
                                          <p:spTgt spid="2329"/>
                                        </p:tgtEl>
                                      </p:cBhvr>
                                    </p:animEffect>
                                  </p:childTnLst>
                                </p:cTn>
                              </p:par>
                              <p:par>
                                <p:cTn id="2412" nodeType="withEffect" fill="hold" presetClass="entr" presetID="10">
                                  <p:stCondLst>
                                    <p:cond delay="0"/>
                                  </p:stCondLst>
                                  <p:childTnLst>
                                    <p:set>
                                      <p:cBhvr>
                                        <p:cTn id="2413" dur="1" fill="hold">
                                          <p:stCondLst>
                                            <p:cond delay="0"/>
                                          </p:stCondLst>
                                        </p:cTn>
                                        <p:tgtEl>
                                          <p:spTgt spid="2335"/>
                                        </p:tgtEl>
                                        <p:attrNameLst>
                                          <p:attrName>style.visibility</p:attrName>
                                        </p:attrNameLst>
                                      </p:cBhvr>
                                      <p:to>
                                        <p:strVal val="visible"/>
                                      </p:to>
                                    </p:set>
                                    <p:animEffect filter="fade" transition="in">
                                      <p:cBhvr additive="repl">
                                        <p:cTn id="2414" dur="500"/>
                                        <p:tgtEl>
                                          <p:spTgt spid="2335"/>
                                        </p:tgtEl>
                                      </p:cBhvr>
                                    </p:animEffect>
                                  </p:childTnLst>
                                </p:cTn>
                              </p:par>
                              <p:par>
                                <p:cTn id="2415" nodeType="withEffect" fill="hold" presetClass="entr" presetID="10">
                                  <p:stCondLst>
                                    <p:cond delay="0"/>
                                  </p:stCondLst>
                                  <p:childTnLst>
                                    <p:set>
                                      <p:cBhvr>
                                        <p:cTn id="2416" dur="1" fill="hold">
                                          <p:stCondLst>
                                            <p:cond delay="0"/>
                                          </p:stCondLst>
                                        </p:cTn>
                                        <p:tgtEl>
                                          <p:spTgt spid="2334"/>
                                        </p:tgtEl>
                                        <p:attrNameLst>
                                          <p:attrName>style.visibility</p:attrName>
                                        </p:attrNameLst>
                                      </p:cBhvr>
                                      <p:to>
                                        <p:strVal val="visible"/>
                                      </p:to>
                                    </p:set>
                                    <p:animEffect filter="fade" transition="in">
                                      <p:cBhvr additive="repl">
                                        <p:cTn id="2417" dur="500"/>
                                        <p:tgtEl>
                                          <p:spTgt spid="2334"/>
                                        </p:tgtEl>
                                      </p:cBhvr>
                                    </p:animEffect>
                                  </p:childTnLst>
                                </p:cTn>
                              </p:par>
                            </p:childTnLst>
                          </p:cTn>
                        </p:par>
                        <p:par>
                          <p:cTn id="2418" nodeType="afterEffect" fill="hold">
                            <p:stCondLst>
                              <p:cond delay="5000"/>
                            </p:stCondLst>
                            <p:childTnLst>
                              <p:par>
                                <p:cTn id="2419" nodeType="afterEffect" fill="hold" presetClass="entr" presetID="10">
                                  <p:stCondLst>
                                    <p:cond delay="0"/>
                                  </p:stCondLst>
                                  <p:childTnLst>
                                    <p:set>
                                      <p:cBhvr>
                                        <p:cTn id="2420" dur="1" fill="hold">
                                          <p:stCondLst>
                                            <p:cond delay="0"/>
                                          </p:stCondLst>
                                        </p:cTn>
                                        <p:tgtEl>
                                          <p:spTgt spid="2327"/>
                                        </p:tgtEl>
                                        <p:attrNameLst>
                                          <p:attrName>style.visibility</p:attrName>
                                        </p:attrNameLst>
                                      </p:cBhvr>
                                      <p:to>
                                        <p:strVal val="visible"/>
                                      </p:to>
                                    </p:set>
                                    <p:animEffect filter="fade" transition="in">
                                      <p:cBhvr additive="repl">
                                        <p:cTn id="2421" dur="500"/>
                                        <p:tgtEl>
                                          <p:spTgt spid="2327"/>
                                        </p:tgtEl>
                                      </p:cBhvr>
                                    </p:animEffect>
                                  </p:childTnLst>
                                </p:cTn>
                              </p:par>
                              <p:par>
                                <p:cTn id="2422" nodeType="withEffect" fill="hold" presetClass="entr" presetID="10">
                                  <p:stCondLst>
                                    <p:cond delay="0"/>
                                  </p:stCondLst>
                                  <p:childTnLst>
                                    <p:set>
                                      <p:cBhvr>
                                        <p:cTn id="2423" dur="1" fill="hold">
                                          <p:stCondLst>
                                            <p:cond delay="0"/>
                                          </p:stCondLst>
                                        </p:cTn>
                                        <p:tgtEl>
                                          <p:spTgt spid="2328"/>
                                        </p:tgtEl>
                                        <p:attrNameLst>
                                          <p:attrName>style.visibility</p:attrName>
                                        </p:attrNameLst>
                                      </p:cBhvr>
                                      <p:to>
                                        <p:strVal val="visible"/>
                                      </p:to>
                                    </p:set>
                                    <p:animEffect filter="fade" transition="in">
                                      <p:cBhvr additive="repl">
                                        <p:cTn id="2424" dur="5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Graphic Assets</a:t>
            </a:r>
            <a:endParaRPr b="0" lang="en-US" sz="3600" spc="-1" strike="noStrike">
              <a:solidFill>
                <a:srgbClr val="313c3f"/>
              </a:solidFill>
              <a:latin typeface="Lato"/>
            </a:endParaRPr>
          </a:p>
        </p:txBody>
      </p:sp>
      <p:grpSp>
        <p:nvGrpSpPr>
          <p:cNvPr id="2337" name="Group 60"/>
          <p:cNvGrpSpPr/>
          <p:nvPr/>
        </p:nvGrpSpPr>
        <p:grpSpPr>
          <a:xfrm>
            <a:off x="3008160" y="3281400"/>
            <a:ext cx="1382760" cy="768240"/>
            <a:chOff x="3008160" y="3281400"/>
            <a:chExt cx="1382760" cy="768240"/>
          </a:xfrm>
        </p:grpSpPr>
        <p:grpSp>
          <p:nvGrpSpPr>
            <p:cNvPr id="2338" name="Graphic 210"/>
            <p:cNvGrpSpPr/>
            <p:nvPr/>
          </p:nvGrpSpPr>
          <p:grpSpPr>
            <a:xfrm>
              <a:off x="3509280" y="3345480"/>
              <a:ext cx="881640" cy="701640"/>
              <a:chOff x="3509280" y="3345480"/>
              <a:chExt cx="881640" cy="701640"/>
            </a:xfrm>
          </p:grpSpPr>
          <p:pic>
            <p:nvPicPr>
              <p:cNvPr id="2339" name="Graphic 210" descr=""/>
              <p:cNvPicPr/>
              <p:nvPr/>
            </p:nvPicPr>
            <p:blipFill>
              <a:blip r:embed="rId1"/>
              <a:stretch/>
            </p:blipFill>
            <p:spPr>
              <a:xfrm>
                <a:off x="3509280" y="3346200"/>
                <a:ext cx="881640" cy="700920"/>
              </a:xfrm>
              <a:prstGeom prst="rect">
                <a:avLst/>
              </a:prstGeom>
              <a:ln w="0">
                <a:noFill/>
              </a:ln>
            </p:spPr>
          </p:pic>
          <p:sp>
            <p:nvSpPr>
              <p:cNvPr id="2340" name="Freeform: Shape 32"/>
              <p:cNvSpPr/>
              <p:nvPr/>
            </p:nvSpPr>
            <p:spPr>
              <a:xfrm>
                <a:off x="4055760" y="3345480"/>
                <a:ext cx="209520" cy="100800"/>
              </a:xfrm>
              <a:custGeom>
                <a:avLst/>
                <a:gdLst/>
                <a:ahLst/>
                <a:rect l="l" t="t" r="r" b="b"/>
                <a:pathLst>
                  <a:path w="314325" h="152400">
                    <a:moveTo>
                      <a:pt x="314325" y="0"/>
                    </a:moveTo>
                    <a:lnTo>
                      <a:pt x="314325" y="152400"/>
                    </a:lnTo>
                    <a:lnTo>
                      <a:pt x="0" y="152400"/>
                    </a:lnTo>
                    <a:lnTo>
                      <a:pt x="314325" y="0"/>
                    </a:lnTo>
                    <a:close/>
                  </a:path>
                </a:pathLst>
              </a:custGeom>
              <a:solidFill>
                <a:srgbClr val="ffdf6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41" name="Freeform: Shape 33"/>
              <p:cNvSpPr/>
              <p:nvPr/>
            </p:nvSpPr>
            <p:spPr>
              <a:xfrm>
                <a:off x="4055760" y="3477960"/>
                <a:ext cx="277200" cy="84960"/>
              </a:xfrm>
              <a:custGeom>
                <a:avLst/>
                <a:gdLst/>
                <a:ahLst/>
                <a:rect l="l" t="t" r="r" b="b"/>
                <a:pathLst>
                  <a:path w="416242" h="128587">
                    <a:moveTo>
                      <a:pt x="416242" y="0"/>
                    </a:moveTo>
                    <a:lnTo>
                      <a:pt x="416242" y="128588"/>
                    </a:lnTo>
                    <a:lnTo>
                      <a:pt x="0" y="128588"/>
                    </a:lnTo>
                    <a:lnTo>
                      <a:pt x="416242"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c3f"/>
                  </a:solidFill>
                  <a:latin typeface="Source Sans Pro"/>
                </a:endParaRPr>
              </a:p>
            </p:txBody>
          </p:sp>
          <p:sp>
            <p:nvSpPr>
              <p:cNvPr id="2342" name="Freeform: Shape 34"/>
              <p:cNvSpPr/>
              <p:nvPr/>
            </p:nvSpPr>
            <p:spPr>
              <a:xfrm>
                <a:off x="4055760" y="3594600"/>
                <a:ext cx="209520" cy="85680"/>
              </a:xfrm>
              <a:custGeom>
                <a:avLst/>
                <a:gdLst/>
                <a:ahLst/>
                <a:rect l="l" t="t" r="r" b="b"/>
                <a:pathLst>
                  <a:path w="314325" h="129540">
                    <a:moveTo>
                      <a:pt x="314325" y="0"/>
                    </a:moveTo>
                    <a:lnTo>
                      <a:pt x="314325" y="129540"/>
                    </a:lnTo>
                    <a:lnTo>
                      <a:pt x="0" y="129540"/>
                    </a:lnTo>
                    <a:lnTo>
                      <a:pt x="314325" y="0"/>
                    </a:lnTo>
                    <a:close/>
                  </a:path>
                </a:pathLst>
              </a:custGeom>
              <a:solidFill>
                <a:srgbClr val="ffdf61"/>
              </a:solidFill>
              <a:ln w="0">
                <a:noFill/>
              </a:ln>
            </p:spPr>
            <p:style>
              <a:lnRef idx="0"/>
              <a:fillRef idx="0"/>
              <a:effectRef idx="0"/>
              <a:fontRef idx="minor"/>
            </p:style>
            <p:txBody>
              <a:bodyPr lIns="90000" rIns="90000" tIns="38880" bIns="38880" anchor="ctr">
                <a:noAutofit/>
              </a:bodyPr>
              <a:p>
                <a:endParaRPr b="0" lang="en-US" sz="1800" spc="-1" strike="noStrike">
                  <a:solidFill>
                    <a:srgbClr val="313c3f"/>
                  </a:solidFill>
                  <a:latin typeface="Source Sans Pro"/>
                </a:endParaRPr>
              </a:p>
            </p:txBody>
          </p:sp>
          <p:sp>
            <p:nvSpPr>
              <p:cNvPr id="2343" name="Freeform: Shape 35"/>
              <p:cNvSpPr/>
              <p:nvPr/>
            </p:nvSpPr>
            <p:spPr>
              <a:xfrm>
                <a:off x="4055760" y="3711960"/>
                <a:ext cx="260280" cy="84960"/>
              </a:xfrm>
              <a:custGeom>
                <a:avLst/>
                <a:gdLst/>
                <a:ahLst/>
                <a:rect l="l" t="t" r="r" b="b"/>
                <a:pathLst>
                  <a:path w="390525" h="128587">
                    <a:moveTo>
                      <a:pt x="390525" y="0"/>
                    </a:moveTo>
                    <a:lnTo>
                      <a:pt x="390525" y="128588"/>
                    </a:lnTo>
                    <a:lnTo>
                      <a:pt x="0" y="128588"/>
                    </a:lnTo>
                    <a:lnTo>
                      <a:pt x="390525"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c3f"/>
                  </a:solidFill>
                  <a:latin typeface="Source Sans Pro"/>
                </a:endParaRPr>
              </a:p>
            </p:txBody>
          </p:sp>
          <p:sp>
            <p:nvSpPr>
              <p:cNvPr id="2344" name="Freeform: Shape 36"/>
              <p:cNvSpPr/>
              <p:nvPr/>
            </p:nvSpPr>
            <p:spPr>
              <a:xfrm>
                <a:off x="4055760" y="3945600"/>
                <a:ext cx="269640" cy="84960"/>
              </a:xfrm>
              <a:custGeom>
                <a:avLst/>
                <a:gdLst/>
                <a:ahLst/>
                <a:rect l="l" t="t" r="r" b="b"/>
                <a:pathLst>
                  <a:path w="404812" h="128587">
                    <a:moveTo>
                      <a:pt x="404813" y="0"/>
                    </a:moveTo>
                    <a:lnTo>
                      <a:pt x="404813" y="128588"/>
                    </a:lnTo>
                    <a:lnTo>
                      <a:pt x="0" y="128588"/>
                    </a:lnTo>
                    <a:lnTo>
                      <a:pt x="4048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c3f"/>
                  </a:solidFill>
                  <a:latin typeface="Source Sans Pro"/>
                </a:endParaRPr>
              </a:p>
            </p:txBody>
          </p:sp>
          <p:sp>
            <p:nvSpPr>
              <p:cNvPr id="2345" name="Freeform: Shape 37"/>
              <p:cNvSpPr/>
              <p:nvPr/>
            </p:nvSpPr>
            <p:spPr>
              <a:xfrm>
                <a:off x="4055760" y="3828960"/>
                <a:ext cx="320400" cy="84960"/>
              </a:xfrm>
              <a:custGeom>
                <a:avLst/>
                <a:gdLst/>
                <a:ahLst/>
                <a:rect l="l" t="t" r="r" b="b"/>
                <a:pathLst>
                  <a:path w="481012" h="128587">
                    <a:moveTo>
                      <a:pt x="481013" y="0"/>
                    </a:moveTo>
                    <a:lnTo>
                      <a:pt x="481013" y="128588"/>
                    </a:lnTo>
                    <a:lnTo>
                      <a:pt x="0" y="128588"/>
                    </a:lnTo>
                    <a:lnTo>
                      <a:pt x="4810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13c3f"/>
                  </a:solidFill>
                  <a:latin typeface="Source Sans Pro"/>
                </a:endParaRPr>
              </a:p>
            </p:txBody>
          </p:sp>
        </p:grpSp>
        <p:grpSp>
          <p:nvGrpSpPr>
            <p:cNvPr id="2346" name="Graphic 210"/>
            <p:cNvGrpSpPr/>
            <p:nvPr/>
          </p:nvGrpSpPr>
          <p:grpSpPr>
            <a:xfrm>
              <a:off x="3008160" y="3281400"/>
              <a:ext cx="769680" cy="768240"/>
              <a:chOff x="3008160" y="3281400"/>
              <a:chExt cx="769680" cy="768240"/>
            </a:xfrm>
          </p:grpSpPr>
          <p:sp>
            <p:nvSpPr>
              <p:cNvPr id="2347" name="Freeform: Shape 26"/>
              <p:cNvSpPr/>
              <p:nvPr/>
            </p:nvSpPr>
            <p:spPr>
              <a:xfrm>
                <a:off x="3008160" y="3281400"/>
                <a:ext cx="769680" cy="768240"/>
              </a:xfrm>
              <a:custGeom>
                <a:avLst/>
                <a:gdLst/>
                <a:ahLst/>
                <a:rect l="l" t="t" r="r" b="b"/>
                <a:pathLst>
                  <a:path w="1160144" h="1159192">
                    <a:moveTo>
                      <a:pt x="580072" y="1159193"/>
                    </a:moveTo>
                    <a:cubicBezTo>
                      <a:pt x="899160" y="1159193"/>
                      <a:pt x="1160145" y="899160"/>
                      <a:pt x="1160145" y="580072"/>
                    </a:cubicBezTo>
                    <a:cubicBezTo>
                      <a:pt x="1160145" y="260985"/>
                      <a:pt x="900113" y="0"/>
                      <a:pt x="580072" y="0"/>
                    </a:cubicBezTo>
                    <a:cubicBezTo>
                      <a:pt x="260985" y="0"/>
                      <a:pt x="0" y="260033"/>
                      <a:pt x="0" y="579120"/>
                    </a:cubicBezTo>
                    <a:cubicBezTo>
                      <a:pt x="0" y="898208"/>
                      <a:pt x="260985" y="1159193"/>
                      <a:pt x="580072" y="1159193"/>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48" name="Freeform: Shape 27"/>
              <p:cNvSpPr/>
              <p:nvPr/>
            </p:nvSpPr>
            <p:spPr>
              <a:xfrm>
                <a:off x="3096000" y="3368520"/>
                <a:ext cx="594000" cy="593640"/>
              </a:xfrm>
              <a:custGeom>
                <a:avLst/>
                <a:gdLst/>
                <a:ahLst/>
                <a:rect l="l" t="t" r="r" b="b"/>
                <a:pathLst>
                  <a:path w="895349" h="895350">
                    <a:moveTo>
                      <a:pt x="447675" y="895350"/>
                    </a:moveTo>
                    <a:cubicBezTo>
                      <a:pt x="694372" y="895350"/>
                      <a:pt x="895350" y="694372"/>
                      <a:pt x="895350" y="447675"/>
                    </a:cubicBezTo>
                    <a:cubicBezTo>
                      <a:pt x="895350" y="200977"/>
                      <a:pt x="694372" y="0"/>
                      <a:pt x="447675" y="0"/>
                    </a:cubicBezTo>
                    <a:cubicBezTo>
                      <a:pt x="200978" y="0"/>
                      <a:pt x="0" y="200977"/>
                      <a:pt x="0" y="447675"/>
                    </a:cubicBezTo>
                    <a:cubicBezTo>
                      <a:pt x="0" y="694372"/>
                      <a:pt x="200978" y="895350"/>
                      <a:pt x="447675" y="89535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49" name="Freeform: Shape 28"/>
              <p:cNvSpPr/>
              <p:nvPr/>
            </p:nvSpPr>
            <p:spPr>
              <a:xfrm>
                <a:off x="3253320" y="3468960"/>
                <a:ext cx="261720" cy="422280"/>
              </a:xfrm>
              <a:custGeom>
                <a:avLst/>
                <a:gdLst/>
                <a:ahLst/>
                <a:rect l="l" t="t" r="r" b="b"/>
                <a:pathLst>
                  <a:path w="394334" h="637222">
                    <a:moveTo>
                      <a:pt x="275272" y="82868"/>
                    </a:moveTo>
                    <a:cubicBezTo>
                      <a:pt x="279082" y="83820"/>
                      <a:pt x="281940" y="85725"/>
                      <a:pt x="285750" y="86678"/>
                    </a:cubicBezTo>
                    <a:cubicBezTo>
                      <a:pt x="314325" y="97155"/>
                      <a:pt x="334328" y="112395"/>
                      <a:pt x="348615" y="130493"/>
                    </a:cubicBezTo>
                    <a:cubicBezTo>
                      <a:pt x="361950" y="148590"/>
                      <a:pt x="371475" y="173355"/>
                      <a:pt x="376238" y="204788"/>
                    </a:cubicBezTo>
                    <a:lnTo>
                      <a:pt x="297180" y="216218"/>
                    </a:lnTo>
                    <a:cubicBezTo>
                      <a:pt x="294322" y="196215"/>
                      <a:pt x="286703" y="180023"/>
                      <a:pt x="275272" y="166688"/>
                    </a:cubicBezTo>
                    <a:lnTo>
                      <a:pt x="275272" y="82868"/>
                    </a:lnTo>
                    <a:close/>
                    <a:moveTo>
                      <a:pt x="275272" y="288608"/>
                    </a:moveTo>
                    <a:cubicBezTo>
                      <a:pt x="295275" y="294323"/>
                      <a:pt x="310515" y="300038"/>
                      <a:pt x="321945" y="304800"/>
                    </a:cubicBezTo>
                    <a:cubicBezTo>
                      <a:pt x="344805" y="314325"/>
                      <a:pt x="361950" y="328613"/>
                      <a:pt x="375285" y="346710"/>
                    </a:cubicBezTo>
                    <a:cubicBezTo>
                      <a:pt x="388620" y="364808"/>
                      <a:pt x="394335" y="387667"/>
                      <a:pt x="394335" y="415290"/>
                    </a:cubicBezTo>
                    <a:cubicBezTo>
                      <a:pt x="394335" y="441960"/>
                      <a:pt x="386715" y="466725"/>
                      <a:pt x="370522" y="490538"/>
                    </a:cubicBezTo>
                    <a:cubicBezTo>
                      <a:pt x="355282" y="514350"/>
                      <a:pt x="332422" y="532448"/>
                      <a:pt x="302895" y="545783"/>
                    </a:cubicBezTo>
                    <a:cubicBezTo>
                      <a:pt x="294322" y="549593"/>
                      <a:pt x="284797" y="553403"/>
                      <a:pt x="275272" y="555308"/>
                    </a:cubicBezTo>
                    <a:lnTo>
                      <a:pt x="275272" y="482917"/>
                    </a:lnTo>
                    <a:cubicBezTo>
                      <a:pt x="279082" y="481013"/>
                      <a:pt x="281940" y="478155"/>
                      <a:pt x="284797" y="476250"/>
                    </a:cubicBezTo>
                    <a:cubicBezTo>
                      <a:pt x="302895" y="461010"/>
                      <a:pt x="311468" y="443865"/>
                      <a:pt x="311468" y="422910"/>
                    </a:cubicBezTo>
                    <a:cubicBezTo>
                      <a:pt x="311468" y="404813"/>
                      <a:pt x="303847" y="390525"/>
                      <a:pt x="287655" y="380048"/>
                    </a:cubicBezTo>
                    <a:cubicBezTo>
                      <a:pt x="284797" y="378142"/>
                      <a:pt x="280988" y="376238"/>
                      <a:pt x="275272" y="374333"/>
                    </a:cubicBezTo>
                    <a:lnTo>
                      <a:pt x="275272" y="288608"/>
                    </a:lnTo>
                    <a:close/>
                    <a:moveTo>
                      <a:pt x="155257" y="637223"/>
                    </a:moveTo>
                    <a:lnTo>
                      <a:pt x="155257" y="563880"/>
                    </a:lnTo>
                    <a:cubicBezTo>
                      <a:pt x="143828" y="561975"/>
                      <a:pt x="133350" y="560070"/>
                      <a:pt x="123825" y="558165"/>
                    </a:cubicBezTo>
                    <a:lnTo>
                      <a:pt x="123825" y="479108"/>
                    </a:lnTo>
                    <a:cubicBezTo>
                      <a:pt x="133350" y="485775"/>
                      <a:pt x="143828" y="490538"/>
                      <a:pt x="155257" y="493395"/>
                    </a:cubicBezTo>
                    <a:lnTo>
                      <a:pt x="155257" y="340042"/>
                    </a:lnTo>
                    <a:cubicBezTo>
                      <a:pt x="143828" y="336233"/>
                      <a:pt x="133350" y="333375"/>
                      <a:pt x="123825" y="330517"/>
                    </a:cubicBezTo>
                    <a:lnTo>
                      <a:pt x="123825" y="242888"/>
                    </a:lnTo>
                    <a:cubicBezTo>
                      <a:pt x="126682" y="243840"/>
                      <a:pt x="129540" y="245745"/>
                      <a:pt x="132397" y="246698"/>
                    </a:cubicBezTo>
                    <a:cubicBezTo>
                      <a:pt x="136207" y="248603"/>
                      <a:pt x="143828" y="250508"/>
                      <a:pt x="155257" y="254317"/>
                    </a:cubicBezTo>
                    <a:lnTo>
                      <a:pt x="155257" y="139065"/>
                    </a:lnTo>
                    <a:cubicBezTo>
                      <a:pt x="142875" y="140970"/>
                      <a:pt x="132397" y="144780"/>
                      <a:pt x="123825" y="149543"/>
                    </a:cubicBezTo>
                    <a:lnTo>
                      <a:pt x="123825" y="79058"/>
                    </a:lnTo>
                    <a:cubicBezTo>
                      <a:pt x="134303" y="76200"/>
                      <a:pt x="144780" y="74295"/>
                      <a:pt x="155257" y="72390"/>
                    </a:cubicBezTo>
                    <a:lnTo>
                      <a:pt x="155257" y="0"/>
                    </a:lnTo>
                    <a:lnTo>
                      <a:pt x="240030" y="0"/>
                    </a:lnTo>
                    <a:lnTo>
                      <a:pt x="240030" y="74295"/>
                    </a:lnTo>
                    <a:cubicBezTo>
                      <a:pt x="252413" y="76200"/>
                      <a:pt x="264795" y="79058"/>
                      <a:pt x="276225" y="82868"/>
                    </a:cubicBezTo>
                    <a:lnTo>
                      <a:pt x="276225" y="165735"/>
                    </a:lnTo>
                    <a:cubicBezTo>
                      <a:pt x="273368" y="162878"/>
                      <a:pt x="270510" y="160020"/>
                      <a:pt x="266700" y="157163"/>
                    </a:cubicBezTo>
                    <a:cubicBezTo>
                      <a:pt x="259080" y="150495"/>
                      <a:pt x="250507" y="145733"/>
                      <a:pt x="240030" y="142875"/>
                    </a:cubicBezTo>
                    <a:lnTo>
                      <a:pt x="240030" y="278130"/>
                    </a:lnTo>
                    <a:cubicBezTo>
                      <a:pt x="253365" y="281940"/>
                      <a:pt x="265747" y="285750"/>
                      <a:pt x="276225" y="288608"/>
                    </a:cubicBezTo>
                    <a:lnTo>
                      <a:pt x="276225" y="375285"/>
                    </a:lnTo>
                    <a:cubicBezTo>
                      <a:pt x="267653" y="371475"/>
                      <a:pt x="255270" y="367665"/>
                      <a:pt x="240030" y="362903"/>
                    </a:cubicBezTo>
                    <a:lnTo>
                      <a:pt x="240030" y="496253"/>
                    </a:lnTo>
                    <a:cubicBezTo>
                      <a:pt x="254318" y="493395"/>
                      <a:pt x="266700" y="489585"/>
                      <a:pt x="276225" y="483870"/>
                    </a:cubicBezTo>
                    <a:lnTo>
                      <a:pt x="276225" y="556260"/>
                    </a:lnTo>
                    <a:cubicBezTo>
                      <a:pt x="264795" y="559118"/>
                      <a:pt x="252413" y="561975"/>
                      <a:pt x="240030" y="563880"/>
                    </a:cubicBezTo>
                    <a:lnTo>
                      <a:pt x="240030" y="637223"/>
                    </a:lnTo>
                    <a:lnTo>
                      <a:pt x="155257" y="637223"/>
                    </a:lnTo>
                    <a:close/>
                    <a:moveTo>
                      <a:pt x="122872" y="557213"/>
                    </a:moveTo>
                    <a:cubicBezTo>
                      <a:pt x="98107" y="550545"/>
                      <a:pt x="78105" y="541020"/>
                      <a:pt x="61913" y="527685"/>
                    </a:cubicBezTo>
                    <a:cubicBezTo>
                      <a:pt x="29528" y="501967"/>
                      <a:pt x="8572" y="463867"/>
                      <a:pt x="0" y="414338"/>
                    </a:cubicBezTo>
                    <a:lnTo>
                      <a:pt x="80010" y="401955"/>
                    </a:lnTo>
                    <a:cubicBezTo>
                      <a:pt x="84772" y="434340"/>
                      <a:pt x="97155" y="458153"/>
                      <a:pt x="117157" y="475298"/>
                    </a:cubicBezTo>
                    <a:cubicBezTo>
                      <a:pt x="119063" y="477203"/>
                      <a:pt x="120968" y="478155"/>
                      <a:pt x="123825" y="480060"/>
                    </a:cubicBezTo>
                    <a:lnTo>
                      <a:pt x="123825" y="557213"/>
                    </a:lnTo>
                    <a:lnTo>
                      <a:pt x="122872" y="557213"/>
                    </a:lnTo>
                    <a:close/>
                    <a:moveTo>
                      <a:pt x="122872" y="331470"/>
                    </a:moveTo>
                    <a:cubicBezTo>
                      <a:pt x="105728" y="325755"/>
                      <a:pt x="92393" y="320992"/>
                      <a:pt x="82868" y="316230"/>
                    </a:cubicBezTo>
                    <a:cubicBezTo>
                      <a:pt x="60007" y="304800"/>
                      <a:pt x="42863" y="290513"/>
                      <a:pt x="31432" y="271463"/>
                    </a:cubicBezTo>
                    <a:cubicBezTo>
                      <a:pt x="20003" y="252413"/>
                      <a:pt x="13335" y="231458"/>
                      <a:pt x="13335" y="207645"/>
                    </a:cubicBezTo>
                    <a:cubicBezTo>
                      <a:pt x="13335" y="186690"/>
                      <a:pt x="18097" y="166688"/>
                      <a:pt x="27622" y="148590"/>
                    </a:cubicBezTo>
                    <a:cubicBezTo>
                      <a:pt x="37147" y="130493"/>
                      <a:pt x="50482" y="115253"/>
                      <a:pt x="66675" y="103823"/>
                    </a:cubicBezTo>
                    <a:cubicBezTo>
                      <a:pt x="79057" y="94298"/>
                      <a:pt x="96203" y="86678"/>
                      <a:pt x="118110" y="80010"/>
                    </a:cubicBezTo>
                    <a:lnTo>
                      <a:pt x="122872" y="79058"/>
                    </a:lnTo>
                    <a:lnTo>
                      <a:pt x="122872" y="149543"/>
                    </a:lnTo>
                    <a:cubicBezTo>
                      <a:pt x="120015" y="151448"/>
                      <a:pt x="117157" y="153353"/>
                      <a:pt x="114300" y="155258"/>
                    </a:cubicBezTo>
                    <a:cubicBezTo>
                      <a:pt x="98107" y="167640"/>
                      <a:pt x="90488" y="181928"/>
                      <a:pt x="90488" y="198120"/>
                    </a:cubicBezTo>
                    <a:cubicBezTo>
                      <a:pt x="90488" y="208598"/>
                      <a:pt x="93345" y="218123"/>
                      <a:pt x="100013" y="226695"/>
                    </a:cubicBezTo>
                    <a:cubicBezTo>
                      <a:pt x="104775" y="233363"/>
                      <a:pt x="112395" y="239078"/>
                      <a:pt x="121920" y="243840"/>
                    </a:cubicBezTo>
                    <a:lnTo>
                      <a:pt x="121920" y="331470"/>
                    </a:lnTo>
                    <a:lnTo>
                      <a:pt x="122872" y="33147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0" name="Freeform: Shape 29"/>
              <p:cNvSpPr/>
              <p:nvPr/>
            </p:nvSpPr>
            <p:spPr>
              <a:xfrm>
                <a:off x="3114360" y="3368880"/>
                <a:ext cx="549720" cy="194400"/>
              </a:xfrm>
              <a:custGeom>
                <a:avLst/>
                <a:gdLst/>
                <a:ahLst/>
                <a:rect l="l" t="t" r="r" b="b"/>
                <a:pathLst>
                  <a:path w="828675" h="293369">
                    <a:moveTo>
                      <a:pt x="420053" y="0"/>
                    </a:moveTo>
                    <a:cubicBezTo>
                      <a:pt x="601980" y="0"/>
                      <a:pt x="758190" y="108585"/>
                      <a:pt x="828675" y="263842"/>
                    </a:cubicBezTo>
                    <a:cubicBezTo>
                      <a:pt x="749618" y="125730"/>
                      <a:pt x="597218" y="32385"/>
                      <a:pt x="421957" y="32385"/>
                    </a:cubicBezTo>
                    <a:cubicBezTo>
                      <a:pt x="234315" y="32385"/>
                      <a:pt x="73343" y="139065"/>
                      <a:pt x="0" y="293370"/>
                    </a:cubicBezTo>
                    <a:cubicBezTo>
                      <a:pt x="62865" y="121920"/>
                      <a:pt x="227647" y="0"/>
                      <a:pt x="42005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1" name="Freeform: Shape 30"/>
              <p:cNvSpPr/>
              <p:nvPr/>
            </p:nvSpPr>
            <p:spPr>
              <a:xfrm>
                <a:off x="3262680" y="3454920"/>
                <a:ext cx="261720" cy="422280"/>
              </a:xfrm>
              <a:custGeom>
                <a:avLst/>
                <a:gdLst/>
                <a:ahLst/>
                <a:rect l="l" t="t" r="r" b="b"/>
                <a:pathLst>
                  <a:path w="394334" h="637222">
                    <a:moveTo>
                      <a:pt x="275272" y="82867"/>
                    </a:moveTo>
                    <a:cubicBezTo>
                      <a:pt x="279082" y="83820"/>
                      <a:pt x="281940" y="85725"/>
                      <a:pt x="285750" y="86677"/>
                    </a:cubicBezTo>
                    <a:cubicBezTo>
                      <a:pt x="314325" y="97155"/>
                      <a:pt x="334328" y="112395"/>
                      <a:pt x="348615" y="130492"/>
                    </a:cubicBezTo>
                    <a:cubicBezTo>
                      <a:pt x="361950" y="148590"/>
                      <a:pt x="371475" y="173355"/>
                      <a:pt x="376238" y="204788"/>
                    </a:cubicBezTo>
                    <a:lnTo>
                      <a:pt x="297180" y="216217"/>
                    </a:lnTo>
                    <a:cubicBezTo>
                      <a:pt x="294322" y="196215"/>
                      <a:pt x="286703" y="180023"/>
                      <a:pt x="275272" y="166688"/>
                    </a:cubicBezTo>
                    <a:lnTo>
                      <a:pt x="275272" y="82867"/>
                    </a:lnTo>
                    <a:close/>
                    <a:moveTo>
                      <a:pt x="275272" y="287655"/>
                    </a:moveTo>
                    <a:cubicBezTo>
                      <a:pt x="295275" y="293370"/>
                      <a:pt x="310515" y="299085"/>
                      <a:pt x="321945" y="303847"/>
                    </a:cubicBezTo>
                    <a:cubicBezTo>
                      <a:pt x="344805" y="313372"/>
                      <a:pt x="361950" y="327660"/>
                      <a:pt x="375285" y="345758"/>
                    </a:cubicBezTo>
                    <a:cubicBezTo>
                      <a:pt x="388620" y="363855"/>
                      <a:pt x="394335" y="386715"/>
                      <a:pt x="394335" y="414338"/>
                    </a:cubicBezTo>
                    <a:cubicBezTo>
                      <a:pt x="394335" y="441008"/>
                      <a:pt x="386715" y="465772"/>
                      <a:pt x="370522" y="489585"/>
                    </a:cubicBezTo>
                    <a:cubicBezTo>
                      <a:pt x="355282" y="513397"/>
                      <a:pt x="332422" y="531495"/>
                      <a:pt x="302895" y="544830"/>
                    </a:cubicBezTo>
                    <a:cubicBezTo>
                      <a:pt x="294322" y="548640"/>
                      <a:pt x="284797" y="552450"/>
                      <a:pt x="275272" y="554355"/>
                    </a:cubicBezTo>
                    <a:lnTo>
                      <a:pt x="275272" y="481965"/>
                    </a:lnTo>
                    <a:cubicBezTo>
                      <a:pt x="279082" y="480060"/>
                      <a:pt x="281940" y="477203"/>
                      <a:pt x="284797" y="475297"/>
                    </a:cubicBezTo>
                    <a:cubicBezTo>
                      <a:pt x="302895" y="460058"/>
                      <a:pt x="311468" y="442913"/>
                      <a:pt x="311468" y="421958"/>
                    </a:cubicBezTo>
                    <a:cubicBezTo>
                      <a:pt x="311468" y="403860"/>
                      <a:pt x="303847" y="389572"/>
                      <a:pt x="287655" y="379095"/>
                    </a:cubicBezTo>
                    <a:cubicBezTo>
                      <a:pt x="284797" y="377190"/>
                      <a:pt x="280988" y="375285"/>
                      <a:pt x="275272" y="373380"/>
                    </a:cubicBezTo>
                    <a:lnTo>
                      <a:pt x="275272" y="287655"/>
                    </a:lnTo>
                    <a:close/>
                    <a:moveTo>
                      <a:pt x="154305" y="636270"/>
                    </a:moveTo>
                    <a:lnTo>
                      <a:pt x="154305" y="562928"/>
                    </a:lnTo>
                    <a:cubicBezTo>
                      <a:pt x="142875" y="561022"/>
                      <a:pt x="132397" y="559118"/>
                      <a:pt x="122872" y="557213"/>
                    </a:cubicBezTo>
                    <a:lnTo>
                      <a:pt x="122872" y="480060"/>
                    </a:lnTo>
                    <a:cubicBezTo>
                      <a:pt x="132397" y="486728"/>
                      <a:pt x="142875" y="491490"/>
                      <a:pt x="154305" y="494347"/>
                    </a:cubicBezTo>
                    <a:lnTo>
                      <a:pt x="154305" y="340995"/>
                    </a:lnTo>
                    <a:cubicBezTo>
                      <a:pt x="142875" y="337185"/>
                      <a:pt x="132397" y="334328"/>
                      <a:pt x="122872" y="331470"/>
                    </a:cubicBezTo>
                    <a:lnTo>
                      <a:pt x="122872" y="242888"/>
                    </a:lnTo>
                    <a:cubicBezTo>
                      <a:pt x="125730" y="243840"/>
                      <a:pt x="128588" y="245745"/>
                      <a:pt x="131445" y="246698"/>
                    </a:cubicBezTo>
                    <a:cubicBezTo>
                      <a:pt x="135255" y="248602"/>
                      <a:pt x="142875" y="250508"/>
                      <a:pt x="154305" y="254317"/>
                    </a:cubicBezTo>
                    <a:lnTo>
                      <a:pt x="154305" y="139065"/>
                    </a:lnTo>
                    <a:cubicBezTo>
                      <a:pt x="141922" y="140970"/>
                      <a:pt x="131445" y="144780"/>
                      <a:pt x="122872" y="149542"/>
                    </a:cubicBezTo>
                    <a:lnTo>
                      <a:pt x="122872" y="79058"/>
                    </a:lnTo>
                    <a:cubicBezTo>
                      <a:pt x="133350" y="76200"/>
                      <a:pt x="143828" y="74295"/>
                      <a:pt x="154305" y="72390"/>
                    </a:cubicBezTo>
                    <a:lnTo>
                      <a:pt x="154305" y="0"/>
                    </a:lnTo>
                    <a:lnTo>
                      <a:pt x="239078" y="0"/>
                    </a:lnTo>
                    <a:lnTo>
                      <a:pt x="239078" y="74295"/>
                    </a:lnTo>
                    <a:cubicBezTo>
                      <a:pt x="251460" y="76200"/>
                      <a:pt x="263843" y="79058"/>
                      <a:pt x="275272" y="82867"/>
                    </a:cubicBezTo>
                    <a:lnTo>
                      <a:pt x="275272" y="165735"/>
                    </a:lnTo>
                    <a:cubicBezTo>
                      <a:pt x="272415" y="162877"/>
                      <a:pt x="269557" y="160020"/>
                      <a:pt x="265747" y="157163"/>
                    </a:cubicBezTo>
                    <a:cubicBezTo>
                      <a:pt x="258128" y="150495"/>
                      <a:pt x="249555" y="145733"/>
                      <a:pt x="239078" y="142875"/>
                    </a:cubicBezTo>
                    <a:lnTo>
                      <a:pt x="239078" y="278130"/>
                    </a:lnTo>
                    <a:cubicBezTo>
                      <a:pt x="252413" y="281940"/>
                      <a:pt x="264795" y="285750"/>
                      <a:pt x="275272" y="288608"/>
                    </a:cubicBezTo>
                    <a:lnTo>
                      <a:pt x="275272" y="375285"/>
                    </a:lnTo>
                    <a:cubicBezTo>
                      <a:pt x="266700" y="371475"/>
                      <a:pt x="254318" y="367665"/>
                      <a:pt x="239078" y="362903"/>
                    </a:cubicBezTo>
                    <a:lnTo>
                      <a:pt x="239078" y="496253"/>
                    </a:lnTo>
                    <a:cubicBezTo>
                      <a:pt x="253365" y="493395"/>
                      <a:pt x="265747" y="489585"/>
                      <a:pt x="275272" y="483870"/>
                    </a:cubicBezTo>
                    <a:lnTo>
                      <a:pt x="275272" y="556260"/>
                    </a:lnTo>
                    <a:cubicBezTo>
                      <a:pt x="263843" y="559118"/>
                      <a:pt x="251460" y="561975"/>
                      <a:pt x="239078" y="563880"/>
                    </a:cubicBezTo>
                    <a:lnTo>
                      <a:pt x="239078" y="637222"/>
                    </a:lnTo>
                    <a:lnTo>
                      <a:pt x="154305" y="637222"/>
                    </a:lnTo>
                    <a:lnTo>
                      <a:pt x="154305" y="636270"/>
                    </a:lnTo>
                    <a:close/>
                    <a:moveTo>
                      <a:pt x="122872" y="556260"/>
                    </a:moveTo>
                    <a:cubicBezTo>
                      <a:pt x="98107" y="549593"/>
                      <a:pt x="78105" y="540068"/>
                      <a:pt x="61913" y="526733"/>
                    </a:cubicBezTo>
                    <a:cubicBezTo>
                      <a:pt x="29528" y="501015"/>
                      <a:pt x="8572" y="462915"/>
                      <a:pt x="0" y="413385"/>
                    </a:cubicBezTo>
                    <a:lnTo>
                      <a:pt x="80010" y="401003"/>
                    </a:lnTo>
                    <a:cubicBezTo>
                      <a:pt x="84772" y="432435"/>
                      <a:pt x="97155" y="457200"/>
                      <a:pt x="117157" y="474345"/>
                    </a:cubicBezTo>
                    <a:cubicBezTo>
                      <a:pt x="119063" y="476250"/>
                      <a:pt x="120968" y="477203"/>
                      <a:pt x="123825" y="479108"/>
                    </a:cubicBezTo>
                    <a:lnTo>
                      <a:pt x="123825" y="556260"/>
                    </a:lnTo>
                    <a:lnTo>
                      <a:pt x="122872" y="556260"/>
                    </a:lnTo>
                    <a:close/>
                    <a:moveTo>
                      <a:pt x="122872" y="330517"/>
                    </a:moveTo>
                    <a:cubicBezTo>
                      <a:pt x="105728" y="324803"/>
                      <a:pt x="92393" y="320040"/>
                      <a:pt x="82868" y="315278"/>
                    </a:cubicBezTo>
                    <a:cubicBezTo>
                      <a:pt x="60007" y="303847"/>
                      <a:pt x="42863" y="289560"/>
                      <a:pt x="31432" y="270510"/>
                    </a:cubicBezTo>
                    <a:cubicBezTo>
                      <a:pt x="20003" y="251460"/>
                      <a:pt x="13335" y="230505"/>
                      <a:pt x="13335" y="206692"/>
                    </a:cubicBezTo>
                    <a:cubicBezTo>
                      <a:pt x="13335" y="185738"/>
                      <a:pt x="18097" y="165735"/>
                      <a:pt x="27622" y="147638"/>
                    </a:cubicBezTo>
                    <a:cubicBezTo>
                      <a:pt x="37147" y="129540"/>
                      <a:pt x="50482" y="114300"/>
                      <a:pt x="67628" y="102870"/>
                    </a:cubicBezTo>
                    <a:cubicBezTo>
                      <a:pt x="80010" y="93345"/>
                      <a:pt x="97155" y="85725"/>
                      <a:pt x="119063" y="79058"/>
                    </a:cubicBezTo>
                    <a:lnTo>
                      <a:pt x="123825" y="78105"/>
                    </a:lnTo>
                    <a:lnTo>
                      <a:pt x="123825" y="148590"/>
                    </a:lnTo>
                    <a:cubicBezTo>
                      <a:pt x="120968" y="150495"/>
                      <a:pt x="118110" y="152400"/>
                      <a:pt x="115253" y="154305"/>
                    </a:cubicBezTo>
                    <a:cubicBezTo>
                      <a:pt x="99060" y="166688"/>
                      <a:pt x="91440" y="180975"/>
                      <a:pt x="91440" y="197167"/>
                    </a:cubicBezTo>
                    <a:cubicBezTo>
                      <a:pt x="91440" y="207645"/>
                      <a:pt x="94297" y="217170"/>
                      <a:pt x="100965" y="225742"/>
                    </a:cubicBezTo>
                    <a:cubicBezTo>
                      <a:pt x="105728" y="232410"/>
                      <a:pt x="113347" y="238125"/>
                      <a:pt x="122872" y="242888"/>
                    </a:cubicBezTo>
                    <a:lnTo>
                      <a:pt x="122872" y="330517"/>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nvGrpSpPr>
          <p:cNvPr id="2352" name="Graphic 210"/>
          <p:cNvGrpSpPr/>
          <p:nvPr/>
        </p:nvGrpSpPr>
        <p:grpSpPr>
          <a:xfrm>
            <a:off x="1762200" y="1863720"/>
            <a:ext cx="792000" cy="790560"/>
            <a:chOff x="1762200" y="1863720"/>
            <a:chExt cx="792000" cy="790560"/>
          </a:xfrm>
        </p:grpSpPr>
        <p:sp>
          <p:nvSpPr>
            <p:cNvPr id="2353" name="Freeform: Shape 49"/>
            <p:cNvSpPr/>
            <p:nvPr/>
          </p:nvSpPr>
          <p:spPr>
            <a:xfrm>
              <a:off x="1762200" y="1863720"/>
              <a:ext cx="792000" cy="790560"/>
            </a:xfrm>
            <a:custGeom>
              <a:avLst/>
              <a:gdLst/>
              <a:ahLst/>
              <a:rect l="l" t="t" r="r" b="b"/>
              <a:pathLst>
                <a:path w="1173480" h="1171574">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7733"/>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4" name="Freeform: Shape 50"/>
            <p:cNvSpPr/>
            <p:nvPr/>
          </p:nvSpPr>
          <p:spPr>
            <a:xfrm>
              <a:off x="1852560" y="1953000"/>
              <a:ext cx="610920" cy="610560"/>
            </a:xfrm>
            <a:custGeom>
              <a:avLst/>
              <a:gdLst/>
              <a:ahLst/>
              <a:rect l="l" t="t" r="r" b="b"/>
              <a:pathLst>
                <a:path w="904875" h="904875">
                  <a:moveTo>
                    <a:pt x="452438" y="904875"/>
                  </a:moveTo>
                  <a:cubicBezTo>
                    <a:pt x="701993" y="904875"/>
                    <a:pt x="904875" y="701993"/>
                    <a:pt x="904875" y="452438"/>
                  </a:cubicBezTo>
                  <a:cubicBezTo>
                    <a:pt x="904875" y="202883"/>
                    <a:pt x="701993" y="0"/>
                    <a:pt x="452438" y="0"/>
                  </a:cubicBezTo>
                  <a:cubicBezTo>
                    <a:pt x="202883" y="0"/>
                    <a:pt x="0" y="203835"/>
                    <a:pt x="0" y="452438"/>
                  </a:cubicBezTo>
                  <a:cubicBezTo>
                    <a:pt x="0" y="701040"/>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5" name="Freeform: Shape 51"/>
            <p:cNvSpPr/>
            <p:nvPr/>
          </p:nvSpPr>
          <p:spPr>
            <a:xfrm>
              <a:off x="1954440" y="2367720"/>
              <a:ext cx="407520" cy="121320"/>
            </a:xfrm>
            <a:custGeom>
              <a:avLst/>
              <a:gdLst/>
              <a:ahLst/>
              <a:rect l="l" t="t" r="r" b="b"/>
              <a:pathLst>
                <a:path w="603884" h="180022">
                  <a:moveTo>
                    <a:pt x="603885" y="0"/>
                  </a:moveTo>
                  <a:cubicBezTo>
                    <a:pt x="545783" y="100965"/>
                    <a:pt x="432435" y="170498"/>
                    <a:pt x="301942" y="170498"/>
                  </a:cubicBezTo>
                  <a:cubicBezTo>
                    <a:pt x="171450" y="170498"/>
                    <a:pt x="58102" y="101917"/>
                    <a:pt x="0" y="0"/>
                  </a:cubicBezTo>
                  <a:cubicBezTo>
                    <a:pt x="58102" y="107633"/>
                    <a:pt x="171450" y="180023"/>
                    <a:pt x="301942" y="180023"/>
                  </a:cubicBezTo>
                  <a:cubicBezTo>
                    <a:pt x="432435" y="180023"/>
                    <a:pt x="545783" y="107633"/>
                    <a:pt x="60388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6" name="Freeform: Shape 52"/>
            <p:cNvSpPr/>
            <p:nvPr/>
          </p:nvSpPr>
          <p:spPr>
            <a:xfrm>
              <a:off x="1926720" y="2027520"/>
              <a:ext cx="462960" cy="234000"/>
            </a:xfrm>
            <a:custGeom>
              <a:avLst/>
              <a:gdLst/>
              <a:ahLst/>
              <a:rect l="l" t="t" r="r" b="b"/>
              <a:pathLst>
                <a:path w="685800" h="346709">
                  <a:moveTo>
                    <a:pt x="342900" y="28575"/>
                  </a:moveTo>
                  <a:cubicBezTo>
                    <a:pt x="530543" y="28575"/>
                    <a:pt x="682943" y="170498"/>
                    <a:pt x="685800" y="346710"/>
                  </a:cubicBezTo>
                  <a:lnTo>
                    <a:pt x="685800" y="341948"/>
                  </a:lnTo>
                  <a:cubicBezTo>
                    <a:pt x="685800" y="152400"/>
                    <a:pt x="532447" y="0"/>
                    <a:pt x="342900" y="0"/>
                  </a:cubicBezTo>
                  <a:cubicBezTo>
                    <a:pt x="153353" y="0"/>
                    <a:pt x="0" y="153353"/>
                    <a:pt x="0" y="341948"/>
                  </a:cubicBezTo>
                  <a:lnTo>
                    <a:pt x="0" y="346710"/>
                  </a:lnTo>
                  <a:cubicBezTo>
                    <a:pt x="2858" y="170498"/>
                    <a:pt x="155258" y="28575"/>
                    <a:pt x="342900" y="2857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7" name="Freeform: Shape 53"/>
            <p:cNvSpPr/>
            <p:nvPr/>
          </p:nvSpPr>
          <p:spPr>
            <a:xfrm>
              <a:off x="1893960" y="2261520"/>
              <a:ext cx="23760" cy="105840"/>
            </a:xfrm>
            <a:custGeom>
              <a:avLst/>
              <a:gdLst/>
              <a:ahLst/>
              <a:rect l="l" t="t" r="r" b="b"/>
              <a:pathLst>
                <a:path w="35242" h="157162">
                  <a:moveTo>
                    <a:pt x="35243" y="157163"/>
                  </a:moveTo>
                  <a:cubicBezTo>
                    <a:pt x="12383" y="110490"/>
                    <a:pt x="0" y="59055"/>
                    <a:pt x="0" y="4763"/>
                  </a:cubicBezTo>
                  <a:lnTo>
                    <a:pt x="0" y="0"/>
                  </a:lnTo>
                  <a:cubicBezTo>
                    <a:pt x="953" y="56198"/>
                    <a:pt x="13335" y="109538"/>
                    <a:pt x="35243" y="157163"/>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8" name="Freeform: Shape 54"/>
            <p:cNvSpPr/>
            <p:nvPr/>
          </p:nvSpPr>
          <p:spPr>
            <a:xfrm>
              <a:off x="2398680" y="2261520"/>
              <a:ext cx="2376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59" name="Freeform: Shape 55"/>
            <p:cNvSpPr/>
            <p:nvPr/>
          </p:nvSpPr>
          <p:spPr>
            <a:xfrm>
              <a:off x="1893960" y="1994040"/>
              <a:ext cx="528480" cy="529200"/>
            </a:xfrm>
            <a:custGeom>
              <a:avLst/>
              <a:gdLst/>
              <a:ahLst/>
              <a:rect l="l" t="t" r="r" b="b"/>
              <a:pathLst>
                <a:path w="782955" h="783907">
                  <a:moveTo>
                    <a:pt x="391478" y="953"/>
                  </a:moveTo>
                  <a:cubicBezTo>
                    <a:pt x="607695" y="953"/>
                    <a:pt x="782955" y="176213"/>
                    <a:pt x="782955" y="392430"/>
                  </a:cubicBezTo>
                  <a:cubicBezTo>
                    <a:pt x="782955" y="608648"/>
                    <a:pt x="607695" y="783908"/>
                    <a:pt x="391478" y="783908"/>
                  </a:cubicBezTo>
                  <a:lnTo>
                    <a:pt x="391478" y="735330"/>
                  </a:lnTo>
                  <a:cubicBezTo>
                    <a:pt x="581025" y="735330"/>
                    <a:pt x="734378" y="581978"/>
                    <a:pt x="734378" y="393383"/>
                  </a:cubicBezTo>
                  <a:cubicBezTo>
                    <a:pt x="734378" y="203835"/>
                    <a:pt x="581025" y="51435"/>
                    <a:pt x="391478" y="51435"/>
                  </a:cubicBezTo>
                  <a:lnTo>
                    <a:pt x="391478" y="953"/>
                  </a:lnTo>
                  <a:close/>
                  <a:moveTo>
                    <a:pt x="391478" y="782955"/>
                  </a:moveTo>
                  <a:cubicBezTo>
                    <a:pt x="175260" y="782955"/>
                    <a:pt x="0" y="607695"/>
                    <a:pt x="0" y="391478"/>
                  </a:cubicBezTo>
                  <a:cubicBezTo>
                    <a:pt x="0" y="175260"/>
                    <a:pt x="175260" y="0"/>
                    <a:pt x="391478" y="0"/>
                  </a:cubicBezTo>
                  <a:lnTo>
                    <a:pt x="391478" y="48578"/>
                  </a:lnTo>
                  <a:cubicBezTo>
                    <a:pt x="201930" y="48578"/>
                    <a:pt x="48578" y="201930"/>
                    <a:pt x="48578" y="390525"/>
                  </a:cubicBezTo>
                  <a:cubicBezTo>
                    <a:pt x="48578" y="579120"/>
                    <a:pt x="201930" y="732473"/>
                    <a:pt x="391478" y="732473"/>
                  </a:cubicBezTo>
                  <a:lnTo>
                    <a:pt x="391478" y="78295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60" name="Freeform: Shape 56"/>
            <p:cNvSpPr/>
            <p:nvPr/>
          </p:nvSpPr>
          <p:spPr>
            <a:xfrm>
              <a:off x="1870560" y="1953000"/>
              <a:ext cx="565920" cy="199800"/>
            </a:xfrm>
            <a:custGeom>
              <a:avLst/>
              <a:gdLst/>
              <a:ahLst/>
              <a:rect l="l" t="t" r="r" b="b"/>
              <a:pathLst>
                <a:path w="838200" h="296227">
                  <a:moveTo>
                    <a:pt x="425767" y="0"/>
                  </a:moveTo>
                  <a:cubicBezTo>
                    <a:pt x="609600" y="0"/>
                    <a:pt x="767715" y="109538"/>
                    <a:pt x="838200" y="266700"/>
                  </a:cubicBezTo>
                  <a:cubicBezTo>
                    <a:pt x="758190" y="126682"/>
                    <a:pt x="603885" y="32385"/>
                    <a:pt x="426720" y="32385"/>
                  </a:cubicBezTo>
                  <a:cubicBezTo>
                    <a:pt x="237172" y="32385"/>
                    <a:pt x="74295" y="140970"/>
                    <a:pt x="0" y="296228"/>
                  </a:cubicBezTo>
                  <a:cubicBezTo>
                    <a:pt x="64770" y="123825"/>
                    <a:pt x="230505" y="0"/>
                    <a:pt x="425767"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61" name="Freeform: Shape 57"/>
            <p:cNvSpPr/>
            <p:nvPr/>
          </p:nvSpPr>
          <p:spPr>
            <a:xfrm>
              <a:off x="1971000" y="2139480"/>
              <a:ext cx="286200" cy="271800"/>
            </a:xfrm>
            <a:custGeom>
              <a:avLst/>
              <a:gdLst/>
              <a:ahLst/>
              <a:rect l="l" t="t" r="r" b="b"/>
              <a:pathLst>
                <a:path w="423862" h="402907">
                  <a:moveTo>
                    <a:pt x="422910" y="377190"/>
                  </a:moveTo>
                  <a:cubicBezTo>
                    <a:pt x="394335" y="394335"/>
                    <a:pt x="359093" y="402908"/>
                    <a:pt x="314325" y="402908"/>
                  </a:cubicBezTo>
                  <a:cubicBezTo>
                    <a:pt x="258128" y="402908"/>
                    <a:pt x="213360" y="385763"/>
                    <a:pt x="179070" y="349567"/>
                  </a:cubicBezTo>
                  <a:cubicBezTo>
                    <a:pt x="160973" y="331470"/>
                    <a:pt x="148590" y="310515"/>
                    <a:pt x="139065" y="286703"/>
                  </a:cubicBezTo>
                  <a:lnTo>
                    <a:pt x="0" y="286703"/>
                  </a:lnTo>
                  <a:lnTo>
                    <a:pt x="38100" y="220027"/>
                  </a:lnTo>
                  <a:lnTo>
                    <a:pt x="126683" y="220027"/>
                  </a:lnTo>
                  <a:cubicBezTo>
                    <a:pt x="126683" y="217170"/>
                    <a:pt x="126683" y="213360"/>
                    <a:pt x="126683" y="210502"/>
                  </a:cubicBezTo>
                  <a:cubicBezTo>
                    <a:pt x="126683" y="207645"/>
                    <a:pt x="126683" y="203835"/>
                    <a:pt x="126683" y="200977"/>
                  </a:cubicBezTo>
                  <a:lnTo>
                    <a:pt x="43815" y="200977"/>
                  </a:lnTo>
                  <a:lnTo>
                    <a:pt x="81915" y="134302"/>
                  </a:lnTo>
                  <a:lnTo>
                    <a:pt x="138113" y="134302"/>
                  </a:lnTo>
                  <a:cubicBezTo>
                    <a:pt x="147638" y="104775"/>
                    <a:pt x="161925" y="79057"/>
                    <a:pt x="182880" y="57150"/>
                  </a:cubicBezTo>
                  <a:cubicBezTo>
                    <a:pt x="220028" y="19050"/>
                    <a:pt x="269558" y="0"/>
                    <a:pt x="331470" y="0"/>
                  </a:cubicBezTo>
                  <a:cubicBezTo>
                    <a:pt x="369570" y="0"/>
                    <a:pt x="400050" y="5715"/>
                    <a:pt x="423863" y="18098"/>
                  </a:cubicBezTo>
                  <a:lnTo>
                    <a:pt x="423863" y="94298"/>
                  </a:lnTo>
                  <a:cubicBezTo>
                    <a:pt x="396240" y="74295"/>
                    <a:pt x="367665" y="64770"/>
                    <a:pt x="335280" y="64770"/>
                  </a:cubicBezTo>
                  <a:cubicBezTo>
                    <a:pt x="298133" y="64770"/>
                    <a:pt x="267653" y="77152"/>
                    <a:pt x="244793" y="101918"/>
                  </a:cubicBezTo>
                  <a:cubicBezTo>
                    <a:pt x="236220" y="111443"/>
                    <a:pt x="229553" y="120968"/>
                    <a:pt x="223838" y="132398"/>
                  </a:cubicBezTo>
                  <a:lnTo>
                    <a:pt x="391478" y="132398"/>
                  </a:lnTo>
                  <a:lnTo>
                    <a:pt x="353378" y="199073"/>
                  </a:lnTo>
                  <a:lnTo>
                    <a:pt x="322898" y="199073"/>
                  </a:lnTo>
                  <a:lnTo>
                    <a:pt x="209550" y="199073"/>
                  </a:lnTo>
                  <a:lnTo>
                    <a:pt x="209550" y="202883"/>
                  </a:lnTo>
                  <a:cubicBezTo>
                    <a:pt x="209550" y="208598"/>
                    <a:pt x="209550" y="213360"/>
                    <a:pt x="210503" y="218123"/>
                  </a:cubicBezTo>
                  <a:lnTo>
                    <a:pt x="348615" y="218123"/>
                  </a:lnTo>
                  <a:lnTo>
                    <a:pt x="310515" y="284798"/>
                  </a:lnTo>
                  <a:lnTo>
                    <a:pt x="230505" y="284798"/>
                  </a:lnTo>
                  <a:cubicBezTo>
                    <a:pt x="234315" y="290513"/>
                    <a:pt x="238125" y="295275"/>
                    <a:pt x="242888" y="300038"/>
                  </a:cubicBezTo>
                  <a:cubicBezTo>
                    <a:pt x="264795" y="323850"/>
                    <a:pt x="294323" y="335280"/>
                    <a:pt x="331470" y="335280"/>
                  </a:cubicBezTo>
                  <a:cubicBezTo>
                    <a:pt x="363855" y="335280"/>
                    <a:pt x="394335" y="324803"/>
                    <a:pt x="422910" y="303848"/>
                  </a:cubicBezTo>
                  <a:lnTo>
                    <a:pt x="422910" y="37719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62" name="Freeform: Shape 58"/>
            <p:cNvSpPr/>
            <p:nvPr/>
          </p:nvSpPr>
          <p:spPr>
            <a:xfrm>
              <a:off x="1981440" y="2122560"/>
              <a:ext cx="276840" cy="271800"/>
            </a:xfrm>
            <a:custGeom>
              <a:avLst/>
              <a:gdLst/>
              <a:ahLst/>
              <a:rect l="l" t="t" r="r" b="b"/>
              <a:pathLst>
                <a:path w="410527" h="402907">
                  <a:moveTo>
                    <a:pt x="407670" y="377190"/>
                  </a:moveTo>
                  <a:cubicBezTo>
                    <a:pt x="379095" y="394335"/>
                    <a:pt x="343853" y="402907"/>
                    <a:pt x="299085" y="402907"/>
                  </a:cubicBezTo>
                  <a:cubicBezTo>
                    <a:pt x="242888" y="402907"/>
                    <a:pt x="198120" y="385763"/>
                    <a:pt x="163830" y="349567"/>
                  </a:cubicBezTo>
                  <a:cubicBezTo>
                    <a:pt x="145733" y="331470"/>
                    <a:pt x="133350" y="310515"/>
                    <a:pt x="123825" y="286703"/>
                  </a:cubicBezTo>
                  <a:lnTo>
                    <a:pt x="0" y="286703"/>
                  </a:lnTo>
                  <a:lnTo>
                    <a:pt x="38100" y="220027"/>
                  </a:lnTo>
                  <a:lnTo>
                    <a:pt x="113347" y="220027"/>
                  </a:lnTo>
                  <a:cubicBezTo>
                    <a:pt x="113347" y="217170"/>
                    <a:pt x="113347" y="213360"/>
                    <a:pt x="113347" y="210502"/>
                  </a:cubicBezTo>
                  <a:cubicBezTo>
                    <a:pt x="113347" y="207645"/>
                    <a:pt x="113347" y="203835"/>
                    <a:pt x="113347" y="200977"/>
                  </a:cubicBezTo>
                  <a:lnTo>
                    <a:pt x="43815" y="200977"/>
                  </a:lnTo>
                  <a:lnTo>
                    <a:pt x="81915" y="134302"/>
                  </a:lnTo>
                  <a:lnTo>
                    <a:pt x="124778" y="134302"/>
                  </a:lnTo>
                  <a:cubicBezTo>
                    <a:pt x="134303" y="104775"/>
                    <a:pt x="148590" y="79057"/>
                    <a:pt x="169545" y="57150"/>
                  </a:cubicBezTo>
                  <a:cubicBezTo>
                    <a:pt x="206692" y="19050"/>
                    <a:pt x="256222" y="0"/>
                    <a:pt x="318135" y="0"/>
                  </a:cubicBezTo>
                  <a:cubicBezTo>
                    <a:pt x="356235" y="0"/>
                    <a:pt x="386715" y="5715"/>
                    <a:pt x="410528" y="18097"/>
                  </a:cubicBezTo>
                  <a:lnTo>
                    <a:pt x="410528" y="94297"/>
                  </a:lnTo>
                  <a:cubicBezTo>
                    <a:pt x="382905" y="74295"/>
                    <a:pt x="354330" y="64770"/>
                    <a:pt x="321945" y="64770"/>
                  </a:cubicBezTo>
                  <a:cubicBezTo>
                    <a:pt x="284797" y="64770"/>
                    <a:pt x="254317" y="77152"/>
                    <a:pt x="231458" y="101917"/>
                  </a:cubicBezTo>
                  <a:cubicBezTo>
                    <a:pt x="222885" y="111442"/>
                    <a:pt x="216217" y="120967"/>
                    <a:pt x="210503" y="132397"/>
                  </a:cubicBezTo>
                  <a:lnTo>
                    <a:pt x="390525" y="132397"/>
                  </a:lnTo>
                  <a:lnTo>
                    <a:pt x="352425" y="199072"/>
                  </a:lnTo>
                  <a:lnTo>
                    <a:pt x="321945" y="199072"/>
                  </a:lnTo>
                  <a:lnTo>
                    <a:pt x="194310" y="199072"/>
                  </a:lnTo>
                  <a:lnTo>
                    <a:pt x="194310" y="202883"/>
                  </a:lnTo>
                  <a:cubicBezTo>
                    <a:pt x="194310" y="208597"/>
                    <a:pt x="194310" y="213360"/>
                    <a:pt x="195263" y="218122"/>
                  </a:cubicBezTo>
                  <a:lnTo>
                    <a:pt x="347663" y="218122"/>
                  </a:lnTo>
                  <a:lnTo>
                    <a:pt x="309563" y="284798"/>
                  </a:lnTo>
                  <a:lnTo>
                    <a:pt x="215265" y="284798"/>
                  </a:lnTo>
                  <a:cubicBezTo>
                    <a:pt x="219075" y="290513"/>
                    <a:pt x="222885" y="295275"/>
                    <a:pt x="227647" y="300038"/>
                  </a:cubicBezTo>
                  <a:cubicBezTo>
                    <a:pt x="249555" y="323850"/>
                    <a:pt x="279083" y="335280"/>
                    <a:pt x="316230" y="335280"/>
                  </a:cubicBezTo>
                  <a:cubicBezTo>
                    <a:pt x="348615" y="335280"/>
                    <a:pt x="379095" y="324803"/>
                    <a:pt x="407670" y="303848"/>
                  </a:cubicBezTo>
                  <a:lnTo>
                    <a:pt x="407670" y="37719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363" name="Graphic 210"/>
          <p:cNvGrpSpPr/>
          <p:nvPr/>
        </p:nvGrpSpPr>
        <p:grpSpPr>
          <a:xfrm>
            <a:off x="689040" y="1862280"/>
            <a:ext cx="792000" cy="792000"/>
            <a:chOff x="689040" y="1862280"/>
            <a:chExt cx="792000" cy="792000"/>
          </a:xfrm>
        </p:grpSpPr>
        <p:sp>
          <p:nvSpPr>
            <p:cNvPr id="2364" name="Freeform: Shape 44"/>
            <p:cNvSpPr/>
            <p:nvPr/>
          </p:nvSpPr>
          <p:spPr>
            <a:xfrm>
              <a:off x="689040" y="1862280"/>
              <a:ext cx="792000" cy="792000"/>
            </a:xfrm>
            <a:custGeom>
              <a:avLst/>
              <a:gdLst/>
              <a:ahLst/>
              <a:rect l="l" t="t" r="r" b="b"/>
              <a:pathLst>
                <a:path w="1173479" h="1172527">
                  <a:moveTo>
                    <a:pt x="586740" y="1172528"/>
                  </a:moveTo>
                  <a:cubicBezTo>
                    <a:pt x="909638" y="1172528"/>
                    <a:pt x="1173480" y="909638"/>
                    <a:pt x="1173480" y="586740"/>
                  </a:cubicBezTo>
                  <a:cubicBezTo>
                    <a:pt x="1172528" y="262890"/>
                    <a:pt x="909638" y="0"/>
                    <a:pt x="586740" y="0"/>
                  </a:cubicBezTo>
                  <a:cubicBezTo>
                    <a:pt x="263843" y="0"/>
                    <a:pt x="0" y="262890"/>
                    <a:pt x="0" y="585788"/>
                  </a:cubicBezTo>
                  <a:cubicBezTo>
                    <a:pt x="0" y="908685"/>
                    <a:pt x="263843" y="1172528"/>
                    <a:pt x="586740" y="1172528"/>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65" name="Freeform: Shape 45"/>
            <p:cNvSpPr/>
            <p:nvPr/>
          </p:nvSpPr>
          <p:spPr>
            <a:xfrm>
              <a:off x="779040" y="1952280"/>
              <a:ext cx="611280" cy="611280"/>
            </a:xfrm>
            <a:custGeom>
              <a:avLst/>
              <a:gdLst/>
              <a:ahLst/>
              <a:rect l="l" t="t" r="r" b="b"/>
              <a:pathLst>
                <a:path w="905827" h="904875">
                  <a:moveTo>
                    <a:pt x="453390" y="904875"/>
                  </a:moveTo>
                  <a:cubicBezTo>
                    <a:pt x="702945" y="904875"/>
                    <a:pt x="905828" y="701993"/>
                    <a:pt x="905828" y="452438"/>
                  </a:cubicBezTo>
                  <a:cubicBezTo>
                    <a:pt x="905828" y="202883"/>
                    <a:pt x="701993" y="0"/>
                    <a:pt x="453390" y="0"/>
                  </a:cubicBezTo>
                  <a:cubicBezTo>
                    <a:pt x="203835" y="0"/>
                    <a:pt x="0" y="203835"/>
                    <a:pt x="0" y="452438"/>
                  </a:cubicBezTo>
                  <a:cubicBezTo>
                    <a:pt x="0" y="701040"/>
                    <a:pt x="203835" y="904875"/>
                    <a:pt x="453390"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66" name="Freeform: Shape 46"/>
            <p:cNvSpPr/>
            <p:nvPr/>
          </p:nvSpPr>
          <p:spPr>
            <a:xfrm>
              <a:off x="937800" y="2045520"/>
              <a:ext cx="277560" cy="451080"/>
            </a:xfrm>
            <a:custGeom>
              <a:avLst/>
              <a:gdLst/>
              <a:ahLst/>
              <a:rect l="l" t="t" r="r" b="b"/>
              <a:pathLst>
                <a:path w="411480" h="667702">
                  <a:moveTo>
                    <a:pt x="287655" y="87630"/>
                  </a:moveTo>
                  <a:cubicBezTo>
                    <a:pt x="291465" y="88582"/>
                    <a:pt x="295275" y="90488"/>
                    <a:pt x="298133" y="91440"/>
                  </a:cubicBezTo>
                  <a:cubicBezTo>
                    <a:pt x="327660" y="102870"/>
                    <a:pt x="349568" y="118110"/>
                    <a:pt x="363855" y="137160"/>
                  </a:cubicBezTo>
                  <a:cubicBezTo>
                    <a:pt x="378143" y="156210"/>
                    <a:pt x="387668" y="181927"/>
                    <a:pt x="392430" y="214313"/>
                  </a:cubicBezTo>
                  <a:lnTo>
                    <a:pt x="309562" y="225743"/>
                  </a:lnTo>
                  <a:cubicBezTo>
                    <a:pt x="306705" y="204788"/>
                    <a:pt x="299085" y="187643"/>
                    <a:pt x="286703" y="174308"/>
                  </a:cubicBezTo>
                  <a:lnTo>
                    <a:pt x="286703" y="87630"/>
                  </a:lnTo>
                  <a:lnTo>
                    <a:pt x="287655" y="87630"/>
                  </a:lnTo>
                  <a:close/>
                  <a:moveTo>
                    <a:pt x="287655" y="302895"/>
                  </a:moveTo>
                  <a:cubicBezTo>
                    <a:pt x="308610" y="309563"/>
                    <a:pt x="324803" y="315278"/>
                    <a:pt x="336233" y="320040"/>
                  </a:cubicBezTo>
                  <a:cubicBezTo>
                    <a:pt x="360045" y="330518"/>
                    <a:pt x="378143" y="344805"/>
                    <a:pt x="391478" y="363855"/>
                  </a:cubicBezTo>
                  <a:cubicBezTo>
                    <a:pt x="404812" y="382905"/>
                    <a:pt x="411480" y="406717"/>
                    <a:pt x="411480" y="436245"/>
                  </a:cubicBezTo>
                  <a:cubicBezTo>
                    <a:pt x="411480" y="463867"/>
                    <a:pt x="402908" y="490538"/>
                    <a:pt x="386715" y="515303"/>
                  </a:cubicBezTo>
                  <a:cubicBezTo>
                    <a:pt x="370522" y="540068"/>
                    <a:pt x="346710" y="559118"/>
                    <a:pt x="316230" y="572453"/>
                  </a:cubicBezTo>
                  <a:cubicBezTo>
                    <a:pt x="306705" y="576263"/>
                    <a:pt x="297180" y="580073"/>
                    <a:pt x="287655" y="582930"/>
                  </a:cubicBezTo>
                  <a:lnTo>
                    <a:pt x="287655" y="507683"/>
                  </a:lnTo>
                  <a:cubicBezTo>
                    <a:pt x="291465" y="505778"/>
                    <a:pt x="294322" y="502920"/>
                    <a:pt x="297180" y="501015"/>
                  </a:cubicBezTo>
                  <a:cubicBezTo>
                    <a:pt x="316230" y="485775"/>
                    <a:pt x="325755" y="466725"/>
                    <a:pt x="325755" y="445770"/>
                  </a:cubicBezTo>
                  <a:cubicBezTo>
                    <a:pt x="325755" y="426720"/>
                    <a:pt x="317183" y="411480"/>
                    <a:pt x="300990" y="401003"/>
                  </a:cubicBezTo>
                  <a:cubicBezTo>
                    <a:pt x="298133" y="399098"/>
                    <a:pt x="293370" y="397192"/>
                    <a:pt x="288608" y="394335"/>
                  </a:cubicBezTo>
                  <a:lnTo>
                    <a:pt x="288608" y="302895"/>
                  </a:lnTo>
                  <a:lnTo>
                    <a:pt x="287655" y="302895"/>
                  </a:lnTo>
                  <a:close/>
                  <a:moveTo>
                    <a:pt x="161925" y="667703"/>
                  </a:moveTo>
                  <a:lnTo>
                    <a:pt x="161925" y="590550"/>
                  </a:lnTo>
                  <a:cubicBezTo>
                    <a:pt x="150495" y="588645"/>
                    <a:pt x="139065" y="586740"/>
                    <a:pt x="128588" y="583883"/>
                  </a:cubicBezTo>
                  <a:lnTo>
                    <a:pt x="128588" y="502920"/>
                  </a:lnTo>
                  <a:cubicBezTo>
                    <a:pt x="138113" y="509588"/>
                    <a:pt x="149543" y="514350"/>
                    <a:pt x="161925" y="518160"/>
                  </a:cubicBezTo>
                  <a:lnTo>
                    <a:pt x="161925" y="357188"/>
                  </a:lnTo>
                  <a:cubicBezTo>
                    <a:pt x="149543" y="353378"/>
                    <a:pt x="139065" y="350520"/>
                    <a:pt x="128588" y="346710"/>
                  </a:cubicBezTo>
                  <a:lnTo>
                    <a:pt x="128588" y="254318"/>
                  </a:lnTo>
                  <a:cubicBezTo>
                    <a:pt x="131445" y="256223"/>
                    <a:pt x="134302" y="257175"/>
                    <a:pt x="138113" y="258127"/>
                  </a:cubicBezTo>
                  <a:cubicBezTo>
                    <a:pt x="141922" y="260033"/>
                    <a:pt x="150495" y="261938"/>
                    <a:pt x="161925" y="265748"/>
                  </a:cubicBezTo>
                  <a:lnTo>
                    <a:pt x="161925" y="146685"/>
                  </a:lnTo>
                  <a:cubicBezTo>
                    <a:pt x="148590" y="148590"/>
                    <a:pt x="137160" y="152400"/>
                    <a:pt x="128588" y="157163"/>
                  </a:cubicBezTo>
                  <a:lnTo>
                    <a:pt x="128588" y="82868"/>
                  </a:lnTo>
                  <a:cubicBezTo>
                    <a:pt x="139065" y="80010"/>
                    <a:pt x="150495" y="78105"/>
                    <a:pt x="161925" y="76200"/>
                  </a:cubicBezTo>
                  <a:lnTo>
                    <a:pt x="161925" y="0"/>
                  </a:lnTo>
                  <a:lnTo>
                    <a:pt x="250508" y="0"/>
                  </a:lnTo>
                  <a:lnTo>
                    <a:pt x="250508" y="78105"/>
                  </a:lnTo>
                  <a:cubicBezTo>
                    <a:pt x="263843" y="80010"/>
                    <a:pt x="276225" y="82868"/>
                    <a:pt x="288608" y="86677"/>
                  </a:cubicBezTo>
                  <a:lnTo>
                    <a:pt x="288608" y="173355"/>
                  </a:lnTo>
                  <a:cubicBezTo>
                    <a:pt x="285750" y="170498"/>
                    <a:pt x="282893" y="166688"/>
                    <a:pt x="279083" y="163830"/>
                  </a:cubicBezTo>
                  <a:cubicBezTo>
                    <a:pt x="271462" y="157163"/>
                    <a:pt x="261937" y="152400"/>
                    <a:pt x="250508" y="148590"/>
                  </a:cubicBezTo>
                  <a:lnTo>
                    <a:pt x="250508" y="289560"/>
                  </a:lnTo>
                  <a:cubicBezTo>
                    <a:pt x="264795" y="293370"/>
                    <a:pt x="277178" y="297180"/>
                    <a:pt x="288608" y="300990"/>
                  </a:cubicBezTo>
                  <a:lnTo>
                    <a:pt x="288608" y="391478"/>
                  </a:lnTo>
                  <a:cubicBezTo>
                    <a:pt x="279083" y="387667"/>
                    <a:pt x="266700" y="383858"/>
                    <a:pt x="250508" y="379095"/>
                  </a:cubicBezTo>
                  <a:lnTo>
                    <a:pt x="250508" y="519113"/>
                  </a:lnTo>
                  <a:cubicBezTo>
                    <a:pt x="265747" y="516255"/>
                    <a:pt x="278130" y="511492"/>
                    <a:pt x="288608" y="505778"/>
                  </a:cubicBezTo>
                  <a:lnTo>
                    <a:pt x="288608" y="581025"/>
                  </a:lnTo>
                  <a:cubicBezTo>
                    <a:pt x="276225" y="584835"/>
                    <a:pt x="263843" y="586740"/>
                    <a:pt x="250508" y="588645"/>
                  </a:cubicBezTo>
                  <a:lnTo>
                    <a:pt x="250508" y="664845"/>
                  </a:lnTo>
                  <a:lnTo>
                    <a:pt x="161925" y="664845"/>
                  </a:lnTo>
                  <a:lnTo>
                    <a:pt x="161925" y="667703"/>
                  </a:lnTo>
                  <a:close/>
                  <a:moveTo>
                    <a:pt x="128588" y="583883"/>
                  </a:moveTo>
                  <a:cubicBezTo>
                    <a:pt x="102870" y="577215"/>
                    <a:pt x="81915" y="566738"/>
                    <a:pt x="64770" y="553403"/>
                  </a:cubicBezTo>
                  <a:cubicBezTo>
                    <a:pt x="30480" y="526733"/>
                    <a:pt x="9525" y="486728"/>
                    <a:pt x="0" y="434340"/>
                  </a:cubicBezTo>
                  <a:lnTo>
                    <a:pt x="83820" y="421005"/>
                  </a:lnTo>
                  <a:cubicBezTo>
                    <a:pt x="88582" y="454342"/>
                    <a:pt x="101918" y="480060"/>
                    <a:pt x="122872" y="498158"/>
                  </a:cubicBezTo>
                  <a:cubicBezTo>
                    <a:pt x="124777" y="500063"/>
                    <a:pt x="127635" y="501967"/>
                    <a:pt x="129540" y="502920"/>
                  </a:cubicBezTo>
                  <a:lnTo>
                    <a:pt x="129540" y="583883"/>
                  </a:lnTo>
                  <a:lnTo>
                    <a:pt x="128588" y="583883"/>
                  </a:lnTo>
                  <a:close/>
                  <a:moveTo>
                    <a:pt x="128588" y="347663"/>
                  </a:moveTo>
                  <a:cubicBezTo>
                    <a:pt x="111443" y="341948"/>
                    <a:pt x="97155" y="336233"/>
                    <a:pt x="86677" y="331470"/>
                  </a:cubicBezTo>
                  <a:cubicBezTo>
                    <a:pt x="62865" y="320040"/>
                    <a:pt x="44768" y="303848"/>
                    <a:pt x="32385" y="283845"/>
                  </a:cubicBezTo>
                  <a:cubicBezTo>
                    <a:pt x="20002" y="263843"/>
                    <a:pt x="14288" y="241935"/>
                    <a:pt x="14288" y="217170"/>
                  </a:cubicBezTo>
                  <a:cubicBezTo>
                    <a:pt x="14288" y="195263"/>
                    <a:pt x="19050" y="174308"/>
                    <a:pt x="29527" y="155258"/>
                  </a:cubicBezTo>
                  <a:cubicBezTo>
                    <a:pt x="40005" y="136208"/>
                    <a:pt x="53340" y="120968"/>
                    <a:pt x="70485" y="108585"/>
                  </a:cubicBezTo>
                  <a:cubicBezTo>
                    <a:pt x="83820" y="99060"/>
                    <a:pt x="101918" y="90488"/>
                    <a:pt x="123825" y="83820"/>
                  </a:cubicBezTo>
                  <a:lnTo>
                    <a:pt x="128588" y="82868"/>
                  </a:lnTo>
                  <a:lnTo>
                    <a:pt x="128588" y="157163"/>
                  </a:lnTo>
                  <a:cubicBezTo>
                    <a:pt x="125730" y="159068"/>
                    <a:pt x="122872" y="160973"/>
                    <a:pt x="120015" y="162877"/>
                  </a:cubicBezTo>
                  <a:cubicBezTo>
                    <a:pt x="103822" y="175260"/>
                    <a:pt x="95250" y="190500"/>
                    <a:pt x="95250" y="207645"/>
                  </a:cubicBezTo>
                  <a:cubicBezTo>
                    <a:pt x="95250" y="218123"/>
                    <a:pt x="99060" y="228600"/>
                    <a:pt x="105727" y="237173"/>
                  </a:cubicBezTo>
                  <a:cubicBezTo>
                    <a:pt x="111443" y="243840"/>
                    <a:pt x="119063" y="250508"/>
                    <a:pt x="128588" y="255270"/>
                  </a:cubicBezTo>
                  <a:lnTo>
                    <a:pt x="128588" y="347663"/>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67" name="Freeform: Shape 47"/>
            <p:cNvSpPr/>
            <p:nvPr/>
          </p:nvSpPr>
          <p:spPr>
            <a:xfrm>
              <a:off x="798120" y="1952280"/>
              <a:ext cx="565920" cy="200160"/>
            </a:xfrm>
            <a:custGeom>
              <a:avLst/>
              <a:gdLst/>
              <a:ahLst/>
              <a:rect l="l" t="t" r="r" b="b"/>
              <a:pathLst>
                <a:path w="838200" h="296227">
                  <a:moveTo>
                    <a:pt x="424815" y="0"/>
                  </a:moveTo>
                  <a:cubicBezTo>
                    <a:pt x="608648" y="0"/>
                    <a:pt x="766763" y="109538"/>
                    <a:pt x="838200" y="266700"/>
                  </a:cubicBezTo>
                  <a:cubicBezTo>
                    <a:pt x="758190" y="126682"/>
                    <a:pt x="603885" y="32385"/>
                    <a:pt x="426720" y="32385"/>
                  </a:cubicBezTo>
                  <a:cubicBezTo>
                    <a:pt x="237173" y="32385"/>
                    <a:pt x="74295" y="140970"/>
                    <a:pt x="0" y="296228"/>
                  </a:cubicBezTo>
                  <a:cubicBezTo>
                    <a:pt x="62865" y="123825"/>
                    <a:pt x="229552"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68" name="Freeform: Shape 48"/>
            <p:cNvSpPr/>
            <p:nvPr/>
          </p:nvSpPr>
          <p:spPr>
            <a:xfrm>
              <a:off x="946800" y="2031480"/>
              <a:ext cx="277560" cy="450360"/>
            </a:xfrm>
            <a:custGeom>
              <a:avLst/>
              <a:gdLst/>
              <a:ahLst/>
              <a:rect l="l" t="t" r="r" b="b"/>
              <a:pathLst>
                <a:path w="411480" h="666750">
                  <a:moveTo>
                    <a:pt x="287655" y="87630"/>
                  </a:moveTo>
                  <a:cubicBezTo>
                    <a:pt x="291465" y="88582"/>
                    <a:pt x="295275" y="90488"/>
                    <a:pt x="298133" y="91440"/>
                  </a:cubicBezTo>
                  <a:cubicBezTo>
                    <a:pt x="327660" y="102870"/>
                    <a:pt x="349568" y="118110"/>
                    <a:pt x="363855" y="137160"/>
                  </a:cubicBezTo>
                  <a:cubicBezTo>
                    <a:pt x="378143" y="156210"/>
                    <a:pt x="387668" y="181928"/>
                    <a:pt x="392430" y="214313"/>
                  </a:cubicBezTo>
                  <a:lnTo>
                    <a:pt x="310515" y="225743"/>
                  </a:lnTo>
                  <a:cubicBezTo>
                    <a:pt x="307658" y="204788"/>
                    <a:pt x="300038" y="187643"/>
                    <a:pt x="287655" y="174308"/>
                  </a:cubicBezTo>
                  <a:lnTo>
                    <a:pt x="287655" y="87630"/>
                  </a:lnTo>
                  <a:close/>
                  <a:moveTo>
                    <a:pt x="287655" y="302895"/>
                  </a:moveTo>
                  <a:cubicBezTo>
                    <a:pt x="308610" y="309563"/>
                    <a:pt x="324803" y="315278"/>
                    <a:pt x="336233" y="320040"/>
                  </a:cubicBezTo>
                  <a:cubicBezTo>
                    <a:pt x="360045" y="330518"/>
                    <a:pt x="378143" y="344805"/>
                    <a:pt x="391478" y="363855"/>
                  </a:cubicBezTo>
                  <a:cubicBezTo>
                    <a:pt x="404813" y="382905"/>
                    <a:pt x="411480" y="406718"/>
                    <a:pt x="411480" y="436245"/>
                  </a:cubicBezTo>
                  <a:cubicBezTo>
                    <a:pt x="411480" y="463868"/>
                    <a:pt x="402908" y="490538"/>
                    <a:pt x="386715" y="515303"/>
                  </a:cubicBezTo>
                  <a:cubicBezTo>
                    <a:pt x="370523" y="540068"/>
                    <a:pt x="346710" y="559118"/>
                    <a:pt x="316230" y="572453"/>
                  </a:cubicBezTo>
                  <a:cubicBezTo>
                    <a:pt x="306705" y="576263"/>
                    <a:pt x="297180" y="580073"/>
                    <a:pt x="287655" y="582930"/>
                  </a:cubicBezTo>
                  <a:lnTo>
                    <a:pt x="287655" y="507683"/>
                  </a:lnTo>
                  <a:cubicBezTo>
                    <a:pt x="291465" y="505778"/>
                    <a:pt x="294323" y="502920"/>
                    <a:pt x="297180" y="501015"/>
                  </a:cubicBezTo>
                  <a:cubicBezTo>
                    <a:pt x="316230" y="485775"/>
                    <a:pt x="325755" y="466725"/>
                    <a:pt x="325755" y="445770"/>
                  </a:cubicBezTo>
                  <a:cubicBezTo>
                    <a:pt x="325755" y="426720"/>
                    <a:pt x="317183" y="411480"/>
                    <a:pt x="300990" y="401003"/>
                  </a:cubicBezTo>
                  <a:cubicBezTo>
                    <a:pt x="298133" y="399097"/>
                    <a:pt x="293370" y="397193"/>
                    <a:pt x="288608" y="394335"/>
                  </a:cubicBezTo>
                  <a:lnTo>
                    <a:pt x="288608" y="302895"/>
                  </a:lnTo>
                  <a:lnTo>
                    <a:pt x="287655" y="302895"/>
                  </a:lnTo>
                  <a:close/>
                  <a:moveTo>
                    <a:pt x="161925" y="666750"/>
                  </a:moveTo>
                  <a:lnTo>
                    <a:pt x="161925" y="589598"/>
                  </a:lnTo>
                  <a:cubicBezTo>
                    <a:pt x="150495" y="587693"/>
                    <a:pt x="139065" y="585788"/>
                    <a:pt x="128588" y="582930"/>
                  </a:cubicBezTo>
                  <a:lnTo>
                    <a:pt x="128588" y="501968"/>
                  </a:lnTo>
                  <a:cubicBezTo>
                    <a:pt x="138113" y="508635"/>
                    <a:pt x="149543" y="513397"/>
                    <a:pt x="161925" y="517208"/>
                  </a:cubicBezTo>
                  <a:lnTo>
                    <a:pt x="161925" y="357188"/>
                  </a:lnTo>
                  <a:cubicBezTo>
                    <a:pt x="149543" y="353378"/>
                    <a:pt x="139065" y="350520"/>
                    <a:pt x="128588" y="346710"/>
                  </a:cubicBezTo>
                  <a:lnTo>
                    <a:pt x="128588" y="254318"/>
                  </a:lnTo>
                  <a:cubicBezTo>
                    <a:pt x="131445" y="256223"/>
                    <a:pt x="134303" y="257175"/>
                    <a:pt x="138113" y="258128"/>
                  </a:cubicBezTo>
                  <a:cubicBezTo>
                    <a:pt x="141923" y="260033"/>
                    <a:pt x="150495" y="261938"/>
                    <a:pt x="161925" y="265748"/>
                  </a:cubicBezTo>
                  <a:lnTo>
                    <a:pt x="161925" y="145733"/>
                  </a:lnTo>
                  <a:cubicBezTo>
                    <a:pt x="148590" y="147638"/>
                    <a:pt x="137160" y="151448"/>
                    <a:pt x="128588" y="156210"/>
                  </a:cubicBezTo>
                  <a:lnTo>
                    <a:pt x="128588" y="82868"/>
                  </a:lnTo>
                  <a:cubicBezTo>
                    <a:pt x="139065" y="80010"/>
                    <a:pt x="150495" y="78105"/>
                    <a:pt x="161925" y="76200"/>
                  </a:cubicBezTo>
                  <a:lnTo>
                    <a:pt x="161925" y="0"/>
                  </a:lnTo>
                  <a:lnTo>
                    <a:pt x="250508" y="0"/>
                  </a:lnTo>
                  <a:lnTo>
                    <a:pt x="250508" y="78105"/>
                  </a:lnTo>
                  <a:cubicBezTo>
                    <a:pt x="263843" y="80010"/>
                    <a:pt x="276225" y="82868"/>
                    <a:pt x="288608" y="87630"/>
                  </a:cubicBezTo>
                  <a:lnTo>
                    <a:pt x="288608" y="174308"/>
                  </a:lnTo>
                  <a:cubicBezTo>
                    <a:pt x="285750" y="171450"/>
                    <a:pt x="281940" y="167640"/>
                    <a:pt x="279083" y="164783"/>
                  </a:cubicBezTo>
                  <a:cubicBezTo>
                    <a:pt x="271463" y="158115"/>
                    <a:pt x="261938" y="153353"/>
                    <a:pt x="250508" y="149543"/>
                  </a:cubicBezTo>
                  <a:lnTo>
                    <a:pt x="250508" y="290513"/>
                  </a:lnTo>
                  <a:cubicBezTo>
                    <a:pt x="264795" y="294323"/>
                    <a:pt x="277178" y="298133"/>
                    <a:pt x="288608" y="301943"/>
                  </a:cubicBezTo>
                  <a:lnTo>
                    <a:pt x="288608" y="392430"/>
                  </a:lnTo>
                  <a:cubicBezTo>
                    <a:pt x="279083" y="388620"/>
                    <a:pt x="266700" y="384810"/>
                    <a:pt x="250508" y="380047"/>
                  </a:cubicBezTo>
                  <a:lnTo>
                    <a:pt x="250508" y="520065"/>
                  </a:lnTo>
                  <a:cubicBezTo>
                    <a:pt x="265748" y="517208"/>
                    <a:pt x="278130" y="512445"/>
                    <a:pt x="288608" y="506730"/>
                  </a:cubicBezTo>
                  <a:lnTo>
                    <a:pt x="288608" y="581978"/>
                  </a:lnTo>
                  <a:cubicBezTo>
                    <a:pt x="276225" y="585788"/>
                    <a:pt x="263843" y="587693"/>
                    <a:pt x="250508" y="589598"/>
                  </a:cubicBezTo>
                  <a:lnTo>
                    <a:pt x="250508" y="665798"/>
                  </a:lnTo>
                  <a:lnTo>
                    <a:pt x="161925" y="665798"/>
                  </a:lnTo>
                  <a:lnTo>
                    <a:pt x="161925" y="666750"/>
                  </a:lnTo>
                  <a:close/>
                  <a:moveTo>
                    <a:pt x="128588" y="582930"/>
                  </a:moveTo>
                  <a:cubicBezTo>
                    <a:pt x="102870" y="576263"/>
                    <a:pt x="81915" y="565785"/>
                    <a:pt x="64770" y="552450"/>
                  </a:cubicBezTo>
                  <a:cubicBezTo>
                    <a:pt x="30480" y="525780"/>
                    <a:pt x="9525" y="485775"/>
                    <a:pt x="0" y="433388"/>
                  </a:cubicBezTo>
                  <a:lnTo>
                    <a:pt x="83820" y="420053"/>
                  </a:lnTo>
                  <a:cubicBezTo>
                    <a:pt x="88583" y="453390"/>
                    <a:pt x="101918" y="479108"/>
                    <a:pt x="122873" y="497205"/>
                  </a:cubicBezTo>
                  <a:cubicBezTo>
                    <a:pt x="124778" y="499110"/>
                    <a:pt x="127635" y="501015"/>
                    <a:pt x="129540" y="501968"/>
                  </a:cubicBezTo>
                  <a:lnTo>
                    <a:pt x="129540" y="582930"/>
                  </a:lnTo>
                  <a:lnTo>
                    <a:pt x="128588" y="582930"/>
                  </a:lnTo>
                  <a:close/>
                  <a:moveTo>
                    <a:pt x="128588" y="346710"/>
                  </a:moveTo>
                  <a:cubicBezTo>
                    <a:pt x="111443" y="340995"/>
                    <a:pt x="97155" y="335280"/>
                    <a:pt x="86678" y="330518"/>
                  </a:cubicBezTo>
                  <a:cubicBezTo>
                    <a:pt x="62865" y="319088"/>
                    <a:pt x="44768" y="302895"/>
                    <a:pt x="32385" y="282893"/>
                  </a:cubicBezTo>
                  <a:cubicBezTo>
                    <a:pt x="20003" y="262890"/>
                    <a:pt x="14288" y="240983"/>
                    <a:pt x="14288" y="216218"/>
                  </a:cubicBezTo>
                  <a:cubicBezTo>
                    <a:pt x="14288" y="194310"/>
                    <a:pt x="19050" y="173355"/>
                    <a:pt x="29528" y="154305"/>
                  </a:cubicBezTo>
                  <a:cubicBezTo>
                    <a:pt x="40005" y="135255"/>
                    <a:pt x="53340" y="120015"/>
                    <a:pt x="70485" y="107632"/>
                  </a:cubicBezTo>
                  <a:cubicBezTo>
                    <a:pt x="83820" y="98107"/>
                    <a:pt x="101918" y="89535"/>
                    <a:pt x="123825" y="82868"/>
                  </a:cubicBezTo>
                  <a:lnTo>
                    <a:pt x="128588" y="81915"/>
                  </a:lnTo>
                  <a:lnTo>
                    <a:pt x="128588" y="156210"/>
                  </a:lnTo>
                  <a:cubicBezTo>
                    <a:pt x="125730" y="158115"/>
                    <a:pt x="122873" y="160020"/>
                    <a:pt x="120015" y="161925"/>
                  </a:cubicBezTo>
                  <a:cubicBezTo>
                    <a:pt x="103823" y="174308"/>
                    <a:pt x="95250" y="189548"/>
                    <a:pt x="95250" y="206693"/>
                  </a:cubicBezTo>
                  <a:cubicBezTo>
                    <a:pt x="95250" y="217170"/>
                    <a:pt x="99060" y="227648"/>
                    <a:pt x="105728" y="236220"/>
                  </a:cubicBezTo>
                  <a:cubicBezTo>
                    <a:pt x="111443" y="242888"/>
                    <a:pt x="119063" y="249555"/>
                    <a:pt x="128588" y="254318"/>
                  </a:cubicBezTo>
                  <a:lnTo>
                    <a:pt x="128588" y="3467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369" name="Graphic 210"/>
          <p:cNvGrpSpPr/>
          <p:nvPr/>
        </p:nvGrpSpPr>
        <p:grpSpPr>
          <a:xfrm>
            <a:off x="3906720" y="1865160"/>
            <a:ext cx="790560" cy="790560"/>
            <a:chOff x="3906720" y="1865160"/>
            <a:chExt cx="790560" cy="790560"/>
          </a:xfrm>
        </p:grpSpPr>
        <p:sp>
          <p:nvSpPr>
            <p:cNvPr id="2370" name="Freeform: Shape 20"/>
            <p:cNvSpPr/>
            <p:nvPr/>
          </p:nvSpPr>
          <p:spPr>
            <a:xfrm>
              <a:off x="3906720" y="1865160"/>
              <a:ext cx="790560" cy="790560"/>
            </a:xfrm>
            <a:custGeom>
              <a:avLst/>
              <a:gdLst/>
              <a:ahLst/>
              <a:rect l="l" t="t" r="r" b="b"/>
              <a:pathLst>
                <a:path w="1173480" h="1171575">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8685"/>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71" name="Freeform: Shape 21"/>
            <p:cNvSpPr/>
            <p:nvPr/>
          </p:nvSpPr>
          <p:spPr>
            <a:xfrm>
              <a:off x="3997080" y="1955160"/>
              <a:ext cx="609840" cy="610560"/>
            </a:xfrm>
            <a:custGeom>
              <a:avLst/>
              <a:gdLst/>
              <a:ahLst/>
              <a:rect l="l" t="t" r="r" b="b"/>
              <a:pathLst>
                <a:path w="904874" h="904875">
                  <a:moveTo>
                    <a:pt x="452438" y="904875"/>
                  </a:moveTo>
                  <a:cubicBezTo>
                    <a:pt x="701993" y="904875"/>
                    <a:pt x="904875" y="701993"/>
                    <a:pt x="904875" y="452438"/>
                  </a:cubicBezTo>
                  <a:cubicBezTo>
                    <a:pt x="904875" y="202883"/>
                    <a:pt x="701040" y="0"/>
                    <a:pt x="452438" y="0"/>
                  </a:cubicBezTo>
                  <a:cubicBezTo>
                    <a:pt x="203835"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72" name="Freeform: Shape 22"/>
            <p:cNvSpPr/>
            <p:nvPr/>
          </p:nvSpPr>
          <p:spPr>
            <a:xfrm>
              <a:off x="4542120" y="2263680"/>
              <a:ext cx="2340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73" name="Freeform: Shape 23"/>
            <p:cNvSpPr/>
            <p:nvPr/>
          </p:nvSpPr>
          <p:spPr>
            <a:xfrm>
              <a:off x="4015800" y="1955160"/>
              <a:ext cx="564840" cy="199800"/>
            </a:xfrm>
            <a:custGeom>
              <a:avLst/>
              <a:gdLst/>
              <a:ahLst/>
              <a:rect l="l" t="t" r="r" b="b"/>
              <a:pathLst>
                <a:path w="838199"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74" name="Freeform: Shape 24"/>
            <p:cNvSpPr/>
            <p:nvPr/>
          </p:nvSpPr>
          <p:spPr>
            <a:xfrm>
              <a:off x="4169160" y="2112480"/>
              <a:ext cx="223920" cy="310320"/>
            </a:xfrm>
            <a:custGeom>
              <a:avLst/>
              <a:gdLst/>
              <a:ahLst/>
              <a:rect l="l" t="t" r="r" b="b"/>
              <a:pathLst>
                <a:path w="332422" h="460057">
                  <a:moveTo>
                    <a:pt x="130493" y="460058"/>
                  </a:moveTo>
                  <a:lnTo>
                    <a:pt x="130493" y="410528"/>
                  </a:lnTo>
                  <a:lnTo>
                    <a:pt x="0" y="410528"/>
                  </a:lnTo>
                  <a:lnTo>
                    <a:pt x="0" y="338138"/>
                  </a:lnTo>
                  <a:lnTo>
                    <a:pt x="130493" y="338138"/>
                  </a:lnTo>
                  <a:lnTo>
                    <a:pt x="130493" y="307658"/>
                  </a:lnTo>
                  <a:lnTo>
                    <a:pt x="0" y="307658"/>
                  </a:lnTo>
                  <a:lnTo>
                    <a:pt x="0" y="235267"/>
                  </a:lnTo>
                  <a:lnTo>
                    <a:pt x="130493" y="235267"/>
                  </a:lnTo>
                  <a:lnTo>
                    <a:pt x="130493" y="205740"/>
                  </a:lnTo>
                  <a:lnTo>
                    <a:pt x="0" y="0"/>
                  </a:lnTo>
                  <a:lnTo>
                    <a:pt x="83820" y="0"/>
                  </a:lnTo>
                  <a:lnTo>
                    <a:pt x="167640" y="140017"/>
                  </a:lnTo>
                  <a:lnTo>
                    <a:pt x="249555" y="0"/>
                  </a:lnTo>
                  <a:lnTo>
                    <a:pt x="332423" y="0"/>
                  </a:lnTo>
                  <a:lnTo>
                    <a:pt x="201930" y="205740"/>
                  </a:lnTo>
                  <a:lnTo>
                    <a:pt x="201930" y="235267"/>
                  </a:lnTo>
                  <a:lnTo>
                    <a:pt x="332423" y="235267"/>
                  </a:lnTo>
                  <a:lnTo>
                    <a:pt x="332423" y="307658"/>
                  </a:lnTo>
                  <a:lnTo>
                    <a:pt x="201930" y="307658"/>
                  </a:lnTo>
                  <a:lnTo>
                    <a:pt x="201930" y="338138"/>
                  </a:lnTo>
                  <a:lnTo>
                    <a:pt x="332423" y="338138"/>
                  </a:lnTo>
                  <a:lnTo>
                    <a:pt x="332423" y="410528"/>
                  </a:lnTo>
                  <a:lnTo>
                    <a:pt x="201930" y="410528"/>
                  </a:lnTo>
                  <a:lnTo>
                    <a:pt x="201930" y="460058"/>
                  </a:lnTo>
                  <a:lnTo>
                    <a:pt x="130493" y="460058"/>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75" name="Freeform: Shape 25"/>
            <p:cNvSpPr/>
            <p:nvPr/>
          </p:nvSpPr>
          <p:spPr>
            <a:xfrm>
              <a:off x="4176720" y="2099520"/>
              <a:ext cx="223920" cy="311040"/>
            </a:xfrm>
            <a:custGeom>
              <a:avLst/>
              <a:gdLst/>
              <a:ahLst/>
              <a:rect l="l" t="t" r="r" b="b"/>
              <a:pathLst>
                <a:path w="332422" h="461010">
                  <a:moveTo>
                    <a:pt x="130493" y="461010"/>
                  </a:moveTo>
                  <a:lnTo>
                    <a:pt x="130493" y="410528"/>
                  </a:lnTo>
                  <a:lnTo>
                    <a:pt x="0" y="410528"/>
                  </a:lnTo>
                  <a:lnTo>
                    <a:pt x="0" y="339090"/>
                  </a:lnTo>
                  <a:lnTo>
                    <a:pt x="130493" y="339090"/>
                  </a:lnTo>
                  <a:lnTo>
                    <a:pt x="130493" y="308610"/>
                  </a:lnTo>
                  <a:lnTo>
                    <a:pt x="0" y="308610"/>
                  </a:lnTo>
                  <a:lnTo>
                    <a:pt x="0" y="236220"/>
                  </a:lnTo>
                  <a:lnTo>
                    <a:pt x="130493" y="236220"/>
                  </a:lnTo>
                  <a:lnTo>
                    <a:pt x="130493" y="206692"/>
                  </a:lnTo>
                  <a:lnTo>
                    <a:pt x="0" y="0"/>
                  </a:lnTo>
                  <a:lnTo>
                    <a:pt x="83820" y="0"/>
                  </a:lnTo>
                  <a:lnTo>
                    <a:pt x="168593" y="140970"/>
                  </a:lnTo>
                  <a:lnTo>
                    <a:pt x="250508" y="0"/>
                  </a:lnTo>
                  <a:lnTo>
                    <a:pt x="332422" y="0"/>
                  </a:lnTo>
                  <a:lnTo>
                    <a:pt x="201930" y="206692"/>
                  </a:lnTo>
                  <a:lnTo>
                    <a:pt x="201930" y="236220"/>
                  </a:lnTo>
                  <a:lnTo>
                    <a:pt x="332422" y="236220"/>
                  </a:lnTo>
                  <a:lnTo>
                    <a:pt x="332422" y="308610"/>
                  </a:lnTo>
                  <a:lnTo>
                    <a:pt x="201930" y="308610"/>
                  </a:lnTo>
                  <a:lnTo>
                    <a:pt x="201930" y="339090"/>
                  </a:lnTo>
                  <a:lnTo>
                    <a:pt x="332422" y="339090"/>
                  </a:lnTo>
                  <a:lnTo>
                    <a:pt x="332422" y="410528"/>
                  </a:lnTo>
                  <a:lnTo>
                    <a:pt x="201930" y="410528"/>
                  </a:lnTo>
                  <a:lnTo>
                    <a:pt x="201930" y="461010"/>
                  </a:lnTo>
                  <a:lnTo>
                    <a:pt x="130493" y="4610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376" name="Graphic 210"/>
          <p:cNvGrpSpPr/>
          <p:nvPr/>
        </p:nvGrpSpPr>
        <p:grpSpPr>
          <a:xfrm>
            <a:off x="2836800" y="1866960"/>
            <a:ext cx="790560" cy="790560"/>
            <a:chOff x="2836800" y="1866960"/>
            <a:chExt cx="790560" cy="790560"/>
          </a:xfrm>
        </p:grpSpPr>
        <p:sp>
          <p:nvSpPr>
            <p:cNvPr id="2377" name="Freeform: Shape 15"/>
            <p:cNvSpPr/>
            <p:nvPr/>
          </p:nvSpPr>
          <p:spPr>
            <a:xfrm>
              <a:off x="2836800" y="1866960"/>
              <a:ext cx="790560" cy="790560"/>
            </a:xfrm>
            <a:custGeom>
              <a:avLst/>
              <a:gdLst/>
              <a:ahLst/>
              <a:rect l="l" t="t" r="r" b="b"/>
              <a:pathLst>
                <a:path w="1173479" h="1171574">
                  <a:moveTo>
                    <a:pt x="586740" y="1171575"/>
                  </a:moveTo>
                  <a:cubicBezTo>
                    <a:pt x="909638" y="1171575"/>
                    <a:pt x="1173480" y="908685"/>
                    <a:pt x="1173480" y="585787"/>
                  </a:cubicBezTo>
                  <a:cubicBezTo>
                    <a:pt x="1173480" y="262890"/>
                    <a:pt x="909638" y="0"/>
                    <a:pt x="586740" y="0"/>
                  </a:cubicBezTo>
                  <a:cubicBezTo>
                    <a:pt x="263842" y="0"/>
                    <a:pt x="0" y="262890"/>
                    <a:pt x="0" y="585787"/>
                  </a:cubicBezTo>
                  <a:cubicBezTo>
                    <a:pt x="0" y="907732"/>
                    <a:pt x="262890"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78" name="Freeform: Shape 16"/>
            <p:cNvSpPr/>
            <p:nvPr/>
          </p:nvSpPr>
          <p:spPr>
            <a:xfrm>
              <a:off x="2927160" y="1956240"/>
              <a:ext cx="609840" cy="610560"/>
            </a:xfrm>
            <a:custGeom>
              <a:avLst/>
              <a:gdLst/>
              <a:ahLst/>
              <a:rect l="l" t="t" r="r" b="b"/>
              <a:pathLst>
                <a:path w="904875" h="904875">
                  <a:moveTo>
                    <a:pt x="452438" y="904875"/>
                  </a:moveTo>
                  <a:cubicBezTo>
                    <a:pt x="701992" y="904875"/>
                    <a:pt x="904875" y="701993"/>
                    <a:pt x="904875" y="452438"/>
                  </a:cubicBezTo>
                  <a:cubicBezTo>
                    <a:pt x="904875" y="202882"/>
                    <a:pt x="701040" y="0"/>
                    <a:pt x="452438" y="0"/>
                  </a:cubicBezTo>
                  <a:cubicBezTo>
                    <a:pt x="202882" y="0"/>
                    <a:pt x="0" y="202882"/>
                    <a:pt x="0" y="452438"/>
                  </a:cubicBezTo>
                  <a:cubicBezTo>
                    <a:pt x="0" y="701993"/>
                    <a:pt x="202882"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79" name="Freeform: Shape 17"/>
            <p:cNvSpPr/>
            <p:nvPr/>
          </p:nvSpPr>
          <p:spPr>
            <a:xfrm>
              <a:off x="2945880" y="1956240"/>
              <a:ext cx="564840" cy="199800"/>
            </a:xfrm>
            <a:custGeom>
              <a:avLst/>
              <a:gdLst/>
              <a:ahLst/>
              <a:rect l="l" t="t" r="r" b="b"/>
              <a:pathLst>
                <a:path w="838200" h="296227">
                  <a:moveTo>
                    <a:pt x="424815" y="0"/>
                  </a:moveTo>
                  <a:cubicBezTo>
                    <a:pt x="608647" y="0"/>
                    <a:pt x="766763" y="109538"/>
                    <a:pt x="838200" y="266700"/>
                  </a:cubicBezTo>
                  <a:cubicBezTo>
                    <a:pt x="758190" y="126682"/>
                    <a:pt x="603885" y="32385"/>
                    <a:pt x="426720" y="32385"/>
                  </a:cubicBezTo>
                  <a:cubicBezTo>
                    <a:pt x="237172" y="32385"/>
                    <a:pt x="74295" y="140970"/>
                    <a:pt x="0" y="296228"/>
                  </a:cubicBezTo>
                  <a:cubicBezTo>
                    <a:pt x="62865" y="123825"/>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80" name="Freeform: Shape 18"/>
            <p:cNvSpPr/>
            <p:nvPr/>
          </p:nvSpPr>
          <p:spPr>
            <a:xfrm>
              <a:off x="3087000" y="2100240"/>
              <a:ext cx="277920" cy="337320"/>
            </a:xfrm>
            <a:custGeom>
              <a:avLst/>
              <a:gdLst/>
              <a:ahLst/>
              <a:rect l="l" t="t" r="r" b="b"/>
              <a:pathLst>
                <a:path w="412432" h="500062">
                  <a:moveTo>
                    <a:pt x="231457" y="239078"/>
                  </a:moveTo>
                  <a:lnTo>
                    <a:pt x="231457" y="403860"/>
                  </a:lnTo>
                  <a:cubicBezTo>
                    <a:pt x="231457" y="445770"/>
                    <a:pt x="248603" y="499110"/>
                    <a:pt x="279082" y="499110"/>
                  </a:cubicBezTo>
                  <a:cubicBezTo>
                    <a:pt x="309563" y="499110"/>
                    <a:pt x="341947" y="499110"/>
                    <a:pt x="359092" y="499110"/>
                  </a:cubicBezTo>
                  <a:cubicBezTo>
                    <a:pt x="376238" y="499110"/>
                    <a:pt x="394335" y="466725"/>
                    <a:pt x="401003" y="437198"/>
                  </a:cubicBezTo>
                  <a:cubicBezTo>
                    <a:pt x="407670" y="407670"/>
                    <a:pt x="412432" y="386715"/>
                    <a:pt x="412432" y="386715"/>
                  </a:cubicBezTo>
                  <a:lnTo>
                    <a:pt x="359092" y="343853"/>
                  </a:lnTo>
                  <a:cubicBezTo>
                    <a:pt x="359092" y="343853"/>
                    <a:pt x="353378"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8"/>
                  </a:lnTo>
                  <a:close/>
                  <a:moveTo>
                    <a:pt x="359092" y="97155"/>
                  </a:moveTo>
                  <a:lnTo>
                    <a:pt x="53340" y="97155"/>
                  </a:lnTo>
                  <a:lnTo>
                    <a:pt x="53340" y="0"/>
                  </a:lnTo>
                  <a:lnTo>
                    <a:pt x="359092" y="0"/>
                  </a:lnTo>
                  <a:lnTo>
                    <a:pt x="359092" y="9715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81" name="Freeform: Shape 19"/>
            <p:cNvSpPr/>
            <p:nvPr/>
          </p:nvSpPr>
          <p:spPr>
            <a:xfrm>
              <a:off x="3094200" y="2084760"/>
              <a:ext cx="277920" cy="337320"/>
            </a:xfrm>
            <a:custGeom>
              <a:avLst/>
              <a:gdLst/>
              <a:ahLst/>
              <a:rect l="l" t="t" r="r" b="b"/>
              <a:pathLst>
                <a:path w="412432" h="500062">
                  <a:moveTo>
                    <a:pt x="359092" y="97155"/>
                  </a:moveTo>
                  <a:lnTo>
                    <a:pt x="53340" y="97155"/>
                  </a:lnTo>
                  <a:lnTo>
                    <a:pt x="53340" y="0"/>
                  </a:lnTo>
                  <a:lnTo>
                    <a:pt x="359092" y="0"/>
                  </a:lnTo>
                  <a:lnTo>
                    <a:pt x="359092" y="97155"/>
                  </a:lnTo>
                  <a:close/>
                  <a:moveTo>
                    <a:pt x="231457" y="239077"/>
                  </a:moveTo>
                  <a:lnTo>
                    <a:pt x="231457" y="403860"/>
                  </a:lnTo>
                  <a:cubicBezTo>
                    <a:pt x="231457" y="445770"/>
                    <a:pt x="248602" y="499110"/>
                    <a:pt x="279082" y="499110"/>
                  </a:cubicBezTo>
                  <a:cubicBezTo>
                    <a:pt x="309563" y="499110"/>
                    <a:pt x="341947" y="499110"/>
                    <a:pt x="359092" y="499110"/>
                  </a:cubicBezTo>
                  <a:cubicBezTo>
                    <a:pt x="376238" y="499110"/>
                    <a:pt x="394335" y="466725"/>
                    <a:pt x="401002" y="437197"/>
                  </a:cubicBezTo>
                  <a:cubicBezTo>
                    <a:pt x="407670" y="407670"/>
                    <a:pt x="412432" y="386715"/>
                    <a:pt x="412432" y="386715"/>
                  </a:cubicBezTo>
                  <a:lnTo>
                    <a:pt x="359092" y="343852"/>
                  </a:lnTo>
                  <a:cubicBezTo>
                    <a:pt x="359092" y="343852"/>
                    <a:pt x="353377"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7"/>
                  </a:lnTo>
                  <a:close/>
                </a:path>
              </a:pathLst>
            </a:custGeom>
            <a:solidFill>
              <a:srgbClr val="f7db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382" name="Graphic 210"/>
          <p:cNvGrpSpPr/>
          <p:nvPr/>
        </p:nvGrpSpPr>
        <p:grpSpPr>
          <a:xfrm>
            <a:off x="4979880" y="1874880"/>
            <a:ext cx="792360" cy="790560"/>
            <a:chOff x="4979880" y="1874880"/>
            <a:chExt cx="792360" cy="790560"/>
          </a:xfrm>
        </p:grpSpPr>
        <p:sp>
          <p:nvSpPr>
            <p:cNvPr id="2383" name="Freeform: Shape 10"/>
            <p:cNvSpPr/>
            <p:nvPr/>
          </p:nvSpPr>
          <p:spPr>
            <a:xfrm>
              <a:off x="4979880" y="1874880"/>
              <a:ext cx="792360" cy="790560"/>
            </a:xfrm>
            <a:custGeom>
              <a:avLst/>
              <a:gdLst/>
              <a:ahLst/>
              <a:rect l="l" t="t" r="r" b="b"/>
              <a:pathLst>
                <a:path w="1173479" h="1171575">
                  <a:moveTo>
                    <a:pt x="586740" y="1171575"/>
                  </a:moveTo>
                  <a:cubicBezTo>
                    <a:pt x="909638" y="1171575"/>
                    <a:pt x="1173480" y="908685"/>
                    <a:pt x="1173480" y="585788"/>
                  </a:cubicBezTo>
                  <a:cubicBezTo>
                    <a:pt x="1173480" y="262890"/>
                    <a:pt x="909638" y="0"/>
                    <a:pt x="586740" y="0"/>
                  </a:cubicBezTo>
                  <a:cubicBezTo>
                    <a:pt x="263842" y="0"/>
                    <a:pt x="0" y="262890"/>
                    <a:pt x="0" y="585788"/>
                  </a:cubicBezTo>
                  <a:cubicBezTo>
                    <a:pt x="0" y="908685"/>
                    <a:pt x="263842"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84" name="Freeform: Shape 11"/>
            <p:cNvSpPr/>
            <p:nvPr/>
          </p:nvSpPr>
          <p:spPr>
            <a:xfrm>
              <a:off x="5070600" y="1964880"/>
              <a:ext cx="610920" cy="610560"/>
            </a:xfrm>
            <a:custGeom>
              <a:avLst/>
              <a:gdLst/>
              <a:ahLst/>
              <a:rect l="l" t="t" r="r" b="b"/>
              <a:pathLst>
                <a:path w="904875" h="904875">
                  <a:moveTo>
                    <a:pt x="452438" y="904875"/>
                  </a:moveTo>
                  <a:cubicBezTo>
                    <a:pt x="701993" y="904875"/>
                    <a:pt x="904875" y="701993"/>
                    <a:pt x="904875" y="452438"/>
                  </a:cubicBezTo>
                  <a:cubicBezTo>
                    <a:pt x="904875" y="202883"/>
                    <a:pt x="701040" y="0"/>
                    <a:pt x="452438" y="0"/>
                  </a:cubicBezTo>
                  <a:cubicBezTo>
                    <a:pt x="202883"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85" name="Freeform: Shape 12"/>
            <p:cNvSpPr/>
            <p:nvPr/>
          </p:nvSpPr>
          <p:spPr>
            <a:xfrm>
              <a:off x="5088960" y="1964880"/>
              <a:ext cx="565920" cy="199800"/>
            </a:xfrm>
            <a:custGeom>
              <a:avLst/>
              <a:gdLst/>
              <a:ahLst/>
              <a:rect l="l" t="t" r="r" b="b"/>
              <a:pathLst>
                <a:path w="838200"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86" name="Freeform: Shape 13"/>
            <p:cNvSpPr/>
            <p:nvPr/>
          </p:nvSpPr>
          <p:spPr>
            <a:xfrm>
              <a:off x="5233680" y="2110320"/>
              <a:ext cx="275040" cy="344160"/>
            </a:xfrm>
            <a:custGeom>
              <a:avLst/>
              <a:gdLst/>
              <a:ahLst/>
              <a:rect l="l" t="t" r="r" b="b"/>
              <a:pathLst>
                <a:path w="407670" h="510036">
                  <a:moveTo>
                    <a:pt x="10478" y="300487"/>
                  </a:moveTo>
                  <a:lnTo>
                    <a:pt x="100013" y="300487"/>
                  </a:lnTo>
                  <a:cubicBezTo>
                    <a:pt x="120967" y="413834"/>
                    <a:pt x="0" y="447172"/>
                    <a:pt x="0" y="447172"/>
                  </a:cubicBezTo>
                  <a:lnTo>
                    <a:pt x="0" y="510037"/>
                  </a:lnTo>
                  <a:lnTo>
                    <a:pt x="407670" y="510037"/>
                  </a:lnTo>
                  <a:lnTo>
                    <a:pt x="407670" y="412882"/>
                  </a:lnTo>
                  <a:lnTo>
                    <a:pt x="167640" y="412882"/>
                  </a:lnTo>
                  <a:cubicBezTo>
                    <a:pt x="196215" y="390974"/>
                    <a:pt x="225742" y="355732"/>
                    <a:pt x="223838" y="300487"/>
                  </a:cubicBezTo>
                  <a:lnTo>
                    <a:pt x="339090" y="300487"/>
                  </a:lnTo>
                  <a:lnTo>
                    <a:pt x="339090" y="231907"/>
                  </a:lnTo>
                  <a:lnTo>
                    <a:pt x="209550" y="231907"/>
                  </a:lnTo>
                  <a:cubicBezTo>
                    <a:pt x="191453" y="160469"/>
                    <a:pt x="195263" y="102367"/>
                    <a:pt x="262890" y="93794"/>
                  </a:cubicBezTo>
                  <a:cubicBezTo>
                    <a:pt x="313373" y="87127"/>
                    <a:pt x="360998" y="107129"/>
                    <a:pt x="360998" y="107129"/>
                  </a:cubicBezTo>
                  <a:lnTo>
                    <a:pt x="383858" y="19499"/>
                  </a:lnTo>
                  <a:cubicBezTo>
                    <a:pt x="383858" y="19499"/>
                    <a:pt x="276225" y="-26221"/>
                    <a:pt x="172403" y="22357"/>
                  </a:cubicBezTo>
                  <a:cubicBezTo>
                    <a:pt x="88583" y="61409"/>
                    <a:pt x="63817" y="120464"/>
                    <a:pt x="84773" y="232859"/>
                  </a:cubicBezTo>
                  <a:lnTo>
                    <a:pt x="11430" y="232859"/>
                  </a:lnTo>
                  <a:lnTo>
                    <a:pt x="11430" y="300487"/>
                  </a:lnTo>
                  <a:lnTo>
                    <a:pt x="10478" y="300487"/>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387" name="Freeform: Shape 14"/>
            <p:cNvSpPr/>
            <p:nvPr/>
          </p:nvSpPr>
          <p:spPr>
            <a:xfrm>
              <a:off x="5245560" y="2094120"/>
              <a:ext cx="273960" cy="344160"/>
            </a:xfrm>
            <a:custGeom>
              <a:avLst/>
              <a:gdLst/>
              <a:ahLst/>
              <a:rect l="l" t="t" r="r" b="b"/>
              <a:pathLst>
                <a:path w="405765" h="510304">
                  <a:moveTo>
                    <a:pt x="382905" y="19767"/>
                  </a:moveTo>
                  <a:lnTo>
                    <a:pt x="360045" y="107397"/>
                  </a:lnTo>
                  <a:cubicBezTo>
                    <a:pt x="360045" y="107397"/>
                    <a:pt x="313372" y="87395"/>
                    <a:pt x="261938" y="94062"/>
                  </a:cubicBezTo>
                  <a:cubicBezTo>
                    <a:pt x="194310" y="102635"/>
                    <a:pt x="190500" y="161690"/>
                    <a:pt x="208597" y="232175"/>
                  </a:cubicBezTo>
                  <a:lnTo>
                    <a:pt x="338138" y="232175"/>
                  </a:lnTo>
                  <a:lnTo>
                    <a:pt x="338138" y="300755"/>
                  </a:lnTo>
                  <a:lnTo>
                    <a:pt x="222885" y="300755"/>
                  </a:lnTo>
                  <a:cubicBezTo>
                    <a:pt x="224790" y="356000"/>
                    <a:pt x="195263" y="391242"/>
                    <a:pt x="166688" y="413150"/>
                  </a:cubicBezTo>
                  <a:lnTo>
                    <a:pt x="405765" y="413150"/>
                  </a:lnTo>
                  <a:lnTo>
                    <a:pt x="405765" y="510305"/>
                  </a:lnTo>
                  <a:lnTo>
                    <a:pt x="0" y="510305"/>
                  </a:lnTo>
                  <a:lnTo>
                    <a:pt x="0" y="447440"/>
                  </a:lnTo>
                  <a:cubicBezTo>
                    <a:pt x="0" y="447440"/>
                    <a:pt x="121920" y="414102"/>
                    <a:pt x="100965" y="300755"/>
                  </a:cubicBezTo>
                  <a:lnTo>
                    <a:pt x="11430" y="300755"/>
                  </a:lnTo>
                  <a:lnTo>
                    <a:pt x="11430" y="232175"/>
                  </a:lnTo>
                  <a:lnTo>
                    <a:pt x="84772" y="232175"/>
                  </a:lnTo>
                  <a:cubicBezTo>
                    <a:pt x="63817" y="119780"/>
                    <a:pt x="88583" y="60725"/>
                    <a:pt x="172403" y="21672"/>
                  </a:cubicBezTo>
                  <a:cubicBezTo>
                    <a:pt x="275272" y="-25953"/>
                    <a:pt x="382905" y="19767"/>
                    <a:pt x="382905" y="19767"/>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388" name="Graphic 461"/>
          <p:cNvGrpSpPr/>
          <p:nvPr/>
        </p:nvGrpSpPr>
        <p:grpSpPr>
          <a:xfrm>
            <a:off x="893880" y="3348000"/>
            <a:ext cx="1693800" cy="712800"/>
            <a:chOff x="893880" y="3348000"/>
            <a:chExt cx="1693800" cy="712800"/>
          </a:xfrm>
        </p:grpSpPr>
        <p:grpSp>
          <p:nvGrpSpPr>
            <p:cNvPr id="2389" name="Graphic 461"/>
            <p:cNvGrpSpPr/>
            <p:nvPr/>
          </p:nvGrpSpPr>
          <p:grpSpPr>
            <a:xfrm>
              <a:off x="893880" y="3823560"/>
              <a:ext cx="564840" cy="237240"/>
              <a:chOff x="893880" y="3823560"/>
              <a:chExt cx="564840" cy="237240"/>
            </a:xfrm>
          </p:grpSpPr>
          <p:sp>
            <p:nvSpPr>
              <p:cNvPr id="2390" name="Freeform: Shape 256"/>
              <p:cNvSpPr/>
              <p:nvPr/>
            </p:nvSpPr>
            <p:spPr>
              <a:xfrm>
                <a:off x="893880" y="3823560"/>
                <a:ext cx="564840" cy="237240"/>
              </a:xfrm>
              <a:custGeom>
                <a:avLst/>
                <a:gdLst/>
                <a:ahLst/>
                <a:rect l="l" t="t" r="r" b="b"/>
                <a:pathLst>
                  <a:path w="921067" h="386714">
                    <a:moveTo>
                      <a:pt x="159068" y="0"/>
                    </a:moveTo>
                    <a:lnTo>
                      <a:pt x="762000" y="0"/>
                    </a:lnTo>
                    <a:lnTo>
                      <a:pt x="921068"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391" name="Graphic 461" descr=""/>
              <p:cNvPicPr/>
              <p:nvPr/>
            </p:nvPicPr>
            <p:blipFill>
              <a:blip r:embed="rId2"/>
              <a:stretch/>
            </p:blipFill>
            <p:spPr>
              <a:xfrm>
                <a:off x="1030320" y="3840840"/>
                <a:ext cx="347400" cy="201240"/>
              </a:xfrm>
              <a:prstGeom prst="rect">
                <a:avLst/>
              </a:prstGeom>
              <a:ln w="0">
                <a:noFill/>
              </a:ln>
            </p:spPr>
          </p:pic>
        </p:grpSp>
        <p:grpSp>
          <p:nvGrpSpPr>
            <p:cNvPr id="2392" name="Graphic 461"/>
            <p:cNvGrpSpPr/>
            <p:nvPr/>
          </p:nvGrpSpPr>
          <p:grpSpPr>
            <a:xfrm>
              <a:off x="1458720" y="3823560"/>
              <a:ext cx="564120" cy="237240"/>
              <a:chOff x="1458720" y="3823560"/>
              <a:chExt cx="564120" cy="237240"/>
            </a:xfrm>
          </p:grpSpPr>
          <p:sp>
            <p:nvSpPr>
              <p:cNvPr id="2393" name="Freeform: Shape 251"/>
              <p:cNvSpPr/>
              <p:nvPr/>
            </p:nvSpPr>
            <p:spPr>
              <a:xfrm>
                <a:off x="1458720" y="382356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394" name="Graphic 461" descr=""/>
              <p:cNvPicPr/>
              <p:nvPr/>
            </p:nvPicPr>
            <p:blipFill>
              <a:blip r:embed="rId3"/>
              <a:stretch/>
            </p:blipFill>
            <p:spPr>
              <a:xfrm>
                <a:off x="1591200" y="3840840"/>
                <a:ext cx="347400" cy="201240"/>
              </a:xfrm>
              <a:prstGeom prst="rect">
                <a:avLst/>
              </a:prstGeom>
              <a:ln w="0">
                <a:noFill/>
              </a:ln>
            </p:spPr>
          </p:pic>
        </p:grpSp>
        <p:grpSp>
          <p:nvGrpSpPr>
            <p:cNvPr id="2395" name="Graphic 461"/>
            <p:cNvGrpSpPr/>
            <p:nvPr/>
          </p:nvGrpSpPr>
          <p:grpSpPr>
            <a:xfrm>
              <a:off x="2022840" y="3823560"/>
              <a:ext cx="564840" cy="237240"/>
              <a:chOff x="2022840" y="3823560"/>
              <a:chExt cx="564840" cy="237240"/>
            </a:xfrm>
          </p:grpSpPr>
          <p:sp>
            <p:nvSpPr>
              <p:cNvPr id="2396" name="Freeform: Shape 246"/>
              <p:cNvSpPr/>
              <p:nvPr/>
            </p:nvSpPr>
            <p:spPr>
              <a:xfrm>
                <a:off x="2022840" y="3823560"/>
                <a:ext cx="564840" cy="237240"/>
              </a:xfrm>
              <a:custGeom>
                <a:avLst/>
                <a:gdLst/>
                <a:ahLst/>
                <a:rect l="l" t="t" r="r" b="b"/>
                <a:pathLst>
                  <a:path w="921067" h="386714">
                    <a:moveTo>
                      <a:pt x="159067" y="0"/>
                    </a:moveTo>
                    <a:lnTo>
                      <a:pt x="762000" y="0"/>
                    </a:lnTo>
                    <a:lnTo>
                      <a:pt x="921068" y="386715"/>
                    </a:lnTo>
                    <a:lnTo>
                      <a:pt x="0" y="386715"/>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397" name="Graphic 461" descr=""/>
              <p:cNvPicPr/>
              <p:nvPr/>
            </p:nvPicPr>
            <p:blipFill>
              <a:blip r:embed="rId4"/>
              <a:stretch/>
            </p:blipFill>
            <p:spPr>
              <a:xfrm>
                <a:off x="2157840" y="3840840"/>
                <a:ext cx="347400" cy="201240"/>
              </a:xfrm>
              <a:prstGeom prst="rect">
                <a:avLst/>
              </a:prstGeom>
              <a:ln w="0">
                <a:noFill/>
              </a:ln>
            </p:spPr>
          </p:pic>
        </p:grpSp>
        <p:grpSp>
          <p:nvGrpSpPr>
            <p:cNvPr id="2398" name="Graphic 461"/>
            <p:cNvGrpSpPr/>
            <p:nvPr/>
          </p:nvGrpSpPr>
          <p:grpSpPr>
            <a:xfrm>
              <a:off x="1458720" y="3348000"/>
              <a:ext cx="564120" cy="237240"/>
              <a:chOff x="1458720" y="3348000"/>
              <a:chExt cx="564120" cy="237240"/>
            </a:xfrm>
          </p:grpSpPr>
          <p:sp>
            <p:nvSpPr>
              <p:cNvPr id="2399" name="Freeform: Shape 241"/>
              <p:cNvSpPr/>
              <p:nvPr/>
            </p:nvSpPr>
            <p:spPr>
              <a:xfrm>
                <a:off x="1458720" y="334800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00" name="Graphic 461" descr=""/>
              <p:cNvPicPr/>
              <p:nvPr/>
            </p:nvPicPr>
            <p:blipFill>
              <a:blip r:embed="rId5"/>
              <a:stretch/>
            </p:blipFill>
            <p:spPr>
              <a:xfrm>
                <a:off x="1591200" y="3364920"/>
                <a:ext cx="347400" cy="201240"/>
              </a:xfrm>
              <a:prstGeom prst="rect">
                <a:avLst/>
              </a:prstGeom>
              <a:ln w="0">
                <a:noFill/>
              </a:ln>
            </p:spPr>
          </p:pic>
        </p:grpSp>
        <p:grpSp>
          <p:nvGrpSpPr>
            <p:cNvPr id="2401" name="Graphic 461"/>
            <p:cNvGrpSpPr/>
            <p:nvPr/>
          </p:nvGrpSpPr>
          <p:grpSpPr>
            <a:xfrm>
              <a:off x="1175760" y="3585240"/>
              <a:ext cx="1128960" cy="237960"/>
              <a:chOff x="1175760" y="3585240"/>
              <a:chExt cx="1128960" cy="237960"/>
            </a:xfrm>
          </p:grpSpPr>
          <p:grpSp>
            <p:nvGrpSpPr>
              <p:cNvPr id="2402" name="Graphic 461"/>
              <p:cNvGrpSpPr/>
              <p:nvPr/>
            </p:nvGrpSpPr>
            <p:grpSpPr>
              <a:xfrm>
                <a:off x="1175760" y="3585240"/>
                <a:ext cx="564840" cy="237960"/>
                <a:chOff x="1175760" y="3585240"/>
                <a:chExt cx="564840" cy="237960"/>
              </a:xfrm>
            </p:grpSpPr>
            <p:sp>
              <p:nvSpPr>
                <p:cNvPr id="2403" name="Freeform: Shape 236"/>
                <p:cNvSpPr/>
                <p:nvPr/>
              </p:nvSpPr>
              <p:spPr>
                <a:xfrm>
                  <a:off x="1175760" y="3585240"/>
                  <a:ext cx="564840" cy="237960"/>
                </a:xfrm>
                <a:custGeom>
                  <a:avLst/>
                  <a:gdLst/>
                  <a:ahLst/>
                  <a:rect l="l" t="t" r="r" b="b"/>
                  <a:pathLst>
                    <a:path w="921067" h="387667">
                      <a:moveTo>
                        <a:pt x="159068" y="0"/>
                      </a:moveTo>
                      <a:lnTo>
                        <a:pt x="762000" y="0"/>
                      </a:lnTo>
                      <a:lnTo>
                        <a:pt x="921068" y="387668"/>
                      </a:lnTo>
                      <a:lnTo>
                        <a:pt x="0" y="387668"/>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04" name="Graphic 461" descr=""/>
                <p:cNvPicPr/>
                <p:nvPr/>
              </p:nvPicPr>
              <p:blipFill>
                <a:blip r:embed="rId6"/>
                <a:stretch/>
              </p:blipFill>
              <p:spPr>
                <a:xfrm>
                  <a:off x="1310400" y="3602520"/>
                  <a:ext cx="347400" cy="201600"/>
                </a:xfrm>
                <a:prstGeom prst="rect">
                  <a:avLst/>
                </a:prstGeom>
                <a:ln w="0">
                  <a:noFill/>
                </a:ln>
              </p:spPr>
            </p:pic>
          </p:grpSp>
          <p:grpSp>
            <p:nvGrpSpPr>
              <p:cNvPr id="2405" name="Graphic 461"/>
              <p:cNvGrpSpPr/>
              <p:nvPr/>
            </p:nvGrpSpPr>
            <p:grpSpPr>
              <a:xfrm>
                <a:off x="1740600" y="3585240"/>
                <a:ext cx="564120" cy="237960"/>
                <a:chOff x="1740600" y="3585240"/>
                <a:chExt cx="564120" cy="237960"/>
              </a:xfrm>
            </p:grpSpPr>
            <p:sp>
              <p:nvSpPr>
                <p:cNvPr id="2406" name="Freeform: Shape 231"/>
                <p:cNvSpPr/>
                <p:nvPr/>
              </p:nvSpPr>
              <p:spPr>
                <a:xfrm>
                  <a:off x="1740600" y="3585240"/>
                  <a:ext cx="564120" cy="237960"/>
                </a:xfrm>
                <a:custGeom>
                  <a:avLst/>
                  <a:gdLst/>
                  <a:ahLst/>
                  <a:rect l="l" t="t" r="r" b="b"/>
                  <a:pathLst>
                    <a:path w="920115" h="387667">
                      <a:moveTo>
                        <a:pt x="159067" y="0"/>
                      </a:moveTo>
                      <a:lnTo>
                        <a:pt x="761047" y="0"/>
                      </a:lnTo>
                      <a:lnTo>
                        <a:pt x="920115" y="387668"/>
                      </a:lnTo>
                      <a:lnTo>
                        <a:pt x="0" y="387668"/>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07" name="Graphic 461" descr=""/>
                <p:cNvPicPr/>
                <p:nvPr/>
              </p:nvPicPr>
              <p:blipFill>
                <a:blip r:embed="rId7"/>
                <a:stretch/>
              </p:blipFill>
              <p:spPr>
                <a:xfrm>
                  <a:off x="1877400" y="3602520"/>
                  <a:ext cx="347400" cy="201600"/>
                </a:xfrm>
                <a:prstGeom prst="rect">
                  <a:avLst/>
                </a:prstGeom>
                <a:ln w="0">
                  <a:noFill/>
                </a:ln>
              </p:spPr>
            </p:pic>
          </p:grpSp>
        </p:grpSp>
      </p:grpSp>
      <p:grpSp>
        <p:nvGrpSpPr>
          <p:cNvPr id="2408" name="Graphic 2"/>
          <p:cNvGrpSpPr/>
          <p:nvPr/>
        </p:nvGrpSpPr>
        <p:grpSpPr>
          <a:xfrm>
            <a:off x="4917960" y="3300480"/>
            <a:ext cx="763560" cy="731880"/>
            <a:chOff x="4917960" y="3300480"/>
            <a:chExt cx="763560" cy="731880"/>
          </a:xfrm>
        </p:grpSpPr>
        <p:grpSp>
          <p:nvGrpSpPr>
            <p:cNvPr id="2409" name="Graphic 2"/>
            <p:cNvGrpSpPr/>
            <p:nvPr/>
          </p:nvGrpSpPr>
          <p:grpSpPr>
            <a:xfrm>
              <a:off x="5031360" y="3661200"/>
              <a:ext cx="650160" cy="371160"/>
              <a:chOff x="5031360" y="3661200"/>
              <a:chExt cx="650160" cy="371160"/>
            </a:xfrm>
          </p:grpSpPr>
          <p:sp>
            <p:nvSpPr>
              <p:cNvPr id="2410" name="Freeform: Shape 299"/>
              <p:cNvSpPr/>
              <p:nvPr/>
            </p:nvSpPr>
            <p:spPr>
              <a:xfrm>
                <a:off x="5033880" y="3811320"/>
                <a:ext cx="64584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11" name="Freeform: Shape 300"/>
              <p:cNvSpPr/>
              <p:nvPr/>
            </p:nvSpPr>
            <p:spPr>
              <a:xfrm>
                <a:off x="5046480" y="3873600"/>
                <a:ext cx="581760" cy="1458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12" name="Freeform: Shape 301"/>
              <p:cNvSpPr/>
              <p:nvPr/>
            </p:nvSpPr>
            <p:spPr>
              <a:xfrm>
                <a:off x="5033880" y="3661200"/>
                <a:ext cx="64584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13" name="Freeform: Shape 302"/>
              <p:cNvSpPr/>
              <p:nvPr/>
            </p:nvSpPr>
            <p:spPr>
              <a:xfrm>
                <a:off x="5076360" y="3695400"/>
                <a:ext cx="560160" cy="23184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14" name="Freeform: Shape 303"/>
              <p:cNvSpPr/>
              <p:nvPr/>
            </p:nvSpPr>
            <p:spPr>
              <a:xfrm>
                <a:off x="5082840" y="3710520"/>
                <a:ext cx="5475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15" name="Graphic 2" descr=""/>
              <p:cNvPicPr/>
              <p:nvPr/>
            </p:nvPicPr>
            <p:blipFill>
              <a:blip r:embed="rId8"/>
              <a:stretch/>
            </p:blipFill>
            <p:spPr>
              <a:xfrm>
                <a:off x="5031360" y="3730680"/>
                <a:ext cx="650160" cy="158400"/>
              </a:xfrm>
              <a:prstGeom prst="rect">
                <a:avLst/>
              </a:prstGeom>
              <a:ln w="0">
                <a:noFill/>
              </a:ln>
            </p:spPr>
          </p:pic>
        </p:grpSp>
        <p:grpSp>
          <p:nvGrpSpPr>
            <p:cNvPr id="2416" name="Graphic 2"/>
            <p:cNvGrpSpPr/>
            <p:nvPr/>
          </p:nvGrpSpPr>
          <p:grpSpPr>
            <a:xfrm>
              <a:off x="4992840" y="3536640"/>
              <a:ext cx="648000" cy="371160"/>
              <a:chOff x="4992840" y="3536640"/>
              <a:chExt cx="648000" cy="371160"/>
            </a:xfrm>
          </p:grpSpPr>
          <p:sp>
            <p:nvSpPr>
              <p:cNvPr id="2417" name="Freeform: Shape 288"/>
              <p:cNvSpPr/>
              <p:nvPr/>
            </p:nvSpPr>
            <p:spPr>
              <a:xfrm>
                <a:off x="4993200" y="3686760"/>
                <a:ext cx="64764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18" name="Freeform: Shape 289"/>
              <p:cNvSpPr/>
              <p:nvPr/>
            </p:nvSpPr>
            <p:spPr>
              <a:xfrm>
                <a:off x="5006160" y="3749040"/>
                <a:ext cx="583200" cy="1458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19" name="Freeform: Shape 290"/>
              <p:cNvSpPr/>
              <p:nvPr/>
            </p:nvSpPr>
            <p:spPr>
              <a:xfrm>
                <a:off x="4993200" y="3536640"/>
                <a:ext cx="64764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20" name="Freeform: Shape 291"/>
              <p:cNvSpPr/>
              <p:nvPr/>
            </p:nvSpPr>
            <p:spPr>
              <a:xfrm>
                <a:off x="5036040" y="3570840"/>
                <a:ext cx="561960" cy="23184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21" name="Freeform: Shape 292"/>
              <p:cNvSpPr/>
              <p:nvPr/>
            </p:nvSpPr>
            <p:spPr>
              <a:xfrm>
                <a:off x="5042520" y="3585960"/>
                <a:ext cx="54900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22" name="Graphic 2" descr=""/>
              <p:cNvPicPr/>
              <p:nvPr/>
            </p:nvPicPr>
            <p:blipFill>
              <a:blip r:embed="rId9"/>
              <a:stretch/>
            </p:blipFill>
            <p:spPr>
              <a:xfrm>
                <a:off x="4992840" y="3602880"/>
                <a:ext cx="646200" cy="164520"/>
              </a:xfrm>
              <a:prstGeom prst="rect">
                <a:avLst/>
              </a:prstGeom>
              <a:ln w="0">
                <a:noFill/>
              </a:ln>
            </p:spPr>
          </p:pic>
        </p:grpSp>
        <p:grpSp>
          <p:nvGrpSpPr>
            <p:cNvPr id="2423" name="Graphic 2"/>
            <p:cNvGrpSpPr/>
            <p:nvPr/>
          </p:nvGrpSpPr>
          <p:grpSpPr>
            <a:xfrm>
              <a:off x="4962960" y="3414240"/>
              <a:ext cx="650160" cy="371160"/>
              <a:chOff x="4962960" y="3414240"/>
              <a:chExt cx="650160" cy="371160"/>
            </a:xfrm>
          </p:grpSpPr>
          <p:sp>
            <p:nvSpPr>
              <p:cNvPr id="2424" name="Freeform: Shape 277"/>
              <p:cNvSpPr/>
              <p:nvPr/>
            </p:nvSpPr>
            <p:spPr>
              <a:xfrm>
                <a:off x="4962960" y="3564360"/>
                <a:ext cx="64692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25" name="Freeform: Shape 278"/>
              <p:cNvSpPr/>
              <p:nvPr/>
            </p:nvSpPr>
            <p:spPr>
              <a:xfrm>
                <a:off x="4975560" y="3626640"/>
                <a:ext cx="584640" cy="14364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26" name="Freeform: Shape 279"/>
              <p:cNvSpPr/>
              <p:nvPr/>
            </p:nvSpPr>
            <p:spPr>
              <a:xfrm>
                <a:off x="4962960" y="3414240"/>
                <a:ext cx="64692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27" name="Freeform: Shape 280"/>
              <p:cNvSpPr/>
              <p:nvPr/>
            </p:nvSpPr>
            <p:spPr>
              <a:xfrm>
                <a:off x="5005800" y="3448440"/>
                <a:ext cx="56124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28" name="Freeform: Shape 281"/>
              <p:cNvSpPr/>
              <p:nvPr/>
            </p:nvSpPr>
            <p:spPr>
              <a:xfrm>
                <a:off x="5011920" y="3463560"/>
                <a:ext cx="548280" cy="2145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29" name="Graphic 2" descr=""/>
              <p:cNvPicPr/>
              <p:nvPr/>
            </p:nvPicPr>
            <p:blipFill>
              <a:blip r:embed="rId10"/>
              <a:stretch/>
            </p:blipFill>
            <p:spPr>
              <a:xfrm>
                <a:off x="4968000" y="3480840"/>
                <a:ext cx="645120" cy="164520"/>
              </a:xfrm>
              <a:prstGeom prst="rect">
                <a:avLst/>
              </a:prstGeom>
              <a:ln w="0">
                <a:noFill/>
              </a:ln>
            </p:spPr>
          </p:pic>
        </p:grpSp>
        <p:grpSp>
          <p:nvGrpSpPr>
            <p:cNvPr id="2430" name="Graphic 2"/>
            <p:cNvGrpSpPr/>
            <p:nvPr/>
          </p:nvGrpSpPr>
          <p:grpSpPr>
            <a:xfrm>
              <a:off x="4917960" y="3300480"/>
              <a:ext cx="650160" cy="371160"/>
              <a:chOff x="4917960" y="3300480"/>
              <a:chExt cx="650160" cy="371160"/>
            </a:xfrm>
          </p:grpSpPr>
          <p:sp>
            <p:nvSpPr>
              <p:cNvPr id="2431" name="Freeform: Shape 266"/>
              <p:cNvSpPr/>
              <p:nvPr/>
            </p:nvSpPr>
            <p:spPr>
              <a:xfrm>
                <a:off x="4917960" y="3450600"/>
                <a:ext cx="65016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32" name="Freeform: Shape 267"/>
              <p:cNvSpPr/>
              <p:nvPr/>
            </p:nvSpPr>
            <p:spPr>
              <a:xfrm>
                <a:off x="4930560" y="3512880"/>
                <a:ext cx="587880" cy="14364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33" name="Freeform: Shape 268"/>
              <p:cNvSpPr/>
              <p:nvPr/>
            </p:nvSpPr>
            <p:spPr>
              <a:xfrm>
                <a:off x="4917960" y="3300480"/>
                <a:ext cx="65016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34" name="Freeform: Shape 269"/>
              <p:cNvSpPr/>
              <p:nvPr/>
            </p:nvSpPr>
            <p:spPr>
              <a:xfrm>
                <a:off x="4960800" y="3334680"/>
                <a:ext cx="56412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35" name="Freeform: Shape 270"/>
              <p:cNvSpPr/>
              <p:nvPr/>
            </p:nvSpPr>
            <p:spPr>
              <a:xfrm>
                <a:off x="4967280" y="3349800"/>
                <a:ext cx="5511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36" name="Graphic 2" descr=""/>
              <p:cNvPicPr/>
              <p:nvPr/>
            </p:nvPicPr>
            <p:blipFill>
              <a:blip r:embed="rId11"/>
              <a:stretch/>
            </p:blipFill>
            <p:spPr>
              <a:xfrm>
                <a:off x="4919040" y="3371040"/>
                <a:ext cx="648720" cy="158400"/>
              </a:xfrm>
              <a:prstGeom prst="rect">
                <a:avLst/>
              </a:prstGeom>
              <a:ln w="0">
                <a:noFill/>
              </a:ln>
            </p:spPr>
          </p:pic>
        </p:grpSp>
      </p:grpSp>
      <p:grpSp>
        <p:nvGrpSpPr>
          <p:cNvPr id="2437" name="Graphic 236"/>
          <p:cNvGrpSpPr/>
          <p:nvPr/>
        </p:nvGrpSpPr>
        <p:grpSpPr>
          <a:xfrm>
            <a:off x="692280" y="4691160"/>
            <a:ext cx="747720" cy="901440"/>
            <a:chOff x="692280" y="4691160"/>
            <a:chExt cx="747720" cy="901440"/>
          </a:xfrm>
        </p:grpSpPr>
        <p:sp>
          <p:nvSpPr>
            <p:cNvPr id="2438" name="Freeform: Shape 147"/>
            <p:cNvSpPr/>
            <p:nvPr/>
          </p:nvSpPr>
          <p:spPr>
            <a:xfrm>
              <a:off x="692280" y="4691160"/>
              <a:ext cx="747720" cy="90144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39" name="Freeform: Shape 148"/>
            <p:cNvSpPr/>
            <p:nvPr/>
          </p:nvSpPr>
          <p:spPr>
            <a:xfrm>
              <a:off x="912960" y="4728600"/>
              <a:ext cx="494280" cy="831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40" name="Freeform: Shape 149"/>
            <p:cNvSpPr/>
            <p:nvPr/>
          </p:nvSpPr>
          <p:spPr>
            <a:xfrm>
              <a:off x="1045080" y="4897080"/>
              <a:ext cx="46080" cy="17100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41" name="Freeform: Shape 150"/>
            <p:cNvSpPr/>
            <p:nvPr/>
          </p:nvSpPr>
          <p:spPr>
            <a:xfrm>
              <a:off x="954000" y="4883400"/>
              <a:ext cx="212400" cy="2736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440" bIns="-19440" anchor="ctr">
              <a:noAutofit/>
            </a:bodyPr>
            <a:p>
              <a:endParaRPr b="0" lang="en-US" sz="1800" spc="-1" strike="noStrike">
                <a:solidFill>
                  <a:srgbClr val="313c3f"/>
                </a:solidFill>
                <a:latin typeface="Source Sans Pro"/>
              </a:endParaRPr>
            </a:p>
          </p:txBody>
        </p:sp>
        <p:sp>
          <p:nvSpPr>
            <p:cNvPr id="2442" name="Freeform: Shape 151"/>
            <p:cNvSpPr/>
            <p:nvPr/>
          </p:nvSpPr>
          <p:spPr>
            <a:xfrm>
              <a:off x="948240" y="4869360"/>
              <a:ext cx="21060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2443" name="Freeform: Shape 152"/>
            <p:cNvSpPr/>
            <p:nvPr/>
          </p:nvSpPr>
          <p:spPr>
            <a:xfrm>
              <a:off x="1049400" y="4898160"/>
              <a:ext cx="162720" cy="511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313c3f"/>
                </a:solidFill>
                <a:latin typeface="Source Sans Pro"/>
              </a:endParaRPr>
            </a:p>
          </p:txBody>
        </p:sp>
        <p:sp>
          <p:nvSpPr>
            <p:cNvPr id="2444" name="Freeform: Shape 153"/>
            <p:cNvSpPr/>
            <p:nvPr/>
          </p:nvSpPr>
          <p:spPr>
            <a:xfrm>
              <a:off x="943920" y="4899240"/>
              <a:ext cx="11808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45" name="Freeform: Shape 154"/>
            <p:cNvSpPr/>
            <p:nvPr/>
          </p:nvSpPr>
          <p:spPr>
            <a:xfrm>
              <a:off x="999000" y="4883760"/>
              <a:ext cx="87480" cy="17352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46" name="Freeform: Shape 155"/>
            <p:cNvSpPr/>
            <p:nvPr/>
          </p:nvSpPr>
          <p:spPr>
            <a:xfrm>
              <a:off x="953280" y="5107320"/>
              <a:ext cx="225000" cy="36288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447" name="Graphic 24"/>
          <p:cNvGrpSpPr/>
          <p:nvPr/>
        </p:nvGrpSpPr>
        <p:grpSpPr>
          <a:xfrm>
            <a:off x="1789200" y="4691160"/>
            <a:ext cx="747720" cy="900000"/>
            <a:chOff x="1789200" y="4691160"/>
            <a:chExt cx="747720" cy="900000"/>
          </a:xfrm>
        </p:grpSpPr>
        <p:sp>
          <p:nvSpPr>
            <p:cNvPr id="2448" name="Freeform: Shape 157"/>
            <p:cNvSpPr/>
            <p:nvPr/>
          </p:nvSpPr>
          <p:spPr>
            <a:xfrm>
              <a:off x="1789200" y="4691160"/>
              <a:ext cx="747720" cy="900000"/>
            </a:xfrm>
            <a:custGeom>
              <a:avLst/>
              <a:gdLst/>
              <a:ahLst/>
              <a:rect l="l" t="t" r="r" b="b"/>
              <a:pathLst>
                <a:path w="1300162" h="1568001">
                  <a:moveTo>
                    <a:pt x="804863" y="401955"/>
                  </a:moveTo>
                  <a:cubicBezTo>
                    <a:pt x="1089660" y="512445"/>
                    <a:pt x="1300163" y="900113"/>
                    <a:pt x="1300163" y="1177290"/>
                  </a:cubicBezTo>
                  <a:cubicBezTo>
                    <a:pt x="1300163" y="1355407"/>
                    <a:pt x="1191578" y="1496378"/>
                    <a:pt x="1054418" y="1546860"/>
                  </a:cubicBezTo>
                  <a:cubicBezTo>
                    <a:pt x="940118" y="1588770"/>
                    <a:pt x="811530" y="1555432"/>
                    <a:pt x="647700" y="1555432"/>
                  </a:cubicBezTo>
                  <a:cubicBezTo>
                    <a:pt x="494347" y="1555432"/>
                    <a:pt x="352425" y="1578293"/>
                    <a:pt x="241935" y="1546860"/>
                  </a:cubicBezTo>
                  <a:cubicBezTo>
                    <a:pt x="92393" y="1504950"/>
                    <a:pt x="0" y="1389698"/>
                    <a:pt x="0" y="1232535"/>
                  </a:cubicBezTo>
                  <a:cubicBezTo>
                    <a:pt x="0" y="838200"/>
                    <a:pt x="174307" y="645795"/>
                    <a:pt x="517207"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8" y="81915"/>
                    <a:pt x="903922" y="125730"/>
                  </a:cubicBezTo>
                  <a:cubicBezTo>
                    <a:pt x="826770" y="169545"/>
                    <a:pt x="762953" y="240030"/>
                    <a:pt x="772478" y="315278"/>
                  </a:cubicBezTo>
                  <a:cubicBezTo>
                    <a:pt x="778193" y="364808"/>
                    <a:pt x="780097"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49" name="Freeform: Shape 158"/>
            <p:cNvSpPr/>
            <p:nvPr/>
          </p:nvSpPr>
          <p:spPr>
            <a:xfrm>
              <a:off x="200916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1492"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2" y="667703"/>
                    <a:pt x="637222" y="534353"/>
                    <a:pt x="519113" y="444818"/>
                  </a:cubicBezTo>
                  <a:cubicBezTo>
                    <a:pt x="680085" y="614363"/>
                    <a:pt x="783907" y="863918"/>
                    <a:pt x="783907" y="1059180"/>
                  </a:cubicBezTo>
                  <a:cubicBezTo>
                    <a:pt x="783907" y="1385888"/>
                    <a:pt x="491490" y="1437323"/>
                    <a:pt x="131445" y="1437323"/>
                  </a:cubicBezTo>
                  <a:cubicBezTo>
                    <a:pt x="86677" y="1436370"/>
                    <a:pt x="42863"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50" name="Freeform: Shape 159"/>
            <p:cNvSpPr/>
            <p:nvPr/>
          </p:nvSpPr>
          <p:spPr>
            <a:xfrm>
              <a:off x="214164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51" name="Freeform: Shape 160"/>
            <p:cNvSpPr/>
            <p:nvPr/>
          </p:nvSpPr>
          <p:spPr>
            <a:xfrm>
              <a:off x="205056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91"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c3f"/>
                </a:solidFill>
                <a:latin typeface="Source Sans Pro"/>
              </a:endParaRPr>
            </a:p>
          </p:txBody>
        </p:sp>
        <p:sp>
          <p:nvSpPr>
            <p:cNvPr id="2452" name="Freeform: Shape 161"/>
            <p:cNvSpPr/>
            <p:nvPr/>
          </p:nvSpPr>
          <p:spPr>
            <a:xfrm>
              <a:off x="2044800" y="4869720"/>
              <a:ext cx="210600" cy="55080"/>
            </a:xfrm>
            <a:custGeom>
              <a:avLst/>
              <a:gdLst/>
              <a:ahLst/>
              <a:rect l="l" t="t" r="r" b="b"/>
              <a:pathLst>
                <a:path w="366429" h="95984">
                  <a:moveTo>
                    <a:pt x="10050"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6090"/>
                    <a:pt x="10050"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2453" name="Freeform: Shape 162"/>
            <p:cNvSpPr/>
            <p:nvPr/>
          </p:nvSpPr>
          <p:spPr>
            <a:xfrm>
              <a:off x="2146320" y="4897800"/>
              <a:ext cx="162720" cy="51840"/>
            </a:xfrm>
            <a:custGeom>
              <a:avLst/>
              <a:gdLst/>
              <a:ahLst/>
              <a:rect l="l" t="t" r="r" b="b"/>
              <a:pathLst>
                <a:path w="282902" h="90435">
                  <a:moveTo>
                    <a:pt x="182201" y="89089"/>
                  </a:moveTo>
                  <a:cubicBezTo>
                    <a:pt x="172676" y="90041"/>
                    <a:pt x="164104" y="90994"/>
                    <a:pt x="153626" y="90041"/>
                  </a:cubicBezTo>
                  <a:lnTo>
                    <a:pt x="153626" y="69086"/>
                  </a:lnTo>
                  <a:cubicBezTo>
                    <a:pt x="161246" y="70039"/>
                    <a:pt x="168866" y="70039"/>
                    <a:pt x="176486" y="69086"/>
                  </a:cubicBezTo>
                  <a:cubicBezTo>
                    <a:pt x="187916" y="67181"/>
                    <a:pt x="249829" y="57656"/>
                    <a:pt x="256496" y="49084"/>
                  </a:cubicBezTo>
                  <a:cubicBezTo>
                    <a:pt x="256496" y="49084"/>
                    <a:pt x="256496" y="48131"/>
                    <a:pt x="256496" y="48131"/>
                  </a:cubicBezTo>
                  <a:cubicBezTo>
                    <a:pt x="254591" y="41464"/>
                    <a:pt x="245066" y="35749"/>
                    <a:pt x="237446" y="33844"/>
                  </a:cubicBezTo>
                  <a:cubicBezTo>
                    <a:pt x="216491" y="26224"/>
                    <a:pt x="188869" y="28129"/>
                    <a:pt x="166961" y="30986"/>
                  </a:cubicBezTo>
                  <a:cubicBezTo>
                    <a:pt x="162199" y="31939"/>
                    <a:pt x="158389" y="31939"/>
                    <a:pt x="153626" y="32891"/>
                  </a:cubicBezTo>
                  <a:lnTo>
                    <a:pt x="153626" y="11936"/>
                  </a:lnTo>
                  <a:cubicBezTo>
                    <a:pt x="156484" y="11936"/>
                    <a:pt x="158389" y="10984"/>
                    <a:pt x="161246" y="10984"/>
                  </a:cubicBezTo>
                  <a:cubicBezTo>
                    <a:pt x="237446" y="-446"/>
                    <a:pt x="276499" y="22414"/>
                    <a:pt x="282214" y="44321"/>
                  </a:cubicBezTo>
                  <a:cubicBezTo>
                    <a:pt x="287929" y="65276"/>
                    <a:pt x="258401" y="77659"/>
                    <a:pt x="182201"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13c3f"/>
                </a:solidFill>
                <a:latin typeface="Source Sans Pro"/>
              </a:endParaRPr>
            </a:p>
          </p:txBody>
        </p:sp>
        <p:sp>
          <p:nvSpPr>
            <p:cNvPr id="2454" name="Freeform: Shape 163"/>
            <p:cNvSpPr/>
            <p:nvPr/>
          </p:nvSpPr>
          <p:spPr>
            <a:xfrm>
              <a:off x="2040480" y="4899240"/>
              <a:ext cx="118440" cy="97920"/>
            </a:xfrm>
            <a:custGeom>
              <a:avLst/>
              <a:gdLst/>
              <a:ahLst/>
              <a:rect l="l" t="t" r="r" b="b"/>
              <a:pathLst>
                <a:path w="206056" h="171053">
                  <a:moveTo>
                    <a:pt x="90752" y="23750"/>
                  </a:moveTo>
                  <a:cubicBezTo>
                    <a:pt x="134567" y="5652"/>
                    <a:pt x="184097" y="-2920"/>
                    <a:pt x="200289" y="890"/>
                  </a:cubicBezTo>
                  <a:cubicBezTo>
                    <a:pt x="228864" y="7557"/>
                    <a:pt x="143139"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4"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4" y="38037"/>
                    <a:pt x="90752" y="23750"/>
                  </a:cubicBezTo>
                  <a:lnTo>
                    <a:pt x="90752" y="47562"/>
                  </a:lnTo>
                  <a:cubicBezTo>
                    <a:pt x="71702" y="57087"/>
                    <a:pt x="50747" y="70422"/>
                    <a:pt x="43127" y="87567"/>
                  </a:cubicBezTo>
                  <a:cubicBezTo>
                    <a:pt x="39317" y="96140"/>
                    <a:pt x="21220" y="141860"/>
                    <a:pt x="28839" y="149480"/>
                  </a:cubicBezTo>
                  <a:cubicBezTo>
                    <a:pt x="28839" y="149480"/>
                    <a:pt x="29792" y="149480"/>
                    <a:pt x="29792" y="149480"/>
                  </a:cubicBezTo>
                  <a:cubicBezTo>
                    <a:pt x="38364" y="151385"/>
                    <a:pt x="48842" y="147575"/>
                    <a:pt x="55510" y="143765"/>
                  </a:cubicBezTo>
                  <a:cubicBezTo>
                    <a:pt x="71702" y="135192"/>
                    <a:pt x="83132" y="119952"/>
                    <a:pt x="89799" y="105665"/>
                  </a:cubicBezTo>
                  <a:lnTo>
                    <a:pt x="89799" y="147575"/>
                  </a:lnTo>
                  <a:cubicBezTo>
                    <a:pt x="66939" y="168530"/>
                    <a:pt x="40270" y="174245"/>
                    <a:pt x="21220" y="169482"/>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55" name="Freeform: Shape 164"/>
            <p:cNvSpPr/>
            <p:nvPr/>
          </p:nvSpPr>
          <p:spPr>
            <a:xfrm>
              <a:off x="2095200" y="4883400"/>
              <a:ext cx="87840" cy="173880"/>
            </a:xfrm>
            <a:custGeom>
              <a:avLst/>
              <a:gdLst/>
              <a:ahLst/>
              <a:rect l="l" t="t" r="r" b="b"/>
              <a:pathLst>
                <a:path w="153012" h="303264">
                  <a:moveTo>
                    <a:pt x="145393" y="30849"/>
                  </a:moveTo>
                  <a:cubicBezTo>
                    <a:pt x="37760" y="79427"/>
                    <a:pt x="40618" y="208014"/>
                    <a:pt x="41571" y="288024"/>
                  </a:cubicBezTo>
                  <a:cubicBezTo>
                    <a:pt x="41571" y="296597"/>
                    <a:pt x="32998" y="303264"/>
                    <a:pt x="21568" y="303264"/>
                  </a:cubicBezTo>
                  <a:cubicBezTo>
                    <a:pt x="10138" y="303264"/>
                    <a:pt x="1566" y="296597"/>
                    <a:pt x="613" y="288024"/>
                  </a:cubicBezTo>
                  <a:cubicBezTo>
                    <a:pt x="-340" y="196584"/>
                    <a:pt x="-11769" y="46089"/>
                    <a:pt x="125391" y="369"/>
                  </a:cubicBezTo>
                  <a:cubicBezTo>
                    <a:pt x="135868" y="-1536"/>
                    <a:pt x="147298" y="4179"/>
                    <a:pt x="149203" y="11799"/>
                  </a:cubicBezTo>
                  <a:cubicBezTo>
                    <a:pt x="153013" y="21324"/>
                    <a:pt x="156823"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56" name="Freeform: Shape 165"/>
            <p:cNvSpPr/>
            <p:nvPr/>
          </p:nvSpPr>
          <p:spPr>
            <a:xfrm>
              <a:off x="2062080" y="5119200"/>
              <a:ext cx="208080" cy="286920"/>
            </a:xfrm>
            <a:custGeom>
              <a:avLst/>
              <a:gdLst/>
              <a:ahLst/>
              <a:rect l="l" t="t" r="r" b="b"/>
              <a:pathLst>
                <a:path w="361950" h="500062">
                  <a:moveTo>
                    <a:pt x="141923" y="500062"/>
                  </a:moveTo>
                  <a:lnTo>
                    <a:pt x="141923" y="445770"/>
                  </a:lnTo>
                  <a:lnTo>
                    <a:pt x="0" y="445770"/>
                  </a:lnTo>
                  <a:lnTo>
                    <a:pt x="0" y="367665"/>
                  </a:lnTo>
                  <a:lnTo>
                    <a:pt x="141923" y="367665"/>
                  </a:lnTo>
                  <a:lnTo>
                    <a:pt x="141923" y="334327"/>
                  </a:lnTo>
                  <a:lnTo>
                    <a:pt x="0" y="334327"/>
                  </a:lnTo>
                  <a:lnTo>
                    <a:pt x="0" y="256223"/>
                  </a:lnTo>
                  <a:lnTo>
                    <a:pt x="141923" y="256223"/>
                  </a:lnTo>
                  <a:lnTo>
                    <a:pt x="141923" y="223837"/>
                  </a:lnTo>
                  <a:lnTo>
                    <a:pt x="0" y="0"/>
                  </a:lnTo>
                  <a:lnTo>
                    <a:pt x="91440" y="0"/>
                  </a:lnTo>
                  <a:lnTo>
                    <a:pt x="182880" y="152400"/>
                  </a:lnTo>
                  <a:lnTo>
                    <a:pt x="272415" y="0"/>
                  </a:lnTo>
                  <a:lnTo>
                    <a:pt x="361950" y="0"/>
                  </a:lnTo>
                  <a:lnTo>
                    <a:pt x="220028" y="223837"/>
                  </a:lnTo>
                  <a:lnTo>
                    <a:pt x="220028" y="256223"/>
                  </a:lnTo>
                  <a:lnTo>
                    <a:pt x="361950" y="256223"/>
                  </a:lnTo>
                  <a:lnTo>
                    <a:pt x="361950" y="334327"/>
                  </a:lnTo>
                  <a:lnTo>
                    <a:pt x="220028" y="334327"/>
                  </a:lnTo>
                  <a:lnTo>
                    <a:pt x="220028" y="367665"/>
                  </a:lnTo>
                  <a:lnTo>
                    <a:pt x="361950" y="367665"/>
                  </a:lnTo>
                  <a:lnTo>
                    <a:pt x="361950" y="445770"/>
                  </a:lnTo>
                  <a:lnTo>
                    <a:pt x="220028" y="445770"/>
                  </a:lnTo>
                  <a:lnTo>
                    <a:pt x="220028" y="500062"/>
                  </a:lnTo>
                  <a:lnTo>
                    <a:pt x="141923" y="500062"/>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457" name="Graphic 24"/>
          <p:cNvGrpSpPr/>
          <p:nvPr/>
        </p:nvGrpSpPr>
        <p:grpSpPr>
          <a:xfrm>
            <a:off x="3983040" y="4691160"/>
            <a:ext cx="749160" cy="900000"/>
            <a:chOff x="3983040" y="4691160"/>
            <a:chExt cx="749160" cy="900000"/>
          </a:xfrm>
        </p:grpSpPr>
        <p:sp>
          <p:nvSpPr>
            <p:cNvPr id="2458" name="Freeform: Shape 167"/>
            <p:cNvSpPr/>
            <p:nvPr/>
          </p:nvSpPr>
          <p:spPr>
            <a:xfrm>
              <a:off x="3983040" y="4691160"/>
              <a:ext cx="749160" cy="900000"/>
            </a:xfrm>
            <a:custGeom>
              <a:avLst/>
              <a:gdLst/>
              <a:ahLst/>
              <a:rect l="l" t="t" r="r" b="b"/>
              <a:pathLst>
                <a:path w="1300166" h="1568002">
                  <a:moveTo>
                    <a:pt x="804866" y="401955"/>
                  </a:moveTo>
                  <a:cubicBezTo>
                    <a:pt x="1089664" y="512445"/>
                    <a:pt x="1300166" y="900113"/>
                    <a:pt x="1300166" y="1177290"/>
                  </a:cubicBezTo>
                  <a:cubicBezTo>
                    <a:pt x="1300166" y="1355408"/>
                    <a:pt x="1191581" y="1496378"/>
                    <a:pt x="1054421" y="1546860"/>
                  </a:cubicBezTo>
                  <a:cubicBezTo>
                    <a:pt x="940121" y="1588770"/>
                    <a:pt x="811534" y="1555433"/>
                    <a:pt x="647704" y="1555433"/>
                  </a:cubicBezTo>
                  <a:cubicBezTo>
                    <a:pt x="494351" y="1555433"/>
                    <a:pt x="352429" y="1578293"/>
                    <a:pt x="241939" y="1546860"/>
                  </a:cubicBezTo>
                  <a:cubicBezTo>
                    <a:pt x="92396" y="1504950"/>
                    <a:pt x="4" y="1389698"/>
                    <a:pt x="4" y="1232535"/>
                  </a:cubicBezTo>
                  <a:cubicBezTo>
                    <a:pt x="-949" y="838200"/>
                    <a:pt x="173359" y="646748"/>
                    <a:pt x="516259" y="401955"/>
                  </a:cubicBezTo>
                  <a:cubicBezTo>
                    <a:pt x="604841" y="339090"/>
                    <a:pt x="414341" y="149543"/>
                    <a:pt x="359096" y="80010"/>
                  </a:cubicBezTo>
                  <a:cubicBezTo>
                    <a:pt x="345761" y="62865"/>
                    <a:pt x="311471" y="31433"/>
                    <a:pt x="345761" y="39053"/>
                  </a:cubicBezTo>
                  <a:cubicBezTo>
                    <a:pt x="437201" y="60960"/>
                    <a:pt x="515306" y="53340"/>
                    <a:pt x="595316" y="18098"/>
                  </a:cubicBezTo>
                  <a:cubicBezTo>
                    <a:pt x="664849" y="14288"/>
                    <a:pt x="650561" y="111443"/>
                    <a:pt x="797246" y="45720"/>
                  </a:cubicBezTo>
                  <a:cubicBezTo>
                    <a:pt x="932501" y="-14288"/>
                    <a:pt x="864874" y="72390"/>
                    <a:pt x="1018226" y="0"/>
                  </a:cubicBezTo>
                  <a:cubicBezTo>
                    <a:pt x="984889" y="61913"/>
                    <a:pt x="981079" y="81915"/>
                    <a:pt x="902974" y="125730"/>
                  </a:cubicBezTo>
                  <a:cubicBezTo>
                    <a:pt x="825821" y="169545"/>
                    <a:pt x="762004" y="240030"/>
                    <a:pt x="771529" y="315278"/>
                  </a:cubicBezTo>
                  <a:cubicBezTo>
                    <a:pt x="778196" y="363855"/>
                    <a:pt x="781054" y="359093"/>
                    <a:pt x="804866"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59" name="Freeform: Shape 168"/>
            <p:cNvSpPr/>
            <p:nvPr/>
          </p:nvSpPr>
          <p:spPr>
            <a:xfrm>
              <a:off x="4203720" y="4728600"/>
              <a:ext cx="495720" cy="83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2"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0992" y="163830"/>
                    <a:pt x="393383" y="80010"/>
                    <a:pt x="485775" y="27623"/>
                  </a:cubicBezTo>
                  <a:cubicBezTo>
                    <a:pt x="500063" y="18098"/>
                    <a:pt x="511492" y="11430"/>
                    <a:pt x="520065" y="5715"/>
                  </a:cubicBezTo>
                  <a:close/>
                  <a:moveTo>
                    <a:pt x="0" y="1433513"/>
                  </a:moveTo>
                  <a:cubicBezTo>
                    <a:pt x="91440" y="1445895"/>
                    <a:pt x="187642" y="1446848"/>
                    <a:pt x="263842" y="1446848"/>
                  </a:cubicBezTo>
                  <a:cubicBezTo>
                    <a:pt x="600075" y="1446848"/>
                    <a:pt x="860108" y="1407795"/>
                    <a:pt x="860108" y="1111568"/>
                  </a:cubicBezTo>
                  <a:cubicBezTo>
                    <a:pt x="860108" y="998220"/>
                    <a:pt x="824865" y="877253"/>
                    <a:pt x="774383" y="771525"/>
                  </a:cubicBezTo>
                  <a:cubicBezTo>
                    <a:pt x="724853" y="666750"/>
                    <a:pt x="637222" y="533400"/>
                    <a:pt x="519113" y="443865"/>
                  </a:cubicBezTo>
                  <a:cubicBezTo>
                    <a:pt x="680085" y="613410"/>
                    <a:pt x="783908" y="862965"/>
                    <a:pt x="783908" y="1058228"/>
                  </a:cubicBezTo>
                  <a:cubicBezTo>
                    <a:pt x="783908" y="1384935"/>
                    <a:pt x="491490" y="1436370"/>
                    <a:pt x="131445" y="1436370"/>
                  </a:cubicBezTo>
                  <a:cubicBezTo>
                    <a:pt x="86677"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60" name="Freeform: Shape 169"/>
            <p:cNvSpPr/>
            <p:nvPr/>
          </p:nvSpPr>
          <p:spPr>
            <a:xfrm>
              <a:off x="43362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61" name="Freeform: Shape 170"/>
            <p:cNvSpPr/>
            <p:nvPr/>
          </p:nvSpPr>
          <p:spPr>
            <a:xfrm>
              <a:off x="4244760" y="4883040"/>
              <a:ext cx="213120" cy="27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2385"/>
                  </a:lnTo>
                  <a:cubicBezTo>
                    <a:pt x="5806" y="32385"/>
                    <a:pt x="-862" y="24765"/>
                    <a:pt x="91" y="16193"/>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c3f"/>
                </a:solidFill>
                <a:latin typeface="Source Sans Pro"/>
              </a:endParaRPr>
            </a:p>
          </p:txBody>
        </p:sp>
        <p:sp>
          <p:nvSpPr>
            <p:cNvPr id="2462" name="Freeform: Shape 171"/>
            <p:cNvSpPr/>
            <p:nvPr/>
          </p:nvSpPr>
          <p:spPr>
            <a:xfrm>
              <a:off x="4239000" y="4869000"/>
              <a:ext cx="21096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2463" name="Freeform: Shape 172"/>
            <p:cNvSpPr/>
            <p:nvPr/>
          </p:nvSpPr>
          <p:spPr>
            <a:xfrm>
              <a:off x="4340880" y="4897800"/>
              <a:ext cx="163080" cy="51120"/>
            </a:xfrm>
            <a:custGeom>
              <a:avLst/>
              <a:gdLst/>
              <a:ahLst/>
              <a:rect l="l" t="t" r="r" b="b"/>
              <a:pathLst>
                <a:path w="283105" h="89483">
                  <a:moveTo>
                    <a:pt x="182202" y="88136"/>
                  </a:moveTo>
                  <a:cubicBezTo>
                    <a:pt x="172677" y="89089"/>
                    <a:pt x="164104" y="90041"/>
                    <a:pt x="153627" y="89089"/>
                  </a:cubicBezTo>
                  <a:lnTo>
                    <a:pt x="153627"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7" y="31939"/>
                  </a:cubicBezTo>
                  <a:lnTo>
                    <a:pt x="153627" y="10984"/>
                  </a:lnTo>
                  <a:cubicBezTo>
                    <a:pt x="156484" y="10984"/>
                    <a:pt x="158389" y="10031"/>
                    <a:pt x="161246" y="10031"/>
                  </a:cubicBezTo>
                  <a:cubicBezTo>
                    <a:pt x="237446" y="-1399"/>
                    <a:pt x="276499" y="21461"/>
                    <a:pt x="282214" y="43369"/>
                  </a:cubicBezTo>
                  <a:cubicBezTo>
                    <a:pt x="288882" y="64324"/>
                    <a:pt x="258402" y="76706"/>
                    <a:pt x="182202" y="88136"/>
                  </a:cubicBezTo>
                  <a:close/>
                  <a:moveTo>
                    <a:pt x="153627" y="89089"/>
                  </a:moveTo>
                  <a:cubicBezTo>
                    <a:pt x="83141" y="83374"/>
                    <a:pt x="5036" y="26224"/>
                    <a:pt x="274" y="7174"/>
                  </a:cubicBezTo>
                  <a:cubicBezTo>
                    <a:pt x="-5441" y="-13781"/>
                    <a:pt x="79332" y="18604"/>
                    <a:pt x="153627" y="10984"/>
                  </a:cubicBezTo>
                  <a:lnTo>
                    <a:pt x="153627" y="31939"/>
                  </a:lnTo>
                  <a:cubicBezTo>
                    <a:pt x="146959" y="32891"/>
                    <a:pt x="140291"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313c3f"/>
                </a:solidFill>
                <a:latin typeface="Source Sans Pro"/>
              </a:endParaRPr>
            </a:p>
          </p:txBody>
        </p:sp>
        <p:sp>
          <p:nvSpPr>
            <p:cNvPr id="2464" name="Freeform: Shape 173"/>
            <p:cNvSpPr/>
            <p:nvPr/>
          </p:nvSpPr>
          <p:spPr>
            <a:xfrm>
              <a:off x="4235040" y="4898880"/>
              <a:ext cx="11844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6610"/>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65" name="Freeform: Shape 174"/>
            <p:cNvSpPr/>
            <p:nvPr/>
          </p:nvSpPr>
          <p:spPr>
            <a:xfrm>
              <a:off x="4290120" y="488268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66" name="Freeform: Shape 175"/>
            <p:cNvSpPr/>
            <p:nvPr/>
          </p:nvSpPr>
          <p:spPr>
            <a:xfrm>
              <a:off x="4241880" y="5140080"/>
              <a:ext cx="191520" cy="238680"/>
            </a:xfrm>
            <a:custGeom>
              <a:avLst/>
              <a:gdLst/>
              <a:ahLst/>
              <a:rect l="l" t="t" r="r" b="b"/>
              <a:pathLst>
                <a:path w="332422" h="416009">
                  <a:moveTo>
                    <a:pt x="311467" y="15960"/>
                  </a:moveTo>
                  <a:lnTo>
                    <a:pt x="293370" y="87397"/>
                  </a:lnTo>
                  <a:cubicBezTo>
                    <a:pt x="293370" y="87397"/>
                    <a:pt x="255270" y="71205"/>
                    <a:pt x="213360" y="75967"/>
                  </a:cubicBezTo>
                  <a:cubicBezTo>
                    <a:pt x="158115" y="82635"/>
                    <a:pt x="155258" y="131212"/>
                    <a:pt x="169545"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3" y="189315"/>
                  </a:lnTo>
                  <a:cubicBezTo>
                    <a:pt x="52388" y="97875"/>
                    <a:pt x="72390" y="49297"/>
                    <a:pt x="140970" y="17865"/>
                  </a:cubicBezTo>
                  <a:cubicBezTo>
                    <a:pt x="223838" y="-21188"/>
                    <a:pt x="311467" y="15960"/>
                    <a:pt x="311467"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467" name="Graphic 24"/>
          <p:cNvGrpSpPr/>
          <p:nvPr/>
        </p:nvGrpSpPr>
        <p:grpSpPr>
          <a:xfrm>
            <a:off x="2886120" y="4691160"/>
            <a:ext cx="747720" cy="900000"/>
            <a:chOff x="2886120" y="4691160"/>
            <a:chExt cx="747720" cy="900000"/>
          </a:xfrm>
        </p:grpSpPr>
        <p:sp>
          <p:nvSpPr>
            <p:cNvPr id="2468" name="Freeform: Shape 177"/>
            <p:cNvSpPr/>
            <p:nvPr/>
          </p:nvSpPr>
          <p:spPr>
            <a:xfrm>
              <a:off x="2886120" y="4691160"/>
              <a:ext cx="747720" cy="900000"/>
            </a:xfrm>
            <a:custGeom>
              <a:avLst/>
              <a:gdLst/>
              <a:ahLst/>
              <a:rect l="l" t="t" r="r" b="b"/>
              <a:pathLst>
                <a:path w="1300162" h="1568001">
                  <a:moveTo>
                    <a:pt x="804863" y="401955"/>
                  </a:moveTo>
                  <a:cubicBezTo>
                    <a:pt x="1089660" y="512445"/>
                    <a:pt x="1300162" y="900113"/>
                    <a:pt x="1300162" y="1177290"/>
                  </a:cubicBezTo>
                  <a:cubicBezTo>
                    <a:pt x="1300162" y="1355407"/>
                    <a:pt x="1191577" y="1496378"/>
                    <a:pt x="1054418" y="1546860"/>
                  </a:cubicBezTo>
                  <a:cubicBezTo>
                    <a:pt x="940118" y="1588770"/>
                    <a:pt x="811530" y="1555432"/>
                    <a:pt x="647700" y="1555432"/>
                  </a:cubicBezTo>
                  <a:cubicBezTo>
                    <a:pt x="494347" y="1555432"/>
                    <a:pt x="352425" y="1578293"/>
                    <a:pt x="241935" y="1546860"/>
                  </a:cubicBezTo>
                  <a:cubicBezTo>
                    <a:pt x="92392" y="1504950"/>
                    <a:pt x="0" y="1389698"/>
                    <a:pt x="0" y="1232535"/>
                  </a:cubicBezTo>
                  <a:cubicBezTo>
                    <a:pt x="0" y="838200"/>
                    <a:pt x="174308" y="645795"/>
                    <a:pt x="517208"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7" y="81915"/>
                    <a:pt x="903922" y="125730"/>
                  </a:cubicBezTo>
                  <a:cubicBezTo>
                    <a:pt x="826770" y="169545"/>
                    <a:pt x="762952" y="240030"/>
                    <a:pt x="772477" y="315278"/>
                  </a:cubicBezTo>
                  <a:cubicBezTo>
                    <a:pt x="778193" y="364808"/>
                    <a:pt x="781050"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69" name="Freeform: Shape 178"/>
            <p:cNvSpPr/>
            <p:nvPr/>
          </p:nvSpPr>
          <p:spPr>
            <a:xfrm>
              <a:off x="310680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0540"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3" y="667703"/>
                    <a:pt x="637222" y="534353"/>
                    <a:pt x="519113" y="444818"/>
                  </a:cubicBezTo>
                  <a:cubicBezTo>
                    <a:pt x="680085" y="614363"/>
                    <a:pt x="783907" y="863918"/>
                    <a:pt x="783907" y="1059180"/>
                  </a:cubicBezTo>
                  <a:cubicBezTo>
                    <a:pt x="783907" y="1385888"/>
                    <a:pt x="491490" y="1437323"/>
                    <a:pt x="131445" y="1437323"/>
                  </a:cubicBezTo>
                  <a:cubicBezTo>
                    <a:pt x="86677"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70" name="Freeform: Shape 179"/>
            <p:cNvSpPr/>
            <p:nvPr/>
          </p:nvSpPr>
          <p:spPr>
            <a:xfrm>
              <a:off x="323856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71" name="Freeform: Shape 180"/>
            <p:cNvSpPr/>
            <p:nvPr/>
          </p:nvSpPr>
          <p:spPr>
            <a:xfrm>
              <a:off x="314748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c3f"/>
                </a:solidFill>
                <a:latin typeface="Source Sans Pro"/>
              </a:endParaRPr>
            </a:p>
          </p:txBody>
        </p:sp>
        <p:sp>
          <p:nvSpPr>
            <p:cNvPr id="2472" name="Freeform: Shape 181"/>
            <p:cNvSpPr/>
            <p:nvPr/>
          </p:nvSpPr>
          <p:spPr>
            <a:xfrm>
              <a:off x="3142080" y="4869720"/>
              <a:ext cx="210600" cy="55080"/>
            </a:xfrm>
            <a:custGeom>
              <a:avLst/>
              <a:gdLst/>
              <a:ahLst/>
              <a:rect l="l" t="t" r="r" b="b"/>
              <a:pathLst>
                <a:path w="366585" h="95984">
                  <a:moveTo>
                    <a:pt x="10205" y="65137"/>
                  </a:moveTo>
                  <a:lnTo>
                    <a:pt x="340723" y="367"/>
                  </a:lnTo>
                  <a:cubicBezTo>
                    <a:pt x="349295" y="-1538"/>
                    <a:pt x="360725" y="4177"/>
                    <a:pt x="364535" y="12750"/>
                  </a:cubicBezTo>
                  <a:cubicBezTo>
                    <a:pt x="369298" y="21322"/>
                    <a:pt x="365488" y="28942"/>
                    <a:pt x="355963" y="30847"/>
                  </a:cubicBezTo>
                  <a:lnTo>
                    <a:pt x="25445" y="95617"/>
                  </a:lnTo>
                  <a:cubicBezTo>
                    <a:pt x="16873" y="97522"/>
                    <a:pt x="5443" y="91807"/>
                    <a:pt x="1633" y="83235"/>
                  </a:cubicBezTo>
                  <a:cubicBezTo>
                    <a:pt x="-2177" y="74662"/>
                    <a:pt x="680" y="66090"/>
                    <a:pt x="10205"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2473" name="Freeform: Shape 182"/>
            <p:cNvSpPr/>
            <p:nvPr/>
          </p:nvSpPr>
          <p:spPr>
            <a:xfrm>
              <a:off x="3243600" y="4897800"/>
              <a:ext cx="162000" cy="51840"/>
            </a:xfrm>
            <a:custGeom>
              <a:avLst/>
              <a:gdLst/>
              <a:ahLst/>
              <a:rect l="l" t="t" r="r" b="b"/>
              <a:pathLst>
                <a:path w="282152" h="90435">
                  <a:moveTo>
                    <a:pt x="181249" y="89089"/>
                  </a:moveTo>
                  <a:cubicBezTo>
                    <a:pt x="171724" y="90041"/>
                    <a:pt x="163151" y="90994"/>
                    <a:pt x="152674" y="90041"/>
                  </a:cubicBezTo>
                  <a:lnTo>
                    <a:pt x="152674" y="69086"/>
                  </a:lnTo>
                  <a:cubicBezTo>
                    <a:pt x="160294" y="70039"/>
                    <a:pt x="167914" y="70039"/>
                    <a:pt x="175534" y="69086"/>
                  </a:cubicBezTo>
                  <a:cubicBezTo>
                    <a:pt x="186964" y="67181"/>
                    <a:pt x="248876" y="57656"/>
                    <a:pt x="255544" y="49084"/>
                  </a:cubicBezTo>
                  <a:cubicBezTo>
                    <a:pt x="255544" y="49084"/>
                    <a:pt x="255544" y="48131"/>
                    <a:pt x="255544" y="48131"/>
                  </a:cubicBezTo>
                  <a:cubicBezTo>
                    <a:pt x="253639" y="41464"/>
                    <a:pt x="244114" y="35749"/>
                    <a:pt x="236494" y="33844"/>
                  </a:cubicBezTo>
                  <a:cubicBezTo>
                    <a:pt x="215539" y="26224"/>
                    <a:pt x="187916" y="28129"/>
                    <a:pt x="166009" y="30986"/>
                  </a:cubicBezTo>
                  <a:cubicBezTo>
                    <a:pt x="162199" y="31939"/>
                    <a:pt x="157436" y="31939"/>
                    <a:pt x="152674" y="32891"/>
                  </a:cubicBezTo>
                  <a:lnTo>
                    <a:pt x="152674" y="11936"/>
                  </a:lnTo>
                  <a:cubicBezTo>
                    <a:pt x="155531" y="11936"/>
                    <a:pt x="157436" y="10984"/>
                    <a:pt x="160294" y="10984"/>
                  </a:cubicBezTo>
                  <a:cubicBezTo>
                    <a:pt x="236494" y="-446"/>
                    <a:pt x="275546" y="22414"/>
                    <a:pt x="281261" y="44321"/>
                  </a:cubicBezTo>
                  <a:cubicBezTo>
                    <a:pt x="287929" y="65276"/>
                    <a:pt x="257449" y="77659"/>
                    <a:pt x="181249"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13c3f"/>
                </a:solidFill>
                <a:latin typeface="Source Sans Pro"/>
              </a:endParaRPr>
            </a:p>
          </p:txBody>
        </p:sp>
        <p:sp>
          <p:nvSpPr>
            <p:cNvPr id="2474" name="Freeform: Shape 183"/>
            <p:cNvSpPr/>
            <p:nvPr/>
          </p:nvSpPr>
          <p:spPr>
            <a:xfrm>
              <a:off x="3137760" y="4899240"/>
              <a:ext cx="118440" cy="97560"/>
            </a:xfrm>
            <a:custGeom>
              <a:avLst/>
              <a:gdLst/>
              <a:ahLst/>
              <a:rect l="l" t="t" r="r" b="b"/>
              <a:pathLst>
                <a:path w="206056" h="170101">
                  <a:moveTo>
                    <a:pt x="90752" y="23750"/>
                  </a:moveTo>
                  <a:cubicBezTo>
                    <a:pt x="134567" y="5652"/>
                    <a:pt x="184097" y="-2920"/>
                    <a:pt x="200290" y="890"/>
                  </a:cubicBezTo>
                  <a:cubicBezTo>
                    <a:pt x="228865" y="7557"/>
                    <a:pt x="143140"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5"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75" name="Freeform: Shape 184"/>
            <p:cNvSpPr/>
            <p:nvPr/>
          </p:nvSpPr>
          <p:spPr>
            <a:xfrm>
              <a:off x="3192480" y="488340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76" name="Freeform: Shape 185"/>
            <p:cNvSpPr/>
            <p:nvPr/>
          </p:nvSpPr>
          <p:spPr>
            <a:xfrm>
              <a:off x="3083400" y="5134680"/>
              <a:ext cx="255240" cy="250920"/>
            </a:xfrm>
            <a:custGeom>
              <a:avLst/>
              <a:gdLst/>
              <a:ahLst/>
              <a:rect l="l" t="t" r="r" b="b"/>
              <a:pathLst>
                <a:path w="443864" h="437197">
                  <a:moveTo>
                    <a:pt x="442913" y="409575"/>
                  </a:moveTo>
                  <a:cubicBezTo>
                    <a:pt x="412433" y="427672"/>
                    <a:pt x="373380" y="437197"/>
                    <a:pt x="325755" y="437197"/>
                  </a:cubicBezTo>
                  <a:cubicBezTo>
                    <a:pt x="264795" y="437197"/>
                    <a:pt x="216217" y="418147"/>
                    <a:pt x="178117" y="380047"/>
                  </a:cubicBezTo>
                  <a:cubicBezTo>
                    <a:pt x="159067" y="360045"/>
                    <a:pt x="144780" y="338138"/>
                    <a:pt x="135255" y="311467"/>
                  </a:cubicBezTo>
                  <a:lnTo>
                    <a:pt x="0" y="311467"/>
                  </a:lnTo>
                  <a:lnTo>
                    <a:pt x="40958" y="239078"/>
                  </a:lnTo>
                  <a:lnTo>
                    <a:pt x="121920" y="239078"/>
                  </a:lnTo>
                  <a:cubicBezTo>
                    <a:pt x="121920" y="235267"/>
                    <a:pt x="121920" y="232410"/>
                    <a:pt x="121920" y="228600"/>
                  </a:cubicBezTo>
                  <a:cubicBezTo>
                    <a:pt x="121920" y="224790"/>
                    <a:pt x="121920" y="221932"/>
                    <a:pt x="121920" y="218122"/>
                  </a:cubicBezTo>
                  <a:lnTo>
                    <a:pt x="45720" y="218122"/>
                  </a:lnTo>
                  <a:lnTo>
                    <a:pt x="86677" y="145732"/>
                  </a:lnTo>
                  <a:lnTo>
                    <a:pt x="133350" y="145732"/>
                  </a:lnTo>
                  <a:cubicBezTo>
                    <a:pt x="142875" y="113347"/>
                    <a:pt x="160020" y="85725"/>
                    <a:pt x="182880" y="61913"/>
                  </a:cubicBezTo>
                  <a:cubicBezTo>
                    <a:pt x="222885" y="20955"/>
                    <a:pt x="277177" y="0"/>
                    <a:pt x="343852" y="0"/>
                  </a:cubicBezTo>
                  <a:cubicBezTo>
                    <a:pt x="384810" y="0"/>
                    <a:pt x="419100" y="6667"/>
                    <a:pt x="443865" y="20002"/>
                  </a:cubicBezTo>
                  <a:lnTo>
                    <a:pt x="443865" y="102870"/>
                  </a:lnTo>
                  <a:cubicBezTo>
                    <a:pt x="414338" y="81915"/>
                    <a:pt x="381952" y="70485"/>
                    <a:pt x="347663" y="70485"/>
                  </a:cubicBezTo>
                  <a:cubicBezTo>
                    <a:pt x="306705" y="70485"/>
                    <a:pt x="274320" y="83820"/>
                    <a:pt x="248602" y="111442"/>
                  </a:cubicBezTo>
                  <a:cubicBezTo>
                    <a:pt x="239077" y="120967"/>
                    <a:pt x="231458" y="132397"/>
                    <a:pt x="225742" y="144780"/>
                  </a:cubicBezTo>
                  <a:lnTo>
                    <a:pt x="422910" y="144780"/>
                  </a:lnTo>
                  <a:lnTo>
                    <a:pt x="381952" y="217170"/>
                  </a:lnTo>
                  <a:lnTo>
                    <a:pt x="349567" y="217170"/>
                  </a:lnTo>
                  <a:lnTo>
                    <a:pt x="211455" y="217170"/>
                  </a:lnTo>
                  <a:lnTo>
                    <a:pt x="211455" y="220980"/>
                  </a:lnTo>
                  <a:cubicBezTo>
                    <a:pt x="211455" y="226695"/>
                    <a:pt x="211455" y="232410"/>
                    <a:pt x="212408" y="237172"/>
                  </a:cubicBezTo>
                  <a:lnTo>
                    <a:pt x="377190" y="237172"/>
                  </a:lnTo>
                  <a:lnTo>
                    <a:pt x="336233" y="309563"/>
                  </a:lnTo>
                  <a:lnTo>
                    <a:pt x="234315" y="309563"/>
                  </a:lnTo>
                  <a:cubicBezTo>
                    <a:pt x="238125" y="315278"/>
                    <a:pt x="242888" y="320992"/>
                    <a:pt x="247650" y="326707"/>
                  </a:cubicBezTo>
                  <a:cubicBezTo>
                    <a:pt x="271463" y="352425"/>
                    <a:pt x="303847" y="364807"/>
                    <a:pt x="343852" y="364807"/>
                  </a:cubicBezTo>
                  <a:cubicBezTo>
                    <a:pt x="379095" y="364807"/>
                    <a:pt x="412433" y="353378"/>
                    <a:pt x="442913" y="331470"/>
                  </a:cubicBezTo>
                  <a:lnTo>
                    <a:pt x="442913" y="40957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477" name="Graphic 24"/>
          <p:cNvGrpSpPr/>
          <p:nvPr/>
        </p:nvGrpSpPr>
        <p:grpSpPr>
          <a:xfrm>
            <a:off x="5079960" y="4691160"/>
            <a:ext cx="747720" cy="900000"/>
            <a:chOff x="5079960" y="4691160"/>
            <a:chExt cx="747720" cy="900000"/>
          </a:xfrm>
        </p:grpSpPr>
        <p:sp>
          <p:nvSpPr>
            <p:cNvPr id="2478" name="Freeform: Shape 187"/>
            <p:cNvSpPr/>
            <p:nvPr/>
          </p:nvSpPr>
          <p:spPr>
            <a:xfrm>
              <a:off x="5079960" y="4691160"/>
              <a:ext cx="747720" cy="900000"/>
            </a:xfrm>
            <a:custGeom>
              <a:avLst/>
              <a:gdLst/>
              <a:ahLst/>
              <a:rect l="l" t="t" r="r" b="b"/>
              <a:pathLst>
                <a:path w="1300162" h="1568002">
                  <a:moveTo>
                    <a:pt x="804863" y="401955"/>
                  </a:moveTo>
                  <a:cubicBezTo>
                    <a:pt x="1089660" y="512445"/>
                    <a:pt x="1300163" y="900113"/>
                    <a:pt x="1300163" y="1177290"/>
                  </a:cubicBezTo>
                  <a:cubicBezTo>
                    <a:pt x="1300163" y="1355408"/>
                    <a:pt x="1191578" y="1496378"/>
                    <a:pt x="1054417" y="1546860"/>
                  </a:cubicBezTo>
                  <a:cubicBezTo>
                    <a:pt x="940117" y="1588770"/>
                    <a:pt x="811530" y="1555433"/>
                    <a:pt x="647700" y="1555433"/>
                  </a:cubicBezTo>
                  <a:cubicBezTo>
                    <a:pt x="494347" y="1555433"/>
                    <a:pt x="352425" y="1578293"/>
                    <a:pt x="241935" y="1546860"/>
                  </a:cubicBezTo>
                  <a:cubicBezTo>
                    <a:pt x="92392" y="1504950"/>
                    <a:pt x="0" y="1389698"/>
                    <a:pt x="0" y="1232535"/>
                  </a:cubicBezTo>
                  <a:cubicBezTo>
                    <a:pt x="0" y="838200"/>
                    <a:pt x="174307" y="645795"/>
                    <a:pt x="517207" y="401955"/>
                  </a:cubicBezTo>
                  <a:cubicBezTo>
                    <a:pt x="605790" y="339090"/>
                    <a:pt x="415290" y="149543"/>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2"/>
                    <a:pt x="982028" y="81915"/>
                    <a:pt x="903922" y="125730"/>
                  </a:cubicBezTo>
                  <a:cubicBezTo>
                    <a:pt x="826770" y="169545"/>
                    <a:pt x="762953" y="240030"/>
                    <a:pt x="772478" y="315278"/>
                  </a:cubicBezTo>
                  <a:cubicBezTo>
                    <a:pt x="778192" y="364808"/>
                    <a:pt x="781050" y="359093"/>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79" name="Freeform: Shape 188"/>
            <p:cNvSpPr/>
            <p:nvPr/>
          </p:nvSpPr>
          <p:spPr>
            <a:xfrm>
              <a:off x="5300640" y="4728600"/>
              <a:ext cx="494640" cy="831240"/>
            </a:xfrm>
            <a:custGeom>
              <a:avLst/>
              <a:gdLst/>
              <a:ahLst/>
              <a:rect l="l" t="t" r="r" b="b"/>
              <a:pathLst>
                <a:path w="860107" h="1447800">
                  <a:moveTo>
                    <a:pt x="519113" y="5715"/>
                  </a:moveTo>
                  <a:cubicBezTo>
                    <a:pt x="511493" y="4763"/>
                    <a:pt x="502920" y="2857"/>
                    <a:pt x="495300" y="952"/>
                  </a:cubicBezTo>
                  <a:cubicBezTo>
                    <a:pt x="493395" y="952"/>
                    <a:pt x="492443" y="0"/>
                    <a:pt x="490538" y="0"/>
                  </a:cubicBezTo>
                  <a:cubicBezTo>
                    <a:pt x="480060" y="0"/>
                    <a:pt x="450533" y="13335"/>
                    <a:pt x="441960" y="17145"/>
                  </a:cubicBezTo>
                  <a:cubicBezTo>
                    <a:pt x="408622" y="32385"/>
                    <a:pt x="370522" y="44768"/>
                    <a:pt x="331470" y="45720"/>
                  </a:cubicBezTo>
                  <a:cubicBezTo>
                    <a:pt x="281940" y="87630"/>
                    <a:pt x="247650" y="140970"/>
                    <a:pt x="255270" y="197167"/>
                  </a:cubicBezTo>
                  <a:cubicBezTo>
                    <a:pt x="261938" y="246698"/>
                    <a:pt x="263843" y="240983"/>
                    <a:pt x="287655" y="283845"/>
                  </a:cubicBezTo>
                  <a:cubicBezTo>
                    <a:pt x="306705" y="291465"/>
                    <a:pt x="325755" y="300037"/>
                    <a:pt x="344805" y="309562"/>
                  </a:cubicBezTo>
                  <a:cubicBezTo>
                    <a:pt x="338138" y="295275"/>
                    <a:pt x="335280" y="280987"/>
                    <a:pt x="331470" y="254317"/>
                  </a:cubicBezTo>
                  <a:cubicBezTo>
                    <a:pt x="320040" y="163830"/>
                    <a:pt x="392430" y="80010"/>
                    <a:pt x="484822" y="27622"/>
                  </a:cubicBezTo>
                  <a:cubicBezTo>
                    <a:pt x="499110" y="19050"/>
                    <a:pt x="510540" y="12382"/>
                    <a:pt x="519113" y="5715"/>
                  </a:cubicBezTo>
                  <a:close/>
                  <a:moveTo>
                    <a:pt x="0" y="1434465"/>
                  </a:moveTo>
                  <a:cubicBezTo>
                    <a:pt x="91440" y="1446848"/>
                    <a:pt x="187643" y="1447800"/>
                    <a:pt x="263843" y="1447800"/>
                  </a:cubicBezTo>
                  <a:cubicBezTo>
                    <a:pt x="600075" y="1447800"/>
                    <a:pt x="860108" y="1408748"/>
                    <a:pt x="860108" y="1112520"/>
                  </a:cubicBezTo>
                  <a:cubicBezTo>
                    <a:pt x="860108" y="999173"/>
                    <a:pt x="824865" y="878205"/>
                    <a:pt x="774383" y="772477"/>
                  </a:cubicBezTo>
                  <a:cubicBezTo>
                    <a:pt x="724853" y="667702"/>
                    <a:pt x="637222" y="534352"/>
                    <a:pt x="519113" y="444818"/>
                  </a:cubicBezTo>
                  <a:cubicBezTo>
                    <a:pt x="680085" y="614363"/>
                    <a:pt x="783908" y="863918"/>
                    <a:pt x="783908" y="1059180"/>
                  </a:cubicBezTo>
                  <a:cubicBezTo>
                    <a:pt x="783908" y="1385888"/>
                    <a:pt x="491490" y="1437323"/>
                    <a:pt x="131445" y="1437323"/>
                  </a:cubicBezTo>
                  <a:cubicBezTo>
                    <a:pt x="85725"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80" name="Freeform: Shape 189"/>
            <p:cNvSpPr/>
            <p:nvPr/>
          </p:nvSpPr>
          <p:spPr>
            <a:xfrm>
              <a:off x="54324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81" name="Freeform: Shape 190"/>
            <p:cNvSpPr/>
            <p:nvPr/>
          </p:nvSpPr>
          <p:spPr>
            <a:xfrm>
              <a:off x="534132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7"/>
                    <a:pt x="361088" y="47625"/>
                    <a:pt x="352516" y="47625"/>
                  </a:cubicBezTo>
                  <a:lnTo>
                    <a:pt x="14378" y="31432"/>
                  </a:lnTo>
                  <a:cubicBezTo>
                    <a:pt x="5806" y="31432"/>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13c3f"/>
                </a:solidFill>
                <a:latin typeface="Source Sans Pro"/>
              </a:endParaRPr>
            </a:p>
          </p:txBody>
        </p:sp>
        <p:sp>
          <p:nvSpPr>
            <p:cNvPr id="2482" name="Freeform: Shape 191"/>
            <p:cNvSpPr/>
            <p:nvPr/>
          </p:nvSpPr>
          <p:spPr>
            <a:xfrm>
              <a:off x="5335560" y="4869720"/>
              <a:ext cx="210960" cy="55080"/>
            </a:xfrm>
            <a:custGeom>
              <a:avLst/>
              <a:gdLst/>
              <a:ahLst/>
              <a:rect l="l" t="t" r="r" b="b"/>
              <a:pathLst>
                <a:path w="367003" h="95984">
                  <a:moveTo>
                    <a:pt x="10623" y="65137"/>
                  </a:moveTo>
                  <a:lnTo>
                    <a:pt x="341140" y="367"/>
                  </a:lnTo>
                  <a:cubicBezTo>
                    <a:pt x="349713" y="-1538"/>
                    <a:pt x="361143" y="4177"/>
                    <a:pt x="364953" y="12750"/>
                  </a:cubicBezTo>
                  <a:cubicBezTo>
                    <a:pt x="369715" y="21322"/>
                    <a:pt x="365905" y="28942"/>
                    <a:pt x="356380" y="30847"/>
                  </a:cubicBezTo>
                  <a:lnTo>
                    <a:pt x="25863" y="95617"/>
                  </a:lnTo>
                  <a:cubicBezTo>
                    <a:pt x="17290" y="97522"/>
                    <a:pt x="5860" y="91807"/>
                    <a:pt x="2050" y="83235"/>
                  </a:cubicBezTo>
                  <a:cubicBezTo>
                    <a:pt x="-2712" y="74662"/>
                    <a:pt x="1098" y="66090"/>
                    <a:pt x="10623"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13c3f"/>
                </a:solidFill>
                <a:latin typeface="Source Sans Pro"/>
              </a:endParaRPr>
            </a:p>
          </p:txBody>
        </p:sp>
        <p:sp>
          <p:nvSpPr>
            <p:cNvPr id="2483" name="Freeform: Shape 192"/>
            <p:cNvSpPr/>
            <p:nvPr/>
          </p:nvSpPr>
          <p:spPr>
            <a:xfrm>
              <a:off x="5437440" y="4897800"/>
              <a:ext cx="162000" cy="51840"/>
            </a:xfrm>
            <a:custGeom>
              <a:avLst/>
              <a:gdLst/>
              <a:ahLst/>
              <a:rect l="l" t="t" r="r" b="b"/>
              <a:pathLst>
                <a:path w="282152" h="90435">
                  <a:moveTo>
                    <a:pt x="181249" y="89089"/>
                  </a:moveTo>
                  <a:cubicBezTo>
                    <a:pt x="171724" y="90041"/>
                    <a:pt x="163152" y="90994"/>
                    <a:pt x="152674" y="90041"/>
                  </a:cubicBezTo>
                  <a:lnTo>
                    <a:pt x="152674" y="69086"/>
                  </a:lnTo>
                  <a:cubicBezTo>
                    <a:pt x="160294" y="70039"/>
                    <a:pt x="167914" y="70039"/>
                    <a:pt x="175534" y="69086"/>
                  </a:cubicBezTo>
                  <a:cubicBezTo>
                    <a:pt x="186964" y="67181"/>
                    <a:pt x="248877" y="57656"/>
                    <a:pt x="255544" y="49084"/>
                  </a:cubicBezTo>
                  <a:cubicBezTo>
                    <a:pt x="255544" y="49084"/>
                    <a:pt x="255544" y="48131"/>
                    <a:pt x="255544" y="48131"/>
                  </a:cubicBezTo>
                  <a:cubicBezTo>
                    <a:pt x="253639" y="41464"/>
                    <a:pt x="244114" y="35749"/>
                    <a:pt x="236494" y="33844"/>
                  </a:cubicBezTo>
                  <a:cubicBezTo>
                    <a:pt x="215539" y="26224"/>
                    <a:pt x="187917" y="28129"/>
                    <a:pt x="166009" y="30986"/>
                  </a:cubicBezTo>
                  <a:cubicBezTo>
                    <a:pt x="161246" y="31939"/>
                    <a:pt x="157436" y="31939"/>
                    <a:pt x="152674" y="32891"/>
                  </a:cubicBezTo>
                  <a:lnTo>
                    <a:pt x="152674" y="11936"/>
                  </a:lnTo>
                  <a:cubicBezTo>
                    <a:pt x="155532" y="11936"/>
                    <a:pt x="157436" y="10984"/>
                    <a:pt x="160294" y="10984"/>
                  </a:cubicBezTo>
                  <a:cubicBezTo>
                    <a:pt x="236494" y="-446"/>
                    <a:pt x="275546" y="22414"/>
                    <a:pt x="281261" y="44321"/>
                  </a:cubicBezTo>
                  <a:cubicBezTo>
                    <a:pt x="287929" y="65276"/>
                    <a:pt x="257449" y="77659"/>
                    <a:pt x="181249" y="89089"/>
                  </a:cubicBezTo>
                  <a:close/>
                  <a:moveTo>
                    <a:pt x="153627" y="89089"/>
                  </a:moveTo>
                  <a:cubicBezTo>
                    <a:pt x="83142" y="83374"/>
                    <a:pt x="5036" y="26224"/>
                    <a:pt x="274" y="7174"/>
                  </a:cubicBezTo>
                  <a:cubicBezTo>
                    <a:pt x="-5441" y="-13781"/>
                    <a:pt x="79332" y="18604"/>
                    <a:pt x="153627" y="10984"/>
                  </a:cubicBezTo>
                  <a:lnTo>
                    <a:pt x="153627" y="31939"/>
                  </a:lnTo>
                  <a:cubicBezTo>
                    <a:pt x="146959" y="32891"/>
                    <a:pt x="140292"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13c3f"/>
                </a:solidFill>
                <a:latin typeface="Source Sans Pro"/>
              </a:endParaRPr>
            </a:p>
          </p:txBody>
        </p:sp>
        <p:sp>
          <p:nvSpPr>
            <p:cNvPr id="2484" name="Freeform: Shape 193"/>
            <p:cNvSpPr/>
            <p:nvPr/>
          </p:nvSpPr>
          <p:spPr>
            <a:xfrm>
              <a:off x="5331600" y="4899240"/>
              <a:ext cx="117720" cy="97560"/>
            </a:xfrm>
            <a:custGeom>
              <a:avLst/>
              <a:gdLst/>
              <a:ahLst/>
              <a:rect l="l" t="t" r="r" b="b"/>
              <a:pathLst>
                <a:path w="205103" h="170101">
                  <a:moveTo>
                    <a:pt x="89800" y="23750"/>
                  </a:moveTo>
                  <a:cubicBezTo>
                    <a:pt x="133615" y="5652"/>
                    <a:pt x="183145" y="-2920"/>
                    <a:pt x="199337" y="890"/>
                  </a:cubicBezTo>
                  <a:cubicBezTo>
                    <a:pt x="227912" y="7557"/>
                    <a:pt x="142187" y="50420"/>
                    <a:pt x="119327" y="105665"/>
                  </a:cubicBezTo>
                  <a:cubicBezTo>
                    <a:pt x="111707" y="123762"/>
                    <a:pt x="101230" y="137097"/>
                    <a:pt x="90752" y="147575"/>
                  </a:cubicBezTo>
                  <a:lnTo>
                    <a:pt x="90752" y="105665"/>
                  </a:lnTo>
                  <a:cubicBezTo>
                    <a:pt x="91705" y="103760"/>
                    <a:pt x="92657" y="100902"/>
                    <a:pt x="93610" y="98997"/>
                  </a:cubicBezTo>
                  <a:cubicBezTo>
                    <a:pt x="97420" y="91377"/>
                    <a:pt x="101230" y="83757"/>
                    <a:pt x="105992" y="76137"/>
                  </a:cubicBezTo>
                  <a:cubicBezTo>
                    <a:pt x="118375" y="58040"/>
                    <a:pt x="134567" y="41847"/>
                    <a:pt x="151712" y="26607"/>
                  </a:cubicBezTo>
                  <a:cubicBezTo>
                    <a:pt x="152665" y="25655"/>
                    <a:pt x="152665" y="25655"/>
                    <a:pt x="153617" y="24702"/>
                  </a:cubicBezTo>
                  <a:cubicBezTo>
                    <a:pt x="131710" y="30417"/>
                    <a:pt x="106945" y="38990"/>
                    <a:pt x="96467" y="43752"/>
                  </a:cubicBezTo>
                  <a:lnTo>
                    <a:pt x="89800" y="46610"/>
                  </a:lnTo>
                  <a:lnTo>
                    <a:pt x="89800"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85" name="Freeform: Shape 194"/>
            <p:cNvSpPr/>
            <p:nvPr/>
          </p:nvSpPr>
          <p:spPr>
            <a:xfrm>
              <a:off x="5386320" y="4883400"/>
              <a:ext cx="87480" cy="173880"/>
            </a:xfrm>
            <a:custGeom>
              <a:avLst/>
              <a:gdLst/>
              <a:ahLst/>
              <a:rect l="l" t="t" r="r" b="b"/>
              <a:pathLst>
                <a:path w="152298" h="303264">
                  <a:moveTo>
                    <a:pt x="145393" y="30849"/>
                  </a:moveTo>
                  <a:cubicBezTo>
                    <a:pt x="37760" y="79427"/>
                    <a:pt x="40618" y="208014"/>
                    <a:pt x="41570" y="288024"/>
                  </a:cubicBezTo>
                  <a:cubicBezTo>
                    <a:pt x="41570" y="296597"/>
                    <a:pt x="32998" y="303264"/>
                    <a:pt x="21568" y="303264"/>
                  </a:cubicBezTo>
                  <a:cubicBezTo>
                    <a:pt x="10138" y="303264"/>
                    <a:pt x="1566" y="296597"/>
                    <a:pt x="613" y="288024"/>
                  </a:cubicBezTo>
                  <a:cubicBezTo>
                    <a:pt x="-340" y="196584"/>
                    <a:pt x="-11770" y="46089"/>
                    <a:pt x="125391" y="369"/>
                  </a:cubicBezTo>
                  <a:cubicBezTo>
                    <a:pt x="135868" y="-1536"/>
                    <a:pt x="147298" y="4179"/>
                    <a:pt x="149203" y="11799"/>
                  </a:cubicBezTo>
                  <a:cubicBezTo>
                    <a:pt x="152060" y="21324"/>
                    <a:pt x="155870"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86" name="Freeform: Shape 195"/>
            <p:cNvSpPr/>
            <p:nvPr/>
          </p:nvSpPr>
          <p:spPr>
            <a:xfrm>
              <a:off x="5340600" y="5142240"/>
              <a:ext cx="218520" cy="263880"/>
            </a:xfrm>
            <a:custGeom>
              <a:avLst/>
              <a:gdLst/>
              <a:ahLst/>
              <a:rect l="l" t="t" r="r" b="b"/>
              <a:pathLst>
                <a:path w="380047" h="460057">
                  <a:moveTo>
                    <a:pt x="330517" y="89535"/>
                  </a:moveTo>
                  <a:lnTo>
                    <a:pt x="49530" y="89535"/>
                  </a:lnTo>
                  <a:lnTo>
                    <a:pt x="49530" y="0"/>
                  </a:lnTo>
                  <a:lnTo>
                    <a:pt x="330517" y="0"/>
                  </a:lnTo>
                  <a:lnTo>
                    <a:pt x="330517" y="89535"/>
                  </a:lnTo>
                  <a:close/>
                  <a:moveTo>
                    <a:pt x="213360" y="220980"/>
                  </a:moveTo>
                  <a:lnTo>
                    <a:pt x="213360" y="372428"/>
                  </a:lnTo>
                  <a:cubicBezTo>
                    <a:pt x="213360" y="410528"/>
                    <a:pt x="229552" y="460058"/>
                    <a:pt x="257175" y="460058"/>
                  </a:cubicBezTo>
                  <a:cubicBezTo>
                    <a:pt x="285750" y="460058"/>
                    <a:pt x="315277" y="460058"/>
                    <a:pt x="330517" y="460058"/>
                  </a:cubicBezTo>
                  <a:cubicBezTo>
                    <a:pt x="345757" y="460058"/>
                    <a:pt x="362902" y="429578"/>
                    <a:pt x="369570" y="402908"/>
                  </a:cubicBezTo>
                  <a:cubicBezTo>
                    <a:pt x="376238" y="376238"/>
                    <a:pt x="380047" y="357188"/>
                    <a:pt x="380047" y="357188"/>
                  </a:cubicBezTo>
                  <a:lnTo>
                    <a:pt x="330517" y="317183"/>
                  </a:lnTo>
                  <a:cubicBezTo>
                    <a:pt x="330517" y="317183"/>
                    <a:pt x="324802" y="381000"/>
                    <a:pt x="316230" y="381000"/>
                  </a:cubicBezTo>
                  <a:cubicBezTo>
                    <a:pt x="306705" y="381000"/>
                    <a:pt x="293370" y="381000"/>
                    <a:pt x="282892" y="381000"/>
                  </a:cubicBezTo>
                  <a:cubicBezTo>
                    <a:pt x="272415" y="381000"/>
                    <a:pt x="271463" y="361950"/>
                    <a:pt x="271463" y="333375"/>
                  </a:cubicBezTo>
                  <a:lnTo>
                    <a:pt x="271463" y="221933"/>
                  </a:lnTo>
                  <a:lnTo>
                    <a:pt x="374332" y="221933"/>
                  </a:lnTo>
                  <a:lnTo>
                    <a:pt x="374332" y="141923"/>
                  </a:lnTo>
                  <a:lnTo>
                    <a:pt x="12382" y="141923"/>
                  </a:lnTo>
                  <a:lnTo>
                    <a:pt x="12382" y="221933"/>
                  </a:lnTo>
                  <a:lnTo>
                    <a:pt x="100965" y="221933"/>
                  </a:lnTo>
                  <a:cubicBezTo>
                    <a:pt x="92392" y="347663"/>
                    <a:pt x="0" y="374333"/>
                    <a:pt x="0" y="374333"/>
                  </a:cubicBezTo>
                  <a:lnTo>
                    <a:pt x="12382" y="460058"/>
                  </a:lnTo>
                  <a:cubicBezTo>
                    <a:pt x="140017" y="400050"/>
                    <a:pt x="160020" y="274320"/>
                    <a:pt x="162877" y="220980"/>
                  </a:cubicBezTo>
                  <a:lnTo>
                    <a:pt x="213360" y="22098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487" name="Group 196"/>
          <p:cNvGrpSpPr/>
          <p:nvPr/>
        </p:nvGrpSpPr>
        <p:grpSpPr>
          <a:xfrm>
            <a:off x="6489720" y="1855800"/>
            <a:ext cx="1033560" cy="1022400"/>
            <a:chOff x="6489720" y="1855800"/>
            <a:chExt cx="1033560" cy="1022400"/>
          </a:xfrm>
        </p:grpSpPr>
        <p:sp>
          <p:nvSpPr>
            <p:cNvPr id="2488" name="Freeform: Shape 197"/>
            <p:cNvSpPr/>
            <p:nvPr/>
          </p:nvSpPr>
          <p:spPr>
            <a:xfrm>
              <a:off x="6489720" y="1855800"/>
              <a:ext cx="1033560" cy="1015200"/>
            </a:xfrm>
            <a:custGeom>
              <a:avLst/>
              <a:gdLst/>
              <a:ahLst/>
              <a:rect l="l" t="t" r="r" b="b"/>
              <a:pathLst>
                <a:path w="1332376" h="1307702">
                  <a:moveTo>
                    <a:pt x="1332376" y="653851"/>
                  </a:moveTo>
                  <a:cubicBezTo>
                    <a:pt x="1332376" y="917215"/>
                    <a:pt x="1173607" y="1144105"/>
                    <a:pt x="945107" y="1247627"/>
                  </a:cubicBezTo>
                  <a:cubicBezTo>
                    <a:pt x="928480" y="1255137"/>
                    <a:pt x="910779" y="1262110"/>
                    <a:pt x="893615" y="1268546"/>
                  </a:cubicBezTo>
                  <a:cubicBezTo>
                    <a:pt x="838367" y="1288393"/>
                    <a:pt x="779365" y="1300729"/>
                    <a:pt x="718754" y="1305557"/>
                  </a:cubicBezTo>
                  <a:cubicBezTo>
                    <a:pt x="712853" y="1306093"/>
                    <a:pt x="707490" y="1306093"/>
                    <a:pt x="701589" y="1306630"/>
                  </a:cubicBezTo>
                  <a:cubicBezTo>
                    <a:pt x="689789" y="1307166"/>
                    <a:pt x="677989" y="1307702"/>
                    <a:pt x="666188" y="1307702"/>
                  </a:cubicBezTo>
                  <a:cubicBezTo>
                    <a:pt x="625959" y="1307702"/>
                    <a:pt x="586267" y="1303948"/>
                    <a:pt x="547647" y="1297511"/>
                  </a:cubicBezTo>
                  <a:cubicBezTo>
                    <a:pt x="544965" y="1296975"/>
                    <a:pt x="542284" y="1296438"/>
                    <a:pt x="539602" y="1295902"/>
                  </a:cubicBezTo>
                  <a:cubicBezTo>
                    <a:pt x="485427" y="1285711"/>
                    <a:pt x="433398" y="1269083"/>
                    <a:pt x="385123" y="1246555"/>
                  </a:cubicBezTo>
                  <a:cubicBezTo>
                    <a:pt x="157697" y="1142496"/>
                    <a:pt x="0" y="916143"/>
                    <a:pt x="0" y="653851"/>
                  </a:cubicBezTo>
                  <a:cubicBezTo>
                    <a:pt x="0" y="292865"/>
                    <a:pt x="298229" y="0"/>
                    <a:pt x="666188" y="0"/>
                  </a:cubicBezTo>
                  <a:cubicBezTo>
                    <a:pt x="1034147" y="0"/>
                    <a:pt x="1332376" y="292865"/>
                    <a:pt x="1332376"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489" name="Graphic 120"/>
            <p:cNvGrpSpPr/>
            <p:nvPr/>
          </p:nvGrpSpPr>
          <p:grpSpPr>
            <a:xfrm>
              <a:off x="6683400" y="1889640"/>
              <a:ext cx="645840" cy="988560"/>
              <a:chOff x="6683400" y="1889640"/>
              <a:chExt cx="645840" cy="988560"/>
            </a:xfrm>
          </p:grpSpPr>
          <p:sp>
            <p:nvSpPr>
              <p:cNvPr id="2490" name="Freeform: Shape 199"/>
              <p:cNvSpPr/>
              <p:nvPr/>
            </p:nvSpPr>
            <p:spPr>
              <a:xfrm>
                <a:off x="6683400" y="2248200"/>
                <a:ext cx="302040" cy="442800"/>
              </a:xfrm>
              <a:custGeom>
                <a:avLst/>
                <a:gdLst/>
                <a:ahLst/>
                <a:rect l="l" t="t" r="r" b="b"/>
                <a:pathLst>
                  <a:path w="389225" h="570413">
                    <a:moveTo>
                      <a:pt x="389226" y="531019"/>
                    </a:moveTo>
                    <a:cubicBezTo>
                      <a:pt x="376889" y="533701"/>
                      <a:pt x="364016" y="535847"/>
                      <a:pt x="351142" y="537456"/>
                    </a:cubicBezTo>
                    <a:cubicBezTo>
                      <a:pt x="294822" y="546038"/>
                      <a:pt x="238502" y="554620"/>
                      <a:pt x="182182" y="559984"/>
                    </a:cubicBezTo>
                    <a:cubicBezTo>
                      <a:pt x="167163" y="561593"/>
                      <a:pt x="152144" y="562666"/>
                      <a:pt x="137126" y="563202"/>
                    </a:cubicBezTo>
                    <a:cubicBezTo>
                      <a:pt x="111916" y="564275"/>
                      <a:pt x="84560" y="562130"/>
                      <a:pt x="59886" y="569103"/>
                    </a:cubicBezTo>
                    <a:cubicBezTo>
                      <a:pt x="51304" y="571785"/>
                      <a:pt x="41649" y="570175"/>
                      <a:pt x="33604" y="565884"/>
                    </a:cubicBezTo>
                    <a:cubicBezTo>
                      <a:pt x="30385" y="563739"/>
                      <a:pt x="27167" y="561593"/>
                      <a:pt x="24485" y="558375"/>
                    </a:cubicBezTo>
                    <a:cubicBezTo>
                      <a:pt x="19121" y="552475"/>
                      <a:pt x="14830" y="544429"/>
                      <a:pt x="12685" y="536383"/>
                    </a:cubicBezTo>
                    <a:cubicBezTo>
                      <a:pt x="7857" y="522437"/>
                      <a:pt x="7857" y="506346"/>
                      <a:pt x="5175" y="491863"/>
                    </a:cubicBezTo>
                    <a:cubicBezTo>
                      <a:pt x="884" y="467190"/>
                      <a:pt x="-3407" y="440907"/>
                      <a:pt x="4102" y="417306"/>
                    </a:cubicBezTo>
                    <a:cubicBezTo>
                      <a:pt x="7857" y="404969"/>
                      <a:pt x="14830" y="394242"/>
                      <a:pt x="21267" y="383514"/>
                    </a:cubicBezTo>
                    <a:cubicBezTo>
                      <a:pt x="41113" y="351867"/>
                      <a:pt x="60959" y="320221"/>
                      <a:pt x="80269" y="288574"/>
                    </a:cubicBezTo>
                    <a:cubicBezTo>
                      <a:pt x="112988" y="235472"/>
                      <a:pt x="146244" y="182370"/>
                      <a:pt x="167699" y="123368"/>
                    </a:cubicBezTo>
                    <a:cubicBezTo>
                      <a:pt x="175209" y="103522"/>
                      <a:pt x="181109" y="82603"/>
                      <a:pt x="190764" y="63830"/>
                    </a:cubicBezTo>
                    <a:cubicBezTo>
                      <a:pt x="194519" y="56320"/>
                      <a:pt x="199346" y="49347"/>
                      <a:pt x="204710" y="42911"/>
                    </a:cubicBezTo>
                    <a:cubicBezTo>
                      <a:pt x="209537" y="37010"/>
                      <a:pt x="214901" y="31647"/>
                      <a:pt x="221338" y="27356"/>
                    </a:cubicBezTo>
                    <a:cubicBezTo>
                      <a:pt x="225629" y="24137"/>
                      <a:pt x="230456" y="21455"/>
                      <a:pt x="235284" y="19310"/>
                    </a:cubicBezTo>
                    <a:cubicBezTo>
                      <a:pt x="235284" y="19310"/>
                      <a:pt x="235820" y="19310"/>
                      <a:pt x="235820" y="18773"/>
                    </a:cubicBezTo>
                    <a:cubicBezTo>
                      <a:pt x="250839" y="12337"/>
                      <a:pt x="267467" y="11800"/>
                      <a:pt x="284095" y="10728"/>
                    </a:cubicBezTo>
                    <a:cubicBezTo>
                      <a:pt x="299650" y="9655"/>
                      <a:pt x="315205" y="7509"/>
                      <a:pt x="330224" y="4291"/>
                    </a:cubicBezTo>
                    <a:cubicBezTo>
                      <a:pt x="333978" y="3755"/>
                      <a:pt x="337733" y="2682"/>
                      <a:pt x="341488" y="2146"/>
                    </a:cubicBezTo>
                    <a:cubicBezTo>
                      <a:pt x="344706" y="1609"/>
                      <a:pt x="347924" y="536"/>
                      <a:pt x="351142" y="0"/>
                    </a:cubicBezTo>
                    <a:cubicBezTo>
                      <a:pt x="335051" y="17701"/>
                      <a:pt x="320032" y="38083"/>
                      <a:pt x="306086" y="59002"/>
                    </a:cubicBezTo>
                    <a:cubicBezTo>
                      <a:pt x="316278" y="65439"/>
                      <a:pt x="325396" y="72948"/>
                      <a:pt x="333978" y="81530"/>
                    </a:cubicBezTo>
                    <a:cubicBezTo>
                      <a:pt x="314668" y="91722"/>
                      <a:pt x="294822" y="103522"/>
                      <a:pt x="274976" y="113713"/>
                    </a:cubicBezTo>
                    <a:cubicBezTo>
                      <a:pt x="274440" y="114250"/>
                      <a:pt x="273367" y="114786"/>
                      <a:pt x="272831" y="114786"/>
                    </a:cubicBezTo>
                    <a:cubicBezTo>
                      <a:pt x="271221" y="115859"/>
                      <a:pt x="269612" y="116395"/>
                      <a:pt x="268539" y="118004"/>
                    </a:cubicBezTo>
                    <a:cubicBezTo>
                      <a:pt x="267467" y="120150"/>
                      <a:pt x="267467" y="122295"/>
                      <a:pt x="267467" y="124441"/>
                    </a:cubicBezTo>
                    <a:cubicBezTo>
                      <a:pt x="267467" y="127123"/>
                      <a:pt x="267467" y="129268"/>
                      <a:pt x="267467" y="131950"/>
                    </a:cubicBezTo>
                    <a:cubicBezTo>
                      <a:pt x="268003" y="152869"/>
                      <a:pt x="269076" y="173788"/>
                      <a:pt x="270149" y="194707"/>
                    </a:cubicBezTo>
                    <a:cubicBezTo>
                      <a:pt x="271221" y="214553"/>
                      <a:pt x="272831" y="233863"/>
                      <a:pt x="277122" y="253173"/>
                    </a:cubicBezTo>
                    <a:cubicBezTo>
                      <a:pt x="279267" y="263364"/>
                      <a:pt x="282485" y="273019"/>
                      <a:pt x="286240" y="283210"/>
                    </a:cubicBezTo>
                    <a:cubicBezTo>
                      <a:pt x="283022" y="281065"/>
                      <a:pt x="279267" y="279456"/>
                      <a:pt x="276049" y="277310"/>
                    </a:cubicBezTo>
                    <a:cubicBezTo>
                      <a:pt x="272294" y="275165"/>
                      <a:pt x="268539" y="273019"/>
                      <a:pt x="265321" y="270873"/>
                    </a:cubicBezTo>
                    <a:cubicBezTo>
                      <a:pt x="265321" y="270873"/>
                      <a:pt x="265321" y="270873"/>
                      <a:pt x="265321" y="270873"/>
                    </a:cubicBezTo>
                    <a:cubicBezTo>
                      <a:pt x="261030" y="268192"/>
                      <a:pt x="256203" y="265510"/>
                      <a:pt x="251912" y="262291"/>
                    </a:cubicBezTo>
                    <a:cubicBezTo>
                      <a:pt x="249230" y="260682"/>
                      <a:pt x="247084" y="259073"/>
                      <a:pt x="244402" y="257464"/>
                    </a:cubicBezTo>
                    <a:cubicBezTo>
                      <a:pt x="242257" y="255855"/>
                      <a:pt x="240111" y="254782"/>
                      <a:pt x="237966" y="253173"/>
                    </a:cubicBezTo>
                    <a:cubicBezTo>
                      <a:pt x="235820" y="251564"/>
                      <a:pt x="233138" y="249955"/>
                      <a:pt x="230993" y="248345"/>
                    </a:cubicBezTo>
                    <a:cubicBezTo>
                      <a:pt x="230993" y="248345"/>
                      <a:pt x="230993" y="248345"/>
                      <a:pt x="230993" y="248345"/>
                    </a:cubicBezTo>
                    <a:cubicBezTo>
                      <a:pt x="229383" y="248345"/>
                      <a:pt x="228311" y="248345"/>
                      <a:pt x="226702" y="248882"/>
                    </a:cubicBezTo>
                    <a:cubicBezTo>
                      <a:pt x="217047" y="249955"/>
                      <a:pt x="209001" y="255855"/>
                      <a:pt x="202028" y="263364"/>
                    </a:cubicBezTo>
                    <a:cubicBezTo>
                      <a:pt x="197737" y="267655"/>
                      <a:pt x="193982" y="273019"/>
                      <a:pt x="190764" y="277846"/>
                    </a:cubicBezTo>
                    <a:cubicBezTo>
                      <a:pt x="175745" y="300375"/>
                      <a:pt x="162336" y="324512"/>
                      <a:pt x="151608" y="349185"/>
                    </a:cubicBezTo>
                    <a:cubicBezTo>
                      <a:pt x="149462" y="354549"/>
                      <a:pt x="147317" y="359913"/>
                      <a:pt x="145171" y="365277"/>
                    </a:cubicBezTo>
                    <a:cubicBezTo>
                      <a:pt x="143026" y="371177"/>
                      <a:pt x="140344" y="377614"/>
                      <a:pt x="138198" y="384050"/>
                    </a:cubicBezTo>
                    <a:cubicBezTo>
                      <a:pt x="135516" y="391023"/>
                      <a:pt x="133371" y="398533"/>
                      <a:pt x="131225" y="406042"/>
                    </a:cubicBezTo>
                    <a:cubicBezTo>
                      <a:pt x="191837" y="435543"/>
                      <a:pt x="252448" y="465581"/>
                      <a:pt x="313059" y="495082"/>
                    </a:cubicBezTo>
                    <a:cubicBezTo>
                      <a:pt x="315205" y="496154"/>
                      <a:pt x="317350" y="497227"/>
                      <a:pt x="320032" y="498300"/>
                    </a:cubicBezTo>
                    <a:cubicBezTo>
                      <a:pt x="343633" y="508491"/>
                      <a:pt x="366161" y="519755"/>
                      <a:pt x="389226" y="531019"/>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491" name="Graphic 120" descr=""/>
              <p:cNvPicPr/>
              <p:nvPr/>
            </p:nvPicPr>
            <p:blipFill>
              <a:blip r:embed="rId12"/>
              <a:stretch/>
            </p:blipFill>
            <p:spPr>
              <a:xfrm>
                <a:off x="6858000" y="2224800"/>
                <a:ext cx="420840" cy="311040"/>
              </a:xfrm>
              <a:prstGeom prst="rect">
                <a:avLst/>
              </a:prstGeom>
              <a:ln w="0">
                <a:noFill/>
              </a:ln>
            </p:spPr>
          </p:pic>
          <p:sp>
            <p:nvSpPr>
              <p:cNvPr id="2492" name="Freeform: Shape 201"/>
              <p:cNvSpPr/>
              <p:nvPr/>
            </p:nvSpPr>
            <p:spPr>
              <a:xfrm>
                <a:off x="6785640" y="2228760"/>
                <a:ext cx="526680" cy="457200"/>
              </a:xfrm>
              <a:custGeom>
                <a:avLst/>
                <a:gdLst/>
                <a:ahLst/>
                <a:rect l="l" t="t" r="r" b="b"/>
                <a:pathLst>
                  <a:path w="678888" h="589008">
                    <a:moveTo>
                      <a:pt x="674234" y="130877"/>
                    </a:moveTo>
                    <a:cubicBezTo>
                      <a:pt x="660824" y="187734"/>
                      <a:pt x="634541" y="240300"/>
                      <a:pt x="608795" y="292865"/>
                    </a:cubicBezTo>
                    <a:cubicBezTo>
                      <a:pt x="595386" y="319684"/>
                      <a:pt x="581976" y="347040"/>
                      <a:pt x="563739" y="371177"/>
                    </a:cubicBezTo>
                    <a:cubicBezTo>
                      <a:pt x="545502" y="395314"/>
                      <a:pt x="523510" y="415697"/>
                      <a:pt x="506346" y="440907"/>
                    </a:cubicBezTo>
                    <a:cubicBezTo>
                      <a:pt x="482209" y="475772"/>
                      <a:pt x="469872" y="517073"/>
                      <a:pt x="450026" y="554620"/>
                    </a:cubicBezTo>
                    <a:cubicBezTo>
                      <a:pt x="444662" y="565348"/>
                      <a:pt x="438225" y="576076"/>
                      <a:pt x="428034" y="582512"/>
                    </a:cubicBezTo>
                    <a:cubicBezTo>
                      <a:pt x="406042" y="596458"/>
                      <a:pt x="377077" y="585194"/>
                      <a:pt x="353477" y="574466"/>
                    </a:cubicBezTo>
                    <a:cubicBezTo>
                      <a:pt x="249418" y="525656"/>
                      <a:pt x="142142" y="485427"/>
                      <a:pt x="34329" y="446271"/>
                    </a:cubicBezTo>
                    <a:cubicBezTo>
                      <a:pt x="23065" y="440907"/>
                      <a:pt x="11800" y="435007"/>
                      <a:pt x="0" y="429643"/>
                    </a:cubicBezTo>
                    <a:cubicBezTo>
                      <a:pt x="3755" y="416233"/>
                      <a:pt x="8582" y="402287"/>
                      <a:pt x="13410" y="389414"/>
                    </a:cubicBezTo>
                    <a:cubicBezTo>
                      <a:pt x="24137" y="362059"/>
                      <a:pt x="37547" y="335240"/>
                      <a:pt x="53638" y="310566"/>
                    </a:cubicBezTo>
                    <a:cubicBezTo>
                      <a:pt x="55784" y="307348"/>
                      <a:pt x="57393" y="304666"/>
                      <a:pt x="59539" y="301984"/>
                    </a:cubicBezTo>
                    <a:cubicBezTo>
                      <a:pt x="62757" y="297156"/>
                      <a:pt x="66512" y="292329"/>
                      <a:pt x="70266" y="288038"/>
                    </a:cubicBezTo>
                    <a:cubicBezTo>
                      <a:pt x="70266" y="288038"/>
                      <a:pt x="70803" y="287501"/>
                      <a:pt x="70803" y="287501"/>
                    </a:cubicBezTo>
                    <a:cubicBezTo>
                      <a:pt x="78312" y="279456"/>
                      <a:pt x="87431" y="273019"/>
                      <a:pt x="98158" y="272483"/>
                    </a:cubicBezTo>
                    <a:cubicBezTo>
                      <a:pt x="98695" y="272483"/>
                      <a:pt x="99231" y="272483"/>
                      <a:pt x="99767" y="272483"/>
                    </a:cubicBezTo>
                    <a:cubicBezTo>
                      <a:pt x="99767" y="272483"/>
                      <a:pt x="99767" y="272483"/>
                      <a:pt x="99767" y="272483"/>
                    </a:cubicBezTo>
                    <a:cubicBezTo>
                      <a:pt x="118004" y="284819"/>
                      <a:pt x="136241" y="296620"/>
                      <a:pt x="155551" y="307884"/>
                    </a:cubicBezTo>
                    <a:cubicBezTo>
                      <a:pt x="167888" y="314857"/>
                      <a:pt x="180761" y="321830"/>
                      <a:pt x="193634" y="328267"/>
                    </a:cubicBezTo>
                    <a:cubicBezTo>
                      <a:pt x="198998" y="330948"/>
                      <a:pt x="204362" y="333630"/>
                      <a:pt x="209726" y="336312"/>
                    </a:cubicBezTo>
                    <a:cubicBezTo>
                      <a:pt x="210262" y="336312"/>
                      <a:pt x="210262" y="336849"/>
                      <a:pt x="210799" y="336849"/>
                    </a:cubicBezTo>
                    <a:cubicBezTo>
                      <a:pt x="212408" y="337385"/>
                      <a:pt x="214017" y="338458"/>
                      <a:pt x="215090" y="338994"/>
                    </a:cubicBezTo>
                    <a:cubicBezTo>
                      <a:pt x="217772" y="340067"/>
                      <a:pt x="220454" y="341676"/>
                      <a:pt x="223135" y="342749"/>
                    </a:cubicBezTo>
                    <a:cubicBezTo>
                      <a:pt x="231181" y="346504"/>
                      <a:pt x="239763" y="350258"/>
                      <a:pt x="248346" y="354013"/>
                    </a:cubicBezTo>
                    <a:cubicBezTo>
                      <a:pt x="249955" y="354549"/>
                      <a:pt x="251564" y="355622"/>
                      <a:pt x="253173" y="356158"/>
                    </a:cubicBezTo>
                    <a:cubicBezTo>
                      <a:pt x="264973" y="360986"/>
                      <a:pt x="277310" y="365813"/>
                      <a:pt x="289647" y="370641"/>
                    </a:cubicBezTo>
                    <a:cubicBezTo>
                      <a:pt x="293938" y="372250"/>
                      <a:pt x="347040" y="391560"/>
                      <a:pt x="366886" y="393169"/>
                    </a:cubicBezTo>
                    <a:cubicBezTo>
                      <a:pt x="377614" y="379223"/>
                      <a:pt x="388342" y="363668"/>
                      <a:pt x="398533" y="347576"/>
                    </a:cubicBezTo>
                    <a:cubicBezTo>
                      <a:pt x="416770" y="318075"/>
                      <a:pt x="433398" y="284819"/>
                      <a:pt x="446271" y="252636"/>
                    </a:cubicBezTo>
                    <a:cubicBezTo>
                      <a:pt x="448953" y="246200"/>
                      <a:pt x="451098" y="240300"/>
                      <a:pt x="453244" y="233863"/>
                    </a:cubicBezTo>
                    <a:cubicBezTo>
                      <a:pt x="454853" y="229572"/>
                      <a:pt x="455926" y="225817"/>
                      <a:pt x="457535" y="221526"/>
                    </a:cubicBezTo>
                    <a:cubicBezTo>
                      <a:pt x="459681" y="215626"/>
                      <a:pt x="461290" y="209189"/>
                      <a:pt x="462899" y="203289"/>
                    </a:cubicBezTo>
                    <a:cubicBezTo>
                      <a:pt x="463435" y="202216"/>
                      <a:pt x="463435" y="201144"/>
                      <a:pt x="463972" y="200071"/>
                    </a:cubicBezTo>
                    <a:cubicBezTo>
                      <a:pt x="463972" y="199535"/>
                      <a:pt x="464508" y="198998"/>
                      <a:pt x="464508" y="198462"/>
                    </a:cubicBezTo>
                    <a:cubicBezTo>
                      <a:pt x="465581" y="193634"/>
                      <a:pt x="466654" y="188271"/>
                      <a:pt x="467190" y="182907"/>
                    </a:cubicBezTo>
                    <a:cubicBezTo>
                      <a:pt x="467190" y="181834"/>
                      <a:pt x="467190" y="180225"/>
                      <a:pt x="467726" y="179152"/>
                    </a:cubicBezTo>
                    <a:cubicBezTo>
                      <a:pt x="468263" y="170570"/>
                      <a:pt x="466654" y="161451"/>
                      <a:pt x="465581" y="152869"/>
                    </a:cubicBezTo>
                    <a:cubicBezTo>
                      <a:pt x="465581" y="151796"/>
                      <a:pt x="465581" y="150724"/>
                      <a:pt x="465581" y="149651"/>
                    </a:cubicBezTo>
                    <a:cubicBezTo>
                      <a:pt x="465581" y="148042"/>
                      <a:pt x="465581" y="146969"/>
                      <a:pt x="465581" y="145360"/>
                    </a:cubicBezTo>
                    <a:cubicBezTo>
                      <a:pt x="465581" y="127659"/>
                      <a:pt x="468799" y="109959"/>
                      <a:pt x="473626" y="92794"/>
                    </a:cubicBezTo>
                    <a:cubicBezTo>
                      <a:pt x="474163" y="91185"/>
                      <a:pt x="474699" y="89576"/>
                      <a:pt x="474699" y="88503"/>
                    </a:cubicBezTo>
                    <a:cubicBezTo>
                      <a:pt x="480063" y="86894"/>
                      <a:pt x="485963" y="85285"/>
                      <a:pt x="490791" y="85285"/>
                    </a:cubicBezTo>
                    <a:cubicBezTo>
                      <a:pt x="492936" y="82603"/>
                      <a:pt x="494545" y="79921"/>
                      <a:pt x="496691" y="76703"/>
                    </a:cubicBezTo>
                    <a:cubicBezTo>
                      <a:pt x="496691" y="76703"/>
                      <a:pt x="496691" y="76703"/>
                      <a:pt x="496691" y="76703"/>
                    </a:cubicBezTo>
                    <a:cubicBezTo>
                      <a:pt x="497227" y="75630"/>
                      <a:pt x="497764" y="75094"/>
                      <a:pt x="498300" y="74021"/>
                    </a:cubicBezTo>
                    <a:cubicBezTo>
                      <a:pt x="498837" y="72948"/>
                      <a:pt x="499909" y="71875"/>
                      <a:pt x="500446" y="70266"/>
                    </a:cubicBezTo>
                    <a:cubicBezTo>
                      <a:pt x="501518" y="68657"/>
                      <a:pt x="502055" y="67584"/>
                      <a:pt x="503128" y="65975"/>
                    </a:cubicBezTo>
                    <a:cubicBezTo>
                      <a:pt x="503128" y="65439"/>
                      <a:pt x="503664" y="65439"/>
                      <a:pt x="503664" y="64902"/>
                    </a:cubicBezTo>
                    <a:cubicBezTo>
                      <a:pt x="504200" y="63830"/>
                      <a:pt x="505273" y="62220"/>
                      <a:pt x="505809" y="61148"/>
                    </a:cubicBezTo>
                    <a:cubicBezTo>
                      <a:pt x="505809" y="60611"/>
                      <a:pt x="506346" y="60075"/>
                      <a:pt x="506346" y="60075"/>
                    </a:cubicBezTo>
                    <a:cubicBezTo>
                      <a:pt x="506882" y="59002"/>
                      <a:pt x="507419" y="57929"/>
                      <a:pt x="507955" y="56857"/>
                    </a:cubicBezTo>
                    <a:cubicBezTo>
                      <a:pt x="508491" y="55784"/>
                      <a:pt x="509028" y="54711"/>
                      <a:pt x="509564" y="53638"/>
                    </a:cubicBezTo>
                    <a:cubicBezTo>
                      <a:pt x="510101" y="52566"/>
                      <a:pt x="510637" y="50956"/>
                      <a:pt x="511710" y="49884"/>
                    </a:cubicBezTo>
                    <a:cubicBezTo>
                      <a:pt x="512246" y="48274"/>
                      <a:pt x="513319" y="46665"/>
                      <a:pt x="513855" y="45056"/>
                    </a:cubicBezTo>
                    <a:cubicBezTo>
                      <a:pt x="514392" y="43447"/>
                      <a:pt x="515464" y="41838"/>
                      <a:pt x="516001" y="40229"/>
                    </a:cubicBezTo>
                    <a:cubicBezTo>
                      <a:pt x="516537" y="38620"/>
                      <a:pt x="517610" y="37010"/>
                      <a:pt x="518146" y="34865"/>
                    </a:cubicBezTo>
                    <a:cubicBezTo>
                      <a:pt x="518683" y="33792"/>
                      <a:pt x="519219" y="32183"/>
                      <a:pt x="519755" y="31110"/>
                    </a:cubicBezTo>
                    <a:cubicBezTo>
                      <a:pt x="520292" y="30037"/>
                      <a:pt x="520292" y="29501"/>
                      <a:pt x="520828" y="28428"/>
                    </a:cubicBezTo>
                    <a:cubicBezTo>
                      <a:pt x="521365" y="27356"/>
                      <a:pt x="521365" y="26283"/>
                      <a:pt x="521901" y="25210"/>
                    </a:cubicBezTo>
                    <a:cubicBezTo>
                      <a:pt x="522437" y="24137"/>
                      <a:pt x="522437" y="23064"/>
                      <a:pt x="522974" y="21992"/>
                    </a:cubicBezTo>
                    <a:cubicBezTo>
                      <a:pt x="522974" y="21455"/>
                      <a:pt x="523510" y="20383"/>
                      <a:pt x="523510" y="19846"/>
                    </a:cubicBezTo>
                    <a:cubicBezTo>
                      <a:pt x="523510" y="19310"/>
                      <a:pt x="523510" y="19310"/>
                      <a:pt x="524047" y="18773"/>
                    </a:cubicBezTo>
                    <a:cubicBezTo>
                      <a:pt x="524583" y="17701"/>
                      <a:pt x="524583" y="16628"/>
                      <a:pt x="525119" y="15555"/>
                    </a:cubicBezTo>
                    <a:cubicBezTo>
                      <a:pt x="525119" y="15019"/>
                      <a:pt x="525119" y="14482"/>
                      <a:pt x="525656" y="14482"/>
                    </a:cubicBezTo>
                    <a:cubicBezTo>
                      <a:pt x="526192" y="12873"/>
                      <a:pt x="526192" y="11800"/>
                      <a:pt x="526728" y="10191"/>
                    </a:cubicBezTo>
                    <a:cubicBezTo>
                      <a:pt x="527265" y="8582"/>
                      <a:pt x="527265" y="7509"/>
                      <a:pt x="527801" y="5900"/>
                    </a:cubicBezTo>
                    <a:cubicBezTo>
                      <a:pt x="527801" y="5364"/>
                      <a:pt x="527801" y="4827"/>
                      <a:pt x="528338" y="4291"/>
                    </a:cubicBezTo>
                    <a:cubicBezTo>
                      <a:pt x="528874" y="2682"/>
                      <a:pt x="528874" y="1609"/>
                      <a:pt x="529410" y="0"/>
                    </a:cubicBezTo>
                    <a:cubicBezTo>
                      <a:pt x="531020" y="536"/>
                      <a:pt x="532092" y="1073"/>
                      <a:pt x="533701" y="2146"/>
                    </a:cubicBezTo>
                    <a:cubicBezTo>
                      <a:pt x="551938" y="10728"/>
                      <a:pt x="572321" y="16628"/>
                      <a:pt x="592167" y="21992"/>
                    </a:cubicBezTo>
                    <a:cubicBezTo>
                      <a:pt x="595922" y="23064"/>
                      <a:pt x="599140" y="24137"/>
                      <a:pt x="602895" y="25210"/>
                    </a:cubicBezTo>
                    <a:cubicBezTo>
                      <a:pt x="606650" y="26283"/>
                      <a:pt x="609868" y="27356"/>
                      <a:pt x="613623" y="28428"/>
                    </a:cubicBezTo>
                    <a:cubicBezTo>
                      <a:pt x="614159" y="28428"/>
                      <a:pt x="615232" y="28965"/>
                      <a:pt x="615768" y="28965"/>
                    </a:cubicBezTo>
                    <a:cubicBezTo>
                      <a:pt x="617914" y="29501"/>
                      <a:pt x="619523" y="30037"/>
                      <a:pt x="621668" y="31110"/>
                    </a:cubicBezTo>
                    <a:cubicBezTo>
                      <a:pt x="623814" y="31647"/>
                      <a:pt x="625959" y="32719"/>
                      <a:pt x="628105" y="33256"/>
                    </a:cubicBezTo>
                    <a:cubicBezTo>
                      <a:pt x="630250" y="33792"/>
                      <a:pt x="632396" y="34865"/>
                      <a:pt x="634541" y="35401"/>
                    </a:cubicBezTo>
                    <a:cubicBezTo>
                      <a:pt x="640978" y="37547"/>
                      <a:pt x="646878" y="40229"/>
                      <a:pt x="652779" y="42911"/>
                    </a:cubicBezTo>
                    <a:cubicBezTo>
                      <a:pt x="645806" y="43447"/>
                      <a:pt x="647951" y="47738"/>
                      <a:pt x="656533" y="53102"/>
                    </a:cubicBezTo>
                    <a:cubicBezTo>
                      <a:pt x="666188" y="59539"/>
                      <a:pt x="673697" y="68657"/>
                      <a:pt x="677452" y="79921"/>
                    </a:cubicBezTo>
                    <a:cubicBezTo>
                      <a:pt x="680670" y="95476"/>
                      <a:pt x="677989" y="113713"/>
                      <a:pt x="674234" y="13087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93" name="Freeform: Shape 202"/>
              <p:cNvSpPr/>
              <p:nvPr/>
            </p:nvSpPr>
            <p:spPr>
              <a:xfrm>
                <a:off x="6944400" y="2271960"/>
                <a:ext cx="126360" cy="195480"/>
              </a:xfrm>
              <a:custGeom>
                <a:avLst/>
                <a:gdLst/>
                <a:ahLst/>
                <a:rect l="l" t="t" r="r" b="b"/>
                <a:pathLst>
                  <a:path w="163220" h="252100">
                    <a:moveTo>
                      <a:pt x="163221" y="57929"/>
                    </a:moveTo>
                    <a:cubicBezTo>
                      <a:pt x="113337" y="120150"/>
                      <a:pt x="65063" y="184516"/>
                      <a:pt x="22689" y="252100"/>
                    </a:cubicBezTo>
                    <a:cubicBezTo>
                      <a:pt x="21079" y="245663"/>
                      <a:pt x="18397" y="239763"/>
                      <a:pt x="13034" y="234936"/>
                    </a:cubicBezTo>
                    <a:cubicBezTo>
                      <a:pt x="9815" y="231718"/>
                      <a:pt x="5524" y="230108"/>
                      <a:pt x="1770" y="227963"/>
                    </a:cubicBezTo>
                    <a:cubicBezTo>
                      <a:pt x="-912" y="172715"/>
                      <a:pt x="-3058" y="117468"/>
                      <a:pt x="15179" y="65975"/>
                    </a:cubicBezTo>
                    <a:cubicBezTo>
                      <a:pt x="19470" y="54175"/>
                      <a:pt x="24298" y="42911"/>
                      <a:pt x="30198" y="31647"/>
                    </a:cubicBezTo>
                    <a:cubicBezTo>
                      <a:pt x="26980" y="44520"/>
                      <a:pt x="24834" y="57929"/>
                      <a:pt x="24834" y="71339"/>
                    </a:cubicBezTo>
                    <a:cubicBezTo>
                      <a:pt x="50044" y="51493"/>
                      <a:pt x="69354" y="28965"/>
                      <a:pt x="85445" y="0"/>
                    </a:cubicBezTo>
                    <a:cubicBezTo>
                      <a:pt x="89200" y="4291"/>
                      <a:pt x="94028" y="8046"/>
                      <a:pt x="98855" y="10728"/>
                    </a:cubicBezTo>
                    <a:cubicBezTo>
                      <a:pt x="102073" y="8582"/>
                      <a:pt x="104755" y="6437"/>
                      <a:pt x="107437" y="4291"/>
                    </a:cubicBezTo>
                    <a:cubicBezTo>
                      <a:pt x="107437" y="4291"/>
                      <a:pt x="107973" y="4291"/>
                      <a:pt x="107973" y="4827"/>
                    </a:cubicBezTo>
                    <a:cubicBezTo>
                      <a:pt x="107973" y="4827"/>
                      <a:pt x="107973" y="5364"/>
                      <a:pt x="107973" y="5364"/>
                    </a:cubicBezTo>
                    <a:cubicBezTo>
                      <a:pt x="114946" y="13946"/>
                      <a:pt x="121383" y="22528"/>
                      <a:pt x="127283" y="33256"/>
                    </a:cubicBezTo>
                    <a:cubicBezTo>
                      <a:pt x="133184" y="43447"/>
                      <a:pt x="139620" y="55247"/>
                      <a:pt x="147129" y="71339"/>
                    </a:cubicBezTo>
                    <a:cubicBezTo>
                      <a:pt x="153566" y="67584"/>
                      <a:pt x="158394" y="62757"/>
                      <a:pt x="163221" y="57929"/>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94" name="Freeform: Shape 203"/>
              <p:cNvSpPr/>
              <p:nvPr/>
            </p:nvSpPr>
            <p:spPr>
              <a:xfrm>
                <a:off x="6812280" y="2261520"/>
                <a:ext cx="516960" cy="452520"/>
              </a:xfrm>
              <a:custGeom>
                <a:avLst/>
                <a:gdLst/>
                <a:ahLst/>
                <a:rect l="l" t="t" r="r" b="b"/>
                <a:pathLst>
                  <a:path w="666540" h="582896">
                    <a:moveTo>
                      <a:pt x="663506" y="69730"/>
                    </a:moveTo>
                    <a:cubicBezTo>
                      <a:pt x="621668" y="217235"/>
                      <a:pt x="573930" y="323439"/>
                      <a:pt x="488109" y="444662"/>
                    </a:cubicBezTo>
                    <a:cubicBezTo>
                      <a:pt x="487572" y="446807"/>
                      <a:pt x="487036" y="448416"/>
                      <a:pt x="486500" y="450562"/>
                    </a:cubicBezTo>
                    <a:cubicBezTo>
                      <a:pt x="472017" y="497764"/>
                      <a:pt x="436080" y="543893"/>
                      <a:pt x="412479" y="565348"/>
                    </a:cubicBezTo>
                    <a:cubicBezTo>
                      <a:pt x="404969" y="572321"/>
                      <a:pt x="396924" y="578758"/>
                      <a:pt x="387269" y="581439"/>
                    </a:cubicBezTo>
                    <a:cubicBezTo>
                      <a:pt x="370105" y="586267"/>
                      <a:pt x="352404" y="578221"/>
                      <a:pt x="336849" y="570175"/>
                    </a:cubicBezTo>
                    <a:cubicBezTo>
                      <a:pt x="298766" y="551402"/>
                      <a:pt x="260682" y="533165"/>
                      <a:pt x="223135" y="514392"/>
                    </a:cubicBezTo>
                    <a:cubicBezTo>
                      <a:pt x="200071" y="503127"/>
                      <a:pt x="177543" y="491863"/>
                      <a:pt x="154478" y="480599"/>
                    </a:cubicBezTo>
                    <a:cubicBezTo>
                      <a:pt x="102986" y="455389"/>
                      <a:pt x="51493" y="430179"/>
                      <a:pt x="0" y="404969"/>
                    </a:cubicBezTo>
                    <a:cubicBezTo>
                      <a:pt x="107813" y="444125"/>
                      <a:pt x="215626" y="484890"/>
                      <a:pt x="319148" y="533165"/>
                    </a:cubicBezTo>
                    <a:cubicBezTo>
                      <a:pt x="342749" y="544429"/>
                      <a:pt x="371714" y="555693"/>
                      <a:pt x="393705" y="541211"/>
                    </a:cubicBezTo>
                    <a:cubicBezTo>
                      <a:pt x="403897" y="534774"/>
                      <a:pt x="410333" y="524046"/>
                      <a:pt x="415697" y="513319"/>
                    </a:cubicBezTo>
                    <a:cubicBezTo>
                      <a:pt x="435007" y="475772"/>
                      <a:pt x="447880" y="434470"/>
                      <a:pt x="472017" y="399606"/>
                    </a:cubicBezTo>
                    <a:cubicBezTo>
                      <a:pt x="489182" y="374932"/>
                      <a:pt x="511173" y="354013"/>
                      <a:pt x="529410" y="329876"/>
                    </a:cubicBezTo>
                    <a:cubicBezTo>
                      <a:pt x="547647" y="305738"/>
                      <a:pt x="561057" y="278383"/>
                      <a:pt x="574467" y="251564"/>
                    </a:cubicBezTo>
                    <a:cubicBezTo>
                      <a:pt x="600213" y="199535"/>
                      <a:pt x="626496" y="146433"/>
                      <a:pt x="639905" y="89576"/>
                    </a:cubicBezTo>
                    <a:cubicBezTo>
                      <a:pt x="644196" y="72412"/>
                      <a:pt x="646878" y="54175"/>
                      <a:pt x="641515" y="37010"/>
                    </a:cubicBezTo>
                    <a:cubicBezTo>
                      <a:pt x="638296" y="25746"/>
                      <a:pt x="630787" y="16628"/>
                      <a:pt x="620596" y="10191"/>
                    </a:cubicBezTo>
                    <a:cubicBezTo>
                      <a:pt x="612013" y="4827"/>
                      <a:pt x="610404" y="536"/>
                      <a:pt x="616841" y="0"/>
                    </a:cubicBezTo>
                    <a:cubicBezTo>
                      <a:pt x="628105" y="5364"/>
                      <a:pt x="638296" y="11264"/>
                      <a:pt x="647951" y="19310"/>
                    </a:cubicBezTo>
                    <a:cubicBezTo>
                      <a:pt x="648487" y="19310"/>
                      <a:pt x="648487" y="19846"/>
                      <a:pt x="649024" y="19846"/>
                    </a:cubicBezTo>
                    <a:cubicBezTo>
                      <a:pt x="657070" y="26283"/>
                      <a:pt x="664043" y="34865"/>
                      <a:pt x="665652" y="44520"/>
                    </a:cubicBezTo>
                    <a:cubicBezTo>
                      <a:pt x="667797" y="53102"/>
                      <a:pt x="665652" y="61684"/>
                      <a:pt x="663506" y="69730"/>
                    </a:cubicBezTo>
                    <a:close/>
                  </a:path>
                </a:pathLst>
              </a:custGeom>
              <a:noFill/>
              <a:ln w="540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95" name="Freeform: Shape 204"/>
              <p:cNvSpPr/>
              <p:nvPr/>
            </p:nvSpPr>
            <p:spPr>
              <a:xfrm>
                <a:off x="6964920" y="2203200"/>
                <a:ext cx="70560" cy="124560"/>
              </a:xfrm>
              <a:custGeom>
                <a:avLst/>
                <a:gdLst/>
                <a:ahLst/>
                <a:rect l="l" t="t" r="r" b="b"/>
                <a:pathLst>
                  <a:path w="91185" h="160646">
                    <a:moveTo>
                      <a:pt x="91185" y="84480"/>
                    </a:moveTo>
                    <a:cubicBezTo>
                      <a:pt x="87431" y="87162"/>
                      <a:pt x="84749" y="90381"/>
                      <a:pt x="83676" y="93062"/>
                    </a:cubicBezTo>
                    <a:cubicBezTo>
                      <a:pt x="83139" y="93062"/>
                      <a:pt x="83139" y="93599"/>
                      <a:pt x="82603" y="93599"/>
                    </a:cubicBezTo>
                    <a:cubicBezTo>
                      <a:pt x="79921" y="95744"/>
                      <a:pt x="76703" y="97890"/>
                      <a:pt x="74021" y="100035"/>
                    </a:cubicBezTo>
                    <a:cubicBezTo>
                      <a:pt x="69193" y="96817"/>
                      <a:pt x="64366" y="93599"/>
                      <a:pt x="60611" y="89308"/>
                    </a:cubicBezTo>
                    <a:cubicBezTo>
                      <a:pt x="44520" y="118272"/>
                      <a:pt x="25210" y="140801"/>
                      <a:pt x="0" y="160647"/>
                    </a:cubicBezTo>
                    <a:cubicBezTo>
                      <a:pt x="0" y="147237"/>
                      <a:pt x="2146" y="133828"/>
                      <a:pt x="5364" y="120954"/>
                    </a:cubicBezTo>
                    <a:cubicBezTo>
                      <a:pt x="8582" y="108618"/>
                      <a:pt x="12873" y="96281"/>
                      <a:pt x="17701" y="84480"/>
                    </a:cubicBezTo>
                    <a:cubicBezTo>
                      <a:pt x="18237" y="82871"/>
                      <a:pt x="19310" y="80726"/>
                      <a:pt x="19846" y="79117"/>
                    </a:cubicBezTo>
                    <a:cubicBezTo>
                      <a:pt x="23601" y="71071"/>
                      <a:pt x="27892" y="62489"/>
                      <a:pt x="32183" y="54443"/>
                    </a:cubicBezTo>
                    <a:cubicBezTo>
                      <a:pt x="32719" y="53370"/>
                      <a:pt x="33792" y="51761"/>
                      <a:pt x="34329" y="50688"/>
                    </a:cubicBezTo>
                    <a:cubicBezTo>
                      <a:pt x="34865" y="49615"/>
                      <a:pt x="35401" y="48006"/>
                      <a:pt x="36474" y="46934"/>
                    </a:cubicBezTo>
                    <a:cubicBezTo>
                      <a:pt x="36474" y="46397"/>
                      <a:pt x="37010" y="46397"/>
                      <a:pt x="37010" y="45861"/>
                    </a:cubicBezTo>
                    <a:cubicBezTo>
                      <a:pt x="38620" y="43179"/>
                      <a:pt x="39692" y="41033"/>
                      <a:pt x="41302" y="38351"/>
                    </a:cubicBezTo>
                    <a:cubicBezTo>
                      <a:pt x="46129" y="30306"/>
                      <a:pt x="50420" y="22796"/>
                      <a:pt x="55248" y="14751"/>
                    </a:cubicBezTo>
                    <a:cubicBezTo>
                      <a:pt x="56857" y="12069"/>
                      <a:pt x="61148" y="4023"/>
                      <a:pt x="64902" y="1341"/>
                    </a:cubicBezTo>
                    <a:cubicBezTo>
                      <a:pt x="67048" y="-268"/>
                      <a:pt x="69193" y="-805"/>
                      <a:pt x="70803" y="1877"/>
                    </a:cubicBezTo>
                    <a:cubicBezTo>
                      <a:pt x="72412" y="4559"/>
                      <a:pt x="71339" y="13141"/>
                      <a:pt x="71339" y="16360"/>
                    </a:cubicBezTo>
                    <a:cubicBezTo>
                      <a:pt x="71875" y="21187"/>
                      <a:pt x="72412" y="26015"/>
                      <a:pt x="73485" y="30842"/>
                    </a:cubicBezTo>
                    <a:cubicBezTo>
                      <a:pt x="75094" y="40497"/>
                      <a:pt x="77776" y="50152"/>
                      <a:pt x="80994" y="59807"/>
                    </a:cubicBezTo>
                    <a:cubicBezTo>
                      <a:pt x="80994" y="61952"/>
                      <a:pt x="89040" y="79117"/>
                      <a:pt x="91185" y="8448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96" name="Freeform: Shape 205"/>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313c3f"/>
                  </a:solidFill>
                  <a:latin typeface="Source Sans Pro"/>
                </a:endParaRPr>
              </a:p>
            </p:txBody>
          </p:sp>
          <p:sp>
            <p:nvSpPr>
              <p:cNvPr id="2497" name="Freeform: Shape 206"/>
              <p:cNvSpPr/>
              <p:nvPr/>
            </p:nvSpPr>
            <p:spPr>
              <a:xfrm>
                <a:off x="6958080" y="1962000"/>
                <a:ext cx="233280" cy="254520"/>
              </a:xfrm>
              <a:custGeom>
                <a:avLst/>
                <a:gdLst/>
                <a:ahLst/>
                <a:rect l="l" t="t" r="r" b="b"/>
                <a:pathLst>
                  <a:path w="300973" h="327724">
                    <a:moveTo>
                      <a:pt x="298258" y="141605"/>
                    </a:moveTo>
                    <a:cubicBezTo>
                      <a:pt x="295576" y="152333"/>
                      <a:pt x="293967" y="163060"/>
                      <a:pt x="292358" y="173788"/>
                    </a:cubicBezTo>
                    <a:cubicBezTo>
                      <a:pt x="291285" y="182907"/>
                      <a:pt x="291285" y="192025"/>
                      <a:pt x="286994" y="200071"/>
                    </a:cubicBezTo>
                    <a:cubicBezTo>
                      <a:pt x="286458" y="201144"/>
                      <a:pt x="285385" y="202753"/>
                      <a:pt x="284312" y="203826"/>
                    </a:cubicBezTo>
                    <a:cubicBezTo>
                      <a:pt x="282167" y="205435"/>
                      <a:pt x="278948" y="204898"/>
                      <a:pt x="276803" y="203289"/>
                    </a:cubicBezTo>
                    <a:cubicBezTo>
                      <a:pt x="274657" y="201680"/>
                      <a:pt x="273048" y="199535"/>
                      <a:pt x="271975" y="197389"/>
                    </a:cubicBezTo>
                    <a:cubicBezTo>
                      <a:pt x="271975" y="197389"/>
                      <a:pt x="271975" y="196853"/>
                      <a:pt x="271439" y="196853"/>
                    </a:cubicBezTo>
                    <a:cubicBezTo>
                      <a:pt x="269830" y="214017"/>
                      <a:pt x="260711" y="235472"/>
                      <a:pt x="249984" y="254782"/>
                    </a:cubicBezTo>
                    <a:cubicBezTo>
                      <a:pt x="237111" y="277847"/>
                      <a:pt x="222628" y="297693"/>
                      <a:pt x="216192" y="303593"/>
                    </a:cubicBezTo>
                    <a:cubicBezTo>
                      <a:pt x="184545" y="333630"/>
                      <a:pt x="162017" y="326121"/>
                      <a:pt x="153971" y="326657"/>
                    </a:cubicBezTo>
                    <a:cubicBezTo>
                      <a:pt x="125543" y="327730"/>
                      <a:pt x="123397" y="330948"/>
                      <a:pt x="100333" y="316466"/>
                    </a:cubicBezTo>
                    <a:cubicBezTo>
                      <a:pt x="91751" y="311102"/>
                      <a:pt x="80487" y="296084"/>
                      <a:pt x="72441" y="284820"/>
                    </a:cubicBezTo>
                    <a:cubicBezTo>
                      <a:pt x="67613" y="277847"/>
                      <a:pt x="64395" y="272483"/>
                      <a:pt x="63859" y="271946"/>
                    </a:cubicBezTo>
                    <a:cubicBezTo>
                      <a:pt x="52058" y="252637"/>
                      <a:pt x="37040" y="230108"/>
                      <a:pt x="37576" y="208117"/>
                    </a:cubicBezTo>
                    <a:cubicBezTo>
                      <a:pt x="37576" y="207044"/>
                      <a:pt x="37576" y="205971"/>
                      <a:pt x="37576" y="205435"/>
                    </a:cubicBezTo>
                    <a:cubicBezTo>
                      <a:pt x="34894" y="208117"/>
                      <a:pt x="32748" y="211335"/>
                      <a:pt x="29530" y="212944"/>
                    </a:cubicBezTo>
                    <a:cubicBezTo>
                      <a:pt x="26312" y="214553"/>
                      <a:pt x="22557" y="212408"/>
                      <a:pt x="20412" y="210262"/>
                    </a:cubicBezTo>
                    <a:cubicBezTo>
                      <a:pt x="17193" y="207044"/>
                      <a:pt x="15584" y="202753"/>
                      <a:pt x="13975" y="198462"/>
                    </a:cubicBezTo>
                    <a:cubicBezTo>
                      <a:pt x="6466" y="179152"/>
                      <a:pt x="-507" y="158769"/>
                      <a:pt x="29" y="138387"/>
                    </a:cubicBezTo>
                    <a:cubicBezTo>
                      <a:pt x="29" y="135169"/>
                      <a:pt x="3784" y="120150"/>
                      <a:pt x="12902" y="124441"/>
                    </a:cubicBezTo>
                    <a:cubicBezTo>
                      <a:pt x="12902" y="124441"/>
                      <a:pt x="12902" y="124441"/>
                      <a:pt x="13439" y="124441"/>
                    </a:cubicBezTo>
                    <a:cubicBezTo>
                      <a:pt x="16657" y="126050"/>
                      <a:pt x="25775" y="130341"/>
                      <a:pt x="28457" y="137314"/>
                    </a:cubicBezTo>
                    <a:cubicBezTo>
                      <a:pt x="28457" y="137314"/>
                      <a:pt x="28457" y="137314"/>
                      <a:pt x="28457" y="137314"/>
                    </a:cubicBezTo>
                    <a:cubicBezTo>
                      <a:pt x="28994" y="138387"/>
                      <a:pt x="29530" y="139996"/>
                      <a:pt x="29530" y="141605"/>
                    </a:cubicBezTo>
                    <a:cubicBezTo>
                      <a:pt x="33285" y="141605"/>
                      <a:pt x="32212" y="142142"/>
                      <a:pt x="34894" y="141605"/>
                    </a:cubicBezTo>
                    <a:cubicBezTo>
                      <a:pt x="34894" y="141605"/>
                      <a:pt x="34894" y="141605"/>
                      <a:pt x="34894" y="141605"/>
                    </a:cubicBezTo>
                    <a:cubicBezTo>
                      <a:pt x="36503" y="120150"/>
                      <a:pt x="37040" y="89576"/>
                      <a:pt x="36503" y="68657"/>
                    </a:cubicBezTo>
                    <a:cubicBezTo>
                      <a:pt x="55813" y="52566"/>
                      <a:pt x="59568" y="33792"/>
                      <a:pt x="65468" y="9119"/>
                    </a:cubicBezTo>
                    <a:cubicBezTo>
                      <a:pt x="78877" y="10728"/>
                      <a:pt x="90678" y="11800"/>
                      <a:pt x="103015" y="16628"/>
                    </a:cubicBezTo>
                    <a:cubicBezTo>
                      <a:pt x="98187" y="10191"/>
                      <a:pt x="92823" y="4827"/>
                      <a:pt x="86387" y="0"/>
                    </a:cubicBezTo>
                    <a:cubicBezTo>
                      <a:pt x="107842" y="5900"/>
                      <a:pt x="129834" y="11800"/>
                      <a:pt x="151826" y="12337"/>
                    </a:cubicBezTo>
                    <a:cubicBezTo>
                      <a:pt x="162553" y="12337"/>
                      <a:pt x="173281" y="11264"/>
                      <a:pt x="184545" y="9655"/>
                    </a:cubicBezTo>
                    <a:cubicBezTo>
                      <a:pt x="187227" y="9119"/>
                      <a:pt x="189909" y="9119"/>
                      <a:pt x="192054" y="8582"/>
                    </a:cubicBezTo>
                    <a:cubicBezTo>
                      <a:pt x="208146" y="6437"/>
                      <a:pt x="224237" y="4291"/>
                      <a:pt x="240329" y="2682"/>
                    </a:cubicBezTo>
                    <a:cubicBezTo>
                      <a:pt x="246765" y="2146"/>
                      <a:pt x="250520" y="10191"/>
                      <a:pt x="250520" y="16628"/>
                    </a:cubicBezTo>
                    <a:cubicBezTo>
                      <a:pt x="250520" y="23064"/>
                      <a:pt x="248911" y="30037"/>
                      <a:pt x="251056" y="35938"/>
                    </a:cubicBezTo>
                    <a:cubicBezTo>
                      <a:pt x="253202" y="41302"/>
                      <a:pt x="258029" y="45056"/>
                      <a:pt x="260711" y="49884"/>
                    </a:cubicBezTo>
                    <a:cubicBezTo>
                      <a:pt x="262857" y="54175"/>
                      <a:pt x="262857" y="59539"/>
                      <a:pt x="262857" y="64366"/>
                    </a:cubicBezTo>
                    <a:cubicBezTo>
                      <a:pt x="263393" y="89576"/>
                      <a:pt x="263930" y="114250"/>
                      <a:pt x="263930" y="139460"/>
                    </a:cubicBezTo>
                    <a:cubicBezTo>
                      <a:pt x="263930" y="141069"/>
                      <a:pt x="263930" y="142142"/>
                      <a:pt x="263930" y="143751"/>
                    </a:cubicBezTo>
                    <a:cubicBezTo>
                      <a:pt x="263930" y="143751"/>
                      <a:pt x="264466" y="143751"/>
                      <a:pt x="264466" y="143751"/>
                    </a:cubicBezTo>
                    <a:cubicBezTo>
                      <a:pt x="266612" y="143214"/>
                      <a:pt x="268757" y="142678"/>
                      <a:pt x="270903" y="142142"/>
                    </a:cubicBezTo>
                    <a:cubicBezTo>
                      <a:pt x="270903" y="142142"/>
                      <a:pt x="270903" y="142142"/>
                      <a:pt x="271439" y="142142"/>
                    </a:cubicBezTo>
                    <a:cubicBezTo>
                      <a:pt x="271439" y="138923"/>
                      <a:pt x="270366" y="137314"/>
                      <a:pt x="271439" y="134632"/>
                    </a:cubicBezTo>
                    <a:cubicBezTo>
                      <a:pt x="274121" y="129268"/>
                      <a:pt x="277339" y="123905"/>
                      <a:pt x="281094" y="119077"/>
                    </a:cubicBezTo>
                    <a:cubicBezTo>
                      <a:pt x="282167" y="117468"/>
                      <a:pt x="283776" y="115859"/>
                      <a:pt x="285385" y="114786"/>
                    </a:cubicBezTo>
                    <a:cubicBezTo>
                      <a:pt x="287531" y="113713"/>
                      <a:pt x="289140" y="113713"/>
                      <a:pt x="291285" y="114250"/>
                    </a:cubicBezTo>
                    <a:cubicBezTo>
                      <a:pt x="295040" y="115322"/>
                      <a:pt x="298795" y="119077"/>
                      <a:pt x="300404" y="122832"/>
                    </a:cubicBezTo>
                    <a:cubicBezTo>
                      <a:pt x="302013" y="128732"/>
                      <a:pt x="299867" y="135169"/>
                      <a:pt x="298258" y="141605"/>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98" name="Freeform: Shape 207"/>
              <p:cNvSpPr/>
              <p:nvPr/>
            </p:nvSpPr>
            <p:spPr>
              <a:xfrm>
                <a:off x="6960600" y="1889640"/>
                <a:ext cx="223920" cy="183240"/>
              </a:xfrm>
              <a:custGeom>
                <a:avLst/>
                <a:gdLst/>
                <a:ahLst/>
                <a:rect l="l" t="t" r="r" b="b"/>
                <a:pathLst>
                  <a:path w="288570" h="236352">
                    <a:moveTo>
                      <a:pt x="288034" y="197196"/>
                    </a:moveTo>
                    <a:cubicBezTo>
                      <a:pt x="288034" y="200415"/>
                      <a:pt x="288034" y="203633"/>
                      <a:pt x="288034" y="206851"/>
                    </a:cubicBezTo>
                    <a:cubicBezTo>
                      <a:pt x="285889" y="206315"/>
                      <a:pt x="283743" y="206315"/>
                      <a:pt x="282134" y="207388"/>
                    </a:cubicBezTo>
                    <a:cubicBezTo>
                      <a:pt x="280525" y="208460"/>
                      <a:pt x="278916" y="210070"/>
                      <a:pt x="277843" y="211679"/>
                    </a:cubicBezTo>
                    <a:cubicBezTo>
                      <a:pt x="274088" y="216506"/>
                      <a:pt x="270870" y="221870"/>
                      <a:pt x="268188" y="227234"/>
                    </a:cubicBezTo>
                    <a:cubicBezTo>
                      <a:pt x="267115" y="229916"/>
                      <a:pt x="268188" y="232061"/>
                      <a:pt x="268188" y="234743"/>
                    </a:cubicBezTo>
                    <a:cubicBezTo>
                      <a:pt x="266042" y="235280"/>
                      <a:pt x="263360" y="235816"/>
                      <a:pt x="261215" y="236352"/>
                    </a:cubicBezTo>
                    <a:cubicBezTo>
                      <a:pt x="260679" y="210070"/>
                      <a:pt x="260142" y="183250"/>
                      <a:pt x="260142" y="156968"/>
                    </a:cubicBezTo>
                    <a:cubicBezTo>
                      <a:pt x="260142" y="152140"/>
                      <a:pt x="260142" y="146776"/>
                      <a:pt x="257997" y="142485"/>
                    </a:cubicBezTo>
                    <a:cubicBezTo>
                      <a:pt x="255315" y="137122"/>
                      <a:pt x="250487" y="133903"/>
                      <a:pt x="248342" y="128539"/>
                    </a:cubicBezTo>
                    <a:cubicBezTo>
                      <a:pt x="246196" y="122639"/>
                      <a:pt x="247805" y="115666"/>
                      <a:pt x="247805" y="109230"/>
                    </a:cubicBezTo>
                    <a:cubicBezTo>
                      <a:pt x="247805" y="102793"/>
                      <a:pt x="244051" y="94211"/>
                      <a:pt x="237614" y="95284"/>
                    </a:cubicBezTo>
                    <a:cubicBezTo>
                      <a:pt x="218841" y="97429"/>
                      <a:pt x="200067" y="100111"/>
                      <a:pt x="181830" y="102257"/>
                    </a:cubicBezTo>
                    <a:cubicBezTo>
                      <a:pt x="171103" y="103866"/>
                      <a:pt x="160375" y="104939"/>
                      <a:pt x="149111" y="104939"/>
                    </a:cubicBezTo>
                    <a:cubicBezTo>
                      <a:pt x="126583" y="104939"/>
                      <a:pt x="105127" y="99038"/>
                      <a:pt x="83672" y="92602"/>
                    </a:cubicBezTo>
                    <a:cubicBezTo>
                      <a:pt x="90109" y="97429"/>
                      <a:pt x="95472" y="102793"/>
                      <a:pt x="100300" y="109230"/>
                    </a:cubicBezTo>
                    <a:cubicBezTo>
                      <a:pt x="87427" y="104402"/>
                      <a:pt x="76163" y="103329"/>
                      <a:pt x="62753" y="101720"/>
                    </a:cubicBezTo>
                    <a:cubicBezTo>
                      <a:pt x="57389" y="126394"/>
                      <a:pt x="53098" y="144631"/>
                      <a:pt x="33788" y="161259"/>
                    </a:cubicBezTo>
                    <a:cubicBezTo>
                      <a:pt x="34325" y="182714"/>
                      <a:pt x="33788" y="213288"/>
                      <a:pt x="32179" y="234207"/>
                    </a:cubicBezTo>
                    <a:cubicBezTo>
                      <a:pt x="29497" y="234743"/>
                      <a:pt x="30570" y="234207"/>
                      <a:pt x="26815" y="234207"/>
                    </a:cubicBezTo>
                    <a:cubicBezTo>
                      <a:pt x="26279" y="225088"/>
                      <a:pt x="15015" y="218652"/>
                      <a:pt x="10724" y="217043"/>
                    </a:cubicBezTo>
                    <a:cubicBezTo>
                      <a:pt x="8578" y="200415"/>
                      <a:pt x="5896" y="184323"/>
                      <a:pt x="3215" y="168232"/>
                    </a:cubicBezTo>
                    <a:cubicBezTo>
                      <a:pt x="-2149" y="136585"/>
                      <a:pt x="-10731" y="8926"/>
                      <a:pt x="70799" y="33600"/>
                    </a:cubicBezTo>
                    <a:cubicBezTo>
                      <a:pt x="106737" y="6780"/>
                      <a:pt x="225814" y="-45249"/>
                      <a:pt x="288570" y="81874"/>
                    </a:cubicBezTo>
                    <a:cubicBezTo>
                      <a:pt x="283743" y="75974"/>
                      <a:pt x="276770" y="72219"/>
                      <a:pt x="269261" y="71146"/>
                    </a:cubicBezTo>
                    <a:cubicBezTo>
                      <a:pt x="276234" y="74901"/>
                      <a:pt x="278916" y="82947"/>
                      <a:pt x="280525" y="89920"/>
                    </a:cubicBezTo>
                    <a:cubicBezTo>
                      <a:pt x="288034" y="125321"/>
                      <a:pt x="288570" y="161259"/>
                      <a:pt x="288034" y="197196"/>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499" name="Freeform: Shape 208"/>
              <p:cNvSpPr/>
              <p:nvPr/>
            </p:nvSpPr>
            <p:spPr>
              <a:xfrm>
                <a:off x="7000560" y="1891080"/>
                <a:ext cx="57960" cy="44280"/>
              </a:xfrm>
              <a:custGeom>
                <a:avLst/>
                <a:gdLst/>
                <a:ahLst/>
                <a:rect l="l" t="t" r="r" b="b"/>
                <a:pathLst>
                  <a:path w="74912" h="57174">
                    <a:moveTo>
                      <a:pt x="31466" y="17701"/>
                    </a:moveTo>
                    <a:cubicBezTo>
                      <a:pt x="44875" y="9655"/>
                      <a:pt x="59894" y="4827"/>
                      <a:pt x="74913" y="0"/>
                    </a:cubicBezTo>
                    <a:cubicBezTo>
                      <a:pt x="62040" y="4291"/>
                      <a:pt x="51848" y="13410"/>
                      <a:pt x="41657" y="22528"/>
                    </a:cubicBezTo>
                    <a:cubicBezTo>
                      <a:pt x="36830" y="26819"/>
                      <a:pt x="31466" y="31110"/>
                      <a:pt x="27711" y="37010"/>
                    </a:cubicBezTo>
                    <a:cubicBezTo>
                      <a:pt x="25029" y="40765"/>
                      <a:pt x="22884" y="45056"/>
                      <a:pt x="20202" y="48811"/>
                    </a:cubicBezTo>
                    <a:cubicBezTo>
                      <a:pt x="17520" y="52566"/>
                      <a:pt x="13765" y="55784"/>
                      <a:pt x="8938" y="56857"/>
                    </a:cubicBezTo>
                    <a:cubicBezTo>
                      <a:pt x="-6618" y="59539"/>
                      <a:pt x="1965" y="44520"/>
                      <a:pt x="6256" y="38620"/>
                    </a:cubicBezTo>
                    <a:cubicBezTo>
                      <a:pt x="13229" y="30574"/>
                      <a:pt x="21811" y="23601"/>
                      <a:pt x="31466" y="17701"/>
                    </a:cubicBezTo>
                    <a:close/>
                  </a:path>
                </a:pathLst>
              </a:custGeom>
              <a:solidFill>
                <a:srgbClr val="231f20"/>
              </a:solidFill>
              <a:ln w="0">
                <a:noFill/>
              </a:ln>
            </p:spPr>
            <p:style>
              <a:lnRef idx="0"/>
              <a:fillRef idx="0"/>
              <a:effectRef idx="0"/>
              <a:fontRef idx="minor"/>
            </p:style>
            <p:txBody>
              <a:bodyPr lIns="90000" rIns="90000" tIns="-2520" bIns="-2520" anchor="ctr">
                <a:noAutofit/>
              </a:bodyPr>
              <a:p>
                <a:endParaRPr b="0" lang="en-US" sz="1800" spc="-1" strike="noStrike">
                  <a:solidFill>
                    <a:srgbClr val="313c3f"/>
                  </a:solidFill>
                  <a:latin typeface="Source Sans Pro"/>
                </a:endParaRPr>
              </a:p>
            </p:txBody>
          </p:sp>
          <p:sp>
            <p:nvSpPr>
              <p:cNvPr id="2500" name="Freeform: Shape 209"/>
              <p:cNvSpPr/>
              <p:nvPr/>
            </p:nvSpPr>
            <p:spPr>
              <a:xfrm>
                <a:off x="6988320" y="1907280"/>
                <a:ext cx="38520" cy="19440"/>
              </a:xfrm>
              <a:custGeom>
                <a:avLst/>
                <a:gdLst/>
                <a:ahLst/>
                <a:rect l="l" t="t" r="r" b="b"/>
                <a:pathLst>
                  <a:path w="49891" h="25277">
                    <a:moveTo>
                      <a:pt x="26819" y="603"/>
                    </a:moveTo>
                    <a:cubicBezTo>
                      <a:pt x="17701" y="-1006"/>
                      <a:pt x="8046" y="603"/>
                      <a:pt x="0" y="5431"/>
                    </a:cubicBezTo>
                    <a:cubicBezTo>
                      <a:pt x="4827" y="3285"/>
                      <a:pt x="10728" y="3822"/>
                      <a:pt x="16092" y="4894"/>
                    </a:cubicBezTo>
                    <a:cubicBezTo>
                      <a:pt x="19846" y="5431"/>
                      <a:pt x="23064" y="5967"/>
                      <a:pt x="26283" y="7576"/>
                    </a:cubicBezTo>
                    <a:cubicBezTo>
                      <a:pt x="30574" y="10258"/>
                      <a:pt x="33256" y="15086"/>
                      <a:pt x="35401" y="19913"/>
                    </a:cubicBezTo>
                    <a:cubicBezTo>
                      <a:pt x="35938" y="20986"/>
                      <a:pt x="36474" y="22595"/>
                      <a:pt x="37547" y="23668"/>
                    </a:cubicBezTo>
                    <a:cubicBezTo>
                      <a:pt x="39692" y="25813"/>
                      <a:pt x="43983" y="25813"/>
                      <a:pt x="46129" y="23668"/>
                    </a:cubicBezTo>
                    <a:cubicBezTo>
                      <a:pt x="59002" y="12404"/>
                      <a:pt x="35401" y="2213"/>
                      <a:pt x="26819" y="603"/>
                    </a:cubicBezTo>
                    <a:close/>
                  </a:path>
                </a:pathLst>
              </a:custGeom>
              <a:solidFill>
                <a:srgbClr val="231f20"/>
              </a:solidFill>
              <a:ln w="0">
                <a:noFill/>
              </a:ln>
            </p:spPr>
            <p:style>
              <a:lnRef idx="0"/>
              <a:fillRef idx="0"/>
              <a:effectRef idx="0"/>
              <a:fontRef idx="minor"/>
            </p:style>
            <p:txBody>
              <a:bodyPr lIns="90000" rIns="90000" tIns="-27360" bIns="-27360" anchor="ctr">
                <a:noAutofit/>
              </a:bodyPr>
              <a:p>
                <a:endParaRPr b="0" lang="en-US" sz="1800" spc="-1" strike="noStrike">
                  <a:solidFill>
                    <a:srgbClr val="313c3f"/>
                  </a:solidFill>
                  <a:latin typeface="Source Sans Pro"/>
                </a:endParaRPr>
              </a:p>
            </p:txBody>
          </p:sp>
          <p:sp>
            <p:nvSpPr>
              <p:cNvPr id="2501" name="Freeform: Shape 210"/>
              <p:cNvSpPr/>
              <p:nvPr/>
            </p:nvSpPr>
            <p:spPr>
              <a:xfrm>
                <a:off x="7014960" y="2160360"/>
                <a:ext cx="137520" cy="117000"/>
              </a:xfrm>
              <a:custGeom>
                <a:avLst/>
                <a:gdLst/>
                <a:ahLst/>
                <a:rect l="l" t="t" r="r" b="b"/>
                <a:pathLst>
                  <a:path w="177542" h="150723">
                    <a:moveTo>
                      <a:pt x="177543" y="0"/>
                    </a:moveTo>
                    <a:lnTo>
                      <a:pt x="177543" y="30574"/>
                    </a:lnTo>
                    <a:cubicBezTo>
                      <a:pt x="177543" y="57929"/>
                      <a:pt x="90112" y="104595"/>
                      <a:pt x="58466" y="121223"/>
                    </a:cubicBezTo>
                    <a:cubicBezTo>
                      <a:pt x="52566" y="124441"/>
                      <a:pt x="48811" y="126050"/>
                      <a:pt x="47202" y="127123"/>
                    </a:cubicBezTo>
                    <a:cubicBezTo>
                      <a:pt x="40229" y="131414"/>
                      <a:pt x="20383" y="142678"/>
                      <a:pt x="18237" y="150724"/>
                    </a:cubicBezTo>
                    <a:cubicBezTo>
                      <a:pt x="12337" y="143214"/>
                      <a:pt x="8046" y="136241"/>
                      <a:pt x="2146" y="124441"/>
                    </a:cubicBezTo>
                    <a:cubicBezTo>
                      <a:pt x="1073" y="94940"/>
                      <a:pt x="536" y="64366"/>
                      <a:pt x="0" y="34328"/>
                    </a:cubicBezTo>
                    <a:cubicBezTo>
                      <a:pt x="0" y="33256"/>
                      <a:pt x="0" y="31647"/>
                      <a:pt x="0" y="30574"/>
                    </a:cubicBezTo>
                    <a:cubicBezTo>
                      <a:pt x="7509" y="41838"/>
                      <a:pt x="19310" y="56857"/>
                      <a:pt x="27892" y="62220"/>
                    </a:cubicBezTo>
                    <a:cubicBezTo>
                      <a:pt x="50956" y="76703"/>
                      <a:pt x="53102" y="73484"/>
                      <a:pt x="81530" y="72412"/>
                    </a:cubicBezTo>
                    <a:cubicBezTo>
                      <a:pt x="89576" y="71875"/>
                      <a:pt x="112104" y="79385"/>
                      <a:pt x="143751" y="49347"/>
                    </a:cubicBezTo>
                    <a:cubicBezTo>
                      <a:pt x="149651" y="42374"/>
                      <a:pt x="164670" y="22528"/>
                      <a:pt x="177543"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02" name="Freeform: Shape 211"/>
              <p:cNvSpPr/>
              <p:nvPr/>
            </p:nvSpPr>
            <p:spPr>
              <a:xfrm>
                <a:off x="7015320" y="2160360"/>
                <a:ext cx="137160" cy="93960"/>
              </a:xfrm>
              <a:custGeom>
                <a:avLst/>
                <a:gdLst/>
                <a:ahLst/>
                <a:rect l="l" t="t" r="r" b="b"/>
                <a:pathLst>
                  <a:path w="177006" h="121222">
                    <a:moveTo>
                      <a:pt x="177007" y="0"/>
                    </a:moveTo>
                    <a:lnTo>
                      <a:pt x="177007" y="30574"/>
                    </a:lnTo>
                    <a:cubicBezTo>
                      <a:pt x="177007" y="57929"/>
                      <a:pt x="89576" y="104595"/>
                      <a:pt x="57929" y="121223"/>
                    </a:cubicBezTo>
                    <a:cubicBezTo>
                      <a:pt x="54175" y="116395"/>
                      <a:pt x="50956" y="111568"/>
                      <a:pt x="47738" y="106740"/>
                    </a:cubicBezTo>
                    <a:cubicBezTo>
                      <a:pt x="31110" y="83139"/>
                      <a:pt x="15019" y="59002"/>
                      <a:pt x="0" y="33792"/>
                    </a:cubicBezTo>
                    <a:cubicBezTo>
                      <a:pt x="0" y="32719"/>
                      <a:pt x="0" y="31110"/>
                      <a:pt x="0" y="30037"/>
                    </a:cubicBezTo>
                    <a:cubicBezTo>
                      <a:pt x="7509" y="41301"/>
                      <a:pt x="19310" y="56320"/>
                      <a:pt x="27892" y="61684"/>
                    </a:cubicBezTo>
                    <a:cubicBezTo>
                      <a:pt x="50956" y="76166"/>
                      <a:pt x="53102" y="72948"/>
                      <a:pt x="81530" y="71875"/>
                    </a:cubicBezTo>
                    <a:cubicBezTo>
                      <a:pt x="89576" y="71339"/>
                      <a:pt x="112104" y="78848"/>
                      <a:pt x="143751" y="48811"/>
                    </a:cubicBezTo>
                    <a:cubicBezTo>
                      <a:pt x="149115" y="42374"/>
                      <a:pt x="164133" y="22528"/>
                      <a:pt x="177007"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03" name="Freeform: Shape 212"/>
              <p:cNvSpPr/>
              <p:nvPr/>
            </p:nvSpPr>
            <p:spPr>
              <a:xfrm>
                <a:off x="7029360" y="2177280"/>
                <a:ext cx="137880" cy="150480"/>
              </a:xfrm>
              <a:custGeom>
                <a:avLst/>
                <a:gdLst/>
                <a:ahLst/>
                <a:rect l="l" t="t" r="r" b="b"/>
                <a:pathLst>
                  <a:path w="178079" h="194170">
                    <a:moveTo>
                      <a:pt x="178079" y="34865"/>
                    </a:moveTo>
                    <a:cubicBezTo>
                      <a:pt x="178079" y="38620"/>
                      <a:pt x="177007" y="41838"/>
                      <a:pt x="175397" y="45056"/>
                    </a:cubicBezTo>
                    <a:cubicBezTo>
                      <a:pt x="171643" y="52566"/>
                      <a:pt x="166815" y="59539"/>
                      <a:pt x="161451" y="66512"/>
                    </a:cubicBezTo>
                    <a:cubicBezTo>
                      <a:pt x="130878" y="105131"/>
                      <a:pt x="96013" y="139996"/>
                      <a:pt x="60611" y="174325"/>
                    </a:cubicBezTo>
                    <a:cubicBezTo>
                      <a:pt x="58466" y="176470"/>
                      <a:pt x="56320" y="178079"/>
                      <a:pt x="54175" y="180225"/>
                    </a:cubicBezTo>
                    <a:cubicBezTo>
                      <a:pt x="49347" y="185052"/>
                      <a:pt x="43983" y="189880"/>
                      <a:pt x="39156" y="194171"/>
                    </a:cubicBezTo>
                    <a:cubicBezTo>
                      <a:pt x="31647" y="178079"/>
                      <a:pt x="25746" y="166279"/>
                      <a:pt x="19310" y="156088"/>
                    </a:cubicBezTo>
                    <a:cubicBezTo>
                      <a:pt x="12873" y="145896"/>
                      <a:pt x="6973" y="137314"/>
                      <a:pt x="0" y="128196"/>
                    </a:cubicBezTo>
                    <a:cubicBezTo>
                      <a:pt x="0" y="128196"/>
                      <a:pt x="0" y="127659"/>
                      <a:pt x="0" y="127659"/>
                    </a:cubicBezTo>
                    <a:cubicBezTo>
                      <a:pt x="0" y="127659"/>
                      <a:pt x="0" y="127659"/>
                      <a:pt x="0" y="127123"/>
                    </a:cubicBezTo>
                    <a:cubicBezTo>
                      <a:pt x="0" y="127123"/>
                      <a:pt x="0" y="126586"/>
                      <a:pt x="0" y="126586"/>
                    </a:cubicBezTo>
                    <a:cubicBezTo>
                      <a:pt x="2682" y="124441"/>
                      <a:pt x="5364" y="122295"/>
                      <a:pt x="8582" y="119613"/>
                    </a:cubicBezTo>
                    <a:cubicBezTo>
                      <a:pt x="8582" y="119613"/>
                      <a:pt x="8582" y="119077"/>
                      <a:pt x="8046" y="118004"/>
                    </a:cubicBezTo>
                    <a:cubicBezTo>
                      <a:pt x="15019" y="112640"/>
                      <a:pt x="24137" y="107277"/>
                      <a:pt x="28428" y="104595"/>
                    </a:cubicBezTo>
                    <a:cubicBezTo>
                      <a:pt x="29501" y="104058"/>
                      <a:pt x="33792" y="101913"/>
                      <a:pt x="39692" y="98695"/>
                    </a:cubicBezTo>
                    <a:cubicBezTo>
                      <a:pt x="71339" y="82067"/>
                      <a:pt x="158770" y="35401"/>
                      <a:pt x="158770" y="8046"/>
                    </a:cubicBezTo>
                    <a:lnTo>
                      <a:pt x="158770" y="0"/>
                    </a:lnTo>
                    <a:cubicBezTo>
                      <a:pt x="160915" y="536"/>
                      <a:pt x="163061" y="2146"/>
                      <a:pt x="164670" y="4291"/>
                    </a:cubicBezTo>
                    <a:cubicBezTo>
                      <a:pt x="170034" y="10191"/>
                      <a:pt x="174325" y="20383"/>
                      <a:pt x="175934" y="25746"/>
                    </a:cubicBezTo>
                    <a:cubicBezTo>
                      <a:pt x="177007" y="28965"/>
                      <a:pt x="178079" y="31647"/>
                      <a:pt x="178079" y="3486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04" name="Freeform: Shape 213"/>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313c3f"/>
                  </a:solidFill>
                  <a:latin typeface="Source Sans Pro"/>
                </a:endParaRPr>
              </a:p>
            </p:txBody>
          </p:sp>
          <p:sp>
            <p:nvSpPr>
              <p:cNvPr id="2505" name="Freeform: Shape 214"/>
              <p:cNvSpPr/>
              <p:nvPr/>
            </p:nvSpPr>
            <p:spPr>
              <a:xfrm>
                <a:off x="6999120" y="2272320"/>
                <a:ext cx="45360" cy="57600"/>
              </a:xfrm>
              <a:custGeom>
                <a:avLst/>
                <a:gdLst/>
                <a:ahLst/>
                <a:rect l="l" t="t" r="r" b="b"/>
                <a:pathLst>
                  <a:path w="58465" h="74399">
                    <a:moveTo>
                      <a:pt x="58466" y="33635"/>
                    </a:moveTo>
                    <a:cubicBezTo>
                      <a:pt x="48274" y="48653"/>
                      <a:pt x="35938" y="62599"/>
                      <a:pt x="21992" y="74400"/>
                    </a:cubicBezTo>
                    <a:cubicBezTo>
                      <a:pt x="20919" y="70645"/>
                      <a:pt x="16628" y="67963"/>
                      <a:pt x="12337" y="66890"/>
                    </a:cubicBezTo>
                    <a:cubicBezTo>
                      <a:pt x="8046" y="66354"/>
                      <a:pt x="3755" y="66890"/>
                      <a:pt x="0" y="67427"/>
                    </a:cubicBezTo>
                    <a:cubicBezTo>
                      <a:pt x="536" y="58845"/>
                      <a:pt x="1073" y="50263"/>
                      <a:pt x="1073" y="42217"/>
                    </a:cubicBezTo>
                    <a:cubicBezTo>
                      <a:pt x="1073" y="38998"/>
                      <a:pt x="1609" y="36317"/>
                      <a:pt x="2146" y="33098"/>
                    </a:cubicBezTo>
                    <a:cubicBezTo>
                      <a:pt x="2682" y="30416"/>
                      <a:pt x="4291" y="28271"/>
                      <a:pt x="5900" y="26125"/>
                    </a:cubicBezTo>
                    <a:cubicBezTo>
                      <a:pt x="10728" y="18616"/>
                      <a:pt x="15019" y="10570"/>
                      <a:pt x="19846" y="3061"/>
                    </a:cubicBezTo>
                    <a:cubicBezTo>
                      <a:pt x="24674" y="-3912"/>
                      <a:pt x="30574" y="3061"/>
                      <a:pt x="37547" y="4134"/>
                    </a:cubicBezTo>
                    <a:cubicBezTo>
                      <a:pt x="38083" y="4134"/>
                      <a:pt x="38620" y="4134"/>
                      <a:pt x="38620" y="4134"/>
                    </a:cubicBezTo>
                    <a:cubicBezTo>
                      <a:pt x="38620" y="4670"/>
                      <a:pt x="38083" y="4670"/>
                      <a:pt x="38083" y="5206"/>
                    </a:cubicBezTo>
                    <a:cubicBezTo>
                      <a:pt x="46129" y="14325"/>
                      <a:pt x="52029" y="22907"/>
                      <a:pt x="58466" y="33635"/>
                    </a:cubicBezTo>
                    <a:close/>
                  </a:path>
                </a:pathLst>
              </a:custGeom>
              <a:solidFill>
                <a:srgbClr val="ed1c24"/>
              </a:solidFill>
              <a:ln w="0">
                <a:noFill/>
              </a:ln>
            </p:spPr>
            <p:style>
              <a:lnRef idx="0"/>
              <a:fillRef idx="0"/>
              <a:effectRef idx="0"/>
              <a:fontRef idx="minor"/>
            </p:style>
            <p:txBody>
              <a:bodyPr lIns="90000" rIns="90000" tIns="10800" bIns="10800" anchor="ctr">
                <a:noAutofit/>
              </a:bodyPr>
              <a:p>
                <a:endParaRPr b="0" lang="en-US" sz="1800" spc="-1" strike="noStrike">
                  <a:solidFill>
                    <a:srgbClr val="313c3f"/>
                  </a:solidFill>
                  <a:latin typeface="Source Sans Pro"/>
                </a:endParaRPr>
              </a:p>
            </p:txBody>
          </p:sp>
          <p:sp>
            <p:nvSpPr>
              <p:cNvPr id="2506" name="Freeform: Shape 215"/>
              <p:cNvSpPr/>
              <p:nvPr/>
            </p:nvSpPr>
            <p:spPr>
              <a:xfrm>
                <a:off x="6943680" y="2311920"/>
                <a:ext cx="75240" cy="178920"/>
              </a:xfrm>
              <a:custGeom>
                <a:avLst/>
                <a:gdLst/>
                <a:ahLst/>
                <a:rect l="l" t="t" r="r" b="b"/>
                <a:pathLst>
                  <a:path w="97085" h="230718">
                    <a:moveTo>
                      <a:pt x="5900" y="230718"/>
                    </a:moveTo>
                    <a:cubicBezTo>
                      <a:pt x="30037" y="192635"/>
                      <a:pt x="57929" y="151870"/>
                      <a:pt x="80994" y="117005"/>
                    </a:cubicBezTo>
                    <a:cubicBezTo>
                      <a:pt x="86358" y="78385"/>
                      <a:pt x="91722" y="39766"/>
                      <a:pt x="97085" y="610"/>
                    </a:cubicBezTo>
                    <a:cubicBezTo>
                      <a:pt x="86358" y="-2072"/>
                      <a:pt x="75630" y="4365"/>
                      <a:pt x="71875" y="14556"/>
                    </a:cubicBezTo>
                    <a:cubicBezTo>
                      <a:pt x="70803" y="17774"/>
                      <a:pt x="69193" y="20992"/>
                      <a:pt x="67584" y="24211"/>
                    </a:cubicBezTo>
                    <a:cubicBezTo>
                      <a:pt x="48811" y="62830"/>
                      <a:pt x="20919" y="91795"/>
                      <a:pt x="0" y="129342"/>
                    </a:cubicBezTo>
                    <a:cubicBezTo>
                      <a:pt x="1609" y="161525"/>
                      <a:pt x="4291" y="198535"/>
                      <a:pt x="5900" y="23071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507" name="Graphic 120" descr=""/>
              <p:cNvPicPr/>
              <p:nvPr/>
            </p:nvPicPr>
            <p:blipFill>
              <a:blip r:embed="rId13"/>
              <a:stretch/>
            </p:blipFill>
            <p:spPr>
              <a:xfrm>
                <a:off x="6949440" y="2230920"/>
                <a:ext cx="249840" cy="274320"/>
              </a:xfrm>
              <a:prstGeom prst="rect">
                <a:avLst/>
              </a:prstGeom>
              <a:ln w="0">
                <a:noFill/>
              </a:ln>
            </p:spPr>
          </p:pic>
          <p:sp>
            <p:nvSpPr>
              <p:cNvPr id="2508" name="Freeform: Shape 217"/>
              <p:cNvSpPr/>
              <p:nvPr/>
            </p:nvSpPr>
            <p:spPr>
              <a:xfrm>
                <a:off x="6762960" y="2458440"/>
                <a:ext cx="55080" cy="72720"/>
              </a:xfrm>
              <a:custGeom>
                <a:avLst/>
                <a:gdLst/>
                <a:ahLst/>
                <a:rect l="l" t="t" r="r" b="b"/>
                <a:pathLst>
                  <a:path w="71100" h="93732">
                    <a:moveTo>
                      <a:pt x="35699" y="72948"/>
                    </a:moveTo>
                    <a:cubicBezTo>
                      <a:pt x="35699" y="75630"/>
                      <a:pt x="35163" y="78312"/>
                      <a:pt x="35163" y="80994"/>
                    </a:cubicBezTo>
                    <a:cubicBezTo>
                      <a:pt x="35163" y="83139"/>
                      <a:pt x="35163" y="85285"/>
                      <a:pt x="36236" y="87430"/>
                    </a:cubicBezTo>
                    <a:cubicBezTo>
                      <a:pt x="35699" y="87430"/>
                      <a:pt x="35163" y="87430"/>
                      <a:pt x="34627" y="87967"/>
                    </a:cubicBezTo>
                    <a:cubicBezTo>
                      <a:pt x="24972" y="89576"/>
                      <a:pt x="15853" y="91722"/>
                      <a:pt x="6198" y="93331"/>
                    </a:cubicBezTo>
                    <a:cubicBezTo>
                      <a:pt x="4589" y="93867"/>
                      <a:pt x="3516" y="93867"/>
                      <a:pt x="1907" y="93331"/>
                    </a:cubicBezTo>
                    <a:cubicBezTo>
                      <a:pt x="-238" y="92258"/>
                      <a:pt x="-238" y="89576"/>
                      <a:pt x="298" y="87430"/>
                    </a:cubicBezTo>
                    <a:cubicBezTo>
                      <a:pt x="834" y="83676"/>
                      <a:pt x="1371" y="79921"/>
                      <a:pt x="1907" y="76166"/>
                    </a:cubicBezTo>
                    <a:cubicBezTo>
                      <a:pt x="2980" y="69730"/>
                      <a:pt x="4589" y="63830"/>
                      <a:pt x="6198" y="57929"/>
                    </a:cubicBezTo>
                    <a:cubicBezTo>
                      <a:pt x="6735" y="55247"/>
                      <a:pt x="7807" y="52566"/>
                      <a:pt x="9417" y="49884"/>
                    </a:cubicBezTo>
                    <a:cubicBezTo>
                      <a:pt x="11026" y="47738"/>
                      <a:pt x="13171" y="46129"/>
                      <a:pt x="15317" y="43983"/>
                    </a:cubicBezTo>
                    <a:cubicBezTo>
                      <a:pt x="26581" y="34329"/>
                      <a:pt x="36236" y="23064"/>
                      <a:pt x="47500" y="13410"/>
                    </a:cubicBezTo>
                    <a:cubicBezTo>
                      <a:pt x="51254" y="9655"/>
                      <a:pt x="55545" y="6973"/>
                      <a:pt x="60373" y="4291"/>
                    </a:cubicBezTo>
                    <a:cubicBezTo>
                      <a:pt x="63591" y="2682"/>
                      <a:pt x="67346" y="1073"/>
                      <a:pt x="71101" y="0"/>
                    </a:cubicBezTo>
                    <a:cubicBezTo>
                      <a:pt x="68419" y="3218"/>
                      <a:pt x="65737" y="6437"/>
                      <a:pt x="63055" y="9655"/>
                    </a:cubicBezTo>
                    <a:cubicBezTo>
                      <a:pt x="48036" y="27356"/>
                      <a:pt x="37308" y="49347"/>
                      <a:pt x="35699" y="72948"/>
                    </a:cubicBezTo>
                    <a:close/>
                  </a:path>
                </a:pathLst>
              </a:custGeom>
              <a:solidFill>
                <a:srgbClr val="ecc19c"/>
              </a:solidFill>
              <a:ln w="0">
                <a:noFill/>
              </a:ln>
            </p:spPr>
            <p:style>
              <a:lnRef idx="0"/>
              <a:fillRef idx="0"/>
              <a:effectRef idx="0"/>
              <a:fontRef idx="minor"/>
            </p:style>
            <p:txBody>
              <a:bodyPr lIns="90000" rIns="90000" tIns="25920" bIns="25920" anchor="ctr">
                <a:noAutofit/>
              </a:bodyPr>
              <a:p>
                <a:endParaRPr b="0" lang="en-US" sz="1800" spc="-1" strike="noStrike">
                  <a:solidFill>
                    <a:srgbClr val="313c3f"/>
                  </a:solidFill>
                  <a:latin typeface="Source Sans Pro"/>
                </a:endParaRPr>
              </a:p>
            </p:txBody>
          </p:sp>
          <p:sp>
            <p:nvSpPr>
              <p:cNvPr id="2509" name="Freeform: Shape 218"/>
              <p:cNvSpPr/>
              <p:nvPr/>
            </p:nvSpPr>
            <p:spPr>
              <a:xfrm>
                <a:off x="6789600" y="2446560"/>
                <a:ext cx="50760" cy="84240"/>
              </a:xfrm>
              <a:custGeom>
                <a:avLst/>
                <a:gdLst/>
                <a:ahLst/>
                <a:rect l="l" t="t" r="r" b="b"/>
                <a:pathLst>
                  <a:path w="65438" h="108751">
                    <a:moveTo>
                      <a:pt x="65439" y="6839"/>
                    </a:moveTo>
                    <a:cubicBezTo>
                      <a:pt x="61148" y="11130"/>
                      <a:pt x="57393" y="16494"/>
                      <a:pt x="54175" y="21321"/>
                    </a:cubicBezTo>
                    <a:cubicBezTo>
                      <a:pt x="39156" y="43849"/>
                      <a:pt x="25746" y="67987"/>
                      <a:pt x="15019" y="92660"/>
                    </a:cubicBezTo>
                    <a:cubicBezTo>
                      <a:pt x="13946" y="94806"/>
                      <a:pt x="13410" y="96951"/>
                      <a:pt x="12337" y="99097"/>
                    </a:cubicBezTo>
                    <a:cubicBezTo>
                      <a:pt x="11800" y="100170"/>
                      <a:pt x="11264" y="101242"/>
                      <a:pt x="10728" y="102315"/>
                    </a:cubicBezTo>
                    <a:cubicBezTo>
                      <a:pt x="9655" y="104461"/>
                      <a:pt x="9119" y="106606"/>
                      <a:pt x="8046" y="108752"/>
                    </a:cubicBezTo>
                    <a:cubicBezTo>
                      <a:pt x="6973" y="108215"/>
                      <a:pt x="6437" y="107143"/>
                      <a:pt x="5364" y="106606"/>
                    </a:cubicBezTo>
                    <a:cubicBezTo>
                      <a:pt x="3755" y="105533"/>
                      <a:pt x="2682" y="104461"/>
                      <a:pt x="1609" y="102851"/>
                    </a:cubicBezTo>
                    <a:cubicBezTo>
                      <a:pt x="1609" y="102315"/>
                      <a:pt x="1073" y="102315"/>
                      <a:pt x="1073" y="101779"/>
                    </a:cubicBezTo>
                    <a:cubicBezTo>
                      <a:pt x="0" y="99633"/>
                      <a:pt x="0" y="97488"/>
                      <a:pt x="0" y="95342"/>
                    </a:cubicBezTo>
                    <a:cubicBezTo>
                      <a:pt x="0" y="92660"/>
                      <a:pt x="0" y="89978"/>
                      <a:pt x="536" y="87296"/>
                    </a:cubicBezTo>
                    <a:cubicBezTo>
                      <a:pt x="2146" y="63695"/>
                      <a:pt x="12873" y="41704"/>
                      <a:pt x="27892" y="22930"/>
                    </a:cubicBezTo>
                    <a:cubicBezTo>
                      <a:pt x="30574" y="19712"/>
                      <a:pt x="33256" y="16494"/>
                      <a:pt x="35938" y="13275"/>
                    </a:cubicBezTo>
                    <a:cubicBezTo>
                      <a:pt x="39692" y="9521"/>
                      <a:pt x="43447" y="5230"/>
                      <a:pt x="47202" y="2011"/>
                    </a:cubicBezTo>
                    <a:cubicBezTo>
                      <a:pt x="47738" y="1475"/>
                      <a:pt x="48811" y="402"/>
                      <a:pt x="49884" y="402"/>
                    </a:cubicBezTo>
                    <a:cubicBezTo>
                      <a:pt x="51493" y="-134"/>
                      <a:pt x="53102" y="-134"/>
                      <a:pt x="54711" y="402"/>
                    </a:cubicBezTo>
                    <a:cubicBezTo>
                      <a:pt x="56320" y="939"/>
                      <a:pt x="57393" y="1475"/>
                      <a:pt x="59002" y="2011"/>
                    </a:cubicBezTo>
                    <a:cubicBezTo>
                      <a:pt x="61148" y="4157"/>
                      <a:pt x="63293" y="5230"/>
                      <a:pt x="65439" y="6839"/>
                    </a:cubicBezTo>
                    <a:close/>
                  </a:path>
                </a:pathLst>
              </a:custGeom>
              <a:solidFill>
                <a:srgbClr val="ffffff"/>
              </a:solidFill>
              <a:ln w="0">
                <a:noFill/>
              </a:ln>
            </p:spPr>
            <p:style>
              <a:lnRef idx="0"/>
              <a:fillRef idx="0"/>
              <a:effectRef idx="0"/>
              <a:fontRef idx="minor"/>
            </p:style>
            <p:txBody>
              <a:bodyPr lIns="90000" rIns="90000" tIns="37440" bIns="37440" anchor="ctr">
                <a:noAutofit/>
              </a:bodyPr>
              <a:p>
                <a:endParaRPr b="0" lang="en-US" sz="1800" spc="-1" strike="noStrike">
                  <a:solidFill>
                    <a:srgbClr val="313c3f"/>
                  </a:solidFill>
                  <a:latin typeface="Source Sans Pro"/>
                </a:endParaRPr>
              </a:p>
            </p:txBody>
          </p:sp>
          <p:sp>
            <p:nvSpPr>
              <p:cNvPr id="2510" name="Freeform: Shape 219"/>
              <p:cNvSpPr/>
              <p:nvPr/>
            </p:nvSpPr>
            <p:spPr>
              <a:xfrm>
                <a:off x="6788520" y="2610360"/>
                <a:ext cx="434520" cy="267840"/>
              </a:xfrm>
              <a:custGeom>
                <a:avLst/>
                <a:gdLst/>
                <a:ahLst/>
                <a:rect l="l" t="t" r="r" b="b"/>
                <a:pathLst>
                  <a:path w="559984" h="344894">
                    <a:moveTo>
                      <a:pt x="559984" y="284820"/>
                    </a:moveTo>
                    <a:cubicBezTo>
                      <a:pt x="543356" y="292329"/>
                      <a:pt x="525656" y="299302"/>
                      <a:pt x="508491" y="305738"/>
                    </a:cubicBezTo>
                    <a:cubicBezTo>
                      <a:pt x="453244" y="325585"/>
                      <a:pt x="394242" y="337921"/>
                      <a:pt x="333630" y="342749"/>
                    </a:cubicBezTo>
                    <a:cubicBezTo>
                      <a:pt x="327730" y="343285"/>
                      <a:pt x="322366" y="343285"/>
                      <a:pt x="316466" y="343822"/>
                    </a:cubicBezTo>
                    <a:cubicBezTo>
                      <a:pt x="304666" y="344358"/>
                      <a:pt x="292865" y="344894"/>
                      <a:pt x="281065" y="344894"/>
                    </a:cubicBezTo>
                    <a:cubicBezTo>
                      <a:pt x="240836" y="344894"/>
                      <a:pt x="201144" y="341140"/>
                      <a:pt x="162524" y="334703"/>
                    </a:cubicBezTo>
                    <a:cubicBezTo>
                      <a:pt x="159842" y="334167"/>
                      <a:pt x="157160" y="333630"/>
                      <a:pt x="154478" y="333094"/>
                    </a:cubicBezTo>
                    <a:cubicBezTo>
                      <a:pt x="100304" y="322903"/>
                      <a:pt x="48275" y="306275"/>
                      <a:pt x="0" y="283747"/>
                    </a:cubicBezTo>
                    <a:cubicBezTo>
                      <a:pt x="4291" y="263901"/>
                      <a:pt x="9119" y="243518"/>
                      <a:pt x="13946" y="223672"/>
                    </a:cubicBezTo>
                    <a:cubicBezTo>
                      <a:pt x="23064" y="186125"/>
                      <a:pt x="32183" y="148578"/>
                      <a:pt x="41838" y="111031"/>
                    </a:cubicBezTo>
                    <a:cubicBezTo>
                      <a:pt x="43447" y="105131"/>
                      <a:pt x="45056" y="98695"/>
                      <a:pt x="46665" y="92794"/>
                    </a:cubicBezTo>
                    <a:cubicBezTo>
                      <a:pt x="50420" y="92258"/>
                      <a:pt x="54711" y="92258"/>
                      <a:pt x="58466" y="91722"/>
                    </a:cubicBezTo>
                    <a:cubicBezTo>
                      <a:pt x="62220" y="91185"/>
                      <a:pt x="66512" y="91185"/>
                      <a:pt x="70266" y="90649"/>
                    </a:cubicBezTo>
                    <a:cubicBezTo>
                      <a:pt x="74557" y="90112"/>
                      <a:pt x="78312" y="89576"/>
                      <a:pt x="82603" y="89040"/>
                    </a:cubicBezTo>
                    <a:cubicBezTo>
                      <a:pt x="86358" y="88503"/>
                      <a:pt x="89576" y="87967"/>
                      <a:pt x="93331" y="87967"/>
                    </a:cubicBezTo>
                    <a:cubicBezTo>
                      <a:pt x="93867" y="87967"/>
                      <a:pt x="93867" y="87967"/>
                      <a:pt x="93867" y="87967"/>
                    </a:cubicBezTo>
                    <a:cubicBezTo>
                      <a:pt x="97622" y="87430"/>
                      <a:pt x="101376" y="86894"/>
                      <a:pt x="105131" y="86358"/>
                    </a:cubicBezTo>
                    <a:cubicBezTo>
                      <a:pt x="108886" y="85821"/>
                      <a:pt x="113177" y="85285"/>
                      <a:pt x="116932" y="84749"/>
                    </a:cubicBezTo>
                    <a:cubicBezTo>
                      <a:pt x="120686" y="84212"/>
                      <a:pt x="124977" y="83676"/>
                      <a:pt x="128732" y="83139"/>
                    </a:cubicBezTo>
                    <a:cubicBezTo>
                      <a:pt x="132487" y="82603"/>
                      <a:pt x="136241" y="82067"/>
                      <a:pt x="139996" y="81530"/>
                    </a:cubicBezTo>
                    <a:cubicBezTo>
                      <a:pt x="139996" y="81530"/>
                      <a:pt x="139996" y="81530"/>
                      <a:pt x="140532" y="81530"/>
                    </a:cubicBezTo>
                    <a:cubicBezTo>
                      <a:pt x="143214" y="80994"/>
                      <a:pt x="146433" y="80457"/>
                      <a:pt x="149115" y="80457"/>
                    </a:cubicBezTo>
                    <a:cubicBezTo>
                      <a:pt x="171106" y="77239"/>
                      <a:pt x="193098" y="74021"/>
                      <a:pt x="215090" y="70266"/>
                    </a:cubicBezTo>
                    <a:cubicBezTo>
                      <a:pt x="227963" y="68121"/>
                      <a:pt x="240300" y="66512"/>
                      <a:pt x="253173" y="63830"/>
                    </a:cubicBezTo>
                    <a:cubicBezTo>
                      <a:pt x="270874" y="72412"/>
                      <a:pt x="288574" y="80994"/>
                      <a:pt x="306275" y="89576"/>
                    </a:cubicBezTo>
                    <a:cubicBezTo>
                      <a:pt x="326657" y="99767"/>
                      <a:pt x="347040" y="109422"/>
                      <a:pt x="367423" y="119613"/>
                    </a:cubicBezTo>
                    <a:cubicBezTo>
                      <a:pt x="383514" y="127123"/>
                      <a:pt x="400678" y="135169"/>
                      <a:pt x="417843" y="130878"/>
                    </a:cubicBezTo>
                    <a:cubicBezTo>
                      <a:pt x="427498" y="128196"/>
                      <a:pt x="435543" y="121759"/>
                      <a:pt x="443053" y="114786"/>
                    </a:cubicBezTo>
                    <a:cubicBezTo>
                      <a:pt x="466654" y="93331"/>
                      <a:pt x="502591" y="47202"/>
                      <a:pt x="517074" y="0"/>
                    </a:cubicBezTo>
                    <a:cubicBezTo>
                      <a:pt x="514392" y="15555"/>
                      <a:pt x="511710" y="30574"/>
                      <a:pt x="509028" y="46129"/>
                    </a:cubicBezTo>
                    <a:cubicBezTo>
                      <a:pt x="506346" y="60075"/>
                      <a:pt x="504200" y="74557"/>
                      <a:pt x="504737" y="89040"/>
                    </a:cubicBezTo>
                    <a:cubicBezTo>
                      <a:pt x="505810" y="107277"/>
                      <a:pt x="511710" y="124977"/>
                      <a:pt x="517074" y="142678"/>
                    </a:cubicBezTo>
                    <a:cubicBezTo>
                      <a:pt x="532629" y="189880"/>
                      <a:pt x="547111" y="237081"/>
                      <a:pt x="559984" y="28482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11" name="Freeform: Shape 220"/>
              <p:cNvSpPr/>
              <p:nvPr/>
            </p:nvSpPr>
            <p:spPr>
              <a:xfrm>
                <a:off x="6948360" y="2489400"/>
                <a:ext cx="1080" cy="1080"/>
              </a:xfrm>
              <a:custGeom>
                <a:avLst/>
                <a:gdLst/>
                <a:ahLst/>
                <a:rect l="l" t="t" r="r" b="b"/>
                <a:pathLst>
                  <a:path w="1609" h="1609">
                    <a:moveTo>
                      <a:pt x="0" y="0"/>
                    </a:moveTo>
                    <a:cubicBezTo>
                      <a:pt x="536" y="0"/>
                      <a:pt x="1073" y="0"/>
                      <a:pt x="1609" y="536"/>
                    </a:cubicBezTo>
                    <a:cubicBezTo>
                      <a:pt x="1609" y="1073"/>
                      <a:pt x="1073" y="1073"/>
                      <a:pt x="1073" y="1609"/>
                    </a:cubicBezTo>
                    <a:cubicBezTo>
                      <a:pt x="536" y="1609"/>
                      <a:pt x="536" y="1609"/>
                      <a:pt x="0" y="1073"/>
                    </a:cubicBezTo>
                    <a:cubicBezTo>
                      <a:pt x="0" y="536"/>
                      <a:pt x="0" y="0"/>
                      <a:pt x="0" y="0"/>
                    </a:cubicBezTo>
                    <a:close/>
                  </a:path>
                </a:pathLst>
              </a:custGeom>
              <a:noFill/>
              <a:ln w="5400">
                <a:solidFill>
                  <a:srgbClr val="58595b"/>
                </a:solidFill>
                <a:miter/>
              </a:ln>
            </p:spPr>
            <p:style>
              <a:lnRef idx="0"/>
              <a:fillRef idx="0"/>
              <a:effectRef idx="0"/>
              <a:fontRef idx="minor"/>
            </p:style>
            <p:txBody>
              <a:bodyPr lIns="90000" rIns="90000" tIns="-45720" bIns="-45720" anchor="ctr">
                <a:noAutofit/>
              </a:bodyPr>
              <a:p>
                <a:endParaRPr b="0" lang="en-US" sz="1800" spc="-1" strike="noStrike">
                  <a:solidFill>
                    <a:srgbClr val="313c3f"/>
                  </a:solidFill>
                  <a:latin typeface="Source Sans Pro"/>
                </a:endParaRPr>
              </a:p>
            </p:txBody>
          </p:sp>
          <p:sp>
            <p:nvSpPr>
              <p:cNvPr id="2512" name="Freeform: Shape 221"/>
              <p:cNvSpPr/>
              <p:nvPr/>
            </p:nvSpPr>
            <p:spPr>
              <a:xfrm>
                <a:off x="6786720" y="2261520"/>
                <a:ext cx="542520" cy="452520"/>
              </a:xfrm>
              <a:custGeom>
                <a:avLst/>
                <a:gdLst/>
                <a:ahLst/>
                <a:rect l="l" t="t" r="r" b="b"/>
                <a:pathLst>
                  <a:path w="699259" h="582896">
                    <a:moveTo>
                      <a:pt x="696226" y="69730"/>
                    </a:moveTo>
                    <a:cubicBezTo>
                      <a:pt x="654388" y="217235"/>
                      <a:pt x="606650" y="323439"/>
                      <a:pt x="520828" y="444662"/>
                    </a:cubicBezTo>
                    <a:cubicBezTo>
                      <a:pt x="520292" y="446807"/>
                      <a:pt x="519755" y="448416"/>
                      <a:pt x="519219" y="450562"/>
                    </a:cubicBezTo>
                    <a:cubicBezTo>
                      <a:pt x="504737" y="497764"/>
                      <a:pt x="468799" y="543893"/>
                      <a:pt x="445198" y="565348"/>
                    </a:cubicBezTo>
                    <a:cubicBezTo>
                      <a:pt x="437689" y="572321"/>
                      <a:pt x="429643" y="578758"/>
                      <a:pt x="419988" y="581439"/>
                    </a:cubicBezTo>
                    <a:cubicBezTo>
                      <a:pt x="402824" y="586267"/>
                      <a:pt x="385123" y="578221"/>
                      <a:pt x="369568" y="570175"/>
                    </a:cubicBezTo>
                    <a:cubicBezTo>
                      <a:pt x="331485" y="551402"/>
                      <a:pt x="293402" y="533165"/>
                      <a:pt x="255855" y="514392"/>
                    </a:cubicBezTo>
                    <a:cubicBezTo>
                      <a:pt x="232790" y="503127"/>
                      <a:pt x="210262" y="491863"/>
                      <a:pt x="187198" y="480599"/>
                    </a:cubicBezTo>
                    <a:cubicBezTo>
                      <a:pt x="135705" y="455389"/>
                      <a:pt x="51493" y="414624"/>
                      <a:pt x="0" y="389414"/>
                    </a:cubicBezTo>
                    <a:cubicBezTo>
                      <a:pt x="107813" y="428570"/>
                      <a:pt x="248345" y="484354"/>
                      <a:pt x="351867" y="533165"/>
                    </a:cubicBezTo>
                    <a:cubicBezTo>
                      <a:pt x="375468" y="544429"/>
                      <a:pt x="404433" y="555693"/>
                      <a:pt x="426425" y="541211"/>
                    </a:cubicBezTo>
                    <a:cubicBezTo>
                      <a:pt x="436616" y="534774"/>
                      <a:pt x="443053" y="524046"/>
                      <a:pt x="448416" y="513319"/>
                    </a:cubicBezTo>
                    <a:cubicBezTo>
                      <a:pt x="467726" y="475772"/>
                      <a:pt x="480599" y="434470"/>
                      <a:pt x="504737" y="399606"/>
                    </a:cubicBezTo>
                    <a:cubicBezTo>
                      <a:pt x="521901" y="374932"/>
                      <a:pt x="543893" y="354013"/>
                      <a:pt x="562130" y="329876"/>
                    </a:cubicBezTo>
                    <a:cubicBezTo>
                      <a:pt x="580367" y="305738"/>
                      <a:pt x="593776" y="278383"/>
                      <a:pt x="607186" y="251564"/>
                    </a:cubicBezTo>
                    <a:cubicBezTo>
                      <a:pt x="632932" y="199535"/>
                      <a:pt x="659215" y="146433"/>
                      <a:pt x="672625" y="89576"/>
                    </a:cubicBezTo>
                    <a:cubicBezTo>
                      <a:pt x="676916" y="72412"/>
                      <a:pt x="679598" y="54175"/>
                      <a:pt x="674234" y="37010"/>
                    </a:cubicBezTo>
                    <a:cubicBezTo>
                      <a:pt x="671016" y="25746"/>
                      <a:pt x="663506" y="16628"/>
                      <a:pt x="653315" y="10191"/>
                    </a:cubicBezTo>
                    <a:cubicBezTo>
                      <a:pt x="644733" y="4827"/>
                      <a:pt x="643124" y="536"/>
                      <a:pt x="649560" y="0"/>
                    </a:cubicBezTo>
                    <a:cubicBezTo>
                      <a:pt x="660824" y="5364"/>
                      <a:pt x="671016" y="11264"/>
                      <a:pt x="680670" y="19310"/>
                    </a:cubicBezTo>
                    <a:cubicBezTo>
                      <a:pt x="681207" y="19310"/>
                      <a:pt x="681207" y="19846"/>
                      <a:pt x="681743" y="19846"/>
                    </a:cubicBezTo>
                    <a:cubicBezTo>
                      <a:pt x="689789" y="26283"/>
                      <a:pt x="696762" y="34865"/>
                      <a:pt x="698371" y="44520"/>
                    </a:cubicBezTo>
                    <a:cubicBezTo>
                      <a:pt x="700517" y="53102"/>
                      <a:pt x="698371" y="61684"/>
                      <a:pt x="696226" y="697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13" name="Freeform: Shape 222"/>
              <p:cNvSpPr/>
              <p:nvPr/>
            </p:nvSpPr>
            <p:spPr>
              <a:xfrm>
                <a:off x="6702120" y="2633040"/>
                <a:ext cx="282960" cy="57960"/>
              </a:xfrm>
              <a:custGeom>
                <a:avLst/>
                <a:gdLst/>
                <a:ahLst/>
                <a:rect l="l" t="t" r="r" b="b"/>
                <a:pathLst>
                  <a:path w="364740" h="74795">
                    <a:moveTo>
                      <a:pt x="364741" y="35401"/>
                    </a:moveTo>
                    <a:cubicBezTo>
                      <a:pt x="352404" y="38083"/>
                      <a:pt x="339531" y="40229"/>
                      <a:pt x="326657" y="41838"/>
                    </a:cubicBezTo>
                    <a:cubicBezTo>
                      <a:pt x="270337" y="50420"/>
                      <a:pt x="214017" y="59002"/>
                      <a:pt x="157697" y="64366"/>
                    </a:cubicBezTo>
                    <a:cubicBezTo>
                      <a:pt x="142678" y="65975"/>
                      <a:pt x="127659" y="67048"/>
                      <a:pt x="112641" y="67584"/>
                    </a:cubicBezTo>
                    <a:cubicBezTo>
                      <a:pt x="87431" y="68657"/>
                      <a:pt x="60075" y="66511"/>
                      <a:pt x="35401" y="73484"/>
                    </a:cubicBezTo>
                    <a:cubicBezTo>
                      <a:pt x="26819" y="76166"/>
                      <a:pt x="17164" y="74557"/>
                      <a:pt x="9119" y="70266"/>
                    </a:cubicBezTo>
                    <a:cubicBezTo>
                      <a:pt x="5900" y="68121"/>
                      <a:pt x="2682" y="65975"/>
                      <a:pt x="0" y="62757"/>
                    </a:cubicBezTo>
                    <a:lnTo>
                      <a:pt x="30574" y="44520"/>
                    </a:lnTo>
                    <a:cubicBezTo>
                      <a:pt x="41302" y="38083"/>
                      <a:pt x="52029" y="32183"/>
                      <a:pt x="63293" y="27892"/>
                    </a:cubicBezTo>
                    <a:cubicBezTo>
                      <a:pt x="74557" y="24137"/>
                      <a:pt x="86358" y="22528"/>
                      <a:pt x="98158" y="21455"/>
                    </a:cubicBezTo>
                    <a:cubicBezTo>
                      <a:pt x="139460" y="16628"/>
                      <a:pt x="181298" y="11264"/>
                      <a:pt x="222599" y="6437"/>
                    </a:cubicBezTo>
                    <a:cubicBezTo>
                      <a:pt x="244591" y="3755"/>
                      <a:pt x="253709" y="2682"/>
                      <a:pt x="275701" y="0"/>
                    </a:cubicBezTo>
                    <a:cubicBezTo>
                      <a:pt x="278383" y="1073"/>
                      <a:pt x="341676" y="24137"/>
                      <a:pt x="364741" y="35401"/>
                    </a:cubicBezTo>
                    <a:close/>
                  </a:path>
                </a:pathLst>
              </a:custGeom>
              <a:solidFill>
                <a:srgbClr val="414042"/>
              </a:solidFill>
              <a:ln w="0">
                <a:noFill/>
              </a:ln>
            </p:spPr>
            <p:style>
              <a:lnRef idx="0"/>
              <a:fillRef idx="0"/>
              <a:effectRef idx="0"/>
              <a:fontRef idx="minor"/>
            </p:style>
            <p:txBody>
              <a:bodyPr lIns="90000" rIns="90000" tIns="11160" bIns="11160" anchor="ctr">
                <a:noAutofit/>
              </a:bodyPr>
              <a:p>
                <a:endParaRPr b="0" lang="en-US" sz="1800" spc="-1" strike="noStrike">
                  <a:solidFill>
                    <a:srgbClr val="313c3f"/>
                  </a:solidFill>
                  <a:latin typeface="Source Sans Pro"/>
                </a:endParaRPr>
              </a:p>
            </p:txBody>
          </p:sp>
          <p:sp>
            <p:nvSpPr>
              <p:cNvPr id="2514" name="Freeform: Shape 310"/>
              <p:cNvSpPr/>
              <p:nvPr/>
            </p:nvSpPr>
            <p:spPr>
              <a:xfrm>
                <a:off x="6830640" y="2268360"/>
                <a:ext cx="36720" cy="183240"/>
              </a:xfrm>
              <a:custGeom>
                <a:avLst/>
                <a:gdLst/>
                <a:ahLst/>
                <a:rect l="l" t="t" r="r" b="b"/>
                <a:pathLst>
                  <a:path w="47408" h="236008">
                    <a:moveTo>
                      <a:pt x="42581" y="160915"/>
                    </a:moveTo>
                    <a:cubicBezTo>
                      <a:pt x="40436" y="144823"/>
                      <a:pt x="38290" y="128732"/>
                      <a:pt x="37217" y="112640"/>
                    </a:cubicBezTo>
                    <a:cubicBezTo>
                      <a:pt x="34536" y="83676"/>
                      <a:pt x="32926" y="54711"/>
                      <a:pt x="32390" y="25210"/>
                    </a:cubicBezTo>
                    <a:cubicBezTo>
                      <a:pt x="32390" y="17164"/>
                      <a:pt x="31854" y="8582"/>
                      <a:pt x="31854" y="0"/>
                    </a:cubicBezTo>
                    <a:cubicBezTo>
                      <a:pt x="25953" y="4291"/>
                      <a:pt x="20053" y="9655"/>
                      <a:pt x="15226" y="15555"/>
                    </a:cubicBezTo>
                    <a:cubicBezTo>
                      <a:pt x="16299" y="28428"/>
                      <a:pt x="18444" y="41301"/>
                      <a:pt x="19517" y="53638"/>
                    </a:cubicBezTo>
                    <a:cubicBezTo>
                      <a:pt x="21662" y="80994"/>
                      <a:pt x="23808" y="108349"/>
                      <a:pt x="28635" y="135169"/>
                    </a:cubicBezTo>
                    <a:cubicBezTo>
                      <a:pt x="21662" y="156088"/>
                      <a:pt x="-2475" y="227963"/>
                      <a:pt x="207" y="229036"/>
                    </a:cubicBezTo>
                    <a:cubicBezTo>
                      <a:pt x="3962" y="231181"/>
                      <a:pt x="7716" y="233863"/>
                      <a:pt x="11471" y="236009"/>
                    </a:cubicBezTo>
                    <a:cubicBezTo>
                      <a:pt x="11471" y="236009"/>
                      <a:pt x="12007" y="235472"/>
                      <a:pt x="12007" y="235472"/>
                    </a:cubicBezTo>
                    <a:cubicBezTo>
                      <a:pt x="18980" y="227963"/>
                      <a:pt x="27563" y="222063"/>
                      <a:pt x="37217" y="220990"/>
                    </a:cubicBezTo>
                    <a:cubicBezTo>
                      <a:pt x="37217" y="220990"/>
                      <a:pt x="37754" y="220990"/>
                      <a:pt x="37754" y="220990"/>
                    </a:cubicBezTo>
                    <a:cubicBezTo>
                      <a:pt x="38290" y="220990"/>
                      <a:pt x="38827" y="220990"/>
                      <a:pt x="39363" y="220990"/>
                    </a:cubicBezTo>
                    <a:cubicBezTo>
                      <a:pt x="39899" y="220990"/>
                      <a:pt x="40436" y="220990"/>
                      <a:pt x="40972" y="220990"/>
                    </a:cubicBezTo>
                    <a:cubicBezTo>
                      <a:pt x="40972" y="220990"/>
                      <a:pt x="40972" y="220990"/>
                      <a:pt x="40972" y="220990"/>
                    </a:cubicBezTo>
                    <a:cubicBezTo>
                      <a:pt x="40972" y="218844"/>
                      <a:pt x="41509" y="216162"/>
                      <a:pt x="42045" y="214017"/>
                    </a:cubicBezTo>
                    <a:cubicBezTo>
                      <a:pt x="43654" y="204898"/>
                      <a:pt x="45263" y="195243"/>
                      <a:pt x="47409" y="186125"/>
                    </a:cubicBezTo>
                    <a:cubicBezTo>
                      <a:pt x="45263" y="178079"/>
                      <a:pt x="44190" y="169497"/>
                      <a:pt x="42581" y="16091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15" name="Freeform: Shape 311"/>
              <p:cNvSpPr/>
              <p:nvPr/>
            </p:nvSpPr>
            <p:spPr>
              <a:xfrm>
                <a:off x="6827040" y="2440440"/>
                <a:ext cx="286920" cy="116280"/>
              </a:xfrm>
              <a:custGeom>
                <a:avLst/>
                <a:gdLst/>
                <a:ahLst/>
                <a:rect l="l" t="t" r="r" b="b"/>
                <a:pathLst>
                  <a:path w="370104" h="150082">
                    <a:moveTo>
                      <a:pt x="370105" y="106740"/>
                    </a:moveTo>
                    <a:cubicBezTo>
                      <a:pt x="367423" y="115859"/>
                      <a:pt x="361522" y="123368"/>
                      <a:pt x="355086" y="130341"/>
                    </a:cubicBezTo>
                    <a:cubicBezTo>
                      <a:pt x="350795" y="135169"/>
                      <a:pt x="345967" y="139460"/>
                      <a:pt x="341140" y="143751"/>
                    </a:cubicBezTo>
                    <a:cubicBezTo>
                      <a:pt x="338458" y="146433"/>
                      <a:pt x="335240" y="148578"/>
                      <a:pt x="331485" y="149651"/>
                    </a:cubicBezTo>
                    <a:cubicBezTo>
                      <a:pt x="326657" y="150724"/>
                      <a:pt x="321294" y="149651"/>
                      <a:pt x="316466" y="148042"/>
                    </a:cubicBezTo>
                    <a:cubicBezTo>
                      <a:pt x="232254" y="122832"/>
                      <a:pt x="150187" y="89040"/>
                      <a:pt x="72948" y="47202"/>
                    </a:cubicBezTo>
                    <a:cubicBezTo>
                      <a:pt x="60611" y="40765"/>
                      <a:pt x="48811" y="33792"/>
                      <a:pt x="34865" y="31110"/>
                    </a:cubicBezTo>
                    <a:cubicBezTo>
                      <a:pt x="23065" y="28965"/>
                      <a:pt x="9655" y="30574"/>
                      <a:pt x="0" y="38083"/>
                    </a:cubicBezTo>
                    <a:cubicBezTo>
                      <a:pt x="2146" y="34865"/>
                      <a:pt x="3755" y="32183"/>
                      <a:pt x="5900" y="29501"/>
                    </a:cubicBezTo>
                    <a:cubicBezTo>
                      <a:pt x="9119" y="24674"/>
                      <a:pt x="12873" y="19846"/>
                      <a:pt x="16628" y="15555"/>
                    </a:cubicBezTo>
                    <a:cubicBezTo>
                      <a:pt x="16628" y="15555"/>
                      <a:pt x="17164" y="15019"/>
                      <a:pt x="17164" y="15019"/>
                    </a:cubicBezTo>
                    <a:cubicBezTo>
                      <a:pt x="24674" y="6973"/>
                      <a:pt x="33792" y="536"/>
                      <a:pt x="44520" y="0"/>
                    </a:cubicBezTo>
                    <a:cubicBezTo>
                      <a:pt x="45056" y="0"/>
                      <a:pt x="45593" y="0"/>
                      <a:pt x="46129" y="0"/>
                    </a:cubicBezTo>
                    <a:cubicBezTo>
                      <a:pt x="46129" y="0"/>
                      <a:pt x="46129" y="0"/>
                      <a:pt x="46129" y="0"/>
                    </a:cubicBezTo>
                    <a:cubicBezTo>
                      <a:pt x="64366" y="12337"/>
                      <a:pt x="82603" y="24137"/>
                      <a:pt x="101913" y="35401"/>
                    </a:cubicBezTo>
                    <a:cubicBezTo>
                      <a:pt x="114250" y="42374"/>
                      <a:pt x="127123" y="49347"/>
                      <a:pt x="139996" y="55784"/>
                    </a:cubicBezTo>
                    <a:cubicBezTo>
                      <a:pt x="145360" y="58466"/>
                      <a:pt x="150724" y="61148"/>
                      <a:pt x="156088" y="63830"/>
                    </a:cubicBezTo>
                    <a:cubicBezTo>
                      <a:pt x="156624" y="63830"/>
                      <a:pt x="156624" y="64366"/>
                      <a:pt x="157160" y="64366"/>
                    </a:cubicBezTo>
                    <a:cubicBezTo>
                      <a:pt x="169497" y="70266"/>
                      <a:pt x="182370" y="76166"/>
                      <a:pt x="195244" y="81530"/>
                    </a:cubicBezTo>
                    <a:cubicBezTo>
                      <a:pt x="208653" y="87430"/>
                      <a:pt x="222599" y="92794"/>
                      <a:pt x="236545" y="97622"/>
                    </a:cubicBezTo>
                    <a:cubicBezTo>
                      <a:pt x="240836" y="99231"/>
                      <a:pt x="293938" y="118541"/>
                      <a:pt x="313784" y="120150"/>
                    </a:cubicBezTo>
                    <a:cubicBezTo>
                      <a:pt x="315393" y="118004"/>
                      <a:pt x="317539" y="115322"/>
                      <a:pt x="319148" y="113177"/>
                    </a:cubicBezTo>
                    <a:cubicBezTo>
                      <a:pt x="321294" y="114250"/>
                      <a:pt x="322903" y="114250"/>
                      <a:pt x="325585" y="113177"/>
                    </a:cubicBezTo>
                    <a:cubicBezTo>
                      <a:pt x="335776" y="108349"/>
                      <a:pt x="345431" y="104058"/>
                      <a:pt x="354013" y="96549"/>
                    </a:cubicBezTo>
                    <a:cubicBezTo>
                      <a:pt x="356695" y="98158"/>
                      <a:pt x="359377" y="100304"/>
                      <a:pt x="362595" y="101913"/>
                    </a:cubicBezTo>
                    <a:cubicBezTo>
                      <a:pt x="364204" y="103522"/>
                      <a:pt x="367423" y="105131"/>
                      <a:pt x="370105" y="1067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16" name="Freeform: Shape 312"/>
              <p:cNvSpPr/>
              <p:nvPr/>
            </p:nvSpPr>
            <p:spPr>
              <a:xfrm>
                <a:off x="6715440" y="2517120"/>
                <a:ext cx="80640" cy="70200"/>
              </a:xfrm>
              <a:custGeom>
                <a:avLst/>
                <a:gdLst/>
                <a:ahLst/>
                <a:rect l="l" t="t" r="r" b="b"/>
                <a:pathLst>
                  <a:path w="104058" h="90648">
                    <a:moveTo>
                      <a:pt x="104058" y="18237"/>
                    </a:moveTo>
                    <a:cubicBezTo>
                      <a:pt x="101913" y="24137"/>
                      <a:pt x="99231" y="30574"/>
                      <a:pt x="97085" y="37010"/>
                    </a:cubicBezTo>
                    <a:cubicBezTo>
                      <a:pt x="94403" y="35401"/>
                      <a:pt x="91722" y="34328"/>
                      <a:pt x="90112" y="33792"/>
                    </a:cubicBezTo>
                    <a:cubicBezTo>
                      <a:pt x="84212" y="31647"/>
                      <a:pt x="77776" y="30574"/>
                      <a:pt x="71339" y="30037"/>
                    </a:cubicBezTo>
                    <a:cubicBezTo>
                      <a:pt x="68657" y="30037"/>
                      <a:pt x="65439" y="30037"/>
                      <a:pt x="62757" y="30574"/>
                    </a:cubicBezTo>
                    <a:cubicBezTo>
                      <a:pt x="59539" y="31647"/>
                      <a:pt x="57393" y="33792"/>
                      <a:pt x="54711" y="35938"/>
                    </a:cubicBezTo>
                    <a:cubicBezTo>
                      <a:pt x="35401" y="53102"/>
                      <a:pt x="17164" y="71339"/>
                      <a:pt x="0" y="90649"/>
                    </a:cubicBezTo>
                    <a:cubicBezTo>
                      <a:pt x="18773" y="62220"/>
                      <a:pt x="37547" y="33256"/>
                      <a:pt x="56320" y="4827"/>
                    </a:cubicBezTo>
                    <a:cubicBezTo>
                      <a:pt x="57393" y="3755"/>
                      <a:pt x="57929" y="2146"/>
                      <a:pt x="59539" y="1073"/>
                    </a:cubicBezTo>
                    <a:cubicBezTo>
                      <a:pt x="60611" y="536"/>
                      <a:pt x="61684" y="0"/>
                      <a:pt x="62757" y="0"/>
                    </a:cubicBezTo>
                    <a:cubicBezTo>
                      <a:pt x="62220" y="3755"/>
                      <a:pt x="61684" y="7509"/>
                      <a:pt x="61148" y="11264"/>
                    </a:cubicBezTo>
                    <a:cubicBezTo>
                      <a:pt x="61148" y="13410"/>
                      <a:pt x="61148" y="16091"/>
                      <a:pt x="62757" y="17164"/>
                    </a:cubicBezTo>
                    <a:cubicBezTo>
                      <a:pt x="63830" y="17701"/>
                      <a:pt x="65439" y="17701"/>
                      <a:pt x="67048" y="17164"/>
                    </a:cubicBezTo>
                    <a:cubicBezTo>
                      <a:pt x="76703" y="15555"/>
                      <a:pt x="85821" y="13410"/>
                      <a:pt x="95476" y="11800"/>
                    </a:cubicBezTo>
                    <a:cubicBezTo>
                      <a:pt x="96013" y="11800"/>
                      <a:pt x="96549" y="11800"/>
                      <a:pt x="97085" y="11264"/>
                    </a:cubicBezTo>
                    <a:cubicBezTo>
                      <a:pt x="97085" y="11800"/>
                      <a:pt x="97622" y="11800"/>
                      <a:pt x="97622" y="12337"/>
                    </a:cubicBezTo>
                    <a:cubicBezTo>
                      <a:pt x="98695" y="13946"/>
                      <a:pt x="99767" y="15019"/>
                      <a:pt x="101376" y="16091"/>
                    </a:cubicBezTo>
                    <a:cubicBezTo>
                      <a:pt x="101913" y="16628"/>
                      <a:pt x="102986" y="17164"/>
                      <a:pt x="104058" y="18237"/>
                    </a:cubicBezTo>
                    <a:close/>
                  </a:path>
                </a:pathLst>
              </a:custGeom>
              <a:solidFill>
                <a:srgbClr val="414042"/>
              </a:solidFill>
              <a:ln w="0">
                <a:noFill/>
              </a:ln>
            </p:spPr>
            <p:style>
              <a:lnRef idx="0"/>
              <a:fillRef idx="0"/>
              <a:effectRef idx="0"/>
              <a:fontRef idx="minor"/>
            </p:style>
            <p:txBody>
              <a:bodyPr lIns="90000" rIns="90000" tIns="23400" bIns="23400" anchor="ctr">
                <a:noAutofit/>
              </a:bodyPr>
              <a:p>
                <a:endParaRPr b="0" lang="en-US" sz="1800" spc="-1" strike="noStrike">
                  <a:solidFill>
                    <a:srgbClr val="313c3f"/>
                  </a:solidFill>
                  <a:latin typeface="Source Sans Pro"/>
                </a:endParaRPr>
              </a:p>
            </p:txBody>
          </p:sp>
          <p:sp>
            <p:nvSpPr>
              <p:cNvPr id="2517" name="Freeform: Shape 313"/>
              <p:cNvSpPr/>
              <p:nvPr/>
            </p:nvSpPr>
            <p:spPr>
              <a:xfrm>
                <a:off x="6809400" y="2373840"/>
                <a:ext cx="47880" cy="86400"/>
              </a:xfrm>
              <a:custGeom>
                <a:avLst/>
                <a:gdLst/>
                <a:ahLst/>
                <a:rect l="l" t="t" r="r" b="b"/>
                <a:pathLst>
                  <a:path w="61746" h="111567">
                    <a:moveTo>
                      <a:pt x="54711" y="43983"/>
                    </a:moveTo>
                    <a:cubicBezTo>
                      <a:pt x="48811" y="61684"/>
                      <a:pt x="42911" y="79921"/>
                      <a:pt x="33792" y="96013"/>
                    </a:cubicBezTo>
                    <a:cubicBezTo>
                      <a:pt x="32719" y="95476"/>
                      <a:pt x="31110" y="94940"/>
                      <a:pt x="29501" y="94403"/>
                    </a:cubicBezTo>
                    <a:cubicBezTo>
                      <a:pt x="27892" y="93867"/>
                      <a:pt x="26283" y="93867"/>
                      <a:pt x="24674" y="94403"/>
                    </a:cubicBezTo>
                    <a:cubicBezTo>
                      <a:pt x="23601" y="94940"/>
                      <a:pt x="23064" y="95476"/>
                      <a:pt x="21992" y="96013"/>
                    </a:cubicBezTo>
                    <a:cubicBezTo>
                      <a:pt x="18237" y="99767"/>
                      <a:pt x="14482" y="103522"/>
                      <a:pt x="10728" y="107277"/>
                    </a:cubicBezTo>
                    <a:cubicBezTo>
                      <a:pt x="6973" y="108349"/>
                      <a:pt x="3755" y="109959"/>
                      <a:pt x="0" y="111568"/>
                    </a:cubicBezTo>
                    <a:cubicBezTo>
                      <a:pt x="11264" y="94940"/>
                      <a:pt x="21992" y="77239"/>
                      <a:pt x="31110" y="59539"/>
                    </a:cubicBezTo>
                    <a:cubicBezTo>
                      <a:pt x="41302" y="40229"/>
                      <a:pt x="47202" y="18773"/>
                      <a:pt x="57929" y="0"/>
                    </a:cubicBezTo>
                    <a:cubicBezTo>
                      <a:pt x="66512" y="11264"/>
                      <a:pt x="58466" y="32719"/>
                      <a:pt x="54711" y="43983"/>
                    </a:cubicBezTo>
                    <a:close/>
                  </a:path>
                </a:pathLst>
              </a:custGeom>
              <a:solidFill>
                <a:srgbClr val="414042"/>
              </a:solidFill>
              <a:ln w="0">
                <a:noFill/>
              </a:ln>
            </p:spPr>
            <p:style>
              <a:lnRef idx="0"/>
              <a:fillRef idx="0"/>
              <a:effectRef idx="0"/>
              <a:fontRef idx="minor"/>
            </p:style>
            <p:txBody>
              <a:bodyPr lIns="90000" rIns="90000" tIns="39600" bIns="39600" anchor="ctr">
                <a:noAutofit/>
              </a:bodyPr>
              <a:p>
                <a:endParaRPr b="0" lang="en-US" sz="1800" spc="-1" strike="noStrike">
                  <a:solidFill>
                    <a:srgbClr val="313c3f"/>
                  </a:solidFill>
                  <a:latin typeface="Source Sans Pro"/>
                </a:endParaRPr>
              </a:p>
            </p:txBody>
          </p:sp>
          <p:sp>
            <p:nvSpPr>
              <p:cNvPr id="2518" name="Freeform: Shape 314"/>
              <p:cNvSpPr/>
              <p:nvPr/>
            </p:nvSpPr>
            <p:spPr>
              <a:xfrm>
                <a:off x="7132680" y="2254320"/>
                <a:ext cx="183240" cy="167760"/>
              </a:xfrm>
              <a:custGeom>
                <a:avLst/>
                <a:gdLst/>
                <a:ahLst/>
                <a:rect l="l" t="t" r="r" b="b"/>
                <a:pathLst>
                  <a:path w="236545" h="216162">
                    <a:moveTo>
                      <a:pt x="236545" y="28965"/>
                    </a:moveTo>
                    <a:cubicBezTo>
                      <a:pt x="208653" y="19310"/>
                      <a:pt x="178079" y="15019"/>
                      <a:pt x="150187" y="24674"/>
                    </a:cubicBezTo>
                    <a:cubicBezTo>
                      <a:pt x="136241" y="29501"/>
                      <a:pt x="123368" y="37547"/>
                      <a:pt x="111568" y="46665"/>
                    </a:cubicBezTo>
                    <a:cubicBezTo>
                      <a:pt x="58466" y="87967"/>
                      <a:pt x="21455" y="150187"/>
                      <a:pt x="11264" y="216162"/>
                    </a:cubicBezTo>
                    <a:cubicBezTo>
                      <a:pt x="9655" y="215090"/>
                      <a:pt x="7509" y="214017"/>
                      <a:pt x="5364" y="214017"/>
                    </a:cubicBezTo>
                    <a:cubicBezTo>
                      <a:pt x="3755" y="214017"/>
                      <a:pt x="1609" y="214017"/>
                      <a:pt x="0" y="214553"/>
                    </a:cubicBezTo>
                    <a:cubicBezTo>
                      <a:pt x="2146" y="209726"/>
                      <a:pt x="3755" y="204362"/>
                      <a:pt x="5364" y="199535"/>
                    </a:cubicBezTo>
                    <a:cubicBezTo>
                      <a:pt x="6973" y="195244"/>
                      <a:pt x="8046" y="191489"/>
                      <a:pt x="9655" y="187198"/>
                    </a:cubicBezTo>
                    <a:cubicBezTo>
                      <a:pt x="11800" y="181298"/>
                      <a:pt x="13410" y="174861"/>
                      <a:pt x="15019" y="168961"/>
                    </a:cubicBezTo>
                    <a:cubicBezTo>
                      <a:pt x="15555" y="167888"/>
                      <a:pt x="15555" y="166815"/>
                      <a:pt x="16092" y="165742"/>
                    </a:cubicBezTo>
                    <a:cubicBezTo>
                      <a:pt x="16092" y="165206"/>
                      <a:pt x="16628" y="164670"/>
                      <a:pt x="16628" y="164133"/>
                    </a:cubicBezTo>
                    <a:cubicBezTo>
                      <a:pt x="20383" y="150187"/>
                      <a:pt x="26283" y="136778"/>
                      <a:pt x="34329" y="124977"/>
                    </a:cubicBezTo>
                    <a:cubicBezTo>
                      <a:pt x="38620" y="119077"/>
                      <a:pt x="42911" y="113177"/>
                      <a:pt x="47202" y="106740"/>
                    </a:cubicBezTo>
                    <a:cubicBezTo>
                      <a:pt x="75630" y="68657"/>
                      <a:pt x="106740" y="29501"/>
                      <a:pt x="151260" y="13410"/>
                    </a:cubicBezTo>
                    <a:cubicBezTo>
                      <a:pt x="163061" y="9118"/>
                      <a:pt x="175397" y="6437"/>
                      <a:pt x="185589" y="0"/>
                    </a:cubicBezTo>
                    <a:cubicBezTo>
                      <a:pt x="203289" y="6437"/>
                      <a:pt x="220454" y="15019"/>
                      <a:pt x="234936" y="26819"/>
                    </a:cubicBezTo>
                    <a:cubicBezTo>
                      <a:pt x="236009" y="28428"/>
                      <a:pt x="236009" y="28965"/>
                      <a:pt x="236545" y="289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19" name="Freeform: Shape 315"/>
              <p:cNvSpPr/>
              <p:nvPr/>
            </p:nvSpPr>
            <p:spPr>
              <a:xfrm>
                <a:off x="7064280" y="2421360"/>
                <a:ext cx="123120" cy="107280"/>
              </a:xfrm>
              <a:custGeom>
                <a:avLst/>
                <a:gdLst/>
                <a:ahLst/>
                <a:rect l="l" t="t" r="r" b="b"/>
                <a:pathLst>
                  <a:path w="158906" h="138340">
                    <a:moveTo>
                      <a:pt x="158906" y="91944"/>
                    </a:moveTo>
                    <a:cubicBezTo>
                      <a:pt x="158370" y="96235"/>
                      <a:pt x="155151" y="100526"/>
                      <a:pt x="150860" y="102135"/>
                    </a:cubicBezTo>
                    <a:cubicBezTo>
                      <a:pt x="146569" y="103744"/>
                      <a:pt x="141742" y="103744"/>
                      <a:pt x="137451" y="102135"/>
                    </a:cubicBezTo>
                    <a:cubicBezTo>
                      <a:pt x="137451" y="108035"/>
                      <a:pt x="133160" y="112863"/>
                      <a:pt x="127796" y="115008"/>
                    </a:cubicBezTo>
                    <a:cubicBezTo>
                      <a:pt x="125650" y="116081"/>
                      <a:pt x="123505" y="116617"/>
                      <a:pt x="120823" y="116617"/>
                    </a:cubicBezTo>
                    <a:cubicBezTo>
                      <a:pt x="112777" y="117154"/>
                      <a:pt x="104731" y="115545"/>
                      <a:pt x="98295" y="111254"/>
                    </a:cubicBezTo>
                    <a:cubicBezTo>
                      <a:pt x="98295" y="118226"/>
                      <a:pt x="93467" y="124663"/>
                      <a:pt x="87567" y="128954"/>
                    </a:cubicBezTo>
                    <a:cubicBezTo>
                      <a:pt x="81667" y="133245"/>
                      <a:pt x="74158" y="134318"/>
                      <a:pt x="67721" y="132172"/>
                    </a:cubicBezTo>
                    <a:cubicBezTo>
                      <a:pt x="66648" y="131636"/>
                      <a:pt x="65575" y="131636"/>
                      <a:pt x="65039" y="131100"/>
                    </a:cubicBezTo>
                    <a:cubicBezTo>
                      <a:pt x="61821" y="130027"/>
                      <a:pt x="59139" y="127881"/>
                      <a:pt x="55921" y="126272"/>
                    </a:cubicBezTo>
                    <a:cubicBezTo>
                      <a:pt x="53239" y="124663"/>
                      <a:pt x="50557" y="122518"/>
                      <a:pt x="47338" y="120908"/>
                    </a:cubicBezTo>
                    <a:cubicBezTo>
                      <a:pt x="38756" y="128418"/>
                      <a:pt x="29101" y="132709"/>
                      <a:pt x="18910" y="137536"/>
                    </a:cubicBezTo>
                    <a:cubicBezTo>
                      <a:pt x="16228" y="138609"/>
                      <a:pt x="15155" y="138609"/>
                      <a:pt x="12473" y="137536"/>
                    </a:cubicBezTo>
                    <a:cubicBezTo>
                      <a:pt x="12473" y="137536"/>
                      <a:pt x="11937" y="137536"/>
                      <a:pt x="11937" y="137536"/>
                    </a:cubicBezTo>
                    <a:cubicBezTo>
                      <a:pt x="4428" y="132709"/>
                      <a:pt x="-936" y="123590"/>
                      <a:pt x="137" y="114472"/>
                    </a:cubicBezTo>
                    <a:cubicBezTo>
                      <a:pt x="1209" y="105353"/>
                      <a:pt x="9792" y="97308"/>
                      <a:pt x="18910" y="97844"/>
                    </a:cubicBezTo>
                    <a:cubicBezTo>
                      <a:pt x="14619" y="86580"/>
                      <a:pt x="23201" y="72634"/>
                      <a:pt x="35538" y="71561"/>
                    </a:cubicBezTo>
                    <a:cubicBezTo>
                      <a:pt x="32856" y="67270"/>
                      <a:pt x="32856" y="61370"/>
                      <a:pt x="35002" y="56542"/>
                    </a:cubicBezTo>
                    <a:cubicBezTo>
                      <a:pt x="37147" y="51715"/>
                      <a:pt x="41975" y="49033"/>
                      <a:pt x="47338" y="48497"/>
                    </a:cubicBezTo>
                    <a:cubicBezTo>
                      <a:pt x="44656" y="44742"/>
                      <a:pt x="45193" y="39378"/>
                      <a:pt x="46802" y="35624"/>
                    </a:cubicBezTo>
                    <a:cubicBezTo>
                      <a:pt x="48411" y="31332"/>
                      <a:pt x="51629" y="28114"/>
                      <a:pt x="54848" y="24896"/>
                    </a:cubicBezTo>
                    <a:cubicBezTo>
                      <a:pt x="62357" y="17386"/>
                      <a:pt x="71476" y="11486"/>
                      <a:pt x="80058" y="5050"/>
                    </a:cubicBezTo>
                    <a:cubicBezTo>
                      <a:pt x="82740" y="3441"/>
                      <a:pt x="85422" y="1295"/>
                      <a:pt x="88104" y="759"/>
                    </a:cubicBezTo>
                    <a:cubicBezTo>
                      <a:pt x="89713" y="222"/>
                      <a:pt x="91858" y="-314"/>
                      <a:pt x="93467" y="222"/>
                    </a:cubicBezTo>
                    <a:cubicBezTo>
                      <a:pt x="95613" y="759"/>
                      <a:pt x="97222" y="1295"/>
                      <a:pt x="99368" y="2368"/>
                    </a:cubicBezTo>
                    <a:cubicBezTo>
                      <a:pt x="99904" y="2904"/>
                      <a:pt x="100440" y="2904"/>
                      <a:pt x="100977" y="3441"/>
                    </a:cubicBezTo>
                    <a:cubicBezTo>
                      <a:pt x="109559" y="8804"/>
                      <a:pt x="117605" y="14168"/>
                      <a:pt x="126187" y="19532"/>
                    </a:cubicBezTo>
                    <a:cubicBezTo>
                      <a:pt x="133160" y="23823"/>
                      <a:pt x="140133" y="28651"/>
                      <a:pt x="146033" y="34014"/>
                    </a:cubicBezTo>
                    <a:cubicBezTo>
                      <a:pt x="150860" y="38842"/>
                      <a:pt x="155151" y="45815"/>
                      <a:pt x="153006" y="52251"/>
                    </a:cubicBezTo>
                    <a:cubicBezTo>
                      <a:pt x="151397" y="57079"/>
                      <a:pt x="147106" y="60297"/>
                      <a:pt x="141742" y="61370"/>
                    </a:cubicBezTo>
                    <a:cubicBezTo>
                      <a:pt x="136914" y="62443"/>
                      <a:pt x="131551" y="61906"/>
                      <a:pt x="126723" y="60834"/>
                    </a:cubicBezTo>
                    <a:cubicBezTo>
                      <a:pt x="133160" y="66197"/>
                      <a:pt x="138524" y="70488"/>
                      <a:pt x="145497" y="75316"/>
                    </a:cubicBezTo>
                    <a:cubicBezTo>
                      <a:pt x="148715" y="77461"/>
                      <a:pt x="151397" y="79607"/>
                      <a:pt x="154079" y="82289"/>
                    </a:cubicBezTo>
                    <a:cubicBezTo>
                      <a:pt x="157297" y="84971"/>
                      <a:pt x="158906" y="88189"/>
                      <a:pt x="158906" y="9194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20" name="Freeform: Shape 316"/>
              <p:cNvSpPr/>
              <p:nvPr/>
            </p:nvSpPr>
            <p:spPr>
              <a:xfrm>
                <a:off x="6895440" y="2673360"/>
                <a:ext cx="19080" cy="196920"/>
              </a:xfrm>
              <a:custGeom>
                <a:avLst/>
                <a:gdLst/>
                <a:ahLst/>
                <a:rect l="l" t="t" r="r" b="b"/>
                <a:pathLst>
                  <a:path w="24615" h="253709">
                    <a:moveTo>
                      <a:pt x="24616" y="253709"/>
                    </a:moveTo>
                    <a:cubicBezTo>
                      <a:pt x="21934" y="253173"/>
                      <a:pt x="19252" y="252637"/>
                      <a:pt x="16570" y="252100"/>
                    </a:cubicBezTo>
                    <a:cubicBezTo>
                      <a:pt x="11206" y="210262"/>
                      <a:pt x="6915" y="168424"/>
                      <a:pt x="3697" y="126586"/>
                    </a:cubicBezTo>
                    <a:cubicBezTo>
                      <a:pt x="2088" y="99231"/>
                      <a:pt x="1015" y="71339"/>
                      <a:pt x="479" y="43983"/>
                    </a:cubicBezTo>
                    <a:cubicBezTo>
                      <a:pt x="479" y="31110"/>
                      <a:pt x="-1130" y="16628"/>
                      <a:pt x="1552" y="4291"/>
                    </a:cubicBezTo>
                    <a:cubicBezTo>
                      <a:pt x="1552" y="3218"/>
                      <a:pt x="2088" y="2146"/>
                      <a:pt x="2624" y="1073"/>
                    </a:cubicBezTo>
                    <a:cubicBezTo>
                      <a:pt x="5306" y="536"/>
                      <a:pt x="8524" y="0"/>
                      <a:pt x="11206" y="0"/>
                    </a:cubicBezTo>
                    <a:cubicBezTo>
                      <a:pt x="8524" y="62220"/>
                      <a:pt x="13352" y="124441"/>
                      <a:pt x="18716" y="186661"/>
                    </a:cubicBezTo>
                    <a:cubicBezTo>
                      <a:pt x="20861" y="209189"/>
                      <a:pt x="23007" y="231181"/>
                      <a:pt x="24616" y="253709"/>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21" name="Freeform: Shape 317"/>
              <p:cNvSpPr/>
              <p:nvPr/>
            </p:nvSpPr>
            <p:spPr>
              <a:xfrm>
                <a:off x="6929280" y="2769120"/>
                <a:ext cx="117720" cy="108000"/>
              </a:xfrm>
              <a:custGeom>
                <a:avLst/>
                <a:gdLst/>
                <a:ahLst/>
                <a:rect l="l" t="t" r="r" b="b"/>
                <a:pathLst>
                  <a:path w="151796" h="139459">
                    <a:moveTo>
                      <a:pt x="151796" y="138387"/>
                    </a:moveTo>
                    <a:cubicBezTo>
                      <a:pt x="145896" y="138923"/>
                      <a:pt x="140532" y="138923"/>
                      <a:pt x="134632" y="139460"/>
                    </a:cubicBezTo>
                    <a:cubicBezTo>
                      <a:pt x="123368" y="131950"/>
                      <a:pt x="111568" y="123368"/>
                      <a:pt x="99767" y="113713"/>
                    </a:cubicBezTo>
                    <a:cubicBezTo>
                      <a:pt x="83676" y="100304"/>
                      <a:pt x="69193" y="86358"/>
                      <a:pt x="56320" y="73484"/>
                    </a:cubicBezTo>
                    <a:cubicBezTo>
                      <a:pt x="49884" y="67048"/>
                      <a:pt x="44520" y="60611"/>
                      <a:pt x="39156" y="54175"/>
                    </a:cubicBezTo>
                    <a:cubicBezTo>
                      <a:pt x="36474" y="50956"/>
                      <a:pt x="33792" y="48274"/>
                      <a:pt x="31647" y="45056"/>
                    </a:cubicBezTo>
                    <a:cubicBezTo>
                      <a:pt x="29501" y="41838"/>
                      <a:pt x="27356" y="39156"/>
                      <a:pt x="25210" y="36474"/>
                    </a:cubicBezTo>
                    <a:cubicBezTo>
                      <a:pt x="20919" y="31110"/>
                      <a:pt x="17164" y="26283"/>
                      <a:pt x="14482" y="21455"/>
                    </a:cubicBezTo>
                    <a:cubicBezTo>
                      <a:pt x="12873" y="19310"/>
                      <a:pt x="11264" y="17164"/>
                      <a:pt x="10191" y="15019"/>
                    </a:cubicBezTo>
                    <a:cubicBezTo>
                      <a:pt x="9119" y="12873"/>
                      <a:pt x="7509" y="11264"/>
                      <a:pt x="6437" y="9655"/>
                    </a:cubicBezTo>
                    <a:cubicBezTo>
                      <a:pt x="2682" y="3755"/>
                      <a:pt x="536" y="0"/>
                      <a:pt x="0" y="0"/>
                    </a:cubicBezTo>
                    <a:cubicBezTo>
                      <a:pt x="536" y="536"/>
                      <a:pt x="3218" y="3218"/>
                      <a:pt x="8046" y="8582"/>
                    </a:cubicBezTo>
                    <a:cubicBezTo>
                      <a:pt x="9119" y="10191"/>
                      <a:pt x="10728" y="11800"/>
                      <a:pt x="12337" y="13410"/>
                    </a:cubicBezTo>
                    <a:cubicBezTo>
                      <a:pt x="13946" y="15019"/>
                      <a:pt x="15555" y="17164"/>
                      <a:pt x="17701" y="18773"/>
                    </a:cubicBezTo>
                    <a:cubicBezTo>
                      <a:pt x="21455" y="22528"/>
                      <a:pt x="25210" y="27356"/>
                      <a:pt x="30037" y="32183"/>
                    </a:cubicBezTo>
                    <a:cubicBezTo>
                      <a:pt x="32183" y="34865"/>
                      <a:pt x="34865" y="37010"/>
                      <a:pt x="37547" y="39692"/>
                    </a:cubicBezTo>
                    <a:cubicBezTo>
                      <a:pt x="40229" y="42374"/>
                      <a:pt x="42911" y="45056"/>
                      <a:pt x="45593" y="47738"/>
                    </a:cubicBezTo>
                    <a:cubicBezTo>
                      <a:pt x="50956" y="53638"/>
                      <a:pt x="57393" y="59002"/>
                      <a:pt x="63830" y="65439"/>
                    </a:cubicBezTo>
                    <a:cubicBezTo>
                      <a:pt x="76703" y="77776"/>
                      <a:pt x="91722" y="90649"/>
                      <a:pt x="107813" y="103522"/>
                    </a:cubicBezTo>
                    <a:cubicBezTo>
                      <a:pt x="122832" y="116932"/>
                      <a:pt x="137851" y="128196"/>
                      <a:pt x="151796" y="13838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22" name="Freeform: Shape 319"/>
              <p:cNvSpPr/>
              <p:nvPr/>
            </p:nvSpPr>
            <p:spPr>
              <a:xfrm>
                <a:off x="7026120" y="2611080"/>
                <a:ext cx="196560" cy="236880"/>
              </a:xfrm>
              <a:custGeom>
                <a:avLst/>
                <a:gdLst/>
                <a:ahLst/>
                <a:rect l="l" t="t" r="r" b="b"/>
                <a:pathLst>
                  <a:path w="253709" h="305202">
                    <a:moveTo>
                      <a:pt x="253709" y="284283"/>
                    </a:moveTo>
                    <a:cubicBezTo>
                      <a:pt x="237082" y="291792"/>
                      <a:pt x="219381" y="298765"/>
                      <a:pt x="202217" y="305202"/>
                    </a:cubicBezTo>
                    <a:cubicBezTo>
                      <a:pt x="201144" y="301984"/>
                      <a:pt x="200071" y="298765"/>
                      <a:pt x="198998" y="295547"/>
                    </a:cubicBezTo>
                    <a:cubicBezTo>
                      <a:pt x="184516" y="251564"/>
                      <a:pt x="167888" y="208117"/>
                      <a:pt x="149651" y="165742"/>
                    </a:cubicBezTo>
                    <a:cubicBezTo>
                      <a:pt x="128732" y="165206"/>
                      <a:pt x="106740" y="164670"/>
                      <a:pt x="87431" y="156088"/>
                    </a:cubicBezTo>
                    <a:cubicBezTo>
                      <a:pt x="75094" y="150724"/>
                      <a:pt x="64902" y="142678"/>
                      <a:pt x="54175" y="134096"/>
                    </a:cubicBezTo>
                    <a:cubicBezTo>
                      <a:pt x="43447" y="125514"/>
                      <a:pt x="32719" y="116932"/>
                      <a:pt x="21455" y="108349"/>
                    </a:cubicBezTo>
                    <a:cubicBezTo>
                      <a:pt x="15019" y="102986"/>
                      <a:pt x="3755" y="97622"/>
                      <a:pt x="0" y="89576"/>
                    </a:cubicBezTo>
                    <a:cubicBezTo>
                      <a:pt x="20383" y="99767"/>
                      <a:pt x="40765" y="109422"/>
                      <a:pt x="61148" y="119613"/>
                    </a:cubicBezTo>
                    <a:cubicBezTo>
                      <a:pt x="77239" y="127123"/>
                      <a:pt x="94404" y="135169"/>
                      <a:pt x="111568" y="130877"/>
                    </a:cubicBezTo>
                    <a:cubicBezTo>
                      <a:pt x="121223" y="128196"/>
                      <a:pt x="129268" y="121759"/>
                      <a:pt x="136778" y="114786"/>
                    </a:cubicBezTo>
                    <a:cubicBezTo>
                      <a:pt x="160379" y="93331"/>
                      <a:pt x="196316" y="47202"/>
                      <a:pt x="210799" y="0"/>
                    </a:cubicBezTo>
                    <a:cubicBezTo>
                      <a:pt x="208117" y="15555"/>
                      <a:pt x="205435" y="30574"/>
                      <a:pt x="202753" y="46129"/>
                    </a:cubicBezTo>
                    <a:cubicBezTo>
                      <a:pt x="200071" y="60075"/>
                      <a:pt x="197926" y="74557"/>
                      <a:pt x="198462" y="89040"/>
                    </a:cubicBezTo>
                    <a:cubicBezTo>
                      <a:pt x="199535" y="107277"/>
                      <a:pt x="205435" y="124977"/>
                      <a:pt x="210799" y="142678"/>
                    </a:cubicBezTo>
                    <a:cubicBezTo>
                      <a:pt x="226354" y="189343"/>
                      <a:pt x="240836" y="236545"/>
                      <a:pt x="253709" y="28428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23" name="Freeform: Shape 320"/>
              <p:cNvSpPr/>
              <p:nvPr/>
            </p:nvSpPr>
            <p:spPr>
              <a:xfrm>
                <a:off x="6948000" y="2180160"/>
                <a:ext cx="248400" cy="322560"/>
              </a:xfrm>
              <a:custGeom>
                <a:avLst/>
                <a:gdLst/>
                <a:ahLst/>
                <a:rect l="l" t="t" r="r" b="b"/>
                <a:pathLst>
                  <a:path w="320220" h="415697">
                    <a:moveTo>
                      <a:pt x="320221" y="51493"/>
                    </a:moveTo>
                    <a:cubicBezTo>
                      <a:pt x="319684" y="54711"/>
                      <a:pt x="319148" y="57929"/>
                      <a:pt x="318612" y="61148"/>
                    </a:cubicBezTo>
                    <a:cubicBezTo>
                      <a:pt x="318612" y="62757"/>
                      <a:pt x="318075" y="63830"/>
                      <a:pt x="317539" y="65439"/>
                    </a:cubicBezTo>
                    <a:cubicBezTo>
                      <a:pt x="317539" y="65975"/>
                      <a:pt x="317539" y="66512"/>
                      <a:pt x="317003" y="67048"/>
                    </a:cubicBezTo>
                    <a:cubicBezTo>
                      <a:pt x="316466" y="68657"/>
                      <a:pt x="316466" y="69730"/>
                      <a:pt x="315930" y="71339"/>
                    </a:cubicBezTo>
                    <a:cubicBezTo>
                      <a:pt x="315393" y="72948"/>
                      <a:pt x="315393" y="74021"/>
                      <a:pt x="314857" y="75630"/>
                    </a:cubicBezTo>
                    <a:cubicBezTo>
                      <a:pt x="314857" y="76166"/>
                      <a:pt x="314857" y="76703"/>
                      <a:pt x="314321" y="76703"/>
                    </a:cubicBezTo>
                    <a:cubicBezTo>
                      <a:pt x="313784" y="77776"/>
                      <a:pt x="313784" y="78848"/>
                      <a:pt x="313248" y="79921"/>
                    </a:cubicBezTo>
                    <a:cubicBezTo>
                      <a:pt x="313248" y="80457"/>
                      <a:pt x="313248" y="80457"/>
                      <a:pt x="312711" y="80994"/>
                    </a:cubicBezTo>
                    <a:cubicBezTo>
                      <a:pt x="312711" y="81530"/>
                      <a:pt x="312175" y="82603"/>
                      <a:pt x="312175" y="83139"/>
                    </a:cubicBezTo>
                    <a:cubicBezTo>
                      <a:pt x="311639" y="84212"/>
                      <a:pt x="311639" y="85285"/>
                      <a:pt x="311102" y="86358"/>
                    </a:cubicBezTo>
                    <a:cubicBezTo>
                      <a:pt x="310566" y="87430"/>
                      <a:pt x="310566" y="88503"/>
                      <a:pt x="310030" y="89576"/>
                    </a:cubicBezTo>
                    <a:cubicBezTo>
                      <a:pt x="309493" y="90649"/>
                      <a:pt x="309493" y="91185"/>
                      <a:pt x="308957" y="92258"/>
                    </a:cubicBezTo>
                    <a:cubicBezTo>
                      <a:pt x="308420" y="93331"/>
                      <a:pt x="307884" y="94940"/>
                      <a:pt x="307348" y="96013"/>
                    </a:cubicBezTo>
                    <a:cubicBezTo>
                      <a:pt x="306811" y="97622"/>
                      <a:pt x="306275" y="99231"/>
                      <a:pt x="305202" y="101376"/>
                    </a:cubicBezTo>
                    <a:cubicBezTo>
                      <a:pt x="304666" y="102986"/>
                      <a:pt x="304129" y="104595"/>
                      <a:pt x="303057" y="106204"/>
                    </a:cubicBezTo>
                    <a:cubicBezTo>
                      <a:pt x="302520" y="107813"/>
                      <a:pt x="301447" y="109422"/>
                      <a:pt x="300911" y="111031"/>
                    </a:cubicBezTo>
                    <a:cubicBezTo>
                      <a:pt x="300375" y="112104"/>
                      <a:pt x="299838" y="113713"/>
                      <a:pt x="298766" y="114786"/>
                    </a:cubicBezTo>
                    <a:cubicBezTo>
                      <a:pt x="298229" y="115859"/>
                      <a:pt x="297693" y="116932"/>
                      <a:pt x="297156" y="118004"/>
                    </a:cubicBezTo>
                    <a:cubicBezTo>
                      <a:pt x="296620" y="119077"/>
                      <a:pt x="296084" y="120150"/>
                      <a:pt x="295547" y="121223"/>
                    </a:cubicBezTo>
                    <a:cubicBezTo>
                      <a:pt x="295547" y="121759"/>
                      <a:pt x="295011" y="122295"/>
                      <a:pt x="295011" y="122295"/>
                    </a:cubicBezTo>
                    <a:cubicBezTo>
                      <a:pt x="294474" y="123368"/>
                      <a:pt x="293402" y="124977"/>
                      <a:pt x="292865" y="126050"/>
                    </a:cubicBezTo>
                    <a:cubicBezTo>
                      <a:pt x="292865" y="126586"/>
                      <a:pt x="292329" y="127123"/>
                      <a:pt x="292329" y="127123"/>
                    </a:cubicBezTo>
                    <a:cubicBezTo>
                      <a:pt x="291256" y="128732"/>
                      <a:pt x="290720" y="130341"/>
                      <a:pt x="289647" y="131414"/>
                    </a:cubicBezTo>
                    <a:cubicBezTo>
                      <a:pt x="289111" y="132487"/>
                      <a:pt x="288038" y="133559"/>
                      <a:pt x="287501" y="135169"/>
                    </a:cubicBezTo>
                    <a:cubicBezTo>
                      <a:pt x="286965" y="136241"/>
                      <a:pt x="286429" y="136778"/>
                      <a:pt x="285892" y="137851"/>
                    </a:cubicBezTo>
                    <a:cubicBezTo>
                      <a:pt x="285892" y="137851"/>
                      <a:pt x="285892" y="137851"/>
                      <a:pt x="285892" y="137851"/>
                    </a:cubicBezTo>
                    <a:cubicBezTo>
                      <a:pt x="283747" y="140532"/>
                      <a:pt x="282138" y="143214"/>
                      <a:pt x="279992" y="146433"/>
                    </a:cubicBezTo>
                    <a:cubicBezTo>
                      <a:pt x="275165" y="146433"/>
                      <a:pt x="268728" y="148042"/>
                      <a:pt x="263901" y="149651"/>
                    </a:cubicBezTo>
                    <a:cubicBezTo>
                      <a:pt x="262828" y="149651"/>
                      <a:pt x="262291" y="150187"/>
                      <a:pt x="261755" y="150187"/>
                    </a:cubicBezTo>
                    <a:cubicBezTo>
                      <a:pt x="240300" y="156088"/>
                      <a:pt x="218308" y="159306"/>
                      <a:pt x="195780" y="160915"/>
                    </a:cubicBezTo>
                    <a:cubicBezTo>
                      <a:pt x="202753" y="170034"/>
                      <a:pt x="211335" y="178079"/>
                      <a:pt x="220454" y="185052"/>
                    </a:cubicBezTo>
                    <a:cubicBezTo>
                      <a:pt x="230108" y="193098"/>
                      <a:pt x="240836" y="199535"/>
                      <a:pt x="252100" y="205435"/>
                    </a:cubicBezTo>
                    <a:cubicBezTo>
                      <a:pt x="192025" y="285892"/>
                      <a:pt x="106740" y="342749"/>
                      <a:pt x="37547" y="415697"/>
                    </a:cubicBezTo>
                    <a:cubicBezTo>
                      <a:pt x="26283" y="410870"/>
                      <a:pt x="15019" y="406042"/>
                      <a:pt x="4291" y="400678"/>
                    </a:cubicBezTo>
                    <a:cubicBezTo>
                      <a:pt x="2682" y="400142"/>
                      <a:pt x="1073" y="399069"/>
                      <a:pt x="0" y="398533"/>
                    </a:cubicBezTo>
                    <a:cubicBezTo>
                      <a:pt x="0" y="397996"/>
                      <a:pt x="536" y="397996"/>
                      <a:pt x="536" y="397460"/>
                    </a:cubicBezTo>
                    <a:cubicBezTo>
                      <a:pt x="5900" y="387805"/>
                      <a:pt x="11800" y="378687"/>
                      <a:pt x="17164" y="369568"/>
                    </a:cubicBezTo>
                    <a:cubicBezTo>
                      <a:pt x="59002" y="301984"/>
                      <a:pt x="107277" y="237618"/>
                      <a:pt x="157697" y="175397"/>
                    </a:cubicBezTo>
                    <a:cubicBezTo>
                      <a:pt x="159842" y="173252"/>
                      <a:pt x="161988" y="171643"/>
                      <a:pt x="164133" y="169497"/>
                    </a:cubicBezTo>
                    <a:cubicBezTo>
                      <a:pt x="199535" y="135169"/>
                      <a:pt x="234936" y="100840"/>
                      <a:pt x="264973" y="61684"/>
                    </a:cubicBezTo>
                    <a:cubicBezTo>
                      <a:pt x="270337" y="55247"/>
                      <a:pt x="275165" y="48274"/>
                      <a:pt x="278919" y="40229"/>
                    </a:cubicBezTo>
                    <a:cubicBezTo>
                      <a:pt x="280528" y="37010"/>
                      <a:pt x="281601" y="33256"/>
                      <a:pt x="281601" y="30037"/>
                    </a:cubicBezTo>
                    <a:cubicBezTo>
                      <a:pt x="281601" y="26819"/>
                      <a:pt x="280528" y="24137"/>
                      <a:pt x="279456" y="21455"/>
                    </a:cubicBezTo>
                    <a:cubicBezTo>
                      <a:pt x="277847" y="16628"/>
                      <a:pt x="273556" y="6437"/>
                      <a:pt x="268192" y="0"/>
                    </a:cubicBezTo>
                    <a:cubicBezTo>
                      <a:pt x="268192" y="0"/>
                      <a:pt x="268192" y="0"/>
                      <a:pt x="268728" y="0"/>
                    </a:cubicBezTo>
                    <a:cubicBezTo>
                      <a:pt x="269801" y="0"/>
                      <a:pt x="270874" y="536"/>
                      <a:pt x="271410" y="1073"/>
                    </a:cubicBezTo>
                    <a:cubicBezTo>
                      <a:pt x="276237" y="4291"/>
                      <a:pt x="279992" y="9655"/>
                      <a:pt x="284283" y="14482"/>
                    </a:cubicBezTo>
                    <a:cubicBezTo>
                      <a:pt x="296084" y="27892"/>
                      <a:pt x="307348" y="40229"/>
                      <a:pt x="320221" y="51493"/>
                    </a:cubicBezTo>
                    <a:cubicBezTo>
                      <a:pt x="320221" y="51493"/>
                      <a:pt x="320221" y="51493"/>
                      <a:pt x="320221" y="51493"/>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24" name="Freeform: Shape 321"/>
              <p:cNvSpPr/>
              <p:nvPr/>
            </p:nvSpPr>
            <p:spPr>
              <a:xfrm>
                <a:off x="7120080" y="2324160"/>
                <a:ext cx="24840" cy="15480"/>
              </a:xfrm>
              <a:custGeom>
                <a:avLst/>
                <a:gdLst/>
                <a:ahLst/>
                <a:rect l="l" t="t" r="r" b="b"/>
                <a:pathLst>
                  <a:path w="32183" h="20382">
                    <a:moveTo>
                      <a:pt x="32183" y="19310"/>
                    </a:moveTo>
                    <a:cubicBezTo>
                      <a:pt x="32183" y="19846"/>
                      <a:pt x="31647" y="19846"/>
                      <a:pt x="31647" y="20383"/>
                    </a:cubicBezTo>
                    <a:cubicBezTo>
                      <a:pt x="20383" y="15019"/>
                      <a:pt x="9655" y="8046"/>
                      <a:pt x="0" y="0"/>
                    </a:cubicBezTo>
                    <a:cubicBezTo>
                      <a:pt x="9655" y="8046"/>
                      <a:pt x="20383" y="14482"/>
                      <a:pt x="32183" y="19310"/>
                    </a:cubicBezTo>
                    <a:close/>
                  </a:path>
                </a:pathLst>
              </a:custGeom>
              <a:solidFill>
                <a:srgbClr val="414042"/>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pic>
            <p:nvPicPr>
              <p:cNvPr id="2525" name="Graphic 120" descr=""/>
              <p:cNvPicPr/>
              <p:nvPr/>
            </p:nvPicPr>
            <p:blipFill>
              <a:blip r:embed="rId14"/>
              <a:stretch/>
            </p:blipFill>
            <p:spPr>
              <a:xfrm>
                <a:off x="6888600" y="2218680"/>
                <a:ext cx="103680" cy="249840"/>
              </a:xfrm>
              <a:prstGeom prst="rect">
                <a:avLst/>
              </a:prstGeom>
              <a:ln w="0">
                <a:noFill/>
              </a:ln>
            </p:spPr>
          </p:pic>
          <p:sp>
            <p:nvSpPr>
              <p:cNvPr id="2526" name="Freeform: Shape 323"/>
              <p:cNvSpPr/>
              <p:nvPr/>
            </p:nvSpPr>
            <p:spPr>
              <a:xfrm>
                <a:off x="6892200" y="2206080"/>
                <a:ext cx="120240" cy="277560"/>
              </a:xfrm>
              <a:custGeom>
                <a:avLst/>
                <a:gdLst/>
                <a:ahLst/>
                <a:rect l="l" t="t" r="r" b="b"/>
                <a:pathLst>
                  <a:path w="155014" h="357767">
                    <a:moveTo>
                      <a:pt x="155015" y="0"/>
                    </a:moveTo>
                    <a:cubicBezTo>
                      <a:pt x="155015" y="0"/>
                      <a:pt x="155015" y="0"/>
                      <a:pt x="155015" y="0"/>
                    </a:cubicBezTo>
                    <a:cubicBezTo>
                      <a:pt x="151260" y="3218"/>
                      <a:pt x="146969" y="11264"/>
                      <a:pt x="145360" y="13946"/>
                    </a:cubicBezTo>
                    <a:cubicBezTo>
                      <a:pt x="140532" y="21992"/>
                      <a:pt x="135705" y="29501"/>
                      <a:pt x="131414" y="37547"/>
                    </a:cubicBezTo>
                    <a:cubicBezTo>
                      <a:pt x="129805" y="40229"/>
                      <a:pt x="128732" y="42374"/>
                      <a:pt x="127123" y="45056"/>
                    </a:cubicBezTo>
                    <a:cubicBezTo>
                      <a:pt x="127123" y="45593"/>
                      <a:pt x="126587" y="45593"/>
                      <a:pt x="126587" y="46129"/>
                    </a:cubicBezTo>
                    <a:cubicBezTo>
                      <a:pt x="126050" y="47202"/>
                      <a:pt x="124977" y="48274"/>
                      <a:pt x="124441" y="49884"/>
                    </a:cubicBezTo>
                    <a:cubicBezTo>
                      <a:pt x="123905" y="50956"/>
                      <a:pt x="122832" y="52566"/>
                      <a:pt x="122295" y="53638"/>
                    </a:cubicBezTo>
                    <a:cubicBezTo>
                      <a:pt x="118004" y="61684"/>
                      <a:pt x="113713" y="69730"/>
                      <a:pt x="109959" y="78312"/>
                    </a:cubicBezTo>
                    <a:cubicBezTo>
                      <a:pt x="109422" y="79921"/>
                      <a:pt x="108349" y="82067"/>
                      <a:pt x="107813" y="83676"/>
                    </a:cubicBezTo>
                    <a:cubicBezTo>
                      <a:pt x="102986" y="95476"/>
                      <a:pt x="98158" y="107813"/>
                      <a:pt x="95476" y="120150"/>
                    </a:cubicBezTo>
                    <a:cubicBezTo>
                      <a:pt x="89576" y="131414"/>
                      <a:pt x="84749" y="142678"/>
                      <a:pt x="80458" y="154478"/>
                    </a:cubicBezTo>
                    <a:cubicBezTo>
                      <a:pt x="62221" y="205971"/>
                      <a:pt x="64366" y="261219"/>
                      <a:pt x="67048" y="316466"/>
                    </a:cubicBezTo>
                    <a:cubicBezTo>
                      <a:pt x="68121" y="333630"/>
                      <a:pt x="68657" y="340603"/>
                      <a:pt x="69193" y="357768"/>
                    </a:cubicBezTo>
                    <a:cubicBezTo>
                      <a:pt x="69193" y="357768"/>
                      <a:pt x="63830" y="355086"/>
                      <a:pt x="63830" y="355622"/>
                    </a:cubicBezTo>
                    <a:cubicBezTo>
                      <a:pt x="58466" y="352940"/>
                      <a:pt x="59539" y="350258"/>
                      <a:pt x="54175" y="347576"/>
                    </a:cubicBezTo>
                    <a:cubicBezTo>
                      <a:pt x="42911" y="341676"/>
                      <a:pt x="30038" y="341676"/>
                      <a:pt x="18773" y="337385"/>
                    </a:cubicBezTo>
                    <a:cubicBezTo>
                      <a:pt x="15555" y="327730"/>
                      <a:pt x="12337" y="318075"/>
                      <a:pt x="10191" y="308420"/>
                    </a:cubicBezTo>
                    <a:cubicBezTo>
                      <a:pt x="5900" y="289111"/>
                      <a:pt x="4291" y="269801"/>
                      <a:pt x="3218" y="249955"/>
                    </a:cubicBezTo>
                    <a:cubicBezTo>
                      <a:pt x="1609" y="226354"/>
                      <a:pt x="536" y="202753"/>
                      <a:pt x="0" y="179152"/>
                    </a:cubicBezTo>
                    <a:cubicBezTo>
                      <a:pt x="0" y="177006"/>
                      <a:pt x="0" y="174325"/>
                      <a:pt x="1073" y="172715"/>
                    </a:cubicBezTo>
                    <a:cubicBezTo>
                      <a:pt x="1073" y="172179"/>
                      <a:pt x="1609" y="172179"/>
                      <a:pt x="1609" y="172179"/>
                    </a:cubicBezTo>
                    <a:cubicBezTo>
                      <a:pt x="1609" y="172179"/>
                      <a:pt x="1609" y="172179"/>
                      <a:pt x="1609" y="172179"/>
                    </a:cubicBezTo>
                    <a:cubicBezTo>
                      <a:pt x="21992" y="161451"/>
                      <a:pt x="42374" y="149115"/>
                      <a:pt x="62757" y="138923"/>
                    </a:cubicBezTo>
                    <a:cubicBezTo>
                      <a:pt x="62757" y="138923"/>
                      <a:pt x="62757" y="138923"/>
                      <a:pt x="62221" y="138387"/>
                    </a:cubicBezTo>
                    <a:cubicBezTo>
                      <a:pt x="63293" y="137850"/>
                      <a:pt x="64902" y="136778"/>
                      <a:pt x="65975" y="136241"/>
                    </a:cubicBezTo>
                    <a:cubicBezTo>
                      <a:pt x="57393" y="127659"/>
                      <a:pt x="47738" y="120150"/>
                      <a:pt x="38083" y="113713"/>
                    </a:cubicBezTo>
                    <a:cubicBezTo>
                      <a:pt x="52029" y="92794"/>
                      <a:pt x="67048" y="72412"/>
                      <a:pt x="83139" y="54711"/>
                    </a:cubicBezTo>
                    <a:cubicBezTo>
                      <a:pt x="87431" y="50420"/>
                      <a:pt x="91185" y="46129"/>
                      <a:pt x="95476" y="41838"/>
                    </a:cubicBezTo>
                    <a:cubicBezTo>
                      <a:pt x="105668" y="32183"/>
                      <a:pt x="115859" y="23064"/>
                      <a:pt x="127123" y="15555"/>
                    </a:cubicBezTo>
                    <a:cubicBezTo>
                      <a:pt x="135705" y="8582"/>
                      <a:pt x="145360" y="3755"/>
                      <a:pt x="155015"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27" name="Freeform: Shape 324"/>
              <p:cNvSpPr/>
              <p:nvPr/>
            </p:nvSpPr>
            <p:spPr>
              <a:xfrm>
                <a:off x="6892920" y="2312640"/>
                <a:ext cx="47160" cy="25560"/>
              </a:xfrm>
              <a:custGeom>
                <a:avLst/>
                <a:gdLst/>
                <a:ahLst/>
                <a:rect l="l" t="t" r="r" b="b"/>
                <a:pathLst>
                  <a:path w="61147" h="33255">
                    <a:moveTo>
                      <a:pt x="-4388" y="0"/>
                    </a:moveTo>
                    <a:cubicBezTo>
                      <a:pt x="-24771" y="10728"/>
                      <a:pt x="20383" y="23064"/>
                      <a:pt x="0" y="-32280"/>
                    </a:cubicBezTo>
                    <a:cubicBezTo>
                      <a:pt x="0" y="-32280"/>
                      <a:pt x="0" y="-32280"/>
                      <a:pt x="0" y="-32280"/>
                    </a:cubicBezTo>
                    <a:cubicBezTo>
                      <a:pt x="1073" y="32183"/>
                      <a:pt x="2146" y="31647"/>
                      <a:pt x="3755" y="31110"/>
                    </a:cubicBezTo>
                    <a:cubicBezTo>
                      <a:pt x="22528" y="21455"/>
                      <a:pt x="-23698" y="9655"/>
                      <a:pt x="-4388" y="0"/>
                    </a:cubicBezTo>
                    <a:cubicBezTo>
                      <a:pt x="-4388" y="0"/>
                      <a:pt x="-4388" y="0"/>
                      <a:pt x="-4388" y="0"/>
                    </a:cubicBezTo>
                    <a:close/>
                  </a:path>
                </a:pathLst>
              </a:custGeom>
              <a:solidFill>
                <a:srgbClr val="414042"/>
              </a:solidFill>
              <a:ln w="0">
                <a:noFill/>
              </a:ln>
            </p:spPr>
            <p:style>
              <a:lnRef idx="0"/>
              <a:fillRef idx="0"/>
              <a:effectRef idx="0"/>
              <a:fontRef idx="minor"/>
            </p:style>
            <p:txBody>
              <a:bodyPr lIns="90000" rIns="90000" tIns="-21240" bIns="-21240" anchor="ctr">
                <a:noAutofit/>
              </a:bodyPr>
              <a:p>
                <a:endParaRPr b="0" lang="en-US" sz="1800" spc="-1" strike="noStrike">
                  <a:solidFill>
                    <a:srgbClr val="313c3f"/>
                  </a:solidFill>
                  <a:latin typeface="Source Sans Pro"/>
                </a:endParaRPr>
              </a:p>
            </p:txBody>
          </p:sp>
          <p:sp>
            <p:nvSpPr>
              <p:cNvPr id="2528" name="Freeform: Shape 325"/>
              <p:cNvSpPr/>
              <p:nvPr/>
            </p:nvSpPr>
            <p:spPr>
              <a:xfrm>
                <a:off x="6905880" y="2203920"/>
                <a:ext cx="108720" cy="285840"/>
              </a:xfrm>
              <a:custGeom>
                <a:avLst/>
                <a:gdLst/>
                <a:ahLst/>
                <a:rect l="l" t="t" r="r" b="b"/>
                <a:pathLst>
                  <a:path w="140532" h="368495">
                    <a:moveTo>
                      <a:pt x="140532" y="0"/>
                    </a:moveTo>
                    <a:cubicBezTo>
                      <a:pt x="140532" y="536"/>
                      <a:pt x="140532" y="536"/>
                      <a:pt x="140532" y="0"/>
                    </a:cubicBezTo>
                    <a:cubicBezTo>
                      <a:pt x="136778" y="3218"/>
                      <a:pt x="132487" y="11264"/>
                      <a:pt x="130878" y="13946"/>
                    </a:cubicBezTo>
                    <a:cubicBezTo>
                      <a:pt x="126050" y="21992"/>
                      <a:pt x="121223" y="29501"/>
                      <a:pt x="116932" y="37547"/>
                    </a:cubicBezTo>
                    <a:cubicBezTo>
                      <a:pt x="115322" y="40229"/>
                      <a:pt x="114250" y="42374"/>
                      <a:pt x="112641" y="45056"/>
                    </a:cubicBezTo>
                    <a:cubicBezTo>
                      <a:pt x="112641" y="45593"/>
                      <a:pt x="112104" y="45593"/>
                      <a:pt x="112104" y="46129"/>
                    </a:cubicBezTo>
                    <a:cubicBezTo>
                      <a:pt x="111568" y="47202"/>
                      <a:pt x="110495" y="48274"/>
                      <a:pt x="109959" y="49884"/>
                    </a:cubicBezTo>
                    <a:cubicBezTo>
                      <a:pt x="109422" y="50956"/>
                      <a:pt x="108349" y="52566"/>
                      <a:pt x="107813" y="53638"/>
                    </a:cubicBezTo>
                    <a:cubicBezTo>
                      <a:pt x="103522" y="61684"/>
                      <a:pt x="99231" y="69730"/>
                      <a:pt x="95476" y="78312"/>
                    </a:cubicBezTo>
                    <a:cubicBezTo>
                      <a:pt x="94940" y="79921"/>
                      <a:pt x="93867" y="82067"/>
                      <a:pt x="93331" y="83676"/>
                    </a:cubicBezTo>
                    <a:cubicBezTo>
                      <a:pt x="88503" y="95476"/>
                      <a:pt x="83676" y="107813"/>
                      <a:pt x="80994" y="120150"/>
                    </a:cubicBezTo>
                    <a:cubicBezTo>
                      <a:pt x="75094" y="131414"/>
                      <a:pt x="70266" y="142678"/>
                      <a:pt x="65975" y="154478"/>
                    </a:cubicBezTo>
                    <a:cubicBezTo>
                      <a:pt x="47738" y="205971"/>
                      <a:pt x="49884" y="261219"/>
                      <a:pt x="52566" y="316466"/>
                    </a:cubicBezTo>
                    <a:cubicBezTo>
                      <a:pt x="53638" y="333630"/>
                      <a:pt x="54175" y="350795"/>
                      <a:pt x="54711" y="367959"/>
                    </a:cubicBezTo>
                    <a:cubicBezTo>
                      <a:pt x="54711" y="367959"/>
                      <a:pt x="54711" y="368495"/>
                      <a:pt x="54711" y="368495"/>
                    </a:cubicBezTo>
                    <a:cubicBezTo>
                      <a:pt x="49347" y="365813"/>
                      <a:pt x="43983" y="363131"/>
                      <a:pt x="38620" y="360450"/>
                    </a:cubicBezTo>
                    <a:cubicBezTo>
                      <a:pt x="25746" y="354013"/>
                      <a:pt x="12873" y="347040"/>
                      <a:pt x="536" y="340067"/>
                    </a:cubicBezTo>
                    <a:cubicBezTo>
                      <a:pt x="536" y="339531"/>
                      <a:pt x="536" y="339531"/>
                      <a:pt x="0" y="338994"/>
                    </a:cubicBezTo>
                    <a:cubicBezTo>
                      <a:pt x="11264" y="343822"/>
                      <a:pt x="24674" y="343822"/>
                      <a:pt x="35401" y="349185"/>
                    </a:cubicBezTo>
                    <a:cubicBezTo>
                      <a:pt x="40765" y="351867"/>
                      <a:pt x="39692" y="354549"/>
                      <a:pt x="45056" y="357231"/>
                    </a:cubicBezTo>
                    <a:cubicBezTo>
                      <a:pt x="45056" y="357231"/>
                      <a:pt x="50420" y="359913"/>
                      <a:pt x="50420" y="359377"/>
                    </a:cubicBezTo>
                    <a:cubicBezTo>
                      <a:pt x="49884" y="342213"/>
                      <a:pt x="48811" y="335240"/>
                      <a:pt x="48275" y="318075"/>
                    </a:cubicBezTo>
                    <a:cubicBezTo>
                      <a:pt x="45593" y="262828"/>
                      <a:pt x="43447" y="207580"/>
                      <a:pt x="61684" y="156088"/>
                    </a:cubicBezTo>
                    <a:cubicBezTo>
                      <a:pt x="65975" y="144287"/>
                      <a:pt x="70803" y="133023"/>
                      <a:pt x="76703" y="121759"/>
                    </a:cubicBezTo>
                    <a:cubicBezTo>
                      <a:pt x="79921" y="109422"/>
                      <a:pt x="84212" y="97085"/>
                      <a:pt x="89040" y="85285"/>
                    </a:cubicBezTo>
                    <a:cubicBezTo>
                      <a:pt x="89576" y="83676"/>
                      <a:pt x="90649" y="81530"/>
                      <a:pt x="91185" y="79921"/>
                    </a:cubicBezTo>
                    <a:cubicBezTo>
                      <a:pt x="94940" y="71875"/>
                      <a:pt x="99231" y="63293"/>
                      <a:pt x="103522" y="55247"/>
                    </a:cubicBezTo>
                    <a:cubicBezTo>
                      <a:pt x="104058" y="54175"/>
                      <a:pt x="105131" y="52566"/>
                      <a:pt x="105668" y="51493"/>
                    </a:cubicBezTo>
                    <a:cubicBezTo>
                      <a:pt x="106204" y="50420"/>
                      <a:pt x="106740" y="48811"/>
                      <a:pt x="107813" y="47738"/>
                    </a:cubicBezTo>
                    <a:cubicBezTo>
                      <a:pt x="107813" y="47202"/>
                      <a:pt x="108349" y="47202"/>
                      <a:pt x="108349" y="46665"/>
                    </a:cubicBezTo>
                    <a:cubicBezTo>
                      <a:pt x="109959" y="43983"/>
                      <a:pt x="111031" y="41838"/>
                      <a:pt x="112641" y="39156"/>
                    </a:cubicBezTo>
                    <a:cubicBezTo>
                      <a:pt x="117468" y="31110"/>
                      <a:pt x="121759" y="23601"/>
                      <a:pt x="126586" y="15555"/>
                    </a:cubicBezTo>
                    <a:cubicBezTo>
                      <a:pt x="128196" y="12873"/>
                      <a:pt x="132487" y="4827"/>
                      <a:pt x="136241" y="2146"/>
                    </a:cubicBezTo>
                    <a:cubicBezTo>
                      <a:pt x="136241" y="2146"/>
                      <a:pt x="136241" y="2146"/>
                      <a:pt x="136241" y="1609"/>
                    </a:cubicBezTo>
                    <a:cubicBezTo>
                      <a:pt x="126586" y="5364"/>
                      <a:pt x="116932" y="10191"/>
                      <a:pt x="107813" y="16091"/>
                    </a:cubicBezTo>
                    <a:cubicBezTo>
                      <a:pt x="119077" y="10191"/>
                      <a:pt x="129805" y="4291"/>
                      <a:pt x="140532"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29" name="Freeform: Shape 326"/>
              <p:cNvSpPr/>
              <p:nvPr/>
            </p:nvSpPr>
            <p:spPr>
              <a:xfrm>
                <a:off x="7090200" y="2033640"/>
                <a:ext cx="66960" cy="13680"/>
              </a:xfrm>
              <a:custGeom>
                <a:avLst/>
                <a:gdLst/>
                <a:ahLst/>
                <a:rect l="l" t="t" r="r" b="b"/>
                <a:pathLst>
                  <a:path w="86357" h="17904">
                    <a:moveTo>
                      <a:pt x="1073" y="13410"/>
                    </a:moveTo>
                    <a:cubicBezTo>
                      <a:pt x="536" y="11264"/>
                      <a:pt x="0" y="9118"/>
                      <a:pt x="0" y="6973"/>
                    </a:cubicBezTo>
                    <a:cubicBezTo>
                      <a:pt x="0" y="6437"/>
                      <a:pt x="0" y="5900"/>
                      <a:pt x="0" y="5364"/>
                    </a:cubicBezTo>
                    <a:cubicBezTo>
                      <a:pt x="536" y="4291"/>
                      <a:pt x="1609" y="4291"/>
                      <a:pt x="2682" y="4291"/>
                    </a:cubicBezTo>
                    <a:cubicBezTo>
                      <a:pt x="11264" y="3755"/>
                      <a:pt x="20383" y="3218"/>
                      <a:pt x="28965" y="2682"/>
                    </a:cubicBezTo>
                    <a:cubicBezTo>
                      <a:pt x="31647" y="2682"/>
                      <a:pt x="34865" y="2146"/>
                      <a:pt x="37547" y="1609"/>
                    </a:cubicBezTo>
                    <a:cubicBezTo>
                      <a:pt x="40229" y="1073"/>
                      <a:pt x="42911" y="536"/>
                      <a:pt x="45593" y="0"/>
                    </a:cubicBezTo>
                    <a:cubicBezTo>
                      <a:pt x="48811" y="0"/>
                      <a:pt x="52029" y="536"/>
                      <a:pt x="55248" y="1073"/>
                    </a:cubicBezTo>
                    <a:cubicBezTo>
                      <a:pt x="61148" y="2146"/>
                      <a:pt x="66512" y="3218"/>
                      <a:pt x="71875" y="5364"/>
                    </a:cubicBezTo>
                    <a:cubicBezTo>
                      <a:pt x="77239" y="7509"/>
                      <a:pt x="82603" y="10728"/>
                      <a:pt x="86358" y="15019"/>
                    </a:cubicBezTo>
                    <a:cubicBezTo>
                      <a:pt x="85285" y="15019"/>
                      <a:pt x="84749" y="14482"/>
                      <a:pt x="83676" y="13946"/>
                    </a:cubicBezTo>
                    <a:cubicBezTo>
                      <a:pt x="73485" y="9118"/>
                      <a:pt x="62220" y="5900"/>
                      <a:pt x="50956" y="7509"/>
                    </a:cubicBezTo>
                    <a:cubicBezTo>
                      <a:pt x="45593" y="8046"/>
                      <a:pt x="40229" y="10191"/>
                      <a:pt x="34865" y="11264"/>
                    </a:cubicBezTo>
                    <a:cubicBezTo>
                      <a:pt x="28428" y="12873"/>
                      <a:pt x="21455" y="14482"/>
                      <a:pt x="14482" y="15555"/>
                    </a:cubicBezTo>
                    <a:cubicBezTo>
                      <a:pt x="9655" y="17701"/>
                      <a:pt x="3218" y="20383"/>
                      <a:pt x="1073"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313c3f"/>
                  </a:solidFill>
                  <a:latin typeface="Source Sans Pro"/>
                </a:endParaRPr>
              </a:p>
            </p:txBody>
          </p:sp>
          <p:sp>
            <p:nvSpPr>
              <p:cNvPr id="2530" name="Freeform: Shape 327"/>
              <p:cNvSpPr/>
              <p:nvPr/>
            </p:nvSpPr>
            <p:spPr>
              <a:xfrm>
                <a:off x="7097760" y="2048400"/>
                <a:ext cx="43920" cy="20520"/>
              </a:xfrm>
              <a:custGeom>
                <a:avLst/>
                <a:gdLst/>
                <a:ahLst/>
                <a:rect l="l" t="t" r="r" b="b"/>
                <a:pathLst>
                  <a:path w="56856" h="26719">
                    <a:moveTo>
                      <a:pt x="56857" y="10232"/>
                    </a:moveTo>
                    <a:cubicBezTo>
                      <a:pt x="48275" y="4332"/>
                      <a:pt x="37547" y="-496"/>
                      <a:pt x="26819" y="41"/>
                    </a:cubicBezTo>
                    <a:cubicBezTo>
                      <a:pt x="24137" y="41"/>
                      <a:pt x="21992" y="577"/>
                      <a:pt x="19846" y="1114"/>
                    </a:cubicBezTo>
                    <a:cubicBezTo>
                      <a:pt x="13410" y="2186"/>
                      <a:pt x="5900" y="4332"/>
                      <a:pt x="0" y="7014"/>
                    </a:cubicBezTo>
                    <a:cubicBezTo>
                      <a:pt x="1609" y="7014"/>
                      <a:pt x="4291" y="7014"/>
                      <a:pt x="5364" y="7550"/>
                    </a:cubicBezTo>
                    <a:cubicBezTo>
                      <a:pt x="2682" y="11305"/>
                      <a:pt x="0" y="16669"/>
                      <a:pt x="536" y="21496"/>
                    </a:cubicBezTo>
                    <a:cubicBezTo>
                      <a:pt x="1073" y="20960"/>
                      <a:pt x="1609" y="20423"/>
                      <a:pt x="1609" y="19887"/>
                    </a:cubicBezTo>
                    <a:cubicBezTo>
                      <a:pt x="5364" y="23105"/>
                      <a:pt x="10191" y="24714"/>
                      <a:pt x="15019" y="25787"/>
                    </a:cubicBezTo>
                    <a:cubicBezTo>
                      <a:pt x="26819" y="27933"/>
                      <a:pt x="39156" y="26324"/>
                      <a:pt x="50420" y="21496"/>
                    </a:cubicBezTo>
                    <a:cubicBezTo>
                      <a:pt x="50956" y="19351"/>
                      <a:pt x="50956" y="16669"/>
                      <a:pt x="50956" y="14523"/>
                    </a:cubicBezTo>
                    <a:cubicBezTo>
                      <a:pt x="53102" y="13987"/>
                      <a:pt x="55247" y="12378"/>
                      <a:pt x="56857" y="10232"/>
                    </a:cubicBezTo>
                    <a:close/>
                    <a:moveTo>
                      <a:pt x="47738" y="15060"/>
                    </a:moveTo>
                    <a:cubicBezTo>
                      <a:pt x="47202" y="17205"/>
                      <a:pt x="45056" y="18814"/>
                      <a:pt x="43447" y="19887"/>
                    </a:cubicBezTo>
                    <a:cubicBezTo>
                      <a:pt x="41302" y="20960"/>
                      <a:pt x="39156" y="21496"/>
                      <a:pt x="37547" y="22032"/>
                    </a:cubicBezTo>
                    <a:cubicBezTo>
                      <a:pt x="30574" y="23642"/>
                      <a:pt x="22528" y="25251"/>
                      <a:pt x="15555" y="23642"/>
                    </a:cubicBezTo>
                    <a:cubicBezTo>
                      <a:pt x="12873" y="23105"/>
                      <a:pt x="10191" y="22032"/>
                      <a:pt x="7509" y="20960"/>
                    </a:cubicBezTo>
                    <a:cubicBezTo>
                      <a:pt x="5900" y="20423"/>
                      <a:pt x="3218" y="18278"/>
                      <a:pt x="3218" y="17741"/>
                    </a:cubicBezTo>
                    <a:cubicBezTo>
                      <a:pt x="3218" y="17205"/>
                      <a:pt x="8046" y="9159"/>
                      <a:pt x="9119" y="7550"/>
                    </a:cubicBezTo>
                    <a:cubicBezTo>
                      <a:pt x="9655" y="7014"/>
                      <a:pt x="10191" y="6477"/>
                      <a:pt x="10728" y="5941"/>
                    </a:cubicBezTo>
                    <a:cubicBezTo>
                      <a:pt x="11264" y="5405"/>
                      <a:pt x="12337" y="5405"/>
                      <a:pt x="13410" y="5405"/>
                    </a:cubicBezTo>
                    <a:cubicBezTo>
                      <a:pt x="13946" y="5405"/>
                      <a:pt x="14482" y="5405"/>
                      <a:pt x="15019" y="5405"/>
                    </a:cubicBezTo>
                    <a:cubicBezTo>
                      <a:pt x="16092" y="5405"/>
                      <a:pt x="17164" y="4868"/>
                      <a:pt x="18237" y="4868"/>
                    </a:cubicBezTo>
                    <a:cubicBezTo>
                      <a:pt x="19310" y="4868"/>
                      <a:pt x="19846" y="4868"/>
                      <a:pt x="20919" y="4868"/>
                    </a:cubicBezTo>
                    <a:cubicBezTo>
                      <a:pt x="22528" y="4868"/>
                      <a:pt x="24137" y="4868"/>
                      <a:pt x="25746" y="4868"/>
                    </a:cubicBezTo>
                    <a:cubicBezTo>
                      <a:pt x="28428" y="4868"/>
                      <a:pt x="31110" y="5405"/>
                      <a:pt x="33792" y="5941"/>
                    </a:cubicBezTo>
                    <a:cubicBezTo>
                      <a:pt x="34329" y="5941"/>
                      <a:pt x="35401" y="6477"/>
                      <a:pt x="35938" y="6477"/>
                    </a:cubicBezTo>
                    <a:cubicBezTo>
                      <a:pt x="35938" y="6477"/>
                      <a:pt x="36474" y="6477"/>
                      <a:pt x="36474" y="6477"/>
                    </a:cubicBezTo>
                    <a:cubicBezTo>
                      <a:pt x="37010" y="6477"/>
                      <a:pt x="37547" y="7014"/>
                      <a:pt x="38083" y="7014"/>
                    </a:cubicBezTo>
                    <a:cubicBezTo>
                      <a:pt x="38083" y="7014"/>
                      <a:pt x="38620" y="7014"/>
                      <a:pt x="38620" y="7014"/>
                    </a:cubicBezTo>
                    <a:cubicBezTo>
                      <a:pt x="39156" y="7550"/>
                      <a:pt x="40229" y="7550"/>
                      <a:pt x="40765" y="8087"/>
                    </a:cubicBezTo>
                    <a:cubicBezTo>
                      <a:pt x="41302" y="8623"/>
                      <a:pt x="42374" y="8623"/>
                      <a:pt x="42911" y="9159"/>
                    </a:cubicBezTo>
                    <a:cubicBezTo>
                      <a:pt x="42911" y="9159"/>
                      <a:pt x="42911" y="9159"/>
                      <a:pt x="42911" y="9159"/>
                    </a:cubicBezTo>
                    <a:cubicBezTo>
                      <a:pt x="43447" y="9159"/>
                      <a:pt x="43983" y="9696"/>
                      <a:pt x="44520" y="10232"/>
                    </a:cubicBezTo>
                    <a:cubicBezTo>
                      <a:pt x="45056" y="10232"/>
                      <a:pt x="45056" y="10768"/>
                      <a:pt x="45593" y="10768"/>
                    </a:cubicBezTo>
                    <a:cubicBezTo>
                      <a:pt x="46129" y="11305"/>
                      <a:pt x="46665" y="11305"/>
                      <a:pt x="47202" y="11841"/>
                    </a:cubicBezTo>
                    <a:cubicBezTo>
                      <a:pt x="47202" y="11841"/>
                      <a:pt x="48811" y="13450"/>
                      <a:pt x="47738" y="15060"/>
                    </a:cubicBezTo>
                    <a:close/>
                  </a:path>
                </a:pathLst>
              </a:custGeom>
              <a:solidFill>
                <a:srgbClr val="cf9e76"/>
              </a:solidFill>
              <a:ln w="0">
                <a:noFill/>
              </a:ln>
            </p:spPr>
            <p:style>
              <a:lnRef idx="0"/>
              <a:fillRef idx="0"/>
              <a:effectRef idx="0"/>
              <a:fontRef idx="minor"/>
            </p:style>
            <p:txBody>
              <a:bodyPr lIns="90000" rIns="90000" tIns="-26280" bIns="-26280" anchor="ctr">
                <a:noAutofit/>
              </a:bodyPr>
              <a:p>
                <a:endParaRPr b="0" lang="en-US" sz="1800" spc="-1" strike="noStrike">
                  <a:solidFill>
                    <a:srgbClr val="313c3f"/>
                  </a:solidFill>
                  <a:latin typeface="Source Sans Pro"/>
                </a:endParaRPr>
              </a:p>
            </p:txBody>
          </p:sp>
          <p:sp>
            <p:nvSpPr>
              <p:cNvPr id="2531" name="Freeform: Shape 328"/>
              <p:cNvSpPr/>
              <p:nvPr/>
            </p:nvSpPr>
            <p:spPr>
              <a:xfrm>
                <a:off x="7100280" y="2052360"/>
                <a:ext cx="34560" cy="14760"/>
              </a:xfrm>
              <a:custGeom>
                <a:avLst/>
                <a:gdLst/>
                <a:ahLst/>
                <a:rect l="l" t="t" r="r" b="b"/>
                <a:pathLst>
                  <a:path w="44880" h="19439">
                    <a:moveTo>
                      <a:pt x="-21016" y="10191"/>
                    </a:moveTo>
                    <a:cubicBezTo>
                      <a:pt x="-21553" y="12337"/>
                      <a:pt x="-23698" y="13946"/>
                      <a:pt x="-25307" y="15019"/>
                    </a:cubicBezTo>
                    <a:cubicBezTo>
                      <a:pt x="-27453" y="16091"/>
                      <a:pt x="-29598" y="16628"/>
                      <a:pt x="-31207" y="17164"/>
                    </a:cubicBezTo>
                    <a:cubicBezTo>
                      <a:pt x="27356" y="18773"/>
                      <a:pt x="19310" y="20383"/>
                      <a:pt x="12337" y="18773"/>
                    </a:cubicBezTo>
                    <a:cubicBezTo>
                      <a:pt x="9655" y="18237"/>
                      <a:pt x="6973" y="17164"/>
                      <a:pt x="4291" y="16091"/>
                    </a:cubicBezTo>
                    <a:cubicBezTo>
                      <a:pt x="2682" y="15555"/>
                      <a:pt x="0" y="13410"/>
                      <a:pt x="0" y="12873"/>
                    </a:cubicBezTo>
                    <a:cubicBezTo>
                      <a:pt x="0" y="12337"/>
                      <a:pt x="4827" y="4291"/>
                      <a:pt x="5900" y="2682"/>
                    </a:cubicBezTo>
                    <a:cubicBezTo>
                      <a:pt x="6437" y="2146"/>
                      <a:pt x="6973" y="1609"/>
                      <a:pt x="7509" y="1073"/>
                    </a:cubicBezTo>
                    <a:cubicBezTo>
                      <a:pt x="8046" y="536"/>
                      <a:pt x="9119" y="536"/>
                      <a:pt x="10191" y="536"/>
                    </a:cubicBezTo>
                    <a:cubicBezTo>
                      <a:pt x="10728" y="536"/>
                      <a:pt x="11264" y="536"/>
                      <a:pt x="11800" y="536"/>
                    </a:cubicBezTo>
                    <a:cubicBezTo>
                      <a:pt x="13946" y="0"/>
                      <a:pt x="15555" y="0"/>
                      <a:pt x="17701" y="0"/>
                    </a:cubicBezTo>
                    <a:cubicBezTo>
                      <a:pt x="19310" y="0"/>
                      <a:pt x="20919" y="0"/>
                      <a:pt x="22528" y="0"/>
                    </a:cubicBezTo>
                    <a:cubicBezTo>
                      <a:pt x="25210" y="0"/>
                      <a:pt x="27892" y="536"/>
                      <a:pt x="30574" y="1073"/>
                    </a:cubicBezTo>
                    <a:cubicBezTo>
                      <a:pt x="32183" y="1609"/>
                      <a:pt x="-31744" y="2146"/>
                      <a:pt x="-30135" y="2682"/>
                    </a:cubicBezTo>
                    <a:cubicBezTo>
                      <a:pt x="-27453" y="3755"/>
                      <a:pt x="-24234" y="5364"/>
                      <a:pt x="-22089" y="6973"/>
                    </a:cubicBezTo>
                    <a:cubicBezTo>
                      <a:pt x="-21553" y="6973"/>
                      <a:pt x="-19943" y="8582"/>
                      <a:pt x="-2101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313c3f"/>
                  </a:solidFill>
                  <a:latin typeface="Source Sans Pro"/>
                </a:endParaRPr>
              </a:p>
            </p:txBody>
          </p:sp>
          <p:sp>
            <p:nvSpPr>
              <p:cNvPr id="2532" name="Freeform: Shape 329"/>
              <p:cNvSpPr/>
              <p:nvPr/>
            </p:nvSpPr>
            <p:spPr>
              <a:xfrm>
                <a:off x="7108200" y="2052000"/>
                <a:ext cx="19080" cy="13680"/>
              </a:xfrm>
              <a:custGeom>
                <a:avLst/>
                <a:gdLst/>
                <a:ahLst/>
                <a:rect l="l" t="t" r="r" b="b"/>
                <a:pathLst>
                  <a:path w="24673" h="17700">
                    <a:moveTo>
                      <a:pt x="24674" y="5364"/>
                    </a:moveTo>
                    <a:cubicBezTo>
                      <a:pt x="24674" y="12337"/>
                      <a:pt x="19310" y="17701"/>
                      <a:pt x="12337" y="17701"/>
                    </a:cubicBezTo>
                    <a:cubicBezTo>
                      <a:pt x="5364" y="17701"/>
                      <a:pt x="0" y="12337"/>
                      <a:pt x="0" y="5364"/>
                    </a:cubicBezTo>
                    <a:cubicBezTo>
                      <a:pt x="0" y="3755"/>
                      <a:pt x="536" y="2146"/>
                      <a:pt x="1073" y="536"/>
                    </a:cubicBezTo>
                    <a:cubicBezTo>
                      <a:pt x="3218" y="0"/>
                      <a:pt x="4827" y="0"/>
                      <a:pt x="6973" y="0"/>
                    </a:cubicBezTo>
                    <a:cubicBezTo>
                      <a:pt x="8582" y="0"/>
                      <a:pt x="10191" y="0"/>
                      <a:pt x="11800" y="0"/>
                    </a:cubicBezTo>
                    <a:cubicBezTo>
                      <a:pt x="14482" y="0"/>
                      <a:pt x="17164" y="536"/>
                      <a:pt x="19846" y="1073"/>
                    </a:cubicBezTo>
                    <a:cubicBezTo>
                      <a:pt x="21455" y="1609"/>
                      <a:pt x="23064" y="2146"/>
                      <a:pt x="24674" y="2682"/>
                    </a:cubicBezTo>
                    <a:cubicBezTo>
                      <a:pt x="24674" y="3218"/>
                      <a:pt x="24674" y="4291"/>
                      <a:pt x="24674"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313c3f"/>
                  </a:solidFill>
                  <a:latin typeface="Source Sans Pro"/>
                </a:endParaRPr>
              </a:p>
            </p:txBody>
          </p:sp>
          <p:sp>
            <p:nvSpPr>
              <p:cNvPr id="2533" name="Freeform: Shape 330"/>
              <p:cNvSpPr/>
              <p:nvPr/>
            </p:nvSpPr>
            <p:spPr>
              <a:xfrm>
                <a:off x="711468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2534" name="Freeform: Shape 331"/>
              <p:cNvSpPr/>
              <p:nvPr/>
            </p:nvSpPr>
            <p:spPr>
              <a:xfrm>
                <a:off x="7118640" y="2052720"/>
                <a:ext cx="4320" cy="5760"/>
              </a:xfrm>
              <a:custGeom>
                <a:avLst/>
                <a:gdLst/>
                <a:ahLst/>
                <a:rect l="l" t="t" r="r" b="b"/>
                <a:pathLst>
                  <a:path w="5900" h="7551">
                    <a:moveTo>
                      <a:pt x="536" y="2188"/>
                    </a:moveTo>
                    <a:cubicBezTo>
                      <a:pt x="0" y="3261"/>
                      <a:pt x="0" y="4333"/>
                      <a:pt x="0" y="5406"/>
                    </a:cubicBezTo>
                    <a:cubicBezTo>
                      <a:pt x="0" y="6479"/>
                      <a:pt x="1073" y="7015"/>
                      <a:pt x="2146" y="7552"/>
                    </a:cubicBezTo>
                    <a:cubicBezTo>
                      <a:pt x="3218" y="7552"/>
                      <a:pt x="4291" y="7015"/>
                      <a:pt x="4827" y="5942"/>
                    </a:cubicBezTo>
                    <a:cubicBezTo>
                      <a:pt x="5364" y="5406"/>
                      <a:pt x="5900" y="4333"/>
                      <a:pt x="5900" y="3261"/>
                    </a:cubicBezTo>
                    <a:cubicBezTo>
                      <a:pt x="5900" y="2188"/>
                      <a:pt x="5364" y="1115"/>
                      <a:pt x="4827" y="579"/>
                    </a:cubicBezTo>
                    <a:cubicBezTo>
                      <a:pt x="3218" y="-1031"/>
                      <a:pt x="1073" y="1115"/>
                      <a:pt x="536"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2535" name="Freeform: Shape 332"/>
              <p:cNvSpPr/>
              <p:nvPr/>
            </p:nvSpPr>
            <p:spPr>
              <a:xfrm>
                <a:off x="6993720" y="2033640"/>
                <a:ext cx="66960" cy="13680"/>
              </a:xfrm>
              <a:custGeom>
                <a:avLst/>
                <a:gdLst/>
                <a:ahLst/>
                <a:rect l="l" t="t" r="r" b="b"/>
                <a:pathLst>
                  <a:path w="86357" h="17904">
                    <a:moveTo>
                      <a:pt x="85285" y="13410"/>
                    </a:moveTo>
                    <a:cubicBezTo>
                      <a:pt x="85821" y="11264"/>
                      <a:pt x="86358" y="9118"/>
                      <a:pt x="86358" y="6973"/>
                    </a:cubicBezTo>
                    <a:cubicBezTo>
                      <a:pt x="86358" y="6437"/>
                      <a:pt x="86358" y="5900"/>
                      <a:pt x="86358" y="5364"/>
                    </a:cubicBezTo>
                    <a:cubicBezTo>
                      <a:pt x="85821" y="4291"/>
                      <a:pt x="84749" y="4291"/>
                      <a:pt x="83676" y="4291"/>
                    </a:cubicBezTo>
                    <a:cubicBezTo>
                      <a:pt x="75094" y="3755"/>
                      <a:pt x="65975" y="3218"/>
                      <a:pt x="57393" y="2682"/>
                    </a:cubicBezTo>
                    <a:cubicBezTo>
                      <a:pt x="54711" y="2682"/>
                      <a:pt x="51493" y="2146"/>
                      <a:pt x="48811" y="1609"/>
                    </a:cubicBezTo>
                    <a:cubicBezTo>
                      <a:pt x="46129" y="1073"/>
                      <a:pt x="43447" y="536"/>
                      <a:pt x="40765" y="0"/>
                    </a:cubicBezTo>
                    <a:cubicBezTo>
                      <a:pt x="37547" y="0"/>
                      <a:pt x="34329" y="536"/>
                      <a:pt x="31110" y="1073"/>
                    </a:cubicBezTo>
                    <a:cubicBezTo>
                      <a:pt x="25210" y="2146"/>
                      <a:pt x="19846" y="3218"/>
                      <a:pt x="14482" y="5364"/>
                    </a:cubicBezTo>
                    <a:cubicBezTo>
                      <a:pt x="9119" y="7509"/>
                      <a:pt x="3755" y="10728"/>
                      <a:pt x="0" y="15019"/>
                    </a:cubicBezTo>
                    <a:cubicBezTo>
                      <a:pt x="1073" y="15019"/>
                      <a:pt x="1609" y="14482"/>
                      <a:pt x="2682" y="13946"/>
                    </a:cubicBezTo>
                    <a:cubicBezTo>
                      <a:pt x="12873" y="9118"/>
                      <a:pt x="24137" y="5900"/>
                      <a:pt x="35401" y="7509"/>
                    </a:cubicBezTo>
                    <a:cubicBezTo>
                      <a:pt x="40765" y="8046"/>
                      <a:pt x="46129" y="10191"/>
                      <a:pt x="51493" y="11264"/>
                    </a:cubicBezTo>
                    <a:cubicBezTo>
                      <a:pt x="57929" y="12873"/>
                      <a:pt x="64902" y="14482"/>
                      <a:pt x="71875" y="15555"/>
                    </a:cubicBezTo>
                    <a:cubicBezTo>
                      <a:pt x="76166" y="17701"/>
                      <a:pt x="82603" y="20383"/>
                      <a:pt x="85285"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313c3f"/>
                  </a:solidFill>
                  <a:latin typeface="Source Sans Pro"/>
                </a:endParaRPr>
              </a:p>
            </p:txBody>
          </p:sp>
          <p:sp>
            <p:nvSpPr>
              <p:cNvPr id="2536" name="Freeform: Shape 333"/>
              <p:cNvSpPr/>
              <p:nvPr/>
            </p:nvSpPr>
            <p:spPr>
              <a:xfrm>
                <a:off x="7009200" y="2048400"/>
                <a:ext cx="43920" cy="20880"/>
              </a:xfrm>
              <a:custGeom>
                <a:avLst/>
                <a:gdLst/>
                <a:ahLst/>
                <a:rect l="l" t="t" r="r" b="b"/>
                <a:pathLst>
                  <a:path w="56925" h="27044">
                    <a:moveTo>
                      <a:pt x="56857" y="7123"/>
                    </a:moveTo>
                    <a:cubicBezTo>
                      <a:pt x="50420" y="4441"/>
                      <a:pt x="43447" y="2295"/>
                      <a:pt x="37010" y="1222"/>
                    </a:cubicBezTo>
                    <a:cubicBezTo>
                      <a:pt x="34865" y="686"/>
                      <a:pt x="32183" y="150"/>
                      <a:pt x="30037" y="150"/>
                    </a:cubicBezTo>
                    <a:cubicBezTo>
                      <a:pt x="19310" y="-923"/>
                      <a:pt x="9119" y="3904"/>
                      <a:pt x="0" y="10341"/>
                    </a:cubicBezTo>
                    <a:cubicBezTo>
                      <a:pt x="1609" y="12486"/>
                      <a:pt x="3755" y="14096"/>
                      <a:pt x="6437" y="15168"/>
                    </a:cubicBezTo>
                    <a:cubicBezTo>
                      <a:pt x="6437" y="17314"/>
                      <a:pt x="6437" y="19996"/>
                      <a:pt x="6973" y="22141"/>
                    </a:cubicBezTo>
                    <a:cubicBezTo>
                      <a:pt x="18237" y="26432"/>
                      <a:pt x="30574" y="28042"/>
                      <a:pt x="42374" y="26432"/>
                    </a:cubicBezTo>
                    <a:cubicBezTo>
                      <a:pt x="47202" y="25896"/>
                      <a:pt x="52029" y="24287"/>
                      <a:pt x="55784" y="20532"/>
                    </a:cubicBezTo>
                    <a:cubicBezTo>
                      <a:pt x="56320" y="21069"/>
                      <a:pt x="56857" y="21605"/>
                      <a:pt x="56857" y="22141"/>
                    </a:cubicBezTo>
                    <a:cubicBezTo>
                      <a:pt x="57393" y="17314"/>
                      <a:pt x="54711" y="11950"/>
                      <a:pt x="52029" y="8195"/>
                    </a:cubicBezTo>
                    <a:cubicBezTo>
                      <a:pt x="52566" y="7123"/>
                      <a:pt x="55784" y="7123"/>
                      <a:pt x="56857" y="7123"/>
                    </a:cubicBezTo>
                    <a:close/>
                    <a:moveTo>
                      <a:pt x="53638" y="17850"/>
                    </a:moveTo>
                    <a:cubicBezTo>
                      <a:pt x="53638" y="18387"/>
                      <a:pt x="50420" y="20532"/>
                      <a:pt x="49347" y="21069"/>
                    </a:cubicBezTo>
                    <a:cubicBezTo>
                      <a:pt x="46665" y="22141"/>
                      <a:pt x="43983" y="23214"/>
                      <a:pt x="41302" y="23751"/>
                    </a:cubicBezTo>
                    <a:cubicBezTo>
                      <a:pt x="34329" y="25360"/>
                      <a:pt x="26283" y="23751"/>
                      <a:pt x="19310" y="22141"/>
                    </a:cubicBezTo>
                    <a:cubicBezTo>
                      <a:pt x="17164" y="21605"/>
                      <a:pt x="15019" y="21069"/>
                      <a:pt x="13410" y="19996"/>
                    </a:cubicBezTo>
                    <a:cubicBezTo>
                      <a:pt x="11800" y="18923"/>
                      <a:pt x="9655" y="17314"/>
                      <a:pt x="9119" y="15168"/>
                    </a:cubicBezTo>
                    <a:cubicBezTo>
                      <a:pt x="8582" y="13023"/>
                      <a:pt x="9655" y="11950"/>
                      <a:pt x="11264" y="10877"/>
                    </a:cubicBezTo>
                    <a:cubicBezTo>
                      <a:pt x="11800" y="10341"/>
                      <a:pt x="12337" y="10341"/>
                      <a:pt x="12873" y="9805"/>
                    </a:cubicBezTo>
                    <a:cubicBezTo>
                      <a:pt x="13410" y="9805"/>
                      <a:pt x="13410" y="9268"/>
                      <a:pt x="13946" y="9268"/>
                    </a:cubicBezTo>
                    <a:cubicBezTo>
                      <a:pt x="14482" y="8732"/>
                      <a:pt x="15019" y="8732"/>
                      <a:pt x="15555" y="8195"/>
                    </a:cubicBezTo>
                    <a:cubicBezTo>
                      <a:pt x="15555" y="8195"/>
                      <a:pt x="15555" y="8195"/>
                      <a:pt x="15555" y="8195"/>
                    </a:cubicBezTo>
                    <a:cubicBezTo>
                      <a:pt x="16092" y="7659"/>
                      <a:pt x="17164" y="7659"/>
                      <a:pt x="17701" y="7123"/>
                    </a:cubicBezTo>
                    <a:cubicBezTo>
                      <a:pt x="18237" y="6586"/>
                      <a:pt x="19310" y="6586"/>
                      <a:pt x="19846" y="6050"/>
                    </a:cubicBezTo>
                    <a:cubicBezTo>
                      <a:pt x="19846" y="6050"/>
                      <a:pt x="20383" y="6050"/>
                      <a:pt x="20383" y="6050"/>
                    </a:cubicBezTo>
                    <a:cubicBezTo>
                      <a:pt x="20919" y="6050"/>
                      <a:pt x="21455" y="5514"/>
                      <a:pt x="21992" y="5514"/>
                    </a:cubicBezTo>
                    <a:cubicBezTo>
                      <a:pt x="21992" y="5514"/>
                      <a:pt x="22528" y="5514"/>
                      <a:pt x="22528" y="5514"/>
                    </a:cubicBezTo>
                    <a:cubicBezTo>
                      <a:pt x="23065" y="5514"/>
                      <a:pt x="24137" y="4977"/>
                      <a:pt x="24674" y="4977"/>
                    </a:cubicBezTo>
                    <a:cubicBezTo>
                      <a:pt x="27356" y="4441"/>
                      <a:pt x="30037" y="3904"/>
                      <a:pt x="32719" y="3904"/>
                    </a:cubicBezTo>
                    <a:cubicBezTo>
                      <a:pt x="34329" y="3904"/>
                      <a:pt x="35938" y="3904"/>
                      <a:pt x="37547" y="3904"/>
                    </a:cubicBezTo>
                    <a:cubicBezTo>
                      <a:pt x="38620" y="3904"/>
                      <a:pt x="39156" y="3904"/>
                      <a:pt x="40229" y="3904"/>
                    </a:cubicBezTo>
                    <a:cubicBezTo>
                      <a:pt x="41302" y="3904"/>
                      <a:pt x="42374" y="3904"/>
                      <a:pt x="43447" y="4441"/>
                    </a:cubicBezTo>
                    <a:cubicBezTo>
                      <a:pt x="43983" y="4441"/>
                      <a:pt x="44520" y="4441"/>
                      <a:pt x="45056" y="4441"/>
                    </a:cubicBezTo>
                    <a:cubicBezTo>
                      <a:pt x="46129" y="4441"/>
                      <a:pt x="46665" y="4977"/>
                      <a:pt x="47738" y="4977"/>
                    </a:cubicBezTo>
                    <a:cubicBezTo>
                      <a:pt x="48275" y="5514"/>
                      <a:pt x="48811" y="6050"/>
                      <a:pt x="49347" y="6586"/>
                    </a:cubicBezTo>
                    <a:cubicBezTo>
                      <a:pt x="49347" y="8732"/>
                      <a:pt x="54175" y="17314"/>
                      <a:pt x="53638" y="17850"/>
                    </a:cubicBezTo>
                    <a:close/>
                  </a:path>
                </a:pathLst>
              </a:custGeom>
              <a:solidFill>
                <a:srgbClr val="cf9e76"/>
              </a:solidFill>
              <a:ln w="0">
                <a:noFill/>
              </a:ln>
            </p:spPr>
            <p:style>
              <a:lnRef idx="0"/>
              <a:fillRef idx="0"/>
              <a:effectRef idx="0"/>
              <a:fontRef idx="minor"/>
            </p:style>
            <p:txBody>
              <a:bodyPr lIns="90000" rIns="90000" tIns="-25920" bIns="-25920" anchor="ctr">
                <a:noAutofit/>
              </a:bodyPr>
              <a:p>
                <a:endParaRPr b="0" lang="en-US" sz="1800" spc="-1" strike="noStrike">
                  <a:solidFill>
                    <a:srgbClr val="313c3f"/>
                  </a:solidFill>
                  <a:latin typeface="Source Sans Pro"/>
                </a:endParaRPr>
              </a:p>
            </p:txBody>
          </p:sp>
          <p:sp>
            <p:nvSpPr>
              <p:cNvPr id="2537" name="Freeform: Shape 334"/>
              <p:cNvSpPr/>
              <p:nvPr/>
            </p:nvSpPr>
            <p:spPr>
              <a:xfrm>
                <a:off x="7015680" y="2052360"/>
                <a:ext cx="34560" cy="14760"/>
              </a:xfrm>
              <a:custGeom>
                <a:avLst/>
                <a:gdLst/>
                <a:ahLst/>
                <a:rect l="l" t="t" r="r" b="b"/>
                <a:pathLst>
                  <a:path w="44665" h="19439">
                    <a:moveTo>
                      <a:pt x="146" y="10191"/>
                    </a:moveTo>
                    <a:cubicBezTo>
                      <a:pt x="683" y="12337"/>
                      <a:pt x="2828" y="13946"/>
                      <a:pt x="4437" y="15019"/>
                    </a:cubicBezTo>
                    <a:cubicBezTo>
                      <a:pt x="6583" y="16091"/>
                      <a:pt x="8728" y="16628"/>
                      <a:pt x="10337" y="17164"/>
                    </a:cubicBezTo>
                    <a:cubicBezTo>
                      <a:pt x="17310" y="18773"/>
                      <a:pt x="25356" y="20383"/>
                      <a:pt x="32329" y="18773"/>
                    </a:cubicBezTo>
                    <a:cubicBezTo>
                      <a:pt x="35011" y="18237"/>
                      <a:pt x="37693" y="17164"/>
                      <a:pt x="40375" y="16091"/>
                    </a:cubicBezTo>
                    <a:cubicBezTo>
                      <a:pt x="41984" y="15555"/>
                      <a:pt x="44666" y="13410"/>
                      <a:pt x="44666" y="12873"/>
                    </a:cubicBezTo>
                    <a:cubicBezTo>
                      <a:pt x="44666" y="12337"/>
                      <a:pt x="39839" y="4291"/>
                      <a:pt x="38766" y="2682"/>
                    </a:cubicBezTo>
                    <a:cubicBezTo>
                      <a:pt x="38229" y="2146"/>
                      <a:pt x="37693" y="1609"/>
                      <a:pt x="37157" y="1073"/>
                    </a:cubicBezTo>
                    <a:cubicBezTo>
                      <a:pt x="36620" y="536"/>
                      <a:pt x="35547" y="536"/>
                      <a:pt x="34475" y="536"/>
                    </a:cubicBezTo>
                    <a:cubicBezTo>
                      <a:pt x="33938" y="536"/>
                      <a:pt x="33402" y="536"/>
                      <a:pt x="32866" y="536"/>
                    </a:cubicBezTo>
                    <a:cubicBezTo>
                      <a:pt x="30720" y="0"/>
                      <a:pt x="29111" y="0"/>
                      <a:pt x="26965" y="0"/>
                    </a:cubicBezTo>
                    <a:cubicBezTo>
                      <a:pt x="25356" y="0"/>
                      <a:pt x="23747" y="0"/>
                      <a:pt x="22138" y="0"/>
                    </a:cubicBezTo>
                    <a:cubicBezTo>
                      <a:pt x="19456" y="0"/>
                      <a:pt x="16774" y="536"/>
                      <a:pt x="14092" y="1073"/>
                    </a:cubicBezTo>
                    <a:cubicBezTo>
                      <a:pt x="12483" y="1609"/>
                      <a:pt x="10874" y="2146"/>
                      <a:pt x="9265" y="2682"/>
                    </a:cubicBezTo>
                    <a:cubicBezTo>
                      <a:pt x="6583" y="3755"/>
                      <a:pt x="3364" y="5364"/>
                      <a:pt x="1219" y="6973"/>
                    </a:cubicBezTo>
                    <a:cubicBezTo>
                      <a:pt x="683" y="6973"/>
                      <a:pt x="-390" y="8582"/>
                      <a:pt x="14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313c3f"/>
                  </a:solidFill>
                  <a:latin typeface="Source Sans Pro"/>
                </a:endParaRPr>
              </a:p>
            </p:txBody>
          </p:sp>
          <p:sp>
            <p:nvSpPr>
              <p:cNvPr id="2538" name="Freeform: Shape 335"/>
              <p:cNvSpPr/>
              <p:nvPr/>
            </p:nvSpPr>
            <p:spPr>
              <a:xfrm>
                <a:off x="7023600" y="2052000"/>
                <a:ext cx="19080" cy="13680"/>
              </a:xfrm>
              <a:custGeom>
                <a:avLst/>
                <a:gdLst/>
                <a:ahLst/>
                <a:rect l="l" t="t" r="r" b="b"/>
                <a:pathLst>
                  <a:path w="24673" h="17700">
                    <a:moveTo>
                      <a:pt x="0" y="5364"/>
                    </a:moveTo>
                    <a:cubicBezTo>
                      <a:pt x="0" y="12337"/>
                      <a:pt x="5364" y="17701"/>
                      <a:pt x="12337" y="17701"/>
                    </a:cubicBezTo>
                    <a:cubicBezTo>
                      <a:pt x="19310" y="17701"/>
                      <a:pt x="24674" y="12337"/>
                      <a:pt x="24674" y="5364"/>
                    </a:cubicBezTo>
                    <a:cubicBezTo>
                      <a:pt x="24674" y="3755"/>
                      <a:pt x="24137" y="2146"/>
                      <a:pt x="23601" y="536"/>
                    </a:cubicBezTo>
                    <a:cubicBezTo>
                      <a:pt x="21455" y="0"/>
                      <a:pt x="19846" y="0"/>
                      <a:pt x="17701" y="0"/>
                    </a:cubicBezTo>
                    <a:cubicBezTo>
                      <a:pt x="16092" y="0"/>
                      <a:pt x="14482" y="0"/>
                      <a:pt x="12873" y="0"/>
                    </a:cubicBezTo>
                    <a:cubicBezTo>
                      <a:pt x="10191" y="0"/>
                      <a:pt x="7509" y="536"/>
                      <a:pt x="4827" y="1073"/>
                    </a:cubicBezTo>
                    <a:cubicBezTo>
                      <a:pt x="3218" y="1609"/>
                      <a:pt x="1609" y="2146"/>
                      <a:pt x="0" y="2682"/>
                    </a:cubicBezTo>
                    <a:cubicBezTo>
                      <a:pt x="0" y="3218"/>
                      <a:pt x="0" y="4291"/>
                      <a:pt x="0"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313c3f"/>
                  </a:solidFill>
                  <a:latin typeface="Source Sans Pro"/>
                </a:endParaRPr>
              </a:p>
            </p:txBody>
          </p:sp>
          <p:sp>
            <p:nvSpPr>
              <p:cNvPr id="2539" name="Freeform: Shape 336"/>
              <p:cNvSpPr/>
              <p:nvPr/>
            </p:nvSpPr>
            <p:spPr>
              <a:xfrm>
                <a:off x="702972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2540" name="Freeform: Shape 337"/>
              <p:cNvSpPr/>
              <p:nvPr/>
            </p:nvSpPr>
            <p:spPr>
              <a:xfrm>
                <a:off x="7035120" y="2053800"/>
                <a:ext cx="4320" cy="5760"/>
              </a:xfrm>
              <a:custGeom>
                <a:avLst/>
                <a:gdLst/>
                <a:ahLst/>
                <a:rect l="l" t="t" r="r" b="b"/>
                <a:pathLst>
                  <a:path w="5900" h="7551">
                    <a:moveTo>
                      <a:pt x="5364" y="2188"/>
                    </a:moveTo>
                    <a:cubicBezTo>
                      <a:pt x="5900" y="3261"/>
                      <a:pt x="5900" y="4333"/>
                      <a:pt x="5900" y="5406"/>
                    </a:cubicBezTo>
                    <a:cubicBezTo>
                      <a:pt x="5900" y="6479"/>
                      <a:pt x="4827" y="7015"/>
                      <a:pt x="3755" y="7552"/>
                    </a:cubicBezTo>
                    <a:cubicBezTo>
                      <a:pt x="2682" y="7552"/>
                      <a:pt x="1609" y="7015"/>
                      <a:pt x="1073" y="5942"/>
                    </a:cubicBezTo>
                    <a:cubicBezTo>
                      <a:pt x="536" y="5406"/>
                      <a:pt x="0" y="4333"/>
                      <a:pt x="0" y="3261"/>
                    </a:cubicBezTo>
                    <a:cubicBezTo>
                      <a:pt x="0" y="2188"/>
                      <a:pt x="536" y="1115"/>
                      <a:pt x="1073" y="579"/>
                    </a:cubicBezTo>
                    <a:cubicBezTo>
                      <a:pt x="2682" y="-1031"/>
                      <a:pt x="4827" y="1115"/>
                      <a:pt x="5364"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2541" name="Freeform: Shape 338"/>
              <p:cNvSpPr/>
              <p:nvPr/>
            </p:nvSpPr>
            <p:spPr>
              <a:xfrm>
                <a:off x="7057080" y="2119320"/>
                <a:ext cx="37800" cy="5760"/>
              </a:xfrm>
              <a:custGeom>
                <a:avLst/>
                <a:gdLst/>
                <a:ahLst/>
                <a:rect l="l" t="t" r="r" b="b"/>
                <a:pathLst>
                  <a:path w="49097" h="7819">
                    <a:moveTo>
                      <a:pt x="47344" y="444"/>
                    </a:moveTo>
                    <a:cubicBezTo>
                      <a:pt x="44126" y="-628"/>
                      <a:pt x="40908" y="444"/>
                      <a:pt x="37689" y="1517"/>
                    </a:cubicBezTo>
                    <a:cubicBezTo>
                      <a:pt x="34471" y="2590"/>
                      <a:pt x="31789" y="4735"/>
                      <a:pt x="28571" y="5272"/>
                    </a:cubicBezTo>
                    <a:cubicBezTo>
                      <a:pt x="26962" y="5808"/>
                      <a:pt x="19989" y="5808"/>
                      <a:pt x="18380" y="5272"/>
                    </a:cubicBezTo>
                    <a:cubicBezTo>
                      <a:pt x="15698" y="4199"/>
                      <a:pt x="13016" y="2590"/>
                      <a:pt x="10334" y="1517"/>
                    </a:cubicBezTo>
                    <a:cubicBezTo>
                      <a:pt x="7652" y="444"/>
                      <a:pt x="4434" y="-628"/>
                      <a:pt x="1752" y="444"/>
                    </a:cubicBezTo>
                    <a:cubicBezTo>
                      <a:pt x="679" y="981"/>
                      <a:pt x="-394" y="2054"/>
                      <a:pt x="143" y="3126"/>
                    </a:cubicBezTo>
                    <a:cubicBezTo>
                      <a:pt x="143" y="3663"/>
                      <a:pt x="679" y="3663"/>
                      <a:pt x="1215" y="4199"/>
                    </a:cubicBezTo>
                    <a:cubicBezTo>
                      <a:pt x="2825" y="5272"/>
                      <a:pt x="4434" y="5272"/>
                      <a:pt x="6043" y="5808"/>
                    </a:cubicBezTo>
                    <a:cubicBezTo>
                      <a:pt x="8188" y="5808"/>
                      <a:pt x="10334" y="5272"/>
                      <a:pt x="11943" y="5808"/>
                    </a:cubicBezTo>
                    <a:cubicBezTo>
                      <a:pt x="13552" y="5808"/>
                      <a:pt x="15161" y="6881"/>
                      <a:pt x="16234" y="7417"/>
                    </a:cubicBezTo>
                    <a:cubicBezTo>
                      <a:pt x="18380" y="7954"/>
                      <a:pt x="28035" y="7954"/>
                      <a:pt x="30180" y="7417"/>
                    </a:cubicBezTo>
                    <a:cubicBezTo>
                      <a:pt x="31789" y="6881"/>
                      <a:pt x="33398" y="6345"/>
                      <a:pt x="35008" y="5808"/>
                    </a:cubicBezTo>
                    <a:cubicBezTo>
                      <a:pt x="37153" y="5272"/>
                      <a:pt x="39835" y="5808"/>
                      <a:pt x="41981" y="5808"/>
                    </a:cubicBezTo>
                    <a:cubicBezTo>
                      <a:pt x="43590" y="5808"/>
                      <a:pt x="45735" y="5272"/>
                      <a:pt x="47344" y="4199"/>
                    </a:cubicBezTo>
                    <a:cubicBezTo>
                      <a:pt x="47881" y="4199"/>
                      <a:pt x="48417" y="3663"/>
                      <a:pt x="48417" y="3126"/>
                    </a:cubicBezTo>
                    <a:cubicBezTo>
                      <a:pt x="50026" y="2054"/>
                      <a:pt x="48417" y="981"/>
                      <a:pt x="47344" y="444"/>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2542" name="Freeform: Shape 339"/>
              <p:cNvSpPr/>
              <p:nvPr/>
            </p:nvSpPr>
            <p:spPr>
              <a:xfrm>
                <a:off x="7097400" y="2107800"/>
                <a:ext cx="8640" cy="15480"/>
              </a:xfrm>
              <a:custGeom>
                <a:avLst/>
                <a:gdLst/>
                <a:ahLst/>
                <a:rect l="l" t="t" r="r" b="b"/>
                <a:pathLst>
                  <a:path w="11403" h="20382">
                    <a:moveTo>
                      <a:pt x="11264" y="10191"/>
                    </a:moveTo>
                    <a:cubicBezTo>
                      <a:pt x="11800" y="12873"/>
                      <a:pt x="10728" y="16091"/>
                      <a:pt x="9119" y="17164"/>
                    </a:cubicBezTo>
                    <a:cubicBezTo>
                      <a:pt x="7509" y="18773"/>
                      <a:pt x="5900" y="19310"/>
                      <a:pt x="4827" y="19846"/>
                    </a:cubicBezTo>
                    <a:cubicBezTo>
                      <a:pt x="2146" y="20383"/>
                      <a:pt x="536" y="20383"/>
                      <a:pt x="536" y="20383"/>
                    </a:cubicBezTo>
                    <a:cubicBezTo>
                      <a:pt x="536" y="20383"/>
                      <a:pt x="1609" y="18773"/>
                      <a:pt x="2682" y="17164"/>
                    </a:cubicBezTo>
                    <a:cubicBezTo>
                      <a:pt x="4291" y="15019"/>
                      <a:pt x="4827" y="12873"/>
                      <a:pt x="4291" y="11264"/>
                    </a:cubicBezTo>
                    <a:cubicBezTo>
                      <a:pt x="4291" y="9655"/>
                      <a:pt x="2146" y="6437"/>
                      <a:pt x="1073" y="4291"/>
                    </a:cubicBezTo>
                    <a:cubicBezTo>
                      <a:pt x="0" y="1609"/>
                      <a:pt x="0" y="0"/>
                      <a:pt x="0" y="0"/>
                    </a:cubicBezTo>
                    <a:cubicBezTo>
                      <a:pt x="0" y="0"/>
                      <a:pt x="1609" y="1073"/>
                      <a:pt x="3755" y="2146"/>
                    </a:cubicBezTo>
                    <a:cubicBezTo>
                      <a:pt x="4827" y="2682"/>
                      <a:pt x="5900" y="3218"/>
                      <a:pt x="7509" y="4291"/>
                    </a:cubicBezTo>
                    <a:cubicBezTo>
                      <a:pt x="8582" y="5900"/>
                      <a:pt x="10191" y="7509"/>
                      <a:pt x="11264" y="10191"/>
                    </a:cubicBezTo>
                    <a:close/>
                  </a:path>
                </a:pathLst>
              </a:custGeom>
              <a:solidFill>
                <a:srgbClr val="3f3b3c"/>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sp>
            <p:nvSpPr>
              <p:cNvPr id="2543" name="Freeform: Shape 340"/>
              <p:cNvSpPr/>
              <p:nvPr/>
            </p:nvSpPr>
            <p:spPr>
              <a:xfrm>
                <a:off x="7048440" y="2109240"/>
                <a:ext cx="7200" cy="14760"/>
              </a:xfrm>
              <a:custGeom>
                <a:avLst/>
                <a:gdLst/>
                <a:ahLst/>
                <a:rect l="l" t="t" r="r" b="b"/>
                <a:pathLst>
                  <a:path w="9738" h="19309">
                    <a:moveTo>
                      <a:pt x="7056" y="10728"/>
                    </a:moveTo>
                    <a:cubicBezTo>
                      <a:pt x="7056" y="12873"/>
                      <a:pt x="7593" y="15019"/>
                      <a:pt x="8129" y="16628"/>
                    </a:cubicBezTo>
                    <a:cubicBezTo>
                      <a:pt x="8665" y="18237"/>
                      <a:pt x="9738" y="19310"/>
                      <a:pt x="9738" y="19310"/>
                    </a:cubicBezTo>
                    <a:cubicBezTo>
                      <a:pt x="9738" y="19310"/>
                      <a:pt x="9202" y="19310"/>
                      <a:pt x="8665" y="19310"/>
                    </a:cubicBezTo>
                    <a:cubicBezTo>
                      <a:pt x="8129" y="19310"/>
                      <a:pt x="7056" y="19310"/>
                      <a:pt x="5984" y="18773"/>
                    </a:cubicBezTo>
                    <a:cubicBezTo>
                      <a:pt x="3838" y="17701"/>
                      <a:pt x="620" y="15019"/>
                      <a:pt x="83" y="10728"/>
                    </a:cubicBezTo>
                    <a:cubicBezTo>
                      <a:pt x="-453" y="6437"/>
                      <a:pt x="1693" y="3755"/>
                      <a:pt x="3838" y="2146"/>
                    </a:cubicBezTo>
                    <a:cubicBezTo>
                      <a:pt x="5447" y="536"/>
                      <a:pt x="7056" y="0"/>
                      <a:pt x="7056" y="0"/>
                    </a:cubicBezTo>
                    <a:cubicBezTo>
                      <a:pt x="7056" y="0"/>
                      <a:pt x="7056" y="1609"/>
                      <a:pt x="7056" y="3755"/>
                    </a:cubicBezTo>
                    <a:cubicBezTo>
                      <a:pt x="7056" y="5900"/>
                      <a:pt x="7056" y="8582"/>
                      <a:pt x="7056" y="10728"/>
                    </a:cubicBezTo>
                    <a:close/>
                  </a:path>
                </a:pathLst>
              </a:custGeom>
              <a:solidFill>
                <a:srgbClr val="3f3b3c"/>
              </a:solidFill>
              <a:ln w="0">
                <a:noFill/>
              </a:ln>
            </p:spPr>
            <p:style>
              <a:lnRef idx="0"/>
              <a:fillRef idx="0"/>
              <a:effectRef idx="0"/>
              <a:fontRef idx="minor"/>
            </p:style>
            <p:txBody>
              <a:bodyPr lIns="90000" rIns="90000" tIns="-32040" bIns="-32040" anchor="ctr">
                <a:noAutofit/>
              </a:bodyPr>
              <a:p>
                <a:endParaRPr b="0" lang="en-US" sz="1800" spc="-1" strike="noStrike">
                  <a:solidFill>
                    <a:srgbClr val="313c3f"/>
                  </a:solidFill>
                  <a:latin typeface="Source Sans Pro"/>
                </a:endParaRPr>
              </a:p>
            </p:txBody>
          </p:sp>
          <p:sp>
            <p:nvSpPr>
              <p:cNvPr id="2544" name="Freeform: Shape 341"/>
              <p:cNvSpPr/>
              <p:nvPr/>
            </p:nvSpPr>
            <p:spPr>
              <a:xfrm>
                <a:off x="6979320" y="2057760"/>
                <a:ext cx="189720" cy="157680"/>
              </a:xfrm>
              <a:custGeom>
                <a:avLst/>
                <a:gdLst/>
                <a:ahLst/>
                <a:rect l="l" t="t" r="r" b="b"/>
                <a:pathLst>
                  <a:path w="244590" h="203283">
                    <a:moveTo>
                      <a:pt x="243518" y="18773"/>
                    </a:moveTo>
                    <a:cubicBezTo>
                      <a:pt x="243518" y="17701"/>
                      <a:pt x="243518" y="17164"/>
                      <a:pt x="243518" y="16091"/>
                    </a:cubicBezTo>
                    <a:cubicBezTo>
                      <a:pt x="241373" y="15555"/>
                      <a:pt x="239227" y="15019"/>
                      <a:pt x="237081" y="13946"/>
                    </a:cubicBezTo>
                    <a:cubicBezTo>
                      <a:pt x="237081" y="14482"/>
                      <a:pt x="236545" y="15019"/>
                      <a:pt x="236545" y="15555"/>
                    </a:cubicBezTo>
                    <a:cubicBezTo>
                      <a:pt x="234400" y="41302"/>
                      <a:pt x="236545" y="63830"/>
                      <a:pt x="228499" y="86358"/>
                    </a:cubicBezTo>
                    <a:cubicBezTo>
                      <a:pt x="223672" y="99767"/>
                      <a:pt x="200607" y="122295"/>
                      <a:pt x="193098" y="122295"/>
                    </a:cubicBezTo>
                    <a:cubicBezTo>
                      <a:pt x="188271" y="112640"/>
                      <a:pt x="159842" y="93331"/>
                      <a:pt x="155015" y="91185"/>
                    </a:cubicBezTo>
                    <a:cubicBezTo>
                      <a:pt x="150724" y="89576"/>
                      <a:pt x="146433" y="89040"/>
                      <a:pt x="142142" y="88503"/>
                    </a:cubicBezTo>
                    <a:cubicBezTo>
                      <a:pt x="137851" y="87967"/>
                      <a:pt x="136778" y="89576"/>
                      <a:pt x="132487" y="90112"/>
                    </a:cubicBezTo>
                    <a:cubicBezTo>
                      <a:pt x="130341" y="90649"/>
                      <a:pt x="128196" y="91185"/>
                      <a:pt x="126050" y="91185"/>
                    </a:cubicBezTo>
                    <a:cubicBezTo>
                      <a:pt x="122295" y="91185"/>
                      <a:pt x="118541" y="89576"/>
                      <a:pt x="114250" y="89576"/>
                    </a:cubicBezTo>
                    <a:cubicBezTo>
                      <a:pt x="100304" y="90649"/>
                      <a:pt x="91722" y="91185"/>
                      <a:pt x="76166" y="102986"/>
                    </a:cubicBezTo>
                    <a:cubicBezTo>
                      <a:pt x="65439" y="111031"/>
                      <a:pt x="54711" y="118541"/>
                      <a:pt x="50956" y="130877"/>
                    </a:cubicBezTo>
                    <a:cubicBezTo>
                      <a:pt x="40229" y="119077"/>
                      <a:pt x="31110" y="105131"/>
                      <a:pt x="25746" y="89576"/>
                    </a:cubicBezTo>
                    <a:cubicBezTo>
                      <a:pt x="24137" y="85285"/>
                      <a:pt x="23065" y="80994"/>
                      <a:pt x="21992" y="77239"/>
                    </a:cubicBezTo>
                    <a:cubicBezTo>
                      <a:pt x="19846" y="70266"/>
                      <a:pt x="17701" y="62757"/>
                      <a:pt x="15555" y="55784"/>
                    </a:cubicBezTo>
                    <a:cubicBezTo>
                      <a:pt x="11800" y="43447"/>
                      <a:pt x="8582" y="30574"/>
                      <a:pt x="6973" y="17701"/>
                    </a:cubicBezTo>
                    <a:cubicBezTo>
                      <a:pt x="6437" y="11800"/>
                      <a:pt x="6437" y="5900"/>
                      <a:pt x="6973" y="0"/>
                    </a:cubicBezTo>
                    <a:cubicBezTo>
                      <a:pt x="2682" y="1609"/>
                      <a:pt x="536" y="4827"/>
                      <a:pt x="0" y="9119"/>
                    </a:cubicBezTo>
                    <a:cubicBezTo>
                      <a:pt x="0" y="9655"/>
                      <a:pt x="0" y="11264"/>
                      <a:pt x="536" y="13410"/>
                    </a:cubicBezTo>
                    <a:cubicBezTo>
                      <a:pt x="536" y="13410"/>
                      <a:pt x="536" y="13410"/>
                      <a:pt x="536" y="13410"/>
                    </a:cubicBezTo>
                    <a:cubicBezTo>
                      <a:pt x="536" y="13410"/>
                      <a:pt x="536" y="13410"/>
                      <a:pt x="536" y="13410"/>
                    </a:cubicBezTo>
                    <a:cubicBezTo>
                      <a:pt x="2146" y="24137"/>
                      <a:pt x="6973" y="52566"/>
                      <a:pt x="10191" y="80994"/>
                    </a:cubicBezTo>
                    <a:cubicBezTo>
                      <a:pt x="10191" y="81530"/>
                      <a:pt x="10191" y="82603"/>
                      <a:pt x="10191" y="83676"/>
                    </a:cubicBezTo>
                    <a:cubicBezTo>
                      <a:pt x="9655" y="105667"/>
                      <a:pt x="24674" y="128732"/>
                      <a:pt x="36474" y="147505"/>
                    </a:cubicBezTo>
                    <a:cubicBezTo>
                      <a:pt x="37010" y="148578"/>
                      <a:pt x="40229" y="153942"/>
                      <a:pt x="45056" y="160379"/>
                    </a:cubicBezTo>
                    <a:cubicBezTo>
                      <a:pt x="52566" y="171643"/>
                      <a:pt x="64366" y="186661"/>
                      <a:pt x="72948" y="192025"/>
                    </a:cubicBezTo>
                    <a:cubicBezTo>
                      <a:pt x="96013" y="206508"/>
                      <a:pt x="98158" y="203289"/>
                      <a:pt x="126587" y="202216"/>
                    </a:cubicBezTo>
                    <a:cubicBezTo>
                      <a:pt x="134632" y="201680"/>
                      <a:pt x="157160" y="209189"/>
                      <a:pt x="188807" y="179152"/>
                    </a:cubicBezTo>
                    <a:cubicBezTo>
                      <a:pt x="195244" y="173252"/>
                      <a:pt x="209726" y="153406"/>
                      <a:pt x="222599" y="130341"/>
                    </a:cubicBezTo>
                    <a:cubicBezTo>
                      <a:pt x="233327" y="111031"/>
                      <a:pt x="242982" y="89576"/>
                      <a:pt x="244054" y="72412"/>
                    </a:cubicBezTo>
                    <a:cubicBezTo>
                      <a:pt x="244054" y="72412"/>
                      <a:pt x="244054" y="72948"/>
                      <a:pt x="244591" y="72948"/>
                    </a:cubicBezTo>
                    <a:cubicBezTo>
                      <a:pt x="243518" y="55784"/>
                      <a:pt x="242982" y="37547"/>
                      <a:pt x="243518" y="18773"/>
                    </a:cubicBezTo>
                    <a:close/>
                    <a:moveTo>
                      <a:pt x="175934" y="143751"/>
                    </a:moveTo>
                    <a:cubicBezTo>
                      <a:pt x="174325" y="148578"/>
                      <a:pt x="172179" y="153942"/>
                      <a:pt x="168961" y="158233"/>
                    </a:cubicBezTo>
                    <a:cubicBezTo>
                      <a:pt x="166279" y="161451"/>
                      <a:pt x="163061" y="164133"/>
                      <a:pt x="159842" y="166279"/>
                    </a:cubicBezTo>
                    <a:cubicBezTo>
                      <a:pt x="157160" y="168424"/>
                      <a:pt x="153942" y="170033"/>
                      <a:pt x="150187" y="170033"/>
                    </a:cubicBezTo>
                    <a:cubicBezTo>
                      <a:pt x="145896" y="170033"/>
                      <a:pt x="142142" y="167888"/>
                      <a:pt x="139460" y="164133"/>
                    </a:cubicBezTo>
                    <a:cubicBezTo>
                      <a:pt x="136778" y="160915"/>
                      <a:pt x="135705" y="157160"/>
                      <a:pt x="134632" y="153406"/>
                    </a:cubicBezTo>
                    <a:cubicBezTo>
                      <a:pt x="134632" y="152869"/>
                      <a:pt x="134096" y="152869"/>
                      <a:pt x="133560" y="152869"/>
                    </a:cubicBezTo>
                    <a:cubicBezTo>
                      <a:pt x="130878" y="153406"/>
                      <a:pt x="121223" y="153406"/>
                      <a:pt x="116932" y="152333"/>
                    </a:cubicBezTo>
                    <a:cubicBezTo>
                      <a:pt x="116395" y="152333"/>
                      <a:pt x="112641" y="157697"/>
                      <a:pt x="111031" y="160915"/>
                    </a:cubicBezTo>
                    <a:cubicBezTo>
                      <a:pt x="109959" y="163060"/>
                      <a:pt x="108349" y="164670"/>
                      <a:pt x="106740" y="166279"/>
                    </a:cubicBezTo>
                    <a:cubicBezTo>
                      <a:pt x="105131" y="167888"/>
                      <a:pt x="102449" y="168961"/>
                      <a:pt x="100304" y="168424"/>
                    </a:cubicBezTo>
                    <a:cubicBezTo>
                      <a:pt x="98695" y="168424"/>
                      <a:pt x="97085" y="167352"/>
                      <a:pt x="95476" y="166279"/>
                    </a:cubicBezTo>
                    <a:cubicBezTo>
                      <a:pt x="89576" y="162524"/>
                      <a:pt x="83676" y="158233"/>
                      <a:pt x="78312" y="153406"/>
                    </a:cubicBezTo>
                    <a:cubicBezTo>
                      <a:pt x="74021" y="149651"/>
                      <a:pt x="63293" y="142142"/>
                      <a:pt x="62757" y="136241"/>
                    </a:cubicBezTo>
                    <a:cubicBezTo>
                      <a:pt x="62221" y="133559"/>
                      <a:pt x="77776" y="120686"/>
                      <a:pt x="79921" y="119613"/>
                    </a:cubicBezTo>
                    <a:cubicBezTo>
                      <a:pt x="84749" y="118004"/>
                      <a:pt x="114250" y="106740"/>
                      <a:pt x="118004" y="105667"/>
                    </a:cubicBezTo>
                    <a:cubicBezTo>
                      <a:pt x="119077" y="105667"/>
                      <a:pt x="126587" y="111568"/>
                      <a:pt x="136241" y="106204"/>
                    </a:cubicBezTo>
                    <a:cubicBezTo>
                      <a:pt x="140532" y="103522"/>
                      <a:pt x="169497" y="116395"/>
                      <a:pt x="175934" y="118541"/>
                    </a:cubicBezTo>
                    <a:cubicBezTo>
                      <a:pt x="177543" y="119077"/>
                      <a:pt x="182907" y="121759"/>
                      <a:pt x="183980" y="123368"/>
                    </a:cubicBezTo>
                    <a:cubicBezTo>
                      <a:pt x="185052" y="126586"/>
                      <a:pt x="177543" y="139460"/>
                      <a:pt x="175934" y="14375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45" name="Freeform: Shape 342"/>
              <p:cNvSpPr/>
              <p:nvPr/>
            </p:nvSpPr>
            <p:spPr>
              <a:xfrm>
                <a:off x="7039800" y="2144160"/>
                <a:ext cx="77400" cy="11880"/>
              </a:xfrm>
              <a:custGeom>
                <a:avLst/>
                <a:gdLst/>
                <a:ahLst/>
                <a:rect l="l" t="t" r="r" b="b"/>
                <a:pathLst>
                  <a:path w="100169" h="15639">
                    <a:moveTo>
                      <a:pt x="100170" y="14566"/>
                    </a:moveTo>
                    <a:cubicBezTo>
                      <a:pt x="96951" y="15103"/>
                      <a:pt x="93733" y="15103"/>
                      <a:pt x="90515" y="15103"/>
                    </a:cubicBezTo>
                    <a:cubicBezTo>
                      <a:pt x="61014" y="11884"/>
                      <a:pt x="31513" y="12421"/>
                      <a:pt x="2011" y="15639"/>
                    </a:cubicBezTo>
                    <a:cubicBezTo>
                      <a:pt x="1475" y="15639"/>
                      <a:pt x="939" y="15639"/>
                      <a:pt x="402" y="15639"/>
                    </a:cubicBezTo>
                    <a:cubicBezTo>
                      <a:pt x="402" y="15639"/>
                      <a:pt x="402" y="15639"/>
                      <a:pt x="402" y="15639"/>
                    </a:cubicBezTo>
                    <a:cubicBezTo>
                      <a:pt x="-134" y="15639"/>
                      <a:pt x="-134" y="15103"/>
                      <a:pt x="402" y="14566"/>
                    </a:cubicBezTo>
                    <a:cubicBezTo>
                      <a:pt x="9521" y="13494"/>
                      <a:pt x="18103" y="9203"/>
                      <a:pt x="26149" y="4375"/>
                    </a:cubicBezTo>
                    <a:cubicBezTo>
                      <a:pt x="26685" y="3839"/>
                      <a:pt x="27221" y="3839"/>
                      <a:pt x="27758" y="3302"/>
                    </a:cubicBezTo>
                    <a:cubicBezTo>
                      <a:pt x="32049" y="620"/>
                      <a:pt x="37949" y="84"/>
                      <a:pt x="42777" y="2230"/>
                    </a:cubicBezTo>
                    <a:cubicBezTo>
                      <a:pt x="45995" y="3302"/>
                      <a:pt x="49750" y="3839"/>
                      <a:pt x="52968" y="2766"/>
                    </a:cubicBezTo>
                    <a:cubicBezTo>
                      <a:pt x="55650" y="2230"/>
                      <a:pt x="58332" y="620"/>
                      <a:pt x="61014" y="84"/>
                    </a:cubicBezTo>
                    <a:cubicBezTo>
                      <a:pt x="64768" y="-452"/>
                      <a:pt x="67987" y="1693"/>
                      <a:pt x="71741" y="3302"/>
                    </a:cubicBezTo>
                    <a:cubicBezTo>
                      <a:pt x="79787" y="8130"/>
                      <a:pt x="89442" y="12957"/>
                      <a:pt x="100170" y="14566"/>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313c3f"/>
                  </a:solidFill>
                  <a:latin typeface="Source Sans Pro"/>
                </a:endParaRPr>
              </a:p>
            </p:txBody>
          </p:sp>
          <p:sp>
            <p:nvSpPr>
              <p:cNvPr id="2546" name="Freeform: Shape 343"/>
              <p:cNvSpPr/>
              <p:nvPr/>
            </p:nvSpPr>
            <p:spPr>
              <a:xfrm>
                <a:off x="7050960" y="2164680"/>
                <a:ext cx="50040" cy="6840"/>
              </a:xfrm>
              <a:custGeom>
                <a:avLst/>
                <a:gdLst/>
                <a:ahLst/>
                <a:rect l="l" t="t" r="r" b="b"/>
                <a:pathLst>
                  <a:path w="64902" h="9209">
                    <a:moveTo>
                      <a:pt x="0" y="0"/>
                    </a:moveTo>
                    <a:cubicBezTo>
                      <a:pt x="4291" y="2682"/>
                      <a:pt x="32719" y="19310"/>
                      <a:pt x="-634" y="0"/>
                    </a:cubicBezTo>
                    <a:cubicBezTo>
                      <a:pt x="-22089" y="5900"/>
                      <a:pt x="21455" y="6437"/>
                      <a:pt x="0" y="0"/>
                    </a:cubicBezTo>
                    <a:close/>
                  </a:path>
                </a:pathLst>
              </a:custGeom>
              <a:solidFill>
                <a:srgbClr val="bc8c68"/>
              </a:solidFill>
              <a:ln w="0">
                <a:noFill/>
              </a:ln>
            </p:spPr>
            <p:style>
              <a:lnRef idx="0"/>
              <a:fillRef idx="0"/>
              <a:effectRef idx="0"/>
              <a:fontRef idx="minor"/>
            </p:style>
            <p:txBody>
              <a:bodyPr lIns="90000" rIns="90000" tIns="-39960" bIns="-39960" anchor="ctr">
                <a:noAutofit/>
              </a:bodyPr>
              <a:p>
                <a:endParaRPr b="0" lang="en-US" sz="1800" spc="-1" strike="noStrike">
                  <a:solidFill>
                    <a:srgbClr val="313c3f"/>
                  </a:solidFill>
                  <a:latin typeface="Source Sans Pro"/>
                </a:endParaRPr>
              </a:p>
            </p:txBody>
          </p:sp>
        </p:grpSp>
      </p:grpSp>
      <p:grpSp>
        <p:nvGrpSpPr>
          <p:cNvPr id="2547" name="Group 350"/>
          <p:cNvGrpSpPr/>
          <p:nvPr/>
        </p:nvGrpSpPr>
        <p:grpSpPr>
          <a:xfrm>
            <a:off x="7721640" y="1865160"/>
            <a:ext cx="1033560" cy="1014480"/>
            <a:chOff x="7721640" y="1865160"/>
            <a:chExt cx="1033560" cy="1014480"/>
          </a:xfrm>
        </p:grpSpPr>
        <p:sp>
          <p:nvSpPr>
            <p:cNvPr id="2548" name="Freeform: Shape 351"/>
            <p:cNvSpPr/>
            <p:nvPr/>
          </p:nvSpPr>
          <p:spPr>
            <a:xfrm>
              <a:off x="7721640" y="1865160"/>
              <a:ext cx="1033560" cy="1014120"/>
            </a:xfrm>
            <a:custGeom>
              <a:avLst/>
              <a:gdLst/>
              <a:ahLst/>
              <a:rect l="l" t="t" r="r" b="b"/>
              <a:pathLst>
                <a:path w="1332912" h="1306629">
                  <a:moveTo>
                    <a:pt x="1332913" y="653851"/>
                  </a:moveTo>
                  <a:cubicBezTo>
                    <a:pt x="1332913" y="934380"/>
                    <a:pt x="1152688" y="1174143"/>
                    <a:pt x="898978" y="1266401"/>
                  </a:cubicBezTo>
                  <a:cubicBezTo>
                    <a:pt x="887714" y="1270692"/>
                    <a:pt x="876450" y="1274447"/>
                    <a:pt x="864650" y="1277665"/>
                  </a:cubicBezTo>
                  <a:cubicBezTo>
                    <a:pt x="864114" y="1277665"/>
                    <a:pt x="863577" y="1278201"/>
                    <a:pt x="863041" y="1278201"/>
                  </a:cubicBezTo>
                  <a:cubicBezTo>
                    <a:pt x="836758" y="1286247"/>
                    <a:pt x="809939" y="1292684"/>
                    <a:pt x="782583" y="1296975"/>
                  </a:cubicBezTo>
                  <a:cubicBezTo>
                    <a:pt x="774001" y="1298584"/>
                    <a:pt x="765955" y="1299657"/>
                    <a:pt x="757373" y="1300729"/>
                  </a:cubicBezTo>
                  <a:cubicBezTo>
                    <a:pt x="745573" y="1302339"/>
                    <a:pt x="733772" y="1303411"/>
                    <a:pt x="721972" y="1304484"/>
                  </a:cubicBezTo>
                  <a:cubicBezTo>
                    <a:pt x="718217" y="1305020"/>
                    <a:pt x="714999" y="1305020"/>
                    <a:pt x="711244" y="1305020"/>
                  </a:cubicBezTo>
                  <a:cubicBezTo>
                    <a:pt x="709635" y="1305020"/>
                    <a:pt x="707490" y="1305020"/>
                    <a:pt x="705880" y="1305557"/>
                  </a:cubicBezTo>
                  <a:cubicBezTo>
                    <a:pt x="696762" y="1306093"/>
                    <a:pt x="687643" y="1306630"/>
                    <a:pt x="677989" y="1306630"/>
                  </a:cubicBezTo>
                  <a:cubicBezTo>
                    <a:pt x="676916" y="1306630"/>
                    <a:pt x="676379" y="1306630"/>
                    <a:pt x="675307" y="1306630"/>
                  </a:cubicBezTo>
                  <a:cubicBezTo>
                    <a:pt x="672625" y="1306630"/>
                    <a:pt x="669406" y="1306630"/>
                    <a:pt x="666188" y="1306630"/>
                  </a:cubicBezTo>
                  <a:cubicBezTo>
                    <a:pt x="632396" y="1306630"/>
                    <a:pt x="599140" y="1303948"/>
                    <a:pt x="566421" y="1299120"/>
                  </a:cubicBezTo>
                  <a:cubicBezTo>
                    <a:pt x="560521" y="1298047"/>
                    <a:pt x="554084" y="1297511"/>
                    <a:pt x="548184" y="1296438"/>
                  </a:cubicBezTo>
                  <a:cubicBezTo>
                    <a:pt x="511173" y="1290002"/>
                    <a:pt x="475236" y="1280347"/>
                    <a:pt x="440371" y="1268010"/>
                  </a:cubicBezTo>
                  <a:cubicBezTo>
                    <a:pt x="426961" y="1263183"/>
                    <a:pt x="414088" y="1258355"/>
                    <a:pt x="401215" y="1252991"/>
                  </a:cubicBezTo>
                  <a:cubicBezTo>
                    <a:pt x="165206" y="1152688"/>
                    <a:pt x="0" y="921506"/>
                    <a:pt x="0" y="653315"/>
                  </a:cubicBezTo>
                  <a:cubicBezTo>
                    <a:pt x="536" y="292865"/>
                    <a:pt x="298766" y="0"/>
                    <a:pt x="666725" y="0"/>
                  </a:cubicBezTo>
                  <a:cubicBezTo>
                    <a:pt x="1034684" y="0"/>
                    <a:pt x="1332913" y="292865"/>
                    <a:pt x="1332913"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49" name="Freeform: Shape 352"/>
            <p:cNvSpPr/>
            <p:nvPr/>
          </p:nvSpPr>
          <p:spPr>
            <a:xfrm>
              <a:off x="8099280" y="2750040"/>
              <a:ext cx="159120" cy="88560"/>
            </a:xfrm>
            <a:custGeom>
              <a:avLst/>
              <a:gdLst/>
              <a:ahLst/>
              <a:rect l="l" t="t" r="r" b="b"/>
              <a:pathLst>
                <a:path w="205434" h="114249">
                  <a:moveTo>
                    <a:pt x="205435" y="53638"/>
                  </a:moveTo>
                  <a:lnTo>
                    <a:pt x="189880" y="59538"/>
                  </a:lnTo>
                  <a:lnTo>
                    <a:pt x="42374" y="114250"/>
                  </a:lnTo>
                  <a:lnTo>
                    <a:pt x="21455" y="57929"/>
                  </a:lnTo>
                  <a:cubicBezTo>
                    <a:pt x="21455" y="57929"/>
                    <a:pt x="21455" y="57929"/>
                    <a:pt x="21455" y="57929"/>
                  </a:cubicBezTo>
                  <a:lnTo>
                    <a:pt x="16628" y="45593"/>
                  </a:lnTo>
                  <a:lnTo>
                    <a:pt x="10728" y="29501"/>
                  </a:lnTo>
                  <a:cubicBezTo>
                    <a:pt x="10728" y="28965"/>
                    <a:pt x="10191" y="28428"/>
                    <a:pt x="10191" y="27892"/>
                  </a:cubicBezTo>
                  <a:cubicBezTo>
                    <a:pt x="9655" y="26819"/>
                    <a:pt x="9655" y="25746"/>
                    <a:pt x="9118" y="24674"/>
                  </a:cubicBezTo>
                  <a:cubicBezTo>
                    <a:pt x="9118" y="24137"/>
                    <a:pt x="8582" y="23601"/>
                    <a:pt x="8582" y="23064"/>
                  </a:cubicBezTo>
                  <a:cubicBezTo>
                    <a:pt x="8046" y="21992"/>
                    <a:pt x="8046" y="20919"/>
                    <a:pt x="7509" y="19846"/>
                  </a:cubicBezTo>
                  <a:cubicBezTo>
                    <a:pt x="6973" y="18773"/>
                    <a:pt x="6973" y="17164"/>
                    <a:pt x="6437" y="16091"/>
                  </a:cubicBezTo>
                  <a:cubicBezTo>
                    <a:pt x="6437" y="16628"/>
                    <a:pt x="5900" y="16628"/>
                    <a:pt x="5900" y="16628"/>
                  </a:cubicBezTo>
                  <a:lnTo>
                    <a:pt x="0" y="0"/>
                  </a:lnTo>
                  <a:cubicBezTo>
                    <a:pt x="7509" y="536"/>
                    <a:pt x="15019" y="1073"/>
                    <a:pt x="21992" y="1609"/>
                  </a:cubicBezTo>
                  <a:cubicBezTo>
                    <a:pt x="29501" y="2146"/>
                    <a:pt x="36474" y="2682"/>
                    <a:pt x="43983" y="3218"/>
                  </a:cubicBezTo>
                  <a:cubicBezTo>
                    <a:pt x="55784" y="3755"/>
                    <a:pt x="68121" y="4827"/>
                    <a:pt x="79921" y="5364"/>
                  </a:cubicBezTo>
                  <a:cubicBezTo>
                    <a:pt x="81530" y="8046"/>
                    <a:pt x="83139" y="10191"/>
                    <a:pt x="85285" y="12337"/>
                  </a:cubicBezTo>
                  <a:cubicBezTo>
                    <a:pt x="91722" y="18773"/>
                    <a:pt x="100304" y="21455"/>
                    <a:pt x="108349" y="25210"/>
                  </a:cubicBezTo>
                  <a:cubicBezTo>
                    <a:pt x="115322" y="28428"/>
                    <a:pt x="122295" y="33256"/>
                    <a:pt x="128196" y="38083"/>
                  </a:cubicBezTo>
                  <a:cubicBezTo>
                    <a:pt x="132487" y="41838"/>
                    <a:pt x="136241" y="46129"/>
                    <a:pt x="141605" y="48274"/>
                  </a:cubicBezTo>
                  <a:cubicBezTo>
                    <a:pt x="146433" y="50420"/>
                    <a:pt x="151260" y="50956"/>
                    <a:pt x="156624" y="51493"/>
                  </a:cubicBezTo>
                  <a:cubicBezTo>
                    <a:pt x="167352" y="52566"/>
                    <a:pt x="178079" y="53102"/>
                    <a:pt x="188271" y="53638"/>
                  </a:cubicBezTo>
                  <a:cubicBezTo>
                    <a:pt x="194171" y="53102"/>
                    <a:pt x="199535" y="53638"/>
                    <a:pt x="205435" y="53638"/>
                  </a:cubicBezTo>
                  <a:close/>
                </a:path>
              </a:pathLst>
            </a:custGeom>
            <a:solidFill>
              <a:srgbClr val="b6905a"/>
            </a:solidFill>
            <a:ln w="0">
              <a:noFill/>
            </a:ln>
          </p:spPr>
          <p:style>
            <a:lnRef idx="0"/>
            <a:fillRef idx="0"/>
            <a:effectRef idx="0"/>
            <a:fontRef idx="minor"/>
          </p:style>
          <p:txBody>
            <a:bodyPr lIns="90000" rIns="90000" tIns="41760" bIns="41760" anchor="ctr">
              <a:noAutofit/>
            </a:bodyPr>
            <a:p>
              <a:endParaRPr b="0" lang="en-US" sz="1800" spc="-1" strike="noStrike">
                <a:solidFill>
                  <a:srgbClr val="313c3f"/>
                </a:solidFill>
                <a:latin typeface="Source Sans Pro"/>
              </a:endParaRPr>
            </a:p>
          </p:txBody>
        </p:sp>
        <p:sp>
          <p:nvSpPr>
            <p:cNvPr id="2550" name="Freeform: Shape 353"/>
            <p:cNvSpPr/>
            <p:nvPr/>
          </p:nvSpPr>
          <p:spPr>
            <a:xfrm>
              <a:off x="8030160" y="2250360"/>
              <a:ext cx="392400" cy="387000"/>
            </a:xfrm>
            <a:custGeom>
              <a:avLst/>
              <a:gdLst/>
              <a:ahLst/>
              <a:rect l="l" t="t" r="r" b="b"/>
              <a:pathLst>
                <a:path w="505943" h="498702">
                  <a:moveTo>
                    <a:pt x="504737" y="89442"/>
                  </a:moveTo>
                  <a:cubicBezTo>
                    <a:pt x="501518" y="103388"/>
                    <a:pt x="498837" y="116797"/>
                    <a:pt x="496155" y="130743"/>
                  </a:cubicBezTo>
                  <a:cubicBezTo>
                    <a:pt x="478990" y="226756"/>
                    <a:pt x="480600" y="323305"/>
                    <a:pt x="474699" y="427363"/>
                  </a:cubicBezTo>
                  <a:cubicBezTo>
                    <a:pt x="474699" y="429509"/>
                    <a:pt x="474163" y="438091"/>
                    <a:pt x="473626" y="448282"/>
                  </a:cubicBezTo>
                  <a:cubicBezTo>
                    <a:pt x="473626" y="448282"/>
                    <a:pt x="476845" y="497630"/>
                    <a:pt x="476845" y="497630"/>
                  </a:cubicBezTo>
                  <a:cubicBezTo>
                    <a:pt x="466117" y="502457"/>
                    <a:pt x="456999" y="481538"/>
                    <a:pt x="445735" y="479392"/>
                  </a:cubicBezTo>
                  <a:cubicBezTo>
                    <a:pt x="432325" y="477247"/>
                    <a:pt x="416234" y="449355"/>
                    <a:pt x="404433" y="460619"/>
                  </a:cubicBezTo>
                  <a:cubicBezTo>
                    <a:pt x="403897" y="460619"/>
                    <a:pt x="403897" y="461155"/>
                    <a:pt x="403360" y="461155"/>
                  </a:cubicBezTo>
                  <a:cubicBezTo>
                    <a:pt x="395315" y="469201"/>
                    <a:pt x="389951" y="481002"/>
                    <a:pt x="379223" y="485293"/>
                  </a:cubicBezTo>
                  <a:cubicBezTo>
                    <a:pt x="374932" y="486902"/>
                    <a:pt x="370105" y="486902"/>
                    <a:pt x="365277" y="487438"/>
                  </a:cubicBezTo>
                  <a:cubicBezTo>
                    <a:pt x="351868" y="487975"/>
                    <a:pt x="337922" y="487975"/>
                    <a:pt x="324512" y="488511"/>
                  </a:cubicBezTo>
                  <a:cubicBezTo>
                    <a:pt x="318075" y="488511"/>
                    <a:pt x="311102" y="488511"/>
                    <a:pt x="304666" y="489047"/>
                  </a:cubicBezTo>
                  <a:cubicBezTo>
                    <a:pt x="288038" y="489047"/>
                    <a:pt x="271946" y="489047"/>
                    <a:pt x="255319" y="489047"/>
                  </a:cubicBezTo>
                  <a:cubicBezTo>
                    <a:pt x="255855" y="487438"/>
                    <a:pt x="256391" y="486365"/>
                    <a:pt x="256928" y="484756"/>
                  </a:cubicBezTo>
                  <a:cubicBezTo>
                    <a:pt x="243518" y="484756"/>
                    <a:pt x="220990" y="489047"/>
                    <a:pt x="207044" y="488511"/>
                  </a:cubicBezTo>
                  <a:cubicBezTo>
                    <a:pt x="195780" y="488511"/>
                    <a:pt x="183979" y="487975"/>
                    <a:pt x="172716" y="487975"/>
                  </a:cubicBezTo>
                  <a:cubicBezTo>
                    <a:pt x="138923" y="486902"/>
                    <a:pt x="108886" y="485293"/>
                    <a:pt x="76167" y="492266"/>
                  </a:cubicBezTo>
                  <a:cubicBezTo>
                    <a:pt x="60075" y="493875"/>
                    <a:pt x="45056" y="496020"/>
                    <a:pt x="33792" y="498702"/>
                  </a:cubicBezTo>
                  <a:cubicBezTo>
                    <a:pt x="33792" y="498702"/>
                    <a:pt x="33792" y="498702"/>
                    <a:pt x="33792" y="498702"/>
                  </a:cubicBezTo>
                  <a:cubicBezTo>
                    <a:pt x="12873" y="353342"/>
                    <a:pt x="52029" y="197791"/>
                    <a:pt x="0" y="59941"/>
                  </a:cubicBezTo>
                  <a:cubicBezTo>
                    <a:pt x="2146" y="59404"/>
                    <a:pt x="4291" y="58868"/>
                    <a:pt x="5900" y="58332"/>
                  </a:cubicBezTo>
                  <a:cubicBezTo>
                    <a:pt x="46665" y="47068"/>
                    <a:pt x="84212" y="27758"/>
                    <a:pt x="121759" y="9521"/>
                  </a:cubicBezTo>
                  <a:cubicBezTo>
                    <a:pt x="129805" y="5766"/>
                    <a:pt x="137851" y="1475"/>
                    <a:pt x="146433" y="402"/>
                  </a:cubicBezTo>
                  <a:cubicBezTo>
                    <a:pt x="152333" y="-134"/>
                    <a:pt x="157697" y="-134"/>
                    <a:pt x="163597" y="402"/>
                  </a:cubicBezTo>
                  <a:cubicBezTo>
                    <a:pt x="211335" y="4157"/>
                    <a:pt x="259073" y="7375"/>
                    <a:pt x="306811" y="11130"/>
                  </a:cubicBezTo>
                  <a:cubicBezTo>
                    <a:pt x="323439" y="12203"/>
                    <a:pt x="340603" y="18639"/>
                    <a:pt x="357231" y="22394"/>
                  </a:cubicBezTo>
                  <a:cubicBezTo>
                    <a:pt x="358840" y="22930"/>
                    <a:pt x="360450" y="22930"/>
                    <a:pt x="361522" y="23467"/>
                  </a:cubicBezTo>
                  <a:cubicBezTo>
                    <a:pt x="377077" y="26685"/>
                    <a:pt x="421061" y="44922"/>
                    <a:pt x="456999" y="57795"/>
                  </a:cubicBezTo>
                  <a:cubicBezTo>
                    <a:pt x="473090" y="63695"/>
                    <a:pt x="477918" y="64768"/>
                    <a:pt x="487572" y="66377"/>
                  </a:cubicBezTo>
                  <a:cubicBezTo>
                    <a:pt x="493473" y="69059"/>
                    <a:pt x="499373" y="71741"/>
                    <a:pt x="504737" y="74960"/>
                  </a:cubicBezTo>
                  <a:cubicBezTo>
                    <a:pt x="504737" y="74960"/>
                    <a:pt x="504737" y="75496"/>
                    <a:pt x="504737" y="75496"/>
                  </a:cubicBezTo>
                  <a:cubicBezTo>
                    <a:pt x="506346" y="79787"/>
                    <a:pt x="506346" y="84078"/>
                    <a:pt x="504737" y="89442"/>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51" name="Freeform: Shape 354"/>
            <p:cNvSpPr/>
            <p:nvPr/>
          </p:nvSpPr>
          <p:spPr>
            <a:xfrm>
              <a:off x="8101800" y="230400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6" y="6973"/>
                    <a:pt x="81530" y="2682"/>
                    <a:pt x="87430" y="0"/>
                  </a:cubicBezTo>
                  <a:cubicBezTo>
                    <a:pt x="87430" y="15555"/>
                    <a:pt x="107277" y="59002"/>
                    <a:pt x="109422" y="68657"/>
                  </a:cubicBezTo>
                  <a:cubicBezTo>
                    <a:pt x="112104" y="82067"/>
                    <a:pt x="114786" y="95476"/>
                    <a:pt x="117468" y="108886"/>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52" name="Freeform: Shape 355"/>
            <p:cNvSpPr/>
            <p:nvPr/>
          </p:nvSpPr>
          <p:spPr>
            <a:xfrm>
              <a:off x="8327160" y="2307960"/>
              <a:ext cx="55440" cy="42840"/>
            </a:xfrm>
            <a:custGeom>
              <a:avLst/>
              <a:gdLst/>
              <a:ahLst/>
              <a:rect l="l" t="t" r="r" b="b"/>
              <a:pathLst>
                <a:path w="71875" h="55469">
                  <a:moveTo>
                    <a:pt x="24137" y="0"/>
                  </a:moveTo>
                  <a:cubicBezTo>
                    <a:pt x="38620" y="16091"/>
                    <a:pt x="57393" y="34329"/>
                    <a:pt x="71875" y="50956"/>
                  </a:cubicBezTo>
                  <a:cubicBezTo>
                    <a:pt x="53102" y="53638"/>
                    <a:pt x="42374" y="52029"/>
                    <a:pt x="23601" y="54711"/>
                  </a:cubicBezTo>
                  <a:cubicBezTo>
                    <a:pt x="19310" y="55247"/>
                    <a:pt x="15019" y="55784"/>
                    <a:pt x="10728" y="55247"/>
                  </a:cubicBezTo>
                  <a:cubicBezTo>
                    <a:pt x="6437" y="54711"/>
                    <a:pt x="2146" y="52566"/>
                    <a:pt x="0" y="48811"/>
                  </a:cubicBezTo>
                  <a:cubicBezTo>
                    <a:pt x="9655" y="30037"/>
                    <a:pt x="9655" y="14482"/>
                    <a:pt x="24137" y="0"/>
                  </a:cubicBezTo>
                  <a:close/>
                </a:path>
              </a:pathLst>
            </a:custGeom>
            <a:solidFill>
              <a:srgbClr val="383649"/>
            </a:solidFill>
            <a:ln w="0">
              <a:noFill/>
            </a:ln>
          </p:spPr>
          <p:style>
            <a:lnRef idx="0"/>
            <a:fillRef idx="0"/>
            <a:effectRef idx="0"/>
            <a:fontRef idx="minor"/>
          </p:style>
          <p:txBody>
            <a:bodyPr lIns="90000" rIns="90000" tIns="-3960" bIns="-3960" anchor="ctr">
              <a:noAutofit/>
            </a:bodyPr>
            <a:p>
              <a:endParaRPr b="0" lang="en-US" sz="1800" spc="-1" strike="noStrike">
                <a:solidFill>
                  <a:srgbClr val="313c3f"/>
                </a:solidFill>
                <a:latin typeface="Source Sans Pro"/>
              </a:endParaRPr>
            </a:p>
          </p:txBody>
        </p:sp>
        <p:sp>
          <p:nvSpPr>
            <p:cNvPr id="2553" name="Freeform: Shape 356"/>
            <p:cNvSpPr/>
            <p:nvPr/>
          </p:nvSpPr>
          <p:spPr>
            <a:xfrm>
              <a:off x="8323200" y="2359800"/>
              <a:ext cx="51480" cy="127800"/>
            </a:xfrm>
            <a:custGeom>
              <a:avLst/>
              <a:gdLst/>
              <a:ahLst/>
              <a:rect l="l" t="t" r="r" b="b"/>
              <a:pathLst>
                <a:path w="66370" h="164669">
                  <a:moveTo>
                    <a:pt x="34724" y="0"/>
                  </a:moveTo>
                  <a:cubicBezTo>
                    <a:pt x="44379" y="8582"/>
                    <a:pt x="57789" y="15555"/>
                    <a:pt x="66371" y="18773"/>
                  </a:cubicBezTo>
                  <a:cubicBezTo>
                    <a:pt x="23997" y="76166"/>
                    <a:pt x="12196" y="102986"/>
                    <a:pt x="2541" y="164670"/>
                  </a:cubicBezTo>
                  <a:cubicBezTo>
                    <a:pt x="-1750" y="112104"/>
                    <a:pt x="-677" y="59002"/>
                    <a:pt x="6296" y="6437"/>
                  </a:cubicBezTo>
                  <a:cubicBezTo>
                    <a:pt x="8442" y="-5364"/>
                    <a:pt x="23997" y="4827"/>
                    <a:pt x="34724"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54" name="Freeform: Shape 357"/>
            <p:cNvSpPr/>
            <p:nvPr/>
          </p:nvSpPr>
          <p:spPr>
            <a:xfrm>
              <a:off x="8282880" y="2114640"/>
              <a:ext cx="42840" cy="77760"/>
            </a:xfrm>
            <a:custGeom>
              <a:avLst/>
              <a:gdLst/>
              <a:ahLst/>
              <a:rect l="l" t="t" r="r" b="b"/>
              <a:pathLst>
                <a:path w="55604" h="100486">
                  <a:moveTo>
                    <a:pt x="40229" y="60258"/>
                  </a:moveTo>
                  <a:cubicBezTo>
                    <a:pt x="38083" y="67767"/>
                    <a:pt x="35401" y="75813"/>
                    <a:pt x="31110" y="82249"/>
                  </a:cubicBezTo>
                  <a:cubicBezTo>
                    <a:pt x="27355" y="88150"/>
                    <a:pt x="23064" y="92977"/>
                    <a:pt x="18237" y="97805"/>
                  </a:cubicBezTo>
                  <a:cubicBezTo>
                    <a:pt x="17701" y="98341"/>
                    <a:pt x="16628" y="99414"/>
                    <a:pt x="16092" y="99950"/>
                  </a:cubicBezTo>
                  <a:cubicBezTo>
                    <a:pt x="15019" y="100486"/>
                    <a:pt x="13946" y="100486"/>
                    <a:pt x="12873" y="100486"/>
                  </a:cubicBezTo>
                  <a:cubicBezTo>
                    <a:pt x="8582" y="100486"/>
                    <a:pt x="4291" y="100486"/>
                    <a:pt x="0" y="100486"/>
                  </a:cubicBezTo>
                  <a:cubicBezTo>
                    <a:pt x="7509" y="87613"/>
                    <a:pt x="7509" y="72058"/>
                    <a:pt x="6973" y="57039"/>
                  </a:cubicBezTo>
                  <a:cubicBezTo>
                    <a:pt x="6973" y="51676"/>
                    <a:pt x="6973" y="46312"/>
                    <a:pt x="7509" y="41484"/>
                  </a:cubicBezTo>
                  <a:cubicBezTo>
                    <a:pt x="10728" y="24320"/>
                    <a:pt x="25746" y="11447"/>
                    <a:pt x="41301" y="3937"/>
                  </a:cubicBezTo>
                  <a:cubicBezTo>
                    <a:pt x="45056" y="2328"/>
                    <a:pt x="53638" y="-3035"/>
                    <a:pt x="55247" y="2328"/>
                  </a:cubicBezTo>
                  <a:cubicBezTo>
                    <a:pt x="56857" y="7156"/>
                    <a:pt x="52566" y="17347"/>
                    <a:pt x="51493" y="22175"/>
                  </a:cubicBezTo>
                  <a:cubicBezTo>
                    <a:pt x="48275" y="34511"/>
                    <a:pt x="43983" y="47385"/>
                    <a:pt x="40229" y="60258"/>
                  </a:cubicBezTo>
                  <a:close/>
                </a:path>
              </a:pathLst>
            </a:custGeom>
            <a:solidFill>
              <a:srgbClr val="000000"/>
            </a:solidFill>
            <a:ln w="0">
              <a:noFill/>
            </a:ln>
          </p:spPr>
          <p:style>
            <a:lnRef idx="0"/>
            <a:fillRef idx="0"/>
            <a:effectRef idx="0"/>
            <a:fontRef idx="minor"/>
          </p:style>
          <p:txBody>
            <a:bodyPr lIns="90000" rIns="90000" tIns="30960" bIns="30960" anchor="ctr">
              <a:noAutofit/>
            </a:bodyPr>
            <a:p>
              <a:endParaRPr b="0" lang="en-US" sz="1800" spc="-1" strike="noStrike">
                <a:solidFill>
                  <a:srgbClr val="313c3f"/>
                </a:solidFill>
                <a:latin typeface="Source Sans Pro"/>
              </a:endParaRPr>
            </a:p>
          </p:txBody>
        </p:sp>
        <p:sp>
          <p:nvSpPr>
            <p:cNvPr id="2555" name="Freeform: Shape 358"/>
            <p:cNvSpPr/>
            <p:nvPr/>
          </p:nvSpPr>
          <p:spPr>
            <a:xfrm>
              <a:off x="8134200" y="2106360"/>
              <a:ext cx="54720" cy="88200"/>
            </a:xfrm>
            <a:custGeom>
              <a:avLst/>
              <a:gdLst/>
              <a:ahLst/>
              <a:rect l="l" t="t" r="r" b="b"/>
              <a:pathLst>
                <a:path w="70943" h="113949">
                  <a:moveTo>
                    <a:pt x="30178" y="99245"/>
                  </a:moveTo>
                  <a:cubicBezTo>
                    <a:pt x="32860" y="105145"/>
                    <a:pt x="36615" y="112118"/>
                    <a:pt x="43052" y="113727"/>
                  </a:cubicBezTo>
                  <a:cubicBezTo>
                    <a:pt x="45733" y="114264"/>
                    <a:pt x="48952" y="113727"/>
                    <a:pt x="51634" y="113191"/>
                  </a:cubicBezTo>
                  <a:cubicBezTo>
                    <a:pt x="56998" y="112118"/>
                    <a:pt x="62898" y="111045"/>
                    <a:pt x="68262" y="109973"/>
                  </a:cubicBezTo>
                  <a:cubicBezTo>
                    <a:pt x="69334" y="109973"/>
                    <a:pt x="69871" y="109436"/>
                    <a:pt x="70407" y="108900"/>
                  </a:cubicBezTo>
                  <a:cubicBezTo>
                    <a:pt x="70944" y="108363"/>
                    <a:pt x="70944" y="106754"/>
                    <a:pt x="70944" y="106218"/>
                  </a:cubicBezTo>
                  <a:cubicBezTo>
                    <a:pt x="65580" y="75108"/>
                    <a:pt x="53243" y="45607"/>
                    <a:pt x="35006" y="19860"/>
                  </a:cubicBezTo>
                  <a:cubicBezTo>
                    <a:pt x="29106" y="11814"/>
                    <a:pt x="20523" y="550"/>
                    <a:pt x="9259" y="14"/>
                  </a:cubicBezTo>
                  <a:cubicBezTo>
                    <a:pt x="-4687" y="-522"/>
                    <a:pt x="677" y="14496"/>
                    <a:pt x="2823" y="22542"/>
                  </a:cubicBezTo>
                  <a:cubicBezTo>
                    <a:pt x="8723" y="49361"/>
                    <a:pt x="19451" y="74571"/>
                    <a:pt x="30178" y="99245"/>
                  </a:cubicBezTo>
                  <a:close/>
                </a:path>
              </a:pathLst>
            </a:custGeom>
            <a:solidFill>
              <a:srgbClr val="000000"/>
            </a:solidFill>
            <a:ln w="0">
              <a:noFill/>
            </a:ln>
          </p:spPr>
          <p:style>
            <a:lnRef idx="0"/>
            <a:fillRef idx="0"/>
            <a:effectRef idx="0"/>
            <a:fontRef idx="minor"/>
          </p:style>
          <p:txBody>
            <a:bodyPr lIns="90000" rIns="90000" tIns="41400" bIns="41400" anchor="ctr">
              <a:noAutofit/>
            </a:bodyPr>
            <a:p>
              <a:endParaRPr b="0" lang="en-US" sz="1800" spc="-1" strike="noStrike">
                <a:solidFill>
                  <a:srgbClr val="313c3f"/>
                </a:solidFill>
                <a:latin typeface="Source Sans Pro"/>
              </a:endParaRPr>
            </a:p>
          </p:txBody>
        </p:sp>
        <p:sp>
          <p:nvSpPr>
            <p:cNvPr id="2556" name="Freeform: Shape 359"/>
            <p:cNvSpPr/>
            <p:nvPr/>
          </p:nvSpPr>
          <p:spPr>
            <a:xfrm>
              <a:off x="7948800" y="2297160"/>
              <a:ext cx="279720" cy="457200"/>
            </a:xfrm>
            <a:custGeom>
              <a:avLst/>
              <a:gdLst/>
              <a:ahLst/>
              <a:rect l="l" t="t" r="r" b="b"/>
              <a:pathLst>
                <a:path w="360986" h="589141">
                  <a:moveTo>
                    <a:pt x="360986" y="424279"/>
                  </a:moveTo>
                  <a:cubicBezTo>
                    <a:pt x="360986" y="424816"/>
                    <a:pt x="360450" y="425352"/>
                    <a:pt x="360450" y="425888"/>
                  </a:cubicBezTo>
                  <a:cubicBezTo>
                    <a:pt x="359913" y="426961"/>
                    <a:pt x="359913" y="428034"/>
                    <a:pt x="359377" y="429107"/>
                  </a:cubicBezTo>
                  <a:cubicBezTo>
                    <a:pt x="355086" y="441443"/>
                    <a:pt x="351331" y="453780"/>
                    <a:pt x="347577" y="466117"/>
                  </a:cubicBezTo>
                  <a:cubicBezTo>
                    <a:pt x="347040" y="467190"/>
                    <a:pt x="347040" y="468263"/>
                    <a:pt x="346504" y="469335"/>
                  </a:cubicBezTo>
                  <a:cubicBezTo>
                    <a:pt x="342749" y="483818"/>
                    <a:pt x="338994" y="498300"/>
                    <a:pt x="336849" y="512782"/>
                  </a:cubicBezTo>
                  <a:cubicBezTo>
                    <a:pt x="335240" y="524046"/>
                    <a:pt x="333631" y="534774"/>
                    <a:pt x="333094" y="546038"/>
                  </a:cubicBezTo>
                  <a:cubicBezTo>
                    <a:pt x="333094" y="546575"/>
                    <a:pt x="333094" y="547111"/>
                    <a:pt x="333094" y="547647"/>
                  </a:cubicBezTo>
                  <a:cubicBezTo>
                    <a:pt x="332558" y="560521"/>
                    <a:pt x="333094" y="573394"/>
                    <a:pt x="335240" y="586267"/>
                  </a:cubicBezTo>
                  <a:cubicBezTo>
                    <a:pt x="334703" y="586267"/>
                    <a:pt x="333631" y="586267"/>
                    <a:pt x="333094" y="586267"/>
                  </a:cubicBezTo>
                  <a:cubicBezTo>
                    <a:pt x="332558" y="586267"/>
                    <a:pt x="332021" y="586267"/>
                    <a:pt x="331485" y="586267"/>
                  </a:cubicBezTo>
                  <a:cubicBezTo>
                    <a:pt x="314321" y="586267"/>
                    <a:pt x="290183" y="590022"/>
                    <a:pt x="273556" y="588949"/>
                  </a:cubicBezTo>
                  <a:cubicBezTo>
                    <a:pt x="261755" y="588412"/>
                    <a:pt x="249418" y="587876"/>
                    <a:pt x="237618" y="586803"/>
                  </a:cubicBezTo>
                  <a:cubicBezTo>
                    <a:pt x="230108" y="586267"/>
                    <a:pt x="223136" y="585731"/>
                    <a:pt x="215626" y="585194"/>
                  </a:cubicBezTo>
                  <a:cubicBezTo>
                    <a:pt x="202217" y="584121"/>
                    <a:pt x="189343" y="583049"/>
                    <a:pt x="175934" y="581976"/>
                  </a:cubicBezTo>
                  <a:cubicBezTo>
                    <a:pt x="158770" y="580903"/>
                    <a:pt x="141069" y="579294"/>
                    <a:pt x="123905" y="577685"/>
                  </a:cubicBezTo>
                  <a:cubicBezTo>
                    <a:pt x="123905" y="577685"/>
                    <a:pt x="123368" y="577685"/>
                    <a:pt x="123368" y="577685"/>
                  </a:cubicBezTo>
                  <a:cubicBezTo>
                    <a:pt x="123368" y="577685"/>
                    <a:pt x="122832" y="577685"/>
                    <a:pt x="122832" y="577685"/>
                  </a:cubicBezTo>
                  <a:cubicBezTo>
                    <a:pt x="105668" y="576076"/>
                    <a:pt x="88503" y="575003"/>
                    <a:pt x="71339" y="573394"/>
                  </a:cubicBezTo>
                  <a:cubicBezTo>
                    <a:pt x="68657" y="573394"/>
                    <a:pt x="65975" y="572857"/>
                    <a:pt x="63293" y="572857"/>
                  </a:cubicBezTo>
                  <a:cubicBezTo>
                    <a:pt x="53102" y="571785"/>
                    <a:pt x="42374" y="571248"/>
                    <a:pt x="33256" y="566421"/>
                  </a:cubicBezTo>
                  <a:cubicBezTo>
                    <a:pt x="28965" y="564275"/>
                    <a:pt x="25210" y="561593"/>
                    <a:pt x="21455" y="558375"/>
                  </a:cubicBezTo>
                  <a:cubicBezTo>
                    <a:pt x="14482" y="551402"/>
                    <a:pt x="9119" y="542820"/>
                    <a:pt x="5900" y="533165"/>
                  </a:cubicBezTo>
                  <a:cubicBezTo>
                    <a:pt x="1073" y="519219"/>
                    <a:pt x="0" y="504200"/>
                    <a:pt x="0" y="489718"/>
                  </a:cubicBezTo>
                  <a:cubicBezTo>
                    <a:pt x="0" y="453780"/>
                    <a:pt x="3755" y="417843"/>
                    <a:pt x="8582" y="381905"/>
                  </a:cubicBezTo>
                  <a:cubicBezTo>
                    <a:pt x="12873" y="347040"/>
                    <a:pt x="18237" y="311639"/>
                    <a:pt x="20919" y="276774"/>
                  </a:cubicBezTo>
                  <a:cubicBezTo>
                    <a:pt x="23601" y="234936"/>
                    <a:pt x="23065" y="192562"/>
                    <a:pt x="29501" y="150724"/>
                  </a:cubicBezTo>
                  <a:cubicBezTo>
                    <a:pt x="33256" y="127659"/>
                    <a:pt x="21992" y="40229"/>
                    <a:pt x="75094" y="9655"/>
                  </a:cubicBezTo>
                  <a:cubicBezTo>
                    <a:pt x="80458" y="6437"/>
                    <a:pt x="86358" y="3755"/>
                    <a:pt x="93331" y="2146"/>
                  </a:cubicBezTo>
                  <a:cubicBezTo>
                    <a:pt x="96549" y="1073"/>
                    <a:pt x="99767" y="536"/>
                    <a:pt x="103522" y="0"/>
                  </a:cubicBezTo>
                  <a:cubicBezTo>
                    <a:pt x="132487" y="77239"/>
                    <a:pt x="133023" y="160379"/>
                    <a:pt x="131414" y="244054"/>
                  </a:cubicBezTo>
                  <a:cubicBezTo>
                    <a:pt x="130878" y="268192"/>
                    <a:pt x="130341" y="291792"/>
                    <a:pt x="130341" y="315930"/>
                  </a:cubicBezTo>
                  <a:cubicBezTo>
                    <a:pt x="130341" y="357231"/>
                    <a:pt x="131414" y="398533"/>
                    <a:pt x="136778" y="438761"/>
                  </a:cubicBezTo>
                  <a:cubicBezTo>
                    <a:pt x="136778" y="438761"/>
                    <a:pt x="136778" y="438761"/>
                    <a:pt x="136778" y="438761"/>
                  </a:cubicBezTo>
                  <a:cubicBezTo>
                    <a:pt x="139996" y="438225"/>
                    <a:pt x="174861" y="433398"/>
                    <a:pt x="174861" y="433398"/>
                  </a:cubicBezTo>
                  <a:cubicBezTo>
                    <a:pt x="175934" y="432861"/>
                    <a:pt x="177543" y="432861"/>
                    <a:pt x="179152" y="432325"/>
                  </a:cubicBezTo>
                  <a:cubicBezTo>
                    <a:pt x="179152" y="432325"/>
                    <a:pt x="179152" y="432325"/>
                    <a:pt x="179688" y="432325"/>
                  </a:cubicBezTo>
                  <a:cubicBezTo>
                    <a:pt x="184516" y="431252"/>
                    <a:pt x="189343" y="430179"/>
                    <a:pt x="194171" y="429643"/>
                  </a:cubicBezTo>
                  <a:cubicBezTo>
                    <a:pt x="221526" y="425888"/>
                    <a:pt x="247273" y="427497"/>
                    <a:pt x="276237" y="428034"/>
                  </a:cubicBezTo>
                  <a:cubicBezTo>
                    <a:pt x="287502" y="428570"/>
                    <a:pt x="299302" y="428570"/>
                    <a:pt x="310566" y="428570"/>
                  </a:cubicBezTo>
                  <a:cubicBezTo>
                    <a:pt x="325048" y="428034"/>
                    <a:pt x="347577" y="423743"/>
                    <a:pt x="360986" y="42427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57" name="Freeform: Shape 360"/>
            <p:cNvSpPr/>
            <p:nvPr/>
          </p:nvSpPr>
          <p:spPr>
            <a:xfrm>
              <a:off x="7989840" y="2350440"/>
              <a:ext cx="410400" cy="440280"/>
            </a:xfrm>
            <a:custGeom>
              <a:avLst/>
              <a:gdLst/>
              <a:ahLst/>
              <a:rect l="l" t="t" r="r" b="b"/>
              <a:pathLst>
                <a:path w="529410" h="567493">
                  <a:moveTo>
                    <a:pt x="525119" y="473626"/>
                  </a:moveTo>
                  <a:cubicBezTo>
                    <a:pt x="482209" y="495618"/>
                    <a:pt x="438225" y="520292"/>
                    <a:pt x="394778" y="539602"/>
                  </a:cubicBezTo>
                  <a:cubicBezTo>
                    <a:pt x="395315" y="540674"/>
                    <a:pt x="395851" y="541747"/>
                    <a:pt x="396387" y="542283"/>
                  </a:cubicBezTo>
                  <a:cubicBezTo>
                    <a:pt x="397460" y="543893"/>
                    <a:pt x="398533" y="546038"/>
                    <a:pt x="399606" y="547647"/>
                  </a:cubicBezTo>
                  <a:lnTo>
                    <a:pt x="345967" y="567493"/>
                  </a:lnTo>
                  <a:cubicBezTo>
                    <a:pt x="340603" y="567493"/>
                    <a:pt x="334703" y="566957"/>
                    <a:pt x="329340" y="566957"/>
                  </a:cubicBezTo>
                  <a:cubicBezTo>
                    <a:pt x="318612" y="566421"/>
                    <a:pt x="307884" y="565884"/>
                    <a:pt x="297693" y="564812"/>
                  </a:cubicBezTo>
                  <a:cubicBezTo>
                    <a:pt x="292865" y="564275"/>
                    <a:pt x="287502" y="563739"/>
                    <a:pt x="282674" y="561593"/>
                  </a:cubicBezTo>
                  <a:cubicBezTo>
                    <a:pt x="277310" y="559448"/>
                    <a:pt x="273556" y="555157"/>
                    <a:pt x="269265" y="551402"/>
                  </a:cubicBezTo>
                  <a:cubicBezTo>
                    <a:pt x="263364" y="546038"/>
                    <a:pt x="256391" y="541747"/>
                    <a:pt x="249418" y="538529"/>
                  </a:cubicBezTo>
                  <a:cubicBezTo>
                    <a:pt x="241373" y="534774"/>
                    <a:pt x="232791" y="532092"/>
                    <a:pt x="226354" y="525656"/>
                  </a:cubicBezTo>
                  <a:cubicBezTo>
                    <a:pt x="224208" y="523510"/>
                    <a:pt x="222599" y="521365"/>
                    <a:pt x="220990" y="518683"/>
                  </a:cubicBezTo>
                  <a:cubicBezTo>
                    <a:pt x="238691" y="519219"/>
                    <a:pt x="264974" y="515464"/>
                    <a:pt x="282674" y="516001"/>
                  </a:cubicBezTo>
                  <a:cubicBezTo>
                    <a:pt x="280529" y="502591"/>
                    <a:pt x="279992" y="489182"/>
                    <a:pt x="280529" y="476308"/>
                  </a:cubicBezTo>
                  <a:cubicBezTo>
                    <a:pt x="281601" y="450562"/>
                    <a:pt x="286965" y="424816"/>
                    <a:pt x="293938" y="400142"/>
                  </a:cubicBezTo>
                  <a:cubicBezTo>
                    <a:pt x="293938" y="400142"/>
                    <a:pt x="293938" y="400142"/>
                    <a:pt x="293938" y="399605"/>
                  </a:cubicBezTo>
                  <a:cubicBezTo>
                    <a:pt x="294475" y="397996"/>
                    <a:pt x="295011" y="396387"/>
                    <a:pt x="295547" y="394778"/>
                  </a:cubicBezTo>
                  <a:cubicBezTo>
                    <a:pt x="295547" y="394778"/>
                    <a:pt x="295547" y="394242"/>
                    <a:pt x="295547" y="394242"/>
                  </a:cubicBezTo>
                  <a:cubicBezTo>
                    <a:pt x="295547" y="393169"/>
                    <a:pt x="296084" y="392633"/>
                    <a:pt x="296084" y="391560"/>
                  </a:cubicBezTo>
                  <a:cubicBezTo>
                    <a:pt x="296084" y="391560"/>
                    <a:pt x="296084" y="391023"/>
                    <a:pt x="296084" y="391023"/>
                  </a:cubicBezTo>
                  <a:cubicBezTo>
                    <a:pt x="296620" y="388878"/>
                    <a:pt x="297157" y="387269"/>
                    <a:pt x="297693" y="385123"/>
                  </a:cubicBezTo>
                  <a:cubicBezTo>
                    <a:pt x="300375" y="376541"/>
                    <a:pt x="303057" y="368495"/>
                    <a:pt x="305739" y="359913"/>
                  </a:cubicBezTo>
                  <a:cubicBezTo>
                    <a:pt x="306275" y="358304"/>
                    <a:pt x="306811" y="357231"/>
                    <a:pt x="307348" y="355622"/>
                  </a:cubicBezTo>
                  <a:cubicBezTo>
                    <a:pt x="293938" y="355622"/>
                    <a:pt x="271410" y="359913"/>
                    <a:pt x="257464" y="359377"/>
                  </a:cubicBezTo>
                  <a:cubicBezTo>
                    <a:pt x="246200" y="359377"/>
                    <a:pt x="234400" y="358840"/>
                    <a:pt x="223136" y="358840"/>
                  </a:cubicBezTo>
                  <a:cubicBezTo>
                    <a:pt x="217772" y="358840"/>
                    <a:pt x="212944" y="358304"/>
                    <a:pt x="207580" y="358304"/>
                  </a:cubicBezTo>
                  <a:cubicBezTo>
                    <a:pt x="205435" y="358304"/>
                    <a:pt x="203289" y="358304"/>
                    <a:pt x="201144" y="358304"/>
                  </a:cubicBezTo>
                  <a:cubicBezTo>
                    <a:pt x="197926" y="358304"/>
                    <a:pt x="195244" y="358304"/>
                    <a:pt x="192025" y="358304"/>
                  </a:cubicBezTo>
                  <a:cubicBezTo>
                    <a:pt x="186662" y="358304"/>
                    <a:pt x="181834" y="358304"/>
                    <a:pt x="176470" y="358304"/>
                  </a:cubicBezTo>
                  <a:cubicBezTo>
                    <a:pt x="174325" y="358304"/>
                    <a:pt x="172716" y="358304"/>
                    <a:pt x="170570" y="358304"/>
                  </a:cubicBezTo>
                  <a:cubicBezTo>
                    <a:pt x="168425" y="358304"/>
                    <a:pt x="165743" y="358304"/>
                    <a:pt x="163597" y="358304"/>
                  </a:cubicBezTo>
                  <a:cubicBezTo>
                    <a:pt x="162524" y="358304"/>
                    <a:pt x="160915" y="358304"/>
                    <a:pt x="159842" y="358304"/>
                  </a:cubicBezTo>
                  <a:cubicBezTo>
                    <a:pt x="158770" y="358304"/>
                    <a:pt x="157697" y="358304"/>
                    <a:pt x="157160" y="358304"/>
                  </a:cubicBezTo>
                  <a:cubicBezTo>
                    <a:pt x="156624" y="358304"/>
                    <a:pt x="155551" y="358304"/>
                    <a:pt x="155015" y="358304"/>
                  </a:cubicBezTo>
                  <a:cubicBezTo>
                    <a:pt x="153942" y="358304"/>
                    <a:pt x="152869" y="358304"/>
                    <a:pt x="151797" y="358304"/>
                  </a:cubicBezTo>
                  <a:cubicBezTo>
                    <a:pt x="150724" y="358304"/>
                    <a:pt x="149115" y="358304"/>
                    <a:pt x="148042" y="358840"/>
                  </a:cubicBezTo>
                  <a:cubicBezTo>
                    <a:pt x="146969" y="358840"/>
                    <a:pt x="145360" y="358840"/>
                    <a:pt x="144287" y="359377"/>
                  </a:cubicBezTo>
                  <a:cubicBezTo>
                    <a:pt x="143214" y="359377"/>
                    <a:pt x="141605" y="359913"/>
                    <a:pt x="140533" y="359913"/>
                  </a:cubicBezTo>
                  <a:cubicBezTo>
                    <a:pt x="139460" y="359913"/>
                    <a:pt x="137851" y="360450"/>
                    <a:pt x="136778" y="360450"/>
                  </a:cubicBezTo>
                  <a:cubicBezTo>
                    <a:pt x="133023" y="360986"/>
                    <a:pt x="129268" y="361522"/>
                    <a:pt x="125514" y="362595"/>
                  </a:cubicBezTo>
                  <a:cubicBezTo>
                    <a:pt x="124441" y="363131"/>
                    <a:pt x="122832" y="363131"/>
                    <a:pt x="121223" y="363668"/>
                  </a:cubicBezTo>
                  <a:cubicBezTo>
                    <a:pt x="121223" y="363668"/>
                    <a:pt x="119614" y="363668"/>
                    <a:pt x="116932" y="364204"/>
                  </a:cubicBezTo>
                  <a:cubicBezTo>
                    <a:pt x="116395" y="364204"/>
                    <a:pt x="116395" y="364204"/>
                    <a:pt x="115859" y="364204"/>
                  </a:cubicBezTo>
                  <a:cubicBezTo>
                    <a:pt x="113177" y="364741"/>
                    <a:pt x="110495" y="365277"/>
                    <a:pt x="106740" y="365277"/>
                  </a:cubicBezTo>
                  <a:cubicBezTo>
                    <a:pt x="106204" y="365277"/>
                    <a:pt x="105668" y="365277"/>
                    <a:pt x="105131" y="365277"/>
                  </a:cubicBezTo>
                  <a:cubicBezTo>
                    <a:pt x="104059" y="365277"/>
                    <a:pt x="102449" y="365813"/>
                    <a:pt x="101377" y="365813"/>
                  </a:cubicBezTo>
                  <a:cubicBezTo>
                    <a:pt x="100304" y="365813"/>
                    <a:pt x="99231" y="366350"/>
                    <a:pt x="98695" y="366350"/>
                  </a:cubicBezTo>
                  <a:cubicBezTo>
                    <a:pt x="98695" y="366350"/>
                    <a:pt x="98695" y="366350"/>
                    <a:pt x="98695" y="366350"/>
                  </a:cubicBezTo>
                  <a:cubicBezTo>
                    <a:pt x="97085" y="366350"/>
                    <a:pt x="94940" y="366886"/>
                    <a:pt x="93331" y="366886"/>
                  </a:cubicBezTo>
                  <a:cubicBezTo>
                    <a:pt x="92258" y="366886"/>
                    <a:pt x="91722" y="366886"/>
                    <a:pt x="90649" y="367422"/>
                  </a:cubicBezTo>
                  <a:cubicBezTo>
                    <a:pt x="90113" y="367422"/>
                    <a:pt x="89576" y="367422"/>
                    <a:pt x="89576" y="367422"/>
                  </a:cubicBezTo>
                  <a:cubicBezTo>
                    <a:pt x="87967" y="367422"/>
                    <a:pt x="86894" y="367959"/>
                    <a:pt x="85821" y="367959"/>
                  </a:cubicBezTo>
                  <a:lnTo>
                    <a:pt x="82067" y="357768"/>
                  </a:lnTo>
                  <a:lnTo>
                    <a:pt x="46665" y="261755"/>
                  </a:lnTo>
                  <a:lnTo>
                    <a:pt x="37547" y="237618"/>
                  </a:lnTo>
                  <a:lnTo>
                    <a:pt x="0" y="136778"/>
                  </a:lnTo>
                  <a:lnTo>
                    <a:pt x="48811" y="118541"/>
                  </a:lnTo>
                  <a:lnTo>
                    <a:pt x="53102" y="116932"/>
                  </a:lnTo>
                  <a:lnTo>
                    <a:pt x="77776" y="107813"/>
                  </a:lnTo>
                  <a:lnTo>
                    <a:pt x="192025" y="65439"/>
                  </a:lnTo>
                  <a:lnTo>
                    <a:pt x="261219" y="39692"/>
                  </a:lnTo>
                  <a:lnTo>
                    <a:pt x="280529" y="32719"/>
                  </a:lnTo>
                  <a:lnTo>
                    <a:pt x="307884" y="22528"/>
                  </a:lnTo>
                  <a:lnTo>
                    <a:pt x="317539" y="18773"/>
                  </a:lnTo>
                  <a:lnTo>
                    <a:pt x="341676" y="9655"/>
                  </a:lnTo>
                  <a:lnTo>
                    <a:pt x="356159" y="4291"/>
                  </a:lnTo>
                  <a:lnTo>
                    <a:pt x="367959" y="0"/>
                  </a:lnTo>
                  <a:lnTo>
                    <a:pt x="392633" y="65975"/>
                  </a:lnTo>
                  <a:lnTo>
                    <a:pt x="394778" y="71339"/>
                  </a:lnTo>
                  <a:lnTo>
                    <a:pt x="432325" y="172179"/>
                  </a:lnTo>
                  <a:lnTo>
                    <a:pt x="526729" y="425888"/>
                  </a:lnTo>
                  <a:cubicBezTo>
                    <a:pt x="527265" y="439298"/>
                    <a:pt x="528338" y="453780"/>
                    <a:pt x="529410" y="469335"/>
                  </a:cubicBezTo>
                  <a:cubicBezTo>
                    <a:pt x="528874" y="472017"/>
                    <a:pt x="526729" y="473090"/>
                    <a:pt x="525119" y="473626"/>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58" name="Freeform: Shape 361"/>
            <p:cNvSpPr/>
            <p:nvPr/>
          </p:nvSpPr>
          <p:spPr>
            <a:xfrm>
              <a:off x="8063640" y="2635920"/>
              <a:ext cx="3960" cy="360"/>
            </a:xfrm>
            <a:custGeom>
              <a:avLst/>
              <a:gdLst/>
              <a:ahLst/>
              <a:rect l="l" t="t" r="r" b="b"/>
              <a:pathLst>
                <a:path w="5363" h="536">
                  <a:moveTo>
                    <a:pt x="0" y="536"/>
                  </a:moveTo>
                  <a:cubicBezTo>
                    <a:pt x="1609" y="536"/>
                    <a:pt x="3218" y="0"/>
                    <a:pt x="5364" y="0"/>
                  </a:cubicBezTo>
                  <a:cubicBezTo>
                    <a:pt x="3755" y="0"/>
                    <a:pt x="1609" y="0"/>
                    <a:pt x="0" y="536"/>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2559" name="Freeform: Shape 362"/>
            <p:cNvSpPr/>
            <p:nvPr/>
          </p:nvSpPr>
          <p:spPr>
            <a:xfrm>
              <a:off x="8151840" y="2628720"/>
              <a:ext cx="11880" cy="360"/>
            </a:xfrm>
            <a:custGeom>
              <a:avLst/>
              <a:gdLst/>
              <a:ahLst/>
              <a:rect l="l" t="t" r="r" b="b"/>
              <a:pathLst>
                <a:path w="15555" h="536">
                  <a:moveTo>
                    <a:pt x="0" y="0"/>
                  </a:moveTo>
                  <a:cubicBezTo>
                    <a:pt x="4827" y="0"/>
                    <a:pt x="10191" y="536"/>
                    <a:pt x="15555" y="536"/>
                  </a:cubicBezTo>
                  <a:cubicBezTo>
                    <a:pt x="10191" y="0"/>
                    <a:pt x="5364"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2560" name="Freeform: Shape 363"/>
            <p:cNvSpPr/>
            <p:nvPr/>
          </p:nvSpPr>
          <p:spPr>
            <a:xfrm>
              <a:off x="8104680" y="2203560"/>
              <a:ext cx="132480" cy="178560"/>
            </a:xfrm>
            <a:custGeom>
              <a:avLst/>
              <a:gdLst/>
              <a:ahLst/>
              <a:rect l="l" t="t" r="r" b="b"/>
              <a:pathLst>
                <a:path w="171106" h="230108">
                  <a:moveTo>
                    <a:pt x="171106" y="209189"/>
                  </a:moveTo>
                  <a:lnTo>
                    <a:pt x="161451" y="212944"/>
                  </a:lnTo>
                  <a:lnTo>
                    <a:pt x="134096" y="223135"/>
                  </a:lnTo>
                  <a:lnTo>
                    <a:pt x="114786" y="230108"/>
                  </a:lnTo>
                  <a:cubicBezTo>
                    <a:pt x="112104" y="216699"/>
                    <a:pt x="109422" y="202753"/>
                    <a:pt x="106740" y="189343"/>
                  </a:cubicBezTo>
                  <a:cubicBezTo>
                    <a:pt x="105131" y="180225"/>
                    <a:pt x="84749" y="136778"/>
                    <a:pt x="84749" y="120686"/>
                  </a:cubicBezTo>
                  <a:cubicBezTo>
                    <a:pt x="78848" y="123368"/>
                    <a:pt x="73485" y="127659"/>
                    <a:pt x="68657" y="131950"/>
                  </a:cubicBezTo>
                  <a:cubicBezTo>
                    <a:pt x="54175" y="143751"/>
                    <a:pt x="40229" y="156088"/>
                    <a:pt x="25746" y="167888"/>
                  </a:cubicBezTo>
                  <a:cubicBezTo>
                    <a:pt x="9119" y="182370"/>
                    <a:pt x="16628" y="174325"/>
                    <a:pt x="0" y="188807"/>
                  </a:cubicBezTo>
                  <a:cubicBezTo>
                    <a:pt x="23601" y="131414"/>
                    <a:pt x="56320" y="29501"/>
                    <a:pt x="70803" y="18773"/>
                  </a:cubicBezTo>
                  <a:cubicBezTo>
                    <a:pt x="79385" y="11800"/>
                    <a:pt x="89576" y="6437"/>
                    <a:pt x="100304" y="3218"/>
                  </a:cubicBezTo>
                  <a:cubicBezTo>
                    <a:pt x="106740" y="1073"/>
                    <a:pt x="113713" y="0"/>
                    <a:pt x="120686" y="0"/>
                  </a:cubicBezTo>
                  <a:cubicBezTo>
                    <a:pt x="118541" y="23064"/>
                    <a:pt x="123905" y="45593"/>
                    <a:pt x="130341" y="67584"/>
                  </a:cubicBezTo>
                  <a:cubicBezTo>
                    <a:pt x="136778" y="89576"/>
                    <a:pt x="145896" y="111568"/>
                    <a:pt x="152333" y="133559"/>
                  </a:cubicBezTo>
                  <a:cubicBezTo>
                    <a:pt x="156624" y="147505"/>
                    <a:pt x="159842" y="161451"/>
                    <a:pt x="163061" y="175934"/>
                  </a:cubicBezTo>
                  <a:cubicBezTo>
                    <a:pt x="165742" y="187198"/>
                    <a:pt x="168424" y="197925"/>
                    <a:pt x="171106" y="20918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1" name="Freeform: Shape 364"/>
            <p:cNvSpPr/>
            <p:nvPr/>
          </p:nvSpPr>
          <p:spPr>
            <a:xfrm>
              <a:off x="8256240" y="2207520"/>
              <a:ext cx="114120" cy="194760"/>
            </a:xfrm>
            <a:custGeom>
              <a:avLst/>
              <a:gdLst/>
              <a:ahLst/>
              <a:rect l="l" t="t" r="r" b="b"/>
              <a:pathLst>
                <a:path w="147505" h="251237">
                  <a:moveTo>
                    <a:pt x="74021" y="117142"/>
                  </a:moveTo>
                  <a:cubicBezTo>
                    <a:pt x="76703" y="125188"/>
                    <a:pt x="56320" y="197599"/>
                    <a:pt x="56320" y="197599"/>
                  </a:cubicBezTo>
                  <a:cubicBezTo>
                    <a:pt x="56320" y="199745"/>
                    <a:pt x="55784" y="202427"/>
                    <a:pt x="55784" y="204572"/>
                  </a:cubicBezTo>
                  <a:cubicBezTo>
                    <a:pt x="54175" y="220128"/>
                    <a:pt x="52566" y="235683"/>
                    <a:pt x="50956" y="251238"/>
                  </a:cubicBezTo>
                  <a:lnTo>
                    <a:pt x="26283" y="185263"/>
                  </a:lnTo>
                  <a:lnTo>
                    <a:pt x="14482" y="189554"/>
                  </a:lnTo>
                  <a:lnTo>
                    <a:pt x="0" y="194918"/>
                  </a:lnTo>
                  <a:cubicBezTo>
                    <a:pt x="9655" y="130552"/>
                    <a:pt x="13410" y="66186"/>
                    <a:pt x="9655" y="1283"/>
                  </a:cubicBezTo>
                  <a:cubicBezTo>
                    <a:pt x="12873" y="210"/>
                    <a:pt x="16092" y="-326"/>
                    <a:pt x="19846" y="210"/>
                  </a:cubicBezTo>
                  <a:cubicBezTo>
                    <a:pt x="25210" y="747"/>
                    <a:pt x="30574" y="2356"/>
                    <a:pt x="34865" y="5038"/>
                  </a:cubicBezTo>
                  <a:cubicBezTo>
                    <a:pt x="42374" y="9329"/>
                    <a:pt x="48275" y="15766"/>
                    <a:pt x="54175" y="22202"/>
                  </a:cubicBezTo>
                  <a:cubicBezTo>
                    <a:pt x="96549" y="68331"/>
                    <a:pt x="106740" y="102123"/>
                    <a:pt x="147505" y="149861"/>
                  </a:cubicBezTo>
                  <a:cubicBezTo>
                    <a:pt x="131414" y="142888"/>
                    <a:pt x="92258" y="125188"/>
                    <a:pt x="74021" y="11714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2" name="Freeform: Shape 365"/>
            <p:cNvSpPr/>
            <p:nvPr/>
          </p:nvSpPr>
          <p:spPr>
            <a:xfrm>
              <a:off x="8166600" y="2158920"/>
              <a:ext cx="123840" cy="209880"/>
            </a:xfrm>
            <a:custGeom>
              <a:avLst/>
              <a:gdLst/>
              <a:ahLst/>
              <a:rect l="l" t="t" r="r" b="b"/>
              <a:pathLst>
                <a:path w="159959" h="270337">
                  <a:moveTo>
                    <a:pt x="159374" y="130878"/>
                  </a:moveTo>
                  <a:cubicBezTo>
                    <a:pt x="157229" y="136778"/>
                    <a:pt x="155620" y="142678"/>
                    <a:pt x="154011" y="148578"/>
                  </a:cubicBezTo>
                  <a:cubicBezTo>
                    <a:pt x="152938" y="151796"/>
                    <a:pt x="152402" y="155015"/>
                    <a:pt x="151329" y="158233"/>
                  </a:cubicBezTo>
                  <a:cubicBezTo>
                    <a:pt x="146501" y="175934"/>
                    <a:pt x="142747" y="193098"/>
                    <a:pt x="138992" y="210262"/>
                  </a:cubicBezTo>
                  <a:cubicBezTo>
                    <a:pt x="136310" y="223672"/>
                    <a:pt x="133092" y="237618"/>
                    <a:pt x="130410" y="252100"/>
                  </a:cubicBezTo>
                  <a:lnTo>
                    <a:pt x="115927" y="257464"/>
                  </a:lnTo>
                  <a:lnTo>
                    <a:pt x="91790" y="266582"/>
                  </a:lnTo>
                  <a:lnTo>
                    <a:pt x="82135" y="270337"/>
                  </a:lnTo>
                  <a:cubicBezTo>
                    <a:pt x="75699" y="252636"/>
                    <a:pt x="63898" y="229572"/>
                    <a:pt x="49952" y="207580"/>
                  </a:cubicBezTo>
                  <a:cubicBezTo>
                    <a:pt x="37079" y="187198"/>
                    <a:pt x="23133" y="168424"/>
                    <a:pt x="10796" y="157160"/>
                  </a:cubicBezTo>
                  <a:cubicBezTo>
                    <a:pt x="10796" y="157160"/>
                    <a:pt x="10796" y="157160"/>
                    <a:pt x="10796" y="157160"/>
                  </a:cubicBezTo>
                  <a:cubicBezTo>
                    <a:pt x="8651" y="155551"/>
                    <a:pt x="7042" y="153942"/>
                    <a:pt x="4896" y="152333"/>
                  </a:cubicBezTo>
                  <a:cubicBezTo>
                    <a:pt x="3823" y="151796"/>
                    <a:pt x="3287" y="150724"/>
                    <a:pt x="2750" y="150187"/>
                  </a:cubicBezTo>
                  <a:cubicBezTo>
                    <a:pt x="69" y="146969"/>
                    <a:pt x="-1004" y="142142"/>
                    <a:pt x="1141" y="137850"/>
                  </a:cubicBezTo>
                  <a:cubicBezTo>
                    <a:pt x="4360" y="130341"/>
                    <a:pt x="8114" y="115322"/>
                    <a:pt x="11869" y="97085"/>
                  </a:cubicBezTo>
                  <a:cubicBezTo>
                    <a:pt x="18306" y="65975"/>
                    <a:pt x="22060" y="26283"/>
                    <a:pt x="14551" y="6973"/>
                  </a:cubicBezTo>
                  <a:cubicBezTo>
                    <a:pt x="29033" y="17701"/>
                    <a:pt x="47807" y="23601"/>
                    <a:pt x="64971" y="27892"/>
                  </a:cubicBezTo>
                  <a:cubicBezTo>
                    <a:pt x="82672" y="32183"/>
                    <a:pt x="101445" y="31647"/>
                    <a:pt x="117537" y="24137"/>
                  </a:cubicBezTo>
                  <a:cubicBezTo>
                    <a:pt x="135774" y="15555"/>
                    <a:pt x="139528" y="17164"/>
                    <a:pt x="150792" y="0"/>
                  </a:cubicBezTo>
                  <a:cubicBezTo>
                    <a:pt x="149183" y="5900"/>
                    <a:pt x="148647" y="15019"/>
                    <a:pt x="148110" y="25210"/>
                  </a:cubicBezTo>
                  <a:cubicBezTo>
                    <a:pt x="147038" y="58466"/>
                    <a:pt x="151329" y="106204"/>
                    <a:pt x="158838" y="119077"/>
                  </a:cubicBezTo>
                  <a:cubicBezTo>
                    <a:pt x="159911" y="122295"/>
                    <a:pt x="160447" y="126586"/>
                    <a:pt x="159374" y="13087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3" name="Freeform: Shape 366"/>
            <p:cNvSpPr/>
            <p:nvPr/>
          </p:nvSpPr>
          <p:spPr>
            <a:xfrm>
              <a:off x="8296920" y="2305800"/>
              <a:ext cx="233280" cy="565920"/>
            </a:xfrm>
            <a:custGeom>
              <a:avLst/>
              <a:gdLst/>
              <a:ahLst/>
              <a:rect l="l" t="t" r="r" b="b"/>
              <a:pathLst>
                <a:path w="300911" h="728944">
                  <a:moveTo>
                    <a:pt x="261219" y="615768"/>
                  </a:moveTo>
                  <a:cubicBezTo>
                    <a:pt x="251564" y="622741"/>
                    <a:pt x="209726" y="651169"/>
                    <a:pt x="163061" y="682279"/>
                  </a:cubicBezTo>
                  <a:cubicBezTo>
                    <a:pt x="149115" y="691398"/>
                    <a:pt x="135169" y="701053"/>
                    <a:pt x="121223" y="710171"/>
                  </a:cubicBezTo>
                  <a:cubicBezTo>
                    <a:pt x="94940" y="718217"/>
                    <a:pt x="68121" y="724654"/>
                    <a:pt x="40765" y="728945"/>
                  </a:cubicBezTo>
                  <a:cubicBezTo>
                    <a:pt x="40765" y="722508"/>
                    <a:pt x="40229" y="715535"/>
                    <a:pt x="39156" y="709099"/>
                  </a:cubicBezTo>
                  <a:cubicBezTo>
                    <a:pt x="38083" y="701589"/>
                    <a:pt x="37010" y="694616"/>
                    <a:pt x="35938" y="687643"/>
                  </a:cubicBezTo>
                  <a:cubicBezTo>
                    <a:pt x="33256" y="674770"/>
                    <a:pt x="29501" y="661897"/>
                    <a:pt x="25210" y="649560"/>
                  </a:cubicBezTo>
                  <a:cubicBezTo>
                    <a:pt x="24674" y="647415"/>
                    <a:pt x="23601" y="645269"/>
                    <a:pt x="23064" y="643124"/>
                  </a:cubicBezTo>
                  <a:cubicBezTo>
                    <a:pt x="21992" y="640978"/>
                    <a:pt x="20919" y="638296"/>
                    <a:pt x="20383" y="636151"/>
                  </a:cubicBezTo>
                  <a:cubicBezTo>
                    <a:pt x="19846" y="634541"/>
                    <a:pt x="19310" y="632932"/>
                    <a:pt x="18237" y="631859"/>
                  </a:cubicBezTo>
                  <a:cubicBezTo>
                    <a:pt x="17164" y="628641"/>
                    <a:pt x="15555" y="625959"/>
                    <a:pt x="13946" y="623277"/>
                  </a:cubicBezTo>
                  <a:cubicBezTo>
                    <a:pt x="13410" y="622205"/>
                    <a:pt x="12873" y="620595"/>
                    <a:pt x="12337" y="619523"/>
                  </a:cubicBezTo>
                  <a:cubicBezTo>
                    <a:pt x="10191" y="614695"/>
                    <a:pt x="7509" y="610404"/>
                    <a:pt x="4827" y="606113"/>
                  </a:cubicBezTo>
                  <a:cubicBezTo>
                    <a:pt x="4827" y="606113"/>
                    <a:pt x="4827" y="606113"/>
                    <a:pt x="4827" y="606113"/>
                  </a:cubicBezTo>
                  <a:cubicBezTo>
                    <a:pt x="3755" y="604504"/>
                    <a:pt x="2682" y="602358"/>
                    <a:pt x="1609" y="600749"/>
                  </a:cubicBezTo>
                  <a:cubicBezTo>
                    <a:pt x="1073" y="599676"/>
                    <a:pt x="536" y="598604"/>
                    <a:pt x="0" y="598067"/>
                  </a:cubicBezTo>
                  <a:cubicBezTo>
                    <a:pt x="43447" y="578758"/>
                    <a:pt x="87430" y="554084"/>
                    <a:pt x="130341" y="532092"/>
                  </a:cubicBezTo>
                  <a:cubicBezTo>
                    <a:pt x="131950" y="531019"/>
                    <a:pt x="133559" y="530483"/>
                    <a:pt x="135705" y="529410"/>
                  </a:cubicBezTo>
                  <a:cubicBezTo>
                    <a:pt x="135705" y="528337"/>
                    <a:pt x="135705" y="527265"/>
                    <a:pt x="135705" y="526192"/>
                  </a:cubicBezTo>
                  <a:cubicBezTo>
                    <a:pt x="135705" y="523510"/>
                    <a:pt x="135169" y="520292"/>
                    <a:pt x="135169" y="517610"/>
                  </a:cubicBezTo>
                  <a:cubicBezTo>
                    <a:pt x="135169" y="515464"/>
                    <a:pt x="135169" y="513855"/>
                    <a:pt x="134632" y="511710"/>
                  </a:cubicBezTo>
                  <a:cubicBezTo>
                    <a:pt x="134096" y="502591"/>
                    <a:pt x="133559" y="493473"/>
                    <a:pt x="133023" y="485427"/>
                  </a:cubicBezTo>
                  <a:cubicBezTo>
                    <a:pt x="133023" y="482209"/>
                    <a:pt x="132487" y="478990"/>
                    <a:pt x="132487" y="475772"/>
                  </a:cubicBezTo>
                  <a:cubicBezTo>
                    <a:pt x="132487" y="473626"/>
                    <a:pt x="132487" y="470944"/>
                    <a:pt x="132487" y="468799"/>
                  </a:cubicBezTo>
                  <a:cubicBezTo>
                    <a:pt x="132487" y="467726"/>
                    <a:pt x="132487" y="466117"/>
                    <a:pt x="132487" y="465044"/>
                  </a:cubicBezTo>
                  <a:cubicBezTo>
                    <a:pt x="132487" y="463435"/>
                    <a:pt x="132487" y="461290"/>
                    <a:pt x="132487" y="459680"/>
                  </a:cubicBezTo>
                  <a:cubicBezTo>
                    <a:pt x="132487" y="459144"/>
                    <a:pt x="132487" y="458071"/>
                    <a:pt x="132487" y="457535"/>
                  </a:cubicBezTo>
                  <a:cubicBezTo>
                    <a:pt x="132487" y="456462"/>
                    <a:pt x="132487" y="454853"/>
                    <a:pt x="132487" y="453780"/>
                  </a:cubicBezTo>
                  <a:cubicBezTo>
                    <a:pt x="132487" y="452171"/>
                    <a:pt x="132487" y="451098"/>
                    <a:pt x="132487" y="449489"/>
                  </a:cubicBezTo>
                  <a:cubicBezTo>
                    <a:pt x="132487" y="447880"/>
                    <a:pt x="132487" y="446807"/>
                    <a:pt x="132487" y="445198"/>
                  </a:cubicBezTo>
                  <a:cubicBezTo>
                    <a:pt x="132487" y="443053"/>
                    <a:pt x="132487" y="441443"/>
                    <a:pt x="132487" y="439298"/>
                  </a:cubicBezTo>
                  <a:cubicBezTo>
                    <a:pt x="132487" y="437152"/>
                    <a:pt x="132487" y="435007"/>
                    <a:pt x="132487" y="432861"/>
                  </a:cubicBezTo>
                  <a:cubicBezTo>
                    <a:pt x="132487" y="430716"/>
                    <a:pt x="132487" y="428570"/>
                    <a:pt x="132487" y="426425"/>
                  </a:cubicBezTo>
                  <a:cubicBezTo>
                    <a:pt x="132487" y="420524"/>
                    <a:pt x="132487" y="415161"/>
                    <a:pt x="132487" y="409797"/>
                  </a:cubicBezTo>
                  <a:cubicBezTo>
                    <a:pt x="132487" y="408724"/>
                    <a:pt x="132487" y="407651"/>
                    <a:pt x="132487" y="406578"/>
                  </a:cubicBezTo>
                  <a:cubicBezTo>
                    <a:pt x="132487" y="406042"/>
                    <a:pt x="132487" y="405506"/>
                    <a:pt x="132487" y="404433"/>
                  </a:cubicBezTo>
                  <a:cubicBezTo>
                    <a:pt x="132487" y="403360"/>
                    <a:pt x="132487" y="401751"/>
                    <a:pt x="132487" y="400678"/>
                  </a:cubicBezTo>
                  <a:cubicBezTo>
                    <a:pt x="132487" y="397996"/>
                    <a:pt x="132487" y="395851"/>
                    <a:pt x="132487" y="393169"/>
                  </a:cubicBezTo>
                  <a:cubicBezTo>
                    <a:pt x="132487" y="392633"/>
                    <a:pt x="132487" y="391560"/>
                    <a:pt x="132487" y="391023"/>
                  </a:cubicBezTo>
                  <a:cubicBezTo>
                    <a:pt x="132487" y="389951"/>
                    <a:pt x="132487" y="388342"/>
                    <a:pt x="132487" y="387269"/>
                  </a:cubicBezTo>
                  <a:cubicBezTo>
                    <a:pt x="132487" y="386196"/>
                    <a:pt x="132487" y="385660"/>
                    <a:pt x="132487" y="385123"/>
                  </a:cubicBezTo>
                  <a:cubicBezTo>
                    <a:pt x="132487" y="384587"/>
                    <a:pt x="132487" y="384587"/>
                    <a:pt x="132487" y="384050"/>
                  </a:cubicBezTo>
                  <a:cubicBezTo>
                    <a:pt x="132487" y="383514"/>
                    <a:pt x="132487" y="382441"/>
                    <a:pt x="132487" y="381905"/>
                  </a:cubicBezTo>
                  <a:cubicBezTo>
                    <a:pt x="132487" y="381369"/>
                    <a:pt x="132487" y="380832"/>
                    <a:pt x="132487" y="379759"/>
                  </a:cubicBezTo>
                  <a:cubicBezTo>
                    <a:pt x="132487" y="378687"/>
                    <a:pt x="132487" y="377077"/>
                    <a:pt x="132487" y="376005"/>
                  </a:cubicBezTo>
                  <a:cubicBezTo>
                    <a:pt x="132487" y="373323"/>
                    <a:pt x="133023" y="371177"/>
                    <a:pt x="133023" y="368495"/>
                  </a:cubicBezTo>
                  <a:cubicBezTo>
                    <a:pt x="133023" y="365813"/>
                    <a:pt x="133559" y="363668"/>
                    <a:pt x="133559" y="360986"/>
                  </a:cubicBezTo>
                  <a:cubicBezTo>
                    <a:pt x="133559" y="358840"/>
                    <a:pt x="133559" y="356695"/>
                    <a:pt x="134096" y="354549"/>
                  </a:cubicBezTo>
                  <a:cubicBezTo>
                    <a:pt x="134096" y="349722"/>
                    <a:pt x="134632" y="345431"/>
                    <a:pt x="134632" y="340603"/>
                  </a:cubicBezTo>
                  <a:cubicBezTo>
                    <a:pt x="134632" y="335776"/>
                    <a:pt x="135169" y="331485"/>
                    <a:pt x="135169" y="326657"/>
                  </a:cubicBezTo>
                  <a:cubicBezTo>
                    <a:pt x="135169" y="323976"/>
                    <a:pt x="135169" y="320757"/>
                    <a:pt x="135705" y="318075"/>
                  </a:cubicBezTo>
                  <a:cubicBezTo>
                    <a:pt x="135705" y="317003"/>
                    <a:pt x="135705" y="315930"/>
                    <a:pt x="135705" y="314857"/>
                  </a:cubicBezTo>
                  <a:cubicBezTo>
                    <a:pt x="135705" y="311102"/>
                    <a:pt x="136241" y="306811"/>
                    <a:pt x="136241" y="303057"/>
                  </a:cubicBezTo>
                  <a:cubicBezTo>
                    <a:pt x="136241" y="302520"/>
                    <a:pt x="136241" y="301984"/>
                    <a:pt x="136241" y="300911"/>
                  </a:cubicBezTo>
                  <a:cubicBezTo>
                    <a:pt x="136241" y="297156"/>
                    <a:pt x="136778" y="293938"/>
                    <a:pt x="136778" y="290183"/>
                  </a:cubicBezTo>
                  <a:cubicBezTo>
                    <a:pt x="137314" y="282138"/>
                    <a:pt x="137314" y="274092"/>
                    <a:pt x="137850" y="266582"/>
                  </a:cubicBezTo>
                  <a:cubicBezTo>
                    <a:pt x="138387" y="257464"/>
                    <a:pt x="138387" y="248882"/>
                    <a:pt x="138923" y="239763"/>
                  </a:cubicBezTo>
                  <a:cubicBezTo>
                    <a:pt x="138923" y="233327"/>
                    <a:pt x="139460" y="227427"/>
                    <a:pt x="139460" y="220990"/>
                  </a:cubicBezTo>
                  <a:cubicBezTo>
                    <a:pt x="139460" y="216699"/>
                    <a:pt x="139996" y="211871"/>
                    <a:pt x="139996" y="207580"/>
                  </a:cubicBezTo>
                  <a:cubicBezTo>
                    <a:pt x="139996" y="207580"/>
                    <a:pt x="139996" y="207044"/>
                    <a:pt x="139996" y="207044"/>
                  </a:cubicBezTo>
                  <a:cubicBezTo>
                    <a:pt x="139996" y="203826"/>
                    <a:pt x="140532" y="200071"/>
                    <a:pt x="140532" y="196853"/>
                  </a:cubicBezTo>
                  <a:cubicBezTo>
                    <a:pt x="140532" y="195780"/>
                    <a:pt x="140532" y="194707"/>
                    <a:pt x="140532" y="193098"/>
                  </a:cubicBezTo>
                  <a:cubicBezTo>
                    <a:pt x="140532" y="189343"/>
                    <a:pt x="141069" y="185589"/>
                    <a:pt x="141069" y="181298"/>
                  </a:cubicBezTo>
                  <a:cubicBezTo>
                    <a:pt x="141069" y="179688"/>
                    <a:pt x="141069" y="178616"/>
                    <a:pt x="141605" y="177006"/>
                  </a:cubicBezTo>
                  <a:cubicBezTo>
                    <a:pt x="141605" y="173252"/>
                    <a:pt x="142142" y="169497"/>
                    <a:pt x="142142" y="165742"/>
                  </a:cubicBezTo>
                  <a:cubicBezTo>
                    <a:pt x="142142" y="162524"/>
                    <a:pt x="142678" y="158769"/>
                    <a:pt x="142678" y="155551"/>
                  </a:cubicBezTo>
                  <a:cubicBezTo>
                    <a:pt x="143214" y="151260"/>
                    <a:pt x="143214" y="146969"/>
                    <a:pt x="143751" y="143214"/>
                  </a:cubicBezTo>
                  <a:cubicBezTo>
                    <a:pt x="143751" y="140532"/>
                    <a:pt x="144287" y="137850"/>
                    <a:pt x="144287" y="135705"/>
                  </a:cubicBezTo>
                  <a:cubicBezTo>
                    <a:pt x="144824" y="132487"/>
                    <a:pt x="144824" y="129268"/>
                    <a:pt x="145360" y="125514"/>
                  </a:cubicBezTo>
                  <a:cubicBezTo>
                    <a:pt x="145896" y="122295"/>
                    <a:pt x="145896" y="119077"/>
                    <a:pt x="146433" y="115322"/>
                  </a:cubicBezTo>
                  <a:cubicBezTo>
                    <a:pt x="146969" y="112104"/>
                    <a:pt x="146969" y="109422"/>
                    <a:pt x="147505" y="106204"/>
                  </a:cubicBezTo>
                  <a:cubicBezTo>
                    <a:pt x="148042" y="102449"/>
                    <a:pt x="148578" y="98695"/>
                    <a:pt x="149115" y="95476"/>
                  </a:cubicBezTo>
                  <a:cubicBezTo>
                    <a:pt x="149115" y="95476"/>
                    <a:pt x="149115" y="94940"/>
                    <a:pt x="149115" y="94940"/>
                  </a:cubicBezTo>
                  <a:cubicBezTo>
                    <a:pt x="149651" y="91722"/>
                    <a:pt x="150187" y="88503"/>
                    <a:pt x="150187" y="85285"/>
                  </a:cubicBezTo>
                  <a:cubicBezTo>
                    <a:pt x="151260" y="78848"/>
                    <a:pt x="152333" y="71875"/>
                    <a:pt x="153406" y="65439"/>
                  </a:cubicBezTo>
                  <a:cubicBezTo>
                    <a:pt x="153406" y="64366"/>
                    <a:pt x="153942" y="63830"/>
                    <a:pt x="153942" y="62757"/>
                  </a:cubicBezTo>
                  <a:cubicBezTo>
                    <a:pt x="153942" y="61684"/>
                    <a:pt x="154478" y="60075"/>
                    <a:pt x="154478" y="59002"/>
                  </a:cubicBezTo>
                  <a:cubicBezTo>
                    <a:pt x="154478" y="57929"/>
                    <a:pt x="155015" y="56320"/>
                    <a:pt x="155015" y="55247"/>
                  </a:cubicBezTo>
                  <a:cubicBezTo>
                    <a:pt x="155551" y="52029"/>
                    <a:pt x="156088" y="49347"/>
                    <a:pt x="156624" y="46129"/>
                  </a:cubicBezTo>
                  <a:cubicBezTo>
                    <a:pt x="156624" y="45056"/>
                    <a:pt x="157160" y="43983"/>
                    <a:pt x="157160" y="42911"/>
                  </a:cubicBezTo>
                  <a:cubicBezTo>
                    <a:pt x="157697" y="41302"/>
                    <a:pt x="157697" y="39692"/>
                    <a:pt x="158233" y="38083"/>
                  </a:cubicBezTo>
                  <a:cubicBezTo>
                    <a:pt x="158233" y="37547"/>
                    <a:pt x="158233" y="37010"/>
                    <a:pt x="158770" y="35938"/>
                  </a:cubicBezTo>
                  <a:cubicBezTo>
                    <a:pt x="158770" y="35401"/>
                    <a:pt x="158770" y="34865"/>
                    <a:pt x="159306" y="33792"/>
                  </a:cubicBezTo>
                  <a:cubicBezTo>
                    <a:pt x="159842" y="31110"/>
                    <a:pt x="160379" y="27892"/>
                    <a:pt x="161451" y="25210"/>
                  </a:cubicBezTo>
                  <a:cubicBezTo>
                    <a:pt x="161988" y="21992"/>
                    <a:pt x="163061" y="18773"/>
                    <a:pt x="163597" y="15019"/>
                  </a:cubicBezTo>
                  <a:cubicBezTo>
                    <a:pt x="164670" y="11264"/>
                    <a:pt x="165206" y="6973"/>
                    <a:pt x="164670" y="3218"/>
                  </a:cubicBezTo>
                  <a:cubicBezTo>
                    <a:pt x="164670" y="3218"/>
                    <a:pt x="164670" y="3218"/>
                    <a:pt x="164670" y="3218"/>
                  </a:cubicBezTo>
                  <a:cubicBezTo>
                    <a:pt x="164670" y="2682"/>
                    <a:pt x="164670" y="1609"/>
                    <a:pt x="164133" y="1073"/>
                  </a:cubicBezTo>
                  <a:cubicBezTo>
                    <a:pt x="164133" y="1073"/>
                    <a:pt x="164133" y="536"/>
                    <a:pt x="164133" y="536"/>
                  </a:cubicBezTo>
                  <a:cubicBezTo>
                    <a:pt x="166279" y="0"/>
                    <a:pt x="168961" y="0"/>
                    <a:pt x="171643" y="0"/>
                  </a:cubicBezTo>
                  <a:cubicBezTo>
                    <a:pt x="187734" y="1609"/>
                    <a:pt x="209726" y="16091"/>
                    <a:pt x="217772" y="26283"/>
                  </a:cubicBezTo>
                  <a:cubicBezTo>
                    <a:pt x="243518" y="60075"/>
                    <a:pt x="243518" y="118004"/>
                    <a:pt x="246736" y="160379"/>
                  </a:cubicBezTo>
                  <a:cubicBezTo>
                    <a:pt x="257464" y="292329"/>
                    <a:pt x="293402" y="413551"/>
                    <a:pt x="300911" y="546038"/>
                  </a:cubicBezTo>
                  <a:cubicBezTo>
                    <a:pt x="298229" y="560520"/>
                    <a:pt x="296620" y="588949"/>
                    <a:pt x="261219" y="61576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4" name="Freeform: Shape 367"/>
            <p:cNvSpPr/>
            <p:nvPr/>
          </p:nvSpPr>
          <p:spPr>
            <a:xfrm>
              <a:off x="8252280" y="2776680"/>
              <a:ext cx="74880" cy="101880"/>
            </a:xfrm>
            <a:custGeom>
              <a:avLst/>
              <a:gdLst/>
              <a:ahLst/>
              <a:rect l="l" t="t" r="r" b="b"/>
              <a:pathLst>
                <a:path w="96549" h="131413">
                  <a:moveTo>
                    <a:pt x="96549" y="103522"/>
                  </a:moveTo>
                  <a:cubicBezTo>
                    <a:pt x="95476" y="104058"/>
                    <a:pt x="94404" y="104595"/>
                    <a:pt x="93331" y="105131"/>
                  </a:cubicBezTo>
                  <a:cubicBezTo>
                    <a:pt x="86358" y="108886"/>
                    <a:pt x="78312" y="112640"/>
                    <a:pt x="69193" y="116932"/>
                  </a:cubicBezTo>
                  <a:cubicBezTo>
                    <a:pt x="60611" y="121223"/>
                    <a:pt x="50956" y="124977"/>
                    <a:pt x="42911" y="128732"/>
                  </a:cubicBezTo>
                  <a:cubicBezTo>
                    <a:pt x="41302" y="129268"/>
                    <a:pt x="39156" y="130341"/>
                    <a:pt x="37547" y="130878"/>
                  </a:cubicBezTo>
                  <a:cubicBezTo>
                    <a:pt x="33792" y="131414"/>
                    <a:pt x="30574" y="131414"/>
                    <a:pt x="26819" y="131414"/>
                  </a:cubicBezTo>
                  <a:cubicBezTo>
                    <a:pt x="26819" y="128732"/>
                    <a:pt x="26283" y="125514"/>
                    <a:pt x="25746" y="121223"/>
                  </a:cubicBezTo>
                  <a:cubicBezTo>
                    <a:pt x="25746" y="119613"/>
                    <a:pt x="25210" y="118004"/>
                    <a:pt x="25210" y="115859"/>
                  </a:cubicBezTo>
                  <a:cubicBezTo>
                    <a:pt x="25210" y="114786"/>
                    <a:pt x="25210" y="113713"/>
                    <a:pt x="24674" y="113177"/>
                  </a:cubicBezTo>
                  <a:cubicBezTo>
                    <a:pt x="24674" y="112104"/>
                    <a:pt x="24674" y="111031"/>
                    <a:pt x="24137" y="109959"/>
                  </a:cubicBezTo>
                  <a:cubicBezTo>
                    <a:pt x="24137" y="107813"/>
                    <a:pt x="23601" y="105667"/>
                    <a:pt x="23601" y="102986"/>
                  </a:cubicBezTo>
                  <a:cubicBezTo>
                    <a:pt x="23601" y="100840"/>
                    <a:pt x="23065" y="98695"/>
                    <a:pt x="23065" y="97085"/>
                  </a:cubicBezTo>
                  <a:cubicBezTo>
                    <a:pt x="22528" y="89576"/>
                    <a:pt x="20919" y="82067"/>
                    <a:pt x="18773" y="74021"/>
                  </a:cubicBezTo>
                  <a:cubicBezTo>
                    <a:pt x="13410" y="53102"/>
                    <a:pt x="5900" y="31647"/>
                    <a:pt x="2146" y="21455"/>
                  </a:cubicBezTo>
                  <a:cubicBezTo>
                    <a:pt x="1609" y="20919"/>
                    <a:pt x="1609" y="19846"/>
                    <a:pt x="1073" y="19310"/>
                  </a:cubicBezTo>
                  <a:cubicBezTo>
                    <a:pt x="0" y="17164"/>
                    <a:pt x="0" y="15555"/>
                    <a:pt x="0" y="15555"/>
                  </a:cubicBezTo>
                  <a:cubicBezTo>
                    <a:pt x="0" y="15555"/>
                    <a:pt x="18773" y="11800"/>
                    <a:pt x="19310" y="11800"/>
                  </a:cubicBezTo>
                  <a:cubicBezTo>
                    <a:pt x="19310" y="11800"/>
                    <a:pt x="39692" y="6973"/>
                    <a:pt x="52566" y="2682"/>
                  </a:cubicBezTo>
                  <a:cubicBezTo>
                    <a:pt x="52566" y="2682"/>
                    <a:pt x="52566" y="2682"/>
                    <a:pt x="52566" y="2682"/>
                  </a:cubicBezTo>
                  <a:cubicBezTo>
                    <a:pt x="52566" y="2682"/>
                    <a:pt x="52566" y="2682"/>
                    <a:pt x="52566" y="2682"/>
                  </a:cubicBezTo>
                  <a:cubicBezTo>
                    <a:pt x="56320" y="1609"/>
                    <a:pt x="59002" y="536"/>
                    <a:pt x="60611" y="0"/>
                  </a:cubicBezTo>
                  <a:cubicBezTo>
                    <a:pt x="63293" y="4291"/>
                    <a:pt x="65975" y="9118"/>
                    <a:pt x="68121" y="13410"/>
                  </a:cubicBezTo>
                  <a:cubicBezTo>
                    <a:pt x="68657" y="14482"/>
                    <a:pt x="69193" y="16091"/>
                    <a:pt x="69730" y="17164"/>
                  </a:cubicBezTo>
                  <a:cubicBezTo>
                    <a:pt x="71339" y="19846"/>
                    <a:pt x="72412" y="23064"/>
                    <a:pt x="74021" y="25746"/>
                  </a:cubicBezTo>
                  <a:cubicBezTo>
                    <a:pt x="74557" y="27356"/>
                    <a:pt x="75094" y="28428"/>
                    <a:pt x="76167" y="30037"/>
                  </a:cubicBezTo>
                  <a:cubicBezTo>
                    <a:pt x="77239" y="32183"/>
                    <a:pt x="78312" y="34865"/>
                    <a:pt x="78848" y="37010"/>
                  </a:cubicBezTo>
                  <a:cubicBezTo>
                    <a:pt x="79921" y="39156"/>
                    <a:pt x="80458" y="41301"/>
                    <a:pt x="80994" y="43447"/>
                  </a:cubicBezTo>
                  <a:cubicBezTo>
                    <a:pt x="85285" y="55784"/>
                    <a:pt x="89040" y="68657"/>
                    <a:pt x="91722" y="81530"/>
                  </a:cubicBezTo>
                  <a:cubicBezTo>
                    <a:pt x="94940" y="89040"/>
                    <a:pt x="96013" y="96013"/>
                    <a:pt x="96549" y="10352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5" name="Freeform: Shape 368"/>
            <p:cNvSpPr/>
            <p:nvPr/>
          </p:nvSpPr>
          <p:spPr>
            <a:xfrm>
              <a:off x="8029800" y="2295720"/>
              <a:ext cx="4320" cy="1080"/>
            </a:xfrm>
            <a:custGeom>
              <a:avLst/>
              <a:gdLst/>
              <a:ahLst/>
              <a:rect l="l" t="t" r="r" b="b"/>
              <a:pathLst>
                <a:path w="5900" h="1609">
                  <a:moveTo>
                    <a:pt x="5900" y="0"/>
                  </a:moveTo>
                  <a:cubicBezTo>
                    <a:pt x="3755" y="536"/>
                    <a:pt x="1609" y="1073"/>
                    <a:pt x="0" y="1609"/>
                  </a:cubicBezTo>
                  <a:cubicBezTo>
                    <a:pt x="1609" y="536"/>
                    <a:pt x="3755" y="0"/>
                    <a:pt x="5900" y="0"/>
                  </a:cubicBezTo>
                  <a:close/>
                </a:path>
              </a:pathLst>
            </a:custGeom>
            <a:noFill/>
            <a:ln w="5400">
              <a:solidFill>
                <a:srgbClr val="8b5e3c"/>
              </a:solidFill>
              <a:miter/>
            </a:ln>
          </p:spPr>
          <p:style>
            <a:lnRef idx="0"/>
            <a:fillRef idx="0"/>
            <a:effectRef idx="0"/>
            <a:fontRef idx="minor"/>
          </p:style>
          <p:txBody>
            <a:bodyPr lIns="90000" rIns="90000" tIns="-45720" bIns="-45720" anchor="ctr">
              <a:noAutofit/>
            </a:bodyPr>
            <a:p>
              <a:endParaRPr b="0" lang="en-US" sz="1800" spc="-1" strike="noStrike">
                <a:solidFill>
                  <a:srgbClr val="313c3f"/>
                </a:solidFill>
                <a:latin typeface="Source Sans Pro"/>
              </a:endParaRPr>
            </a:p>
          </p:txBody>
        </p:sp>
        <p:sp>
          <p:nvSpPr>
            <p:cNvPr id="2566" name="Freeform: Shape 369"/>
            <p:cNvSpPr/>
            <p:nvPr/>
          </p:nvSpPr>
          <p:spPr>
            <a:xfrm>
              <a:off x="8206920" y="2626920"/>
              <a:ext cx="81720" cy="97200"/>
            </a:xfrm>
            <a:custGeom>
              <a:avLst/>
              <a:gdLst/>
              <a:ahLst/>
              <a:rect l="l" t="t" r="r" b="b"/>
              <a:pathLst>
                <a:path w="105667" h="125513">
                  <a:moveTo>
                    <a:pt x="105668" y="85821"/>
                  </a:moveTo>
                  <a:cubicBezTo>
                    <a:pt x="105668" y="86894"/>
                    <a:pt x="105668" y="87967"/>
                    <a:pt x="105668" y="88503"/>
                  </a:cubicBezTo>
                  <a:cubicBezTo>
                    <a:pt x="105668" y="89040"/>
                    <a:pt x="105668" y="89040"/>
                    <a:pt x="105668" y="89576"/>
                  </a:cubicBezTo>
                  <a:cubicBezTo>
                    <a:pt x="105668" y="89576"/>
                    <a:pt x="105668" y="90112"/>
                    <a:pt x="105668" y="90112"/>
                  </a:cubicBezTo>
                  <a:cubicBezTo>
                    <a:pt x="105668" y="95476"/>
                    <a:pt x="105668" y="101376"/>
                    <a:pt x="105668" y="106740"/>
                  </a:cubicBezTo>
                  <a:cubicBezTo>
                    <a:pt x="105668" y="113713"/>
                    <a:pt x="104595" y="121759"/>
                    <a:pt x="98158" y="124441"/>
                  </a:cubicBezTo>
                  <a:cubicBezTo>
                    <a:pt x="95476" y="125514"/>
                    <a:pt x="92794" y="125514"/>
                    <a:pt x="90112" y="125514"/>
                  </a:cubicBezTo>
                  <a:cubicBezTo>
                    <a:pt x="60611" y="124441"/>
                    <a:pt x="30574" y="123368"/>
                    <a:pt x="1073" y="121223"/>
                  </a:cubicBezTo>
                  <a:cubicBezTo>
                    <a:pt x="536" y="121223"/>
                    <a:pt x="0" y="121223"/>
                    <a:pt x="0" y="121223"/>
                  </a:cubicBezTo>
                  <a:cubicBezTo>
                    <a:pt x="536" y="109959"/>
                    <a:pt x="1609" y="98158"/>
                    <a:pt x="3755" y="86894"/>
                  </a:cubicBezTo>
                  <a:cubicBezTo>
                    <a:pt x="8582" y="57393"/>
                    <a:pt x="17701" y="28428"/>
                    <a:pt x="27356" y="536"/>
                  </a:cubicBezTo>
                  <a:lnTo>
                    <a:pt x="28428" y="536"/>
                  </a:lnTo>
                  <a:cubicBezTo>
                    <a:pt x="47202" y="536"/>
                    <a:pt x="65975" y="536"/>
                    <a:pt x="84749" y="536"/>
                  </a:cubicBezTo>
                  <a:cubicBezTo>
                    <a:pt x="91185" y="536"/>
                    <a:pt x="98158" y="536"/>
                    <a:pt x="104595" y="0"/>
                  </a:cubicBezTo>
                  <a:cubicBezTo>
                    <a:pt x="104595" y="0"/>
                    <a:pt x="104595" y="0"/>
                    <a:pt x="104595" y="536"/>
                  </a:cubicBezTo>
                  <a:cubicBezTo>
                    <a:pt x="104595" y="1073"/>
                    <a:pt x="104595" y="1073"/>
                    <a:pt x="104595" y="1609"/>
                  </a:cubicBezTo>
                  <a:cubicBezTo>
                    <a:pt x="105131" y="8046"/>
                    <a:pt x="105668" y="14482"/>
                    <a:pt x="105668" y="20919"/>
                  </a:cubicBezTo>
                  <a:cubicBezTo>
                    <a:pt x="105131" y="42911"/>
                    <a:pt x="105668" y="64366"/>
                    <a:pt x="105668" y="8582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7" name="Freeform: Shape 370"/>
            <p:cNvSpPr/>
            <p:nvPr/>
          </p:nvSpPr>
          <p:spPr>
            <a:xfrm>
              <a:off x="8091720" y="2751840"/>
              <a:ext cx="178920" cy="121680"/>
            </a:xfrm>
            <a:custGeom>
              <a:avLst/>
              <a:gdLst/>
              <a:ahLst/>
              <a:rect l="l" t="t" r="r" b="b"/>
              <a:pathLst>
                <a:path w="230751" h="157026">
                  <a:moveTo>
                    <a:pt x="230751" y="128732"/>
                  </a:moveTo>
                  <a:cubicBezTo>
                    <a:pt x="226997" y="128732"/>
                    <a:pt x="223242" y="129268"/>
                    <a:pt x="218951" y="129268"/>
                  </a:cubicBezTo>
                  <a:cubicBezTo>
                    <a:pt x="216269" y="129268"/>
                    <a:pt x="213051" y="129805"/>
                    <a:pt x="210369" y="129805"/>
                  </a:cubicBezTo>
                  <a:cubicBezTo>
                    <a:pt x="209296" y="129805"/>
                    <a:pt x="207687" y="129805"/>
                    <a:pt x="206078" y="129805"/>
                  </a:cubicBezTo>
                  <a:cubicBezTo>
                    <a:pt x="201250" y="130341"/>
                    <a:pt x="196959" y="130341"/>
                    <a:pt x="192132" y="130341"/>
                  </a:cubicBezTo>
                  <a:cubicBezTo>
                    <a:pt x="191059" y="130341"/>
                    <a:pt x="190523" y="130341"/>
                    <a:pt x="189450" y="130341"/>
                  </a:cubicBezTo>
                  <a:cubicBezTo>
                    <a:pt x="189450" y="130341"/>
                    <a:pt x="188914" y="130341"/>
                    <a:pt x="188914" y="130341"/>
                  </a:cubicBezTo>
                  <a:cubicBezTo>
                    <a:pt x="187841" y="130341"/>
                    <a:pt x="186768" y="130341"/>
                    <a:pt x="185695" y="130341"/>
                  </a:cubicBezTo>
                  <a:cubicBezTo>
                    <a:pt x="178186" y="130877"/>
                    <a:pt x="170140" y="130877"/>
                    <a:pt x="162631" y="132487"/>
                  </a:cubicBezTo>
                  <a:cubicBezTo>
                    <a:pt x="152976" y="134632"/>
                    <a:pt x="143857" y="139460"/>
                    <a:pt x="134739" y="143214"/>
                  </a:cubicBezTo>
                  <a:cubicBezTo>
                    <a:pt x="121866" y="148578"/>
                    <a:pt x="108992" y="152869"/>
                    <a:pt x="95583" y="155551"/>
                  </a:cubicBezTo>
                  <a:cubicBezTo>
                    <a:pt x="93437" y="156087"/>
                    <a:pt x="91292" y="156087"/>
                    <a:pt x="89146" y="156624"/>
                  </a:cubicBezTo>
                  <a:cubicBezTo>
                    <a:pt x="85928" y="157160"/>
                    <a:pt x="82173" y="157160"/>
                    <a:pt x="78955" y="156624"/>
                  </a:cubicBezTo>
                  <a:cubicBezTo>
                    <a:pt x="76273" y="156087"/>
                    <a:pt x="73591" y="155015"/>
                    <a:pt x="70909" y="153942"/>
                  </a:cubicBezTo>
                  <a:cubicBezTo>
                    <a:pt x="67691" y="152333"/>
                    <a:pt x="64473" y="150187"/>
                    <a:pt x="61254" y="148042"/>
                  </a:cubicBezTo>
                  <a:cubicBezTo>
                    <a:pt x="52672" y="141605"/>
                    <a:pt x="44090" y="135169"/>
                    <a:pt x="35508" y="128732"/>
                  </a:cubicBezTo>
                  <a:cubicBezTo>
                    <a:pt x="28535" y="123368"/>
                    <a:pt x="21562" y="118004"/>
                    <a:pt x="16734" y="110495"/>
                  </a:cubicBezTo>
                  <a:cubicBezTo>
                    <a:pt x="8152" y="99231"/>
                    <a:pt x="4934" y="84749"/>
                    <a:pt x="2252" y="70803"/>
                  </a:cubicBezTo>
                  <a:cubicBezTo>
                    <a:pt x="1179" y="64902"/>
                    <a:pt x="-430" y="58466"/>
                    <a:pt x="106" y="52566"/>
                  </a:cubicBezTo>
                  <a:cubicBezTo>
                    <a:pt x="643" y="47738"/>
                    <a:pt x="2252" y="42911"/>
                    <a:pt x="3861" y="38620"/>
                  </a:cubicBezTo>
                  <a:cubicBezTo>
                    <a:pt x="7616" y="28965"/>
                    <a:pt x="10834" y="22528"/>
                    <a:pt x="15662" y="13410"/>
                  </a:cubicBezTo>
                  <a:cubicBezTo>
                    <a:pt x="15662" y="13410"/>
                    <a:pt x="16198" y="12873"/>
                    <a:pt x="16198" y="12873"/>
                  </a:cubicBezTo>
                  <a:cubicBezTo>
                    <a:pt x="16734" y="13946"/>
                    <a:pt x="17271" y="15555"/>
                    <a:pt x="17271" y="16628"/>
                  </a:cubicBezTo>
                  <a:cubicBezTo>
                    <a:pt x="17807" y="17701"/>
                    <a:pt x="17807" y="18773"/>
                    <a:pt x="18344" y="19846"/>
                  </a:cubicBezTo>
                  <a:cubicBezTo>
                    <a:pt x="18344" y="20383"/>
                    <a:pt x="18880" y="20919"/>
                    <a:pt x="18880" y="21455"/>
                  </a:cubicBezTo>
                  <a:cubicBezTo>
                    <a:pt x="19416" y="22528"/>
                    <a:pt x="19416" y="23601"/>
                    <a:pt x="19953" y="24674"/>
                  </a:cubicBezTo>
                  <a:cubicBezTo>
                    <a:pt x="19953" y="25210"/>
                    <a:pt x="20489" y="25746"/>
                    <a:pt x="20489" y="26283"/>
                  </a:cubicBezTo>
                  <a:cubicBezTo>
                    <a:pt x="22635" y="33256"/>
                    <a:pt x="24244" y="38620"/>
                    <a:pt x="25853" y="42911"/>
                  </a:cubicBezTo>
                  <a:cubicBezTo>
                    <a:pt x="27462" y="47202"/>
                    <a:pt x="29071" y="50420"/>
                    <a:pt x="30680" y="54711"/>
                  </a:cubicBezTo>
                  <a:cubicBezTo>
                    <a:pt x="30680" y="54711"/>
                    <a:pt x="30680" y="54711"/>
                    <a:pt x="30680" y="54711"/>
                  </a:cubicBezTo>
                  <a:cubicBezTo>
                    <a:pt x="31217" y="55784"/>
                    <a:pt x="31753" y="56857"/>
                    <a:pt x="32289" y="57929"/>
                  </a:cubicBezTo>
                  <a:cubicBezTo>
                    <a:pt x="37117" y="68121"/>
                    <a:pt x="58036" y="62220"/>
                    <a:pt x="65009" y="61684"/>
                  </a:cubicBezTo>
                  <a:cubicBezTo>
                    <a:pt x="65545" y="61684"/>
                    <a:pt x="61254" y="18773"/>
                    <a:pt x="53209" y="0"/>
                  </a:cubicBezTo>
                  <a:cubicBezTo>
                    <a:pt x="65009" y="536"/>
                    <a:pt x="77346" y="1609"/>
                    <a:pt x="89146" y="2146"/>
                  </a:cubicBezTo>
                  <a:cubicBezTo>
                    <a:pt x="90755" y="4827"/>
                    <a:pt x="92365" y="6973"/>
                    <a:pt x="94510" y="9118"/>
                  </a:cubicBezTo>
                  <a:cubicBezTo>
                    <a:pt x="100947" y="15555"/>
                    <a:pt x="109529" y="18237"/>
                    <a:pt x="117575" y="21992"/>
                  </a:cubicBezTo>
                  <a:cubicBezTo>
                    <a:pt x="124548" y="25210"/>
                    <a:pt x="131520" y="30037"/>
                    <a:pt x="137421" y="34865"/>
                  </a:cubicBezTo>
                  <a:cubicBezTo>
                    <a:pt x="141712" y="38620"/>
                    <a:pt x="145466" y="42911"/>
                    <a:pt x="150830" y="45056"/>
                  </a:cubicBezTo>
                  <a:cubicBezTo>
                    <a:pt x="155658" y="47202"/>
                    <a:pt x="160485" y="47738"/>
                    <a:pt x="165849" y="48274"/>
                  </a:cubicBezTo>
                  <a:cubicBezTo>
                    <a:pt x="176577" y="49347"/>
                    <a:pt x="187304" y="49884"/>
                    <a:pt x="197496" y="50420"/>
                  </a:cubicBezTo>
                  <a:cubicBezTo>
                    <a:pt x="200178" y="50420"/>
                    <a:pt x="202323" y="50420"/>
                    <a:pt x="205005" y="50956"/>
                  </a:cubicBezTo>
                  <a:cubicBezTo>
                    <a:pt x="206078" y="50956"/>
                    <a:pt x="207151" y="50956"/>
                    <a:pt x="208223" y="50956"/>
                  </a:cubicBezTo>
                  <a:cubicBezTo>
                    <a:pt x="208223" y="51493"/>
                    <a:pt x="208760" y="52566"/>
                    <a:pt x="209296" y="53102"/>
                  </a:cubicBezTo>
                  <a:cubicBezTo>
                    <a:pt x="213051" y="63293"/>
                    <a:pt x="221097" y="84212"/>
                    <a:pt x="225924" y="105667"/>
                  </a:cubicBezTo>
                  <a:cubicBezTo>
                    <a:pt x="228606" y="113177"/>
                    <a:pt x="230215" y="121223"/>
                    <a:pt x="230751" y="12873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8" name="Freeform: Shape 371"/>
            <p:cNvSpPr/>
            <p:nvPr/>
          </p:nvSpPr>
          <p:spPr>
            <a:xfrm>
              <a:off x="8033040" y="2745720"/>
              <a:ext cx="113760" cy="126000"/>
            </a:xfrm>
            <a:custGeom>
              <a:avLst/>
              <a:gdLst/>
              <a:ahLst/>
              <a:rect l="l" t="t" r="r" b="b"/>
              <a:pathLst>
                <a:path w="146969" h="162524">
                  <a:moveTo>
                    <a:pt x="137314" y="156624"/>
                  </a:moveTo>
                  <a:cubicBezTo>
                    <a:pt x="140532" y="158769"/>
                    <a:pt x="143751" y="160915"/>
                    <a:pt x="146969" y="162524"/>
                  </a:cubicBezTo>
                  <a:cubicBezTo>
                    <a:pt x="109959" y="156087"/>
                    <a:pt x="74021" y="146433"/>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293"/>
                    <a:pt x="8046" y="62220"/>
                  </a:cubicBezTo>
                  <a:cubicBezTo>
                    <a:pt x="8046" y="61684"/>
                    <a:pt x="8046" y="60611"/>
                    <a:pt x="8582" y="60075"/>
                  </a:cubicBezTo>
                  <a:cubicBezTo>
                    <a:pt x="8582" y="59002"/>
                    <a:pt x="9118" y="57929"/>
                    <a:pt x="9118" y="56857"/>
                  </a:cubicBezTo>
                  <a:cubicBezTo>
                    <a:pt x="9655" y="53638"/>
                    <a:pt x="10191" y="50420"/>
                    <a:pt x="10191" y="47202"/>
                  </a:cubicBezTo>
                  <a:cubicBezTo>
                    <a:pt x="10191" y="47202"/>
                    <a:pt x="10191" y="47202"/>
                    <a:pt x="10191" y="46665"/>
                  </a:cubicBezTo>
                  <a:cubicBezTo>
                    <a:pt x="10191" y="45593"/>
                    <a:pt x="10191" y="44520"/>
                    <a:pt x="10728" y="43983"/>
                  </a:cubicBezTo>
                  <a:cubicBezTo>
                    <a:pt x="11264" y="40229"/>
                    <a:pt x="11800" y="37010"/>
                    <a:pt x="11800" y="33256"/>
                  </a:cubicBezTo>
                  <a:cubicBezTo>
                    <a:pt x="14482" y="11800"/>
                    <a:pt x="15555" y="0"/>
                    <a:pt x="15555" y="0"/>
                  </a:cubicBezTo>
                  <a:cubicBezTo>
                    <a:pt x="15555" y="0"/>
                    <a:pt x="16092" y="0"/>
                    <a:pt x="16092" y="0"/>
                  </a:cubicBezTo>
                  <a:cubicBezTo>
                    <a:pt x="24674" y="536"/>
                    <a:pt x="33256" y="1609"/>
                    <a:pt x="41838" y="2146"/>
                  </a:cubicBezTo>
                  <a:cubicBezTo>
                    <a:pt x="44520" y="2146"/>
                    <a:pt x="47738" y="2682"/>
                    <a:pt x="50420" y="2682"/>
                  </a:cubicBezTo>
                  <a:cubicBezTo>
                    <a:pt x="56320" y="3218"/>
                    <a:pt x="62220" y="3755"/>
                    <a:pt x="68121" y="4291"/>
                  </a:cubicBezTo>
                  <a:cubicBezTo>
                    <a:pt x="74021" y="4827"/>
                    <a:pt x="79921" y="5364"/>
                    <a:pt x="85821" y="5364"/>
                  </a:cubicBezTo>
                  <a:lnTo>
                    <a:pt x="91721" y="21992"/>
                  </a:lnTo>
                  <a:cubicBezTo>
                    <a:pt x="86894" y="31110"/>
                    <a:pt x="83139" y="37547"/>
                    <a:pt x="79921" y="47202"/>
                  </a:cubicBezTo>
                  <a:cubicBezTo>
                    <a:pt x="78312" y="51493"/>
                    <a:pt x="76703" y="56320"/>
                    <a:pt x="76166" y="61148"/>
                  </a:cubicBezTo>
                  <a:cubicBezTo>
                    <a:pt x="75630" y="67584"/>
                    <a:pt x="76703" y="73484"/>
                    <a:pt x="78312" y="79385"/>
                  </a:cubicBezTo>
                  <a:cubicBezTo>
                    <a:pt x="81530" y="93331"/>
                    <a:pt x="84749" y="107813"/>
                    <a:pt x="92794" y="119077"/>
                  </a:cubicBezTo>
                  <a:cubicBezTo>
                    <a:pt x="98158" y="126050"/>
                    <a:pt x="104595" y="131950"/>
                    <a:pt x="111568" y="137314"/>
                  </a:cubicBezTo>
                  <a:cubicBezTo>
                    <a:pt x="120150" y="143751"/>
                    <a:pt x="128732" y="150187"/>
                    <a:pt x="137314" y="156624"/>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69" name="Freeform: Shape 372"/>
            <p:cNvSpPr/>
            <p:nvPr/>
          </p:nvSpPr>
          <p:spPr>
            <a:xfrm>
              <a:off x="8296920" y="2298960"/>
              <a:ext cx="84600" cy="186480"/>
            </a:xfrm>
            <a:custGeom>
              <a:avLst/>
              <a:gdLst/>
              <a:ahLst/>
              <a:rect l="l" t="t" r="r" b="b"/>
              <a:pathLst>
                <a:path w="109422" h="240299">
                  <a:moveTo>
                    <a:pt x="94404" y="89040"/>
                  </a:moveTo>
                  <a:cubicBezTo>
                    <a:pt x="51493" y="137850"/>
                    <a:pt x="41838" y="185589"/>
                    <a:pt x="37547" y="240300"/>
                  </a:cubicBezTo>
                  <a:lnTo>
                    <a:pt x="0" y="139460"/>
                  </a:lnTo>
                  <a:cubicBezTo>
                    <a:pt x="0" y="136241"/>
                    <a:pt x="536" y="133023"/>
                    <a:pt x="536" y="130341"/>
                  </a:cubicBezTo>
                  <a:cubicBezTo>
                    <a:pt x="1073" y="115859"/>
                    <a:pt x="2146" y="101913"/>
                    <a:pt x="2682" y="87430"/>
                  </a:cubicBezTo>
                  <a:cubicBezTo>
                    <a:pt x="2682" y="85285"/>
                    <a:pt x="3218" y="82603"/>
                    <a:pt x="3218" y="80457"/>
                  </a:cubicBezTo>
                  <a:cubicBezTo>
                    <a:pt x="3218" y="80457"/>
                    <a:pt x="23601" y="7509"/>
                    <a:pt x="20919" y="0"/>
                  </a:cubicBezTo>
                  <a:cubicBezTo>
                    <a:pt x="39156" y="8046"/>
                    <a:pt x="57929" y="16628"/>
                    <a:pt x="76703" y="25210"/>
                  </a:cubicBezTo>
                  <a:cubicBezTo>
                    <a:pt x="87430" y="35401"/>
                    <a:pt x="98158" y="45056"/>
                    <a:pt x="109422" y="54711"/>
                  </a:cubicBezTo>
                  <a:cubicBezTo>
                    <a:pt x="91185" y="53102"/>
                    <a:pt x="72412" y="53638"/>
                    <a:pt x="54175" y="57393"/>
                  </a:cubicBezTo>
                  <a:cubicBezTo>
                    <a:pt x="66512" y="70266"/>
                    <a:pt x="78312" y="80457"/>
                    <a:pt x="94404" y="89040"/>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70" name="Freeform: Shape 373"/>
            <p:cNvSpPr/>
            <p:nvPr/>
          </p:nvSpPr>
          <p:spPr>
            <a:xfrm>
              <a:off x="8102880" y="229752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7" y="6973"/>
                    <a:pt x="81530" y="2682"/>
                    <a:pt x="87430" y="0"/>
                  </a:cubicBezTo>
                  <a:cubicBezTo>
                    <a:pt x="87430" y="15555"/>
                    <a:pt x="107277" y="59002"/>
                    <a:pt x="109422" y="68657"/>
                  </a:cubicBezTo>
                  <a:cubicBezTo>
                    <a:pt x="112104" y="81530"/>
                    <a:pt x="114786" y="95476"/>
                    <a:pt x="117468" y="108886"/>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71" name="Freeform: Shape 374"/>
            <p:cNvSpPr/>
            <p:nvPr/>
          </p:nvSpPr>
          <p:spPr>
            <a:xfrm>
              <a:off x="8392320" y="2839680"/>
              <a:ext cx="26280" cy="16920"/>
            </a:xfrm>
            <a:custGeom>
              <a:avLst/>
              <a:gdLst/>
              <a:ahLst/>
              <a:rect l="l" t="t" r="r" b="b"/>
              <a:pathLst>
                <a:path w="34328" h="21991">
                  <a:moveTo>
                    <a:pt x="-31207" y="10728"/>
                  </a:moveTo>
                  <a:cubicBezTo>
                    <a:pt x="23064" y="15019"/>
                    <a:pt x="11800" y="18773"/>
                    <a:pt x="0" y="21992"/>
                  </a:cubicBezTo>
                  <a:cubicBezTo>
                    <a:pt x="10728" y="15019"/>
                    <a:pt x="21455" y="7509"/>
                    <a:pt x="32719" y="0"/>
                  </a:cubicBezTo>
                  <a:cubicBezTo>
                    <a:pt x="-32280" y="3755"/>
                    <a:pt x="-31744" y="6973"/>
                    <a:pt x="-31207" y="10728"/>
                  </a:cubicBezTo>
                  <a:close/>
                </a:path>
              </a:pathLst>
            </a:custGeom>
            <a:solidFill>
              <a:srgbClr val="524f66"/>
            </a:solidFill>
            <a:ln w="0">
              <a:noFill/>
            </a:ln>
          </p:spPr>
          <p:style>
            <a:lnRef idx="0"/>
            <a:fillRef idx="0"/>
            <a:effectRef idx="0"/>
            <a:fontRef idx="minor"/>
          </p:style>
          <p:txBody>
            <a:bodyPr lIns="90000" rIns="90000" tIns="-29880" bIns="-29880" anchor="ctr">
              <a:noAutofit/>
            </a:bodyPr>
            <a:p>
              <a:endParaRPr b="0" lang="en-US" sz="1800" spc="-1" strike="noStrike">
                <a:solidFill>
                  <a:srgbClr val="313c3f"/>
                </a:solidFill>
                <a:latin typeface="Source Sans Pro"/>
              </a:endParaRPr>
            </a:p>
          </p:txBody>
        </p:sp>
        <p:sp>
          <p:nvSpPr>
            <p:cNvPr id="2572" name="Freeform: Shape 375"/>
            <p:cNvSpPr/>
            <p:nvPr/>
          </p:nvSpPr>
          <p:spPr>
            <a:xfrm>
              <a:off x="8139600" y="1940400"/>
              <a:ext cx="186480" cy="263880"/>
            </a:xfrm>
            <a:custGeom>
              <a:avLst/>
              <a:gdLst/>
              <a:ahLst/>
              <a:rect l="l" t="t" r="r" b="b"/>
              <a:pathLst>
                <a:path w="240729" h="340069">
                  <a:moveTo>
                    <a:pt x="236625" y="194693"/>
                  </a:moveTo>
                  <a:cubicBezTo>
                    <a:pt x="232334" y="216148"/>
                    <a:pt x="225361" y="237604"/>
                    <a:pt x="216242" y="257450"/>
                  </a:cubicBezTo>
                  <a:cubicBezTo>
                    <a:pt x="214097" y="262277"/>
                    <a:pt x="211951" y="266568"/>
                    <a:pt x="209269" y="270860"/>
                  </a:cubicBezTo>
                  <a:cubicBezTo>
                    <a:pt x="205515" y="278369"/>
                    <a:pt x="201224" y="285342"/>
                    <a:pt x="196396" y="291779"/>
                  </a:cubicBezTo>
                  <a:cubicBezTo>
                    <a:pt x="191032" y="298751"/>
                    <a:pt x="184596" y="306261"/>
                    <a:pt x="177623" y="312697"/>
                  </a:cubicBezTo>
                  <a:cubicBezTo>
                    <a:pt x="160995" y="328253"/>
                    <a:pt x="140612" y="340589"/>
                    <a:pt x="119693" y="340053"/>
                  </a:cubicBezTo>
                  <a:cubicBezTo>
                    <a:pt x="102529" y="339517"/>
                    <a:pt x="85365" y="330398"/>
                    <a:pt x="70883" y="319134"/>
                  </a:cubicBezTo>
                  <a:cubicBezTo>
                    <a:pt x="64982" y="314843"/>
                    <a:pt x="59618" y="310016"/>
                    <a:pt x="54791" y="304652"/>
                  </a:cubicBezTo>
                  <a:cubicBezTo>
                    <a:pt x="53718" y="303579"/>
                    <a:pt x="52646" y="302506"/>
                    <a:pt x="51573" y="301433"/>
                  </a:cubicBezTo>
                  <a:cubicBezTo>
                    <a:pt x="38700" y="286951"/>
                    <a:pt x="30654" y="270323"/>
                    <a:pt x="23144" y="252623"/>
                  </a:cubicBezTo>
                  <a:cubicBezTo>
                    <a:pt x="22072" y="250477"/>
                    <a:pt x="21535" y="248331"/>
                    <a:pt x="20463" y="246186"/>
                  </a:cubicBezTo>
                  <a:cubicBezTo>
                    <a:pt x="16171" y="235458"/>
                    <a:pt x="11880" y="224731"/>
                    <a:pt x="8662" y="213467"/>
                  </a:cubicBezTo>
                  <a:cubicBezTo>
                    <a:pt x="3835" y="195230"/>
                    <a:pt x="616" y="176456"/>
                    <a:pt x="80" y="158219"/>
                  </a:cubicBezTo>
                  <a:cubicBezTo>
                    <a:pt x="-456" y="136227"/>
                    <a:pt x="1689" y="114236"/>
                    <a:pt x="7053" y="92244"/>
                  </a:cubicBezTo>
                  <a:cubicBezTo>
                    <a:pt x="7053" y="91708"/>
                    <a:pt x="7053" y="91708"/>
                    <a:pt x="7053" y="91171"/>
                  </a:cubicBezTo>
                  <a:cubicBezTo>
                    <a:pt x="8662" y="83662"/>
                    <a:pt x="10808" y="75616"/>
                    <a:pt x="13489" y="68107"/>
                  </a:cubicBezTo>
                  <a:cubicBezTo>
                    <a:pt x="17781" y="55234"/>
                    <a:pt x="22072" y="42897"/>
                    <a:pt x="26899" y="30023"/>
                  </a:cubicBezTo>
                  <a:cubicBezTo>
                    <a:pt x="29045" y="24123"/>
                    <a:pt x="31190" y="17687"/>
                    <a:pt x="35481" y="12859"/>
                  </a:cubicBezTo>
                  <a:cubicBezTo>
                    <a:pt x="38700" y="9105"/>
                    <a:pt x="43527" y="6423"/>
                    <a:pt x="48354" y="4813"/>
                  </a:cubicBezTo>
                  <a:cubicBezTo>
                    <a:pt x="68737" y="-3232"/>
                    <a:pt x="91265" y="-14"/>
                    <a:pt x="112184" y="5886"/>
                  </a:cubicBezTo>
                  <a:cubicBezTo>
                    <a:pt x="145976" y="15541"/>
                    <a:pt x="177623" y="32169"/>
                    <a:pt x="204442" y="54697"/>
                  </a:cubicBezTo>
                  <a:cubicBezTo>
                    <a:pt x="215170" y="63279"/>
                    <a:pt x="226434" y="74007"/>
                    <a:pt x="230725" y="86880"/>
                  </a:cubicBezTo>
                  <a:cubicBezTo>
                    <a:pt x="242525" y="122281"/>
                    <a:pt x="243062" y="158755"/>
                    <a:pt x="236625" y="19469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73" name="Freeform: Shape 376"/>
            <p:cNvSpPr/>
            <p:nvPr/>
          </p:nvSpPr>
          <p:spPr>
            <a:xfrm>
              <a:off x="8205480" y="2320200"/>
              <a:ext cx="68760" cy="48600"/>
            </a:xfrm>
            <a:custGeom>
              <a:avLst/>
              <a:gdLst/>
              <a:ahLst/>
              <a:rect l="l" t="t" r="r" b="b"/>
              <a:pathLst>
                <a:path w="89039" h="62756">
                  <a:moveTo>
                    <a:pt x="89040" y="2682"/>
                  </a:moveTo>
                  <a:cubicBezTo>
                    <a:pt x="86358" y="16091"/>
                    <a:pt x="83139" y="30037"/>
                    <a:pt x="80458" y="44520"/>
                  </a:cubicBezTo>
                  <a:lnTo>
                    <a:pt x="65975" y="49884"/>
                  </a:lnTo>
                  <a:lnTo>
                    <a:pt x="41838" y="59002"/>
                  </a:lnTo>
                  <a:lnTo>
                    <a:pt x="32183" y="62757"/>
                  </a:lnTo>
                  <a:cubicBezTo>
                    <a:pt x="25746" y="45056"/>
                    <a:pt x="13946" y="21992"/>
                    <a:pt x="0" y="0"/>
                  </a:cubicBezTo>
                  <a:cubicBezTo>
                    <a:pt x="12337" y="5900"/>
                    <a:pt x="25210" y="10191"/>
                    <a:pt x="38620" y="11264"/>
                  </a:cubicBezTo>
                  <a:cubicBezTo>
                    <a:pt x="55784" y="12337"/>
                    <a:pt x="72948" y="9655"/>
                    <a:pt x="89040" y="2682"/>
                  </a:cubicBezTo>
                  <a:close/>
                </a:path>
              </a:pathLst>
            </a:custGeom>
            <a:solidFill>
              <a:srgbClr val="a7a9ac"/>
            </a:solidFill>
            <a:ln w="0">
              <a:noFill/>
            </a:ln>
          </p:spPr>
          <p:style>
            <a:lnRef idx="0"/>
            <a:fillRef idx="0"/>
            <a:effectRef idx="0"/>
            <a:fontRef idx="minor"/>
          </p:style>
          <p:txBody>
            <a:bodyPr lIns="90000" rIns="90000" tIns="1800" bIns="1800" anchor="ctr">
              <a:noAutofit/>
            </a:bodyPr>
            <a:p>
              <a:endParaRPr b="0" lang="en-US" sz="1800" spc="-1" strike="noStrike">
                <a:solidFill>
                  <a:srgbClr val="313c3f"/>
                </a:solidFill>
                <a:latin typeface="Source Sans Pro"/>
              </a:endParaRPr>
            </a:p>
          </p:txBody>
        </p:sp>
        <p:sp>
          <p:nvSpPr>
            <p:cNvPr id="2574" name="Freeform: Shape 377"/>
            <p:cNvSpPr/>
            <p:nvPr/>
          </p:nvSpPr>
          <p:spPr>
            <a:xfrm>
              <a:off x="8175960" y="2175120"/>
              <a:ext cx="101160" cy="60120"/>
            </a:xfrm>
            <a:custGeom>
              <a:avLst/>
              <a:gdLst/>
              <a:ahLst/>
              <a:rect l="l" t="t" r="r" b="b"/>
              <a:pathLst>
                <a:path w="130877" h="77641">
                  <a:moveTo>
                    <a:pt x="130878" y="10728"/>
                  </a:moveTo>
                  <a:cubicBezTo>
                    <a:pt x="128196" y="13946"/>
                    <a:pt x="126050" y="16628"/>
                    <a:pt x="123905" y="19310"/>
                  </a:cubicBezTo>
                  <a:cubicBezTo>
                    <a:pt x="107277" y="38620"/>
                    <a:pt x="86894" y="54175"/>
                    <a:pt x="63830" y="64366"/>
                  </a:cubicBezTo>
                  <a:cubicBezTo>
                    <a:pt x="50956" y="70266"/>
                    <a:pt x="37547" y="74557"/>
                    <a:pt x="23601" y="76703"/>
                  </a:cubicBezTo>
                  <a:cubicBezTo>
                    <a:pt x="16092" y="77776"/>
                    <a:pt x="7509" y="78312"/>
                    <a:pt x="0" y="76166"/>
                  </a:cubicBezTo>
                  <a:cubicBezTo>
                    <a:pt x="4827" y="50956"/>
                    <a:pt x="8582" y="20919"/>
                    <a:pt x="5900" y="0"/>
                  </a:cubicBezTo>
                  <a:cubicBezTo>
                    <a:pt x="6973" y="1073"/>
                    <a:pt x="8046" y="2146"/>
                    <a:pt x="9119" y="3218"/>
                  </a:cubicBezTo>
                  <a:cubicBezTo>
                    <a:pt x="25746" y="20383"/>
                    <a:pt x="49884" y="37547"/>
                    <a:pt x="73485" y="38083"/>
                  </a:cubicBezTo>
                  <a:cubicBezTo>
                    <a:pt x="93867" y="38620"/>
                    <a:pt x="114250" y="26283"/>
                    <a:pt x="130878" y="10728"/>
                  </a:cubicBezTo>
                  <a:close/>
                </a:path>
              </a:pathLst>
            </a:custGeom>
            <a:solidFill>
              <a:srgbClr val="cf9e76"/>
            </a:solidFill>
            <a:ln w="0">
              <a:noFill/>
            </a:ln>
          </p:spPr>
          <p:style>
            <a:lnRef idx="0"/>
            <a:fillRef idx="0"/>
            <a:effectRef idx="0"/>
            <a:fontRef idx="minor"/>
          </p:style>
          <p:txBody>
            <a:bodyPr lIns="90000" rIns="90000" tIns="13320" bIns="13320" anchor="ctr">
              <a:noAutofit/>
            </a:bodyPr>
            <a:p>
              <a:endParaRPr b="0" lang="en-US" sz="1800" spc="-1" strike="noStrike">
                <a:solidFill>
                  <a:srgbClr val="313c3f"/>
                </a:solidFill>
                <a:latin typeface="Source Sans Pro"/>
              </a:endParaRPr>
            </a:p>
          </p:txBody>
        </p:sp>
        <p:sp>
          <p:nvSpPr>
            <p:cNvPr id="2575" name="Freeform: Shape 378"/>
            <p:cNvSpPr/>
            <p:nvPr/>
          </p:nvSpPr>
          <p:spPr>
            <a:xfrm>
              <a:off x="8139960" y="2005920"/>
              <a:ext cx="21960" cy="131040"/>
            </a:xfrm>
            <a:custGeom>
              <a:avLst/>
              <a:gdLst/>
              <a:ahLst/>
              <a:rect l="l" t="t" r="r" b="b"/>
              <a:pathLst>
                <a:path w="28549" h="168912">
                  <a:moveTo>
                    <a:pt x="18853" y="45008"/>
                  </a:moveTo>
                  <a:cubicBezTo>
                    <a:pt x="16171" y="86309"/>
                    <a:pt x="15099" y="128684"/>
                    <a:pt x="23145" y="168912"/>
                  </a:cubicBezTo>
                  <a:cubicBezTo>
                    <a:pt x="22072" y="166767"/>
                    <a:pt x="21535" y="164621"/>
                    <a:pt x="20463" y="162476"/>
                  </a:cubicBezTo>
                  <a:cubicBezTo>
                    <a:pt x="16171" y="151748"/>
                    <a:pt x="11880" y="141020"/>
                    <a:pt x="8662" y="129756"/>
                  </a:cubicBezTo>
                  <a:cubicBezTo>
                    <a:pt x="3835" y="111519"/>
                    <a:pt x="616" y="92746"/>
                    <a:pt x="80" y="74509"/>
                  </a:cubicBezTo>
                  <a:cubicBezTo>
                    <a:pt x="-456" y="52517"/>
                    <a:pt x="1689" y="30526"/>
                    <a:pt x="7053" y="8534"/>
                  </a:cubicBezTo>
                  <a:cubicBezTo>
                    <a:pt x="8126" y="6925"/>
                    <a:pt x="9735" y="5852"/>
                    <a:pt x="10808" y="4779"/>
                  </a:cubicBezTo>
                  <a:cubicBezTo>
                    <a:pt x="12953" y="3170"/>
                    <a:pt x="15099" y="1561"/>
                    <a:pt x="17244" y="488"/>
                  </a:cubicBezTo>
                  <a:cubicBezTo>
                    <a:pt x="19926" y="-585"/>
                    <a:pt x="27436" y="-48"/>
                    <a:pt x="28508" y="3706"/>
                  </a:cubicBezTo>
                  <a:cubicBezTo>
                    <a:pt x="29045" y="6388"/>
                    <a:pt x="24217" y="12825"/>
                    <a:pt x="23145" y="16043"/>
                  </a:cubicBezTo>
                  <a:cubicBezTo>
                    <a:pt x="20463" y="25162"/>
                    <a:pt x="19390" y="35353"/>
                    <a:pt x="18853" y="450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76" name="Freeform: Shape 379"/>
            <p:cNvSpPr/>
            <p:nvPr/>
          </p:nvSpPr>
          <p:spPr>
            <a:xfrm>
              <a:off x="8201520" y="2144160"/>
              <a:ext cx="60480" cy="28800"/>
            </a:xfrm>
            <a:custGeom>
              <a:avLst/>
              <a:gdLst/>
              <a:ahLst/>
              <a:rect l="l" t="t" r="r" b="b"/>
              <a:pathLst>
                <a:path w="78311" h="37370">
                  <a:moveTo>
                    <a:pt x="59538" y="31110"/>
                  </a:moveTo>
                  <a:cubicBezTo>
                    <a:pt x="70803" y="24674"/>
                    <a:pt x="76166" y="14482"/>
                    <a:pt x="78312" y="0"/>
                  </a:cubicBezTo>
                  <a:cubicBezTo>
                    <a:pt x="70266" y="14482"/>
                    <a:pt x="54711" y="21992"/>
                    <a:pt x="39156" y="21992"/>
                  </a:cubicBezTo>
                  <a:cubicBezTo>
                    <a:pt x="27355" y="21992"/>
                    <a:pt x="15019" y="16091"/>
                    <a:pt x="6973" y="6973"/>
                  </a:cubicBezTo>
                  <a:cubicBezTo>
                    <a:pt x="5900" y="5900"/>
                    <a:pt x="3218" y="3218"/>
                    <a:pt x="0" y="0"/>
                  </a:cubicBezTo>
                  <a:cubicBezTo>
                    <a:pt x="1073" y="4291"/>
                    <a:pt x="20919" y="54711"/>
                    <a:pt x="59538" y="31110"/>
                  </a:cubicBezTo>
                  <a:close/>
                </a:path>
              </a:pathLst>
            </a:custGeom>
            <a:solidFill>
              <a:srgbClr val="cf9e76"/>
            </a:solidFill>
            <a:ln w="0">
              <a:noFill/>
            </a:ln>
          </p:spPr>
          <p:style>
            <a:lnRef idx="0"/>
            <a:fillRef idx="0"/>
            <a:effectRef idx="0"/>
            <a:fontRef idx="minor"/>
          </p:style>
          <p:txBody>
            <a:bodyPr lIns="90000" rIns="90000" tIns="-18000" bIns="-18000" anchor="ctr">
              <a:noAutofit/>
            </a:bodyPr>
            <a:p>
              <a:endParaRPr b="0" lang="en-US" sz="1800" spc="-1" strike="noStrike">
                <a:solidFill>
                  <a:srgbClr val="313c3f"/>
                </a:solidFill>
                <a:latin typeface="Source Sans Pro"/>
              </a:endParaRPr>
            </a:p>
          </p:txBody>
        </p:sp>
        <p:sp>
          <p:nvSpPr>
            <p:cNvPr id="2577" name="Freeform: Shape 380"/>
            <p:cNvSpPr/>
            <p:nvPr/>
          </p:nvSpPr>
          <p:spPr>
            <a:xfrm>
              <a:off x="8216280" y="2113560"/>
              <a:ext cx="31320" cy="13680"/>
            </a:xfrm>
            <a:custGeom>
              <a:avLst/>
              <a:gdLst/>
              <a:ahLst/>
              <a:rect l="l" t="t" r="r" b="b"/>
              <a:pathLst>
                <a:path w="40553" h="17955">
                  <a:moveTo>
                    <a:pt x="1077" y="6322"/>
                  </a:moveTo>
                  <a:cubicBezTo>
                    <a:pt x="2686" y="8468"/>
                    <a:pt x="4832" y="9541"/>
                    <a:pt x="6977" y="10613"/>
                  </a:cubicBezTo>
                  <a:cubicBezTo>
                    <a:pt x="10196" y="12759"/>
                    <a:pt x="12341" y="15441"/>
                    <a:pt x="16096" y="17050"/>
                  </a:cubicBezTo>
                  <a:cubicBezTo>
                    <a:pt x="19850" y="18659"/>
                    <a:pt x="24142" y="18123"/>
                    <a:pt x="27360" y="15441"/>
                  </a:cubicBezTo>
                  <a:cubicBezTo>
                    <a:pt x="30042" y="13295"/>
                    <a:pt x="32187" y="9541"/>
                    <a:pt x="35942" y="8468"/>
                  </a:cubicBezTo>
                  <a:cubicBezTo>
                    <a:pt x="37015" y="7932"/>
                    <a:pt x="38087" y="7932"/>
                    <a:pt x="39160" y="7395"/>
                  </a:cubicBezTo>
                  <a:cubicBezTo>
                    <a:pt x="39697" y="6859"/>
                    <a:pt x="40233" y="5786"/>
                    <a:pt x="40233" y="4713"/>
                  </a:cubicBezTo>
                  <a:cubicBezTo>
                    <a:pt x="40769" y="3104"/>
                    <a:pt x="40769" y="959"/>
                    <a:pt x="39160" y="422"/>
                  </a:cubicBezTo>
                  <a:cubicBezTo>
                    <a:pt x="38087" y="-114"/>
                    <a:pt x="37015" y="422"/>
                    <a:pt x="35942" y="959"/>
                  </a:cubicBezTo>
                  <a:cubicBezTo>
                    <a:pt x="32187" y="3104"/>
                    <a:pt x="29505" y="6322"/>
                    <a:pt x="25751" y="7932"/>
                  </a:cubicBezTo>
                  <a:cubicBezTo>
                    <a:pt x="21460" y="9541"/>
                    <a:pt x="16632" y="9004"/>
                    <a:pt x="12878" y="6322"/>
                  </a:cubicBezTo>
                  <a:cubicBezTo>
                    <a:pt x="11268" y="4713"/>
                    <a:pt x="9659" y="3104"/>
                    <a:pt x="8050" y="1495"/>
                  </a:cubicBezTo>
                  <a:cubicBezTo>
                    <a:pt x="4295" y="-1723"/>
                    <a:pt x="-2678" y="422"/>
                    <a:pt x="1077" y="6322"/>
                  </a:cubicBezTo>
                  <a:close/>
                </a:path>
              </a:pathLst>
            </a:custGeom>
            <a:solidFill>
              <a:srgbClr val="cf9e76"/>
            </a:solidFill>
            <a:ln w="0">
              <a:noFill/>
            </a:ln>
          </p:spPr>
          <p:style>
            <a:lnRef idx="0"/>
            <a:fillRef idx="0"/>
            <a:effectRef idx="0"/>
            <a:fontRef idx="minor"/>
          </p:style>
          <p:txBody>
            <a:bodyPr lIns="90000" rIns="90000" tIns="-33120" bIns="-33120" anchor="ctr">
              <a:noAutofit/>
            </a:bodyPr>
            <a:p>
              <a:endParaRPr b="0" lang="en-US" sz="1800" spc="-1" strike="noStrike">
                <a:solidFill>
                  <a:srgbClr val="313c3f"/>
                </a:solidFill>
                <a:latin typeface="Source Sans Pro"/>
              </a:endParaRPr>
            </a:p>
          </p:txBody>
        </p:sp>
        <p:pic>
          <p:nvPicPr>
            <p:cNvPr id="2578" name="Graphic 120" descr=""/>
            <p:cNvPicPr/>
            <p:nvPr/>
          </p:nvPicPr>
          <p:blipFill>
            <a:blip r:embed="rId15"/>
            <a:stretch/>
          </p:blipFill>
          <p:spPr>
            <a:xfrm>
              <a:off x="8144280" y="1968840"/>
              <a:ext cx="176760" cy="219240"/>
            </a:xfrm>
            <a:prstGeom prst="rect">
              <a:avLst/>
            </a:prstGeom>
            <a:ln w="0">
              <a:noFill/>
            </a:ln>
          </p:spPr>
        </p:pic>
        <p:sp>
          <p:nvSpPr>
            <p:cNvPr id="2579" name="Freeform: Shape 382"/>
            <p:cNvSpPr/>
            <p:nvPr/>
          </p:nvSpPr>
          <p:spPr>
            <a:xfrm>
              <a:off x="8251920" y="2054520"/>
              <a:ext cx="45000" cy="21960"/>
            </a:xfrm>
            <a:custGeom>
              <a:avLst/>
              <a:gdLst/>
              <a:ahLst/>
              <a:rect l="l" t="t" r="r" b="b"/>
              <a:pathLst>
                <a:path w="58035" h="28476">
                  <a:moveTo>
                    <a:pt x="56963" y="8094"/>
                  </a:moveTo>
                  <a:cubicBezTo>
                    <a:pt x="57500" y="8094"/>
                    <a:pt x="58036" y="8631"/>
                    <a:pt x="58036" y="9167"/>
                  </a:cubicBezTo>
                  <a:cubicBezTo>
                    <a:pt x="58036" y="9703"/>
                    <a:pt x="58036" y="9703"/>
                    <a:pt x="58036" y="10240"/>
                  </a:cubicBezTo>
                  <a:cubicBezTo>
                    <a:pt x="57500" y="12922"/>
                    <a:pt x="55890" y="15067"/>
                    <a:pt x="53745" y="17213"/>
                  </a:cubicBezTo>
                  <a:cubicBezTo>
                    <a:pt x="49990" y="20967"/>
                    <a:pt x="45699" y="24186"/>
                    <a:pt x="40335" y="26331"/>
                  </a:cubicBezTo>
                  <a:cubicBezTo>
                    <a:pt x="34971" y="28477"/>
                    <a:pt x="29608" y="29013"/>
                    <a:pt x="24244" y="27940"/>
                  </a:cubicBezTo>
                  <a:cubicBezTo>
                    <a:pt x="22635" y="27404"/>
                    <a:pt x="20489" y="26868"/>
                    <a:pt x="18880" y="26331"/>
                  </a:cubicBezTo>
                  <a:cubicBezTo>
                    <a:pt x="14589" y="25258"/>
                    <a:pt x="10298" y="24186"/>
                    <a:pt x="5470" y="23649"/>
                  </a:cubicBezTo>
                  <a:cubicBezTo>
                    <a:pt x="3861" y="23649"/>
                    <a:pt x="1179" y="23649"/>
                    <a:pt x="106" y="22040"/>
                  </a:cubicBezTo>
                  <a:cubicBezTo>
                    <a:pt x="-430" y="20431"/>
                    <a:pt x="1179" y="18285"/>
                    <a:pt x="2252" y="17213"/>
                  </a:cubicBezTo>
                  <a:cubicBezTo>
                    <a:pt x="5470" y="13994"/>
                    <a:pt x="9225" y="11312"/>
                    <a:pt x="12443" y="8631"/>
                  </a:cubicBezTo>
                  <a:cubicBezTo>
                    <a:pt x="16734" y="5949"/>
                    <a:pt x="21026" y="3267"/>
                    <a:pt x="25853" y="1121"/>
                  </a:cubicBezTo>
                  <a:cubicBezTo>
                    <a:pt x="28535" y="48"/>
                    <a:pt x="31753" y="-488"/>
                    <a:pt x="33899" y="585"/>
                  </a:cubicBezTo>
                  <a:cubicBezTo>
                    <a:pt x="33899" y="585"/>
                    <a:pt x="31217" y="1658"/>
                    <a:pt x="31217" y="1658"/>
                  </a:cubicBezTo>
                  <a:cubicBezTo>
                    <a:pt x="32826" y="2194"/>
                    <a:pt x="35508" y="2194"/>
                    <a:pt x="37117" y="2730"/>
                  </a:cubicBezTo>
                  <a:cubicBezTo>
                    <a:pt x="39263" y="3267"/>
                    <a:pt x="41408" y="3267"/>
                    <a:pt x="43554" y="3803"/>
                  </a:cubicBezTo>
                  <a:cubicBezTo>
                    <a:pt x="49454" y="5412"/>
                    <a:pt x="53209" y="6485"/>
                    <a:pt x="5696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313c3f"/>
                </a:solidFill>
                <a:latin typeface="Source Sans Pro"/>
              </a:endParaRPr>
            </a:p>
          </p:txBody>
        </p:sp>
        <p:sp>
          <p:nvSpPr>
            <p:cNvPr id="2580" name="Freeform: Shape 383"/>
            <p:cNvSpPr/>
            <p:nvPr/>
          </p:nvSpPr>
          <p:spPr>
            <a:xfrm>
              <a:off x="8253720" y="2052720"/>
              <a:ext cx="49680" cy="24480"/>
            </a:xfrm>
            <a:custGeom>
              <a:avLst/>
              <a:gdLst/>
              <a:ahLst/>
              <a:rect l="l" t="t" r="r" b="b"/>
              <a:pathLst>
                <a:path w="64366" h="31800">
                  <a:moveTo>
                    <a:pt x="-9752" y="8582"/>
                  </a:moveTo>
                  <a:cubicBezTo>
                    <a:pt x="-7070" y="8582"/>
                    <a:pt x="-4925" y="8046"/>
                    <a:pt x="-2779" y="6973"/>
                  </a:cubicBezTo>
                  <a:cubicBezTo>
                    <a:pt x="-6534" y="14482"/>
                    <a:pt x="-12434" y="20919"/>
                    <a:pt x="-18871" y="25746"/>
                  </a:cubicBezTo>
                  <a:cubicBezTo>
                    <a:pt x="-22625" y="28428"/>
                    <a:pt x="-27453" y="31110"/>
                    <a:pt x="-32280" y="31647"/>
                  </a:cubicBezTo>
                  <a:cubicBezTo>
                    <a:pt x="24674" y="32719"/>
                    <a:pt x="16628" y="27892"/>
                    <a:pt x="8046" y="26283"/>
                  </a:cubicBezTo>
                  <a:cubicBezTo>
                    <a:pt x="15555" y="26283"/>
                    <a:pt x="23064" y="28965"/>
                    <a:pt x="31110" y="28428"/>
                  </a:cubicBezTo>
                  <a:cubicBezTo>
                    <a:pt x="-24771" y="27892"/>
                    <a:pt x="-15652" y="21455"/>
                    <a:pt x="-10825" y="12873"/>
                  </a:cubicBezTo>
                  <a:cubicBezTo>
                    <a:pt x="-15652" y="13410"/>
                    <a:pt x="-20480" y="11800"/>
                    <a:pt x="-24771" y="10728"/>
                  </a:cubicBezTo>
                  <a:cubicBezTo>
                    <a:pt x="-25844" y="10191"/>
                    <a:pt x="-27453" y="10191"/>
                    <a:pt x="-28526" y="9655"/>
                  </a:cubicBezTo>
                  <a:cubicBezTo>
                    <a:pt x="31647" y="8046"/>
                    <a:pt x="25746" y="8046"/>
                    <a:pt x="20383" y="9655"/>
                  </a:cubicBezTo>
                  <a:cubicBezTo>
                    <a:pt x="20383" y="9655"/>
                    <a:pt x="20383" y="9655"/>
                    <a:pt x="19846" y="9655"/>
                  </a:cubicBezTo>
                  <a:cubicBezTo>
                    <a:pt x="17701" y="10728"/>
                    <a:pt x="15555" y="11800"/>
                    <a:pt x="13410" y="13410"/>
                  </a:cubicBezTo>
                  <a:cubicBezTo>
                    <a:pt x="8582" y="16628"/>
                    <a:pt x="4291" y="19310"/>
                    <a:pt x="0" y="21992"/>
                  </a:cubicBezTo>
                  <a:cubicBezTo>
                    <a:pt x="4827" y="15019"/>
                    <a:pt x="10728" y="9118"/>
                    <a:pt x="18237" y="4827"/>
                  </a:cubicBezTo>
                  <a:cubicBezTo>
                    <a:pt x="20919" y="3218"/>
                    <a:pt x="24137" y="1609"/>
                    <a:pt x="27355" y="1073"/>
                  </a:cubicBezTo>
                  <a:cubicBezTo>
                    <a:pt x="32183" y="536"/>
                    <a:pt x="-29062" y="1609"/>
                    <a:pt x="-24235" y="2682"/>
                  </a:cubicBezTo>
                  <a:cubicBezTo>
                    <a:pt x="-21553" y="2146"/>
                    <a:pt x="-18871" y="1609"/>
                    <a:pt x="-16725" y="1073"/>
                  </a:cubicBezTo>
                  <a:cubicBezTo>
                    <a:pt x="-14580" y="536"/>
                    <a:pt x="-12970" y="0"/>
                    <a:pt x="-12970" y="0"/>
                  </a:cubicBezTo>
                  <a:cubicBezTo>
                    <a:pt x="-12970" y="0"/>
                    <a:pt x="-14043" y="1073"/>
                    <a:pt x="-16189" y="2682"/>
                  </a:cubicBezTo>
                  <a:cubicBezTo>
                    <a:pt x="-17261" y="3218"/>
                    <a:pt x="-18334" y="3755"/>
                    <a:pt x="-19407" y="4291"/>
                  </a:cubicBezTo>
                  <a:cubicBezTo>
                    <a:pt x="-18871" y="4291"/>
                    <a:pt x="-18871" y="4291"/>
                    <a:pt x="-18334" y="4291"/>
                  </a:cubicBezTo>
                  <a:cubicBezTo>
                    <a:pt x="-15116" y="3755"/>
                    <a:pt x="-11898" y="3218"/>
                    <a:pt x="-9752" y="2682"/>
                  </a:cubicBezTo>
                  <a:cubicBezTo>
                    <a:pt x="-7607" y="2146"/>
                    <a:pt x="-5998" y="1609"/>
                    <a:pt x="-5998" y="1609"/>
                  </a:cubicBezTo>
                  <a:cubicBezTo>
                    <a:pt x="-5998" y="1609"/>
                    <a:pt x="-7070" y="2682"/>
                    <a:pt x="-9216" y="3755"/>
                  </a:cubicBezTo>
                  <a:cubicBezTo>
                    <a:pt x="-9752" y="4291"/>
                    <a:pt x="-10825" y="4291"/>
                    <a:pt x="-11361" y="4827"/>
                  </a:cubicBezTo>
                  <a:cubicBezTo>
                    <a:pt x="-7607" y="4827"/>
                    <a:pt x="-4388" y="4827"/>
                    <a:pt x="-1170" y="2682"/>
                  </a:cubicBezTo>
                  <a:cubicBezTo>
                    <a:pt x="-3852" y="5900"/>
                    <a:pt x="-7070" y="7509"/>
                    <a:pt x="-975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313c3f"/>
                </a:solidFill>
                <a:latin typeface="Source Sans Pro"/>
              </a:endParaRPr>
            </a:p>
          </p:txBody>
        </p:sp>
        <p:sp>
          <p:nvSpPr>
            <p:cNvPr id="2581" name="Freeform: Shape 384"/>
            <p:cNvSpPr/>
            <p:nvPr/>
          </p:nvSpPr>
          <p:spPr>
            <a:xfrm>
              <a:off x="8268120" y="2058840"/>
              <a:ext cx="17280" cy="14400"/>
            </a:xfrm>
            <a:custGeom>
              <a:avLst/>
              <a:gdLst/>
              <a:ahLst/>
              <a:rect l="l" t="t" r="r" b="b"/>
              <a:pathLst>
                <a:path w="22528" h="18579">
                  <a:moveTo>
                    <a:pt x="22528" y="7315"/>
                  </a:moveTo>
                  <a:cubicBezTo>
                    <a:pt x="22528" y="13752"/>
                    <a:pt x="17701" y="18579"/>
                    <a:pt x="11264" y="18579"/>
                  </a:cubicBezTo>
                  <a:cubicBezTo>
                    <a:pt x="4827" y="18579"/>
                    <a:pt x="0" y="13216"/>
                    <a:pt x="0" y="7315"/>
                  </a:cubicBezTo>
                  <a:cubicBezTo>
                    <a:pt x="0" y="5170"/>
                    <a:pt x="536" y="3024"/>
                    <a:pt x="1609" y="1415"/>
                  </a:cubicBezTo>
                  <a:cubicBezTo>
                    <a:pt x="6973" y="-730"/>
                    <a:pt x="12873" y="-194"/>
                    <a:pt x="18237" y="1415"/>
                  </a:cubicBezTo>
                  <a:cubicBezTo>
                    <a:pt x="19310" y="1952"/>
                    <a:pt x="20919" y="1952"/>
                    <a:pt x="21992" y="2488"/>
                  </a:cubicBezTo>
                  <a:cubicBezTo>
                    <a:pt x="22528" y="3561"/>
                    <a:pt x="22528" y="5170"/>
                    <a:pt x="22528"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313c3f"/>
                </a:solidFill>
                <a:latin typeface="Source Sans Pro"/>
              </a:endParaRPr>
            </a:p>
          </p:txBody>
        </p:sp>
        <p:sp>
          <p:nvSpPr>
            <p:cNvPr id="2582" name="Freeform: Shape 385"/>
            <p:cNvSpPr/>
            <p:nvPr/>
          </p:nvSpPr>
          <p:spPr>
            <a:xfrm>
              <a:off x="8272800" y="2058840"/>
              <a:ext cx="9000" cy="9000"/>
            </a:xfrm>
            <a:custGeom>
              <a:avLst/>
              <a:gdLst/>
              <a:ahLst/>
              <a:rect l="l" t="t" r="r" b="b"/>
              <a:pathLst>
                <a:path w="11800" h="11868">
                  <a:moveTo>
                    <a:pt x="11800" y="5969"/>
                  </a:moveTo>
                  <a:cubicBezTo>
                    <a:pt x="11800" y="6505"/>
                    <a:pt x="11800" y="7041"/>
                    <a:pt x="11800" y="7041"/>
                  </a:cubicBezTo>
                  <a:cubicBezTo>
                    <a:pt x="11800" y="8114"/>
                    <a:pt x="11264" y="9187"/>
                    <a:pt x="10191" y="9723"/>
                  </a:cubicBezTo>
                  <a:cubicBezTo>
                    <a:pt x="9119" y="10796"/>
                    <a:pt x="7509" y="11869"/>
                    <a:pt x="5900" y="11869"/>
                  </a:cubicBezTo>
                  <a:cubicBezTo>
                    <a:pt x="2682" y="11869"/>
                    <a:pt x="0" y="9187"/>
                    <a:pt x="0" y="5969"/>
                  </a:cubicBezTo>
                  <a:cubicBezTo>
                    <a:pt x="0" y="2750"/>
                    <a:pt x="2682" y="68"/>
                    <a:pt x="5900" y="68"/>
                  </a:cubicBezTo>
                  <a:cubicBezTo>
                    <a:pt x="9119" y="-468"/>
                    <a:pt x="11800" y="2214"/>
                    <a:pt x="11800" y="5969"/>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313c3f"/>
                </a:solidFill>
                <a:latin typeface="Source Sans Pro"/>
              </a:endParaRPr>
            </a:p>
          </p:txBody>
        </p:sp>
        <p:sp>
          <p:nvSpPr>
            <p:cNvPr id="2583" name="Freeform: Shape 386"/>
            <p:cNvSpPr/>
            <p:nvPr/>
          </p:nvSpPr>
          <p:spPr>
            <a:xfrm>
              <a:off x="8278560" y="205956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313c3f"/>
                </a:solidFill>
                <a:latin typeface="Source Sans Pro"/>
              </a:endParaRPr>
            </a:p>
          </p:txBody>
        </p:sp>
        <p:sp>
          <p:nvSpPr>
            <p:cNvPr id="2584" name="Freeform: Shape 387"/>
            <p:cNvSpPr/>
            <p:nvPr/>
          </p:nvSpPr>
          <p:spPr>
            <a:xfrm>
              <a:off x="8280720" y="2064600"/>
              <a:ext cx="2160" cy="2880"/>
            </a:xfrm>
            <a:custGeom>
              <a:avLst/>
              <a:gdLst/>
              <a:ahLst/>
              <a:rect l="l" t="t" r="r" b="b"/>
              <a:pathLst>
                <a:path w="321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2682" y="0"/>
                    <a:pt x="3218"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313c3f"/>
                </a:solidFill>
                <a:latin typeface="Source Sans Pro"/>
              </a:endParaRPr>
            </a:p>
          </p:txBody>
        </p:sp>
        <p:sp>
          <p:nvSpPr>
            <p:cNvPr id="2585" name="Freeform: Shape 388"/>
            <p:cNvSpPr/>
            <p:nvPr/>
          </p:nvSpPr>
          <p:spPr>
            <a:xfrm>
              <a:off x="8248680" y="2036880"/>
              <a:ext cx="59040" cy="17280"/>
            </a:xfrm>
            <a:custGeom>
              <a:avLst/>
              <a:gdLst/>
              <a:ahLst/>
              <a:rect l="l" t="t" r="r" b="b"/>
              <a:pathLst>
                <a:path w="76190" h="22633">
                  <a:moveTo>
                    <a:pt x="1634" y="22633"/>
                  </a:moveTo>
                  <a:cubicBezTo>
                    <a:pt x="24" y="19415"/>
                    <a:pt x="-1048" y="14588"/>
                    <a:pt x="1634" y="12442"/>
                  </a:cubicBezTo>
                  <a:cubicBezTo>
                    <a:pt x="2170" y="11906"/>
                    <a:pt x="3243" y="11906"/>
                    <a:pt x="3779" y="11369"/>
                  </a:cubicBezTo>
                  <a:cubicBezTo>
                    <a:pt x="13434" y="8687"/>
                    <a:pt x="23625" y="6005"/>
                    <a:pt x="33280" y="2787"/>
                  </a:cubicBezTo>
                  <a:cubicBezTo>
                    <a:pt x="38644" y="1178"/>
                    <a:pt x="44008" y="-431"/>
                    <a:pt x="49908" y="105"/>
                  </a:cubicBezTo>
                  <a:cubicBezTo>
                    <a:pt x="59563" y="642"/>
                    <a:pt x="68145" y="7615"/>
                    <a:pt x="76191" y="14588"/>
                  </a:cubicBezTo>
                  <a:cubicBezTo>
                    <a:pt x="71363" y="11906"/>
                    <a:pt x="66536" y="9760"/>
                    <a:pt x="61172" y="7615"/>
                  </a:cubicBezTo>
                  <a:cubicBezTo>
                    <a:pt x="57418" y="6542"/>
                    <a:pt x="53663" y="4933"/>
                    <a:pt x="49908" y="4933"/>
                  </a:cubicBezTo>
                  <a:cubicBezTo>
                    <a:pt x="45081" y="4933"/>
                    <a:pt x="40790" y="6542"/>
                    <a:pt x="36498" y="8151"/>
                  </a:cubicBezTo>
                  <a:cubicBezTo>
                    <a:pt x="25235" y="13515"/>
                    <a:pt x="13970" y="21024"/>
                    <a:pt x="1634"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313c3f"/>
                </a:solidFill>
                <a:latin typeface="Source Sans Pro"/>
              </a:endParaRPr>
            </a:p>
          </p:txBody>
        </p:sp>
        <p:sp>
          <p:nvSpPr>
            <p:cNvPr id="2586" name="Freeform: Shape 389"/>
            <p:cNvSpPr/>
            <p:nvPr/>
          </p:nvSpPr>
          <p:spPr>
            <a:xfrm>
              <a:off x="8165880" y="2054520"/>
              <a:ext cx="45000" cy="21960"/>
            </a:xfrm>
            <a:custGeom>
              <a:avLst/>
              <a:gdLst/>
              <a:ahLst/>
              <a:rect l="l" t="t" r="r" b="b"/>
              <a:pathLst>
                <a:path w="58035" h="28476">
                  <a:moveTo>
                    <a:pt x="1073" y="8094"/>
                  </a:moveTo>
                  <a:cubicBezTo>
                    <a:pt x="536" y="8094"/>
                    <a:pt x="0" y="8631"/>
                    <a:pt x="0" y="9167"/>
                  </a:cubicBezTo>
                  <a:cubicBezTo>
                    <a:pt x="0" y="9703"/>
                    <a:pt x="0" y="9703"/>
                    <a:pt x="0" y="10240"/>
                  </a:cubicBezTo>
                  <a:cubicBezTo>
                    <a:pt x="536" y="12922"/>
                    <a:pt x="2146" y="15067"/>
                    <a:pt x="4291" y="17213"/>
                  </a:cubicBezTo>
                  <a:cubicBezTo>
                    <a:pt x="8046" y="20967"/>
                    <a:pt x="12337" y="24186"/>
                    <a:pt x="17701" y="26331"/>
                  </a:cubicBezTo>
                  <a:cubicBezTo>
                    <a:pt x="22528" y="28477"/>
                    <a:pt x="28428" y="29013"/>
                    <a:pt x="33792" y="27940"/>
                  </a:cubicBezTo>
                  <a:cubicBezTo>
                    <a:pt x="35401" y="27404"/>
                    <a:pt x="37547" y="26868"/>
                    <a:pt x="39156" y="26331"/>
                  </a:cubicBezTo>
                  <a:cubicBezTo>
                    <a:pt x="43447" y="25258"/>
                    <a:pt x="47738" y="24186"/>
                    <a:pt x="52566" y="23649"/>
                  </a:cubicBezTo>
                  <a:cubicBezTo>
                    <a:pt x="54175" y="23649"/>
                    <a:pt x="56857" y="23649"/>
                    <a:pt x="57929" y="22040"/>
                  </a:cubicBezTo>
                  <a:cubicBezTo>
                    <a:pt x="58466" y="20431"/>
                    <a:pt x="56857" y="18285"/>
                    <a:pt x="55784" y="17213"/>
                  </a:cubicBezTo>
                  <a:cubicBezTo>
                    <a:pt x="52566" y="13994"/>
                    <a:pt x="48811" y="11312"/>
                    <a:pt x="45593" y="8631"/>
                  </a:cubicBezTo>
                  <a:cubicBezTo>
                    <a:pt x="41301" y="5949"/>
                    <a:pt x="37010" y="3267"/>
                    <a:pt x="32183" y="1121"/>
                  </a:cubicBezTo>
                  <a:cubicBezTo>
                    <a:pt x="29501" y="48"/>
                    <a:pt x="26283" y="-488"/>
                    <a:pt x="24137" y="585"/>
                  </a:cubicBezTo>
                  <a:cubicBezTo>
                    <a:pt x="24137" y="585"/>
                    <a:pt x="26819" y="1658"/>
                    <a:pt x="26819" y="1658"/>
                  </a:cubicBezTo>
                  <a:cubicBezTo>
                    <a:pt x="25210" y="2194"/>
                    <a:pt x="22528" y="2194"/>
                    <a:pt x="20919" y="2730"/>
                  </a:cubicBezTo>
                  <a:cubicBezTo>
                    <a:pt x="18773" y="3267"/>
                    <a:pt x="16628" y="3267"/>
                    <a:pt x="14482" y="3803"/>
                  </a:cubicBezTo>
                  <a:cubicBezTo>
                    <a:pt x="8582" y="5412"/>
                    <a:pt x="4827" y="6485"/>
                    <a:pt x="107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313c3f"/>
                </a:solidFill>
                <a:latin typeface="Source Sans Pro"/>
              </a:endParaRPr>
            </a:p>
          </p:txBody>
        </p:sp>
        <p:sp>
          <p:nvSpPr>
            <p:cNvPr id="2587" name="Freeform: Shape 390"/>
            <p:cNvSpPr/>
            <p:nvPr/>
          </p:nvSpPr>
          <p:spPr>
            <a:xfrm>
              <a:off x="8159040" y="2052720"/>
              <a:ext cx="49680" cy="24480"/>
            </a:xfrm>
            <a:custGeom>
              <a:avLst/>
              <a:gdLst/>
              <a:ahLst/>
              <a:rect l="l" t="t" r="r" b="b"/>
              <a:pathLst>
                <a:path w="64366" h="31800">
                  <a:moveTo>
                    <a:pt x="8582" y="8582"/>
                  </a:moveTo>
                  <a:cubicBezTo>
                    <a:pt x="5900" y="8582"/>
                    <a:pt x="3755" y="8046"/>
                    <a:pt x="1609" y="6973"/>
                  </a:cubicBezTo>
                  <a:cubicBezTo>
                    <a:pt x="5364" y="14482"/>
                    <a:pt x="11264" y="20919"/>
                    <a:pt x="17701" y="25746"/>
                  </a:cubicBezTo>
                  <a:cubicBezTo>
                    <a:pt x="21455" y="28428"/>
                    <a:pt x="26283" y="31110"/>
                    <a:pt x="31110" y="31647"/>
                  </a:cubicBezTo>
                  <a:cubicBezTo>
                    <a:pt x="-25844" y="32719"/>
                    <a:pt x="-17798" y="27892"/>
                    <a:pt x="-9216" y="26283"/>
                  </a:cubicBezTo>
                  <a:cubicBezTo>
                    <a:pt x="-16725" y="26283"/>
                    <a:pt x="-24234" y="28965"/>
                    <a:pt x="-32280" y="28428"/>
                  </a:cubicBezTo>
                  <a:cubicBezTo>
                    <a:pt x="23601" y="27892"/>
                    <a:pt x="14482" y="21455"/>
                    <a:pt x="9655" y="12873"/>
                  </a:cubicBezTo>
                  <a:cubicBezTo>
                    <a:pt x="14482" y="13410"/>
                    <a:pt x="19310" y="11800"/>
                    <a:pt x="23601" y="10728"/>
                  </a:cubicBezTo>
                  <a:cubicBezTo>
                    <a:pt x="24674" y="10191"/>
                    <a:pt x="26283" y="10191"/>
                    <a:pt x="27356" y="9655"/>
                  </a:cubicBezTo>
                  <a:cubicBezTo>
                    <a:pt x="32719" y="8046"/>
                    <a:pt x="-26916" y="8046"/>
                    <a:pt x="-21552" y="9655"/>
                  </a:cubicBezTo>
                  <a:cubicBezTo>
                    <a:pt x="-21552" y="9655"/>
                    <a:pt x="-21552" y="9655"/>
                    <a:pt x="-21016" y="9655"/>
                  </a:cubicBezTo>
                  <a:cubicBezTo>
                    <a:pt x="-18871" y="10728"/>
                    <a:pt x="-16725" y="11800"/>
                    <a:pt x="-14580" y="13410"/>
                  </a:cubicBezTo>
                  <a:cubicBezTo>
                    <a:pt x="-9752" y="16628"/>
                    <a:pt x="-5461" y="19310"/>
                    <a:pt x="-1170" y="21992"/>
                  </a:cubicBezTo>
                  <a:cubicBezTo>
                    <a:pt x="-5997" y="15019"/>
                    <a:pt x="-11898" y="9118"/>
                    <a:pt x="-19407" y="4827"/>
                  </a:cubicBezTo>
                  <a:cubicBezTo>
                    <a:pt x="-22089" y="3218"/>
                    <a:pt x="-25307" y="1609"/>
                    <a:pt x="-28526" y="1073"/>
                  </a:cubicBezTo>
                  <a:cubicBezTo>
                    <a:pt x="32183" y="536"/>
                    <a:pt x="27892" y="1609"/>
                    <a:pt x="23064" y="2682"/>
                  </a:cubicBezTo>
                  <a:cubicBezTo>
                    <a:pt x="20383" y="2146"/>
                    <a:pt x="17701" y="1609"/>
                    <a:pt x="15555" y="1073"/>
                  </a:cubicBezTo>
                  <a:cubicBezTo>
                    <a:pt x="13410" y="536"/>
                    <a:pt x="11800" y="0"/>
                    <a:pt x="11800" y="0"/>
                  </a:cubicBezTo>
                  <a:cubicBezTo>
                    <a:pt x="11800" y="0"/>
                    <a:pt x="12873" y="1073"/>
                    <a:pt x="15019" y="2682"/>
                  </a:cubicBezTo>
                  <a:cubicBezTo>
                    <a:pt x="16092" y="3218"/>
                    <a:pt x="17164" y="3755"/>
                    <a:pt x="18237" y="4291"/>
                  </a:cubicBezTo>
                  <a:cubicBezTo>
                    <a:pt x="17701" y="4291"/>
                    <a:pt x="17701" y="4291"/>
                    <a:pt x="17164" y="4291"/>
                  </a:cubicBezTo>
                  <a:cubicBezTo>
                    <a:pt x="13946" y="3755"/>
                    <a:pt x="10728" y="3218"/>
                    <a:pt x="8582" y="2682"/>
                  </a:cubicBezTo>
                  <a:cubicBezTo>
                    <a:pt x="6437" y="2146"/>
                    <a:pt x="4827" y="1609"/>
                    <a:pt x="4827" y="1609"/>
                  </a:cubicBezTo>
                  <a:cubicBezTo>
                    <a:pt x="4827" y="1609"/>
                    <a:pt x="5900" y="2682"/>
                    <a:pt x="8046" y="3755"/>
                  </a:cubicBezTo>
                  <a:cubicBezTo>
                    <a:pt x="8582" y="4291"/>
                    <a:pt x="9655" y="4291"/>
                    <a:pt x="10191" y="4827"/>
                  </a:cubicBezTo>
                  <a:cubicBezTo>
                    <a:pt x="6437" y="4827"/>
                    <a:pt x="3218" y="4827"/>
                    <a:pt x="0" y="2682"/>
                  </a:cubicBezTo>
                  <a:cubicBezTo>
                    <a:pt x="2682" y="5900"/>
                    <a:pt x="5364" y="7509"/>
                    <a:pt x="858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313c3f"/>
                </a:solidFill>
                <a:latin typeface="Source Sans Pro"/>
              </a:endParaRPr>
            </a:p>
          </p:txBody>
        </p:sp>
        <p:sp>
          <p:nvSpPr>
            <p:cNvPr id="2588" name="Freeform: Shape 391"/>
            <p:cNvSpPr/>
            <p:nvPr/>
          </p:nvSpPr>
          <p:spPr>
            <a:xfrm>
              <a:off x="8177040" y="2058840"/>
              <a:ext cx="17280" cy="14400"/>
            </a:xfrm>
            <a:custGeom>
              <a:avLst/>
              <a:gdLst/>
              <a:ahLst/>
              <a:rect l="l" t="t" r="r" b="b"/>
              <a:pathLst>
                <a:path w="22528" h="18579">
                  <a:moveTo>
                    <a:pt x="0" y="7315"/>
                  </a:moveTo>
                  <a:cubicBezTo>
                    <a:pt x="0" y="13752"/>
                    <a:pt x="4828" y="18579"/>
                    <a:pt x="11264" y="18579"/>
                  </a:cubicBezTo>
                  <a:cubicBezTo>
                    <a:pt x="17701" y="18579"/>
                    <a:pt x="22528" y="13216"/>
                    <a:pt x="22528" y="7315"/>
                  </a:cubicBezTo>
                  <a:cubicBezTo>
                    <a:pt x="22528" y="5170"/>
                    <a:pt x="21992" y="3024"/>
                    <a:pt x="20919" y="1415"/>
                  </a:cubicBezTo>
                  <a:cubicBezTo>
                    <a:pt x="15555" y="-730"/>
                    <a:pt x="9655" y="-194"/>
                    <a:pt x="4291" y="1415"/>
                  </a:cubicBezTo>
                  <a:cubicBezTo>
                    <a:pt x="3218" y="1952"/>
                    <a:pt x="1609" y="1952"/>
                    <a:pt x="536" y="2488"/>
                  </a:cubicBezTo>
                  <a:cubicBezTo>
                    <a:pt x="0" y="4097"/>
                    <a:pt x="0" y="5706"/>
                    <a:pt x="0"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313c3f"/>
                </a:solidFill>
                <a:latin typeface="Source Sans Pro"/>
              </a:endParaRPr>
            </a:p>
          </p:txBody>
        </p:sp>
        <p:sp>
          <p:nvSpPr>
            <p:cNvPr id="2589" name="Freeform: Shape 392"/>
            <p:cNvSpPr/>
            <p:nvPr/>
          </p:nvSpPr>
          <p:spPr>
            <a:xfrm>
              <a:off x="8182080" y="2059200"/>
              <a:ext cx="9000" cy="9000"/>
            </a:xfrm>
            <a:custGeom>
              <a:avLst/>
              <a:gdLst/>
              <a:ahLst/>
              <a:rect l="l" t="t" r="r" b="b"/>
              <a:pathLst>
                <a:path w="11800" h="11800">
                  <a:moveTo>
                    <a:pt x="11800" y="5900"/>
                  </a:moveTo>
                  <a:cubicBezTo>
                    <a:pt x="11800" y="6437"/>
                    <a:pt x="11800" y="6973"/>
                    <a:pt x="11800" y="6973"/>
                  </a:cubicBezTo>
                  <a:cubicBezTo>
                    <a:pt x="11800" y="8046"/>
                    <a:pt x="11264" y="9118"/>
                    <a:pt x="10191" y="9655"/>
                  </a:cubicBezTo>
                  <a:cubicBezTo>
                    <a:pt x="9119" y="10728"/>
                    <a:pt x="7509" y="11800"/>
                    <a:pt x="5900" y="11800"/>
                  </a:cubicBezTo>
                  <a:cubicBezTo>
                    <a:pt x="2682" y="11800"/>
                    <a:pt x="0" y="9118"/>
                    <a:pt x="0" y="5900"/>
                  </a:cubicBezTo>
                  <a:cubicBezTo>
                    <a:pt x="0" y="2682"/>
                    <a:pt x="2682" y="0"/>
                    <a:pt x="5900" y="0"/>
                  </a:cubicBezTo>
                  <a:cubicBezTo>
                    <a:pt x="9119" y="0"/>
                    <a:pt x="11800" y="2682"/>
                    <a:pt x="11800" y="5900"/>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313c3f"/>
                </a:solidFill>
                <a:latin typeface="Source Sans Pro"/>
              </a:endParaRPr>
            </a:p>
          </p:txBody>
        </p:sp>
        <p:sp>
          <p:nvSpPr>
            <p:cNvPr id="2590" name="Freeform: Shape 393"/>
            <p:cNvSpPr/>
            <p:nvPr/>
          </p:nvSpPr>
          <p:spPr>
            <a:xfrm>
              <a:off x="8187840" y="205992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313c3f"/>
                </a:solidFill>
                <a:latin typeface="Source Sans Pro"/>
              </a:endParaRPr>
            </a:p>
          </p:txBody>
        </p:sp>
        <p:sp>
          <p:nvSpPr>
            <p:cNvPr id="2591" name="Freeform: Shape 394"/>
            <p:cNvSpPr/>
            <p:nvPr/>
          </p:nvSpPr>
          <p:spPr>
            <a:xfrm>
              <a:off x="8190000" y="2064960"/>
              <a:ext cx="2520" cy="2880"/>
            </a:xfrm>
            <a:custGeom>
              <a:avLst/>
              <a:gdLst/>
              <a:ahLst/>
              <a:rect l="l" t="t" r="r" b="b"/>
              <a:pathLst>
                <a:path w="342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3218" y="0"/>
                    <a:pt x="3755"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313c3f"/>
                </a:solidFill>
                <a:latin typeface="Source Sans Pro"/>
              </a:endParaRPr>
            </a:p>
          </p:txBody>
        </p:sp>
        <p:sp>
          <p:nvSpPr>
            <p:cNvPr id="2592" name="Freeform: Shape 395"/>
            <p:cNvSpPr/>
            <p:nvPr/>
          </p:nvSpPr>
          <p:spPr>
            <a:xfrm>
              <a:off x="8150040" y="2036880"/>
              <a:ext cx="62640" cy="17280"/>
            </a:xfrm>
            <a:custGeom>
              <a:avLst/>
              <a:gdLst/>
              <a:ahLst/>
              <a:rect l="l" t="t" r="r" b="b"/>
              <a:pathLst>
                <a:path w="81018" h="22633">
                  <a:moveTo>
                    <a:pt x="79385" y="22633"/>
                  </a:moveTo>
                  <a:cubicBezTo>
                    <a:pt x="80994" y="19415"/>
                    <a:pt x="82067" y="14588"/>
                    <a:pt x="79385" y="12442"/>
                  </a:cubicBezTo>
                  <a:cubicBezTo>
                    <a:pt x="78848" y="11906"/>
                    <a:pt x="77776" y="11906"/>
                    <a:pt x="76703" y="11369"/>
                  </a:cubicBezTo>
                  <a:cubicBezTo>
                    <a:pt x="66512" y="8687"/>
                    <a:pt x="55784" y="6005"/>
                    <a:pt x="45593" y="2787"/>
                  </a:cubicBezTo>
                  <a:cubicBezTo>
                    <a:pt x="39692" y="1178"/>
                    <a:pt x="33792" y="-431"/>
                    <a:pt x="27892" y="105"/>
                  </a:cubicBezTo>
                  <a:cubicBezTo>
                    <a:pt x="17164" y="642"/>
                    <a:pt x="8582" y="7615"/>
                    <a:pt x="0" y="14588"/>
                  </a:cubicBezTo>
                  <a:cubicBezTo>
                    <a:pt x="4828" y="11906"/>
                    <a:pt x="10191" y="9760"/>
                    <a:pt x="15555" y="7615"/>
                  </a:cubicBezTo>
                  <a:cubicBezTo>
                    <a:pt x="19310" y="6542"/>
                    <a:pt x="23065" y="4933"/>
                    <a:pt x="27356" y="4933"/>
                  </a:cubicBezTo>
                  <a:cubicBezTo>
                    <a:pt x="32183" y="4933"/>
                    <a:pt x="37011" y="6542"/>
                    <a:pt x="41838" y="8151"/>
                  </a:cubicBezTo>
                  <a:cubicBezTo>
                    <a:pt x="54175" y="13515"/>
                    <a:pt x="66512" y="21024"/>
                    <a:pt x="79385"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313c3f"/>
                </a:solidFill>
                <a:latin typeface="Source Sans Pro"/>
              </a:endParaRPr>
            </a:p>
          </p:txBody>
        </p:sp>
        <p:sp>
          <p:nvSpPr>
            <p:cNvPr id="2593" name="Freeform: Shape 396"/>
            <p:cNvSpPr/>
            <p:nvPr/>
          </p:nvSpPr>
          <p:spPr>
            <a:xfrm>
              <a:off x="8215920" y="2113560"/>
              <a:ext cx="29880" cy="10080"/>
            </a:xfrm>
            <a:custGeom>
              <a:avLst/>
              <a:gdLst/>
              <a:ahLst/>
              <a:rect l="l" t="t" r="r" b="b"/>
              <a:pathLst>
                <a:path w="38841" h="13029">
                  <a:moveTo>
                    <a:pt x="12023" y="4764"/>
                  </a:moveTo>
                  <a:cubicBezTo>
                    <a:pt x="14168" y="6373"/>
                    <a:pt x="16850" y="7982"/>
                    <a:pt x="19532" y="8519"/>
                  </a:cubicBezTo>
                  <a:cubicBezTo>
                    <a:pt x="22214" y="9055"/>
                    <a:pt x="25432" y="8519"/>
                    <a:pt x="27578" y="6910"/>
                  </a:cubicBezTo>
                  <a:cubicBezTo>
                    <a:pt x="28650" y="6373"/>
                    <a:pt x="29187" y="5301"/>
                    <a:pt x="30260" y="4228"/>
                  </a:cubicBezTo>
                  <a:cubicBezTo>
                    <a:pt x="31332" y="3155"/>
                    <a:pt x="32941" y="2082"/>
                    <a:pt x="34014" y="1546"/>
                  </a:cubicBezTo>
                  <a:cubicBezTo>
                    <a:pt x="35087" y="1010"/>
                    <a:pt x="36160" y="473"/>
                    <a:pt x="36696" y="473"/>
                  </a:cubicBezTo>
                  <a:cubicBezTo>
                    <a:pt x="37769" y="473"/>
                    <a:pt x="38842" y="1546"/>
                    <a:pt x="38842" y="2619"/>
                  </a:cubicBezTo>
                  <a:cubicBezTo>
                    <a:pt x="38842" y="3691"/>
                    <a:pt x="37769" y="4228"/>
                    <a:pt x="37233" y="4764"/>
                  </a:cubicBezTo>
                  <a:cubicBezTo>
                    <a:pt x="35087" y="5837"/>
                    <a:pt x="32405" y="5837"/>
                    <a:pt x="30796" y="7446"/>
                  </a:cubicBezTo>
                  <a:cubicBezTo>
                    <a:pt x="29723" y="7982"/>
                    <a:pt x="28650" y="9055"/>
                    <a:pt x="27578" y="10128"/>
                  </a:cubicBezTo>
                  <a:cubicBezTo>
                    <a:pt x="24359" y="12810"/>
                    <a:pt x="21678" y="13883"/>
                    <a:pt x="17386" y="12274"/>
                  </a:cubicBezTo>
                  <a:cubicBezTo>
                    <a:pt x="13632" y="10664"/>
                    <a:pt x="10950" y="6373"/>
                    <a:pt x="7195" y="5301"/>
                  </a:cubicBezTo>
                  <a:cubicBezTo>
                    <a:pt x="6122" y="4764"/>
                    <a:pt x="3977" y="4764"/>
                    <a:pt x="2368" y="4764"/>
                  </a:cubicBezTo>
                  <a:cubicBezTo>
                    <a:pt x="1831" y="4764"/>
                    <a:pt x="758" y="4228"/>
                    <a:pt x="222" y="3691"/>
                  </a:cubicBezTo>
                  <a:cubicBezTo>
                    <a:pt x="-314" y="2619"/>
                    <a:pt x="222" y="1546"/>
                    <a:pt x="758" y="1010"/>
                  </a:cubicBezTo>
                  <a:cubicBezTo>
                    <a:pt x="5586" y="-2209"/>
                    <a:pt x="9877" y="3155"/>
                    <a:pt x="12023" y="4764"/>
                  </a:cubicBezTo>
                  <a:close/>
                </a:path>
              </a:pathLst>
            </a:custGeom>
            <a:solidFill>
              <a:srgbClr val="000000"/>
            </a:solidFill>
            <a:ln w="0">
              <a:noFill/>
            </a:ln>
          </p:spPr>
          <p:style>
            <a:lnRef idx="0"/>
            <a:fillRef idx="0"/>
            <a:effectRef idx="0"/>
            <a:fontRef idx="minor"/>
          </p:style>
          <p:txBody>
            <a:bodyPr lIns="90000" rIns="90000" tIns="-36720" bIns="-36720" anchor="ctr">
              <a:noAutofit/>
            </a:bodyPr>
            <a:p>
              <a:endParaRPr b="0" lang="en-US" sz="1800" spc="-1" strike="noStrike">
                <a:solidFill>
                  <a:srgbClr val="313c3f"/>
                </a:solidFill>
                <a:latin typeface="Source Sans Pro"/>
              </a:endParaRPr>
            </a:p>
          </p:txBody>
        </p:sp>
        <p:sp>
          <p:nvSpPr>
            <p:cNvPr id="2594" name="Freeform: Shape 397"/>
            <p:cNvSpPr/>
            <p:nvPr/>
          </p:nvSpPr>
          <p:spPr>
            <a:xfrm>
              <a:off x="8198280" y="2136600"/>
              <a:ext cx="68400" cy="33480"/>
            </a:xfrm>
            <a:custGeom>
              <a:avLst/>
              <a:gdLst/>
              <a:ahLst/>
              <a:rect l="l" t="t" r="r" b="b"/>
              <a:pathLst>
                <a:path w="88503" h="43570">
                  <a:moveTo>
                    <a:pt x="0" y="9320"/>
                  </a:moveTo>
                  <a:cubicBezTo>
                    <a:pt x="8046" y="23802"/>
                    <a:pt x="18773" y="33993"/>
                    <a:pt x="32183" y="40430"/>
                  </a:cubicBezTo>
                  <a:cubicBezTo>
                    <a:pt x="34329" y="41503"/>
                    <a:pt x="36474" y="42575"/>
                    <a:pt x="38620" y="43112"/>
                  </a:cubicBezTo>
                  <a:cubicBezTo>
                    <a:pt x="42911" y="44185"/>
                    <a:pt x="47738" y="43112"/>
                    <a:pt x="51493" y="42575"/>
                  </a:cubicBezTo>
                  <a:cubicBezTo>
                    <a:pt x="60075" y="40966"/>
                    <a:pt x="68121" y="36675"/>
                    <a:pt x="75094" y="29702"/>
                  </a:cubicBezTo>
                  <a:cubicBezTo>
                    <a:pt x="80458" y="23802"/>
                    <a:pt x="84212" y="17365"/>
                    <a:pt x="88503" y="10392"/>
                  </a:cubicBezTo>
                  <a:cubicBezTo>
                    <a:pt x="78312" y="9856"/>
                    <a:pt x="63293" y="2883"/>
                    <a:pt x="55784" y="201"/>
                  </a:cubicBezTo>
                  <a:cubicBezTo>
                    <a:pt x="53638" y="-335"/>
                    <a:pt x="52029" y="201"/>
                    <a:pt x="50420" y="1810"/>
                  </a:cubicBezTo>
                  <a:cubicBezTo>
                    <a:pt x="48811" y="3419"/>
                    <a:pt x="46665" y="3956"/>
                    <a:pt x="45056" y="3956"/>
                  </a:cubicBezTo>
                  <a:cubicBezTo>
                    <a:pt x="43447" y="3956"/>
                    <a:pt x="41838" y="3419"/>
                    <a:pt x="40229" y="2347"/>
                  </a:cubicBezTo>
                  <a:cubicBezTo>
                    <a:pt x="37547" y="738"/>
                    <a:pt x="34865" y="738"/>
                    <a:pt x="32183" y="1810"/>
                  </a:cubicBezTo>
                  <a:cubicBezTo>
                    <a:pt x="19310" y="6101"/>
                    <a:pt x="6973" y="7711"/>
                    <a:pt x="0" y="9320"/>
                  </a:cubicBezTo>
                  <a:close/>
                </a:path>
              </a:pathLst>
            </a:custGeom>
            <a:solidFill>
              <a:srgbClr val="be1e2d"/>
            </a:solidFill>
            <a:ln w="0">
              <a:noFill/>
            </a:ln>
          </p:spPr>
          <p:style>
            <a:lnRef idx="0"/>
            <a:fillRef idx="0"/>
            <a:effectRef idx="0"/>
            <a:fontRef idx="minor"/>
          </p:style>
          <p:txBody>
            <a:bodyPr lIns="90000" rIns="90000" tIns="-13320" bIns="-13320" anchor="ctr">
              <a:noAutofit/>
            </a:bodyPr>
            <a:p>
              <a:endParaRPr b="0" lang="en-US" sz="1800" spc="-1" strike="noStrike">
                <a:solidFill>
                  <a:srgbClr val="313c3f"/>
                </a:solidFill>
                <a:latin typeface="Source Sans Pro"/>
              </a:endParaRPr>
            </a:p>
          </p:txBody>
        </p:sp>
        <p:sp>
          <p:nvSpPr>
            <p:cNvPr id="2595" name="Freeform: Shape 398"/>
            <p:cNvSpPr/>
            <p:nvPr/>
          </p:nvSpPr>
          <p:spPr>
            <a:xfrm>
              <a:off x="8209800" y="2147400"/>
              <a:ext cx="45000" cy="10080"/>
            </a:xfrm>
            <a:custGeom>
              <a:avLst/>
              <a:gdLst/>
              <a:ahLst/>
              <a:rect l="l" t="t" r="r" b="b"/>
              <a:pathLst>
                <a:path w="58465" h="13409">
                  <a:moveTo>
                    <a:pt x="0" y="1073"/>
                  </a:moveTo>
                  <a:cubicBezTo>
                    <a:pt x="12873" y="3218"/>
                    <a:pt x="-26916" y="2146"/>
                    <a:pt x="-7070" y="0"/>
                  </a:cubicBezTo>
                  <a:cubicBezTo>
                    <a:pt x="-14580" y="9119"/>
                    <a:pt x="-25307" y="13410"/>
                    <a:pt x="28965" y="13410"/>
                  </a:cubicBezTo>
                  <a:cubicBezTo>
                    <a:pt x="17701" y="13410"/>
                    <a:pt x="9655" y="7509"/>
                    <a:pt x="0" y="1073"/>
                  </a:cubicBezTo>
                  <a:close/>
                </a:path>
              </a:pathLst>
            </a:custGeom>
            <a:solidFill>
              <a:srgbClr val="ffffff"/>
            </a:solidFill>
            <a:ln w="0">
              <a:noFill/>
            </a:ln>
          </p:spPr>
          <p:style>
            <a:lnRef idx="0"/>
            <a:fillRef idx="0"/>
            <a:effectRef idx="0"/>
            <a:fontRef idx="minor"/>
          </p:style>
          <p:txBody>
            <a:bodyPr lIns="90000" rIns="90000" tIns="-36720" bIns="-36720" anchor="ctr">
              <a:noAutofit/>
            </a:bodyPr>
            <a:p>
              <a:endParaRPr b="0" lang="en-US" sz="1800" spc="-1" strike="noStrike">
                <a:solidFill>
                  <a:srgbClr val="313c3f"/>
                </a:solidFill>
                <a:latin typeface="Source Sans Pro"/>
              </a:endParaRPr>
            </a:p>
          </p:txBody>
        </p:sp>
        <p:sp>
          <p:nvSpPr>
            <p:cNvPr id="2596" name="Freeform: Shape 399"/>
            <p:cNvSpPr/>
            <p:nvPr/>
          </p:nvSpPr>
          <p:spPr>
            <a:xfrm>
              <a:off x="8296560" y="2328120"/>
              <a:ext cx="135720" cy="447840"/>
            </a:xfrm>
            <a:custGeom>
              <a:avLst/>
              <a:gdLst/>
              <a:ahLst/>
              <a:rect l="l" t="t" r="r" b="b"/>
              <a:pathLst>
                <a:path w="175397" h="577148">
                  <a:moveTo>
                    <a:pt x="4827" y="577148"/>
                  </a:moveTo>
                  <a:cubicBezTo>
                    <a:pt x="3755" y="575539"/>
                    <a:pt x="2682" y="573394"/>
                    <a:pt x="1609" y="571785"/>
                  </a:cubicBezTo>
                  <a:cubicBezTo>
                    <a:pt x="1073" y="570712"/>
                    <a:pt x="536" y="569639"/>
                    <a:pt x="0" y="569103"/>
                  </a:cubicBezTo>
                  <a:cubicBezTo>
                    <a:pt x="43447" y="549793"/>
                    <a:pt x="87430" y="525119"/>
                    <a:pt x="130341" y="503127"/>
                  </a:cubicBezTo>
                  <a:cubicBezTo>
                    <a:pt x="131950" y="502055"/>
                    <a:pt x="133559" y="501518"/>
                    <a:pt x="135705" y="500446"/>
                  </a:cubicBezTo>
                  <a:cubicBezTo>
                    <a:pt x="134632" y="484890"/>
                    <a:pt x="133559" y="469872"/>
                    <a:pt x="133023" y="456998"/>
                  </a:cubicBezTo>
                  <a:cubicBezTo>
                    <a:pt x="130878" y="404969"/>
                    <a:pt x="131950" y="370641"/>
                    <a:pt x="130341" y="348649"/>
                  </a:cubicBezTo>
                  <a:cubicBezTo>
                    <a:pt x="130878" y="341676"/>
                    <a:pt x="131414" y="334703"/>
                    <a:pt x="131414" y="327730"/>
                  </a:cubicBezTo>
                  <a:cubicBezTo>
                    <a:pt x="137851" y="212408"/>
                    <a:pt x="135169" y="106204"/>
                    <a:pt x="159306" y="0"/>
                  </a:cubicBezTo>
                  <a:cubicBezTo>
                    <a:pt x="157697" y="20383"/>
                    <a:pt x="156624" y="40229"/>
                    <a:pt x="155015" y="60611"/>
                  </a:cubicBezTo>
                  <a:cubicBezTo>
                    <a:pt x="152869" y="89576"/>
                    <a:pt x="148578" y="118541"/>
                    <a:pt x="148578" y="148042"/>
                  </a:cubicBezTo>
                  <a:cubicBezTo>
                    <a:pt x="151260" y="328803"/>
                    <a:pt x="171643" y="405506"/>
                    <a:pt x="175397" y="504737"/>
                  </a:cubicBezTo>
                  <a:cubicBezTo>
                    <a:pt x="175397" y="509028"/>
                    <a:pt x="4827" y="577148"/>
                    <a:pt x="4827" y="5771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97" name="Freeform: Shape 400"/>
            <p:cNvSpPr/>
            <p:nvPr/>
          </p:nvSpPr>
          <p:spPr>
            <a:xfrm>
              <a:off x="8287200" y="2607840"/>
              <a:ext cx="129600" cy="109440"/>
            </a:xfrm>
            <a:custGeom>
              <a:avLst/>
              <a:gdLst/>
              <a:ahLst/>
              <a:rect l="l" t="t" r="r" b="b"/>
              <a:pathLst>
                <a:path w="167189" h="141145">
                  <a:moveTo>
                    <a:pt x="155551" y="71952"/>
                  </a:moveTo>
                  <a:cubicBezTo>
                    <a:pt x="160915" y="78925"/>
                    <a:pt x="165743" y="83753"/>
                    <a:pt x="164133" y="91799"/>
                  </a:cubicBezTo>
                  <a:cubicBezTo>
                    <a:pt x="162524" y="99844"/>
                    <a:pt x="157160" y="107890"/>
                    <a:pt x="146969" y="110036"/>
                  </a:cubicBezTo>
                  <a:cubicBezTo>
                    <a:pt x="149115" y="112181"/>
                    <a:pt x="151260" y="114327"/>
                    <a:pt x="152869" y="117009"/>
                  </a:cubicBezTo>
                  <a:cubicBezTo>
                    <a:pt x="156088" y="122372"/>
                    <a:pt x="154479" y="129345"/>
                    <a:pt x="150187" y="133637"/>
                  </a:cubicBezTo>
                  <a:cubicBezTo>
                    <a:pt x="145896" y="137928"/>
                    <a:pt x="136778" y="141146"/>
                    <a:pt x="130878" y="139000"/>
                  </a:cubicBezTo>
                  <a:cubicBezTo>
                    <a:pt x="129268" y="139537"/>
                    <a:pt x="127659" y="140609"/>
                    <a:pt x="125514" y="141146"/>
                  </a:cubicBezTo>
                  <a:cubicBezTo>
                    <a:pt x="120150" y="141146"/>
                    <a:pt x="114250" y="141146"/>
                    <a:pt x="108886" y="140609"/>
                  </a:cubicBezTo>
                  <a:cubicBezTo>
                    <a:pt x="96549" y="140609"/>
                    <a:pt x="83676" y="140073"/>
                    <a:pt x="71876" y="137928"/>
                  </a:cubicBezTo>
                  <a:cubicBezTo>
                    <a:pt x="46665" y="133637"/>
                    <a:pt x="39156" y="121300"/>
                    <a:pt x="2146" y="117009"/>
                  </a:cubicBezTo>
                  <a:cubicBezTo>
                    <a:pt x="2146" y="117009"/>
                    <a:pt x="2146" y="117009"/>
                    <a:pt x="2146" y="117009"/>
                  </a:cubicBezTo>
                  <a:cubicBezTo>
                    <a:pt x="2146" y="115936"/>
                    <a:pt x="2146" y="114327"/>
                    <a:pt x="2146" y="113254"/>
                  </a:cubicBezTo>
                  <a:cubicBezTo>
                    <a:pt x="2146" y="93944"/>
                    <a:pt x="2146" y="74634"/>
                    <a:pt x="1073" y="55861"/>
                  </a:cubicBezTo>
                  <a:cubicBezTo>
                    <a:pt x="1073" y="49961"/>
                    <a:pt x="536" y="44060"/>
                    <a:pt x="0" y="38697"/>
                  </a:cubicBezTo>
                  <a:cubicBezTo>
                    <a:pt x="5900" y="38697"/>
                    <a:pt x="11264" y="38697"/>
                    <a:pt x="16628" y="38160"/>
                  </a:cubicBezTo>
                  <a:cubicBezTo>
                    <a:pt x="21455" y="38160"/>
                    <a:pt x="26283" y="38160"/>
                    <a:pt x="30574" y="36551"/>
                  </a:cubicBezTo>
                  <a:cubicBezTo>
                    <a:pt x="41302" y="32796"/>
                    <a:pt x="43984" y="29578"/>
                    <a:pt x="52029" y="22605"/>
                  </a:cubicBezTo>
                  <a:cubicBezTo>
                    <a:pt x="52566" y="22605"/>
                    <a:pt x="73485" y="-1532"/>
                    <a:pt x="86894" y="77"/>
                  </a:cubicBezTo>
                  <a:cubicBezTo>
                    <a:pt x="98158" y="1686"/>
                    <a:pt x="104059" y="9732"/>
                    <a:pt x="114786" y="5441"/>
                  </a:cubicBezTo>
                  <a:cubicBezTo>
                    <a:pt x="114786" y="5441"/>
                    <a:pt x="116395" y="4905"/>
                    <a:pt x="118541" y="4368"/>
                  </a:cubicBezTo>
                  <a:cubicBezTo>
                    <a:pt x="122832" y="3295"/>
                    <a:pt x="127659" y="2759"/>
                    <a:pt x="131950" y="3295"/>
                  </a:cubicBezTo>
                  <a:cubicBezTo>
                    <a:pt x="141069" y="3295"/>
                    <a:pt x="139996" y="2759"/>
                    <a:pt x="148042" y="6514"/>
                  </a:cubicBezTo>
                  <a:cubicBezTo>
                    <a:pt x="161988" y="12414"/>
                    <a:pt x="160379" y="26896"/>
                    <a:pt x="153406" y="39233"/>
                  </a:cubicBezTo>
                  <a:cubicBezTo>
                    <a:pt x="170570" y="39769"/>
                    <a:pt x="172179" y="70343"/>
                    <a:pt x="155551" y="7195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98" name="Freeform: Shape 401"/>
            <p:cNvSpPr/>
            <p:nvPr/>
          </p:nvSpPr>
          <p:spPr>
            <a:xfrm>
              <a:off x="8021880" y="2296800"/>
              <a:ext cx="29880" cy="145080"/>
            </a:xfrm>
            <a:custGeom>
              <a:avLst/>
              <a:gdLst/>
              <a:ahLst/>
              <a:rect l="l" t="t" r="r" b="b"/>
              <a:pathLst>
                <a:path w="38619" h="187197">
                  <a:moveTo>
                    <a:pt x="16092" y="72948"/>
                  </a:moveTo>
                  <a:cubicBezTo>
                    <a:pt x="14482" y="48811"/>
                    <a:pt x="10728" y="24137"/>
                    <a:pt x="0" y="2146"/>
                  </a:cubicBezTo>
                  <a:cubicBezTo>
                    <a:pt x="3218" y="1073"/>
                    <a:pt x="6437" y="536"/>
                    <a:pt x="10191" y="0"/>
                  </a:cubicBezTo>
                  <a:cubicBezTo>
                    <a:pt x="31647" y="56857"/>
                    <a:pt x="37547" y="116932"/>
                    <a:pt x="38620" y="178079"/>
                  </a:cubicBezTo>
                  <a:lnTo>
                    <a:pt x="13946" y="187198"/>
                  </a:lnTo>
                  <a:cubicBezTo>
                    <a:pt x="16628" y="149115"/>
                    <a:pt x="18237" y="111031"/>
                    <a:pt x="16092" y="729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599" name="Freeform: Shape 402"/>
            <p:cNvSpPr/>
            <p:nvPr/>
          </p:nvSpPr>
          <p:spPr>
            <a:xfrm>
              <a:off x="8033040" y="2745720"/>
              <a:ext cx="52200" cy="104040"/>
            </a:xfrm>
            <a:custGeom>
              <a:avLst/>
              <a:gdLst/>
              <a:ahLst/>
              <a:rect l="l" t="t" r="r" b="b"/>
              <a:pathLst>
                <a:path w="67584" h="134095">
                  <a:moveTo>
                    <a:pt x="67584" y="3755"/>
                  </a:moveTo>
                  <a:lnTo>
                    <a:pt x="67584" y="3755"/>
                  </a:lnTo>
                  <a:cubicBezTo>
                    <a:pt x="63293" y="30037"/>
                    <a:pt x="50956" y="83676"/>
                    <a:pt x="49347" y="91185"/>
                  </a:cubicBezTo>
                  <a:cubicBezTo>
                    <a:pt x="45593" y="105131"/>
                    <a:pt x="42374" y="119613"/>
                    <a:pt x="39156" y="133559"/>
                  </a:cubicBezTo>
                  <a:cubicBezTo>
                    <a:pt x="39156" y="133559"/>
                    <a:pt x="39156" y="134096"/>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830"/>
                    <a:pt x="8046" y="62220"/>
                  </a:cubicBezTo>
                  <a:cubicBezTo>
                    <a:pt x="8046" y="61684"/>
                    <a:pt x="8046" y="60611"/>
                    <a:pt x="8582" y="60075"/>
                  </a:cubicBezTo>
                  <a:cubicBezTo>
                    <a:pt x="8582" y="59002"/>
                    <a:pt x="8582" y="57929"/>
                    <a:pt x="9118" y="56857"/>
                  </a:cubicBezTo>
                  <a:cubicBezTo>
                    <a:pt x="9655" y="54175"/>
                    <a:pt x="9655" y="50956"/>
                    <a:pt x="10191" y="47202"/>
                  </a:cubicBezTo>
                  <a:cubicBezTo>
                    <a:pt x="10191" y="47202"/>
                    <a:pt x="10191" y="47202"/>
                    <a:pt x="10191" y="46665"/>
                  </a:cubicBezTo>
                  <a:cubicBezTo>
                    <a:pt x="10191" y="45593"/>
                    <a:pt x="10191" y="44520"/>
                    <a:pt x="10728" y="43983"/>
                  </a:cubicBezTo>
                  <a:cubicBezTo>
                    <a:pt x="12337" y="30574"/>
                    <a:pt x="14482" y="14482"/>
                    <a:pt x="16092" y="0"/>
                  </a:cubicBezTo>
                  <a:cubicBezTo>
                    <a:pt x="24674" y="536"/>
                    <a:pt x="33256" y="1609"/>
                    <a:pt x="41838" y="2146"/>
                  </a:cubicBezTo>
                  <a:cubicBezTo>
                    <a:pt x="44520" y="2146"/>
                    <a:pt x="47738" y="2682"/>
                    <a:pt x="50420" y="2682"/>
                  </a:cubicBezTo>
                  <a:cubicBezTo>
                    <a:pt x="56320" y="2682"/>
                    <a:pt x="62220" y="3218"/>
                    <a:pt x="67584" y="3755"/>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0" name="Freeform: Shape 403"/>
            <p:cNvSpPr/>
            <p:nvPr/>
          </p:nvSpPr>
          <p:spPr>
            <a:xfrm>
              <a:off x="7949160" y="2592360"/>
              <a:ext cx="259920" cy="160560"/>
            </a:xfrm>
            <a:custGeom>
              <a:avLst/>
              <a:gdLst/>
              <a:ahLst/>
              <a:rect l="l" t="t" r="r" b="b"/>
              <a:pathLst>
                <a:path w="335239" h="207236">
                  <a:moveTo>
                    <a:pt x="335240" y="204362"/>
                  </a:moveTo>
                  <a:cubicBezTo>
                    <a:pt x="334703" y="204362"/>
                    <a:pt x="333631" y="204362"/>
                    <a:pt x="333094" y="204362"/>
                  </a:cubicBezTo>
                  <a:cubicBezTo>
                    <a:pt x="332558" y="204362"/>
                    <a:pt x="332021" y="204362"/>
                    <a:pt x="331485" y="204362"/>
                  </a:cubicBezTo>
                  <a:cubicBezTo>
                    <a:pt x="314321" y="204362"/>
                    <a:pt x="290183" y="208117"/>
                    <a:pt x="273556" y="207044"/>
                  </a:cubicBezTo>
                  <a:cubicBezTo>
                    <a:pt x="261755" y="206508"/>
                    <a:pt x="249418" y="205971"/>
                    <a:pt x="237618" y="204898"/>
                  </a:cubicBezTo>
                  <a:cubicBezTo>
                    <a:pt x="230108" y="204362"/>
                    <a:pt x="223136" y="203826"/>
                    <a:pt x="215626" y="203289"/>
                  </a:cubicBezTo>
                  <a:cubicBezTo>
                    <a:pt x="202217" y="202216"/>
                    <a:pt x="189343" y="201144"/>
                    <a:pt x="175934" y="200071"/>
                  </a:cubicBezTo>
                  <a:cubicBezTo>
                    <a:pt x="158770" y="198998"/>
                    <a:pt x="141069" y="197389"/>
                    <a:pt x="123905" y="195780"/>
                  </a:cubicBezTo>
                  <a:cubicBezTo>
                    <a:pt x="123905" y="195780"/>
                    <a:pt x="123368" y="195780"/>
                    <a:pt x="123368" y="195780"/>
                  </a:cubicBezTo>
                  <a:cubicBezTo>
                    <a:pt x="123368" y="195780"/>
                    <a:pt x="122832" y="195780"/>
                    <a:pt x="122832" y="195780"/>
                  </a:cubicBezTo>
                  <a:cubicBezTo>
                    <a:pt x="105668" y="194171"/>
                    <a:pt x="88503" y="193098"/>
                    <a:pt x="71339" y="191489"/>
                  </a:cubicBezTo>
                  <a:cubicBezTo>
                    <a:pt x="68657" y="191489"/>
                    <a:pt x="65975" y="190952"/>
                    <a:pt x="63293" y="190952"/>
                  </a:cubicBezTo>
                  <a:cubicBezTo>
                    <a:pt x="53102" y="189880"/>
                    <a:pt x="42374" y="189343"/>
                    <a:pt x="33256" y="184516"/>
                  </a:cubicBezTo>
                  <a:cubicBezTo>
                    <a:pt x="28965" y="182370"/>
                    <a:pt x="25210" y="179688"/>
                    <a:pt x="21455" y="176470"/>
                  </a:cubicBezTo>
                  <a:cubicBezTo>
                    <a:pt x="14482" y="169497"/>
                    <a:pt x="9119" y="160915"/>
                    <a:pt x="5900" y="151260"/>
                  </a:cubicBezTo>
                  <a:cubicBezTo>
                    <a:pt x="1073" y="137314"/>
                    <a:pt x="0" y="122295"/>
                    <a:pt x="0" y="107813"/>
                  </a:cubicBezTo>
                  <a:cubicBezTo>
                    <a:pt x="0" y="71875"/>
                    <a:pt x="3755" y="35938"/>
                    <a:pt x="8582" y="0"/>
                  </a:cubicBezTo>
                  <a:cubicBezTo>
                    <a:pt x="9119" y="9655"/>
                    <a:pt x="8582" y="20383"/>
                    <a:pt x="9119" y="26283"/>
                  </a:cubicBezTo>
                  <a:cubicBezTo>
                    <a:pt x="11264" y="43983"/>
                    <a:pt x="15555" y="61684"/>
                    <a:pt x="20919" y="78848"/>
                  </a:cubicBezTo>
                  <a:cubicBezTo>
                    <a:pt x="24674" y="91185"/>
                    <a:pt x="30038" y="103522"/>
                    <a:pt x="39692" y="112104"/>
                  </a:cubicBezTo>
                  <a:cubicBezTo>
                    <a:pt x="48275" y="119613"/>
                    <a:pt x="59539" y="122832"/>
                    <a:pt x="70266" y="125514"/>
                  </a:cubicBezTo>
                  <a:cubicBezTo>
                    <a:pt x="102986" y="133559"/>
                    <a:pt x="136778" y="137314"/>
                    <a:pt x="170570" y="137314"/>
                  </a:cubicBezTo>
                  <a:cubicBezTo>
                    <a:pt x="187734" y="137314"/>
                    <a:pt x="205435" y="135705"/>
                    <a:pt x="222599" y="134632"/>
                  </a:cubicBezTo>
                  <a:cubicBezTo>
                    <a:pt x="260146" y="132487"/>
                    <a:pt x="297156" y="130877"/>
                    <a:pt x="334703" y="130877"/>
                  </a:cubicBezTo>
                  <a:cubicBezTo>
                    <a:pt x="332558" y="142142"/>
                    <a:pt x="331485" y="153942"/>
                    <a:pt x="330949" y="165206"/>
                  </a:cubicBezTo>
                  <a:cubicBezTo>
                    <a:pt x="331485" y="165206"/>
                    <a:pt x="332021" y="165206"/>
                    <a:pt x="332021" y="165206"/>
                  </a:cubicBezTo>
                  <a:cubicBezTo>
                    <a:pt x="332558" y="179152"/>
                    <a:pt x="333094" y="192025"/>
                    <a:pt x="335240" y="204362"/>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1" name="Freeform: Shape 404"/>
            <p:cNvSpPr/>
            <p:nvPr/>
          </p:nvSpPr>
          <p:spPr>
            <a:xfrm>
              <a:off x="8089920" y="1887480"/>
              <a:ext cx="284400" cy="339480"/>
            </a:xfrm>
            <a:custGeom>
              <a:avLst/>
              <a:gdLst/>
              <a:ahLst/>
              <a:rect l="l" t="t" r="r" b="b"/>
              <a:pathLst>
                <a:path w="366853" h="437629">
                  <a:moveTo>
                    <a:pt x="348219" y="426901"/>
                  </a:moveTo>
                  <a:cubicBezTo>
                    <a:pt x="336419" y="427974"/>
                    <a:pt x="324618" y="429583"/>
                    <a:pt x="312818" y="427974"/>
                  </a:cubicBezTo>
                  <a:cubicBezTo>
                    <a:pt x="325691" y="404910"/>
                    <a:pt x="331591" y="378091"/>
                    <a:pt x="327836" y="352344"/>
                  </a:cubicBezTo>
                  <a:cubicBezTo>
                    <a:pt x="326764" y="379700"/>
                    <a:pt x="317645" y="407055"/>
                    <a:pt x="300481" y="427974"/>
                  </a:cubicBezTo>
                  <a:cubicBezTo>
                    <a:pt x="284389" y="432265"/>
                    <a:pt x="268834" y="434411"/>
                    <a:pt x="252206" y="433338"/>
                  </a:cubicBezTo>
                  <a:cubicBezTo>
                    <a:pt x="254888" y="429047"/>
                    <a:pt x="258643" y="426365"/>
                    <a:pt x="261325" y="422610"/>
                  </a:cubicBezTo>
                  <a:cubicBezTo>
                    <a:pt x="257034" y="423683"/>
                    <a:pt x="251134" y="424220"/>
                    <a:pt x="246843" y="423683"/>
                  </a:cubicBezTo>
                  <a:cubicBezTo>
                    <a:pt x="250061" y="421001"/>
                    <a:pt x="253279" y="418319"/>
                    <a:pt x="255961" y="415101"/>
                  </a:cubicBezTo>
                  <a:cubicBezTo>
                    <a:pt x="267761" y="399010"/>
                    <a:pt x="275807" y="382382"/>
                    <a:pt x="280635" y="362535"/>
                  </a:cubicBezTo>
                  <a:cubicBezTo>
                    <a:pt x="281707" y="356635"/>
                    <a:pt x="282780" y="351271"/>
                    <a:pt x="283853" y="345371"/>
                  </a:cubicBezTo>
                  <a:cubicBezTo>
                    <a:pt x="291362" y="293878"/>
                    <a:pt x="281171" y="240776"/>
                    <a:pt x="260789" y="193038"/>
                  </a:cubicBezTo>
                  <a:cubicBezTo>
                    <a:pt x="253279" y="175338"/>
                    <a:pt x="242552" y="159246"/>
                    <a:pt x="225387" y="153346"/>
                  </a:cubicBezTo>
                  <a:cubicBezTo>
                    <a:pt x="235042" y="163001"/>
                    <a:pt x="237724" y="178020"/>
                    <a:pt x="240406" y="191966"/>
                  </a:cubicBezTo>
                  <a:cubicBezTo>
                    <a:pt x="242015" y="200011"/>
                    <a:pt x="243624" y="209666"/>
                    <a:pt x="242015" y="217712"/>
                  </a:cubicBezTo>
                  <a:cubicBezTo>
                    <a:pt x="239870" y="200011"/>
                    <a:pt x="231824" y="183383"/>
                    <a:pt x="221096" y="169437"/>
                  </a:cubicBezTo>
                  <a:cubicBezTo>
                    <a:pt x="210369" y="155492"/>
                    <a:pt x="198032" y="144227"/>
                    <a:pt x="183549" y="134573"/>
                  </a:cubicBezTo>
                  <a:cubicBezTo>
                    <a:pt x="189450" y="150664"/>
                    <a:pt x="199641" y="166756"/>
                    <a:pt x="210369" y="179629"/>
                  </a:cubicBezTo>
                  <a:cubicBezTo>
                    <a:pt x="188377" y="171583"/>
                    <a:pt x="170140" y="155492"/>
                    <a:pt x="158876" y="134573"/>
                  </a:cubicBezTo>
                  <a:cubicBezTo>
                    <a:pt x="167458" y="157101"/>
                    <a:pt x="170676" y="189820"/>
                    <a:pt x="189986" y="202693"/>
                  </a:cubicBezTo>
                  <a:cubicBezTo>
                    <a:pt x="171212" y="194111"/>
                    <a:pt x="119720" y="143691"/>
                    <a:pt x="112210" y="123845"/>
                  </a:cubicBezTo>
                  <a:cubicBezTo>
                    <a:pt x="98264" y="159783"/>
                    <a:pt x="89682" y="183920"/>
                    <a:pt x="88609" y="222539"/>
                  </a:cubicBezTo>
                  <a:cubicBezTo>
                    <a:pt x="85391" y="205375"/>
                    <a:pt x="83782" y="187138"/>
                    <a:pt x="84318" y="169974"/>
                  </a:cubicBezTo>
                  <a:cubicBezTo>
                    <a:pt x="78418" y="217712"/>
                    <a:pt x="71982" y="263841"/>
                    <a:pt x="75736" y="311043"/>
                  </a:cubicBezTo>
                  <a:cubicBezTo>
                    <a:pt x="76273" y="316406"/>
                    <a:pt x="76809" y="321234"/>
                    <a:pt x="77345" y="326598"/>
                  </a:cubicBezTo>
                  <a:cubicBezTo>
                    <a:pt x="82173" y="365217"/>
                    <a:pt x="93973" y="403301"/>
                    <a:pt x="112747" y="437629"/>
                  </a:cubicBezTo>
                  <a:cubicBezTo>
                    <a:pt x="98264" y="427974"/>
                    <a:pt x="81637" y="417783"/>
                    <a:pt x="69300" y="405446"/>
                  </a:cubicBezTo>
                  <a:cubicBezTo>
                    <a:pt x="73591" y="416710"/>
                    <a:pt x="77345" y="424220"/>
                    <a:pt x="85928" y="432802"/>
                  </a:cubicBezTo>
                  <a:cubicBezTo>
                    <a:pt x="71982" y="429583"/>
                    <a:pt x="54817" y="426365"/>
                    <a:pt x="40871" y="423147"/>
                  </a:cubicBezTo>
                  <a:cubicBezTo>
                    <a:pt x="24243" y="402228"/>
                    <a:pt x="15661" y="375945"/>
                    <a:pt x="9761" y="349126"/>
                  </a:cubicBezTo>
                  <a:cubicBezTo>
                    <a:pt x="-8476" y="266523"/>
                    <a:pt x="-966" y="183920"/>
                    <a:pt x="30680" y="105608"/>
                  </a:cubicBezTo>
                  <a:cubicBezTo>
                    <a:pt x="41408" y="79325"/>
                    <a:pt x="74663" y="10668"/>
                    <a:pt x="128838" y="14423"/>
                  </a:cubicBezTo>
                  <a:cubicBezTo>
                    <a:pt x="163703" y="-5423"/>
                    <a:pt x="198568" y="-2742"/>
                    <a:pt x="236115" y="10132"/>
                  </a:cubicBezTo>
                  <a:cubicBezTo>
                    <a:pt x="273662" y="22468"/>
                    <a:pt x="305845" y="51433"/>
                    <a:pt x="323009" y="88444"/>
                  </a:cubicBezTo>
                  <a:cubicBezTo>
                    <a:pt x="329982" y="103462"/>
                    <a:pt x="334809" y="120090"/>
                    <a:pt x="338564" y="136182"/>
                  </a:cubicBezTo>
                  <a:cubicBezTo>
                    <a:pt x="350365" y="188211"/>
                    <a:pt x="362165" y="234340"/>
                    <a:pt x="364847" y="287442"/>
                  </a:cubicBezTo>
                  <a:cubicBezTo>
                    <a:pt x="368065" y="333571"/>
                    <a:pt x="370211" y="386136"/>
                    <a:pt x="348219" y="42690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2" name="Freeform: Shape 405"/>
            <p:cNvSpPr/>
            <p:nvPr/>
          </p:nvSpPr>
          <p:spPr>
            <a:xfrm>
              <a:off x="8307360" y="2009520"/>
              <a:ext cx="21600" cy="200520"/>
            </a:xfrm>
            <a:custGeom>
              <a:avLst/>
              <a:gdLst/>
              <a:ahLst/>
              <a:rect l="l" t="t" r="r" b="b"/>
              <a:pathLst>
                <a:path w="27891" h="258536">
                  <a:moveTo>
                    <a:pt x="27892" y="128732"/>
                  </a:moveTo>
                  <a:cubicBezTo>
                    <a:pt x="27892" y="146969"/>
                    <a:pt x="26283" y="164670"/>
                    <a:pt x="23601" y="180225"/>
                  </a:cubicBezTo>
                  <a:cubicBezTo>
                    <a:pt x="21992" y="188271"/>
                    <a:pt x="20919" y="195780"/>
                    <a:pt x="19310" y="202216"/>
                  </a:cubicBezTo>
                  <a:cubicBezTo>
                    <a:pt x="18237" y="205435"/>
                    <a:pt x="17701" y="209189"/>
                    <a:pt x="16628" y="212408"/>
                  </a:cubicBezTo>
                  <a:cubicBezTo>
                    <a:pt x="15555" y="215626"/>
                    <a:pt x="15019" y="218308"/>
                    <a:pt x="13946" y="221526"/>
                  </a:cubicBezTo>
                  <a:cubicBezTo>
                    <a:pt x="12337" y="227426"/>
                    <a:pt x="10191" y="232254"/>
                    <a:pt x="8582" y="237081"/>
                  </a:cubicBezTo>
                  <a:cubicBezTo>
                    <a:pt x="7509" y="239227"/>
                    <a:pt x="6973" y="241372"/>
                    <a:pt x="6437" y="243518"/>
                  </a:cubicBezTo>
                  <a:cubicBezTo>
                    <a:pt x="5900" y="245664"/>
                    <a:pt x="4827" y="247273"/>
                    <a:pt x="4291" y="248882"/>
                  </a:cubicBezTo>
                  <a:cubicBezTo>
                    <a:pt x="1609" y="254782"/>
                    <a:pt x="0" y="258537"/>
                    <a:pt x="0" y="258537"/>
                  </a:cubicBezTo>
                  <a:cubicBezTo>
                    <a:pt x="0" y="258537"/>
                    <a:pt x="1073" y="254782"/>
                    <a:pt x="2682" y="248345"/>
                  </a:cubicBezTo>
                  <a:cubicBezTo>
                    <a:pt x="3218" y="246736"/>
                    <a:pt x="3755" y="245127"/>
                    <a:pt x="4291" y="242982"/>
                  </a:cubicBezTo>
                  <a:cubicBezTo>
                    <a:pt x="4827" y="240836"/>
                    <a:pt x="5364" y="238691"/>
                    <a:pt x="5900" y="236545"/>
                  </a:cubicBezTo>
                  <a:cubicBezTo>
                    <a:pt x="6973" y="231718"/>
                    <a:pt x="8582" y="226890"/>
                    <a:pt x="9655" y="220990"/>
                  </a:cubicBezTo>
                  <a:cubicBezTo>
                    <a:pt x="10191" y="218308"/>
                    <a:pt x="10728" y="215090"/>
                    <a:pt x="11264" y="211871"/>
                  </a:cubicBezTo>
                  <a:cubicBezTo>
                    <a:pt x="11800" y="208653"/>
                    <a:pt x="12337" y="205435"/>
                    <a:pt x="12873" y="201680"/>
                  </a:cubicBezTo>
                  <a:cubicBezTo>
                    <a:pt x="13946" y="194707"/>
                    <a:pt x="15019" y="187198"/>
                    <a:pt x="16092" y="179688"/>
                  </a:cubicBezTo>
                  <a:cubicBezTo>
                    <a:pt x="17701" y="164133"/>
                    <a:pt x="18773" y="146969"/>
                    <a:pt x="18773" y="129268"/>
                  </a:cubicBezTo>
                  <a:cubicBezTo>
                    <a:pt x="18773" y="111031"/>
                    <a:pt x="17701" y="94403"/>
                    <a:pt x="16092" y="78848"/>
                  </a:cubicBezTo>
                  <a:cubicBezTo>
                    <a:pt x="15019" y="71339"/>
                    <a:pt x="14482" y="63830"/>
                    <a:pt x="12873" y="56857"/>
                  </a:cubicBezTo>
                  <a:cubicBezTo>
                    <a:pt x="12337" y="53638"/>
                    <a:pt x="11800" y="49884"/>
                    <a:pt x="11264" y="46665"/>
                  </a:cubicBezTo>
                  <a:cubicBezTo>
                    <a:pt x="10728" y="43447"/>
                    <a:pt x="10191" y="40229"/>
                    <a:pt x="9655" y="37547"/>
                  </a:cubicBezTo>
                  <a:cubicBezTo>
                    <a:pt x="8582" y="31647"/>
                    <a:pt x="6973" y="26283"/>
                    <a:pt x="5900" y="21992"/>
                  </a:cubicBezTo>
                  <a:cubicBezTo>
                    <a:pt x="5364" y="19846"/>
                    <a:pt x="4827" y="17701"/>
                    <a:pt x="4291" y="15555"/>
                  </a:cubicBezTo>
                  <a:cubicBezTo>
                    <a:pt x="3755" y="13410"/>
                    <a:pt x="3218" y="11800"/>
                    <a:pt x="2682" y="10191"/>
                  </a:cubicBezTo>
                  <a:cubicBezTo>
                    <a:pt x="1073" y="3755"/>
                    <a:pt x="0" y="0"/>
                    <a:pt x="0" y="0"/>
                  </a:cubicBezTo>
                  <a:cubicBezTo>
                    <a:pt x="0" y="0"/>
                    <a:pt x="1609" y="3218"/>
                    <a:pt x="4291" y="9655"/>
                  </a:cubicBezTo>
                  <a:cubicBezTo>
                    <a:pt x="4827" y="11264"/>
                    <a:pt x="5900" y="12873"/>
                    <a:pt x="6437" y="15019"/>
                  </a:cubicBezTo>
                  <a:cubicBezTo>
                    <a:pt x="6973" y="17164"/>
                    <a:pt x="8046" y="18773"/>
                    <a:pt x="8582" y="21455"/>
                  </a:cubicBezTo>
                  <a:cubicBezTo>
                    <a:pt x="10191" y="25746"/>
                    <a:pt x="12337" y="31110"/>
                    <a:pt x="13946" y="37010"/>
                  </a:cubicBezTo>
                  <a:cubicBezTo>
                    <a:pt x="15019" y="39692"/>
                    <a:pt x="15555" y="42911"/>
                    <a:pt x="16628" y="46129"/>
                  </a:cubicBezTo>
                  <a:cubicBezTo>
                    <a:pt x="17701" y="49347"/>
                    <a:pt x="18237" y="52566"/>
                    <a:pt x="19310" y="55784"/>
                  </a:cubicBezTo>
                  <a:cubicBezTo>
                    <a:pt x="20919" y="62757"/>
                    <a:pt x="22528" y="70266"/>
                    <a:pt x="24137" y="77776"/>
                  </a:cubicBezTo>
                  <a:cubicBezTo>
                    <a:pt x="25746" y="92794"/>
                    <a:pt x="27892" y="109959"/>
                    <a:pt x="27892" y="12873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3" name="Freeform: Shape 406"/>
            <p:cNvSpPr/>
            <p:nvPr/>
          </p:nvSpPr>
          <p:spPr>
            <a:xfrm>
              <a:off x="8340840" y="2041560"/>
              <a:ext cx="21240" cy="163440"/>
            </a:xfrm>
            <a:custGeom>
              <a:avLst/>
              <a:gdLst/>
              <a:ahLst/>
              <a:rect l="l" t="t" r="r" b="b"/>
              <a:pathLst>
                <a:path w="27494" h="210798">
                  <a:moveTo>
                    <a:pt x="27355" y="104058"/>
                  </a:moveTo>
                  <a:cubicBezTo>
                    <a:pt x="27892" y="119077"/>
                    <a:pt x="26819" y="133559"/>
                    <a:pt x="25210" y="146433"/>
                  </a:cubicBezTo>
                  <a:cubicBezTo>
                    <a:pt x="24137" y="152869"/>
                    <a:pt x="23601" y="158769"/>
                    <a:pt x="21992" y="164670"/>
                  </a:cubicBezTo>
                  <a:cubicBezTo>
                    <a:pt x="21455" y="167352"/>
                    <a:pt x="20919" y="170033"/>
                    <a:pt x="20383" y="172715"/>
                  </a:cubicBezTo>
                  <a:cubicBezTo>
                    <a:pt x="19846" y="175397"/>
                    <a:pt x="18773" y="177543"/>
                    <a:pt x="18237" y="180225"/>
                  </a:cubicBezTo>
                  <a:cubicBezTo>
                    <a:pt x="17164" y="185052"/>
                    <a:pt x="15555" y="189343"/>
                    <a:pt x="14482" y="193098"/>
                  </a:cubicBezTo>
                  <a:cubicBezTo>
                    <a:pt x="13946" y="194707"/>
                    <a:pt x="13410" y="196853"/>
                    <a:pt x="12873" y="198462"/>
                  </a:cubicBezTo>
                  <a:cubicBezTo>
                    <a:pt x="12337" y="200071"/>
                    <a:pt x="11800" y="201680"/>
                    <a:pt x="11264" y="202753"/>
                  </a:cubicBezTo>
                  <a:cubicBezTo>
                    <a:pt x="9118" y="207580"/>
                    <a:pt x="8046" y="210799"/>
                    <a:pt x="8046" y="210799"/>
                  </a:cubicBezTo>
                  <a:cubicBezTo>
                    <a:pt x="8046" y="210799"/>
                    <a:pt x="8582" y="207580"/>
                    <a:pt x="9655" y="202753"/>
                  </a:cubicBezTo>
                  <a:cubicBezTo>
                    <a:pt x="10191" y="201680"/>
                    <a:pt x="10191" y="200071"/>
                    <a:pt x="10728" y="198462"/>
                  </a:cubicBezTo>
                  <a:cubicBezTo>
                    <a:pt x="11264" y="196853"/>
                    <a:pt x="11264" y="195243"/>
                    <a:pt x="11800" y="193098"/>
                  </a:cubicBezTo>
                  <a:cubicBezTo>
                    <a:pt x="12337" y="189343"/>
                    <a:pt x="13410" y="185052"/>
                    <a:pt x="13946" y="180225"/>
                  </a:cubicBezTo>
                  <a:cubicBezTo>
                    <a:pt x="14482" y="178079"/>
                    <a:pt x="14482" y="175397"/>
                    <a:pt x="15019" y="172715"/>
                  </a:cubicBezTo>
                  <a:cubicBezTo>
                    <a:pt x="15555" y="170033"/>
                    <a:pt x="15555" y="167352"/>
                    <a:pt x="16092" y="164670"/>
                  </a:cubicBezTo>
                  <a:cubicBezTo>
                    <a:pt x="16628" y="159306"/>
                    <a:pt x="17164" y="152869"/>
                    <a:pt x="17701" y="146433"/>
                  </a:cubicBezTo>
                  <a:cubicBezTo>
                    <a:pt x="18237" y="133559"/>
                    <a:pt x="18773" y="119613"/>
                    <a:pt x="18237" y="105131"/>
                  </a:cubicBezTo>
                  <a:cubicBezTo>
                    <a:pt x="17701" y="90649"/>
                    <a:pt x="16092" y="76703"/>
                    <a:pt x="14482" y="63830"/>
                  </a:cubicBezTo>
                  <a:cubicBezTo>
                    <a:pt x="13946" y="60611"/>
                    <a:pt x="13410" y="57393"/>
                    <a:pt x="12873" y="54711"/>
                  </a:cubicBezTo>
                  <a:cubicBezTo>
                    <a:pt x="12337" y="51493"/>
                    <a:pt x="11800" y="48811"/>
                    <a:pt x="11264" y="46129"/>
                  </a:cubicBezTo>
                  <a:cubicBezTo>
                    <a:pt x="10191" y="40765"/>
                    <a:pt x="9118" y="35401"/>
                    <a:pt x="8046" y="30574"/>
                  </a:cubicBezTo>
                  <a:cubicBezTo>
                    <a:pt x="6973" y="25746"/>
                    <a:pt x="5900" y="21455"/>
                    <a:pt x="4827" y="17701"/>
                  </a:cubicBezTo>
                  <a:cubicBezTo>
                    <a:pt x="3755" y="13946"/>
                    <a:pt x="3218" y="10728"/>
                    <a:pt x="2146" y="8046"/>
                  </a:cubicBezTo>
                  <a:cubicBezTo>
                    <a:pt x="536" y="2682"/>
                    <a:pt x="0" y="0"/>
                    <a:pt x="0" y="0"/>
                  </a:cubicBezTo>
                  <a:cubicBezTo>
                    <a:pt x="0" y="0"/>
                    <a:pt x="1073" y="2682"/>
                    <a:pt x="3755" y="7509"/>
                  </a:cubicBezTo>
                  <a:cubicBezTo>
                    <a:pt x="4827" y="10191"/>
                    <a:pt x="6437" y="12873"/>
                    <a:pt x="7509" y="16628"/>
                  </a:cubicBezTo>
                  <a:cubicBezTo>
                    <a:pt x="9118" y="20383"/>
                    <a:pt x="10728" y="24137"/>
                    <a:pt x="12337" y="28965"/>
                  </a:cubicBezTo>
                  <a:cubicBezTo>
                    <a:pt x="13946" y="33792"/>
                    <a:pt x="15555" y="38620"/>
                    <a:pt x="17164" y="44520"/>
                  </a:cubicBezTo>
                  <a:cubicBezTo>
                    <a:pt x="17701" y="47202"/>
                    <a:pt x="18773" y="50420"/>
                    <a:pt x="19310" y="53102"/>
                  </a:cubicBezTo>
                  <a:cubicBezTo>
                    <a:pt x="19846" y="56320"/>
                    <a:pt x="20919" y="59002"/>
                    <a:pt x="21455" y="62220"/>
                  </a:cubicBezTo>
                  <a:cubicBezTo>
                    <a:pt x="24674" y="74557"/>
                    <a:pt x="26819" y="89040"/>
                    <a:pt x="27355" y="10405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4" name="Freeform: Shape 407"/>
            <p:cNvSpPr/>
            <p:nvPr/>
          </p:nvSpPr>
          <p:spPr>
            <a:xfrm>
              <a:off x="8316720" y="2037240"/>
              <a:ext cx="18360" cy="160920"/>
            </a:xfrm>
            <a:custGeom>
              <a:avLst/>
              <a:gdLst/>
              <a:ahLst/>
              <a:rect l="l" t="t" r="r" b="b"/>
              <a:pathLst>
                <a:path w="23811" h="207580">
                  <a:moveTo>
                    <a:pt x="23601" y="104595"/>
                  </a:moveTo>
                  <a:cubicBezTo>
                    <a:pt x="23065" y="119077"/>
                    <a:pt x="21455" y="133023"/>
                    <a:pt x="18773" y="145896"/>
                  </a:cubicBezTo>
                  <a:cubicBezTo>
                    <a:pt x="17701" y="152333"/>
                    <a:pt x="16628" y="158233"/>
                    <a:pt x="15019" y="163597"/>
                  </a:cubicBezTo>
                  <a:cubicBezTo>
                    <a:pt x="14482" y="166279"/>
                    <a:pt x="13946" y="168961"/>
                    <a:pt x="12873" y="171643"/>
                  </a:cubicBezTo>
                  <a:cubicBezTo>
                    <a:pt x="12337" y="174325"/>
                    <a:pt x="11264" y="176470"/>
                    <a:pt x="10728" y="178616"/>
                  </a:cubicBezTo>
                  <a:cubicBezTo>
                    <a:pt x="9655" y="183443"/>
                    <a:pt x="8046" y="187198"/>
                    <a:pt x="6437" y="190952"/>
                  </a:cubicBezTo>
                  <a:cubicBezTo>
                    <a:pt x="5364" y="194707"/>
                    <a:pt x="3755" y="197389"/>
                    <a:pt x="3218" y="200071"/>
                  </a:cubicBezTo>
                  <a:cubicBezTo>
                    <a:pt x="1073" y="204898"/>
                    <a:pt x="0" y="207580"/>
                    <a:pt x="0" y="207580"/>
                  </a:cubicBezTo>
                  <a:cubicBezTo>
                    <a:pt x="0" y="207580"/>
                    <a:pt x="536" y="204898"/>
                    <a:pt x="1609" y="199535"/>
                  </a:cubicBezTo>
                  <a:cubicBezTo>
                    <a:pt x="2146" y="196853"/>
                    <a:pt x="2682" y="193634"/>
                    <a:pt x="3755" y="189880"/>
                  </a:cubicBezTo>
                  <a:cubicBezTo>
                    <a:pt x="4291" y="186125"/>
                    <a:pt x="5364" y="181834"/>
                    <a:pt x="6437" y="177543"/>
                  </a:cubicBezTo>
                  <a:cubicBezTo>
                    <a:pt x="6973" y="175397"/>
                    <a:pt x="7509" y="172715"/>
                    <a:pt x="7509" y="170033"/>
                  </a:cubicBezTo>
                  <a:cubicBezTo>
                    <a:pt x="8046" y="167352"/>
                    <a:pt x="8046" y="164670"/>
                    <a:pt x="8582" y="161988"/>
                  </a:cubicBezTo>
                  <a:cubicBezTo>
                    <a:pt x="9655" y="156624"/>
                    <a:pt x="10191" y="150724"/>
                    <a:pt x="10728" y="144287"/>
                  </a:cubicBezTo>
                  <a:cubicBezTo>
                    <a:pt x="12337" y="131950"/>
                    <a:pt x="13410" y="118004"/>
                    <a:pt x="13946" y="104058"/>
                  </a:cubicBezTo>
                  <a:cubicBezTo>
                    <a:pt x="14482" y="89576"/>
                    <a:pt x="14482" y="76166"/>
                    <a:pt x="13946" y="63830"/>
                  </a:cubicBezTo>
                  <a:cubicBezTo>
                    <a:pt x="13410" y="57393"/>
                    <a:pt x="13410" y="51493"/>
                    <a:pt x="12873" y="46129"/>
                  </a:cubicBezTo>
                  <a:cubicBezTo>
                    <a:pt x="12873" y="43447"/>
                    <a:pt x="12337" y="40765"/>
                    <a:pt x="12337" y="38083"/>
                  </a:cubicBezTo>
                  <a:cubicBezTo>
                    <a:pt x="12337" y="35401"/>
                    <a:pt x="11800" y="33256"/>
                    <a:pt x="11800" y="30574"/>
                  </a:cubicBezTo>
                  <a:cubicBezTo>
                    <a:pt x="11264" y="25746"/>
                    <a:pt x="10728" y="21455"/>
                    <a:pt x="10191" y="17701"/>
                  </a:cubicBezTo>
                  <a:cubicBezTo>
                    <a:pt x="9655" y="13946"/>
                    <a:pt x="9119" y="10728"/>
                    <a:pt x="9119" y="8046"/>
                  </a:cubicBezTo>
                  <a:cubicBezTo>
                    <a:pt x="8582" y="2682"/>
                    <a:pt x="8046" y="0"/>
                    <a:pt x="8046" y="0"/>
                  </a:cubicBezTo>
                  <a:cubicBezTo>
                    <a:pt x="8046" y="0"/>
                    <a:pt x="9119" y="2682"/>
                    <a:pt x="10728" y="8046"/>
                  </a:cubicBezTo>
                  <a:cubicBezTo>
                    <a:pt x="11800" y="10728"/>
                    <a:pt x="12337" y="13946"/>
                    <a:pt x="13410" y="17164"/>
                  </a:cubicBezTo>
                  <a:cubicBezTo>
                    <a:pt x="14482" y="20919"/>
                    <a:pt x="15555" y="25210"/>
                    <a:pt x="16628" y="29501"/>
                  </a:cubicBezTo>
                  <a:cubicBezTo>
                    <a:pt x="17164" y="31647"/>
                    <a:pt x="17701" y="34329"/>
                    <a:pt x="18237" y="37010"/>
                  </a:cubicBezTo>
                  <a:cubicBezTo>
                    <a:pt x="18773" y="39692"/>
                    <a:pt x="19310" y="42374"/>
                    <a:pt x="19846" y="45056"/>
                  </a:cubicBezTo>
                  <a:cubicBezTo>
                    <a:pt x="20919" y="50420"/>
                    <a:pt x="21455" y="56857"/>
                    <a:pt x="22528" y="62757"/>
                  </a:cubicBezTo>
                  <a:cubicBezTo>
                    <a:pt x="23601" y="76166"/>
                    <a:pt x="24137" y="90112"/>
                    <a:pt x="23601" y="10459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5" name="Freeform: Shape 408"/>
            <p:cNvSpPr/>
            <p:nvPr/>
          </p:nvSpPr>
          <p:spPr>
            <a:xfrm>
              <a:off x="8134200" y="2021400"/>
              <a:ext cx="21600" cy="173160"/>
            </a:xfrm>
            <a:custGeom>
              <a:avLst/>
              <a:gdLst/>
              <a:ahLst/>
              <a:rect l="l" t="t" r="r" b="b"/>
              <a:pathLst>
                <a:path w="27940" h="223135">
                  <a:moveTo>
                    <a:pt x="9167" y="112104"/>
                  </a:moveTo>
                  <a:cubicBezTo>
                    <a:pt x="10240" y="127659"/>
                    <a:pt x="11849" y="142142"/>
                    <a:pt x="13458" y="155551"/>
                  </a:cubicBezTo>
                  <a:cubicBezTo>
                    <a:pt x="14531" y="161988"/>
                    <a:pt x="15067" y="168424"/>
                    <a:pt x="16676" y="174325"/>
                  </a:cubicBezTo>
                  <a:cubicBezTo>
                    <a:pt x="17213" y="177543"/>
                    <a:pt x="17749" y="180225"/>
                    <a:pt x="18285" y="182907"/>
                  </a:cubicBezTo>
                  <a:cubicBezTo>
                    <a:pt x="18822" y="185589"/>
                    <a:pt x="19358" y="188271"/>
                    <a:pt x="19895" y="190952"/>
                  </a:cubicBezTo>
                  <a:cubicBezTo>
                    <a:pt x="20967" y="195780"/>
                    <a:pt x="22040" y="200607"/>
                    <a:pt x="23113" y="204362"/>
                  </a:cubicBezTo>
                  <a:cubicBezTo>
                    <a:pt x="24186" y="208117"/>
                    <a:pt x="24722" y="211871"/>
                    <a:pt x="25795" y="214553"/>
                  </a:cubicBezTo>
                  <a:cubicBezTo>
                    <a:pt x="27404" y="219917"/>
                    <a:pt x="27940" y="223135"/>
                    <a:pt x="27940" y="223135"/>
                  </a:cubicBezTo>
                  <a:cubicBezTo>
                    <a:pt x="27940" y="223135"/>
                    <a:pt x="26868" y="220453"/>
                    <a:pt x="24186" y="215090"/>
                  </a:cubicBezTo>
                  <a:cubicBezTo>
                    <a:pt x="23113" y="212408"/>
                    <a:pt x="21504" y="209189"/>
                    <a:pt x="20431" y="205435"/>
                  </a:cubicBezTo>
                  <a:cubicBezTo>
                    <a:pt x="18822" y="201680"/>
                    <a:pt x="17213" y="197389"/>
                    <a:pt x="15603" y="192025"/>
                  </a:cubicBezTo>
                  <a:cubicBezTo>
                    <a:pt x="15067" y="189343"/>
                    <a:pt x="13994" y="187198"/>
                    <a:pt x="12922" y="184516"/>
                  </a:cubicBezTo>
                  <a:cubicBezTo>
                    <a:pt x="11849" y="181834"/>
                    <a:pt x="11312" y="179152"/>
                    <a:pt x="10776" y="175934"/>
                  </a:cubicBezTo>
                  <a:cubicBezTo>
                    <a:pt x="9167" y="170033"/>
                    <a:pt x="7558" y="163597"/>
                    <a:pt x="6485" y="157160"/>
                  </a:cubicBezTo>
                  <a:cubicBezTo>
                    <a:pt x="3803" y="143751"/>
                    <a:pt x="1657" y="128732"/>
                    <a:pt x="585" y="112640"/>
                  </a:cubicBezTo>
                  <a:cubicBezTo>
                    <a:pt x="-488" y="96549"/>
                    <a:pt x="48" y="81530"/>
                    <a:pt x="1121" y="68121"/>
                  </a:cubicBezTo>
                  <a:cubicBezTo>
                    <a:pt x="1657" y="61148"/>
                    <a:pt x="2194" y="54711"/>
                    <a:pt x="3267" y="48811"/>
                  </a:cubicBezTo>
                  <a:cubicBezTo>
                    <a:pt x="3803" y="45593"/>
                    <a:pt x="4339" y="42911"/>
                    <a:pt x="4876" y="40229"/>
                  </a:cubicBezTo>
                  <a:cubicBezTo>
                    <a:pt x="5412" y="37547"/>
                    <a:pt x="5949" y="34865"/>
                    <a:pt x="6485" y="32183"/>
                  </a:cubicBezTo>
                  <a:cubicBezTo>
                    <a:pt x="7558" y="27356"/>
                    <a:pt x="8631" y="22528"/>
                    <a:pt x="9703" y="18773"/>
                  </a:cubicBezTo>
                  <a:cubicBezTo>
                    <a:pt x="10776" y="15019"/>
                    <a:pt x="11849" y="11264"/>
                    <a:pt x="12385" y="8582"/>
                  </a:cubicBezTo>
                  <a:cubicBezTo>
                    <a:pt x="13994" y="3218"/>
                    <a:pt x="15067" y="0"/>
                    <a:pt x="15067" y="0"/>
                  </a:cubicBezTo>
                  <a:cubicBezTo>
                    <a:pt x="15067" y="0"/>
                    <a:pt x="14531" y="3218"/>
                    <a:pt x="13994" y="9118"/>
                  </a:cubicBezTo>
                  <a:cubicBezTo>
                    <a:pt x="13458" y="11800"/>
                    <a:pt x="12922" y="15555"/>
                    <a:pt x="12922" y="19310"/>
                  </a:cubicBezTo>
                  <a:cubicBezTo>
                    <a:pt x="12385" y="23601"/>
                    <a:pt x="11849" y="27892"/>
                    <a:pt x="11312" y="33256"/>
                  </a:cubicBezTo>
                  <a:cubicBezTo>
                    <a:pt x="11312" y="35938"/>
                    <a:pt x="10776" y="38620"/>
                    <a:pt x="10776" y="41301"/>
                  </a:cubicBezTo>
                  <a:cubicBezTo>
                    <a:pt x="10776" y="43983"/>
                    <a:pt x="10240" y="47202"/>
                    <a:pt x="10240" y="49884"/>
                  </a:cubicBezTo>
                  <a:cubicBezTo>
                    <a:pt x="9703" y="55784"/>
                    <a:pt x="9703" y="62220"/>
                    <a:pt x="9167" y="69193"/>
                  </a:cubicBezTo>
                  <a:cubicBezTo>
                    <a:pt x="8631" y="82067"/>
                    <a:pt x="8631" y="96549"/>
                    <a:pt x="9167" y="112104"/>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6" name="Freeform: Shape 409"/>
            <p:cNvSpPr/>
            <p:nvPr/>
          </p:nvSpPr>
          <p:spPr>
            <a:xfrm>
              <a:off x="8126280" y="2036520"/>
              <a:ext cx="9000" cy="126360"/>
            </a:xfrm>
            <a:custGeom>
              <a:avLst/>
              <a:gdLst/>
              <a:ahLst/>
              <a:rect l="l" t="t" r="r" b="b"/>
              <a:pathLst>
                <a:path w="11800" h="163060">
                  <a:moveTo>
                    <a:pt x="8046" y="81530"/>
                  </a:moveTo>
                  <a:cubicBezTo>
                    <a:pt x="8046" y="92794"/>
                    <a:pt x="8046" y="103522"/>
                    <a:pt x="8582" y="113177"/>
                  </a:cubicBezTo>
                  <a:cubicBezTo>
                    <a:pt x="8582" y="122832"/>
                    <a:pt x="9118" y="131950"/>
                    <a:pt x="9655" y="138923"/>
                  </a:cubicBezTo>
                  <a:cubicBezTo>
                    <a:pt x="10191" y="153942"/>
                    <a:pt x="10728" y="163061"/>
                    <a:pt x="10728" y="163061"/>
                  </a:cubicBezTo>
                  <a:cubicBezTo>
                    <a:pt x="10728" y="163061"/>
                    <a:pt x="10191" y="160915"/>
                    <a:pt x="9118" y="156624"/>
                  </a:cubicBezTo>
                  <a:cubicBezTo>
                    <a:pt x="8046" y="152333"/>
                    <a:pt x="6437" y="146969"/>
                    <a:pt x="5364" y="139460"/>
                  </a:cubicBezTo>
                  <a:cubicBezTo>
                    <a:pt x="3755" y="131950"/>
                    <a:pt x="2682" y="123368"/>
                    <a:pt x="1609" y="113713"/>
                  </a:cubicBezTo>
                  <a:cubicBezTo>
                    <a:pt x="536" y="104058"/>
                    <a:pt x="0" y="92794"/>
                    <a:pt x="0" y="81530"/>
                  </a:cubicBezTo>
                  <a:cubicBezTo>
                    <a:pt x="0" y="70266"/>
                    <a:pt x="536" y="59002"/>
                    <a:pt x="1609" y="49347"/>
                  </a:cubicBezTo>
                  <a:cubicBezTo>
                    <a:pt x="2682" y="39692"/>
                    <a:pt x="4291" y="30574"/>
                    <a:pt x="5900" y="23601"/>
                  </a:cubicBezTo>
                  <a:cubicBezTo>
                    <a:pt x="7509" y="16091"/>
                    <a:pt x="8582" y="10191"/>
                    <a:pt x="10191" y="6437"/>
                  </a:cubicBezTo>
                  <a:cubicBezTo>
                    <a:pt x="11264" y="2682"/>
                    <a:pt x="11800" y="0"/>
                    <a:pt x="11800" y="0"/>
                  </a:cubicBezTo>
                  <a:cubicBezTo>
                    <a:pt x="11800" y="0"/>
                    <a:pt x="11264" y="9119"/>
                    <a:pt x="10728" y="24137"/>
                  </a:cubicBezTo>
                  <a:cubicBezTo>
                    <a:pt x="10191" y="31647"/>
                    <a:pt x="10191" y="40229"/>
                    <a:pt x="9655" y="49884"/>
                  </a:cubicBezTo>
                  <a:cubicBezTo>
                    <a:pt x="8046" y="59539"/>
                    <a:pt x="8046" y="70266"/>
                    <a:pt x="8046" y="815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7" name="Freeform: Shape 410"/>
            <p:cNvSpPr/>
            <p:nvPr/>
          </p:nvSpPr>
          <p:spPr>
            <a:xfrm>
              <a:off x="8110080" y="2009880"/>
              <a:ext cx="15480" cy="155520"/>
            </a:xfrm>
            <a:custGeom>
              <a:avLst/>
              <a:gdLst/>
              <a:ahLst/>
              <a:rect l="l" t="t" r="r" b="b"/>
              <a:pathLst>
                <a:path w="20382" h="200607">
                  <a:moveTo>
                    <a:pt x="9655" y="99767"/>
                  </a:moveTo>
                  <a:cubicBezTo>
                    <a:pt x="9655" y="113713"/>
                    <a:pt x="9655" y="126586"/>
                    <a:pt x="10191" y="138923"/>
                  </a:cubicBezTo>
                  <a:cubicBezTo>
                    <a:pt x="10728" y="144823"/>
                    <a:pt x="10728" y="150724"/>
                    <a:pt x="11264" y="156088"/>
                  </a:cubicBezTo>
                  <a:cubicBezTo>
                    <a:pt x="11800" y="161451"/>
                    <a:pt x="12337" y="166279"/>
                    <a:pt x="12873" y="171106"/>
                  </a:cubicBezTo>
                  <a:cubicBezTo>
                    <a:pt x="13410" y="175934"/>
                    <a:pt x="13946" y="179688"/>
                    <a:pt x="14482" y="183443"/>
                  </a:cubicBezTo>
                  <a:cubicBezTo>
                    <a:pt x="15019" y="187198"/>
                    <a:pt x="15555" y="190416"/>
                    <a:pt x="15555" y="192562"/>
                  </a:cubicBezTo>
                  <a:cubicBezTo>
                    <a:pt x="16092" y="197925"/>
                    <a:pt x="16628" y="200607"/>
                    <a:pt x="16628" y="200607"/>
                  </a:cubicBezTo>
                  <a:cubicBezTo>
                    <a:pt x="16628" y="200607"/>
                    <a:pt x="15555" y="197925"/>
                    <a:pt x="13946" y="193098"/>
                  </a:cubicBezTo>
                  <a:cubicBezTo>
                    <a:pt x="12873" y="190416"/>
                    <a:pt x="12337" y="187734"/>
                    <a:pt x="11264" y="183979"/>
                  </a:cubicBezTo>
                  <a:cubicBezTo>
                    <a:pt x="10191" y="180225"/>
                    <a:pt x="9118" y="176470"/>
                    <a:pt x="8046" y="171643"/>
                  </a:cubicBezTo>
                  <a:cubicBezTo>
                    <a:pt x="6973" y="167352"/>
                    <a:pt x="5900" y="161988"/>
                    <a:pt x="4827" y="156624"/>
                  </a:cubicBezTo>
                  <a:cubicBezTo>
                    <a:pt x="3755" y="151260"/>
                    <a:pt x="3218" y="145360"/>
                    <a:pt x="2146" y="139460"/>
                  </a:cubicBezTo>
                  <a:cubicBezTo>
                    <a:pt x="536" y="127123"/>
                    <a:pt x="0" y="113713"/>
                    <a:pt x="0" y="99767"/>
                  </a:cubicBezTo>
                  <a:cubicBezTo>
                    <a:pt x="536" y="85821"/>
                    <a:pt x="1609" y="71875"/>
                    <a:pt x="3755" y="60075"/>
                  </a:cubicBezTo>
                  <a:cubicBezTo>
                    <a:pt x="4827" y="54175"/>
                    <a:pt x="5900" y="48274"/>
                    <a:pt x="6973" y="42911"/>
                  </a:cubicBezTo>
                  <a:cubicBezTo>
                    <a:pt x="8046" y="37547"/>
                    <a:pt x="9118" y="32719"/>
                    <a:pt x="10728" y="28428"/>
                  </a:cubicBezTo>
                  <a:cubicBezTo>
                    <a:pt x="11800" y="24137"/>
                    <a:pt x="13410" y="19846"/>
                    <a:pt x="14482" y="16628"/>
                  </a:cubicBezTo>
                  <a:cubicBezTo>
                    <a:pt x="15555" y="12873"/>
                    <a:pt x="16628" y="10191"/>
                    <a:pt x="17701" y="7509"/>
                  </a:cubicBezTo>
                  <a:cubicBezTo>
                    <a:pt x="19310" y="2682"/>
                    <a:pt x="20383" y="0"/>
                    <a:pt x="20383" y="0"/>
                  </a:cubicBezTo>
                  <a:cubicBezTo>
                    <a:pt x="20383" y="0"/>
                    <a:pt x="19846" y="2682"/>
                    <a:pt x="18773" y="8046"/>
                  </a:cubicBezTo>
                  <a:cubicBezTo>
                    <a:pt x="18237" y="10728"/>
                    <a:pt x="17701" y="13410"/>
                    <a:pt x="17164" y="17164"/>
                  </a:cubicBezTo>
                  <a:cubicBezTo>
                    <a:pt x="16628" y="20919"/>
                    <a:pt x="16092" y="24674"/>
                    <a:pt x="15019" y="29501"/>
                  </a:cubicBezTo>
                  <a:cubicBezTo>
                    <a:pt x="14482" y="33792"/>
                    <a:pt x="13410" y="39156"/>
                    <a:pt x="12873" y="44520"/>
                  </a:cubicBezTo>
                  <a:cubicBezTo>
                    <a:pt x="12337" y="49884"/>
                    <a:pt x="11800" y="55784"/>
                    <a:pt x="11264" y="61684"/>
                  </a:cubicBezTo>
                  <a:cubicBezTo>
                    <a:pt x="10728" y="72948"/>
                    <a:pt x="10191" y="85821"/>
                    <a:pt x="9655" y="9976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08" name="Freeform: Shape 411"/>
            <p:cNvSpPr/>
            <p:nvPr/>
          </p:nvSpPr>
          <p:spPr>
            <a:xfrm>
              <a:off x="8160840" y="2853720"/>
              <a:ext cx="86400" cy="25920"/>
            </a:xfrm>
            <a:custGeom>
              <a:avLst/>
              <a:gdLst/>
              <a:ahLst/>
              <a:rect l="l" t="t" r="r" b="b"/>
              <a:pathLst>
                <a:path w="111567" h="33792">
                  <a:moveTo>
                    <a:pt x="111568" y="32183"/>
                  </a:moveTo>
                  <a:cubicBezTo>
                    <a:pt x="111568" y="32719"/>
                    <a:pt x="111568" y="33256"/>
                    <a:pt x="111568" y="33792"/>
                  </a:cubicBezTo>
                  <a:cubicBezTo>
                    <a:pt x="110495" y="33792"/>
                    <a:pt x="109959" y="33792"/>
                    <a:pt x="108886" y="33792"/>
                  </a:cubicBezTo>
                  <a:cubicBezTo>
                    <a:pt x="106204" y="33792"/>
                    <a:pt x="102986" y="33792"/>
                    <a:pt x="99767" y="33792"/>
                  </a:cubicBezTo>
                  <a:cubicBezTo>
                    <a:pt x="65975" y="33792"/>
                    <a:pt x="32719" y="31110"/>
                    <a:pt x="0" y="26283"/>
                  </a:cubicBezTo>
                  <a:cubicBezTo>
                    <a:pt x="2146" y="26283"/>
                    <a:pt x="4291" y="25746"/>
                    <a:pt x="6437" y="25210"/>
                  </a:cubicBezTo>
                  <a:cubicBezTo>
                    <a:pt x="19846" y="22528"/>
                    <a:pt x="33256" y="18237"/>
                    <a:pt x="45593" y="12873"/>
                  </a:cubicBezTo>
                  <a:cubicBezTo>
                    <a:pt x="54711" y="9118"/>
                    <a:pt x="63830" y="4291"/>
                    <a:pt x="73485" y="2146"/>
                  </a:cubicBezTo>
                  <a:cubicBezTo>
                    <a:pt x="80994" y="536"/>
                    <a:pt x="89040" y="0"/>
                    <a:pt x="96549" y="0"/>
                  </a:cubicBezTo>
                  <a:cubicBezTo>
                    <a:pt x="97085" y="0"/>
                    <a:pt x="98695" y="0"/>
                    <a:pt x="99767" y="0"/>
                  </a:cubicBezTo>
                  <a:cubicBezTo>
                    <a:pt x="99767" y="0"/>
                    <a:pt x="100304" y="0"/>
                    <a:pt x="100304" y="0"/>
                  </a:cubicBezTo>
                  <a:cubicBezTo>
                    <a:pt x="102449" y="0"/>
                    <a:pt x="105131" y="0"/>
                    <a:pt x="107277" y="0"/>
                  </a:cubicBezTo>
                  <a:cubicBezTo>
                    <a:pt x="107277" y="0"/>
                    <a:pt x="107813" y="0"/>
                    <a:pt x="107813" y="0"/>
                  </a:cubicBezTo>
                  <a:cubicBezTo>
                    <a:pt x="107813" y="0"/>
                    <a:pt x="108350" y="0"/>
                    <a:pt x="108350" y="0"/>
                  </a:cubicBezTo>
                  <a:cubicBezTo>
                    <a:pt x="108350" y="0"/>
                    <a:pt x="108886" y="0"/>
                    <a:pt x="108886" y="0"/>
                  </a:cubicBezTo>
                  <a:cubicBezTo>
                    <a:pt x="111031" y="10728"/>
                    <a:pt x="111568" y="21455"/>
                    <a:pt x="111568" y="32183"/>
                  </a:cubicBezTo>
                  <a:close/>
                </a:path>
              </a:pathLst>
            </a:custGeom>
            <a:solidFill>
              <a:srgbClr val="524f66"/>
            </a:solidFill>
            <a:ln w="0">
              <a:noFill/>
            </a:ln>
          </p:spPr>
          <p:style>
            <a:lnRef idx="0"/>
            <a:fillRef idx="0"/>
            <a:effectRef idx="0"/>
            <a:fontRef idx="minor"/>
          </p:style>
          <p:txBody>
            <a:bodyPr lIns="90000" rIns="90000" tIns="-20880" bIns="-20880" anchor="ctr">
              <a:noAutofit/>
            </a:bodyPr>
            <a:p>
              <a:endParaRPr b="0" lang="en-US" sz="1800" spc="-1" strike="noStrike">
                <a:solidFill>
                  <a:srgbClr val="313c3f"/>
                </a:solidFill>
                <a:latin typeface="Source Sans Pro"/>
              </a:endParaRPr>
            </a:p>
          </p:txBody>
        </p:sp>
        <p:sp>
          <p:nvSpPr>
            <p:cNvPr id="2609" name="Freeform: Shape 412"/>
            <p:cNvSpPr/>
            <p:nvPr/>
          </p:nvSpPr>
          <p:spPr>
            <a:xfrm>
              <a:off x="8244720" y="2851920"/>
              <a:ext cx="28800" cy="27720"/>
            </a:xfrm>
            <a:custGeom>
              <a:avLst/>
              <a:gdLst/>
              <a:ahLst/>
              <a:rect l="l" t="t" r="r" b="b"/>
              <a:pathLst>
                <a:path w="37220" h="35937">
                  <a:moveTo>
                    <a:pt x="37221" y="34328"/>
                  </a:moveTo>
                  <a:cubicBezTo>
                    <a:pt x="35612" y="34328"/>
                    <a:pt x="33466" y="34328"/>
                    <a:pt x="31857" y="34865"/>
                  </a:cubicBezTo>
                  <a:cubicBezTo>
                    <a:pt x="22738" y="35401"/>
                    <a:pt x="13620" y="35938"/>
                    <a:pt x="3965" y="35938"/>
                  </a:cubicBezTo>
                  <a:cubicBezTo>
                    <a:pt x="2892" y="35938"/>
                    <a:pt x="2356" y="35938"/>
                    <a:pt x="1283" y="35938"/>
                  </a:cubicBezTo>
                  <a:cubicBezTo>
                    <a:pt x="1283" y="35401"/>
                    <a:pt x="1283" y="34865"/>
                    <a:pt x="1283" y="33792"/>
                  </a:cubicBezTo>
                  <a:cubicBezTo>
                    <a:pt x="210" y="23064"/>
                    <a:pt x="-326" y="12337"/>
                    <a:pt x="210" y="1609"/>
                  </a:cubicBezTo>
                  <a:cubicBezTo>
                    <a:pt x="210" y="1609"/>
                    <a:pt x="210" y="1609"/>
                    <a:pt x="210" y="1609"/>
                  </a:cubicBezTo>
                  <a:cubicBezTo>
                    <a:pt x="210" y="1609"/>
                    <a:pt x="747" y="1609"/>
                    <a:pt x="747" y="1609"/>
                  </a:cubicBezTo>
                  <a:cubicBezTo>
                    <a:pt x="747" y="1609"/>
                    <a:pt x="1283" y="1609"/>
                    <a:pt x="1283" y="1609"/>
                  </a:cubicBezTo>
                  <a:cubicBezTo>
                    <a:pt x="4501" y="1609"/>
                    <a:pt x="8793" y="1073"/>
                    <a:pt x="13084" y="1073"/>
                  </a:cubicBezTo>
                  <a:cubicBezTo>
                    <a:pt x="15766" y="1073"/>
                    <a:pt x="18984" y="536"/>
                    <a:pt x="21666" y="536"/>
                  </a:cubicBezTo>
                  <a:cubicBezTo>
                    <a:pt x="25420" y="536"/>
                    <a:pt x="29175" y="0"/>
                    <a:pt x="33466" y="0"/>
                  </a:cubicBezTo>
                  <a:cubicBezTo>
                    <a:pt x="33466" y="2146"/>
                    <a:pt x="34003" y="4291"/>
                    <a:pt x="34003" y="5900"/>
                  </a:cubicBezTo>
                  <a:cubicBezTo>
                    <a:pt x="34003" y="8046"/>
                    <a:pt x="34539" y="10728"/>
                    <a:pt x="34539" y="12873"/>
                  </a:cubicBezTo>
                  <a:cubicBezTo>
                    <a:pt x="34539" y="13946"/>
                    <a:pt x="34539" y="15019"/>
                    <a:pt x="35075" y="16091"/>
                  </a:cubicBezTo>
                  <a:cubicBezTo>
                    <a:pt x="35075" y="17164"/>
                    <a:pt x="35075" y="18237"/>
                    <a:pt x="35612" y="18773"/>
                  </a:cubicBezTo>
                  <a:cubicBezTo>
                    <a:pt x="35612" y="20919"/>
                    <a:pt x="36148" y="22528"/>
                    <a:pt x="36148" y="24137"/>
                  </a:cubicBezTo>
                  <a:cubicBezTo>
                    <a:pt x="36684" y="28428"/>
                    <a:pt x="36684" y="32183"/>
                    <a:pt x="37221" y="34328"/>
                  </a:cubicBezTo>
                  <a:close/>
                </a:path>
              </a:pathLst>
            </a:custGeom>
            <a:solidFill>
              <a:srgbClr val="524f66"/>
            </a:solidFill>
            <a:ln w="0">
              <a:noFill/>
            </a:ln>
          </p:spPr>
          <p:style>
            <a:lnRef idx="0"/>
            <a:fillRef idx="0"/>
            <a:effectRef idx="0"/>
            <a:fontRef idx="minor"/>
          </p:style>
          <p:txBody>
            <a:bodyPr lIns="90000" rIns="90000" tIns="-19080" bIns="-19080" anchor="ctr">
              <a:noAutofit/>
            </a:bodyPr>
            <a:p>
              <a:endParaRPr b="0" lang="en-US" sz="1800" spc="-1" strike="noStrike">
                <a:solidFill>
                  <a:srgbClr val="313c3f"/>
                </a:solidFill>
                <a:latin typeface="Source Sans Pro"/>
              </a:endParaRPr>
            </a:p>
          </p:txBody>
        </p:sp>
        <p:sp>
          <p:nvSpPr>
            <p:cNvPr id="2610" name="Freeform: Shape 413"/>
            <p:cNvSpPr/>
            <p:nvPr/>
          </p:nvSpPr>
          <p:spPr>
            <a:xfrm>
              <a:off x="8281440" y="2856960"/>
              <a:ext cx="46800" cy="20880"/>
            </a:xfrm>
            <a:custGeom>
              <a:avLst/>
              <a:gdLst/>
              <a:ahLst/>
              <a:rect l="l" t="t" r="r" b="b"/>
              <a:pathLst>
                <a:path w="60611" h="27355">
                  <a:moveTo>
                    <a:pt x="-4925" y="19846"/>
                  </a:moveTo>
                  <a:cubicBezTo>
                    <a:pt x="-13507" y="21455"/>
                    <a:pt x="-21552" y="22528"/>
                    <a:pt x="-30135" y="23601"/>
                  </a:cubicBezTo>
                  <a:cubicBezTo>
                    <a:pt x="23601" y="25210"/>
                    <a:pt x="11800" y="26283"/>
                    <a:pt x="0" y="27356"/>
                  </a:cubicBezTo>
                  <a:cubicBezTo>
                    <a:pt x="1609" y="26819"/>
                    <a:pt x="3218" y="25746"/>
                    <a:pt x="5364" y="25210"/>
                  </a:cubicBezTo>
                  <a:cubicBezTo>
                    <a:pt x="14482" y="21455"/>
                    <a:pt x="23065" y="17701"/>
                    <a:pt x="31647" y="13410"/>
                  </a:cubicBezTo>
                  <a:cubicBezTo>
                    <a:pt x="-25844" y="9655"/>
                    <a:pt x="-17798" y="5900"/>
                    <a:pt x="-9752" y="1609"/>
                  </a:cubicBezTo>
                  <a:cubicBezTo>
                    <a:pt x="-8679" y="1073"/>
                    <a:pt x="-7606" y="536"/>
                    <a:pt x="-6534" y="0"/>
                  </a:cubicBezTo>
                  <a:cubicBezTo>
                    <a:pt x="-5461" y="6437"/>
                    <a:pt x="-4925" y="12873"/>
                    <a:pt x="-4925" y="19846"/>
                  </a:cubicBezTo>
                  <a:close/>
                </a:path>
              </a:pathLst>
            </a:custGeom>
            <a:solidFill>
              <a:srgbClr val="524f66"/>
            </a:solidFill>
            <a:ln w="0">
              <a:noFill/>
            </a:ln>
          </p:spPr>
          <p:style>
            <a:lnRef idx="0"/>
            <a:fillRef idx="0"/>
            <a:effectRef idx="0"/>
            <a:fontRef idx="minor"/>
          </p:style>
          <p:txBody>
            <a:bodyPr lIns="90000" rIns="90000" tIns="-25920" bIns="-25920" anchor="ctr">
              <a:noAutofit/>
            </a:bodyPr>
            <a:p>
              <a:endParaRPr b="0" lang="en-US" sz="1800" spc="-1" strike="noStrike">
                <a:solidFill>
                  <a:srgbClr val="313c3f"/>
                </a:solidFill>
                <a:latin typeface="Source Sans Pro"/>
              </a:endParaRPr>
            </a:p>
          </p:txBody>
        </p:sp>
        <p:sp>
          <p:nvSpPr>
            <p:cNvPr id="2611" name="Freeform: Shape 414"/>
            <p:cNvSpPr/>
            <p:nvPr/>
          </p:nvSpPr>
          <p:spPr>
            <a:xfrm>
              <a:off x="8305920" y="2856600"/>
              <a:ext cx="22320" cy="18720"/>
            </a:xfrm>
            <a:custGeom>
              <a:avLst/>
              <a:gdLst/>
              <a:ahLst/>
              <a:rect l="l" t="t" r="r" b="b"/>
              <a:pathLst>
                <a:path w="28964" h="24137">
                  <a:moveTo>
                    <a:pt x="28965" y="20383"/>
                  </a:moveTo>
                  <a:cubicBezTo>
                    <a:pt x="20383" y="21992"/>
                    <a:pt x="12337" y="23064"/>
                    <a:pt x="3755" y="24137"/>
                  </a:cubicBezTo>
                  <a:cubicBezTo>
                    <a:pt x="2146" y="20919"/>
                    <a:pt x="1073" y="17164"/>
                    <a:pt x="0" y="13946"/>
                  </a:cubicBezTo>
                  <a:cubicBezTo>
                    <a:pt x="0" y="13946"/>
                    <a:pt x="0" y="13946"/>
                    <a:pt x="0" y="13410"/>
                  </a:cubicBezTo>
                  <a:cubicBezTo>
                    <a:pt x="8582" y="9119"/>
                    <a:pt x="17164" y="5364"/>
                    <a:pt x="24137" y="1609"/>
                  </a:cubicBezTo>
                  <a:cubicBezTo>
                    <a:pt x="25210" y="1073"/>
                    <a:pt x="26283" y="536"/>
                    <a:pt x="27356" y="0"/>
                  </a:cubicBezTo>
                  <a:cubicBezTo>
                    <a:pt x="28428" y="6973"/>
                    <a:pt x="28965" y="13410"/>
                    <a:pt x="28965" y="20383"/>
                  </a:cubicBezTo>
                  <a:close/>
                </a:path>
              </a:pathLst>
            </a:custGeom>
            <a:solidFill>
              <a:srgbClr val="231f20"/>
            </a:solidFill>
            <a:ln w="0">
              <a:noFill/>
            </a:ln>
          </p:spPr>
          <p:style>
            <a:lnRef idx="0"/>
            <a:fillRef idx="0"/>
            <a:effectRef idx="0"/>
            <a:fontRef idx="minor"/>
          </p:style>
          <p:txBody>
            <a:bodyPr lIns="90000" rIns="90000" tIns="-28080" bIns="-28080" anchor="ctr">
              <a:noAutofit/>
            </a:bodyPr>
            <a:p>
              <a:endParaRPr b="0" lang="en-US" sz="1800" spc="-1" strike="noStrike">
                <a:solidFill>
                  <a:srgbClr val="313c3f"/>
                </a:solidFill>
                <a:latin typeface="Source Sans Pro"/>
              </a:endParaRPr>
            </a:p>
          </p:txBody>
        </p:sp>
        <p:sp>
          <p:nvSpPr>
            <p:cNvPr id="2612" name="Freeform: Shape 415"/>
            <p:cNvSpPr/>
            <p:nvPr/>
          </p:nvSpPr>
          <p:spPr>
            <a:xfrm>
              <a:off x="8255520" y="2851920"/>
              <a:ext cx="17640" cy="27000"/>
            </a:xfrm>
            <a:custGeom>
              <a:avLst/>
              <a:gdLst/>
              <a:ahLst/>
              <a:rect l="l" t="t" r="r" b="b"/>
              <a:pathLst>
                <a:path w="23064" h="34864">
                  <a:moveTo>
                    <a:pt x="23064" y="-31208"/>
                  </a:moveTo>
                  <a:cubicBezTo>
                    <a:pt x="21455" y="-31208"/>
                    <a:pt x="19310" y="-31208"/>
                    <a:pt x="17701" y="-30671"/>
                  </a:cubicBezTo>
                  <a:cubicBezTo>
                    <a:pt x="17164" y="-31208"/>
                    <a:pt x="17164" y="-31744"/>
                    <a:pt x="16628" y="-32280"/>
                  </a:cubicBezTo>
                  <a:cubicBezTo>
                    <a:pt x="10728" y="23601"/>
                    <a:pt x="5364" y="13410"/>
                    <a:pt x="536" y="2682"/>
                  </a:cubicBezTo>
                  <a:cubicBezTo>
                    <a:pt x="536" y="2146"/>
                    <a:pt x="0" y="1609"/>
                    <a:pt x="0" y="1073"/>
                  </a:cubicBezTo>
                  <a:cubicBezTo>
                    <a:pt x="0" y="1073"/>
                    <a:pt x="0" y="1073"/>
                    <a:pt x="0" y="1073"/>
                  </a:cubicBezTo>
                  <a:cubicBezTo>
                    <a:pt x="2682" y="1073"/>
                    <a:pt x="5900" y="536"/>
                    <a:pt x="8582" y="536"/>
                  </a:cubicBezTo>
                  <a:cubicBezTo>
                    <a:pt x="12337" y="536"/>
                    <a:pt x="16092" y="0"/>
                    <a:pt x="20383" y="0"/>
                  </a:cubicBezTo>
                  <a:cubicBezTo>
                    <a:pt x="20383" y="2146"/>
                    <a:pt x="20919" y="4291"/>
                    <a:pt x="20919" y="5900"/>
                  </a:cubicBezTo>
                  <a:cubicBezTo>
                    <a:pt x="20919" y="8046"/>
                    <a:pt x="21455" y="10728"/>
                    <a:pt x="21455" y="12873"/>
                  </a:cubicBezTo>
                  <a:cubicBezTo>
                    <a:pt x="21455" y="13946"/>
                    <a:pt x="21455" y="15019"/>
                    <a:pt x="21992" y="16091"/>
                  </a:cubicBezTo>
                  <a:cubicBezTo>
                    <a:pt x="21992" y="17164"/>
                    <a:pt x="21992" y="18237"/>
                    <a:pt x="22528" y="18773"/>
                  </a:cubicBezTo>
                  <a:cubicBezTo>
                    <a:pt x="22528" y="20919"/>
                    <a:pt x="23064" y="22528"/>
                    <a:pt x="23064" y="24137"/>
                  </a:cubicBezTo>
                  <a:cubicBezTo>
                    <a:pt x="22528" y="28428"/>
                    <a:pt x="22528" y="32183"/>
                    <a:pt x="23064" y="-31208"/>
                  </a:cubicBezTo>
                  <a:close/>
                </a:path>
              </a:pathLst>
            </a:custGeom>
            <a:solidFill>
              <a:srgbClr val="bcbec0"/>
            </a:solidFill>
            <a:ln w="0">
              <a:noFill/>
            </a:ln>
          </p:spPr>
          <p:style>
            <a:lnRef idx="0"/>
            <a:fillRef idx="0"/>
            <a:effectRef idx="0"/>
            <a:fontRef idx="minor"/>
          </p:style>
          <p:txBody>
            <a:bodyPr lIns="90000" rIns="90000" tIns="-19800" bIns="-19800" anchor="ctr">
              <a:noAutofit/>
            </a:bodyPr>
            <a:p>
              <a:endParaRPr b="0" lang="en-US" sz="1800" spc="-1" strike="noStrike">
                <a:solidFill>
                  <a:srgbClr val="313c3f"/>
                </a:solidFill>
                <a:latin typeface="Source Sans Pro"/>
              </a:endParaRPr>
            </a:p>
          </p:txBody>
        </p:sp>
      </p:grpSp>
      <p:grpSp>
        <p:nvGrpSpPr>
          <p:cNvPr id="2613" name="Group 420"/>
          <p:cNvGrpSpPr/>
          <p:nvPr/>
        </p:nvGrpSpPr>
        <p:grpSpPr>
          <a:xfrm>
            <a:off x="10287000" y="1863720"/>
            <a:ext cx="1035000" cy="1015920"/>
            <a:chOff x="10287000" y="1863720"/>
            <a:chExt cx="1035000" cy="1015920"/>
          </a:xfrm>
        </p:grpSpPr>
        <p:sp>
          <p:nvSpPr>
            <p:cNvPr id="2614" name="Freeform: Shape 421"/>
            <p:cNvSpPr/>
            <p:nvPr/>
          </p:nvSpPr>
          <p:spPr>
            <a:xfrm>
              <a:off x="10287000" y="1863720"/>
              <a:ext cx="1035000" cy="1015560"/>
            </a:xfrm>
            <a:custGeom>
              <a:avLst/>
              <a:gdLst/>
              <a:ahLst/>
              <a:rect l="l" t="t" r="r" b="b"/>
              <a:pathLst>
                <a:path w="1333448" h="1307165">
                  <a:moveTo>
                    <a:pt x="1333449" y="654388"/>
                  </a:moveTo>
                  <a:cubicBezTo>
                    <a:pt x="1333449" y="934916"/>
                    <a:pt x="1153224" y="1174679"/>
                    <a:pt x="899515" y="1266937"/>
                  </a:cubicBezTo>
                  <a:cubicBezTo>
                    <a:pt x="888251" y="1271228"/>
                    <a:pt x="876987" y="1274983"/>
                    <a:pt x="865186" y="1278201"/>
                  </a:cubicBezTo>
                  <a:cubicBezTo>
                    <a:pt x="864650" y="1278201"/>
                    <a:pt x="864114" y="1278738"/>
                    <a:pt x="863577" y="1278738"/>
                  </a:cubicBezTo>
                  <a:cubicBezTo>
                    <a:pt x="852850" y="1281956"/>
                    <a:pt x="841585" y="1285174"/>
                    <a:pt x="830321" y="1287856"/>
                  </a:cubicBezTo>
                  <a:cubicBezTo>
                    <a:pt x="814766" y="1291611"/>
                    <a:pt x="799211" y="1294829"/>
                    <a:pt x="783120" y="1297511"/>
                  </a:cubicBezTo>
                  <a:cubicBezTo>
                    <a:pt x="774538" y="1299120"/>
                    <a:pt x="766492" y="1300193"/>
                    <a:pt x="757910" y="1301266"/>
                  </a:cubicBezTo>
                  <a:cubicBezTo>
                    <a:pt x="746109" y="1302875"/>
                    <a:pt x="734309" y="1303948"/>
                    <a:pt x="722508" y="1305020"/>
                  </a:cubicBezTo>
                  <a:cubicBezTo>
                    <a:pt x="718754" y="1305557"/>
                    <a:pt x="715535" y="1305557"/>
                    <a:pt x="711781" y="1305557"/>
                  </a:cubicBezTo>
                  <a:cubicBezTo>
                    <a:pt x="710172" y="1305557"/>
                    <a:pt x="708026" y="1305557"/>
                    <a:pt x="706417" y="1306093"/>
                  </a:cubicBezTo>
                  <a:cubicBezTo>
                    <a:pt x="697298" y="1306630"/>
                    <a:pt x="688180" y="1307166"/>
                    <a:pt x="678525" y="1307166"/>
                  </a:cubicBezTo>
                  <a:cubicBezTo>
                    <a:pt x="677452" y="1307166"/>
                    <a:pt x="676916" y="1307166"/>
                    <a:pt x="675843" y="1307166"/>
                  </a:cubicBezTo>
                  <a:cubicBezTo>
                    <a:pt x="673161" y="1307166"/>
                    <a:pt x="669943" y="1307166"/>
                    <a:pt x="666724" y="1307166"/>
                  </a:cubicBezTo>
                  <a:cubicBezTo>
                    <a:pt x="632932" y="1307166"/>
                    <a:pt x="599677" y="1304484"/>
                    <a:pt x="566957" y="1299656"/>
                  </a:cubicBezTo>
                  <a:cubicBezTo>
                    <a:pt x="561057" y="1298584"/>
                    <a:pt x="554620" y="1298047"/>
                    <a:pt x="548720" y="1296975"/>
                  </a:cubicBezTo>
                  <a:cubicBezTo>
                    <a:pt x="512246" y="1290538"/>
                    <a:pt x="476845" y="1281420"/>
                    <a:pt x="442516" y="1269083"/>
                  </a:cubicBezTo>
                  <a:cubicBezTo>
                    <a:pt x="441980" y="1269083"/>
                    <a:pt x="441443" y="1268546"/>
                    <a:pt x="440371" y="1268546"/>
                  </a:cubicBezTo>
                  <a:cubicBezTo>
                    <a:pt x="426961" y="1263719"/>
                    <a:pt x="414088" y="1258891"/>
                    <a:pt x="401215" y="1253528"/>
                  </a:cubicBezTo>
                  <a:cubicBezTo>
                    <a:pt x="165206" y="1153224"/>
                    <a:pt x="0" y="922043"/>
                    <a:pt x="0" y="653851"/>
                  </a:cubicBezTo>
                  <a:cubicBezTo>
                    <a:pt x="0" y="292865"/>
                    <a:pt x="298229" y="0"/>
                    <a:pt x="666188" y="0"/>
                  </a:cubicBezTo>
                  <a:cubicBezTo>
                    <a:pt x="1034147" y="0"/>
                    <a:pt x="1333449" y="293402"/>
                    <a:pt x="1333449" y="654388"/>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615" name="Graphic 120"/>
            <p:cNvGrpSpPr/>
            <p:nvPr/>
          </p:nvGrpSpPr>
          <p:grpSpPr>
            <a:xfrm>
              <a:off x="10591200" y="1978560"/>
              <a:ext cx="412200" cy="901080"/>
              <a:chOff x="10591200" y="1978560"/>
              <a:chExt cx="412200" cy="901080"/>
            </a:xfrm>
          </p:grpSpPr>
          <p:sp>
            <p:nvSpPr>
              <p:cNvPr id="2616" name="Freeform: Shape 423"/>
              <p:cNvSpPr/>
              <p:nvPr/>
            </p:nvSpPr>
            <p:spPr>
              <a:xfrm>
                <a:off x="10724760" y="2177640"/>
                <a:ext cx="118440" cy="59760"/>
              </a:xfrm>
              <a:custGeom>
                <a:avLst/>
                <a:gdLst/>
                <a:ahLst/>
                <a:rect l="l" t="t" r="r" b="b"/>
                <a:pathLst>
                  <a:path w="152869" h="77239">
                    <a:moveTo>
                      <a:pt x="152869" y="0"/>
                    </a:moveTo>
                    <a:cubicBezTo>
                      <a:pt x="149115" y="25210"/>
                      <a:pt x="143751" y="50420"/>
                      <a:pt x="133559" y="74021"/>
                    </a:cubicBezTo>
                    <a:cubicBezTo>
                      <a:pt x="133023" y="74021"/>
                      <a:pt x="133023" y="74021"/>
                      <a:pt x="132487" y="74021"/>
                    </a:cubicBezTo>
                    <a:cubicBezTo>
                      <a:pt x="105131" y="75094"/>
                      <a:pt x="77239" y="76703"/>
                      <a:pt x="49884" y="75630"/>
                    </a:cubicBezTo>
                    <a:cubicBezTo>
                      <a:pt x="36474" y="75094"/>
                      <a:pt x="23064" y="74021"/>
                      <a:pt x="10191" y="77239"/>
                    </a:cubicBezTo>
                    <a:cubicBezTo>
                      <a:pt x="10191" y="77239"/>
                      <a:pt x="10191" y="77239"/>
                      <a:pt x="10191" y="77239"/>
                    </a:cubicBezTo>
                    <a:cubicBezTo>
                      <a:pt x="4827" y="57929"/>
                      <a:pt x="1609" y="37547"/>
                      <a:pt x="0" y="17164"/>
                    </a:cubicBezTo>
                    <a:cubicBezTo>
                      <a:pt x="8582" y="35938"/>
                      <a:pt x="20383" y="48274"/>
                      <a:pt x="31110" y="56857"/>
                    </a:cubicBezTo>
                    <a:cubicBezTo>
                      <a:pt x="52566" y="72948"/>
                      <a:pt x="73484" y="73485"/>
                      <a:pt x="73484" y="73485"/>
                    </a:cubicBezTo>
                    <a:cubicBezTo>
                      <a:pt x="73484" y="73485"/>
                      <a:pt x="83676" y="72948"/>
                      <a:pt x="97622" y="66511"/>
                    </a:cubicBezTo>
                    <a:cubicBezTo>
                      <a:pt x="106740" y="62220"/>
                      <a:pt x="117468" y="55784"/>
                      <a:pt x="127659" y="45056"/>
                    </a:cubicBezTo>
                    <a:cubicBezTo>
                      <a:pt x="136778" y="33792"/>
                      <a:pt x="145896" y="19310"/>
                      <a:pt x="152869" y="0"/>
                    </a:cubicBezTo>
                    <a:close/>
                  </a:path>
                </a:pathLst>
              </a:custGeom>
              <a:solidFill>
                <a:srgbClr val="7c4f27"/>
              </a:solidFill>
              <a:ln w="0">
                <a:noFill/>
              </a:ln>
            </p:spPr>
            <p:style>
              <a:lnRef idx="0"/>
              <a:fillRef idx="0"/>
              <a:effectRef idx="0"/>
              <a:fontRef idx="minor"/>
            </p:style>
            <p:txBody>
              <a:bodyPr lIns="90000" rIns="90000" tIns="12960" bIns="12960" anchor="ctr">
                <a:noAutofit/>
              </a:bodyPr>
              <a:p>
                <a:endParaRPr b="0" lang="en-US" sz="1800" spc="-1" strike="noStrike">
                  <a:solidFill>
                    <a:srgbClr val="313c3f"/>
                  </a:solidFill>
                  <a:latin typeface="Source Sans Pro"/>
                </a:endParaRPr>
              </a:p>
            </p:txBody>
          </p:sp>
          <p:sp>
            <p:nvSpPr>
              <p:cNvPr id="2617" name="Freeform: Shape 424"/>
              <p:cNvSpPr/>
              <p:nvPr/>
            </p:nvSpPr>
            <p:spPr>
              <a:xfrm>
                <a:off x="10724040" y="2031480"/>
                <a:ext cx="122400" cy="202320"/>
              </a:xfrm>
              <a:custGeom>
                <a:avLst/>
                <a:gdLst/>
                <a:ahLst/>
                <a:rect l="l" t="t" r="r" b="b"/>
                <a:pathLst>
                  <a:path w="157696" h="260682">
                    <a:moveTo>
                      <a:pt x="157697" y="144287"/>
                    </a:moveTo>
                    <a:cubicBezTo>
                      <a:pt x="157697" y="145896"/>
                      <a:pt x="157697" y="147505"/>
                      <a:pt x="157697" y="148578"/>
                    </a:cubicBezTo>
                    <a:cubicBezTo>
                      <a:pt x="157697" y="149115"/>
                      <a:pt x="157697" y="149115"/>
                      <a:pt x="157697" y="149651"/>
                    </a:cubicBezTo>
                    <a:cubicBezTo>
                      <a:pt x="157697" y="151260"/>
                      <a:pt x="157697" y="152333"/>
                      <a:pt x="157697" y="153942"/>
                    </a:cubicBezTo>
                    <a:cubicBezTo>
                      <a:pt x="157697" y="155015"/>
                      <a:pt x="157697" y="156624"/>
                      <a:pt x="157697" y="157697"/>
                    </a:cubicBezTo>
                    <a:cubicBezTo>
                      <a:pt x="157697" y="158769"/>
                      <a:pt x="157697" y="159306"/>
                      <a:pt x="157697" y="160379"/>
                    </a:cubicBezTo>
                    <a:cubicBezTo>
                      <a:pt x="157697" y="160379"/>
                      <a:pt x="157697" y="160379"/>
                      <a:pt x="157697" y="160379"/>
                    </a:cubicBezTo>
                    <a:cubicBezTo>
                      <a:pt x="157697" y="161988"/>
                      <a:pt x="157697" y="163060"/>
                      <a:pt x="157160" y="164670"/>
                    </a:cubicBezTo>
                    <a:cubicBezTo>
                      <a:pt x="157160" y="166279"/>
                      <a:pt x="156624" y="167888"/>
                      <a:pt x="156624" y="169497"/>
                    </a:cubicBezTo>
                    <a:cubicBezTo>
                      <a:pt x="156624" y="169497"/>
                      <a:pt x="156624" y="170034"/>
                      <a:pt x="156624" y="170034"/>
                    </a:cubicBezTo>
                    <a:cubicBezTo>
                      <a:pt x="156624" y="170570"/>
                      <a:pt x="156624" y="171106"/>
                      <a:pt x="156624" y="171643"/>
                    </a:cubicBezTo>
                    <a:cubicBezTo>
                      <a:pt x="156624" y="173788"/>
                      <a:pt x="156088" y="175397"/>
                      <a:pt x="156088" y="177543"/>
                    </a:cubicBezTo>
                    <a:cubicBezTo>
                      <a:pt x="155551" y="180225"/>
                      <a:pt x="155551" y="182370"/>
                      <a:pt x="155015" y="185052"/>
                    </a:cubicBezTo>
                    <a:cubicBezTo>
                      <a:pt x="155015" y="186125"/>
                      <a:pt x="154478" y="187198"/>
                      <a:pt x="154478" y="187734"/>
                    </a:cubicBezTo>
                    <a:cubicBezTo>
                      <a:pt x="148042" y="207580"/>
                      <a:pt x="138387" y="221526"/>
                      <a:pt x="128732" y="232254"/>
                    </a:cubicBezTo>
                    <a:cubicBezTo>
                      <a:pt x="118541" y="242982"/>
                      <a:pt x="108350" y="249418"/>
                      <a:pt x="98695" y="253709"/>
                    </a:cubicBezTo>
                    <a:cubicBezTo>
                      <a:pt x="84749" y="260146"/>
                      <a:pt x="74557" y="260682"/>
                      <a:pt x="74557" y="260682"/>
                    </a:cubicBezTo>
                    <a:cubicBezTo>
                      <a:pt x="74557" y="260682"/>
                      <a:pt x="53638" y="260146"/>
                      <a:pt x="32183" y="244054"/>
                    </a:cubicBezTo>
                    <a:cubicBezTo>
                      <a:pt x="20919" y="235472"/>
                      <a:pt x="9655" y="223135"/>
                      <a:pt x="1073" y="204362"/>
                    </a:cubicBezTo>
                    <a:cubicBezTo>
                      <a:pt x="1073" y="202217"/>
                      <a:pt x="536" y="199535"/>
                      <a:pt x="536" y="197389"/>
                    </a:cubicBezTo>
                    <a:cubicBezTo>
                      <a:pt x="536" y="194171"/>
                      <a:pt x="0" y="190416"/>
                      <a:pt x="0" y="187198"/>
                    </a:cubicBezTo>
                    <a:cubicBezTo>
                      <a:pt x="0" y="184516"/>
                      <a:pt x="0" y="181298"/>
                      <a:pt x="0" y="178616"/>
                    </a:cubicBezTo>
                    <a:cubicBezTo>
                      <a:pt x="0" y="175934"/>
                      <a:pt x="0" y="172715"/>
                      <a:pt x="0" y="170034"/>
                    </a:cubicBezTo>
                    <a:cubicBezTo>
                      <a:pt x="0" y="168424"/>
                      <a:pt x="0" y="166815"/>
                      <a:pt x="0" y="164670"/>
                    </a:cubicBezTo>
                    <a:cubicBezTo>
                      <a:pt x="0" y="157697"/>
                      <a:pt x="536" y="151260"/>
                      <a:pt x="1073" y="144287"/>
                    </a:cubicBezTo>
                    <a:cubicBezTo>
                      <a:pt x="1073" y="142142"/>
                      <a:pt x="1609" y="139460"/>
                      <a:pt x="1609" y="137314"/>
                    </a:cubicBezTo>
                    <a:cubicBezTo>
                      <a:pt x="2146" y="132487"/>
                      <a:pt x="2146" y="128196"/>
                      <a:pt x="2682" y="123368"/>
                    </a:cubicBezTo>
                    <a:cubicBezTo>
                      <a:pt x="3218" y="120150"/>
                      <a:pt x="3218" y="117468"/>
                      <a:pt x="3755" y="114250"/>
                    </a:cubicBezTo>
                    <a:cubicBezTo>
                      <a:pt x="3755" y="114250"/>
                      <a:pt x="3755" y="114250"/>
                      <a:pt x="3755" y="113713"/>
                    </a:cubicBezTo>
                    <a:cubicBezTo>
                      <a:pt x="3755" y="112640"/>
                      <a:pt x="3755" y="111568"/>
                      <a:pt x="4291" y="110495"/>
                    </a:cubicBezTo>
                    <a:cubicBezTo>
                      <a:pt x="4291" y="109422"/>
                      <a:pt x="4291" y="108349"/>
                      <a:pt x="4827" y="107277"/>
                    </a:cubicBezTo>
                    <a:cubicBezTo>
                      <a:pt x="4827" y="107277"/>
                      <a:pt x="4827" y="107277"/>
                      <a:pt x="4827" y="107277"/>
                    </a:cubicBezTo>
                    <a:cubicBezTo>
                      <a:pt x="5364" y="105131"/>
                      <a:pt x="5364" y="102449"/>
                      <a:pt x="5900" y="100304"/>
                    </a:cubicBezTo>
                    <a:cubicBezTo>
                      <a:pt x="6437" y="98158"/>
                      <a:pt x="6437" y="96013"/>
                      <a:pt x="6973" y="93867"/>
                    </a:cubicBezTo>
                    <a:cubicBezTo>
                      <a:pt x="6973" y="93867"/>
                      <a:pt x="6973" y="93867"/>
                      <a:pt x="6973" y="93867"/>
                    </a:cubicBezTo>
                    <a:cubicBezTo>
                      <a:pt x="6973" y="93867"/>
                      <a:pt x="6973" y="93331"/>
                      <a:pt x="6973" y="93331"/>
                    </a:cubicBezTo>
                    <a:cubicBezTo>
                      <a:pt x="6973" y="92258"/>
                      <a:pt x="7509" y="91185"/>
                      <a:pt x="7509" y="89576"/>
                    </a:cubicBezTo>
                    <a:cubicBezTo>
                      <a:pt x="7509" y="88503"/>
                      <a:pt x="8046" y="87431"/>
                      <a:pt x="8046" y="85821"/>
                    </a:cubicBezTo>
                    <a:cubicBezTo>
                      <a:pt x="8582" y="82067"/>
                      <a:pt x="9655" y="77776"/>
                      <a:pt x="10191" y="74021"/>
                    </a:cubicBezTo>
                    <a:cubicBezTo>
                      <a:pt x="10728" y="72948"/>
                      <a:pt x="10728" y="71339"/>
                      <a:pt x="11264" y="70266"/>
                    </a:cubicBezTo>
                    <a:cubicBezTo>
                      <a:pt x="11800" y="68657"/>
                      <a:pt x="11800" y="67584"/>
                      <a:pt x="12337" y="65975"/>
                    </a:cubicBezTo>
                    <a:cubicBezTo>
                      <a:pt x="12873" y="64902"/>
                      <a:pt x="12873" y="63293"/>
                      <a:pt x="13410" y="62220"/>
                    </a:cubicBezTo>
                    <a:cubicBezTo>
                      <a:pt x="13946" y="60611"/>
                      <a:pt x="13946" y="59539"/>
                      <a:pt x="14482" y="57929"/>
                    </a:cubicBezTo>
                    <a:cubicBezTo>
                      <a:pt x="20919" y="36474"/>
                      <a:pt x="30574" y="16091"/>
                      <a:pt x="45593" y="0"/>
                    </a:cubicBezTo>
                    <a:cubicBezTo>
                      <a:pt x="46665" y="12337"/>
                      <a:pt x="49347" y="24674"/>
                      <a:pt x="53638" y="35938"/>
                    </a:cubicBezTo>
                    <a:cubicBezTo>
                      <a:pt x="53638" y="35938"/>
                      <a:pt x="53638" y="35938"/>
                      <a:pt x="53638" y="36474"/>
                    </a:cubicBezTo>
                    <a:cubicBezTo>
                      <a:pt x="54175" y="37547"/>
                      <a:pt x="54175" y="38083"/>
                      <a:pt x="54711" y="39156"/>
                    </a:cubicBezTo>
                    <a:cubicBezTo>
                      <a:pt x="55247" y="40229"/>
                      <a:pt x="55247" y="41302"/>
                      <a:pt x="55784" y="42374"/>
                    </a:cubicBezTo>
                    <a:cubicBezTo>
                      <a:pt x="56320" y="43447"/>
                      <a:pt x="56857" y="44520"/>
                      <a:pt x="56857" y="45056"/>
                    </a:cubicBezTo>
                    <a:cubicBezTo>
                      <a:pt x="57393" y="45593"/>
                      <a:pt x="57393" y="46665"/>
                      <a:pt x="57929" y="47202"/>
                    </a:cubicBezTo>
                    <a:cubicBezTo>
                      <a:pt x="58466" y="47738"/>
                      <a:pt x="58466" y="48811"/>
                      <a:pt x="59002" y="49347"/>
                    </a:cubicBezTo>
                    <a:cubicBezTo>
                      <a:pt x="59539" y="50420"/>
                      <a:pt x="60075" y="50956"/>
                      <a:pt x="60075" y="52029"/>
                    </a:cubicBezTo>
                    <a:cubicBezTo>
                      <a:pt x="60075" y="52029"/>
                      <a:pt x="60075" y="52566"/>
                      <a:pt x="60611" y="52566"/>
                    </a:cubicBezTo>
                    <a:cubicBezTo>
                      <a:pt x="61148" y="53102"/>
                      <a:pt x="61148" y="53638"/>
                      <a:pt x="61684" y="54711"/>
                    </a:cubicBezTo>
                    <a:cubicBezTo>
                      <a:pt x="62221" y="55248"/>
                      <a:pt x="62221" y="55784"/>
                      <a:pt x="62757" y="56320"/>
                    </a:cubicBezTo>
                    <a:cubicBezTo>
                      <a:pt x="63293" y="57393"/>
                      <a:pt x="63830" y="58466"/>
                      <a:pt x="64366" y="59002"/>
                    </a:cubicBezTo>
                    <a:cubicBezTo>
                      <a:pt x="69730" y="67584"/>
                      <a:pt x="76703" y="75630"/>
                      <a:pt x="85821" y="79921"/>
                    </a:cubicBezTo>
                    <a:cubicBezTo>
                      <a:pt x="76703" y="68121"/>
                      <a:pt x="69730" y="52029"/>
                      <a:pt x="66512" y="37547"/>
                    </a:cubicBezTo>
                    <a:cubicBezTo>
                      <a:pt x="72948" y="47738"/>
                      <a:pt x="79921" y="55784"/>
                      <a:pt x="88503" y="63830"/>
                    </a:cubicBezTo>
                    <a:cubicBezTo>
                      <a:pt x="97085" y="71875"/>
                      <a:pt x="107813" y="78848"/>
                      <a:pt x="119077" y="82067"/>
                    </a:cubicBezTo>
                    <a:cubicBezTo>
                      <a:pt x="118004" y="81530"/>
                      <a:pt x="117468" y="80994"/>
                      <a:pt x="116395" y="80457"/>
                    </a:cubicBezTo>
                    <a:cubicBezTo>
                      <a:pt x="115859" y="80457"/>
                      <a:pt x="115859" y="79921"/>
                      <a:pt x="115322" y="79921"/>
                    </a:cubicBezTo>
                    <a:cubicBezTo>
                      <a:pt x="114786" y="79385"/>
                      <a:pt x="114250" y="78848"/>
                      <a:pt x="113177" y="78312"/>
                    </a:cubicBezTo>
                    <a:cubicBezTo>
                      <a:pt x="112641" y="77776"/>
                      <a:pt x="111568" y="77239"/>
                      <a:pt x="111031" y="76703"/>
                    </a:cubicBezTo>
                    <a:cubicBezTo>
                      <a:pt x="110495" y="76166"/>
                      <a:pt x="109959" y="75630"/>
                      <a:pt x="109422" y="75094"/>
                    </a:cubicBezTo>
                    <a:cubicBezTo>
                      <a:pt x="108886" y="74557"/>
                      <a:pt x="107813" y="74021"/>
                      <a:pt x="107277" y="72948"/>
                    </a:cubicBezTo>
                    <a:cubicBezTo>
                      <a:pt x="107277" y="72948"/>
                      <a:pt x="107277" y="72948"/>
                      <a:pt x="107277" y="72948"/>
                    </a:cubicBezTo>
                    <a:cubicBezTo>
                      <a:pt x="106740" y="72412"/>
                      <a:pt x="105668" y="71339"/>
                      <a:pt x="105131" y="70803"/>
                    </a:cubicBezTo>
                    <a:cubicBezTo>
                      <a:pt x="104595" y="70266"/>
                      <a:pt x="103522" y="69193"/>
                      <a:pt x="102986" y="68657"/>
                    </a:cubicBezTo>
                    <a:cubicBezTo>
                      <a:pt x="102449" y="68121"/>
                      <a:pt x="102449" y="68121"/>
                      <a:pt x="101913" y="67584"/>
                    </a:cubicBezTo>
                    <a:cubicBezTo>
                      <a:pt x="101376" y="67048"/>
                      <a:pt x="100840" y="66511"/>
                      <a:pt x="100304" y="65975"/>
                    </a:cubicBezTo>
                    <a:cubicBezTo>
                      <a:pt x="100304" y="65975"/>
                      <a:pt x="99767" y="65439"/>
                      <a:pt x="99767" y="65439"/>
                    </a:cubicBezTo>
                    <a:cubicBezTo>
                      <a:pt x="99231" y="64902"/>
                      <a:pt x="98695" y="64366"/>
                      <a:pt x="98158" y="63830"/>
                    </a:cubicBezTo>
                    <a:cubicBezTo>
                      <a:pt x="97085" y="62757"/>
                      <a:pt x="96013" y="61148"/>
                      <a:pt x="94940" y="60075"/>
                    </a:cubicBezTo>
                    <a:cubicBezTo>
                      <a:pt x="94404" y="59539"/>
                      <a:pt x="93867" y="59002"/>
                      <a:pt x="93331" y="57929"/>
                    </a:cubicBezTo>
                    <a:cubicBezTo>
                      <a:pt x="92794" y="57393"/>
                      <a:pt x="92258" y="56857"/>
                      <a:pt x="92258" y="56320"/>
                    </a:cubicBezTo>
                    <a:cubicBezTo>
                      <a:pt x="92258" y="56320"/>
                      <a:pt x="92258" y="56320"/>
                      <a:pt x="92258" y="56320"/>
                    </a:cubicBezTo>
                    <a:cubicBezTo>
                      <a:pt x="91722" y="55784"/>
                      <a:pt x="91722" y="55248"/>
                      <a:pt x="91185" y="54711"/>
                    </a:cubicBezTo>
                    <a:cubicBezTo>
                      <a:pt x="90649" y="54175"/>
                      <a:pt x="90649" y="53638"/>
                      <a:pt x="90112" y="53102"/>
                    </a:cubicBezTo>
                    <a:cubicBezTo>
                      <a:pt x="89576" y="52566"/>
                      <a:pt x="89576" y="52029"/>
                      <a:pt x="89040" y="51493"/>
                    </a:cubicBezTo>
                    <a:cubicBezTo>
                      <a:pt x="88503" y="50956"/>
                      <a:pt x="88503" y="50420"/>
                      <a:pt x="87967" y="49884"/>
                    </a:cubicBezTo>
                    <a:cubicBezTo>
                      <a:pt x="86358" y="47202"/>
                      <a:pt x="84749" y="43983"/>
                      <a:pt x="83676" y="40765"/>
                    </a:cubicBezTo>
                    <a:cubicBezTo>
                      <a:pt x="83139" y="39692"/>
                      <a:pt x="83139" y="39156"/>
                      <a:pt x="82603" y="38083"/>
                    </a:cubicBezTo>
                    <a:cubicBezTo>
                      <a:pt x="92794" y="52566"/>
                      <a:pt x="105668" y="63293"/>
                      <a:pt x="121223" y="71875"/>
                    </a:cubicBezTo>
                    <a:cubicBezTo>
                      <a:pt x="127659" y="75630"/>
                      <a:pt x="134632" y="78312"/>
                      <a:pt x="139996" y="83676"/>
                    </a:cubicBezTo>
                    <a:cubicBezTo>
                      <a:pt x="145896" y="89040"/>
                      <a:pt x="149115" y="97085"/>
                      <a:pt x="151260" y="104595"/>
                    </a:cubicBezTo>
                    <a:cubicBezTo>
                      <a:pt x="156088" y="117468"/>
                      <a:pt x="157697" y="130877"/>
                      <a:pt x="157697" y="144287"/>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18" name="Freeform: Shape 425"/>
              <p:cNvSpPr/>
              <p:nvPr/>
            </p:nvSpPr>
            <p:spPr>
              <a:xfrm>
                <a:off x="10772640" y="2054160"/>
                <a:ext cx="13680" cy="35640"/>
              </a:xfrm>
              <a:custGeom>
                <a:avLst/>
                <a:gdLst/>
                <a:ahLst/>
                <a:rect l="l" t="t" r="r" b="b"/>
                <a:pathLst>
                  <a:path w="17911" h="46128">
                    <a:moveTo>
                      <a:pt x="17911" y="46129"/>
                    </a:moveTo>
                    <a:cubicBezTo>
                      <a:pt x="13620" y="38620"/>
                      <a:pt x="9329" y="30574"/>
                      <a:pt x="5038" y="22528"/>
                    </a:cubicBezTo>
                    <a:cubicBezTo>
                      <a:pt x="3429" y="19846"/>
                      <a:pt x="1820" y="16628"/>
                      <a:pt x="1283" y="13946"/>
                    </a:cubicBezTo>
                    <a:cubicBezTo>
                      <a:pt x="210" y="10191"/>
                      <a:pt x="-326" y="5900"/>
                      <a:pt x="210" y="2146"/>
                    </a:cubicBezTo>
                    <a:cubicBezTo>
                      <a:pt x="210" y="1609"/>
                      <a:pt x="210" y="1073"/>
                      <a:pt x="747" y="536"/>
                    </a:cubicBezTo>
                    <a:cubicBezTo>
                      <a:pt x="1283" y="0"/>
                      <a:pt x="1820" y="0"/>
                      <a:pt x="2356" y="0"/>
                    </a:cubicBezTo>
                    <a:cubicBezTo>
                      <a:pt x="6647" y="0"/>
                      <a:pt x="8792" y="536"/>
                      <a:pt x="8792" y="4827"/>
                    </a:cubicBezTo>
                    <a:cubicBezTo>
                      <a:pt x="9329" y="9655"/>
                      <a:pt x="9329" y="14482"/>
                      <a:pt x="9865" y="19310"/>
                    </a:cubicBezTo>
                    <a:cubicBezTo>
                      <a:pt x="11474" y="27356"/>
                      <a:pt x="13620" y="38083"/>
                      <a:pt x="17911" y="46129"/>
                    </a:cubicBezTo>
                    <a:close/>
                  </a:path>
                </a:pathLst>
              </a:custGeom>
              <a:solidFill>
                <a:srgbClr val="b08874"/>
              </a:solidFill>
              <a:ln w="0">
                <a:noFill/>
              </a:ln>
            </p:spPr>
            <p:style>
              <a:lnRef idx="0"/>
              <a:fillRef idx="0"/>
              <a:effectRef idx="0"/>
              <a:fontRef idx="minor"/>
            </p:style>
            <p:txBody>
              <a:bodyPr lIns="90000" rIns="90000" tIns="-11160" bIns="-11160" anchor="ctr">
                <a:noAutofit/>
              </a:bodyPr>
              <a:p>
                <a:endParaRPr b="0" lang="en-US" sz="1800" spc="-1" strike="noStrike">
                  <a:solidFill>
                    <a:srgbClr val="313c3f"/>
                  </a:solidFill>
                  <a:latin typeface="Source Sans Pro"/>
                </a:endParaRPr>
              </a:p>
            </p:txBody>
          </p:sp>
          <p:sp>
            <p:nvSpPr>
              <p:cNvPr id="2619" name="Freeform: Shape 426"/>
              <p:cNvSpPr/>
              <p:nvPr/>
            </p:nvSpPr>
            <p:spPr>
              <a:xfrm>
                <a:off x="10674360" y="2237400"/>
                <a:ext cx="168840" cy="331200"/>
              </a:xfrm>
              <a:custGeom>
                <a:avLst/>
                <a:gdLst/>
                <a:ahLst/>
                <a:rect l="l" t="t" r="r" b="b"/>
                <a:pathLst>
                  <a:path w="217480" h="426478">
                    <a:moveTo>
                      <a:pt x="40356" y="56374"/>
                    </a:moveTo>
                    <a:cubicBezTo>
                      <a:pt x="50011" y="33310"/>
                      <a:pt x="69320" y="14537"/>
                      <a:pt x="92921" y="7027"/>
                    </a:cubicBezTo>
                    <a:cubicBezTo>
                      <a:pt x="116522" y="-482"/>
                      <a:pt x="144414" y="4882"/>
                      <a:pt x="162115" y="22046"/>
                    </a:cubicBezTo>
                    <a:cubicBezTo>
                      <a:pt x="168551" y="11318"/>
                      <a:pt x="177670" y="591"/>
                      <a:pt x="190007" y="54"/>
                    </a:cubicBezTo>
                    <a:cubicBezTo>
                      <a:pt x="204489" y="-1018"/>
                      <a:pt x="216289" y="14000"/>
                      <a:pt x="217362" y="28483"/>
                    </a:cubicBezTo>
                    <a:cubicBezTo>
                      <a:pt x="218435" y="42965"/>
                      <a:pt x="211998" y="57447"/>
                      <a:pt x="206098" y="70320"/>
                    </a:cubicBezTo>
                    <a:cubicBezTo>
                      <a:pt x="180888" y="124495"/>
                      <a:pt x="155678" y="178134"/>
                      <a:pt x="130468" y="232308"/>
                    </a:cubicBezTo>
                    <a:cubicBezTo>
                      <a:pt x="110622" y="274683"/>
                      <a:pt x="90776" y="317593"/>
                      <a:pt x="76293" y="362113"/>
                    </a:cubicBezTo>
                    <a:cubicBezTo>
                      <a:pt x="69320" y="383032"/>
                      <a:pt x="70393" y="405024"/>
                      <a:pt x="67711" y="426479"/>
                    </a:cubicBezTo>
                    <a:cubicBezTo>
                      <a:pt x="54302" y="403415"/>
                      <a:pt x="40892" y="380350"/>
                      <a:pt x="26946" y="357286"/>
                    </a:cubicBezTo>
                    <a:cubicBezTo>
                      <a:pt x="22655" y="349776"/>
                      <a:pt x="18364" y="342803"/>
                      <a:pt x="14609" y="334758"/>
                    </a:cubicBezTo>
                    <a:cubicBezTo>
                      <a:pt x="127" y="303111"/>
                      <a:pt x="-409" y="267173"/>
                      <a:pt x="127" y="232308"/>
                    </a:cubicBezTo>
                    <a:cubicBezTo>
                      <a:pt x="663" y="196907"/>
                      <a:pt x="1736" y="160433"/>
                      <a:pt x="14073" y="126641"/>
                    </a:cubicBezTo>
                    <a:cubicBezTo>
                      <a:pt x="21582" y="107331"/>
                      <a:pt x="24264" y="84803"/>
                      <a:pt x="32310" y="65493"/>
                    </a:cubicBezTo>
                    <a:cubicBezTo>
                      <a:pt x="34992" y="62275"/>
                      <a:pt x="39283" y="59593"/>
                      <a:pt x="40356" y="56374"/>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0" name="Freeform: Shape 427"/>
              <p:cNvSpPr/>
              <p:nvPr/>
            </p:nvSpPr>
            <p:spPr>
              <a:xfrm>
                <a:off x="10675800" y="2458800"/>
                <a:ext cx="74880" cy="107280"/>
              </a:xfrm>
              <a:custGeom>
                <a:avLst/>
                <a:gdLst/>
                <a:ahLst/>
                <a:rect l="l" t="t" r="r" b="b"/>
                <a:pathLst>
                  <a:path w="96549" h="138386">
                    <a:moveTo>
                      <a:pt x="26819" y="23601"/>
                    </a:moveTo>
                    <a:cubicBezTo>
                      <a:pt x="39156" y="27356"/>
                      <a:pt x="52566" y="25746"/>
                      <a:pt x="64902" y="21455"/>
                    </a:cubicBezTo>
                    <a:cubicBezTo>
                      <a:pt x="75630" y="17701"/>
                      <a:pt x="85285" y="11264"/>
                      <a:pt x="96549" y="10191"/>
                    </a:cubicBezTo>
                    <a:cubicBezTo>
                      <a:pt x="92258" y="19846"/>
                      <a:pt x="89576" y="30037"/>
                      <a:pt x="87430" y="40229"/>
                    </a:cubicBezTo>
                    <a:cubicBezTo>
                      <a:pt x="85821" y="49884"/>
                      <a:pt x="85285" y="60075"/>
                      <a:pt x="83139" y="69730"/>
                    </a:cubicBezTo>
                    <a:cubicBezTo>
                      <a:pt x="81530" y="75630"/>
                      <a:pt x="79385" y="81530"/>
                      <a:pt x="77776" y="86894"/>
                    </a:cubicBezTo>
                    <a:cubicBezTo>
                      <a:pt x="71875" y="103522"/>
                      <a:pt x="67048" y="121223"/>
                      <a:pt x="63830" y="138387"/>
                    </a:cubicBezTo>
                    <a:cubicBezTo>
                      <a:pt x="47738" y="112640"/>
                      <a:pt x="33256" y="85821"/>
                      <a:pt x="19846" y="58466"/>
                    </a:cubicBezTo>
                    <a:cubicBezTo>
                      <a:pt x="11264" y="40765"/>
                      <a:pt x="536" y="20383"/>
                      <a:pt x="0" y="0"/>
                    </a:cubicBezTo>
                    <a:cubicBezTo>
                      <a:pt x="4827" y="11800"/>
                      <a:pt x="15019" y="20383"/>
                      <a:pt x="26819" y="2360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1" name="Freeform: Shape 428"/>
              <p:cNvSpPr/>
              <p:nvPr/>
            </p:nvSpPr>
            <p:spPr>
              <a:xfrm>
                <a:off x="10730520" y="2251080"/>
                <a:ext cx="220320" cy="431280"/>
              </a:xfrm>
              <a:custGeom>
                <a:avLst/>
                <a:gdLst/>
                <a:ahLst/>
                <a:rect l="l" t="t" r="r" b="b"/>
                <a:pathLst>
                  <a:path w="283889" h="555156">
                    <a:moveTo>
                      <a:pt x="283889" y="47738"/>
                    </a:moveTo>
                    <a:cubicBezTo>
                      <a:pt x="238833" y="110495"/>
                      <a:pt x="218451" y="190416"/>
                      <a:pt x="227033" y="267119"/>
                    </a:cubicBezTo>
                    <a:cubicBezTo>
                      <a:pt x="228642" y="281065"/>
                      <a:pt x="230788" y="294474"/>
                      <a:pt x="232397" y="307884"/>
                    </a:cubicBezTo>
                    <a:cubicBezTo>
                      <a:pt x="222742" y="324512"/>
                      <a:pt x="212014" y="341140"/>
                      <a:pt x="202359" y="357768"/>
                    </a:cubicBezTo>
                    <a:cubicBezTo>
                      <a:pt x="198605" y="364204"/>
                      <a:pt x="194850" y="370104"/>
                      <a:pt x="193241" y="377077"/>
                    </a:cubicBezTo>
                    <a:cubicBezTo>
                      <a:pt x="191631" y="385123"/>
                      <a:pt x="192168" y="393169"/>
                      <a:pt x="193777" y="401215"/>
                    </a:cubicBezTo>
                    <a:cubicBezTo>
                      <a:pt x="194850" y="405506"/>
                      <a:pt x="195386" y="409797"/>
                      <a:pt x="196459" y="414088"/>
                    </a:cubicBezTo>
                    <a:cubicBezTo>
                      <a:pt x="199141" y="425352"/>
                      <a:pt x="202896" y="436079"/>
                      <a:pt x="207187" y="446807"/>
                    </a:cubicBezTo>
                    <a:cubicBezTo>
                      <a:pt x="207187" y="446807"/>
                      <a:pt x="207187" y="447344"/>
                      <a:pt x="207723" y="447344"/>
                    </a:cubicBezTo>
                    <a:cubicBezTo>
                      <a:pt x="206114" y="448416"/>
                      <a:pt x="203968" y="450025"/>
                      <a:pt x="202359" y="451098"/>
                    </a:cubicBezTo>
                    <a:cubicBezTo>
                      <a:pt x="188413" y="461290"/>
                      <a:pt x="174467" y="472017"/>
                      <a:pt x="160521" y="482208"/>
                    </a:cubicBezTo>
                    <a:cubicBezTo>
                      <a:pt x="147112" y="492400"/>
                      <a:pt x="133166" y="502591"/>
                      <a:pt x="118683" y="511173"/>
                    </a:cubicBezTo>
                    <a:cubicBezTo>
                      <a:pt x="109565" y="516537"/>
                      <a:pt x="100446" y="521901"/>
                      <a:pt x="89719" y="522974"/>
                    </a:cubicBezTo>
                    <a:cubicBezTo>
                      <a:pt x="84355" y="523510"/>
                      <a:pt x="78991" y="523510"/>
                      <a:pt x="73627" y="524583"/>
                    </a:cubicBezTo>
                    <a:cubicBezTo>
                      <a:pt x="59681" y="527265"/>
                      <a:pt x="48417" y="537992"/>
                      <a:pt x="36080" y="546574"/>
                    </a:cubicBezTo>
                    <a:cubicBezTo>
                      <a:pt x="31789" y="549256"/>
                      <a:pt x="26962" y="551938"/>
                      <a:pt x="22134" y="553547"/>
                    </a:cubicBezTo>
                    <a:cubicBezTo>
                      <a:pt x="21062" y="554084"/>
                      <a:pt x="19989" y="554084"/>
                      <a:pt x="19453"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1" y="533701"/>
                    </a:cubicBezTo>
                    <a:cubicBezTo>
                      <a:pt x="16771"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7"/>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212551" y="13946"/>
                      <a:pt x="249561" y="28965"/>
                      <a:pt x="283889" y="47738"/>
                    </a:cubicBezTo>
                    <a:cubicBezTo>
                      <a:pt x="283889" y="47738"/>
                      <a:pt x="283889" y="47738"/>
                      <a:pt x="283889" y="47738"/>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2" name="Freeform: Shape 429"/>
              <p:cNvSpPr/>
              <p:nvPr/>
            </p:nvSpPr>
            <p:spPr>
              <a:xfrm>
                <a:off x="10865160" y="2252880"/>
                <a:ext cx="85680" cy="348840"/>
              </a:xfrm>
              <a:custGeom>
                <a:avLst/>
                <a:gdLst/>
                <a:ahLst/>
                <a:rect l="l" t="t" r="r" b="b"/>
                <a:pathLst>
                  <a:path w="110494" h="448952">
                    <a:moveTo>
                      <a:pt x="110495" y="45593"/>
                    </a:moveTo>
                    <a:cubicBezTo>
                      <a:pt x="65439" y="108349"/>
                      <a:pt x="45056" y="188271"/>
                      <a:pt x="53638" y="264973"/>
                    </a:cubicBezTo>
                    <a:cubicBezTo>
                      <a:pt x="55248" y="278919"/>
                      <a:pt x="57393" y="292329"/>
                      <a:pt x="59002" y="305738"/>
                    </a:cubicBezTo>
                    <a:cubicBezTo>
                      <a:pt x="49347" y="322366"/>
                      <a:pt x="38620" y="338994"/>
                      <a:pt x="28965" y="355622"/>
                    </a:cubicBezTo>
                    <a:cubicBezTo>
                      <a:pt x="25210" y="362059"/>
                      <a:pt x="21455" y="367959"/>
                      <a:pt x="19846" y="374932"/>
                    </a:cubicBezTo>
                    <a:cubicBezTo>
                      <a:pt x="18237" y="382978"/>
                      <a:pt x="18773" y="391023"/>
                      <a:pt x="20383" y="399069"/>
                    </a:cubicBezTo>
                    <a:cubicBezTo>
                      <a:pt x="23065" y="414624"/>
                      <a:pt x="27892" y="430179"/>
                      <a:pt x="34329" y="444662"/>
                    </a:cubicBezTo>
                    <a:cubicBezTo>
                      <a:pt x="34329" y="444662"/>
                      <a:pt x="34329" y="445198"/>
                      <a:pt x="34865" y="445198"/>
                    </a:cubicBezTo>
                    <a:cubicBezTo>
                      <a:pt x="33256" y="446271"/>
                      <a:pt x="31110" y="447880"/>
                      <a:pt x="29501" y="448953"/>
                    </a:cubicBezTo>
                    <a:cubicBezTo>
                      <a:pt x="20919" y="430179"/>
                      <a:pt x="13946" y="410870"/>
                      <a:pt x="8582" y="391023"/>
                    </a:cubicBezTo>
                    <a:cubicBezTo>
                      <a:pt x="6437" y="384587"/>
                      <a:pt x="4827" y="378150"/>
                      <a:pt x="5364" y="371177"/>
                    </a:cubicBezTo>
                    <a:cubicBezTo>
                      <a:pt x="5900" y="362059"/>
                      <a:pt x="10728" y="354549"/>
                      <a:pt x="15555" y="347040"/>
                    </a:cubicBezTo>
                    <a:cubicBezTo>
                      <a:pt x="22528" y="335776"/>
                      <a:pt x="30038" y="323975"/>
                      <a:pt x="37010" y="312711"/>
                    </a:cubicBezTo>
                    <a:cubicBezTo>
                      <a:pt x="40765" y="306811"/>
                      <a:pt x="44520" y="300375"/>
                      <a:pt x="46129" y="293402"/>
                    </a:cubicBezTo>
                    <a:cubicBezTo>
                      <a:pt x="47738" y="286429"/>
                      <a:pt x="46665" y="279456"/>
                      <a:pt x="45593" y="272483"/>
                    </a:cubicBezTo>
                    <a:cubicBezTo>
                      <a:pt x="38620" y="217772"/>
                      <a:pt x="42911" y="160379"/>
                      <a:pt x="66512" y="110495"/>
                    </a:cubicBezTo>
                    <a:cubicBezTo>
                      <a:pt x="75630" y="91185"/>
                      <a:pt x="87431" y="73485"/>
                      <a:pt x="93867" y="53102"/>
                    </a:cubicBezTo>
                    <a:cubicBezTo>
                      <a:pt x="94940" y="50420"/>
                      <a:pt x="95476" y="47202"/>
                      <a:pt x="94404" y="45056"/>
                    </a:cubicBezTo>
                    <a:cubicBezTo>
                      <a:pt x="93331" y="43447"/>
                      <a:pt x="91185" y="42374"/>
                      <a:pt x="89040" y="41302"/>
                    </a:cubicBezTo>
                    <a:cubicBezTo>
                      <a:pt x="66512" y="31110"/>
                      <a:pt x="43984" y="20919"/>
                      <a:pt x="20919" y="10191"/>
                    </a:cubicBezTo>
                    <a:cubicBezTo>
                      <a:pt x="15555" y="7509"/>
                      <a:pt x="9655" y="5364"/>
                      <a:pt x="4291" y="2682"/>
                    </a:cubicBezTo>
                    <a:cubicBezTo>
                      <a:pt x="2146" y="1609"/>
                      <a:pt x="536" y="536"/>
                      <a:pt x="0" y="0"/>
                    </a:cubicBezTo>
                    <a:cubicBezTo>
                      <a:pt x="38083" y="11264"/>
                      <a:pt x="75630" y="26819"/>
                      <a:pt x="110495" y="45593"/>
                    </a:cubicBezTo>
                    <a:cubicBezTo>
                      <a:pt x="110495" y="45593"/>
                      <a:pt x="110495" y="45593"/>
                      <a:pt x="110495" y="45593"/>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3" name="Freeform: Shape 430"/>
              <p:cNvSpPr/>
              <p:nvPr/>
            </p:nvSpPr>
            <p:spPr>
              <a:xfrm>
                <a:off x="10730880" y="2251440"/>
                <a:ext cx="142920" cy="431280"/>
              </a:xfrm>
              <a:custGeom>
                <a:avLst/>
                <a:gdLst/>
                <a:ahLst/>
                <a:rect l="l" t="t" r="r" b="b"/>
                <a:pathLst>
                  <a:path w="184122" h="555156">
                    <a:moveTo>
                      <a:pt x="184122" y="14482"/>
                    </a:moveTo>
                    <a:cubicBezTo>
                      <a:pt x="147648" y="71339"/>
                      <a:pt x="114929" y="130341"/>
                      <a:pt x="83818" y="189880"/>
                    </a:cubicBezTo>
                    <a:cubicBezTo>
                      <a:pt x="73091" y="209726"/>
                      <a:pt x="62899" y="229572"/>
                      <a:pt x="54317" y="250491"/>
                    </a:cubicBezTo>
                    <a:cubicBezTo>
                      <a:pt x="45735" y="271410"/>
                      <a:pt x="39299" y="293402"/>
                      <a:pt x="32326" y="314857"/>
                    </a:cubicBezTo>
                    <a:cubicBezTo>
                      <a:pt x="25889" y="335776"/>
                      <a:pt x="19452" y="356695"/>
                      <a:pt x="13552" y="377614"/>
                    </a:cubicBezTo>
                    <a:cubicBezTo>
                      <a:pt x="10870" y="385660"/>
                      <a:pt x="4970" y="410869"/>
                      <a:pt x="4970" y="410869"/>
                    </a:cubicBezTo>
                    <a:cubicBezTo>
                      <a:pt x="4970" y="410869"/>
                      <a:pt x="17307" y="438761"/>
                      <a:pt x="17307" y="465044"/>
                    </a:cubicBezTo>
                    <a:cubicBezTo>
                      <a:pt x="17307" y="495082"/>
                      <a:pt x="18380" y="523510"/>
                      <a:pt x="22134" y="553547"/>
                    </a:cubicBezTo>
                    <a:cubicBezTo>
                      <a:pt x="21062" y="554084"/>
                      <a:pt x="19989" y="554084"/>
                      <a:pt x="19452"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0" y="533701"/>
                    </a:cubicBezTo>
                    <a:cubicBezTo>
                      <a:pt x="16770"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6"/>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177685" y="6437"/>
                      <a:pt x="180904" y="10191"/>
                      <a:pt x="184122" y="14482"/>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4" name="Freeform: Shape 431"/>
              <p:cNvSpPr/>
              <p:nvPr/>
            </p:nvSpPr>
            <p:spPr>
              <a:xfrm>
                <a:off x="10625760" y="2667240"/>
                <a:ext cx="94680" cy="81000"/>
              </a:xfrm>
              <a:custGeom>
                <a:avLst/>
                <a:gdLst/>
                <a:ahLst/>
                <a:rect l="l" t="t" r="r" b="b"/>
                <a:pathLst>
                  <a:path w="122307" h="104655">
                    <a:moveTo>
                      <a:pt x="122308" y="33853"/>
                    </a:moveTo>
                    <a:cubicBezTo>
                      <a:pt x="121235" y="34925"/>
                      <a:pt x="120162" y="35998"/>
                      <a:pt x="118553" y="36535"/>
                    </a:cubicBezTo>
                    <a:cubicBezTo>
                      <a:pt x="111580" y="40826"/>
                      <a:pt x="102462" y="45653"/>
                      <a:pt x="94952" y="42435"/>
                    </a:cubicBezTo>
                    <a:cubicBezTo>
                      <a:pt x="93343" y="41362"/>
                      <a:pt x="91198" y="41362"/>
                      <a:pt x="89589" y="41362"/>
                    </a:cubicBezTo>
                    <a:cubicBezTo>
                      <a:pt x="88516" y="41362"/>
                      <a:pt x="87443" y="41898"/>
                      <a:pt x="86370" y="42435"/>
                    </a:cubicBezTo>
                    <a:cubicBezTo>
                      <a:pt x="82615" y="43507"/>
                      <a:pt x="79397" y="46189"/>
                      <a:pt x="76715" y="48335"/>
                    </a:cubicBezTo>
                    <a:cubicBezTo>
                      <a:pt x="70279" y="53699"/>
                      <a:pt x="63842" y="59063"/>
                      <a:pt x="57406" y="64426"/>
                    </a:cubicBezTo>
                    <a:cubicBezTo>
                      <a:pt x="44532" y="75154"/>
                      <a:pt x="31123" y="85882"/>
                      <a:pt x="20931" y="99291"/>
                    </a:cubicBezTo>
                    <a:cubicBezTo>
                      <a:pt x="19859" y="100901"/>
                      <a:pt x="18249" y="103046"/>
                      <a:pt x="17177" y="104655"/>
                    </a:cubicBezTo>
                    <a:cubicBezTo>
                      <a:pt x="15568" y="103582"/>
                      <a:pt x="14495" y="102510"/>
                      <a:pt x="13422" y="100901"/>
                    </a:cubicBezTo>
                    <a:cubicBezTo>
                      <a:pt x="12886" y="100364"/>
                      <a:pt x="12349" y="99291"/>
                      <a:pt x="11813" y="98755"/>
                    </a:cubicBezTo>
                    <a:cubicBezTo>
                      <a:pt x="9131" y="95537"/>
                      <a:pt x="6985" y="92318"/>
                      <a:pt x="5376" y="88564"/>
                    </a:cubicBezTo>
                    <a:cubicBezTo>
                      <a:pt x="4840" y="86955"/>
                      <a:pt x="4303" y="85882"/>
                      <a:pt x="3231" y="84273"/>
                    </a:cubicBezTo>
                    <a:cubicBezTo>
                      <a:pt x="-524" y="68181"/>
                      <a:pt x="-1597" y="51553"/>
                      <a:pt x="3231" y="35998"/>
                    </a:cubicBezTo>
                    <a:cubicBezTo>
                      <a:pt x="5376" y="29025"/>
                      <a:pt x="8058" y="22589"/>
                      <a:pt x="12349" y="16152"/>
                    </a:cubicBezTo>
                    <a:cubicBezTo>
                      <a:pt x="16104" y="10788"/>
                      <a:pt x="20395" y="5424"/>
                      <a:pt x="25759" y="2742"/>
                    </a:cubicBezTo>
                    <a:cubicBezTo>
                      <a:pt x="26832" y="2206"/>
                      <a:pt x="28441" y="1670"/>
                      <a:pt x="30050" y="1133"/>
                    </a:cubicBezTo>
                    <a:cubicBezTo>
                      <a:pt x="41850" y="-2085"/>
                      <a:pt x="57406" y="2742"/>
                      <a:pt x="69206" y="1133"/>
                    </a:cubicBezTo>
                    <a:cubicBezTo>
                      <a:pt x="82615" y="597"/>
                      <a:pt x="90661" y="-1012"/>
                      <a:pt x="96561" y="7570"/>
                    </a:cubicBezTo>
                    <a:cubicBezTo>
                      <a:pt x="101389" y="15079"/>
                      <a:pt x="106216" y="18834"/>
                      <a:pt x="111044" y="23125"/>
                    </a:cubicBezTo>
                    <a:cubicBezTo>
                      <a:pt x="112653" y="24198"/>
                      <a:pt x="113726" y="25807"/>
                      <a:pt x="115335" y="26880"/>
                    </a:cubicBezTo>
                    <a:cubicBezTo>
                      <a:pt x="115871" y="27416"/>
                      <a:pt x="116944" y="28489"/>
                      <a:pt x="117480" y="29025"/>
                    </a:cubicBezTo>
                    <a:cubicBezTo>
                      <a:pt x="118553" y="30098"/>
                      <a:pt x="119626" y="31707"/>
                      <a:pt x="120699" y="33316"/>
                    </a:cubicBezTo>
                    <a:cubicBezTo>
                      <a:pt x="121772" y="33853"/>
                      <a:pt x="121772" y="33853"/>
                      <a:pt x="122308" y="33853"/>
                    </a:cubicBezTo>
                    <a:close/>
                  </a:path>
                </a:pathLst>
              </a:custGeom>
              <a:solidFill>
                <a:srgbClr val="e4b69d"/>
              </a:solidFill>
              <a:ln w="0">
                <a:noFill/>
              </a:ln>
            </p:spPr>
            <p:style>
              <a:lnRef idx="0"/>
              <a:fillRef idx="0"/>
              <a:effectRef idx="0"/>
              <a:fontRef idx="minor"/>
            </p:style>
            <p:txBody>
              <a:bodyPr lIns="90000" rIns="90000" tIns="34200" bIns="34200" anchor="ctr">
                <a:noAutofit/>
              </a:bodyPr>
              <a:p>
                <a:endParaRPr b="0" lang="en-US" sz="1800" spc="-1" strike="noStrike">
                  <a:solidFill>
                    <a:srgbClr val="313c3f"/>
                  </a:solidFill>
                  <a:latin typeface="Source Sans Pro"/>
                </a:endParaRPr>
              </a:p>
            </p:txBody>
          </p:sp>
          <p:sp>
            <p:nvSpPr>
              <p:cNvPr id="2625" name="Freeform: Shape 432"/>
              <p:cNvSpPr/>
              <p:nvPr/>
            </p:nvSpPr>
            <p:spPr>
              <a:xfrm>
                <a:off x="10628280" y="2251800"/>
                <a:ext cx="115560" cy="441720"/>
              </a:xfrm>
              <a:custGeom>
                <a:avLst/>
                <a:gdLst/>
                <a:ahLst/>
                <a:rect l="l" t="t" r="r" b="b"/>
                <a:pathLst>
                  <a:path w="148930" h="568566">
                    <a:moveTo>
                      <a:pt x="148930" y="556766"/>
                    </a:moveTo>
                    <a:cubicBezTo>
                      <a:pt x="146785" y="558375"/>
                      <a:pt x="144103" y="557302"/>
                      <a:pt x="141957" y="558911"/>
                    </a:cubicBezTo>
                    <a:cubicBezTo>
                      <a:pt x="141421" y="559448"/>
                      <a:pt x="140884" y="559448"/>
                      <a:pt x="140884" y="559984"/>
                    </a:cubicBezTo>
                    <a:cubicBezTo>
                      <a:pt x="139812" y="560520"/>
                      <a:pt x="139275" y="561057"/>
                      <a:pt x="138203" y="561593"/>
                    </a:cubicBezTo>
                    <a:cubicBezTo>
                      <a:pt x="137666" y="562130"/>
                      <a:pt x="137130" y="562130"/>
                      <a:pt x="136593" y="562666"/>
                    </a:cubicBezTo>
                    <a:cubicBezTo>
                      <a:pt x="136057" y="563202"/>
                      <a:pt x="134984" y="563202"/>
                      <a:pt x="134448" y="563739"/>
                    </a:cubicBezTo>
                    <a:cubicBezTo>
                      <a:pt x="133912" y="563739"/>
                      <a:pt x="133375" y="564275"/>
                      <a:pt x="132839" y="564275"/>
                    </a:cubicBezTo>
                    <a:cubicBezTo>
                      <a:pt x="132302" y="564812"/>
                      <a:pt x="131766" y="564812"/>
                      <a:pt x="130693" y="565348"/>
                    </a:cubicBezTo>
                    <a:cubicBezTo>
                      <a:pt x="129621" y="565884"/>
                      <a:pt x="129084" y="565884"/>
                      <a:pt x="128011" y="566421"/>
                    </a:cubicBezTo>
                    <a:cubicBezTo>
                      <a:pt x="128011" y="566421"/>
                      <a:pt x="128011" y="566421"/>
                      <a:pt x="128011" y="566421"/>
                    </a:cubicBezTo>
                    <a:cubicBezTo>
                      <a:pt x="127475" y="566421"/>
                      <a:pt x="126939" y="566957"/>
                      <a:pt x="126402" y="566957"/>
                    </a:cubicBezTo>
                    <a:cubicBezTo>
                      <a:pt x="125866" y="566957"/>
                      <a:pt x="125329" y="567494"/>
                      <a:pt x="124793" y="567494"/>
                    </a:cubicBezTo>
                    <a:cubicBezTo>
                      <a:pt x="122647" y="568030"/>
                      <a:pt x="121038" y="568566"/>
                      <a:pt x="118893" y="568566"/>
                    </a:cubicBezTo>
                    <a:cubicBezTo>
                      <a:pt x="118356" y="568566"/>
                      <a:pt x="118356" y="568566"/>
                      <a:pt x="117820" y="568566"/>
                    </a:cubicBezTo>
                    <a:cubicBezTo>
                      <a:pt x="110311" y="557839"/>
                      <a:pt x="101729" y="555157"/>
                      <a:pt x="93683" y="542820"/>
                    </a:cubicBezTo>
                    <a:cubicBezTo>
                      <a:pt x="87783" y="534238"/>
                      <a:pt x="79737" y="535847"/>
                      <a:pt x="66327" y="536383"/>
                    </a:cubicBezTo>
                    <a:cubicBezTo>
                      <a:pt x="65791" y="536383"/>
                      <a:pt x="64718" y="536383"/>
                      <a:pt x="64182" y="536383"/>
                    </a:cubicBezTo>
                    <a:cubicBezTo>
                      <a:pt x="61500" y="536383"/>
                      <a:pt x="58281" y="536383"/>
                      <a:pt x="55063" y="536383"/>
                    </a:cubicBezTo>
                    <a:cubicBezTo>
                      <a:pt x="53454" y="531556"/>
                      <a:pt x="52381" y="527265"/>
                      <a:pt x="51309" y="522437"/>
                    </a:cubicBezTo>
                    <a:cubicBezTo>
                      <a:pt x="43799" y="489182"/>
                      <a:pt x="46481" y="460217"/>
                      <a:pt x="43799" y="423743"/>
                    </a:cubicBezTo>
                    <a:cubicBezTo>
                      <a:pt x="40581" y="376541"/>
                      <a:pt x="38972" y="334167"/>
                      <a:pt x="23953" y="289111"/>
                    </a:cubicBezTo>
                    <a:cubicBezTo>
                      <a:pt x="19662" y="276774"/>
                      <a:pt x="6252" y="249955"/>
                      <a:pt x="4107" y="237081"/>
                    </a:cubicBezTo>
                    <a:cubicBezTo>
                      <a:pt x="889" y="214553"/>
                      <a:pt x="13225" y="193098"/>
                      <a:pt x="13225" y="170034"/>
                    </a:cubicBezTo>
                    <a:cubicBezTo>
                      <a:pt x="13225" y="136778"/>
                      <a:pt x="-6085" y="102449"/>
                      <a:pt x="1961" y="70266"/>
                    </a:cubicBezTo>
                    <a:cubicBezTo>
                      <a:pt x="4107" y="61148"/>
                      <a:pt x="8398" y="52029"/>
                      <a:pt x="15907" y="45593"/>
                    </a:cubicBezTo>
                    <a:cubicBezTo>
                      <a:pt x="16980" y="44520"/>
                      <a:pt x="18053" y="43983"/>
                      <a:pt x="19126" y="42911"/>
                    </a:cubicBezTo>
                    <a:cubicBezTo>
                      <a:pt x="23953" y="39692"/>
                      <a:pt x="29317" y="37547"/>
                      <a:pt x="34681" y="34865"/>
                    </a:cubicBezTo>
                    <a:cubicBezTo>
                      <a:pt x="35753" y="34329"/>
                      <a:pt x="36826" y="33792"/>
                      <a:pt x="37899" y="33256"/>
                    </a:cubicBezTo>
                    <a:cubicBezTo>
                      <a:pt x="64718" y="21992"/>
                      <a:pt x="91537" y="11264"/>
                      <a:pt x="118893" y="0"/>
                    </a:cubicBezTo>
                    <a:cubicBezTo>
                      <a:pt x="82419" y="70266"/>
                      <a:pt x="63109" y="143751"/>
                      <a:pt x="58281" y="222063"/>
                    </a:cubicBezTo>
                    <a:cubicBezTo>
                      <a:pt x="56672" y="243518"/>
                      <a:pt x="56672" y="264973"/>
                      <a:pt x="62573" y="285356"/>
                    </a:cubicBezTo>
                    <a:cubicBezTo>
                      <a:pt x="67936" y="305202"/>
                      <a:pt x="79200" y="323439"/>
                      <a:pt x="88855" y="341676"/>
                    </a:cubicBezTo>
                    <a:cubicBezTo>
                      <a:pt x="107092" y="374396"/>
                      <a:pt x="122647" y="408724"/>
                      <a:pt x="134984" y="444125"/>
                    </a:cubicBezTo>
                    <a:cubicBezTo>
                      <a:pt x="136057" y="448416"/>
                      <a:pt x="136593" y="452708"/>
                      <a:pt x="137666" y="456999"/>
                    </a:cubicBezTo>
                    <a:cubicBezTo>
                      <a:pt x="138203" y="459144"/>
                      <a:pt x="138203" y="461290"/>
                      <a:pt x="138739" y="463435"/>
                    </a:cubicBezTo>
                    <a:cubicBezTo>
                      <a:pt x="138739" y="463435"/>
                      <a:pt x="138739" y="463435"/>
                      <a:pt x="138739" y="463435"/>
                    </a:cubicBezTo>
                    <a:cubicBezTo>
                      <a:pt x="139275" y="465581"/>
                      <a:pt x="139275" y="467726"/>
                      <a:pt x="139812" y="469872"/>
                    </a:cubicBezTo>
                    <a:cubicBezTo>
                      <a:pt x="139812" y="471481"/>
                      <a:pt x="140348" y="473090"/>
                      <a:pt x="140348" y="474699"/>
                    </a:cubicBezTo>
                    <a:cubicBezTo>
                      <a:pt x="140348" y="475772"/>
                      <a:pt x="140884" y="477381"/>
                      <a:pt x="140884" y="478454"/>
                    </a:cubicBezTo>
                    <a:cubicBezTo>
                      <a:pt x="141421" y="480599"/>
                      <a:pt x="141421" y="482745"/>
                      <a:pt x="141957" y="484354"/>
                    </a:cubicBezTo>
                    <a:cubicBezTo>
                      <a:pt x="141957" y="485963"/>
                      <a:pt x="142494" y="488109"/>
                      <a:pt x="142494" y="489718"/>
                    </a:cubicBezTo>
                    <a:cubicBezTo>
                      <a:pt x="142494" y="491327"/>
                      <a:pt x="143030" y="492400"/>
                      <a:pt x="143030" y="494009"/>
                    </a:cubicBezTo>
                    <a:cubicBezTo>
                      <a:pt x="143030" y="495618"/>
                      <a:pt x="143566" y="497227"/>
                      <a:pt x="143566" y="498836"/>
                    </a:cubicBezTo>
                    <a:cubicBezTo>
                      <a:pt x="143566" y="500982"/>
                      <a:pt x="144103" y="502591"/>
                      <a:pt x="144103" y="504737"/>
                    </a:cubicBezTo>
                    <a:cubicBezTo>
                      <a:pt x="144103" y="505273"/>
                      <a:pt x="144103" y="505809"/>
                      <a:pt x="144103" y="506346"/>
                    </a:cubicBezTo>
                    <a:cubicBezTo>
                      <a:pt x="144103" y="508491"/>
                      <a:pt x="144639" y="510637"/>
                      <a:pt x="144639" y="512782"/>
                    </a:cubicBezTo>
                    <a:cubicBezTo>
                      <a:pt x="144639" y="515464"/>
                      <a:pt x="145176" y="517610"/>
                      <a:pt x="145176" y="520292"/>
                    </a:cubicBezTo>
                    <a:cubicBezTo>
                      <a:pt x="145176" y="521901"/>
                      <a:pt x="145712" y="524046"/>
                      <a:pt x="145712" y="525656"/>
                    </a:cubicBezTo>
                    <a:cubicBezTo>
                      <a:pt x="145712" y="528337"/>
                      <a:pt x="146248" y="531019"/>
                      <a:pt x="146248" y="533701"/>
                    </a:cubicBezTo>
                    <a:cubicBezTo>
                      <a:pt x="146248" y="535847"/>
                      <a:pt x="146248" y="537992"/>
                      <a:pt x="146785" y="540138"/>
                    </a:cubicBezTo>
                    <a:cubicBezTo>
                      <a:pt x="146785" y="541747"/>
                      <a:pt x="146785" y="542820"/>
                      <a:pt x="146785" y="544429"/>
                    </a:cubicBezTo>
                    <a:cubicBezTo>
                      <a:pt x="146785" y="545502"/>
                      <a:pt x="146785" y="547111"/>
                      <a:pt x="146785" y="548184"/>
                    </a:cubicBezTo>
                    <a:cubicBezTo>
                      <a:pt x="148394" y="549257"/>
                      <a:pt x="148930" y="554620"/>
                      <a:pt x="148930" y="556766"/>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6" name="Freeform: Shape 433"/>
              <p:cNvSpPr/>
              <p:nvPr/>
            </p:nvSpPr>
            <p:spPr>
              <a:xfrm>
                <a:off x="10669320" y="2242800"/>
                <a:ext cx="74520" cy="393120"/>
              </a:xfrm>
              <a:custGeom>
                <a:avLst/>
                <a:gdLst/>
                <a:ahLst/>
                <a:rect l="l" t="t" r="r" b="b"/>
                <a:pathLst>
                  <a:path w="95955" h="505809">
                    <a:moveTo>
                      <a:pt x="91664" y="481672"/>
                    </a:moveTo>
                    <a:cubicBezTo>
                      <a:pt x="91664" y="490791"/>
                      <a:pt x="91664" y="499373"/>
                      <a:pt x="90592" y="505809"/>
                    </a:cubicBezTo>
                    <a:cubicBezTo>
                      <a:pt x="88982" y="446271"/>
                      <a:pt x="8525" y="348649"/>
                      <a:pt x="1016" y="273555"/>
                    </a:cubicBezTo>
                    <a:cubicBezTo>
                      <a:pt x="-594" y="259073"/>
                      <a:pt x="-57" y="244054"/>
                      <a:pt x="1016" y="229572"/>
                    </a:cubicBezTo>
                    <a:cubicBezTo>
                      <a:pt x="4770" y="159842"/>
                      <a:pt x="13889" y="89040"/>
                      <a:pt x="46608" y="27356"/>
                    </a:cubicBezTo>
                    <a:cubicBezTo>
                      <a:pt x="47681" y="25210"/>
                      <a:pt x="48754" y="23064"/>
                      <a:pt x="50363" y="20919"/>
                    </a:cubicBezTo>
                    <a:cubicBezTo>
                      <a:pt x="51972" y="19310"/>
                      <a:pt x="54118" y="17164"/>
                      <a:pt x="55727" y="15555"/>
                    </a:cubicBezTo>
                    <a:cubicBezTo>
                      <a:pt x="57872" y="13946"/>
                      <a:pt x="60554" y="12873"/>
                      <a:pt x="62700" y="12337"/>
                    </a:cubicBezTo>
                    <a:cubicBezTo>
                      <a:pt x="63772" y="11800"/>
                      <a:pt x="64845" y="11264"/>
                      <a:pt x="65918" y="10728"/>
                    </a:cubicBezTo>
                    <a:cubicBezTo>
                      <a:pt x="76109" y="6973"/>
                      <a:pt x="86301" y="4291"/>
                      <a:pt x="95955" y="0"/>
                    </a:cubicBezTo>
                    <a:cubicBezTo>
                      <a:pt x="85228" y="8582"/>
                      <a:pt x="76646" y="19846"/>
                      <a:pt x="70745" y="32183"/>
                    </a:cubicBezTo>
                    <a:cubicBezTo>
                      <a:pt x="61627" y="49884"/>
                      <a:pt x="56263" y="69193"/>
                      <a:pt x="49290" y="87967"/>
                    </a:cubicBezTo>
                    <a:cubicBezTo>
                      <a:pt x="42853" y="104595"/>
                      <a:pt x="38562" y="110495"/>
                      <a:pt x="32126" y="127123"/>
                    </a:cubicBezTo>
                    <a:cubicBezTo>
                      <a:pt x="17107" y="166815"/>
                      <a:pt x="13889" y="212944"/>
                      <a:pt x="15498" y="255318"/>
                    </a:cubicBezTo>
                    <a:cubicBezTo>
                      <a:pt x="16034" y="272483"/>
                      <a:pt x="14962" y="289647"/>
                      <a:pt x="20862" y="306275"/>
                    </a:cubicBezTo>
                    <a:cubicBezTo>
                      <a:pt x="26226" y="321294"/>
                      <a:pt x="33735" y="342749"/>
                      <a:pt x="42317" y="356158"/>
                    </a:cubicBezTo>
                    <a:cubicBezTo>
                      <a:pt x="56799" y="379223"/>
                      <a:pt x="69673" y="403360"/>
                      <a:pt x="81473" y="427497"/>
                    </a:cubicBezTo>
                    <a:cubicBezTo>
                      <a:pt x="87910" y="440907"/>
                      <a:pt x="91128" y="462362"/>
                      <a:pt x="91664" y="481672"/>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7" name="Freeform: Shape 434"/>
              <p:cNvSpPr/>
              <p:nvPr/>
            </p:nvSpPr>
            <p:spPr>
              <a:xfrm>
                <a:off x="10708560" y="2254680"/>
                <a:ext cx="3960" cy="3960"/>
              </a:xfrm>
              <a:custGeom>
                <a:avLst/>
                <a:gdLst/>
                <a:ahLst/>
                <a:rect l="l" t="t" r="r" b="b"/>
                <a:pathLst>
                  <a:path w="5363" h="5363">
                    <a:moveTo>
                      <a:pt x="5364" y="0"/>
                    </a:moveTo>
                    <a:cubicBezTo>
                      <a:pt x="3755" y="1609"/>
                      <a:pt x="1609" y="3218"/>
                      <a:pt x="0" y="5364"/>
                    </a:cubicBezTo>
                    <a:cubicBezTo>
                      <a:pt x="1073" y="3755"/>
                      <a:pt x="2146" y="2682"/>
                      <a:pt x="3218" y="1609"/>
                    </a:cubicBezTo>
                    <a:cubicBezTo>
                      <a:pt x="3755" y="1073"/>
                      <a:pt x="4828" y="536"/>
                      <a:pt x="5364" y="0"/>
                    </a:cubicBezTo>
                    <a:close/>
                  </a:path>
                </a:pathLst>
              </a:custGeom>
              <a:solidFill>
                <a:srgbClr val="2bb673"/>
              </a:solidFill>
              <a:ln w="0">
                <a:noFill/>
              </a:ln>
            </p:spPr>
            <p:style>
              <a:lnRef idx="0"/>
              <a:fillRef idx="0"/>
              <a:effectRef idx="0"/>
              <a:fontRef idx="minor"/>
            </p:style>
            <p:txBody>
              <a:bodyPr lIns="90000" rIns="90000" tIns="-42840" bIns="-42840" anchor="ctr">
                <a:noAutofit/>
              </a:bodyPr>
              <a:p>
                <a:endParaRPr b="0" lang="en-US" sz="1800" spc="-1" strike="noStrike">
                  <a:solidFill>
                    <a:srgbClr val="313c3f"/>
                  </a:solidFill>
                  <a:latin typeface="Source Sans Pro"/>
                </a:endParaRPr>
              </a:p>
            </p:txBody>
          </p:sp>
          <p:sp>
            <p:nvSpPr>
              <p:cNvPr id="2628" name="Freeform: Shape 435"/>
              <p:cNvSpPr/>
              <p:nvPr/>
            </p:nvSpPr>
            <p:spPr>
              <a:xfrm>
                <a:off x="10724400" y="2237040"/>
                <a:ext cx="150120" cy="338760"/>
              </a:xfrm>
              <a:custGeom>
                <a:avLst/>
                <a:gdLst/>
                <a:ahLst/>
                <a:rect l="l" t="t" r="r" b="b"/>
                <a:pathLst>
                  <a:path w="193450" h="436079">
                    <a:moveTo>
                      <a:pt x="190416" y="31110"/>
                    </a:moveTo>
                    <a:cubicBezTo>
                      <a:pt x="181834" y="39692"/>
                      <a:pt x="175397" y="49884"/>
                      <a:pt x="168424" y="60075"/>
                    </a:cubicBezTo>
                    <a:cubicBezTo>
                      <a:pt x="100304" y="165742"/>
                      <a:pt x="39156" y="278383"/>
                      <a:pt x="16628" y="402287"/>
                    </a:cubicBezTo>
                    <a:cubicBezTo>
                      <a:pt x="15019" y="410869"/>
                      <a:pt x="12337" y="418379"/>
                      <a:pt x="10191" y="426961"/>
                    </a:cubicBezTo>
                    <a:cubicBezTo>
                      <a:pt x="9655" y="428570"/>
                      <a:pt x="9118" y="430716"/>
                      <a:pt x="9118" y="432861"/>
                    </a:cubicBezTo>
                    <a:cubicBezTo>
                      <a:pt x="9118" y="433398"/>
                      <a:pt x="9118" y="433934"/>
                      <a:pt x="8582" y="435007"/>
                    </a:cubicBezTo>
                    <a:cubicBezTo>
                      <a:pt x="8582" y="435543"/>
                      <a:pt x="8582" y="435543"/>
                      <a:pt x="8046" y="436079"/>
                    </a:cubicBezTo>
                    <a:cubicBezTo>
                      <a:pt x="8046" y="436079"/>
                      <a:pt x="8046" y="436079"/>
                      <a:pt x="8046" y="436079"/>
                    </a:cubicBezTo>
                    <a:cubicBezTo>
                      <a:pt x="7509" y="436079"/>
                      <a:pt x="8046" y="435543"/>
                      <a:pt x="8046" y="435543"/>
                    </a:cubicBezTo>
                    <a:cubicBezTo>
                      <a:pt x="8046" y="435543"/>
                      <a:pt x="8046" y="435543"/>
                      <a:pt x="8046" y="435543"/>
                    </a:cubicBezTo>
                    <a:cubicBezTo>
                      <a:pt x="8046" y="435007"/>
                      <a:pt x="7509" y="434470"/>
                      <a:pt x="7509" y="433934"/>
                    </a:cubicBezTo>
                    <a:cubicBezTo>
                      <a:pt x="7509" y="433934"/>
                      <a:pt x="7509" y="433934"/>
                      <a:pt x="7509" y="433934"/>
                    </a:cubicBezTo>
                    <a:cubicBezTo>
                      <a:pt x="5900" y="430716"/>
                      <a:pt x="4291" y="430179"/>
                      <a:pt x="2682" y="426425"/>
                    </a:cubicBezTo>
                    <a:cubicBezTo>
                      <a:pt x="1609" y="423743"/>
                      <a:pt x="1073" y="421061"/>
                      <a:pt x="536" y="417306"/>
                    </a:cubicBezTo>
                    <a:cubicBezTo>
                      <a:pt x="536" y="417306"/>
                      <a:pt x="536" y="417306"/>
                      <a:pt x="536" y="417306"/>
                    </a:cubicBezTo>
                    <a:cubicBezTo>
                      <a:pt x="0" y="413551"/>
                      <a:pt x="0" y="409797"/>
                      <a:pt x="0" y="405506"/>
                    </a:cubicBezTo>
                    <a:cubicBezTo>
                      <a:pt x="2146" y="341140"/>
                      <a:pt x="54711" y="183443"/>
                      <a:pt x="111031" y="78848"/>
                    </a:cubicBezTo>
                    <a:cubicBezTo>
                      <a:pt x="116395" y="68657"/>
                      <a:pt x="120150" y="56856"/>
                      <a:pt x="124441" y="45593"/>
                    </a:cubicBezTo>
                    <a:cubicBezTo>
                      <a:pt x="129805" y="38083"/>
                      <a:pt x="135169" y="30037"/>
                      <a:pt x="139996" y="22528"/>
                    </a:cubicBezTo>
                    <a:cubicBezTo>
                      <a:pt x="133023" y="19846"/>
                      <a:pt x="128196" y="12873"/>
                      <a:pt x="126050" y="5364"/>
                    </a:cubicBezTo>
                    <a:cubicBezTo>
                      <a:pt x="125514" y="3755"/>
                      <a:pt x="125514" y="1609"/>
                      <a:pt x="124977" y="0"/>
                    </a:cubicBezTo>
                    <a:cubicBezTo>
                      <a:pt x="148042" y="2146"/>
                      <a:pt x="170570" y="10191"/>
                      <a:pt x="189880" y="23064"/>
                    </a:cubicBezTo>
                    <a:cubicBezTo>
                      <a:pt x="190953" y="23601"/>
                      <a:pt x="192025" y="24673"/>
                      <a:pt x="192562" y="25746"/>
                    </a:cubicBezTo>
                    <a:cubicBezTo>
                      <a:pt x="194707" y="26819"/>
                      <a:pt x="192562" y="29501"/>
                      <a:pt x="190416" y="31110"/>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29" name="Freeform: Shape 436"/>
              <p:cNvSpPr/>
              <p:nvPr/>
            </p:nvSpPr>
            <p:spPr>
              <a:xfrm>
                <a:off x="10725480" y="2212200"/>
                <a:ext cx="105120" cy="110160"/>
              </a:xfrm>
              <a:custGeom>
                <a:avLst/>
                <a:gdLst/>
                <a:ahLst/>
                <a:rect l="l" t="t" r="r" b="b"/>
                <a:pathLst>
                  <a:path w="135746" h="141815">
                    <a:moveTo>
                      <a:pt x="134193" y="60611"/>
                    </a:moveTo>
                    <a:cubicBezTo>
                      <a:pt x="130974" y="65439"/>
                      <a:pt x="127756" y="70803"/>
                      <a:pt x="124001" y="75630"/>
                    </a:cubicBezTo>
                    <a:cubicBezTo>
                      <a:pt x="121856" y="78848"/>
                      <a:pt x="119174" y="82067"/>
                      <a:pt x="117028" y="85285"/>
                    </a:cubicBezTo>
                    <a:cubicBezTo>
                      <a:pt x="103619" y="102449"/>
                      <a:pt x="88064" y="117468"/>
                      <a:pt x="69290" y="127123"/>
                    </a:cubicBezTo>
                    <a:cubicBezTo>
                      <a:pt x="56953" y="133560"/>
                      <a:pt x="43544" y="137314"/>
                      <a:pt x="30134" y="140532"/>
                    </a:cubicBezTo>
                    <a:cubicBezTo>
                      <a:pt x="26379" y="141605"/>
                      <a:pt x="22625" y="142142"/>
                      <a:pt x="19407" y="141605"/>
                    </a:cubicBezTo>
                    <a:cubicBezTo>
                      <a:pt x="14043" y="140532"/>
                      <a:pt x="9752" y="136778"/>
                      <a:pt x="7070" y="132487"/>
                    </a:cubicBezTo>
                    <a:cubicBezTo>
                      <a:pt x="1170" y="123368"/>
                      <a:pt x="-440" y="112104"/>
                      <a:pt x="97" y="101377"/>
                    </a:cubicBezTo>
                    <a:cubicBezTo>
                      <a:pt x="97" y="89040"/>
                      <a:pt x="1706" y="76166"/>
                      <a:pt x="7070" y="64902"/>
                    </a:cubicBezTo>
                    <a:cubicBezTo>
                      <a:pt x="10824" y="57393"/>
                      <a:pt x="15652" y="50420"/>
                      <a:pt x="19943" y="43447"/>
                    </a:cubicBezTo>
                    <a:cubicBezTo>
                      <a:pt x="25307" y="33792"/>
                      <a:pt x="29061" y="23065"/>
                      <a:pt x="30671" y="11800"/>
                    </a:cubicBezTo>
                    <a:cubicBezTo>
                      <a:pt x="34962" y="15019"/>
                      <a:pt x="39253" y="17701"/>
                      <a:pt x="43007" y="19846"/>
                    </a:cubicBezTo>
                    <a:cubicBezTo>
                      <a:pt x="59635" y="28428"/>
                      <a:pt x="72508" y="28428"/>
                      <a:pt x="72508" y="28428"/>
                    </a:cubicBezTo>
                    <a:cubicBezTo>
                      <a:pt x="72508" y="28428"/>
                      <a:pt x="101473" y="26283"/>
                      <a:pt x="126683" y="0"/>
                    </a:cubicBezTo>
                    <a:cubicBezTo>
                      <a:pt x="126147" y="4291"/>
                      <a:pt x="126147" y="8582"/>
                      <a:pt x="125610" y="12873"/>
                    </a:cubicBezTo>
                    <a:cubicBezTo>
                      <a:pt x="125074" y="18773"/>
                      <a:pt x="124538" y="24674"/>
                      <a:pt x="125074" y="30037"/>
                    </a:cubicBezTo>
                    <a:cubicBezTo>
                      <a:pt x="125074" y="31647"/>
                      <a:pt x="125610" y="33792"/>
                      <a:pt x="126147" y="35401"/>
                    </a:cubicBezTo>
                    <a:cubicBezTo>
                      <a:pt x="127220" y="40229"/>
                      <a:pt x="129902" y="45056"/>
                      <a:pt x="133120" y="48274"/>
                    </a:cubicBezTo>
                    <a:cubicBezTo>
                      <a:pt x="135802" y="51493"/>
                      <a:pt x="136874" y="56857"/>
                      <a:pt x="134193" y="60611"/>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30" name="Freeform: Shape 437"/>
              <p:cNvSpPr/>
              <p:nvPr/>
            </p:nvSpPr>
            <p:spPr>
              <a:xfrm>
                <a:off x="10726920" y="2120400"/>
                <a:ext cx="3960" cy="360"/>
              </a:xfrm>
              <a:custGeom>
                <a:avLst/>
                <a:gdLst/>
                <a:ahLst/>
                <a:rect l="l" t="t" r="r" b="b"/>
                <a:pathLst>
                  <a:path w="5363" h="402">
                    <a:moveTo>
                      <a:pt x="0" y="402"/>
                    </a:moveTo>
                    <a:cubicBezTo>
                      <a:pt x="0" y="-134"/>
                      <a:pt x="0" y="-134"/>
                      <a:pt x="0" y="402"/>
                    </a:cubicBezTo>
                    <a:cubicBezTo>
                      <a:pt x="0" y="-134"/>
                      <a:pt x="0" y="-134"/>
                      <a:pt x="0" y="402"/>
                    </a:cubicBezTo>
                    <a:close/>
                  </a:path>
                </a:pathLst>
              </a:custGeom>
              <a:solidFill>
                <a:srgbClr val="986735"/>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2631" name="Freeform: Shape 438"/>
              <p:cNvSpPr/>
              <p:nvPr/>
            </p:nvSpPr>
            <p:spPr>
              <a:xfrm>
                <a:off x="10668600" y="1978560"/>
                <a:ext cx="228600" cy="268920"/>
              </a:xfrm>
              <a:custGeom>
                <a:avLst/>
                <a:gdLst/>
                <a:ahLst/>
                <a:rect l="l" t="t" r="r" b="b"/>
                <a:pathLst>
                  <a:path w="294609" h="346151">
                    <a:moveTo>
                      <a:pt x="294609" y="264405"/>
                    </a:moveTo>
                    <a:cubicBezTo>
                      <a:pt x="294609" y="214522"/>
                      <a:pt x="279590" y="164638"/>
                      <a:pt x="267790" y="116900"/>
                    </a:cubicBezTo>
                    <a:cubicBezTo>
                      <a:pt x="261890" y="92763"/>
                      <a:pt x="254380" y="68626"/>
                      <a:pt x="240971" y="47170"/>
                    </a:cubicBezTo>
                    <a:cubicBezTo>
                      <a:pt x="227561" y="26251"/>
                      <a:pt x="207179" y="8551"/>
                      <a:pt x="183041" y="2650"/>
                    </a:cubicBezTo>
                    <a:cubicBezTo>
                      <a:pt x="168559" y="-568"/>
                      <a:pt x="154077" y="505"/>
                      <a:pt x="139594" y="3723"/>
                    </a:cubicBezTo>
                    <a:cubicBezTo>
                      <a:pt x="132621" y="-1104"/>
                      <a:pt x="121357" y="-568"/>
                      <a:pt x="113312" y="1578"/>
                    </a:cubicBezTo>
                    <a:cubicBezTo>
                      <a:pt x="80592" y="10696"/>
                      <a:pt x="57528" y="40197"/>
                      <a:pt x="42509" y="70235"/>
                    </a:cubicBezTo>
                    <a:cubicBezTo>
                      <a:pt x="8717" y="136746"/>
                      <a:pt x="2280" y="213985"/>
                      <a:pt x="135" y="288543"/>
                    </a:cubicBezTo>
                    <a:cubicBezTo>
                      <a:pt x="-402" y="304634"/>
                      <a:pt x="135" y="322871"/>
                      <a:pt x="11935" y="334135"/>
                    </a:cubicBezTo>
                    <a:cubicBezTo>
                      <a:pt x="18908" y="340572"/>
                      <a:pt x="28563" y="343254"/>
                      <a:pt x="37681" y="344863"/>
                    </a:cubicBezTo>
                    <a:cubicBezTo>
                      <a:pt x="46264" y="346472"/>
                      <a:pt x="77374" y="343790"/>
                      <a:pt x="83274" y="338963"/>
                    </a:cubicBezTo>
                    <a:cubicBezTo>
                      <a:pt x="82738" y="337354"/>
                      <a:pt x="82201" y="335208"/>
                      <a:pt x="81665" y="333599"/>
                    </a:cubicBezTo>
                    <a:cubicBezTo>
                      <a:pt x="76301" y="314289"/>
                      <a:pt x="73083" y="293907"/>
                      <a:pt x="71474" y="273524"/>
                    </a:cubicBezTo>
                    <a:cubicBezTo>
                      <a:pt x="71474" y="271378"/>
                      <a:pt x="70937" y="268696"/>
                      <a:pt x="70937" y="266551"/>
                    </a:cubicBezTo>
                    <a:cubicBezTo>
                      <a:pt x="70937" y="263333"/>
                      <a:pt x="70401" y="259578"/>
                      <a:pt x="70401" y="256360"/>
                    </a:cubicBezTo>
                    <a:cubicBezTo>
                      <a:pt x="70401" y="253678"/>
                      <a:pt x="70401" y="250459"/>
                      <a:pt x="70401" y="247778"/>
                    </a:cubicBezTo>
                    <a:cubicBezTo>
                      <a:pt x="70401" y="245096"/>
                      <a:pt x="70401" y="241877"/>
                      <a:pt x="70401" y="239195"/>
                    </a:cubicBezTo>
                    <a:cubicBezTo>
                      <a:pt x="70401" y="237586"/>
                      <a:pt x="70401" y="235977"/>
                      <a:pt x="70401" y="233832"/>
                    </a:cubicBezTo>
                    <a:cubicBezTo>
                      <a:pt x="70401" y="226859"/>
                      <a:pt x="70937" y="220422"/>
                      <a:pt x="71474" y="213449"/>
                    </a:cubicBezTo>
                    <a:cubicBezTo>
                      <a:pt x="71474" y="211304"/>
                      <a:pt x="72010" y="208622"/>
                      <a:pt x="72010" y="206476"/>
                    </a:cubicBezTo>
                    <a:cubicBezTo>
                      <a:pt x="72546" y="201649"/>
                      <a:pt x="72546" y="197358"/>
                      <a:pt x="73083" y="192530"/>
                    </a:cubicBezTo>
                    <a:cubicBezTo>
                      <a:pt x="73619" y="189312"/>
                      <a:pt x="73619" y="186630"/>
                      <a:pt x="74156" y="183412"/>
                    </a:cubicBezTo>
                    <a:cubicBezTo>
                      <a:pt x="74692" y="176439"/>
                      <a:pt x="75765" y="168929"/>
                      <a:pt x="76838" y="161956"/>
                    </a:cubicBezTo>
                    <a:cubicBezTo>
                      <a:pt x="77374" y="159811"/>
                      <a:pt x="77374" y="157665"/>
                      <a:pt x="77910" y="155520"/>
                    </a:cubicBezTo>
                    <a:cubicBezTo>
                      <a:pt x="79519" y="149083"/>
                      <a:pt x="81129" y="143183"/>
                      <a:pt x="83274" y="137283"/>
                    </a:cubicBezTo>
                    <a:cubicBezTo>
                      <a:pt x="85420" y="131919"/>
                      <a:pt x="98293" y="112609"/>
                      <a:pt x="106875" y="100809"/>
                    </a:cubicBezTo>
                    <a:cubicBezTo>
                      <a:pt x="107411" y="105636"/>
                      <a:pt x="107948" y="109927"/>
                      <a:pt x="109021" y="114218"/>
                    </a:cubicBezTo>
                    <a:cubicBezTo>
                      <a:pt x="113312" y="132455"/>
                      <a:pt x="123503" y="148547"/>
                      <a:pt x="134767" y="163565"/>
                    </a:cubicBezTo>
                    <a:cubicBezTo>
                      <a:pt x="124576" y="145865"/>
                      <a:pt x="120821" y="125482"/>
                      <a:pt x="123503" y="105636"/>
                    </a:cubicBezTo>
                    <a:cubicBezTo>
                      <a:pt x="123503" y="105636"/>
                      <a:pt x="123503" y="105636"/>
                      <a:pt x="123503" y="106172"/>
                    </a:cubicBezTo>
                    <a:cubicBezTo>
                      <a:pt x="124039" y="107245"/>
                      <a:pt x="124039" y="107781"/>
                      <a:pt x="124576" y="108854"/>
                    </a:cubicBezTo>
                    <a:cubicBezTo>
                      <a:pt x="125112" y="109927"/>
                      <a:pt x="125648" y="111000"/>
                      <a:pt x="125648" y="112073"/>
                    </a:cubicBezTo>
                    <a:cubicBezTo>
                      <a:pt x="126185" y="113145"/>
                      <a:pt x="126721" y="114218"/>
                      <a:pt x="126721" y="114755"/>
                    </a:cubicBezTo>
                    <a:cubicBezTo>
                      <a:pt x="127258" y="115291"/>
                      <a:pt x="127258" y="116364"/>
                      <a:pt x="127794" y="116900"/>
                    </a:cubicBezTo>
                    <a:cubicBezTo>
                      <a:pt x="128330" y="117436"/>
                      <a:pt x="128330" y="118509"/>
                      <a:pt x="128867" y="119046"/>
                    </a:cubicBezTo>
                    <a:cubicBezTo>
                      <a:pt x="129403" y="120118"/>
                      <a:pt x="129939" y="120655"/>
                      <a:pt x="129939" y="121727"/>
                    </a:cubicBezTo>
                    <a:cubicBezTo>
                      <a:pt x="129939" y="121727"/>
                      <a:pt x="129939" y="122264"/>
                      <a:pt x="130476" y="122264"/>
                    </a:cubicBezTo>
                    <a:cubicBezTo>
                      <a:pt x="131012" y="122800"/>
                      <a:pt x="131012" y="123337"/>
                      <a:pt x="131549" y="124409"/>
                    </a:cubicBezTo>
                    <a:cubicBezTo>
                      <a:pt x="132085" y="124946"/>
                      <a:pt x="132085" y="125482"/>
                      <a:pt x="132621" y="126019"/>
                    </a:cubicBezTo>
                    <a:cubicBezTo>
                      <a:pt x="133158" y="127091"/>
                      <a:pt x="133694" y="128164"/>
                      <a:pt x="134230" y="128701"/>
                    </a:cubicBezTo>
                    <a:cubicBezTo>
                      <a:pt x="139594" y="137283"/>
                      <a:pt x="146567" y="145328"/>
                      <a:pt x="155686" y="149619"/>
                    </a:cubicBezTo>
                    <a:cubicBezTo>
                      <a:pt x="146567" y="137819"/>
                      <a:pt x="139594" y="121727"/>
                      <a:pt x="136376" y="107245"/>
                    </a:cubicBezTo>
                    <a:cubicBezTo>
                      <a:pt x="142813" y="117436"/>
                      <a:pt x="149786" y="125482"/>
                      <a:pt x="158368" y="133528"/>
                    </a:cubicBezTo>
                    <a:cubicBezTo>
                      <a:pt x="166950" y="141574"/>
                      <a:pt x="177678" y="148547"/>
                      <a:pt x="188942" y="151765"/>
                    </a:cubicBezTo>
                    <a:cubicBezTo>
                      <a:pt x="187869" y="151229"/>
                      <a:pt x="187333" y="150692"/>
                      <a:pt x="186260" y="150156"/>
                    </a:cubicBezTo>
                    <a:cubicBezTo>
                      <a:pt x="185723" y="150156"/>
                      <a:pt x="185723" y="149619"/>
                      <a:pt x="185187" y="149619"/>
                    </a:cubicBezTo>
                    <a:cubicBezTo>
                      <a:pt x="184651" y="149083"/>
                      <a:pt x="184114" y="148547"/>
                      <a:pt x="183041" y="148010"/>
                    </a:cubicBezTo>
                    <a:cubicBezTo>
                      <a:pt x="182505" y="147474"/>
                      <a:pt x="181432" y="146938"/>
                      <a:pt x="180896" y="146401"/>
                    </a:cubicBezTo>
                    <a:cubicBezTo>
                      <a:pt x="180359" y="145865"/>
                      <a:pt x="179823" y="145328"/>
                      <a:pt x="179287" y="144792"/>
                    </a:cubicBezTo>
                    <a:cubicBezTo>
                      <a:pt x="178750" y="144256"/>
                      <a:pt x="177678" y="143719"/>
                      <a:pt x="177141" y="142646"/>
                    </a:cubicBezTo>
                    <a:cubicBezTo>
                      <a:pt x="177141" y="142646"/>
                      <a:pt x="177141" y="142646"/>
                      <a:pt x="177141" y="142646"/>
                    </a:cubicBezTo>
                    <a:cubicBezTo>
                      <a:pt x="176605" y="142110"/>
                      <a:pt x="175532" y="141037"/>
                      <a:pt x="174996" y="140501"/>
                    </a:cubicBezTo>
                    <a:cubicBezTo>
                      <a:pt x="174459" y="139964"/>
                      <a:pt x="173387" y="138892"/>
                      <a:pt x="172850" y="138355"/>
                    </a:cubicBezTo>
                    <a:cubicBezTo>
                      <a:pt x="172314" y="137819"/>
                      <a:pt x="172314" y="137819"/>
                      <a:pt x="171777" y="137283"/>
                    </a:cubicBezTo>
                    <a:cubicBezTo>
                      <a:pt x="171241" y="136746"/>
                      <a:pt x="170705" y="136210"/>
                      <a:pt x="170168" y="135673"/>
                    </a:cubicBezTo>
                    <a:cubicBezTo>
                      <a:pt x="170168" y="135673"/>
                      <a:pt x="169632" y="135137"/>
                      <a:pt x="169632" y="135137"/>
                    </a:cubicBezTo>
                    <a:cubicBezTo>
                      <a:pt x="169095" y="134601"/>
                      <a:pt x="168559" y="134064"/>
                      <a:pt x="168023" y="133528"/>
                    </a:cubicBezTo>
                    <a:cubicBezTo>
                      <a:pt x="166950" y="132455"/>
                      <a:pt x="165877" y="130846"/>
                      <a:pt x="164804" y="129773"/>
                    </a:cubicBezTo>
                    <a:cubicBezTo>
                      <a:pt x="164268" y="129237"/>
                      <a:pt x="163732" y="128701"/>
                      <a:pt x="163195" y="127628"/>
                    </a:cubicBezTo>
                    <a:cubicBezTo>
                      <a:pt x="162659" y="127091"/>
                      <a:pt x="162122" y="126555"/>
                      <a:pt x="162122" y="126019"/>
                    </a:cubicBezTo>
                    <a:cubicBezTo>
                      <a:pt x="162122" y="126019"/>
                      <a:pt x="162122" y="126019"/>
                      <a:pt x="162122" y="126019"/>
                    </a:cubicBezTo>
                    <a:cubicBezTo>
                      <a:pt x="161586" y="125482"/>
                      <a:pt x="161586" y="124946"/>
                      <a:pt x="161050" y="124409"/>
                    </a:cubicBezTo>
                    <a:cubicBezTo>
                      <a:pt x="160513" y="123873"/>
                      <a:pt x="160513" y="123337"/>
                      <a:pt x="159977" y="122800"/>
                    </a:cubicBezTo>
                    <a:cubicBezTo>
                      <a:pt x="159441" y="122264"/>
                      <a:pt x="159441" y="121727"/>
                      <a:pt x="158904" y="121191"/>
                    </a:cubicBezTo>
                    <a:cubicBezTo>
                      <a:pt x="158368" y="120655"/>
                      <a:pt x="158368" y="120118"/>
                      <a:pt x="157831" y="119582"/>
                    </a:cubicBezTo>
                    <a:cubicBezTo>
                      <a:pt x="156222" y="116900"/>
                      <a:pt x="154613" y="113682"/>
                      <a:pt x="153540" y="110463"/>
                    </a:cubicBezTo>
                    <a:cubicBezTo>
                      <a:pt x="153004" y="109391"/>
                      <a:pt x="153004" y="108854"/>
                      <a:pt x="152468" y="107781"/>
                    </a:cubicBezTo>
                    <a:cubicBezTo>
                      <a:pt x="162659" y="122264"/>
                      <a:pt x="175532" y="132992"/>
                      <a:pt x="191087" y="141574"/>
                    </a:cubicBezTo>
                    <a:cubicBezTo>
                      <a:pt x="197524" y="145328"/>
                      <a:pt x="204497" y="148010"/>
                      <a:pt x="209861" y="153374"/>
                    </a:cubicBezTo>
                    <a:cubicBezTo>
                      <a:pt x="215761" y="158738"/>
                      <a:pt x="218979" y="166784"/>
                      <a:pt x="221125" y="174293"/>
                    </a:cubicBezTo>
                    <a:cubicBezTo>
                      <a:pt x="224879" y="187166"/>
                      <a:pt x="226488" y="200576"/>
                      <a:pt x="226488" y="213985"/>
                    </a:cubicBezTo>
                    <a:cubicBezTo>
                      <a:pt x="226488" y="215595"/>
                      <a:pt x="226488" y="217204"/>
                      <a:pt x="226488" y="218276"/>
                    </a:cubicBezTo>
                    <a:cubicBezTo>
                      <a:pt x="226488" y="218813"/>
                      <a:pt x="226488" y="218813"/>
                      <a:pt x="226488" y="219349"/>
                    </a:cubicBezTo>
                    <a:cubicBezTo>
                      <a:pt x="226488" y="220958"/>
                      <a:pt x="226488" y="222031"/>
                      <a:pt x="226488" y="223640"/>
                    </a:cubicBezTo>
                    <a:cubicBezTo>
                      <a:pt x="226488" y="224713"/>
                      <a:pt x="226488" y="226322"/>
                      <a:pt x="226488" y="227395"/>
                    </a:cubicBezTo>
                    <a:cubicBezTo>
                      <a:pt x="226488" y="228468"/>
                      <a:pt x="226488" y="229004"/>
                      <a:pt x="226488" y="230077"/>
                    </a:cubicBezTo>
                    <a:cubicBezTo>
                      <a:pt x="226488" y="230077"/>
                      <a:pt x="226488" y="230077"/>
                      <a:pt x="226488" y="230077"/>
                    </a:cubicBezTo>
                    <a:cubicBezTo>
                      <a:pt x="226488" y="231686"/>
                      <a:pt x="226488" y="232759"/>
                      <a:pt x="225952" y="234368"/>
                    </a:cubicBezTo>
                    <a:cubicBezTo>
                      <a:pt x="225952" y="235977"/>
                      <a:pt x="225416" y="237586"/>
                      <a:pt x="225416" y="239195"/>
                    </a:cubicBezTo>
                    <a:cubicBezTo>
                      <a:pt x="225416" y="239195"/>
                      <a:pt x="225416" y="239732"/>
                      <a:pt x="225416" y="239732"/>
                    </a:cubicBezTo>
                    <a:cubicBezTo>
                      <a:pt x="225416" y="240268"/>
                      <a:pt x="225416" y="240805"/>
                      <a:pt x="225416" y="241341"/>
                    </a:cubicBezTo>
                    <a:cubicBezTo>
                      <a:pt x="225416" y="243487"/>
                      <a:pt x="224879" y="245096"/>
                      <a:pt x="224879" y="247241"/>
                    </a:cubicBezTo>
                    <a:cubicBezTo>
                      <a:pt x="224343" y="249923"/>
                      <a:pt x="224343" y="252069"/>
                      <a:pt x="223807" y="254751"/>
                    </a:cubicBezTo>
                    <a:cubicBezTo>
                      <a:pt x="223807" y="255823"/>
                      <a:pt x="223270" y="256896"/>
                      <a:pt x="223270" y="257433"/>
                    </a:cubicBezTo>
                    <a:cubicBezTo>
                      <a:pt x="219516" y="282642"/>
                      <a:pt x="214152" y="307853"/>
                      <a:pt x="203960" y="331453"/>
                    </a:cubicBezTo>
                    <a:cubicBezTo>
                      <a:pt x="201815" y="336281"/>
                      <a:pt x="199669" y="340572"/>
                      <a:pt x="196987" y="345399"/>
                    </a:cubicBezTo>
                    <a:cubicBezTo>
                      <a:pt x="217370" y="348081"/>
                      <a:pt x="237753" y="343254"/>
                      <a:pt x="256526" y="336281"/>
                    </a:cubicBezTo>
                    <a:cubicBezTo>
                      <a:pt x="262962" y="333599"/>
                      <a:pt x="269936" y="330917"/>
                      <a:pt x="275299" y="326626"/>
                    </a:cubicBezTo>
                    <a:cubicBezTo>
                      <a:pt x="283882" y="319653"/>
                      <a:pt x="288709" y="309462"/>
                      <a:pt x="291391" y="298734"/>
                    </a:cubicBezTo>
                    <a:cubicBezTo>
                      <a:pt x="294609" y="285861"/>
                      <a:pt x="294609" y="275133"/>
                      <a:pt x="294609" y="264405"/>
                    </a:cubicBezTo>
                    <a:close/>
                  </a:path>
                </a:pathLst>
              </a:custGeom>
              <a:solidFill>
                <a:srgbClr val="98673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32" name="Freeform: Shape 439"/>
              <p:cNvSpPr/>
              <p:nvPr/>
            </p:nvSpPr>
            <p:spPr>
              <a:xfrm>
                <a:off x="10744920" y="2288160"/>
                <a:ext cx="258480" cy="486000"/>
              </a:xfrm>
              <a:custGeom>
                <a:avLst/>
                <a:gdLst/>
                <a:ahLst/>
                <a:rect l="l" t="t" r="r" b="b"/>
                <a:pathLst>
                  <a:path w="332672" h="625422">
                    <a:moveTo>
                      <a:pt x="332627" y="377614"/>
                    </a:moveTo>
                    <a:cubicBezTo>
                      <a:pt x="332091" y="394778"/>
                      <a:pt x="331018" y="412479"/>
                      <a:pt x="324045" y="428570"/>
                    </a:cubicBezTo>
                    <a:cubicBezTo>
                      <a:pt x="317608" y="443053"/>
                      <a:pt x="306881" y="455389"/>
                      <a:pt x="295617" y="467190"/>
                    </a:cubicBezTo>
                    <a:cubicBezTo>
                      <a:pt x="281671" y="481136"/>
                      <a:pt x="266652" y="494009"/>
                      <a:pt x="250560" y="505809"/>
                    </a:cubicBezTo>
                    <a:cubicBezTo>
                      <a:pt x="244124" y="510100"/>
                      <a:pt x="238224" y="514928"/>
                      <a:pt x="231787" y="518683"/>
                    </a:cubicBezTo>
                    <a:cubicBezTo>
                      <a:pt x="229641" y="520292"/>
                      <a:pt x="227496" y="521365"/>
                      <a:pt x="225350" y="522974"/>
                    </a:cubicBezTo>
                    <a:cubicBezTo>
                      <a:pt x="224278" y="523510"/>
                      <a:pt x="222668" y="524583"/>
                      <a:pt x="221596" y="525119"/>
                    </a:cubicBezTo>
                    <a:cubicBezTo>
                      <a:pt x="219987" y="526192"/>
                      <a:pt x="218914" y="526728"/>
                      <a:pt x="217305" y="527801"/>
                    </a:cubicBezTo>
                    <a:cubicBezTo>
                      <a:pt x="216232" y="528337"/>
                      <a:pt x="215159" y="528874"/>
                      <a:pt x="214623" y="529410"/>
                    </a:cubicBezTo>
                    <a:cubicBezTo>
                      <a:pt x="213013" y="530483"/>
                      <a:pt x="211941" y="531019"/>
                      <a:pt x="210332" y="532092"/>
                    </a:cubicBezTo>
                    <a:cubicBezTo>
                      <a:pt x="208722" y="533165"/>
                      <a:pt x="207650" y="533701"/>
                      <a:pt x="206041" y="534238"/>
                    </a:cubicBezTo>
                    <a:cubicBezTo>
                      <a:pt x="206041" y="534238"/>
                      <a:pt x="205504" y="534238"/>
                      <a:pt x="205504" y="534774"/>
                    </a:cubicBezTo>
                    <a:cubicBezTo>
                      <a:pt x="204968" y="534774"/>
                      <a:pt x="204968" y="535310"/>
                      <a:pt x="204431" y="535310"/>
                    </a:cubicBezTo>
                    <a:cubicBezTo>
                      <a:pt x="202286" y="536920"/>
                      <a:pt x="199604" y="537992"/>
                      <a:pt x="197458" y="539602"/>
                    </a:cubicBezTo>
                    <a:cubicBezTo>
                      <a:pt x="195849" y="540674"/>
                      <a:pt x="194240" y="541211"/>
                      <a:pt x="193167" y="542283"/>
                    </a:cubicBezTo>
                    <a:cubicBezTo>
                      <a:pt x="191022" y="543356"/>
                      <a:pt x="188876" y="544965"/>
                      <a:pt x="186194" y="546038"/>
                    </a:cubicBezTo>
                    <a:cubicBezTo>
                      <a:pt x="182976" y="547647"/>
                      <a:pt x="180294" y="549256"/>
                      <a:pt x="177076" y="550866"/>
                    </a:cubicBezTo>
                    <a:cubicBezTo>
                      <a:pt x="173858" y="553011"/>
                      <a:pt x="170103" y="554620"/>
                      <a:pt x="166885" y="556229"/>
                    </a:cubicBezTo>
                    <a:cubicBezTo>
                      <a:pt x="140602" y="570712"/>
                      <a:pt x="114319" y="585194"/>
                      <a:pt x="88036" y="599676"/>
                    </a:cubicBezTo>
                    <a:cubicBezTo>
                      <a:pt x="72481" y="608259"/>
                      <a:pt x="56926" y="616841"/>
                      <a:pt x="41371" y="625423"/>
                    </a:cubicBezTo>
                    <a:cubicBezTo>
                      <a:pt x="36007" y="613086"/>
                      <a:pt x="31180" y="600749"/>
                      <a:pt x="26352" y="588412"/>
                    </a:cubicBezTo>
                    <a:cubicBezTo>
                      <a:pt x="24207" y="582512"/>
                      <a:pt x="22061" y="577148"/>
                      <a:pt x="19915" y="571248"/>
                    </a:cubicBezTo>
                    <a:cubicBezTo>
                      <a:pt x="18843" y="568566"/>
                      <a:pt x="17770" y="565348"/>
                      <a:pt x="16697" y="562666"/>
                    </a:cubicBezTo>
                    <a:cubicBezTo>
                      <a:pt x="14015" y="555157"/>
                      <a:pt x="11333" y="547647"/>
                      <a:pt x="8652" y="540138"/>
                    </a:cubicBezTo>
                    <a:cubicBezTo>
                      <a:pt x="7042" y="536383"/>
                      <a:pt x="5970" y="532092"/>
                      <a:pt x="4360" y="528337"/>
                    </a:cubicBezTo>
                    <a:cubicBezTo>
                      <a:pt x="2215" y="521365"/>
                      <a:pt x="-467" y="514391"/>
                      <a:pt x="69" y="506882"/>
                    </a:cubicBezTo>
                    <a:cubicBezTo>
                      <a:pt x="5970" y="505273"/>
                      <a:pt x="11333" y="502591"/>
                      <a:pt x="16697" y="498836"/>
                    </a:cubicBezTo>
                    <a:cubicBezTo>
                      <a:pt x="29034" y="490791"/>
                      <a:pt x="40298" y="479527"/>
                      <a:pt x="54244" y="476845"/>
                    </a:cubicBezTo>
                    <a:cubicBezTo>
                      <a:pt x="59608" y="475772"/>
                      <a:pt x="64972" y="476308"/>
                      <a:pt x="70336" y="475236"/>
                    </a:cubicBezTo>
                    <a:cubicBezTo>
                      <a:pt x="80527" y="473626"/>
                      <a:pt x="90182" y="468799"/>
                      <a:pt x="99300" y="463435"/>
                    </a:cubicBezTo>
                    <a:cubicBezTo>
                      <a:pt x="113783" y="454317"/>
                      <a:pt x="127192" y="444662"/>
                      <a:pt x="141138" y="434470"/>
                    </a:cubicBezTo>
                    <a:cubicBezTo>
                      <a:pt x="156693" y="422670"/>
                      <a:pt x="172785" y="410870"/>
                      <a:pt x="188340" y="399606"/>
                    </a:cubicBezTo>
                    <a:cubicBezTo>
                      <a:pt x="188340" y="399606"/>
                      <a:pt x="188340" y="399069"/>
                      <a:pt x="187804" y="399069"/>
                    </a:cubicBezTo>
                    <a:cubicBezTo>
                      <a:pt x="188876" y="399069"/>
                      <a:pt x="189949" y="398533"/>
                      <a:pt x="191022" y="397996"/>
                    </a:cubicBezTo>
                    <a:cubicBezTo>
                      <a:pt x="201213" y="394242"/>
                      <a:pt x="211404" y="391023"/>
                      <a:pt x="221596" y="387269"/>
                    </a:cubicBezTo>
                    <a:cubicBezTo>
                      <a:pt x="221596" y="386732"/>
                      <a:pt x="221596" y="386196"/>
                      <a:pt x="221596" y="385660"/>
                    </a:cubicBezTo>
                    <a:cubicBezTo>
                      <a:pt x="221596" y="383514"/>
                      <a:pt x="221596" y="381905"/>
                      <a:pt x="221596" y="379759"/>
                    </a:cubicBezTo>
                    <a:cubicBezTo>
                      <a:pt x="221596" y="303057"/>
                      <a:pt x="213550" y="343285"/>
                      <a:pt x="212477" y="259609"/>
                    </a:cubicBezTo>
                    <a:cubicBezTo>
                      <a:pt x="211404" y="245663"/>
                      <a:pt x="208722" y="232254"/>
                      <a:pt x="207113" y="218844"/>
                    </a:cubicBezTo>
                    <a:cubicBezTo>
                      <a:pt x="206577" y="215090"/>
                      <a:pt x="206577" y="211335"/>
                      <a:pt x="206041" y="207580"/>
                    </a:cubicBezTo>
                    <a:cubicBezTo>
                      <a:pt x="200677" y="134632"/>
                      <a:pt x="221596" y="59539"/>
                      <a:pt x="263970" y="0"/>
                    </a:cubicBezTo>
                    <a:cubicBezTo>
                      <a:pt x="272016" y="3755"/>
                      <a:pt x="278989" y="9119"/>
                      <a:pt x="284353" y="16628"/>
                    </a:cubicBezTo>
                    <a:cubicBezTo>
                      <a:pt x="288644" y="22528"/>
                      <a:pt x="291326" y="30037"/>
                      <a:pt x="293471" y="37547"/>
                    </a:cubicBezTo>
                    <a:cubicBezTo>
                      <a:pt x="296153" y="47202"/>
                      <a:pt x="297226" y="57929"/>
                      <a:pt x="298835" y="67048"/>
                    </a:cubicBezTo>
                    <a:cubicBezTo>
                      <a:pt x="310099" y="129805"/>
                      <a:pt x="316536" y="193634"/>
                      <a:pt x="323509" y="256928"/>
                    </a:cubicBezTo>
                    <a:cubicBezTo>
                      <a:pt x="328872" y="297156"/>
                      <a:pt x="333164" y="337385"/>
                      <a:pt x="332627" y="377614"/>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33" name="Freeform: Shape 440"/>
              <p:cNvSpPr/>
              <p:nvPr/>
            </p:nvSpPr>
            <p:spPr>
              <a:xfrm>
                <a:off x="10591200" y="2284560"/>
                <a:ext cx="88920" cy="461880"/>
              </a:xfrm>
              <a:custGeom>
                <a:avLst/>
                <a:gdLst/>
                <a:ahLst/>
                <a:rect l="l" t="t" r="r" b="b"/>
                <a:pathLst>
                  <a:path w="114659" h="594312">
                    <a:moveTo>
                      <a:pt x="114660" y="493473"/>
                    </a:moveTo>
                    <a:cubicBezTo>
                      <a:pt x="101250" y="495082"/>
                      <a:pt x="83013" y="488645"/>
                      <a:pt x="71213" y="495082"/>
                    </a:cubicBezTo>
                    <a:cubicBezTo>
                      <a:pt x="65312" y="498300"/>
                      <a:pt x="61021" y="503127"/>
                      <a:pt x="57803" y="508491"/>
                    </a:cubicBezTo>
                    <a:cubicBezTo>
                      <a:pt x="54048" y="514391"/>
                      <a:pt x="50830" y="521364"/>
                      <a:pt x="48685" y="528337"/>
                    </a:cubicBezTo>
                    <a:cubicBezTo>
                      <a:pt x="44393" y="543893"/>
                      <a:pt x="44930" y="560520"/>
                      <a:pt x="48685" y="576612"/>
                    </a:cubicBezTo>
                    <a:cubicBezTo>
                      <a:pt x="50294" y="582512"/>
                      <a:pt x="51903" y="588949"/>
                      <a:pt x="54048" y="594313"/>
                    </a:cubicBezTo>
                    <a:cubicBezTo>
                      <a:pt x="41711" y="590558"/>
                      <a:pt x="36884" y="576076"/>
                      <a:pt x="34202" y="563202"/>
                    </a:cubicBezTo>
                    <a:cubicBezTo>
                      <a:pt x="21329" y="507419"/>
                      <a:pt x="10065" y="451098"/>
                      <a:pt x="3092" y="394242"/>
                    </a:cubicBezTo>
                    <a:cubicBezTo>
                      <a:pt x="410" y="372786"/>
                      <a:pt x="-1736" y="350795"/>
                      <a:pt x="2019" y="329339"/>
                    </a:cubicBezTo>
                    <a:cubicBezTo>
                      <a:pt x="4165" y="315393"/>
                      <a:pt x="8992" y="301984"/>
                      <a:pt x="12210" y="288574"/>
                    </a:cubicBezTo>
                    <a:cubicBezTo>
                      <a:pt x="32593" y="208653"/>
                      <a:pt x="11674" y="121759"/>
                      <a:pt x="34739" y="42911"/>
                    </a:cubicBezTo>
                    <a:cubicBezTo>
                      <a:pt x="37957" y="32183"/>
                      <a:pt x="41711" y="21455"/>
                      <a:pt x="49221" y="12873"/>
                    </a:cubicBezTo>
                    <a:cubicBezTo>
                      <a:pt x="52439" y="9118"/>
                      <a:pt x="59412" y="4291"/>
                      <a:pt x="67458" y="0"/>
                    </a:cubicBezTo>
                    <a:cubicBezTo>
                      <a:pt x="66385" y="536"/>
                      <a:pt x="65312" y="1609"/>
                      <a:pt x="64240" y="2682"/>
                    </a:cubicBezTo>
                    <a:cubicBezTo>
                      <a:pt x="57267" y="9118"/>
                      <a:pt x="52976" y="18237"/>
                      <a:pt x="50294" y="27356"/>
                    </a:cubicBezTo>
                    <a:cubicBezTo>
                      <a:pt x="42248" y="59539"/>
                      <a:pt x="61558" y="93867"/>
                      <a:pt x="61558" y="127123"/>
                    </a:cubicBezTo>
                    <a:cubicBezTo>
                      <a:pt x="61558" y="149651"/>
                      <a:pt x="49221" y="171643"/>
                      <a:pt x="52439" y="194171"/>
                    </a:cubicBezTo>
                    <a:cubicBezTo>
                      <a:pt x="54048" y="207044"/>
                      <a:pt x="67994" y="233863"/>
                      <a:pt x="72285" y="246200"/>
                    </a:cubicBezTo>
                    <a:cubicBezTo>
                      <a:pt x="86768" y="291256"/>
                      <a:pt x="88377" y="333630"/>
                      <a:pt x="92131" y="380832"/>
                    </a:cubicBezTo>
                    <a:cubicBezTo>
                      <a:pt x="94813" y="417306"/>
                      <a:pt x="92131" y="446271"/>
                      <a:pt x="99641" y="479527"/>
                    </a:cubicBezTo>
                    <a:cubicBezTo>
                      <a:pt x="100714" y="483818"/>
                      <a:pt x="101786" y="488645"/>
                      <a:pt x="103396" y="493473"/>
                    </a:cubicBezTo>
                    <a:cubicBezTo>
                      <a:pt x="107687" y="493473"/>
                      <a:pt x="111441" y="493473"/>
                      <a:pt x="114660" y="493473"/>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34" name="Freeform: Shape 441"/>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3559" y="59002"/>
                      <a:pt x="128196" y="61148"/>
                      <a:pt x="122832" y="63293"/>
                    </a:cubicBezTo>
                    <a:cubicBezTo>
                      <a:pt x="115322" y="65975"/>
                      <a:pt x="106740" y="67048"/>
                      <a:pt x="98695" y="68657"/>
                    </a:cubicBezTo>
                    <a:cubicBezTo>
                      <a:pt x="72948" y="72948"/>
                      <a:pt x="47202" y="77239"/>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ffebd3"/>
              </a:solidFill>
              <a:ln w="0">
                <a:noFill/>
              </a:ln>
            </p:spPr>
            <p:style>
              <a:lnRef idx="0"/>
              <a:fillRef idx="0"/>
              <a:effectRef idx="0"/>
              <a:fontRef idx="minor"/>
            </p:style>
            <p:txBody>
              <a:bodyPr lIns="90000" rIns="90000" tIns="15840" bIns="15840" anchor="ctr">
                <a:noAutofit/>
              </a:bodyPr>
              <a:p>
                <a:endParaRPr b="0" lang="en-US" sz="1800" spc="-1" strike="noStrike">
                  <a:solidFill>
                    <a:srgbClr val="313c3f"/>
                  </a:solidFill>
                  <a:latin typeface="Source Sans Pro"/>
                </a:endParaRPr>
              </a:p>
            </p:txBody>
          </p:sp>
          <p:sp>
            <p:nvSpPr>
              <p:cNvPr id="2635" name="Freeform: Shape 442"/>
              <p:cNvSpPr/>
              <p:nvPr/>
            </p:nvSpPr>
            <p:spPr>
              <a:xfrm>
                <a:off x="10639800" y="2682720"/>
                <a:ext cx="126000" cy="103680"/>
              </a:xfrm>
              <a:custGeom>
                <a:avLst/>
                <a:gdLst/>
                <a:ahLst/>
                <a:rect l="l" t="t" r="r" b="b"/>
                <a:pathLst>
                  <a:path w="162545" h="133425">
                    <a:moveTo>
                      <a:pt x="162546" y="80994"/>
                    </a:moveTo>
                    <a:cubicBezTo>
                      <a:pt x="160937" y="83676"/>
                      <a:pt x="159328" y="86358"/>
                      <a:pt x="157182" y="89040"/>
                    </a:cubicBezTo>
                    <a:cubicBezTo>
                      <a:pt x="156646" y="89576"/>
                      <a:pt x="156109" y="90112"/>
                      <a:pt x="156109" y="90112"/>
                    </a:cubicBezTo>
                    <a:cubicBezTo>
                      <a:pt x="152355" y="93867"/>
                      <a:pt x="147527" y="96549"/>
                      <a:pt x="142700" y="99231"/>
                    </a:cubicBezTo>
                    <a:cubicBezTo>
                      <a:pt x="114271" y="114250"/>
                      <a:pt x="84234" y="126050"/>
                      <a:pt x="53124" y="133023"/>
                    </a:cubicBezTo>
                    <a:cubicBezTo>
                      <a:pt x="51514" y="133559"/>
                      <a:pt x="49905" y="133559"/>
                      <a:pt x="48296" y="133023"/>
                    </a:cubicBezTo>
                    <a:cubicBezTo>
                      <a:pt x="46687" y="132487"/>
                      <a:pt x="45614" y="130341"/>
                      <a:pt x="46151" y="128732"/>
                    </a:cubicBezTo>
                    <a:cubicBezTo>
                      <a:pt x="46151" y="127123"/>
                      <a:pt x="47223" y="124977"/>
                      <a:pt x="48833" y="124977"/>
                    </a:cubicBezTo>
                    <a:cubicBezTo>
                      <a:pt x="47760" y="125514"/>
                      <a:pt x="46687" y="125514"/>
                      <a:pt x="45078" y="125514"/>
                    </a:cubicBezTo>
                    <a:cubicBezTo>
                      <a:pt x="41323" y="126050"/>
                      <a:pt x="37032" y="126050"/>
                      <a:pt x="33277" y="126586"/>
                    </a:cubicBezTo>
                    <a:cubicBezTo>
                      <a:pt x="32205" y="126586"/>
                      <a:pt x="31668" y="126586"/>
                      <a:pt x="30596" y="126586"/>
                    </a:cubicBezTo>
                    <a:cubicBezTo>
                      <a:pt x="27914" y="126050"/>
                      <a:pt x="25232" y="123368"/>
                      <a:pt x="24695" y="120686"/>
                    </a:cubicBezTo>
                    <a:cubicBezTo>
                      <a:pt x="24159" y="118541"/>
                      <a:pt x="25232" y="115859"/>
                      <a:pt x="27377" y="114786"/>
                    </a:cubicBezTo>
                    <a:cubicBezTo>
                      <a:pt x="27377" y="114786"/>
                      <a:pt x="27377" y="114786"/>
                      <a:pt x="27377" y="114786"/>
                    </a:cubicBezTo>
                    <a:cubicBezTo>
                      <a:pt x="27377" y="114786"/>
                      <a:pt x="27377" y="114786"/>
                      <a:pt x="27914" y="114786"/>
                    </a:cubicBezTo>
                    <a:cubicBezTo>
                      <a:pt x="25768" y="115859"/>
                      <a:pt x="23086" y="116395"/>
                      <a:pt x="20404" y="116395"/>
                    </a:cubicBezTo>
                    <a:cubicBezTo>
                      <a:pt x="19331" y="116395"/>
                      <a:pt x="18259" y="116395"/>
                      <a:pt x="17186" y="116931"/>
                    </a:cubicBezTo>
                    <a:cubicBezTo>
                      <a:pt x="15577" y="116931"/>
                      <a:pt x="13431" y="117468"/>
                      <a:pt x="11822" y="116395"/>
                    </a:cubicBezTo>
                    <a:cubicBezTo>
                      <a:pt x="9677" y="114786"/>
                      <a:pt x="8604" y="112104"/>
                      <a:pt x="9140" y="108886"/>
                    </a:cubicBezTo>
                    <a:cubicBezTo>
                      <a:pt x="9140" y="107277"/>
                      <a:pt x="9140" y="106204"/>
                      <a:pt x="9677" y="104595"/>
                    </a:cubicBezTo>
                    <a:cubicBezTo>
                      <a:pt x="10213" y="102985"/>
                      <a:pt x="10749" y="101913"/>
                      <a:pt x="11822" y="100840"/>
                    </a:cubicBezTo>
                    <a:cubicBezTo>
                      <a:pt x="10749" y="101376"/>
                      <a:pt x="9677" y="101376"/>
                      <a:pt x="8604" y="101376"/>
                    </a:cubicBezTo>
                    <a:cubicBezTo>
                      <a:pt x="6458" y="100840"/>
                      <a:pt x="4313" y="99767"/>
                      <a:pt x="2704" y="98158"/>
                    </a:cubicBezTo>
                    <a:cubicBezTo>
                      <a:pt x="1631" y="97085"/>
                      <a:pt x="1094" y="96013"/>
                      <a:pt x="558" y="94403"/>
                    </a:cubicBezTo>
                    <a:cubicBezTo>
                      <a:pt x="-515" y="91185"/>
                      <a:pt x="22" y="87430"/>
                      <a:pt x="1631" y="84212"/>
                    </a:cubicBezTo>
                    <a:cubicBezTo>
                      <a:pt x="2704" y="82067"/>
                      <a:pt x="3776" y="80457"/>
                      <a:pt x="5385" y="78848"/>
                    </a:cubicBezTo>
                    <a:cubicBezTo>
                      <a:pt x="15577" y="65439"/>
                      <a:pt x="28986" y="54711"/>
                      <a:pt x="41860" y="43983"/>
                    </a:cubicBezTo>
                    <a:cubicBezTo>
                      <a:pt x="48296" y="38619"/>
                      <a:pt x="54733" y="33256"/>
                      <a:pt x="61169" y="27892"/>
                    </a:cubicBezTo>
                    <a:cubicBezTo>
                      <a:pt x="66533" y="23601"/>
                      <a:pt x="73506" y="18773"/>
                      <a:pt x="79943" y="21992"/>
                    </a:cubicBezTo>
                    <a:cubicBezTo>
                      <a:pt x="86916" y="25746"/>
                      <a:pt x="89061" y="21992"/>
                      <a:pt x="96034" y="17701"/>
                    </a:cubicBezTo>
                    <a:cubicBezTo>
                      <a:pt x="97107" y="16628"/>
                      <a:pt x="122317" y="2146"/>
                      <a:pt x="138409" y="0"/>
                    </a:cubicBezTo>
                    <a:cubicBezTo>
                      <a:pt x="138409" y="6973"/>
                      <a:pt x="140554" y="14482"/>
                      <a:pt x="142700" y="21455"/>
                    </a:cubicBezTo>
                    <a:cubicBezTo>
                      <a:pt x="147527" y="35938"/>
                      <a:pt x="152891" y="49884"/>
                      <a:pt x="158255" y="64366"/>
                    </a:cubicBezTo>
                    <a:cubicBezTo>
                      <a:pt x="158255" y="69730"/>
                      <a:pt x="160400" y="75630"/>
                      <a:pt x="162546" y="80994"/>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36" name="Freeform: Shape 443"/>
              <p:cNvSpPr/>
              <p:nvPr/>
            </p:nvSpPr>
            <p:spPr>
              <a:xfrm>
                <a:off x="10713960" y="2622240"/>
                <a:ext cx="21240" cy="24840"/>
              </a:xfrm>
              <a:custGeom>
                <a:avLst/>
                <a:gdLst/>
                <a:ahLst/>
                <a:rect l="l" t="t" r="r" b="b"/>
                <a:pathLst>
                  <a:path w="27403" h="32412">
                    <a:moveTo>
                      <a:pt x="1121" y="24036"/>
                    </a:moveTo>
                    <a:cubicBezTo>
                      <a:pt x="1657" y="25645"/>
                      <a:pt x="2730" y="27254"/>
                      <a:pt x="3803" y="28327"/>
                    </a:cubicBezTo>
                    <a:cubicBezTo>
                      <a:pt x="6484" y="31545"/>
                      <a:pt x="10776" y="33155"/>
                      <a:pt x="14530" y="32082"/>
                    </a:cubicBezTo>
                    <a:cubicBezTo>
                      <a:pt x="20430" y="31009"/>
                      <a:pt x="24722" y="24573"/>
                      <a:pt x="26331" y="18672"/>
                    </a:cubicBezTo>
                    <a:cubicBezTo>
                      <a:pt x="26867" y="17063"/>
                      <a:pt x="27404" y="14918"/>
                      <a:pt x="27404" y="13308"/>
                    </a:cubicBezTo>
                    <a:cubicBezTo>
                      <a:pt x="27404" y="11163"/>
                      <a:pt x="26331" y="9554"/>
                      <a:pt x="25794" y="7945"/>
                    </a:cubicBezTo>
                    <a:cubicBezTo>
                      <a:pt x="24722" y="5263"/>
                      <a:pt x="23112" y="3117"/>
                      <a:pt x="20967" y="1508"/>
                    </a:cubicBezTo>
                    <a:cubicBezTo>
                      <a:pt x="18285" y="-101"/>
                      <a:pt x="14530" y="-638"/>
                      <a:pt x="11848" y="972"/>
                    </a:cubicBezTo>
                    <a:cubicBezTo>
                      <a:pt x="1657" y="4726"/>
                      <a:pt x="-2098" y="14918"/>
                      <a:pt x="1121" y="24036"/>
                    </a:cubicBezTo>
                    <a:close/>
                  </a:path>
                </a:pathLst>
              </a:custGeom>
              <a:solidFill>
                <a:srgbClr val="000000"/>
              </a:solidFill>
              <a:ln w="0">
                <a:noFill/>
              </a:ln>
            </p:spPr>
            <p:style>
              <a:lnRef idx="0"/>
              <a:fillRef idx="0"/>
              <a:effectRef idx="0"/>
              <a:fontRef idx="minor"/>
            </p:style>
            <p:txBody>
              <a:bodyPr lIns="90000" rIns="90000" tIns="-21960" bIns="-21960" anchor="ctr">
                <a:noAutofit/>
              </a:bodyPr>
              <a:p>
                <a:endParaRPr b="0" lang="en-US" sz="1800" spc="-1" strike="noStrike">
                  <a:solidFill>
                    <a:srgbClr val="313c3f"/>
                  </a:solidFill>
                  <a:latin typeface="Source Sans Pro"/>
                </a:endParaRPr>
              </a:p>
            </p:txBody>
          </p:sp>
          <p:sp>
            <p:nvSpPr>
              <p:cNvPr id="2637" name="Freeform: Shape 444"/>
              <p:cNvSpPr/>
              <p:nvPr/>
            </p:nvSpPr>
            <p:spPr>
              <a:xfrm>
                <a:off x="10708920" y="2581560"/>
                <a:ext cx="13320" cy="10800"/>
              </a:xfrm>
              <a:custGeom>
                <a:avLst/>
                <a:gdLst/>
                <a:ahLst/>
                <a:rect l="l" t="t" r="r" b="b"/>
                <a:pathLst>
                  <a:path w="17164" h="13945">
                    <a:moveTo>
                      <a:pt x="7509" y="0"/>
                    </a:moveTo>
                    <a:cubicBezTo>
                      <a:pt x="9655" y="0"/>
                      <a:pt x="11800" y="1073"/>
                      <a:pt x="13946" y="2682"/>
                    </a:cubicBezTo>
                    <a:cubicBezTo>
                      <a:pt x="15555" y="4291"/>
                      <a:pt x="17164" y="5900"/>
                      <a:pt x="17164" y="5900"/>
                    </a:cubicBezTo>
                    <a:cubicBezTo>
                      <a:pt x="17164" y="5900"/>
                      <a:pt x="16628" y="7509"/>
                      <a:pt x="15019" y="9655"/>
                    </a:cubicBezTo>
                    <a:cubicBezTo>
                      <a:pt x="13410" y="11800"/>
                      <a:pt x="11264" y="13410"/>
                      <a:pt x="9119" y="13946"/>
                    </a:cubicBezTo>
                    <a:cubicBezTo>
                      <a:pt x="6437" y="13946"/>
                      <a:pt x="4291" y="12337"/>
                      <a:pt x="2682" y="10728"/>
                    </a:cubicBezTo>
                    <a:cubicBezTo>
                      <a:pt x="1073" y="9119"/>
                      <a:pt x="0" y="7509"/>
                      <a:pt x="0" y="7509"/>
                    </a:cubicBezTo>
                    <a:cubicBezTo>
                      <a:pt x="0" y="7509"/>
                      <a:pt x="1073" y="5900"/>
                      <a:pt x="2682" y="4291"/>
                    </a:cubicBezTo>
                    <a:cubicBezTo>
                      <a:pt x="3218" y="2146"/>
                      <a:pt x="4827" y="0"/>
                      <a:pt x="7509" y="0"/>
                    </a:cubicBezTo>
                    <a:close/>
                  </a:path>
                </a:pathLst>
              </a:custGeom>
              <a:solidFill>
                <a:srgbClr val="202020"/>
              </a:solidFill>
              <a:ln w="0">
                <a:noFill/>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2638" name="Freeform: Shape 445"/>
              <p:cNvSpPr/>
              <p:nvPr/>
            </p:nvSpPr>
            <p:spPr>
              <a:xfrm>
                <a:off x="10708200" y="2630520"/>
                <a:ext cx="16920" cy="10440"/>
              </a:xfrm>
              <a:custGeom>
                <a:avLst/>
                <a:gdLst/>
                <a:ahLst/>
                <a:rect l="l" t="t" r="r" b="b"/>
                <a:pathLst>
                  <a:path w="21991" h="13682">
                    <a:moveTo>
                      <a:pt x="9655" y="137"/>
                    </a:moveTo>
                    <a:cubicBezTo>
                      <a:pt x="12873" y="-400"/>
                      <a:pt x="16092" y="673"/>
                      <a:pt x="19310" y="2819"/>
                    </a:cubicBezTo>
                    <a:cubicBezTo>
                      <a:pt x="20919" y="3891"/>
                      <a:pt x="21455" y="5501"/>
                      <a:pt x="21992" y="6037"/>
                    </a:cubicBezTo>
                    <a:cubicBezTo>
                      <a:pt x="21992" y="7110"/>
                      <a:pt x="21992" y="7646"/>
                      <a:pt x="21992" y="7646"/>
                    </a:cubicBezTo>
                    <a:cubicBezTo>
                      <a:pt x="21992" y="7646"/>
                      <a:pt x="21455" y="7646"/>
                      <a:pt x="20919" y="7646"/>
                    </a:cubicBezTo>
                    <a:cubicBezTo>
                      <a:pt x="20383" y="7646"/>
                      <a:pt x="19310" y="8719"/>
                      <a:pt x="18773" y="9255"/>
                    </a:cubicBezTo>
                    <a:cubicBezTo>
                      <a:pt x="17701" y="10864"/>
                      <a:pt x="15019" y="13010"/>
                      <a:pt x="12337" y="13546"/>
                    </a:cubicBezTo>
                    <a:cubicBezTo>
                      <a:pt x="9118" y="14083"/>
                      <a:pt x="5364" y="13010"/>
                      <a:pt x="3218" y="10864"/>
                    </a:cubicBezTo>
                    <a:cubicBezTo>
                      <a:pt x="1073" y="9255"/>
                      <a:pt x="0" y="7110"/>
                      <a:pt x="0" y="7110"/>
                    </a:cubicBezTo>
                    <a:cubicBezTo>
                      <a:pt x="0" y="7110"/>
                      <a:pt x="1609" y="6037"/>
                      <a:pt x="3755" y="4428"/>
                    </a:cubicBezTo>
                    <a:cubicBezTo>
                      <a:pt x="4827" y="2819"/>
                      <a:pt x="6437" y="673"/>
                      <a:pt x="9655" y="137"/>
                    </a:cubicBezTo>
                    <a:close/>
                  </a:path>
                </a:pathLst>
              </a:custGeom>
              <a:solidFill>
                <a:srgbClr val="202020"/>
              </a:solidFill>
              <a:ln w="0">
                <a:noFill/>
              </a:ln>
            </p:spPr>
            <p:style>
              <a:lnRef idx="0"/>
              <a:fillRef idx="0"/>
              <a:effectRef idx="0"/>
              <a:fontRef idx="minor"/>
            </p:style>
            <p:txBody>
              <a:bodyPr lIns="90000" rIns="90000" tIns="-36360" bIns="-36360" anchor="ctr">
                <a:noAutofit/>
              </a:bodyPr>
              <a:p>
                <a:endParaRPr b="0" lang="en-US" sz="1800" spc="-1" strike="noStrike">
                  <a:solidFill>
                    <a:srgbClr val="313c3f"/>
                  </a:solidFill>
                  <a:latin typeface="Source Sans Pro"/>
                </a:endParaRPr>
              </a:p>
            </p:txBody>
          </p:sp>
          <p:sp>
            <p:nvSpPr>
              <p:cNvPr id="2639" name="Freeform: Shape 446"/>
              <p:cNvSpPr/>
              <p:nvPr/>
            </p:nvSpPr>
            <p:spPr>
              <a:xfrm>
                <a:off x="10630080" y="2733840"/>
                <a:ext cx="301320" cy="145800"/>
              </a:xfrm>
              <a:custGeom>
                <a:avLst/>
                <a:gdLst/>
                <a:ahLst/>
                <a:rect l="l" t="t" r="r" b="b"/>
                <a:pathLst>
                  <a:path w="387808" h="187734">
                    <a:moveTo>
                      <a:pt x="387805" y="168424"/>
                    </a:moveTo>
                    <a:cubicBezTo>
                      <a:pt x="372250" y="172179"/>
                      <a:pt x="356695" y="175397"/>
                      <a:pt x="340603" y="178079"/>
                    </a:cubicBezTo>
                    <a:cubicBezTo>
                      <a:pt x="332021" y="179688"/>
                      <a:pt x="323976" y="180761"/>
                      <a:pt x="315393" y="181834"/>
                    </a:cubicBezTo>
                    <a:cubicBezTo>
                      <a:pt x="303593" y="183443"/>
                      <a:pt x="291793" y="184516"/>
                      <a:pt x="279992" y="185589"/>
                    </a:cubicBezTo>
                    <a:cubicBezTo>
                      <a:pt x="276237" y="186125"/>
                      <a:pt x="273019" y="186125"/>
                      <a:pt x="269265" y="186125"/>
                    </a:cubicBezTo>
                    <a:cubicBezTo>
                      <a:pt x="267655" y="186125"/>
                      <a:pt x="265510" y="186125"/>
                      <a:pt x="263901" y="186661"/>
                    </a:cubicBezTo>
                    <a:cubicBezTo>
                      <a:pt x="254782" y="187198"/>
                      <a:pt x="245664" y="187734"/>
                      <a:pt x="236009" y="187734"/>
                    </a:cubicBezTo>
                    <a:cubicBezTo>
                      <a:pt x="234936" y="187734"/>
                      <a:pt x="234400" y="187734"/>
                      <a:pt x="233327" y="187734"/>
                    </a:cubicBezTo>
                    <a:cubicBezTo>
                      <a:pt x="230645" y="187734"/>
                      <a:pt x="227427" y="187734"/>
                      <a:pt x="224208" y="187734"/>
                    </a:cubicBezTo>
                    <a:cubicBezTo>
                      <a:pt x="190416" y="187734"/>
                      <a:pt x="157160" y="185052"/>
                      <a:pt x="124441" y="180225"/>
                    </a:cubicBezTo>
                    <a:cubicBezTo>
                      <a:pt x="118541" y="179152"/>
                      <a:pt x="112104" y="178616"/>
                      <a:pt x="106204" y="177543"/>
                    </a:cubicBezTo>
                    <a:cubicBezTo>
                      <a:pt x="69730" y="171106"/>
                      <a:pt x="34329" y="161988"/>
                      <a:pt x="0" y="149651"/>
                    </a:cubicBezTo>
                    <a:cubicBezTo>
                      <a:pt x="1073" y="109959"/>
                      <a:pt x="1609" y="69193"/>
                      <a:pt x="12337" y="32183"/>
                    </a:cubicBezTo>
                    <a:cubicBezTo>
                      <a:pt x="12337" y="32183"/>
                      <a:pt x="12337" y="32183"/>
                      <a:pt x="12337" y="32183"/>
                    </a:cubicBezTo>
                    <a:cubicBezTo>
                      <a:pt x="13946" y="33792"/>
                      <a:pt x="16092" y="34865"/>
                      <a:pt x="18237" y="35401"/>
                    </a:cubicBezTo>
                    <a:cubicBezTo>
                      <a:pt x="19310" y="35401"/>
                      <a:pt x="20383" y="35401"/>
                      <a:pt x="21455" y="34865"/>
                    </a:cubicBezTo>
                    <a:cubicBezTo>
                      <a:pt x="20383" y="35938"/>
                      <a:pt x="19846" y="37010"/>
                      <a:pt x="19310" y="38620"/>
                    </a:cubicBezTo>
                    <a:cubicBezTo>
                      <a:pt x="18773" y="39692"/>
                      <a:pt x="18773" y="41302"/>
                      <a:pt x="18773" y="42911"/>
                    </a:cubicBezTo>
                    <a:cubicBezTo>
                      <a:pt x="18773" y="45593"/>
                      <a:pt x="19310" y="48811"/>
                      <a:pt x="21455" y="50420"/>
                    </a:cubicBezTo>
                    <a:cubicBezTo>
                      <a:pt x="23064" y="51493"/>
                      <a:pt x="24674" y="51493"/>
                      <a:pt x="26819" y="50956"/>
                    </a:cubicBezTo>
                    <a:cubicBezTo>
                      <a:pt x="27892" y="50956"/>
                      <a:pt x="28965" y="50956"/>
                      <a:pt x="30038" y="50420"/>
                    </a:cubicBezTo>
                    <a:cubicBezTo>
                      <a:pt x="32719" y="50420"/>
                      <a:pt x="35401" y="49884"/>
                      <a:pt x="37547" y="48811"/>
                    </a:cubicBezTo>
                    <a:cubicBezTo>
                      <a:pt x="37547" y="48811"/>
                      <a:pt x="37547" y="48811"/>
                      <a:pt x="37010" y="48811"/>
                    </a:cubicBezTo>
                    <a:cubicBezTo>
                      <a:pt x="37010" y="48811"/>
                      <a:pt x="37010" y="48811"/>
                      <a:pt x="37010" y="48811"/>
                    </a:cubicBezTo>
                    <a:cubicBezTo>
                      <a:pt x="35401" y="50420"/>
                      <a:pt x="34329" y="52566"/>
                      <a:pt x="34329" y="54711"/>
                    </a:cubicBezTo>
                    <a:cubicBezTo>
                      <a:pt x="34865" y="57393"/>
                      <a:pt x="37010" y="60075"/>
                      <a:pt x="40229" y="60611"/>
                    </a:cubicBezTo>
                    <a:cubicBezTo>
                      <a:pt x="41302" y="60611"/>
                      <a:pt x="41838" y="60611"/>
                      <a:pt x="42911" y="60611"/>
                    </a:cubicBezTo>
                    <a:cubicBezTo>
                      <a:pt x="46665" y="60611"/>
                      <a:pt x="50956" y="60075"/>
                      <a:pt x="54711" y="59539"/>
                    </a:cubicBezTo>
                    <a:cubicBezTo>
                      <a:pt x="55784" y="59539"/>
                      <a:pt x="57393" y="59002"/>
                      <a:pt x="58466" y="59002"/>
                    </a:cubicBezTo>
                    <a:cubicBezTo>
                      <a:pt x="56857" y="59539"/>
                      <a:pt x="55784" y="61148"/>
                      <a:pt x="55784" y="62757"/>
                    </a:cubicBezTo>
                    <a:cubicBezTo>
                      <a:pt x="55784" y="64366"/>
                      <a:pt x="56320" y="66511"/>
                      <a:pt x="57929" y="67048"/>
                    </a:cubicBezTo>
                    <a:cubicBezTo>
                      <a:pt x="59539" y="67584"/>
                      <a:pt x="61148" y="67048"/>
                      <a:pt x="62757" y="67048"/>
                    </a:cubicBezTo>
                    <a:cubicBezTo>
                      <a:pt x="93867" y="60075"/>
                      <a:pt x="124441" y="48274"/>
                      <a:pt x="152333" y="33256"/>
                    </a:cubicBezTo>
                    <a:cubicBezTo>
                      <a:pt x="157160" y="30574"/>
                      <a:pt x="161988" y="27892"/>
                      <a:pt x="165742" y="24137"/>
                    </a:cubicBezTo>
                    <a:cubicBezTo>
                      <a:pt x="166279" y="23601"/>
                      <a:pt x="166815" y="23065"/>
                      <a:pt x="166815" y="23065"/>
                    </a:cubicBezTo>
                    <a:cubicBezTo>
                      <a:pt x="167352" y="22528"/>
                      <a:pt x="167888" y="21992"/>
                      <a:pt x="168424" y="20919"/>
                    </a:cubicBezTo>
                    <a:cubicBezTo>
                      <a:pt x="168961" y="20383"/>
                      <a:pt x="169497" y="19846"/>
                      <a:pt x="170034" y="18773"/>
                    </a:cubicBezTo>
                    <a:cubicBezTo>
                      <a:pt x="170570" y="18237"/>
                      <a:pt x="170570" y="17701"/>
                      <a:pt x="171106" y="17164"/>
                    </a:cubicBezTo>
                    <a:cubicBezTo>
                      <a:pt x="171643" y="16091"/>
                      <a:pt x="172179" y="15555"/>
                      <a:pt x="172716" y="14482"/>
                    </a:cubicBezTo>
                    <a:cubicBezTo>
                      <a:pt x="177543" y="26819"/>
                      <a:pt x="182370" y="39156"/>
                      <a:pt x="187734" y="51493"/>
                    </a:cubicBezTo>
                    <a:cubicBezTo>
                      <a:pt x="203289" y="42911"/>
                      <a:pt x="218844" y="34328"/>
                      <a:pt x="234400" y="25746"/>
                    </a:cubicBezTo>
                    <a:cubicBezTo>
                      <a:pt x="236545" y="25746"/>
                      <a:pt x="238691" y="25746"/>
                      <a:pt x="240836" y="25210"/>
                    </a:cubicBezTo>
                    <a:cubicBezTo>
                      <a:pt x="244054" y="25210"/>
                      <a:pt x="247273" y="24674"/>
                      <a:pt x="250491" y="24674"/>
                    </a:cubicBezTo>
                    <a:cubicBezTo>
                      <a:pt x="252637" y="24674"/>
                      <a:pt x="254246" y="24137"/>
                      <a:pt x="256391" y="24137"/>
                    </a:cubicBezTo>
                    <a:cubicBezTo>
                      <a:pt x="256391" y="24137"/>
                      <a:pt x="256928" y="24137"/>
                      <a:pt x="256928" y="24137"/>
                    </a:cubicBezTo>
                    <a:cubicBezTo>
                      <a:pt x="260146" y="23601"/>
                      <a:pt x="263364" y="23601"/>
                      <a:pt x="266046" y="23065"/>
                    </a:cubicBezTo>
                    <a:cubicBezTo>
                      <a:pt x="268728" y="22528"/>
                      <a:pt x="271946" y="22528"/>
                      <a:pt x="274628" y="21992"/>
                    </a:cubicBezTo>
                    <a:cubicBezTo>
                      <a:pt x="277847" y="21455"/>
                      <a:pt x="281065" y="21455"/>
                      <a:pt x="284283" y="20919"/>
                    </a:cubicBezTo>
                    <a:cubicBezTo>
                      <a:pt x="288038" y="20383"/>
                      <a:pt x="291256" y="19846"/>
                      <a:pt x="295011" y="19310"/>
                    </a:cubicBezTo>
                    <a:cubicBezTo>
                      <a:pt x="296084" y="19310"/>
                      <a:pt x="296620" y="19310"/>
                      <a:pt x="297693" y="18773"/>
                    </a:cubicBezTo>
                    <a:cubicBezTo>
                      <a:pt x="301448" y="18237"/>
                      <a:pt x="305202" y="17701"/>
                      <a:pt x="308957" y="17164"/>
                    </a:cubicBezTo>
                    <a:cubicBezTo>
                      <a:pt x="312711" y="16628"/>
                      <a:pt x="315930" y="16091"/>
                      <a:pt x="319685" y="15555"/>
                    </a:cubicBezTo>
                    <a:cubicBezTo>
                      <a:pt x="324512" y="15019"/>
                      <a:pt x="328803" y="13946"/>
                      <a:pt x="333631" y="13410"/>
                    </a:cubicBezTo>
                    <a:cubicBezTo>
                      <a:pt x="341676" y="12337"/>
                      <a:pt x="349722" y="10728"/>
                      <a:pt x="357768" y="8046"/>
                    </a:cubicBezTo>
                    <a:cubicBezTo>
                      <a:pt x="359377" y="7509"/>
                      <a:pt x="360450" y="6973"/>
                      <a:pt x="362059" y="6437"/>
                    </a:cubicBezTo>
                    <a:cubicBezTo>
                      <a:pt x="362595" y="6437"/>
                      <a:pt x="363132" y="5900"/>
                      <a:pt x="363132" y="5900"/>
                    </a:cubicBezTo>
                    <a:cubicBezTo>
                      <a:pt x="363668" y="5900"/>
                      <a:pt x="364204" y="5364"/>
                      <a:pt x="364741" y="5364"/>
                    </a:cubicBezTo>
                    <a:cubicBezTo>
                      <a:pt x="365277" y="5364"/>
                      <a:pt x="365814" y="4827"/>
                      <a:pt x="366350" y="4827"/>
                    </a:cubicBezTo>
                    <a:cubicBezTo>
                      <a:pt x="366886" y="4827"/>
                      <a:pt x="367423" y="4291"/>
                      <a:pt x="367959" y="4291"/>
                    </a:cubicBezTo>
                    <a:cubicBezTo>
                      <a:pt x="368495" y="4291"/>
                      <a:pt x="369032" y="3755"/>
                      <a:pt x="369568" y="3755"/>
                    </a:cubicBezTo>
                    <a:cubicBezTo>
                      <a:pt x="370105" y="3218"/>
                      <a:pt x="370641" y="3218"/>
                      <a:pt x="371714" y="2682"/>
                    </a:cubicBezTo>
                    <a:cubicBezTo>
                      <a:pt x="372250" y="2146"/>
                      <a:pt x="373323" y="1609"/>
                      <a:pt x="373859" y="1073"/>
                    </a:cubicBezTo>
                    <a:cubicBezTo>
                      <a:pt x="374396" y="536"/>
                      <a:pt x="374932" y="536"/>
                      <a:pt x="375468" y="0"/>
                    </a:cubicBezTo>
                    <a:cubicBezTo>
                      <a:pt x="388342" y="62757"/>
                      <a:pt x="387805" y="108349"/>
                      <a:pt x="387805" y="16842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640" name="Graphic 120" descr=""/>
              <p:cNvPicPr/>
              <p:nvPr/>
            </p:nvPicPr>
            <p:blipFill>
              <a:blip r:embed="rId16"/>
              <a:stretch/>
            </p:blipFill>
            <p:spPr>
              <a:xfrm>
                <a:off x="10625040" y="2670120"/>
                <a:ext cx="97560" cy="115560"/>
              </a:xfrm>
              <a:prstGeom prst="rect">
                <a:avLst/>
              </a:prstGeom>
              <a:ln w="0">
                <a:noFill/>
              </a:ln>
            </p:spPr>
          </p:pic>
          <p:sp>
            <p:nvSpPr>
              <p:cNvPr id="2641" name="Freeform: Shape 448"/>
              <p:cNvSpPr/>
              <p:nvPr/>
            </p:nvSpPr>
            <p:spPr>
              <a:xfrm>
                <a:off x="10639800" y="2750040"/>
                <a:ext cx="8640" cy="9360"/>
              </a:xfrm>
              <a:custGeom>
                <a:avLst/>
                <a:gdLst/>
                <a:ahLst/>
                <a:rect l="l" t="t" r="r" b="b"/>
                <a:pathLst>
                  <a:path w="11502" h="12300">
                    <a:moveTo>
                      <a:pt x="11264" y="7863"/>
                    </a:moveTo>
                    <a:cubicBezTo>
                      <a:pt x="11264" y="7863"/>
                      <a:pt x="11800" y="7863"/>
                      <a:pt x="11264" y="7863"/>
                    </a:cubicBezTo>
                    <a:cubicBezTo>
                      <a:pt x="11800" y="8399"/>
                      <a:pt x="11264" y="8399"/>
                      <a:pt x="11264" y="8399"/>
                    </a:cubicBezTo>
                    <a:cubicBezTo>
                      <a:pt x="10191" y="9472"/>
                      <a:pt x="9119" y="10545"/>
                      <a:pt x="7509" y="11081"/>
                    </a:cubicBezTo>
                    <a:cubicBezTo>
                      <a:pt x="6973" y="11618"/>
                      <a:pt x="6437" y="11618"/>
                      <a:pt x="6437" y="12154"/>
                    </a:cubicBezTo>
                    <a:cubicBezTo>
                      <a:pt x="5364" y="12691"/>
                      <a:pt x="4291" y="11618"/>
                      <a:pt x="3755" y="11081"/>
                    </a:cubicBezTo>
                    <a:cubicBezTo>
                      <a:pt x="2682" y="10009"/>
                      <a:pt x="1609" y="8936"/>
                      <a:pt x="536" y="7327"/>
                    </a:cubicBezTo>
                    <a:cubicBezTo>
                      <a:pt x="536" y="6790"/>
                      <a:pt x="0" y="6254"/>
                      <a:pt x="0" y="6254"/>
                    </a:cubicBezTo>
                    <a:cubicBezTo>
                      <a:pt x="0" y="5181"/>
                      <a:pt x="536" y="4645"/>
                      <a:pt x="1073" y="3572"/>
                    </a:cubicBezTo>
                    <a:cubicBezTo>
                      <a:pt x="1609" y="2499"/>
                      <a:pt x="2682" y="890"/>
                      <a:pt x="3755" y="354"/>
                    </a:cubicBezTo>
                    <a:cubicBezTo>
                      <a:pt x="5364" y="-719"/>
                      <a:pt x="5364" y="890"/>
                      <a:pt x="5900" y="1963"/>
                    </a:cubicBezTo>
                    <a:cubicBezTo>
                      <a:pt x="7509" y="4108"/>
                      <a:pt x="9119" y="6254"/>
                      <a:pt x="11264" y="7863"/>
                    </a:cubicBezTo>
                    <a:close/>
                  </a:path>
                </a:pathLst>
              </a:custGeom>
              <a:solidFill>
                <a:srgbClr val="ff838c"/>
              </a:solidFill>
              <a:ln w="0">
                <a:noFill/>
              </a:ln>
            </p:spPr>
            <p:style>
              <a:lnRef idx="0"/>
              <a:fillRef idx="0"/>
              <a:effectRef idx="0"/>
              <a:fontRef idx="minor"/>
            </p:style>
            <p:txBody>
              <a:bodyPr lIns="90000" rIns="90000" tIns="-37440" bIns="-37440" anchor="ctr">
                <a:noAutofit/>
              </a:bodyPr>
              <a:p>
                <a:endParaRPr b="0" lang="en-US" sz="1800" spc="-1" strike="noStrike">
                  <a:solidFill>
                    <a:srgbClr val="313c3f"/>
                  </a:solidFill>
                  <a:latin typeface="Source Sans Pro"/>
                </a:endParaRPr>
              </a:p>
            </p:txBody>
          </p:sp>
          <p:sp>
            <p:nvSpPr>
              <p:cNvPr id="2642" name="Freeform: Shape 449"/>
              <p:cNvSpPr/>
              <p:nvPr/>
            </p:nvSpPr>
            <p:spPr>
              <a:xfrm>
                <a:off x="10646640" y="2763000"/>
                <a:ext cx="8640" cy="9000"/>
              </a:xfrm>
              <a:custGeom>
                <a:avLst/>
                <a:gdLst/>
                <a:ahLst/>
                <a:rect l="l" t="t" r="r" b="b"/>
                <a:pathLst>
                  <a:path w="11264" h="11800">
                    <a:moveTo>
                      <a:pt x="11264" y="8046"/>
                    </a:moveTo>
                    <a:cubicBezTo>
                      <a:pt x="10191" y="8582"/>
                      <a:pt x="9655" y="10191"/>
                      <a:pt x="8582" y="10728"/>
                    </a:cubicBezTo>
                    <a:cubicBezTo>
                      <a:pt x="7509" y="11264"/>
                      <a:pt x="6437" y="11800"/>
                      <a:pt x="5364" y="11800"/>
                    </a:cubicBezTo>
                    <a:cubicBezTo>
                      <a:pt x="4291" y="11800"/>
                      <a:pt x="2682" y="11800"/>
                      <a:pt x="2146" y="10728"/>
                    </a:cubicBezTo>
                    <a:cubicBezTo>
                      <a:pt x="536" y="9655"/>
                      <a:pt x="536" y="8046"/>
                      <a:pt x="0" y="5900"/>
                    </a:cubicBezTo>
                    <a:cubicBezTo>
                      <a:pt x="0" y="5364"/>
                      <a:pt x="0" y="5364"/>
                      <a:pt x="0" y="4827"/>
                    </a:cubicBezTo>
                    <a:cubicBezTo>
                      <a:pt x="0" y="4827"/>
                      <a:pt x="536" y="4291"/>
                      <a:pt x="536" y="4291"/>
                    </a:cubicBezTo>
                    <a:cubicBezTo>
                      <a:pt x="2146" y="2682"/>
                      <a:pt x="3755" y="1073"/>
                      <a:pt x="5364" y="0"/>
                    </a:cubicBezTo>
                    <a:cubicBezTo>
                      <a:pt x="5900" y="3218"/>
                      <a:pt x="7509" y="6437"/>
                      <a:pt x="11264" y="8046"/>
                    </a:cubicBezTo>
                    <a:close/>
                  </a:path>
                </a:pathLst>
              </a:custGeom>
              <a:solidFill>
                <a:srgbClr val="ff838c"/>
              </a:solidFill>
              <a:ln w="0">
                <a:noFill/>
              </a:ln>
            </p:spPr>
            <p:style>
              <a:lnRef idx="0"/>
              <a:fillRef idx="0"/>
              <a:effectRef idx="0"/>
              <a:fontRef idx="minor"/>
            </p:style>
            <p:txBody>
              <a:bodyPr lIns="90000" rIns="90000" tIns="-37800" bIns="-37800" anchor="ctr">
                <a:noAutofit/>
              </a:bodyPr>
              <a:p>
                <a:endParaRPr b="0" lang="en-US" sz="1800" spc="-1" strike="noStrike">
                  <a:solidFill>
                    <a:srgbClr val="313c3f"/>
                  </a:solidFill>
                  <a:latin typeface="Source Sans Pro"/>
                </a:endParaRPr>
              </a:p>
            </p:txBody>
          </p:sp>
          <p:sp>
            <p:nvSpPr>
              <p:cNvPr id="2643" name="Freeform: Shape 450"/>
              <p:cNvSpPr/>
              <p:nvPr/>
            </p:nvSpPr>
            <p:spPr>
              <a:xfrm>
                <a:off x="10660680" y="2771280"/>
                <a:ext cx="9720" cy="7920"/>
              </a:xfrm>
              <a:custGeom>
                <a:avLst/>
                <a:gdLst/>
                <a:ahLst/>
                <a:rect l="l" t="t" r="r" b="b"/>
                <a:pathLst>
                  <a:path w="12768" h="10543">
                    <a:moveTo>
                      <a:pt x="12769" y="8582"/>
                    </a:moveTo>
                    <a:cubicBezTo>
                      <a:pt x="11159" y="9119"/>
                      <a:pt x="9014" y="9655"/>
                      <a:pt x="7405" y="10191"/>
                    </a:cubicBezTo>
                    <a:cubicBezTo>
                      <a:pt x="5796" y="10728"/>
                      <a:pt x="3650" y="10728"/>
                      <a:pt x="2041" y="9655"/>
                    </a:cubicBezTo>
                    <a:cubicBezTo>
                      <a:pt x="432" y="8582"/>
                      <a:pt x="-641" y="6437"/>
                      <a:pt x="432" y="4827"/>
                    </a:cubicBezTo>
                    <a:cubicBezTo>
                      <a:pt x="968" y="3755"/>
                      <a:pt x="1505" y="3218"/>
                      <a:pt x="2577" y="2682"/>
                    </a:cubicBezTo>
                    <a:cubicBezTo>
                      <a:pt x="3650" y="2146"/>
                      <a:pt x="5259" y="0"/>
                      <a:pt x="6332" y="0"/>
                    </a:cubicBezTo>
                    <a:cubicBezTo>
                      <a:pt x="7405" y="0"/>
                      <a:pt x="7941" y="2146"/>
                      <a:pt x="7941" y="2682"/>
                    </a:cubicBezTo>
                    <a:cubicBezTo>
                      <a:pt x="8478" y="3755"/>
                      <a:pt x="9014" y="4827"/>
                      <a:pt x="10087" y="5900"/>
                    </a:cubicBezTo>
                    <a:cubicBezTo>
                      <a:pt x="10087" y="6437"/>
                      <a:pt x="12232" y="8582"/>
                      <a:pt x="12769" y="8582"/>
                    </a:cubicBezTo>
                    <a:close/>
                  </a:path>
                </a:pathLst>
              </a:custGeom>
              <a:solidFill>
                <a:srgbClr val="ff838c"/>
              </a:solidFill>
              <a:ln w="0">
                <a:noFill/>
              </a:ln>
            </p:spPr>
            <p:style>
              <a:lnRef idx="0"/>
              <a:fillRef idx="0"/>
              <a:effectRef idx="0"/>
              <a:fontRef idx="minor"/>
            </p:style>
            <p:txBody>
              <a:bodyPr lIns="90000" rIns="90000" tIns="-38880" bIns="-38880" anchor="ctr">
                <a:noAutofit/>
              </a:bodyPr>
              <a:p>
                <a:endParaRPr b="0" lang="en-US" sz="1800" spc="-1" strike="noStrike">
                  <a:solidFill>
                    <a:srgbClr val="313c3f"/>
                  </a:solidFill>
                  <a:latin typeface="Source Sans Pro"/>
                </a:endParaRPr>
              </a:p>
            </p:txBody>
          </p:sp>
          <p:sp>
            <p:nvSpPr>
              <p:cNvPr id="2644" name="Freeform: Shape 451"/>
              <p:cNvSpPr/>
              <p:nvPr/>
            </p:nvSpPr>
            <p:spPr>
              <a:xfrm>
                <a:off x="10675800" y="2781000"/>
                <a:ext cx="4680" cy="3600"/>
              </a:xfrm>
              <a:custGeom>
                <a:avLst/>
                <a:gdLst/>
                <a:ahLst/>
                <a:rect l="l" t="t" r="r" b="b"/>
                <a:pathLst>
                  <a:path w="6253" h="5065">
                    <a:moveTo>
                      <a:pt x="4291" y="1073"/>
                    </a:moveTo>
                    <a:cubicBezTo>
                      <a:pt x="3755" y="536"/>
                      <a:pt x="3755" y="0"/>
                      <a:pt x="2682" y="0"/>
                    </a:cubicBezTo>
                    <a:cubicBezTo>
                      <a:pt x="2146" y="0"/>
                      <a:pt x="2146" y="536"/>
                      <a:pt x="1609" y="536"/>
                    </a:cubicBezTo>
                    <a:cubicBezTo>
                      <a:pt x="1073" y="1073"/>
                      <a:pt x="0" y="1609"/>
                      <a:pt x="0" y="2146"/>
                    </a:cubicBezTo>
                    <a:cubicBezTo>
                      <a:pt x="0" y="2682"/>
                      <a:pt x="0" y="2682"/>
                      <a:pt x="0" y="3218"/>
                    </a:cubicBezTo>
                    <a:cubicBezTo>
                      <a:pt x="0" y="3755"/>
                      <a:pt x="536" y="4291"/>
                      <a:pt x="1073" y="4827"/>
                    </a:cubicBezTo>
                    <a:cubicBezTo>
                      <a:pt x="2146" y="5364"/>
                      <a:pt x="3218" y="4827"/>
                      <a:pt x="4291" y="4827"/>
                    </a:cubicBezTo>
                    <a:cubicBezTo>
                      <a:pt x="5364" y="4291"/>
                      <a:pt x="6973" y="4291"/>
                      <a:pt x="5900" y="3218"/>
                    </a:cubicBezTo>
                    <a:cubicBezTo>
                      <a:pt x="5900" y="2682"/>
                      <a:pt x="4827" y="2146"/>
                      <a:pt x="4291" y="1073"/>
                    </a:cubicBezTo>
                    <a:close/>
                  </a:path>
                </a:pathLst>
              </a:custGeom>
              <a:solidFill>
                <a:srgbClr val="ff838c"/>
              </a:solidFill>
              <a:ln w="0">
                <a:noFill/>
              </a:ln>
            </p:spPr>
            <p:style>
              <a:lnRef idx="0"/>
              <a:fillRef idx="0"/>
              <a:effectRef idx="0"/>
              <a:fontRef idx="minor"/>
            </p:style>
            <p:txBody>
              <a:bodyPr lIns="90000" rIns="90000" tIns="-43200" bIns="-43200" anchor="ctr">
                <a:noAutofit/>
              </a:bodyPr>
              <a:p>
                <a:endParaRPr b="0" lang="en-US" sz="1800" spc="-1" strike="noStrike">
                  <a:solidFill>
                    <a:srgbClr val="313c3f"/>
                  </a:solidFill>
                  <a:latin typeface="Source Sans Pro"/>
                </a:endParaRPr>
              </a:p>
            </p:txBody>
          </p:sp>
          <p:sp>
            <p:nvSpPr>
              <p:cNvPr id="2645" name="Freeform: Shape 452"/>
              <p:cNvSpPr/>
              <p:nvPr/>
            </p:nvSpPr>
            <p:spPr>
              <a:xfrm>
                <a:off x="10706040" y="2685240"/>
                <a:ext cx="11520" cy="6120"/>
              </a:xfrm>
              <a:custGeom>
                <a:avLst/>
                <a:gdLst/>
                <a:ahLst/>
                <a:rect l="l" t="t" r="r" b="b"/>
                <a:pathLst>
                  <a:path w="15018" h="8045">
                    <a:moveTo>
                      <a:pt x="15019" y="6437"/>
                    </a:moveTo>
                    <a:cubicBezTo>
                      <a:pt x="15019" y="6437"/>
                      <a:pt x="14482" y="6437"/>
                      <a:pt x="14482" y="6973"/>
                    </a:cubicBezTo>
                    <a:cubicBezTo>
                      <a:pt x="13410" y="7509"/>
                      <a:pt x="12337" y="8046"/>
                      <a:pt x="10728" y="8046"/>
                    </a:cubicBezTo>
                    <a:cubicBezTo>
                      <a:pt x="8582" y="8046"/>
                      <a:pt x="5900" y="7509"/>
                      <a:pt x="4291" y="5900"/>
                    </a:cubicBezTo>
                    <a:cubicBezTo>
                      <a:pt x="2682" y="4291"/>
                      <a:pt x="1073" y="2682"/>
                      <a:pt x="0" y="1073"/>
                    </a:cubicBezTo>
                    <a:cubicBezTo>
                      <a:pt x="2682" y="536"/>
                      <a:pt x="5900" y="536"/>
                      <a:pt x="8582" y="0"/>
                    </a:cubicBezTo>
                    <a:cubicBezTo>
                      <a:pt x="10191" y="1073"/>
                      <a:pt x="11264" y="2682"/>
                      <a:pt x="12873" y="3755"/>
                    </a:cubicBezTo>
                    <a:cubicBezTo>
                      <a:pt x="13410" y="4827"/>
                      <a:pt x="14482" y="5364"/>
                      <a:pt x="15019" y="6437"/>
                    </a:cubicBezTo>
                    <a:close/>
                  </a:path>
                </a:pathLst>
              </a:custGeom>
              <a:solidFill>
                <a:srgbClr val="ff838c"/>
              </a:solidFill>
              <a:ln w="0">
                <a:noFill/>
              </a:ln>
            </p:spPr>
            <p:style>
              <a:lnRef idx="0"/>
              <a:fillRef idx="0"/>
              <a:effectRef idx="0"/>
              <a:fontRef idx="minor"/>
            </p:style>
            <p:txBody>
              <a:bodyPr lIns="90000" rIns="90000" tIns="-40680" bIns="-40680" anchor="ctr">
                <a:noAutofit/>
              </a:bodyPr>
              <a:p>
                <a:endParaRPr b="0" lang="en-US" sz="1800" spc="-1" strike="noStrike">
                  <a:solidFill>
                    <a:srgbClr val="313c3f"/>
                  </a:solidFill>
                  <a:latin typeface="Source Sans Pro"/>
                </a:endParaRPr>
              </a:p>
            </p:txBody>
          </p:sp>
          <p:sp>
            <p:nvSpPr>
              <p:cNvPr id="2646" name="Freeform: Shape 453"/>
              <p:cNvSpPr/>
              <p:nvPr/>
            </p:nvSpPr>
            <p:spPr>
              <a:xfrm>
                <a:off x="10745640" y="2449440"/>
                <a:ext cx="203400" cy="275760"/>
              </a:xfrm>
              <a:custGeom>
                <a:avLst/>
                <a:gdLst/>
                <a:ahLst/>
                <a:rect l="l" t="t" r="r" b="b"/>
                <a:pathLst>
                  <a:path w="261824" h="355085">
                    <a:moveTo>
                      <a:pt x="261824" y="194171"/>
                    </a:moveTo>
                    <a:cubicBezTo>
                      <a:pt x="243051" y="187198"/>
                      <a:pt x="222132" y="194707"/>
                      <a:pt x="204968" y="203826"/>
                    </a:cubicBezTo>
                    <a:cubicBezTo>
                      <a:pt x="158302" y="228499"/>
                      <a:pt x="119146" y="265510"/>
                      <a:pt x="70872" y="286965"/>
                    </a:cubicBezTo>
                    <a:cubicBezTo>
                      <a:pt x="59608" y="291792"/>
                      <a:pt x="29570" y="305738"/>
                      <a:pt x="20452" y="313784"/>
                    </a:cubicBezTo>
                    <a:cubicBezTo>
                      <a:pt x="6506" y="326121"/>
                      <a:pt x="15624" y="335776"/>
                      <a:pt x="16697" y="355086"/>
                    </a:cubicBezTo>
                    <a:cubicBezTo>
                      <a:pt x="14015" y="347576"/>
                      <a:pt x="11333" y="340067"/>
                      <a:pt x="8651" y="332558"/>
                    </a:cubicBezTo>
                    <a:cubicBezTo>
                      <a:pt x="7042" y="328803"/>
                      <a:pt x="5969" y="324512"/>
                      <a:pt x="4360" y="320757"/>
                    </a:cubicBezTo>
                    <a:cubicBezTo>
                      <a:pt x="2215" y="313784"/>
                      <a:pt x="-467" y="306811"/>
                      <a:pt x="69" y="299302"/>
                    </a:cubicBezTo>
                    <a:cubicBezTo>
                      <a:pt x="5969" y="297693"/>
                      <a:pt x="11333" y="295011"/>
                      <a:pt x="16697" y="291256"/>
                    </a:cubicBezTo>
                    <a:cubicBezTo>
                      <a:pt x="29034" y="283210"/>
                      <a:pt x="40298" y="271946"/>
                      <a:pt x="54244" y="269264"/>
                    </a:cubicBezTo>
                    <a:cubicBezTo>
                      <a:pt x="59608" y="268192"/>
                      <a:pt x="64972" y="268728"/>
                      <a:pt x="70335" y="267655"/>
                    </a:cubicBezTo>
                    <a:cubicBezTo>
                      <a:pt x="80527" y="266046"/>
                      <a:pt x="90182" y="261219"/>
                      <a:pt x="99300" y="255855"/>
                    </a:cubicBezTo>
                    <a:cubicBezTo>
                      <a:pt x="113783" y="246736"/>
                      <a:pt x="127192" y="237081"/>
                      <a:pt x="141138" y="226890"/>
                    </a:cubicBezTo>
                    <a:cubicBezTo>
                      <a:pt x="156693" y="215090"/>
                      <a:pt x="172785" y="203289"/>
                      <a:pt x="188340" y="192025"/>
                    </a:cubicBezTo>
                    <a:cubicBezTo>
                      <a:pt x="188340" y="192025"/>
                      <a:pt x="188340" y="191489"/>
                      <a:pt x="187804" y="191489"/>
                    </a:cubicBezTo>
                    <a:cubicBezTo>
                      <a:pt x="188876" y="191489"/>
                      <a:pt x="189949" y="190952"/>
                      <a:pt x="191022" y="190416"/>
                    </a:cubicBezTo>
                    <a:cubicBezTo>
                      <a:pt x="201213" y="186661"/>
                      <a:pt x="211404" y="183443"/>
                      <a:pt x="221596" y="179688"/>
                    </a:cubicBezTo>
                    <a:cubicBezTo>
                      <a:pt x="221596" y="179152"/>
                      <a:pt x="221596" y="178616"/>
                      <a:pt x="221596" y="178079"/>
                    </a:cubicBezTo>
                    <a:cubicBezTo>
                      <a:pt x="221596" y="175934"/>
                      <a:pt x="221596" y="174325"/>
                      <a:pt x="221596" y="172179"/>
                    </a:cubicBezTo>
                    <a:cubicBezTo>
                      <a:pt x="221596" y="95476"/>
                      <a:pt x="213550" y="135705"/>
                      <a:pt x="212477" y="52029"/>
                    </a:cubicBezTo>
                    <a:cubicBezTo>
                      <a:pt x="211404" y="38083"/>
                      <a:pt x="208722" y="24673"/>
                      <a:pt x="207113" y="11264"/>
                    </a:cubicBezTo>
                    <a:cubicBezTo>
                      <a:pt x="206577" y="7509"/>
                      <a:pt x="206577" y="3755"/>
                      <a:pt x="206041" y="0"/>
                    </a:cubicBezTo>
                    <a:cubicBezTo>
                      <a:pt x="211404" y="21992"/>
                      <a:pt x="219450" y="62220"/>
                      <a:pt x="221059" y="76166"/>
                    </a:cubicBezTo>
                    <a:cubicBezTo>
                      <a:pt x="224278" y="103522"/>
                      <a:pt x="227496" y="130877"/>
                      <a:pt x="232860" y="158233"/>
                    </a:cubicBezTo>
                    <a:cubicBezTo>
                      <a:pt x="234469" y="167351"/>
                      <a:pt x="237687" y="177543"/>
                      <a:pt x="245196" y="182907"/>
                    </a:cubicBezTo>
                    <a:cubicBezTo>
                      <a:pt x="251097" y="187198"/>
                      <a:pt x="259142" y="188270"/>
                      <a:pt x="261824" y="194171"/>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47" name="Freeform: Shape 454"/>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5169" y="43983"/>
                      <a:pt x="131414" y="32183"/>
                      <a:pt x="127659" y="20382"/>
                    </a:cubicBezTo>
                    <a:cubicBezTo>
                      <a:pt x="99767" y="34328"/>
                      <a:pt x="71875" y="47738"/>
                      <a:pt x="45593" y="64366"/>
                    </a:cubicBezTo>
                    <a:cubicBezTo>
                      <a:pt x="37547" y="69193"/>
                      <a:pt x="29501" y="74557"/>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d8c5af"/>
              </a:solidFill>
              <a:ln w="0">
                <a:noFill/>
              </a:ln>
            </p:spPr>
            <p:style>
              <a:lnRef idx="0"/>
              <a:fillRef idx="0"/>
              <a:effectRef idx="0"/>
              <a:fontRef idx="minor"/>
            </p:style>
            <p:txBody>
              <a:bodyPr lIns="90000" rIns="90000" tIns="15840" bIns="15840" anchor="ctr">
                <a:noAutofit/>
              </a:bodyPr>
              <a:p>
                <a:endParaRPr b="0" lang="en-US" sz="1800" spc="-1" strike="noStrike">
                  <a:solidFill>
                    <a:srgbClr val="313c3f"/>
                  </a:solidFill>
                  <a:latin typeface="Source Sans Pro"/>
                </a:endParaRPr>
              </a:p>
            </p:txBody>
          </p:sp>
          <p:sp>
            <p:nvSpPr>
              <p:cNvPr id="2648" name="Freeform: Shape 455"/>
              <p:cNvSpPr/>
              <p:nvPr/>
            </p:nvSpPr>
            <p:spPr>
              <a:xfrm>
                <a:off x="10628640" y="2277000"/>
                <a:ext cx="49680" cy="390960"/>
              </a:xfrm>
              <a:custGeom>
                <a:avLst/>
                <a:gdLst/>
                <a:ahLst/>
                <a:rect l="l" t="t" r="r" b="b"/>
                <a:pathLst>
                  <a:path w="64181" h="503127">
                    <a:moveTo>
                      <a:pt x="64182" y="503128"/>
                    </a:moveTo>
                    <a:cubicBezTo>
                      <a:pt x="61500" y="503128"/>
                      <a:pt x="58281" y="503128"/>
                      <a:pt x="55063" y="503128"/>
                    </a:cubicBezTo>
                    <a:cubicBezTo>
                      <a:pt x="53454" y="498300"/>
                      <a:pt x="52381" y="494009"/>
                      <a:pt x="51309" y="489182"/>
                    </a:cubicBezTo>
                    <a:cubicBezTo>
                      <a:pt x="43799" y="455926"/>
                      <a:pt x="46481" y="426961"/>
                      <a:pt x="43799" y="390487"/>
                    </a:cubicBezTo>
                    <a:cubicBezTo>
                      <a:pt x="40581" y="343285"/>
                      <a:pt x="38972" y="300911"/>
                      <a:pt x="23953" y="255855"/>
                    </a:cubicBezTo>
                    <a:cubicBezTo>
                      <a:pt x="19662" y="243518"/>
                      <a:pt x="6252" y="216699"/>
                      <a:pt x="4107" y="203826"/>
                    </a:cubicBezTo>
                    <a:cubicBezTo>
                      <a:pt x="888" y="181298"/>
                      <a:pt x="13225" y="159842"/>
                      <a:pt x="13225" y="136778"/>
                    </a:cubicBezTo>
                    <a:cubicBezTo>
                      <a:pt x="13225" y="103522"/>
                      <a:pt x="-6085" y="69194"/>
                      <a:pt x="1961" y="37011"/>
                    </a:cubicBezTo>
                    <a:cubicBezTo>
                      <a:pt x="4107" y="27892"/>
                      <a:pt x="8398" y="18773"/>
                      <a:pt x="15907" y="12337"/>
                    </a:cubicBezTo>
                    <a:cubicBezTo>
                      <a:pt x="16980" y="11264"/>
                      <a:pt x="18053" y="10728"/>
                      <a:pt x="19126" y="9655"/>
                    </a:cubicBezTo>
                    <a:cubicBezTo>
                      <a:pt x="23953" y="6437"/>
                      <a:pt x="29317" y="4291"/>
                      <a:pt x="34681" y="1609"/>
                    </a:cubicBezTo>
                    <a:cubicBezTo>
                      <a:pt x="35753" y="1073"/>
                      <a:pt x="36826" y="536"/>
                      <a:pt x="37899" y="0"/>
                    </a:cubicBezTo>
                    <a:cubicBezTo>
                      <a:pt x="27708" y="9119"/>
                      <a:pt x="18053" y="18773"/>
                      <a:pt x="12689" y="31110"/>
                    </a:cubicBezTo>
                    <a:cubicBezTo>
                      <a:pt x="6252" y="46129"/>
                      <a:pt x="7325" y="63293"/>
                      <a:pt x="10007" y="79921"/>
                    </a:cubicBezTo>
                    <a:cubicBezTo>
                      <a:pt x="13225" y="96013"/>
                      <a:pt x="18053" y="112104"/>
                      <a:pt x="19126" y="128196"/>
                    </a:cubicBezTo>
                    <a:cubicBezTo>
                      <a:pt x="20735" y="156088"/>
                      <a:pt x="13225" y="184516"/>
                      <a:pt x="16980" y="212408"/>
                    </a:cubicBezTo>
                    <a:cubicBezTo>
                      <a:pt x="19126" y="230645"/>
                      <a:pt x="35753" y="249418"/>
                      <a:pt x="53454" y="261755"/>
                    </a:cubicBezTo>
                    <a:cubicBezTo>
                      <a:pt x="50236" y="261219"/>
                      <a:pt x="38972" y="258537"/>
                      <a:pt x="35753" y="257464"/>
                    </a:cubicBezTo>
                    <a:cubicBezTo>
                      <a:pt x="41117" y="290720"/>
                      <a:pt x="43799" y="311102"/>
                      <a:pt x="49699" y="344895"/>
                    </a:cubicBezTo>
                    <a:cubicBezTo>
                      <a:pt x="56672" y="383514"/>
                      <a:pt x="50236" y="435007"/>
                      <a:pt x="57209" y="473626"/>
                    </a:cubicBezTo>
                    <a:cubicBezTo>
                      <a:pt x="59891" y="484354"/>
                      <a:pt x="62572" y="494009"/>
                      <a:pt x="64182" y="503128"/>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49" name="Freeform: Shape 456"/>
              <p:cNvSpPr/>
              <p:nvPr/>
            </p:nvSpPr>
            <p:spPr>
              <a:xfrm>
                <a:off x="10640160" y="2337840"/>
                <a:ext cx="8640" cy="72720"/>
              </a:xfrm>
              <a:custGeom>
                <a:avLst/>
                <a:gdLst/>
                <a:ahLst/>
                <a:rect l="l" t="t" r="r" b="b"/>
                <a:pathLst>
                  <a:path w="11559" h="93867">
                    <a:moveTo>
                      <a:pt x="8878" y="0"/>
                    </a:moveTo>
                    <a:cubicBezTo>
                      <a:pt x="7805" y="19310"/>
                      <a:pt x="4587" y="28965"/>
                      <a:pt x="2441" y="43983"/>
                    </a:cubicBezTo>
                    <a:cubicBezTo>
                      <a:pt x="1905" y="49347"/>
                      <a:pt x="1368" y="54175"/>
                      <a:pt x="1368" y="59539"/>
                    </a:cubicBezTo>
                    <a:cubicBezTo>
                      <a:pt x="1368" y="70266"/>
                      <a:pt x="-1314" y="83676"/>
                      <a:pt x="832" y="93867"/>
                    </a:cubicBezTo>
                    <a:cubicBezTo>
                      <a:pt x="5123" y="78848"/>
                      <a:pt x="7805" y="62220"/>
                      <a:pt x="9950" y="46665"/>
                    </a:cubicBezTo>
                    <a:cubicBezTo>
                      <a:pt x="11023" y="39156"/>
                      <a:pt x="11560" y="31110"/>
                      <a:pt x="11560" y="23065"/>
                    </a:cubicBezTo>
                    <a:cubicBezTo>
                      <a:pt x="11023" y="15555"/>
                      <a:pt x="8878" y="8046"/>
                      <a:pt x="8878" y="0"/>
                    </a:cubicBezTo>
                    <a:close/>
                  </a:path>
                </a:pathLst>
              </a:custGeom>
              <a:solidFill>
                <a:srgbClr val="d8c5af"/>
              </a:solidFill>
              <a:ln w="0">
                <a:noFill/>
              </a:ln>
            </p:spPr>
            <p:style>
              <a:lnRef idx="0"/>
              <a:fillRef idx="0"/>
              <a:effectRef idx="0"/>
              <a:fontRef idx="minor"/>
            </p:style>
            <p:txBody>
              <a:bodyPr lIns="90000" rIns="90000" tIns="25920" bIns="25920" anchor="ctr">
                <a:noAutofit/>
              </a:bodyPr>
              <a:p>
                <a:endParaRPr b="0" lang="en-US" sz="1800" spc="-1" strike="noStrike">
                  <a:solidFill>
                    <a:srgbClr val="313c3f"/>
                  </a:solidFill>
                  <a:latin typeface="Source Sans Pro"/>
                </a:endParaRPr>
              </a:p>
            </p:txBody>
          </p:sp>
          <p:sp>
            <p:nvSpPr>
              <p:cNvPr id="2650" name="Freeform: Shape 457"/>
              <p:cNvSpPr/>
              <p:nvPr/>
            </p:nvSpPr>
            <p:spPr>
              <a:xfrm>
                <a:off x="10665720" y="2258640"/>
                <a:ext cx="77400" cy="394560"/>
              </a:xfrm>
              <a:custGeom>
                <a:avLst/>
                <a:gdLst/>
                <a:ahLst/>
                <a:rect l="l" t="t" r="r" b="b"/>
                <a:pathLst>
                  <a:path w="99850" h="507954">
                    <a:moveTo>
                      <a:pt x="99851" y="507955"/>
                    </a:moveTo>
                    <a:cubicBezTo>
                      <a:pt x="89123" y="456462"/>
                      <a:pt x="62304" y="410333"/>
                      <a:pt x="39240" y="363132"/>
                    </a:cubicBezTo>
                    <a:cubicBezTo>
                      <a:pt x="11884" y="307348"/>
                      <a:pt x="2766" y="288574"/>
                      <a:pt x="620" y="244054"/>
                    </a:cubicBezTo>
                    <a:cubicBezTo>
                      <a:pt x="-2062" y="199535"/>
                      <a:pt x="4375" y="148578"/>
                      <a:pt x="11884" y="105131"/>
                    </a:cubicBezTo>
                    <a:cubicBezTo>
                      <a:pt x="15639" y="81530"/>
                      <a:pt x="20466" y="57929"/>
                      <a:pt x="30657" y="35938"/>
                    </a:cubicBezTo>
                    <a:cubicBezTo>
                      <a:pt x="35485" y="25746"/>
                      <a:pt x="41385" y="15555"/>
                      <a:pt x="48895" y="6973"/>
                    </a:cubicBezTo>
                    <a:cubicBezTo>
                      <a:pt x="51040" y="4827"/>
                      <a:pt x="53186" y="2146"/>
                      <a:pt x="55331" y="0"/>
                    </a:cubicBezTo>
                    <a:cubicBezTo>
                      <a:pt x="53722" y="2146"/>
                      <a:pt x="52649" y="4291"/>
                      <a:pt x="51576" y="6437"/>
                    </a:cubicBezTo>
                    <a:cubicBezTo>
                      <a:pt x="18857" y="68121"/>
                      <a:pt x="9738" y="138923"/>
                      <a:pt x="5984" y="208653"/>
                    </a:cubicBezTo>
                    <a:cubicBezTo>
                      <a:pt x="5447" y="223135"/>
                      <a:pt x="4911" y="238154"/>
                      <a:pt x="5984" y="252637"/>
                    </a:cubicBezTo>
                    <a:cubicBezTo>
                      <a:pt x="13493" y="327730"/>
                      <a:pt x="94487" y="425352"/>
                      <a:pt x="95560" y="484890"/>
                    </a:cubicBezTo>
                    <a:cubicBezTo>
                      <a:pt x="96096" y="477917"/>
                      <a:pt x="96633" y="469335"/>
                      <a:pt x="96633" y="460753"/>
                    </a:cubicBezTo>
                    <a:cubicBezTo>
                      <a:pt x="98242" y="476308"/>
                      <a:pt x="99315" y="492400"/>
                      <a:pt x="99851" y="507955"/>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51" name="Freeform: Shape 458"/>
              <p:cNvSpPr/>
              <p:nvPr/>
            </p:nvSpPr>
            <p:spPr>
              <a:xfrm>
                <a:off x="10714320" y="2576880"/>
                <a:ext cx="12600" cy="21240"/>
              </a:xfrm>
              <a:custGeom>
                <a:avLst/>
                <a:gdLst/>
                <a:ahLst/>
                <a:rect l="l" t="t" r="r" b="b"/>
                <a:pathLst>
                  <a:path w="16627" h="27544">
                    <a:moveTo>
                      <a:pt x="0" y="10297"/>
                    </a:moveTo>
                    <a:cubicBezTo>
                      <a:pt x="0" y="15661"/>
                      <a:pt x="536" y="21561"/>
                      <a:pt x="4827" y="25316"/>
                    </a:cubicBezTo>
                    <a:cubicBezTo>
                      <a:pt x="5900" y="26388"/>
                      <a:pt x="6973" y="26925"/>
                      <a:pt x="8582" y="27461"/>
                    </a:cubicBezTo>
                    <a:cubicBezTo>
                      <a:pt x="11264" y="27998"/>
                      <a:pt x="13946" y="25852"/>
                      <a:pt x="15019" y="23707"/>
                    </a:cubicBezTo>
                    <a:cubicBezTo>
                      <a:pt x="16092" y="21561"/>
                      <a:pt x="16628" y="18343"/>
                      <a:pt x="16628" y="15661"/>
                    </a:cubicBezTo>
                    <a:cubicBezTo>
                      <a:pt x="16628" y="11370"/>
                      <a:pt x="16092" y="7079"/>
                      <a:pt x="13946" y="3324"/>
                    </a:cubicBezTo>
                    <a:cubicBezTo>
                      <a:pt x="12337" y="642"/>
                      <a:pt x="8046" y="-967"/>
                      <a:pt x="4827" y="642"/>
                    </a:cubicBezTo>
                    <a:cubicBezTo>
                      <a:pt x="1073" y="1715"/>
                      <a:pt x="0" y="6542"/>
                      <a:pt x="0" y="10297"/>
                    </a:cubicBezTo>
                    <a:close/>
                  </a:path>
                </a:pathLst>
              </a:custGeom>
              <a:solidFill>
                <a:srgbClr val="000000"/>
              </a:solidFill>
              <a:ln w="0">
                <a:noFill/>
              </a:ln>
            </p:spPr>
            <p:style>
              <a:lnRef idx="0"/>
              <a:fillRef idx="0"/>
              <a:effectRef idx="0"/>
              <a:fontRef idx="minor"/>
            </p:style>
            <p:txBody>
              <a:bodyPr lIns="90000" rIns="90000" tIns="-25560" bIns="-25560" anchor="ctr">
                <a:noAutofit/>
              </a:bodyPr>
              <a:p>
                <a:endParaRPr b="0" lang="en-US" sz="1800" spc="-1" strike="noStrike">
                  <a:solidFill>
                    <a:srgbClr val="313c3f"/>
                  </a:solidFill>
                  <a:latin typeface="Source Sans Pro"/>
                </a:endParaRPr>
              </a:p>
            </p:txBody>
          </p:sp>
          <p:sp>
            <p:nvSpPr>
              <p:cNvPr id="2652" name="Freeform: Shape 459"/>
              <p:cNvSpPr/>
              <p:nvPr/>
            </p:nvSpPr>
            <p:spPr>
              <a:xfrm>
                <a:off x="10725120" y="2551320"/>
                <a:ext cx="15840" cy="56160"/>
              </a:xfrm>
              <a:custGeom>
                <a:avLst/>
                <a:gdLst/>
                <a:ahLst/>
                <a:rect l="l" t="t" r="r" b="b"/>
                <a:pathLst>
                  <a:path w="20521" h="72411">
                    <a:moveTo>
                      <a:pt x="20383" y="72412"/>
                    </a:moveTo>
                    <a:cubicBezTo>
                      <a:pt x="19846" y="69730"/>
                      <a:pt x="18773" y="67048"/>
                      <a:pt x="18237" y="64366"/>
                    </a:cubicBezTo>
                    <a:cubicBezTo>
                      <a:pt x="15019" y="53638"/>
                      <a:pt x="11800" y="42374"/>
                      <a:pt x="7509" y="31110"/>
                    </a:cubicBezTo>
                    <a:cubicBezTo>
                      <a:pt x="7509" y="31110"/>
                      <a:pt x="7509" y="30574"/>
                      <a:pt x="7509" y="30574"/>
                    </a:cubicBezTo>
                    <a:cubicBezTo>
                      <a:pt x="7509" y="30037"/>
                      <a:pt x="6973" y="29501"/>
                      <a:pt x="6973" y="28965"/>
                    </a:cubicBezTo>
                    <a:cubicBezTo>
                      <a:pt x="6973" y="28965"/>
                      <a:pt x="6973" y="28965"/>
                      <a:pt x="6973" y="28965"/>
                    </a:cubicBezTo>
                    <a:cubicBezTo>
                      <a:pt x="4828" y="23601"/>
                      <a:pt x="2682" y="17701"/>
                      <a:pt x="536" y="12337"/>
                    </a:cubicBezTo>
                    <a:cubicBezTo>
                      <a:pt x="536" y="12337"/>
                      <a:pt x="536" y="12337"/>
                      <a:pt x="536" y="11800"/>
                    </a:cubicBezTo>
                    <a:cubicBezTo>
                      <a:pt x="0" y="8046"/>
                      <a:pt x="0" y="4291"/>
                      <a:pt x="0" y="0"/>
                    </a:cubicBezTo>
                    <a:cubicBezTo>
                      <a:pt x="3218" y="7509"/>
                      <a:pt x="6973" y="15019"/>
                      <a:pt x="9655" y="22528"/>
                    </a:cubicBezTo>
                    <a:cubicBezTo>
                      <a:pt x="10191" y="23601"/>
                      <a:pt x="10728" y="25210"/>
                      <a:pt x="11264" y="26283"/>
                    </a:cubicBezTo>
                    <a:cubicBezTo>
                      <a:pt x="16092" y="39156"/>
                      <a:pt x="21455" y="58466"/>
                      <a:pt x="20383" y="72412"/>
                    </a:cubicBezTo>
                    <a:close/>
                  </a:path>
                </a:pathLst>
              </a:custGeom>
              <a:solidFill>
                <a:srgbClr val="d8c5af"/>
              </a:solidFill>
              <a:ln w="0">
                <a:noFill/>
              </a:ln>
            </p:spPr>
            <p:style>
              <a:lnRef idx="0"/>
              <a:fillRef idx="0"/>
              <a:effectRef idx="0"/>
              <a:fontRef idx="minor"/>
            </p:style>
            <p:txBody>
              <a:bodyPr lIns="90000" rIns="90000" tIns="9360" bIns="9360" anchor="ctr">
                <a:noAutofit/>
              </a:bodyPr>
              <a:p>
                <a:endParaRPr b="0" lang="en-US" sz="1800" spc="-1" strike="noStrike">
                  <a:solidFill>
                    <a:srgbClr val="313c3f"/>
                  </a:solidFill>
                  <a:latin typeface="Source Sans Pro"/>
                </a:endParaRPr>
              </a:p>
            </p:txBody>
          </p:sp>
          <p:sp>
            <p:nvSpPr>
              <p:cNvPr id="2653" name="Freeform: Shape 460"/>
              <p:cNvSpPr/>
              <p:nvPr/>
            </p:nvSpPr>
            <p:spPr>
              <a:xfrm>
                <a:off x="10758960" y="2211840"/>
                <a:ext cx="72000" cy="66600"/>
              </a:xfrm>
              <a:custGeom>
                <a:avLst/>
                <a:gdLst/>
                <a:ahLst/>
                <a:rect l="l" t="t" r="r" b="b"/>
                <a:pathLst>
                  <a:path w="92738" h="85821">
                    <a:moveTo>
                      <a:pt x="91185" y="61148"/>
                    </a:moveTo>
                    <a:cubicBezTo>
                      <a:pt x="87967" y="65975"/>
                      <a:pt x="84749" y="71339"/>
                      <a:pt x="80994" y="76166"/>
                    </a:cubicBezTo>
                    <a:cubicBezTo>
                      <a:pt x="78848" y="79385"/>
                      <a:pt x="76167" y="82603"/>
                      <a:pt x="74021" y="85821"/>
                    </a:cubicBezTo>
                    <a:cubicBezTo>
                      <a:pt x="72412" y="70802"/>
                      <a:pt x="63830" y="56320"/>
                      <a:pt x="51493" y="47738"/>
                    </a:cubicBezTo>
                    <a:cubicBezTo>
                      <a:pt x="36474" y="37547"/>
                      <a:pt x="17164" y="35938"/>
                      <a:pt x="3755" y="23601"/>
                    </a:cubicBezTo>
                    <a:cubicBezTo>
                      <a:pt x="2146" y="22528"/>
                      <a:pt x="1073" y="20919"/>
                      <a:pt x="0" y="19846"/>
                    </a:cubicBezTo>
                    <a:cubicBezTo>
                      <a:pt x="16628" y="28428"/>
                      <a:pt x="29501" y="28428"/>
                      <a:pt x="29501" y="28428"/>
                    </a:cubicBezTo>
                    <a:cubicBezTo>
                      <a:pt x="29501" y="28428"/>
                      <a:pt x="58466" y="26283"/>
                      <a:pt x="83676" y="0"/>
                    </a:cubicBezTo>
                    <a:cubicBezTo>
                      <a:pt x="83139" y="4291"/>
                      <a:pt x="83139" y="8582"/>
                      <a:pt x="82603" y="12873"/>
                    </a:cubicBezTo>
                    <a:cubicBezTo>
                      <a:pt x="82067" y="18773"/>
                      <a:pt x="81530" y="24673"/>
                      <a:pt x="82067" y="30037"/>
                    </a:cubicBezTo>
                    <a:cubicBezTo>
                      <a:pt x="82067" y="31647"/>
                      <a:pt x="82603" y="33792"/>
                      <a:pt x="83139" y="35401"/>
                    </a:cubicBezTo>
                    <a:cubicBezTo>
                      <a:pt x="84212" y="40229"/>
                      <a:pt x="86894" y="45056"/>
                      <a:pt x="90113" y="48274"/>
                    </a:cubicBezTo>
                    <a:cubicBezTo>
                      <a:pt x="92794" y="52029"/>
                      <a:pt x="93867" y="57393"/>
                      <a:pt x="91185" y="61148"/>
                    </a:cubicBezTo>
                    <a:close/>
                  </a:path>
                </a:pathLst>
              </a:custGeom>
              <a:solidFill>
                <a:srgbClr val="b08874"/>
              </a:solidFill>
              <a:ln w="0">
                <a:noFill/>
              </a:ln>
            </p:spPr>
            <p:style>
              <a:lnRef idx="0"/>
              <a:fillRef idx="0"/>
              <a:effectRef idx="0"/>
              <a:fontRef idx="minor"/>
            </p:style>
            <p:txBody>
              <a:bodyPr lIns="90000" rIns="90000" tIns="19800" bIns="19800" anchor="ctr">
                <a:noAutofit/>
              </a:bodyPr>
              <a:p>
                <a:endParaRPr b="0" lang="en-US" sz="1800" spc="-1" strike="noStrike">
                  <a:solidFill>
                    <a:srgbClr val="313c3f"/>
                  </a:solidFill>
                  <a:latin typeface="Source Sans Pro"/>
                </a:endParaRPr>
              </a:p>
            </p:txBody>
          </p:sp>
          <p:sp>
            <p:nvSpPr>
              <p:cNvPr id="2654" name="Freeform: Shape 461"/>
              <p:cNvSpPr/>
              <p:nvPr/>
            </p:nvSpPr>
            <p:spPr>
              <a:xfrm>
                <a:off x="10788480" y="2061360"/>
                <a:ext cx="57600" cy="167040"/>
              </a:xfrm>
              <a:custGeom>
                <a:avLst/>
                <a:gdLst/>
                <a:ahLst/>
                <a:rect l="l" t="t" r="r" b="b"/>
                <a:pathLst>
                  <a:path w="74154" h="215089">
                    <a:moveTo>
                      <a:pt x="70803" y="146433"/>
                    </a:moveTo>
                    <a:cubicBezTo>
                      <a:pt x="70803" y="147505"/>
                      <a:pt x="70266" y="148578"/>
                      <a:pt x="70266" y="149114"/>
                    </a:cubicBezTo>
                    <a:cubicBezTo>
                      <a:pt x="63830" y="168961"/>
                      <a:pt x="54175" y="182907"/>
                      <a:pt x="44520" y="193634"/>
                    </a:cubicBezTo>
                    <a:cubicBezTo>
                      <a:pt x="34329" y="204362"/>
                      <a:pt x="24137" y="210799"/>
                      <a:pt x="14482" y="215090"/>
                    </a:cubicBezTo>
                    <a:cubicBezTo>
                      <a:pt x="42911" y="190952"/>
                      <a:pt x="61148" y="155551"/>
                      <a:pt x="63293" y="118541"/>
                    </a:cubicBezTo>
                    <a:cubicBezTo>
                      <a:pt x="63830" y="106204"/>
                      <a:pt x="63293" y="93867"/>
                      <a:pt x="61148" y="81530"/>
                    </a:cubicBezTo>
                    <a:cubicBezTo>
                      <a:pt x="60075" y="72948"/>
                      <a:pt x="57929" y="64366"/>
                      <a:pt x="54175" y="56857"/>
                    </a:cubicBezTo>
                    <a:cubicBezTo>
                      <a:pt x="44520" y="39692"/>
                      <a:pt x="24137" y="32183"/>
                      <a:pt x="10728" y="17701"/>
                    </a:cubicBezTo>
                    <a:cubicBezTo>
                      <a:pt x="8582" y="15555"/>
                      <a:pt x="6437" y="12337"/>
                      <a:pt x="4291" y="9655"/>
                    </a:cubicBezTo>
                    <a:cubicBezTo>
                      <a:pt x="2682" y="6437"/>
                      <a:pt x="1073" y="3218"/>
                      <a:pt x="0" y="0"/>
                    </a:cubicBezTo>
                    <a:cubicBezTo>
                      <a:pt x="10191" y="14482"/>
                      <a:pt x="23064" y="25210"/>
                      <a:pt x="38620" y="33792"/>
                    </a:cubicBezTo>
                    <a:cubicBezTo>
                      <a:pt x="45056" y="37547"/>
                      <a:pt x="52029" y="40229"/>
                      <a:pt x="57393" y="45593"/>
                    </a:cubicBezTo>
                    <a:cubicBezTo>
                      <a:pt x="63293" y="50956"/>
                      <a:pt x="66512" y="59002"/>
                      <a:pt x="68657" y="66511"/>
                    </a:cubicBezTo>
                    <a:cubicBezTo>
                      <a:pt x="76703" y="92258"/>
                      <a:pt x="74557" y="119613"/>
                      <a:pt x="70803" y="146433"/>
                    </a:cubicBezTo>
                    <a:close/>
                  </a:path>
                </a:pathLst>
              </a:custGeom>
              <a:solidFill>
                <a:srgbClr val="b0887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55" name="Freeform: Shape 462"/>
              <p:cNvSpPr/>
              <p:nvPr/>
            </p:nvSpPr>
            <p:spPr>
              <a:xfrm>
                <a:off x="10798200" y="2007000"/>
                <a:ext cx="51480" cy="81720"/>
              </a:xfrm>
              <a:custGeom>
                <a:avLst/>
                <a:gdLst/>
                <a:ahLst/>
                <a:rect l="l" t="t" r="r" b="b"/>
                <a:pathLst>
                  <a:path w="66511" h="105131">
                    <a:moveTo>
                      <a:pt x="23065" y="57929"/>
                    </a:moveTo>
                    <a:cubicBezTo>
                      <a:pt x="33256" y="71875"/>
                      <a:pt x="44520" y="83676"/>
                      <a:pt x="53102" y="91722"/>
                    </a:cubicBezTo>
                    <a:cubicBezTo>
                      <a:pt x="61148" y="99767"/>
                      <a:pt x="66512" y="105131"/>
                      <a:pt x="66512" y="105131"/>
                    </a:cubicBezTo>
                    <a:cubicBezTo>
                      <a:pt x="66512" y="105131"/>
                      <a:pt x="64902" y="104058"/>
                      <a:pt x="62757" y="101913"/>
                    </a:cubicBezTo>
                    <a:cubicBezTo>
                      <a:pt x="60075" y="99767"/>
                      <a:pt x="56320" y="97085"/>
                      <a:pt x="52029" y="93331"/>
                    </a:cubicBezTo>
                    <a:cubicBezTo>
                      <a:pt x="42911" y="85821"/>
                      <a:pt x="30574" y="75094"/>
                      <a:pt x="19846" y="60611"/>
                    </a:cubicBezTo>
                    <a:cubicBezTo>
                      <a:pt x="14482" y="53102"/>
                      <a:pt x="10191" y="45593"/>
                      <a:pt x="6973" y="38619"/>
                    </a:cubicBezTo>
                    <a:cubicBezTo>
                      <a:pt x="3755" y="31647"/>
                      <a:pt x="2146" y="24674"/>
                      <a:pt x="1073" y="18773"/>
                    </a:cubicBezTo>
                    <a:cubicBezTo>
                      <a:pt x="0" y="12873"/>
                      <a:pt x="0" y="8046"/>
                      <a:pt x="0" y="4827"/>
                    </a:cubicBezTo>
                    <a:cubicBezTo>
                      <a:pt x="0" y="3218"/>
                      <a:pt x="0" y="2146"/>
                      <a:pt x="0" y="1073"/>
                    </a:cubicBezTo>
                    <a:cubicBezTo>
                      <a:pt x="0" y="0"/>
                      <a:pt x="0" y="0"/>
                      <a:pt x="0" y="0"/>
                    </a:cubicBezTo>
                    <a:cubicBezTo>
                      <a:pt x="0" y="0"/>
                      <a:pt x="0" y="536"/>
                      <a:pt x="0" y="1073"/>
                    </a:cubicBezTo>
                    <a:cubicBezTo>
                      <a:pt x="0" y="2146"/>
                      <a:pt x="0" y="3218"/>
                      <a:pt x="536" y="4827"/>
                    </a:cubicBezTo>
                    <a:cubicBezTo>
                      <a:pt x="1073" y="8046"/>
                      <a:pt x="1609" y="12873"/>
                      <a:pt x="3218" y="18237"/>
                    </a:cubicBezTo>
                    <a:cubicBezTo>
                      <a:pt x="5900" y="28965"/>
                      <a:pt x="12337" y="43447"/>
                      <a:pt x="23065" y="57929"/>
                    </a:cubicBezTo>
                    <a:close/>
                  </a:path>
                </a:pathLst>
              </a:custGeom>
              <a:solidFill>
                <a:srgbClr val="c79568"/>
              </a:solidFill>
              <a:ln w="0">
                <a:noFill/>
              </a:ln>
            </p:spPr>
            <p:style>
              <a:lnRef idx="0"/>
              <a:fillRef idx="0"/>
              <a:effectRef idx="0"/>
              <a:fontRef idx="minor"/>
            </p:style>
            <p:txBody>
              <a:bodyPr lIns="90000" rIns="90000" tIns="34920" bIns="34920" anchor="ctr">
                <a:noAutofit/>
              </a:bodyPr>
              <a:p>
                <a:endParaRPr b="0" lang="en-US" sz="1800" spc="-1" strike="noStrike">
                  <a:solidFill>
                    <a:srgbClr val="313c3f"/>
                  </a:solidFill>
                  <a:latin typeface="Source Sans Pro"/>
                </a:endParaRPr>
              </a:p>
            </p:txBody>
          </p:sp>
          <p:sp>
            <p:nvSpPr>
              <p:cNvPr id="2656" name="Freeform: Shape 463"/>
              <p:cNvSpPr/>
              <p:nvPr/>
            </p:nvSpPr>
            <p:spPr>
              <a:xfrm>
                <a:off x="10807920" y="2000880"/>
                <a:ext cx="61920" cy="129240"/>
              </a:xfrm>
              <a:custGeom>
                <a:avLst/>
                <a:gdLst/>
                <a:ahLst/>
                <a:rect l="l" t="t" r="r" b="b"/>
                <a:pathLst>
                  <a:path w="79921" h="166278">
                    <a:moveTo>
                      <a:pt x="59002" y="73484"/>
                    </a:moveTo>
                    <a:cubicBezTo>
                      <a:pt x="69193" y="97622"/>
                      <a:pt x="74021" y="121223"/>
                      <a:pt x="76703" y="138387"/>
                    </a:cubicBezTo>
                    <a:cubicBezTo>
                      <a:pt x="78312" y="146969"/>
                      <a:pt x="78848" y="153942"/>
                      <a:pt x="79385" y="158769"/>
                    </a:cubicBezTo>
                    <a:cubicBezTo>
                      <a:pt x="79921" y="163597"/>
                      <a:pt x="79921" y="166279"/>
                      <a:pt x="79921" y="166279"/>
                    </a:cubicBezTo>
                    <a:cubicBezTo>
                      <a:pt x="79921" y="166279"/>
                      <a:pt x="79385" y="163597"/>
                      <a:pt x="78312" y="158769"/>
                    </a:cubicBezTo>
                    <a:cubicBezTo>
                      <a:pt x="77239" y="153942"/>
                      <a:pt x="76166" y="147505"/>
                      <a:pt x="74021" y="138923"/>
                    </a:cubicBezTo>
                    <a:cubicBezTo>
                      <a:pt x="70266" y="122295"/>
                      <a:pt x="64366" y="99231"/>
                      <a:pt x="54175" y="75630"/>
                    </a:cubicBezTo>
                    <a:cubicBezTo>
                      <a:pt x="48811" y="63830"/>
                      <a:pt x="43447" y="52565"/>
                      <a:pt x="37547" y="43447"/>
                    </a:cubicBezTo>
                    <a:cubicBezTo>
                      <a:pt x="31647" y="33792"/>
                      <a:pt x="25746" y="25746"/>
                      <a:pt x="19846" y="19310"/>
                    </a:cubicBezTo>
                    <a:cubicBezTo>
                      <a:pt x="14482" y="12873"/>
                      <a:pt x="9118" y="8046"/>
                      <a:pt x="5900" y="4827"/>
                    </a:cubicBezTo>
                    <a:cubicBezTo>
                      <a:pt x="4291" y="3218"/>
                      <a:pt x="2682" y="2146"/>
                      <a:pt x="1609" y="1073"/>
                    </a:cubicBezTo>
                    <a:cubicBezTo>
                      <a:pt x="536" y="0"/>
                      <a:pt x="0" y="0"/>
                      <a:pt x="0" y="0"/>
                    </a:cubicBezTo>
                    <a:cubicBezTo>
                      <a:pt x="0" y="0"/>
                      <a:pt x="536" y="536"/>
                      <a:pt x="1609" y="1073"/>
                    </a:cubicBezTo>
                    <a:cubicBezTo>
                      <a:pt x="2682" y="1609"/>
                      <a:pt x="4291" y="2682"/>
                      <a:pt x="5900" y="4291"/>
                    </a:cubicBezTo>
                    <a:cubicBezTo>
                      <a:pt x="9655" y="6973"/>
                      <a:pt x="15019" y="11800"/>
                      <a:pt x="21455" y="17701"/>
                    </a:cubicBezTo>
                    <a:cubicBezTo>
                      <a:pt x="27355" y="23601"/>
                      <a:pt x="34329" y="31647"/>
                      <a:pt x="40765" y="41301"/>
                    </a:cubicBezTo>
                    <a:cubicBezTo>
                      <a:pt x="47738" y="50420"/>
                      <a:pt x="53638" y="61148"/>
                      <a:pt x="59002" y="734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57" name="Freeform: Shape 464"/>
              <p:cNvSpPr/>
              <p:nvPr/>
            </p:nvSpPr>
            <p:spPr>
              <a:xfrm>
                <a:off x="10694880" y="2001240"/>
                <a:ext cx="65160" cy="130680"/>
              </a:xfrm>
              <a:custGeom>
                <a:avLst/>
                <a:gdLst/>
                <a:ahLst/>
                <a:rect l="l" t="t" r="r" b="b"/>
                <a:pathLst>
                  <a:path w="84212" h="168424">
                    <a:moveTo>
                      <a:pt x="31647" y="78848"/>
                    </a:moveTo>
                    <a:cubicBezTo>
                      <a:pt x="25746" y="90649"/>
                      <a:pt x="20919" y="101913"/>
                      <a:pt x="16628" y="112640"/>
                    </a:cubicBezTo>
                    <a:cubicBezTo>
                      <a:pt x="14482" y="118004"/>
                      <a:pt x="12873" y="122832"/>
                      <a:pt x="11264" y="127659"/>
                    </a:cubicBezTo>
                    <a:cubicBezTo>
                      <a:pt x="10728" y="129805"/>
                      <a:pt x="9655" y="132487"/>
                      <a:pt x="9119" y="134632"/>
                    </a:cubicBezTo>
                    <a:cubicBezTo>
                      <a:pt x="8582" y="136778"/>
                      <a:pt x="8046" y="138923"/>
                      <a:pt x="6973" y="141069"/>
                    </a:cubicBezTo>
                    <a:cubicBezTo>
                      <a:pt x="5900" y="145360"/>
                      <a:pt x="4827" y="149114"/>
                      <a:pt x="3755" y="152333"/>
                    </a:cubicBezTo>
                    <a:cubicBezTo>
                      <a:pt x="3218" y="153942"/>
                      <a:pt x="2682" y="155551"/>
                      <a:pt x="2682" y="157160"/>
                    </a:cubicBezTo>
                    <a:cubicBezTo>
                      <a:pt x="2146" y="158769"/>
                      <a:pt x="2146" y="159842"/>
                      <a:pt x="1609" y="160915"/>
                    </a:cubicBezTo>
                    <a:cubicBezTo>
                      <a:pt x="536" y="165742"/>
                      <a:pt x="0" y="168424"/>
                      <a:pt x="0" y="168424"/>
                    </a:cubicBezTo>
                    <a:cubicBezTo>
                      <a:pt x="0" y="168424"/>
                      <a:pt x="536" y="165742"/>
                      <a:pt x="1073" y="160915"/>
                    </a:cubicBezTo>
                    <a:cubicBezTo>
                      <a:pt x="1073" y="159842"/>
                      <a:pt x="1609" y="158233"/>
                      <a:pt x="1609" y="157160"/>
                    </a:cubicBezTo>
                    <a:cubicBezTo>
                      <a:pt x="1609" y="155551"/>
                      <a:pt x="2146" y="153942"/>
                      <a:pt x="2682" y="152333"/>
                    </a:cubicBezTo>
                    <a:cubicBezTo>
                      <a:pt x="3218" y="149114"/>
                      <a:pt x="3755" y="144823"/>
                      <a:pt x="4827" y="141069"/>
                    </a:cubicBezTo>
                    <a:cubicBezTo>
                      <a:pt x="5364" y="138923"/>
                      <a:pt x="5900" y="136778"/>
                      <a:pt x="6437" y="134632"/>
                    </a:cubicBezTo>
                    <a:cubicBezTo>
                      <a:pt x="6973" y="132487"/>
                      <a:pt x="7509" y="129805"/>
                      <a:pt x="8582" y="127659"/>
                    </a:cubicBezTo>
                    <a:cubicBezTo>
                      <a:pt x="9655" y="122832"/>
                      <a:pt x="11800" y="117468"/>
                      <a:pt x="13410" y="112104"/>
                    </a:cubicBezTo>
                    <a:cubicBezTo>
                      <a:pt x="17164" y="101376"/>
                      <a:pt x="21992" y="89576"/>
                      <a:pt x="27892" y="77239"/>
                    </a:cubicBezTo>
                    <a:cubicBezTo>
                      <a:pt x="33792" y="65439"/>
                      <a:pt x="40229" y="54711"/>
                      <a:pt x="46665" y="45056"/>
                    </a:cubicBezTo>
                    <a:cubicBezTo>
                      <a:pt x="49884" y="40229"/>
                      <a:pt x="53102" y="35938"/>
                      <a:pt x="56320" y="31647"/>
                    </a:cubicBezTo>
                    <a:cubicBezTo>
                      <a:pt x="57929" y="29501"/>
                      <a:pt x="59539" y="27892"/>
                      <a:pt x="60611" y="25746"/>
                    </a:cubicBezTo>
                    <a:cubicBezTo>
                      <a:pt x="62221" y="24137"/>
                      <a:pt x="63830" y="21992"/>
                      <a:pt x="64902" y="20382"/>
                    </a:cubicBezTo>
                    <a:cubicBezTo>
                      <a:pt x="67584" y="17164"/>
                      <a:pt x="70266" y="13946"/>
                      <a:pt x="72948" y="11800"/>
                    </a:cubicBezTo>
                    <a:cubicBezTo>
                      <a:pt x="74021" y="10728"/>
                      <a:pt x="75094" y="9118"/>
                      <a:pt x="76167" y="8046"/>
                    </a:cubicBezTo>
                    <a:cubicBezTo>
                      <a:pt x="77239" y="6973"/>
                      <a:pt x="78312" y="5900"/>
                      <a:pt x="78848" y="5364"/>
                    </a:cubicBezTo>
                    <a:cubicBezTo>
                      <a:pt x="82067" y="2146"/>
                      <a:pt x="84212" y="0"/>
                      <a:pt x="84212" y="0"/>
                    </a:cubicBezTo>
                    <a:cubicBezTo>
                      <a:pt x="84212" y="0"/>
                      <a:pt x="82603" y="2146"/>
                      <a:pt x="79385" y="5900"/>
                    </a:cubicBezTo>
                    <a:cubicBezTo>
                      <a:pt x="78848" y="6973"/>
                      <a:pt x="77776" y="8046"/>
                      <a:pt x="76703" y="9118"/>
                    </a:cubicBezTo>
                    <a:cubicBezTo>
                      <a:pt x="75630" y="10191"/>
                      <a:pt x="74557" y="11800"/>
                      <a:pt x="73485" y="12873"/>
                    </a:cubicBezTo>
                    <a:cubicBezTo>
                      <a:pt x="71339" y="15555"/>
                      <a:pt x="68657" y="18773"/>
                      <a:pt x="66512" y="21992"/>
                    </a:cubicBezTo>
                    <a:cubicBezTo>
                      <a:pt x="65439" y="23601"/>
                      <a:pt x="63830" y="25746"/>
                      <a:pt x="62757" y="27355"/>
                    </a:cubicBezTo>
                    <a:cubicBezTo>
                      <a:pt x="61148" y="29501"/>
                      <a:pt x="60075" y="31110"/>
                      <a:pt x="58466" y="33256"/>
                    </a:cubicBezTo>
                    <a:cubicBezTo>
                      <a:pt x="55784" y="37547"/>
                      <a:pt x="52566" y="41838"/>
                      <a:pt x="49347" y="46665"/>
                    </a:cubicBezTo>
                    <a:cubicBezTo>
                      <a:pt x="43447" y="56320"/>
                      <a:pt x="37547" y="67048"/>
                      <a:pt x="31647"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58" name="Freeform: Shape 465"/>
              <p:cNvSpPr/>
              <p:nvPr/>
            </p:nvSpPr>
            <p:spPr>
              <a:xfrm>
                <a:off x="10679760" y="1988280"/>
                <a:ext cx="73440" cy="151200"/>
              </a:xfrm>
              <a:custGeom>
                <a:avLst/>
                <a:gdLst/>
                <a:ahLst/>
                <a:rect l="l" t="t" r="r" b="b"/>
                <a:pathLst>
                  <a:path w="94939" h="194707">
                    <a:moveTo>
                      <a:pt x="33256" y="89576"/>
                    </a:moveTo>
                    <a:cubicBezTo>
                      <a:pt x="21455" y="117468"/>
                      <a:pt x="13946" y="144287"/>
                      <a:pt x="8582" y="163597"/>
                    </a:cubicBezTo>
                    <a:cubicBezTo>
                      <a:pt x="3218" y="182907"/>
                      <a:pt x="0" y="194707"/>
                      <a:pt x="0" y="194707"/>
                    </a:cubicBezTo>
                    <a:cubicBezTo>
                      <a:pt x="0" y="194707"/>
                      <a:pt x="536" y="191489"/>
                      <a:pt x="1609" y="186125"/>
                    </a:cubicBezTo>
                    <a:cubicBezTo>
                      <a:pt x="2682" y="180761"/>
                      <a:pt x="4291" y="172715"/>
                      <a:pt x="6437" y="163060"/>
                    </a:cubicBezTo>
                    <a:cubicBezTo>
                      <a:pt x="10728" y="143751"/>
                      <a:pt x="17164" y="116395"/>
                      <a:pt x="28965" y="87967"/>
                    </a:cubicBezTo>
                    <a:cubicBezTo>
                      <a:pt x="34865" y="74021"/>
                      <a:pt x="41838" y="60611"/>
                      <a:pt x="49347" y="49347"/>
                    </a:cubicBezTo>
                    <a:cubicBezTo>
                      <a:pt x="56857" y="38083"/>
                      <a:pt x="64366" y="28965"/>
                      <a:pt x="70803" y="21455"/>
                    </a:cubicBezTo>
                    <a:cubicBezTo>
                      <a:pt x="77776" y="13946"/>
                      <a:pt x="83676" y="8582"/>
                      <a:pt x="87967" y="5364"/>
                    </a:cubicBezTo>
                    <a:cubicBezTo>
                      <a:pt x="90113" y="3755"/>
                      <a:pt x="91722" y="2146"/>
                      <a:pt x="93331" y="1609"/>
                    </a:cubicBezTo>
                    <a:cubicBezTo>
                      <a:pt x="94404" y="536"/>
                      <a:pt x="94940" y="0"/>
                      <a:pt x="94940" y="0"/>
                    </a:cubicBezTo>
                    <a:cubicBezTo>
                      <a:pt x="94940" y="0"/>
                      <a:pt x="94404" y="536"/>
                      <a:pt x="93331" y="1609"/>
                    </a:cubicBezTo>
                    <a:cubicBezTo>
                      <a:pt x="92258" y="2682"/>
                      <a:pt x="90649" y="3755"/>
                      <a:pt x="88503" y="5900"/>
                    </a:cubicBezTo>
                    <a:cubicBezTo>
                      <a:pt x="84212" y="9655"/>
                      <a:pt x="78848" y="15555"/>
                      <a:pt x="72412" y="23064"/>
                    </a:cubicBezTo>
                    <a:cubicBezTo>
                      <a:pt x="65975" y="30574"/>
                      <a:pt x="59002" y="40229"/>
                      <a:pt x="52029" y="51493"/>
                    </a:cubicBezTo>
                    <a:cubicBezTo>
                      <a:pt x="45593" y="62220"/>
                      <a:pt x="39156" y="75630"/>
                      <a:pt x="33256" y="89576"/>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59" name="Freeform: Shape 466"/>
              <p:cNvSpPr/>
              <p:nvPr/>
            </p:nvSpPr>
            <p:spPr>
              <a:xfrm>
                <a:off x="10865160" y="2138040"/>
                <a:ext cx="8280" cy="95400"/>
              </a:xfrm>
              <a:custGeom>
                <a:avLst/>
                <a:gdLst/>
                <a:ahLst/>
                <a:rect l="l" t="t" r="r" b="b"/>
                <a:pathLst>
                  <a:path w="11080" h="122831">
                    <a:moveTo>
                      <a:pt x="10191" y="61684"/>
                    </a:moveTo>
                    <a:cubicBezTo>
                      <a:pt x="9119" y="78848"/>
                      <a:pt x="6437" y="93867"/>
                      <a:pt x="4291" y="105131"/>
                    </a:cubicBezTo>
                    <a:cubicBezTo>
                      <a:pt x="3218" y="110495"/>
                      <a:pt x="2146" y="114786"/>
                      <a:pt x="1073" y="118004"/>
                    </a:cubicBezTo>
                    <a:cubicBezTo>
                      <a:pt x="536" y="121223"/>
                      <a:pt x="0" y="122832"/>
                      <a:pt x="0" y="122832"/>
                    </a:cubicBezTo>
                    <a:cubicBezTo>
                      <a:pt x="0" y="122832"/>
                      <a:pt x="536" y="115859"/>
                      <a:pt x="2146" y="105131"/>
                    </a:cubicBezTo>
                    <a:cubicBezTo>
                      <a:pt x="3218" y="93867"/>
                      <a:pt x="4827" y="78848"/>
                      <a:pt x="5900" y="61684"/>
                    </a:cubicBezTo>
                    <a:cubicBezTo>
                      <a:pt x="6973" y="45056"/>
                      <a:pt x="8046" y="29501"/>
                      <a:pt x="8582" y="18237"/>
                    </a:cubicBezTo>
                    <a:cubicBezTo>
                      <a:pt x="9119" y="6973"/>
                      <a:pt x="9119" y="0"/>
                      <a:pt x="9119" y="0"/>
                    </a:cubicBezTo>
                    <a:cubicBezTo>
                      <a:pt x="9119" y="0"/>
                      <a:pt x="9119" y="1609"/>
                      <a:pt x="9655" y="4827"/>
                    </a:cubicBezTo>
                    <a:cubicBezTo>
                      <a:pt x="10191" y="8046"/>
                      <a:pt x="10191" y="12337"/>
                      <a:pt x="10728" y="18237"/>
                    </a:cubicBezTo>
                    <a:cubicBezTo>
                      <a:pt x="11264" y="29501"/>
                      <a:pt x="11264" y="45056"/>
                      <a:pt x="10191" y="616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60" name="Freeform: Shape 467"/>
              <p:cNvSpPr/>
              <p:nvPr/>
            </p:nvSpPr>
            <p:spPr>
              <a:xfrm>
                <a:off x="10812960" y="1986840"/>
                <a:ext cx="64080" cy="137160"/>
              </a:xfrm>
              <a:custGeom>
                <a:avLst/>
                <a:gdLst/>
                <a:ahLst/>
                <a:rect l="l" t="t" r="r" b="b"/>
                <a:pathLst>
                  <a:path w="82603" h="176470">
                    <a:moveTo>
                      <a:pt x="62221" y="78848"/>
                    </a:moveTo>
                    <a:cubicBezTo>
                      <a:pt x="68121" y="91721"/>
                      <a:pt x="72412" y="104058"/>
                      <a:pt x="75630" y="115859"/>
                    </a:cubicBezTo>
                    <a:cubicBezTo>
                      <a:pt x="77239" y="121759"/>
                      <a:pt x="78312" y="127123"/>
                      <a:pt x="79385" y="132487"/>
                    </a:cubicBezTo>
                    <a:cubicBezTo>
                      <a:pt x="79921" y="135168"/>
                      <a:pt x="80458" y="137850"/>
                      <a:pt x="80458" y="139996"/>
                    </a:cubicBezTo>
                    <a:cubicBezTo>
                      <a:pt x="80994" y="142678"/>
                      <a:pt x="80994" y="144823"/>
                      <a:pt x="81530" y="146969"/>
                    </a:cubicBezTo>
                    <a:cubicBezTo>
                      <a:pt x="82067" y="151260"/>
                      <a:pt x="82067" y="155551"/>
                      <a:pt x="82603" y="159306"/>
                    </a:cubicBezTo>
                    <a:cubicBezTo>
                      <a:pt x="82603" y="160915"/>
                      <a:pt x="82603" y="162524"/>
                      <a:pt x="82603" y="164133"/>
                    </a:cubicBezTo>
                    <a:cubicBezTo>
                      <a:pt x="82603" y="165742"/>
                      <a:pt x="82603" y="167351"/>
                      <a:pt x="82603" y="168424"/>
                    </a:cubicBezTo>
                    <a:cubicBezTo>
                      <a:pt x="82603" y="173252"/>
                      <a:pt x="82603" y="176470"/>
                      <a:pt x="82603" y="176470"/>
                    </a:cubicBezTo>
                    <a:cubicBezTo>
                      <a:pt x="82603" y="176470"/>
                      <a:pt x="82603" y="173788"/>
                      <a:pt x="82067" y="168424"/>
                    </a:cubicBezTo>
                    <a:cubicBezTo>
                      <a:pt x="82067" y="167351"/>
                      <a:pt x="82067" y="165742"/>
                      <a:pt x="81530" y="164133"/>
                    </a:cubicBezTo>
                    <a:cubicBezTo>
                      <a:pt x="81530" y="162524"/>
                      <a:pt x="80994" y="160915"/>
                      <a:pt x="80994" y="159306"/>
                    </a:cubicBezTo>
                    <a:cubicBezTo>
                      <a:pt x="80458" y="155551"/>
                      <a:pt x="79921" y="151796"/>
                      <a:pt x="79385" y="146969"/>
                    </a:cubicBezTo>
                    <a:cubicBezTo>
                      <a:pt x="78848" y="144823"/>
                      <a:pt x="78848" y="142678"/>
                      <a:pt x="78312" y="139996"/>
                    </a:cubicBezTo>
                    <a:cubicBezTo>
                      <a:pt x="77776" y="137314"/>
                      <a:pt x="77239" y="135168"/>
                      <a:pt x="76703" y="132487"/>
                    </a:cubicBezTo>
                    <a:cubicBezTo>
                      <a:pt x="75630" y="127123"/>
                      <a:pt x="74021" y="121759"/>
                      <a:pt x="72412" y="115859"/>
                    </a:cubicBezTo>
                    <a:cubicBezTo>
                      <a:pt x="68657" y="104595"/>
                      <a:pt x="64366" y="92258"/>
                      <a:pt x="58466" y="79921"/>
                    </a:cubicBezTo>
                    <a:cubicBezTo>
                      <a:pt x="52566" y="67584"/>
                      <a:pt x="46129" y="56320"/>
                      <a:pt x="39692" y="46129"/>
                    </a:cubicBezTo>
                    <a:cubicBezTo>
                      <a:pt x="36474" y="41301"/>
                      <a:pt x="33256" y="36474"/>
                      <a:pt x="30038" y="32183"/>
                    </a:cubicBezTo>
                    <a:cubicBezTo>
                      <a:pt x="28428" y="30037"/>
                      <a:pt x="26819" y="27892"/>
                      <a:pt x="25210" y="26283"/>
                    </a:cubicBezTo>
                    <a:cubicBezTo>
                      <a:pt x="23601" y="24137"/>
                      <a:pt x="21992" y="22528"/>
                      <a:pt x="20383" y="20919"/>
                    </a:cubicBezTo>
                    <a:cubicBezTo>
                      <a:pt x="17701" y="17164"/>
                      <a:pt x="14482" y="14482"/>
                      <a:pt x="12337" y="11800"/>
                    </a:cubicBezTo>
                    <a:cubicBezTo>
                      <a:pt x="11264" y="10728"/>
                      <a:pt x="10191" y="9118"/>
                      <a:pt x="9119" y="8046"/>
                    </a:cubicBezTo>
                    <a:cubicBezTo>
                      <a:pt x="8046" y="6973"/>
                      <a:pt x="6973" y="5900"/>
                      <a:pt x="5900" y="5364"/>
                    </a:cubicBezTo>
                    <a:cubicBezTo>
                      <a:pt x="2146" y="1609"/>
                      <a:pt x="0" y="0"/>
                      <a:pt x="0" y="0"/>
                    </a:cubicBezTo>
                    <a:cubicBezTo>
                      <a:pt x="0" y="0"/>
                      <a:pt x="2146" y="1609"/>
                      <a:pt x="5900" y="4827"/>
                    </a:cubicBezTo>
                    <a:cubicBezTo>
                      <a:pt x="6973" y="5900"/>
                      <a:pt x="8046" y="6437"/>
                      <a:pt x="9119" y="7509"/>
                    </a:cubicBezTo>
                    <a:cubicBezTo>
                      <a:pt x="10191" y="8582"/>
                      <a:pt x="11264" y="9655"/>
                      <a:pt x="12873" y="10728"/>
                    </a:cubicBezTo>
                    <a:cubicBezTo>
                      <a:pt x="15555" y="13410"/>
                      <a:pt x="18773" y="16091"/>
                      <a:pt x="21455" y="19310"/>
                    </a:cubicBezTo>
                    <a:cubicBezTo>
                      <a:pt x="23065" y="20919"/>
                      <a:pt x="24674" y="22528"/>
                      <a:pt x="26283" y="24673"/>
                    </a:cubicBezTo>
                    <a:cubicBezTo>
                      <a:pt x="27892" y="26283"/>
                      <a:pt x="29501" y="28428"/>
                      <a:pt x="31110" y="30574"/>
                    </a:cubicBezTo>
                    <a:cubicBezTo>
                      <a:pt x="34865" y="34865"/>
                      <a:pt x="38083" y="39156"/>
                      <a:pt x="41838" y="43983"/>
                    </a:cubicBezTo>
                    <a:cubicBezTo>
                      <a:pt x="49347" y="54711"/>
                      <a:pt x="56320" y="66511"/>
                      <a:pt x="62221"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61" name="Freeform: Shape 468"/>
              <p:cNvSpPr/>
              <p:nvPr/>
            </p:nvSpPr>
            <p:spPr>
              <a:xfrm>
                <a:off x="10692360" y="2162520"/>
                <a:ext cx="5040" cy="80280"/>
              </a:xfrm>
              <a:custGeom>
                <a:avLst/>
                <a:gdLst/>
                <a:ahLst/>
                <a:rect l="l" t="t" r="r" b="b"/>
                <a:pathLst>
                  <a:path w="6789" h="103522">
                    <a:moveTo>
                      <a:pt x="4643" y="52029"/>
                    </a:moveTo>
                    <a:cubicBezTo>
                      <a:pt x="5180" y="66511"/>
                      <a:pt x="5716" y="79385"/>
                      <a:pt x="6253" y="88503"/>
                    </a:cubicBezTo>
                    <a:cubicBezTo>
                      <a:pt x="6789" y="98158"/>
                      <a:pt x="6789" y="103522"/>
                      <a:pt x="6789" y="103522"/>
                    </a:cubicBezTo>
                    <a:cubicBezTo>
                      <a:pt x="6789" y="103522"/>
                      <a:pt x="5716" y="97622"/>
                      <a:pt x="4107" y="88503"/>
                    </a:cubicBezTo>
                    <a:cubicBezTo>
                      <a:pt x="2498" y="79385"/>
                      <a:pt x="889" y="65975"/>
                      <a:pt x="352" y="52029"/>
                    </a:cubicBezTo>
                    <a:cubicBezTo>
                      <a:pt x="-184" y="37547"/>
                      <a:pt x="-184" y="24674"/>
                      <a:pt x="889" y="15019"/>
                    </a:cubicBezTo>
                    <a:cubicBezTo>
                      <a:pt x="1425" y="5364"/>
                      <a:pt x="2498" y="0"/>
                      <a:pt x="2498" y="0"/>
                    </a:cubicBezTo>
                    <a:cubicBezTo>
                      <a:pt x="2498" y="0"/>
                      <a:pt x="3034" y="5900"/>
                      <a:pt x="3571" y="15019"/>
                    </a:cubicBezTo>
                    <a:cubicBezTo>
                      <a:pt x="3034" y="24674"/>
                      <a:pt x="3571" y="38083"/>
                      <a:pt x="4643" y="52029"/>
                    </a:cubicBezTo>
                    <a:close/>
                  </a:path>
                </a:pathLst>
              </a:custGeom>
              <a:solidFill>
                <a:srgbClr val="c79568"/>
              </a:solidFill>
              <a:ln w="0">
                <a:noFill/>
              </a:ln>
            </p:spPr>
            <p:style>
              <a:lnRef idx="0"/>
              <a:fillRef idx="0"/>
              <a:effectRef idx="0"/>
              <a:fontRef idx="minor"/>
            </p:style>
            <p:txBody>
              <a:bodyPr lIns="90000" rIns="90000" tIns="33480" bIns="33480" anchor="ctr">
                <a:noAutofit/>
              </a:bodyPr>
              <a:p>
                <a:endParaRPr b="0" lang="en-US" sz="1800" spc="-1" strike="noStrike">
                  <a:solidFill>
                    <a:srgbClr val="313c3f"/>
                  </a:solidFill>
                  <a:latin typeface="Source Sans Pro"/>
                </a:endParaRPr>
              </a:p>
            </p:txBody>
          </p:sp>
          <p:grpSp>
            <p:nvGrpSpPr>
              <p:cNvPr id="2662" name="Graphic 120"/>
              <p:cNvGrpSpPr/>
              <p:nvPr/>
            </p:nvGrpSpPr>
            <p:grpSpPr>
              <a:xfrm>
                <a:off x="10796040" y="2113560"/>
                <a:ext cx="45720" cy="20520"/>
                <a:chOff x="10796040" y="2113560"/>
                <a:chExt cx="45720" cy="20520"/>
              </a:xfrm>
            </p:grpSpPr>
            <p:sp>
              <p:nvSpPr>
                <p:cNvPr id="2663" name="Freeform: Shape 481"/>
                <p:cNvSpPr/>
                <p:nvPr/>
              </p:nvSpPr>
              <p:spPr>
                <a:xfrm>
                  <a:off x="10796040" y="2115360"/>
                  <a:ext cx="37800" cy="15840"/>
                </a:xfrm>
                <a:custGeom>
                  <a:avLst/>
                  <a:gdLst/>
                  <a:ahLst/>
                  <a:rect l="l" t="t" r="r" b="b"/>
                  <a:pathLst>
                    <a:path w="48404" h="20299">
                      <a:moveTo>
                        <a:pt x="47332" y="5141"/>
                      </a:moveTo>
                      <a:cubicBezTo>
                        <a:pt x="47868" y="5141"/>
                        <a:pt x="47868" y="5677"/>
                        <a:pt x="48405" y="5677"/>
                      </a:cubicBezTo>
                      <a:cubicBezTo>
                        <a:pt x="48405" y="5677"/>
                        <a:pt x="48405" y="6214"/>
                        <a:pt x="48405" y="6214"/>
                      </a:cubicBezTo>
                      <a:cubicBezTo>
                        <a:pt x="48405" y="8359"/>
                        <a:pt x="47868" y="11041"/>
                        <a:pt x="46259" y="12650"/>
                      </a:cubicBezTo>
                      <a:cubicBezTo>
                        <a:pt x="43577" y="15332"/>
                        <a:pt x="43041" y="16405"/>
                        <a:pt x="39286" y="18014"/>
                      </a:cubicBezTo>
                      <a:cubicBezTo>
                        <a:pt x="35531" y="19623"/>
                        <a:pt x="26949" y="20696"/>
                        <a:pt x="22658" y="20160"/>
                      </a:cubicBezTo>
                      <a:cubicBezTo>
                        <a:pt x="21049" y="19623"/>
                        <a:pt x="19976" y="19623"/>
                        <a:pt x="18367" y="19087"/>
                      </a:cubicBezTo>
                      <a:cubicBezTo>
                        <a:pt x="15149" y="18014"/>
                        <a:pt x="11931" y="17478"/>
                        <a:pt x="8176" y="17478"/>
                      </a:cubicBezTo>
                      <a:cubicBezTo>
                        <a:pt x="7103" y="17478"/>
                        <a:pt x="1203" y="19087"/>
                        <a:pt x="130" y="19087"/>
                      </a:cubicBezTo>
                      <a:cubicBezTo>
                        <a:pt x="-943" y="18551"/>
                        <a:pt x="4957" y="10505"/>
                        <a:pt x="5494" y="9968"/>
                      </a:cubicBezTo>
                      <a:cubicBezTo>
                        <a:pt x="7639" y="7286"/>
                        <a:pt x="10858" y="6214"/>
                        <a:pt x="13540" y="4605"/>
                      </a:cubicBezTo>
                      <a:cubicBezTo>
                        <a:pt x="16758" y="2459"/>
                        <a:pt x="20513" y="2459"/>
                        <a:pt x="24267" y="850"/>
                      </a:cubicBezTo>
                      <a:cubicBezTo>
                        <a:pt x="26413" y="314"/>
                        <a:pt x="28558" y="-759"/>
                        <a:pt x="30704" y="850"/>
                      </a:cubicBezTo>
                      <a:cubicBezTo>
                        <a:pt x="30704" y="850"/>
                        <a:pt x="28558" y="1386"/>
                        <a:pt x="28558" y="1923"/>
                      </a:cubicBezTo>
                      <a:cubicBezTo>
                        <a:pt x="30168" y="2459"/>
                        <a:pt x="31777" y="2459"/>
                        <a:pt x="32849" y="2995"/>
                      </a:cubicBezTo>
                      <a:cubicBezTo>
                        <a:pt x="34459" y="3532"/>
                        <a:pt x="36068" y="3532"/>
                        <a:pt x="37677" y="4068"/>
                      </a:cubicBezTo>
                      <a:cubicBezTo>
                        <a:pt x="41432" y="2995"/>
                        <a:pt x="44650" y="4068"/>
                        <a:pt x="47332" y="5141"/>
                      </a:cubicBezTo>
                      <a:close/>
                    </a:path>
                  </a:pathLst>
                </a:custGeom>
                <a:solidFill>
                  <a:srgbClr val="ffffff"/>
                </a:solidFill>
                <a:ln w="0">
                  <a:noFill/>
                </a:ln>
              </p:spPr>
              <p:style>
                <a:lnRef idx="0"/>
                <a:fillRef idx="0"/>
                <a:effectRef idx="0"/>
                <a:fontRef idx="minor"/>
              </p:style>
              <p:txBody>
                <a:bodyPr lIns="90000" rIns="90000" tIns="-30960" bIns="-30960" anchor="ctr">
                  <a:noAutofit/>
                </a:bodyPr>
                <a:p>
                  <a:endParaRPr b="0" lang="en-US" sz="1800" spc="-1" strike="noStrike">
                    <a:solidFill>
                      <a:srgbClr val="313c3f"/>
                    </a:solidFill>
                    <a:latin typeface="Source Sans Pro"/>
                  </a:endParaRPr>
                </a:p>
              </p:txBody>
            </p:sp>
            <p:sp>
              <p:nvSpPr>
                <p:cNvPr id="2664" name="Freeform: Shape 482"/>
                <p:cNvSpPr/>
                <p:nvPr/>
              </p:nvSpPr>
              <p:spPr>
                <a:xfrm>
                  <a:off x="10796040" y="2113560"/>
                  <a:ext cx="45720" cy="20520"/>
                </a:xfrm>
                <a:custGeom>
                  <a:avLst/>
                  <a:gdLst/>
                  <a:ahLst/>
                  <a:rect l="l" t="t" r="r" b="b"/>
                  <a:pathLst>
                    <a:path w="59002" h="26548">
                      <a:moveTo>
                        <a:pt x="-7070" y="8046"/>
                      </a:moveTo>
                      <a:cubicBezTo>
                        <a:pt x="-7606" y="8046"/>
                        <a:pt x="-8143" y="8046"/>
                        <a:pt x="-9216" y="8046"/>
                      </a:cubicBezTo>
                      <a:cubicBezTo>
                        <a:pt x="-10825" y="8046"/>
                        <a:pt x="-13507" y="7509"/>
                        <a:pt x="-16189" y="6973"/>
                      </a:cubicBezTo>
                      <a:cubicBezTo>
                        <a:pt x="-17261" y="6973"/>
                        <a:pt x="-18334" y="6437"/>
                        <a:pt x="-19407" y="5900"/>
                      </a:cubicBezTo>
                      <a:cubicBezTo>
                        <a:pt x="-19407" y="5900"/>
                        <a:pt x="-19407" y="5900"/>
                        <a:pt x="-19943" y="5900"/>
                      </a:cubicBezTo>
                      <a:cubicBezTo>
                        <a:pt x="-18871" y="5900"/>
                        <a:pt x="-17798" y="5364"/>
                        <a:pt x="-16725" y="4827"/>
                      </a:cubicBezTo>
                      <a:cubicBezTo>
                        <a:pt x="-14580" y="4291"/>
                        <a:pt x="-13507" y="3218"/>
                        <a:pt x="-13507" y="3218"/>
                      </a:cubicBezTo>
                      <a:cubicBezTo>
                        <a:pt x="-13507" y="3218"/>
                        <a:pt x="-15116" y="3218"/>
                        <a:pt x="-17261" y="3755"/>
                      </a:cubicBezTo>
                      <a:cubicBezTo>
                        <a:pt x="-18871" y="3755"/>
                        <a:pt x="-21016" y="4291"/>
                        <a:pt x="-23698" y="4291"/>
                      </a:cubicBezTo>
                      <a:cubicBezTo>
                        <a:pt x="-23698" y="4291"/>
                        <a:pt x="-24234" y="4291"/>
                        <a:pt x="-24234" y="3755"/>
                      </a:cubicBezTo>
                      <a:cubicBezTo>
                        <a:pt x="-24771" y="3755"/>
                        <a:pt x="-24771" y="3755"/>
                        <a:pt x="-24771" y="3218"/>
                      </a:cubicBezTo>
                      <a:cubicBezTo>
                        <a:pt x="-23162" y="2682"/>
                        <a:pt x="-22089" y="2146"/>
                        <a:pt x="-21016" y="1609"/>
                      </a:cubicBezTo>
                      <a:cubicBezTo>
                        <a:pt x="-19407" y="536"/>
                        <a:pt x="-18871" y="0"/>
                        <a:pt x="-18871" y="0"/>
                      </a:cubicBezTo>
                      <a:cubicBezTo>
                        <a:pt x="-18871" y="0"/>
                        <a:pt x="-19943" y="0"/>
                        <a:pt x="-21552" y="536"/>
                      </a:cubicBezTo>
                      <a:cubicBezTo>
                        <a:pt x="-23162" y="1073"/>
                        <a:pt x="-25307" y="1073"/>
                        <a:pt x="-27453" y="1609"/>
                      </a:cubicBezTo>
                      <a:cubicBezTo>
                        <a:pt x="-28525" y="1609"/>
                        <a:pt x="-29598" y="2146"/>
                        <a:pt x="-30671" y="2146"/>
                      </a:cubicBezTo>
                      <a:cubicBezTo>
                        <a:pt x="-31207" y="2146"/>
                        <a:pt x="-31744" y="2146"/>
                        <a:pt x="-32280" y="2146"/>
                      </a:cubicBezTo>
                      <a:cubicBezTo>
                        <a:pt x="31110" y="1609"/>
                        <a:pt x="28428" y="1073"/>
                        <a:pt x="25746" y="1073"/>
                      </a:cubicBezTo>
                      <a:cubicBezTo>
                        <a:pt x="23065" y="1073"/>
                        <a:pt x="20919" y="1073"/>
                        <a:pt x="18773" y="1609"/>
                      </a:cubicBezTo>
                      <a:cubicBezTo>
                        <a:pt x="16628" y="2146"/>
                        <a:pt x="14482" y="3218"/>
                        <a:pt x="12337" y="4291"/>
                      </a:cubicBezTo>
                      <a:cubicBezTo>
                        <a:pt x="8582" y="6437"/>
                        <a:pt x="5900" y="9118"/>
                        <a:pt x="3755" y="11800"/>
                      </a:cubicBezTo>
                      <a:cubicBezTo>
                        <a:pt x="2146" y="14482"/>
                        <a:pt x="1073" y="16628"/>
                        <a:pt x="536" y="18237"/>
                      </a:cubicBezTo>
                      <a:cubicBezTo>
                        <a:pt x="0" y="18773"/>
                        <a:pt x="0" y="19846"/>
                        <a:pt x="0" y="20382"/>
                      </a:cubicBezTo>
                      <a:cubicBezTo>
                        <a:pt x="0" y="20919"/>
                        <a:pt x="0" y="20919"/>
                        <a:pt x="0" y="20919"/>
                      </a:cubicBezTo>
                      <a:cubicBezTo>
                        <a:pt x="0" y="20919"/>
                        <a:pt x="0" y="20919"/>
                        <a:pt x="536" y="20382"/>
                      </a:cubicBezTo>
                      <a:cubicBezTo>
                        <a:pt x="536" y="19846"/>
                        <a:pt x="1073" y="19310"/>
                        <a:pt x="1609" y="18773"/>
                      </a:cubicBezTo>
                      <a:cubicBezTo>
                        <a:pt x="2682" y="17164"/>
                        <a:pt x="3755" y="15555"/>
                        <a:pt x="5900" y="13410"/>
                      </a:cubicBezTo>
                      <a:cubicBezTo>
                        <a:pt x="8046" y="11264"/>
                        <a:pt x="10728" y="9655"/>
                        <a:pt x="14482" y="8046"/>
                      </a:cubicBezTo>
                      <a:cubicBezTo>
                        <a:pt x="17701" y="6437"/>
                        <a:pt x="21992" y="5900"/>
                        <a:pt x="26283" y="5900"/>
                      </a:cubicBezTo>
                      <a:cubicBezTo>
                        <a:pt x="30574" y="5900"/>
                        <a:pt x="-30671" y="6973"/>
                        <a:pt x="-26916" y="8046"/>
                      </a:cubicBezTo>
                      <a:cubicBezTo>
                        <a:pt x="-25307" y="8582"/>
                        <a:pt x="-24234" y="8582"/>
                        <a:pt x="-22625" y="9118"/>
                      </a:cubicBezTo>
                      <a:cubicBezTo>
                        <a:pt x="-22625" y="9118"/>
                        <a:pt x="-22625" y="9118"/>
                        <a:pt x="-22089" y="9118"/>
                      </a:cubicBezTo>
                      <a:cubicBezTo>
                        <a:pt x="-21552" y="9118"/>
                        <a:pt x="-21552" y="9655"/>
                        <a:pt x="-21016" y="10191"/>
                      </a:cubicBezTo>
                      <a:lnTo>
                        <a:pt x="-20480" y="10728"/>
                      </a:lnTo>
                      <a:cubicBezTo>
                        <a:pt x="-20480" y="10728"/>
                        <a:pt x="-20480" y="10728"/>
                        <a:pt x="-20480" y="10728"/>
                      </a:cubicBezTo>
                      <a:cubicBezTo>
                        <a:pt x="-20480" y="10728"/>
                        <a:pt x="-20480" y="11264"/>
                        <a:pt x="-20480" y="11800"/>
                      </a:cubicBezTo>
                      <a:cubicBezTo>
                        <a:pt x="-20480" y="12337"/>
                        <a:pt x="-20480" y="12873"/>
                        <a:pt x="-20480" y="13410"/>
                      </a:cubicBezTo>
                      <a:cubicBezTo>
                        <a:pt x="-20480" y="13946"/>
                        <a:pt x="-20480" y="14482"/>
                        <a:pt x="-20480" y="15019"/>
                      </a:cubicBezTo>
                      <a:cubicBezTo>
                        <a:pt x="-20480" y="15555"/>
                        <a:pt x="-21016" y="16091"/>
                        <a:pt x="-20480" y="16091"/>
                      </a:cubicBezTo>
                      <a:cubicBezTo>
                        <a:pt x="-21016" y="17164"/>
                        <a:pt x="-22089" y="18237"/>
                        <a:pt x="-23162" y="18773"/>
                      </a:cubicBezTo>
                      <a:cubicBezTo>
                        <a:pt x="-25307" y="19846"/>
                        <a:pt x="-27453" y="20919"/>
                        <a:pt x="-29598" y="21455"/>
                      </a:cubicBezTo>
                      <a:cubicBezTo>
                        <a:pt x="-31744" y="21992"/>
                        <a:pt x="31110" y="21992"/>
                        <a:pt x="28965" y="21992"/>
                      </a:cubicBezTo>
                      <a:cubicBezTo>
                        <a:pt x="24137" y="21992"/>
                        <a:pt x="19846" y="20919"/>
                        <a:pt x="16628" y="20919"/>
                      </a:cubicBezTo>
                      <a:cubicBezTo>
                        <a:pt x="12873" y="20919"/>
                        <a:pt x="10191" y="20919"/>
                        <a:pt x="8046" y="21455"/>
                      </a:cubicBezTo>
                      <a:cubicBezTo>
                        <a:pt x="6973" y="21455"/>
                        <a:pt x="6437" y="21992"/>
                        <a:pt x="5900" y="21992"/>
                      </a:cubicBezTo>
                      <a:cubicBezTo>
                        <a:pt x="5364" y="21992"/>
                        <a:pt x="5364" y="22528"/>
                        <a:pt x="5364" y="22528"/>
                      </a:cubicBezTo>
                      <a:cubicBezTo>
                        <a:pt x="5364" y="22528"/>
                        <a:pt x="5900" y="22528"/>
                        <a:pt x="6437" y="22528"/>
                      </a:cubicBezTo>
                      <a:cubicBezTo>
                        <a:pt x="6973" y="22528"/>
                        <a:pt x="7509" y="22528"/>
                        <a:pt x="8582" y="22528"/>
                      </a:cubicBezTo>
                      <a:cubicBezTo>
                        <a:pt x="10728" y="22528"/>
                        <a:pt x="13410" y="22528"/>
                        <a:pt x="17164" y="23601"/>
                      </a:cubicBezTo>
                      <a:cubicBezTo>
                        <a:pt x="20383" y="24137"/>
                        <a:pt x="24674" y="25746"/>
                        <a:pt x="29501" y="26283"/>
                      </a:cubicBezTo>
                      <a:cubicBezTo>
                        <a:pt x="-31207" y="26819"/>
                        <a:pt x="-24771" y="26819"/>
                        <a:pt x="-19407" y="23601"/>
                      </a:cubicBezTo>
                      <a:cubicBezTo>
                        <a:pt x="-17798" y="22528"/>
                        <a:pt x="-16189" y="20919"/>
                        <a:pt x="-15116" y="19846"/>
                      </a:cubicBezTo>
                      <a:cubicBezTo>
                        <a:pt x="-14580" y="18773"/>
                        <a:pt x="-14580" y="17701"/>
                        <a:pt x="-14043" y="17164"/>
                      </a:cubicBezTo>
                      <a:cubicBezTo>
                        <a:pt x="-14043" y="16628"/>
                        <a:pt x="-14043" y="15555"/>
                        <a:pt x="-14043" y="15019"/>
                      </a:cubicBezTo>
                      <a:cubicBezTo>
                        <a:pt x="-14043" y="14482"/>
                        <a:pt x="-14043" y="13410"/>
                        <a:pt x="-14043" y="12873"/>
                      </a:cubicBezTo>
                      <a:cubicBezTo>
                        <a:pt x="-14043" y="12337"/>
                        <a:pt x="-14043" y="12337"/>
                        <a:pt x="-14580" y="11800"/>
                      </a:cubicBezTo>
                      <a:cubicBezTo>
                        <a:pt x="-14580" y="11800"/>
                        <a:pt x="-14580" y="11800"/>
                        <a:pt x="-14580" y="11800"/>
                      </a:cubicBezTo>
                      <a:cubicBezTo>
                        <a:pt x="-11361" y="11800"/>
                        <a:pt x="-9216" y="11800"/>
                        <a:pt x="-7070" y="11264"/>
                      </a:cubicBezTo>
                      <a:cubicBezTo>
                        <a:pt x="-8143" y="8582"/>
                        <a:pt x="-7606" y="8046"/>
                        <a:pt x="-7070" y="8046"/>
                      </a:cubicBezTo>
                      <a:cubicBezTo>
                        <a:pt x="-6534" y="8046"/>
                        <a:pt x="-6534" y="8046"/>
                        <a:pt x="-6534" y="8046"/>
                      </a:cubicBezTo>
                      <a:cubicBezTo>
                        <a:pt x="-6534" y="8046"/>
                        <a:pt x="-6534" y="7509"/>
                        <a:pt x="-7070"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313c3f"/>
                    </a:solidFill>
                    <a:latin typeface="Source Sans Pro"/>
                  </a:endParaRPr>
                </a:p>
              </p:txBody>
            </p:sp>
            <p:sp>
              <p:nvSpPr>
                <p:cNvPr id="2665" name="Freeform: Shape 483"/>
                <p:cNvSpPr/>
                <p:nvPr/>
              </p:nvSpPr>
              <p:spPr>
                <a:xfrm>
                  <a:off x="10810440" y="2116440"/>
                  <a:ext cx="13320" cy="10800"/>
                </a:xfrm>
                <a:custGeom>
                  <a:avLst/>
                  <a:gdLst/>
                  <a:ahLst/>
                  <a:rect l="l" t="t" r="r" b="b"/>
                  <a:pathLst>
                    <a:path w="17164" h="13888">
                      <a:moveTo>
                        <a:pt x="17164" y="5307"/>
                      </a:moveTo>
                      <a:cubicBezTo>
                        <a:pt x="17164" y="10134"/>
                        <a:pt x="13410" y="13889"/>
                        <a:pt x="8582" y="13889"/>
                      </a:cubicBezTo>
                      <a:cubicBezTo>
                        <a:pt x="3755" y="13889"/>
                        <a:pt x="0" y="10134"/>
                        <a:pt x="0" y="5307"/>
                      </a:cubicBezTo>
                      <a:cubicBezTo>
                        <a:pt x="0" y="3697"/>
                        <a:pt x="536" y="2088"/>
                        <a:pt x="1073" y="1016"/>
                      </a:cubicBezTo>
                      <a:cubicBezTo>
                        <a:pt x="4828" y="-594"/>
                        <a:pt x="9655" y="-57"/>
                        <a:pt x="13410" y="1016"/>
                      </a:cubicBezTo>
                      <a:cubicBezTo>
                        <a:pt x="14482" y="1016"/>
                        <a:pt x="15019" y="1552"/>
                        <a:pt x="16092" y="1552"/>
                      </a:cubicBezTo>
                      <a:cubicBezTo>
                        <a:pt x="17164" y="2625"/>
                        <a:pt x="17164" y="4234"/>
                        <a:pt x="17164" y="5307"/>
                      </a:cubicBezTo>
                      <a:close/>
                    </a:path>
                  </a:pathLst>
                </a:custGeom>
                <a:solidFill>
                  <a:srgbClr val="27aae1"/>
                </a:solidFill>
                <a:ln w="54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2666" name="Freeform: Shape 484"/>
                <p:cNvSpPr/>
                <p:nvPr/>
              </p:nvSpPr>
              <p:spPr>
                <a:xfrm>
                  <a:off x="10814040" y="2116440"/>
                  <a:ext cx="6840" cy="7560"/>
                </a:xfrm>
                <a:custGeom>
                  <a:avLst/>
                  <a:gdLst/>
                  <a:ahLst/>
                  <a:rect l="l" t="t" r="r" b="b"/>
                  <a:pathLst>
                    <a:path w="9118" h="9654">
                      <a:moveTo>
                        <a:pt x="9118" y="4828"/>
                      </a:moveTo>
                      <a:cubicBezTo>
                        <a:pt x="9118" y="5364"/>
                        <a:pt x="9118" y="5364"/>
                        <a:pt x="9118" y="5900"/>
                      </a:cubicBezTo>
                      <a:cubicBezTo>
                        <a:pt x="9118" y="5900"/>
                        <a:pt x="9118" y="6437"/>
                        <a:pt x="9118" y="6437"/>
                      </a:cubicBezTo>
                      <a:cubicBezTo>
                        <a:pt x="9118" y="6973"/>
                        <a:pt x="8582" y="7509"/>
                        <a:pt x="8046" y="8046"/>
                      </a:cubicBezTo>
                      <a:cubicBezTo>
                        <a:pt x="8046" y="8046"/>
                        <a:pt x="7509" y="8582"/>
                        <a:pt x="7509" y="8582"/>
                      </a:cubicBezTo>
                      <a:cubicBezTo>
                        <a:pt x="7509" y="8582"/>
                        <a:pt x="7509" y="8582"/>
                        <a:pt x="7509" y="8582"/>
                      </a:cubicBezTo>
                      <a:cubicBezTo>
                        <a:pt x="6973" y="9119"/>
                        <a:pt x="5900" y="9655"/>
                        <a:pt x="4827" y="9655"/>
                      </a:cubicBezTo>
                      <a:cubicBezTo>
                        <a:pt x="2146" y="9655"/>
                        <a:pt x="0" y="7509"/>
                        <a:pt x="0" y="4828"/>
                      </a:cubicBezTo>
                      <a:cubicBezTo>
                        <a:pt x="0" y="2146"/>
                        <a:pt x="2146" y="0"/>
                        <a:pt x="4827" y="0"/>
                      </a:cubicBezTo>
                      <a:cubicBezTo>
                        <a:pt x="7509" y="0"/>
                        <a:pt x="9118" y="2146"/>
                        <a:pt x="9118" y="4828"/>
                      </a:cubicBezTo>
                      <a:close/>
                    </a:path>
                  </a:pathLst>
                </a:custGeom>
                <a:solidFill>
                  <a:srgbClr val="000000"/>
                </a:solidFill>
                <a:ln w="0">
                  <a:noFill/>
                </a:ln>
              </p:spPr>
              <p:style>
                <a:lnRef idx="0"/>
                <a:fillRef idx="0"/>
                <a:effectRef idx="0"/>
                <a:fontRef idx="minor"/>
              </p:style>
              <p:txBody>
                <a:bodyPr lIns="90000" rIns="90000" tIns="-39240" bIns="-39240" anchor="ctr">
                  <a:noAutofit/>
                </a:bodyPr>
                <a:p>
                  <a:endParaRPr b="0" lang="en-US" sz="1800" spc="-1" strike="noStrike">
                    <a:solidFill>
                      <a:srgbClr val="313c3f"/>
                    </a:solidFill>
                    <a:latin typeface="Source Sans Pro"/>
                  </a:endParaRPr>
                </a:p>
              </p:txBody>
            </p:sp>
            <p:sp>
              <p:nvSpPr>
                <p:cNvPr id="2667" name="Freeform: Shape 485"/>
                <p:cNvSpPr/>
                <p:nvPr/>
              </p:nvSpPr>
              <p:spPr>
                <a:xfrm>
                  <a:off x="10818360" y="2117880"/>
                  <a:ext cx="3240" cy="3240"/>
                </a:xfrm>
                <a:custGeom>
                  <a:avLst/>
                  <a:gdLst/>
                  <a:ahLst/>
                  <a:rect l="l" t="t" r="r" b="b"/>
                  <a:pathLst>
                    <a:path w="4291" h="4291">
                      <a:moveTo>
                        <a:pt x="4291" y="2146"/>
                      </a:moveTo>
                      <a:cubicBezTo>
                        <a:pt x="4291" y="3331"/>
                        <a:pt x="3331" y="4291"/>
                        <a:pt x="2146" y="4291"/>
                      </a:cubicBezTo>
                      <a:cubicBezTo>
                        <a:pt x="961" y="4291"/>
                        <a:pt x="0" y="3331"/>
                        <a:pt x="0" y="2146"/>
                      </a:cubicBezTo>
                      <a:cubicBezTo>
                        <a:pt x="0" y="961"/>
                        <a:pt x="961" y="0"/>
                        <a:pt x="2146" y="0"/>
                      </a:cubicBezTo>
                      <a:cubicBezTo>
                        <a:pt x="3331" y="0"/>
                        <a:pt x="4291" y="961"/>
                        <a:pt x="4291" y="2146"/>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313c3f"/>
                    </a:solidFill>
                    <a:latin typeface="Source Sans Pro"/>
                  </a:endParaRPr>
                </a:p>
              </p:txBody>
            </p:sp>
            <p:sp>
              <p:nvSpPr>
                <p:cNvPr id="2668" name="Freeform: Shape 486"/>
                <p:cNvSpPr/>
                <p:nvPr/>
              </p:nvSpPr>
              <p:spPr>
                <a:xfrm>
                  <a:off x="10819440" y="2121120"/>
                  <a:ext cx="2160" cy="2520"/>
                </a:xfrm>
                <a:custGeom>
                  <a:avLst/>
                  <a:gdLst/>
                  <a:ahLst/>
                  <a:rect l="l" t="t" r="r" b="b"/>
                  <a:pathLst>
                    <a:path w="2892" h="3428">
                      <a:moveTo>
                        <a:pt x="2682" y="2146"/>
                      </a:moveTo>
                      <a:cubicBezTo>
                        <a:pt x="2682" y="3218"/>
                        <a:pt x="1609" y="3755"/>
                        <a:pt x="1073" y="3218"/>
                      </a:cubicBezTo>
                      <a:cubicBezTo>
                        <a:pt x="536" y="3218"/>
                        <a:pt x="0" y="2682"/>
                        <a:pt x="0" y="2146"/>
                      </a:cubicBezTo>
                      <a:cubicBezTo>
                        <a:pt x="0" y="2146"/>
                        <a:pt x="0" y="2146"/>
                        <a:pt x="0" y="2146"/>
                      </a:cubicBezTo>
                      <a:cubicBezTo>
                        <a:pt x="0" y="2146"/>
                        <a:pt x="0" y="2146"/>
                        <a:pt x="0" y="2146"/>
                      </a:cubicBezTo>
                      <a:cubicBezTo>
                        <a:pt x="0" y="2146"/>
                        <a:pt x="536" y="1609"/>
                        <a:pt x="536" y="1609"/>
                      </a:cubicBezTo>
                      <a:cubicBezTo>
                        <a:pt x="1073" y="1073"/>
                        <a:pt x="1073" y="536"/>
                        <a:pt x="1609" y="0"/>
                      </a:cubicBezTo>
                      <a:cubicBezTo>
                        <a:pt x="2682" y="536"/>
                        <a:pt x="3218" y="1609"/>
                        <a:pt x="2682" y="2146"/>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313c3f"/>
                    </a:solidFill>
                    <a:latin typeface="Source Sans Pro"/>
                  </a:endParaRPr>
                </a:p>
              </p:txBody>
            </p:sp>
          </p:grpSp>
          <p:sp>
            <p:nvSpPr>
              <p:cNvPr id="2669" name="Freeform: Shape 470"/>
              <p:cNvSpPr/>
              <p:nvPr/>
            </p:nvSpPr>
            <p:spPr>
              <a:xfrm>
                <a:off x="10798920" y="2099160"/>
                <a:ext cx="45360" cy="12600"/>
              </a:xfrm>
              <a:custGeom>
                <a:avLst/>
                <a:gdLst/>
                <a:ahLst/>
                <a:rect l="l" t="t" r="r" b="b"/>
                <a:pathLst>
                  <a:path w="58408" h="16627">
                    <a:moveTo>
                      <a:pt x="1016" y="16628"/>
                    </a:moveTo>
                    <a:cubicBezTo>
                      <a:pt x="-57" y="13946"/>
                      <a:pt x="-594" y="10728"/>
                      <a:pt x="1016" y="9118"/>
                    </a:cubicBezTo>
                    <a:cubicBezTo>
                      <a:pt x="1552" y="8582"/>
                      <a:pt x="2088" y="8582"/>
                      <a:pt x="2625" y="8582"/>
                    </a:cubicBezTo>
                    <a:cubicBezTo>
                      <a:pt x="10134" y="6437"/>
                      <a:pt x="17643" y="4291"/>
                      <a:pt x="25153" y="2146"/>
                    </a:cubicBezTo>
                    <a:cubicBezTo>
                      <a:pt x="29444" y="1073"/>
                      <a:pt x="33735" y="0"/>
                      <a:pt x="38026" y="0"/>
                    </a:cubicBezTo>
                    <a:cubicBezTo>
                      <a:pt x="45535" y="536"/>
                      <a:pt x="51972" y="5900"/>
                      <a:pt x="58409" y="10728"/>
                    </a:cubicBezTo>
                    <a:cubicBezTo>
                      <a:pt x="54654" y="8582"/>
                      <a:pt x="50899" y="6973"/>
                      <a:pt x="47144" y="5364"/>
                    </a:cubicBezTo>
                    <a:cubicBezTo>
                      <a:pt x="44463" y="4291"/>
                      <a:pt x="41781" y="3755"/>
                      <a:pt x="38562" y="3218"/>
                    </a:cubicBezTo>
                    <a:cubicBezTo>
                      <a:pt x="34808" y="3218"/>
                      <a:pt x="31589" y="4291"/>
                      <a:pt x="28371" y="5364"/>
                    </a:cubicBezTo>
                    <a:cubicBezTo>
                      <a:pt x="19253" y="9655"/>
                      <a:pt x="10670" y="15555"/>
                      <a:pt x="1016"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313c3f"/>
                  </a:solidFill>
                  <a:latin typeface="Source Sans Pro"/>
                </a:endParaRPr>
              </a:p>
            </p:txBody>
          </p:sp>
          <p:sp>
            <p:nvSpPr>
              <p:cNvPr id="2670" name="Freeform: Shape 471"/>
              <p:cNvSpPr/>
              <p:nvPr/>
            </p:nvSpPr>
            <p:spPr>
              <a:xfrm>
                <a:off x="10730160" y="2115360"/>
                <a:ext cx="37440" cy="15480"/>
              </a:xfrm>
              <a:custGeom>
                <a:avLst/>
                <a:gdLst/>
                <a:ahLst/>
                <a:rect l="l" t="t" r="r" b="b"/>
                <a:pathLst>
                  <a:path w="48404" h="20299">
                    <a:moveTo>
                      <a:pt x="1073" y="5141"/>
                    </a:moveTo>
                    <a:cubicBezTo>
                      <a:pt x="536" y="5141"/>
                      <a:pt x="536" y="5677"/>
                      <a:pt x="0" y="5677"/>
                    </a:cubicBezTo>
                    <a:cubicBezTo>
                      <a:pt x="0" y="5677"/>
                      <a:pt x="0" y="6214"/>
                      <a:pt x="0" y="6214"/>
                    </a:cubicBezTo>
                    <a:cubicBezTo>
                      <a:pt x="0" y="8359"/>
                      <a:pt x="536" y="11041"/>
                      <a:pt x="2146" y="12650"/>
                    </a:cubicBezTo>
                    <a:cubicBezTo>
                      <a:pt x="4827" y="15332"/>
                      <a:pt x="5364" y="16405"/>
                      <a:pt x="9119" y="18014"/>
                    </a:cubicBezTo>
                    <a:cubicBezTo>
                      <a:pt x="12873" y="19623"/>
                      <a:pt x="21455" y="20696"/>
                      <a:pt x="25746" y="20160"/>
                    </a:cubicBezTo>
                    <a:cubicBezTo>
                      <a:pt x="27356" y="19623"/>
                      <a:pt x="28428" y="19623"/>
                      <a:pt x="30038" y="19087"/>
                    </a:cubicBezTo>
                    <a:cubicBezTo>
                      <a:pt x="33256" y="18014"/>
                      <a:pt x="36474" y="17478"/>
                      <a:pt x="40229" y="17478"/>
                    </a:cubicBezTo>
                    <a:cubicBezTo>
                      <a:pt x="41302" y="17478"/>
                      <a:pt x="47202" y="19087"/>
                      <a:pt x="48275" y="19087"/>
                    </a:cubicBezTo>
                    <a:cubicBezTo>
                      <a:pt x="49347" y="18551"/>
                      <a:pt x="43447" y="10505"/>
                      <a:pt x="42911" y="9968"/>
                    </a:cubicBezTo>
                    <a:cubicBezTo>
                      <a:pt x="40765" y="7286"/>
                      <a:pt x="37547" y="6214"/>
                      <a:pt x="34865" y="4605"/>
                    </a:cubicBezTo>
                    <a:cubicBezTo>
                      <a:pt x="31647" y="2459"/>
                      <a:pt x="27892" y="2459"/>
                      <a:pt x="24137" y="850"/>
                    </a:cubicBezTo>
                    <a:cubicBezTo>
                      <a:pt x="21992" y="314"/>
                      <a:pt x="19846" y="-759"/>
                      <a:pt x="17701" y="850"/>
                    </a:cubicBezTo>
                    <a:cubicBezTo>
                      <a:pt x="17701" y="850"/>
                      <a:pt x="19846" y="1386"/>
                      <a:pt x="19846" y="1923"/>
                    </a:cubicBezTo>
                    <a:cubicBezTo>
                      <a:pt x="18237" y="2459"/>
                      <a:pt x="16628" y="2459"/>
                      <a:pt x="15555" y="2995"/>
                    </a:cubicBezTo>
                    <a:cubicBezTo>
                      <a:pt x="13946" y="3532"/>
                      <a:pt x="12337" y="3532"/>
                      <a:pt x="10728" y="4068"/>
                    </a:cubicBezTo>
                    <a:cubicBezTo>
                      <a:pt x="6973" y="2995"/>
                      <a:pt x="3755" y="4068"/>
                      <a:pt x="1073" y="5141"/>
                    </a:cubicBezTo>
                    <a:close/>
                  </a:path>
                </a:pathLst>
              </a:custGeom>
              <a:solidFill>
                <a:srgbClr val="ffffff"/>
              </a:solidFill>
              <a:ln w="0">
                <a:noFill/>
              </a:ln>
            </p:spPr>
            <p:style>
              <a:lnRef idx="0"/>
              <a:fillRef idx="0"/>
              <a:effectRef idx="0"/>
              <a:fontRef idx="minor"/>
            </p:style>
            <p:txBody>
              <a:bodyPr lIns="90000" rIns="90000" tIns="-31320" bIns="-31320" anchor="ctr">
                <a:noAutofit/>
              </a:bodyPr>
              <a:p>
                <a:endParaRPr b="0" lang="en-US" sz="1800" spc="-1" strike="noStrike">
                  <a:solidFill>
                    <a:srgbClr val="313c3f"/>
                  </a:solidFill>
                  <a:latin typeface="Source Sans Pro"/>
                </a:endParaRPr>
              </a:p>
            </p:txBody>
          </p:sp>
          <p:sp>
            <p:nvSpPr>
              <p:cNvPr id="2671" name="Freeform: Shape 472"/>
              <p:cNvSpPr/>
              <p:nvPr/>
            </p:nvSpPr>
            <p:spPr>
              <a:xfrm>
                <a:off x="10722240" y="2113560"/>
                <a:ext cx="45720" cy="20520"/>
              </a:xfrm>
              <a:custGeom>
                <a:avLst/>
                <a:gdLst/>
                <a:ahLst/>
                <a:rect l="l" t="t" r="r" b="b"/>
                <a:pathLst>
                  <a:path w="59002" h="26548">
                    <a:moveTo>
                      <a:pt x="536" y="8046"/>
                    </a:moveTo>
                    <a:cubicBezTo>
                      <a:pt x="1073" y="8046"/>
                      <a:pt x="1609" y="8046"/>
                      <a:pt x="2682" y="8046"/>
                    </a:cubicBezTo>
                    <a:cubicBezTo>
                      <a:pt x="4291" y="8046"/>
                      <a:pt x="6973" y="7509"/>
                      <a:pt x="9655" y="6973"/>
                    </a:cubicBezTo>
                    <a:cubicBezTo>
                      <a:pt x="10728" y="6973"/>
                      <a:pt x="11800" y="6437"/>
                      <a:pt x="12873" y="5900"/>
                    </a:cubicBezTo>
                    <a:cubicBezTo>
                      <a:pt x="12873" y="5900"/>
                      <a:pt x="12873" y="5900"/>
                      <a:pt x="13410" y="5900"/>
                    </a:cubicBezTo>
                    <a:cubicBezTo>
                      <a:pt x="12337" y="5900"/>
                      <a:pt x="11264" y="5364"/>
                      <a:pt x="10191" y="4827"/>
                    </a:cubicBezTo>
                    <a:cubicBezTo>
                      <a:pt x="8046" y="4291"/>
                      <a:pt x="6973" y="3218"/>
                      <a:pt x="6973" y="3218"/>
                    </a:cubicBezTo>
                    <a:cubicBezTo>
                      <a:pt x="6973" y="3218"/>
                      <a:pt x="8582" y="3218"/>
                      <a:pt x="10728" y="3755"/>
                    </a:cubicBezTo>
                    <a:cubicBezTo>
                      <a:pt x="12337" y="3755"/>
                      <a:pt x="14482" y="4291"/>
                      <a:pt x="17164" y="4291"/>
                    </a:cubicBezTo>
                    <a:cubicBezTo>
                      <a:pt x="17164" y="4291"/>
                      <a:pt x="17701" y="4291"/>
                      <a:pt x="17701" y="3755"/>
                    </a:cubicBezTo>
                    <a:cubicBezTo>
                      <a:pt x="18237" y="3755"/>
                      <a:pt x="18237" y="3755"/>
                      <a:pt x="18237" y="3218"/>
                    </a:cubicBezTo>
                    <a:cubicBezTo>
                      <a:pt x="16628" y="2682"/>
                      <a:pt x="15555" y="2146"/>
                      <a:pt x="14482" y="1609"/>
                    </a:cubicBezTo>
                    <a:cubicBezTo>
                      <a:pt x="12873" y="536"/>
                      <a:pt x="12337" y="0"/>
                      <a:pt x="12337" y="0"/>
                    </a:cubicBezTo>
                    <a:cubicBezTo>
                      <a:pt x="12337" y="0"/>
                      <a:pt x="13410" y="0"/>
                      <a:pt x="15019" y="536"/>
                    </a:cubicBezTo>
                    <a:cubicBezTo>
                      <a:pt x="16628" y="1073"/>
                      <a:pt x="18773" y="1073"/>
                      <a:pt x="20919" y="1609"/>
                    </a:cubicBezTo>
                    <a:cubicBezTo>
                      <a:pt x="21992" y="1609"/>
                      <a:pt x="23064" y="2146"/>
                      <a:pt x="24137" y="2146"/>
                    </a:cubicBezTo>
                    <a:cubicBezTo>
                      <a:pt x="24674" y="2146"/>
                      <a:pt x="25210" y="2146"/>
                      <a:pt x="25746" y="2146"/>
                    </a:cubicBezTo>
                    <a:cubicBezTo>
                      <a:pt x="27892" y="1609"/>
                      <a:pt x="30574" y="1073"/>
                      <a:pt x="-32280" y="1073"/>
                    </a:cubicBezTo>
                    <a:cubicBezTo>
                      <a:pt x="-29598" y="1073"/>
                      <a:pt x="-27453" y="1073"/>
                      <a:pt x="-25307" y="1609"/>
                    </a:cubicBezTo>
                    <a:cubicBezTo>
                      <a:pt x="-23162" y="2146"/>
                      <a:pt x="-21016" y="3218"/>
                      <a:pt x="-18871" y="4291"/>
                    </a:cubicBezTo>
                    <a:cubicBezTo>
                      <a:pt x="-15116" y="6437"/>
                      <a:pt x="-12434" y="9118"/>
                      <a:pt x="-10289" y="11800"/>
                    </a:cubicBezTo>
                    <a:cubicBezTo>
                      <a:pt x="-8679" y="14482"/>
                      <a:pt x="-7607" y="16628"/>
                      <a:pt x="-7070" y="18237"/>
                    </a:cubicBezTo>
                    <a:cubicBezTo>
                      <a:pt x="-6534" y="18773"/>
                      <a:pt x="-6534" y="19846"/>
                      <a:pt x="-6534" y="20382"/>
                    </a:cubicBezTo>
                    <a:cubicBezTo>
                      <a:pt x="-6534" y="20919"/>
                      <a:pt x="-6534" y="20919"/>
                      <a:pt x="-6534" y="20919"/>
                    </a:cubicBezTo>
                    <a:cubicBezTo>
                      <a:pt x="-6534" y="20919"/>
                      <a:pt x="-6534" y="20919"/>
                      <a:pt x="-7070" y="20382"/>
                    </a:cubicBezTo>
                    <a:cubicBezTo>
                      <a:pt x="-7070" y="19846"/>
                      <a:pt x="-7607" y="19310"/>
                      <a:pt x="-8143" y="18773"/>
                    </a:cubicBezTo>
                    <a:cubicBezTo>
                      <a:pt x="-9216" y="17164"/>
                      <a:pt x="-10289" y="15555"/>
                      <a:pt x="-12434" y="13410"/>
                    </a:cubicBezTo>
                    <a:cubicBezTo>
                      <a:pt x="-14580" y="11264"/>
                      <a:pt x="-17261" y="9655"/>
                      <a:pt x="-21016" y="8046"/>
                    </a:cubicBezTo>
                    <a:cubicBezTo>
                      <a:pt x="-24235" y="6437"/>
                      <a:pt x="-28526" y="5900"/>
                      <a:pt x="32719" y="5900"/>
                    </a:cubicBezTo>
                    <a:cubicBezTo>
                      <a:pt x="28428" y="5900"/>
                      <a:pt x="24137" y="6973"/>
                      <a:pt x="20383" y="8046"/>
                    </a:cubicBezTo>
                    <a:cubicBezTo>
                      <a:pt x="18773" y="8582"/>
                      <a:pt x="17701" y="8582"/>
                      <a:pt x="16092" y="9118"/>
                    </a:cubicBezTo>
                    <a:cubicBezTo>
                      <a:pt x="16092" y="9118"/>
                      <a:pt x="16092" y="9118"/>
                      <a:pt x="15555" y="9118"/>
                    </a:cubicBezTo>
                    <a:cubicBezTo>
                      <a:pt x="15019" y="9118"/>
                      <a:pt x="15019" y="9655"/>
                      <a:pt x="14482" y="10191"/>
                    </a:cubicBezTo>
                    <a:lnTo>
                      <a:pt x="13946" y="10728"/>
                    </a:lnTo>
                    <a:cubicBezTo>
                      <a:pt x="13946" y="10728"/>
                      <a:pt x="13946" y="10728"/>
                      <a:pt x="13946" y="10728"/>
                    </a:cubicBezTo>
                    <a:cubicBezTo>
                      <a:pt x="13946" y="10728"/>
                      <a:pt x="13946" y="11264"/>
                      <a:pt x="13946" y="11800"/>
                    </a:cubicBezTo>
                    <a:cubicBezTo>
                      <a:pt x="13946" y="12337"/>
                      <a:pt x="13946" y="12873"/>
                      <a:pt x="13946" y="13410"/>
                    </a:cubicBezTo>
                    <a:cubicBezTo>
                      <a:pt x="13946" y="13946"/>
                      <a:pt x="13946" y="14482"/>
                      <a:pt x="13946" y="15019"/>
                    </a:cubicBezTo>
                    <a:cubicBezTo>
                      <a:pt x="13946" y="15555"/>
                      <a:pt x="14482" y="16091"/>
                      <a:pt x="13946" y="16091"/>
                    </a:cubicBezTo>
                    <a:cubicBezTo>
                      <a:pt x="14482" y="17164"/>
                      <a:pt x="15555" y="18237"/>
                      <a:pt x="16628" y="18773"/>
                    </a:cubicBezTo>
                    <a:cubicBezTo>
                      <a:pt x="18773" y="19846"/>
                      <a:pt x="20919" y="20919"/>
                      <a:pt x="23064" y="21455"/>
                    </a:cubicBezTo>
                    <a:cubicBezTo>
                      <a:pt x="25210" y="21992"/>
                      <a:pt x="27892" y="21992"/>
                      <a:pt x="30038" y="21992"/>
                    </a:cubicBezTo>
                    <a:cubicBezTo>
                      <a:pt x="-30671" y="21992"/>
                      <a:pt x="-26380" y="20919"/>
                      <a:pt x="-23162" y="20919"/>
                    </a:cubicBezTo>
                    <a:cubicBezTo>
                      <a:pt x="-19407" y="20919"/>
                      <a:pt x="-16725" y="20919"/>
                      <a:pt x="-14580" y="21455"/>
                    </a:cubicBezTo>
                    <a:cubicBezTo>
                      <a:pt x="-13507" y="21455"/>
                      <a:pt x="-12970" y="21992"/>
                      <a:pt x="-12434" y="21992"/>
                    </a:cubicBezTo>
                    <a:cubicBezTo>
                      <a:pt x="-11898" y="21992"/>
                      <a:pt x="-11898" y="22528"/>
                      <a:pt x="-11898" y="22528"/>
                    </a:cubicBezTo>
                    <a:cubicBezTo>
                      <a:pt x="-11898" y="22528"/>
                      <a:pt x="-12434" y="22528"/>
                      <a:pt x="-12970" y="22528"/>
                    </a:cubicBezTo>
                    <a:cubicBezTo>
                      <a:pt x="-13507" y="22528"/>
                      <a:pt x="-14043" y="22528"/>
                      <a:pt x="-15116" y="22528"/>
                    </a:cubicBezTo>
                    <a:cubicBezTo>
                      <a:pt x="-17261" y="22528"/>
                      <a:pt x="-19943" y="22528"/>
                      <a:pt x="-23698" y="23601"/>
                    </a:cubicBezTo>
                    <a:cubicBezTo>
                      <a:pt x="-26916" y="24137"/>
                      <a:pt x="-31207" y="25746"/>
                      <a:pt x="29501" y="26283"/>
                    </a:cubicBezTo>
                    <a:cubicBezTo>
                      <a:pt x="24674" y="26819"/>
                      <a:pt x="18237" y="26819"/>
                      <a:pt x="12873" y="23601"/>
                    </a:cubicBezTo>
                    <a:cubicBezTo>
                      <a:pt x="11264" y="22528"/>
                      <a:pt x="9655" y="20919"/>
                      <a:pt x="8582" y="19846"/>
                    </a:cubicBezTo>
                    <a:cubicBezTo>
                      <a:pt x="8046" y="18773"/>
                      <a:pt x="8046" y="17701"/>
                      <a:pt x="7509" y="17164"/>
                    </a:cubicBezTo>
                    <a:cubicBezTo>
                      <a:pt x="7509" y="16628"/>
                      <a:pt x="7509" y="15555"/>
                      <a:pt x="7509" y="15019"/>
                    </a:cubicBezTo>
                    <a:cubicBezTo>
                      <a:pt x="7509" y="14482"/>
                      <a:pt x="7509" y="13410"/>
                      <a:pt x="7509" y="12873"/>
                    </a:cubicBezTo>
                    <a:cubicBezTo>
                      <a:pt x="7509" y="12337"/>
                      <a:pt x="7509" y="12337"/>
                      <a:pt x="8046" y="11800"/>
                    </a:cubicBezTo>
                    <a:cubicBezTo>
                      <a:pt x="8046" y="11800"/>
                      <a:pt x="8046" y="11800"/>
                      <a:pt x="8046" y="11800"/>
                    </a:cubicBezTo>
                    <a:cubicBezTo>
                      <a:pt x="4827" y="11800"/>
                      <a:pt x="2682" y="11800"/>
                      <a:pt x="536" y="11264"/>
                    </a:cubicBezTo>
                    <a:cubicBezTo>
                      <a:pt x="1609" y="8582"/>
                      <a:pt x="1073" y="8046"/>
                      <a:pt x="536" y="8046"/>
                    </a:cubicBezTo>
                    <a:cubicBezTo>
                      <a:pt x="0" y="8046"/>
                      <a:pt x="0" y="8046"/>
                      <a:pt x="0" y="8046"/>
                    </a:cubicBezTo>
                    <a:cubicBezTo>
                      <a:pt x="0" y="8046"/>
                      <a:pt x="0" y="7509"/>
                      <a:pt x="536"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313c3f"/>
                  </a:solidFill>
                  <a:latin typeface="Source Sans Pro"/>
                </a:endParaRPr>
              </a:p>
            </p:txBody>
          </p:sp>
          <p:sp>
            <p:nvSpPr>
              <p:cNvPr id="2672" name="Freeform: Shape 473"/>
              <p:cNvSpPr/>
              <p:nvPr/>
            </p:nvSpPr>
            <p:spPr>
              <a:xfrm>
                <a:off x="10742760" y="2116440"/>
                <a:ext cx="13320" cy="10440"/>
              </a:xfrm>
              <a:custGeom>
                <a:avLst/>
                <a:gdLst/>
                <a:ahLst/>
                <a:rect l="l" t="t" r="r" b="b"/>
                <a:pathLst>
                  <a:path w="17222" h="13765">
                    <a:moveTo>
                      <a:pt x="58" y="4053"/>
                    </a:moveTo>
                    <a:cubicBezTo>
                      <a:pt x="-478" y="8880"/>
                      <a:pt x="2740" y="13171"/>
                      <a:pt x="7568" y="13708"/>
                    </a:cubicBezTo>
                    <a:cubicBezTo>
                      <a:pt x="12395" y="14244"/>
                      <a:pt x="16686" y="11026"/>
                      <a:pt x="17223" y="6198"/>
                    </a:cubicBezTo>
                    <a:cubicBezTo>
                      <a:pt x="17223" y="4589"/>
                      <a:pt x="17223" y="2980"/>
                      <a:pt x="16686" y="1907"/>
                    </a:cubicBezTo>
                    <a:cubicBezTo>
                      <a:pt x="12931" y="-238"/>
                      <a:pt x="8640" y="-238"/>
                      <a:pt x="4349" y="298"/>
                    </a:cubicBezTo>
                    <a:cubicBezTo>
                      <a:pt x="3277" y="298"/>
                      <a:pt x="2204" y="834"/>
                      <a:pt x="1667" y="834"/>
                    </a:cubicBezTo>
                    <a:cubicBezTo>
                      <a:pt x="595" y="1371"/>
                      <a:pt x="58" y="2980"/>
                      <a:pt x="58" y="4053"/>
                    </a:cubicBezTo>
                    <a:close/>
                  </a:path>
                </a:pathLst>
              </a:custGeom>
              <a:solidFill>
                <a:srgbClr val="27aae1"/>
              </a:solidFill>
              <a:ln w="5400">
                <a:solidFill>
                  <a:srgbClr val="000000"/>
                </a:solidFill>
                <a:miter/>
              </a:ln>
            </p:spPr>
            <p:style>
              <a:lnRef idx="0"/>
              <a:fillRef idx="0"/>
              <a:effectRef idx="0"/>
              <a:fontRef idx="minor"/>
            </p:style>
            <p:txBody>
              <a:bodyPr lIns="90000" rIns="90000" tIns="-36360" bIns="-36360" anchor="ctr">
                <a:noAutofit/>
              </a:bodyPr>
              <a:p>
                <a:endParaRPr b="0" lang="en-US" sz="1800" spc="-1" strike="noStrike">
                  <a:solidFill>
                    <a:srgbClr val="313c3f"/>
                  </a:solidFill>
                  <a:latin typeface="Source Sans Pro"/>
                </a:endParaRPr>
              </a:p>
            </p:txBody>
          </p:sp>
          <p:sp>
            <p:nvSpPr>
              <p:cNvPr id="2673" name="Freeform: Shape 474"/>
              <p:cNvSpPr/>
              <p:nvPr/>
            </p:nvSpPr>
            <p:spPr>
              <a:xfrm>
                <a:off x="10745280" y="2115000"/>
                <a:ext cx="6840" cy="7200"/>
              </a:xfrm>
              <a:custGeom>
                <a:avLst/>
                <a:gdLst/>
                <a:ahLst/>
                <a:rect l="l" t="t" r="r" b="b"/>
                <a:pathLst>
                  <a:path w="9201" h="9654">
                    <a:moveTo>
                      <a:pt x="9118" y="5900"/>
                    </a:moveTo>
                    <a:cubicBezTo>
                      <a:pt x="9118" y="6437"/>
                      <a:pt x="9118" y="6437"/>
                      <a:pt x="9118" y="6973"/>
                    </a:cubicBezTo>
                    <a:cubicBezTo>
                      <a:pt x="9118" y="6973"/>
                      <a:pt x="9118" y="7509"/>
                      <a:pt x="8582" y="7509"/>
                    </a:cubicBezTo>
                    <a:cubicBezTo>
                      <a:pt x="8046" y="8046"/>
                      <a:pt x="8046" y="8582"/>
                      <a:pt x="7509" y="8582"/>
                    </a:cubicBezTo>
                    <a:cubicBezTo>
                      <a:pt x="7509" y="8582"/>
                      <a:pt x="6973" y="9119"/>
                      <a:pt x="6973" y="9119"/>
                    </a:cubicBezTo>
                    <a:cubicBezTo>
                      <a:pt x="6973" y="9119"/>
                      <a:pt x="6973" y="9119"/>
                      <a:pt x="6973" y="9119"/>
                    </a:cubicBezTo>
                    <a:cubicBezTo>
                      <a:pt x="5900" y="9655"/>
                      <a:pt x="5364" y="9655"/>
                      <a:pt x="4291" y="9655"/>
                    </a:cubicBezTo>
                    <a:cubicBezTo>
                      <a:pt x="1609" y="9119"/>
                      <a:pt x="0" y="6973"/>
                      <a:pt x="0" y="4291"/>
                    </a:cubicBezTo>
                    <a:cubicBezTo>
                      <a:pt x="536" y="1609"/>
                      <a:pt x="2682" y="0"/>
                      <a:pt x="5364" y="0"/>
                    </a:cubicBezTo>
                    <a:cubicBezTo>
                      <a:pt x="7509" y="1073"/>
                      <a:pt x="9655" y="3218"/>
                      <a:pt x="9118" y="5900"/>
                    </a:cubicBezTo>
                    <a:close/>
                  </a:path>
                </a:pathLst>
              </a:custGeom>
              <a:solidFill>
                <a:srgbClr val="000000"/>
              </a:solidFill>
              <a:ln w="0">
                <a:noFill/>
              </a:ln>
            </p:spPr>
            <p:style>
              <a:lnRef idx="0"/>
              <a:fillRef idx="0"/>
              <a:effectRef idx="0"/>
              <a:fontRef idx="minor"/>
            </p:style>
            <p:txBody>
              <a:bodyPr lIns="90000" rIns="90000" tIns="-39600" bIns="-39600" anchor="ctr">
                <a:noAutofit/>
              </a:bodyPr>
              <a:p>
                <a:endParaRPr b="0" lang="en-US" sz="1800" spc="-1" strike="noStrike">
                  <a:solidFill>
                    <a:srgbClr val="313c3f"/>
                  </a:solidFill>
                  <a:latin typeface="Source Sans Pro"/>
                </a:endParaRPr>
              </a:p>
            </p:txBody>
          </p:sp>
          <p:sp>
            <p:nvSpPr>
              <p:cNvPr id="2674" name="Freeform: Shape 475"/>
              <p:cNvSpPr/>
              <p:nvPr/>
            </p:nvSpPr>
            <p:spPr>
              <a:xfrm rot="16581000">
                <a:off x="10749600" y="2117160"/>
                <a:ext cx="3240" cy="3240"/>
              </a:xfrm>
              <a:custGeom>
                <a:avLst/>
                <a:gdLst/>
                <a:ahLst/>
                <a:rect l="l" t="t" r="r" b="b"/>
                <a:pathLst>
                  <a:path w="4290" h="4290">
                    <a:moveTo>
                      <a:pt x="4291" y="2145"/>
                    </a:moveTo>
                    <a:cubicBezTo>
                      <a:pt x="4291" y="3330"/>
                      <a:pt x="3330" y="4291"/>
                      <a:pt x="2145" y="4291"/>
                    </a:cubicBezTo>
                    <a:cubicBezTo>
                      <a:pt x="961" y="4291"/>
                      <a:pt x="0" y="3330"/>
                      <a:pt x="0" y="2145"/>
                    </a:cubicBezTo>
                    <a:cubicBezTo>
                      <a:pt x="0" y="961"/>
                      <a:pt x="961" y="0"/>
                      <a:pt x="2145" y="0"/>
                    </a:cubicBezTo>
                    <a:cubicBezTo>
                      <a:pt x="3330" y="0"/>
                      <a:pt x="4291" y="961"/>
                      <a:pt x="4291" y="2145"/>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313c3f"/>
                  </a:solidFill>
                  <a:latin typeface="Source Sans Pro"/>
                </a:endParaRPr>
              </a:p>
            </p:txBody>
          </p:sp>
          <p:sp>
            <p:nvSpPr>
              <p:cNvPr id="2675" name="Freeform: Shape 476"/>
              <p:cNvSpPr/>
              <p:nvPr/>
            </p:nvSpPr>
            <p:spPr>
              <a:xfrm>
                <a:off x="10749960" y="2121480"/>
                <a:ext cx="2160" cy="1800"/>
              </a:xfrm>
              <a:custGeom>
                <a:avLst/>
                <a:gdLst/>
                <a:ahLst/>
                <a:rect l="l" t="t" r="r" b="b"/>
                <a:pathLst>
                  <a:path w="2892" h="2681">
                    <a:moveTo>
                      <a:pt x="2682" y="1609"/>
                    </a:moveTo>
                    <a:cubicBezTo>
                      <a:pt x="2682" y="2682"/>
                      <a:pt x="1609" y="2682"/>
                      <a:pt x="1073" y="2682"/>
                    </a:cubicBezTo>
                    <a:cubicBezTo>
                      <a:pt x="536" y="2682"/>
                      <a:pt x="536" y="2146"/>
                      <a:pt x="0" y="1609"/>
                    </a:cubicBezTo>
                    <a:cubicBezTo>
                      <a:pt x="0" y="1609"/>
                      <a:pt x="0" y="1609"/>
                      <a:pt x="0" y="1609"/>
                    </a:cubicBezTo>
                    <a:cubicBezTo>
                      <a:pt x="0" y="1609"/>
                      <a:pt x="0" y="1609"/>
                      <a:pt x="0" y="1609"/>
                    </a:cubicBezTo>
                    <a:cubicBezTo>
                      <a:pt x="536" y="1609"/>
                      <a:pt x="536" y="1073"/>
                      <a:pt x="536" y="1073"/>
                    </a:cubicBezTo>
                    <a:cubicBezTo>
                      <a:pt x="1073" y="536"/>
                      <a:pt x="1073" y="536"/>
                      <a:pt x="1609" y="0"/>
                    </a:cubicBezTo>
                    <a:cubicBezTo>
                      <a:pt x="2682" y="0"/>
                      <a:pt x="3218" y="536"/>
                      <a:pt x="2682" y="1609"/>
                    </a:cubicBezTo>
                    <a:close/>
                  </a:path>
                </a:pathLst>
              </a:custGeom>
              <a:solidFill>
                <a:srgbClr val="ffffff"/>
              </a:solidFill>
              <a:ln w="0">
                <a:noFill/>
              </a:ln>
            </p:spPr>
            <p:style>
              <a:lnRef idx="0"/>
              <a:fillRef idx="0"/>
              <a:effectRef idx="0"/>
              <a:fontRef idx="minor"/>
            </p:style>
            <p:txBody>
              <a:bodyPr lIns="90000" rIns="90000" tIns="-45000" bIns="-45000" anchor="ctr">
                <a:noAutofit/>
              </a:bodyPr>
              <a:p>
                <a:endParaRPr b="0" lang="en-US" sz="1800" spc="-1" strike="noStrike">
                  <a:solidFill>
                    <a:srgbClr val="313c3f"/>
                  </a:solidFill>
                  <a:latin typeface="Source Sans Pro"/>
                </a:endParaRPr>
              </a:p>
            </p:txBody>
          </p:sp>
          <p:sp>
            <p:nvSpPr>
              <p:cNvPr id="2676" name="Freeform: Shape 477"/>
              <p:cNvSpPr/>
              <p:nvPr/>
            </p:nvSpPr>
            <p:spPr>
              <a:xfrm>
                <a:off x="10719720" y="2097720"/>
                <a:ext cx="45360" cy="12600"/>
              </a:xfrm>
              <a:custGeom>
                <a:avLst/>
                <a:gdLst/>
                <a:ahLst/>
                <a:rect l="l" t="t" r="r" b="b"/>
                <a:pathLst>
                  <a:path w="58408" h="16627">
                    <a:moveTo>
                      <a:pt x="-8143" y="16628"/>
                    </a:moveTo>
                    <a:cubicBezTo>
                      <a:pt x="-7070" y="13946"/>
                      <a:pt x="-6534" y="10728"/>
                      <a:pt x="-8143" y="9119"/>
                    </a:cubicBezTo>
                    <a:cubicBezTo>
                      <a:pt x="-8679" y="8582"/>
                      <a:pt x="-9216" y="8582"/>
                      <a:pt x="-9752" y="8582"/>
                    </a:cubicBezTo>
                    <a:cubicBezTo>
                      <a:pt x="-17261" y="6437"/>
                      <a:pt x="-24771" y="4291"/>
                      <a:pt x="-32280" y="2146"/>
                    </a:cubicBezTo>
                    <a:cubicBezTo>
                      <a:pt x="28965" y="1073"/>
                      <a:pt x="24674" y="0"/>
                      <a:pt x="20383" y="0"/>
                    </a:cubicBezTo>
                    <a:cubicBezTo>
                      <a:pt x="12873" y="536"/>
                      <a:pt x="6437" y="5900"/>
                      <a:pt x="0" y="10728"/>
                    </a:cubicBezTo>
                    <a:cubicBezTo>
                      <a:pt x="3755" y="8582"/>
                      <a:pt x="7509" y="6973"/>
                      <a:pt x="11264" y="5364"/>
                    </a:cubicBezTo>
                    <a:cubicBezTo>
                      <a:pt x="13946" y="4291"/>
                      <a:pt x="16628" y="3755"/>
                      <a:pt x="19846" y="3218"/>
                    </a:cubicBezTo>
                    <a:cubicBezTo>
                      <a:pt x="23601" y="3218"/>
                      <a:pt x="26819" y="4291"/>
                      <a:pt x="30038" y="5364"/>
                    </a:cubicBezTo>
                    <a:cubicBezTo>
                      <a:pt x="-26380" y="9655"/>
                      <a:pt x="-17798" y="15555"/>
                      <a:pt x="-8143"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313c3f"/>
                  </a:solidFill>
                  <a:latin typeface="Source Sans Pro"/>
                </a:endParaRPr>
              </a:p>
            </p:txBody>
          </p:sp>
          <p:sp>
            <p:nvSpPr>
              <p:cNvPr id="2677" name="Freeform: Shape 478"/>
              <p:cNvSpPr/>
              <p:nvPr/>
            </p:nvSpPr>
            <p:spPr>
              <a:xfrm>
                <a:off x="10767600" y="2162880"/>
                <a:ext cx="25920" cy="6840"/>
              </a:xfrm>
              <a:custGeom>
                <a:avLst/>
                <a:gdLst/>
                <a:ahLst/>
                <a:rect l="l" t="t" r="r" b="b"/>
                <a:pathLst>
                  <a:path w="33478" h="9204">
                    <a:moveTo>
                      <a:pt x="9877" y="3945"/>
                    </a:moveTo>
                    <a:cubicBezTo>
                      <a:pt x="12023" y="5018"/>
                      <a:pt x="14168" y="6091"/>
                      <a:pt x="16850" y="6627"/>
                    </a:cubicBezTo>
                    <a:cubicBezTo>
                      <a:pt x="19532" y="7164"/>
                      <a:pt x="22214" y="6627"/>
                      <a:pt x="23823" y="5018"/>
                    </a:cubicBezTo>
                    <a:cubicBezTo>
                      <a:pt x="24896" y="4482"/>
                      <a:pt x="25432" y="3945"/>
                      <a:pt x="25969" y="2873"/>
                    </a:cubicBezTo>
                    <a:cubicBezTo>
                      <a:pt x="27041" y="1800"/>
                      <a:pt x="28114" y="1264"/>
                      <a:pt x="29187" y="727"/>
                    </a:cubicBezTo>
                    <a:cubicBezTo>
                      <a:pt x="29723" y="191"/>
                      <a:pt x="30796" y="191"/>
                      <a:pt x="31869" y="191"/>
                    </a:cubicBezTo>
                    <a:cubicBezTo>
                      <a:pt x="32942" y="191"/>
                      <a:pt x="33478" y="727"/>
                      <a:pt x="33478" y="1800"/>
                    </a:cubicBezTo>
                    <a:cubicBezTo>
                      <a:pt x="33478" y="2336"/>
                      <a:pt x="32405" y="2873"/>
                      <a:pt x="31869" y="3409"/>
                    </a:cubicBezTo>
                    <a:cubicBezTo>
                      <a:pt x="30260" y="3945"/>
                      <a:pt x="28114" y="4482"/>
                      <a:pt x="25969" y="5018"/>
                    </a:cubicBezTo>
                    <a:cubicBezTo>
                      <a:pt x="24896" y="5555"/>
                      <a:pt x="24359" y="6091"/>
                      <a:pt x="23287" y="7164"/>
                    </a:cubicBezTo>
                    <a:cubicBezTo>
                      <a:pt x="20605" y="8773"/>
                      <a:pt x="17923" y="9846"/>
                      <a:pt x="14705" y="8773"/>
                    </a:cubicBezTo>
                    <a:cubicBezTo>
                      <a:pt x="11486" y="7700"/>
                      <a:pt x="9341" y="4482"/>
                      <a:pt x="6122" y="3409"/>
                    </a:cubicBezTo>
                    <a:cubicBezTo>
                      <a:pt x="5050" y="3409"/>
                      <a:pt x="2904" y="3409"/>
                      <a:pt x="1831" y="2873"/>
                    </a:cubicBezTo>
                    <a:cubicBezTo>
                      <a:pt x="1295" y="2873"/>
                      <a:pt x="759" y="2336"/>
                      <a:pt x="222" y="2336"/>
                    </a:cubicBezTo>
                    <a:cubicBezTo>
                      <a:pt x="-314" y="1800"/>
                      <a:pt x="222" y="727"/>
                      <a:pt x="759" y="191"/>
                    </a:cubicBezTo>
                    <a:cubicBezTo>
                      <a:pt x="3977" y="-882"/>
                      <a:pt x="7732" y="2873"/>
                      <a:pt x="9877" y="3945"/>
                    </a:cubicBezTo>
                    <a:close/>
                  </a:path>
                </a:pathLst>
              </a:custGeom>
              <a:solidFill>
                <a:srgbClr val="000000"/>
              </a:solidFill>
              <a:ln w="0">
                <a:noFill/>
              </a:ln>
            </p:spPr>
            <p:style>
              <a:lnRef idx="0"/>
              <a:fillRef idx="0"/>
              <a:effectRef idx="0"/>
              <a:fontRef idx="minor"/>
            </p:style>
            <p:txBody>
              <a:bodyPr lIns="90000" rIns="90000" tIns="-39960" bIns="-39960" anchor="ctr">
                <a:noAutofit/>
              </a:bodyPr>
              <a:p>
                <a:endParaRPr b="0" lang="en-US" sz="1800" spc="-1" strike="noStrike">
                  <a:solidFill>
                    <a:srgbClr val="313c3f"/>
                  </a:solidFill>
                  <a:latin typeface="Source Sans Pro"/>
                </a:endParaRPr>
              </a:p>
            </p:txBody>
          </p:sp>
          <p:sp>
            <p:nvSpPr>
              <p:cNvPr id="2678" name="Freeform: Shape 479"/>
              <p:cNvSpPr/>
              <p:nvPr/>
            </p:nvSpPr>
            <p:spPr>
              <a:xfrm>
                <a:off x="10753920" y="2179440"/>
                <a:ext cx="56880" cy="28080"/>
              </a:xfrm>
              <a:custGeom>
                <a:avLst/>
                <a:gdLst/>
                <a:ahLst/>
                <a:rect l="l" t="t" r="r" b="b"/>
                <a:pathLst>
                  <a:path w="73521" h="36533">
                    <a:moveTo>
                      <a:pt x="37" y="6345"/>
                    </a:moveTo>
                    <a:cubicBezTo>
                      <a:pt x="3256" y="8490"/>
                      <a:pt x="5401" y="9027"/>
                      <a:pt x="7547" y="11708"/>
                    </a:cubicBezTo>
                    <a:cubicBezTo>
                      <a:pt x="12374" y="17609"/>
                      <a:pt x="13447" y="25654"/>
                      <a:pt x="19347" y="30482"/>
                    </a:cubicBezTo>
                    <a:cubicBezTo>
                      <a:pt x="31684" y="41746"/>
                      <a:pt x="50457" y="34236"/>
                      <a:pt x="53676" y="32091"/>
                    </a:cubicBezTo>
                    <a:cubicBezTo>
                      <a:pt x="66013" y="24045"/>
                      <a:pt x="63867" y="12781"/>
                      <a:pt x="73522" y="4199"/>
                    </a:cubicBezTo>
                    <a:cubicBezTo>
                      <a:pt x="71376" y="5272"/>
                      <a:pt x="69767" y="4735"/>
                      <a:pt x="67622" y="4735"/>
                    </a:cubicBezTo>
                    <a:cubicBezTo>
                      <a:pt x="64940" y="5272"/>
                      <a:pt x="61722" y="4199"/>
                      <a:pt x="59040" y="3126"/>
                    </a:cubicBezTo>
                    <a:cubicBezTo>
                      <a:pt x="55285" y="2053"/>
                      <a:pt x="52067" y="981"/>
                      <a:pt x="48312" y="444"/>
                    </a:cubicBezTo>
                    <a:cubicBezTo>
                      <a:pt x="44557" y="-92"/>
                      <a:pt x="40802" y="444"/>
                      <a:pt x="37584" y="2590"/>
                    </a:cubicBezTo>
                    <a:cubicBezTo>
                      <a:pt x="37048" y="3126"/>
                      <a:pt x="36511" y="3663"/>
                      <a:pt x="35975" y="3663"/>
                    </a:cubicBezTo>
                    <a:cubicBezTo>
                      <a:pt x="35439" y="3663"/>
                      <a:pt x="34902" y="3663"/>
                      <a:pt x="34366" y="3126"/>
                    </a:cubicBezTo>
                    <a:cubicBezTo>
                      <a:pt x="32220" y="2053"/>
                      <a:pt x="31148" y="1517"/>
                      <a:pt x="29002" y="444"/>
                    </a:cubicBezTo>
                    <a:cubicBezTo>
                      <a:pt x="26857" y="-628"/>
                      <a:pt x="22565" y="444"/>
                      <a:pt x="20420" y="1517"/>
                    </a:cubicBezTo>
                    <a:cubicBezTo>
                      <a:pt x="18274" y="2590"/>
                      <a:pt x="16129" y="3663"/>
                      <a:pt x="13983" y="4199"/>
                    </a:cubicBezTo>
                    <a:cubicBezTo>
                      <a:pt x="11838" y="5272"/>
                      <a:pt x="9692" y="5808"/>
                      <a:pt x="7547" y="6345"/>
                    </a:cubicBezTo>
                    <a:cubicBezTo>
                      <a:pt x="4865" y="7417"/>
                      <a:pt x="-499" y="6345"/>
                      <a:pt x="37" y="6345"/>
                    </a:cubicBezTo>
                    <a:close/>
                  </a:path>
                </a:pathLst>
              </a:custGeom>
              <a:solidFill>
                <a:srgbClr val="be1e2d"/>
              </a:solidFill>
              <a:ln w="0">
                <a:noFill/>
              </a:ln>
            </p:spPr>
            <p:style>
              <a:lnRef idx="0"/>
              <a:fillRef idx="0"/>
              <a:effectRef idx="0"/>
              <a:fontRef idx="minor"/>
            </p:style>
            <p:txBody>
              <a:bodyPr lIns="90000" rIns="90000" tIns="-18720" bIns="-18720" anchor="ctr">
                <a:noAutofit/>
              </a:bodyPr>
              <a:p>
                <a:endParaRPr b="0" lang="en-US" sz="1800" spc="-1" strike="noStrike">
                  <a:solidFill>
                    <a:srgbClr val="313c3f"/>
                  </a:solidFill>
                  <a:latin typeface="Source Sans Pro"/>
                </a:endParaRPr>
              </a:p>
            </p:txBody>
          </p:sp>
          <p:sp>
            <p:nvSpPr>
              <p:cNvPr id="2679" name="Freeform: Shape 480"/>
              <p:cNvSpPr/>
              <p:nvPr/>
            </p:nvSpPr>
            <p:spPr>
              <a:xfrm>
                <a:off x="10766520" y="2187720"/>
                <a:ext cx="34560" cy="3960"/>
              </a:xfrm>
              <a:custGeom>
                <a:avLst/>
                <a:gdLst/>
                <a:ahLst/>
                <a:rect l="l" t="t" r="r" b="b"/>
                <a:pathLst>
                  <a:path w="44519" h="5497">
                    <a:moveTo>
                      <a:pt x="-21016" y="0"/>
                    </a:moveTo>
                    <a:cubicBezTo>
                      <a:pt x="-24771" y="1609"/>
                      <a:pt x="-27989" y="3218"/>
                      <a:pt x="-32280" y="4291"/>
                    </a:cubicBezTo>
                    <a:cubicBezTo>
                      <a:pt x="30574" y="4827"/>
                      <a:pt x="27892" y="5364"/>
                      <a:pt x="24674" y="5364"/>
                    </a:cubicBezTo>
                    <a:cubicBezTo>
                      <a:pt x="20919" y="5364"/>
                      <a:pt x="17701" y="5900"/>
                      <a:pt x="13946" y="4827"/>
                    </a:cubicBezTo>
                    <a:cubicBezTo>
                      <a:pt x="9118" y="3755"/>
                      <a:pt x="4827" y="1609"/>
                      <a:pt x="0" y="1073"/>
                    </a:cubicBezTo>
                    <a:cubicBezTo>
                      <a:pt x="2146" y="1609"/>
                      <a:pt x="32183" y="3755"/>
                      <a:pt x="-21016" y="0"/>
                    </a:cubicBezTo>
                    <a:close/>
                  </a:path>
                </a:pathLst>
              </a:custGeom>
              <a:solidFill>
                <a:srgbClr val="ffffff"/>
              </a:solidFill>
              <a:ln w="0">
                <a:noFill/>
              </a:ln>
            </p:spPr>
            <p:style>
              <a:lnRef idx="0"/>
              <a:fillRef idx="0"/>
              <a:effectRef idx="0"/>
              <a:fontRef idx="minor"/>
            </p:style>
            <p:txBody>
              <a:bodyPr lIns="90000" rIns="90000" tIns="-42840" bIns="-42840" anchor="ctr">
                <a:noAutofit/>
              </a:bodyPr>
              <a:p>
                <a:endParaRPr b="0" lang="en-US" sz="1800" spc="-1" strike="noStrike">
                  <a:solidFill>
                    <a:srgbClr val="313c3f"/>
                  </a:solidFill>
                  <a:latin typeface="Source Sans Pro"/>
                </a:endParaRPr>
              </a:p>
            </p:txBody>
          </p:sp>
        </p:grpSp>
      </p:grpSp>
      <p:grpSp>
        <p:nvGrpSpPr>
          <p:cNvPr id="2680" name="Group 491"/>
          <p:cNvGrpSpPr/>
          <p:nvPr/>
        </p:nvGrpSpPr>
        <p:grpSpPr>
          <a:xfrm>
            <a:off x="8996400" y="1863720"/>
            <a:ext cx="1033560" cy="1015920"/>
            <a:chOff x="8996400" y="1863720"/>
            <a:chExt cx="1033560" cy="1015920"/>
          </a:xfrm>
        </p:grpSpPr>
        <p:sp>
          <p:nvSpPr>
            <p:cNvPr id="2681" name="Freeform: Shape 492"/>
            <p:cNvSpPr/>
            <p:nvPr/>
          </p:nvSpPr>
          <p:spPr>
            <a:xfrm>
              <a:off x="8996400" y="1863720"/>
              <a:ext cx="1033560" cy="1015920"/>
            </a:xfrm>
            <a:custGeom>
              <a:avLst/>
              <a:gdLst/>
              <a:ahLst/>
              <a:rect l="l" t="t" r="r" b="b"/>
              <a:pathLst>
                <a:path w="1332376" h="1307702">
                  <a:moveTo>
                    <a:pt x="1332376" y="653851"/>
                  </a:moveTo>
                  <a:cubicBezTo>
                    <a:pt x="1332376" y="934379"/>
                    <a:pt x="1152151" y="1174143"/>
                    <a:pt x="898442" y="1266401"/>
                  </a:cubicBezTo>
                  <a:cubicBezTo>
                    <a:pt x="887178" y="1270692"/>
                    <a:pt x="875914" y="1274446"/>
                    <a:pt x="864114" y="1277665"/>
                  </a:cubicBezTo>
                  <a:cubicBezTo>
                    <a:pt x="863577" y="1277665"/>
                    <a:pt x="863041" y="1278201"/>
                    <a:pt x="862504" y="1278201"/>
                  </a:cubicBezTo>
                  <a:cubicBezTo>
                    <a:pt x="854995" y="1280347"/>
                    <a:pt x="847486" y="1282492"/>
                    <a:pt x="839976" y="1284638"/>
                  </a:cubicBezTo>
                  <a:cubicBezTo>
                    <a:pt x="829785" y="1287320"/>
                    <a:pt x="820130" y="1290002"/>
                    <a:pt x="809939" y="1292147"/>
                  </a:cubicBezTo>
                  <a:cubicBezTo>
                    <a:pt x="806184" y="1293220"/>
                    <a:pt x="801893" y="1293756"/>
                    <a:pt x="798138" y="1294829"/>
                  </a:cubicBezTo>
                  <a:cubicBezTo>
                    <a:pt x="792775" y="1295902"/>
                    <a:pt x="787411" y="1296975"/>
                    <a:pt x="782047" y="1298047"/>
                  </a:cubicBezTo>
                  <a:cubicBezTo>
                    <a:pt x="780438" y="1298584"/>
                    <a:pt x="778829" y="1298584"/>
                    <a:pt x="776683" y="1299120"/>
                  </a:cubicBezTo>
                  <a:cubicBezTo>
                    <a:pt x="775610" y="1299120"/>
                    <a:pt x="774001" y="1299656"/>
                    <a:pt x="772928" y="1299656"/>
                  </a:cubicBezTo>
                  <a:cubicBezTo>
                    <a:pt x="767565" y="1300729"/>
                    <a:pt x="762201" y="1301266"/>
                    <a:pt x="756837" y="1301802"/>
                  </a:cubicBezTo>
                  <a:cubicBezTo>
                    <a:pt x="745036" y="1303411"/>
                    <a:pt x="733236" y="1304484"/>
                    <a:pt x="721436" y="1305557"/>
                  </a:cubicBezTo>
                  <a:cubicBezTo>
                    <a:pt x="717681" y="1306093"/>
                    <a:pt x="714463" y="1306093"/>
                    <a:pt x="710708" y="1306093"/>
                  </a:cubicBezTo>
                  <a:cubicBezTo>
                    <a:pt x="709099" y="1306093"/>
                    <a:pt x="706953" y="1306093"/>
                    <a:pt x="705344" y="1306629"/>
                  </a:cubicBezTo>
                  <a:cubicBezTo>
                    <a:pt x="696226" y="1307166"/>
                    <a:pt x="687107" y="1307702"/>
                    <a:pt x="677452" y="1307702"/>
                  </a:cubicBezTo>
                  <a:cubicBezTo>
                    <a:pt x="676379" y="1307702"/>
                    <a:pt x="675843" y="1307702"/>
                    <a:pt x="674770" y="1307702"/>
                  </a:cubicBezTo>
                  <a:cubicBezTo>
                    <a:pt x="672088" y="1307702"/>
                    <a:pt x="668870" y="1307702"/>
                    <a:pt x="665652" y="1307702"/>
                  </a:cubicBezTo>
                  <a:cubicBezTo>
                    <a:pt x="631860" y="1307702"/>
                    <a:pt x="598604" y="1305020"/>
                    <a:pt x="565884" y="1300193"/>
                  </a:cubicBezTo>
                  <a:cubicBezTo>
                    <a:pt x="559984" y="1299120"/>
                    <a:pt x="553548" y="1298584"/>
                    <a:pt x="547647" y="1297511"/>
                  </a:cubicBezTo>
                  <a:cubicBezTo>
                    <a:pt x="547111" y="1297511"/>
                    <a:pt x="546575" y="1297511"/>
                    <a:pt x="546575" y="1297511"/>
                  </a:cubicBezTo>
                  <a:cubicBezTo>
                    <a:pt x="539602" y="1296438"/>
                    <a:pt x="532629" y="1294829"/>
                    <a:pt x="525656" y="1293220"/>
                  </a:cubicBezTo>
                  <a:cubicBezTo>
                    <a:pt x="519219" y="1292147"/>
                    <a:pt x="513319" y="1290538"/>
                    <a:pt x="506882" y="1288929"/>
                  </a:cubicBezTo>
                  <a:cubicBezTo>
                    <a:pt x="484354" y="1283565"/>
                    <a:pt x="461826" y="1276592"/>
                    <a:pt x="439834" y="1269083"/>
                  </a:cubicBezTo>
                  <a:cubicBezTo>
                    <a:pt x="426425" y="1264255"/>
                    <a:pt x="413552" y="1259428"/>
                    <a:pt x="400678" y="1254064"/>
                  </a:cubicBezTo>
                  <a:cubicBezTo>
                    <a:pt x="385660" y="1247627"/>
                    <a:pt x="371177" y="1240654"/>
                    <a:pt x="357231" y="1233681"/>
                  </a:cubicBezTo>
                  <a:cubicBezTo>
                    <a:pt x="355086" y="1232609"/>
                    <a:pt x="352404" y="1231536"/>
                    <a:pt x="350258" y="1229927"/>
                  </a:cubicBezTo>
                  <a:cubicBezTo>
                    <a:pt x="142142" y="1119432"/>
                    <a:pt x="0" y="902733"/>
                    <a:pt x="0" y="653851"/>
                  </a:cubicBezTo>
                  <a:cubicBezTo>
                    <a:pt x="0" y="292865"/>
                    <a:pt x="298229" y="0"/>
                    <a:pt x="666188" y="0"/>
                  </a:cubicBezTo>
                  <a:cubicBezTo>
                    <a:pt x="1034147" y="0"/>
                    <a:pt x="1332376" y="292865"/>
                    <a:pt x="1332376" y="653851"/>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82" name="Freeform: Shape 493"/>
            <p:cNvSpPr/>
            <p:nvPr/>
          </p:nvSpPr>
          <p:spPr>
            <a:xfrm>
              <a:off x="9380880" y="2166840"/>
              <a:ext cx="319320" cy="710640"/>
            </a:xfrm>
            <a:custGeom>
              <a:avLst/>
              <a:gdLst/>
              <a:ahLst/>
              <a:rect l="l" t="t" r="r" b="b"/>
              <a:pathLst>
                <a:path w="411808" h="914533">
                  <a:moveTo>
                    <a:pt x="411808" y="99767"/>
                  </a:moveTo>
                  <a:cubicBezTo>
                    <a:pt x="410736" y="101376"/>
                    <a:pt x="409126" y="102449"/>
                    <a:pt x="408054" y="104058"/>
                  </a:cubicBezTo>
                  <a:cubicBezTo>
                    <a:pt x="407517" y="104595"/>
                    <a:pt x="406981" y="105131"/>
                    <a:pt x="406981" y="105668"/>
                  </a:cubicBezTo>
                  <a:cubicBezTo>
                    <a:pt x="405372" y="107277"/>
                    <a:pt x="404299" y="108886"/>
                    <a:pt x="402690" y="110495"/>
                  </a:cubicBezTo>
                  <a:cubicBezTo>
                    <a:pt x="401081" y="112640"/>
                    <a:pt x="399472" y="114250"/>
                    <a:pt x="397862" y="116395"/>
                  </a:cubicBezTo>
                  <a:cubicBezTo>
                    <a:pt x="396253" y="118004"/>
                    <a:pt x="395180" y="120150"/>
                    <a:pt x="393571" y="121759"/>
                  </a:cubicBezTo>
                  <a:cubicBezTo>
                    <a:pt x="393571" y="121759"/>
                    <a:pt x="393571" y="121759"/>
                    <a:pt x="393571" y="121759"/>
                  </a:cubicBezTo>
                  <a:cubicBezTo>
                    <a:pt x="391962" y="123368"/>
                    <a:pt x="390889" y="125514"/>
                    <a:pt x="389280" y="127123"/>
                  </a:cubicBezTo>
                  <a:cubicBezTo>
                    <a:pt x="388744" y="127659"/>
                    <a:pt x="388744" y="128196"/>
                    <a:pt x="388207" y="128196"/>
                  </a:cubicBezTo>
                  <a:cubicBezTo>
                    <a:pt x="387135" y="129268"/>
                    <a:pt x="386598" y="130877"/>
                    <a:pt x="385526" y="131950"/>
                  </a:cubicBezTo>
                  <a:cubicBezTo>
                    <a:pt x="385526" y="131950"/>
                    <a:pt x="385526" y="131950"/>
                    <a:pt x="385526" y="132487"/>
                  </a:cubicBezTo>
                  <a:cubicBezTo>
                    <a:pt x="384989" y="133023"/>
                    <a:pt x="384453" y="133559"/>
                    <a:pt x="383916" y="134632"/>
                  </a:cubicBezTo>
                  <a:cubicBezTo>
                    <a:pt x="382844" y="136241"/>
                    <a:pt x="381771" y="137314"/>
                    <a:pt x="381235" y="138923"/>
                  </a:cubicBezTo>
                  <a:cubicBezTo>
                    <a:pt x="381235" y="139460"/>
                    <a:pt x="380698" y="139460"/>
                    <a:pt x="380698" y="139996"/>
                  </a:cubicBezTo>
                  <a:cubicBezTo>
                    <a:pt x="380698" y="139996"/>
                    <a:pt x="380162" y="140532"/>
                    <a:pt x="380162" y="140532"/>
                  </a:cubicBezTo>
                  <a:cubicBezTo>
                    <a:pt x="379089" y="142142"/>
                    <a:pt x="378016" y="143751"/>
                    <a:pt x="376943" y="144823"/>
                  </a:cubicBezTo>
                  <a:cubicBezTo>
                    <a:pt x="376407" y="145360"/>
                    <a:pt x="376407" y="145896"/>
                    <a:pt x="375871" y="146433"/>
                  </a:cubicBezTo>
                  <a:cubicBezTo>
                    <a:pt x="375871" y="146433"/>
                    <a:pt x="375334" y="146969"/>
                    <a:pt x="375334" y="146969"/>
                  </a:cubicBezTo>
                  <a:cubicBezTo>
                    <a:pt x="374262" y="148578"/>
                    <a:pt x="373189" y="150187"/>
                    <a:pt x="372652" y="151796"/>
                  </a:cubicBezTo>
                  <a:cubicBezTo>
                    <a:pt x="371580" y="153942"/>
                    <a:pt x="369970" y="156088"/>
                    <a:pt x="368898" y="158233"/>
                  </a:cubicBezTo>
                  <a:cubicBezTo>
                    <a:pt x="368898" y="158233"/>
                    <a:pt x="368898" y="158233"/>
                    <a:pt x="368898" y="158233"/>
                  </a:cubicBezTo>
                  <a:cubicBezTo>
                    <a:pt x="367825" y="160379"/>
                    <a:pt x="366216" y="162524"/>
                    <a:pt x="365143" y="164670"/>
                  </a:cubicBezTo>
                  <a:cubicBezTo>
                    <a:pt x="364070" y="166815"/>
                    <a:pt x="362461" y="168961"/>
                    <a:pt x="361388" y="171106"/>
                  </a:cubicBezTo>
                  <a:cubicBezTo>
                    <a:pt x="360316" y="173252"/>
                    <a:pt x="359243" y="174861"/>
                    <a:pt x="358170" y="177006"/>
                  </a:cubicBezTo>
                  <a:cubicBezTo>
                    <a:pt x="357634" y="177543"/>
                    <a:pt x="357634" y="178079"/>
                    <a:pt x="357097" y="179152"/>
                  </a:cubicBezTo>
                  <a:cubicBezTo>
                    <a:pt x="356561" y="180761"/>
                    <a:pt x="355488" y="181834"/>
                    <a:pt x="354952" y="183443"/>
                  </a:cubicBezTo>
                  <a:cubicBezTo>
                    <a:pt x="354415" y="184516"/>
                    <a:pt x="353879" y="186125"/>
                    <a:pt x="352806" y="187198"/>
                  </a:cubicBezTo>
                  <a:cubicBezTo>
                    <a:pt x="351733" y="189880"/>
                    <a:pt x="350124" y="192562"/>
                    <a:pt x="349052" y="195243"/>
                  </a:cubicBezTo>
                  <a:cubicBezTo>
                    <a:pt x="348515" y="196316"/>
                    <a:pt x="347979" y="197925"/>
                    <a:pt x="347442" y="198998"/>
                  </a:cubicBezTo>
                  <a:cubicBezTo>
                    <a:pt x="346906" y="200607"/>
                    <a:pt x="346370" y="202217"/>
                    <a:pt x="345297" y="203826"/>
                  </a:cubicBezTo>
                  <a:cubicBezTo>
                    <a:pt x="344760" y="205435"/>
                    <a:pt x="343688" y="207044"/>
                    <a:pt x="343151" y="209189"/>
                  </a:cubicBezTo>
                  <a:cubicBezTo>
                    <a:pt x="342615" y="210262"/>
                    <a:pt x="342079" y="211871"/>
                    <a:pt x="341542" y="212944"/>
                  </a:cubicBezTo>
                  <a:cubicBezTo>
                    <a:pt x="339933" y="216699"/>
                    <a:pt x="338860" y="220454"/>
                    <a:pt x="337787" y="224208"/>
                  </a:cubicBezTo>
                  <a:cubicBezTo>
                    <a:pt x="337251" y="225281"/>
                    <a:pt x="337251" y="226354"/>
                    <a:pt x="336715" y="227963"/>
                  </a:cubicBezTo>
                  <a:cubicBezTo>
                    <a:pt x="336715" y="227963"/>
                    <a:pt x="336715" y="228499"/>
                    <a:pt x="336715" y="228499"/>
                  </a:cubicBezTo>
                  <a:cubicBezTo>
                    <a:pt x="336178" y="229572"/>
                    <a:pt x="336178" y="230108"/>
                    <a:pt x="335642" y="231181"/>
                  </a:cubicBezTo>
                  <a:cubicBezTo>
                    <a:pt x="335106" y="232790"/>
                    <a:pt x="334569" y="233863"/>
                    <a:pt x="334569" y="235472"/>
                  </a:cubicBezTo>
                  <a:cubicBezTo>
                    <a:pt x="334033" y="237081"/>
                    <a:pt x="333496" y="238691"/>
                    <a:pt x="332960" y="240300"/>
                  </a:cubicBezTo>
                  <a:cubicBezTo>
                    <a:pt x="332424" y="241372"/>
                    <a:pt x="332424" y="242445"/>
                    <a:pt x="331887" y="243518"/>
                  </a:cubicBezTo>
                  <a:cubicBezTo>
                    <a:pt x="331351" y="244591"/>
                    <a:pt x="331351" y="246200"/>
                    <a:pt x="330814" y="247273"/>
                  </a:cubicBezTo>
                  <a:cubicBezTo>
                    <a:pt x="330278" y="248345"/>
                    <a:pt x="330278" y="249955"/>
                    <a:pt x="329742" y="251027"/>
                  </a:cubicBezTo>
                  <a:cubicBezTo>
                    <a:pt x="329742" y="251027"/>
                    <a:pt x="329742" y="251564"/>
                    <a:pt x="329742" y="251564"/>
                  </a:cubicBezTo>
                  <a:cubicBezTo>
                    <a:pt x="329742" y="252100"/>
                    <a:pt x="329205" y="252637"/>
                    <a:pt x="329205" y="253709"/>
                  </a:cubicBezTo>
                  <a:cubicBezTo>
                    <a:pt x="329205" y="253709"/>
                    <a:pt x="329205" y="253709"/>
                    <a:pt x="329205" y="253709"/>
                  </a:cubicBezTo>
                  <a:cubicBezTo>
                    <a:pt x="328669" y="254782"/>
                    <a:pt x="328669" y="256391"/>
                    <a:pt x="328133" y="257464"/>
                  </a:cubicBezTo>
                  <a:cubicBezTo>
                    <a:pt x="328133" y="258000"/>
                    <a:pt x="328133" y="258537"/>
                    <a:pt x="327596" y="259073"/>
                  </a:cubicBezTo>
                  <a:cubicBezTo>
                    <a:pt x="327596" y="259073"/>
                    <a:pt x="327596" y="259609"/>
                    <a:pt x="327596" y="259609"/>
                  </a:cubicBezTo>
                  <a:cubicBezTo>
                    <a:pt x="327060" y="261219"/>
                    <a:pt x="327060" y="262291"/>
                    <a:pt x="326523" y="263901"/>
                  </a:cubicBezTo>
                  <a:cubicBezTo>
                    <a:pt x="326523" y="263901"/>
                    <a:pt x="326523" y="263901"/>
                    <a:pt x="326523" y="264437"/>
                  </a:cubicBezTo>
                  <a:cubicBezTo>
                    <a:pt x="325987" y="266046"/>
                    <a:pt x="325987" y="267655"/>
                    <a:pt x="325451" y="268728"/>
                  </a:cubicBezTo>
                  <a:cubicBezTo>
                    <a:pt x="325451" y="269801"/>
                    <a:pt x="324914" y="270874"/>
                    <a:pt x="324914" y="272483"/>
                  </a:cubicBezTo>
                  <a:cubicBezTo>
                    <a:pt x="324378" y="275701"/>
                    <a:pt x="323841" y="279456"/>
                    <a:pt x="323305" y="282674"/>
                  </a:cubicBezTo>
                  <a:cubicBezTo>
                    <a:pt x="322769" y="284820"/>
                    <a:pt x="322769" y="286965"/>
                    <a:pt x="322232" y="288574"/>
                  </a:cubicBezTo>
                  <a:cubicBezTo>
                    <a:pt x="321696" y="290720"/>
                    <a:pt x="321696" y="293402"/>
                    <a:pt x="321160" y="295547"/>
                  </a:cubicBezTo>
                  <a:cubicBezTo>
                    <a:pt x="321160" y="296620"/>
                    <a:pt x="320623" y="298229"/>
                    <a:pt x="320623" y="299302"/>
                  </a:cubicBezTo>
                  <a:cubicBezTo>
                    <a:pt x="320623" y="299302"/>
                    <a:pt x="320623" y="299838"/>
                    <a:pt x="320623" y="299838"/>
                  </a:cubicBezTo>
                  <a:cubicBezTo>
                    <a:pt x="320623" y="301447"/>
                    <a:pt x="320087" y="302520"/>
                    <a:pt x="320087" y="304129"/>
                  </a:cubicBezTo>
                  <a:cubicBezTo>
                    <a:pt x="320087" y="306811"/>
                    <a:pt x="319550" y="310029"/>
                    <a:pt x="319550" y="312711"/>
                  </a:cubicBezTo>
                  <a:cubicBezTo>
                    <a:pt x="317405" y="348649"/>
                    <a:pt x="321160" y="385660"/>
                    <a:pt x="337787" y="416770"/>
                  </a:cubicBezTo>
                  <a:cubicBezTo>
                    <a:pt x="311505" y="459144"/>
                    <a:pt x="286831" y="505273"/>
                    <a:pt x="279858" y="554620"/>
                  </a:cubicBezTo>
                  <a:cubicBezTo>
                    <a:pt x="273958" y="595385"/>
                    <a:pt x="282540" y="637760"/>
                    <a:pt x="297559" y="676379"/>
                  </a:cubicBezTo>
                  <a:cubicBezTo>
                    <a:pt x="299704" y="682280"/>
                    <a:pt x="303459" y="689252"/>
                    <a:pt x="309359" y="690862"/>
                  </a:cubicBezTo>
                  <a:cubicBezTo>
                    <a:pt x="314723" y="692471"/>
                    <a:pt x="320087" y="690325"/>
                    <a:pt x="325987" y="689789"/>
                  </a:cubicBezTo>
                  <a:cubicBezTo>
                    <a:pt x="330278" y="689252"/>
                    <a:pt x="334569" y="691398"/>
                    <a:pt x="336715" y="694616"/>
                  </a:cubicBezTo>
                  <a:cubicBezTo>
                    <a:pt x="335642" y="698371"/>
                    <a:pt x="334033" y="702662"/>
                    <a:pt x="332960" y="706417"/>
                  </a:cubicBezTo>
                  <a:cubicBezTo>
                    <a:pt x="331351" y="710708"/>
                    <a:pt x="330278" y="715535"/>
                    <a:pt x="328669" y="719826"/>
                  </a:cubicBezTo>
                  <a:cubicBezTo>
                    <a:pt x="328133" y="722508"/>
                    <a:pt x="327060" y="724654"/>
                    <a:pt x="326523" y="727336"/>
                  </a:cubicBezTo>
                  <a:cubicBezTo>
                    <a:pt x="321696" y="739136"/>
                    <a:pt x="316869" y="751473"/>
                    <a:pt x="315796" y="763273"/>
                  </a:cubicBezTo>
                  <a:cubicBezTo>
                    <a:pt x="315796" y="763810"/>
                    <a:pt x="315259" y="764883"/>
                    <a:pt x="315259" y="765419"/>
                  </a:cubicBezTo>
                  <a:cubicBezTo>
                    <a:pt x="315259" y="765955"/>
                    <a:pt x="314723" y="766492"/>
                    <a:pt x="314723" y="767028"/>
                  </a:cubicBezTo>
                  <a:cubicBezTo>
                    <a:pt x="314723" y="767564"/>
                    <a:pt x="314187" y="768637"/>
                    <a:pt x="314187" y="769174"/>
                  </a:cubicBezTo>
                  <a:cubicBezTo>
                    <a:pt x="314723" y="769174"/>
                    <a:pt x="315259" y="769710"/>
                    <a:pt x="315796" y="769710"/>
                  </a:cubicBezTo>
                  <a:cubicBezTo>
                    <a:pt x="315796" y="773465"/>
                    <a:pt x="316332" y="777219"/>
                    <a:pt x="315796" y="780438"/>
                  </a:cubicBezTo>
                  <a:cubicBezTo>
                    <a:pt x="315796" y="782583"/>
                    <a:pt x="315259" y="784192"/>
                    <a:pt x="314723" y="786338"/>
                  </a:cubicBezTo>
                  <a:cubicBezTo>
                    <a:pt x="313650" y="789020"/>
                    <a:pt x="312041" y="791165"/>
                    <a:pt x="310432" y="793311"/>
                  </a:cubicBezTo>
                  <a:cubicBezTo>
                    <a:pt x="309896" y="793847"/>
                    <a:pt x="309359" y="794920"/>
                    <a:pt x="308286" y="795456"/>
                  </a:cubicBezTo>
                  <a:cubicBezTo>
                    <a:pt x="308286" y="795993"/>
                    <a:pt x="307750" y="795993"/>
                    <a:pt x="307214" y="796529"/>
                  </a:cubicBezTo>
                  <a:cubicBezTo>
                    <a:pt x="307214" y="796529"/>
                    <a:pt x="306677" y="797066"/>
                    <a:pt x="306677" y="797066"/>
                  </a:cubicBezTo>
                  <a:cubicBezTo>
                    <a:pt x="306677" y="797066"/>
                    <a:pt x="306677" y="797602"/>
                    <a:pt x="306141" y="797602"/>
                  </a:cubicBezTo>
                  <a:cubicBezTo>
                    <a:pt x="305604" y="798138"/>
                    <a:pt x="305068" y="798675"/>
                    <a:pt x="305068" y="799211"/>
                  </a:cubicBezTo>
                  <a:cubicBezTo>
                    <a:pt x="305068" y="799211"/>
                    <a:pt x="305068" y="799211"/>
                    <a:pt x="305068" y="799211"/>
                  </a:cubicBezTo>
                  <a:cubicBezTo>
                    <a:pt x="304532" y="799747"/>
                    <a:pt x="303995" y="800820"/>
                    <a:pt x="303459" y="801357"/>
                  </a:cubicBezTo>
                  <a:cubicBezTo>
                    <a:pt x="302386" y="802429"/>
                    <a:pt x="301850" y="803502"/>
                    <a:pt x="300777" y="805111"/>
                  </a:cubicBezTo>
                  <a:cubicBezTo>
                    <a:pt x="298631" y="808866"/>
                    <a:pt x="297559" y="813157"/>
                    <a:pt x="297022" y="817448"/>
                  </a:cubicBezTo>
                  <a:cubicBezTo>
                    <a:pt x="297022" y="817448"/>
                    <a:pt x="297022" y="817448"/>
                    <a:pt x="297022" y="817448"/>
                  </a:cubicBezTo>
                  <a:cubicBezTo>
                    <a:pt x="296486" y="820130"/>
                    <a:pt x="296486" y="823348"/>
                    <a:pt x="295950" y="826030"/>
                  </a:cubicBezTo>
                  <a:cubicBezTo>
                    <a:pt x="293268" y="852313"/>
                    <a:pt x="288440" y="878596"/>
                    <a:pt x="281467" y="903806"/>
                  </a:cubicBezTo>
                  <a:cubicBezTo>
                    <a:pt x="281467" y="904342"/>
                    <a:pt x="280931" y="904879"/>
                    <a:pt x="280931" y="905951"/>
                  </a:cubicBezTo>
                  <a:cubicBezTo>
                    <a:pt x="279858" y="905951"/>
                    <a:pt x="278249" y="906488"/>
                    <a:pt x="277176" y="906488"/>
                  </a:cubicBezTo>
                  <a:cubicBezTo>
                    <a:pt x="271812" y="907560"/>
                    <a:pt x="266448" y="908097"/>
                    <a:pt x="261085" y="908633"/>
                  </a:cubicBezTo>
                  <a:cubicBezTo>
                    <a:pt x="249284" y="910242"/>
                    <a:pt x="237484" y="911315"/>
                    <a:pt x="225683" y="912388"/>
                  </a:cubicBezTo>
                  <a:cubicBezTo>
                    <a:pt x="221929" y="912924"/>
                    <a:pt x="218710" y="912924"/>
                    <a:pt x="214956" y="912924"/>
                  </a:cubicBezTo>
                  <a:cubicBezTo>
                    <a:pt x="213346" y="912924"/>
                    <a:pt x="211201" y="912924"/>
                    <a:pt x="209592" y="913461"/>
                  </a:cubicBezTo>
                  <a:cubicBezTo>
                    <a:pt x="200473" y="913997"/>
                    <a:pt x="191355" y="914533"/>
                    <a:pt x="181700" y="914533"/>
                  </a:cubicBezTo>
                  <a:cubicBezTo>
                    <a:pt x="180627" y="914533"/>
                    <a:pt x="180091" y="914533"/>
                    <a:pt x="179018" y="914533"/>
                  </a:cubicBezTo>
                  <a:cubicBezTo>
                    <a:pt x="176336" y="914533"/>
                    <a:pt x="173118" y="914533"/>
                    <a:pt x="169899" y="914533"/>
                  </a:cubicBezTo>
                  <a:cubicBezTo>
                    <a:pt x="136107" y="914533"/>
                    <a:pt x="102851" y="911851"/>
                    <a:pt x="70132" y="907024"/>
                  </a:cubicBezTo>
                  <a:cubicBezTo>
                    <a:pt x="64232" y="905951"/>
                    <a:pt x="57795" y="905415"/>
                    <a:pt x="51895" y="904342"/>
                  </a:cubicBezTo>
                  <a:cubicBezTo>
                    <a:pt x="51359" y="904342"/>
                    <a:pt x="50822" y="904342"/>
                    <a:pt x="50822" y="904342"/>
                  </a:cubicBezTo>
                  <a:cubicBezTo>
                    <a:pt x="43849" y="903269"/>
                    <a:pt x="36876" y="901660"/>
                    <a:pt x="29903" y="900051"/>
                  </a:cubicBezTo>
                  <a:cubicBezTo>
                    <a:pt x="22394" y="870014"/>
                    <a:pt x="14885" y="829785"/>
                    <a:pt x="9521" y="797066"/>
                  </a:cubicBezTo>
                  <a:cubicBezTo>
                    <a:pt x="9521" y="795456"/>
                    <a:pt x="8984" y="794384"/>
                    <a:pt x="8984" y="792774"/>
                  </a:cubicBezTo>
                  <a:cubicBezTo>
                    <a:pt x="8448" y="790629"/>
                    <a:pt x="8448" y="789020"/>
                    <a:pt x="7912" y="787411"/>
                  </a:cubicBezTo>
                  <a:cubicBezTo>
                    <a:pt x="7375" y="783656"/>
                    <a:pt x="6839" y="780438"/>
                    <a:pt x="6302" y="776683"/>
                  </a:cubicBezTo>
                  <a:cubicBezTo>
                    <a:pt x="6302" y="775074"/>
                    <a:pt x="5766" y="773465"/>
                    <a:pt x="5766" y="772392"/>
                  </a:cubicBezTo>
                  <a:cubicBezTo>
                    <a:pt x="5766" y="771855"/>
                    <a:pt x="5766" y="771855"/>
                    <a:pt x="5766" y="771319"/>
                  </a:cubicBezTo>
                  <a:cubicBezTo>
                    <a:pt x="5766" y="770246"/>
                    <a:pt x="5230" y="769174"/>
                    <a:pt x="5230" y="768101"/>
                  </a:cubicBezTo>
                  <a:cubicBezTo>
                    <a:pt x="5230" y="767564"/>
                    <a:pt x="5230" y="767028"/>
                    <a:pt x="4693" y="765955"/>
                  </a:cubicBezTo>
                  <a:cubicBezTo>
                    <a:pt x="3621" y="758446"/>
                    <a:pt x="2548" y="752546"/>
                    <a:pt x="1475" y="747718"/>
                  </a:cubicBezTo>
                  <a:cubicBezTo>
                    <a:pt x="939" y="745036"/>
                    <a:pt x="402" y="741818"/>
                    <a:pt x="402" y="738063"/>
                  </a:cubicBezTo>
                  <a:cubicBezTo>
                    <a:pt x="402" y="736991"/>
                    <a:pt x="402" y="735918"/>
                    <a:pt x="402" y="735381"/>
                  </a:cubicBezTo>
                  <a:cubicBezTo>
                    <a:pt x="402" y="734309"/>
                    <a:pt x="402" y="733236"/>
                    <a:pt x="402" y="732163"/>
                  </a:cubicBezTo>
                  <a:cubicBezTo>
                    <a:pt x="-134" y="722508"/>
                    <a:pt x="-134" y="710708"/>
                    <a:pt x="402" y="697298"/>
                  </a:cubicBezTo>
                  <a:cubicBezTo>
                    <a:pt x="402" y="695689"/>
                    <a:pt x="402" y="694080"/>
                    <a:pt x="402" y="692471"/>
                  </a:cubicBezTo>
                  <a:cubicBezTo>
                    <a:pt x="402" y="690862"/>
                    <a:pt x="402" y="688716"/>
                    <a:pt x="402" y="687107"/>
                  </a:cubicBezTo>
                  <a:cubicBezTo>
                    <a:pt x="402" y="683352"/>
                    <a:pt x="402" y="680134"/>
                    <a:pt x="939" y="676379"/>
                  </a:cubicBezTo>
                  <a:cubicBezTo>
                    <a:pt x="939" y="673697"/>
                    <a:pt x="939" y="671015"/>
                    <a:pt x="1475" y="667797"/>
                  </a:cubicBezTo>
                  <a:cubicBezTo>
                    <a:pt x="1475" y="667797"/>
                    <a:pt x="1475" y="667261"/>
                    <a:pt x="1475" y="667261"/>
                  </a:cubicBezTo>
                  <a:cubicBezTo>
                    <a:pt x="1475" y="666188"/>
                    <a:pt x="1475" y="665115"/>
                    <a:pt x="1475" y="664042"/>
                  </a:cubicBezTo>
                  <a:cubicBezTo>
                    <a:pt x="1475" y="662433"/>
                    <a:pt x="1475" y="660824"/>
                    <a:pt x="1475" y="659215"/>
                  </a:cubicBezTo>
                  <a:cubicBezTo>
                    <a:pt x="1475" y="657606"/>
                    <a:pt x="1475" y="656533"/>
                    <a:pt x="1475" y="654924"/>
                  </a:cubicBezTo>
                  <a:cubicBezTo>
                    <a:pt x="1475" y="652242"/>
                    <a:pt x="2011" y="649024"/>
                    <a:pt x="2011" y="646342"/>
                  </a:cubicBezTo>
                  <a:cubicBezTo>
                    <a:pt x="2011" y="646342"/>
                    <a:pt x="2011" y="645805"/>
                    <a:pt x="2011" y="645805"/>
                  </a:cubicBezTo>
                  <a:cubicBezTo>
                    <a:pt x="2011" y="644196"/>
                    <a:pt x="2011" y="642051"/>
                    <a:pt x="2548" y="640442"/>
                  </a:cubicBezTo>
                  <a:cubicBezTo>
                    <a:pt x="2548" y="638296"/>
                    <a:pt x="2548" y="636687"/>
                    <a:pt x="3084" y="634541"/>
                  </a:cubicBezTo>
                  <a:cubicBezTo>
                    <a:pt x="3084" y="633469"/>
                    <a:pt x="3084" y="632932"/>
                    <a:pt x="3084" y="631859"/>
                  </a:cubicBezTo>
                  <a:cubicBezTo>
                    <a:pt x="3084" y="631323"/>
                    <a:pt x="3084" y="630250"/>
                    <a:pt x="3084" y="629177"/>
                  </a:cubicBezTo>
                  <a:cubicBezTo>
                    <a:pt x="3084" y="629177"/>
                    <a:pt x="3084" y="629177"/>
                    <a:pt x="3084" y="629177"/>
                  </a:cubicBezTo>
                  <a:cubicBezTo>
                    <a:pt x="3084" y="629177"/>
                    <a:pt x="3084" y="628641"/>
                    <a:pt x="3084" y="628641"/>
                  </a:cubicBezTo>
                  <a:cubicBezTo>
                    <a:pt x="3084" y="626496"/>
                    <a:pt x="3621" y="624350"/>
                    <a:pt x="3621" y="622205"/>
                  </a:cubicBezTo>
                  <a:cubicBezTo>
                    <a:pt x="3621" y="621132"/>
                    <a:pt x="3621" y="620059"/>
                    <a:pt x="3621" y="618450"/>
                  </a:cubicBezTo>
                  <a:cubicBezTo>
                    <a:pt x="3621" y="617914"/>
                    <a:pt x="3621" y="617377"/>
                    <a:pt x="3621" y="616841"/>
                  </a:cubicBezTo>
                  <a:cubicBezTo>
                    <a:pt x="3621" y="615768"/>
                    <a:pt x="3621" y="614695"/>
                    <a:pt x="3621" y="613622"/>
                  </a:cubicBezTo>
                  <a:cubicBezTo>
                    <a:pt x="3621" y="612013"/>
                    <a:pt x="3621" y="610404"/>
                    <a:pt x="4157" y="608795"/>
                  </a:cubicBezTo>
                  <a:cubicBezTo>
                    <a:pt x="4157" y="607186"/>
                    <a:pt x="4157" y="605577"/>
                    <a:pt x="4693" y="603968"/>
                  </a:cubicBezTo>
                  <a:cubicBezTo>
                    <a:pt x="4693" y="602358"/>
                    <a:pt x="4693" y="601286"/>
                    <a:pt x="5230" y="599676"/>
                  </a:cubicBezTo>
                  <a:cubicBezTo>
                    <a:pt x="5230" y="599140"/>
                    <a:pt x="5230" y="598067"/>
                    <a:pt x="5230" y="597531"/>
                  </a:cubicBezTo>
                  <a:cubicBezTo>
                    <a:pt x="5766" y="592703"/>
                    <a:pt x="5766" y="587876"/>
                    <a:pt x="6302" y="583585"/>
                  </a:cubicBezTo>
                  <a:cubicBezTo>
                    <a:pt x="6302" y="582512"/>
                    <a:pt x="6302" y="581439"/>
                    <a:pt x="6302" y="580367"/>
                  </a:cubicBezTo>
                  <a:cubicBezTo>
                    <a:pt x="6302" y="579830"/>
                    <a:pt x="6302" y="578757"/>
                    <a:pt x="6302" y="578221"/>
                  </a:cubicBezTo>
                  <a:cubicBezTo>
                    <a:pt x="6302" y="576612"/>
                    <a:pt x="6302" y="575003"/>
                    <a:pt x="6839" y="573394"/>
                  </a:cubicBezTo>
                  <a:cubicBezTo>
                    <a:pt x="7375" y="568030"/>
                    <a:pt x="7375" y="563739"/>
                    <a:pt x="7912" y="560520"/>
                  </a:cubicBezTo>
                  <a:cubicBezTo>
                    <a:pt x="7912" y="558375"/>
                    <a:pt x="8448" y="556229"/>
                    <a:pt x="8448" y="554084"/>
                  </a:cubicBezTo>
                  <a:cubicBezTo>
                    <a:pt x="8448" y="551938"/>
                    <a:pt x="8984" y="549793"/>
                    <a:pt x="8984" y="547647"/>
                  </a:cubicBezTo>
                  <a:cubicBezTo>
                    <a:pt x="8984" y="547111"/>
                    <a:pt x="8984" y="546574"/>
                    <a:pt x="8984" y="546574"/>
                  </a:cubicBezTo>
                  <a:cubicBezTo>
                    <a:pt x="8984" y="546574"/>
                    <a:pt x="8984" y="546038"/>
                    <a:pt x="8984" y="546038"/>
                  </a:cubicBezTo>
                  <a:cubicBezTo>
                    <a:pt x="8984" y="544965"/>
                    <a:pt x="8984" y="544429"/>
                    <a:pt x="9521" y="543356"/>
                  </a:cubicBezTo>
                  <a:cubicBezTo>
                    <a:pt x="9521" y="543356"/>
                    <a:pt x="9521" y="543356"/>
                    <a:pt x="9521" y="543356"/>
                  </a:cubicBezTo>
                  <a:cubicBezTo>
                    <a:pt x="9521" y="542820"/>
                    <a:pt x="9521" y="541747"/>
                    <a:pt x="9521" y="541211"/>
                  </a:cubicBezTo>
                  <a:cubicBezTo>
                    <a:pt x="9521" y="539065"/>
                    <a:pt x="10057" y="536920"/>
                    <a:pt x="10594" y="534774"/>
                  </a:cubicBezTo>
                  <a:cubicBezTo>
                    <a:pt x="10594" y="533701"/>
                    <a:pt x="11130" y="532628"/>
                    <a:pt x="11130" y="531556"/>
                  </a:cubicBezTo>
                  <a:cubicBezTo>
                    <a:pt x="11666" y="529947"/>
                    <a:pt x="11666" y="527801"/>
                    <a:pt x="12203" y="526192"/>
                  </a:cubicBezTo>
                  <a:cubicBezTo>
                    <a:pt x="12203" y="526192"/>
                    <a:pt x="12203" y="525656"/>
                    <a:pt x="12203" y="525656"/>
                  </a:cubicBezTo>
                  <a:cubicBezTo>
                    <a:pt x="12203" y="524583"/>
                    <a:pt x="12739" y="522974"/>
                    <a:pt x="12739" y="521901"/>
                  </a:cubicBezTo>
                  <a:cubicBezTo>
                    <a:pt x="13275" y="519755"/>
                    <a:pt x="13275" y="518146"/>
                    <a:pt x="13812" y="516001"/>
                  </a:cubicBezTo>
                  <a:cubicBezTo>
                    <a:pt x="13812" y="514928"/>
                    <a:pt x="14348" y="513855"/>
                    <a:pt x="14348" y="512782"/>
                  </a:cubicBezTo>
                  <a:cubicBezTo>
                    <a:pt x="14348" y="511710"/>
                    <a:pt x="14885" y="510637"/>
                    <a:pt x="14885" y="509564"/>
                  </a:cubicBezTo>
                  <a:cubicBezTo>
                    <a:pt x="14885" y="509564"/>
                    <a:pt x="14885" y="509564"/>
                    <a:pt x="14885" y="509564"/>
                  </a:cubicBezTo>
                  <a:cubicBezTo>
                    <a:pt x="14885" y="509564"/>
                    <a:pt x="14885" y="509028"/>
                    <a:pt x="14885" y="509028"/>
                  </a:cubicBezTo>
                  <a:cubicBezTo>
                    <a:pt x="16494" y="501518"/>
                    <a:pt x="18639" y="494545"/>
                    <a:pt x="20785" y="487036"/>
                  </a:cubicBezTo>
                  <a:cubicBezTo>
                    <a:pt x="24003" y="476845"/>
                    <a:pt x="27758" y="467190"/>
                    <a:pt x="32049" y="457535"/>
                  </a:cubicBezTo>
                  <a:cubicBezTo>
                    <a:pt x="50286" y="416770"/>
                    <a:pt x="76569" y="378687"/>
                    <a:pt x="102315" y="342212"/>
                  </a:cubicBezTo>
                  <a:cubicBezTo>
                    <a:pt x="104461" y="316466"/>
                    <a:pt x="111970" y="292329"/>
                    <a:pt x="120016" y="267655"/>
                  </a:cubicBezTo>
                  <a:cubicBezTo>
                    <a:pt x="128598" y="242445"/>
                    <a:pt x="136644" y="216699"/>
                    <a:pt x="146299" y="191489"/>
                  </a:cubicBezTo>
                  <a:cubicBezTo>
                    <a:pt x="152199" y="175397"/>
                    <a:pt x="158635" y="159306"/>
                    <a:pt x="165608" y="143214"/>
                  </a:cubicBezTo>
                  <a:cubicBezTo>
                    <a:pt x="185455" y="94403"/>
                    <a:pt x="214956" y="47738"/>
                    <a:pt x="236947" y="0"/>
                  </a:cubicBezTo>
                  <a:cubicBezTo>
                    <a:pt x="242848" y="3755"/>
                    <a:pt x="248748" y="7509"/>
                    <a:pt x="254648" y="11800"/>
                  </a:cubicBezTo>
                  <a:cubicBezTo>
                    <a:pt x="257866" y="13946"/>
                    <a:pt x="261621" y="16091"/>
                    <a:pt x="264839" y="18773"/>
                  </a:cubicBezTo>
                  <a:cubicBezTo>
                    <a:pt x="272885" y="24137"/>
                    <a:pt x="281467" y="29501"/>
                    <a:pt x="289513" y="35401"/>
                  </a:cubicBezTo>
                  <a:cubicBezTo>
                    <a:pt x="327060" y="60075"/>
                    <a:pt x="365679" y="85821"/>
                    <a:pt x="409126" y="97085"/>
                  </a:cubicBezTo>
                  <a:cubicBezTo>
                    <a:pt x="410199" y="99767"/>
                    <a:pt x="410736" y="99767"/>
                    <a:pt x="411808" y="9976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83" name="Freeform: Shape 494"/>
            <p:cNvSpPr/>
            <p:nvPr/>
          </p:nvSpPr>
          <p:spPr>
            <a:xfrm>
              <a:off x="9380880" y="2523960"/>
              <a:ext cx="39600" cy="347400"/>
            </a:xfrm>
            <a:custGeom>
              <a:avLst/>
              <a:gdLst/>
              <a:ahLst/>
              <a:rect l="l" t="t" r="r" b="b"/>
              <a:pathLst>
                <a:path w="51358" h="447126">
                  <a:moveTo>
                    <a:pt x="15421" y="297475"/>
                  </a:moveTo>
                  <a:cubicBezTo>
                    <a:pt x="21858" y="348432"/>
                    <a:pt x="35804" y="398315"/>
                    <a:pt x="51359" y="447126"/>
                  </a:cubicBezTo>
                  <a:cubicBezTo>
                    <a:pt x="44386" y="446053"/>
                    <a:pt x="37413" y="444444"/>
                    <a:pt x="30440" y="442835"/>
                  </a:cubicBezTo>
                  <a:cubicBezTo>
                    <a:pt x="22930" y="412798"/>
                    <a:pt x="15421" y="372569"/>
                    <a:pt x="10057" y="339850"/>
                  </a:cubicBezTo>
                  <a:cubicBezTo>
                    <a:pt x="10057" y="338240"/>
                    <a:pt x="9521" y="337168"/>
                    <a:pt x="9521" y="335559"/>
                  </a:cubicBezTo>
                  <a:cubicBezTo>
                    <a:pt x="8984" y="333413"/>
                    <a:pt x="8984" y="331804"/>
                    <a:pt x="8448" y="330195"/>
                  </a:cubicBezTo>
                  <a:cubicBezTo>
                    <a:pt x="7912" y="326440"/>
                    <a:pt x="7375" y="323222"/>
                    <a:pt x="6839" y="319467"/>
                  </a:cubicBezTo>
                  <a:cubicBezTo>
                    <a:pt x="6839" y="317858"/>
                    <a:pt x="6302" y="316249"/>
                    <a:pt x="6302" y="315176"/>
                  </a:cubicBezTo>
                  <a:cubicBezTo>
                    <a:pt x="6302" y="314639"/>
                    <a:pt x="6302" y="314639"/>
                    <a:pt x="6302" y="314103"/>
                  </a:cubicBezTo>
                  <a:cubicBezTo>
                    <a:pt x="6302" y="313030"/>
                    <a:pt x="5766" y="311958"/>
                    <a:pt x="5766" y="310885"/>
                  </a:cubicBezTo>
                  <a:cubicBezTo>
                    <a:pt x="5766" y="310348"/>
                    <a:pt x="5766" y="309812"/>
                    <a:pt x="5230" y="308739"/>
                  </a:cubicBezTo>
                  <a:cubicBezTo>
                    <a:pt x="4157" y="301230"/>
                    <a:pt x="3084" y="295330"/>
                    <a:pt x="2011" y="290502"/>
                  </a:cubicBezTo>
                  <a:cubicBezTo>
                    <a:pt x="1475" y="287820"/>
                    <a:pt x="939" y="284602"/>
                    <a:pt x="939" y="280847"/>
                  </a:cubicBezTo>
                  <a:cubicBezTo>
                    <a:pt x="939" y="278702"/>
                    <a:pt x="939" y="277093"/>
                    <a:pt x="402" y="274947"/>
                  </a:cubicBezTo>
                  <a:cubicBezTo>
                    <a:pt x="-134" y="265292"/>
                    <a:pt x="-134" y="253492"/>
                    <a:pt x="402" y="240082"/>
                  </a:cubicBezTo>
                  <a:cubicBezTo>
                    <a:pt x="402" y="238473"/>
                    <a:pt x="402" y="236864"/>
                    <a:pt x="402" y="235255"/>
                  </a:cubicBezTo>
                  <a:cubicBezTo>
                    <a:pt x="402" y="233646"/>
                    <a:pt x="402" y="231500"/>
                    <a:pt x="402" y="229891"/>
                  </a:cubicBezTo>
                  <a:cubicBezTo>
                    <a:pt x="402" y="226136"/>
                    <a:pt x="402" y="222918"/>
                    <a:pt x="939" y="219163"/>
                  </a:cubicBezTo>
                  <a:cubicBezTo>
                    <a:pt x="939" y="216481"/>
                    <a:pt x="939" y="213799"/>
                    <a:pt x="1475" y="210581"/>
                  </a:cubicBezTo>
                  <a:cubicBezTo>
                    <a:pt x="1475" y="210581"/>
                    <a:pt x="1475" y="210045"/>
                    <a:pt x="1475" y="210045"/>
                  </a:cubicBezTo>
                  <a:cubicBezTo>
                    <a:pt x="1475" y="208972"/>
                    <a:pt x="1475" y="207899"/>
                    <a:pt x="1475" y="206827"/>
                  </a:cubicBezTo>
                  <a:cubicBezTo>
                    <a:pt x="1475" y="205217"/>
                    <a:pt x="1475" y="203608"/>
                    <a:pt x="1475" y="201999"/>
                  </a:cubicBezTo>
                  <a:cubicBezTo>
                    <a:pt x="1475" y="200390"/>
                    <a:pt x="1475" y="199317"/>
                    <a:pt x="1475" y="197708"/>
                  </a:cubicBezTo>
                  <a:cubicBezTo>
                    <a:pt x="1475" y="195026"/>
                    <a:pt x="2011" y="191808"/>
                    <a:pt x="2011" y="189126"/>
                  </a:cubicBezTo>
                  <a:cubicBezTo>
                    <a:pt x="2011" y="189126"/>
                    <a:pt x="2011" y="188589"/>
                    <a:pt x="2011" y="188589"/>
                  </a:cubicBezTo>
                  <a:cubicBezTo>
                    <a:pt x="2011" y="186980"/>
                    <a:pt x="2011" y="184835"/>
                    <a:pt x="2548" y="183226"/>
                  </a:cubicBezTo>
                  <a:cubicBezTo>
                    <a:pt x="2548" y="181080"/>
                    <a:pt x="2548" y="179471"/>
                    <a:pt x="3084" y="177325"/>
                  </a:cubicBezTo>
                  <a:cubicBezTo>
                    <a:pt x="3084" y="175716"/>
                    <a:pt x="3084" y="174107"/>
                    <a:pt x="3621" y="172498"/>
                  </a:cubicBezTo>
                  <a:cubicBezTo>
                    <a:pt x="3621" y="172498"/>
                    <a:pt x="3621" y="172498"/>
                    <a:pt x="3621" y="172498"/>
                  </a:cubicBezTo>
                  <a:cubicBezTo>
                    <a:pt x="3621" y="172498"/>
                    <a:pt x="3621" y="171962"/>
                    <a:pt x="3621" y="171962"/>
                  </a:cubicBezTo>
                  <a:cubicBezTo>
                    <a:pt x="3621" y="169816"/>
                    <a:pt x="4157" y="167670"/>
                    <a:pt x="4157" y="165525"/>
                  </a:cubicBezTo>
                  <a:cubicBezTo>
                    <a:pt x="4157" y="164452"/>
                    <a:pt x="4157" y="163379"/>
                    <a:pt x="4157" y="161770"/>
                  </a:cubicBezTo>
                  <a:cubicBezTo>
                    <a:pt x="4157" y="161234"/>
                    <a:pt x="4157" y="160698"/>
                    <a:pt x="4157" y="160161"/>
                  </a:cubicBezTo>
                  <a:cubicBezTo>
                    <a:pt x="4157" y="159088"/>
                    <a:pt x="4157" y="158016"/>
                    <a:pt x="4157" y="156943"/>
                  </a:cubicBezTo>
                  <a:cubicBezTo>
                    <a:pt x="4157" y="155334"/>
                    <a:pt x="4157" y="153724"/>
                    <a:pt x="4693" y="152115"/>
                  </a:cubicBezTo>
                  <a:cubicBezTo>
                    <a:pt x="4693" y="150506"/>
                    <a:pt x="4693" y="148897"/>
                    <a:pt x="5230" y="147288"/>
                  </a:cubicBezTo>
                  <a:cubicBezTo>
                    <a:pt x="5230" y="145679"/>
                    <a:pt x="5230" y="144606"/>
                    <a:pt x="5766" y="142997"/>
                  </a:cubicBezTo>
                  <a:cubicBezTo>
                    <a:pt x="5766" y="142461"/>
                    <a:pt x="5766" y="141388"/>
                    <a:pt x="5766" y="140851"/>
                  </a:cubicBezTo>
                  <a:cubicBezTo>
                    <a:pt x="6302" y="136024"/>
                    <a:pt x="6302" y="131196"/>
                    <a:pt x="6839" y="126905"/>
                  </a:cubicBezTo>
                  <a:cubicBezTo>
                    <a:pt x="6839" y="125833"/>
                    <a:pt x="6839" y="124760"/>
                    <a:pt x="6839" y="123687"/>
                  </a:cubicBezTo>
                  <a:cubicBezTo>
                    <a:pt x="6839" y="123151"/>
                    <a:pt x="6839" y="122078"/>
                    <a:pt x="6839" y="121541"/>
                  </a:cubicBezTo>
                  <a:cubicBezTo>
                    <a:pt x="6839" y="119932"/>
                    <a:pt x="6839" y="118323"/>
                    <a:pt x="7375" y="116714"/>
                  </a:cubicBezTo>
                  <a:cubicBezTo>
                    <a:pt x="7912" y="111350"/>
                    <a:pt x="7912" y="107059"/>
                    <a:pt x="8448" y="103841"/>
                  </a:cubicBezTo>
                  <a:cubicBezTo>
                    <a:pt x="8448" y="101695"/>
                    <a:pt x="8984" y="99550"/>
                    <a:pt x="8984" y="97404"/>
                  </a:cubicBezTo>
                  <a:cubicBezTo>
                    <a:pt x="8984" y="95259"/>
                    <a:pt x="9521" y="93113"/>
                    <a:pt x="9521" y="90968"/>
                  </a:cubicBezTo>
                  <a:cubicBezTo>
                    <a:pt x="9521" y="90431"/>
                    <a:pt x="9521" y="89895"/>
                    <a:pt x="9521" y="89895"/>
                  </a:cubicBezTo>
                  <a:cubicBezTo>
                    <a:pt x="9521" y="89895"/>
                    <a:pt x="9521" y="89358"/>
                    <a:pt x="9521" y="89358"/>
                  </a:cubicBezTo>
                  <a:cubicBezTo>
                    <a:pt x="9521" y="88286"/>
                    <a:pt x="9521" y="87749"/>
                    <a:pt x="10057" y="86677"/>
                  </a:cubicBezTo>
                  <a:cubicBezTo>
                    <a:pt x="10057" y="86677"/>
                    <a:pt x="10057" y="86677"/>
                    <a:pt x="10057" y="86677"/>
                  </a:cubicBezTo>
                  <a:cubicBezTo>
                    <a:pt x="10057" y="86140"/>
                    <a:pt x="10057" y="85067"/>
                    <a:pt x="10057" y="84531"/>
                  </a:cubicBezTo>
                  <a:cubicBezTo>
                    <a:pt x="10057" y="82386"/>
                    <a:pt x="10594" y="80240"/>
                    <a:pt x="11130" y="78095"/>
                  </a:cubicBezTo>
                  <a:cubicBezTo>
                    <a:pt x="11130" y="77022"/>
                    <a:pt x="11666" y="75949"/>
                    <a:pt x="11666" y="74876"/>
                  </a:cubicBezTo>
                  <a:cubicBezTo>
                    <a:pt x="12203" y="73267"/>
                    <a:pt x="12203" y="71121"/>
                    <a:pt x="12739" y="69512"/>
                  </a:cubicBezTo>
                  <a:cubicBezTo>
                    <a:pt x="12739" y="69512"/>
                    <a:pt x="12739" y="68976"/>
                    <a:pt x="12739" y="68976"/>
                  </a:cubicBezTo>
                  <a:cubicBezTo>
                    <a:pt x="12739" y="67903"/>
                    <a:pt x="13275" y="66294"/>
                    <a:pt x="13275" y="65221"/>
                  </a:cubicBezTo>
                  <a:cubicBezTo>
                    <a:pt x="13812" y="63076"/>
                    <a:pt x="13812" y="61467"/>
                    <a:pt x="14348" y="59321"/>
                  </a:cubicBezTo>
                  <a:cubicBezTo>
                    <a:pt x="14348" y="58248"/>
                    <a:pt x="14885" y="57175"/>
                    <a:pt x="14885" y="56103"/>
                  </a:cubicBezTo>
                  <a:cubicBezTo>
                    <a:pt x="14885" y="55030"/>
                    <a:pt x="15421" y="53957"/>
                    <a:pt x="15421" y="52884"/>
                  </a:cubicBezTo>
                  <a:cubicBezTo>
                    <a:pt x="15421" y="52884"/>
                    <a:pt x="15421" y="52884"/>
                    <a:pt x="15421" y="52884"/>
                  </a:cubicBezTo>
                  <a:cubicBezTo>
                    <a:pt x="15421" y="52884"/>
                    <a:pt x="15421" y="52348"/>
                    <a:pt x="15421" y="52348"/>
                  </a:cubicBezTo>
                  <a:cubicBezTo>
                    <a:pt x="17030" y="44839"/>
                    <a:pt x="19176" y="37866"/>
                    <a:pt x="21321" y="30356"/>
                  </a:cubicBezTo>
                  <a:cubicBezTo>
                    <a:pt x="24540" y="20165"/>
                    <a:pt x="28294" y="10510"/>
                    <a:pt x="32585" y="855"/>
                  </a:cubicBezTo>
                  <a:cubicBezTo>
                    <a:pt x="35804" y="-754"/>
                    <a:pt x="38485" y="-217"/>
                    <a:pt x="39558" y="3537"/>
                  </a:cubicBezTo>
                  <a:cubicBezTo>
                    <a:pt x="39558" y="3537"/>
                    <a:pt x="39558" y="3537"/>
                    <a:pt x="39558" y="3537"/>
                  </a:cubicBezTo>
                  <a:cubicBezTo>
                    <a:pt x="40095" y="6219"/>
                    <a:pt x="39558" y="9974"/>
                    <a:pt x="37413" y="14801"/>
                  </a:cubicBezTo>
                  <a:cubicBezTo>
                    <a:pt x="33658" y="23920"/>
                    <a:pt x="26685" y="34647"/>
                    <a:pt x="25076" y="40548"/>
                  </a:cubicBezTo>
                  <a:cubicBezTo>
                    <a:pt x="21858" y="50203"/>
                    <a:pt x="19712" y="60394"/>
                    <a:pt x="18103" y="71121"/>
                  </a:cubicBezTo>
                  <a:cubicBezTo>
                    <a:pt x="17567" y="76485"/>
                    <a:pt x="17030" y="81849"/>
                    <a:pt x="16494" y="87749"/>
                  </a:cubicBezTo>
                  <a:cubicBezTo>
                    <a:pt x="16494" y="88286"/>
                    <a:pt x="16494" y="88286"/>
                    <a:pt x="16494" y="88822"/>
                  </a:cubicBezTo>
                  <a:cubicBezTo>
                    <a:pt x="16494" y="90431"/>
                    <a:pt x="16494" y="91504"/>
                    <a:pt x="15957" y="93113"/>
                  </a:cubicBezTo>
                  <a:cubicBezTo>
                    <a:pt x="15421" y="97404"/>
                    <a:pt x="15421" y="101695"/>
                    <a:pt x="14885" y="105986"/>
                  </a:cubicBezTo>
                  <a:cubicBezTo>
                    <a:pt x="14885" y="110278"/>
                    <a:pt x="14348" y="114569"/>
                    <a:pt x="14348" y="118323"/>
                  </a:cubicBezTo>
                  <a:cubicBezTo>
                    <a:pt x="14348" y="119932"/>
                    <a:pt x="14348" y="121541"/>
                    <a:pt x="13812" y="123151"/>
                  </a:cubicBezTo>
                  <a:cubicBezTo>
                    <a:pt x="13275" y="131196"/>
                    <a:pt x="12739" y="138706"/>
                    <a:pt x="12739" y="146752"/>
                  </a:cubicBezTo>
                  <a:cubicBezTo>
                    <a:pt x="12739" y="148361"/>
                    <a:pt x="12739" y="149970"/>
                    <a:pt x="12739" y="151579"/>
                  </a:cubicBezTo>
                  <a:cubicBezTo>
                    <a:pt x="12203" y="157479"/>
                    <a:pt x="12203" y="163379"/>
                    <a:pt x="12203" y="169816"/>
                  </a:cubicBezTo>
                  <a:cubicBezTo>
                    <a:pt x="12203" y="170352"/>
                    <a:pt x="12203" y="170889"/>
                    <a:pt x="12203" y="170889"/>
                  </a:cubicBezTo>
                  <a:cubicBezTo>
                    <a:pt x="10057" y="212727"/>
                    <a:pt x="10594" y="255101"/>
                    <a:pt x="15421" y="29747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84" name="Freeform: Shape 495"/>
            <p:cNvSpPr/>
            <p:nvPr/>
          </p:nvSpPr>
          <p:spPr>
            <a:xfrm>
              <a:off x="9234360" y="2233800"/>
              <a:ext cx="72720" cy="460440"/>
            </a:xfrm>
            <a:custGeom>
              <a:avLst/>
              <a:gdLst/>
              <a:ahLst/>
              <a:rect l="l" t="t" r="r" b="b"/>
              <a:pathLst>
                <a:path w="93755" h="592703">
                  <a:moveTo>
                    <a:pt x="92683" y="389951"/>
                  </a:moveTo>
                  <a:cubicBezTo>
                    <a:pt x="91610" y="418915"/>
                    <a:pt x="90001" y="447880"/>
                    <a:pt x="86246" y="476308"/>
                  </a:cubicBezTo>
                  <a:cubicBezTo>
                    <a:pt x="82491" y="503127"/>
                    <a:pt x="76055" y="529410"/>
                    <a:pt x="71227" y="556229"/>
                  </a:cubicBezTo>
                  <a:cubicBezTo>
                    <a:pt x="70154" y="563202"/>
                    <a:pt x="68545" y="570712"/>
                    <a:pt x="67473" y="577685"/>
                  </a:cubicBezTo>
                  <a:cubicBezTo>
                    <a:pt x="66936" y="582512"/>
                    <a:pt x="65863" y="587876"/>
                    <a:pt x="65327" y="592703"/>
                  </a:cubicBezTo>
                  <a:cubicBezTo>
                    <a:pt x="61036" y="592167"/>
                    <a:pt x="56745" y="588949"/>
                    <a:pt x="53527" y="585731"/>
                  </a:cubicBezTo>
                  <a:cubicBezTo>
                    <a:pt x="26707" y="560520"/>
                    <a:pt x="12761" y="524046"/>
                    <a:pt x="5252" y="488109"/>
                  </a:cubicBezTo>
                  <a:cubicBezTo>
                    <a:pt x="4716" y="486500"/>
                    <a:pt x="4716" y="484354"/>
                    <a:pt x="4179" y="482745"/>
                  </a:cubicBezTo>
                  <a:cubicBezTo>
                    <a:pt x="425" y="465044"/>
                    <a:pt x="-1185" y="446807"/>
                    <a:pt x="961" y="428570"/>
                  </a:cubicBezTo>
                  <a:cubicBezTo>
                    <a:pt x="4179" y="404969"/>
                    <a:pt x="15443" y="382978"/>
                    <a:pt x="23489" y="360450"/>
                  </a:cubicBezTo>
                  <a:cubicBezTo>
                    <a:pt x="51381" y="279992"/>
                    <a:pt x="35290" y="192025"/>
                    <a:pt x="39581" y="106740"/>
                  </a:cubicBezTo>
                  <a:cubicBezTo>
                    <a:pt x="41190" y="80994"/>
                    <a:pt x="44408" y="54711"/>
                    <a:pt x="56745" y="32183"/>
                  </a:cubicBezTo>
                  <a:cubicBezTo>
                    <a:pt x="64791" y="17164"/>
                    <a:pt x="69618" y="12337"/>
                    <a:pt x="90001" y="1073"/>
                  </a:cubicBezTo>
                  <a:cubicBezTo>
                    <a:pt x="91073" y="536"/>
                    <a:pt x="91610" y="0"/>
                    <a:pt x="92683" y="0"/>
                  </a:cubicBezTo>
                  <a:cubicBezTo>
                    <a:pt x="86782" y="3218"/>
                    <a:pt x="81955" y="6973"/>
                    <a:pt x="77127" y="11264"/>
                  </a:cubicBezTo>
                  <a:cubicBezTo>
                    <a:pt x="63181" y="25746"/>
                    <a:pt x="61036" y="47202"/>
                    <a:pt x="60500" y="67048"/>
                  </a:cubicBezTo>
                  <a:cubicBezTo>
                    <a:pt x="59963" y="93867"/>
                    <a:pt x="61572" y="121223"/>
                    <a:pt x="64254" y="148042"/>
                  </a:cubicBezTo>
                  <a:cubicBezTo>
                    <a:pt x="66936" y="178616"/>
                    <a:pt x="70154" y="209189"/>
                    <a:pt x="76591" y="238691"/>
                  </a:cubicBezTo>
                  <a:cubicBezTo>
                    <a:pt x="81418" y="263364"/>
                    <a:pt x="88928" y="287501"/>
                    <a:pt x="91610" y="312175"/>
                  </a:cubicBezTo>
                  <a:cubicBezTo>
                    <a:pt x="94828" y="338458"/>
                    <a:pt x="93755" y="364204"/>
                    <a:pt x="92683" y="389951"/>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85" name="Freeform: Shape 496"/>
            <p:cNvSpPr/>
            <p:nvPr/>
          </p:nvSpPr>
          <p:spPr>
            <a:xfrm>
              <a:off x="9251280" y="2568600"/>
              <a:ext cx="52920" cy="118800"/>
            </a:xfrm>
            <a:custGeom>
              <a:avLst/>
              <a:gdLst/>
              <a:ahLst/>
              <a:rect l="l" t="t" r="r" b="b"/>
              <a:pathLst>
                <a:path w="68339" h="152869">
                  <a:moveTo>
                    <a:pt x="68339" y="6437"/>
                  </a:moveTo>
                  <a:cubicBezTo>
                    <a:pt x="68339" y="10191"/>
                    <a:pt x="67803" y="13410"/>
                    <a:pt x="67267" y="17164"/>
                  </a:cubicBezTo>
                  <a:cubicBezTo>
                    <a:pt x="67267" y="19846"/>
                    <a:pt x="66730" y="22528"/>
                    <a:pt x="66730" y="25210"/>
                  </a:cubicBezTo>
                  <a:cubicBezTo>
                    <a:pt x="66730" y="25210"/>
                    <a:pt x="66730" y="25746"/>
                    <a:pt x="66730" y="25746"/>
                  </a:cubicBezTo>
                  <a:cubicBezTo>
                    <a:pt x="66194" y="32183"/>
                    <a:pt x="65121" y="39156"/>
                    <a:pt x="64048" y="45593"/>
                  </a:cubicBezTo>
                  <a:cubicBezTo>
                    <a:pt x="60294" y="72412"/>
                    <a:pt x="53857" y="98695"/>
                    <a:pt x="49030" y="125514"/>
                  </a:cubicBezTo>
                  <a:cubicBezTo>
                    <a:pt x="47957" y="132487"/>
                    <a:pt x="46348" y="139996"/>
                    <a:pt x="45275" y="146969"/>
                  </a:cubicBezTo>
                  <a:cubicBezTo>
                    <a:pt x="44739" y="149115"/>
                    <a:pt x="44739" y="150724"/>
                    <a:pt x="44202" y="152869"/>
                  </a:cubicBezTo>
                  <a:cubicBezTo>
                    <a:pt x="42057" y="152869"/>
                    <a:pt x="39911" y="152869"/>
                    <a:pt x="37766" y="151797"/>
                  </a:cubicBezTo>
                  <a:cubicBezTo>
                    <a:pt x="33475" y="149651"/>
                    <a:pt x="30793" y="145360"/>
                    <a:pt x="28111" y="141069"/>
                  </a:cubicBezTo>
                  <a:cubicBezTo>
                    <a:pt x="19529" y="126050"/>
                    <a:pt x="10946" y="111031"/>
                    <a:pt x="5583" y="94403"/>
                  </a:cubicBezTo>
                  <a:cubicBezTo>
                    <a:pt x="1292" y="80994"/>
                    <a:pt x="-1390" y="65975"/>
                    <a:pt x="755" y="52029"/>
                  </a:cubicBezTo>
                  <a:cubicBezTo>
                    <a:pt x="1292" y="49347"/>
                    <a:pt x="1828" y="46129"/>
                    <a:pt x="2364" y="43447"/>
                  </a:cubicBezTo>
                  <a:cubicBezTo>
                    <a:pt x="6655" y="26819"/>
                    <a:pt x="17383" y="11264"/>
                    <a:pt x="32938" y="3755"/>
                  </a:cubicBezTo>
                  <a:cubicBezTo>
                    <a:pt x="36156" y="2146"/>
                    <a:pt x="39911" y="1073"/>
                    <a:pt x="43129" y="536"/>
                  </a:cubicBezTo>
                  <a:cubicBezTo>
                    <a:pt x="44739" y="0"/>
                    <a:pt x="46348" y="0"/>
                    <a:pt x="47957" y="0"/>
                  </a:cubicBezTo>
                  <a:cubicBezTo>
                    <a:pt x="55466" y="536"/>
                    <a:pt x="62439" y="2682"/>
                    <a:pt x="68339" y="6437"/>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86" name="Freeform: Shape 497"/>
            <p:cNvSpPr/>
            <p:nvPr/>
          </p:nvSpPr>
          <p:spPr>
            <a:xfrm>
              <a:off x="9625320" y="2760840"/>
              <a:ext cx="1080" cy="5400"/>
            </a:xfrm>
            <a:custGeom>
              <a:avLst/>
              <a:gdLst/>
              <a:ahLst/>
              <a:rect l="l" t="t" r="r" b="b"/>
              <a:pathLst>
                <a:path w="1609" h="6972">
                  <a:moveTo>
                    <a:pt x="1609" y="5364"/>
                  </a:moveTo>
                  <a:cubicBezTo>
                    <a:pt x="1609" y="5900"/>
                    <a:pt x="1609" y="6437"/>
                    <a:pt x="1609" y="6973"/>
                  </a:cubicBezTo>
                  <a:cubicBezTo>
                    <a:pt x="1073" y="6973"/>
                    <a:pt x="536" y="6437"/>
                    <a:pt x="0" y="6437"/>
                  </a:cubicBezTo>
                  <a:cubicBezTo>
                    <a:pt x="536" y="4291"/>
                    <a:pt x="1073" y="2146"/>
                    <a:pt x="1609" y="0"/>
                  </a:cubicBezTo>
                  <a:cubicBezTo>
                    <a:pt x="1609" y="2146"/>
                    <a:pt x="1609" y="3755"/>
                    <a:pt x="1609" y="5364"/>
                  </a:cubicBezTo>
                  <a:close/>
                </a:path>
              </a:pathLst>
            </a:custGeom>
            <a:noFill/>
            <a:ln w="5400">
              <a:solidFill>
                <a:srgbClr val="ed1c24"/>
              </a:solidFill>
              <a:miter/>
            </a:ln>
          </p:spPr>
          <p:style>
            <a:lnRef idx="0"/>
            <a:fillRef idx="0"/>
            <a:effectRef idx="0"/>
            <a:fontRef idx="minor"/>
          </p:style>
          <p:txBody>
            <a:bodyPr lIns="90000" rIns="90000" tIns="-41400" bIns="-41400" anchor="ctr">
              <a:noAutofit/>
            </a:bodyPr>
            <a:p>
              <a:endParaRPr b="0" lang="en-US" sz="1800" spc="-1" strike="noStrike">
                <a:solidFill>
                  <a:srgbClr val="313c3f"/>
                </a:solidFill>
                <a:latin typeface="Source Sans Pro"/>
              </a:endParaRPr>
            </a:p>
          </p:txBody>
        </p:sp>
        <p:sp>
          <p:nvSpPr>
            <p:cNvPr id="2687" name="Freeform: Shape 498"/>
            <p:cNvSpPr/>
            <p:nvPr/>
          </p:nvSpPr>
          <p:spPr>
            <a:xfrm>
              <a:off x="9392040" y="2149920"/>
              <a:ext cx="195120" cy="416880"/>
            </a:xfrm>
            <a:custGeom>
              <a:avLst/>
              <a:gdLst/>
              <a:ahLst/>
              <a:rect l="l" t="t" r="r" b="b"/>
              <a:pathLst>
                <a:path w="251563" h="536772">
                  <a:moveTo>
                    <a:pt x="250491" y="73874"/>
                  </a:moveTo>
                  <a:cubicBezTo>
                    <a:pt x="248882" y="100693"/>
                    <a:pt x="245127" y="127512"/>
                    <a:pt x="239227" y="153795"/>
                  </a:cubicBezTo>
                  <a:cubicBezTo>
                    <a:pt x="216699" y="158622"/>
                    <a:pt x="194171" y="163450"/>
                    <a:pt x="172179" y="168814"/>
                  </a:cubicBezTo>
                  <a:cubicBezTo>
                    <a:pt x="192562" y="180078"/>
                    <a:pt x="212408" y="191878"/>
                    <a:pt x="231718" y="205288"/>
                  </a:cubicBezTo>
                  <a:cubicBezTo>
                    <a:pt x="194707" y="285209"/>
                    <a:pt x="128196" y="349575"/>
                    <a:pt x="71875" y="417159"/>
                  </a:cubicBezTo>
                  <a:cubicBezTo>
                    <a:pt x="47738" y="446124"/>
                    <a:pt x="28428" y="477770"/>
                    <a:pt x="11800" y="511562"/>
                  </a:cubicBezTo>
                  <a:cubicBezTo>
                    <a:pt x="8582" y="518536"/>
                    <a:pt x="5364" y="525508"/>
                    <a:pt x="2146" y="532482"/>
                  </a:cubicBezTo>
                  <a:cubicBezTo>
                    <a:pt x="2146" y="533018"/>
                    <a:pt x="1609" y="534091"/>
                    <a:pt x="1609" y="534627"/>
                  </a:cubicBezTo>
                  <a:cubicBezTo>
                    <a:pt x="1073" y="535163"/>
                    <a:pt x="1073" y="535700"/>
                    <a:pt x="536" y="536236"/>
                  </a:cubicBezTo>
                  <a:cubicBezTo>
                    <a:pt x="536" y="536236"/>
                    <a:pt x="0" y="536773"/>
                    <a:pt x="0" y="536773"/>
                  </a:cubicBezTo>
                  <a:cubicBezTo>
                    <a:pt x="536" y="534627"/>
                    <a:pt x="1073" y="532482"/>
                    <a:pt x="1609" y="530336"/>
                  </a:cubicBezTo>
                  <a:cubicBezTo>
                    <a:pt x="2682" y="526581"/>
                    <a:pt x="3755" y="522827"/>
                    <a:pt x="4827" y="519072"/>
                  </a:cubicBezTo>
                  <a:cubicBezTo>
                    <a:pt x="4827" y="518536"/>
                    <a:pt x="5364" y="517463"/>
                    <a:pt x="5364" y="516926"/>
                  </a:cubicBezTo>
                  <a:cubicBezTo>
                    <a:pt x="9119" y="502444"/>
                    <a:pt x="12873" y="488498"/>
                    <a:pt x="16092" y="475088"/>
                  </a:cubicBezTo>
                  <a:cubicBezTo>
                    <a:pt x="16092" y="475625"/>
                    <a:pt x="16092" y="476698"/>
                    <a:pt x="16628" y="477234"/>
                  </a:cubicBezTo>
                  <a:cubicBezTo>
                    <a:pt x="18237" y="472407"/>
                    <a:pt x="19846" y="468116"/>
                    <a:pt x="21992" y="463288"/>
                  </a:cubicBezTo>
                  <a:cubicBezTo>
                    <a:pt x="24674" y="457388"/>
                    <a:pt x="27356" y="451488"/>
                    <a:pt x="29501" y="445051"/>
                  </a:cubicBezTo>
                  <a:cubicBezTo>
                    <a:pt x="48811" y="393558"/>
                    <a:pt x="68657" y="342066"/>
                    <a:pt x="87967" y="290573"/>
                  </a:cubicBezTo>
                  <a:cubicBezTo>
                    <a:pt x="95476" y="270726"/>
                    <a:pt x="102986" y="250880"/>
                    <a:pt x="110495" y="231571"/>
                  </a:cubicBezTo>
                  <a:cubicBezTo>
                    <a:pt x="117468" y="212797"/>
                    <a:pt x="124977" y="193487"/>
                    <a:pt x="133023" y="174714"/>
                  </a:cubicBezTo>
                  <a:cubicBezTo>
                    <a:pt x="141069" y="156477"/>
                    <a:pt x="149651" y="138240"/>
                    <a:pt x="157697" y="120539"/>
                  </a:cubicBezTo>
                  <a:cubicBezTo>
                    <a:pt x="171643" y="88893"/>
                    <a:pt x="184516" y="57246"/>
                    <a:pt x="197926" y="25063"/>
                  </a:cubicBezTo>
                  <a:cubicBezTo>
                    <a:pt x="197926" y="25063"/>
                    <a:pt x="197926" y="24527"/>
                    <a:pt x="197926" y="24527"/>
                  </a:cubicBezTo>
                  <a:cubicBezTo>
                    <a:pt x="180225" y="52955"/>
                    <a:pt x="162524" y="81383"/>
                    <a:pt x="144824" y="109811"/>
                  </a:cubicBezTo>
                  <a:cubicBezTo>
                    <a:pt x="143751" y="108202"/>
                    <a:pt x="143214" y="106593"/>
                    <a:pt x="142142" y="104984"/>
                  </a:cubicBezTo>
                  <a:cubicBezTo>
                    <a:pt x="156624" y="71728"/>
                    <a:pt x="171106" y="37936"/>
                    <a:pt x="184516" y="4144"/>
                  </a:cubicBezTo>
                  <a:cubicBezTo>
                    <a:pt x="193098" y="-2293"/>
                    <a:pt x="205971" y="-684"/>
                    <a:pt x="215090" y="5217"/>
                  </a:cubicBezTo>
                  <a:cubicBezTo>
                    <a:pt x="219381" y="7899"/>
                    <a:pt x="223136" y="11653"/>
                    <a:pt x="226354" y="15408"/>
                  </a:cubicBezTo>
                  <a:cubicBezTo>
                    <a:pt x="230109" y="19699"/>
                    <a:pt x="233327" y="24527"/>
                    <a:pt x="236545" y="28818"/>
                  </a:cubicBezTo>
                  <a:cubicBezTo>
                    <a:pt x="242982" y="38473"/>
                    <a:pt x="249955" y="48127"/>
                    <a:pt x="251564" y="59928"/>
                  </a:cubicBezTo>
                  <a:cubicBezTo>
                    <a:pt x="251027" y="64219"/>
                    <a:pt x="250491" y="69046"/>
                    <a:pt x="250491" y="73874"/>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88" name="Freeform: Shape 499"/>
            <p:cNvSpPr/>
            <p:nvPr/>
          </p:nvSpPr>
          <p:spPr>
            <a:xfrm>
              <a:off x="9409320" y="2159640"/>
              <a:ext cx="49680" cy="79560"/>
            </a:xfrm>
            <a:custGeom>
              <a:avLst/>
              <a:gdLst/>
              <a:ahLst/>
              <a:rect l="l" t="t" r="r" b="b"/>
              <a:pathLst>
                <a:path w="64068" h="102449">
                  <a:moveTo>
                    <a:pt x="64068" y="59002"/>
                  </a:moveTo>
                  <a:cubicBezTo>
                    <a:pt x="52268" y="60611"/>
                    <a:pt x="44758" y="61148"/>
                    <a:pt x="36176" y="68657"/>
                  </a:cubicBezTo>
                  <a:cubicBezTo>
                    <a:pt x="35640" y="68657"/>
                    <a:pt x="35640" y="69193"/>
                    <a:pt x="35103" y="69193"/>
                  </a:cubicBezTo>
                  <a:cubicBezTo>
                    <a:pt x="26521" y="77776"/>
                    <a:pt x="23839" y="90112"/>
                    <a:pt x="23839" y="102449"/>
                  </a:cubicBezTo>
                  <a:cubicBezTo>
                    <a:pt x="19012" y="86358"/>
                    <a:pt x="12575" y="70802"/>
                    <a:pt x="4529" y="56320"/>
                  </a:cubicBezTo>
                  <a:cubicBezTo>
                    <a:pt x="3993" y="55784"/>
                    <a:pt x="3457" y="54711"/>
                    <a:pt x="3457" y="53638"/>
                  </a:cubicBezTo>
                  <a:cubicBezTo>
                    <a:pt x="2384" y="51493"/>
                    <a:pt x="775" y="48811"/>
                    <a:pt x="238" y="46129"/>
                  </a:cubicBezTo>
                  <a:cubicBezTo>
                    <a:pt x="238" y="46129"/>
                    <a:pt x="238" y="45593"/>
                    <a:pt x="238" y="45593"/>
                  </a:cubicBezTo>
                  <a:cubicBezTo>
                    <a:pt x="-298" y="43447"/>
                    <a:pt x="238" y="41301"/>
                    <a:pt x="238" y="39692"/>
                  </a:cubicBezTo>
                  <a:cubicBezTo>
                    <a:pt x="775" y="34865"/>
                    <a:pt x="1311" y="30037"/>
                    <a:pt x="1311" y="25210"/>
                  </a:cubicBezTo>
                  <a:cubicBezTo>
                    <a:pt x="1311" y="23064"/>
                    <a:pt x="1848" y="20919"/>
                    <a:pt x="1848" y="19310"/>
                  </a:cubicBezTo>
                  <a:cubicBezTo>
                    <a:pt x="1848" y="18237"/>
                    <a:pt x="1848" y="17164"/>
                    <a:pt x="2384" y="16091"/>
                  </a:cubicBezTo>
                  <a:cubicBezTo>
                    <a:pt x="2920" y="15019"/>
                    <a:pt x="3457" y="14482"/>
                    <a:pt x="4529" y="13946"/>
                  </a:cubicBezTo>
                  <a:cubicBezTo>
                    <a:pt x="7211" y="11264"/>
                    <a:pt x="14721" y="3755"/>
                    <a:pt x="20621" y="0"/>
                  </a:cubicBezTo>
                  <a:cubicBezTo>
                    <a:pt x="22230" y="10191"/>
                    <a:pt x="23303" y="19846"/>
                    <a:pt x="24376" y="30037"/>
                  </a:cubicBezTo>
                  <a:cubicBezTo>
                    <a:pt x="28130" y="31647"/>
                    <a:pt x="31885" y="33256"/>
                    <a:pt x="35640" y="34865"/>
                  </a:cubicBezTo>
                  <a:cubicBezTo>
                    <a:pt x="38858" y="36474"/>
                    <a:pt x="42076" y="37547"/>
                    <a:pt x="44758" y="39156"/>
                  </a:cubicBezTo>
                  <a:cubicBezTo>
                    <a:pt x="48513" y="41301"/>
                    <a:pt x="51731" y="43983"/>
                    <a:pt x="54413" y="47202"/>
                  </a:cubicBezTo>
                  <a:cubicBezTo>
                    <a:pt x="58168" y="50956"/>
                    <a:pt x="61386" y="55247"/>
                    <a:pt x="64068" y="59002"/>
                  </a:cubicBezTo>
                  <a:close/>
                </a:path>
              </a:pathLst>
            </a:custGeom>
            <a:solidFill>
              <a:srgbClr val="f1f2f2"/>
            </a:solidFill>
            <a:ln w="0">
              <a:noFill/>
            </a:ln>
          </p:spPr>
          <p:style>
            <a:lnRef idx="0"/>
            <a:fillRef idx="0"/>
            <a:effectRef idx="0"/>
            <a:fontRef idx="minor"/>
          </p:style>
          <p:txBody>
            <a:bodyPr lIns="90000" rIns="90000" tIns="32760" bIns="32760" anchor="ctr">
              <a:noAutofit/>
            </a:bodyPr>
            <a:p>
              <a:endParaRPr b="0" lang="en-US" sz="1800" spc="-1" strike="noStrike">
                <a:solidFill>
                  <a:srgbClr val="313c3f"/>
                </a:solidFill>
                <a:latin typeface="Source Sans Pro"/>
              </a:endParaRPr>
            </a:p>
          </p:txBody>
        </p:sp>
        <p:sp>
          <p:nvSpPr>
            <p:cNvPr id="2689" name="Freeform: Shape 500"/>
            <p:cNvSpPr/>
            <p:nvPr/>
          </p:nvSpPr>
          <p:spPr>
            <a:xfrm>
              <a:off x="9464760" y="2128320"/>
              <a:ext cx="82800" cy="106560"/>
            </a:xfrm>
            <a:custGeom>
              <a:avLst/>
              <a:gdLst/>
              <a:ahLst/>
              <a:rect l="l" t="t" r="r" b="b"/>
              <a:pathLst>
                <a:path w="106791" h="137313">
                  <a:moveTo>
                    <a:pt x="106255" y="41838"/>
                  </a:moveTo>
                  <a:cubicBezTo>
                    <a:pt x="106255" y="45593"/>
                    <a:pt x="104646" y="48811"/>
                    <a:pt x="103573" y="52029"/>
                  </a:cubicBezTo>
                  <a:cubicBezTo>
                    <a:pt x="85873" y="80457"/>
                    <a:pt x="68172" y="108886"/>
                    <a:pt x="50471" y="137314"/>
                  </a:cubicBezTo>
                  <a:cubicBezTo>
                    <a:pt x="45644" y="127659"/>
                    <a:pt x="39744" y="119077"/>
                    <a:pt x="33307" y="110495"/>
                  </a:cubicBezTo>
                  <a:cubicBezTo>
                    <a:pt x="30625" y="106740"/>
                    <a:pt x="27943" y="103522"/>
                    <a:pt x="24725" y="99767"/>
                  </a:cubicBezTo>
                  <a:cubicBezTo>
                    <a:pt x="20970" y="95476"/>
                    <a:pt x="15606" y="93867"/>
                    <a:pt x="10243" y="94940"/>
                  </a:cubicBezTo>
                  <a:cubicBezTo>
                    <a:pt x="7024" y="95476"/>
                    <a:pt x="3270" y="94940"/>
                    <a:pt x="51" y="97085"/>
                  </a:cubicBezTo>
                  <a:cubicBezTo>
                    <a:pt x="-485" y="91185"/>
                    <a:pt x="3270" y="85821"/>
                    <a:pt x="7561" y="81530"/>
                  </a:cubicBezTo>
                  <a:cubicBezTo>
                    <a:pt x="9170" y="79921"/>
                    <a:pt x="10779" y="78312"/>
                    <a:pt x="12388" y="77239"/>
                  </a:cubicBezTo>
                  <a:cubicBezTo>
                    <a:pt x="35453" y="57393"/>
                    <a:pt x="58517" y="37010"/>
                    <a:pt x="81581" y="17164"/>
                  </a:cubicBezTo>
                  <a:cubicBezTo>
                    <a:pt x="81581" y="11264"/>
                    <a:pt x="81045" y="5364"/>
                    <a:pt x="81045" y="0"/>
                  </a:cubicBezTo>
                  <a:cubicBezTo>
                    <a:pt x="83727" y="0"/>
                    <a:pt x="86945" y="536"/>
                    <a:pt x="90164" y="2682"/>
                  </a:cubicBezTo>
                  <a:cubicBezTo>
                    <a:pt x="91236" y="3755"/>
                    <a:pt x="92846" y="5364"/>
                    <a:pt x="93382" y="6973"/>
                  </a:cubicBezTo>
                  <a:cubicBezTo>
                    <a:pt x="96600" y="15555"/>
                    <a:pt x="100355" y="23601"/>
                    <a:pt x="103573" y="32183"/>
                  </a:cubicBezTo>
                  <a:cubicBezTo>
                    <a:pt x="104646" y="34865"/>
                    <a:pt x="105719" y="37547"/>
                    <a:pt x="106792" y="40229"/>
                  </a:cubicBezTo>
                  <a:cubicBezTo>
                    <a:pt x="105719" y="40765"/>
                    <a:pt x="105719" y="41301"/>
                    <a:pt x="106255" y="41838"/>
                  </a:cubicBez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90" name="Freeform: Shape 501"/>
            <p:cNvSpPr/>
            <p:nvPr/>
          </p:nvSpPr>
          <p:spPr>
            <a:xfrm>
              <a:off x="9544680" y="2160720"/>
              <a:ext cx="2520" cy="7560"/>
            </a:xfrm>
            <a:custGeom>
              <a:avLst/>
              <a:gdLst/>
              <a:ahLst/>
              <a:rect l="l" t="t" r="r" b="b"/>
              <a:pathLst>
                <a:path w="3440" h="10191">
                  <a:moveTo>
                    <a:pt x="3218" y="3218"/>
                  </a:moveTo>
                  <a:cubicBezTo>
                    <a:pt x="3218" y="5364"/>
                    <a:pt x="2146" y="6973"/>
                    <a:pt x="1073" y="8582"/>
                  </a:cubicBezTo>
                  <a:cubicBezTo>
                    <a:pt x="536" y="9119"/>
                    <a:pt x="536" y="9655"/>
                    <a:pt x="0" y="10191"/>
                  </a:cubicBezTo>
                  <a:cubicBezTo>
                    <a:pt x="1073" y="6973"/>
                    <a:pt x="2682" y="3218"/>
                    <a:pt x="2682" y="0"/>
                  </a:cubicBezTo>
                  <a:cubicBezTo>
                    <a:pt x="3218" y="1073"/>
                    <a:pt x="3755" y="2146"/>
                    <a:pt x="3218" y="3218"/>
                  </a:cubicBezTo>
                  <a:close/>
                </a:path>
              </a:pathLst>
            </a:custGeom>
            <a:solidFill>
              <a:srgbClr val="e6e7e8"/>
            </a:solidFill>
            <a:ln w="0">
              <a:noFill/>
            </a:ln>
          </p:spPr>
          <p:style>
            <a:lnRef idx="0"/>
            <a:fillRef idx="0"/>
            <a:effectRef idx="0"/>
            <a:fontRef idx="minor"/>
          </p:style>
          <p:txBody>
            <a:bodyPr lIns="90000" rIns="90000" tIns="-39240" bIns="-39240" anchor="ctr">
              <a:noAutofit/>
            </a:bodyPr>
            <a:p>
              <a:endParaRPr b="0" lang="en-US" sz="1800" spc="-1" strike="noStrike">
                <a:solidFill>
                  <a:srgbClr val="313c3f"/>
                </a:solidFill>
                <a:latin typeface="Source Sans Pro"/>
              </a:endParaRPr>
            </a:p>
          </p:txBody>
        </p:sp>
        <p:sp>
          <p:nvSpPr>
            <p:cNvPr id="2691" name="Freeform: Shape 502"/>
            <p:cNvSpPr/>
            <p:nvPr/>
          </p:nvSpPr>
          <p:spPr>
            <a:xfrm>
              <a:off x="9368640" y="1956960"/>
              <a:ext cx="184320" cy="201240"/>
            </a:xfrm>
            <a:custGeom>
              <a:avLst/>
              <a:gdLst/>
              <a:ahLst/>
              <a:rect l="l" t="t" r="r" b="b"/>
              <a:pathLst>
                <a:path w="237909" h="259037">
                  <a:moveTo>
                    <a:pt x="236545" y="111568"/>
                  </a:moveTo>
                  <a:cubicBezTo>
                    <a:pt x="234400" y="120150"/>
                    <a:pt x="232790" y="128196"/>
                    <a:pt x="232254" y="136778"/>
                  </a:cubicBezTo>
                  <a:cubicBezTo>
                    <a:pt x="231718" y="143751"/>
                    <a:pt x="231181" y="151260"/>
                    <a:pt x="227963" y="157697"/>
                  </a:cubicBezTo>
                  <a:cubicBezTo>
                    <a:pt x="227427" y="158769"/>
                    <a:pt x="226890" y="159842"/>
                    <a:pt x="225817" y="160379"/>
                  </a:cubicBezTo>
                  <a:cubicBezTo>
                    <a:pt x="224208" y="161451"/>
                    <a:pt x="221526" y="161451"/>
                    <a:pt x="219917" y="159842"/>
                  </a:cubicBezTo>
                  <a:cubicBezTo>
                    <a:pt x="218308" y="158769"/>
                    <a:pt x="217235" y="157160"/>
                    <a:pt x="216162" y="155551"/>
                  </a:cubicBezTo>
                  <a:cubicBezTo>
                    <a:pt x="216162" y="155551"/>
                    <a:pt x="216162" y="155015"/>
                    <a:pt x="215626" y="155015"/>
                  </a:cubicBezTo>
                  <a:cubicBezTo>
                    <a:pt x="214553" y="166279"/>
                    <a:pt x="209726" y="179688"/>
                    <a:pt x="203289" y="192562"/>
                  </a:cubicBezTo>
                  <a:cubicBezTo>
                    <a:pt x="201680" y="195243"/>
                    <a:pt x="200071" y="198462"/>
                    <a:pt x="198462" y="201144"/>
                  </a:cubicBezTo>
                  <a:cubicBezTo>
                    <a:pt x="188271" y="219381"/>
                    <a:pt x="176470" y="234936"/>
                    <a:pt x="171643" y="239763"/>
                  </a:cubicBezTo>
                  <a:cubicBezTo>
                    <a:pt x="146433" y="263364"/>
                    <a:pt x="128732" y="257464"/>
                    <a:pt x="122295" y="258000"/>
                  </a:cubicBezTo>
                  <a:cubicBezTo>
                    <a:pt x="99767" y="259073"/>
                    <a:pt x="98158" y="261755"/>
                    <a:pt x="79921" y="249955"/>
                  </a:cubicBezTo>
                  <a:cubicBezTo>
                    <a:pt x="76703" y="247809"/>
                    <a:pt x="73485" y="244591"/>
                    <a:pt x="69730" y="240836"/>
                  </a:cubicBezTo>
                  <a:cubicBezTo>
                    <a:pt x="65439" y="236009"/>
                    <a:pt x="61148" y="230108"/>
                    <a:pt x="57929" y="225281"/>
                  </a:cubicBezTo>
                  <a:cubicBezTo>
                    <a:pt x="54175" y="219917"/>
                    <a:pt x="51493" y="215626"/>
                    <a:pt x="50956" y="215090"/>
                  </a:cubicBezTo>
                  <a:cubicBezTo>
                    <a:pt x="41838" y="200071"/>
                    <a:pt x="29501" y="181834"/>
                    <a:pt x="30037" y="164670"/>
                  </a:cubicBezTo>
                  <a:cubicBezTo>
                    <a:pt x="30037" y="164133"/>
                    <a:pt x="30037" y="163060"/>
                    <a:pt x="30037" y="162524"/>
                  </a:cubicBezTo>
                  <a:cubicBezTo>
                    <a:pt x="27892" y="164670"/>
                    <a:pt x="26283" y="167351"/>
                    <a:pt x="23601" y="168424"/>
                  </a:cubicBezTo>
                  <a:cubicBezTo>
                    <a:pt x="20919" y="169497"/>
                    <a:pt x="18237" y="168424"/>
                    <a:pt x="16092" y="166279"/>
                  </a:cubicBezTo>
                  <a:cubicBezTo>
                    <a:pt x="13410" y="163597"/>
                    <a:pt x="12337" y="160379"/>
                    <a:pt x="11264" y="157160"/>
                  </a:cubicBezTo>
                  <a:cubicBezTo>
                    <a:pt x="5364" y="141605"/>
                    <a:pt x="0" y="126050"/>
                    <a:pt x="0" y="109422"/>
                  </a:cubicBezTo>
                  <a:cubicBezTo>
                    <a:pt x="0" y="106740"/>
                    <a:pt x="2682" y="94940"/>
                    <a:pt x="10191" y="98158"/>
                  </a:cubicBezTo>
                  <a:cubicBezTo>
                    <a:pt x="10191" y="98158"/>
                    <a:pt x="10191" y="98158"/>
                    <a:pt x="10728" y="98158"/>
                  </a:cubicBezTo>
                  <a:cubicBezTo>
                    <a:pt x="13410" y="99231"/>
                    <a:pt x="20383" y="102985"/>
                    <a:pt x="22528" y="108349"/>
                  </a:cubicBezTo>
                  <a:cubicBezTo>
                    <a:pt x="22528" y="108349"/>
                    <a:pt x="22528" y="108349"/>
                    <a:pt x="22528" y="108349"/>
                  </a:cubicBezTo>
                  <a:cubicBezTo>
                    <a:pt x="23065" y="109422"/>
                    <a:pt x="23065" y="110495"/>
                    <a:pt x="23065" y="111568"/>
                  </a:cubicBezTo>
                  <a:cubicBezTo>
                    <a:pt x="25746" y="111568"/>
                    <a:pt x="25210" y="112104"/>
                    <a:pt x="27356" y="111568"/>
                  </a:cubicBezTo>
                  <a:cubicBezTo>
                    <a:pt x="27356" y="111568"/>
                    <a:pt x="27356" y="111568"/>
                    <a:pt x="27356" y="111568"/>
                  </a:cubicBezTo>
                  <a:cubicBezTo>
                    <a:pt x="28428" y="94940"/>
                    <a:pt x="18773" y="62220"/>
                    <a:pt x="18773" y="45593"/>
                  </a:cubicBezTo>
                  <a:cubicBezTo>
                    <a:pt x="34329" y="32719"/>
                    <a:pt x="47202" y="26283"/>
                    <a:pt x="51493" y="6973"/>
                  </a:cubicBezTo>
                  <a:cubicBezTo>
                    <a:pt x="62220" y="8582"/>
                    <a:pt x="71339" y="9118"/>
                    <a:pt x="80994" y="12873"/>
                  </a:cubicBezTo>
                  <a:cubicBezTo>
                    <a:pt x="77239" y="8046"/>
                    <a:pt x="72948" y="3755"/>
                    <a:pt x="67584" y="0"/>
                  </a:cubicBezTo>
                  <a:cubicBezTo>
                    <a:pt x="84749" y="4827"/>
                    <a:pt x="101913" y="9655"/>
                    <a:pt x="119614" y="9655"/>
                  </a:cubicBezTo>
                  <a:cubicBezTo>
                    <a:pt x="128196" y="9655"/>
                    <a:pt x="136778" y="8582"/>
                    <a:pt x="145360" y="7509"/>
                  </a:cubicBezTo>
                  <a:cubicBezTo>
                    <a:pt x="147505" y="7509"/>
                    <a:pt x="149651" y="6973"/>
                    <a:pt x="151260" y="6973"/>
                  </a:cubicBezTo>
                  <a:cubicBezTo>
                    <a:pt x="164133" y="5364"/>
                    <a:pt x="176470" y="3755"/>
                    <a:pt x="189343" y="2146"/>
                  </a:cubicBezTo>
                  <a:cubicBezTo>
                    <a:pt x="194171" y="1609"/>
                    <a:pt x="197389" y="8046"/>
                    <a:pt x="197389" y="13410"/>
                  </a:cubicBezTo>
                  <a:cubicBezTo>
                    <a:pt x="197389" y="18773"/>
                    <a:pt x="195780" y="23601"/>
                    <a:pt x="197925" y="28428"/>
                  </a:cubicBezTo>
                  <a:cubicBezTo>
                    <a:pt x="199535" y="32719"/>
                    <a:pt x="203289" y="35401"/>
                    <a:pt x="205435" y="39692"/>
                  </a:cubicBezTo>
                  <a:cubicBezTo>
                    <a:pt x="207044" y="43447"/>
                    <a:pt x="212408" y="55784"/>
                    <a:pt x="212408" y="59539"/>
                  </a:cubicBezTo>
                  <a:cubicBezTo>
                    <a:pt x="212944" y="79385"/>
                    <a:pt x="208117" y="90649"/>
                    <a:pt x="208117" y="110495"/>
                  </a:cubicBezTo>
                  <a:cubicBezTo>
                    <a:pt x="208117" y="111568"/>
                    <a:pt x="208117" y="112640"/>
                    <a:pt x="208117" y="113713"/>
                  </a:cubicBezTo>
                  <a:cubicBezTo>
                    <a:pt x="208117" y="113713"/>
                    <a:pt x="208653" y="113713"/>
                    <a:pt x="208653" y="113713"/>
                  </a:cubicBezTo>
                  <a:cubicBezTo>
                    <a:pt x="210262" y="113177"/>
                    <a:pt x="211871" y="113177"/>
                    <a:pt x="213481" y="112640"/>
                  </a:cubicBezTo>
                  <a:cubicBezTo>
                    <a:pt x="213481" y="112640"/>
                    <a:pt x="213481" y="112640"/>
                    <a:pt x="213481" y="112640"/>
                  </a:cubicBezTo>
                  <a:cubicBezTo>
                    <a:pt x="213481" y="109959"/>
                    <a:pt x="212408" y="108886"/>
                    <a:pt x="213481" y="106740"/>
                  </a:cubicBezTo>
                  <a:cubicBezTo>
                    <a:pt x="215626" y="102449"/>
                    <a:pt x="217772" y="98158"/>
                    <a:pt x="220990" y="94403"/>
                  </a:cubicBezTo>
                  <a:cubicBezTo>
                    <a:pt x="222063" y="93331"/>
                    <a:pt x="223135" y="91722"/>
                    <a:pt x="224208" y="91185"/>
                  </a:cubicBezTo>
                  <a:cubicBezTo>
                    <a:pt x="225817" y="90112"/>
                    <a:pt x="227427" y="90112"/>
                    <a:pt x="229036" y="90649"/>
                  </a:cubicBezTo>
                  <a:cubicBezTo>
                    <a:pt x="232254" y="91185"/>
                    <a:pt x="234936" y="94403"/>
                    <a:pt x="236009" y="97622"/>
                  </a:cubicBezTo>
                  <a:cubicBezTo>
                    <a:pt x="239227" y="101376"/>
                    <a:pt x="237618" y="106740"/>
                    <a:pt x="236545" y="11156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692" name="Freeform: Shape 503"/>
            <p:cNvSpPr/>
            <p:nvPr/>
          </p:nvSpPr>
          <p:spPr>
            <a:xfrm>
              <a:off x="9402840" y="1901160"/>
              <a:ext cx="45360" cy="34560"/>
            </a:xfrm>
            <a:custGeom>
              <a:avLst/>
              <a:gdLst/>
              <a:ahLst/>
              <a:rect l="l" t="t" r="r" b="b"/>
              <a:pathLst>
                <a:path w="58529" h="44777">
                  <a:moveTo>
                    <a:pt x="24201" y="13946"/>
                  </a:moveTo>
                  <a:cubicBezTo>
                    <a:pt x="34929" y="7509"/>
                    <a:pt x="46730" y="3755"/>
                    <a:pt x="58530" y="0"/>
                  </a:cubicBezTo>
                  <a:cubicBezTo>
                    <a:pt x="48339" y="3755"/>
                    <a:pt x="40293" y="10728"/>
                    <a:pt x="32247" y="17701"/>
                  </a:cubicBezTo>
                  <a:cubicBezTo>
                    <a:pt x="28492" y="20919"/>
                    <a:pt x="24201" y="24673"/>
                    <a:pt x="21520" y="28965"/>
                  </a:cubicBezTo>
                  <a:cubicBezTo>
                    <a:pt x="19374" y="32183"/>
                    <a:pt x="17765" y="35401"/>
                    <a:pt x="15619" y="38083"/>
                  </a:cubicBezTo>
                  <a:cubicBezTo>
                    <a:pt x="13474" y="40765"/>
                    <a:pt x="10255" y="43447"/>
                    <a:pt x="7037" y="44520"/>
                  </a:cubicBezTo>
                  <a:cubicBezTo>
                    <a:pt x="-5300" y="46665"/>
                    <a:pt x="1673" y="34865"/>
                    <a:pt x="4892" y="30037"/>
                  </a:cubicBezTo>
                  <a:cubicBezTo>
                    <a:pt x="9719" y="23601"/>
                    <a:pt x="16692" y="18237"/>
                    <a:pt x="24201" y="13946"/>
                  </a:cubicBezTo>
                  <a:close/>
                </a:path>
              </a:pathLst>
            </a:custGeom>
            <a:solidFill>
              <a:srgbClr val="231f20"/>
            </a:solidFill>
            <a:ln w="0">
              <a:noFill/>
            </a:ln>
          </p:spPr>
          <p:style>
            <a:lnRef idx="0"/>
            <a:fillRef idx="0"/>
            <a:effectRef idx="0"/>
            <a:fontRef idx="minor"/>
          </p:style>
          <p:txBody>
            <a:bodyPr lIns="90000" rIns="90000" tIns="-12240" bIns="-12240" anchor="ctr">
              <a:noAutofit/>
            </a:bodyPr>
            <a:p>
              <a:endParaRPr b="0" lang="en-US" sz="1800" spc="-1" strike="noStrike">
                <a:solidFill>
                  <a:srgbClr val="313c3f"/>
                </a:solidFill>
                <a:latin typeface="Source Sans Pro"/>
              </a:endParaRPr>
            </a:p>
          </p:txBody>
        </p:sp>
        <p:sp>
          <p:nvSpPr>
            <p:cNvPr id="2693" name="Freeform: Shape 504"/>
            <p:cNvSpPr/>
            <p:nvPr/>
          </p:nvSpPr>
          <p:spPr>
            <a:xfrm>
              <a:off x="9392760" y="1913760"/>
              <a:ext cx="30600" cy="14760"/>
            </a:xfrm>
            <a:custGeom>
              <a:avLst/>
              <a:gdLst/>
              <a:ahLst/>
              <a:rect l="l" t="t" r="r" b="b"/>
              <a:pathLst>
                <a:path w="39441" h="19301">
                  <a:moveTo>
                    <a:pt x="20919" y="394"/>
                  </a:moveTo>
                  <a:cubicBezTo>
                    <a:pt x="13946" y="-678"/>
                    <a:pt x="5900" y="394"/>
                    <a:pt x="0" y="4149"/>
                  </a:cubicBezTo>
                  <a:cubicBezTo>
                    <a:pt x="3755" y="2540"/>
                    <a:pt x="8582" y="3076"/>
                    <a:pt x="12873" y="3613"/>
                  </a:cubicBezTo>
                  <a:cubicBezTo>
                    <a:pt x="15555" y="4149"/>
                    <a:pt x="18773" y="4685"/>
                    <a:pt x="20919" y="5758"/>
                  </a:cubicBezTo>
                  <a:cubicBezTo>
                    <a:pt x="24674" y="7904"/>
                    <a:pt x="26283" y="11658"/>
                    <a:pt x="27892" y="15413"/>
                  </a:cubicBezTo>
                  <a:cubicBezTo>
                    <a:pt x="28428" y="16486"/>
                    <a:pt x="28965" y="17559"/>
                    <a:pt x="29501" y="18095"/>
                  </a:cubicBezTo>
                  <a:cubicBezTo>
                    <a:pt x="31110" y="19704"/>
                    <a:pt x="34329" y="19704"/>
                    <a:pt x="36474" y="18095"/>
                  </a:cubicBezTo>
                  <a:cubicBezTo>
                    <a:pt x="46665" y="9513"/>
                    <a:pt x="27892" y="1467"/>
                    <a:pt x="20919" y="394"/>
                  </a:cubicBezTo>
                  <a:close/>
                </a:path>
              </a:pathLst>
            </a:custGeom>
            <a:solidFill>
              <a:srgbClr val="231f20"/>
            </a:solidFill>
            <a:ln w="0">
              <a:noFill/>
            </a:ln>
          </p:spPr>
          <p:style>
            <a:lnRef idx="0"/>
            <a:fillRef idx="0"/>
            <a:effectRef idx="0"/>
            <a:fontRef idx="minor"/>
          </p:style>
          <p:txBody>
            <a:bodyPr lIns="90000" rIns="90000" tIns="-32040" bIns="-32040" anchor="ctr">
              <a:noAutofit/>
            </a:bodyPr>
            <a:p>
              <a:endParaRPr b="0" lang="en-US" sz="1800" spc="-1" strike="noStrike">
                <a:solidFill>
                  <a:srgbClr val="313c3f"/>
                </a:solidFill>
                <a:latin typeface="Source Sans Pro"/>
              </a:endParaRPr>
            </a:p>
          </p:txBody>
        </p:sp>
        <p:sp>
          <p:nvSpPr>
            <p:cNvPr id="2694" name="Freeform: Shape 505"/>
            <p:cNvSpPr/>
            <p:nvPr/>
          </p:nvSpPr>
          <p:spPr>
            <a:xfrm>
              <a:off x="9472320" y="2007360"/>
              <a:ext cx="52920" cy="14400"/>
            </a:xfrm>
            <a:custGeom>
              <a:avLst/>
              <a:gdLst/>
              <a:ahLst/>
              <a:rect l="l" t="t" r="r" b="b"/>
              <a:pathLst>
                <a:path w="68657" h="18711">
                  <a:moveTo>
                    <a:pt x="1609" y="16091"/>
                  </a:moveTo>
                  <a:cubicBezTo>
                    <a:pt x="536" y="14482"/>
                    <a:pt x="536" y="12873"/>
                    <a:pt x="0" y="11264"/>
                  </a:cubicBezTo>
                  <a:cubicBezTo>
                    <a:pt x="0" y="10728"/>
                    <a:pt x="0" y="10191"/>
                    <a:pt x="0" y="10191"/>
                  </a:cubicBezTo>
                  <a:cubicBezTo>
                    <a:pt x="0" y="9655"/>
                    <a:pt x="1073" y="9118"/>
                    <a:pt x="2146" y="9118"/>
                  </a:cubicBezTo>
                  <a:cubicBezTo>
                    <a:pt x="9119" y="7509"/>
                    <a:pt x="15555" y="5900"/>
                    <a:pt x="22528" y="4291"/>
                  </a:cubicBezTo>
                  <a:cubicBezTo>
                    <a:pt x="24674" y="3755"/>
                    <a:pt x="26819" y="3218"/>
                    <a:pt x="28965" y="2682"/>
                  </a:cubicBezTo>
                  <a:cubicBezTo>
                    <a:pt x="31110" y="2146"/>
                    <a:pt x="32719" y="1073"/>
                    <a:pt x="34865" y="536"/>
                  </a:cubicBezTo>
                  <a:cubicBezTo>
                    <a:pt x="37547" y="0"/>
                    <a:pt x="39692" y="0"/>
                    <a:pt x="42374" y="0"/>
                  </a:cubicBezTo>
                  <a:cubicBezTo>
                    <a:pt x="47202" y="0"/>
                    <a:pt x="51493" y="0"/>
                    <a:pt x="56320" y="1073"/>
                  </a:cubicBezTo>
                  <a:cubicBezTo>
                    <a:pt x="60611" y="2146"/>
                    <a:pt x="65439" y="3755"/>
                    <a:pt x="68657" y="6437"/>
                  </a:cubicBezTo>
                  <a:cubicBezTo>
                    <a:pt x="68121" y="6437"/>
                    <a:pt x="67048" y="6437"/>
                    <a:pt x="66512" y="5900"/>
                  </a:cubicBezTo>
                  <a:cubicBezTo>
                    <a:pt x="57929" y="3218"/>
                    <a:pt x="48811" y="2682"/>
                    <a:pt x="40229" y="5364"/>
                  </a:cubicBezTo>
                  <a:cubicBezTo>
                    <a:pt x="35938" y="6437"/>
                    <a:pt x="32183" y="8582"/>
                    <a:pt x="28428" y="10728"/>
                  </a:cubicBezTo>
                  <a:cubicBezTo>
                    <a:pt x="23601" y="12873"/>
                    <a:pt x="18237" y="15019"/>
                    <a:pt x="13410" y="17164"/>
                  </a:cubicBezTo>
                  <a:cubicBezTo>
                    <a:pt x="9119" y="17701"/>
                    <a:pt x="4291" y="20919"/>
                    <a:pt x="1609" y="16091"/>
                  </a:cubicBezTo>
                  <a:close/>
                </a:path>
              </a:pathLst>
            </a:custGeom>
            <a:solidFill>
              <a:srgbClr val="231f20"/>
            </a:solidFill>
            <a:ln w="0">
              <a:noFill/>
            </a:ln>
          </p:spPr>
          <p:style>
            <a:lnRef idx="0"/>
            <a:fillRef idx="0"/>
            <a:effectRef idx="0"/>
            <a:fontRef idx="minor"/>
          </p:style>
          <p:txBody>
            <a:bodyPr lIns="90000" rIns="90000" tIns="-32400" bIns="-32400" anchor="ctr">
              <a:noAutofit/>
            </a:bodyPr>
            <a:p>
              <a:endParaRPr b="0" lang="en-US" sz="1800" spc="-1" strike="noStrike">
                <a:solidFill>
                  <a:srgbClr val="313c3f"/>
                </a:solidFill>
                <a:latin typeface="Source Sans Pro"/>
              </a:endParaRPr>
            </a:p>
          </p:txBody>
        </p:sp>
        <p:sp>
          <p:nvSpPr>
            <p:cNvPr id="2695" name="Freeform: Shape 506"/>
            <p:cNvSpPr/>
            <p:nvPr/>
          </p:nvSpPr>
          <p:spPr>
            <a:xfrm>
              <a:off x="9394560" y="2007720"/>
              <a:ext cx="54000" cy="13320"/>
            </a:xfrm>
            <a:custGeom>
              <a:avLst/>
              <a:gdLst/>
              <a:ahLst/>
              <a:rect l="l" t="t" r="r" b="b"/>
              <a:pathLst>
                <a:path w="69729" h="17183">
                  <a:moveTo>
                    <a:pt x="68121" y="14348"/>
                  </a:moveTo>
                  <a:cubicBezTo>
                    <a:pt x="68657" y="12739"/>
                    <a:pt x="69193" y="11130"/>
                    <a:pt x="69730" y="9521"/>
                  </a:cubicBezTo>
                  <a:cubicBezTo>
                    <a:pt x="69730" y="8984"/>
                    <a:pt x="69730" y="8448"/>
                    <a:pt x="69730" y="8448"/>
                  </a:cubicBezTo>
                  <a:cubicBezTo>
                    <a:pt x="69193" y="7912"/>
                    <a:pt x="68657" y="7375"/>
                    <a:pt x="67584" y="7375"/>
                  </a:cubicBezTo>
                  <a:cubicBezTo>
                    <a:pt x="60611" y="6303"/>
                    <a:pt x="53638" y="4693"/>
                    <a:pt x="46665" y="3621"/>
                  </a:cubicBezTo>
                  <a:cubicBezTo>
                    <a:pt x="44520" y="3084"/>
                    <a:pt x="42374" y="2548"/>
                    <a:pt x="39692" y="2012"/>
                  </a:cubicBezTo>
                  <a:cubicBezTo>
                    <a:pt x="37547" y="1475"/>
                    <a:pt x="35938" y="402"/>
                    <a:pt x="33792" y="402"/>
                  </a:cubicBezTo>
                  <a:cubicBezTo>
                    <a:pt x="31110" y="-134"/>
                    <a:pt x="28965" y="-134"/>
                    <a:pt x="26283" y="402"/>
                  </a:cubicBezTo>
                  <a:cubicBezTo>
                    <a:pt x="21455" y="939"/>
                    <a:pt x="17164" y="939"/>
                    <a:pt x="12337" y="2012"/>
                  </a:cubicBezTo>
                  <a:cubicBezTo>
                    <a:pt x="8046" y="3084"/>
                    <a:pt x="3755" y="5230"/>
                    <a:pt x="0" y="7912"/>
                  </a:cubicBezTo>
                  <a:cubicBezTo>
                    <a:pt x="536" y="7912"/>
                    <a:pt x="1609" y="7912"/>
                    <a:pt x="2146" y="7375"/>
                  </a:cubicBezTo>
                  <a:cubicBezTo>
                    <a:pt x="10728" y="4693"/>
                    <a:pt x="19846" y="3084"/>
                    <a:pt x="28428" y="5766"/>
                  </a:cubicBezTo>
                  <a:cubicBezTo>
                    <a:pt x="32719" y="6839"/>
                    <a:pt x="36474" y="8984"/>
                    <a:pt x="40765" y="10594"/>
                  </a:cubicBezTo>
                  <a:cubicBezTo>
                    <a:pt x="45593" y="12739"/>
                    <a:pt x="50956" y="14348"/>
                    <a:pt x="56320" y="15957"/>
                  </a:cubicBezTo>
                  <a:cubicBezTo>
                    <a:pt x="61148" y="16494"/>
                    <a:pt x="65975" y="19176"/>
                    <a:pt x="68121" y="14348"/>
                  </a:cubicBezTo>
                  <a:close/>
                </a:path>
              </a:pathLst>
            </a:custGeom>
            <a:solidFill>
              <a:srgbClr val="231f20"/>
            </a:solidFill>
            <a:ln w="0">
              <a:noFill/>
            </a:ln>
          </p:spPr>
          <p:style>
            <a:lnRef idx="0"/>
            <a:fillRef idx="0"/>
            <a:effectRef idx="0"/>
            <a:fontRef idx="minor"/>
          </p:style>
          <p:txBody>
            <a:bodyPr lIns="90000" rIns="90000" tIns="-33480" bIns="-33480" anchor="ctr">
              <a:noAutofit/>
            </a:bodyPr>
            <a:p>
              <a:endParaRPr b="0" lang="en-US" sz="1800" spc="-1" strike="noStrike">
                <a:solidFill>
                  <a:srgbClr val="313c3f"/>
                </a:solidFill>
                <a:latin typeface="Source Sans Pro"/>
              </a:endParaRPr>
            </a:p>
          </p:txBody>
        </p:sp>
        <p:sp>
          <p:nvSpPr>
            <p:cNvPr id="2696" name="Freeform: Shape 507"/>
            <p:cNvSpPr/>
            <p:nvPr/>
          </p:nvSpPr>
          <p:spPr>
            <a:xfrm>
              <a:off x="9481680" y="2025360"/>
              <a:ext cx="35280" cy="16200"/>
            </a:xfrm>
            <a:custGeom>
              <a:avLst/>
              <a:gdLst/>
              <a:ahLst/>
              <a:rect l="l" t="t" r="r" b="b"/>
              <a:pathLst>
                <a:path w="45592" h="21157">
                  <a:moveTo>
                    <a:pt x="45593" y="8097"/>
                  </a:moveTo>
                  <a:cubicBezTo>
                    <a:pt x="38620" y="3269"/>
                    <a:pt x="30574" y="-485"/>
                    <a:pt x="21992" y="51"/>
                  </a:cubicBezTo>
                  <a:cubicBezTo>
                    <a:pt x="19846" y="51"/>
                    <a:pt x="18237" y="588"/>
                    <a:pt x="16092" y="1124"/>
                  </a:cubicBezTo>
                  <a:cubicBezTo>
                    <a:pt x="10728" y="2197"/>
                    <a:pt x="5364" y="3806"/>
                    <a:pt x="0" y="5951"/>
                  </a:cubicBezTo>
                  <a:cubicBezTo>
                    <a:pt x="1073" y="5951"/>
                    <a:pt x="3218" y="5951"/>
                    <a:pt x="4291" y="6488"/>
                  </a:cubicBezTo>
                  <a:cubicBezTo>
                    <a:pt x="2146" y="9706"/>
                    <a:pt x="0" y="13997"/>
                    <a:pt x="536" y="17752"/>
                  </a:cubicBezTo>
                  <a:cubicBezTo>
                    <a:pt x="1073" y="17215"/>
                    <a:pt x="1073" y="16679"/>
                    <a:pt x="1609" y="16143"/>
                  </a:cubicBezTo>
                  <a:cubicBezTo>
                    <a:pt x="4291" y="18825"/>
                    <a:pt x="8046" y="19897"/>
                    <a:pt x="11800" y="20434"/>
                  </a:cubicBezTo>
                  <a:cubicBezTo>
                    <a:pt x="20919" y="22043"/>
                    <a:pt x="31110" y="20970"/>
                    <a:pt x="39692" y="17215"/>
                  </a:cubicBezTo>
                  <a:cubicBezTo>
                    <a:pt x="40229" y="15606"/>
                    <a:pt x="40229" y="13461"/>
                    <a:pt x="40229" y="11852"/>
                  </a:cubicBezTo>
                  <a:cubicBezTo>
                    <a:pt x="42374" y="10779"/>
                    <a:pt x="43983" y="9706"/>
                    <a:pt x="45593" y="8097"/>
                  </a:cubicBezTo>
                  <a:close/>
                  <a:moveTo>
                    <a:pt x="38620" y="11852"/>
                  </a:moveTo>
                  <a:cubicBezTo>
                    <a:pt x="38083" y="13461"/>
                    <a:pt x="36474" y="14534"/>
                    <a:pt x="34865" y="15606"/>
                  </a:cubicBezTo>
                  <a:cubicBezTo>
                    <a:pt x="33256" y="16679"/>
                    <a:pt x="31647" y="16679"/>
                    <a:pt x="30038" y="17215"/>
                  </a:cubicBezTo>
                  <a:cubicBezTo>
                    <a:pt x="24137" y="18288"/>
                    <a:pt x="18237" y="19897"/>
                    <a:pt x="12873" y="18288"/>
                  </a:cubicBezTo>
                  <a:cubicBezTo>
                    <a:pt x="11800" y="18288"/>
                    <a:pt x="10728" y="17752"/>
                    <a:pt x="9655" y="17215"/>
                  </a:cubicBezTo>
                  <a:cubicBezTo>
                    <a:pt x="8582" y="16679"/>
                    <a:pt x="7509" y="16143"/>
                    <a:pt x="6437" y="16143"/>
                  </a:cubicBezTo>
                  <a:cubicBezTo>
                    <a:pt x="6437" y="16143"/>
                    <a:pt x="5900" y="16143"/>
                    <a:pt x="5900" y="16143"/>
                  </a:cubicBezTo>
                  <a:cubicBezTo>
                    <a:pt x="5364" y="16143"/>
                    <a:pt x="5364" y="15606"/>
                    <a:pt x="4827" y="15606"/>
                  </a:cubicBezTo>
                  <a:cubicBezTo>
                    <a:pt x="3755" y="15070"/>
                    <a:pt x="2682" y="14534"/>
                    <a:pt x="2682" y="13997"/>
                  </a:cubicBezTo>
                  <a:cubicBezTo>
                    <a:pt x="2682" y="13461"/>
                    <a:pt x="6437" y="7024"/>
                    <a:pt x="6973" y="5951"/>
                  </a:cubicBezTo>
                  <a:cubicBezTo>
                    <a:pt x="7509" y="5415"/>
                    <a:pt x="8046" y="4879"/>
                    <a:pt x="8582" y="4879"/>
                  </a:cubicBezTo>
                  <a:cubicBezTo>
                    <a:pt x="9119" y="4342"/>
                    <a:pt x="9655" y="4342"/>
                    <a:pt x="10728" y="4342"/>
                  </a:cubicBezTo>
                  <a:cubicBezTo>
                    <a:pt x="11264" y="4342"/>
                    <a:pt x="11800" y="4342"/>
                    <a:pt x="11800" y="4342"/>
                  </a:cubicBezTo>
                  <a:cubicBezTo>
                    <a:pt x="12337" y="4342"/>
                    <a:pt x="13410" y="4342"/>
                    <a:pt x="13946" y="4342"/>
                  </a:cubicBezTo>
                  <a:cubicBezTo>
                    <a:pt x="15019" y="4342"/>
                    <a:pt x="15555" y="4342"/>
                    <a:pt x="16628" y="3806"/>
                  </a:cubicBezTo>
                  <a:cubicBezTo>
                    <a:pt x="17701" y="3806"/>
                    <a:pt x="18773" y="3806"/>
                    <a:pt x="19846" y="3806"/>
                  </a:cubicBezTo>
                  <a:lnTo>
                    <a:pt x="20383" y="3806"/>
                  </a:lnTo>
                  <a:cubicBezTo>
                    <a:pt x="20919" y="3806"/>
                    <a:pt x="21455" y="3806"/>
                    <a:pt x="21992" y="3806"/>
                  </a:cubicBezTo>
                  <a:cubicBezTo>
                    <a:pt x="22528" y="3806"/>
                    <a:pt x="23065" y="3806"/>
                    <a:pt x="23065" y="3806"/>
                  </a:cubicBezTo>
                  <a:cubicBezTo>
                    <a:pt x="23601" y="3806"/>
                    <a:pt x="23601" y="3806"/>
                    <a:pt x="24137" y="3806"/>
                  </a:cubicBezTo>
                  <a:cubicBezTo>
                    <a:pt x="24137" y="3806"/>
                    <a:pt x="24674" y="3806"/>
                    <a:pt x="24674" y="3806"/>
                  </a:cubicBezTo>
                  <a:cubicBezTo>
                    <a:pt x="24674" y="3806"/>
                    <a:pt x="25210" y="3806"/>
                    <a:pt x="25210" y="3806"/>
                  </a:cubicBezTo>
                  <a:cubicBezTo>
                    <a:pt x="25746" y="3806"/>
                    <a:pt x="25746" y="3806"/>
                    <a:pt x="26283" y="3806"/>
                  </a:cubicBezTo>
                  <a:cubicBezTo>
                    <a:pt x="26819" y="3806"/>
                    <a:pt x="27356" y="4342"/>
                    <a:pt x="27892" y="4342"/>
                  </a:cubicBezTo>
                  <a:cubicBezTo>
                    <a:pt x="27892" y="4342"/>
                    <a:pt x="27892" y="4342"/>
                    <a:pt x="27892" y="4342"/>
                  </a:cubicBezTo>
                  <a:cubicBezTo>
                    <a:pt x="28428" y="4342"/>
                    <a:pt x="28965" y="4879"/>
                    <a:pt x="29501" y="4879"/>
                  </a:cubicBezTo>
                  <a:cubicBezTo>
                    <a:pt x="29501" y="4879"/>
                    <a:pt x="29501" y="4879"/>
                    <a:pt x="29501" y="4879"/>
                  </a:cubicBezTo>
                  <a:cubicBezTo>
                    <a:pt x="30038" y="4879"/>
                    <a:pt x="30574" y="5415"/>
                    <a:pt x="31110" y="5415"/>
                  </a:cubicBezTo>
                  <a:cubicBezTo>
                    <a:pt x="31647" y="5415"/>
                    <a:pt x="32183" y="5951"/>
                    <a:pt x="32719" y="6488"/>
                  </a:cubicBezTo>
                  <a:cubicBezTo>
                    <a:pt x="33256" y="6488"/>
                    <a:pt x="33256" y="7024"/>
                    <a:pt x="33792" y="7024"/>
                  </a:cubicBezTo>
                  <a:cubicBezTo>
                    <a:pt x="33792" y="7024"/>
                    <a:pt x="34329" y="7024"/>
                    <a:pt x="34329" y="7560"/>
                  </a:cubicBezTo>
                  <a:cubicBezTo>
                    <a:pt x="34329" y="7560"/>
                    <a:pt x="34329" y="7560"/>
                    <a:pt x="34865" y="7560"/>
                  </a:cubicBezTo>
                  <a:cubicBezTo>
                    <a:pt x="35401" y="7560"/>
                    <a:pt x="35401" y="8097"/>
                    <a:pt x="35938" y="8097"/>
                  </a:cubicBezTo>
                  <a:cubicBezTo>
                    <a:pt x="36474" y="8097"/>
                    <a:pt x="36474" y="8633"/>
                    <a:pt x="37010" y="8633"/>
                  </a:cubicBezTo>
                  <a:cubicBezTo>
                    <a:pt x="38620" y="10242"/>
                    <a:pt x="38620" y="10779"/>
                    <a:pt x="38620" y="11852"/>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2697" name="Freeform: Shape 508"/>
            <p:cNvSpPr/>
            <p:nvPr/>
          </p:nvSpPr>
          <p:spPr>
            <a:xfrm>
              <a:off x="9483480" y="2027880"/>
              <a:ext cx="27720" cy="11880"/>
            </a:xfrm>
            <a:custGeom>
              <a:avLst/>
              <a:gdLst/>
              <a:ahLst/>
              <a:rect l="l" t="t" r="r" b="b"/>
              <a:pathLst>
                <a:path w="36080" h="15699">
                  <a:moveTo>
                    <a:pt x="-29598" y="8582"/>
                  </a:moveTo>
                  <a:cubicBezTo>
                    <a:pt x="-30135" y="10191"/>
                    <a:pt x="-31744" y="11264"/>
                    <a:pt x="32183" y="12337"/>
                  </a:cubicBezTo>
                  <a:cubicBezTo>
                    <a:pt x="30574" y="13410"/>
                    <a:pt x="28965" y="13410"/>
                    <a:pt x="27356" y="13946"/>
                  </a:cubicBezTo>
                  <a:cubicBezTo>
                    <a:pt x="21455" y="15019"/>
                    <a:pt x="15555" y="16628"/>
                    <a:pt x="10191" y="15019"/>
                  </a:cubicBezTo>
                  <a:cubicBezTo>
                    <a:pt x="8046" y="14482"/>
                    <a:pt x="5900" y="13410"/>
                    <a:pt x="3755" y="12873"/>
                  </a:cubicBezTo>
                  <a:cubicBezTo>
                    <a:pt x="2682" y="12337"/>
                    <a:pt x="536" y="10728"/>
                    <a:pt x="0" y="10191"/>
                  </a:cubicBezTo>
                  <a:cubicBezTo>
                    <a:pt x="0" y="9655"/>
                    <a:pt x="3755" y="3218"/>
                    <a:pt x="4291" y="2146"/>
                  </a:cubicBezTo>
                  <a:cubicBezTo>
                    <a:pt x="4827" y="1609"/>
                    <a:pt x="5364" y="1073"/>
                    <a:pt x="5900" y="1073"/>
                  </a:cubicBezTo>
                  <a:cubicBezTo>
                    <a:pt x="6437" y="536"/>
                    <a:pt x="6973" y="536"/>
                    <a:pt x="8046" y="536"/>
                  </a:cubicBezTo>
                  <a:cubicBezTo>
                    <a:pt x="8582" y="536"/>
                    <a:pt x="9119" y="536"/>
                    <a:pt x="9119" y="536"/>
                  </a:cubicBezTo>
                  <a:cubicBezTo>
                    <a:pt x="10728" y="536"/>
                    <a:pt x="12337" y="0"/>
                    <a:pt x="13946" y="0"/>
                  </a:cubicBezTo>
                  <a:cubicBezTo>
                    <a:pt x="15019" y="0"/>
                    <a:pt x="16628" y="0"/>
                    <a:pt x="17701" y="0"/>
                  </a:cubicBezTo>
                  <a:cubicBezTo>
                    <a:pt x="19846" y="0"/>
                    <a:pt x="21992" y="536"/>
                    <a:pt x="24137" y="1073"/>
                  </a:cubicBezTo>
                  <a:cubicBezTo>
                    <a:pt x="25210" y="1609"/>
                    <a:pt x="26819" y="1609"/>
                    <a:pt x="27892" y="2146"/>
                  </a:cubicBezTo>
                  <a:cubicBezTo>
                    <a:pt x="30038" y="3218"/>
                    <a:pt x="32183" y="4291"/>
                    <a:pt x="-31207" y="5900"/>
                  </a:cubicBezTo>
                  <a:cubicBezTo>
                    <a:pt x="-30135" y="6437"/>
                    <a:pt x="-29062" y="6973"/>
                    <a:pt x="-29598"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313c3f"/>
                </a:solidFill>
                <a:latin typeface="Source Sans Pro"/>
              </a:endParaRPr>
            </a:p>
          </p:txBody>
        </p:sp>
        <p:sp>
          <p:nvSpPr>
            <p:cNvPr id="2698" name="Freeform: Shape 509"/>
            <p:cNvSpPr/>
            <p:nvPr/>
          </p:nvSpPr>
          <p:spPr>
            <a:xfrm>
              <a:off x="9490320" y="2027880"/>
              <a:ext cx="14760" cy="10800"/>
            </a:xfrm>
            <a:custGeom>
              <a:avLst/>
              <a:gdLst/>
              <a:ahLst/>
              <a:rect l="l" t="t" r="r" b="b"/>
              <a:pathLst>
                <a:path w="19309" h="13945">
                  <a:moveTo>
                    <a:pt x="19310" y="4291"/>
                  </a:moveTo>
                  <a:cubicBezTo>
                    <a:pt x="19310" y="9655"/>
                    <a:pt x="15019" y="13946"/>
                    <a:pt x="9655" y="13946"/>
                  </a:cubicBezTo>
                  <a:cubicBezTo>
                    <a:pt x="4291" y="13946"/>
                    <a:pt x="0" y="9655"/>
                    <a:pt x="0" y="4291"/>
                  </a:cubicBezTo>
                  <a:cubicBezTo>
                    <a:pt x="0" y="3218"/>
                    <a:pt x="0" y="1609"/>
                    <a:pt x="536" y="536"/>
                  </a:cubicBezTo>
                  <a:cubicBezTo>
                    <a:pt x="2146" y="536"/>
                    <a:pt x="3755" y="0"/>
                    <a:pt x="5364" y="0"/>
                  </a:cubicBezTo>
                  <a:cubicBezTo>
                    <a:pt x="6437" y="0"/>
                    <a:pt x="8046" y="0"/>
                    <a:pt x="9119" y="0"/>
                  </a:cubicBezTo>
                  <a:cubicBezTo>
                    <a:pt x="11264" y="0"/>
                    <a:pt x="13410" y="536"/>
                    <a:pt x="15555" y="1073"/>
                  </a:cubicBezTo>
                  <a:cubicBezTo>
                    <a:pt x="16628" y="1609"/>
                    <a:pt x="18237" y="1609"/>
                    <a:pt x="19310" y="2146"/>
                  </a:cubicBezTo>
                  <a:cubicBezTo>
                    <a:pt x="19310" y="2682"/>
                    <a:pt x="19310" y="3218"/>
                    <a:pt x="1931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2699" name="Freeform: Shape 510"/>
            <p:cNvSpPr/>
            <p:nvPr/>
          </p:nvSpPr>
          <p:spPr>
            <a:xfrm>
              <a:off x="949536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313c3f"/>
                </a:solidFill>
                <a:latin typeface="Source Sans Pro"/>
              </a:endParaRPr>
            </a:p>
          </p:txBody>
        </p:sp>
        <p:sp>
          <p:nvSpPr>
            <p:cNvPr id="2700" name="Freeform: Shape 511"/>
            <p:cNvSpPr/>
            <p:nvPr/>
          </p:nvSpPr>
          <p:spPr>
            <a:xfrm>
              <a:off x="9498240" y="2028240"/>
              <a:ext cx="3600" cy="4320"/>
            </a:xfrm>
            <a:custGeom>
              <a:avLst/>
              <a:gdLst/>
              <a:ahLst/>
              <a:rect l="l" t="t" r="r" b="b"/>
              <a:pathLst>
                <a:path w="4827" h="5717">
                  <a:moveTo>
                    <a:pt x="536" y="1963"/>
                  </a:moveTo>
                  <a:cubicBezTo>
                    <a:pt x="0" y="2499"/>
                    <a:pt x="0" y="3572"/>
                    <a:pt x="0" y="4108"/>
                  </a:cubicBezTo>
                  <a:cubicBezTo>
                    <a:pt x="0" y="4645"/>
                    <a:pt x="1073" y="5718"/>
                    <a:pt x="1609" y="5718"/>
                  </a:cubicBezTo>
                  <a:cubicBezTo>
                    <a:pt x="2682" y="5718"/>
                    <a:pt x="3218" y="5181"/>
                    <a:pt x="3755" y="4645"/>
                  </a:cubicBezTo>
                  <a:cubicBezTo>
                    <a:pt x="4291" y="4108"/>
                    <a:pt x="4827" y="3036"/>
                    <a:pt x="4827" y="2499"/>
                  </a:cubicBezTo>
                  <a:cubicBezTo>
                    <a:pt x="4827" y="1427"/>
                    <a:pt x="4291" y="890"/>
                    <a:pt x="3755" y="354"/>
                  </a:cubicBezTo>
                  <a:cubicBezTo>
                    <a:pt x="2682" y="-719"/>
                    <a:pt x="1073" y="890"/>
                    <a:pt x="536"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313c3f"/>
                </a:solidFill>
                <a:latin typeface="Source Sans Pro"/>
              </a:endParaRPr>
            </a:p>
          </p:txBody>
        </p:sp>
        <p:sp>
          <p:nvSpPr>
            <p:cNvPr id="2701" name="Freeform: Shape 512"/>
            <p:cNvSpPr/>
            <p:nvPr/>
          </p:nvSpPr>
          <p:spPr>
            <a:xfrm>
              <a:off x="9405720" y="2025000"/>
              <a:ext cx="35280" cy="16200"/>
            </a:xfrm>
            <a:custGeom>
              <a:avLst/>
              <a:gdLst/>
              <a:ahLst/>
              <a:rect l="l" t="t" r="r" b="b"/>
              <a:pathLst>
                <a:path w="45592" h="21157">
                  <a:moveTo>
                    <a:pt x="45593" y="5951"/>
                  </a:moveTo>
                  <a:cubicBezTo>
                    <a:pt x="40765" y="3806"/>
                    <a:pt x="34865" y="2197"/>
                    <a:pt x="29501" y="1124"/>
                  </a:cubicBezTo>
                  <a:cubicBezTo>
                    <a:pt x="27356" y="588"/>
                    <a:pt x="25746" y="588"/>
                    <a:pt x="23601" y="51"/>
                  </a:cubicBezTo>
                  <a:cubicBezTo>
                    <a:pt x="15019" y="-485"/>
                    <a:pt x="6973" y="3269"/>
                    <a:pt x="0" y="8097"/>
                  </a:cubicBezTo>
                  <a:cubicBezTo>
                    <a:pt x="1073" y="9706"/>
                    <a:pt x="2682" y="11315"/>
                    <a:pt x="4827" y="11852"/>
                  </a:cubicBezTo>
                  <a:cubicBezTo>
                    <a:pt x="4827" y="13461"/>
                    <a:pt x="4827" y="15606"/>
                    <a:pt x="5364" y="17215"/>
                  </a:cubicBezTo>
                  <a:cubicBezTo>
                    <a:pt x="13946" y="20970"/>
                    <a:pt x="23601" y="22043"/>
                    <a:pt x="33256" y="20434"/>
                  </a:cubicBezTo>
                  <a:cubicBezTo>
                    <a:pt x="37010" y="19897"/>
                    <a:pt x="40765" y="18288"/>
                    <a:pt x="43447" y="16143"/>
                  </a:cubicBezTo>
                  <a:cubicBezTo>
                    <a:pt x="43983" y="16679"/>
                    <a:pt x="43983" y="17215"/>
                    <a:pt x="44520" y="17752"/>
                  </a:cubicBezTo>
                  <a:cubicBezTo>
                    <a:pt x="45056" y="13997"/>
                    <a:pt x="42911" y="9706"/>
                    <a:pt x="40765" y="6488"/>
                  </a:cubicBezTo>
                  <a:cubicBezTo>
                    <a:pt x="41838" y="5951"/>
                    <a:pt x="44520" y="5951"/>
                    <a:pt x="45593" y="5951"/>
                  </a:cubicBezTo>
                  <a:close/>
                  <a:moveTo>
                    <a:pt x="41302" y="11315"/>
                  </a:moveTo>
                  <a:cubicBezTo>
                    <a:pt x="41302" y="11852"/>
                    <a:pt x="41838" y="12388"/>
                    <a:pt x="41838" y="12388"/>
                  </a:cubicBezTo>
                  <a:cubicBezTo>
                    <a:pt x="41838" y="12924"/>
                    <a:pt x="42374" y="12924"/>
                    <a:pt x="42374" y="13461"/>
                  </a:cubicBezTo>
                  <a:cubicBezTo>
                    <a:pt x="42374" y="13461"/>
                    <a:pt x="42374" y="13997"/>
                    <a:pt x="42374" y="13997"/>
                  </a:cubicBezTo>
                  <a:cubicBezTo>
                    <a:pt x="42374" y="13997"/>
                    <a:pt x="42374" y="14534"/>
                    <a:pt x="42374" y="14534"/>
                  </a:cubicBezTo>
                  <a:cubicBezTo>
                    <a:pt x="42374" y="14534"/>
                    <a:pt x="42374" y="14534"/>
                    <a:pt x="42374" y="14534"/>
                  </a:cubicBezTo>
                  <a:cubicBezTo>
                    <a:pt x="42374" y="14534"/>
                    <a:pt x="42374" y="14534"/>
                    <a:pt x="42374" y="14534"/>
                  </a:cubicBezTo>
                  <a:cubicBezTo>
                    <a:pt x="42374" y="14534"/>
                    <a:pt x="42374" y="14534"/>
                    <a:pt x="41838" y="15070"/>
                  </a:cubicBezTo>
                  <a:cubicBezTo>
                    <a:pt x="41838" y="15070"/>
                    <a:pt x="41838" y="15070"/>
                    <a:pt x="41838" y="15070"/>
                  </a:cubicBezTo>
                  <a:cubicBezTo>
                    <a:pt x="41838" y="15070"/>
                    <a:pt x="41838" y="15070"/>
                    <a:pt x="41302" y="15070"/>
                  </a:cubicBezTo>
                  <a:cubicBezTo>
                    <a:pt x="41302" y="15070"/>
                    <a:pt x="40765" y="15606"/>
                    <a:pt x="40765" y="15606"/>
                  </a:cubicBezTo>
                  <a:cubicBezTo>
                    <a:pt x="40765" y="15606"/>
                    <a:pt x="40229" y="15606"/>
                    <a:pt x="40229" y="16143"/>
                  </a:cubicBezTo>
                  <a:cubicBezTo>
                    <a:pt x="39692" y="16143"/>
                    <a:pt x="39692" y="16679"/>
                    <a:pt x="39156" y="16679"/>
                  </a:cubicBezTo>
                  <a:cubicBezTo>
                    <a:pt x="39156" y="16679"/>
                    <a:pt x="38620" y="16679"/>
                    <a:pt x="38620" y="16679"/>
                  </a:cubicBezTo>
                  <a:cubicBezTo>
                    <a:pt x="37547" y="17215"/>
                    <a:pt x="36474" y="17752"/>
                    <a:pt x="35401" y="17752"/>
                  </a:cubicBezTo>
                  <a:cubicBezTo>
                    <a:pt x="34329" y="18288"/>
                    <a:pt x="33256" y="18288"/>
                    <a:pt x="32183" y="18825"/>
                  </a:cubicBezTo>
                  <a:cubicBezTo>
                    <a:pt x="26283" y="20434"/>
                    <a:pt x="20383" y="18825"/>
                    <a:pt x="14482" y="17752"/>
                  </a:cubicBezTo>
                  <a:cubicBezTo>
                    <a:pt x="12873" y="17215"/>
                    <a:pt x="11264" y="17215"/>
                    <a:pt x="9655" y="16143"/>
                  </a:cubicBezTo>
                  <a:cubicBezTo>
                    <a:pt x="8046" y="15606"/>
                    <a:pt x="6973" y="13997"/>
                    <a:pt x="6437" y="12388"/>
                  </a:cubicBezTo>
                  <a:cubicBezTo>
                    <a:pt x="6437" y="11852"/>
                    <a:pt x="6437" y="11315"/>
                    <a:pt x="6437" y="10779"/>
                  </a:cubicBezTo>
                  <a:cubicBezTo>
                    <a:pt x="6437" y="10779"/>
                    <a:pt x="6437" y="10242"/>
                    <a:pt x="6437" y="10242"/>
                  </a:cubicBezTo>
                  <a:cubicBezTo>
                    <a:pt x="6437" y="10242"/>
                    <a:pt x="6973" y="9706"/>
                    <a:pt x="6973" y="9706"/>
                  </a:cubicBezTo>
                  <a:cubicBezTo>
                    <a:pt x="6973" y="9706"/>
                    <a:pt x="7509" y="9170"/>
                    <a:pt x="7509" y="9170"/>
                  </a:cubicBezTo>
                  <a:cubicBezTo>
                    <a:pt x="7509" y="9170"/>
                    <a:pt x="7509" y="9170"/>
                    <a:pt x="8046" y="9170"/>
                  </a:cubicBezTo>
                  <a:cubicBezTo>
                    <a:pt x="8046" y="9170"/>
                    <a:pt x="8582" y="9170"/>
                    <a:pt x="8582" y="8633"/>
                  </a:cubicBezTo>
                  <a:cubicBezTo>
                    <a:pt x="9119" y="8633"/>
                    <a:pt x="9119" y="8097"/>
                    <a:pt x="9655" y="8097"/>
                  </a:cubicBezTo>
                  <a:cubicBezTo>
                    <a:pt x="9655" y="8097"/>
                    <a:pt x="10191" y="8097"/>
                    <a:pt x="10191" y="7560"/>
                  </a:cubicBezTo>
                  <a:cubicBezTo>
                    <a:pt x="10728" y="7560"/>
                    <a:pt x="10728" y="7024"/>
                    <a:pt x="11264" y="7024"/>
                  </a:cubicBezTo>
                  <a:cubicBezTo>
                    <a:pt x="11800" y="6488"/>
                    <a:pt x="12337" y="6488"/>
                    <a:pt x="12873" y="5951"/>
                  </a:cubicBezTo>
                  <a:cubicBezTo>
                    <a:pt x="13410" y="5951"/>
                    <a:pt x="13946" y="5415"/>
                    <a:pt x="14482" y="5415"/>
                  </a:cubicBezTo>
                  <a:cubicBezTo>
                    <a:pt x="14482" y="5415"/>
                    <a:pt x="14482" y="5415"/>
                    <a:pt x="14482" y="5415"/>
                  </a:cubicBezTo>
                  <a:cubicBezTo>
                    <a:pt x="15019" y="5415"/>
                    <a:pt x="15555" y="4879"/>
                    <a:pt x="16092" y="4879"/>
                  </a:cubicBezTo>
                  <a:cubicBezTo>
                    <a:pt x="16092" y="4879"/>
                    <a:pt x="16092" y="4879"/>
                    <a:pt x="16092" y="4879"/>
                  </a:cubicBezTo>
                  <a:cubicBezTo>
                    <a:pt x="16092" y="4879"/>
                    <a:pt x="16628" y="4879"/>
                    <a:pt x="16628" y="4879"/>
                  </a:cubicBezTo>
                  <a:cubicBezTo>
                    <a:pt x="17164" y="4879"/>
                    <a:pt x="17164" y="4879"/>
                    <a:pt x="17701" y="4342"/>
                  </a:cubicBezTo>
                  <a:cubicBezTo>
                    <a:pt x="18237" y="4342"/>
                    <a:pt x="18237" y="4342"/>
                    <a:pt x="18773" y="4342"/>
                  </a:cubicBezTo>
                  <a:cubicBezTo>
                    <a:pt x="18773" y="4342"/>
                    <a:pt x="19310" y="4342"/>
                    <a:pt x="19310" y="4342"/>
                  </a:cubicBezTo>
                  <a:cubicBezTo>
                    <a:pt x="19310" y="4342"/>
                    <a:pt x="19846" y="4342"/>
                    <a:pt x="19846" y="4342"/>
                  </a:cubicBezTo>
                  <a:cubicBezTo>
                    <a:pt x="20383" y="4342"/>
                    <a:pt x="20383" y="4342"/>
                    <a:pt x="20919" y="4342"/>
                  </a:cubicBezTo>
                  <a:cubicBezTo>
                    <a:pt x="21455" y="4342"/>
                    <a:pt x="21992" y="4342"/>
                    <a:pt x="21992" y="4342"/>
                  </a:cubicBezTo>
                  <a:cubicBezTo>
                    <a:pt x="22528" y="4342"/>
                    <a:pt x="23065" y="4342"/>
                    <a:pt x="23601" y="4342"/>
                  </a:cubicBezTo>
                  <a:lnTo>
                    <a:pt x="24137" y="4342"/>
                  </a:lnTo>
                  <a:cubicBezTo>
                    <a:pt x="25210" y="4342"/>
                    <a:pt x="26283" y="4342"/>
                    <a:pt x="27356" y="4342"/>
                  </a:cubicBezTo>
                  <a:cubicBezTo>
                    <a:pt x="28965" y="4342"/>
                    <a:pt x="30574" y="4879"/>
                    <a:pt x="32183" y="4879"/>
                  </a:cubicBezTo>
                  <a:cubicBezTo>
                    <a:pt x="32719" y="4879"/>
                    <a:pt x="33256" y="4879"/>
                    <a:pt x="33256" y="4879"/>
                  </a:cubicBezTo>
                  <a:cubicBezTo>
                    <a:pt x="33792" y="4879"/>
                    <a:pt x="34865" y="4879"/>
                    <a:pt x="35401" y="5415"/>
                  </a:cubicBezTo>
                  <a:cubicBezTo>
                    <a:pt x="35938" y="5951"/>
                    <a:pt x="36474" y="6488"/>
                    <a:pt x="37010" y="6488"/>
                  </a:cubicBezTo>
                  <a:cubicBezTo>
                    <a:pt x="37010" y="6488"/>
                    <a:pt x="37547" y="7024"/>
                    <a:pt x="37547" y="7560"/>
                  </a:cubicBezTo>
                  <a:cubicBezTo>
                    <a:pt x="37547" y="8097"/>
                    <a:pt x="38083" y="8097"/>
                    <a:pt x="38083" y="8633"/>
                  </a:cubicBezTo>
                  <a:cubicBezTo>
                    <a:pt x="40229" y="9170"/>
                    <a:pt x="40765" y="10242"/>
                    <a:pt x="41302" y="11315"/>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313c3f"/>
                </a:solidFill>
                <a:latin typeface="Source Sans Pro"/>
              </a:endParaRPr>
            </a:p>
          </p:txBody>
        </p:sp>
        <p:sp>
          <p:nvSpPr>
            <p:cNvPr id="2702" name="Freeform: Shape 513"/>
            <p:cNvSpPr/>
            <p:nvPr/>
          </p:nvSpPr>
          <p:spPr>
            <a:xfrm>
              <a:off x="9411480" y="2027880"/>
              <a:ext cx="28080" cy="11880"/>
            </a:xfrm>
            <a:custGeom>
              <a:avLst/>
              <a:gdLst/>
              <a:ahLst/>
              <a:rect l="l" t="t" r="r" b="b"/>
              <a:pathLst>
                <a:path w="36291" h="15699">
                  <a:moveTo>
                    <a:pt x="354" y="8582"/>
                  </a:moveTo>
                  <a:cubicBezTo>
                    <a:pt x="890" y="10191"/>
                    <a:pt x="2499" y="11264"/>
                    <a:pt x="4108" y="12337"/>
                  </a:cubicBezTo>
                  <a:cubicBezTo>
                    <a:pt x="5718" y="13410"/>
                    <a:pt x="7327" y="13410"/>
                    <a:pt x="8936" y="13946"/>
                  </a:cubicBezTo>
                  <a:cubicBezTo>
                    <a:pt x="14836" y="15019"/>
                    <a:pt x="20736" y="16628"/>
                    <a:pt x="26100" y="15019"/>
                  </a:cubicBezTo>
                  <a:cubicBezTo>
                    <a:pt x="28246" y="14482"/>
                    <a:pt x="30391" y="13410"/>
                    <a:pt x="32537" y="12873"/>
                  </a:cubicBezTo>
                  <a:cubicBezTo>
                    <a:pt x="33610" y="12337"/>
                    <a:pt x="35755" y="10728"/>
                    <a:pt x="36291" y="10191"/>
                  </a:cubicBezTo>
                  <a:cubicBezTo>
                    <a:pt x="36291" y="9655"/>
                    <a:pt x="32537" y="3218"/>
                    <a:pt x="32000" y="2146"/>
                  </a:cubicBezTo>
                  <a:cubicBezTo>
                    <a:pt x="31464" y="1609"/>
                    <a:pt x="30928" y="1073"/>
                    <a:pt x="30391" y="1073"/>
                  </a:cubicBezTo>
                  <a:cubicBezTo>
                    <a:pt x="29855" y="536"/>
                    <a:pt x="29319" y="536"/>
                    <a:pt x="28246" y="536"/>
                  </a:cubicBezTo>
                  <a:cubicBezTo>
                    <a:pt x="27709" y="536"/>
                    <a:pt x="27173" y="536"/>
                    <a:pt x="27173" y="536"/>
                  </a:cubicBezTo>
                  <a:cubicBezTo>
                    <a:pt x="25564" y="536"/>
                    <a:pt x="23955" y="0"/>
                    <a:pt x="22346" y="0"/>
                  </a:cubicBezTo>
                  <a:cubicBezTo>
                    <a:pt x="21273" y="0"/>
                    <a:pt x="19664" y="0"/>
                    <a:pt x="18591" y="0"/>
                  </a:cubicBezTo>
                  <a:cubicBezTo>
                    <a:pt x="16445" y="0"/>
                    <a:pt x="14300" y="536"/>
                    <a:pt x="12154" y="1073"/>
                  </a:cubicBezTo>
                  <a:cubicBezTo>
                    <a:pt x="11081" y="1609"/>
                    <a:pt x="9472" y="1609"/>
                    <a:pt x="8400" y="2146"/>
                  </a:cubicBezTo>
                  <a:cubicBezTo>
                    <a:pt x="6254" y="3218"/>
                    <a:pt x="4108" y="4291"/>
                    <a:pt x="1963" y="5900"/>
                  </a:cubicBezTo>
                  <a:cubicBezTo>
                    <a:pt x="890" y="6437"/>
                    <a:pt x="-719" y="6973"/>
                    <a:pt x="354"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313c3f"/>
                </a:solidFill>
                <a:latin typeface="Source Sans Pro"/>
              </a:endParaRPr>
            </a:p>
          </p:txBody>
        </p:sp>
        <p:sp>
          <p:nvSpPr>
            <p:cNvPr id="2703" name="Freeform: Shape 514"/>
            <p:cNvSpPr/>
            <p:nvPr/>
          </p:nvSpPr>
          <p:spPr>
            <a:xfrm>
              <a:off x="9417600" y="2027880"/>
              <a:ext cx="14760" cy="10800"/>
            </a:xfrm>
            <a:custGeom>
              <a:avLst/>
              <a:gdLst/>
              <a:ahLst/>
              <a:rect l="l" t="t" r="r" b="b"/>
              <a:pathLst>
                <a:path w="19309" h="13945">
                  <a:moveTo>
                    <a:pt x="0" y="4291"/>
                  </a:moveTo>
                  <a:cubicBezTo>
                    <a:pt x="0" y="9655"/>
                    <a:pt x="4291" y="13946"/>
                    <a:pt x="9655" y="13946"/>
                  </a:cubicBezTo>
                  <a:cubicBezTo>
                    <a:pt x="15019" y="13946"/>
                    <a:pt x="19310" y="9655"/>
                    <a:pt x="19310" y="4291"/>
                  </a:cubicBezTo>
                  <a:cubicBezTo>
                    <a:pt x="19310" y="3218"/>
                    <a:pt x="19310" y="1609"/>
                    <a:pt x="18773" y="536"/>
                  </a:cubicBezTo>
                  <a:cubicBezTo>
                    <a:pt x="17164" y="536"/>
                    <a:pt x="15555" y="0"/>
                    <a:pt x="13946" y="0"/>
                  </a:cubicBezTo>
                  <a:cubicBezTo>
                    <a:pt x="12873" y="0"/>
                    <a:pt x="11264" y="0"/>
                    <a:pt x="10191" y="0"/>
                  </a:cubicBezTo>
                  <a:cubicBezTo>
                    <a:pt x="8046" y="0"/>
                    <a:pt x="5900" y="536"/>
                    <a:pt x="3755" y="1073"/>
                  </a:cubicBezTo>
                  <a:cubicBezTo>
                    <a:pt x="2682" y="1609"/>
                    <a:pt x="1073" y="1609"/>
                    <a:pt x="0" y="2146"/>
                  </a:cubicBezTo>
                  <a:cubicBezTo>
                    <a:pt x="0" y="2682"/>
                    <a:pt x="0" y="3218"/>
                    <a:pt x="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2704" name="Freeform: Shape 515"/>
            <p:cNvSpPr/>
            <p:nvPr/>
          </p:nvSpPr>
          <p:spPr>
            <a:xfrm>
              <a:off x="942228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313c3f"/>
                </a:solidFill>
                <a:latin typeface="Source Sans Pro"/>
              </a:endParaRPr>
            </a:p>
          </p:txBody>
        </p:sp>
        <p:sp>
          <p:nvSpPr>
            <p:cNvPr id="2705" name="Freeform: Shape 516"/>
            <p:cNvSpPr/>
            <p:nvPr/>
          </p:nvSpPr>
          <p:spPr>
            <a:xfrm>
              <a:off x="9426600" y="2029680"/>
              <a:ext cx="3600" cy="4320"/>
            </a:xfrm>
            <a:custGeom>
              <a:avLst/>
              <a:gdLst/>
              <a:ahLst/>
              <a:rect l="l" t="t" r="r" b="b"/>
              <a:pathLst>
                <a:path w="4827" h="5717">
                  <a:moveTo>
                    <a:pt x="4291" y="1963"/>
                  </a:moveTo>
                  <a:cubicBezTo>
                    <a:pt x="4827" y="2499"/>
                    <a:pt x="4827" y="3572"/>
                    <a:pt x="4827" y="4108"/>
                  </a:cubicBezTo>
                  <a:cubicBezTo>
                    <a:pt x="4827" y="4645"/>
                    <a:pt x="3755" y="5718"/>
                    <a:pt x="3218" y="5718"/>
                  </a:cubicBezTo>
                  <a:cubicBezTo>
                    <a:pt x="2146" y="5718"/>
                    <a:pt x="1609" y="5181"/>
                    <a:pt x="1073" y="4645"/>
                  </a:cubicBezTo>
                  <a:cubicBezTo>
                    <a:pt x="536" y="4108"/>
                    <a:pt x="0" y="3036"/>
                    <a:pt x="0" y="2499"/>
                  </a:cubicBezTo>
                  <a:cubicBezTo>
                    <a:pt x="0" y="1426"/>
                    <a:pt x="536" y="890"/>
                    <a:pt x="1073" y="354"/>
                  </a:cubicBezTo>
                  <a:cubicBezTo>
                    <a:pt x="2146" y="-719"/>
                    <a:pt x="3755" y="890"/>
                    <a:pt x="4291"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313c3f"/>
                </a:solidFill>
                <a:latin typeface="Source Sans Pro"/>
              </a:endParaRPr>
            </a:p>
          </p:txBody>
        </p:sp>
        <p:sp>
          <p:nvSpPr>
            <p:cNvPr id="2706" name="Freeform: Shape 517"/>
            <p:cNvSpPr/>
            <p:nvPr/>
          </p:nvSpPr>
          <p:spPr>
            <a:xfrm>
              <a:off x="9447480" y="2081520"/>
              <a:ext cx="29880" cy="3960"/>
            </a:xfrm>
            <a:custGeom>
              <a:avLst/>
              <a:gdLst/>
              <a:ahLst/>
              <a:rect l="l" t="t" r="r" b="b"/>
              <a:pathLst>
                <a:path w="38904" h="5440">
                  <a:moveTo>
                    <a:pt x="37153" y="210"/>
                  </a:moveTo>
                  <a:cubicBezTo>
                    <a:pt x="34471" y="-326"/>
                    <a:pt x="31789" y="210"/>
                    <a:pt x="29644" y="1283"/>
                  </a:cubicBezTo>
                  <a:cubicBezTo>
                    <a:pt x="27498" y="2356"/>
                    <a:pt x="24816" y="3965"/>
                    <a:pt x="22671" y="4501"/>
                  </a:cubicBezTo>
                  <a:cubicBezTo>
                    <a:pt x="21598" y="5038"/>
                    <a:pt x="16234" y="5038"/>
                    <a:pt x="14625" y="4501"/>
                  </a:cubicBezTo>
                  <a:cubicBezTo>
                    <a:pt x="12480" y="3965"/>
                    <a:pt x="10334" y="2356"/>
                    <a:pt x="8188" y="1283"/>
                  </a:cubicBezTo>
                  <a:cubicBezTo>
                    <a:pt x="6043" y="210"/>
                    <a:pt x="3897" y="-326"/>
                    <a:pt x="1752" y="210"/>
                  </a:cubicBezTo>
                  <a:cubicBezTo>
                    <a:pt x="679" y="747"/>
                    <a:pt x="-394" y="1283"/>
                    <a:pt x="143" y="2356"/>
                  </a:cubicBezTo>
                  <a:cubicBezTo>
                    <a:pt x="143" y="2892"/>
                    <a:pt x="679" y="2892"/>
                    <a:pt x="1215" y="2892"/>
                  </a:cubicBezTo>
                  <a:cubicBezTo>
                    <a:pt x="2288" y="3429"/>
                    <a:pt x="3897" y="3965"/>
                    <a:pt x="4970" y="3965"/>
                  </a:cubicBezTo>
                  <a:cubicBezTo>
                    <a:pt x="6579" y="3965"/>
                    <a:pt x="8188" y="3965"/>
                    <a:pt x="9798" y="3965"/>
                  </a:cubicBezTo>
                  <a:cubicBezTo>
                    <a:pt x="10870" y="3965"/>
                    <a:pt x="11943" y="4501"/>
                    <a:pt x="13552" y="5038"/>
                  </a:cubicBezTo>
                  <a:cubicBezTo>
                    <a:pt x="15161" y="5574"/>
                    <a:pt x="22671" y="5574"/>
                    <a:pt x="24280" y="5038"/>
                  </a:cubicBezTo>
                  <a:cubicBezTo>
                    <a:pt x="25353" y="4501"/>
                    <a:pt x="26962" y="3965"/>
                    <a:pt x="28035" y="3965"/>
                  </a:cubicBezTo>
                  <a:cubicBezTo>
                    <a:pt x="29644" y="3429"/>
                    <a:pt x="31789" y="3965"/>
                    <a:pt x="33398" y="3965"/>
                  </a:cubicBezTo>
                  <a:cubicBezTo>
                    <a:pt x="35008" y="3965"/>
                    <a:pt x="36080" y="3429"/>
                    <a:pt x="37690" y="2892"/>
                  </a:cubicBezTo>
                  <a:cubicBezTo>
                    <a:pt x="38226" y="2892"/>
                    <a:pt x="38226" y="2356"/>
                    <a:pt x="38762" y="2356"/>
                  </a:cubicBezTo>
                  <a:cubicBezTo>
                    <a:pt x="39299" y="1283"/>
                    <a:pt x="38226" y="210"/>
                    <a:pt x="37153" y="210"/>
                  </a:cubicBezTo>
                  <a:close/>
                </a:path>
              </a:pathLst>
            </a:custGeom>
            <a:solidFill>
              <a:srgbClr val="231f20"/>
            </a:solidFill>
            <a:ln w="0">
              <a:noFill/>
            </a:ln>
          </p:spPr>
          <p:style>
            <a:lnRef idx="0"/>
            <a:fillRef idx="0"/>
            <a:effectRef idx="0"/>
            <a:fontRef idx="minor"/>
          </p:style>
          <p:txBody>
            <a:bodyPr lIns="90000" rIns="90000" tIns="-42840" bIns="-42840" anchor="ctr">
              <a:noAutofit/>
            </a:bodyPr>
            <a:p>
              <a:endParaRPr b="0" lang="en-US" sz="1800" spc="-1" strike="noStrike">
                <a:solidFill>
                  <a:srgbClr val="313c3f"/>
                </a:solidFill>
                <a:latin typeface="Source Sans Pro"/>
              </a:endParaRPr>
            </a:p>
          </p:txBody>
        </p:sp>
        <p:sp>
          <p:nvSpPr>
            <p:cNvPr id="2707" name="Freeform: Shape 518"/>
            <p:cNvSpPr/>
            <p:nvPr/>
          </p:nvSpPr>
          <p:spPr>
            <a:xfrm>
              <a:off x="9479160" y="2071800"/>
              <a:ext cx="5400" cy="12600"/>
            </a:xfrm>
            <a:custGeom>
              <a:avLst/>
              <a:gdLst/>
              <a:ahLst/>
              <a:rect l="l" t="t" r="r" b="b"/>
              <a:pathLst>
                <a:path w="7119" h="16627">
                  <a:moveTo>
                    <a:pt x="6973" y="8582"/>
                  </a:moveTo>
                  <a:cubicBezTo>
                    <a:pt x="7509" y="10191"/>
                    <a:pt x="6437" y="12337"/>
                    <a:pt x="5900" y="13410"/>
                  </a:cubicBezTo>
                  <a:cubicBezTo>
                    <a:pt x="4827" y="14482"/>
                    <a:pt x="3755" y="15019"/>
                    <a:pt x="3218" y="15555"/>
                  </a:cubicBezTo>
                  <a:cubicBezTo>
                    <a:pt x="2146" y="16091"/>
                    <a:pt x="1609" y="16091"/>
                    <a:pt x="1073" y="16628"/>
                  </a:cubicBezTo>
                  <a:cubicBezTo>
                    <a:pt x="536" y="16628"/>
                    <a:pt x="0" y="16628"/>
                    <a:pt x="0" y="16628"/>
                  </a:cubicBezTo>
                  <a:cubicBezTo>
                    <a:pt x="0" y="16628"/>
                    <a:pt x="0" y="16628"/>
                    <a:pt x="536" y="16091"/>
                  </a:cubicBezTo>
                  <a:cubicBezTo>
                    <a:pt x="1073" y="15555"/>
                    <a:pt x="1609" y="15019"/>
                    <a:pt x="2146" y="14482"/>
                  </a:cubicBezTo>
                  <a:cubicBezTo>
                    <a:pt x="3218" y="13410"/>
                    <a:pt x="4827" y="11264"/>
                    <a:pt x="4827" y="9118"/>
                  </a:cubicBezTo>
                  <a:cubicBezTo>
                    <a:pt x="4291" y="6973"/>
                    <a:pt x="2146" y="4827"/>
                    <a:pt x="1073" y="3218"/>
                  </a:cubicBezTo>
                  <a:cubicBezTo>
                    <a:pt x="536" y="2146"/>
                    <a:pt x="0" y="1609"/>
                    <a:pt x="0" y="1073"/>
                  </a:cubicBezTo>
                  <a:cubicBezTo>
                    <a:pt x="0" y="536"/>
                    <a:pt x="0" y="0"/>
                    <a:pt x="0" y="0"/>
                  </a:cubicBezTo>
                  <a:cubicBezTo>
                    <a:pt x="0" y="0"/>
                    <a:pt x="536" y="1073"/>
                    <a:pt x="2146" y="2146"/>
                  </a:cubicBezTo>
                  <a:cubicBezTo>
                    <a:pt x="2682" y="2682"/>
                    <a:pt x="3755" y="3218"/>
                    <a:pt x="4827" y="4291"/>
                  </a:cubicBezTo>
                  <a:cubicBezTo>
                    <a:pt x="5364" y="5364"/>
                    <a:pt x="6437" y="6973"/>
                    <a:pt x="6973" y="8582"/>
                  </a:cubicBezTo>
                  <a:close/>
                </a:path>
              </a:pathLst>
            </a:custGeom>
            <a:solidFill>
              <a:srgbClr val="bc8c68"/>
            </a:solidFill>
            <a:ln w="0">
              <a:noFill/>
            </a:ln>
          </p:spPr>
          <p:style>
            <a:lnRef idx="0"/>
            <a:fillRef idx="0"/>
            <a:effectRef idx="0"/>
            <a:fontRef idx="minor"/>
          </p:style>
          <p:txBody>
            <a:bodyPr lIns="90000" rIns="90000" tIns="-34200" bIns="-34200" anchor="ctr">
              <a:noAutofit/>
            </a:bodyPr>
            <a:p>
              <a:endParaRPr b="0" lang="en-US" sz="1800" spc="-1" strike="noStrike">
                <a:solidFill>
                  <a:srgbClr val="313c3f"/>
                </a:solidFill>
                <a:latin typeface="Source Sans Pro"/>
              </a:endParaRPr>
            </a:p>
          </p:txBody>
        </p:sp>
        <p:sp>
          <p:nvSpPr>
            <p:cNvPr id="2708" name="Freeform: Shape 519"/>
            <p:cNvSpPr/>
            <p:nvPr/>
          </p:nvSpPr>
          <p:spPr>
            <a:xfrm>
              <a:off x="9441720" y="2073240"/>
              <a:ext cx="4680" cy="11520"/>
            </a:xfrm>
            <a:custGeom>
              <a:avLst/>
              <a:gdLst/>
              <a:ahLst/>
              <a:rect l="l" t="t" r="r" b="b"/>
              <a:pathLst>
                <a:path w="6436" h="15018">
                  <a:moveTo>
                    <a:pt x="2682" y="8582"/>
                  </a:moveTo>
                  <a:cubicBezTo>
                    <a:pt x="2682" y="10728"/>
                    <a:pt x="3755" y="12337"/>
                    <a:pt x="4827" y="13410"/>
                  </a:cubicBezTo>
                  <a:cubicBezTo>
                    <a:pt x="5364" y="13946"/>
                    <a:pt x="5900" y="14482"/>
                    <a:pt x="5900" y="14482"/>
                  </a:cubicBezTo>
                  <a:cubicBezTo>
                    <a:pt x="6437" y="14482"/>
                    <a:pt x="6437" y="15019"/>
                    <a:pt x="6437" y="15019"/>
                  </a:cubicBezTo>
                  <a:cubicBezTo>
                    <a:pt x="6437" y="15019"/>
                    <a:pt x="6437" y="15019"/>
                    <a:pt x="5900" y="15019"/>
                  </a:cubicBezTo>
                  <a:cubicBezTo>
                    <a:pt x="5364" y="15019"/>
                    <a:pt x="4827" y="14482"/>
                    <a:pt x="3755" y="14482"/>
                  </a:cubicBezTo>
                  <a:cubicBezTo>
                    <a:pt x="2146" y="13410"/>
                    <a:pt x="536" y="11800"/>
                    <a:pt x="0" y="8582"/>
                  </a:cubicBezTo>
                  <a:cubicBezTo>
                    <a:pt x="0" y="5900"/>
                    <a:pt x="1073" y="3755"/>
                    <a:pt x="2146" y="2146"/>
                  </a:cubicBezTo>
                  <a:cubicBezTo>
                    <a:pt x="3218" y="1073"/>
                    <a:pt x="3755" y="0"/>
                    <a:pt x="3755" y="0"/>
                  </a:cubicBezTo>
                  <a:cubicBezTo>
                    <a:pt x="3755" y="0"/>
                    <a:pt x="3218" y="1073"/>
                    <a:pt x="3218" y="2682"/>
                  </a:cubicBezTo>
                  <a:cubicBezTo>
                    <a:pt x="2682" y="4291"/>
                    <a:pt x="2146" y="6437"/>
                    <a:pt x="2682" y="8582"/>
                  </a:cubicBezTo>
                  <a:close/>
                </a:path>
              </a:pathLst>
            </a:custGeom>
            <a:solidFill>
              <a:srgbClr val="bc8c68"/>
            </a:solidFill>
            <a:ln w="0">
              <a:noFill/>
            </a:ln>
          </p:spPr>
          <p:style>
            <a:lnRef idx="0"/>
            <a:fillRef idx="0"/>
            <a:effectRef idx="0"/>
            <a:fontRef idx="minor"/>
          </p:style>
          <p:txBody>
            <a:bodyPr lIns="90000" rIns="90000" tIns="-35280" bIns="-35280" anchor="ctr">
              <a:noAutofit/>
            </a:bodyPr>
            <a:p>
              <a:endParaRPr b="0" lang="en-US" sz="1800" spc="-1" strike="noStrike">
                <a:solidFill>
                  <a:srgbClr val="313c3f"/>
                </a:solidFill>
                <a:latin typeface="Source Sans Pro"/>
              </a:endParaRPr>
            </a:p>
          </p:txBody>
        </p:sp>
        <p:sp>
          <p:nvSpPr>
            <p:cNvPr id="2709" name="Freeform: Shape 520"/>
            <p:cNvSpPr/>
            <p:nvPr/>
          </p:nvSpPr>
          <p:spPr>
            <a:xfrm>
              <a:off x="9433440" y="2101320"/>
              <a:ext cx="61560" cy="9000"/>
            </a:xfrm>
            <a:custGeom>
              <a:avLst/>
              <a:gdLst/>
              <a:ahLst/>
              <a:rect l="l" t="t" r="r" b="b"/>
              <a:pathLst>
                <a:path w="79384" h="11906">
                  <a:moveTo>
                    <a:pt x="79385" y="10834"/>
                  </a:moveTo>
                  <a:cubicBezTo>
                    <a:pt x="77239" y="11371"/>
                    <a:pt x="74021" y="11371"/>
                    <a:pt x="71875" y="11371"/>
                  </a:cubicBezTo>
                  <a:cubicBezTo>
                    <a:pt x="48811" y="8689"/>
                    <a:pt x="25210" y="9225"/>
                    <a:pt x="1609" y="11907"/>
                  </a:cubicBezTo>
                  <a:cubicBezTo>
                    <a:pt x="1073" y="11907"/>
                    <a:pt x="536" y="11907"/>
                    <a:pt x="0" y="11907"/>
                  </a:cubicBezTo>
                  <a:cubicBezTo>
                    <a:pt x="0" y="11907"/>
                    <a:pt x="0" y="11907"/>
                    <a:pt x="0" y="11907"/>
                  </a:cubicBezTo>
                  <a:cubicBezTo>
                    <a:pt x="0" y="11907"/>
                    <a:pt x="0" y="11371"/>
                    <a:pt x="0" y="11371"/>
                  </a:cubicBezTo>
                  <a:cubicBezTo>
                    <a:pt x="6973" y="10834"/>
                    <a:pt x="13946" y="7080"/>
                    <a:pt x="20383" y="3325"/>
                  </a:cubicBezTo>
                  <a:cubicBezTo>
                    <a:pt x="20919" y="3325"/>
                    <a:pt x="21455" y="2788"/>
                    <a:pt x="21455" y="2788"/>
                  </a:cubicBezTo>
                  <a:cubicBezTo>
                    <a:pt x="25210" y="643"/>
                    <a:pt x="29501" y="106"/>
                    <a:pt x="33256" y="1716"/>
                  </a:cubicBezTo>
                  <a:cubicBezTo>
                    <a:pt x="35938" y="2788"/>
                    <a:pt x="38620" y="2788"/>
                    <a:pt x="41302" y="2252"/>
                  </a:cubicBezTo>
                  <a:cubicBezTo>
                    <a:pt x="43447" y="1716"/>
                    <a:pt x="45593" y="643"/>
                    <a:pt x="47738" y="106"/>
                  </a:cubicBezTo>
                  <a:cubicBezTo>
                    <a:pt x="50420" y="-430"/>
                    <a:pt x="53638" y="1179"/>
                    <a:pt x="55784" y="2252"/>
                  </a:cubicBezTo>
                  <a:cubicBezTo>
                    <a:pt x="63293" y="6007"/>
                    <a:pt x="71339" y="9761"/>
                    <a:pt x="79385" y="10834"/>
                  </a:cubicBezTo>
                  <a:close/>
                </a:path>
              </a:pathLst>
            </a:custGeom>
            <a:solidFill>
              <a:srgbClr val="bc8c68"/>
            </a:solidFill>
            <a:ln w="0">
              <a:noFill/>
            </a:ln>
          </p:spPr>
          <p:style>
            <a:lnRef idx="0"/>
            <a:fillRef idx="0"/>
            <a:effectRef idx="0"/>
            <a:fontRef idx="minor"/>
          </p:style>
          <p:txBody>
            <a:bodyPr lIns="90000" rIns="90000" tIns="-37800" bIns="-37800" anchor="ctr">
              <a:noAutofit/>
            </a:bodyPr>
            <a:p>
              <a:endParaRPr b="0" lang="en-US" sz="1800" spc="-1" strike="noStrike">
                <a:solidFill>
                  <a:srgbClr val="313c3f"/>
                </a:solidFill>
                <a:latin typeface="Source Sans Pro"/>
              </a:endParaRPr>
            </a:p>
          </p:txBody>
        </p:sp>
        <p:sp>
          <p:nvSpPr>
            <p:cNvPr id="2710" name="Freeform: Shape 521"/>
            <p:cNvSpPr/>
            <p:nvPr/>
          </p:nvSpPr>
          <p:spPr>
            <a:xfrm>
              <a:off x="9442440" y="2117160"/>
              <a:ext cx="39600" cy="5400"/>
            </a:xfrm>
            <a:custGeom>
              <a:avLst/>
              <a:gdLst/>
              <a:ahLst/>
              <a:rect l="l" t="t" r="r" b="b"/>
              <a:pathLst>
                <a:path w="51492" h="7177">
                  <a:moveTo>
                    <a:pt x="0" y="0"/>
                  </a:moveTo>
                  <a:cubicBezTo>
                    <a:pt x="3218" y="2146"/>
                    <a:pt x="25746" y="15019"/>
                    <a:pt x="-14043" y="0"/>
                  </a:cubicBezTo>
                  <a:cubicBezTo>
                    <a:pt x="-31207" y="4827"/>
                    <a:pt x="17164" y="5364"/>
                    <a:pt x="0" y="0"/>
                  </a:cubicBezTo>
                  <a:close/>
                </a:path>
              </a:pathLst>
            </a:custGeom>
            <a:solidFill>
              <a:srgbClr val="bc8c68"/>
            </a:solidFill>
            <a:ln w="0">
              <a:noFill/>
            </a:ln>
          </p:spPr>
          <p:style>
            <a:lnRef idx="0"/>
            <a:fillRef idx="0"/>
            <a:effectRef idx="0"/>
            <a:fontRef idx="minor"/>
          </p:style>
          <p:txBody>
            <a:bodyPr lIns="90000" rIns="90000" tIns="-41400" bIns="-41400" anchor="ctr">
              <a:noAutofit/>
            </a:bodyPr>
            <a:p>
              <a:endParaRPr b="0" lang="en-US" sz="1800" spc="-1" strike="noStrike">
                <a:solidFill>
                  <a:srgbClr val="313c3f"/>
                </a:solidFill>
                <a:latin typeface="Source Sans Pro"/>
              </a:endParaRPr>
            </a:p>
          </p:txBody>
        </p:sp>
        <p:sp>
          <p:nvSpPr>
            <p:cNvPr id="2711" name="Freeform: Shape 522"/>
            <p:cNvSpPr/>
            <p:nvPr/>
          </p:nvSpPr>
          <p:spPr>
            <a:xfrm>
              <a:off x="9374760" y="2013120"/>
              <a:ext cx="168120" cy="47520"/>
            </a:xfrm>
            <a:custGeom>
              <a:avLst/>
              <a:gdLst/>
              <a:ahLst/>
              <a:rect l="l" t="t" r="r" b="b"/>
              <a:pathLst>
                <a:path w="216873" h="61147">
                  <a:moveTo>
                    <a:pt x="216117" y="3218"/>
                  </a:moveTo>
                  <a:cubicBezTo>
                    <a:pt x="215044" y="1073"/>
                    <a:pt x="213972" y="0"/>
                    <a:pt x="211290" y="0"/>
                  </a:cubicBezTo>
                  <a:lnTo>
                    <a:pt x="204853" y="536"/>
                  </a:lnTo>
                  <a:lnTo>
                    <a:pt x="201635" y="536"/>
                  </a:lnTo>
                  <a:lnTo>
                    <a:pt x="154969" y="2682"/>
                  </a:lnTo>
                  <a:lnTo>
                    <a:pt x="135660" y="3755"/>
                  </a:lnTo>
                  <a:cubicBezTo>
                    <a:pt x="134587" y="3755"/>
                    <a:pt x="134051" y="3755"/>
                    <a:pt x="132978" y="4291"/>
                  </a:cubicBezTo>
                  <a:cubicBezTo>
                    <a:pt x="130832" y="4291"/>
                    <a:pt x="128687" y="4291"/>
                    <a:pt x="126541" y="4291"/>
                  </a:cubicBezTo>
                  <a:cubicBezTo>
                    <a:pt x="115813" y="4827"/>
                    <a:pt x="105622" y="4827"/>
                    <a:pt x="94895" y="5364"/>
                  </a:cubicBezTo>
                  <a:cubicBezTo>
                    <a:pt x="89531" y="5364"/>
                    <a:pt x="83630" y="5900"/>
                    <a:pt x="78267" y="5900"/>
                  </a:cubicBezTo>
                  <a:cubicBezTo>
                    <a:pt x="78267" y="5900"/>
                    <a:pt x="78803" y="5900"/>
                    <a:pt x="78803" y="5900"/>
                  </a:cubicBezTo>
                  <a:lnTo>
                    <a:pt x="73439" y="5900"/>
                  </a:lnTo>
                  <a:lnTo>
                    <a:pt x="20874" y="4827"/>
                  </a:lnTo>
                  <a:lnTo>
                    <a:pt x="16583" y="4827"/>
                  </a:lnTo>
                  <a:lnTo>
                    <a:pt x="5855" y="4827"/>
                  </a:lnTo>
                  <a:lnTo>
                    <a:pt x="5319" y="4827"/>
                  </a:lnTo>
                  <a:cubicBezTo>
                    <a:pt x="-1654" y="4827"/>
                    <a:pt x="-1118" y="15555"/>
                    <a:pt x="3173" y="23064"/>
                  </a:cubicBezTo>
                  <a:cubicBezTo>
                    <a:pt x="4782" y="25746"/>
                    <a:pt x="8537" y="25746"/>
                    <a:pt x="11219" y="26819"/>
                  </a:cubicBezTo>
                  <a:cubicBezTo>
                    <a:pt x="12292" y="27356"/>
                    <a:pt x="12828" y="27892"/>
                    <a:pt x="12828" y="28965"/>
                  </a:cubicBezTo>
                  <a:cubicBezTo>
                    <a:pt x="12828" y="28965"/>
                    <a:pt x="12828" y="30574"/>
                    <a:pt x="13364" y="33256"/>
                  </a:cubicBezTo>
                  <a:cubicBezTo>
                    <a:pt x="14437" y="39156"/>
                    <a:pt x="16583" y="49347"/>
                    <a:pt x="22483" y="55784"/>
                  </a:cubicBezTo>
                  <a:cubicBezTo>
                    <a:pt x="25165" y="58466"/>
                    <a:pt x="28383" y="60611"/>
                    <a:pt x="32674" y="61148"/>
                  </a:cubicBezTo>
                  <a:lnTo>
                    <a:pt x="67539" y="59002"/>
                  </a:lnTo>
                  <a:cubicBezTo>
                    <a:pt x="77730" y="59539"/>
                    <a:pt x="94895" y="53102"/>
                    <a:pt x="95431" y="42911"/>
                  </a:cubicBezTo>
                  <a:lnTo>
                    <a:pt x="98113" y="28428"/>
                  </a:lnTo>
                  <a:cubicBezTo>
                    <a:pt x="100258" y="24137"/>
                    <a:pt x="103477" y="19846"/>
                    <a:pt x="107768" y="19846"/>
                  </a:cubicBezTo>
                  <a:cubicBezTo>
                    <a:pt x="111522" y="19846"/>
                    <a:pt x="114741" y="19846"/>
                    <a:pt x="118495" y="24137"/>
                  </a:cubicBezTo>
                  <a:cubicBezTo>
                    <a:pt x="118495" y="24137"/>
                    <a:pt x="118495" y="24137"/>
                    <a:pt x="118495" y="24674"/>
                  </a:cubicBezTo>
                  <a:lnTo>
                    <a:pt x="122250" y="41301"/>
                  </a:lnTo>
                  <a:cubicBezTo>
                    <a:pt x="122786" y="51493"/>
                    <a:pt x="140487" y="57393"/>
                    <a:pt x="150678" y="56857"/>
                  </a:cubicBezTo>
                  <a:lnTo>
                    <a:pt x="185543" y="57929"/>
                  </a:lnTo>
                  <a:cubicBezTo>
                    <a:pt x="193589" y="56857"/>
                    <a:pt x="197880" y="50956"/>
                    <a:pt x="200562" y="43983"/>
                  </a:cubicBezTo>
                  <a:cubicBezTo>
                    <a:pt x="200562" y="43983"/>
                    <a:pt x="200562" y="43983"/>
                    <a:pt x="200562" y="43983"/>
                  </a:cubicBezTo>
                  <a:cubicBezTo>
                    <a:pt x="201098" y="42911"/>
                    <a:pt x="201635" y="41838"/>
                    <a:pt x="201635" y="40229"/>
                  </a:cubicBezTo>
                  <a:cubicBezTo>
                    <a:pt x="204317" y="32183"/>
                    <a:pt x="204317" y="25210"/>
                    <a:pt x="204317" y="25210"/>
                  </a:cubicBezTo>
                  <a:cubicBezTo>
                    <a:pt x="204317" y="22528"/>
                    <a:pt x="208608" y="22528"/>
                    <a:pt x="211826" y="20919"/>
                  </a:cubicBezTo>
                  <a:cubicBezTo>
                    <a:pt x="212899" y="20382"/>
                    <a:pt x="213435" y="19846"/>
                    <a:pt x="213972" y="19310"/>
                  </a:cubicBezTo>
                  <a:cubicBezTo>
                    <a:pt x="216654" y="13410"/>
                    <a:pt x="217726" y="6973"/>
                    <a:pt x="216117" y="3218"/>
                  </a:cubicBezTo>
                  <a:close/>
                  <a:moveTo>
                    <a:pt x="93285" y="26819"/>
                  </a:moveTo>
                  <a:lnTo>
                    <a:pt x="90067" y="42374"/>
                  </a:lnTo>
                  <a:lnTo>
                    <a:pt x="90067" y="42911"/>
                  </a:lnTo>
                  <a:cubicBezTo>
                    <a:pt x="90067" y="47202"/>
                    <a:pt x="81485" y="52029"/>
                    <a:pt x="72366" y="53638"/>
                  </a:cubicBezTo>
                  <a:cubicBezTo>
                    <a:pt x="70757" y="53638"/>
                    <a:pt x="69148" y="54175"/>
                    <a:pt x="68075" y="54175"/>
                  </a:cubicBezTo>
                  <a:lnTo>
                    <a:pt x="36429" y="55247"/>
                  </a:lnTo>
                  <a:cubicBezTo>
                    <a:pt x="28383" y="54711"/>
                    <a:pt x="24092" y="48811"/>
                    <a:pt x="21946" y="42911"/>
                  </a:cubicBezTo>
                  <a:cubicBezTo>
                    <a:pt x="21946" y="42911"/>
                    <a:pt x="21946" y="42911"/>
                    <a:pt x="21946" y="42911"/>
                  </a:cubicBezTo>
                  <a:cubicBezTo>
                    <a:pt x="21410" y="41838"/>
                    <a:pt x="20874" y="40765"/>
                    <a:pt x="20874" y="39692"/>
                  </a:cubicBezTo>
                  <a:cubicBezTo>
                    <a:pt x="19264" y="34865"/>
                    <a:pt x="19264" y="30574"/>
                    <a:pt x="19264" y="30574"/>
                  </a:cubicBezTo>
                  <a:cubicBezTo>
                    <a:pt x="19264" y="29501"/>
                    <a:pt x="18728" y="28428"/>
                    <a:pt x="18728" y="27892"/>
                  </a:cubicBezTo>
                  <a:cubicBezTo>
                    <a:pt x="18728" y="25210"/>
                    <a:pt x="18728" y="23064"/>
                    <a:pt x="19264" y="20919"/>
                  </a:cubicBezTo>
                  <a:cubicBezTo>
                    <a:pt x="19801" y="18773"/>
                    <a:pt x="20337" y="17164"/>
                    <a:pt x="21410" y="16091"/>
                  </a:cubicBezTo>
                  <a:cubicBezTo>
                    <a:pt x="22483" y="14482"/>
                    <a:pt x="24092" y="13410"/>
                    <a:pt x="25165" y="13410"/>
                  </a:cubicBezTo>
                  <a:cubicBezTo>
                    <a:pt x="26774" y="12873"/>
                    <a:pt x="28919" y="12337"/>
                    <a:pt x="31065" y="12337"/>
                  </a:cubicBezTo>
                  <a:lnTo>
                    <a:pt x="82021" y="12873"/>
                  </a:lnTo>
                  <a:cubicBezTo>
                    <a:pt x="85240" y="12873"/>
                    <a:pt x="88458" y="14482"/>
                    <a:pt x="91140" y="16628"/>
                  </a:cubicBezTo>
                  <a:cubicBezTo>
                    <a:pt x="91140" y="17164"/>
                    <a:pt x="91676" y="17164"/>
                    <a:pt x="91676" y="17701"/>
                  </a:cubicBezTo>
                  <a:cubicBezTo>
                    <a:pt x="93285" y="19310"/>
                    <a:pt x="93822" y="23064"/>
                    <a:pt x="93285" y="26819"/>
                  </a:cubicBezTo>
                  <a:close/>
                  <a:moveTo>
                    <a:pt x="198417" y="25210"/>
                  </a:moveTo>
                  <a:cubicBezTo>
                    <a:pt x="198417" y="25210"/>
                    <a:pt x="197880" y="49347"/>
                    <a:pt x="181789" y="50956"/>
                  </a:cubicBezTo>
                  <a:lnTo>
                    <a:pt x="150142" y="50956"/>
                  </a:lnTo>
                  <a:cubicBezTo>
                    <a:pt x="149069" y="50956"/>
                    <a:pt x="147460" y="50956"/>
                    <a:pt x="145851" y="50956"/>
                  </a:cubicBezTo>
                  <a:cubicBezTo>
                    <a:pt x="136732" y="49884"/>
                    <a:pt x="128150" y="45056"/>
                    <a:pt x="128150" y="40765"/>
                  </a:cubicBezTo>
                  <a:lnTo>
                    <a:pt x="128150" y="40229"/>
                  </a:lnTo>
                  <a:lnTo>
                    <a:pt x="124932" y="24674"/>
                  </a:lnTo>
                  <a:cubicBezTo>
                    <a:pt x="124396" y="20919"/>
                    <a:pt x="124932" y="17164"/>
                    <a:pt x="127078" y="14482"/>
                  </a:cubicBezTo>
                  <a:cubicBezTo>
                    <a:pt x="127078" y="13946"/>
                    <a:pt x="127614" y="13946"/>
                    <a:pt x="127614" y="13410"/>
                  </a:cubicBezTo>
                  <a:cubicBezTo>
                    <a:pt x="128687" y="12337"/>
                    <a:pt x="129759" y="11264"/>
                    <a:pt x="130832" y="10728"/>
                  </a:cubicBezTo>
                  <a:cubicBezTo>
                    <a:pt x="132441" y="9655"/>
                    <a:pt x="134587" y="9118"/>
                    <a:pt x="136732" y="9118"/>
                  </a:cubicBezTo>
                  <a:lnTo>
                    <a:pt x="140487" y="9118"/>
                  </a:lnTo>
                  <a:lnTo>
                    <a:pt x="187152" y="6973"/>
                  </a:lnTo>
                  <a:cubicBezTo>
                    <a:pt x="189298" y="6973"/>
                    <a:pt x="190907" y="7509"/>
                    <a:pt x="193053" y="8046"/>
                  </a:cubicBezTo>
                  <a:cubicBezTo>
                    <a:pt x="195735" y="9118"/>
                    <a:pt x="199489" y="11800"/>
                    <a:pt x="199489" y="22528"/>
                  </a:cubicBezTo>
                  <a:cubicBezTo>
                    <a:pt x="198953" y="23064"/>
                    <a:pt x="198953" y="24137"/>
                    <a:pt x="198417" y="25210"/>
                  </a:cubicBezTo>
                  <a:close/>
                </a:path>
              </a:pathLst>
            </a:custGeom>
            <a:solidFill>
              <a:srgbClr val="231f20"/>
            </a:solidFill>
            <a:ln w="0">
              <a:noFill/>
            </a:ln>
          </p:spPr>
          <p:style>
            <a:lnRef idx="0"/>
            <a:fillRef idx="0"/>
            <a:effectRef idx="0"/>
            <a:fontRef idx="minor"/>
          </p:style>
          <p:txBody>
            <a:bodyPr lIns="90000" rIns="90000" tIns="720" bIns="720" anchor="ctr">
              <a:noAutofit/>
            </a:bodyPr>
            <a:p>
              <a:endParaRPr b="0" lang="en-US" sz="1800" spc="-1" strike="noStrike">
                <a:solidFill>
                  <a:srgbClr val="313c3f"/>
                </a:solidFill>
                <a:latin typeface="Source Sans Pro"/>
              </a:endParaRPr>
            </a:p>
          </p:txBody>
        </p:sp>
        <p:sp>
          <p:nvSpPr>
            <p:cNvPr id="2712" name="Freeform: Shape 523"/>
            <p:cNvSpPr/>
            <p:nvPr/>
          </p:nvSpPr>
          <p:spPr>
            <a:xfrm>
              <a:off x="9362520" y="1897920"/>
              <a:ext cx="185040" cy="159840"/>
            </a:xfrm>
            <a:custGeom>
              <a:avLst/>
              <a:gdLst/>
              <a:ahLst/>
              <a:rect l="l" t="t" r="r" b="b"/>
              <a:pathLst>
                <a:path w="238900" h="206028">
                  <a:moveTo>
                    <a:pt x="214017" y="62167"/>
                  </a:moveTo>
                  <a:cubicBezTo>
                    <a:pt x="216162" y="50367"/>
                    <a:pt x="212408" y="36957"/>
                    <a:pt x="203826" y="28375"/>
                  </a:cubicBezTo>
                  <a:cubicBezTo>
                    <a:pt x="198998" y="23011"/>
                    <a:pt x="192562" y="19257"/>
                    <a:pt x="186661" y="15502"/>
                  </a:cubicBezTo>
                  <a:cubicBezTo>
                    <a:pt x="174861" y="9065"/>
                    <a:pt x="162524" y="3165"/>
                    <a:pt x="149115" y="1020"/>
                  </a:cubicBezTo>
                  <a:cubicBezTo>
                    <a:pt x="135705" y="-1126"/>
                    <a:pt x="121759" y="-53"/>
                    <a:pt x="109959" y="5847"/>
                  </a:cubicBezTo>
                  <a:cubicBezTo>
                    <a:pt x="93867" y="-1662"/>
                    <a:pt x="74557" y="3701"/>
                    <a:pt x="59002" y="11747"/>
                  </a:cubicBezTo>
                  <a:cubicBezTo>
                    <a:pt x="28428" y="27839"/>
                    <a:pt x="3218" y="57340"/>
                    <a:pt x="0" y="91668"/>
                  </a:cubicBezTo>
                  <a:cubicBezTo>
                    <a:pt x="2146" y="83623"/>
                    <a:pt x="6437" y="76113"/>
                    <a:pt x="11800" y="70213"/>
                  </a:cubicBezTo>
                  <a:cubicBezTo>
                    <a:pt x="3755" y="92741"/>
                    <a:pt x="10191" y="126533"/>
                    <a:pt x="19846" y="147452"/>
                  </a:cubicBezTo>
                  <a:cubicBezTo>
                    <a:pt x="29501" y="168907"/>
                    <a:pt x="25746" y="184463"/>
                    <a:pt x="35938" y="205918"/>
                  </a:cubicBezTo>
                  <a:cubicBezTo>
                    <a:pt x="38620" y="206454"/>
                    <a:pt x="36474" y="204845"/>
                    <a:pt x="39156" y="205382"/>
                  </a:cubicBezTo>
                  <a:cubicBezTo>
                    <a:pt x="37547" y="186072"/>
                    <a:pt x="37010" y="165689"/>
                    <a:pt x="37547" y="146916"/>
                  </a:cubicBezTo>
                  <a:cubicBezTo>
                    <a:pt x="37547" y="135115"/>
                    <a:pt x="37547" y="129215"/>
                    <a:pt x="43983" y="119560"/>
                  </a:cubicBezTo>
                  <a:cubicBezTo>
                    <a:pt x="57929" y="98105"/>
                    <a:pt x="127123" y="92205"/>
                    <a:pt x="139460" y="104005"/>
                  </a:cubicBezTo>
                  <a:cubicBezTo>
                    <a:pt x="155551" y="101860"/>
                    <a:pt x="171643" y="93277"/>
                    <a:pt x="182907" y="81477"/>
                  </a:cubicBezTo>
                  <a:cubicBezTo>
                    <a:pt x="192562" y="88450"/>
                    <a:pt x="202753" y="96496"/>
                    <a:pt x="209190" y="106687"/>
                  </a:cubicBezTo>
                  <a:cubicBezTo>
                    <a:pt x="214553" y="114733"/>
                    <a:pt x="215090" y="125460"/>
                    <a:pt x="216699" y="135115"/>
                  </a:cubicBezTo>
                  <a:cubicBezTo>
                    <a:pt x="220990" y="158180"/>
                    <a:pt x="217772" y="175344"/>
                    <a:pt x="216699" y="198945"/>
                  </a:cubicBezTo>
                  <a:cubicBezTo>
                    <a:pt x="221526" y="197872"/>
                    <a:pt x="223672" y="196263"/>
                    <a:pt x="223672" y="196263"/>
                  </a:cubicBezTo>
                  <a:cubicBezTo>
                    <a:pt x="223672" y="196263"/>
                    <a:pt x="226354" y="183926"/>
                    <a:pt x="225817" y="181781"/>
                  </a:cubicBezTo>
                  <a:cubicBezTo>
                    <a:pt x="225817" y="173735"/>
                    <a:pt x="240836" y="132970"/>
                    <a:pt x="238691" y="106687"/>
                  </a:cubicBezTo>
                  <a:cubicBezTo>
                    <a:pt x="238154" y="100250"/>
                    <a:pt x="237618" y="94350"/>
                    <a:pt x="236009" y="88450"/>
                  </a:cubicBezTo>
                  <a:cubicBezTo>
                    <a:pt x="231718" y="76650"/>
                    <a:pt x="224208" y="66995"/>
                    <a:pt x="214017" y="62167"/>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13" name="Freeform: Shape 524"/>
            <p:cNvSpPr/>
            <p:nvPr/>
          </p:nvSpPr>
          <p:spPr>
            <a:xfrm>
              <a:off x="9423000" y="2106000"/>
              <a:ext cx="104400" cy="98640"/>
            </a:xfrm>
            <a:custGeom>
              <a:avLst/>
              <a:gdLst/>
              <a:ahLst/>
              <a:rect l="l" t="t" r="r" b="b"/>
              <a:pathLst>
                <a:path w="134632" h="127122">
                  <a:moveTo>
                    <a:pt x="134632" y="45056"/>
                  </a:moveTo>
                  <a:cubicBezTo>
                    <a:pt x="111568" y="64902"/>
                    <a:pt x="88503" y="85285"/>
                    <a:pt x="65439" y="105131"/>
                  </a:cubicBezTo>
                  <a:cubicBezTo>
                    <a:pt x="63830" y="106740"/>
                    <a:pt x="62220" y="107813"/>
                    <a:pt x="60611" y="109422"/>
                  </a:cubicBezTo>
                  <a:cubicBezTo>
                    <a:pt x="56320" y="113713"/>
                    <a:pt x="52566" y="119077"/>
                    <a:pt x="53102" y="124977"/>
                  </a:cubicBezTo>
                  <a:cubicBezTo>
                    <a:pt x="53102" y="125514"/>
                    <a:pt x="53102" y="125514"/>
                    <a:pt x="53102" y="126050"/>
                  </a:cubicBezTo>
                  <a:cubicBezTo>
                    <a:pt x="50956" y="126050"/>
                    <a:pt x="48811" y="126586"/>
                    <a:pt x="46129" y="127123"/>
                  </a:cubicBezTo>
                  <a:cubicBezTo>
                    <a:pt x="43447" y="123368"/>
                    <a:pt x="40229" y="119077"/>
                    <a:pt x="37010" y="115859"/>
                  </a:cubicBezTo>
                  <a:cubicBezTo>
                    <a:pt x="34329" y="112640"/>
                    <a:pt x="31110" y="109959"/>
                    <a:pt x="27356" y="107813"/>
                  </a:cubicBezTo>
                  <a:cubicBezTo>
                    <a:pt x="24674" y="106204"/>
                    <a:pt x="21455" y="104595"/>
                    <a:pt x="18237" y="103522"/>
                  </a:cubicBezTo>
                  <a:cubicBezTo>
                    <a:pt x="14482" y="101913"/>
                    <a:pt x="10728" y="100304"/>
                    <a:pt x="6973" y="98694"/>
                  </a:cubicBezTo>
                  <a:cubicBezTo>
                    <a:pt x="5900" y="89040"/>
                    <a:pt x="4827" y="78848"/>
                    <a:pt x="3218" y="68657"/>
                  </a:cubicBezTo>
                  <a:cubicBezTo>
                    <a:pt x="2682" y="65439"/>
                    <a:pt x="2146" y="61684"/>
                    <a:pt x="1609" y="58466"/>
                  </a:cubicBezTo>
                  <a:cubicBezTo>
                    <a:pt x="1073" y="55248"/>
                    <a:pt x="536" y="51493"/>
                    <a:pt x="0" y="48274"/>
                  </a:cubicBezTo>
                  <a:cubicBezTo>
                    <a:pt x="3218" y="52029"/>
                    <a:pt x="6973" y="55784"/>
                    <a:pt x="10191" y="57393"/>
                  </a:cubicBezTo>
                  <a:cubicBezTo>
                    <a:pt x="28428" y="68657"/>
                    <a:pt x="30037" y="65975"/>
                    <a:pt x="52566" y="65439"/>
                  </a:cubicBezTo>
                  <a:cubicBezTo>
                    <a:pt x="59002" y="65439"/>
                    <a:pt x="76703" y="70803"/>
                    <a:pt x="101913" y="47202"/>
                  </a:cubicBezTo>
                  <a:cubicBezTo>
                    <a:pt x="106740" y="42374"/>
                    <a:pt x="118541" y="26819"/>
                    <a:pt x="128732" y="8582"/>
                  </a:cubicBezTo>
                  <a:cubicBezTo>
                    <a:pt x="130341" y="5900"/>
                    <a:pt x="131950" y="2682"/>
                    <a:pt x="133559" y="0"/>
                  </a:cubicBezTo>
                  <a:cubicBezTo>
                    <a:pt x="133559" y="7509"/>
                    <a:pt x="134096" y="14482"/>
                    <a:pt x="134096" y="21992"/>
                  </a:cubicBezTo>
                  <a:cubicBezTo>
                    <a:pt x="134096" y="23601"/>
                    <a:pt x="134096" y="25746"/>
                    <a:pt x="134096" y="27356"/>
                  </a:cubicBezTo>
                  <a:cubicBezTo>
                    <a:pt x="134096" y="33792"/>
                    <a:pt x="134632" y="39156"/>
                    <a:pt x="134632" y="45056"/>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14" name="Freeform: Shape 525"/>
            <p:cNvSpPr/>
            <p:nvPr/>
          </p:nvSpPr>
          <p:spPr>
            <a:xfrm>
              <a:off x="9376200" y="2168640"/>
              <a:ext cx="168480" cy="351720"/>
            </a:xfrm>
            <a:custGeom>
              <a:avLst/>
              <a:gdLst/>
              <a:ahLst/>
              <a:rect l="l" t="t" r="r" b="b"/>
              <a:pathLst>
                <a:path w="217484" h="452707">
                  <a:moveTo>
                    <a:pt x="217485" y="0"/>
                  </a:moveTo>
                  <a:cubicBezTo>
                    <a:pt x="217485" y="536"/>
                    <a:pt x="217485" y="536"/>
                    <a:pt x="217485" y="0"/>
                  </a:cubicBezTo>
                  <a:cubicBezTo>
                    <a:pt x="204612" y="32719"/>
                    <a:pt x="191739" y="64366"/>
                    <a:pt x="177256" y="96013"/>
                  </a:cubicBezTo>
                  <a:cubicBezTo>
                    <a:pt x="169210" y="114250"/>
                    <a:pt x="160628" y="131950"/>
                    <a:pt x="152583" y="150187"/>
                  </a:cubicBezTo>
                  <a:cubicBezTo>
                    <a:pt x="144537" y="168961"/>
                    <a:pt x="137564" y="187734"/>
                    <a:pt x="130054" y="207044"/>
                  </a:cubicBezTo>
                  <a:cubicBezTo>
                    <a:pt x="122545" y="226890"/>
                    <a:pt x="115036" y="246736"/>
                    <a:pt x="107526" y="266046"/>
                  </a:cubicBezTo>
                  <a:cubicBezTo>
                    <a:pt x="88217" y="317539"/>
                    <a:pt x="68370" y="369032"/>
                    <a:pt x="49061" y="420524"/>
                  </a:cubicBezTo>
                  <a:cubicBezTo>
                    <a:pt x="46915" y="426961"/>
                    <a:pt x="44233" y="432861"/>
                    <a:pt x="41551" y="438762"/>
                  </a:cubicBezTo>
                  <a:cubicBezTo>
                    <a:pt x="39406" y="443053"/>
                    <a:pt x="37796" y="447880"/>
                    <a:pt x="36187" y="452707"/>
                  </a:cubicBezTo>
                  <a:cubicBezTo>
                    <a:pt x="36187" y="452171"/>
                    <a:pt x="36187" y="451098"/>
                    <a:pt x="35651" y="450562"/>
                  </a:cubicBezTo>
                  <a:cubicBezTo>
                    <a:pt x="29751" y="418915"/>
                    <a:pt x="22778" y="387269"/>
                    <a:pt x="16878" y="355622"/>
                  </a:cubicBezTo>
                  <a:cubicBezTo>
                    <a:pt x="5613" y="298229"/>
                    <a:pt x="-3505" y="240300"/>
                    <a:pt x="1322" y="182370"/>
                  </a:cubicBezTo>
                  <a:cubicBezTo>
                    <a:pt x="1322" y="179152"/>
                    <a:pt x="1859" y="176470"/>
                    <a:pt x="2395" y="173252"/>
                  </a:cubicBezTo>
                  <a:cubicBezTo>
                    <a:pt x="2932" y="168961"/>
                    <a:pt x="3468" y="164670"/>
                    <a:pt x="4004" y="160379"/>
                  </a:cubicBezTo>
                  <a:cubicBezTo>
                    <a:pt x="9905" y="116395"/>
                    <a:pt x="23851" y="74021"/>
                    <a:pt x="43697" y="34865"/>
                  </a:cubicBezTo>
                  <a:cubicBezTo>
                    <a:pt x="43697" y="34865"/>
                    <a:pt x="43697" y="35401"/>
                    <a:pt x="43697" y="35401"/>
                  </a:cubicBezTo>
                  <a:cubicBezTo>
                    <a:pt x="44233" y="38083"/>
                    <a:pt x="45306" y="40229"/>
                    <a:pt x="46915" y="42911"/>
                  </a:cubicBezTo>
                  <a:cubicBezTo>
                    <a:pt x="47451" y="43447"/>
                    <a:pt x="47988" y="44520"/>
                    <a:pt x="47988" y="45593"/>
                  </a:cubicBezTo>
                  <a:cubicBezTo>
                    <a:pt x="56034" y="60075"/>
                    <a:pt x="62470" y="75630"/>
                    <a:pt x="67298" y="91722"/>
                  </a:cubicBezTo>
                  <a:cubicBezTo>
                    <a:pt x="67298" y="79921"/>
                    <a:pt x="69979" y="67048"/>
                    <a:pt x="78562" y="58466"/>
                  </a:cubicBezTo>
                  <a:cubicBezTo>
                    <a:pt x="87144" y="49884"/>
                    <a:pt x="95189" y="49884"/>
                    <a:pt x="106990" y="47738"/>
                  </a:cubicBezTo>
                  <a:cubicBezTo>
                    <a:pt x="109135" y="47738"/>
                    <a:pt x="111281" y="47202"/>
                    <a:pt x="113963" y="46665"/>
                  </a:cubicBezTo>
                  <a:cubicBezTo>
                    <a:pt x="113963" y="46129"/>
                    <a:pt x="113963" y="46129"/>
                    <a:pt x="113963" y="45593"/>
                  </a:cubicBezTo>
                  <a:cubicBezTo>
                    <a:pt x="117181" y="43447"/>
                    <a:pt x="120936" y="43983"/>
                    <a:pt x="124154" y="43447"/>
                  </a:cubicBezTo>
                  <a:cubicBezTo>
                    <a:pt x="129518" y="42374"/>
                    <a:pt x="135418" y="43983"/>
                    <a:pt x="138637" y="48274"/>
                  </a:cubicBezTo>
                  <a:cubicBezTo>
                    <a:pt x="147219" y="58466"/>
                    <a:pt x="155264" y="69193"/>
                    <a:pt x="161701" y="80994"/>
                  </a:cubicBezTo>
                  <a:cubicBezTo>
                    <a:pt x="162774" y="82603"/>
                    <a:pt x="163310" y="84212"/>
                    <a:pt x="164383" y="85821"/>
                  </a:cubicBezTo>
                  <a:cubicBezTo>
                    <a:pt x="182084" y="56857"/>
                    <a:pt x="199784" y="28428"/>
                    <a:pt x="217485" y="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15" name="Freeform: Shape 526"/>
            <p:cNvSpPr/>
            <p:nvPr/>
          </p:nvSpPr>
          <p:spPr>
            <a:xfrm>
              <a:off x="9544320" y="2153160"/>
              <a:ext cx="2880" cy="7200"/>
            </a:xfrm>
            <a:custGeom>
              <a:avLst/>
              <a:gdLst/>
              <a:ahLst/>
              <a:rect l="l" t="t" r="r" b="b"/>
              <a:pathLst>
                <a:path w="3754" h="9654">
                  <a:moveTo>
                    <a:pt x="3755" y="9655"/>
                  </a:moveTo>
                  <a:cubicBezTo>
                    <a:pt x="3755" y="9118"/>
                    <a:pt x="3218" y="8582"/>
                    <a:pt x="3218" y="8046"/>
                  </a:cubicBezTo>
                  <a:cubicBezTo>
                    <a:pt x="2146" y="5364"/>
                    <a:pt x="1073" y="2682"/>
                    <a:pt x="0" y="0"/>
                  </a:cubicBezTo>
                  <a:cubicBezTo>
                    <a:pt x="2146" y="1609"/>
                    <a:pt x="3755" y="4291"/>
                    <a:pt x="3755" y="6973"/>
                  </a:cubicBezTo>
                  <a:cubicBezTo>
                    <a:pt x="3755" y="7509"/>
                    <a:pt x="3755" y="8582"/>
                    <a:pt x="3755" y="9655"/>
                  </a:cubicBezTo>
                  <a:close/>
                </a:path>
              </a:pathLst>
            </a:custGeom>
            <a:solidFill>
              <a:srgbClr val="bcbec0"/>
            </a:solidFill>
            <a:ln w="0">
              <a:noFill/>
            </a:ln>
          </p:spPr>
          <p:style>
            <a:lnRef idx="0"/>
            <a:fillRef idx="0"/>
            <a:effectRef idx="0"/>
            <a:fontRef idx="minor"/>
          </p:style>
          <p:txBody>
            <a:bodyPr lIns="90000" rIns="90000" tIns="-39600" bIns="-39600" anchor="ctr">
              <a:noAutofit/>
            </a:bodyPr>
            <a:p>
              <a:endParaRPr b="0" lang="en-US" sz="1800" spc="-1" strike="noStrike">
                <a:solidFill>
                  <a:srgbClr val="313c3f"/>
                </a:solidFill>
                <a:latin typeface="Source Sans Pro"/>
              </a:endParaRPr>
            </a:p>
          </p:txBody>
        </p:sp>
        <p:sp>
          <p:nvSpPr>
            <p:cNvPr id="2716" name="Freeform: Shape 527"/>
            <p:cNvSpPr/>
            <p:nvPr/>
          </p:nvSpPr>
          <p:spPr>
            <a:xfrm>
              <a:off x="9438120" y="2201400"/>
              <a:ext cx="51840" cy="32040"/>
            </a:xfrm>
            <a:custGeom>
              <a:avLst/>
              <a:gdLst/>
              <a:ahLst/>
              <a:rect l="l" t="t" r="r" b="b"/>
              <a:pathLst>
                <a:path w="67047" h="41623">
                  <a:moveTo>
                    <a:pt x="67048" y="16413"/>
                  </a:moveTo>
                  <a:cubicBezTo>
                    <a:pt x="59002" y="21777"/>
                    <a:pt x="50956" y="26068"/>
                    <a:pt x="44520" y="33578"/>
                  </a:cubicBezTo>
                  <a:cubicBezTo>
                    <a:pt x="42374" y="36260"/>
                    <a:pt x="39692" y="39478"/>
                    <a:pt x="36474" y="40551"/>
                  </a:cubicBezTo>
                  <a:cubicBezTo>
                    <a:pt x="34865" y="41087"/>
                    <a:pt x="32719" y="41087"/>
                    <a:pt x="30574" y="41087"/>
                  </a:cubicBezTo>
                  <a:cubicBezTo>
                    <a:pt x="26283" y="41087"/>
                    <a:pt x="21992" y="41087"/>
                    <a:pt x="17701" y="41623"/>
                  </a:cubicBezTo>
                  <a:cubicBezTo>
                    <a:pt x="17164" y="41623"/>
                    <a:pt x="16092" y="41623"/>
                    <a:pt x="15555" y="41087"/>
                  </a:cubicBezTo>
                  <a:cubicBezTo>
                    <a:pt x="14482" y="40551"/>
                    <a:pt x="13946" y="39478"/>
                    <a:pt x="13946" y="38941"/>
                  </a:cubicBezTo>
                  <a:cubicBezTo>
                    <a:pt x="10191" y="30359"/>
                    <a:pt x="5364" y="22314"/>
                    <a:pt x="0" y="14268"/>
                  </a:cubicBezTo>
                  <a:cubicBezTo>
                    <a:pt x="8046" y="6222"/>
                    <a:pt x="16092" y="6222"/>
                    <a:pt x="27892" y="4613"/>
                  </a:cubicBezTo>
                  <a:cubicBezTo>
                    <a:pt x="30037" y="4613"/>
                    <a:pt x="32183" y="4077"/>
                    <a:pt x="34865" y="3540"/>
                  </a:cubicBezTo>
                  <a:cubicBezTo>
                    <a:pt x="34865" y="3004"/>
                    <a:pt x="34865" y="3004"/>
                    <a:pt x="34865" y="2467"/>
                  </a:cubicBezTo>
                  <a:cubicBezTo>
                    <a:pt x="38083" y="322"/>
                    <a:pt x="41838" y="858"/>
                    <a:pt x="45056" y="322"/>
                  </a:cubicBezTo>
                  <a:cubicBezTo>
                    <a:pt x="50420" y="-751"/>
                    <a:pt x="56320" y="858"/>
                    <a:pt x="59539" y="5149"/>
                  </a:cubicBezTo>
                  <a:cubicBezTo>
                    <a:pt x="61684" y="9440"/>
                    <a:pt x="64366" y="12659"/>
                    <a:pt x="67048" y="16413"/>
                  </a:cubicBezTo>
                  <a:close/>
                </a:path>
              </a:pathLst>
            </a:custGeom>
            <a:solidFill>
              <a:srgbClr val="ed1c24"/>
            </a:solidFill>
            <a:ln w="0">
              <a:noFill/>
            </a:ln>
          </p:spPr>
          <p:style>
            <a:lnRef idx="0"/>
            <a:fillRef idx="0"/>
            <a:effectRef idx="0"/>
            <a:fontRef idx="minor"/>
          </p:style>
          <p:txBody>
            <a:bodyPr lIns="90000" rIns="90000" tIns="-14760" bIns="-14760" anchor="ctr">
              <a:noAutofit/>
            </a:bodyPr>
            <a:p>
              <a:endParaRPr b="0" lang="en-US" sz="1800" spc="-1" strike="noStrike">
                <a:solidFill>
                  <a:srgbClr val="313c3f"/>
                </a:solidFill>
                <a:latin typeface="Source Sans Pro"/>
              </a:endParaRPr>
            </a:p>
          </p:txBody>
        </p:sp>
        <p:sp>
          <p:nvSpPr>
            <p:cNvPr id="2717" name="Freeform: Shape 528"/>
            <p:cNvSpPr/>
            <p:nvPr/>
          </p:nvSpPr>
          <p:spPr>
            <a:xfrm>
              <a:off x="9389160" y="2219400"/>
              <a:ext cx="78120" cy="301320"/>
            </a:xfrm>
            <a:custGeom>
              <a:avLst/>
              <a:gdLst/>
              <a:ahLst/>
              <a:rect l="l" t="t" r="r" b="b"/>
              <a:pathLst>
                <a:path w="100851" h="388146">
                  <a:moveTo>
                    <a:pt x="93867" y="52907"/>
                  </a:moveTo>
                  <a:cubicBezTo>
                    <a:pt x="90112" y="79726"/>
                    <a:pt x="87431" y="176275"/>
                    <a:pt x="88503" y="181639"/>
                  </a:cubicBezTo>
                  <a:cubicBezTo>
                    <a:pt x="90112" y="190758"/>
                    <a:pt x="91185" y="194512"/>
                    <a:pt x="90649" y="201485"/>
                  </a:cubicBezTo>
                  <a:cubicBezTo>
                    <a:pt x="71339" y="252978"/>
                    <a:pt x="51493" y="304471"/>
                    <a:pt x="32183" y="355963"/>
                  </a:cubicBezTo>
                  <a:cubicBezTo>
                    <a:pt x="27892" y="367228"/>
                    <a:pt x="23065" y="376882"/>
                    <a:pt x="19310" y="388146"/>
                  </a:cubicBezTo>
                  <a:cubicBezTo>
                    <a:pt x="13410" y="355963"/>
                    <a:pt x="6437" y="323781"/>
                    <a:pt x="0" y="291061"/>
                  </a:cubicBezTo>
                  <a:cubicBezTo>
                    <a:pt x="3218" y="278188"/>
                    <a:pt x="6973" y="265315"/>
                    <a:pt x="10191" y="252442"/>
                  </a:cubicBezTo>
                  <a:cubicBezTo>
                    <a:pt x="16092" y="232059"/>
                    <a:pt x="21455" y="211676"/>
                    <a:pt x="27356" y="191294"/>
                  </a:cubicBezTo>
                  <a:cubicBezTo>
                    <a:pt x="37547" y="155356"/>
                    <a:pt x="47738" y="118882"/>
                    <a:pt x="57929" y="82944"/>
                  </a:cubicBezTo>
                  <a:cubicBezTo>
                    <a:pt x="62757" y="64707"/>
                    <a:pt x="68121" y="47007"/>
                    <a:pt x="72948" y="28770"/>
                  </a:cubicBezTo>
                  <a:cubicBezTo>
                    <a:pt x="74557" y="22333"/>
                    <a:pt x="76166" y="7851"/>
                    <a:pt x="80458" y="3023"/>
                  </a:cubicBezTo>
                  <a:cubicBezTo>
                    <a:pt x="82603" y="878"/>
                    <a:pt x="101376" y="-731"/>
                    <a:pt x="100840" y="341"/>
                  </a:cubicBezTo>
                  <a:cubicBezTo>
                    <a:pt x="98695" y="18042"/>
                    <a:pt x="96549" y="35743"/>
                    <a:pt x="93867" y="52907"/>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18" name="Freeform: Shape 529"/>
            <p:cNvSpPr/>
            <p:nvPr/>
          </p:nvSpPr>
          <p:spPr>
            <a:xfrm>
              <a:off x="9320040" y="2180520"/>
              <a:ext cx="91440" cy="386640"/>
            </a:xfrm>
            <a:custGeom>
              <a:avLst/>
              <a:gdLst/>
              <a:ahLst/>
              <a:rect l="l" t="t" r="r" b="b"/>
              <a:pathLst>
                <a:path w="118084" h="497579">
                  <a:moveTo>
                    <a:pt x="115939" y="13410"/>
                  </a:moveTo>
                  <a:cubicBezTo>
                    <a:pt x="115939" y="15555"/>
                    <a:pt x="115403" y="17701"/>
                    <a:pt x="115939" y="19310"/>
                  </a:cubicBezTo>
                  <a:cubicBezTo>
                    <a:pt x="95557" y="58466"/>
                    <a:pt x="82147" y="101376"/>
                    <a:pt x="76247" y="144823"/>
                  </a:cubicBezTo>
                  <a:cubicBezTo>
                    <a:pt x="75711" y="149114"/>
                    <a:pt x="75174" y="153405"/>
                    <a:pt x="74638" y="157697"/>
                  </a:cubicBezTo>
                  <a:cubicBezTo>
                    <a:pt x="74101" y="157160"/>
                    <a:pt x="54255" y="274092"/>
                    <a:pt x="53719" y="333630"/>
                  </a:cubicBezTo>
                  <a:cubicBezTo>
                    <a:pt x="53183" y="387805"/>
                    <a:pt x="63374" y="429643"/>
                    <a:pt x="92875" y="487572"/>
                  </a:cubicBezTo>
                  <a:cubicBezTo>
                    <a:pt x="93411" y="488109"/>
                    <a:pt x="93411" y="489181"/>
                    <a:pt x="93948" y="489718"/>
                  </a:cubicBezTo>
                  <a:cubicBezTo>
                    <a:pt x="93948" y="490254"/>
                    <a:pt x="94484" y="490254"/>
                    <a:pt x="94484" y="490791"/>
                  </a:cubicBezTo>
                  <a:cubicBezTo>
                    <a:pt x="93948" y="492936"/>
                    <a:pt x="93411" y="495082"/>
                    <a:pt x="92875" y="497227"/>
                  </a:cubicBezTo>
                  <a:cubicBezTo>
                    <a:pt x="92875" y="497227"/>
                    <a:pt x="92875" y="497227"/>
                    <a:pt x="92338" y="497227"/>
                  </a:cubicBezTo>
                  <a:cubicBezTo>
                    <a:pt x="92338" y="497227"/>
                    <a:pt x="92338" y="497227"/>
                    <a:pt x="92338" y="497227"/>
                  </a:cubicBezTo>
                  <a:cubicBezTo>
                    <a:pt x="90729" y="497764"/>
                    <a:pt x="88584" y="497764"/>
                    <a:pt x="90193" y="496691"/>
                  </a:cubicBezTo>
                  <a:cubicBezTo>
                    <a:pt x="79465" y="486499"/>
                    <a:pt x="71420" y="473626"/>
                    <a:pt x="64447" y="460217"/>
                  </a:cubicBezTo>
                  <a:cubicBezTo>
                    <a:pt x="21000" y="378686"/>
                    <a:pt x="-1529" y="286429"/>
                    <a:pt x="81" y="194707"/>
                  </a:cubicBezTo>
                  <a:cubicBezTo>
                    <a:pt x="81" y="190952"/>
                    <a:pt x="81" y="187198"/>
                    <a:pt x="1690" y="183979"/>
                  </a:cubicBezTo>
                  <a:cubicBezTo>
                    <a:pt x="1690" y="183443"/>
                    <a:pt x="2226" y="182907"/>
                    <a:pt x="2226" y="182907"/>
                  </a:cubicBezTo>
                  <a:cubicBezTo>
                    <a:pt x="4372" y="178616"/>
                    <a:pt x="8126" y="175397"/>
                    <a:pt x="11881" y="172715"/>
                  </a:cubicBezTo>
                  <a:cubicBezTo>
                    <a:pt x="19927" y="165742"/>
                    <a:pt x="27972" y="158769"/>
                    <a:pt x="36018" y="152333"/>
                  </a:cubicBezTo>
                  <a:cubicBezTo>
                    <a:pt x="38164" y="150187"/>
                    <a:pt x="40846" y="148578"/>
                    <a:pt x="42991" y="146433"/>
                  </a:cubicBezTo>
                  <a:cubicBezTo>
                    <a:pt x="36555" y="141605"/>
                    <a:pt x="30118" y="136778"/>
                    <a:pt x="23681" y="132487"/>
                  </a:cubicBezTo>
                  <a:cubicBezTo>
                    <a:pt x="21536" y="130877"/>
                    <a:pt x="19927" y="129268"/>
                    <a:pt x="18854" y="127123"/>
                  </a:cubicBezTo>
                  <a:cubicBezTo>
                    <a:pt x="18318" y="124441"/>
                    <a:pt x="19390" y="121759"/>
                    <a:pt x="21000" y="119613"/>
                  </a:cubicBezTo>
                  <a:cubicBezTo>
                    <a:pt x="41918" y="83139"/>
                    <a:pt x="67665" y="49347"/>
                    <a:pt x="97166" y="19310"/>
                  </a:cubicBezTo>
                  <a:cubicBezTo>
                    <a:pt x="99848" y="16628"/>
                    <a:pt x="102530" y="13946"/>
                    <a:pt x="105212" y="11800"/>
                  </a:cubicBezTo>
                  <a:cubicBezTo>
                    <a:pt x="109503" y="7509"/>
                    <a:pt x="113794" y="3755"/>
                    <a:pt x="118085" y="0"/>
                  </a:cubicBezTo>
                  <a:cubicBezTo>
                    <a:pt x="116476" y="3755"/>
                    <a:pt x="116476" y="8582"/>
                    <a:pt x="115939" y="1341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19" name="Freeform: Shape 530"/>
            <p:cNvSpPr/>
            <p:nvPr/>
          </p:nvSpPr>
          <p:spPr>
            <a:xfrm>
              <a:off x="9361080" y="2303280"/>
              <a:ext cx="42120" cy="259200"/>
            </a:xfrm>
            <a:custGeom>
              <a:avLst/>
              <a:gdLst/>
              <a:ahLst/>
              <a:rect l="l" t="t" r="r" b="b"/>
              <a:pathLst>
                <a:path w="54731" h="333632">
                  <a:moveTo>
                    <a:pt x="54731" y="277312"/>
                  </a:moveTo>
                  <a:cubicBezTo>
                    <a:pt x="50976" y="291794"/>
                    <a:pt x="47222" y="306813"/>
                    <a:pt x="43467" y="321832"/>
                  </a:cubicBezTo>
                  <a:cubicBezTo>
                    <a:pt x="42394" y="325050"/>
                    <a:pt x="40785" y="330414"/>
                    <a:pt x="39712" y="333632"/>
                  </a:cubicBezTo>
                  <a:cubicBezTo>
                    <a:pt x="9675" y="274630"/>
                    <a:pt x="-516" y="230647"/>
                    <a:pt x="20" y="175935"/>
                  </a:cubicBezTo>
                  <a:cubicBezTo>
                    <a:pt x="556" y="116397"/>
                    <a:pt x="20403" y="-535"/>
                    <a:pt x="20939" y="2"/>
                  </a:cubicBezTo>
                  <a:cubicBezTo>
                    <a:pt x="20403" y="3220"/>
                    <a:pt x="20403" y="5902"/>
                    <a:pt x="19866" y="9120"/>
                  </a:cubicBezTo>
                  <a:cubicBezTo>
                    <a:pt x="15039" y="67050"/>
                    <a:pt x="24157" y="124979"/>
                    <a:pt x="35421" y="182372"/>
                  </a:cubicBezTo>
                  <a:cubicBezTo>
                    <a:pt x="42394" y="214555"/>
                    <a:pt x="49367" y="246202"/>
                    <a:pt x="54731" y="27731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20" name="Freeform: Shape 531"/>
            <p:cNvSpPr/>
            <p:nvPr/>
          </p:nvSpPr>
          <p:spPr>
            <a:xfrm>
              <a:off x="9268560" y="2194560"/>
              <a:ext cx="124200" cy="670680"/>
            </a:xfrm>
            <a:custGeom>
              <a:avLst/>
              <a:gdLst/>
              <a:ahLst/>
              <a:rect l="l" t="t" r="r" b="b"/>
              <a:pathLst>
                <a:path w="160378" h="863040">
                  <a:moveTo>
                    <a:pt x="159842" y="477917"/>
                  </a:moveTo>
                  <a:cubicBezTo>
                    <a:pt x="159842" y="477381"/>
                    <a:pt x="160379" y="477381"/>
                    <a:pt x="160379" y="476845"/>
                  </a:cubicBezTo>
                  <a:cubicBezTo>
                    <a:pt x="160379" y="477917"/>
                    <a:pt x="159842" y="478990"/>
                    <a:pt x="159842" y="480063"/>
                  </a:cubicBezTo>
                  <a:cubicBezTo>
                    <a:pt x="159842" y="481136"/>
                    <a:pt x="159306" y="482208"/>
                    <a:pt x="159306" y="483281"/>
                  </a:cubicBezTo>
                  <a:cubicBezTo>
                    <a:pt x="158769" y="485427"/>
                    <a:pt x="158769" y="487036"/>
                    <a:pt x="158233" y="489181"/>
                  </a:cubicBezTo>
                  <a:cubicBezTo>
                    <a:pt x="158233" y="490254"/>
                    <a:pt x="157697" y="491863"/>
                    <a:pt x="157697" y="492936"/>
                  </a:cubicBezTo>
                  <a:cubicBezTo>
                    <a:pt x="157697" y="492936"/>
                    <a:pt x="157697" y="493473"/>
                    <a:pt x="157697" y="493473"/>
                  </a:cubicBezTo>
                  <a:cubicBezTo>
                    <a:pt x="157160" y="495082"/>
                    <a:pt x="157160" y="497227"/>
                    <a:pt x="156624" y="498836"/>
                  </a:cubicBezTo>
                  <a:cubicBezTo>
                    <a:pt x="156624" y="499909"/>
                    <a:pt x="156088" y="500982"/>
                    <a:pt x="156088" y="502055"/>
                  </a:cubicBezTo>
                  <a:cubicBezTo>
                    <a:pt x="155551" y="504200"/>
                    <a:pt x="155551" y="506346"/>
                    <a:pt x="155015" y="508491"/>
                  </a:cubicBezTo>
                  <a:cubicBezTo>
                    <a:pt x="155015" y="509028"/>
                    <a:pt x="155015" y="510100"/>
                    <a:pt x="155015" y="510637"/>
                  </a:cubicBezTo>
                  <a:cubicBezTo>
                    <a:pt x="155015" y="510637"/>
                    <a:pt x="155015" y="510637"/>
                    <a:pt x="155015" y="510637"/>
                  </a:cubicBezTo>
                  <a:cubicBezTo>
                    <a:pt x="155015" y="511710"/>
                    <a:pt x="155015" y="512246"/>
                    <a:pt x="154478" y="513319"/>
                  </a:cubicBezTo>
                  <a:cubicBezTo>
                    <a:pt x="154478" y="513319"/>
                    <a:pt x="154478" y="513855"/>
                    <a:pt x="154478" y="513855"/>
                  </a:cubicBezTo>
                  <a:cubicBezTo>
                    <a:pt x="154478" y="514391"/>
                    <a:pt x="154478" y="514928"/>
                    <a:pt x="154478" y="514928"/>
                  </a:cubicBezTo>
                  <a:cubicBezTo>
                    <a:pt x="154478" y="517073"/>
                    <a:pt x="153942" y="519219"/>
                    <a:pt x="153942" y="521364"/>
                  </a:cubicBezTo>
                  <a:cubicBezTo>
                    <a:pt x="153942" y="523510"/>
                    <a:pt x="153406" y="525656"/>
                    <a:pt x="153406" y="527801"/>
                  </a:cubicBezTo>
                  <a:cubicBezTo>
                    <a:pt x="152869" y="531019"/>
                    <a:pt x="152869" y="535310"/>
                    <a:pt x="152333" y="540674"/>
                  </a:cubicBezTo>
                  <a:cubicBezTo>
                    <a:pt x="152333" y="542283"/>
                    <a:pt x="152333" y="543893"/>
                    <a:pt x="151797" y="545502"/>
                  </a:cubicBezTo>
                  <a:cubicBezTo>
                    <a:pt x="151797" y="546038"/>
                    <a:pt x="151797" y="547111"/>
                    <a:pt x="151797" y="547647"/>
                  </a:cubicBezTo>
                  <a:cubicBezTo>
                    <a:pt x="151797" y="548720"/>
                    <a:pt x="151797" y="549793"/>
                    <a:pt x="151797" y="550865"/>
                  </a:cubicBezTo>
                  <a:cubicBezTo>
                    <a:pt x="151260" y="555157"/>
                    <a:pt x="151260" y="559984"/>
                    <a:pt x="150724" y="564811"/>
                  </a:cubicBezTo>
                  <a:cubicBezTo>
                    <a:pt x="150724" y="565348"/>
                    <a:pt x="150724" y="566421"/>
                    <a:pt x="150724" y="566957"/>
                  </a:cubicBezTo>
                  <a:cubicBezTo>
                    <a:pt x="150724" y="568030"/>
                    <a:pt x="150724" y="569639"/>
                    <a:pt x="150187" y="571248"/>
                  </a:cubicBezTo>
                  <a:cubicBezTo>
                    <a:pt x="150187" y="572857"/>
                    <a:pt x="150187" y="574466"/>
                    <a:pt x="149651" y="576076"/>
                  </a:cubicBezTo>
                  <a:cubicBezTo>
                    <a:pt x="149651" y="577685"/>
                    <a:pt x="149651" y="579294"/>
                    <a:pt x="149115" y="580903"/>
                  </a:cubicBezTo>
                  <a:cubicBezTo>
                    <a:pt x="149115" y="581976"/>
                    <a:pt x="149115" y="583048"/>
                    <a:pt x="149115" y="584121"/>
                  </a:cubicBezTo>
                  <a:cubicBezTo>
                    <a:pt x="149115" y="584658"/>
                    <a:pt x="149115" y="585194"/>
                    <a:pt x="149115" y="585730"/>
                  </a:cubicBezTo>
                  <a:cubicBezTo>
                    <a:pt x="149115" y="586803"/>
                    <a:pt x="149115" y="587876"/>
                    <a:pt x="149115" y="589485"/>
                  </a:cubicBezTo>
                  <a:cubicBezTo>
                    <a:pt x="149115" y="591631"/>
                    <a:pt x="149115" y="593776"/>
                    <a:pt x="148578" y="595922"/>
                  </a:cubicBezTo>
                  <a:cubicBezTo>
                    <a:pt x="148578" y="595922"/>
                    <a:pt x="148578" y="596458"/>
                    <a:pt x="148578" y="596458"/>
                  </a:cubicBezTo>
                  <a:cubicBezTo>
                    <a:pt x="148578" y="596458"/>
                    <a:pt x="148578" y="596458"/>
                    <a:pt x="148578" y="596458"/>
                  </a:cubicBezTo>
                  <a:cubicBezTo>
                    <a:pt x="148578" y="596994"/>
                    <a:pt x="148578" y="598067"/>
                    <a:pt x="148578" y="599140"/>
                  </a:cubicBezTo>
                  <a:cubicBezTo>
                    <a:pt x="148578" y="600213"/>
                    <a:pt x="148578" y="600749"/>
                    <a:pt x="148578" y="601822"/>
                  </a:cubicBezTo>
                  <a:cubicBezTo>
                    <a:pt x="148578" y="603968"/>
                    <a:pt x="148578" y="605577"/>
                    <a:pt x="148042" y="607722"/>
                  </a:cubicBezTo>
                  <a:cubicBezTo>
                    <a:pt x="148042" y="609331"/>
                    <a:pt x="148042" y="611477"/>
                    <a:pt x="147505" y="613086"/>
                  </a:cubicBezTo>
                  <a:cubicBezTo>
                    <a:pt x="147505" y="613086"/>
                    <a:pt x="147505" y="613086"/>
                    <a:pt x="147505" y="613086"/>
                  </a:cubicBezTo>
                  <a:cubicBezTo>
                    <a:pt x="147505" y="613086"/>
                    <a:pt x="147505" y="613622"/>
                    <a:pt x="147505" y="613622"/>
                  </a:cubicBezTo>
                  <a:cubicBezTo>
                    <a:pt x="147505" y="616304"/>
                    <a:pt x="146969" y="619523"/>
                    <a:pt x="146969" y="622205"/>
                  </a:cubicBezTo>
                  <a:cubicBezTo>
                    <a:pt x="146969" y="623814"/>
                    <a:pt x="146969" y="624886"/>
                    <a:pt x="146969" y="626496"/>
                  </a:cubicBezTo>
                  <a:cubicBezTo>
                    <a:pt x="146969" y="628105"/>
                    <a:pt x="146969" y="629714"/>
                    <a:pt x="146969" y="631323"/>
                  </a:cubicBezTo>
                  <a:cubicBezTo>
                    <a:pt x="146969" y="632396"/>
                    <a:pt x="146969" y="633469"/>
                    <a:pt x="146969" y="634541"/>
                  </a:cubicBezTo>
                  <a:cubicBezTo>
                    <a:pt x="146969" y="634541"/>
                    <a:pt x="146969" y="634541"/>
                    <a:pt x="146969" y="635078"/>
                  </a:cubicBezTo>
                  <a:cubicBezTo>
                    <a:pt x="146969" y="637760"/>
                    <a:pt x="146969" y="640442"/>
                    <a:pt x="146433" y="643660"/>
                  </a:cubicBezTo>
                  <a:cubicBezTo>
                    <a:pt x="146433" y="647414"/>
                    <a:pt x="145896" y="651169"/>
                    <a:pt x="145896" y="654388"/>
                  </a:cubicBezTo>
                  <a:cubicBezTo>
                    <a:pt x="145896" y="655997"/>
                    <a:pt x="145896" y="658142"/>
                    <a:pt x="145896" y="659751"/>
                  </a:cubicBezTo>
                  <a:cubicBezTo>
                    <a:pt x="145896" y="661360"/>
                    <a:pt x="145896" y="662970"/>
                    <a:pt x="145896" y="664579"/>
                  </a:cubicBezTo>
                  <a:cubicBezTo>
                    <a:pt x="145360" y="677452"/>
                    <a:pt x="145360" y="689789"/>
                    <a:pt x="145896" y="699444"/>
                  </a:cubicBezTo>
                  <a:cubicBezTo>
                    <a:pt x="145896" y="700517"/>
                    <a:pt x="145896" y="701589"/>
                    <a:pt x="145896" y="702662"/>
                  </a:cubicBezTo>
                  <a:cubicBezTo>
                    <a:pt x="145896" y="703735"/>
                    <a:pt x="145896" y="704808"/>
                    <a:pt x="145896" y="705344"/>
                  </a:cubicBezTo>
                  <a:cubicBezTo>
                    <a:pt x="146433" y="709099"/>
                    <a:pt x="146433" y="712317"/>
                    <a:pt x="146969" y="714999"/>
                  </a:cubicBezTo>
                  <a:cubicBezTo>
                    <a:pt x="147505" y="719290"/>
                    <a:pt x="149115" y="725726"/>
                    <a:pt x="150187" y="733236"/>
                  </a:cubicBezTo>
                  <a:cubicBezTo>
                    <a:pt x="150187" y="733772"/>
                    <a:pt x="150187" y="734309"/>
                    <a:pt x="150724" y="735381"/>
                  </a:cubicBezTo>
                  <a:cubicBezTo>
                    <a:pt x="150724" y="736454"/>
                    <a:pt x="151260" y="737527"/>
                    <a:pt x="151260" y="738600"/>
                  </a:cubicBezTo>
                  <a:cubicBezTo>
                    <a:pt x="151260" y="739136"/>
                    <a:pt x="151260" y="739136"/>
                    <a:pt x="151260" y="739672"/>
                  </a:cubicBezTo>
                  <a:cubicBezTo>
                    <a:pt x="151260" y="741282"/>
                    <a:pt x="151797" y="742354"/>
                    <a:pt x="151797" y="743963"/>
                  </a:cubicBezTo>
                  <a:cubicBezTo>
                    <a:pt x="152333" y="747182"/>
                    <a:pt x="152869" y="750937"/>
                    <a:pt x="153406" y="754691"/>
                  </a:cubicBezTo>
                  <a:cubicBezTo>
                    <a:pt x="153942" y="756300"/>
                    <a:pt x="153942" y="758446"/>
                    <a:pt x="154478" y="760055"/>
                  </a:cubicBezTo>
                  <a:cubicBezTo>
                    <a:pt x="154478" y="761664"/>
                    <a:pt x="155015" y="762737"/>
                    <a:pt x="155015" y="764346"/>
                  </a:cubicBezTo>
                  <a:cubicBezTo>
                    <a:pt x="155015" y="803502"/>
                    <a:pt x="156624" y="831930"/>
                    <a:pt x="157160" y="841049"/>
                  </a:cubicBezTo>
                  <a:cubicBezTo>
                    <a:pt x="157160" y="844804"/>
                    <a:pt x="157160" y="848022"/>
                    <a:pt x="157160" y="851776"/>
                  </a:cubicBezTo>
                  <a:cubicBezTo>
                    <a:pt x="157160" y="852313"/>
                    <a:pt x="157160" y="852849"/>
                    <a:pt x="157160" y="853386"/>
                  </a:cubicBezTo>
                  <a:cubicBezTo>
                    <a:pt x="157160" y="855531"/>
                    <a:pt x="157160" y="857677"/>
                    <a:pt x="156624" y="859822"/>
                  </a:cubicBezTo>
                  <a:cubicBezTo>
                    <a:pt x="156624" y="860359"/>
                    <a:pt x="156624" y="860359"/>
                    <a:pt x="156624" y="860895"/>
                  </a:cubicBezTo>
                  <a:cubicBezTo>
                    <a:pt x="156624" y="861431"/>
                    <a:pt x="156624" y="862504"/>
                    <a:pt x="156624" y="863041"/>
                  </a:cubicBezTo>
                  <a:cubicBezTo>
                    <a:pt x="134096" y="857677"/>
                    <a:pt x="111568" y="850704"/>
                    <a:pt x="89576" y="843194"/>
                  </a:cubicBezTo>
                  <a:cubicBezTo>
                    <a:pt x="76166" y="838367"/>
                    <a:pt x="63293" y="833539"/>
                    <a:pt x="50420" y="828176"/>
                  </a:cubicBezTo>
                  <a:cubicBezTo>
                    <a:pt x="35401" y="821739"/>
                    <a:pt x="20919" y="814766"/>
                    <a:pt x="6973" y="807793"/>
                  </a:cubicBezTo>
                  <a:cubicBezTo>
                    <a:pt x="4827" y="806720"/>
                    <a:pt x="2146" y="805648"/>
                    <a:pt x="0" y="804038"/>
                  </a:cubicBezTo>
                  <a:cubicBezTo>
                    <a:pt x="536" y="798675"/>
                    <a:pt x="1609" y="793311"/>
                    <a:pt x="2146" y="787947"/>
                  </a:cubicBezTo>
                  <a:cubicBezTo>
                    <a:pt x="3218" y="779365"/>
                    <a:pt x="4827" y="771319"/>
                    <a:pt x="5900" y="762737"/>
                  </a:cubicBezTo>
                  <a:cubicBezTo>
                    <a:pt x="6437" y="757909"/>
                    <a:pt x="7509" y="753082"/>
                    <a:pt x="8046" y="748255"/>
                  </a:cubicBezTo>
                  <a:cubicBezTo>
                    <a:pt x="8582" y="744500"/>
                    <a:pt x="9119" y="741282"/>
                    <a:pt x="9655" y="737527"/>
                  </a:cubicBezTo>
                  <a:cubicBezTo>
                    <a:pt x="10728" y="731090"/>
                    <a:pt x="11264" y="724654"/>
                    <a:pt x="12337" y="718217"/>
                  </a:cubicBezTo>
                  <a:cubicBezTo>
                    <a:pt x="12873" y="714999"/>
                    <a:pt x="13410" y="711780"/>
                    <a:pt x="13410" y="708562"/>
                  </a:cubicBezTo>
                  <a:cubicBezTo>
                    <a:pt x="13410" y="707489"/>
                    <a:pt x="13946" y="705880"/>
                    <a:pt x="13946" y="704808"/>
                  </a:cubicBezTo>
                  <a:cubicBezTo>
                    <a:pt x="14482" y="701589"/>
                    <a:pt x="14482" y="698907"/>
                    <a:pt x="15019" y="695689"/>
                  </a:cubicBezTo>
                  <a:cubicBezTo>
                    <a:pt x="15555" y="693007"/>
                    <a:pt x="15555" y="690325"/>
                    <a:pt x="16092" y="687643"/>
                  </a:cubicBezTo>
                  <a:cubicBezTo>
                    <a:pt x="16628" y="682816"/>
                    <a:pt x="17164" y="677988"/>
                    <a:pt x="17701" y="673161"/>
                  </a:cubicBezTo>
                  <a:cubicBezTo>
                    <a:pt x="18773" y="663506"/>
                    <a:pt x="19846" y="653315"/>
                    <a:pt x="21455" y="643660"/>
                  </a:cubicBezTo>
                  <a:cubicBezTo>
                    <a:pt x="21455" y="642051"/>
                    <a:pt x="21992" y="640442"/>
                    <a:pt x="21992" y="639369"/>
                  </a:cubicBezTo>
                  <a:cubicBezTo>
                    <a:pt x="21992" y="638296"/>
                    <a:pt x="22528" y="637223"/>
                    <a:pt x="22528" y="636151"/>
                  </a:cubicBezTo>
                  <a:cubicBezTo>
                    <a:pt x="22528" y="635614"/>
                    <a:pt x="22528" y="635078"/>
                    <a:pt x="22528" y="634541"/>
                  </a:cubicBezTo>
                  <a:cubicBezTo>
                    <a:pt x="22528" y="632932"/>
                    <a:pt x="23065" y="631859"/>
                    <a:pt x="23065" y="630250"/>
                  </a:cubicBezTo>
                  <a:cubicBezTo>
                    <a:pt x="23065" y="630250"/>
                    <a:pt x="23065" y="629714"/>
                    <a:pt x="23065" y="629714"/>
                  </a:cubicBezTo>
                  <a:cubicBezTo>
                    <a:pt x="23065" y="629177"/>
                    <a:pt x="23065" y="628641"/>
                    <a:pt x="23065" y="628105"/>
                  </a:cubicBezTo>
                  <a:cubicBezTo>
                    <a:pt x="23601" y="624350"/>
                    <a:pt x="24137" y="621132"/>
                    <a:pt x="24674" y="617377"/>
                  </a:cubicBezTo>
                  <a:cubicBezTo>
                    <a:pt x="24674" y="616841"/>
                    <a:pt x="24674" y="616304"/>
                    <a:pt x="25210" y="615768"/>
                  </a:cubicBezTo>
                  <a:cubicBezTo>
                    <a:pt x="25746" y="612550"/>
                    <a:pt x="26283" y="609868"/>
                    <a:pt x="26819" y="606649"/>
                  </a:cubicBezTo>
                  <a:cubicBezTo>
                    <a:pt x="27356" y="605040"/>
                    <a:pt x="27356" y="602895"/>
                    <a:pt x="27892" y="601286"/>
                  </a:cubicBezTo>
                  <a:cubicBezTo>
                    <a:pt x="27892" y="601286"/>
                    <a:pt x="27892" y="600749"/>
                    <a:pt x="27892" y="600749"/>
                  </a:cubicBezTo>
                  <a:cubicBezTo>
                    <a:pt x="27892" y="600749"/>
                    <a:pt x="27892" y="600213"/>
                    <a:pt x="27892" y="600213"/>
                  </a:cubicBezTo>
                  <a:cubicBezTo>
                    <a:pt x="27892" y="600213"/>
                    <a:pt x="27892" y="600213"/>
                    <a:pt x="27892" y="599676"/>
                  </a:cubicBezTo>
                  <a:cubicBezTo>
                    <a:pt x="27892" y="599676"/>
                    <a:pt x="27892" y="599676"/>
                    <a:pt x="27892" y="599676"/>
                  </a:cubicBezTo>
                  <a:cubicBezTo>
                    <a:pt x="28428" y="597531"/>
                    <a:pt x="28428" y="595922"/>
                    <a:pt x="28965" y="593776"/>
                  </a:cubicBezTo>
                  <a:cubicBezTo>
                    <a:pt x="28965" y="593240"/>
                    <a:pt x="28965" y="593240"/>
                    <a:pt x="28965" y="592703"/>
                  </a:cubicBezTo>
                  <a:cubicBezTo>
                    <a:pt x="30037" y="587340"/>
                    <a:pt x="31110" y="582512"/>
                    <a:pt x="32183" y="577148"/>
                  </a:cubicBezTo>
                  <a:cubicBezTo>
                    <a:pt x="32183" y="577148"/>
                    <a:pt x="32183" y="576612"/>
                    <a:pt x="32183" y="576612"/>
                  </a:cubicBezTo>
                  <a:cubicBezTo>
                    <a:pt x="33792" y="570175"/>
                    <a:pt x="34865" y="563202"/>
                    <a:pt x="35938" y="556766"/>
                  </a:cubicBezTo>
                  <a:cubicBezTo>
                    <a:pt x="35938" y="556229"/>
                    <a:pt x="36474" y="555157"/>
                    <a:pt x="36474" y="554620"/>
                  </a:cubicBezTo>
                  <a:cubicBezTo>
                    <a:pt x="36474" y="553547"/>
                    <a:pt x="37010" y="552475"/>
                    <a:pt x="37010" y="551938"/>
                  </a:cubicBezTo>
                  <a:cubicBezTo>
                    <a:pt x="37547" y="550329"/>
                    <a:pt x="37547" y="548720"/>
                    <a:pt x="38083" y="547111"/>
                  </a:cubicBezTo>
                  <a:cubicBezTo>
                    <a:pt x="38620" y="543893"/>
                    <a:pt x="39156" y="540674"/>
                    <a:pt x="39692" y="536920"/>
                  </a:cubicBezTo>
                  <a:cubicBezTo>
                    <a:pt x="40229" y="533701"/>
                    <a:pt x="40765" y="530483"/>
                    <a:pt x="41302" y="526728"/>
                  </a:cubicBezTo>
                  <a:cubicBezTo>
                    <a:pt x="41302" y="526192"/>
                    <a:pt x="41302" y="525656"/>
                    <a:pt x="41302" y="525119"/>
                  </a:cubicBezTo>
                  <a:cubicBezTo>
                    <a:pt x="41302" y="525119"/>
                    <a:pt x="41302" y="524583"/>
                    <a:pt x="41302" y="524583"/>
                  </a:cubicBezTo>
                  <a:cubicBezTo>
                    <a:pt x="41302" y="524583"/>
                    <a:pt x="41302" y="524046"/>
                    <a:pt x="41302" y="524046"/>
                  </a:cubicBezTo>
                  <a:cubicBezTo>
                    <a:pt x="41302" y="524046"/>
                    <a:pt x="41302" y="524046"/>
                    <a:pt x="41302" y="523510"/>
                  </a:cubicBezTo>
                  <a:cubicBezTo>
                    <a:pt x="41302" y="523510"/>
                    <a:pt x="41302" y="523510"/>
                    <a:pt x="41302" y="522974"/>
                  </a:cubicBezTo>
                  <a:cubicBezTo>
                    <a:pt x="41302" y="522974"/>
                    <a:pt x="41302" y="522974"/>
                    <a:pt x="41302" y="522974"/>
                  </a:cubicBezTo>
                  <a:cubicBezTo>
                    <a:pt x="41302" y="522437"/>
                    <a:pt x="41302" y="522437"/>
                    <a:pt x="41302" y="521901"/>
                  </a:cubicBezTo>
                  <a:cubicBezTo>
                    <a:pt x="41302" y="521901"/>
                    <a:pt x="41302" y="521364"/>
                    <a:pt x="41302" y="521364"/>
                  </a:cubicBezTo>
                  <a:cubicBezTo>
                    <a:pt x="41302" y="520292"/>
                    <a:pt x="41302" y="519755"/>
                    <a:pt x="41838" y="518682"/>
                  </a:cubicBezTo>
                  <a:cubicBezTo>
                    <a:pt x="41838" y="518146"/>
                    <a:pt x="41838" y="517610"/>
                    <a:pt x="41838" y="517073"/>
                  </a:cubicBezTo>
                  <a:cubicBezTo>
                    <a:pt x="41838" y="516537"/>
                    <a:pt x="41838" y="516537"/>
                    <a:pt x="41838" y="516001"/>
                  </a:cubicBezTo>
                  <a:cubicBezTo>
                    <a:pt x="41838" y="515464"/>
                    <a:pt x="41838" y="515464"/>
                    <a:pt x="41838" y="514928"/>
                  </a:cubicBezTo>
                  <a:cubicBezTo>
                    <a:pt x="41838" y="513319"/>
                    <a:pt x="42374" y="512246"/>
                    <a:pt x="42374" y="510637"/>
                  </a:cubicBezTo>
                  <a:cubicBezTo>
                    <a:pt x="42374" y="509564"/>
                    <a:pt x="42374" y="507955"/>
                    <a:pt x="42911" y="506882"/>
                  </a:cubicBezTo>
                  <a:lnTo>
                    <a:pt x="42911" y="506346"/>
                  </a:lnTo>
                  <a:cubicBezTo>
                    <a:pt x="42911" y="505809"/>
                    <a:pt x="42911" y="505809"/>
                    <a:pt x="42911" y="505273"/>
                  </a:cubicBezTo>
                  <a:cubicBezTo>
                    <a:pt x="42911" y="503127"/>
                    <a:pt x="43447" y="500982"/>
                    <a:pt x="43447" y="498836"/>
                  </a:cubicBezTo>
                  <a:cubicBezTo>
                    <a:pt x="43447" y="498836"/>
                    <a:pt x="43447" y="498300"/>
                    <a:pt x="43447" y="498300"/>
                  </a:cubicBezTo>
                  <a:cubicBezTo>
                    <a:pt x="43447" y="498300"/>
                    <a:pt x="43447" y="497764"/>
                    <a:pt x="43447" y="497764"/>
                  </a:cubicBezTo>
                  <a:cubicBezTo>
                    <a:pt x="43447" y="497764"/>
                    <a:pt x="43447" y="497764"/>
                    <a:pt x="43447" y="497764"/>
                  </a:cubicBezTo>
                  <a:cubicBezTo>
                    <a:pt x="43447" y="496691"/>
                    <a:pt x="43447" y="495618"/>
                    <a:pt x="43447" y="494545"/>
                  </a:cubicBezTo>
                  <a:cubicBezTo>
                    <a:pt x="43447" y="494009"/>
                    <a:pt x="43447" y="494009"/>
                    <a:pt x="43447" y="493473"/>
                  </a:cubicBezTo>
                  <a:cubicBezTo>
                    <a:pt x="43447" y="493473"/>
                    <a:pt x="43447" y="493473"/>
                    <a:pt x="43447" y="493473"/>
                  </a:cubicBezTo>
                  <a:cubicBezTo>
                    <a:pt x="43447" y="493473"/>
                    <a:pt x="43447" y="493473"/>
                    <a:pt x="43447" y="493473"/>
                  </a:cubicBezTo>
                  <a:cubicBezTo>
                    <a:pt x="43447" y="493473"/>
                    <a:pt x="43447" y="493473"/>
                    <a:pt x="43447" y="493473"/>
                  </a:cubicBezTo>
                  <a:cubicBezTo>
                    <a:pt x="43447" y="492400"/>
                    <a:pt x="43447" y="491327"/>
                    <a:pt x="43447" y="490254"/>
                  </a:cubicBezTo>
                  <a:cubicBezTo>
                    <a:pt x="43447" y="489718"/>
                    <a:pt x="43447" y="489181"/>
                    <a:pt x="43447" y="489181"/>
                  </a:cubicBezTo>
                  <a:cubicBezTo>
                    <a:pt x="43447" y="488645"/>
                    <a:pt x="43447" y="488109"/>
                    <a:pt x="43447" y="487572"/>
                  </a:cubicBezTo>
                  <a:cubicBezTo>
                    <a:pt x="43447" y="486499"/>
                    <a:pt x="43447" y="484890"/>
                    <a:pt x="43447" y="483818"/>
                  </a:cubicBezTo>
                  <a:cubicBezTo>
                    <a:pt x="43447" y="480599"/>
                    <a:pt x="43983" y="477381"/>
                    <a:pt x="43983" y="474163"/>
                  </a:cubicBezTo>
                  <a:cubicBezTo>
                    <a:pt x="43983" y="473090"/>
                    <a:pt x="43983" y="472017"/>
                    <a:pt x="43983" y="470944"/>
                  </a:cubicBezTo>
                  <a:cubicBezTo>
                    <a:pt x="43983" y="469335"/>
                    <a:pt x="43983" y="468262"/>
                    <a:pt x="43983" y="466653"/>
                  </a:cubicBezTo>
                  <a:cubicBezTo>
                    <a:pt x="43983" y="465044"/>
                    <a:pt x="43983" y="463435"/>
                    <a:pt x="43983" y="461826"/>
                  </a:cubicBezTo>
                  <a:cubicBezTo>
                    <a:pt x="43983" y="460753"/>
                    <a:pt x="43983" y="459680"/>
                    <a:pt x="43983" y="458071"/>
                  </a:cubicBezTo>
                  <a:cubicBezTo>
                    <a:pt x="43983" y="455389"/>
                    <a:pt x="43983" y="453244"/>
                    <a:pt x="44520" y="450562"/>
                  </a:cubicBezTo>
                  <a:cubicBezTo>
                    <a:pt x="44520" y="446807"/>
                    <a:pt x="45056" y="443589"/>
                    <a:pt x="45056" y="439834"/>
                  </a:cubicBezTo>
                  <a:cubicBezTo>
                    <a:pt x="46129" y="414088"/>
                    <a:pt x="47202" y="388341"/>
                    <a:pt x="43983" y="362595"/>
                  </a:cubicBezTo>
                  <a:cubicBezTo>
                    <a:pt x="40765" y="337921"/>
                    <a:pt x="33792" y="313248"/>
                    <a:pt x="28965" y="289111"/>
                  </a:cubicBezTo>
                  <a:cubicBezTo>
                    <a:pt x="22528" y="259073"/>
                    <a:pt x="19310" y="228499"/>
                    <a:pt x="16628" y="198462"/>
                  </a:cubicBezTo>
                  <a:cubicBezTo>
                    <a:pt x="14482" y="171643"/>
                    <a:pt x="12337" y="144823"/>
                    <a:pt x="12873" y="117468"/>
                  </a:cubicBezTo>
                  <a:cubicBezTo>
                    <a:pt x="12873" y="111031"/>
                    <a:pt x="13410" y="104595"/>
                    <a:pt x="14482" y="98694"/>
                  </a:cubicBezTo>
                  <a:cubicBezTo>
                    <a:pt x="14482" y="97622"/>
                    <a:pt x="15019" y="96013"/>
                    <a:pt x="15019" y="94940"/>
                  </a:cubicBezTo>
                  <a:cubicBezTo>
                    <a:pt x="15019" y="94403"/>
                    <a:pt x="15019" y="93867"/>
                    <a:pt x="15019" y="93331"/>
                  </a:cubicBezTo>
                  <a:cubicBezTo>
                    <a:pt x="15019" y="92794"/>
                    <a:pt x="15019" y="92258"/>
                    <a:pt x="15019" y="91722"/>
                  </a:cubicBezTo>
                  <a:cubicBezTo>
                    <a:pt x="15019" y="91185"/>
                    <a:pt x="15019" y="91185"/>
                    <a:pt x="15019" y="90649"/>
                  </a:cubicBezTo>
                  <a:cubicBezTo>
                    <a:pt x="15019" y="89576"/>
                    <a:pt x="15555" y="87967"/>
                    <a:pt x="15555" y="86894"/>
                  </a:cubicBezTo>
                  <a:cubicBezTo>
                    <a:pt x="15555" y="86894"/>
                    <a:pt x="15555" y="86894"/>
                    <a:pt x="15555" y="86894"/>
                  </a:cubicBezTo>
                  <a:cubicBezTo>
                    <a:pt x="15555" y="86894"/>
                    <a:pt x="15555" y="86894"/>
                    <a:pt x="15555" y="86894"/>
                  </a:cubicBezTo>
                  <a:cubicBezTo>
                    <a:pt x="16092" y="84212"/>
                    <a:pt x="16628" y="82067"/>
                    <a:pt x="17701" y="79921"/>
                  </a:cubicBezTo>
                  <a:cubicBezTo>
                    <a:pt x="18237" y="78848"/>
                    <a:pt x="18773" y="77776"/>
                    <a:pt x="18773" y="76703"/>
                  </a:cubicBezTo>
                  <a:cubicBezTo>
                    <a:pt x="19310" y="75630"/>
                    <a:pt x="19846" y="74557"/>
                    <a:pt x="19846" y="74021"/>
                  </a:cubicBezTo>
                  <a:cubicBezTo>
                    <a:pt x="20383" y="73484"/>
                    <a:pt x="20383" y="72412"/>
                    <a:pt x="20919" y="71875"/>
                  </a:cubicBezTo>
                  <a:cubicBezTo>
                    <a:pt x="21455" y="70802"/>
                    <a:pt x="21992" y="69730"/>
                    <a:pt x="22528" y="68657"/>
                  </a:cubicBezTo>
                  <a:cubicBezTo>
                    <a:pt x="23065" y="68121"/>
                    <a:pt x="23601" y="67584"/>
                    <a:pt x="23601" y="66511"/>
                  </a:cubicBezTo>
                  <a:cubicBezTo>
                    <a:pt x="24137" y="65975"/>
                    <a:pt x="24674" y="65439"/>
                    <a:pt x="25210" y="64902"/>
                  </a:cubicBezTo>
                  <a:cubicBezTo>
                    <a:pt x="25746" y="64366"/>
                    <a:pt x="26283" y="63830"/>
                    <a:pt x="26283" y="63293"/>
                  </a:cubicBezTo>
                  <a:cubicBezTo>
                    <a:pt x="26819" y="62757"/>
                    <a:pt x="27356" y="62220"/>
                    <a:pt x="27892" y="61148"/>
                  </a:cubicBezTo>
                  <a:cubicBezTo>
                    <a:pt x="28965" y="60075"/>
                    <a:pt x="29501" y="59539"/>
                    <a:pt x="30574" y="58466"/>
                  </a:cubicBezTo>
                  <a:cubicBezTo>
                    <a:pt x="31110" y="57929"/>
                    <a:pt x="31110" y="57929"/>
                    <a:pt x="31647" y="57393"/>
                  </a:cubicBezTo>
                  <a:cubicBezTo>
                    <a:pt x="31647" y="57393"/>
                    <a:pt x="31647" y="57393"/>
                    <a:pt x="31647" y="57393"/>
                  </a:cubicBezTo>
                  <a:cubicBezTo>
                    <a:pt x="32183" y="56857"/>
                    <a:pt x="32719" y="56320"/>
                    <a:pt x="33256" y="56320"/>
                  </a:cubicBezTo>
                  <a:cubicBezTo>
                    <a:pt x="33792" y="55784"/>
                    <a:pt x="34329" y="55784"/>
                    <a:pt x="34329" y="55247"/>
                  </a:cubicBezTo>
                  <a:cubicBezTo>
                    <a:pt x="34865" y="54711"/>
                    <a:pt x="34865" y="54711"/>
                    <a:pt x="35401" y="54175"/>
                  </a:cubicBezTo>
                  <a:cubicBezTo>
                    <a:pt x="37010" y="53102"/>
                    <a:pt x="39156" y="52029"/>
                    <a:pt x="40765" y="50956"/>
                  </a:cubicBezTo>
                  <a:cubicBezTo>
                    <a:pt x="41302" y="50420"/>
                    <a:pt x="42374" y="49884"/>
                    <a:pt x="42911" y="49884"/>
                  </a:cubicBezTo>
                  <a:cubicBezTo>
                    <a:pt x="47202" y="47738"/>
                    <a:pt x="51493" y="45593"/>
                    <a:pt x="55784" y="43447"/>
                  </a:cubicBezTo>
                  <a:cubicBezTo>
                    <a:pt x="56857" y="42911"/>
                    <a:pt x="57393" y="42911"/>
                    <a:pt x="58466" y="42374"/>
                  </a:cubicBezTo>
                  <a:cubicBezTo>
                    <a:pt x="64902" y="39692"/>
                    <a:pt x="71875" y="36474"/>
                    <a:pt x="78312" y="33792"/>
                  </a:cubicBezTo>
                  <a:cubicBezTo>
                    <a:pt x="99767" y="24674"/>
                    <a:pt x="121223" y="15019"/>
                    <a:pt x="143214" y="5900"/>
                  </a:cubicBezTo>
                  <a:cubicBezTo>
                    <a:pt x="148042" y="3755"/>
                    <a:pt x="152333" y="2146"/>
                    <a:pt x="157160" y="0"/>
                  </a:cubicBezTo>
                  <a:cubicBezTo>
                    <a:pt x="127659" y="30037"/>
                    <a:pt x="101913" y="63830"/>
                    <a:pt x="80994" y="100304"/>
                  </a:cubicBezTo>
                  <a:cubicBezTo>
                    <a:pt x="79921" y="102449"/>
                    <a:pt x="78312" y="105131"/>
                    <a:pt x="78848" y="107813"/>
                  </a:cubicBezTo>
                  <a:cubicBezTo>
                    <a:pt x="79385" y="109959"/>
                    <a:pt x="81530" y="111568"/>
                    <a:pt x="83139" y="113177"/>
                  </a:cubicBezTo>
                  <a:cubicBezTo>
                    <a:pt x="89576" y="118004"/>
                    <a:pt x="96013" y="122832"/>
                    <a:pt x="102449" y="127123"/>
                  </a:cubicBezTo>
                  <a:cubicBezTo>
                    <a:pt x="100304" y="129268"/>
                    <a:pt x="97622" y="130877"/>
                    <a:pt x="95476" y="133023"/>
                  </a:cubicBezTo>
                  <a:cubicBezTo>
                    <a:pt x="87431" y="139996"/>
                    <a:pt x="79385" y="146969"/>
                    <a:pt x="71339" y="153406"/>
                  </a:cubicBezTo>
                  <a:cubicBezTo>
                    <a:pt x="70803" y="153942"/>
                    <a:pt x="70266" y="154478"/>
                    <a:pt x="69730" y="154478"/>
                  </a:cubicBezTo>
                  <a:cubicBezTo>
                    <a:pt x="69193" y="155015"/>
                    <a:pt x="68657" y="155551"/>
                    <a:pt x="68121" y="155551"/>
                  </a:cubicBezTo>
                  <a:cubicBezTo>
                    <a:pt x="67584" y="156088"/>
                    <a:pt x="67048" y="156624"/>
                    <a:pt x="66512" y="156624"/>
                  </a:cubicBezTo>
                  <a:cubicBezTo>
                    <a:pt x="66512" y="156624"/>
                    <a:pt x="65975" y="157160"/>
                    <a:pt x="65975" y="157160"/>
                  </a:cubicBezTo>
                  <a:cubicBezTo>
                    <a:pt x="65975" y="157160"/>
                    <a:pt x="65439" y="157697"/>
                    <a:pt x="65439" y="157697"/>
                  </a:cubicBezTo>
                  <a:cubicBezTo>
                    <a:pt x="64902" y="158233"/>
                    <a:pt x="64902" y="158233"/>
                    <a:pt x="64366" y="158769"/>
                  </a:cubicBezTo>
                  <a:cubicBezTo>
                    <a:pt x="63830" y="159306"/>
                    <a:pt x="63830" y="159306"/>
                    <a:pt x="63293" y="159842"/>
                  </a:cubicBezTo>
                  <a:cubicBezTo>
                    <a:pt x="62757" y="160379"/>
                    <a:pt x="62757" y="160915"/>
                    <a:pt x="62220" y="161451"/>
                  </a:cubicBezTo>
                  <a:cubicBezTo>
                    <a:pt x="62220" y="161451"/>
                    <a:pt x="62220" y="161451"/>
                    <a:pt x="62220" y="161451"/>
                  </a:cubicBezTo>
                  <a:cubicBezTo>
                    <a:pt x="61684" y="161988"/>
                    <a:pt x="61684" y="162524"/>
                    <a:pt x="61148" y="163060"/>
                  </a:cubicBezTo>
                  <a:cubicBezTo>
                    <a:pt x="61148" y="163597"/>
                    <a:pt x="60611" y="164133"/>
                    <a:pt x="60611" y="164133"/>
                  </a:cubicBezTo>
                  <a:cubicBezTo>
                    <a:pt x="59002" y="167351"/>
                    <a:pt x="59002" y="171643"/>
                    <a:pt x="59002" y="175397"/>
                  </a:cubicBezTo>
                  <a:cubicBezTo>
                    <a:pt x="57929" y="267655"/>
                    <a:pt x="79921" y="359913"/>
                    <a:pt x="123368" y="440907"/>
                  </a:cubicBezTo>
                  <a:cubicBezTo>
                    <a:pt x="130341" y="453780"/>
                    <a:pt x="137851" y="467190"/>
                    <a:pt x="149115" y="477381"/>
                  </a:cubicBezTo>
                  <a:cubicBezTo>
                    <a:pt x="148042" y="478454"/>
                    <a:pt x="148578" y="478454"/>
                    <a:pt x="150187" y="478454"/>
                  </a:cubicBezTo>
                  <a:cubicBezTo>
                    <a:pt x="150724" y="478454"/>
                    <a:pt x="150724" y="478454"/>
                    <a:pt x="151260" y="478454"/>
                  </a:cubicBezTo>
                  <a:cubicBezTo>
                    <a:pt x="151260" y="478454"/>
                    <a:pt x="151797" y="478454"/>
                    <a:pt x="151797" y="478454"/>
                  </a:cubicBezTo>
                  <a:cubicBezTo>
                    <a:pt x="151797" y="478454"/>
                    <a:pt x="151797" y="478454"/>
                    <a:pt x="151797" y="478454"/>
                  </a:cubicBezTo>
                  <a:cubicBezTo>
                    <a:pt x="151797" y="478454"/>
                    <a:pt x="151797" y="478454"/>
                    <a:pt x="152333" y="478454"/>
                  </a:cubicBezTo>
                  <a:cubicBezTo>
                    <a:pt x="152333" y="478454"/>
                    <a:pt x="152869" y="477917"/>
                    <a:pt x="152869" y="477917"/>
                  </a:cubicBezTo>
                  <a:cubicBezTo>
                    <a:pt x="159306" y="478454"/>
                    <a:pt x="159306" y="478454"/>
                    <a:pt x="159842" y="47791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21" name="Freeform: Shape 532"/>
            <p:cNvSpPr/>
            <p:nvPr/>
          </p:nvSpPr>
          <p:spPr>
            <a:xfrm>
              <a:off x="9625320" y="2245320"/>
              <a:ext cx="167400" cy="592200"/>
            </a:xfrm>
            <a:custGeom>
              <a:avLst/>
              <a:gdLst/>
              <a:ahLst/>
              <a:rect l="l" t="t" r="r" b="b"/>
              <a:pathLst>
                <a:path w="215896" h="762200">
                  <a:moveTo>
                    <a:pt x="215626" y="495618"/>
                  </a:moveTo>
                  <a:cubicBezTo>
                    <a:pt x="214017" y="510100"/>
                    <a:pt x="208653" y="524046"/>
                    <a:pt x="203289" y="537456"/>
                  </a:cubicBezTo>
                  <a:cubicBezTo>
                    <a:pt x="173252" y="612550"/>
                    <a:pt x="142678" y="687107"/>
                    <a:pt x="112641" y="762201"/>
                  </a:cubicBezTo>
                  <a:cubicBezTo>
                    <a:pt x="112104" y="761664"/>
                    <a:pt x="112104" y="761128"/>
                    <a:pt x="111568" y="760592"/>
                  </a:cubicBezTo>
                  <a:cubicBezTo>
                    <a:pt x="104058" y="746109"/>
                    <a:pt x="94404" y="732700"/>
                    <a:pt x="83139" y="720899"/>
                  </a:cubicBezTo>
                  <a:cubicBezTo>
                    <a:pt x="61148" y="697298"/>
                    <a:pt x="32719" y="679598"/>
                    <a:pt x="1609" y="670479"/>
                  </a:cubicBezTo>
                  <a:cubicBezTo>
                    <a:pt x="1073" y="670479"/>
                    <a:pt x="536" y="669943"/>
                    <a:pt x="0" y="669943"/>
                  </a:cubicBezTo>
                  <a:cubicBezTo>
                    <a:pt x="536" y="668870"/>
                    <a:pt x="536" y="667261"/>
                    <a:pt x="1073" y="666188"/>
                  </a:cubicBezTo>
                  <a:cubicBezTo>
                    <a:pt x="1073" y="665652"/>
                    <a:pt x="1609" y="664579"/>
                    <a:pt x="1609" y="664043"/>
                  </a:cubicBezTo>
                  <a:cubicBezTo>
                    <a:pt x="2682" y="652242"/>
                    <a:pt x="7509" y="639905"/>
                    <a:pt x="12337" y="628105"/>
                  </a:cubicBezTo>
                  <a:cubicBezTo>
                    <a:pt x="13946" y="623277"/>
                    <a:pt x="15555" y="617914"/>
                    <a:pt x="17164" y="613086"/>
                  </a:cubicBezTo>
                  <a:cubicBezTo>
                    <a:pt x="18773" y="607186"/>
                    <a:pt x="20919" y="601286"/>
                    <a:pt x="22528" y="594849"/>
                  </a:cubicBezTo>
                  <a:cubicBezTo>
                    <a:pt x="34865" y="555693"/>
                    <a:pt x="47738" y="516537"/>
                    <a:pt x="63293" y="478454"/>
                  </a:cubicBezTo>
                  <a:cubicBezTo>
                    <a:pt x="65439" y="472554"/>
                    <a:pt x="68121" y="466653"/>
                    <a:pt x="68121" y="460753"/>
                  </a:cubicBezTo>
                  <a:cubicBezTo>
                    <a:pt x="68657" y="454317"/>
                    <a:pt x="67048" y="448416"/>
                    <a:pt x="65439" y="441980"/>
                  </a:cubicBezTo>
                  <a:cubicBezTo>
                    <a:pt x="54175" y="397996"/>
                    <a:pt x="49884" y="354013"/>
                    <a:pt x="23601" y="317003"/>
                  </a:cubicBezTo>
                  <a:cubicBezTo>
                    <a:pt x="6973" y="285356"/>
                    <a:pt x="3218" y="248346"/>
                    <a:pt x="5364" y="212944"/>
                  </a:cubicBezTo>
                  <a:cubicBezTo>
                    <a:pt x="6437" y="196316"/>
                    <a:pt x="8582" y="180225"/>
                    <a:pt x="11800" y="164133"/>
                  </a:cubicBezTo>
                  <a:cubicBezTo>
                    <a:pt x="24674" y="102986"/>
                    <a:pt x="54175" y="45593"/>
                    <a:pt x="96549" y="0"/>
                  </a:cubicBezTo>
                  <a:cubicBezTo>
                    <a:pt x="122832" y="32183"/>
                    <a:pt x="142678" y="102986"/>
                    <a:pt x="151797" y="142678"/>
                  </a:cubicBezTo>
                  <a:cubicBezTo>
                    <a:pt x="161988" y="188807"/>
                    <a:pt x="168961" y="235472"/>
                    <a:pt x="176470" y="281601"/>
                  </a:cubicBezTo>
                  <a:cubicBezTo>
                    <a:pt x="184516" y="334167"/>
                    <a:pt x="192562" y="386732"/>
                    <a:pt x="206508" y="438762"/>
                  </a:cubicBezTo>
                  <a:cubicBezTo>
                    <a:pt x="211335" y="456999"/>
                    <a:pt x="217235" y="476308"/>
                    <a:pt x="215626" y="49561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22" name="Freeform: Shape 533"/>
            <p:cNvSpPr/>
            <p:nvPr/>
          </p:nvSpPr>
          <p:spPr>
            <a:xfrm>
              <a:off x="9257040" y="2573640"/>
              <a:ext cx="46080" cy="107280"/>
            </a:xfrm>
            <a:custGeom>
              <a:avLst/>
              <a:gdLst/>
              <a:ahLst/>
              <a:rect l="l" t="t" r="r" b="b"/>
              <a:pathLst>
                <a:path w="59648" h="138080">
                  <a:moveTo>
                    <a:pt x="18347" y="52985"/>
                  </a:moveTo>
                  <a:cubicBezTo>
                    <a:pt x="14056" y="63713"/>
                    <a:pt x="10838" y="76050"/>
                    <a:pt x="15129" y="86777"/>
                  </a:cubicBezTo>
                  <a:cubicBezTo>
                    <a:pt x="19420" y="97505"/>
                    <a:pt x="29611" y="104478"/>
                    <a:pt x="39266" y="110378"/>
                  </a:cubicBezTo>
                  <a:cubicBezTo>
                    <a:pt x="40339" y="110914"/>
                    <a:pt x="41412" y="111451"/>
                    <a:pt x="42484" y="111987"/>
                  </a:cubicBezTo>
                  <a:cubicBezTo>
                    <a:pt x="41948" y="114133"/>
                    <a:pt x="41412" y="116815"/>
                    <a:pt x="41412" y="118960"/>
                  </a:cubicBezTo>
                  <a:cubicBezTo>
                    <a:pt x="40875" y="122178"/>
                    <a:pt x="40339" y="124860"/>
                    <a:pt x="39802" y="128079"/>
                  </a:cubicBezTo>
                  <a:cubicBezTo>
                    <a:pt x="38730" y="129688"/>
                    <a:pt x="38193" y="131833"/>
                    <a:pt x="37121" y="133442"/>
                  </a:cubicBezTo>
                  <a:cubicBezTo>
                    <a:pt x="36584" y="135052"/>
                    <a:pt x="35511" y="136661"/>
                    <a:pt x="33902" y="137734"/>
                  </a:cubicBezTo>
                  <a:cubicBezTo>
                    <a:pt x="31757" y="138806"/>
                    <a:pt x="29611" y="137197"/>
                    <a:pt x="28002" y="135588"/>
                  </a:cubicBezTo>
                  <a:cubicBezTo>
                    <a:pt x="25856" y="133442"/>
                    <a:pt x="24247" y="130224"/>
                    <a:pt x="22638" y="127542"/>
                  </a:cubicBezTo>
                  <a:cubicBezTo>
                    <a:pt x="16202" y="115742"/>
                    <a:pt x="9229" y="103405"/>
                    <a:pt x="4938" y="89995"/>
                  </a:cubicBezTo>
                  <a:cubicBezTo>
                    <a:pt x="646" y="77122"/>
                    <a:pt x="-1499" y="62640"/>
                    <a:pt x="1183" y="49230"/>
                  </a:cubicBezTo>
                  <a:cubicBezTo>
                    <a:pt x="3328" y="38503"/>
                    <a:pt x="8156" y="27775"/>
                    <a:pt x="14592" y="18656"/>
                  </a:cubicBezTo>
                  <a:cubicBezTo>
                    <a:pt x="19420" y="11684"/>
                    <a:pt x="25320" y="5247"/>
                    <a:pt x="33366" y="2029"/>
                  </a:cubicBezTo>
                  <a:cubicBezTo>
                    <a:pt x="40339" y="-1190"/>
                    <a:pt x="51603" y="-653"/>
                    <a:pt x="58039" y="4174"/>
                  </a:cubicBezTo>
                  <a:cubicBezTo>
                    <a:pt x="58576" y="4710"/>
                    <a:pt x="59112" y="5247"/>
                    <a:pt x="59649" y="5783"/>
                  </a:cubicBezTo>
                  <a:cubicBezTo>
                    <a:pt x="57503" y="6856"/>
                    <a:pt x="55894" y="7929"/>
                    <a:pt x="53748" y="9002"/>
                  </a:cubicBezTo>
                  <a:cubicBezTo>
                    <a:pt x="37121" y="18120"/>
                    <a:pt x="25320" y="35284"/>
                    <a:pt x="18347" y="52985"/>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23" name="Freeform: Shape 534"/>
            <p:cNvSpPr/>
            <p:nvPr/>
          </p:nvSpPr>
          <p:spPr>
            <a:xfrm>
              <a:off x="9621720" y="2763360"/>
              <a:ext cx="89280" cy="75960"/>
            </a:xfrm>
            <a:custGeom>
              <a:avLst/>
              <a:gdLst/>
              <a:ahLst/>
              <a:rect l="l" t="t" r="r" b="b"/>
              <a:pathLst>
                <a:path w="115322" h="98158">
                  <a:moveTo>
                    <a:pt x="115322" y="93867"/>
                  </a:moveTo>
                  <a:cubicBezTo>
                    <a:pt x="114786" y="94940"/>
                    <a:pt x="113713" y="96013"/>
                    <a:pt x="112641" y="96549"/>
                  </a:cubicBezTo>
                  <a:cubicBezTo>
                    <a:pt x="112641" y="96549"/>
                    <a:pt x="112641" y="96549"/>
                    <a:pt x="112104" y="97085"/>
                  </a:cubicBezTo>
                  <a:cubicBezTo>
                    <a:pt x="112104" y="97085"/>
                    <a:pt x="112104" y="97085"/>
                    <a:pt x="111568" y="97085"/>
                  </a:cubicBezTo>
                  <a:cubicBezTo>
                    <a:pt x="109959" y="97622"/>
                    <a:pt x="108350" y="98158"/>
                    <a:pt x="106740" y="98158"/>
                  </a:cubicBezTo>
                  <a:cubicBezTo>
                    <a:pt x="106740" y="98158"/>
                    <a:pt x="106740" y="98158"/>
                    <a:pt x="106740" y="98158"/>
                  </a:cubicBezTo>
                  <a:cubicBezTo>
                    <a:pt x="103522" y="97622"/>
                    <a:pt x="101377" y="94403"/>
                    <a:pt x="99767" y="91185"/>
                  </a:cubicBezTo>
                  <a:cubicBezTo>
                    <a:pt x="93867" y="80994"/>
                    <a:pt x="86894" y="71875"/>
                    <a:pt x="79385" y="63293"/>
                  </a:cubicBezTo>
                  <a:cubicBezTo>
                    <a:pt x="77239" y="60611"/>
                    <a:pt x="75094" y="58466"/>
                    <a:pt x="72412" y="55784"/>
                  </a:cubicBezTo>
                  <a:cubicBezTo>
                    <a:pt x="53638" y="37010"/>
                    <a:pt x="30574" y="22528"/>
                    <a:pt x="5364" y="13946"/>
                  </a:cubicBezTo>
                  <a:cubicBezTo>
                    <a:pt x="3755" y="13410"/>
                    <a:pt x="2146" y="12873"/>
                    <a:pt x="0" y="12337"/>
                  </a:cubicBezTo>
                  <a:cubicBezTo>
                    <a:pt x="1073" y="9655"/>
                    <a:pt x="2146" y="4291"/>
                    <a:pt x="4291" y="0"/>
                  </a:cubicBezTo>
                  <a:cubicBezTo>
                    <a:pt x="4291" y="1073"/>
                    <a:pt x="3755" y="1609"/>
                    <a:pt x="3755" y="2682"/>
                  </a:cubicBezTo>
                  <a:cubicBezTo>
                    <a:pt x="4291" y="2682"/>
                    <a:pt x="4827" y="3218"/>
                    <a:pt x="5364" y="3218"/>
                  </a:cubicBezTo>
                  <a:cubicBezTo>
                    <a:pt x="6437" y="3755"/>
                    <a:pt x="8046" y="3755"/>
                    <a:pt x="9119" y="4291"/>
                  </a:cubicBezTo>
                  <a:cubicBezTo>
                    <a:pt x="9655" y="4291"/>
                    <a:pt x="9655" y="4291"/>
                    <a:pt x="10191" y="4827"/>
                  </a:cubicBezTo>
                  <a:cubicBezTo>
                    <a:pt x="11264" y="5364"/>
                    <a:pt x="12337" y="5364"/>
                    <a:pt x="13410" y="5900"/>
                  </a:cubicBezTo>
                  <a:cubicBezTo>
                    <a:pt x="13946" y="5900"/>
                    <a:pt x="14482" y="6437"/>
                    <a:pt x="15019" y="6437"/>
                  </a:cubicBezTo>
                  <a:cubicBezTo>
                    <a:pt x="16092" y="6973"/>
                    <a:pt x="17701" y="7509"/>
                    <a:pt x="18773" y="7509"/>
                  </a:cubicBezTo>
                  <a:cubicBezTo>
                    <a:pt x="21455" y="8582"/>
                    <a:pt x="24674" y="9655"/>
                    <a:pt x="27356" y="10728"/>
                  </a:cubicBezTo>
                  <a:cubicBezTo>
                    <a:pt x="28965" y="11264"/>
                    <a:pt x="30038" y="11800"/>
                    <a:pt x="31647" y="12337"/>
                  </a:cubicBezTo>
                  <a:cubicBezTo>
                    <a:pt x="31647" y="12337"/>
                    <a:pt x="31647" y="12337"/>
                    <a:pt x="31647" y="12337"/>
                  </a:cubicBezTo>
                  <a:cubicBezTo>
                    <a:pt x="33256" y="12873"/>
                    <a:pt x="34329" y="13410"/>
                    <a:pt x="35938" y="14482"/>
                  </a:cubicBezTo>
                  <a:cubicBezTo>
                    <a:pt x="38620" y="16091"/>
                    <a:pt x="41302" y="17164"/>
                    <a:pt x="43984" y="18773"/>
                  </a:cubicBezTo>
                  <a:cubicBezTo>
                    <a:pt x="46665" y="20382"/>
                    <a:pt x="49347" y="21992"/>
                    <a:pt x="52029" y="23601"/>
                  </a:cubicBezTo>
                  <a:cubicBezTo>
                    <a:pt x="54711" y="25210"/>
                    <a:pt x="56857" y="26819"/>
                    <a:pt x="59539" y="28428"/>
                  </a:cubicBezTo>
                  <a:cubicBezTo>
                    <a:pt x="60611" y="29501"/>
                    <a:pt x="62221" y="30037"/>
                    <a:pt x="63293" y="31110"/>
                  </a:cubicBezTo>
                  <a:cubicBezTo>
                    <a:pt x="64366" y="32183"/>
                    <a:pt x="65975" y="32719"/>
                    <a:pt x="67048" y="33792"/>
                  </a:cubicBezTo>
                  <a:cubicBezTo>
                    <a:pt x="68121" y="34865"/>
                    <a:pt x="69194" y="35401"/>
                    <a:pt x="70266" y="36474"/>
                  </a:cubicBezTo>
                  <a:cubicBezTo>
                    <a:pt x="70266" y="36474"/>
                    <a:pt x="70266" y="36474"/>
                    <a:pt x="70266" y="36474"/>
                  </a:cubicBezTo>
                  <a:cubicBezTo>
                    <a:pt x="71339" y="37547"/>
                    <a:pt x="72412" y="38083"/>
                    <a:pt x="73485" y="39156"/>
                  </a:cubicBezTo>
                  <a:cubicBezTo>
                    <a:pt x="73485" y="39156"/>
                    <a:pt x="74021" y="39692"/>
                    <a:pt x="74021" y="39692"/>
                  </a:cubicBezTo>
                  <a:cubicBezTo>
                    <a:pt x="75094" y="40765"/>
                    <a:pt x="76167" y="41301"/>
                    <a:pt x="77239" y="42374"/>
                  </a:cubicBezTo>
                  <a:cubicBezTo>
                    <a:pt x="77239" y="42374"/>
                    <a:pt x="77776" y="42911"/>
                    <a:pt x="77776" y="42911"/>
                  </a:cubicBezTo>
                  <a:cubicBezTo>
                    <a:pt x="78848" y="43983"/>
                    <a:pt x="79921" y="44520"/>
                    <a:pt x="80458" y="45593"/>
                  </a:cubicBezTo>
                  <a:cubicBezTo>
                    <a:pt x="81530" y="46665"/>
                    <a:pt x="82603" y="47738"/>
                    <a:pt x="83676" y="48811"/>
                  </a:cubicBezTo>
                  <a:cubicBezTo>
                    <a:pt x="85285" y="50420"/>
                    <a:pt x="86358" y="51493"/>
                    <a:pt x="87967" y="53102"/>
                  </a:cubicBezTo>
                  <a:cubicBezTo>
                    <a:pt x="98695" y="65975"/>
                    <a:pt x="107813" y="79385"/>
                    <a:pt x="115322" y="93867"/>
                  </a:cubicBezTo>
                  <a:close/>
                </a:path>
              </a:pathLst>
            </a:custGeom>
            <a:solidFill>
              <a:srgbClr val="e6e7e8"/>
            </a:solidFill>
            <a:ln w="0">
              <a:noFill/>
            </a:ln>
          </p:spPr>
          <p:style>
            <a:lnRef idx="0"/>
            <a:fillRef idx="0"/>
            <a:effectRef idx="0"/>
            <a:fontRef idx="minor"/>
          </p:style>
          <p:txBody>
            <a:bodyPr lIns="90000" rIns="90000" tIns="29160" bIns="29160" anchor="ctr">
              <a:noAutofit/>
            </a:bodyPr>
            <a:p>
              <a:endParaRPr b="0" lang="en-US" sz="1800" spc="-1" strike="noStrike">
                <a:solidFill>
                  <a:srgbClr val="313c3f"/>
                </a:solidFill>
                <a:latin typeface="Source Sans Pro"/>
              </a:endParaRPr>
            </a:p>
          </p:txBody>
        </p:sp>
        <p:sp>
          <p:nvSpPr>
            <p:cNvPr id="2724" name="Freeform: Shape 535"/>
            <p:cNvSpPr/>
            <p:nvPr/>
          </p:nvSpPr>
          <p:spPr>
            <a:xfrm>
              <a:off x="9612000" y="2775600"/>
              <a:ext cx="72000" cy="94320"/>
            </a:xfrm>
            <a:custGeom>
              <a:avLst/>
              <a:gdLst/>
              <a:ahLst/>
              <a:rect l="l" t="t" r="r" b="b"/>
              <a:pathLst>
                <a:path w="92794" h="121759">
                  <a:moveTo>
                    <a:pt x="92794" y="48274"/>
                  </a:moveTo>
                  <a:cubicBezTo>
                    <a:pt x="91185" y="49884"/>
                    <a:pt x="89576" y="50956"/>
                    <a:pt x="87967" y="52565"/>
                  </a:cubicBezTo>
                  <a:cubicBezTo>
                    <a:pt x="82603" y="57393"/>
                    <a:pt x="77239" y="62220"/>
                    <a:pt x="71875" y="67048"/>
                  </a:cubicBezTo>
                  <a:cubicBezTo>
                    <a:pt x="69730" y="69193"/>
                    <a:pt x="67584" y="70803"/>
                    <a:pt x="65439" y="72948"/>
                  </a:cubicBezTo>
                  <a:cubicBezTo>
                    <a:pt x="59539" y="78312"/>
                    <a:pt x="53638" y="83676"/>
                    <a:pt x="47738" y="89576"/>
                  </a:cubicBezTo>
                  <a:cubicBezTo>
                    <a:pt x="46665" y="90649"/>
                    <a:pt x="45593" y="91722"/>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967" y="42911"/>
                    <a:pt x="90112" y="45593"/>
                    <a:pt x="92794" y="4827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25" name="Freeform: Shape 536"/>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58595b"/>
            </a:solidFill>
            <a:ln w="0">
              <a:noFill/>
            </a:ln>
          </p:spPr>
          <p:style>
            <a:lnRef idx="0"/>
            <a:fillRef idx="0"/>
            <a:effectRef idx="0"/>
            <a:fontRef idx="minor"/>
          </p:style>
          <p:txBody>
            <a:bodyPr lIns="90000" rIns="90000" tIns="33120" bIns="33120" anchor="ctr">
              <a:noAutofit/>
            </a:bodyPr>
            <a:p>
              <a:endParaRPr b="0" lang="en-US" sz="1800" spc="-1" strike="noStrike">
                <a:solidFill>
                  <a:srgbClr val="313c3f"/>
                </a:solidFill>
                <a:latin typeface="Source Sans Pro"/>
              </a:endParaRPr>
            </a:p>
          </p:txBody>
        </p:sp>
        <p:sp>
          <p:nvSpPr>
            <p:cNvPr id="2726" name="Freeform: Shape 537"/>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58595b"/>
            </a:solidFill>
            <a:ln w="0">
              <a:noFill/>
            </a:ln>
          </p:spPr>
          <p:style>
            <a:lnRef idx="0"/>
            <a:fillRef idx="0"/>
            <a:effectRef idx="0"/>
            <a:fontRef idx="minor"/>
          </p:style>
          <p:txBody>
            <a:bodyPr lIns="90000" rIns="90000" tIns="21960" bIns="21960" anchor="ctr">
              <a:noAutofit/>
            </a:bodyPr>
            <a:p>
              <a:endParaRPr b="0" lang="en-US" sz="1800" spc="-1" strike="noStrike">
                <a:solidFill>
                  <a:srgbClr val="313c3f"/>
                </a:solidFill>
                <a:latin typeface="Source Sans Pro"/>
              </a:endParaRPr>
            </a:p>
          </p:txBody>
        </p:sp>
        <p:sp>
          <p:nvSpPr>
            <p:cNvPr id="2727" name="Freeform: Shape 538"/>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58595b"/>
            </a:solidFill>
            <a:ln w="0">
              <a:noFill/>
            </a:ln>
          </p:spPr>
          <p:style>
            <a:lnRef idx="0"/>
            <a:fillRef idx="0"/>
            <a:effectRef idx="0"/>
            <a:fontRef idx="minor"/>
          </p:style>
          <p:txBody>
            <a:bodyPr lIns="90000" rIns="90000" tIns="-24120" bIns="-24120" anchor="ctr">
              <a:noAutofit/>
            </a:bodyPr>
            <a:p>
              <a:endParaRPr b="0" lang="en-US" sz="1800" spc="-1" strike="noStrike">
                <a:solidFill>
                  <a:srgbClr val="313c3f"/>
                </a:solidFill>
                <a:latin typeface="Source Sans Pro"/>
              </a:endParaRPr>
            </a:p>
          </p:txBody>
        </p:sp>
        <p:sp>
          <p:nvSpPr>
            <p:cNvPr id="2728" name="Freeform: Shape 539"/>
            <p:cNvSpPr/>
            <p:nvPr/>
          </p:nvSpPr>
          <p:spPr>
            <a:xfrm>
              <a:off x="9667440" y="2813400"/>
              <a:ext cx="37440" cy="27000"/>
            </a:xfrm>
            <a:custGeom>
              <a:avLst/>
              <a:gdLst/>
              <a:ahLst/>
              <a:rect l="l" t="t" r="r" b="b"/>
              <a:pathLst>
                <a:path w="48274" h="34760">
                  <a:moveTo>
                    <a:pt x="-17261" y="-31208"/>
                  </a:moveTo>
                  <a:cubicBezTo>
                    <a:pt x="-23698" y="-30135"/>
                    <a:pt x="-30671" y="-31208"/>
                    <a:pt x="28428" y="32719"/>
                  </a:cubicBezTo>
                  <a:cubicBezTo>
                    <a:pt x="20383" y="30037"/>
                    <a:pt x="12873" y="25746"/>
                    <a:pt x="5364" y="21455"/>
                  </a:cubicBezTo>
                  <a:cubicBezTo>
                    <a:pt x="4291" y="20919"/>
                    <a:pt x="2146" y="19846"/>
                    <a:pt x="0" y="18773"/>
                  </a:cubicBezTo>
                  <a:cubicBezTo>
                    <a:pt x="5364" y="13946"/>
                    <a:pt x="10728" y="9118"/>
                    <a:pt x="16092" y="4291"/>
                  </a:cubicBezTo>
                  <a:cubicBezTo>
                    <a:pt x="17701" y="2682"/>
                    <a:pt x="19310" y="1609"/>
                    <a:pt x="20919" y="0"/>
                  </a:cubicBezTo>
                  <a:cubicBezTo>
                    <a:pt x="28965" y="8582"/>
                    <a:pt x="-30135" y="18237"/>
                    <a:pt x="-24234" y="27892"/>
                  </a:cubicBezTo>
                  <a:cubicBezTo>
                    <a:pt x="-22625" y="30037"/>
                    <a:pt x="-20480" y="-32280"/>
                    <a:pt x="-17261" y="-31208"/>
                  </a:cubicBezTo>
                  <a:close/>
                </a:path>
              </a:pathLst>
            </a:custGeom>
            <a:solidFill>
              <a:srgbClr val="231f20"/>
            </a:solidFill>
            <a:ln w="0">
              <a:noFill/>
            </a:ln>
          </p:spPr>
          <p:style>
            <a:lnRef idx="0"/>
            <a:fillRef idx="0"/>
            <a:effectRef idx="0"/>
            <a:fontRef idx="minor"/>
          </p:style>
          <p:txBody>
            <a:bodyPr lIns="90000" rIns="90000" tIns="-19800" bIns="-19800" anchor="ctr">
              <a:noAutofit/>
            </a:bodyPr>
            <a:p>
              <a:endParaRPr b="0" lang="en-US" sz="1800" spc="-1" strike="noStrike">
                <a:solidFill>
                  <a:srgbClr val="313c3f"/>
                </a:solidFill>
                <a:latin typeface="Source Sans Pro"/>
              </a:endParaRPr>
            </a:p>
          </p:txBody>
        </p:sp>
        <p:sp>
          <p:nvSpPr>
            <p:cNvPr id="2729" name="Freeform: Shape 540"/>
            <p:cNvSpPr/>
            <p:nvPr/>
          </p:nvSpPr>
          <p:spPr>
            <a:xfrm>
              <a:off x="9423360" y="2106000"/>
              <a:ext cx="103320" cy="71280"/>
            </a:xfrm>
            <a:custGeom>
              <a:avLst/>
              <a:gdLst/>
              <a:ahLst/>
              <a:rect l="l" t="t" r="r" b="b"/>
              <a:pathLst>
                <a:path w="133559" h="92098">
                  <a:moveTo>
                    <a:pt x="133560" y="22528"/>
                  </a:moveTo>
                  <a:cubicBezTo>
                    <a:pt x="133023" y="23601"/>
                    <a:pt x="132487" y="24674"/>
                    <a:pt x="131950" y="25746"/>
                  </a:cubicBezTo>
                  <a:cubicBezTo>
                    <a:pt x="122832" y="43447"/>
                    <a:pt x="109959" y="59539"/>
                    <a:pt x="96549" y="74021"/>
                  </a:cubicBezTo>
                  <a:cubicBezTo>
                    <a:pt x="91185" y="79921"/>
                    <a:pt x="85821" y="85821"/>
                    <a:pt x="78312" y="89040"/>
                  </a:cubicBezTo>
                  <a:cubicBezTo>
                    <a:pt x="69730" y="92794"/>
                    <a:pt x="60075" y="92794"/>
                    <a:pt x="50956" y="90649"/>
                  </a:cubicBezTo>
                  <a:cubicBezTo>
                    <a:pt x="41838" y="88503"/>
                    <a:pt x="33792" y="83676"/>
                    <a:pt x="26283" y="78312"/>
                  </a:cubicBezTo>
                  <a:cubicBezTo>
                    <a:pt x="17701" y="72412"/>
                    <a:pt x="9119" y="65975"/>
                    <a:pt x="1609" y="58466"/>
                  </a:cubicBezTo>
                  <a:cubicBezTo>
                    <a:pt x="1073" y="55248"/>
                    <a:pt x="536" y="51493"/>
                    <a:pt x="0" y="48274"/>
                  </a:cubicBezTo>
                  <a:cubicBezTo>
                    <a:pt x="3218" y="52029"/>
                    <a:pt x="6973" y="55784"/>
                    <a:pt x="10191" y="57393"/>
                  </a:cubicBezTo>
                  <a:cubicBezTo>
                    <a:pt x="28428" y="68657"/>
                    <a:pt x="30038" y="65975"/>
                    <a:pt x="52566" y="65439"/>
                  </a:cubicBezTo>
                  <a:cubicBezTo>
                    <a:pt x="59002" y="65439"/>
                    <a:pt x="76703" y="70803"/>
                    <a:pt x="101913" y="47202"/>
                  </a:cubicBezTo>
                  <a:cubicBezTo>
                    <a:pt x="106740" y="42374"/>
                    <a:pt x="118541" y="26819"/>
                    <a:pt x="128732" y="8582"/>
                  </a:cubicBezTo>
                  <a:cubicBezTo>
                    <a:pt x="130341" y="5900"/>
                    <a:pt x="131950" y="2682"/>
                    <a:pt x="133560" y="0"/>
                  </a:cubicBezTo>
                  <a:cubicBezTo>
                    <a:pt x="133023" y="8046"/>
                    <a:pt x="133023" y="15019"/>
                    <a:pt x="133560" y="22528"/>
                  </a:cubicBezTo>
                  <a:close/>
                </a:path>
              </a:pathLst>
            </a:custGeom>
            <a:solidFill>
              <a:srgbClr val="cf9e76"/>
            </a:solidFill>
            <a:ln w="0">
              <a:noFill/>
            </a:ln>
          </p:spPr>
          <p:style>
            <a:lnRef idx="0"/>
            <a:fillRef idx="0"/>
            <a:effectRef idx="0"/>
            <a:fontRef idx="minor"/>
          </p:style>
          <p:txBody>
            <a:bodyPr lIns="90000" rIns="90000" tIns="24480" bIns="24480" anchor="ctr">
              <a:noAutofit/>
            </a:bodyPr>
            <a:p>
              <a:endParaRPr b="0" lang="en-US" sz="1800" spc="-1" strike="noStrike">
                <a:solidFill>
                  <a:srgbClr val="313c3f"/>
                </a:solidFill>
                <a:latin typeface="Source Sans Pro"/>
              </a:endParaRPr>
            </a:p>
          </p:txBody>
        </p:sp>
        <p:sp>
          <p:nvSpPr>
            <p:cNvPr id="2730" name="Freeform: Shape 541"/>
            <p:cNvSpPr/>
            <p:nvPr/>
          </p:nvSpPr>
          <p:spPr>
            <a:xfrm>
              <a:off x="9612360" y="2775960"/>
              <a:ext cx="71280" cy="94320"/>
            </a:xfrm>
            <a:custGeom>
              <a:avLst/>
              <a:gdLst/>
              <a:ahLst/>
              <a:rect l="l" t="t" r="r" b="b"/>
              <a:pathLst>
                <a:path w="92257" h="121758">
                  <a:moveTo>
                    <a:pt x="92258" y="47738"/>
                  </a:moveTo>
                  <a:cubicBezTo>
                    <a:pt x="90649" y="49347"/>
                    <a:pt x="89040" y="50420"/>
                    <a:pt x="87430" y="52029"/>
                  </a:cubicBezTo>
                  <a:cubicBezTo>
                    <a:pt x="82067" y="56857"/>
                    <a:pt x="76703" y="61684"/>
                    <a:pt x="71339" y="66511"/>
                  </a:cubicBezTo>
                  <a:cubicBezTo>
                    <a:pt x="69193" y="68657"/>
                    <a:pt x="67048" y="70266"/>
                    <a:pt x="64902" y="72412"/>
                  </a:cubicBezTo>
                  <a:cubicBezTo>
                    <a:pt x="55784" y="60075"/>
                    <a:pt x="46129" y="48274"/>
                    <a:pt x="37010" y="36474"/>
                  </a:cubicBezTo>
                  <a:cubicBezTo>
                    <a:pt x="35401" y="34328"/>
                    <a:pt x="32719" y="31647"/>
                    <a:pt x="30037" y="32719"/>
                  </a:cubicBezTo>
                  <a:cubicBezTo>
                    <a:pt x="28965" y="33256"/>
                    <a:pt x="27892" y="34328"/>
                    <a:pt x="27356" y="35401"/>
                  </a:cubicBezTo>
                  <a:cubicBezTo>
                    <a:pt x="18237" y="48811"/>
                    <a:pt x="20383" y="66511"/>
                    <a:pt x="19846" y="82603"/>
                  </a:cubicBezTo>
                  <a:cubicBezTo>
                    <a:pt x="19846" y="92794"/>
                    <a:pt x="18237" y="102985"/>
                    <a:pt x="16092" y="113177"/>
                  </a:cubicBezTo>
                  <a:cubicBezTo>
                    <a:pt x="24674" y="105131"/>
                    <a:pt x="33792" y="98158"/>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430" y="42374"/>
                    <a:pt x="89576" y="45056"/>
                    <a:pt x="92258" y="4773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31" name="Freeform: Shape 542"/>
            <p:cNvSpPr/>
            <p:nvPr/>
          </p:nvSpPr>
          <p:spPr>
            <a:xfrm>
              <a:off x="9400320" y="2161440"/>
              <a:ext cx="191160" cy="385920"/>
            </a:xfrm>
            <a:custGeom>
              <a:avLst/>
              <a:gdLst/>
              <a:ahLst/>
              <a:rect l="l" t="t" r="r" b="b"/>
              <a:pathLst>
                <a:path w="246745" h="496690">
                  <a:moveTo>
                    <a:pt x="246200" y="74557"/>
                  </a:moveTo>
                  <a:cubicBezTo>
                    <a:pt x="244591" y="101376"/>
                    <a:pt x="240300" y="127659"/>
                    <a:pt x="234400" y="153405"/>
                  </a:cubicBezTo>
                  <a:cubicBezTo>
                    <a:pt x="218308" y="155551"/>
                    <a:pt x="201680" y="157697"/>
                    <a:pt x="186125" y="162524"/>
                  </a:cubicBezTo>
                  <a:cubicBezTo>
                    <a:pt x="201144" y="170570"/>
                    <a:pt x="216163" y="178616"/>
                    <a:pt x="230645" y="186661"/>
                  </a:cubicBezTo>
                  <a:cubicBezTo>
                    <a:pt x="208117" y="232790"/>
                    <a:pt x="180761" y="276774"/>
                    <a:pt x="149651" y="317539"/>
                  </a:cubicBezTo>
                  <a:cubicBezTo>
                    <a:pt x="102449" y="379759"/>
                    <a:pt x="46665" y="434470"/>
                    <a:pt x="0" y="496691"/>
                  </a:cubicBezTo>
                  <a:cubicBezTo>
                    <a:pt x="16628" y="462899"/>
                    <a:pt x="35938" y="431252"/>
                    <a:pt x="60075" y="402287"/>
                  </a:cubicBezTo>
                  <a:cubicBezTo>
                    <a:pt x="116395" y="334703"/>
                    <a:pt x="182907" y="270337"/>
                    <a:pt x="219917" y="190416"/>
                  </a:cubicBezTo>
                  <a:cubicBezTo>
                    <a:pt x="200607" y="177543"/>
                    <a:pt x="180761" y="165206"/>
                    <a:pt x="160379" y="153942"/>
                  </a:cubicBezTo>
                  <a:cubicBezTo>
                    <a:pt x="182907" y="149114"/>
                    <a:pt x="205435" y="144287"/>
                    <a:pt x="227427" y="138923"/>
                  </a:cubicBezTo>
                  <a:cubicBezTo>
                    <a:pt x="233327" y="112640"/>
                    <a:pt x="237081" y="85821"/>
                    <a:pt x="238691" y="59002"/>
                  </a:cubicBezTo>
                  <a:cubicBezTo>
                    <a:pt x="239227" y="54175"/>
                    <a:pt x="239227" y="49347"/>
                    <a:pt x="238691" y="44520"/>
                  </a:cubicBezTo>
                  <a:cubicBezTo>
                    <a:pt x="237081" y="33256"/>
                    <a:pt x="230109" y="23064"/>
                    <a:pt x="223672" y="13410"/>
                  </a:cubicBezTo>
                  <a:cubicBezTo>
                    <a:pt x="220454" y="8582"/>
                    <a:pt x="217235" y="4291"/>
                    <a:pt x="213481" y="0"/>
                  </a:cubicBezTo>
                  <a:cubicBezTo>
                    <a:pt x="225281" y="8582"/>
                    <a:pt x="236009" y="19310"/>
                    <a:pt x="241373" y="33256"/>
                  </a:cubicBezTo>
                  <a:cubicBezTo>
                    <a:pt x="247273" y="46129"/>
                    <a:pt x="247273" y="60611"/>
                    <a:pt x="246200" y="7455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32" name="Freeform: Shape 543"/>
            <p:cNvSpPr/>
            <p:nvPr/>
          </p:nvSpPr>
          <p:spPr>
            <a:xfrm>
              <a:off x="9327600" y="2195280"/>
              <a:ext cx="66960" cy="102960"/>
            </a:xfrm>
            <a:custGeom>
              <a:avLst/>
              <a:gdLst/>
              <a:ahLst/>
              <a:rect l="l" t="t" r="r" b="b"/>
              <a:pathLst>
                <a:path w="86417" h="132486">
                  <a:moveTo>
                    <a:pt x="12933" y="112640"/>
                  </a:moveTo>
                  <a:cubicBezTo>
                    <a:pt x="19370" y="117468"/>
                    <a:pt x="25806" y="122295"/>
                    <a:pt x="32243" y="126586"/>
                  </a:cubicBezTo>
                  <a:cubicBezTo>
                    <a:pt x="30098" y="128732"/>
                    <a:pt x="27416" y="130341"/>
                    <a:pt x="25270" y="132487"/>
                  </a:cubicBezTo>
                  <a:cubicBezTo>
                    <a:pt x="18833" y="127659"/>
                    <a:pt x="12397" y="123368"/>
                    <a:pt x="5960" y="118541"/>
                  </a:cubicBezTo>
                  <a:cubicBezTo>
                    <a:pt x="4888" y="118004"/>
                    <a:pt x="3815" y="116932"/>
                    <a:pt x="3278" y="115859"/>
                  </a:cubicBezTo>
                  <a:cubicBezTo>
                    <a:pt x="2742" y="114786"/>
                    <a:pt x="-476" y="108349"/>
                    <a:pt x="60" y="107277"/>
                  </a:cubicBezTo>
                  <a:cubicBezTo>
                    <a:pt x="12397" y="80457"/>
                    <a:pt x="30098" y="57929"/>
                    <a:pt x="45116" y="38083"/>
                  </a:cubicBezTo>
                  <a:cubicBezTo>
                    <a:pt x="54771" y="25210"/>
                    <a:pt x="57989" y="20383"/>
                    <a:pt x="69254" y="9119"/>
                  </a:cubicBezTo>
                  <a:cubicBezTo>
                    <a:pt x="70326" y="8046"/>
                    <a:pt x="71399" y="6973"/>
                    <a:pt x="72472" y="5900"/>
                  </a:cubicBezTo>
                  <a:cubicBezTo>
                    <a:pt x="77299" y="3755"/>
                    <a:pt x="81590" y="2146"/>
                    <a:pt x="86418" y="0"/>
                  </a:cubicBezTo>
                  <a:cubicBezTo>
                    <a:pt x="56917" y="30037"/>
                    <a:pt x="31170" y="63830"/>
                    <a:pt x="10251" y="100304"/>
                  </a:cubicBezTo>
                  <a:cubicBezTo>
                    <a:pt x="9179" y="102449"/>
                    <a:pt x="7569" y="105131"/>
                    <a:pt x="8106" y="107813"/>
                  </a:cubicBezTo>
                  <a:cubicBezTo>
                    <a:pt x="9179" y="109422"/>
                    <a:pt x="11324" y="111031"/>
                    <a:pt x="12933" y="1126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33" name="Freeform: Shape 544"/>
            <p:cNvSpPr/>
            <p:nvPr/>
          </p:nvSpPr>
          <p:spPr>
            <a:xfrm>
              <a:off x="9312120" y="2322360"/>
              <a:ext cx="78840" cy="253440"/>
            </a:xfrm>
            <a:custGeom>
              <a:avLst/>
              <a:gdLst/>
              <a:ahLst/>
              <a:rect l="l" t="t" r="r" b="b"/>
              <a:pathLst>
                <a:path w="102017" h="326121">
                  <a:moveTo>
                    <a:pt x="100387" y="326121"/>
                  </a:moveTo>
                  <a:cubicBezTo>
                    <a:pt x="85904" y="315393"/>
                    <a:pt x="71958" y="294475"/>
                    <a:pt x="66058" y="282674"/>
                  </a:cubicBezTo>
                  <a:cubicBezTo>
                    <a:pt x="25829" y="201680"/>
                    <a:pt x="9201" y="128732"/>
                    <a:pt x="619" y="38620"/>
                  </a:cubicBezTo>
                  <a:cubicBezTo>
                    <a:pt x="83" y="32719"/>
                    <a:pt x="-453" y="26819"/>
                    <a:pt x="619" y="20919"/>
                  </a:cubicBezTo>
                  <a:cubicBezTo>
                    <a:pt x="1156" y="17164"/>
                    <a:pt x="5983" y="4291"/>
                    <a:pt x="11347" y="0"/>
                  </a:cubicBezTo>
                  <a:cubicBezTo>
                    <a:pt x="11347" y="536"/>
                    <a:pt x="10811" y="1073"/>
                    <a:pt x="10811" y="1073"/>
                  </a:cubicBezTo>
                  <a:cubicBezTo>
                    <a:pt x="9201" y="4291"/>
                    <a:pt x="9201" y="8582"/>
                    <a:pt x="9201" y="11800"/>
                  </a:cubicBezTo>
                  <a:cubicBezTo>
                    <a:pt x="8129" y="104058"/>
                    <a:pt x="30120" y="196316"/>
                    <a:pt x="73567" y="277310"/>
                  </a:cubicBezTo>
                  <a:cubicBezTo>
                    <a:pt x="80540" y="290183"/>
                    <a:pt x="88050" y="303593"/>
                    <a:pt x="99314" y="313784"/>
                  </a:cubicBezTo>
                  <a:cubicBezTo>
                    <a:pt x="97705" y="314857"/>
                    <a:pt x="99850" y="315393"/>
                    <a:pt x="101459" y="314321"/>
                  </a:cubicBezTo>
                  <a:cubicBezTo>
                    <a:pt x="102532" y="318612"/>
                    <a:pt x="101996" y="322366"/>
                    <a:pt x="100387" y="32612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34" name="Freeform: Shape 545"/>
            <p:cNvSpPr/>
            <p:nvPr/>
          </p:nvSpPr>
          <p:spPr>
            <a:xfrm>
              <a:off x="9266040" y="2560680"/>
              <a:ext cx="142200" cy="117000"/>
            </a:xfrm>
            <a:custGeom>
              <a:avLst/>
              <a:gdLst/>
              <a:ahLst/>
              <a:rect l="l" t="t" r="r" b="b"/>
              <a:pathLst>
                <a:path w="183323" h="150653">
                  <a:moveTo>
                    <a:pt x="182788" y="59224"/>
                  </a:moveTo>
                  <a:cubicBezTo>
                    <a:pt x="182251" y="62443"/>
                    <a:pt x="182788" y="66197"/>
                    <a:pt x="180106" y="68343"/>
                  </a:cubicBezTo>
                  <a:cubicBezTo>
                    <a:pt x="179033" y="69416"/>
                    <a:pt x="177424" y="69952"/>
                    <a:pt x="175278" y="70488"/>
                  </a:cubicBezTo>
                  <a:cubicBezTo>
                    <a:pt x="175815" y="71561"/>
                    <a:pt x="175815" y="72098"/>
                    <a:pt x="176351" y="73170"/>
                  </a:cubicBezTo>
                  <a:cubicBezTo>
                    <a:pt x="178496" y="80680"/>
                    <a:pt x="175815" y="88189"/>
                    <a:pt x="168842" y="92480"/>
                  </a:cubicBezTo>
                  <a:cubicBezTo>
                    <a:pt x="169378" y="92480"/>
                    <a:pt x="169914" y="91944"/>
                    <a:pt x="170451" y="91944"/>
                  </a:cubicBezTo>
                  <a:cubicBezTo>
                    <a:pt x="171523" y="91944"/>
                    <a:pt x="172596" y="92480"/>
                    <a:pt x="173669" y="93016"/>
                  </a:cubicBezTo>
                  <a:cubicBezTo>
                    <a:pt x="174205" y="93553"/>
                    <a:pt x="174742" y="94089"/>
                    <a:pt x="175278" y="94626"/>
                  </a:cubicBezTo>
                  <a:cubicBezTo>
                    <a:pt x="176887" y="96235"/>
                    <a:pt x="177960" y="98917"/>
                    <a:pt x="178496" y="101062"/>
                  </a:cubicBezTo>
                  <a:cubicBezTo>
                    <a:pt x="179033" y="102671"/>
                    <a:pt x="179033" y="104281"/>
                    <a:pt x="178496" y="106426"/>
                  </a:cubicBezTo>
                  <a:cubicBezTo>
                    <a:pt x="177960" y="107499"/>
                    <a:pt x="177424" y="108572"/>
                    <a:pt x="176887" y="109108"/>
                  </a:cubicBezTo>
                  <a:cubicBezTo>
                    <a:pt x="175815" y="110181"/>
                    <a:pt x="174742" y="111254"/>
                    <a:pt x="173133" y="112326"/>
                  </a:cubicBezTo>
                  <a:cubicBezTo>
                    <a:pt x="167769" y="116617"/>
                    <a:pt x="162405" y="119836"/>
                    <a:pt x="157041" y="124127"/>
                  </a:cubicBezTo>
                  <a:cubicBezTo>
                    <a:pt x="157041" y="125199"/>
                    <a:pt x="157041" y="126272"/>
                    <a:pt x="157041" y="127881"/>
                  </a:cubicBezTo>
                  <a:cubicBezTo>
                    <a:pt x="157041" y="130027"/>
                    <a:pt x="156505" y="132172"/>
                    <a:pt x="155432" y="134318"/>
                  </a:cubicBezTo>
                  <a:cubicBezTo>
                    <a:pt x="155432" y="134854"/>
                    <a:pt x="154896" y="134854"/>
                    <a:pt x="154896" y="135391"/>
                  </a:cubicBezTo>
                  <a:cubicBezTo>
                    <a:pt x="154359" y="136463"/>
                    <a:pt x="153823" y="137000"/>
                    <a:pt x="153286" y="137536"/>
                  </a:cubicBezTo>
                  <a:cubicBezTo>
                    <a:pt x="150605" y="141291"/>
                    <a:pt x="146850" y="144509"/>
                    <a:pt x="142559" y="146655"/>
                  </a:cubicBezTo>
                  <a:cubicBezTo>
                    <a:pt x="133977" y="150946"/>
                    <a:pt x="124322" y="150946"/>
                    <a:pt x="115203" y="150409"/>
                  </a:cubicBezTo>
                  <a:cubicBezTo>
                    <a:pt x="86775" y="148800"/>
                    <a:pt x="59419" y="141827"/>
                    <a:pt x="33673" y="128954"/>
                  </a:cubicBezTo>
                  <a:cubicBezTo>
                    <a:pt x="32600" y="128418"/>
                    <a:pt x="31527" y="127881"/>
                    <a:pt x="30991" y="127345"/>
                  </a:cubicBezTo>
                  <a:cubicBezTo>
                    <a:pt x="29382" y="126272"/>
                    <a:pt x="27236" y="125199"/>
                    <a:pt x="25627" y="124663"/>
                  </a:cubicBezTo>
                  <a:cubicBezTo>
                    <a:pt x="15972" y="119299"/>
                    <a:pt x="5781" y="112326"/>
                    <a:pt x="2026" y="101599"/>
                  </a:cubicBezTo>
                  <a:cubicBezTo>
                    <a:pt x="-2265" y="90871"/>
                    <a:pt x="954" y="79071"/>
                    <a:pt x="5245" y="68879"/>
                  </a:cubicBezTo>
                  <a:cubicBezTo>
                    <a:pt x="12218" y="51179"/>
                    <a:pt x="24018" y="35087"/>
                    <a:pt x="40646" y="25969"/>
                  </a:cubicBezTo>
                  <a:cubicBezTo>
                    <a:pt x="42791" y="24896"/>
                    <a:pt x="44401" y="23823"/>
                    <a:pt x="46546" y="22750"/>
                  </a:cubicBezTo>
                  <a:cubicBezTo>
                    <a:pt x="47619" y="22214"/>
                    <a:pt x="48155" y="21678"/>
                    <a:pt x="49228" y="21141"/>
                  </a:cubicBezTo>
                  <a:cubicBezTo>
                    <a:pt x="52446" y="19532"/>
                    <a:pt x="55665" y="17387"/>
                    <a:pt x="58883" y="15777"/>
                  </a:cubicBezTo>
                  <a:cubicBezTo>
                    <a:pt x="61029" y="14705"/>
                    <a:pt x="63710" y="13095"/>
                    <a:pt x="65856" y="12023"/>
                  </a:cubicBezTo>
                  <a:cubicBezTo>
                    <a:pt x="70147" y="9877"/>
                    <a:pt x="74438" y="7195"/>
                    <a:pt x="79266" y="5050"/>
                  </a:cubicBezTo>
                  <a:cubicBezTo>
                    <a:pt x="83020" y="2904"/>
                    <a:pt x="87311" y="759"/>
                    <a:pt x="91602" y="222"/>
                  </a:cubicBezTo>
                  <a:cubicBezTo>
                    <a:pt x="94284" y="-314"/>
                    <a:pt x="96966" y="222"/>
                    <a:pt x="99112" y="759"/>
                  </a:cubicBezTo>
                  <a:cubicBezTo>
                    <a:pt x="102866" y="2368"/>
                    <a:pt x="105548" y="5050"/>
                    <a:pt x="109303" y="6659"/>
                  </a:cubicBezTo>
                  <a:cubicBezTo>
                    <a:pt x="115203" y="9341"/>
                    <a:pt x="124322" y="10950"/>
                    <a:pt x="130758" y="12023"/>
                  </a:cubicBezTo>
                  <a:cubicBezTo>
                    <a:pt x="140950" y="13632"/>
                    <a:pt x="146313" y="19532"/>
                    <a:pt x="156505" y="21141"/>
                  </a:cubicBezTo>
                  <a:cubicBezTo>
                    <a:pt x="160259" y="21678"/>
                    <a:pt x="164550" y="21141"/>
                    <a:pt x="168305" y="22214"/>
                  </a:cubicBezTo>
                  <a:cubicBezTo>
                    <a:pt x="172060" y="23287"/>
                    <a:pt x="177424" y="27578"/>
                    <a:pt x="175815" y="30796"/>
                  </a:cubicBezTo>
                  <a:cubicBezTo>
                    <a:pt x="175278" y="32405"/>
                    <a:pt x="173669" y="35624"/>
                    <a:pt x="172060" y="36696"/>
                  </a:cubicBezTo>
                  <a:cubicBezTo>
                    <a:pt x="170987" y="37233"/>
                    <a:pt x="170451" y="37769"/>
                    <a:pt x="169378" y="38305"/>
                  </a:cubicBezTo>
                  <a:cubicBezTo>
                    <a:pt x="165623" y="39915"/>
                    <a:pt x="160796" y="40987"/>
                    <a:pt x="157041" y="42060"/>
                  </a:cubicBezTo>
                  <a:cubicBezTo>
                    <a:pt x="159187" y="42596"/>
                    <a:pt x="160796" y="42596"/>
                    <a:pt x="162941" y="43133"/>
                  </a:cubicBezTo>
                  <a:cubicBezTo>
                    <a:pt x="168305" y="44206"/>
                    <a:pt x="173669" y="46351"/>
                    <a:pt x="178496" y="49033"/>
                  </a:cubicBezTo>
                  <a:cubicBezTo>
                    <a:pt x="180106" y="50106"/>
                    <a:pt x="182251" y="51179"/>
                    <a:pt x="183324" y="52788"/>
                  </a:cubicBezTo>
                  <a:cubicBezTo>
                    <a:pt x="183324" y="55470"/>
                    <a:pt x="183324" y="57615"/>
                    <a:pt x="182788" y="5922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735" name="Graphic 120" descr=""/>
            <p:cNvPicPr/>
            <p:nvPr/>
          </p:nvPicPr>
          <p:blipFill>
            <a:blip r:embed="rId17"/>
            <a:stretch/>
          </p:blipFill>
          <p:spPr>
            <a:xfrm>
              <a:off x="9339120" y="2578680"/>
              <a:ext cx="66960" cy="85320"/>
            </a:xfrm>
            <a:prstGeom prst="rect">
              <a:avLst/>
            </a:prstGeom>
            <a:ln w="0">
              <a:noFill/>
            </a:ln>
          </p:spPr>
        </p:pic>
        <p:sp>
          <p:nvSpPr>
            <p:cNvPr id="2736" name="Freeform: Shape 547"/>
            <p:cNvSpPr/>
            <p:nvPr/>
          </p:nvSpPr>
          <p:spPr>
            <a:xfrm>
              <a:off x="9266040" y="2573280"/>
              <a:ext cx="120600" cy="104400"/>
            </a:xfrm>
            <a:custGeom>
              <a:avLst/>
              <a:gdLst/>
              <a:ahLst/>
              <a:rect l="l" t="t" r="r" b="b"/>
              <a:pathLst>
                <a:path w="155431" h="134339">
                  <a:moveTo>
                    <a:pt x="155432" y="118004"/>
                  </a:moveTo>
                  <a:cubicBezTo>
                    <a:pt x="155432" y="118004"/>
                    <a:pt x="155432" y="118004"/>
                    <a:pt x="155432" y="118004"/>
                  </a:cubicBezTo>
                  <a:cubicBezTo>
                    <a:pt x="153286" y="123368"/>
                    <a:pt x="148459" y="128196"/>
                    <a:pt x="143095" y="130341"/>
                  </a:cubicBezTo>
                  <a:cubicBezTo>
                    <a:pt x="134513" y="134632"/>
                    <a:pt x="124858" y="134632"/>
                    <a:pt x="115740" y="134096"/>
                  </a:cubicBezTo>
                  <a:cubicBezTo>
                    <a:pt x="87311" y="132487"/>
                    <a:pt x="59956" y="125514"/>
                    <a:pt x="34209" y="112640"/>
                  </a:cubicBezTo>
                  <a:cubicBezTo>
                    <a:pt x="31527" y="111031"/>
                    <a:pt x="28846" y="109959"/>
                    <a:pt x="25627" y="108349"/>
                  </a:cubicBezTo>
                  <a:cubicBezTo>
                    <a:pt x="15972" y="102986"/>
                    <a:pt x="5781" y="96013"/>
                    <a:pt x="2026" y="85285"/>
                  </a:cubicBezTo>
                  <a:cubicBezTo>
                    <a:pt x="-2265" y="74557"/>
                    <a:pt x="954" y="62757"/>
                    <a:pt x="5245" y="52565"/>
                  </a:cubicBezTo>
                  <a:cubicBezTo>
                    <a:pt x="12218" y="34865"/>
                    <a:pt x="24018" y="18773"/>
                    <a:pt x="40646" y="9655"/>
                  </a:cubicBezTo>
                  <a:cubicBezTo>
                    <a:pt x="42791" y="8582"/>
                    <a:pt x="44401" y="7509"/>
                    <a:pt x="46546" y="6437"/>
                  </a:cubicBezTo>
                  <a:cubicBezTo>
                    <a:pt x="50837" y="4291"/>
                    <a:pt x="54592" y="2146"/>
                    <a:pt x="58347" y="0"/>
                  </a:cubicBezTo>
                  <a:cubicBezTo>
                    <a:pt x="55665" y="2146"/>
                    <a:pt x="52983" y="4291"/>
                    <a:pt x="51374" y="6437"/>
                  </a:cubicBezTo>
                  <a:cubicBezTo>
                    <a:pt x="46546" y="11800"/>
                    <a:pt x="42255" y="17164"/>
                    <a:pt x="38500" y="23601"/>
                  </a:cubicBezTo>
                  <a:cubicBezTo>
                    <a:pt x="34209" y="30574"/>
                    <a:pt x="30455" y="43983"/>
                    <a:pt x="28309" y="53638"/>
                  </a:cubicBezTo>
                  <a:cubicBezTo>
                    <a:pt x="25627" y="63293"/>
                    <a:pt x="26700" y="73485"/>
                    <a:pt x="31527" y="82067"/>
                  </a:cubicBezTo>
                  <a:cubicBezTo>
                    <a:pt x="32600" y="84212"/>
                    <a:pt x="34209" y="86358"/>
                    <a:pt x="35818" y="87967"/>
                  </a:cubicBezTo>
                  <a:cubicBezTo>
                    <a:pt x="39037" y="91185"/>
                    <a:pt x="42255" y="93331"/>
                    <a:pt x="46010" y="95476"/>
                  </a:cubicBezTo>
                  <a:cubicBezTo>
                    <a:pt x="71220" y="109959"/>
                    <a:pt x="98575" y="120686"/>
                    <a:pt x="127004" y="126050"/>
                  </a:cubicBezTo>
                  <a:cubicBezTo>
                    <a:pt x="128613" y="126586"/>
                    <a:pt x="130222" y="126586"/>
                    <a:pt x="131831" y="126586"/>
                  </a:cubicBezTo>
                  <a:cubicBezTo>
                    <a:pt x="133977" y="126586"/>
                    <a:pt x="136122" y="125514"/>
                    <a:pt x="137731" y="124977"/>
                  </a:cubicBezTo>
                  <a:cubicBezTo>
                    <a:pt x="143095" y="123368"/>
                    <a:pt x="149532" y="120686"/>
                    <a:pt x="155432" y="11800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37" name="Freeform: Shape 548"/>
            <p:cNvSpPr/>
            <p:nvPr/>
          </p:nvSpPr>
          <p:spPr>
            <a:xfrm>
              <a:off x="9564120" y="2242440"/>
              <a:ext cx="136440" cy="628920"/>
            </a:xfrm>
            <a:custGeom>
              <a:avLst/>
              <a:gdLst/>
              <a:ahLst/>
              <a:rect l="l" t="t" r="r" b="b"/>
              <a:pathLst>
                <a:path w="175886" h="809402">
                  <a:moveTo>
                    <a:pt x="175887" y="2682"/>
                  </a:moveTo>
                  <a:cubicBezTo>
                    <a:pt x="174814" y="4291"/>
                    <a:pt x="173205" y="5364"/>
                    <a:pt x="172132" y="6973"/>
                  </a:cubicBezTo>
                  <a:cubicBezTo>
                    <a:pt x="171596" y="7509"/>
                    <a:pt x="171059" y="8046"/>
                    <a:pt x="171059" y="8582"/>
                  </a:cubicBezTo>
                  <a:cubicBezTo>
                    <a:pt x="169450" y="10191"/>
                    <a:pt x="168377" y="11800"/>
                    <a:pt x="166768" y="13410"/>
                  </a:cubicBezTo>
                  <a:cubicBezTo>
                    <a:pt x="165159" y="15555"/>
                    <a:pt x="163550" y="17164"/>
                    <a:pt x="161941" y="19310"/>
                  </a:cubicBezTo>
                  <a:cubicBezTo>
                    <a:pt x="160331" y="20919"/>
                    <a:pt x="159259" y="23064"/>
                    <a:pt x="157650" y="24674"/>
                  </a:cubicBezTo>
                  <a:cubicBezTo>
                    <a:pt x="157650" y="24674"/>
                    <a:pt x="157650" y="24674"/>
                    <a:pt x="157650" y="24674"/>
                  </a:cubicBezTo>
                  <a:cubicBezTo>
                    <a:pt x="156040" y="26283"/>
                    <a:pt x="154968" y="28428"/>
                    <a:pt x="153359" y="30037"/>
                  </a:cubicBezTo>
                  <a:cubicBezTo>
                    <a:pt x="152822" y="30574"/>
                    <a:pt x="152822" y="31110"/>
                    <a:pt x="152286" y="31110"/>
                  </a:cubicBezTo>
                  <a:cubicBezTo>
                    <a:pt x="151213" y="32183"/>
                    <a:pt x="150677" y="33792"/>
                    <a:pt x="149604" y="34865"/>
                  </a:cubicBezTo>
                  <a:cubicBezTo>
                    <a:pt x="149604" y="34865"/>
                    <a:pt x="149604" y="34865"/>
                    <a:pt x="149604" y="35401"/>
                  </a:cubicBezTo>
                  <a:cubicBezTo>
                    <a:pt x="149067" y="35938"/>
                    <a:pt x="148531" y="36474"/>
                    <a:pt x="147995" y="37547"/>
                  </a:cubicBezTo>
                  <a:cubicBezTo>
                    <a:pt x="146922" y="39156"/>
                    <a:pt x="145849" y="40229"/>
                    <a:pt x="145313" y="41838"/>
                  </a:cubicBezTo>
                  <a:cubicBezTo>
                    <a:pt x="145313" y="42374"/>
                    <a:pt x="144776" y="42374"/>
                    <a:pt x="144776" y="42911"/>
                  </a:cubicBezTo>
                  <a:cubicBezTo>
                    <a:pt x="144776" y="42911"/>
                    <a:pt x="144240" y="43447"/>
                    <a:pt x="144240" y="43447"/>
                  </a:cubicBezTo>
                  <a:cubicBezTo>
                    <a:pt x="143167" y="45056"/>
                    <a:pt x="142094" y="46665"/>
                    <a:pt x="141022" y="47738"/>
                  </a:cubicBezTo>
                  <a:cubicBezTo>
                    <a:pt x="140485" y="48274"/>
                    <a:pt x="140485" y="48811"/>
                    <a:pt x="139949" y="49347"/>
                  </a:cubicBezTo>
                  <a:cubicBezTo>
                    <a:pt x="139949" y="49347"/>
                    <a:pt x="139413" y="49884"/>
                    <a:pt x="139413" y="49884"/>
                  </a:cubicBezTo>
                  <a:cubicBezTo>
                    <a:pt x="138340" y="51493"/>
                    <a:pt x="137267" y="53102"/>
                    <a:pt x="136731" y="54711"/>
                  </a:cubicBezTo>
                  <a:cubicBezTo>
                    <a:pt x="135658" y="56857"/>
                    <a:pt x="134049" y="59002"/>
                    <a:pt x="132976" y="61148"/>
                  </a:cubicBezTo>
                  <a:cubicBezTo>
                    <a:pt x="132976" y="61148"/>
                    <a:pt x="132976" y="61148"/>
                    <a:pt x="132976" y="61148"/>
                  </a:cubicBezTo>
                  <a:cubicBezTo>
                    <a:pt x="131903" y="63293"/>
                    <a:pt x="130294" y="65439"/>
                    <a:pt x="129221" y="67584"/>
                  </a:cubicBezTo>
                  <a:cubicBezTo>
                    <a:pt x="128148" y="69730"/>
                    <a:pt x="126539" y="71875"/>
                    <a:pt x="125467" y="74021"/>
                  </a:cubicBezTo>
                  <a:cubicBezTo>
                    <a:pt x="124394" y="76166"/>
                    <a:pt x="123321" y="77776"/>
                    <a:pt x="122248" y="79921"/>
                  </a:cubicBezTo>
                  <a:cubicBezTo>
                    <a:pt x="121712" y="80457"/>
                    <a:pt x="121712" y="80994"/>
                    <a:pt x="121176" y="82067"/>
                  </a:cubicBezTo>
                  <a:cubicBezTo>
                    <a:pt x="120639" y="83676"/>
                    <a:pt x="119566" y="84748"/>
                    <a:pt x="119030" y="86358"/>
                  </a:cubicBezTo>
                  <a:cubicBezTo>
                    <a:pt x="118494" y="87430"/>
                    <a:pt x="117957" y="89040"/>
                    <a:pt x="116884" y="90112"/>
                  </a:cubicBezTo>
                  <a:cubicBezTo>
                    <a:pt x="115812" y="92794"/>
                    <a:pt x="114203" y="95476"/>
                    <a:pt x="113130" y="98158"/>
                  </a:cubicBezTo>
                  <a:cubicBezTo>
                    <a:pt x="112593" y="99231"/>
                    <a:pt x="112057" y="100840"/>
                    <a:pt x="111521" y="101913"/>
                  </a:cubicBezTo>
                  <a:cubicBezTo>
                    <a:pt x="110984" y="103522"/>
                    <a:pt x="110448" y="105131"/>
                    <a:pt x="109375" y="106740"/>
                  </a:cubicBezTo>
                  <a:cubicBezTo>
                    <a:pt x="108839" y="108349"/>
                    <a:pt x="107766" y="109959"/>
                    <a:pt x="107230" y="112104"/>
                  </a:cubicBezTo>
                  <a:cubicBezTo>
                    <a:pt x="106693" y="113177"/>
                    <a:pt x="106157" y="114786"/>
                    <a:pt x="105620" y="115859"/>
                  </a:cubicBezTo>
                  <a:cubicBezTo>
                    <a:pt x="104011" y="119613"/>
                    <a:pt x="102938" y="123368"/>
                    <a:pt x="101866" y="127123"/>
                  </a:cubicBezTo>
                  <a:cubicBezTo>
                    <a:pt x="101329" y="128196"/>
                    <a:pt x="101329" y="129268"/>
                    <a:pt x="100793" y="130877"/>
                  </a:cubicBezTo>
                  <a:cubicBezTo>
                    <a:pt x="100793" y="130877"/>
                    <a:pt x="100793" y="131414"/>
                    <a:pt x="100793" y="131414"/>
                  </a:cubicBezTo>
                  <a:cubicBezTo>
                    <a:pt x="100257" y="132487"/>
                    <a:pt x="100257" y="133023"/>
                    <a:pt x="99720" y="134096"/>
                  </a:cubicBezTo>
                  <a:cubicBezTo>
                    <a:pt x="99184" y="135705"/>
                    <a:pt x="98647" y="136778"/>
                    <a:pt x="98647" y="138387"/>
                  </a:cubicBezTo>
                  <a:cubicBezTo>
                    <a:pt x="98111" y="139996"/>
                    <a:pt x="97575" y="141605"/>
                    <a:pt x="97038" y="143214"/>
                  </a:cubicBezTo>
                  <a:cubicBezTo>
                    <a:pt x="96502" y="144287"/>
                    <a:pt x="96502" y="145360"/>
                    <a:pt x="95965" y="146433"/>
                  </a:cubicBezTo>
                  <a:cubicBezTo>
                    <a:pt x="95429" y="147505"/>
                    <a:pt x="95429" y="149114"/>
                    <a:pt x="94893" y="150187"/>
                  </a:cubicBezTo>
                  <a:cubicBezTo>
                    <a:pt x="94356" y="151260"/>
                    <a:pt x="94356" y="152869"/>
                    <a:pt x="93820" y="153942"/>
                  </a:cubicBezTo>
                  <a:cubicBezTo>
                    <a:pt x="93820" y="153942"/>
                    <a:pt x="93820" y="154478"/>
                    <a:pt x="93820" y="154478"/>
                  </a:cubicBezTo>
                  <a:cubicBezTo>
                    <a:pt x="93820" y="155015"/>
                    <a:pt x="93284" y="155551"/>
                    <a:pt x="93284" y="156624"/>
                  </a:cubicBezTo>
                  <a:cubicBezTo>
                    <a:pt x="93284" y="156624"/>
                    <a:pt x="93284" y="156624"/>
                    <a:pt x="93284" y="156624"/>
                  </a:cubicBezTo>
                  <a:cubicBezTo>
                    <a:pt x="92747" y="157697"/>
                    <a:pt x="92747" y="159306"/>
                    <a:pt x="92211" y="160379"/>
                  </a:cubicBezTo>
                  <a:cubicBezTo>
                    <a:pt x="92211" y="160915"/>
                    <a:pt x="92211" y="161451"/>
                    <a:pt x="91674" y="161988"/>
                  </a:cubicBezTo>
                  <a:cubicBezTo>
                    <a:pt x="91674" y="161988"/>
                    <a:pt x="91674" y="162524"/>
                    <a:pt x="91674" y="162524"/>
                  </a:cubicBezTo>
                  <a:cubicBezTo>
                    <a:pt x="91138" y="164133"/>
                    <a:pt x="91138" y="165206"/>
                    <a:pt x="90602" y="166815"/>
                  </a:cubicBezTo>
                  <a:cubicBezTo>
                    <a:pt x="90602" y="166815"/>
                    <a:pt x="90602" y="166815"/>
                    <a:pt x="90602" y="167351"/>
                  </a:cubicBezTo>
                  <a:cubicBezTo>
                    <a:pt x="90065" y="168961"/>
                    <a:pt x="90065" y="170570"/>
                    <a:pt x="89529" y="171643"/>
                  </a:cubicBezTo>
                  <a:cubicBezTo>
                    <a:pt x="89529" y="172715"/>
                    <a:pt x="88993" y="173788"/>
                    <a:pt x="88993" y="175397"/>
                  </a:cubicBezTo>
                  <a:cubicBezTo>
                    <a:pt x="88456" y="178616"/>
                    <a:pt x="87920" y="182370"/>
                    <a:pt x="87383" y="185589"/>
                  </a:cubicBezTo>
                  <a:cubicBezTo>
                    <a:pt x="86847" y="187734"/>
                    <a:pt x="86847" y="189880"/>
                    <a:pt x="86311" y="191489"/>
                  </a:cubicBezTo>
                  <a:cubicBezTo>
                    <a:pt x="85774" y="193634"/>
                    <a:pt x="85774" y="196316"/>
                    <a:pt x="85238" y="198462"/>
                  </a:cubicBezTo>
                  <a:cubicBezTo>
                    <a:pt x="85238" y="199534"/>
                    <a:pt x="84701" y="201144"/>
                    <a:pt x="84701" y="202216"/>
                  </a:cubicBezTo>
                  <a:cubicBezTo>
                    <a:pt x="84701" y="202216"/>
                    <a:pt x="84701" y="202753"/>
                    <a:pt x="84701" y="202753"/>
                  </a:cubicBezTo>
                  <a:cubicBezTo>
                    <a:pt x="84701" y="204362"/>
                    <a:pt x="84165" y="205435"/>
                    <a:pt x="84165" y="207044"/>
                  </a:cubicBezTo>
                  <a:cubicBezTo>
                    <a:pt x="84165" y="209726"/>
                    <a:pt x="83629" y="212944"/>
                    <a:pt x="83629" y="215626"/>
                  </a:cubicBezTo>
                  <a:cubicBezTo>
                    <a:pt x="81483" y="251564"/>
                    <a:pt x="85238" y="288574"/>
                    <a:pt x="101866" y="319684"/>
                  </a:cubicBezTo>
                  <a:cubicBezTo>
                    <a:pt x="75583" y="362059"/>
                    <a:pt x="50909" y="408188"/>
                    <a:pt x="43936" y="457535"/>
                  </a:cubicBezTo>
                  <a:cubicBezTo>
                    <a:pt x="38036" y="498300"/>
                    <a:pt x="46618" y="540674"/>
                    <a:pt x="61637" y="579294"/>
                  </a:cubicBezTo>
                  <a:cubicBezTo>
                    <a:pt x="63782" y="585194"/>
                    <a:pt x="67537" y="592167"/>
                    <a:pt x="73437" y="593776"/>
                  </a:cubicBezTo>
                  <a:cubicBezTo>
                    <a:pt x="78801" y="595385"/>
                    <a:pt x="84165" y="593240"/>
                    <a:pt x="90065" y="592703"/>
                  </a:cubicBezTo>
                  <a:cubicBezTo>
                    <a:pt x="94356" y="592167"/>
                    <a:pt x="98647" y="594313"/>
                    <a:pt x="100793" y="597531"/>
                  </a:cubicBezTo>
                  <a:cubicBezTo>
                    <a:pt x="99720" y="601286"/>
                    <a:pt x="98111" y="605577"/>
                    <a:pt x="97038" y="609331"/>
                  </a:cubicBezTo>
                  <a:cubicBezTo>
                    <a:pt x="95429" y="613622"/>
                    <a:pt x="94356" y="618450"/>
                    <a:pt x="92747" y="622741"/>
                  </a:cubicBezTo>
                  <a:cubicBezTo>
                    <a:pt x="92211" y="625423"/>
                    <a:pt x="91138" y="627568"/>
                    <a:pt x="90602" y="630250"/>
                  </a:cubicBezTo>
                  <a:cubicBezTo>
                    <a:pt x="85774" y="642051"/>
                    <a:pt x="80947" y="654388"/>
                    <a:pt x="79874" y="666188"/>
                  </a:cubicBezTo>
                  <a:cubicBezTo>
                    <a:pt x="79874" y="666724"/>
                    <a:pt x="79338" y="667797"/>
                    <a:pt x="79338" y="668334"/>
                  </a:cubicBezTo>
                  <a:cubicBezTo>
                    <a:pt x="79338" y="668870"/>
                    <a:pt x="78801" y="669406"/>
                    <a:pt x="78801" y="669943"/>
                  </a:cubicBezTo>
                  <a:cubicBezTo>
                    <a:pt x="78801" y="670479"/>
                    <a:pt x="78265" y="671552"/>
                    <a:pt x="78265" y="672088"/>
                  </a:cubicBezTo>
                  <a:cubicBezTo>
                    <a:pt x="78801" y="672088"/>
                    <a:pt x="79338" y="672625"/>
                    <a:pt x="79874" y="672625"/>
                  </a:cubicBezTo>
                  <a:cubicBezTo>
                    <a:pt x="79874" y="676379"/>
                    <a:pt x="80410" y="680134"/>
                    <a:pt x="79874" y="683352"/>
                  </a:cubicBezTo>
                  <a:cubicBezTo>
                    <a:pt x="79874" y="685498"/>
                    <a:pt x="79338" y="687107"/>
                    <a:pt x="78801" y="689252"/>
                  </a:cubicBezTo>
                  <a:cubicBezTo>
                    <a:pt x="77728" y="691934"/>
                    <a:pt x="76119" y="694080"/>
                    <a:pt x="74510" y="696225"/>
                  </a:cubicBezTo>
                  <a:cubicBezTo>
                    <a:pt x="73974" y="696762"/>
                    <a:pt x="73437" y="697835"/>
                    <a:pt x="72365" y="698371"/>
                  </a:cubicBezTo>
                  <a:cubicBezTo>
                    <a:pt x="72365" y="698907"/>
                    <a:pt x="71828" y="698907"/>
                    <a:pt x="71292" y="699444"/>
                  </a:cubicBezTo>
                  <a:cubicBezTo>
                    <a:pt x="70755" y="699980"/>
                    <a:pt x="70755" y="699980"/>
                    <a:pt x="70219" y="700517"/>
                  </a:cubicBezTo>
                  <a:cubicBezTo>
                    <a:pt x="69683" y="701053"/>
                    <a:pt x="69146" y="701589"/>
                    <a:pt x="69146" y="702126"/>
                  </a:cubicBezTo>
                  <a:cubicBezTo>
                    <a:pt x="69146" y="702126"/>
                    <a:pt x="69146" y="702126"/>
                    <a:pt x="69146" y="702126"/>
                  </a:cubicBezTo>
                  <a:cubicBezTo>
                    <a:pt x="68610" y="702662"/>
                    <a:pt x="68074" y="703735"/>
                    <a:pt x="67537" y="704271"/>
                  </a:cubicBezTo>
                  <a:cubicBezTo>
                    <a:pt x="66464" y="705344"/>
                    <a:pt x="65928" y="706417"/>
                    <a:pt x="64855" y="708026"/>
                  </a:cubicBezTo>
                  <a:cubicBezTo>
                    <a:pt x="62710" y="711780"/>
                    <a:pt x="61637" y="716072"/>
                    <a:pt x="61101" y="720363"/>
                  </a:cubicBezTo>
                  <a:cubicBezTo>
                    <a:pt x="61101" y="720363"/>
                    <a:pt x="61101" y="720363"/>
                    <a:pt x="61101" y="720363"/>
                  </a:cubicBezTo>
                  <a:cubicBezTo>
                    <a:pt x="60564" y="723045"/>
                    <a:pt x="60564" y="726263"/>
                    <a:pt x="60028" y="728945"/>
                  </a:cubicBezTo>
                  <a:cubicBezTo>
                    <a:pt x="57346" y="755228"/>
                    <a:pt x="52518" y="781510"/>
                    <a:pt x="45545" y="806720"/>
                  </a:cubicBezTo>
                  <a:cubicBezTo>
                    <a:pt x="45545" y="807257"/>
                    <a:pt x="45009" y="807793"/>
                    <a:pt x="45009" y="808866"/>
                  </a:cubicBezTo>
                  <a:cubicBezTo>
                    <a:pt x="43936" y="808866"/>
                    <a:pt x="42327" y="809402"/>
                    <a:pt x="41254" y="809402"/>
                  </a:cubicBezTo>
                  <a:cubicBezTo>
                    <a:pt x="44473" y="797066"/>
                    <a:pt x="46618" y="784192"/>
                    <a:pt x="47691" y="771319"/>
                  </a:cubicBezTo>
                  <a:cubicBezTo>
                    <a:pt x="48764" y="753618"/>
                    <a:pt x="47691" y="736454"/>
                    <a:pt x="49300" y="718754"/>
                  </a:cubicBezTo>
                  <a:cubicBezTo>
                    <a:pt x="51446" y="691934"/>
                    <a:pt x="60028" y="665652"/>
                    <a:pt x="68074" y="640442"/>
                  </a:cubicBezTo>
                  <a:cubicBezTo>
                    <a:pt x="42864" y="612013"/>
                    <a:pt x="16581" y="582512"/>
                    <a:pt x="5853" y="546038"/>
                  </a:cubicBezTo>
                  <a:cubicBezTo>
                    <a:pt x="-7020" y="502591"/>
                    <a:pt x="3171" y="455389"/>
                    <a:pt x="18726" y="412479"/>
                  </a:cubicBezTo>
                  <a:cubicBezTo>
                    <a:pt x="19263" y="411406"/>
                    <a:pt x="23554" y="385660"/>
                    <a:pt x="45009" y="343285"/>
                  </a:cubicBezTo>
                  <a:cubicBezTo>
                    <a:pt x="45545" y="342749"/>
                    <a:pt x="45545" y="342212"/>
                    <a:pt x="46082" y="341676"/>
                  </a:cubicBezTo>
                  <a:cubicBezTo>
                    <a:pt x="53055" y="322903"/>
                    <a:pt x="58955" y="303593"/>
                    <a:pt x="62710" y="283210"/>
                  </a:cubicBezTo>
                  <a:cubicBezTo>
                    <a:pt x="67537" y="256928"/>
                    <a:pt x="67537" y="230645"/>
                    <a:pt x="70755" y="203826"/>
                  </a:cubicBezTo>
                  <a:cubicBezTo>
                    <a:pt x="74510" y="171643"/>
                    <a:pt x="82020" y="139460"/>
                    <a:pt x="93284" y="109422"/>
                  </a:cubicBezTo>
                  <a:cubicBezTo>
                    <a:pt x="109375" y="66511"/>
                    <a:pt x="135121" y="24674"/>
                    <a:pt x="173205" y="0"/>
                  </a:cubicBezTo>
                  <a:cubicBezTo>
                    <a:pt x="174277" y="2682"/>
                    <a:pt x="174814" y="2682"/>
                    <a:pt x="175887" y="268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38" name="Freeform: Shape 549"/>
            <p:cNvSpPr/>
            <p:nvPr/>
          </p:nvSpPr>
          <p:spPr>
            <a:xfrm>
              <a:off x="9628560" y="2372040"/>
              <a:ext cx="96120" cy="348840"/>
            </a:xfrm>
            <a:custGeom>
              <a:avLst/>
              <a:gdLst/>
              <a:ahLst/>
              <a:rect l="l" t="t" r="r" b="b"/>
              <a:pathLst>
                <a:path w="123917" h="448952">
                  <a:moveTo>
                    <a:pt x="123917" y="287501"/>
                  </a:moveTo>
                  <a:cubicBezTo>
                    <a:pt x="114798" y="281065"/>
                    <a:pt x="101925" y="285356"/>
                    <a:pt x="94416" y="292865"/>
                  </a:cubicBezTo>
                  <a:cubicBezTo>
                    <a:pt x="86907" y="300911"/>
                    <a:pt x="83688" y="311639"/>
                    <a:pt x="80470" y="321830"/>
                  </a:cubicBezTo>
                  <a:cubicBezTo>
                    <a:pt x="72424" y="349185"/>
                    <a:pt x="63306" y="376005"/>
                    <a:pt x="49896" y="400678"/>
                  </a:cubicBezTo>
                  <a:cubicBezTo>
                    <a:pt x="40241" y="418379"/>
                    <a:pt x="27904" y="435543"/>
                    <a:pt x="12349" y="448953"/>
                  </a:cubicBezTo>
                  <a:cubicBezTo>
                    <a:pt x="13958" y="443052"/>
                    <a:pt x="16104" y="437152"/>
                    <a:pt x="17713" y="430716"/>
                  </a:cubicBezTo>
                  <a:cubicBezTo>
                    <a:pt x="30050" y="391560"/>
                    <a:pt x="42923" y="352404"/>
                    <a:pt x="58478" y="314320"/>
                  </a:cubicBezTo>
                  <a:cubicBezTo>
                    <a:pt x="60624" y="308420"/>
                    <a:pt x="63306" y="302520"/>
                    <a:pt x="63306" y="296620"/>
                  </a:cubicBezTo>
                  <a:cubicBezTo>
                    <a:pt x="63842" y="290183"/>
                    <a:pt x="62233" y="284283"/>
                    <a:pt x="60624" y="277846"/>
                  </a:cubicBezTo>
                  <a:cubicBezTo>
                    <a:pt x="49360" y="233863"/>
                    <a:pt x="45069" y="189880"/>
                    <a:pt x="18786" y="152869"/>
                  </a:cubicBezTo>
                  <a:cubicBezTo>
                    <a:pt x="2158" y="121222"/>
                    <a:pt x="-1597" y="84212"/>
                    <a:pt x="549" y="48811"/>
                  </a:cubicBezTo>
                  <a:cubicBezTo>
                    <a:pt x="1622" y="32183"/>
                    <a:pt x="3767" y="16091"/>
                    <a:pt x="6985" y="0"/>
                  </a:cubicBezTo>
                  <a:cubicBezTo>
                    <a:pt x="6985" y="11800"/>
                    <a:pt x="3767" y="27355"/>
                    <a:pt x="3767" y="37010"/>
                  </a:cubicBezTo>
                  <a:cubicBezTo>
                    <a:pt x="4304" y="53102"/>
                    <a:pt x="6449" y="69193"/>
                    <a:pt x="10204" y="84748"/>
                  </a:cubicBezTo>
                  <a:cubicBezTo>
                    <a:pt x="17713" y="116395"/>
                    <a:pt x="31123" y="146433"/>
                    <a:pt x="49896" y="172715"/>
                  </a:cubicBezTo>
                  <a:cubicBezTo>
                    <a:pt x="54187" y="165742"/>
                    <a:pt x="57405" y="158233"/>
                    <a:pt x="60087" y="150187"/>
                  </a:cubicBezTo>
                  <a:cubicBezTo>
                    <a:pt x="54187" y="194707"/>
                    <a:pt x="60087" y="240836"/>
                    <a:pt x="78324" y="282137"/>
                  </a:cubicBezTo>
                  <a:cubicBezTo>
                    <a:pt x="93343" y="276774"/>
                    <a:pt x="111044" y="278383"/>
                    <a:pt x="123917" y="28750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39" name="Freeform: Shape 550"/>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414042"/>
            </a:solidFill>
            <a:ln w="0">
              <a:noFill/>
            </a:ln>
          </p:spPr>
          <p:style>
            <a:lnRef idx="0"/>
            <a:fillRef idx="0"/>
            <a:effectRef idx="0"/>
            <a:fontRef idx="minor"/>
          </p:style>
          <p:txBody>
            <a:bodyPr lIns="90000" rIns="90000" tIns="33120" bIns="33120" anchor="ctr">
              <a:noAutofit/>
            </a:bodyPr>
            <a:p>
              <a:endParaRPr b="0" lang="en-US" sz="1800" spc="-1" strike="noStrike">
                <a:solidFill>
                  <a:srgbClr val="313c3f"/>
                </a:solidFill>
                <a:latin typeface="Source Sans Pro"/>
              </a:endParaRPr>
            </a:p>
          </p:txBody>
        </p:sp>
        <p:sp>
          <p:nvSpPr>
            <p:cNvPr id="2740" name="Freeform: Shape 551"/>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414042"/>
            </a:solidFill>
            <a:ln w="0">
              <a:noFill/>
            </a:ln>
          </p:spPr>
          <p:style>
            <a:lnRef idx="0"/>
            <a:fillRef idx="0"/>
            <a:effectRef idx="0"/>
            <a:fontRef idx="minor"/>
          </p:style>
          <p:txBody>
            <a:bodyPr lIns="90000" rIns="90000" tIns="21960" bIns="21960" anchor="ctr">
              <a:noAutofit/>
            </a:bodyPr>
            <a:p>
              <a:endParaRPr b="0" lang="en-US" sz="1800" spc="-1" strike="noStrike">
                <a:solidFill>
                  <a:srgbClr val="313c3f"/>
                </a:solidFill>
                <a:latin typeface="Source Sans Pro"/>
              </a:endParaRPr>
            </a:p>
          </p:txBody>
        </p:sp>
        <p:sp>
          <p:nvSpPr>
            <p:cNvPr id="2741" name="Freeform: Shape 552"/>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414042"/>
            </a:solidFill>
            <a:ln w="0">
              <a:noFill/>
            </a:ln>
          </p:spPr>
          <p:style>
            <a:lnRef idx="0"/>
            <a:fillRef idx="0"/>
            <a:effectRef idx="0"/>
            <a:fontRef idx="minor"/>
          </p:style>
          <p:txBody>
            <a:bodyPr lIns="90000" rIns="90000" tIns="-24120" bIns="-24120" anchor="ctr">
              <a:noAutofit/>
            </a:bodyPr>
            <a:p>
              <a:endParaRPr b="0" lang="en-US" sz="1800" spc="-1" strike="noStrike">
                <a:solidFill>
                  <a:srgbClr val="313c3f"/>
                </a:solidFill>
                <a:latin typeface="Source Sans Pro"/>
              </a:endParaRPr>
            </a:p>
          </p:txBody>
        </p:sp>
        <p:sp>
          <p:nvSpPr>
            <p:cNvPr id="2742" name="Freeform: Shape 553"/>
            <p:cNvSpPr/>
            <p:nvPr/>
          </p:nvSpPr>
          <p:spPr>
            <a:xfrm>
              <a:off x="9269280" y="2659680"/>
              <a:ext cx="116280" cy="161640"/>
            </a:xfrm>
            <a:custGeom>
              <a:avLst/>
              <a:gdLst/>
              <a:ahLst/>
              <a:rect l="l" t="t" r="r" b="b"/>
              <a:pathLst>
                <a:path w="150187" h="208116">
                  <a:moveTo>
                    <a:pt x="148042" y="28428"/>
                  </a:moveTo>
                  <a:cubicBezTo>
                    <a:pt x="147505" y="30037"/>
                    <a:pt x="146433" y="31647"/>
                    <a:pt x="145360" y="32719"/>
                  </a:cubicBezTo>
                  <a:cubicBezTo>
                    <a:pt x="139460" y="39692"/>
                    <a:pt x="127123" y="50956"/>
                    <a:pt x="119077" y="53638"/>
                  </a:cubicBezTo>
                  <a:cubicBezTo>
                    <a:pt x="94404" y="61684"/>
                    <a:pt x="65975" y="52565"/>
                    <a:pt x="43447" y="39156"/>
                  </a:cubicBezTo>
                  <a:cubicBezTo>
                    <a:pt x="40765" y="60611"/>
                    <a:pt x="21455" y="145896"/>
                    <a:pt x="6973" y="208117"/>
                  </a:cubicBezTo>
                  <a:cubicBezTo>
                    <a:pt x="4827" y="207044"/>
                    <a:pt x="2146" y="205971"/>
                    <a:pt x="0" y="204362"/>
                  </a:cubicBezTo>
                  <a:cubicBezTo>
                    <a:pt x="536" y="198998"/>
                    <a:pt x="1609" y="193634"/>
                    <a:pt x="2146" y="188270"/>
                  </a:cubicBezTo>
                  <a:cubicBezTo>
                    <a:pt x="3218" y="179688"/>
                    <a:pt x="4827" y="171643"/>
                    <a:pt x="5900" y="163060"/>
                  </a:cubicBezTo>
                  <a:cubicBezTo>
                    <a:pt x="6437" y="158233"/>
                    <a:pt x="7509" y="153405"/>
                    <a:pt x="8046" y="148578"/>
                  </a:cubicBezTo>
                  <a:cubicBezTo>
                    <a:pt x="8582" y="144823"/>
                    <a:pt x="9119" y="141605"/>
                    <a:pt x="9655" y="137850"/>
                  </a:cubicBezTo>
                  <a:cubicBezTo>
                    <a:pt x="10728" y="131414"/>
                    <a:pt x="11264" y="124977"/>
                    <a:pt x="12337" y="118541"/>
                  </a:cubicBezTo>
                  <a:cubicBezTo>
                    <a:pt x="12873" y="115322"/>
                    <a:pt x="13410" y="112104"/>
                    <a:pt x="13410" y="108886"/>
                  </a:cubicBezTo>
                  <a:cubicBezTo>
                    <a:pt x="13410" y="107813"/>
                    <a:pt x="13946" y="106204"/>
                    <a:pt x="13946" y="105131"/>
                  </a:cubicBezTo>
                  <a:cubicBezTo>
                    <a:pt x="14482" y="101913"/>
                    <a:pt x="14482" y="99231"/>
                    <a:pt x="15019" y="96013"/>
                  </a:cubicBezTo>
                  <a:cubicBezTo>
                    <a:pt x="15555" y="93331"/>
                    <a:pt x="15555" y="90649"/>
                    <a:pt x="16092" y="87967"/>
                  </a:cubicBezTo>
                  <a:cubicBezTo>
                    <a:pt x="16628" y="83139"/>
                    <a:pt x="17164" y="78312"/>
                    <a:pt x="17701" y="73484"/>
                  </a:cubicBezTo>
                  <a:cubicBezTo>
                    <a:pt x="18773" y="63830"/>
                    <a:pt x="19846" y="53638"/>
                    <a:pt x="21455" y="43983"/>
                  </a:cubicBezTo>
                  <a:cubicBezTo>
                    <a:pt x="21455" y="42374"/>
                    <a:pt x="21992" y="40765"/>
                    <a:pt x="21992" y="39692"/>
                  </a:cubicBezTo>
                  <a:cubicBezTo>
                    <a:pt x="21992" y="38619"/>
                    <a:pt x="22528" y="37547"/>
                    <a:pt x="22528" y="36474"/>
                  </a:cubicBezTo>
                  <a:cubicBezTo>
                    <a:pt x="22528" y="35938"/>
                    <a:pt x="22528" y="35401"/>
                    <a:pt x="22528" y="34865"/>
                  </a:cubicBezTo>
                  <a:cubicBezTo>
                    <a:pt x="22528" y="33256"/>
                    <a:pt x="23065" y="32183"/>
                    <a:pt x="23065" y="30574"/>
                  </a:cubicBezTo>
                  <a:cubicBezTo>
                    <a:pt x="23065" y="30574"/>
                    <a:pt x="23065" y="30037"/>
                    <a:pt x="23065" y="30037"/>
                  </a:cubicBezTo>
                  <a:cubicBezTo>
                    <a:pt x="23065" y="29501"/>
                    <a:pt x="23065" y="28965"/>
                    <a:pt x="23065" y="28428"/>
                  </a:cubicBezTo>
                  <a:cubicBezTo>
                    <a:pt x="23601" y="24673"/>
                    <a:pt x="24137" y="21455"/>
                    <a:pt x="24674" y="17701"/>
                  </a:cubicBezTo>
                  <a:cubicBezTo>
                    <a:pt x="24674" y="17164"/>
                    <a:pt x="24674" y="16628"/>
                    <a:pt x="25210" y="16091"/>
                  </a:cubicBezTo>
                  <a:cubicBezTo>
                    <a:pt x="25746" y="12873"/>
                    <a:pt x="26283" y="10191"/>
                    <a:pt x="26819" y="6973"/>
                  </a:cubicBezTo>
                  <a:cubicBezTo>
                    <a:pt x="27356" y="5364"/>
                    <a:pt x="27356" y="3218"/>
                    <a:pt x="27892" y="1609"/>
                  </a:cubicBezTo>
                  <a:cubicBezTo>
                    <a:pt x="27892" y="1609"/>
                    <a:pt x="27892" y="1073"/>
                    <a:pt x="27892" y="1073"/>
                  </a:cubicBezTo>
                  <a:cubicBezTo>
                    <a:pt x="27892" y="1073"/>
                    <a:pt x="27892" y="536"/>
                    <a:pt x="27892" y="536"/>
                  </a:cubicBezTo>
                  <a:cubicBezTo>
                    <a:pt x="27892" y="536"/>
                    <a:pt x="27892" y="536"/>
                    <a:pt x="27892" y="0"/>
                  </a:cubicBezTo>
                  <a:cubicBezTo>
                    <a:pt x="28428" y="0"/>
                    <a:pt x="28965" y="536"/>
                    <a:pt x="29501" y="536"/>
                  </a:cubicBezTo>
                  <a:cubicBezTo>
                    <a:pt x="30038" y="536"/>
                    <a:pt x="30574" y="1073"/>
                    <a:pt x="31110" y="1073"/>
                  </a:cubicBezTo>
                  <a:cubicBezTo>
                    <a:pt x="56320" y="13410"/>
                    <a:pt x="84212" y="20919"/>
                    <a:pt x="112641" y="22528"/>
                  </a:cubicBezTo>
                  <a:cubicBezTo>
                    <a:pt x="121759" y="23064"/>
                    <a:pt x="131950" y="22528"/>
                    <a:pt x="139996" y="18773"/>
                  </a:cubicBezTo>
                  <a:cubicBezTo>
                    <a:pt x="140532" y="18237"/>
                    <a:pt x="141069" y="18237"/>
                    <a:pt x="141605" y="17701"/>
                  </a:cubicBezTo>
                  <a:cubicBezTo>
                    <a:pt x="141605" y="17701"/>
                    <a:pt x="141605" y="17701"/>
                    <a:pt x="141605" y="17701"/>
                  </a:cubicBezTo>
                  <a:cubicBezTo>
                    <a:pt x="141605" y="17701"/>
                    <a:pt x="141605" y="17701"/>
                    <a:pt x="142142" y="17701"/>
                  </a:cubicBezTo>
                  <a:cubicBezTo>
                    <a:pt x="142142" y="17701"/>
                    <a:pt x="142142" y="17701"/>
                    <a:pt x="142678" y="17701"/>
                  </a:cubicBezTo>
                  <a:cubicBezTo>
                    <a:pt x="143214" y="17701"/>
                    <a:pt x="143214" y="17164"/>
                    <a:pt x="143751" y="17164"/>
                  </a:cubicBezTo>
                  <a:cubicBezTo>
                    <a:pt x="143751" y="17164"/>
                    <a:pt x="143751" y="17164"/>
                    <a:pt x="143751" y="17164"/>
                  </a:cubicBezTo>
                  <a:cubicBezTo>
                    <a:pt x="143751" y="17164"/>
                    <a:pt x="143751" y="17164"/>
                    <a:pt x="143751" y="17164"/>
                  </a:cubicBezTo>
                  <a:cubicBezTo>
                    <a:pt x="143751" y="17164"/>
                    <a:pt x="143751" y="17164"/>
                    <a:pt x="144287" y="17164"/>
                  </a:cubicBezTo>
                  <a:cubicBezTo>
                    <a:pt x="144287" y="17164"/>
                    <a:pt x="144824" y="17164"/>
                    <a:pt x="144824" y="16628"/>
                  </a:cubicBezTo>
                  <a:cubicBezTo>
                    <a:pt x="145360" y="16628"/>
                    <a:pt x="145360" y="16091"/>
                    <a:pt x="145896" y="16091"/>
                  </a:cubicBezTo>
                  <a:cubicBezTo>
                    <a:pt x="145896" y="16091"/>
                    <a:pt x="145896" y="16091"/>
                    <a:pt x="146433" y="15555"/>
                  </a:cubicBezTo>
                  <a:cubicBezTo>
                    <a:pt x="146433" y="15555"/>
                    <a:pt x="146969" y="15019"/>
                    <a:pt x="146969" y="15019"/>
                  </a:cubicBezTo>
                  <a:cubicBezTo>
                    <a:pt x="146969" y="15019"/>
                    <a:pt x="146969" y="15019"/>
                    <a:pt x="146969" y="15019"/>
                  </a:cubicBezTo>
                  <a:cubicBezTo>
                    <a:pt x="146969" y="15019"/>
                    <a:pt x="146969" y="15019"/>
                    <a:pt x="146969" y="15019"/>
                  </a:cubicBezTo>
                  <a:cubicBezTo>
                    <a:pt x="146969" y="15019"/>
                    <a:pt x="147505" y="14482"/>
                    <a:pt x="147505" y="14482"/>
                  </a:cubicBezTo>
                  <a:cubicBezTo>
                    <a:pt x="147505" y="14482"/>
                    <a:pt x="147505" y="14482"/>
                    <a:pt x="147505" y="14482"/>
                  </a:cubicBezTo>
                  <a:cubicBezTo>
                    <a:pt x="147505" y="14482"/>
                    <a:pt x="148042" y="13946"/>
                    <a:pt x="148042" y="13410"/>
                  </a:cubicBezTo>
                  <a:cubicBezTo>
                    <a:pt x="148042" y="13410"/>
                    <a:pt x="148042" y="13410"/>
                    <a:pt x="148042" y="12873"/>
                  </a:cubicBezTo>
                  <a:cubicBezTo>
                    <a:pt x="148578" y="12337"/>
                    <a:pt x="149115" y="11800"/>
                    <a:pt x="149651" y="11264"/>
                  </a:cubicBezTo>
                  <a:cubicBezTo>
                    <a:pt x="149651" y="11264"/>
                    <a:pt x="149651" y="10728"/>
                    <a:pt x="150187" y="10728"/>
                  </a:cubicBezTo>
                  <a:cubicBezTo>
                    <a:pt x="149651" y="17701"/>
                    <a:pt x="149115" y="25210"/>
                    <a:pt x="148042" y="2842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43" name="Freeform: Shape 554"/>
            <p:cNvSpPr/>
            <p:nvPr/>
          </p:nvSpPr>
          <p:spPr>
            <a:xfrm>
              <a:off x="9276120" y="2262600"/>
              <a:ext cx="30960" cy="310680"/>
            </a:xfrm>
            <a:custGeom>
              <a:avLst/>
              <a:gdLst/>
              <a:ahLst/>
              <a:rect l="l" t="t" r="r" b="b"/>
              <a:pathLst>
                <a:path w="40137" h="400141">
                  <a:moveTo>
                    <a:pt x="38991" y="352940"/>
                  </a:moveTo>
                  <a:cubicBezTo>
                    <a:pt x="38454" y="368495"/>
                    <a:pt x="37381" y="384587"/>
                    <a:pt x="36309" y="400142"/>
                  </a:cubicBezTo>
                  <a:cubicBezTo>
                    <a:pt x="30408" y="396387"/>
                    <a:pt x="23435" y="394242"/>
                    <a:pt x="16463" y="394242"/>
                  </a:cubicBezTo>
                  <a:cubicBezTo>
                    <a:pt x="14853" y="394242"/>
                    <a:pt x="13244" y="394242"/>
                    <a:pt x="11635" y="394778"/>
                  </a:cubicBezTo>
                  <a:cubicBezTo>
                    <a:pt x="26654" y="338458"/>
                    <a:pt x="22363" y="278919"/>
                    <a:pt x="14853" y="220990"/>
                  </a:cubicBezTo>
                  <a:cubicBezTo>
                    <a:pt x="6808" y="161988"/>
                    <a:pt x="-3920" y="102449"/>
                    <a:pt x="1444" y="42911"/>
                  </a:cubicBezTo>
                  <a:cubicBezTo>
                    <a:pt x="2517" y="31647"/>
                    <a:pt x="4126" y="20383"/>
                    <a:pt x="7344" y="9655"/>
                  </a:cubicBezTo>
                  <a:cubicBezTo>
                    <a:pt x="8417" y="6437"/>
                    <a:pt x="9490" y="3218"/>
                    <a:pt x="10562" y="0"/>
                  </a:cubicBezTo>
                  <a:cubicBezTo>
                    <a:pt x="7880" y="9655"/>
                    <a:pt x="7344" y="19846"/>
                    <a:pt x="7344" y="30037"/>
                  </a:cubicBezTo>
                  <a:cubicBezTo>
                    <a:pt x="6808" y="56857"/>
                    <a:pt x="8417" y="84212"/>
                    <a:pt x="11099" y="111031"/>
                  </a:cubicBezTo>
                  <a:cubicBezTo>
                    <a:pt x="13781" y="141605"/>
                    <a:pt x="16999" y="172179"/>
                    <a:pt x="23435" y="201680"/>
                  </a:cubicBezTo>
                  <a:cubicBezTo>
                    <a:pt x="28263" y="226354"/>
                    <a:pt x="35772" y="250491"/>
                    <a:pt x="38454" y="275165"/>
                  </a:cubicBezTo>
                  <a:cubicBezTo>
                    <a:pt x="41136" y="301447"/>
                    <a:pt x="40063" y="327194"/>
                    <a:pt x="38991" y="3529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44" name="Freeform: Shape 555"/>
            <p:cNvSpPr/>
            <p:nvPr/>
          </p:nvSpPr>
          <p:spPr>
            <a:xfrm>
              <a:off x="9237240" y="2609280"/>
              <a:ext cx="48240" cy="85320"/>
            </a:xfrm>
            <a:custGeom>
              <a:avLst/>
              <a:gdLst/>
              <a:ahLst/>
              <a:rect l="l" t="t" r="r" b="b"/>
              <a:pathLst>
                <a:path w="62220" h="109958">
                  <a:moveTo>
                    <a:pt x="62220" y="100840"/>
                  </a:moveTo>
                  <a:cubicBezTo>
                    <a:pt x="61684" y="104058"/>
                    <a:pt x="61148" y="106740"/>
                    <a:pt x="61148" y="109959"/>
                  </a:cubicBezTo>
                  <a:cubicBezTo>
                    <a:pt x="56857" y="109422"/>
                    <a:pt x="52566" y="106204"/>
                    <a:pt x="49347" y="102985"/>
                  </a:cubicBezTo>
                  <a:cubicBezTo>
                    <a:pt x="22528" y="77776"/>
                    <a:pt x="8582" y="41301"/>
                    <a:pt x="1073" y="5364"/>
                  </a:cubicBezTo>
                  <a:cubicBezTo>
                    <a:pt x="536" y="3755"/>
                    <a:pt x="536" y="1609"/>
                    <a:pt x="0" y="0"/>
                  </a:cubicBezTo>
                  <a:cubicBezTo>
                    <a:pt x="1609" y="3755"/>
                    <a:pt x="4291" y="7509"/>
                    <a:pt x="8046" y="8046"/>
                  </a:cubicBezTo>
                  <a:cubicBezTo>
                    <a:pt x="12337" y="8582"/>
                    <a:pt x="16092" y="5364"/>
                    <a:pt x="18237" y="1609"/>
                  </a:cubicBezTo>
                  <a:cubicBezTo>
                    <a:pt x="18237" y="1609"/>
                    <a:pt x="18773" y="1073"/>
                    <a:pt x="18773" y="1073"/>
                  </a:cubicBezTo>
                  <a:cubicBezTo>
                    <a:pt x="17164" y="15019"/>
                    <a:pt x="19310" y="30037"/>
                    <a:pt x="23601" y="43447"/>
                  </a:cubicBezTo>
                  <a:cubicBezTo>
                    <a:pt x="28965" y="60075"/>
                    <a:pt x="37547" y="75094"/>
                    <a:pt x="46129" y="90112"/>
                  </a:cubicBezTo>
                  <a:cubicBezTo>
                    <a:pt x="48811" y="94403"/>
                    <a:pt x="51493" y="98694"/>
                    <a:pt x="55784" y="100840"/>
                  </a:cubicBezTo>
                  <a:cubicBezTo>
                    <a:pt x="58466" y="100304"/>
                    <a:pt x="60075" y="100840"/>
                    <a:pt x="62220" y="100840"/>
                  </a:cubicBezTo>
                  <a:close/>
                </a:path>
              </a:pathLst>
            </a:custGeom>
            <a:solidFill>
              <a:srgbClr val="414042"/>
            </a:solidFill>
            <a:ln w="0">
              <a:noFill/>
            </a:ln>
          </p:spPr>
          <p:style>
            <a:lnRef idx="0"/>
            <a:fillRef idx="0"/>
            <a:effectRef idx="0"/>
            <a:fontRef idx="minor"/>
          </p:style>
          <p:txBody>
            <a:bodyPr lIns="90000" rIns="90000" tIns="38520" bIns="38520" anchor="ctr">
              <a:noAutofit/>
            </a:bodyPr>
            <a:p>
              <a:endParaRPr b="0" lang="en-US" sz="1800" spc="-1" strike="noStrike">
                <a:solidFill>
                  <a:srgbClr val="313c3f"/>
                </a:solidFill>
                <a:latin typeface="Source Sans Pro"/>
              </a:endParaRPr>
            </a:p>
          </p:txBody>
        </p:sp>
      </p:grpSp>
      <p:pic>
        <p:nvPicPr>
          <p:cNvPr id="2745" name="Group 598" descr=""/>
          <p:cNvPicPr/>
          <p:nvPr/>
        </p:nvPicPr>
        <p:blipFill>
          <a:blip r:embed="rId18"/>
          <a:stretch/>
        </p:blipFill>
        <p:spPr>
          <a:xfrm>
            <a:off x="6303960" y="4803840"/>
            <a:ext cx="1066680" cy="895320"/>
          </a:xfrm>
          <a:prstGeom prst="rect">
            <a:avLst/>
          </a:prstGeom>
          <a:ln w="0">
            <a:noFill/>
          </a:ln>
        </p:spPr>
      </p:pic>
      <p:pic>
        <p:nvPicPr>
          <p:cNvPr id="2746" name="Group 604" descr=""/>
          <p:cNvPicPr/>
          <p:nvPr/>
        </p:nvPicPr>
        <p:blipFill>
          <a:blip r:embed="rId19"/>
          <a:stretch/>
        </p:blipFill>
        <p:spPr>
          <a:xfrm>
            <a:off x="7345440" y="4803840"/>
            <a:ext cx="1066680" cy="895320"/>
          </a:xfrm>
          <a:prstGeom prst="rect">
            <a:avLst/>
          </a:prstGeom>
          <a:ln w="0">
            <a:noFill/>
          </a:ln>
        </p:spPr>
      </p:pic>
      <p:pic>
        <p:nvPicPr>
          <p:cNvPr id="2747" name="Group 610" descr=""/>
          <p:cNvPicPr/>
          <p:nvPr/>
        </p:nvPicPr>
        <p:blipFill>
          <a:blip r:embed="rId20"/>
          <a:stretch/>
        </p:blipFill>
        <p:spPr>
          <a:xfrm>
            <a:off x="8381880" y="4803840"/>
            <a:ext cx="1067040" cy="895320"/>
          </a:xfrm>
          <a:prstGeom prst="rect">
            <a:avLst/>
          </a:prstGeom>
          <a:ln w="0">
            <a:noFill/>
          </a:ln>
        </p:spPr>
      </p:pic>
      <p:pic>
        <p:nvPicPr>
          <p:cNvPr id="2748" name="Group 616" descr=""/>
          <p:cNvPicPr/>
          <p:nvPr/>
        </p:nvPicPr>
        <p:blipFill>
          <a:blip r:embed="rId21"/>
          <a:stretch/>
        </p:blipFill>
        <p:spPr>
          <a:xfrm>
            <a:off x="9412200" y="4803840"/>
            <a:ext cx="1067040" cy="895320"/>
          </a:xfrm>
          <a:prstGeom prst="rect">
            <a:avLst/>
          </a:prstGeom>
          <a:ln w="0">
            <a:noFill/>
          </a:ln>
        </p:spPr>
      </p:pic>
      <p:pic>
        <p:nvPicPr>
          <p:cNvPr id="2749" name="Group 622" descr=""/>
          <p:cNvPicPr/>
          <p:nvPr/>
        </p:nvPicPr>
        <p:blipFill>
          <a:blip r:embed="rId22"/>
          <a:stretch/>
        </p:blipFill>
        <p:spPr>
          <a:xfrm>
            <a:off x="10460160" y="4803840"/>
            <a:ext cx="1066680" cy="895320"/>
          </a:xfrm>
          <a:prstGeom prst="rect">
            <a:avLst/>
          </a:prstGeom>
          <a:ln w="0">
            <a:noFill/>
          </a:ln>
        </p:spPr>
      </p:pic>
      <p:pic>
        <p:nvPicPr>
          <p:cNvPr id="2750" name="Group 143" descr=""/>
          <p:cNvPicPr/>
          <p:nvPr/>
        </p:nvPicPr>
        <p:blipFill>
          <a:blip r:embed="rId23"/>
          <a:stretch/>
        </p:blipFill>
        <p:spPr>
          <a:xfrm>
            <a:off x="8474040" y="3408480"/>
            <a:ext cx="828720" cy="828720"/>
          </a:xfrm>
          <a:prstGeom prst="rect">
            <a:avLst/>
          </a:prstGeom>
          <a:ln w="0">
            <a:noFill/>
          </a:ln>
        </p:spPr>
      </p:pic>
      <p:pic>
        <p:nvPicPr>
          <p:cNvPr id="2751" name="Graphic 59" descr=""/>
          <p:cNvPicPr/>
          <p:nvPr/>
        </p:nvPicPr>
        <p:blipFill>
          <a:blip r:embed="rId24"/>
          <a:stretch/>
        </p:blipFill>
        <p:spPr>
          <a:xfrm>
            <a:off x="6334200" y="3408480"/>
            <a:ext cx="828720" cy="828720"/>
          </a:xfrm>
          <a:prstGeom prst="rect">
            <a:avLst/>
          </a:prstGeom>
          <a:ln w="0">
            <a:noFill/>
          </a:ln>
        </p:spPr>
      </p:pic>
      <p:pic>
        <p:nvPicPr>
          <p:cNvPr id="2752" name="Group 142" descr=""/>
          <p:cNvPicPr/>
          <p:nvPr/>
        </p:nvPicPr>
        <p:blipFill>
          <a:blip r:embed="rId25"/>
          <a:stretch/>
        </p:blipFill>
        <p:spPr>
          <a:xfrm>
            <a:off x="7400880" y="3408480"/>
            <a:ext cx="835200" cy="828720"/>
          </a:xfrm>
          <a:prstGeom prst="rect">
            <a:avLst/>
          </a:prstGeom>
          <a:ln w="0">
            <a:noFill/>
          </a:ln>
        </p:spPr>
      </p:pic>
      <p:pic>
        <p:nvPicPr>
          <p:cNvPr id="2753" name="Group 145" descr=""/>
          <p:cNvPicPr/>
          <p:nvPr/>
        </p:nvPicPr>
        <p:blipFill>
          <a:blip r:embed="rId26"/>
          <a:stretch/>
        </p:blipFill>
        <p:spPr>
          <a:xfrm>
            <a:off x="10607760" y="3438360"/>
            <a:ext cx="828720" cy="835200"/>
          </a:xfrm>
          <a:prstGeom prst="rect">
            <a:avLst/>
          </a:prstGeom>
          <a:ln w="0">
            <a:noFill/>
          </a:ln>
        </p:spPr>
      </p:pic>
      <p:pic>
        <p:nvPicPr>
          <p:cNvPr id="2754" name="Group 144" descr=""/>
          <p:cNvPicPr/>
          <p:nvPr/>
        </p:nvPicPr>
        <p:blipFill>
          <a:blip r:embed="rId27"/>
          <a:stretch/>
        </p:blipFill>
        <p:spPr>
          <a:xfrm>
            <a:off x="9540720" y="3402000"/>
            <a:ext cx="835200" cy="8287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Graphic Assets</a:t>
            </a:r>
            <a:endParaRPr b="0" lang="en-US" sz="3600" spc="-1" strike="noStrike">
              <a:solidFill>
                <a:srgbClr val="313c3f"/>
              </a:solidFill>
              <a:latin typeface="Lato"/>
            </a:endParaRPr>
          </a:p>
        </p:txBody>
      </p:sp>
      <p:grpSp>
        <p:nvGrpSpPr>
          <p:cNvPr id="2756" name="Group 53"/>
          <p:cNvGrpSpPr/>
          <p:nvPr/>
        </p:nvGrpSpPr>
        <p:grpSpPr>
          <a:xfrm>
            <a:off x="1693800" y="1455840"/>
            <a:ext cx="2784600" cy="2151000"/>
            <a:chOff x="1693800" y="1455840"/>
            <a:chExt cx="2784600" cy="2151000"/>
          </a:xfrm>
        </p:grpSpPr>
        <p:sp>
          <p:nvSpPr>
            <p:cNvPr id="2757" name="Freeform: Shape 2"/>
            <p:cNvSpPr/>
            <p:nvPr/>
          </p:nvSpPr>
          <p:spPr>
            <a:xfrm>
              <a:off x="3328920" y="196380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58" name="Freeform: Shape 3"/>
            <p:cNvSpPr/>
            <p:nvPr/>
          </p:nvSpPr>
          <p:spPr>
            <a:xfrm>
              <a:off x="1765080" y="2233800"/>
              <a:ext cx="1076400" cy="3902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0b3f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59" name="Freeform: Shape 4"/>
            <p:cNvSpPr/>
            <p:nvPr/>
          </p:nvSpPr>
          <p:spPr>
            <a:xfrm>
              <a:off x="3329640" y="15746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60" name="Freeform: Shape 5"/>
            <p:cNvSpPr/>
            <p:nvPr/>
          </p:nvSpPr>
          <p:spPr>
            <a:xfrm>
              <a:off x="1765080" y="1844640"/>
              <a:ext cx="1076400" cy="390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61" name="Freeform: Shape 6"/>
            <p:cNvSpPr/>
            <p:nvPr/>
          </p:nvSpPr>
          <p:spPr>
            <a:xfrm>
              <a:off x="1765080" y="14558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762" name="Group 7"/>
            <p:cNvGrpSpPr/>
            <p:nvPr/>
          </p:nvGrpSpPr>
          <p:grpSpPr>
            <a:xfrm>
              <a:off x="1693800" y="2353320"/>
              <a:ext cx="2784600" cy="1253520"/>
              <a:chOff x="1693800" y="2353320"/>
              <a:chExt cx="2784600" cy="1253520"/>
            </a:xfrm>
          </p:grpSpPr>
          <p:grpSp>
            <p:nvGrpSpPr>
              <p:cNvPr id="2763" name="Graphic 2"/>
              <p:cNvGrpSpPr/>
              <p:nvPr/>
            </p:nvGrpSpPr>
            <p:grpSpPr>
              <a:xfrm>
                <a:off x="1693800" y="2624040"/>
                <a:ext cx="1220040" cy="203760"/>
                <a:chOff x="1693800" y="2624040"/>
                <a:chExt cx="1220040" cy="203760"/>
              </a:xfrm>
            </p:grpSpPr>
            <p:sp>
              <p:nvSpPr>
                <p:cNvPr id="2764" name="Freeform: Shape 21"/>
                <p:cNvSpPr/>
                <p:nvPr/>
              </p:nvSpPr>
              <p:spPr>
                <a:xfrm>
                  <a:off x="1693800" y="2624040"/>
                  <a:ext cx="1220040" cy="20376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65" name="Freeform: Shape 22"/>
                <p:cNvSpPr/>
                <p:nvPr/>
              </p:nvSpPr>
              <p:spPr>
                <a:xfrm>
                  <a:off x="2383200" y="2652840"/>
                  <a:ext cx="447120" cy="14616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66" name="Freeform: Shape 23"/>
                <p:cNvSpPr/>
                <p:nvPr/>
              </p:nvSpPr>
              <p:spPr>
                <a:xfrm>
                  <a:off x="1776600" y="2652840"/>
                  <a:ext cx="454680" cy="14616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767" name="Graphic 2"/>
              <p:cNvGrpSpPr/>
              <p:nvPr/>
            </p:nvGrpSpPr>
            <p:grpSpPr>
              <a:xfrm>
                <a:off x="3258360" y="2353320"/>
                <a:ext cx="1220040" cy="203760"/>
                <a:chOff x="3258360" y="2353320"/>
                <a:chExt cx="1220040" cy="203760"/>
              </a:xfrm>
            </p:grpSpPr>
            <p:sp>
              <p:nvSpPr>
                <p:cNvPr id="2768" name="Freeform: Shape 18"/>
                <p:cNvSpPr/>
                <p:nvPr/>
              </p:nvSpPr>
              <p:spPr>
                <a:xfrm>
                  <a:off x="3258360" y="2353320"/>
                  <a:ext cx="1220040" cy="20376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69" name="Freeform: Shape 19"/>
                <p:cNvSpPr/>
                <p:nvPr/>
              </p:nvSpPr>
              <p:spPr>
                <a:xfrm>
                  <a:off x="3947760" y="2382120"/>
                  <a:ext cx="447120" cy="14616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70" name="Freeform: Shape 20"/>
                <p:cNvSpPr/>
                <p:nvPr/>
              </p:nvSpPr>
              <p:spPr>
                <a:xfrm>
                  <a:off x="3341160" y="2382120"/>
                  <a:ext cx="454320" cy="14616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771" name="Freeform: Shape 10"/>
              <p:cNvSpPr/>
              <p:nvPr/>
            </p:nvSpPr>
            <p:spPr>
              <a:xfrm>
                <a:off x="2253600" y="2580480"/>
                <a:ext cx="1681560" cy="67140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72" name="Freeform: Shape 11"/>
              <p:cNvSpPr/>
              <p:nvPr/>
            </p:nvSpPr>
            <p:spPr>
              <a:xfrm>
                <a:off x="2345760" y="2982960"/>
                <a:ext cx="1441080" cy="26892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73" name="Freeform: Shape 12"/>
              <p:cNvSpPr/>
              <p:nvPr/>
            </p:nvSpPr>
            <p:spPr>
              <a:xfrm>
                <a:off x="2166480" y="2827800"/>
                <a:ext cx="274320" cy="6192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313c3f"/>
                  </a:solidFill>
                  <a:latin typeface="Source Sans Pro"/>
                </a:endParaRPr>
              </a:p>
            </p:txBody>
          </p:sp>
          <p:sp>
            <p:nvSpPr>
              <p:cNvPr id="2774" name="Freeform: Shape 13"/>
              <p:cNvSpPr/>
              <p:nvPr/>
            </p:nvSpPr>
            <p:spPr>
              <a:xfrm>
                <a:off x="3730680" y="2557080"/>
                <a:ext cx="274320" cy="6192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313c3f"/>
                  </a:solidFill>
                  <a:latin typeface="Source Sans Pro"/>
                </a:endParaRPr>
              </a:p>
            </p:txBody>
          </p:sp>
          <p:grpSp>
            <p:nvGrpSpPr>
              <p:cNvPr id="2775" name="Graphic 2"/>
              <p:cNvGrpSpPr/>
              <p:nvPr/>
            </p:nvGrpSpPr>
            <p:grpSpPr>
              <a:xfrm>
                <a:off x="2492640" y="3075120"/>
                <a:ext cx="1330560" cy="531720"/>
                <a:chOff x="2492640" y="3075120"/>
                <a:chExt cx="1330560" cy="531720"/>
              </a:xfrm>
            </p:grpSpPr>
            <p:sp>
              <p:nvSpPr>
                <p:cNvPr id="2776" name="Freeform: Shape 15"/>
                <p:cNvSpPr/>
                <p:nvPr/>
              </p:nvSpPr>
              <p:spPr>
                <a:xfrm>
                  <a:off x="2492640" y="3075120"/>
                  <a:ext cx="1330560" cy="53172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77" name="Freeform: Shape 16"/>
                <p:cNvSpPr/>
                <p:nvPr/>
              </p:nvSpPr>
              <p:spPr>
                <a:xfrm>
                  <a:off x="3183120" y="313704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78" name="Freeform: Shape 17"/>
                <p:cNvSpPr/>
                <p:nvPr/>
              </p:nvSpPr>
              <p:spPr>
                <a:xfrm>
                  <a:off x="3106080" y="312192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grpSp>
        <p:nvGrpSpPr>
          <p:cNvPr id="2779" name="Group 52"/>
          <p:cNvGrpSpPr/>
          <p:nvPr/>
        </p:nvGrpSpPr>
        <p:grpSpPr>
          <a:xfrm>
            <a:off x="1693800" y="4016520"/>
            <a:ext cx="2784600" cy="2149200"/>
            <a:chOff x="1693800" y="4016520"/>
            <a:chExt cx="2784600" cy="2149200"/>
          </a:xfrm>
        </p:grpSpPr>
        <p:sp>
          <p:nvSpPr>
            <p:cNvPr id="2780" name="Freeform: Shape 30"/>
            <p:cNvSpPr/>
            <p:nvPr/>
          </p:nvSpPr>
          <p:spPr>
            <a:xfrm>
              <a:off x="3328920" y="452448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81" name="Freeform: Shape 31"/>
            <p:cNvSpPr/>
            <p:nvPr/>
          </p:nvSpPr>
          <p:spPr>
            <a:xfrm>
              <a:off x="1765080" y="4794120"/>
              <a:ext cx="1076400" cy="38880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0b3f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82" name="Freeform: Shape 32"/>
            <p:cNvSpPr/>
            <p:nvPr/>
          </p:nvSpPr>
          <p:spPr>
            <a:xfrm>
              <a:off x="3329640" y="413496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83" name="Freeform: Shape 33"/>
            <p:cNvSpPr/>
            <p:nvPr/>
          </p:nvSpPr>
          <p:spPr>
            <a:xfrm>
              <a:off x="1765080" y="4405320"/>
              <a:ext cx="107640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84" name="Freeform: Shape 34"/>
            <p:cNvSpPr/>
            <p:nvPr/>
          </p:nvSpPr>
          <p:spPr>
            <a:xfrm>
              <a:off x="1765080" y="401652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785" name="Group 35"/>
            <p:cNvGrpSpPr/>
            <p:nvPr/>
          </p:nvGrpSpPr>
          <p:grpSpPr>
            <a:xfrm>
              <a:off x="1693800" y="4913280"/>
              <a:ext cx="2784600" cy="1252440"/>
              <a:chOff x="1693800" y="4913280"/>
              <a:chExt cx="2784600" cy="1252440"/>
            </a:xfrm>
          </p:grpSpPr>
          <p:grpSp>
            <p:nvGrpSpPr>
              <p:cNvPr id="2786" name="Graphic 2"/>
              <p:cNvGrpSpPr/>
              <p:nvPr/>
            </p:nvGrpSpPr>
            <p:grpSpPr>
              <a:xfrm>
                <a:off x="1693800" y="5183640"/>
                <a:ext cx="1220040" cy="203400"/>
                <a:chOff x="1693800" y="5183640"/>
                <a:chExt cx="1220040" cy="203400"/>
              </a:xfrm>
            </p:grpSpPr>
            <p:sp>
              <p:nvSpPr>
                <p:cNvPr id="2787" name="Freeform: Shape 49"/>
                <p:cNvSpPr/>
                <p:nvPr/>
              </p:nvSpPr>
              <p:spPr>
                <a:xfrm>
                  <a:off x="1693800" y="5183640"/>
                  <a:ext cx="1220040" cy="20340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88" name="Freeform: Shape 50"/>
                <p:cNvSpPr/>
                <p:nvPr/>
              </p:nvSpPr>
              <p:spPr>
                <a:xfrm>
                  <a:off x="2383200" y="5212440"/>
                  <a:ext cx="447120" cy="14580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89" name="Freeform: Shape 51"/>
                <p:cNvSpPr/>
                <p:nvPr/>
              </p:nvSpPr>
              <p:spPr>
                <a:xfrm>
                  <a:off x="1776600" y="5212440"/>
                  <a:ext cx="454680" cy="14580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790" name="Graphic 2"/>
              <p:cNvGrpSpPr/>
              <p:nvPr/>
            </p:nvGrpSpPr>
            <p:grpSpPr>
              <a:xfrm>
                <a:off x="3258360" y="4913280"/>
                <a:ext cx="1220040" cy="203400"/>
                <a:chOff x="3258360" y="4913280"/>
                <a:chExt cx="1220040" cy="203400"/>
              </a:xfrm>
            </p:grpSpPr>
            <p:sp>
              <p:nvSpPr>
                <p:cNvPr id="2791" name="Freeform: Shape 46"/>
                <p:cNvSpPr/>
                <p:nvPr/>
              </p:nvSpPr>
              <p:spPr>
                <a:xfrm>
                  <a:off x="3258360" y="4913280"/>
                  <a:ext cx="1220040" cy="20340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92" name="Freeform: Shape 47"/>
                <p:cNvSpPr/>
                <p:nvPr/>
              </p:nvSpPr>
              <p:spPr>
                <a:xfrm>
                  <a:off x="3947760" y="4942080"/>
                  <a:ext cx="447120" cy="14580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93" name="Freeform: Shape 48"/>
                <p:cNvSpPr/>
                <p:nvPr/>
              </p:nvSpPr>
              <p:spPr>
                <a:xfrm>
                  <a:off x="3341160" y="4942080"/>
                  <a:ext cx="454320" cy="14580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794" name="Freeform: Shape 38"/>
              <p:cNvSpPr/>
              <p:nvPr/>
            </p:nvSpPr>
            <p:spPr>
              <a:xfrm>
                <a:off x="2253600" y="5140440"/>
                <a:ext cx="1681560" cy="67068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95" name="Freeform: Shape 39"/>
              <p:cNvSpPr/>
              <p:nvPr/>
            </p:nvSpPr>
            <p:spPr>
              <a:xfrm>
                <a:off x="2345760" y="5542200"/>
                <a:ext cx="1441080" cy="2685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796" name="Freeform: Shape 40"/>
              <p:cNvSpPr/>
              <p:nvPr/>
            </p:nvSpPr>
            <p:spPr>
              <a:xfrm>
                <a:off x="2166480" y="5387400"/>
                <a:ext cx="274320" cy="6156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313c3f"/>
                  </a:solidFill>
                  <a:latin typeface="Source Sans Pro"/>
                </a:endParaRPr>
              </a:p>
            </p:txBody>
          </p:sp>
          <p:sp>
            <p:nvSpPr>
              <p:cNvPr id="2797" name="Freeform: Shape 41"/>
              <p:cNvSpPr/>
              <p:nvPr/>
            </p:nvSpPr>
            <p:spPr>
              <a:xfrm>
                <a:off x="3730680" y="5116680"/>
                <a:ext cx="274320" cy="6156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313c3f"/>
                  </a:solidFill>
                  <a:latin typeface="Source Sans Pro"/>
                </a:endParaRPr>
              </a:p>
            </p:txBody>
          </p:sp>
          <p:grpSp>
            <p:nvGrpSpPr>
              <p:cNvPr id="2798" name="Graphic 2"/>
              <p:cNvGrpSpPr/>
              <p:nvPr/>
            </p:nvGrpSpPr>
            <p:grpSpPr>
              <a:xfrm>
                <a:off x="2492640" y="5634360"/>
                <a:ext cx="1330560" cy="531360"/>
                <a:chOff x="2492640" y="5634360"/>
                <a:chExt cx="1330560" cy="531360"/>
              </a:xfrm>
            </p:grpSpPr>
            <p:sp>
              <p:nvSpPr>
                <p:cNvPr id="2799" name="Freeform: Shape 43"/>
                <p:cNvSpPr/>
                <p:nvPr/>
              </p:nvSpPr>
              <p:spPr>
                <a:xfrm>
                  <a:off x="2492640" y="5634360"/>
                  <a:ext cx="1330560" cy="53136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0" name="Freeform: Shape 44"/>
                <p:cNvSpPr/>
                <p:nvPr/>
              </p:nvSpPr>
              <p:spPr>
                <a:xfrm>
                  <a:off x="3183120" y="569592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1" name="Freeform: Shape 45"/>
                <p:cNvSpPr/>
                <p:nvPr/>
              </p:nvSpPr>
              <p:spPr>
                <a:xfrm>
                  <a:off x="3106080" y="568116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grpSp>
        <p:nvGrpSpPr>
          <p:cNvPr id="2802" name="Group 105"/>
          <p:cNvGrpSpPr/>
          <p:nvPr/>
        </p:nvGrpSpPr>
        <p:grpSpPr>
          <a:xfrm>
            <a:off x="7292880" y="3673440"/>
            <a:ext cx="2851200" cy="2600280"/>
            <a:chOff x="7292880" y="3673440"/>
            <a:chExt cx="2851200" cy="2600280"/>
          </a:xfrm>
        </p:grpSpPr>
        <p:sp>
          <p:nvSpPr>
            <p:cNvPr id="2803" name="Freeform: Shape 76"/>
            <p:cNvSpPr/>
            <p:nvPr/>
          </p:nvSpPr>
          <p:spPr>
            <a:xfrm>
              <a:off x="7368840" y="45925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0b3f2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4" name="Freeform: Shape 78"/>
            <p:cNvSpPr/>
            <p:nvPr/>
          </p:nvSpPr>
          <p:spPr>
            <a:xfrm>
              <a:off x="7368840" y="41940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44e087"/>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5" name="Freeform: Shape 79"/>
            <p:cNvSpPr/>
            <p:nvPr/>
          </p:nvSpPr>
          <p:spPr>
            <a:xfrm>
              <a:off x="7368480" y="379512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6" name="Freeform: Shape 80"/>
            <p:cNvSpPr/>
            <p:nvPr/>
          </p:nvSpPr>
          <p:spPr>
            <a:xfrm>
              <a:off x="8970840" y="44701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7" name="Freeform: Shape 81"/>
            <p:cNvSpPr/>
            <p:nvPr/>
          </p:nvSpPr>
          <p:spPr>
            <a:xfrm>
              <a:off x="8970840" y="40716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edda78"/>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8" name="Freeform: Shape 82"/>
            <p:cNvSpPr/>
            <p:nvPr/>
          </p:nvSpPr>
          <p:spPr>
            <a:xfrm>
              <a:off x="8970480" y="367344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09" name="Freeform: Shape 77"/>
            <p:cNvSpPr/>
            <p:nvPr/>
          </p:nvSpPr>
          <p:spPr>
            <a:xfrm>
              <a:off x="8970840" y="486864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7160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2810" name="Group 104"/>
            <p:cNvGrpSpPr/>
            <p:nvPr/>
          </p:nvGrpSpPr>
          <p:grpSpPr>
            <a:xfrm>
              <a:off x="7292880" y="4990680"/>
              <a:ext cx="2851200" cy="1283040"/>
              <a:chOff x="7292880" y="4990680"/>
              <a:chExt cx="2851200" cy="1283040"/>
            </a:xfrm>
          </p:grpSpPr>
          <p:grpSp>
            <p:nvGrpSpPr>
              <p:cNvPr id="2811" name="Graphic 24"/>
              <p:cNvGrpSpPr/>
              <p:nvPr/>
            </p:nvGrpSpPr>
            <p:grpSpPr>
              <a:xfrm>
                <a:off x="7292880" y="4990680"/>
                <a:ext cx="1248840" cy="208080"/>
                <a:chOff x="7292880" y="4990680"/>
                <a:chExt cx="1248840" cy="208080"/>
              </a:xfrm>
            </p:grpSpPr>
            <p:sp>
              <p:nvSpPr>
                <p:cNvPr id="2812" name="Freeform: Shape 65"/>
                <p:cNvSpPr/>
                <p:nvPr/>
              </p:nvSpPr>
              <p:spPr>
                <a:xfrm>
                  <a:off x="7292880" y="4990680"/>
                  <a:ext cx="1248840" cy="208080"/>
                </a:xfrm>
                <a:custGeom>
                  <a:avLst/>
                  <a:gdLst/>
                  <a:ahLst/>
                  <a:rect l="l" t="t" r="r" b="b"/>
                  <a:pathLst>
                    <a:path w="1472450" h="245284">
                      <a:moveTo>
                        <a:pt x="1386972" y="71356"/>
                      </a:moveTo>
                      <a:lnTo>
                        <a:pt x="1207840" y="245285"/>
                      </a:lnTo>
                      <a:lnTo>
                        <a:pt x="265353" y="245285"/>
                      </a:lnTo>
                      <a:lnTo>
                        <a:pt x="86221"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972" y="71356"/>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13" name="Freeform: Shape 66"/>
                <p:cNvSpPr/>
                <p:nvPr/>
              </p:nvSpPr>
              <p:spPr>
                <a:xfrm>
                  <a:off x="7999560" y="5019480"/>
                  <a:ext cx="457560" cy="149400"/>
                </a:xfrm>
                <a:custGeom>
                  <a:avLst/>
                  <a:gdLst/>
                  <a:ahLst/>
                  <a:rect l="l" t="t" r="r" b="b"/>
                  <a:pathLst>
                    <a:path w="539625" h="176158">
                      <a:moveTo>
                        <a:pt x="0" y="176159"/>
                      </a:moveTo>
                      <a:lnTo>
                        <a:pt x="360494" y="176159"/>
                      </a:lnTo>
                      <a:lnTo>
                        <a:pt x="539626" y="2230"/>
                      </a:lnTo>
                      <a:lnTo>
                        <a:pt x="186565" y="0"/>
                      </a:lnTo>
                      <a:lnTo>
                        <a:pt x="186565" y="151630"/>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14" name="Freeform: Shape 67"/>
                <p:cNvSpPr/>
                <p:nvPr/>
              </p:nvSpPr>
              <p:spPr>
                <a:xfrm>
                  <a:off x="7377840" y="5019480"/>
                  <a:ext cx="465120" cy="149400"/>
                </a:xfrm>
                <a:custGeom>
                  <a:avLst/>
                  <a:gdLst/>
                  <a:ahLst/>
                  <a:rect l="l" t="t" r="r" b="b"/>
                  <a:pathLst>
                    <a:path w="548545" h="176158">
                      <a:moveTo>
                        <a:pt x="179132" y="176159"/>
                      </a:moveTo>
                      <a:lnTo>
                        <a:pt x="306234" y="176159"/>
                      </a:lnTo>
                      <a:lnTo>
                        <a:pt x="306234" y="31218"/>
                      </a:lnTo>
                      <a:lnTo>
                        <a:pt x="548545" y="0"/>
                      </a:lnTo>
                      <a:lnTo>
                        <a:pt x="0" y="2230"/>
                      </a:lnTo>
                      <a:lnTo>
                        <a:pt x="179132"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815" name="Freeform: Shape 68"/>
              <p:cNvSpPr/>
              <p:nvPr/>
            </p:nvSpPr>
            <p:spPr>
              <a:xfrm>
                <a:off x="7848720" y="5221800"/>
                <a:ext cx="1722240" cy="687600"/>
              </a:xfrm>
              <a:custGeom>
                <a:avLst/>
                <a:gdLst/>
                <a:ahLst/>
                <a:rect l="l" t="t" r="r" b="b"/>
                <a:pathLst>
                  <a:path w="2030811" h="810666">
                    <a:moveTo>
                      <a:pt x="16505" y="95141"/>
                    </a:moveTo>
                    <a:cubicBezTo>
                      <a:pt x="13532" y="107033"/>
                      <a:pt x="11302" y="123386"/>
                      <a:pt x="9072" y="135278"/>
                    </a:cubicBezTo>
                    <a:cubicBezTo>
                      <a:pt x="6843" y="147914"/>
                      <a:pt x="4613" y="160550"/>
                      <a:pt x="3126" y="173186"/>
                    </a:cubicBezTo>
                    <a:cubicBezTo>
                      <a:pt x="-24376" y="330019"/>
                      <a:pt x="135431" y="463068"/>
                      <a:pt x="252870" y="536653"/>
                    </a:cubicBezTo>
                    <a:cubicBezTo>
                      <a:pt x="449098" y="660039"/>
                      <a:pt x="701072" y="736597"/>
                      <a:pt x="927774" y="775991"/>
                    </a:cubicBezTo>
                    <a:cubicBezTo>
                      <a:pt x="1155220" y="815385"/>
                      <a:pt x="1417600" y="828021"/>
                      <a:pt x="1644302" y="777478"/>
                    </a:cubicBezTo>
                    <a:cubicBezTo>
                      <a:pt x="1779580" y="747746"/>
                      <a:pt x="1974321" y="675648"/>
                      <a:pt x="2001823" y="518071"/>
                    </a:cubicBezTo>
                    <a:lnTo>
                      <a:pt x="2015945" y="430363"/>
                    </a:lnTo>
                    <a:lnTo>
                      <a:pt x="2030811" y="346372"/>
                    </a:lnTo>
                    <a:lnTo>
                      <a:pt x="1922291" y="327789"/>
                    </a:lnTo>
                    <a:lnTo>
                      <a:pt x="1907426" y="419214"/>
                    </a:lnTo>
                    <a:lnTo>
                      <a:pt x="1894046" y="500232"/>
                    </a:lnTo>
                    <a:cubicBezTo>
                      <a:pt x="1876208" y="605779"/>
                      <a:pt x="1694846" y="653349"/>
                      <a:pt x="1608625" y="668958"/>
                    </a:cubicBezTo>
                    <a:cubicBezTo>
                      <a:pt x="1399761" y="707609"/>
                      <a:pt x="1157450" y="692743"/>
                      <a:pt x="949330" y="656322"/>
                    </a:cubicBezTo>
                    <a:cubicBezTo>
                      <a:pt x="741209" y="620645"/>
                      <a:pt x="507817" y="553749"/>
                      <a:pt x="324969" y="446715"/>
                    </a:cubicBezTo>
                    <a:cubicBezTo>
                      <a:pt x="249154" y="402861"/>
                      <a:pt x="94550" y="297315"/>
                      <a:pt x="112389" y="191025"/>
                    </a:cubicBezTo>
                    <a:lnTo>
                      <a:pt x="142121" y="18582"/>
                    </a:lnTo>
                    <a:lnTo>
                      <a:pt x="33601" y="0"/>
                    </a:lnTo>
                    <a:lnTo>
                      <a:pt x="16505" y="95141"/>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16" name="Freeform: Shape 69"/>
              <p:cNvSpPr/>
              <p:nvPr/>
            </p:nvSpPr>
            <p:spPr>
              <a:xfrm>
                <a:off x="8000640" y="5634360"/>
                <a:ext cx="1476360" cy="275760"/>
              </a:xfrm>
              <a:custGeom>
                <a:avLst/>
                <a:gdLst/>
                <a:ahLst/>
                <a:rect l="l" t="t" r="r" b="b"/>
                <a:pathLst>
                  <a:path w="1740776" h="325300">
                    <a:moveTo>
                      <a:pt x="0" y="0"/>
                    </a:moveTo>
                    <a:cubicBezTo>
                      <a:pt x="18582" y="11149"/>
                      <a:pt x="35678" y="20812"/>
                      <a:pt x="52030" y="28988"/>
                    </a:cubicBezTo>
                    <a:cubicBezTo>
                      <a:pt x="257920" y="138251"/>
                      <a:pt x="515097" y="204404"/>
                      <a:pt x="749233" y="241568"/>
                    </a:cubicBezTo>
                    <a:cubicBezTo>
                      <a:pt x="983368" y="278733"/>
                      <a:pt x="1250208" y="293598"/>
                      <a:pt x="1485086" y="254204"/>
                    </a:cubicBezTo>
                    <a:cubicBezTo>
                      <a:pt x="1557928" y="241568"/>
                      <a:pt x="1664961" y="217040"/>
                      <a:pt x="1740777" y="169469"/>
                    </a:cubicBezTo>
                    <a:cubicBezTo>
                      <a:pt x="1664961" y="235622"/>
                      <a:pt x="1552725" y="272043"/>
                      <a:pt x="1465017" y="292112"/>
                    </a:cubicBezTo>
                    <a:cubicBezTo>
                      <a:pt x="1238315" y="342655"/>
                      <a:pt x="975935" y="330019"/>
                      <a:pt x="748489" y="290625"/>
                    </a:cubicBezTo>
                    <a:cubicBezTo>
                      <a:pt x="521044" y="251231"/>
                      <a:pt x="269813" y="174672"/>
                      <a:pt x="73585" y="51287"/>
                    </a:cubicBezTo>
                    <a:cubicBezTo>
                      <a:pt x="49800" y="36421"/>
                      <a:pt x="24528" y="19326"/>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17" name="Freeform: Shape 70"/>
              <p:cNvSpPr/>
              <p:nvPr/>
            </p:nvSpPr>
            <p:spPr>
              <a:xfrm>
                <a:off x="9378720" y="54759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313c3f"/>
                  </a:solidFill>
                  <a:latin typeface="Source Sans Pro"/>
                </a:endParaRPr>
              </a:p>
            </p:txBody>
          </p:sp>
          <p:sp>
            <p:nvSpPr>
              <p:cNvPr id="2818" name="Freeform: Shape 71"/>
              <p:cNvSpPr/>
              <p:nvPr/>
            </p:nvSpPr>
            <p:spPr>
              <a:xfrm>
                <a:off x="7776720" y="51987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313c3f"/>
                  </a:solidFill>
                  <a:latin typeface="Source Sans Pro"/>
                </a:endParaRPr>
              </a:p>
            </p:txBody>
          </p:sp>
          <p:grpSp>
            <p:nvGrpSpPr>
              <p:cNvPr id="2819" name="Graphic 24"/>
              <p:cNvGrpSpPr/>
              <p:nvPr/>
            </p:nvGrpSpPr>
            <p:grpSpPr>
              <a:xfrm>
                <a:off x="8895240" y="5267880"/>
                <a:ext cx="1248840" cy="208080"/>
                <a:chOff x="8895240" y="5267880"/>
                <a:chExt cx="1248840" cy="208080"/>
              </a:xfrm>
            </p:grpSpPr>
            <p:sp>
              <p:nvSpPr>
                <p:cNvPr id="2820" name="Freeform: Shape 73"/>
                <p:cNvSpPr/>
                <p:nvPr/>
              </p:nvSpPr>
              <p:spPr>
                <a:xfrm>
                  <a:off x="8895240" y="5267880"/>
                  <a:ext cx="1248840" cy="208080"/>
                </a:xfrm>
                <a:custGeom>
                  <a:avLst/>
                  <a:gdLst/>
                  <a:ahLst/>
                  <a:rect l="l" t="t" r="r" b="b"/>
                  <a:pathLst>
                    <a:path w="1472450" h="245284">
                      <a:moveTo>
                        <a:pt x="1386229" y="70612"/>
                      </a:moveTo>
                      <a:lnTo>
                        <a:pt x="1207097" y="245285"/>
                      </a:lnTo>
                      <a:lnTo>
                        <a:pt x="264610" y="245285"/>
                      </a:lnTo>
                      <a:lnTo>
                        <a:pt x="85478"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229" y="71356"/>
                      </a:lnTo>
                      <a:lnTo>
                        <a:pt x="1386229" y="70612"/>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21" name="Freeform: Shape 74"/>
                <p:cNvSpPr/>
                <p:nvPr/>
              </p:nvSpPr>
              <p:spPr>
                <a:xfrm>
                  <a:off x="9601200" y="5296680"/>
                  <a:ext cx="457560" cy="149400"/>
                </a:xfrm>
                <a:custGeom>
                  <a:avLst/>
                  <a:gdLst/>
                  <a:ahLst/>
                  <a:rect l="l" t="t" r="r" b="b"/>
                  <a:pathLst>
                    <a:path w="539625" h="176158">
                      <a:moveTo>
                        <a:pt x="0" y="176159"/>
                      </a:moveTo>
                      <a:lnTo>
                        <a:pt x="360494" y="176159"/>
                      </a:lnTo>
                      <a:lnTo>
                        <a:pt x="539626" y="1486"/>
                      </a:lnTo>
                      <a:lnTo>
                        <a:pt x="186565" y="0"/>
                      </a:lnTo>
                      <a:lnTo>
                        <a:pt x="186565" y="150887"/>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22" name="Freeform: Shape 75"/>
                <p:cNvSpPr/>
                <p:nvPr/>
              </p:nvSpPr>
              <p:spPr>
                <a:xfrm>
                  <a:off x="8980200" y="5296680"/>
                  <a:ext cx="465120" cy="149400"/>
                </a:xfrm>
                <a:custGeom>
                  <a:avLst/>
                  <a:gdLst/>
                  <a:ahLst/>
                  <a:rect l="l" t="t" r="r" b="b"/>
                  <a:pathLst>
                    <a:path w="548545" h="176158">
                      <a:moveTo>
                        <a:pt x="178389" y="176159"/>
                      </a:moveTo>
                      <a:lnTo>
                        <a:pt x="305490" y="176159"/>
                      </a:lnTo>
                      <a:lnTo>
                        <a:pt x="305490" y="30475"/>
                      </a:lnTo>
                      <a:lnTo>
                        <a:pt x="548545" y="0"/>
                      </a:lnTo>
                      <a:lnTo>
                        <a:pt x="0" y="1486"/>
                      </a:lnTo>
                      <a:lnTo>
                        <a:pt x="178389"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823" name="Graphic 24"/>
              <p:cNvGrpSpPr/>
              <p:nvPr/>
            </p:nvGrpSpPr>
            <p:grpSpPr>
              <a:xfrm>
                <a:off x="7962840" y="5730120"/>
                <a:ext cx="1361520" cy="543600"/>
                <a:chOff x="7962840" y="5730120"/>
                <a:chExt cx="1361520" cy="543600"/>
              </a:xfrm>
            </p:grpSpPr>
            <p:sp>
              <p:nvSpPr>
                <p:cNvPr id="2824" name="Freeform: Shape 100"/>
                <p:cNvSpPr/>
                <p:nvPr/>
              </p:nvSpPr>
              <p:spPr>
                <a:xfrm>
                  <a:off x="7962840" y="5730120"/>
                  <a:ext cx="1361520" cy="543600"/>
                </a:xfrm>
                <a:custGeom>
                  <a:avLst/>
                  <a:gdLst/>
                  <a:ahLst/>
                  <a:rect l="l" t="t" r="r" b="b"/>
                  <a:pathLst>
                    <a:path w="1605498" h="640713">
                      <a:moveTo>
                        <a:pt x="1487" y="521787"/>
                      </a:moveTo>
                      <a:lnTo>
                        <a:pt x="487596" y="521787"/>
                      </a:lnTo>
                      <a:lnTo>
                        <a:pt x="487596" y="375360"/>
                      </a:lnTo>
                      <a:cubicBezTo>
                        <a:pt x="487596" y="295085"/>
                        <a:pt x="553748" y="228932"/>
                        <a:pt x="634023" y="228932"/>
                      </a:cubicBezTo>
                      <a:lnTo>
                        <a:pt x="645916" y="228932"/>
                      </a:lnTo>
                      <a:lnTo>
                        <a:pt x="645916" y="157577"/>
                      </a:lnTo>
                      <a:cubicBezTo>
                        <a:pt x="645916" y="70612"/>
                        <a:pt x="717271" y="0"/>
                        <a:pt x="803492" y="0"/>
                      </a:cubicBezTo>
                      <a:cubicBezTo>
                        <a:pt x="890457" y="0"/>
                        <a:pt x="961069" y="71356"/>
                        <a:pt x="961069" y="157577"/>
                      </a:cubicBezTo>
                      <a:lnTo>
                        <a:pt x="961069" y="228932"/>
                      </a:lnTo>
                      <a:lnTo>
                        <a:pt x="972962" y="228932"/>
                      </a:lnTo>
                      <a:cubicBezTo>
                        <a:pt x="1053237" y="228932"/>
                        <a:pt x="1119389" y="295085"/>
                        <a:pt x="1119389" y="375360"/>
                      </a:cubicBezTo>
                      <a:lnTo>
                        <a:pt x="1119389" y="521787"/>
                      </a:lnTo>
                      <a:lnTo>
                        <a:pt x="1605498" y="521787"/>
                      </a:lnTo>
                      <a:lnTo>
                        <a:pt x="1605498" y="640713"/>
                      </a:lnTo>
                      <a:lnTo>
                        <a:pt x="0" y="640713"/>
                      </a:lnTo>
                      <a:lnTo>
                        <a:pt x="0" y="521787"/>
                      </a:lnTo>
                      <a:lnTo>
                        <a:pt x="1487" y="521787"/>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25" name="Freeform: Shape 101"/>
                <p:cNvSpPr/>
                <p:nvPr/>
              </p:nvSpPr>
              <p:spPr>
                <a:xfrm>
                  <a:off x="8670600" y="5791680"/>
                  <a:ext cx="625320" cy="452160"/>
                </a:xfrm>
                <a:custGeom>
                  <a:avLst/>
                  <a:gdLst/>
                  <a:ahLst/>
                  <a:rect l="l" t="t" r="r" b="b"/>
                  <a:pathLst>
                    <a:path w="737339" h="532936">
                      <a:moveTo>
                        <a:pt x="159063" y="532936"/>
                      </a:moveTo>
                      <a:lnTo>
                        <a:pt x="645172" y="532936"/>
                      </a:lnTo>
                      <a:lnTo>
                        <a:pt x="737340" y="532936"/>
                      </a:lnTo>
                      <a:lnTo>
                        <a:pt x="737340" y="483880"/>
                      </a:lnTo>
                      <a:lnTo>
                        <a:pt x="251231" y="483880"/>
                      </a:lnTo>
                      <a:lnTo>
                        <a:pt x="251231" y="302518"/>
                      </a:lnTo>
                      <a:cubicBezTo>
                        <a:pt x="251231" y="241568"/>
                        <a:pt x="200687" y="191025"/>
                        <a:pt x="139738" y="191025"/>
                      </a:cubicBezTo>
                      <a:lnTo>
                        <a:pt x="92167" y="191025"/>
                      </a:lnTo>
                      <a:lnTo>
                        <a:pt x="92167" y="84735"/>
                      </a:lnTo>
                      <a:cubicBezTo>
                        <a:pt x="92167" y="52030"/>
                        <a:pt x="79532" y="22299"/>
                        <a:pt x="57976" y="0"/>
                      </a:cubicBezTo>
                      <a:cubicBezTo>
                        <a:pt x="65409" y="13379"/>
                        <a:pt x="69869" y="29731"/>
                        <a:pt x="69869" y="46084"/>
                      </a:cubicBezTo>
                      <a:cubicBezTo>
                        <a:pt x="69869" y="90681"/>
                        <a:pt x="40137" y="127845"/>
                        <a:pt x="0" y="139738"/>
                      </a:cubicBezTo>
                      <a:lnTo>
                        <a:pt x="0" y="240082"/>
                      </a:lnTo>
                      <a:lnTo>
                        <a:pt x="46827" y="240082"/>
                      </a:lnTo>
                      <a:cubicBezTo>
                        <a:pt x="107777" y="240082"/>
                        <a:pt x="158320" y="290625"/>
                        <a:pt x="158320" y="351575"/>
                      </a:cubicBezTo>
                      <a:lnTo>
                        <a:pt x="158320" y="532936"/>
                      </a:lnTo>
                      <a:lnTo>
                        <a:pt x="159063" y="532936"/>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26" name="Freeform: Shape 102"/>
                <p:cNvSpPr/>
                <p:nvPr/>
              </p:nvSpPr>
              <p:spPr>
                <a:xfrm>
                  <a:off x="8591760" y="5777280"/>
                  <a:ext cx="108360" cy="106920"/>
                </a:xfrm>
                <a:custGeom>
                  <a:avLst/>
                  <a:gdLst/>
                  <a:ahLst/>
                  <a:rect l="l" t="t" r="r" b="b"/>
                  <a:pathLst>
                    <a:path w="127845" h="126358">
                      <a:moveTo>
                        <a:pt x="63923" y="126359"/>
                      </a:moveTo>
                      <a:cubicBezTo>
                        <a:pt x="98857" y="126359"/>
                        <a:pt x="127845" y="98114"/>
                        <a:pt x="127845" y="63179"/>
                      </a:cubicBezTo>
                      <a:cubicBezTo>
                        <a:pt x="127845" y="28245"/>
                        <a:pt x="98857" y="0"/>
                        <a:pt x="63923" y="0"/>
                      </a:cubicBezTo>
                      <a:cubicBezTo>
                        <a:pt x="28988" y="0"/>
                        <a:pt x="0" y="28245"/>
                        <a:pt x="0" y="63179"/>
                      </a:cubicBezTo>
                      <a:cubicBezTo>
                        <a:pt x="0" y="97371"/>
                        <a:pt x="28988" y="126359"/>
                        <a:pt x="63923" y="126359"/>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grpSp>
        <p:nvGrpSpPr>
          <p:cNvPr id="2827" name="Group 130"/>
          <p:cNvGrpSpPr/>
          <p:nvPr/>
        </p:nvGrpSpPr>
        <p:grpSpPr>
          <a:xfrm>
            <a:off x="6494400" y="2004840"/>
            <a:ext cx="4492800" cy="1047240"/>
            <a:chOff x="6494400" y="2004840"/>
            <a:chExt cx="4492800" cy="1047240"/>
          </a:xfrm>
        </p:grpSpPr>
        <p:grpSp>
          <p:nvGrpSpPr>
            <p:cNvPr id="2828" name="Graphic 174"/>
            <p:cNvGrpSpPr/>
            <p:nvPr/>
          </p:nvGrpSpPr>
          <p:grpSpPr>
            <a:xfrm>
              <a:off x="8754840" y="2077560"/>
              <a:ext cx="533160" cy="833400"/>
              <a:chOff x="8754840" y="2077560"/>
              <a:chExt cx="533160" cy="833400"/>
            </a:xfrm>
          </p:grpSpPr>
          <p:sp>
            <p:nvSpPr>
              <p:cNvPr id="2829" name="Freeform: Shape 156"/>
              <p:cNvSpPr/>
              <p:nvPr/>
            </p:nvSpPr>
            <p:spPr>
              <a:xfrm>
                <a:off x="8788680" y="2158200"/>
                <a:ext cx="461880" cy="671760"/>
              </a:xfrm>
              <a:custGeom>
                <a:avLst/>
                <a:gdLst/>
                <a:ahLst/>
                <a:rect l="l" t="t" r="r" b="b"/>
                <a:pathLst>
                  <a:path w="991549" h="1440379">
                    <a:moveTo>
                      <a:pt x="495775" y="0"/>
                    </a:moveTo>
                    <a:lnTo>
                      <a:pt x="435091" y="0"/>
                    </a:lnTo>
                    <a:lnTo>
                      <a:pt x="0" y="0"/>
                    </a:lnTo>
                    <a:lnTo>
                      <a:pt x="3435" y="241590"/>
                    </a:lnTo>
                    <a:cubicBezTo>
                      <a:pt x="62974" y="579358"/>
                      <a:pt x="445396" y="468295"/>
                      <a:pt x="445396" y="719045"/>
                    </a:cubicBezTo>
                    <a:lnTo>
                      <a:pt x="445396" y="721335"/>
                    </a:lnTo>
                    <a:cubicBezTo>
                      <a:pt x="445396" y="972084"/>
                      <a:pt x="62974" y="861022"/>
                      <a:pt x="3435" y="1198790"/>
                    </a:cubicBezTo>
                    <a:lnTo>
                      <a:pt x="0" y="1440379"/>
                    </a:lnTo>
                    <a:lnTo>
                      <a:pt x="435091" y="1440379"/>
                    </a:lnTo>
                    <a:lnTo>
                      <a:pt x="495775" y="1440379"/>
                    </a:lnTo>
                    <a:lnTo>
                      <a:pt x="991549" y="1440379"/>
                    </a:lnTo>
                    <a:lnTo>
                      <a:pt x="988114" y="1198790"/>
                    </a:lnTo>
                    <a:cubicBezTo>
                      <a:pt x="927431" y="861022"/>
                      <a:pt x="545009" y="972084"/>
                      <a:pt x="545009" y="721335"/>
                    </a:cubicBezTo>
                    <a:lnTo>
                      <a:pt x="545009" y="719045"/>
                    </a:lnTo>
                    <a:cubicBezTo>
                      <a:pt x="545009" y="468295"/>
                      <a:pt x="927431" y="579358"/>
                      <a:pt x="986969" y="241590"/>
                    </a:cubicBezTo>
                    <a:lnTo>
                      <a:pt x="990404" y="0"/>
                    </a:lnTo>
                    <a:lnTo>
                      <a:pt x="495775"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0" name="Freeform: Shape 157"/>
              <p:cNvSpPr/>
              <p:nvPr/>
            </p:nvSpPr>
            <p:spPr>
              <a:xfrm>
                <a:off x="9019440" y="2166120"/>
                <a:ext cx="223200" cy="656640"/>
              </a:xfrm>
              <a:custGeom>
                <a:avLst/>
                <a:gdLst/>
                <a:ahLst/>
                <a:rect l="l" t="t" r="r" b="b"/>
                <a:pathLst>
                  <a:path w="479744" h="1408320">
                    <a:moveTo>
                      <a:pt x="275939" y="1408320"/>
                    </a:moveTo>
                    <a:lnTo>
                      <a:pt x="479745" y="1408320"/>
                    </a:lnTo>
                    <a:lnTo>
                      <a:pt x="476310" y="1183905"/>
                    </a:lnTo>
                    <a:cubicBezTo>
                      <a:pt x="417916" y="858732"/>
                      <a:pt x="34349" y="969794"/>
                      <a:pt x="34349" y="705305"/>
                    </a:cubicBezTo>
                    <a:lnTo>
                      <a:pt x="34349" y="703015"/>
                    </a:lnTo>
                    <a:cubicBezTo>
                      <a:pt x="34349" y="438526"/>
                      <a:pt x="417916" y="549588"/>
                      <a:pt x="476310" y="224415"/>
                    </a:cubicBezTo>
                    <a:lnTo>
                      <a:pt x="479745" y="0"/>
                    </a:lnTo>
                    <a:lnTo>
                      <a:pt x="275939" y="0"/>
                    </a:lnTo>
                    <a:lnTo>
                      <a:pt x="273649" y="224415"/>
                    </a:lnTo>
                    <a:cubicBezTo>
                      <a:pt x="237010" y="562183"/>
                      <a:pt x="0" y="451120"/>
                      <a:pt x="0" y="701870"/>
                    </a:cubicBezTo>
                    <a:lnTo>
                      <a:pt x="0" y="703015"/>
                    </a:lnTo>
                    <a:cubicBezTo>
                      <a:pt x="0" y="953765"/>
                      <a:pt x="237010" y="842702"/>
                      <a:pt x="273649" y="1180470"/>
                    </a:cubicBezTo>
                    <a:lnTo>
                      <a:pt x="275939" y="140832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1" name="Freeform: Shape 158"/>
              <p:cNvSpPr/>
              <p:nvPr/>
            </p:nvSpPr>
            <p:spPr>
              <a:xfrm>
                <a:off x="8803080" y="2716200"/>
                <a:ext cx="432360" cy="98640"/>
              </a:xfrm>
              <a:custGeom>
                <a:avLst/>
                <a:gdLst/>
                <a:ahLst/>
                <a:rect l="l" t="t" r="r" b="b"/>
                <a:pathLst>
                  <a:path w="928575" h="211820">
                    <a:moveTo>
                      <a:pt x="925141" y="0"/>
                    </a:moveTo>
                    <a:lnTo>
                      <a:pt x="926286" y="5725"/>
                    </a:lnTo>
                    <a:lnTo>
                      <a:pt x="928576" y="211821"/>
                    </a:lnTo>
                    <a:lnTo>
                      <a:pt x="0" y="211821"/>
                    </a:lnTo>
                    <a:lnTo>
                      <a:pt x="3435" y="5725"/>
                    </a:lnTo>
                    <a:lnTo>
                      <a:pt x="3435" y="0"/>
                    </a:lnTo>
                    <a:lnTo>
                      <a:pt x="925141"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2" name="Freeform: Shape 159"/>
              <p:cNvSpPr/>
              <p:nvPr/>
            </p:nvSpPr>
            <p:spPr>
              <a:xfrm>
                <a:off x="9147240" y="2716200"/>
                <a:ext cx="88560" cy="98640"/>
              </a:xfrm>
              <a:custGeom>
                <a:avLst/>
                <a:gdLst/>
                <a:ahLst/>
                <a:rect l="l" t="t" r="r" b="b"/>
                <a:pathLst>
                  <a:path w="190065" h="211820">
                    <a:moveTo>
                      <a:pt x="186631" y="0"/>
                    </a:moveTo>
                    <a:lnTo>
                      <a:pt x="187776" y="5725"/>
                    </a:lnTo>
                    <a:lnTo>
                      <a:pt x="190066" y="211821"/>
                    </a:lnTo>
                    <a:lnTo>
                      <a:pt x="1145" y="211821"/>
                    </a:lnTo>
                    <a:lnTo>
                      <a:pt x="0" y="1145"/>
                    </a:lnTo>
                    <a:lnTo>
                      <a:pt x="0" y="0"/>
                    </a:lnTo>
                    <a:lnTo>
                      <a:pt x="186631"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3" name="Freeform: Shape 160"/>
              <p:cNvSpPr/>
              <p:nvPr/>
            </p:nvSpPr>
            <p:spPr>
              <a:xfrm>
                <a:off x="8806320" y="2278080"/>
                <a:ext cx="424440" cy="223560"/>
              </a:xfrm>
              <a:custGeom>
                <a:avLst/>
                <a:gdLst/>
                <a:ahLst/>
                <a:rect l="l" t="t" r="r" b="b"/>
                <a:pathLst>
                  <a:path w="911400" h="479744">
                    <a:moveTo>
                      <a:pt x="911401" y="14885"/>
                    </a:moveTo>
                    <a:cubicBezTo>
                      <a:pt x="859877" y="193501"/>
                      <a:pt x="688131" y="214110"/>
                      <a:pt x="575923" y="283954"/>
                    </a:cubicBezTo>
                    <a:cubicBezTo>
                      <a:pt x="507224" y="322883"/>
                      <a:pt x="460280" y="396162"/>
                      <a:pt x="460280" y="479745"/>
                    </a:cubicBezTo>
                    <a:cubicBezTo>
                      <a:pt x="460280" y="383567"/>
                      <a:pt x="398452" y="301129"/>
                      <a:pt x="311434" y="269069"/>
                    </a:cubicBezTo>
                    <a:cubicBezTo>
                      <a:pt x="198081" y="208386"/>
                      <a:pt x="42364" y="178616"/>
                      <a:pt x="0" y="0"/>
                    </a:cubicBezTo>
                    <a:cubicBezTo>
                      <a:pt x="129382" y="42364"/>
                      <a:pt x="296549" y="68699"/>
                      <a:pt x="479745" y="68699"/>
                    </a:cubicBezTo>
                    <a:cubicBezTo>
                      <a:pt x="640042" y="68699"/>
                      <a:pt x="788888" y="49234"/>
                      <a:pt x="911401" y="14885"/>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4" name="Freeform: Shape 161"/>
              <p:cNvSpPr/>
              <p:nvPr/>
            </p:nvSpPr>
            <p:spPr>
              <a:xfrm>
                <a:off x="9019800" y="2285280"/>
                <a:ext cx="210960" cy="216720"/>
              </a:xfrm>
              <a:custGeom>
                <a:avLst/>
                <a:gdLst/>
                <a:ahLst/>
                <a:rect l="l" t="t" r="r" b="b"/>
                <a:pathLst>
                  <a:path w="453410" h="464860">
                    <a:moveTo>
                      <a:pt x="453411" y="0"/>
                    </a:moveTo>
                    <a:cubicBezTo>
                      <a:pt x="401887" y="178616"/>
                      <a:pt x="230140" y="199226"/>
                      <a:pt x="117933" y="269069"/>
                    </a:cubicBezTo>
                    <a:cubicBezTo>
                      <a:pt x="49234" y="307998"/>
                      <a:pt x="2290" y="381277"/>
                      <a:pt x="2290" y="464860"/>
                    </a:cubicBezTo>
                    <a:cubicBezTo>
                      <a:pt x="2290" y="453410"/>
                      <a:pt x="1145" y="440816"/>
                      <a:pt x="0" y="429366"/>
                    </a:cubicBezTo>
                    <a:cubicBezTo>
                      <a:pt x="9160" y="217545"/>
                      <a:pt x="202661" y="283954"/>
                      <a:pt x="261055" y="37784"/>
                    </a:cubicBezTo>
                    <a:cubicBezTo>
                      <a:pt x="329753" y="29769"/>
                      <a:pt x="395017" y="16030"/>
                      <a:pt x="453411"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5" name="Freeform: Shape 162"/>
              <p:cNvSpPr/>
              <p:nvPr/>
            </p:nvSpPr>
            <p:spPr>
              <a:xfrm>
                <a:off x="8799840" y="2163600"/>
                <a:ext cx="83520" cy="214560"/>
              </a:xfrm>
              <a:custGeom>
                <a:avLst/>
                <a:gdLst/>
                <a:ahLst/>
                <a:rect l="l" t="t" r="r" b="b"/>
                <a:pathLst>
                  <a:path w="179761" h="460124">
                    <a:moveTo>
                      <a:pt x="53814" y="38773"/>
                    </a:moveTo>
                    <a:lnTo>
                      <a:pt x="57249" y="262043"/>
                    </a:lnTo>
                    <a:cubicBezTo>
                      <a:pt x="72133" y="342192"/>
                      <a:pt x="105338" y="408600"/>
                      <a:pt x="179761" y="460124"/>
                    </a:cubicBezTo>
                    <a:cubicBezTo>
                      <a:pt x="171746" y="456689"/>
                      <a:pt x="164877" y="452109"/>
                      <a:pt x="156862" y="447529"/>
                    </a:cubicBezTo>
                    <a:cubicBezTo>
                      <a:pt x="59539" y="392571"/>
                      <a:pt x="18320" y="320437"/>
                      <a:pt x="2290" y="228839"/>
                    </a:cubicBezTo>
                    <a:lnTo>
                      <a:pt x="0" y="6714"/>
                    </a:lnTo>
                    <a:cubicBezTo>
                      <a:pt x="0" y="-4736"/>
                      <a:pt x="53814" y="-5881"/>
                      <a:pt x="53814" y="387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6" name="Freeform: Shape 163"/>
              <p:cNvSpPr/>
              <p:nvPr/>
            </p:nvSpPr>
            <p:spPr>
              <a:xfrm>
                <a:off x="8804160" y="2608920"/>
                <a:ext cx="83520" cy="214560"/>
              </a:xfrm>
              <a:custGeom>
                <a:avLst/>
                <a:gdLst/>
                <a:ahLst/>
                <a:rect l="l" t="t" r="r" b="b"/>
                <a:pathLst>
                  <a:path w="179761" h="460076">
                    <a:moveTo>
                      <a:pt x="54959" y="420206"/>
                    </a:moveTo>
                    <a:lnTo>
                      <a:pt x="57249" y="198081"/>
                    </a:lnTo>
                    <a:cubicBezTo>
                      <a:pt x="72133" y="117933"/>
                      <a:pt x="105338" y="51524"/>
                      <a:pt x="179761" y="0"/>
                    </a:cubicBezTo>
                    <a:cubicBezTo>
                      <a:pt x="171746" y="3435"/>
                      <a:pt x="164877" y="8015"/>
                      <a:pt x="156862" y="12595"/>
                    </a:cubicBezTo>
                    <a:cubicBezTo>
                      <a:pt x="59539" y="67554"/>
                      <a:pt x="18320" y="139687"/>
                      <a:pt x="2290" y="231285"/>
                    </a:cubicBezTo>
                    <a:lnTo>
                      <a:pt x="0" y="453410"/>
                    </a:lnTo>
                    <a:cubicBezTo>
                      <a:pt x="0" y="464860"/>
                      <a:pt x="54959" y="466005"/>
                      <a:pt x="54959" y="4202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37" name="Freeform: Shape 164"/>
              <p:cNvSpPr/>
              <p:nvPr/>
            </p:nvSpPr>
            <p:spPr>
              <a:xfrm>
                <a:off x="8754840" y="2077560"/>
                <a:ext cx="533160" cy="81000"/>
              </a:xfrm>
              <a:custGeom>
                <a:avLst/>
                <a:gdLst/>
                <a:ahLst/>
                <a:rect l="l" t="t" r="r" b="b"/>
                <a:pathLst>
                  <a:path w="1144976" h="174036">
                    <a:moveTo>
                      <a:pt x="1059103" y="0"/>
                    </a:moveTo>
                    <a:lnTo>
                      <a:pt x="85873" y="0"/>
                    </a:lnTo>
                    <a:cubicBezTo>
                      <a:pt x="38929"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313c3f"/>
                  </a:solidFill>
                  <a:latin typeface="Source Sans Pro"/>
                </a:endParaRPr>
              </a:p>
            </p:txBody>
          </p:sp>
          <p:sp>
            <p:nvSpPr>
              <p:cNvPr id="2838" name="Freeform: Shape 165"/>
              <p:cNvSpPr/>
              <p:nvPr/>
            </p:nvSpPr>
            <p:spPr>
              <a:xfrm>
                <a:off x="8754840" y="2829960"/>
                <a:ext cx="533160" cy="81000"/>
              </a:xfrm>
              <a:custGeom>
                <a:avLst/>
                <a:gdLst/>
                <a:ahLst/>
                <a:rect l="l" t="t" r="r" b="b"/>
                <a:pathLst>
                  <a:path w="1144976" h="174036">
                    <a:moveTo>
                      <a:pt x="1059103" y="0"/>
                    </a:moveTo>
                    <a:lnTo>
                      <a:pt x="85873" y="0"/>
                    </a:lnTo>
                    <a:cubicBezTo>
                      <a:pt x="37784"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313c3f"/>
                  </a:solidFill>
                  <a:latin typeface="Source Sans Pro"/>
                </a:endParaRPr>
              </a:p>
            </p:txBody>
          </p:sp>
          <p:sp>
            <p:nvSpPr>
              <p:cNvPr id="2839" name="Freeform: Shape 166"/>
              <p:cNvSpPr/>
              <p:nvPr/>
            </p:nvSpPr>
            <p:spPr>
              <a:xfrm>
                <a:off x="8770680" y="209232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4044"/>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313c3f"/>
                  </a:solidFill>
                  <a:latin typeface="Source Sans Pro"/>
                </a:endParaRPr>
              </a:p>
            </p:txBody>
          </p:sp>
          <p:sp>
            <p:nvSpPr>
              <p:cNvPr id="2840" name="Freeform: Shape 167"/>
              <p:cNvSpPr/>
              <p:nvPr/>
            </p:nvSpPr>
            <p:spPr>
              <a:xfrm>
                <a:off x="8770680" y="284508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5189"/>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313c3f"/>
                  </a:solidFill>
                  <a:latin typeface="Source Sans Pro"/>
                </a:endParaRPr>
              </a:p>
            </p:txBody>
          </p:sp>
          <p:sp>
            <p:nvSpPr>
              <p:cNvPr id="2841" name="Freeform: Shape 168"/>
              <p:cNvSpPr/>
              <p:nvPr/>
            </p:nvSpPr>
            <p:spPr>
              <a:xfrm>
                <a:off x="8783640" y="2095560"/>
                <a:ext cx="238320" cy="22320"/>
              </a:xfrm>
              <a:custGeom>
                <a:avLst/>
                <a:gdLst/>
                <a:ahLst/>
                <a:rect l="l" t="t" r="r" b="b"/>
                <a:pathLst>
                  <a:path w="511804" h="48088">
                    <a:moveTo>
                      <a:pt x="24044" y="0"/>
                    </a:moveTo>
                    <a:lnTo>
                      <a:pt x="487760" y="0"/>
                    </a:lnTo>
                    <a:cubicBezTo>
                      <a:pt x="500355" y="0"/>
                      <a:pt x="511804" y="10305"/>
                      <a:pt x="511804" y="24044"/>
                    </a:cubicBezTo>
                    <a:cubicBezTo>
                      <a:pt x="511804" y="36639"/>
                      <a:pt x="501500" y="48089"/>
                      <a:pt x="487760" y="48089"/>
                    </a:cubicBezTo>
                    <a:lnTo>
                      <a:pt x="24044" y="48089"/>
                    </a:lnTo>
                    <a:cubicBezTo>
                      <a:pt x="11450" y="48089"/>
                      <a:pt x="0" y="37784"/>
                      <a:pt x="0" y="24044"/>
                    </a:cubicBezTo>
                    <a:cubicBezTo>
                      <a:pt x="0" y="11450"/>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313c3f"/>
                  </a:solidFill>
                  <a:latin typeface="Source Sans Pro"/>
                </a:endParaRPr>
              </a:p>
            </p:txBody>
          </p:sp>
          <p:sp>
            <p:nvSpPr>
              <p:cNvPr id="2842" name="Freeform: Shape 169"/>
              <p:cNvSpPr/>
              <p:nvPr/>
            </p:nvSpPr>
            <p:spPr>
              <a:xfrm>
                <a:off x="8783640" y="2848680"/>
                <a:ext cx="238320" cy="22320"/>
              </a:xfrm>
              <a:custGeom>
                <a:avLst/>
                <a:gdLst/>
                <a:ahLst/>
                <a:rect l="l" t="t" r="r" b="b"/>
                <a:pathLst>
                  <a:path w="511804" h="48089">
                    <a:moveTo>
                      <a:pt x="24044" y="0"/>
                    </a:moveTo>
                    <a:lnTo>
                      <a:pt x="487760" y="0"/>
                    </a:lnTo>
                    <a:cubicBezTo>
                      <a:pt x="500355" y="0"/>
                      <a:pt x="511804" y="10305"/>
                      <a:pt x="511804" y="24045"/>
                    </a:cubicBezTo>
                    <a:cubicBezTo>
                      <a:pt x="511804" y="36639"/>
                      <a:pt x="501500" y="48089"/>
                      <a:pt x="487760" y="48089"/>
                    </a:cubicBezTo>
                    <a:lnTo>
                      <a:pt x="24044" y="48089"/>
                    </a:lnTo>
                    <a:cubicBezTo>
                      <a:pt x="11450" y="48089"/>
                      <a:pt x="0" y="37784"/>
                      <a:pt x="0" y="24045"/>
                    </a:cubicBezTo>
                    <a:cubicBezTo>
                      <a:pt x="0" y="10305"/>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313c3f"/>
                  </a:solidFill>
                  <a:latin typeface="Source Sans Pro"/>
                </a:endParaRPr>
              </a:p>
            </p:txBody>
          </p:sp>
        </p:grpSp>
        <p:grpSp>
          <p:nvGrpSpPr>
            <p:cNvPr id="2843" name="Graphic 2"/>
            <p:cNvGrpSpPr/>
            <p:nvPr/>
          </p:nvGrpSpPr>
          <p:grpSpPr>
            <a:xfrm>
              <a:off x="10101240" y="2004840"/>
              <a:ext cx="885960" cy="1047240"/>
              <a:chOff x="10101240" y="2004840"/>
              <a:chExt cx="885960" cy="1047240"/>
            </a:xfrm>
          </p:grpSpPr>
          <p:sp>
            <p:nvSpPr>
              <p:cNvPr id="2844" name="Freeform: Shape 144"/>
              <p:cNvSpPr/>
              <p:nvPr/>
            </p:nvSpPr>
            <p:spPr>
              <a:xfrm>
                <a:off x="10210680" y="2004840"/>
                <a:ext cx="216360" cy="13932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45" name="Freeform: Shape 145"/>
              <p:cNvSpPr/>
              <p:nvPr/>
            </p:nvSpPr>
            <p:spPr>
              <a:xfrm>
                <a:off x="10662120" y="2011320"/>
                <a:ext cx="214200" cy="14292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46" name="Freeform: Shape 146"/>
              <p:cNvSpPr/>
              <p:nvPr/>
            </p:nvSpPr>
            <p:spPr>
              <a:xfrm rot="19974000">
                <a:off x="10311120" y="2081160"/>
                <a:ext cx="96840" cy="198720"/>
              </a:xfrm>
              <a:custGeom>
                <a:avLst/>
                <a:gdLst/>
                <a:ahLst/>
                <a:rect l="l" t="t" r="r" b="b"/>
                <a:pathLst>
                  <a:path w="134304" h="272418">
                    <a:moveTo>
                      <a:pt x="0" y="0"/>
                    </a:moveTo>
                    <a:lnTo>
                      <a:pt x="134304" y="0"/>
                    </a:lnTo>
                    <a:lnTo>
                      <a:pt x="134304" y="272418"/>
                    </a:lnTo>
                    <a:lnTo>
                      <a:pt x="0" y="272418"/>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47" name="Freeform: Shape 147"/>
              <p:cNvSpPr/>
              <p:nvPr/>
            </p:nvSpPr>
            <p:spPr>
              <a:xfrm rot="18439800">
                <a:off x="10185120" y="2895120"/>
                <a:ext cx="198720" cy="9684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48" name="Freeform: Shape 148"/>
              <p:cNvSpPr/>
              <p:nvPr/>
            </p:nvSpPr>
            <p:spPr>
              <a:xfrm rot="17917200">
                <a:off x="10625400" y="2138760"/>
                <a:ext cx="198720" cy="96840"/>
              </a:xfrm>
              <a:custGeom>
                <a:avLst/>
                <a:gdLst/>
                <a:ahLst/>
                <a:rect l="l" t="t" r="r" b="b"/>
                <a:pathLst>
                  <a:path w="272411" h="134300">
                    <a:moveTo>
                      <a:pt x="0" y="0"/>
                    </a:moveTo>
                    <a:lnTo>
                      <a:pt x="272411" y="0"/>
                    </a:lnTo>
                    <a:lnTo>
                      <a:pt x="272411" y="134301"/>
                    </a:lnTo>
                    <a:lnTo>
                      <a:pt x="0" y="134301"/>
                    </a:lnTo>
                    <a:lnTo>
                      <a:pt x="0" y="0"/>
                    </a:lnTo>
                    <a:close/>
                  </a:path>
                </a:pathLst>
              </a:custGeom>
              <a:solidFill>
                <a:srgbClr val="a9911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49" name="Freeform: Shape 149"/>
              <p:cNvSpPr/>
              <p:nvPr/>
            </p:nvSpPr>
            <p:spPr>
              <a:xfrm rot="18976200">
                <a:off x="10783440" y="2814480"/>
                <a:ext cx="96840" cy="19872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50" name="Freeform: Shape 150"/>
              <p:cNvSpPr/>
              <p:nvPr/>
            </p:nvSpPr>
            <p:spPr>
              <a:xfrm>
                <a:off x="10101240" y="2091240"/>
                <a:ext cx="885960" cy="89388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51" name="Freeform: Shape 151"/>
              <p:cNvSpPr/>
              <p:nvPr/>
            </p:nvSpPr>
            <p:spPr>
              <a:xfrm>
                <a:off x="10179720" y="2170440"/>
                <a:ext cx="729000" cy="73548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52" name="Freeform: Shape 152"/>
              <p:cNvSpPr/>
              <p:nvPr/>
            </p:nvSpPr>
            <p:spPr>
              <a:xfrm>
                <a:off x="10472400" y="2466000"/>
                <a:ext cx="143280" cy="14436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53" name="Freeform: Shape 153"/>
              <p:cNvSpPr/>
              <p:nvPr/>
            </p:nvSpPr>
            <p:spPr>
              <a:xfrm>
                <a:off x="10482120" y="2028600"/>
                <a:ext cx="138240" cy="6876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a99116"/>
              </a:solidFill>
              <a:ln w="0">
                <a:noFill/>
              </a:ln>
            </p:spPr>
            <p:style>
              <a:lnRef idx="0"/>
              <a:fillRef idx="0"/>
              <a:effectRef idx="0"/>
              <a:fontRef idx="minor"/>
            </p:style>
            <p:txBody>
              <a:bodyPr lIns="90000" rIns="90000" tIns="21960" bIns="21960" anchor="ctr">
                <a:noAutofit/>
              </a:bodyPr>
              <a:p>
                <a:endParaRPr b="0" lang="en-US" sz="1800" spc="-1" strike="noStrike">
                  <a:solidFill>
                    <a:srgbClr val="313c3f"/>
                  </a:solidFill>
                  <a:latin typeface="Source Sans Pro"/>
                </a:endParaRPr>
              </a:p>
            </p:txBody>
          </p:sp>
          <p:sp>
            <p:nvSpPr>
              <p:cNvPr id="2854" name="Freeform: Shape 154"/>
              <p:cNvSpPr/>
              <p:nvPr/>
            </p:nvSpPr>
            <p:spPr>
              <a:xfrm>
                <a:off x="10531080" y="2238120"/>
                <a:ext cx="26640" cy="33480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55" name="Freeform: Shape 155"/>
              <p:cNvSpPr/>
              <p:nvPr/>
            </p:nvSpPr>
            <p:spPr>
              <a:xfrm rot="18134400">
                <a:off x="10642680" y="2443320"/>
                <a:ext cx="27000" cy="33192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856" name="Group 133"/>
            <p:cNvGrpSpPr/>
            <p:nvPr/>
          </p:nvGrpSpPr>
          <p:grpSpPr>
            <a:xfrm>
              <a:off x="6494400" y="2216520"/>
              <a:ext cx="1485720" cy="631440"/>
              <a:chOff x="6494400" y="2216520"/>
              <a:chExt cx="1485720" cy="631440"/>
            </a:xfrm>
          </p:grpSpPr>
          <p:grpSp>
            <p:nvGrpSpPr>
              <p:cNvPr id="2857" name="Group 134"/>
              <p:cNvGrpSpPr/>
              <p:nvPr/>
            </p:nvGrpSpPr>
            <p:grpSpPr>
              <a:xfrm>
                <a:off x="6583680" y="2216520"/>
                <a:ext cx="1396440" cy="321480"/>
                <a:chOff x="6583680" y="2216520"/>
                <a:chExt cx="1396440" cy="321480"/>
              </a:xfrm>
            </p:grpSpPr>
            <p:grpSp>
              <p:nvGrpSpPr>
                <p:cNvPr id="2858" name="Graphic 1"/>
                <p:cNvGrpSpPr/>
                <p:nvPr/>
              </p:nvGrpSpPr>
              <p:grpSpPr>
                <a:xfrm>
                  <a:off x="6583680" y="2216520"/>
                  <a:ext cx="1396440" cy="321480"/>
                  <a:chOff x="6583680" y="2216520"/>
                  <a:chExt cx="1396440" cy="321480"/>
                </a:xfrm>
              </p:grpSpPr>
              <p:sp>
                <p:nvSpPr>
                  <p:cNvPr id="2859" name="Freeform: Shape 142"/>
                  <p:cNvSpPr/>
                  <p:nvPr/>
                </p:nvSpPr>
                <p:spPr>
                  <a:xfrm>
                    <a:off x="6583680" y="2216520"/>
                    <a:ext cx="1396440" cy="32148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60" name="Freeform: Shape 143"/>
                  <p:cNvSpPr/>
                  <p:nvPr/>
                </p:nvSpPr>
                <p:spPr>
                  <a:xfrm>
                    <a:off x="6940440" y="221652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861" name="Freeform: Shape 141"/>
                <p:cNvSpPr/>
                <p:nvPr/>
              </p:nvSpPr>
              <p:spPr>
                <a:xfrm>
                  <a:off x="7201440" y="229140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1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862" name="Group 135"/>
              <p:cNvGrpSpPr/>
              <p:nvPr/>
            </p:nvGrpSpPr>
            <p:grpSpPr>
              <a:xfrm>
                <a:off x="6494400" y="2526480"/>
                <a:ext cx="1396440" cy="321480"/>
                <a:chOff x="6494400" y="2526480"/>
                <a:chExt cx="1396440" cy="321480"/>
              </a:xfrm>
            </p:grpSpPr>
            <p:grpSp>
              <p:nvGrpSpPr>
                <p:cNvPr id="2863" name="Graphic 1"/>
                <p:cNvGrpSpPr/>
                <p:nvPr/>
              </p:nvGrpSpPr>
              <p:grpSpPr>
                <a:xfrm>
                  <a:off x="6494400" y="2526480"/>
                  <a:ext cx="1396440" cy="321480"/>
                  <a:chOff x="6494400" y="2526480"/>
                  <a:chExt cx="1396440" cy="321480"/>
                </a:xfrm>
              </p:grpSpPr>
              <p:sp>
                <p:nvSpPr>
                  <p:cNvPr id="2864" name="Freeform: Shape 138"/>
                  <p:cNvSpPr/>
                  <p:nvPr/>
                </p:nvSpPr>
                <p:spPr>
                  <a:xfrm>
                    <a:off x="6494400" y="2526480"/>
                    <a:ext cx="1396440" cy="32148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65" name="Freeform: Shape 139"/>
                  <p:cNvSpPr/>
                  <p:nvPr/>
                </p:nvSpPr>
                <p:spPr>
                  <a:xfrm>
                    <a:off x="6851160" y="252648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2866" name="Freeform: Shape 137"/>
                <p:cNvSpPr/>
                <p:nvPr/>
              </p:nvSpPr>
              <p:spPr>
                <a:xfrm>
                  <a:off x="7125120" y="260208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1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601" name="Rectangle 42"/>
          <p:cNvSpPr/>
          <p:nvPr/>
        </p:nvSpPr>
        <p:spPr>
          <a:xfrm>
            <a:off x="5299200" y="1646280"/>
            <a:ext cx="171432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2" name="Rectangle 43"/>
          <p:cNvSpPr/>
          <p:nvPr/>
        </p:nvSpPr>
        <p:spPr>
          <a:xfrm>
            <a:off x="5176800" y="1646280"/>
            <a:ext cx="171468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3" name="Rectangle 44"/>
          <p:cNvSpPr/>
          <p:nvPr/>
        </p:nvSpPr>
        <p:spPr>
          <a:xfrm flipH="1" rot="16200000">
            <a:off x="7790040" y="3149280"/>
            <a:ext cx="408240" cy="2659320"/>
          </a:xfrm>
          <a:prstGeom prst="rect">
            <a:avLst/>
          </a:prstGeom>
          <a:gradFill rotWithShape="0">
            <a:gsLst>
              <a:gs pos="0">
                <a:srgbClr val="a99116"/>
              </a:gs>
              <a:gs pos="100000">
                <a:srgbClr val="e1c11e"/>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4" name="Rectangle 45"/>
          <p:cNvSpPr/>
          <p:nvPr/>
        </p:nvSpPr>
        <p:spPr>
          <a:xfrm rot="5400000">
            <a:off x="4230720" y="3388320"/>
            <a:ext cx="408240" cy="2181240"/>
          </a:xfrm>
          <a:prstGeom prst="rect">
            <a:avLst/>
          </a:prstGeom>
          <a:gradFill rotWithShape="0">
            <a:gsLst>
              <a:gs pos="0">
                <a:srgbClr val="105e31"/>
              </a:gs>
              <a:gs pos="100000">
                <a:srgbClr val="157d42"/>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5" name="Rectangle 46"/>
          <p:cNvSpPr/>
          <p:nvPr/>
        </p:nvSpPr>
        <p:spPr>
          <a:xfrm flipH="1" rot="16200000">
            <a:off x="7372800" y="4319640"/>
            <a:ext cx="407880" cy="1824120"/>
          </a:xfrm>
          <a:prstGeom prst="rect">
            <a:avLst/>
          </a:prstGeom>
          <a:gradFill rotWithShape="0">
            <a:gsLst>
              <a:gs pos="0">
                <a:srgbClr val="a99116"/>
              </a:gs>
              <a:gs pos="100000">
                <a:srgbClr val="e1c11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6" name="Rectangle 47"/>
          <p:cNvSpPr/>
          <p:nvPr/>
        </p:nvSpPr>
        <p:spPr>
          <a:xfrm rot="5400000">
            <a:off x="4876560" y="4594320"/>
            <a:ext cx="407880" cy="1274760"/>
          </a:xfrm>
          <a:prstGeom prst="rect">
            <a:avLst/>
          </a:prstGeom>
          <a:gradFill rotWithShape="0">
            <a:gsLst>
              <a:gs pos="0">
                <a:srgbClr val="105e31"/>
              </a:gs>
              <a:gs pos="100000">
                <a:srgbClr val="157d42"/>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7" name="Rectangle 48"/>
          <p:cNvSpPr/>
          <p:nvPr/>
        </p:nvSpPr>
        <p:spPr>
          <a:xfrm flipH="1" rot="16200000">
            <a:off x="7984080" y="4461480"/>
            <a:ext cx="407880" cy="3044880"/>
          </a:xfrm>
          <a:prstGeom prst="rect">
            <a:avLst/>
          </a:prstGeom>
          <a:gradFill rotWithShape="0">
            <a:gsLst>
              <a:gs pos="0">
                <a:srgbClr val="a99116"/>
              </a:gs>
              <a:gs pos="100000">
                <a:srgbClr val="e1c11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8" name="Rectangle 49"/>
          <p:cNvSpPr/>
          <p:nvPr/>
        </p:nvSpPr>
        <p:spPr>
          <a:xfrm rot="5400000">
            <a:off x="3500280" y="3970080"/>
            <a:ext cx="407880" cy="4027680"/>
          </a:xfrm>
          <a:prstGeom prst="rect">
            <a:avLst/>
          </a:prstGeom>
          <a:gradFill rotWithShape="0">
            <a:gsLst>
              <a:gs pos="0">
                <a:srgbClr val="105e31"/>
              </a:gs>
              <a:gs pos="100000">
                <a:srgbClr val="157d42"/>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09" name="Rectangle 50"/>
          <p:cNvSpPr/>
          <p:nvPr/>
        </p:nvSpPr>
        <p:spPr>
          <a:xfrm flipH="1" rot="16200000">
            <a:off x="8735040" y="1511280"/>
            <a:ext cx="407880" cy="4430520"/>
          </a:xfrm>
          <a:prstGeom prst="rect">
            <a:avLst/>
          </a:prstGeom>
          <a:gradFill rotWithShape="0">
            <a:gsLst>
              <a:gs pos="0">
                <a:srgbClr val="a99116"/>
              </a:gs>
              <a:gs pos="100000">
                <a:srgbClr val="e1c11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10" name="Rectangle 51"/>
          <p:cNvSpPr/>
          <p:nvPr/>
        </p:nvSpPr>
        <p:spPr>
          <a:xfrm rot="5400000">
            <a:off x="3769200" y="1981440"/>
            <a:ext cx="407880" cy="3489480"/>
          </a:xfrm>
          <a:prstGeom prst="rect">
            <a:avLst/>
          </a:prstGeom>
          <a:gradFill rotWithShape="0">
            <a:gsLst>
              <a:gs pos="0">
                <a:srgbClr val="105e31"/>
              </a:gs>
              <a:gs pos="100000">
                <a:srgbClr val="157d42"/>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11" name="Rectangle 52"/>
          <p:cNvSpPr/>
          <p:nvPr/>
        </p:nvSpPr>
        <p:spPr>
          <a:xfrm flipH="1" rot="16200000">
            <a:off x="8271360" y="1301760"/>
            <a:ext cx="407880" cy="3344760"/>
          </a:xfrm>
          <a:prstGeom prst="rect">
            <a:avLst/>
          </a:prstGeom>
          <a:gradFill rotWithShape="0">
            <a:gsLst>
              <a:gs pos="0">
                <a:srgbClr val="a99116"/>
              </a:gs>
              <a:gs pos="100000">
                <a:srgbClr val="e1c11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12" name="Rectangle 53"/>
          <p:cNvSpPr/>
          <p:nvPr/>
        </p:nvSpPr>
        <p:spPr>
          <a:xfrm rot="5400000">
            <a:off x="3163680" y="794880"/>
            <a:ext cx="407880" cy="4357800"/>
          </a:xfrm>
          <a:prstGeom prst="rect">
            <a:avLst/>
          </a:prstGeom>
          <a:gradFill rotWithShape="0">
            <a:gsLst>
              <a:gs pos="0">
                <a:srgbClr val="105e31"/>
              </a:gs>
              <a:gs pos="100000">
                <a:srgbClr val="157d42"/>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13" name="Rectangle 54"/>
          <p:cNvSpPr/>
          <p:nvPr/>
        </p:nvSpPr>
        <p:spPr>
          <a:xfrm>
            <a:off x="5238720" y="1422360"/>
            <a:ext cx="1714680" cy="508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14" name="Rectangle 55"/>
          <p:cNvSpPr/>
          <p:nvPr/>
        </p:nvSpPr>
        <p:spPr>
          <a:xfrm>
            <a:off x="1919160" y="1909800"/>
            <a:ext cx="30546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a:t>
            </a:r>
            <a:endParaRPr b="0" lang="en-US" sz="1200" spc="-1" strike="noStrike">
              <a:solidFill>
                <a:srgbClr val="313c3f"/>
              </a:solidFill>
              <a:latin typeface="Source Sans Pro"/>
            </a:endParaRPr>
          </a:p>
        </p:txBody>
      </p:sp>
      <p:sp>
        <p:nvSpPr>
          <p:cNvPr id="615" name="TextBox 56"/>
          <p:cNvSpPr/>
          <p:nvPr/>
        </p:nvSpPr>
        <p:spPr>
          <a:xfrm>
            <a:off x="2228760" y="1643040"/>
            <a:ext cx="2745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roduct A</a:t>
            </a:r>
            <a:endParaRPr b="0" lang="en-US" sz="1600" spc="-1" strike="noStrike">
              <a:solidFill>
                <a:srgbClr val="313c3f"/>
              </a:solidFill>
              <a:latin typeface="Source Sans Pro"/>
            </a:endParaRPr>
          </a:p>
        </p:txBody>
      </p:sp>
      <p:sp>
        <p:nvSpPr>
          <p:cNvPr id="616" name="Rectangle 57"/>
          <p:cNvSpPr/>
          <p:nvPr/>
        </p:nvSpPr>
        <p:spPr>
          <a:xfrm>
            <a:off x="7213680" y="19098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a:t>
            </a:r>
            <a:endParaRPr b="0" lang="en-US" sz="1200" spc="-1" strike="noStrike">
              <a:solidFill>
                <a:srgbClr val="313c3f"/>
              </a:solidFill>
              <a:latin typeface="Source Sans Pro"/>
            </a:endParaRPr>
          </a:p>
        </p:txBody>
      </p:sp>
      <p:sp>
        <p:nvSpPr>
          <p:cNvPr id="617" name="TextBox 58"/>
          <p:cNvSpPr/>
          <p:nvPr/>
        </p:nvSpPr>
        <p:spPr>
          <a:xfrm>
            <a:off x="7237440" y="1652760"/>
            <a:ext cx="27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Product B</a:t>
            </a:r>
            <a:endParaRPr b="0" lang="en-US" sz="1600" spc="-1" strike="noStrike">
              <a:solidFill>
                <a:srgbClr val="313c3f"/>
              </a:solidFill>
              <a:latin typeface="Source Sans Pro"/>
            </a:endParaRPr>
          </a:p>
        </p:txBody>
      </p:sp>
      <p:sp>
        <p:nvSpPr>
          <p:cNvPr id="618" name="TextBox 59"/>
          <p:cNvSpPr/>
          <p:nvPr/>
        </p:nvSpPr>
        <p:spPr>
          <a:xfrm>
            <a:off x="1360080" y="28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313c3f"/>
              </a:solidFill>
              <a:latin typeface="Source Sans Pro"/>
            </a:endParaRPr>
          </a:p>
        </p:txBody>
      </p:sp>
      <p:sp>
        <p:nvSpPr>
          <p:cNvPr id="619" name="TextBox 60"/>
          <p:cNvSpPr/>
          <p:nvPr/>
        </p:nvSpPr>
        <p:spPr>
          <a:xfrm>
            <a:off x="2499840" y="35575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313c3f"/>
              </a:solidFill>
              <a:latin typeface="Source Sans Pro"/>
            </a:endParaRPr>
          </a:p>
        </p:txBody>
      </p:sp>
      <p:sp>
        <p:nvSpPr>
          <p:cNvPr id="620" name="TextBox 61"/>
          <p:cNvSpPr/>
          <p:nvPr/>
        </p:nvSpPr>
        <p:spPr>
          <a:xfrm>
            <a:off x="3449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50%</a:t>
            </a:r>
            <a:endParaRPr b="0" lang="en-US" sz="1600" spc="-1" strike="noStrike">
              <a:solidFill>
                <a:srgbClr val="313c3f"/>
              </a:solidFill>
              <a:latin typeface="Source Sans Pro"/>
            </a:endParaRPr>
          </a:p>
        </p:txBody>
      </p:sp>
      <p:sp>
        <p:nvSpPr>
          <p:cNvPr id="621" name="TextBox 62"/>
          <p:cNvSpPr/>
          <p:nvPr/>
        </p:nvSpPr>
        <p:spPr>
          <a:xfrm>
            <a:off x="451116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20%</a:t>
            </a:r>
            <a:endParaRPr b="0" lang="en-US" sz="1600" spc="-1" strike="noStrike">
              <a:solidFill>
                <a:srgbClr val="313c3f"/>
              </a:solidFill>
              <a:latin typeface="Source Sans Pro"/>
            </a:endParaRPr>
          </a:p>
        </p:txBody>
      </p:sp>
      <p:sp>
        <p:nvSpPr>
          <p:cNvPr id="622" name="TextBox 66"/>
          <p:cNvSpPr/>
          <p:nvPr/>
        </p:nvSpPr>
        <p:spPr>
          <a:xfrm>
            <a:off x="182988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90%</a:t>
            </a:r>
            <a:endParaRPr b="0" lang="en-US" sz="1600" spc="-1" strike="noStrike">
              <a:solidFill>
                <a:srgbClr val="313c3f"/>
              </a:solidFill>
              <a:latin typeface="Source Sans Pro"/>
            </a:endParaRPr>
          </a:p>
        </p:txBody>
      </p:sp>
      <p:sp>
        <p:nvSpPr>
          <p:cNvPr id="623" name="TextBox 67"/>
          <p:cNvSpPr/>
          <p:nvPr/>
        </p:nvSpPr>
        <p:spPr>
          <a:xfrm>
            <a:off x="9530640" y="28051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313c3f"/>
              </a:solidFill>
              <a:latin typeface="Source Sans Pro"/>
            </a:endParaRPr>
          </a:p>
        </p:txBody>
      </p:sp>
      <p:sp>
        <p:nvSpPr>
          <p:cNvPr id="624" name="TextBox 68"/>
          <p:cNvSpPr/>
          <p:nvPr/>
        </p:nvSpPr>
        <p:spPr>
          <a:xfrm>
            <a:off x="10375200" y="35575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313c3f"/>
              </a:solidFill>
              <a:latin typeface="Source Sans Pro"/>
            </a:endParaRPr>
          </a:p>
        </p:txBody>
      </p:sp>
      <p:sp>
        <p:nvSpPr>
          <p:cNvPr id="625" name="TextBox 69"/>
          <p:cNvSpPr/>
          <p:nvPr/>
        </p:nvSpPr>
        <p:spPr>
          <a:xfrm>
            <a:off x="8678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60%</a:t>
            </a:r>
            <a:endParaRPr b="0" lang="en-US" sz="1600" spc="-1" strike="noStrike">
              <a:solidFill>
                <a:srgbClr val="313c3f"/>
              </a:solidFill>
              <a:latin typeface="Source Sans Pro"/>
            </a:endParaRPr>
          </a:p>
        </p:txBody>
      </p:sp>
      <p:sp>
        <p:nvSpPr>
          <p:cNvPr id="626" name="TextBox 70"/>
          <p:cNvSpPr/>
          <p:nvPr/>
        </p:nvSpPr>
        <p:spPr>
          <a:xfrm>
            <a:off x="782892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40%</a:t>
            </a:r>
            <a:endParaRPr b="0" lang="en-US" sz="1600" spc="-1" strike="noStrike">
              <a:solidFill>
                <a:srgbClr val="313c3f"/>
              </a:solidFill>
              <a:latin typeface="Source Sans Pro"/>
            </a:endParaRPr>
          </a:p>
        </p:txBody>
      </p:sp>
      <p:sp>
        <p:nvSpPr>
          <p:cNvPr id="627" name="TextBox 71"/>
          <p:cNvSpPr/>
          <p:nvPr/>
        </p:nvSpPr>
        <p:spPr>
          <a:xfrm>
            <a:off x="902772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70%</a:t>
            </a:r>
            <a:endParaRPr b="0" lang="en-US" sz="1600" spc="-1" strike="noStrike">
              <a:solidFill>
                <a:srgbClr val="313c3f"/>
              </a:solidFill>
              <a:latin typeface="Source Sans Pro"/>
            </a:endParaRPr>
          </a:p>
        </p:txBody>
      </p:sp>
      <p:sp>
        <p:nvSpPr>
          <p:cNvPr id="628" name="TextBox 72"/>
          <p:cNvSpPr/>
          <p:nvPr/>
        </p:nvSpPr>
        <p:spPr>
          <a:xfrm>
            <a:off x="5359320" y="27687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629" name="TextBox 73"/>
          <p:cNvSpPr/>
          <p:nvPr/>
        </p:nvSpPr>
        <p:spPr>
          <a:xfrm>
            <a:off x="5359320" y="35560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630" name="TextBox 74"/>
          <p:cNvSpPr/>
          <p:nvPr/>
        </p:nvSpPr>
        <p:spPr>
          <a:xfrm>
            <a:off x="5359320" y="42688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631" name="TextBox 75"/>
          <p:cNvSpPr/>
          <p:nvPr/>
        </p:nvSpPr>
        <p:spPr>
          <a:xfrm>
            <a:off x="5359320" y="505620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632" name="TextBox 76"/>
          <p:cNvSpPr/>
          <p:nvPr/>
        </p:nvSpPr>
        <p:spPr>
          <a:xfrm>
            <a:off x="5359320" y="58053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rPr>
              <a:t>Description</a:t>
            </a:r>
            <a:endParaRPr b="0" lang="en-US" sz="1600" spc="-1" strike="noStrike">
              <a:solidFill>
                <a:srgbClr val="313c3f"/>
              </a:solidFill>
              <a:latin typeface="Source Sans Pro"/>
            </a:endParaRPr>
          </a:p>
        </p:txBody>
      </p:sp>
      <p:sp>
        <p:nvSpPr>
          <p:cNvPr id="633" name="Oval 77"/>
          <p:cNvSpPr/>
          <p:nvPr/>
        </p:nvSpPr>
        <p:spPr>
          <a:xfrm>
            <a:off x="5624640" y="1762200"/>
            <a:ext cx="8636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34" name="Oval 78"/>
          <p:cNvSpPr/>
          <p:nvPr/>
        </p:nvSpPr>
        <p:spPr>
          <a:xfrm>
            <a:off x="5662440" y="1739880"/>
            <a:ext cx="863640" cy="86508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35" name="TextBox 79"/>
          <p:cNvSpPr/>
          <p:nvPr/>
        </p:nvSpPr>
        <p:spPr>
          <a:xfrm>
            <a:off x="5654520" y="197172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VS</a:t>
            </a:r>
            <a:endParaRPr b="0" lang="en-US" sz="2000" spc="-1" strike="noStrike">
              <a:solidFill>
                <a:srgbClr val="313c3f"/>
              </a:solidFill>
              <a:latin typeface="Source Sans Pro"/>
            </a:endParaRPr>
          </a:p>
        </p:txBody>
      </p:sp>
    </p:spTree>
  </p:cSld>
  <p:transition spd="med">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10">
                                  <p:stCondLst>
                                    <p:cond delay="0"/>
                                  </p:stCondLst>
                                  <p:childTnLst>
                                    <p:set>
                                      <p:cBhvr>
                                        <p:cTn id="231" dur="1" fill="hold">
                                          <p:stCondLst>
                                            <p:cond delay="0"/>
                                          </p:stCondLst>
                                        </p:cTn>
                                        <p:tgtEl>
                                          <p:spTgt spid="600"/>
                                        </p:tgtEl>
                                        <p:attrNameLst>
                                          <p:attrName>style.visibility</p:attrName>
                                        </p:attrNameLst>
                                      </p:cBhvr>
                                      <p:to>
                                        <p:strVal val="visible"/>
                                      </p:to>
                                    </p:set>
                                    <p:animEffect filter="fade" transition="in">
                                      <p:cBhvr additive="repl">
                                        <p:cTn id="232" dur="500"/>
                                        <p:tgtEl>
                                          <p:spTgt spid="600"/>
                                        </p:tgtEl>
                                      </p:cBhvr>
                                    </p:animEffect>
                                  </p:childTnLst>
                                </p:cTn>
                              </p:par>
                            </p:childTnLst>
                          </p:cTn>
                        </p:par>
                        <p:par>
                          <p:cTn id="233" nodeType="afterEffect" fill="hold">
                            <p:stCondLst>
                              <p:cond delay="500"/>
                            </p:stCondLst>
                            <p:childTnLst>
                              <p:par>
                                <p:cTn id="234" nodeType="afterEffect" fill="hold" presetClass="entr" presetID="10">
                                  <p:stCondLst>
                                    <p:cond delay="0"/>
                                  </p:stCondLst>
                                  <p:childTnLst>
                                    <p:set>
                                      <p:cBhvr>
                                        <p:cTn id="235" dur="1" fill="hold">
                                          <p:stCondLst>
                                            <p:cond delay="0"/>
                                          </p:stCondLst>
                                        </p:cTn>
                                        <p:tgtEl>
                                          <p:spTgt spid="613"/>
                                        </p:tgtEl>
                                        <p:attrNameLst>
                                          <p:attrName>style.visibility</p:attrName>
                                        </p:attrNameLst>
                                      </p:cBhvr>
                                      <p:to>
                                        <p:strVal val="visible"/>
                                      </p:to>
                                    </p:set>
                                    <p:animEffect filter="fade" transition="in">
                                      <p:cBhvr additive="repl">
                                        <p:cTn id="236" dur="500"/>
                                        <p:tgtEl>
                                          <p:spTgt spid="613"/>
                                        </p:tgtEl>
                                      </p:cBhvr>
                                    </p:animEffect>
                                  </p:childTnLst>
                                </p:cTn>
                              </p:par>
                              <p:par>
                                <p:cTn id="237" nodeType="withEffect" fill="hold" presetClass="entr" presetID="10">
                                  <p:stCondLst>
                                    <p:cond delay="0"/>
                                  </p:stCondLst>
                                  <p:childTnLst>
                                    <p:set>
                                      <p:cBhvr>
                                        <p:cTn id="238" dur="1" fill="hold">
                                          <p:stCondLst>
                                            <p:cond delay="0"/>
                                          </p:stCondLst>
                                        </p:cTn>
                                        <p:tgtEl>
                                          <p:spTgt spid="602"/>
                                        </p:tgtEl>
                                        <p:attrNameLst>
                                          <p:attrName>style.visibility</p:attrName>
                                        </p:attrNameLst>
                                      </p:cBhvr>
                                      <p:to>
                                        <p:strVal val="visible"/>
                                      </p:to>
                                    </p:set>
                                    <p:animEffect filter="fade" transition="in">
                                      <p:cBhvr additive="repl">
                                        <p:cTn id="239" dur="500"/>
                                        <p:tgtEl>
                                          <p:spTgt spid="602"/>
                                        </p:tgtEl>
                                      </p:cBhvr>
                                    </p:animEffect>
                                  </p:childTnLst>
                                </p:cTn>
                              </p:par>
                              <p:par>
                                <p:cTn id="240" nodeType="withEffect" fill="hold" presetClass="entr" presetID="10">
                                  <p:stCondLst>
                                    <p:cond delay="0"/>
                                  </p:stCondLst>
                                  <p:childTnLst>
                                    <p:set>
                                      <p:cBhvr>
                                        <p:cTn id="241" dur="1" fill="hold">
                                          <p:stCondLst>
                                            <p:cond delay="0"/>
                                          </p:stCondLst>
                                        </p:cTn>
                                        <p:tgtEl>
                                          <p:spTgt spid="601"/>
                                        </p:tgtEl>
                                        <p:attrNameLst>
                                          <p:attrName>style.visibility</p:attrName>
                                        </p:attrNameLst>
                                      </p:cBhvr>
                                      <p:to>
                                        <p:strVal val="visible"/>
                                      </p:to>
                                    </p:set>
                                    <p:animEffect filter="fade" transition="in">
                                      <p:cBhvr additive="repl">
                                        <p:cTn id="242" dur="500"/>
                                        <p:tgtEl>
                                          <p:spTgt spid="601"/>
                                        </p:tgtEl>
                                      </p:cBhvr>
                                    </p:animEffect>
                                  </p:childTnLst>
                                </p:cTn>
                              </p:par>
                              <p:par>
                                <p:cTn id="243" nodeType="withEffect" fill="hold" presetClass="entr" presetID="10">
                                  <p:stCondLst>
                                    <p:cond delay="0"/>
                                  </p:stCondLst>
                                  <p:childTnLst>
                                    <p:set>
                                      <p:cBhvr>
                                        <p:cTn id="244" dur="1" fill="hold">
                                          <p:stCondLst>
                                            <p:cond delay="0"/>
                                          </p:stCondLst>
                                        </p:cTn>
                                        <p:tgtEl>
                                          <p:spTgt spid="633"/>
                                        </p:tgtEl>
                                        <p:attrNameLst>
                                          <p:attrName>style.visibility</p:attrName>
                                        </p:attrNameLst>
                                      </p:cBhvr>
                                      <p:to>
                                        <p:strVal val="visible"/>
                                      </p:to>
                                    </p:set>
                                    <p:animEffect filter="fade" transition="in">
                                      <p:cBhvr additive="repl">
                                        <p:cTn id="245" dur="500"/>
                                        <p:tgtEl>
                                          <p:spTgt spid="633"/>
                                        </p:tgtEl>
                                      </p:cBhvr>
                                    </p:animEffect>
                                  </p:childTnLst>
                                </p:cTn>
                              </p:par>
                              <p:par>
                                <p:cTn id="246" nodeType="withEffect" fill="hold" presetClass="entr" presetID="10">
                                  <p:stCondLst>
                                    <p:cond delay="0"/>
                                  </p:stCondLst>
                                  <p:childTnLst>
                                    <p:set>
                                      <p:cBhvr>
                                        <p:cTn id="247" dur="1" fill="hold">
                                          <p:stCondLst>
                                            <p:cond delay="0"/>
                                          </p:stCondLst>
                                        </p:cTn>
                                        <p:tgtEl>
                                          <p:spTgt spid="634"/>
                                        </p:tgtEl>
                                        <p:attrNameLst>
                                          <p:attrName>style.visibility</p:attrName>
                                        </p:attrNameLst>
                                      </p:cBhvr>
                                      <p:to>
                                        <p:strVal val="visible"/>
                                      </p:to>
                                    </p:set>
                                    <p:animEffect filter="fade" transition="in">
                                      <p:cBhvr additive="repl">
                                        <p:cTn id="248" dur="500"/>
                                        <p:tgtEl>
                                          <p:spTgt spid="634"/>
                                        </p:tgtEl>
                                      </p:cBhvr>
                                    </p:animEffect>
                                  </p:childTnLst>
                                </p:cTn>
                              </p:par>
                              <p:par>
                                <p:cTn id="249" nodeType="withEffect" fill="hold" presetClass="entr" presetID="10">
                                  <p:stCondLst>
                                    <p:cond delay="0"/>
                                  </p:stCondLst>
                                  <p:childTnLst>
                                    <p:set>
                                      <p:cBhvr>
                                        <p:cTn id="250" dur="1" fill="hold">
                                          <p:stCondLst>
                                            <p:cond delay="0"/>
                                          </p:stCondLst>
                                        </p:cTn>
                                        <p:tgtEl>
                                          <p:spTgt spid="635"/>
                                        </p:tgtEl>
                                        <p:attrNameLst>
                                          <p:attrName>style.visibility</p:attrName>
                                        </p:attrNameLst>
                                      </p:cBhvr>
                                      <p:to>
                                        <p:strVal val="visible"/>
                                      </p:to>
                                    </p:set>
                                    <p:animEffect filter="fade" transition="in">
                                      <p:cBhvr additive="repl">
                                        <p:cTn id="251" dur="500"/>
                                        <p:tgtEl>
                                          <p:spTgt spid="635"/>
                                        </p:tgtEl>
                                      </p:cBhvr>
                                    </p:animEffect>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615"/>
                                        </p:tgtEl>
                                        <p:attrNameLst>
                                          <p:attrName>style.visibility</p:attrName>
                                        </p:attrNameLst>
                                      </p:cBhvr>
                                      <p:to>
                                        <p:strVal val="visible"/>
                                      </p:to>
                                    </p:set>
                                    <p:animEffect filter="fade" transition="in">
                                      <p:cBhvr additive="repl">
                                        <p:cTn id="255" dur="500"/>
                                        <p:tgtEl>
                                          <p:spTgt spid="615"/>
                                        </p:tgtEl>
                                      </p:cBhvr>
                                    </p:animEffect>
                                  </p:childTnLst>
                                </p:cTn>
                              </p:par>
                              <p:par>
                                <p:cTn id="256" nodeType="withEffect" fill="hold" presetClass="entr" presetID="10">
                                  <p:stCondLst>
                                    <p:cond delay="0"/>
                                  </p:stCondLst>
                                  <p:childTnLst>
                                    <p:set>
                                      <p:cBhvr>
                                        <p:cTn id="257" dur="1" fill="hold">
                                          <p:stCondLst>
                                            <p:cond delay="0"/>
                                          </p:stCondLst>
                                        </p:cTn>
                                        <p:tgtEl>
                                          <p:spTgt spid="617"/>
                                        </p:tgtEl>
                                        <p:attrNameLst>
                                          <p:attrName>style.visibility</p:attrName>
                                        </p:attrNameLst>
                                      </p:cBhvr>
                                      <p:to>
                                        <p:strVal val="visible"/>
                                      </p:to>
                                    </p:set>
                                    <p:animEffect filter="fade" transition="in">
                                      <p:cBhvr additive="repl">
                                        <p:cTn id="258" dur="500"/>
                                        <p:tgtEl>
                                          <p:spTgt spid="617"/>
                                        </p:tgtEl>
                                      </p:cBhvr>
                                    </p:animEffect>
                                  </p:childTnLst>
                                </p:cTn>
                              </p:par>
                              <p:par>
                                <p:cTn id="259" nodeType="withEffect" fill="hold" presetClass="entr" presetID="10">
                                  <p:stCondLst>
                                    <p:cond delay="0"/>
                                  </p:stCondLst>
                                  <p:childTnLst>
                                    <p:set>
                                      <p:cBhvr>
                                        <p:cTn id="260" dur="1" fill="hold">
                                          <p:stCondLst>
                                            <p:cond delay="0"/>
                                          </p:stCondLst>
                                        </p:cTn>
                                        <p:tgtEl>
                                          <p:spTgt spid="616"/>
                                        </p:tgtEl>
                                        <p:attrNameLst>
                                          <p:attrName>style.visibility</p:attrName>
                                        </p:attrNameLst>
                                      </p:cBhvr>
                                      <p:to>
                                        <p:strVal val="visible"/>
                                      </p:to>
                                    </p:set>
                                    <p:animEffect filter="fade" transition="in">
                                      <p:cBhvr additive="repl">
                                        <p:cTn id="261" dur="500"/>
                                        <p:tgtEl>
                                          <p:spTgt spid="616"/>
                                        </p:tgtEl>
                                      </p:cBhvr>
                                    </p:animEffect>
                                  </p:childTnLst>
                                </p:cTn>
                              </p:par>
                              <p:par>
                                <p:cTn id="262" nodeType="withEffect" fill="hold" presetClass="entr" presetID="10">
                                  <p:stCondLst>
                                    <p:cond delay="0"/>
                                  </p:stCondLst>
                                  <p:childTnLst>
                                    <p:set>
                                      <p:cBhvr>
                                        <p:cTn id="263" dur="1" fill="hold">
                                          <p:stCondLst>
                                            <p:cond delay="0"/>
                                          </p:stCondLst>
                                        </p:cTn>
                                        <p:tgtEl>
                                          <p:spTgt spid="614"/>
                                        </p:tgtEl>
                                        <p:attrNameLst>
                                          <p:attrName>style.visibility</p:attrName>
                                        </p:attrNameLst>
                                      </p:cBhvr>
                                      <p:to>
                                        <p:strVal val="visible"/>
                                      </p:to>
                                    </p:set>
                                    <p:animEffect filter="fade" transition="in">
                                      <p:cBhvr additive="repl">
                                        <p:cTn id="264" dur="500"/>
                                        <p:tgtEl>
                                          <p:spTgt spid="614"/>
                                        </p:tgtEl>
                                      </p:cBhvr>
                                    </p:animEffect>
                                  </p:childTnLst>
                                </p:cTn>
                              </p:par>
                            </p:childTnLst>
                          </p:cTn>
                        </p:par>
                        <p:par>
                          <p:cTn id="265" nodeType="afterEffect" fill="hold">
                            <p:stCondLst>
                              <p:cond delay="1500"/>
                            </p:stCondLst>
                            <p:childTnLst>
                              <p:par>
                                <p:cTn id="266" nodeType="afterEffect" fill="hold" presetClass="entr" presetID="10">
                                  <p:stCondLst>
                                    <p:cond delay="0"/>
                                  </p:stCondLst>
                                  <p:childTnLst>
                                    <p:set>
                                      <p:cBhvr>
                                        <p:cTn id="267" dur="1" fill="hold">
                                          <p:stCondLst>
                                            <p:cond delay="0"/>
                                          </p:stCondLst>
                                        </p:cTn>
                                        <p:tgtEl>
                                          <p:spTgt spid="628"/>
                                        </p:tgtEl>
                                        <p:attrNameLst>
                                          <p:attrName>style.visibility</p:attrName>
                                        </p:attrNameLst>
                                      </p:cBhvr>
                                      <p:to>
                                        <p:strVal val="visible"/>
                                      </p:to>
                                    </p:set>
                                    <p:animEffect filter="fade" transition="in">
                                      <p:cBhvr additive="repl">
                                        <p:cTn id="268" dur="500"/>
                                        <p:tgtEl>
                                          <p:spTgt spid="628"/>
                                        </p:tgtEl>
                                      </p:cBhvr>
                                    </p:animEffect>
                                  </p:childTnLst>
                                </p:cTn>
                              </p:par>
                            </p:childTnLst>
                          </p:cTn>
                        </p:par>
                        <p:par>
                          <p:cTn id="269" nodeType="afterEffect" fill="hold">
                            <p:stCondLst>
                              <p:cond delay="2000"/>
                            </p:stCondLst>
                            <p:childTnLst>
                              <p:par>
                                <p:cTn id="270" nodeType="afterEffect" fill="hold" presetClass="entr" presetID="22" presetSubtype="2">
                                  <p:stCondLst>
                                    <p:cond delay="0"/>
                                  </p:stCondLst>
                                  <p:childTnLst>
                                    <p:set>
                                      <p:cBhvr>
                                        <p:cTn id="271" dur="1" fill="hold">
                                          <p:stCondLst>
                                            <p:cond delay="0"/>
                                          </p:stCondLst>
                                        </p:cTn>
                                        <p:tgtEl>
                                          <p:spTgt spid="612"/>
                                        </p:tgtEl>
                                        <p:attrNameLst>
                                          <p:attrName>style.visibility</p:attrName>
                                        </p:attrNameLst>
                                      </p:cBhvr>
                                      <p:to>
                                        <p:strVal val="visible"/>
                                      </p:to>
                                    </p:set>
                                    <p:animEffect filter="wipe(right)" transition="in">
                                      <p:cBhvr additive="repl">
                                        <p:cTn id="272" dur="500"/>
                                        <p:tgtEl>
                                          <p:spTgt spid="612"/>
                                        </p:tgtEl>
                                      </p:cBhvr>
                                    </p:animEffect>
                                  </p:childTnLst>
                                </p:cTn>
                              </p:par>
                              <p:par>
                                <p:cTn id="273" nodeType="withEffect" fill="hold" presetClass="entr" presetID="22" presetSubtype="8">
                                  <p:stCondLst>
                                    <p:cond delay="0"/>
                                  </p:stCondLst>
                                  <p:childTnLst>
                                    <p:set>
                                      <p:cBhvr>
                                        <p:cTn id="274" dur="1" fill="hold">
                                          <p:stCondLst>
                                            <p:cond delay="0"/>
                                          </p:stCondLst>
                                        </p:cTn>
                                        <p:tgtEl>
                                          <p:spTgt spid="611"/>
                                        </p:tgtEl>
                                        <p:attrNameLst>
                                          <p:attrName>style.visibility</p:attrName>
                                        </p:attrNameLst>
                                      </p:cBhvr>
                                      <p:to>
                                        <p:strVal val="visible"/>
                                      </p:to>
                                    </p:set>
                                    <p:animEffect filter="wipe(left)" transition="in">
                                      <p:cBhvr additive="repl">
                                        <p:cTn id="275" dur="500"/>
                                        <p:tgtEl>
                                          <p:spTgt spid="611"/>
                                        </p:tgtEl>
                                      </p:cBhvr>
                                    </p:animEffect>
                                  </p:childTnLst>
                                </p:cTn>
                              </p:par>
                            </p:childTnLst>
                          </p:cTn>
                        </p:par>
                        <p:par>
                          <p:cTn id="276" nodeType="afterEffect" fill="hold">
                            <p:stCondLst>
                              <p:cond delay="2500"/>
                            </p:stCondLst>
                            <p:childTnLst>
                              <p:par>
                                <p:cTn id="277" nodeType="afterEffect" fill="hold" presetClass="entr" presetID="10">
                                  <p:stCondLst>
                                    <p:cond delay="0"/>
                                  </p:stCondLst>
                                  <p:childTnLst>
                                    <p:set>
                                      <p:cBhvr>
                                        <p:cTn id="278" dur="1" fill="hold">
                                          <p:stCondLst>
                                            <p:cond delay="0"/>
                                          </p:stCondLst>
                                        </p:cTn>
                                        <p:tgtEl>
                                          <p:spTgt spid="623"/>
                                        </p:tgtEl>
                                        <p:attrNameLst>
                                          <p:attrName>style.visibility</p:attrName>
                                        </p:attrNameLst>
                                      </p:cBhvr>
                                      <p:to>
                                        <p:strVal val="visible"/>
                                      </p:to>
                                    </p:set>
                                    <p:animEffect filter="fade" transition="in">
                                      <p:cBhvr additive="repl">
                                        <p:cTn id="279" dur="500"/>
                                        <p:tgtEl>
                                          <p:spTgt spid="623"/>
                                        </p:tgtEl>
                                      </p:cBhvr>
                                    </p:animEffect>
                                  </p:childTnLst>
                                </p:cTn>
                              </p:par>
                              <p:par>
                                <p:cTn id="280" nodeType="withEffect" fill="hold" presetClass="entr" presetID="10">
                                  <p:stCondLst>
                                    <p:cond delay="0"/>
                                  </p:stCondLst>
                                  <p:childTnLst>
                                    <p:set>
                                      <p:cBhvr>
                                        <p:cTn id="281" dur="1" fill="hold">
                                          <p:stCondLst>
                                            <p:cond delay="0"/>
                                          </p:stCondLst>
                                        </p:cTn>
                                        <p:tgtEl>
                                          <p:spTgt spid="618"/>
                                        </p:tgtEl>
                                        <p:attrNameLst>
                                          <p:attrName>style.visibility</p:attrName>
                                        </p:attrNameLst>
                                      </p:cBhvr>
                                      <p:to>
                                        <p:strVal val="visible"/>
                                      </p:to>
                                    </p:set>
                                    <p:animEffect filter="fade" transition="in">
                                      <p:cBhvr additive="repl">
                                        <p:cTn id="282" dur="500"/>
                                        <p:tgtEl>
                                          <p:spTgt spid="618"/>
                                        </p:tgtEl>
                                      </p:cBhvr>
                                    </p:animEffect>
                                  </p:childTnLst>
                                </p:cTn>
                              </p:par>
                            </p:childTnLst>
                          </p:cTn>
                        </p:par>
                        <p:par>
                          <p:cTn id="283" nodeType="afterEffect" fill="hold">
                            <p:stCondLst>
                              <p:cond delay="3000"/>
                            </p:stCondLst>
                            <p:childTnLst>
                              <p:par>
                                <p:cTn id="284" nodeType="afterEffect" fill="hold" presetClass="entr" presetID="10">
                                  <p:stCondLst>
                                    <p:cond delay="0"/>
                                  </p:stCondLst>
                                  <p:childTnLst>
                                    <p:set>
                                      <p:cBhvr>
                                        <p:cTn id="285" dur="1" fill="hold">
                                          <p:stCondLst>
                                            <p:cond delay="0"/>
                                          </p:stCondLst>
                                        </p:cTn>
                                        <p:tgtEl>
                                          <p:spTgt spid="629"/>
                                        </p:tgtEl>
                                        <p:attrNameLst>
                                          <p:attrName>style.visibility</p:attrName>
                                        </p:attrNameLst>
                                      </p:cBhvr>
                                      <p:to>
                                        <p:strVal val="visible"/>
                                      </p:to>
                                    </p:set>
                                    <p:animEffect filter="fade" transition="in">
                                      <p:cBhvr additive="repl">
                                        <p:cTn id="286" dur="500"/>
                                        <p:tgtEl>
                                          <p:spTgt spid="629"/>
                                        </p:tgtEl>
                                      </p:cBhvr>
                                    </p:animEffect>
                                  </p:childTnLst>
                                </p:cTn>
                              </p:par>
                            </p:childTnLst>
                          </p:cTn>
                        </p:par>
                        <p:par>
                          <p:cTn id="287" nodeType="afterEffect" fill="hold">
                            <p:stCondLst>
                              <p:cond delay="3500"/>
                            </p:stCondLst>
                            <p:childTnLst>
                              <p:par>
                                <p:cTn id="288" nodeType="afterEffect" fill="hold" presetClass="entr" presetID="22" presetSubtype="2">
                                  <p:stCondLst>
                                    <p:cond delay="0"/>
                                  </p:stCondLst>
                                  <p:childTnLst>
                                    <p:set>
                                      <p:cBhvr>
                                        <p:cTn id="289" dur="1" fill="hold">
                                          <p:stCondLst>
                                            <p:cond delay="0"/>
                                          </p:stCondLst>
                                        </p:cTn>
                                        <p:tgtEl>
                                          <p:spTgt spid="610"/>
                                        </p:tgtEl>
                                        <p:attrNameLst>
                                          <p:attrName>style.visibility</p:attrName>
                                        </p:attrNameLst>
                                      </p:cBhvr>
                                      <p:to>
                                        <p:strVal val="visible"/>
                                      </p:to>
                                    </p:set>
                                    <p:animEffect filter="wipe(right)" transition="in">
                                      <p:cBhvr additive="repl">
                                        <p:cTn id="290" dur="500"/>
                                        <p:tgtEl>
                                          <p:spTgt spid="610"/>
                                        </p:tgtEl>
                                      </p:cBhvr>
                                    </p:animEffect>
                                  </p:childTnLst>
                                </p:cTn>
                              </p:par>
                              <p:par>
                                <p:cTn id="291" nodeType="withEffect" fill="hold" presetClass="entr" presetID="22" presetSubtype="8">
                                  <p:stCondLst>
                                    <p:cond delay="0"/>
                                  </p:stCondLst>
                                  <p:childTnLst>
                                    <p:set>
                                      <p:cBhvr>
                                        <p:cTn id="292" dur="1" fill="hold">
                                          <p:stCondLst>
                                            <p:cond delay="0"/>
                                          </p:stCondLst>
                                        </p:cTn>
                                        <p:tgtEl>
                                          <p:spTgt spid="609"/>
                                        </p:tgtEl>
                                        <p:attrNameLst>
                                          <p:attrName>style.visibility</p:attrName>
                                        </p:attrNameLst>
                                      </p:cBhvr>
                                      <p:to>
                                        <p:strVal val="visible"/>
                                      </p:to>
                                    </p:set>
                                    <p:animEffect filter="wipe(left)" transition="in">
                                      <p:cBhvr additive="repl">
                                        <p:cTn id="293" dur="500"/>
                                        <p:tgtEl>
                                          <p:spTgt spid="609"/>
                                        </p:tgtEl>
                                      </p:cBhvr>
                                    </p:animEffect>
                                  </p:childTnLst>
                                </p:cTn>
                              </p:par>
                            </p:childTnLst>
                          </p:cTn>
                        </p:par>
                        <p:par>
                          <p:cTn id="294" nodeType="afterEffect" fill="hold">
                            <p:stCondLst>
                              <p:cond delay="4000"/>
                            </p:stCondLst>
                            <p:childTnLst>
                              <p:par>
                                <p:cTn id="295" nodeType="afterEffect" fill="hold" presetClass="entr" presetID="10">
                                  <p:stCondLst>
                                    <p:cond delay="0"/>
                                  </p:stCondLst>
                                  <p:childTnLst>
                                    <p:set>
                                      <p:cBhvr>
                                        <p:cTn id="296" dur="1" fill="hold">
                                          <p:stCondLst>
                                            <p:cond delay="0"/>
                                          </p:stCondLst>
                                        </p:cTn>
                                        <p:tgtEl>
                                          <p:spTgt spid="619"/>
                                        </p:tgtEl>
                                        <p:attrNameLst>
                                          <p:attrName>style.visibility</p:attrName>
                                        </p:attrNameLst>
                                      </p:cBhvr>
                                      <p:to>
                                        <p:strVal val="visible"/>
                                      </p:to>
                                    </p:set>
                                    <p:animEffect filter="fade" transition="in">
                                      <p:cBhvr additive="repl">
                                        <p:cTn id="297" dur="500"/>
                                        <p:tgtEl>
                                          <p:spTgt spid="619"/>
                                        </p:tgtEl>
                                      </p:cBhvr>
                                    </p:animEffect>
                                  </p:childTnLst>
                                </p:cTn>
                              </p:par>
                              <p:par>
                                <p:cTn id="298" nodeType="withEffect" fill="hold" presetClass="entr" presetID="10">
                                  <p:stCondLst>
                                    <p:cond delay="0"/>
                                  </p:stCondLst>
                                  <p:childTnLst>
                                    <p:set>
                                      <p:cBhvr>
                                        <p:cTn id="299" dur="1" fill="hold">
                                          <p:stCondLst>
                                            <p:cond delay="0"/>
                                          </p:stCondLst>
                                        </p:cTn>
                                        <p:tgtEl>
                                          <p:spTgt spid="624"/>
                                        </p:tgtEl>
                                        <p:attrNameLst>
                                          <p:attrName>style.visibility</p:attrName>
                                        </p:attrNameLst>
                                      </p:cBhvr>
                                      <p:to>
                                        <p:strVal val="visible"/>
                                      </p:to>
                                    </p:set>
                                    <p:animEffect filter="fade" transition="in">
                                      <p:cBhvr additive="repl">
                                        <p:cTn id="300" dur="500"/>
                                        <p:tgtEl>
                                          <p:spTgt spid="624"/>
                                        </p:tgtEl>
                                      </p:cBhvr>
                                    </p:animEffect>
                                  </p:childTnLst>
                                </p:cTn>
                              </p:par>
                            </p:childTnLst>
                          </p:cTn>
                        </p:par>
                        <p:par>
                          <p:cTn id="301" nodeType="afterEffect" fill="hold">
                            <p:stCondLst>
                              <p:cond delay="4500"/>
                            </p:stCondLst>
                            <p:childTnLst>
                              <p:par>
                                <p:cTn id="302" nodeType="afterEffect" fill="hold" presetClass="entr" presetID="10">
                                  <p:stCondLst>
                                    <p:cond delay="0"/>
                                  </p:stCondLst>
                                  <p:childTnLst>
                                    <p:set>
                                      <p:cBhvr>
                                        <p:cTn id="303" dur="1" fill="hold">
                                          <p:stCondLst>
                                            <p:cond delay="0"/>
                                          </p:stCondLst>
                                        </p:cTn>
                                        <p:tgtEl>
                                          <p:spTgt spid="630"/>
                                        </p:tgtEl>
                                        <p:attrNameLst>
                                          <p:attrName>style.visibility</p:attrName>
                                        </p:attrNameLst>
                                      </p:cBhvr>
                                      <p:to>
                                        <p:strVal val="visible"/>
                                      </p:to>
                                    </p:set>
                                    <p:animEffect filter="fade" transition="in">
                                      <p:cBhvr additive="repl">
                                        <p:cTn id="304" dur="500"/>
                                        <p:tgtEl>
                                          <p:spTgt spid="630"/>
                                        </p:tgtEl>
                                      </p:cBhvr>
                                    </p:animEffect>
                                  </p:childTnLst>
                                </p:cTn>
                              </p:par>
                            </p:childTnLst>
                          </p:cTn>
                        </p:par>
                        <p:par>
                          <p:cTn id="305" nodeType="afterEffect" fill="hold">
                            <p:stCondLst>
                              <p:cond delay="5000"/>
                            </p:stCondLst>
                            <p:childTnLst>
                              <p:par>
                                <p:cTn id="306" nodeType="afterEffect" fill="hold" presetClass="entr" presetID="22" presetSubtype="8">
                                  <p:stCondLst>
                                    <p:cond delay="0"/>
                                  </p:stCondLst>
                                  <p:childTnLst>
                                    <p:set>
                                      <p:cBhvr>
                                        <p:cTn id="307" dur="1" fill="hold">
                                          <p:stCondLst>
                                            <p:cond delay="0"/>
                                          </p:stCondLst>
                                        </p:cTn>
                                        <p:tgtEl>
                                          <p:spTgt spid="603"/>
                                        </p:tgtEl>
                                        <p:attrNameLst>
                                          <p:attrName>style.visibility</p:attrName>
                                        </p:attrNameLst>
                                      </p:cBhvr>
                                      <p:to>
                                        <p:strVal val="visible"/>
                                      </p:to>
                                    </p:set>
                                    <p:animEffect filter="wipe(left)" transition="in">
                                      <p:cBhvr additive="repl">
                                        <p:cTn id="308" dur="500"/>
                                        <p:tgtEl>
                                          <p:spTgt spid="603"/>
                                        </p:tgtEl>
                                      </p:cBhvr>
                                    </p:animEffect>
                                  </p:childTnLst>
                                </p:cTn>
                              </p:par>
                              <p:par>
                                <p:cTn id="309" nodeType="withEffect" fill="hold" presetClass="entr" presetID="22" presetSubtype="2">
                                  <p:stCondLst>
                                    <p:cond delay="0"/>
                                  </p:stCondLst>
                                  <p:childTnLst>
                                    <p:set>
                                      <p:cBhvr>
                                        <p:cTn id="310" dur="1" fill="hold">
                                          <p:stCondLst>
                                            <p:cond delay="0"/>
                                          </p:stCondLst>
                                        </p:cTn>
                                        <p:tgtEl>
                                          <p:spTgt spid="604"/>
                                        </p:tgtEl>
                                        <p:attrNameLst>
                                          <p:attrName>style.visibility</p:attrName>
                                        </p:attrNameLst>
                                      </p:cBhvr>
                                      <p:to>
                                        <p:strVal val="visible"/>
                                      </p:to>
                                    </p:set>
                                    <p:animEffect filter="wipe(right)" transition="in">
                                      <p:cBhvr additive="repl">
                                        <p:cTn id="311" dur="500"/>
                                        <p:tgtEl>
                                          <p:spTgt spid="604"/>
                                        </p:tgtEl>
                                      </p:cBhvr>
                                    </p:animEffect>
                                  </p:childTnLst>
                                </p:cTn>
                              </p:par>
                            </p:childTnLst>
                          </p:cTn>
                        </p:par>
                        <p:par>
                          <p:cTn id="312" nodeType="afterEffect" fill="hold">
                            <p:stCondLst>
                              <p:cond delay="5500"/>
                            </p:stCondLst>
                            <p:childTnLst>
                              <p:par>
                                <p:cTn id="313" nodeType="afterEffect" fill="hold" presetClass="entr" presetID="10">
                                  <p:stCondLst>
                                    <p:cond delay="0"/>
                                  </p:stCondLst>
                                  <p:childTnLst>
                                    <p:set>
                                      <p:cBhvr>
                                        <p:cTn id="314" dur="1" fill="hold">
                                          <p:stCondLst>
                                            <p:cond delay="0"/>
                                          </p:stCondLst>
                                        </p:cTn>
                                        <p:tgtEl>
                                          <p:spTgt spid="620"/>
                                        </p:tgtEl>
                                        <p:attrNameLst>
                                          <p:attrName>style.visibility</p:attrName>
                                        </p:attrNameLst>
                                      </p:cBhvr>
                                      <p:to>
                                        <p:strVal val="visible"/>
                                      </p:to>
                                    </p:set>
                                    <p:animEffect filter="fade" transition="in">
                                      <p:cBhvr additive="repl">
                                        <p:cTn id="315" dur="500"/>
                                        <p:tgtEl>
                                          <p:spTgt spid="620"/>
                                        </p:tgtEl>
                                      </p:cBhvr>
                                    </p:animEffect>
                                  </p:childTnLst>
                                </p:cTn>
                              </p:par>
                              <p:par>
                                <p:cTn id="316" nodeType="withEffect" fill="hold" presetClass="entr" presetID="10">
                                  <p:stCondLst>
                                    <p:cond delay="0"/>
                                  </p:stCondLst>
                                  <p:childTnLst>
                                    <p:set>
                                      <p:cBhvr>
                                        <p:cTn id="317" dur="1" fill="hold">
                                          <p:stCondLst>
                                            <p:cond delay="0"/>
                                          </p:stCondLst>
                                        </p:cTn>
                                        <p:tgtEl>
                                          <p:spTgt spid="625"/>
                                        </p:tgtEl>
                                        <p:attrNameLst>
                                          <p:attrName>style.visibility</p:attrName>
                                        </p:attrNameLst>
                                      </p:cBhvr>
                                      <p:to>
                                        <p:strVal val="visible"/>
                                      </p:to>
                                    </p:set>
                                    <p:animEffect filter="fade" transition="in">
                                      <p:cBhvr additive="repl">
                                        <p:cTn id="318" dur="500"/>
                                        <p:tgtEl>
                                          <p:spTgt spid="625"/>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631"/>
                                        </p:tgtEl>
                                        <p:attrNameLst>
                                          <p:attrName>style.visibility</p:attrName>
                                        </p:attrNameLst>
                                      </p:cBhvr>
                                      <p:to>
                                        <p:strVal val="visible"/>
                                      </p:to>
                                    </p:set>
                                    <p:animEffect filter="fade" transition="in">
                                      <p:cBhvr additive="repl">
                                        <p:cTn id="322" dur="500"/>
                                        <p:tgtEl>
                                          <p:spTgt spid="631"/>
                                        </p:tgtEl>
                                      </p:cBhvr>
                                    </p:animEffect>
                                  </p:childTnLst>
                                </p:cTn>
                              </p:par>
                            </p:childTnLst>
                          </p:cTn>
                        </p:par>
                        <p:par>
                          <p:cTn id="323" nodeType="afterEffect" fill="hold">
                            <p:stCondLst>
                              <p:cond delay="6500"/>
                            </p:stCondLst>
                            <p:childTnLst>
                              <p:par>
                                <p:cTn id="324" nodeType="afterEffect" fill="hold" presetClass="entr" presetID="22" presetSubtype="8">
                                  <p:stCondLst>
                                    <p:cond delay="0"/>
                                  </p:stCondLst>
                                  <p:childTnLst>
                                    <p:set>
                                      <p:cBhvr>
                                        <p:cTn id="325" dur="1" fill="hold">
                                          <p:stCondLst>
                                            <p:cond delay="0"/>
                                          </p:stCondLst>
                                        </p:cTn>
                                        <p:tgtEl>
                                          <p:spTgt spid="605"/>
                                        </p:tgtEl>
                                        <p:attrNameLst>
                                          <p:attrName>style.visibility</p:attrName>
                                        </p:attrNameLst>
                                      </p:cBhvr>
                                      <p:to>
                                        <p:strVal val="visible"/>
                                      </p:to>
                                    </p:set>
                                    <p:animEffect filter="wipe(left)" transition="in">
                                      <p:cBhvr additive="repl">
                                        <p:cTn id="326" dur="500"/>
                                        <p:tgtEl>
                                          <p:spTgt spid="605"/>
                                        </p:tgtEl>
                                      </p:cBhvr>
                                    </p:animEffect>
                                  </p:childTnLst>
                                </p:cTn>
                              </p:par>
                              <p:par>
                                <p:cTn id="327" nodeType="withEffect" fill="hold" presetClass="entr" presetID="22" presetSubtype="2">
                                  <p:stCondLst>
                                    <p:cond delay="0"/>
                                  </p:stCondLst>
                                  <p:childTnLst>
                                    <p:set>
                                      <p:cBhvr>
                                        <p:cTn id="328" dur="1" fill="hold">
                                          <p:stCondLst>
                                            <p:cond delay="0"/>
                                          </p:stCondLst>
                                        </p:cTn>
                                        <p:tgtEl>
                                          <p:spTgt spid="606"/>
                                        </p:tgtEl>
                                        <p:attrNameLst>
                                          <p:attrName>style.visibility</p:attrName>
                                        </p:attrNameLst>
                                      </p:cBhvr>
                                      <p:to>
                                        <p:strVal val="visible"/>
                                      </p:to>
                                    </p:set>
                                    <p:animEffect filter="wipe(right)" transition="in">
                                      <p:cBhvr additive="repl">
                                        <p:cTn id="329" dur="500"/>
                                        <p:tgtEl>
                                          <p:spTgt spid="606"/>
                                        </p:tgtEl>
                                      </p:cBhvr>
                                    </p:animEffect>
                                  </p:childTnLst>
                                </p:cTn>
                              </p:par>
                            </p:childTnLst>
                          </p:cTn>
                        </p:par>
                        <p:par>
                          <p:cTn id="330" nodeType="afterEffect" fill="hold">
                            <p:stCondLst>
                              <p:cond delay="7000"/>
                            </p:stCondLst>
                            <p:childTnLst>
                              <p:par>
                                <p:cTn id="331" nodeType="afterEffect" fill="hold" presetClass="entr" presetID="10">
                                  <p:stCondLst>
                                    <p:cond delay="0"/>
                                  </p:stCondLst>
                                  <p:childTnLst>
                                    <p:set>
                                      <p:cBhvr>
                                        <p:cTn id="332" dur="1" fill="hold">
                                          <p:stCondLst>
                                            <p:cond delay="0"/>
                                          </p:stCondLst>
                                        </p:cTn>
                                        <p:tgtEl>
                                          <p:spTgt spid="626"/>
                                        </p:tgtEl>
                                        <p:attrNameLst>
                                          <p:attrName>style.visibility</p:attrName>
                                        </p:attrNameLst>
                                      </p:cBhvr>
                                      <p:to>
                                        <p:strVal val="visible"/>
                                      </p:to>
                                    </p:set>
                                    <p:animEffect filter="fade" transition="in">
                                      <p:cBhvr additive="repl">
                                        <p:cTn id="333" dur="500"/>
                                        <p:tgtEl>
                                          <p:spTgt spid="626"/>
                                        </p:tgtEl>
                                      </p:cBhvr>
                                    </p:animEffect>
                                  </p:childTnLst>
                                </p:cTn>
                              </p:par>
                              <p:par>
                                <p:cTn id="334" nodeType="withEffect" fill="hold" presetClass="entr" presetID="10">
                                  <p:stCondLst>
                                    <p:cond delay="0"/>
                                  </p:stCondLst>
                                  <p:childTnLst>
                                    <p:set>
                                      <p:cBhvr>
                                        <p:cTn id="335" dur="1" fill="hold">
                                          <p:stCondLst>
                                            <p:cond delay="0"/>
                                          </p:stCondLst>
                                        </p:cTn>
                                        <p:tgtEl>
                                          <p:spTgt spid="621"/>
                                        </p:tgtEl>
                                        <p:attrNameLst>
                                          <p:attrName>style.visibility</p:attrName>
                                        </p:attrNameLst>
                                      </p:cBhvr>
                                      <p:to>
                                        <p:strVal val="visible"/>
                                      </p:to>
                                    </p:set>
                                    <p:animEffect filter="fade" transition="in">
                                      <p:cBhvr additive="repl">
                                        <p:cTn id="336" dur="500"/>
                                        <p:tgtEl>
                                          <p:spTgt spid="621"/>
                                        </p:tgtEl>
                                      </p:cBhvr>
                                    </p:animEffect>
                                  </p:childTnLst>
                                </p:cTn>
                              </p:par>
                            </p:childTnLst>
                          </p:cTn>
                        </p:par>
                        <p:par>
                          <p:cTn id="337" nodeType="afterEffect" fill="hold">
                            <p:stCondLst>
                              <p:cond delay="7500"/>
                            </p:stCondLst>
                            <p:childTnLst>
                              <p:par>
                                <p:cTn id="338" nodeType="afterEffect" fill="hold" presetClass="entr" presetID="10">
                                  <p:stCondLst>
                                    <p:cond delay="0"/>
                                  </p:stCondLst>
                                  <p:childTnLst>
                                    <p:set>
                                      <p:cBhvr>
                                        <p:cTn id="339" dur="1" fill="hold">
                                          <p:stCondLst>
                                            <p:cond delay="0"/>
                                          </p:stCondLst>
                                        </p:cTn>
                                        <p:tgtEl>
                                          <p:spTgt spid="632"/>
                                        </p:tgtEl>
                                        <p:attrNameLst>
                                          <p:attrName>style.visibility</p:attrName>
                                        </p:attrNameLst>
                                      </p:cBhvr>
                                      <p:to>
                                        <p:strVal val="visible"/>
                                      </p:to>
                                    </p:set>
                                    <p:animEffect filter="fade" transition="in">
                                      <p:cBhvr additive="repl">
                                        <p:cTn id="340" dur="500"/>
                                        <p:tgtEl>
                                          <p:spTgt spid="632"/>
                                        </p:tgtEl>
                                      </p:cBhvr>
                                    </p:animEffect>
                                  </p:childTnLst>
                                </p:cTn>
                              </p:par>
                            </p:childTnLst>
                          </p:cTn>
                        </p:par>
                        <p:par>
                          <p:cTn id="341" nodeType="afterEffect" fill="hold">
                            <p:stCondLst>
                              <p:cond delay="8000"/>
                            </p:stCondLst>
                            <p:childTnLst>
                              <p:par>
                                <p:cTn id="342" nodeType="afterEffect" fill="hold" presetClass="entr" presetID="22" presetSubtype="8">
                                  <p:stCondLst>
                                    <p:cond delay="0"/>
                                  </p:stCondLst>
                                  <p:childTnLst>
                                    <p:set>
                                      <p:cBhvr>
                                        <p:cTn id="343" dur="1" fill="hold">
                                          <p:stCondLst>
                                            <p:cond delay="0"/>
                                          </p:stCondLst>
                                        </p:cTn>
                                        <p:tgtEl>
                                          <p:spTgt spid="607"/>
                                        </p:tgtEl>
                                        <p:attrNameLst>
                                          <p:attrName>style.visibility</p:attrName>
                                        </p:attrNameLst>
                                      </p:cBhvr>
                                      <p:to>
                                        <p:strVal val="visible"/>
                                      </p:to>
                                    </p:set>
                                    <p:animEffect filter="wipe(left)" transition="in">
                                      <p:cBhvr additive="repl">
                                        <p:cTn id="344" dur="500"/>
                                        <p:tgtEl>
                                          <p:spTgt spid="607"/>
                                        </p:tgtEl>
                                      </p:cBhvr>
                                    </p:animEffect>
                                  </p:childTnLst>
                                </p:cTn>
                              </p:par>
                              <p:par>
                                <p:cTn id="345" nodeType="withEffect" fill="hold" presetClass="entr" presetID="22" presetSubtype="2">
                                  <p:stCondLst>
                                    <p:cond delay="0"/>
                                  </p:stCondLst>
                                  <p:childTnLst>
                                    <p:set>
                                      <p:cBhvr>
                                        <p:cTn id="346" dur="1" fill="hold">
                                          <p:stCondLst>
                                            <p:cond delay="0"/>
                                          </p:stCondLst>
                                        </p:cTn>
                                        <p:tgtEl>
                                          <p:spTgt spid="608"/>
                                        </p:tgtEl>
                                        <p:attrNameLst>
                                          <p:attrName>style.visibility</p:attrName>
                                        </p:attrNameLst>
                                      </p:cBhvr>
                                      <p:to>
                                        <p:strVal val="visible"/>
                                      </p:to>
                                    </p:set>
                                    <p:animEffect filter="wipe(right)" transition="in">
                                      <p:cBhvr additive="repl">
                                        <p:cTn id="347" dur="500"/>
                                        <p:tgtEl>
                                          <p:spTgt spid="608"/>
                                        </p:tgtEl>
                                      </p:cBhvr>
                                    </p:animEffect>
                                  </p:childTnLst>
                                </p:cTn>
                              </p:par>
                            </p:childTnLst>
                          </p:cTn>
                        </p:par>
                        <p:par>
                          <p:cTn id="348" nodeType="afterEffect" fill="hold">
                            <p:stCondLst>
                              <p:cond delay="8500"/>
                            </p:stCondLst>
                            <p:childTnLst>
                              <p:par>
                                <p:cTn id="349" nodeType="afterEffect" fill="hold" presetClass="entr" presetID="10">
                                  <p:stCondLst>
                                    <p:cond delay="0"/>
                                  </p:stCondLst>
                                  <p:childTnLst>
                                    <p:set>
                                      <p:cBhvr>
                                        <p:cTn id="350" dur="1" fill="hold">
                                          <p:stCondLst>
                                            <p:cond delay="0"/>
                                          </p:stCondLst>
                                        </p:cTn>
                                        <p:tgtEl>
                                          <p:spTgt spid="622"/>
                                        </p:tgtEl>
                                        <p:attrNameLst>
                                          <p:attrName>style.visibility</p:attrName>
                                        </p:attrNameLst>
                                      </p:cBhvr>
                                      <p:to>
                                        <p:strVal val="visible"/>
                                      </p:to>
                                    </p:set>
                                    <p:animEffect filter="fade" transition="in">
                                      <p:cBhvr additive="repl">
                                        <p:cTn id="351" dur="500"/>
                                        <p:tgtEl>
                                          <p:spTgt spid="622"/>
                                        </p:tgtEl>
                                      </p:cBhvr>
                                    </p:animEffect>
                                  </p:childTnLst>
                                </p:cTn>
                              </p:par>
                              <p:par>
                                <p:cTn id="352" nodeType="withEffect" fill="hold" presetClass="entr" presetID="10">
                                  <p:stCondLst>
                                    <p:cond delay="0"/>
                                  </p:stCondLst>
                                  <p:childTnLst>
                                    <p:set>
                                      <p:cBhvr>
                                        <p:cTn id="353" dur="1" fill="hold">
                                          <p:stCondLst>
                                            <p:cond delay="0"/>
                                          </p:stCondLst>
                                        </p:cTn>
                                        <p:tgtEl>
                                          <p:spTgt spid="627"/>
                                        </p:tgtEl>
                                        <p:attrNameLst>
                                          <p:attrName>style.visibility</p:attrName>
                                        </p:attrNameLst>
                                      </p:cBhvr>
                                      <p:to>
                                        <p:strVal val="visible"/>
                                      </p:to>
                                    </p:set>
                                    <p:animEffect filter="fade" transition="in">
                                      <p:cBhvr additive="repl">
                                        <p:cTn id="35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Graphic Assets</a:t>
            </a:r>
            <a:endParaRPr b="0" lang="en-US" sz="3600" spc="-1" strike="noStrike">
              <a:solidFill>
                <a:srgbClr val="313c3f"/>
              </a:solidFill>
              <a:latin typeface="Lato"/>
            </a:endParaRPr>
          </a:p>
        </p:txBody>
      </p:sp>
      <p:grpSp>
        <p:nvGrpSpPr>
          <p:cNvPr id="2868" name="Graphic 2"/>
          <p:cNvGrpSpPr/>
          <p:nvPr/>
        </p:nvGrpSpPr>
        <p:grpSpPr>
          <a:xfrm>
            <a:off x="1339920" y="3782880"/>
            <a:ext cx="2857320" cy="2152800"/>
            <a:chOff x="1339920" y="3782880"/>
            <a:chExt cx="2857320" cy="2152800"/>
          </a:xfrm>
        </p:grpSpPr>
        <p:sp>
          <p:nvSpPr>
            <p:cNvPr id="2869" name="Freeform: Shape 4"/>
            <p:cNvSpPr/>
            <p:nvPr/>
          </p:nvSpPr>
          <p:spPr>
            <a:xfrm>
              <a:off x="307440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0" name="Freeform: Shape 5"/>
            <p:cNvSpPr/>
            <p:nvPr/>
          </p:nvSpPr>
          <p:spPr>
            <a:xfrm>
              <a:off x="370224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1" name="Freeform: Shape 6"/>
            <p:cNvSpPr/>
            <p:nvPr/>
          </p:nvSpPr>
          <p:spPr>
            <a:xfrm>
              <a:off x="319860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2" name="Freeform: Shape 7"/>
            <p:cNvSpPr/>
            <p:nvPr/>
          </p:nvSpPr>
          <p:spPr>
            <a:xfrm>
              <a:off x="133992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3" name="Freeform: Shape 8"/>
            <p:cNvSpPr/>
            <p:nvPr/>
          </p:nvSpPr>
          <p:spPr>
            <a:xfrm>
              <a:off x="196740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4" name="Freeform: Shape 9"/>
            <p:cNvSpPr/>
            <p:nvPr/>
          </p:nvSpPr>
          <p:spPr>
            <a:xfrm>
              <a:off x="146376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5" name="Freeform: Shape 10"/>
            <p:cNvSpPr/>
            <p:nvPr/>
          </p:nvSpPr>
          <p:spPr>
            <a:xfrm>
              <a:off x="312696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6" name="Freeform: Shape 11"/>
            <p:cNvSpPr/>
            <p:nvPr/>
          </p:nvSpPr>
          <p:spPr>
            <a:xfrm>
              <a:off x="139176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77" name="Freeform: Shape 12"/>
            <p:cNvSpPr/>
            <p:nvPr/>
          </p:nvSpPr>
          <p:spPr>
            <a:xfrm>
              <a:off x="261432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313c3f"/>
                </a:solidFill>
                <a:latin typeface="Source Sans Pro"/>
              </a:endParaRPr>
            </a:p>
          </p:txBody>
        </p:sp>
        <p:sp>
          <p:nvSpPr>
            <p:cNvPr id="2878" name="Freeform: Shape 13"/>
            <p:cNvSpPr/>
            <p:nvPr/>
          </p:nvSpPr>
          <p:spPr>
            <a:xfrm>
              <a:off x="225720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313c3f"/>
                </a:solidFill>
                <a:latin typeface="Source Sans Pro"/>
              </a:endParaRPr>
            </a:p>
          </p:txBody>
        </p:sp>
        <p:sp>
          <p:nvSpPr>
            <p:cNvPr id="2879" name="Freeform: Shape 14"/>
            <p:cNvSpPr/>
            <p:nvPr/>
          </p:nvSpPr>
          <p:spPr>
            <a:xfrm>
              <a:off x="26794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80" name="Freeform: Shape 15"/>
            <p:cNvSpPr/>
            <p:nvPr/>
          </p:nvSpPr>
          <p:spPr>
            <a:xfrm>
              <a:off x="26794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81" name="Freeform: Shape 16"/>
            <p:cNvSpPr/>
            <p:nvPr/>
          </p:nvSpPr>
          <p:spPr>
            <a:xfrm>
              <a:off x="27133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313c3f"/>
                </a:solidFill>
                <a:latin typeface="Source Sans Pro"/>
              </a:endParaRPr>
            </a:p>
          </p:txBody>
        </p:sp>
        <p:sp>
          <p:nvSpPr>
            <p:cNvPr id="2882" name="Freeform: Shape 17"/>
            <p:cNvSpPr/>
            <p:nvPr/>
          </p:nvSpPr>
          <p:spPr>
            <a:xfrm>
              <a:off x="27050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83" name="Freeform: Shape 18"/>
            <p:cNvSpPr/>
            <p:nvPr/>
          </p:nvSpPr>
          <p:spPr>
            <a:xfrm>
              <a:off x="272088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313c3f"/>
                </a:solidFill>
                <a:latin typeface="Source Sans Pro"/>
              </a:endParaRPr>
            </a:p>
          </p:txBody>
        </p:sp>
        <p:sp>
          <p:nvSpPr>
            <p:cNvPr id="2884" name="Freeform: Shape 19"/>
            <p:cNvSpPr/>
            <p:nvPr/>
          </p:nvSpPr>
          <p:spPr>
            <a:xfrm>
              <a:off x="2821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85" name="Freeform: Shape 20"/>
            <p:cNvSpPr/>
            <p:nvPr/>
          </p:nvSpPr>
          <p:spPr>
            <a:xfrm>
              <a:off x="185040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86" name="Freeform: Shape 21"/>
            <p:cNvSpPr/>
            <p:nvPr/>
          </p:nvSpPr>
          <p:spPr>
            <a:xfrm rot="21058200">
              <a:off x="266436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87" name="Freeform: Shape 22"/>
            <p:cNvSpPr/>
            <p:nvPr/>
          </p:nvSpPr>
          <p:spPr>
            <a:xfrm rot="21058200">
              <a:off x="270864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88" name="Freeform: Shape 23"/>
            <p:cNvSpPr/>
            <p:nvPr/>
          </p:nvSpPr>
          <p:spPr>
            <a:xfrm rot="21058200">
              <a:off x="27370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313c3f"/>
                </a:solidFill>
                <a:latin typeface="Source Sans Pro"/>
              </a:endParaRPr>
            </a:p>
          </p:txBody>
        </p:sp>
        <p:pic>
          <p:nvPicPr>
            <p:cNvPr id="2889" name="Graphic 2" descr=""/>
            <p:cNvPicPr/>
            <p:nvPr/>
          </p:nvPicPr>
          <p:blipFill>
            <a:blip r:embed="rId1"/>
            <a:stretch/>
          </p:blipFill>
          <p:spPr>
            <a:xfrm>
              <a:off x="2200680" y="3980520"/>
              <a:ext cx="1200960" cy="274320"/>
            </a:xfrm>
            <a:prstGeom prst="rect">
              <a:avLst/>
            </a:prstGeom>
            <a:ln w="0">
              <a:noFill/>
            </a:ln>
          </p:spPr>
        </p:pic>
        <p:sp>
          <p:nvSpPr>
            <p:cNvPr id="2890" name="Freeform: Shape 31"/>
            <p:cNvSpPr/>
            <p:nvPr/>
          </p:nvSpPr>
          <p:spPr>
            <a:xfrm>
              <a:off x="362736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91" name="Freeform: Shape 32"/>
            <p:cNvSpPr/>
            <p:nvPr/>
          </p:nvSpPr>
          <p:spPr>
            <a:xfrm>
              <a:off x="189252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892" name="Graphic 68"/>
          <p:cNvGrpSpPr/>
          <p:nvPr/>
        </p:nvGrpSpPr>
        <p:grpSpPr>
          <a:xfrm>
            <a:off x="4357800" y="2195640"/>
            <a:ext cx="3416040" cy="672840"/>
            <a:chOff x="4357800" y="2195640"/>
            <a:chExt cx="3416040" cy="672840"/>
          </a:xfrm>
        </p:grpSpPr>
        <p:sp>
          <p:nvSpPr>
            <p:cNvPr id="2893" name="Freeform: Shape 70"/>
            <p:cNvSpPr/>
            <p:nvPr/>
          </p:nvSpPr>
          <p:spPr>
            <a:xfrm>
              <a:off x="4869000" y="2442960"/>
              <a:ext cx="1109880" cy="165240"/>
            </a:xfrm>
            <a:custGeom>
              <a:avLst/>
              <a:gdLst/>
              <a:ahLst/>
              <a:rect l="l" t="t" r="r" b="b"/>
              <a:pathLst>
                <a:path w="2517457" h="375285">
                  <a:moveTo>
                    <a:pt x="1960245" y="0"/>
                  </a:moveTo>
                  <a:lnTo>
                    <a:pt x="2513648" y="0"/>
                  </a:lnTo>
                  <a:lnTo>
                    <a:pt x="2510790" y="1905"/>
                  </a:lnTo>
                  <a:lnTo>
                    <a:pt x="2507933" y="3810"/>
                  </a:lnTo>
                  <a:cubicBezTo>
                    <a:pt x="2491740" y="17145"/>
                    <a:pt x="2477453" y="32385"/>
                    <a:pt x="2465070" y="48577"/>
                  </a:cubicBezTo>
                  <a:cubicBezTo>
                    <a:pt x="2454593" y="62865"/>
                    <a:pt x="2446020" y="76200"/>
                    <a:pt x="2439353" y="92392"/>
                  </a:cubicBezTo>
                  <a:cubicBezTo>
                    <a:pt x="2398395" y="181927"/>
                    <a:pt x="2417445" y="281940"/>
                    <a:pt x="2493645" y="355282"/>
                  </a:cubicBezTo>
                  <a:cubicBezTo>
                    <a:pt x="2501265" y="362903"/>
                    <a:pt x="2508885" y="369570"/>
                    <a:pt x="2517458" y="375285"/>
                  </a:cubicBezTo>
                  <a:cubicBezTo>
                    <a:pt x="2428875" y="373380"/>
                    <a:pt x="2340293" y="371475"/>
                    <a:pt x="2251710" y="369570"/>
                  </a:cubicBezTo>
                  <a:lnTo>
                    <a:pt x="1559243" y="354330"/>
                  </a:lnTo>
                  <a:lnTo>
                    <a:pt x="1550670" y="354330"/>
                  </a:lnTo>
                  <a:cubicBezTo>
                    <a:pt x="1495425" y="354330"/>
                    <a:pt x="1434465" y="352425"/>
                    <a:pt x="1369695" y="350520"/>
                  </a:cubicBezTo>
                  <a:lnTo>
                    <a:pt x="160973" y="324803"/>
                  </a:lnTo>
                  <a:cubicBezTo>
                    <a:pt x="71438" y="324803"/>
                    <a:pt x="0" y="262890"/>
                    <a:pt x="0" y="185738"/>
                  </a:cubicBezTo>
                  <a:cubicBezTo>
                    <a:pt x="0" y="178117"/>
                    <a:pt x="953" y="171450"/>
                    <a:pt x="1905" y="164782"/>
                  </a:cubicBezTo>
                  <a:lnTo>
                    <a:pt x="73342" y="164782"/>
                  </a:lnTo>
                  <a:cubicBezTo>
                    <a:pt x="71438" y="171450"/>
                    <a:pt x="69533" y="179070"/>
                    <a:pt x="69533" y="185738"/>
                  </a:cubicBezTo>
                  <a:cubicBezTo>
                    <a:pt x="69533" y="197167"/>
                    <a:pt x="72390" y="208598"/>
                    <a:pt x="78105" y="218123"/>
                  </a:cubicBezTo>
                  <a:lnTo>
                    <a:pt x="78105" y="163830"/>
                  </a:lnTo>
                  <a:lnTo>
                    <a:pt x="248603" y="163830"/>
                  </a:lnTo>
                  <a:lnTo>
                    <a:pt x="301942" y="163830"/>
                  </a:lnTo>
                  <a:lnTo>
                    <a:pt x="320992" y="163830"/>
                  </a:lnTo>
                  <a:cubicBezTo>
                    <a:pt x="596265" y="99060"/>
                    <a:pt x="1447800" y="0"/>
                    <a:pt x="19602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94" name="Freeform: Shape 71"/>
            <p:cNvSpPr/>
            <p:nvPr/>
          </p:nvSpPr>
          <p:spPr>
            <a:xfrm>
              <a:off x="6152400" y="2442960"/>
              <a:ext cx="1109520" cy="165240"/>
            </a:xfrm>
            <a:custGeom>
              <a:avLst/>
              <a:gdLst/>
              <a:ahLst/>
              <a:rect l="l" t="t" r="r" b="b"/>
              <a:pathLst>
                <a:path w="2516505" h="375285">
                  <a:moveTo>
                    <a:pt x="557213" y="0"/>
                  </a:moveTo>
                  <a:lnTo>
                    <a:pt x="3810" y="0"/>
                  </a:lnTo>
                  <a:lnTo>
                    <a:pt x="6668" y="1905"/>
                  </a:lnTo>
                  <a:lnTo>
                    <a:pt x="9525" y="3810"/>
                  </a:lnTo>
                  <a:cubicBezTo>
                    <a:pt x="25718" y="17145"/>
                    <a:pt x="40958" y="32385"/>
                    <a:pt x="52388" y="48577"/>
                  </a:cubicBezTo>
                  <a:cubicBezTo>
                    <a:pt x="62865" y="62865"/>
                    <a:pt x="71438" y="76200"/>
                    <a:pt x="78105" y="92392"/>
                  </a:cubicBezTo>
                  <a:cubicBezTo>
                    <a:pt x="119063" y="181927"/>
                    <a:pt x="100013" y="281940"/>
                    <a:pt x="23813" y="355282"/>
                  </a:cubicBezTo>
                  <a:cubicBezTo>
                    <a:pt x="16193" y="362903"/>
                    <a:pt x="8573" y="369570"/>
                    <a:pt x="0" y="375285"/>
                  </a:cubicBezTo>
                  <a:cubicBezTo>
                    <a:pt x="88583" y="373380"/>
                    <a:pt x="177165" y="371475"/>
                    <a:pt x="265748" y="369570"/>
                  </a:cubicBezTo>
                  <a:lnTo>
                    <a:pt x="958215" y="354330"/>
                  </a:lnTo>
                  <a:lnTo>
                    <a:pt x="966788" y="354330"/>
                  </a:lnTo>
                  <a:cubicBezTo>
                    <a:pt x="1022032" y="354330"/>
                    <a:pt x="1082993" y="352425"/>
                    <a:pt x="1147763" y="350520"/>
                  </a:cubicBezTo>
                  <a:lnTo>
                    <a:pt x="2355533" y="324803"/>
                  </a:lnTo>
                  <a:cubicBezTo>
                    <a:pt x="2445068" y="324803"/>
                    <a:pt x="2516505" y="262890"/>
                    <a:pt x="2516505" y="185738"/>
                  </a:cubicBezTo>
                  <a:cubicBezTo>
                    <a:pt x="2516505" y="178117"/>
                    <a:pt x="2515553" y="171450"/>
                    <a:pt x="2514600" y="164782"/>
                  </a:cubicBezTo>
                  <a:lnTo>
                    <a:pt x="2443163" y="164782"/>
                  </a:lnTo>
                  <a:cubicBezTo>
                    <a:pt x="2445068" y="171450"/>
                    <a:pt x="2446973" y="179070"/>
                    <a:pt x="2446973" y="185738"/>
                  </a:cubicBezTo>
                  <a:cubicBezTo>
                    <a:pt x="2446973" y="197167"/>
                    <a:pt x="2444115" y="208598"/>
                    <a:pt x="2438400" y="218123"/>
                  </a:cubicBezTo>
                  <a:lnTo>
                    <a:pt x="2438400" y="163830"/>
                  </a:lnTo>
                  <a:lnTo>
                    <a:pt x="2267903" y="163830"/>
                  </a:lnTo>
                  <a:lnTo>
                    <a:pt x="2214563" y="163830"/>
                  </a:lnTo>
                  <a:lnTo>
                    <a:pt x="2195513" y="163830"/>
                  </a:lnTo>
                  <a:cubicBezTo>
                    <a:pt x="1920240" y="99060"/>
                    <a:pt x="1069657" y="0"/>
                    <a:pt x="557213"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95" name="Freeform: Shape 72"/>
            <p:cNvSpPr/>
            <p:nvPr/>
          </p:nvSpPr>
          <p:spPr>
            <a:xfrm>
              <a:off x="5935320" y="2413080"/>
              <a:ext cx="260280" cy="224280"/>
            </a:xfrm>
            <a:custGeom>
              <a:avLst/>
              <a:gdLst/>
              <a:ahLst/>
              <a:rect l="l" t="t" r="r" b="b"/>
              <a:pathLst>
                <a:path w="590550" h="508635">
                  <a:moveTo>
                    <a:pt x="590550" y="254318"/>
                  </a:moveTo>
                  <a:cubicBezTo>
                    <a:pt x="590550" y="394773"/>
                    <a:pt x="458351" y="508635"/>
                    <a:pt x="295275" y="508635"/>
                  </a:cubicBezTo>
                  <a:cubicBezTo>
                    <a:pt x="132199" y="508635"/>
                    <a:pt x="0" y="394773"/>
                    <a:pt x="0" y="254318"/>
                  </a:cubicBezTo>
                  <a:cubicBezTo>
                    <a:pt x="0" y="113862"/>
                    <a:pt x="132199" y="0"/>
                    <a:pt x="295275" y="0"/>
                  </a:cubicBezTo>
                  <a:cubicBezTo>
                    <a:pt x="458351" y="0"/>
                    <a:pt x="590550" y="113862"/>
                    <a:pt x="590550" y="25431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96" name="Freeform: Shape 73"/>
            <p:cNvSpPr/>
            <p:nvPr/>
          </p:nvSpPr>
          <p:spPr>
            <a:xfrm>
              <a:off x="7129800" y="2448360"/>
              <a:ext cx="178920" cy="182160"/>
            </a:xfrm>
            <a:custGeom>
              <a:avLst/>
              <a:gdLst/>
              <a:ahLst/>
              <a:rect l="l" t="t" r="r" b="b"/>
              <a:pathLst>
                <a:path w="406122" h="413107">
                  <a:moveTo>
                    <a:pt x="171279" y="4624"/>
                  </a:moveTo>
                  <a:cubicBezTo>
                    <a:pt x="281769" y="-19189"/>
                    <a:pt x="386544" y="51296"/>
                    <a:pt x="403688" y="162739"/>
                  </a:cubicBezTo>
                  <a:cubicBezTo>
                    <a:pt x="420833" y="274181"/>
                    <a:pt x="345586" y="383719"/>
                    <a:pt x="235096" y="408484"/>
                  </a:cubicBezTo>
                  <a:cubicBezTo>
                    <a:pt x="124606" y="432296"/>
                    <a:pt x="19831" y="361811"/>
                    <a:pt x="2686" y="250369"/>
                  </a:cubicBezTo>
                  <a:cubicBezTo>
                    <a:pt x="-15412"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897" name="Freeform: Shape 74"/>
            <p:cNvSpPr/>
            <p:nvPr/>
          </p:nvSpPr>
          <p:spPr>
            <a:xfrm>
              <a:off x="4822560" y="2448360"/>
              <a:ext cx="178920" cy="182160"/>
            </a:xfrm>
            <a:custGeom>
              <a:avLst/>
              <a:gdLst/>
              <a:ahLst/>
              <a:rect l="l" t="t" r="r" b="b"/>
              <a:pathLst>
                <a:path w="406349" h="413107">
                  <a:moveTo>
                    <a:pt x="171279" y="4624"/>
                  </a:moveTo>
                  <a:cubicBezTo>
                    <a:pt x="281769" y="-19189"/>
                    <a:pt x="386544" y="51296"/>
                    <a:pt x="403689" y="162739"/>
                  </a:cubicBezTo>
                  <a:cubicBezTo>
                    <a:pt x="421786" y="274181"/>
                    <a:pt x="345586" y="383719"/>
                    <a:pt x="235096" y="408484"/>
                  </a:cubicBezTo>
                  <a:cubicBezTo>
                    <a:pt x="124606" y="432296"/>
                    <a:pt x="19831" y="361811"/>
                    <a:pt x="2686" y="250369"/>
                  </a:cubicBezTo>
                  <a:cubicBezTo>
                    <a:pt x="-15411"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898" name="Graphic 68" descr=""/>
            <p:cNvPicPr/>
            <p:nvPr/>
          </p:nvPicPr>
          <p:blipFill>
            <a:blip r:embed="rId2"/>
            <a:stretch/>
          </p:blipFill>
          <p:spPr>
            <a:xfrm>
              <a:off x="5315760" y="2456640"/>
              <a:ext cx="1590840" cy="133920"/>
            </a:xfrm>
            <a:prstGeom prst="rect">
              <a:avLst/>
            </a:prstGeom>
            <a:ln w="0">
              <a:noFill/>
            </a:ln>
          </p:spPr>
        </p:pic>
        <p:grpSp>
          <p:nvGrpSpPr>
            <p:cNvPr id="2899" name="Graphic 68"/>
            <p:cNvGrpSpPr/>
            <p:nvPr/>
          </p:nvGrpSpPr>
          <p:grpSpPr>
            <a:xfrm>
              <a:off x="5537880" y="2446920"/>
              <a:ext cx="1055160" cy="421560"/>
              <a:chOff x="5537880" y="2446920"/>
              <a:chExt cx="1055160" cy="421560"/>
            </a:xfrm>
          </p:grpSpPr>
          <p:sp>
            <p:nvSpPr>
              <p:cNvPr id="2900" name="Freeform: Shape 83"/>
              <p:cNvSpPr/>
              <p:nvPr/>
            </p:nvSpPr>
            <p:spPr>
              <a:xfrm>
                <a:off x="5537880" y="2446920"/>
                <a:ext cx="1055160" cy="421560"/>
              </a:xfrm>
              <a:custGeom>
                <a:avLst/>
                <a:gdLst/>
                <a:ahLst/>
                <a:rect l="l" t="t" r="r" b="b"/>
                <a:pathLst>
                  <a:path w="2392680" h="956309">
                    <a:moveTo>
                      <a:pt x="0" y="779145"/>
                    </a:moveTo>
                    <a:lnTo>
                      <a:pt x="724853" y="779145"/>
                    </a:lnTo>
                    <a:lnTo>
                      <a:pt x="724853" y="561023"/>
                    </a:lnTo>
                    <a:cubicBezTo>
                      <a:pt x="724853" y="441008"/>
                      <a:pt x="822960" y="342900"/>
                      <a:pt x="942975" y="342900"/>
                    </a:cubicBezTo>
                    <a:lnTo>
                      <a:pt x="961072" y="342900"/>
                    </a:lnTo>
                    <a:lnTo>
                      <a:pt x="961072" y="235268"/>
                    </a:lnTo>
                    <a:cubicBezTo>
                      <a:pt x="961072" y="105728"/>
                      <a:pt x="1066800" y="0"/>
                      <a:pt x="1196340" y="0"/>
                    </a:cubicBezTo>
                    <a:cubicBezTo>
                      <a:pt x="1325880" y="0"/>
                      <a:pt x="1431607" y="105728"/>
                      <a:pt x="1431607" y="235268"/>
                    </a:cubicBezTo>
                    <a:lnTo>
                      <a:pt x="1431607" y="341947"/>
                    </a:lnTo>
                    <a:lnTo>
                      <a:pt x="1449705" y="341947"/>
                    </a:lnTo>
                    <a:cubicBezTo>
                      <a:pt x="1569720" y="341947"/>
                      <a:pt x="1667828" y="440055"/>
                      <a:pt x="1667828" y="560070"/>
                    </a:cubicBezTo>
                    <a:lnTo>
                      <a:pt x="1667828" y="778193"/>
                    </a:lnTo>
                    <a:lnTo>
                      <a:pt x="2392680" y="778193"/>
                    </a:lnTo>
                    <a:lnTo>
                      <a:pt x="2392680" y="956310"/>
                    </a:lnTo>
                    <a:lnTo>
                      <a:pt x="0" y="956310"/>
                    </a:lnTo>
                    <a:lnTo>
                      <a:pt x="0" y="779145"/>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1" name="Freeform: Shape 84"/>
              <p:cNvSpPr/>
              <p:nvPr/>
            </p:nvSpPr>
            <p:spPr>
              <a:xfrm>
                <a:off x="6085800" y="2494800"/>
                <a:ext cx="484560" cy="351000"/>
              </a:xfrm>
              <a:custGeom>
                <a:avLst/>
                <a:gdLst/>
                <a:ahLst/>
                <a:rect l="l" t="t" r="r" b="b"/>
                <a:pathLst>
                  <a:path w="1099184" h="796290">
                    <a:moveTo>
                      <a:pt x="237172" y="796290"/>
                    </a:moveTo>
                    <a:lnTo>
                      <a:pt x="962025" y="796290"/>
                    </a:lnTo>
                    <a:lnTo>
                      <a:pt x="1099185" y="796290"/>
                    </a:lnTo>
                    <a:lnTo>
                      <a:pt x="1099185" y="722948"/>
                    </a:lnTo>
                    <a:lnTo>
                      <a:pt x="374333" y="722948"/>
                    </a:lnTo>
                    <a:lnTo>
                      <a:pt x="374333" y="452438"/>
                    </a:lnTo>
                    <a:cubicBezTo>
                      <a:pt x="374333" y="360998"/>
                      <a:pt x="299085" y="285750"/>
                      <a:pt x="207645" y="285750"/>
                    </a:cubicBezTo>
                    <a:lnTo>
                      <a:pt x="137160" y="285750"/>
                    </a:lnTo>
                    <a:lnTo>
                      <a:pt x="137160" y="126683"/>
                    </a:lnTo>
                    <a:cubicBezTo>
                      <a:pt x="137160" y="78105"/>
                      <a:pt x="118110" y="33338"/>
                      <a:pt x="86678" y="0"/>
                    </a:cubicBezTo>
                    <a:cubicBezTo>
                      <a:pt x="98108" y="20003"/>
                      <a:pt x="103822" y="43815"/>
                      <a:pt x="103822" y="68580"/>
                    </a:cubicBezTo>
                    <a:cubicBezTo>
                      <a:pt x="103822" y="134303"/>
                      <a:pt x="60008" y="189548"/>
                      <a:pt x="0" y="208598"/>
                    </a:cubicBezTo>
                    <a:lnTo>
                      <a:pt x="0" y="358140"/>
                    </a:lnTo>
                    <a:lnTo>
                      <a:pt x="70485" y="358140"/>
                    </a:lnTo>
                    <a:cubicBezTo>
                      <a:pt x="161925" y="358140"/>
                      <a:pt x="237172" y="433388"/>
                      <a:pt x="237172" y="524828"/>
                    </a:cubicBezTo>
                    <a:lnTo>
                      <a:pt x="237172" y="79629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2" name="Freeform: Shape 85"/>
              <p:cNvSpPr/>
              <p:nvPr/>
            </p:nvSpPr>
            <p:spPr>
              <a:xfrm>
                <a:off x="6024600" y="2483640"/>
                <a:ext cx="83880" cy="83160"/>
              </a:xfrm>
              <a:custGeom>
                <a:avLst/>
                <a:gdLst/>
                <a:ahLst/>
                <a:rect l="l" t="t" r="r" b="b"/>
                <a:pathLst>
                  <a:path w="190500" h="188595">
                    <a:moveTo>
                      <a:pt x="95250" y="188595"/>
                    </a:moveTo>
                    <a:cubicBezTo>
                      <a:pt x="147638" y="188595"/>
                      <a:pt x="190500" y="146685"/>
                      <a:pt x="190500" y="94298"/>
                    </a:cubicBezTo>
                    <a:cubicBezTo>
                      <a:pt x="190500" y="42863"/>
                      <a:pt x="147638" y="0"/>
                      <a:pt x="95250" y="0"/>
                    </a:cubicBezTo>
                    <a:cubicBezTo>
                      <a:pt x="42863" y="0"/>
                      <a:pt x="0" y="41910"/>
                      <a:pt x="0" y="94298"/>
                    </a:cubicBezTo>
                    <a:cubicBezTo>
                      <a:pt x="0" y="146685"/>
                      <a:pt x="42863" y="188595"/>
                      <a:pt x="95250" y="188595"/>
                    </a:cubicBezTo>
                    <a:close/>
                  </a:path>
                </a:pathLst>
              </a:custGeom>
              <a:solidFill>
                <a:srgbClr val="000000"/>
              </a:solidFill>
              <a:ln w="0">
                <a:noFill/>
              </a:ln>
            </p:spPr>
            <p:style>
              <a:lnRef idx="0"/>
              <a:fillRef idx="0"/>
              <a:effectRef idx="0"/>
              <a:fontRef idx="minor"/>
            </p:style>
            <p:txBody>
              <a:bodyPr lIns="90000" rIns="90000" tIns="36360" bIns="36360" anchor="ctr">
                <a:noAutofit/>
              </a:bodyPr>
              <a:p>
                <a:endParaRPr b="0" lang="en-US" sz="1800" spc="-1" strike="noStrike">
                  <a:solidFill>
                    <a:srgbClr val="313c3f"/>
                  </a:solidFill>
                  <a:latin typeface="Source Sans Pro"/>
                </a:endParaRPr>
              </a:p>
            </p:txBody>
          </p:sp>
        </p:grpSp>
        <p:sp>
          <p:nvSpPr>
            <p:cNvPr id="2903" name="Freeform: Shape 86"/>
            <p:cNvSpPr/>
            <p:nvPr/>
          </p:nvSpPr>
          <p:spPr>
            <a:xfrm>
              <a:off x="4869000" y="2360520"/>
              <a:ext cx="86760" cy="212760"/>
            </a:xfrm>
            <a:custGeom>
              <a:avLst/>
              <a:gdLst/>
              <a:ahLst/>
              <a:rect l="l" t="t" r="r" b="b"/>
              <a:pathLst>
                <a:path w="197167" h="482917">
                  <a:moveTo>
                    <a:pt x="0" y="0"/>
                  </a:moveTo>
                  <a:lnTo>
                    <a:pt x="197167" y="0"/>
                  </a:lnTo>
                  <a:lnTo>
                    <a:pt x="197167" y="351472"/>
                  </a:lnTo>
                  <a:lnTo>
                    <a:pt x="100965" y="482918"/>
                  </a:lnTo>
                  <a:lnTo>
                    <a:pt x="0" y="35147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4" name="Freeform: Shape 87"/>
            <p:cNvSpPr/>
            <p:nvPr/>
          </p:nvSpPr>
          <p:spPr>
            <a:xfrm>
              <a:off x="7175880" y="2360520"/>
              <a:ext cx="86760" cy="212760"/>
            </a:xfrm>
            <a:custGeom>
              <a:avLst/>
              <a:gdLst/>
              <a:ahLst/>
              <a:rect l="l" t="t" r="r" b="b"/>
              <a:pathLst>
                <a:path w="197167" h="482917">
                  <a:moveTo>
                    <a:pt x="197167" y="0"/>
                  </a:moveTo>
                  <a:lnTo>
                    <a:pt x="0" y="0"/>
                  </a:lnTo>
                  <a:lnTo>
                    <a:pt x="0" y="351472"/>
                  </a:lnTo>
                  <a:lnTo>
                    <a:pt x="96202" y="482918"/>
                  </a:lnTo>
                  <a:lnTo>
                    <a:pt x="197167" y="351472"/>
                  </a:lnTo>
                  <a:lnTo>
                    <a:pt x="197167"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5" name="Freeform: Shape 88"/>
            <p:cNvSpPr/>
            <p:nvPr/>
          </p:nvSpPr>
          <p:spPr>
            <a:xfrm>
              <a:off x="4357800" y="2195640"/>
              <a:ext cx="1163880" cy="164880"/>
            </a:xfrm>
            <a:custGeom>
              <a:avLst/>
              <a:gdLst/>
              <a:ahLst/>
              <a:rect l="l" t="t" r="r" b="b"/>
              <a:pathLst>
                <a:path w="2639377" h="374332">
                  <a:moveTo>
                    <a:pt x="2297430" y="374333"/>
                  </a:moveTo>
                  <a:lnTo>
                    <a:pt x="342900" y="374333"/>
                  </a:lnTo>
                  <a:lnTo>
                    <a:pt x="0" y="0"/>
                  </a:lnTo>
                  <a:lnTo>
                    <a:pt x="2639378"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6" name="Freeform: Shape 89"/>
            <p:cNvSpPr/>
            <p:nvPr/>
          </p:nvSpPr>
          <p:spPr>
            <a:xfrm>
              <a:off x="6609960" y="2195640"/>
              <a:ext cx="1163880" cy="164880"/>
            </a:xfrm>
            <a:custGeom>
              <a:avLst/>
              <a:gdLst/>
              <a:ahLst/>
              <a:rect l="l" t="t" r="r" b="b"/>
              <a:pathLst>
                <a:path w="2639377" h="374332">
                  <a:moveTo>
                    <a:pt x="2297430" y="374333"/>
                  </a:moveTo>
                  <a:lnTo>
                    <a:pt x="342900" y="374333"/>
                  </a:lnTo>
                  <a:lnTo>
                    <a:pt x="0" y="0"/>
                  </a:lnTo>
                  <a:lnTo>
                    <a:pt x="2639377"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7" name="Freeform: Shape 90"/>
            <p:cNvSpPr/>
            <p:nvPr/>
          </p:nvSpPr>
          <p:spPr>
            <a:xfrm>
              <a:off x="4400640" y="2211480"/>
              <a:ext cx="484200" cy="133560"/>
            </a:xfrm>
            <a:custGeom>
              <a:avLst/>
              <a:gdLst/>
              <a:ahLst/>
              <a:rect l="l" t="t" r="r" b="b"/>
              <a:pathLst>
                <a:path w="1098232" h="302894">
                  <a:moveTo>
                    <a:pt x="369570" y="0"/>
                  </a:moveTo>
                  <a:lnTo>
                    <a:pt x="0" y="0"/>
                  </a:lnTo>
                  <a:lnTo>
                    <a:pt x="277178" y="302895"/>
                  </a:lnTo>
                  <a:lnTo>
                    <a:pt x="1098233" y="302895"/>
                  </a:lnTo>
                  <a:cubicBezTo>
                    <a:pt x="498158" y="276225"/>
                    <a:pt x="631508"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8" name="Freeform: Shape 91"/>
            <p:cNvSpPr/>
            <p:nvPr/>
          </p:nvSpPr>
          <p:spPr>
            <a:xfrm>
              <a:off x="6652800" y="2211480"/>
              <a:ext cx="484200" cy="133560"/>
            </a:xfrm>
            <a:custGeom>
              <a:avLst/>
              <a:gdLst/>
              <a:ahLst/>
              <a:rect l="l" t="t" r="r" b="b"/>
              <a:pathLst>
                <a:path w="1098232" h="302894">
                  <a:moveTo>
                    <a:pt x="369570" y="0"/>
                  </a:moveTo>
                  <a:lnTo>
                    <a:pt x="0" y="0"/>
                  </a:lnTo>
                  <a:lnTo>
                    <a:pt x="277177" y="302895"/>
                  </a:lnTo>
                  <a:lnTo>
                    <a:pt x="1098232" y="302895"/>
                  </a:lnTo>
                  <a:cubicBezTo>
                    <a:pt x="498157" y="276225"/>
                    <a:pt x="631507"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09" name="Freeform: Shape 92"/>
            <p:cNvSpPr/>
            <p:nvPr/>
          </p:nvSpPr>
          <p:spPr>
            <a:xfrm>
              <a:off x="4993560" y="2212200"/>
              <a:ext cx="484560" cy="132480"/>
            </a:xfrm>
            <a:custGeom>
              <a:avLst/>
              <a:gdLst/>
              <a:ahLst/>
              <a:rect l="l" t="t" r="r" b="b"/>
              <a:pathLst>
                <a:path w="1099184"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10" name="Freeform: Shape 93"/>
            <p:cNvSpPr/>
            <p:nvPr/>
          </p:nvSpPr>
          <p:spPr>
            <a:xfrm>
              <a:off x="7246080" y="2212200"/>
              <a:ext cx="484560" cy="132480"/>
            </a:xfrm>
            <a:custGeom>
              <a:avLst/>
              <a:gdLst/>
              <a:ahLst/>
              <a:rect l="l" t="t" r="r" b="b"/>
              <a:pathLst>
                <a:path w="1099185"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11" name="Freeform: Shape 94"/>
            <p:cNvSpPr/>
            <p:nvPr/>
          </p:nvSpPr>
          <p:spPr>
            <a:xfrm>
              <a:off x="4869000" y="2452680"/>
              <a:ext cx="86760" cy="133920"/>
            </a:xfrm>
            <a:custGeom>
              <a:avLst/>
              <a:gdLst/>
              <a:ahLst/>
              <a:rect l="l" t="t" r="r" b="b"/>
              <a:pathLst>
                <a:path w="197167" h="303847">
                  <a:moveTo>
                    <a:pt x="0" y="0"/>
                  </a:moveTo>
                  <a:lnTo>
                    <a:pt x="197167" y="0"/>
                  </a:lnTo>
                  <a:lnTo>
                    <a:pt x="197167"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12" name="Freeform: Shape 95"/>
            <p:cNvSpPr/>
            <p:nvPr/>
          </p:nvSpPr>
          <p:spPr>
            <a:xfrm>
              <a:off x="7175880" y="2452680"/>
              <a:ext cx="86760" cy="133920"/>
            </a:xfrm>
            <a:custGeom>
              <a:avLst/>
              <a:gdLst/>
              <a:ahLst/>
              <a:rect l="l" t="t" r="r" b="b"/>
              <a:pathLst>
                <a:path w="197167" h="303847">
                  <a:moveTo>
                    <a:pt x="0" y="0"/>
                  </a:moveTo>
                  <a:lnTo>
                    <a:pt x="197168" y="0"/>
                  </a:lnTo>
                  <a:lnTo>
                    <a:pt x="197168"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913" name="Graphic 96"/>
          <p:cNvGrpSpPr/>
          <p:nvPr/>
        </p:nvGrpSpPr>
        <p:grpSpPr>
          <a:xfrm>
            <a:off x="606600" y="1957320"/>
            <a:ext cx="3647880" cy="946080"/>
            <a:chOff x="606600" y="1957320"/>
            <a:chExt cx="3647880" cy="946080"/>
          </a:xfrm>
        </p:grpSpPr>
        <p:sp>
          <p:nvSpPr>
            <p:cNvPr id="2914" name="Freeform: Shape 98"/>
            <p:cNvSpPr/>
            <p:nvPr/>
          </p:nvSpPr>
          <p:spPr>
            <a:xfrm>
              <a:off x="1156680" y="246564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15" name="Freeform: Shape 99"/>
            <p:cNvSpPr/>
            <p:nvPr/>
          </p:nvSpPr>
          <p:spPr>
            <a:xfrm>
              <a:off x="2498040" y="228888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16" name="Freeform: Shape 100"/>
            <p:cNvSpPr/>
            <p:nvPr/>
          </p:nvSpPr>
          <p:spPr>
            <a:xfrm rot="20966400">
              <a:off x="2280600" y="24141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17" name="Freeform: Shape 101"/>
            <p:cNvSpPr/>
            <p:nvPr/>
          </p:nvSpPr>
          <p:spPr>
            <a:xfrm>
              <a:off x="3562920" y="223416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18" name="Freeform: Shape 102"/>
            <p:cNvSpPr/>
            <p:nvPr/>
          </p:nvSpPr>
          <p:spPr>
            <a:xfrm>
              <a:off x="1105200" y="268056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919" name="Graphic 96" descr=""/>
            <p:cNvPicPr/>
            <p:nvPr/>
          </p:nvPicPr>
          <p:blipFill>
            <a:blip r:embed="rId3"/>
            <a:stretch/>
          </p:blipFill>
          <p:spPr>
            <a:xfrm>
              <a:off x="1639800" y="2334600"/>
              <a:ext cx="1658160" cy="408240"/>
            </a:xfrm>
            <a:prstGeom prst="rect">
              <a:avLst/>
            </a:prstGeom>
            <a:ln w="0">
              <a:noFill/>
            </a:ln>
          </p:spPr>
        </p:pic>
        <p:grpSp>
          <p:nvGrpSpPr>
            <p:cNvPr id="2920" name="Graphic 96"/>
            <p:cNvGrpSpPr/>
            <p:nvPr/>
          </p:nvGrpSpPr>
          <p:grpSpPr>
            <a:xfrm>
              <a:off x="1854000" y="2450160"/>
              <a:ext cx="1132920" cy="453240"/>
              <a:chOff x="1854000" y="2450160"/>
              <a:chExt cx="1132920" cy="453240"/>
            </a:xfrm>
          </p:grpSpPr>
          <p:sp>
            <p:nvSpPr>
              <p:cNvPr id="2921" name="Freeform: Shape 111"/>
              <p:cNvSpPr/>
              <p:nvPr/>
            </p:nvSpPr>
            <p:spPr>
              <a:xfrm>
                <a:off x="1854000" y="245016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22" name="Freeform: Shape 112"/>
              <p:cNvSpPr/>
              <p:nvPr/>
            </p:nvSpPr>
            <p:spPr>
              <a:xfrm>
                <a:off x="2442600" y="250236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23" name="Freeform: Shape 113"/>
              <p:cNvSpPr/>
              <p:nvPr/>
            </p:nvSpPr>
            <p:spPr>
              <a:xfrm>
                <a:off x="2376720" y="249048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313c3f"/>
                  </a:solidFill>
                  <a:latin typeface="Source Sans Pro"/>
                </a:endParaRPr>
              </a:p>
            </p:txBody>
          </p:sp>
        </p:grpSp>
        <p:sp>
          <p:nvSpPr>
            <p:cNvPr id="2924" name="Freeform: Shape 114"/>
            <p:cNvSpPr/>
            <p:nvPr/>
          </p:nvSpPr>
          <p:spPr>
            <a:xfrm>
              <a:off x="1155240" y="258048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25" name="Freeform: Shape 115"/>
            <p:cNvSpPr/>
            <p:nvPr/>
          </p:nvSpPr>
          <p:spPr>
            <a:xfrm>
              <a:off x="3612600" y="213408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26" name="Freeform: Shape 116"/>
            <p:cNvSpPr/>
            <p:nvPr/>
          </p:nvSpPr>
          <p:spPr>
            <a:xfrm>
              <a:off x="606600" y="240336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27" name="Freeform: Shape 117"/>
            <p:cNvSpPr/>
            <p:nvPr/>
          </p:nvSpPr>
          <p:spPr>
            <a:xfrm>
              <a:off x="3004920" y="195732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28" name="Freeform: Shape 118"/>
            <p:cNvSpPr/>
            <p:nvPr/>
          </p:nvSpPr>
          <p:spPr>
            <a:xfrm>
              <a:off x="1289520" y="242136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29" name="Freeform: Shape 119"/>
            <p:cNvSpPr/>
            <p:nvPr/>
          </p:nvSpPr>
          <p:spPr>
            <a:xfrm>
              <a:off x="3688560" y="197496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930" name="Graphic 143"/>
          <p:cNvGrpSpPr/>
          <p:nvPr/>
        </p:nvGrpSpPr>
        <p:grpSpPr>
          <a:xfrm>
            <a:off x="4649760" y="3754440"/>
            <a:ext cx="2952720" cy="2211480"/>
            <a:chOff x="4649760" y="3754440"/>
            <a:chExt cx="2952720" cy="2211480"/>
          </a:xfrm>
        </p:grpSpPr>
        <p:sp>
          <p:nvSpPr>
            <p:cNvPr id="2931" name="Freeform: Shape 404"/>
            <p:cNvSpPr/>
            <p:nvPr/>
          </p:nvSpPr>
          <p:spPr>
            <a:xfrm>
              <a:off x="6448320" y="5185080"/>
              <a:ext cx="1154160" cy="230040"/>
            </a:xfrm>
            <a:custGeom>
              <a:avLst/>
              <a:gdLst/>
              <a:ahLst/>
              <a:rect l="l" t="t" r="r" b="b"/>
              <a:pathLst>
                <a:path w="3106102" h="620077">
                  <a:moveTo>
                    <a:pt x="2789873" y="233363"/>
                  </a:moveTo>
                  <a:lnTo>
                    <a:pt x="2449830" y="620078"/>
                  </a:lnTo>
                  <a:lnTo>
                    <a:pt x="656272" y="620078"/>
                  </a:lnTo>
                  <a:lnTo>
                    <a:pt x="316230" y="233363"/>
                  </a:lnTo>
                  <a:lnTo>
                    <a:pt x="280987" y="233363"/>
                  </a:lnTo>
                  <a:cubicBezTo>
                    <a:pt x="254317" y="277178"/>
                    <a:pt x="206692" y="306705"/>
                    <a:pt x="151447" y="306705"/>
                  </a:cubicBezTo>
                  <a:cubicBezTo>
                    <a:pt x="67628" y="306705"/>
                    <a:pt x="0" y="238125"/>
                    <a:pt x="0" y="153353"/>
                  </a:cubicBezTo>
                  <a:cubicBezTo>
                    <a:pt x="0" y="68580"/>
                    <a:pt x="67628" y="0"/>
                    <a:pt x="151447" y="0"/>
                  </a:cubicBezTo>
                  <a:cubicBezTo>
                    <a:pt x="205740" y="0"/>
                    <a:pt x="254317" y="29528"/>
                    <a:pt x="280987"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2" y="306705"/>
                    <a:pt x="2851785" y="277178"/>
                    <a:pt x="2825115" y="233363"/>
                  </a:cubicBezTo>
                  <a:lnTo>
                    <a:pt x="2789873" y="233363"/>
                  </a:lnTo>
                  <a:close/>
                  <a:moveTo>
                    <a:pt x="198120" y="229553"/>
                  </a:moveTo>
                  <a:cubicBezTo>
                    <a:pt x="199072" y="228600"/>
                    <a:pt x="200025" y="227647"/>
                    <a:pt x="201930" y="227647"/>
                  </a:cubicBezTo>
                  <a:lnTo>
                    <a:pt x="202883" y="226695"/>
                  </a:lnTo>
                  <a:lnTo>
                    <a:pt x="203835" y="225743"/>
                  </a:lnTo>
                  <a:lnTo>
                    <a:pt x="204787" y="224790"/>
                  </a:lnTo>
                  <a:lnTo>
                    <a:pt x="205740" y="223838"/>
                  </a:lnTo>
                  <a:lnTo>
                    <a:pt x="206692" y="222885"/>
                  </a:lnTo>
                  <a:cubicBezTo>
                    <a:pt x="207645" y="221933"/>
                    <a:pt x="208597" y="220980"/>
                    <a:pt x="209550" y="220028"/>
                  </a:cubicBezTo>
                  <a:lnTo>
                    <a:pt x="210503" y="219075"/>
                  </a:lnTo>
                  <a:lnTo>
                    <a:pt x="211455" y="218122"/>
                  </a:lnTo>
                  <a:lnTo>
                    <a:pt x="212408" y="217170"/>
                  </a:lnTo>
                  <a:lnTo>
                    <a:pt x="213360" y="216218"/>
                  </a:lnTo>
                  <a:lnTo>
                    <a:pt x="214312" y="215265"/>
                  </a:lnTo>
                  <a:lnTo>
                    <a:pt x="215265" y="214313"/>
                  </a:lnTo>
                  <a:lnTo>
                    <a:pt x="216217" y="213360"/>
                  </a:lnTo>
                  <a:lnTo>
                    <a:pt x="217170" y="212408"/>
                  </a:lnTo>
                  <a:lnTo>
                    <a:pt x="218122" y="211455"/>
                  </a:lnTo>
                  <a:lnTo>
                    <a:pt x="219075" y="210503"/>
                  </a:lnTo>
                  <a:lnTo>
                    <a:pt x="220028" y="209550"/>
                  </a:lnTo>
                  <a:lnTo>
                    <a:pt x="220028" y="208597"/>
                  </a:lnTo>
                  <a:lnTo>
                    <a:pt x="220028" y="207645"/>
                  </a:lnTo>
                  <a:lnTo>
                    <a:pt x="220980" y="206693"/>
                  </a:lnTo>
                  <a:lnTo>
                    <a:pt x="221933" y="205740"/>
                  </a:lnTo>
                  <a:lnTo>
                    <a:pt x="222885" y="204788"/>
                  </a:lnTo>
                  <a:lnTo>
                    <a:pt x="223837" y="203835"/>
                  </a:lnTo>
                  <a:lnTo>
                    <a:pt x="224790" y="202883"/>
                  </a:lnTo>
                  <a:lnTo>
                    <a:pt x="225742" y="201930"/>
                  </a:lnTo>
                  <a:lnTo>
                    <a:pt x="226695" y="200978"/>
                  </a:lnTo>
                  <a:lnTo>
                    <a:pt x="227647" y="200025"/>
                  </a:lnTo>
                  <a:lnTo>
                    <a:pt x="228600" y="199072"/>
                  </a:lnTo>
                  <a:lnTo>
                    <a:pt x="229553" y="198120"/>
                  </a:lnTo>
                  <a:lnTo>
                    <a:pt x="229553" y="197168"/>
                  </a:lnTo>
                  <a:lnTo>
                    <a:pt x="230505" y="196215"/>
                  </a:lnTo>
                  <a:lnTo>
                    <a:pt x="231458" y="195263"/>
                  </a:lnTo>
                  <a:lnTo>
                    <a:pt x="231458" y="194310"/>
                  </a:lnTo>
                  <a:lnTo>
                    <a:pt x="232410" y="193358"/>
                  </a:lnTo>
                  <a:lnTo>
                    <a:pt x="233362" y="192405"/>
                  </a:lnTo>
                  <a:lnTo>
                    <a:pt x="233362" y="191453"/>
                  </a:lnTo>
                  <a:lnTo>
                    <a:pt x="233362" y="190500"/>
                  </a:lnTo>
                  <a:lnTo>
                    <a:pt x="234315" y="189547"/>
                  </a:lnTo>
                  <a:lnTo>
                    <a:pt x="235267" y="188595"/>
                  </a:lnTo>
                  <a:lnTo>
                    <a:pt x="235267" y="187643"/>
                  </a:lnTo>
                  <a:lnTo>
                    <a:pt x="235267" y="186690"/>
                  </a:lnTo>
                  <a:lnTo>
                    <a:pt x="235267" y="185738"/>
                  </a:lnTo>
                  <a:lnTo>
                    <a:pt x="235267" y="184785"/>
                  </a:lnTo>
                  <a:lnTo>
                    <a:pt x="235267" y="183833"/>
                  </a:lnTo>
                  <a:lnTo>
                    <a:pt x="236220" y="181928"/>
                  </a:lnTo>
                  <a:lnTo>
                    <a:pt x="236220" y="180975"/>
                  </a:lnTo>
                  <a:lnTo>
                    <a:pt x="236220" y="180022"/>
                  </a:lnTo>
                  <a:lnTo>
                    <a:pt x="236220" y="179070"/>
                  </a:lnTo>
                  <a:lnTo>
                    <a:pt x="236220" y="178118"/>
                  </a:lnTo>
                  <a:lnTo>
                    <a:pt x="236220" y="177165"/>
                  </a:lnTo>
                  <a:lnTo>
                    <a:pt x="236220" y="176213"/>
                  </a:lnTo>
                  <a:lnTo>
                    <a:pt x="236220" y="175260"/>
                  </a:lnTo>
                  <a:lnTo>
                    <a:pt x="236220" y="173355"/>
                  </a:lnTo>
                  <a:lnTo>
                    <a:pt x="236220" y="171450"/>
                  </a:lnTo>
                  <a:lnTo>
                    <a:pt x="236220" y="170497"/>
                  </a:lnTo>
                  <a:lnTo>
                    <a:pt x="236220" y="169545"/>
                  </a:lnTo>
                  <a:lnTo>
                    <a:pt x="236220" y="167640"/>
                  </a:lnTo>
                  <a:lnTo>
                    <a:pt x="236220" y="166688"/>
                  </a:lnTo>
                  <a:lnTo>
                    <a:pt x="236220" y="165735"/>
                  </a:lnTo>
                  <a:lnTo>
                    <a:pt x="236220" y="164783"/>
                  </a:lnTo>
                  <a:lnTo>
                    <a:pt x="236220" y="162878"/>
                  </a:lnTo>
                  <a:lnTo>
                    <a:pt x="236220" y="161925"/>
                  </a:lnTo>
                  <a:lnTo>
                    <a:pt x="236220" y="160972"/>
                  </a:lnTo>
                  <a:lnTo>
                    <a:pt x="236220" y="159068"/>
                  </a:lnTo>
                  <a:lnTo>
                    <a:pt x="236220" y="157163"/>
                  </a:lnTo>
                  <a:lnTo>
                    <a:pt x="236220" y="156210"/>
                  </a:lnTo>
                  <a:lnTo>
                    <a:pt x="236220" y="155258"/>
                  </a:lnTo>
                  <a:lnTo>
                    <a:pt x="236220" y="153353"/>
                  </a:lnTo>
                  <a:lnTo>
                    <a:pt x="236220" y="152400"/>
                  </a:lnTo>
                  <a:lnTo>
                    <a:pt x="236220" y="151447"/>
                  </a:lnTo>
                  <a:lnTo>
                    <a:pt x="236220" y="150495"/>
                  </a:lnTo>
                  <a:lnTo>
                    <a:pt x="236220" y="148590"/>
                  </a:lnTo>
                  <a:lnTo>
                    <a:pt x="236220" y="147638"/>
                  </a:lnTo>
                  <a:lnTo>
                    <a:pt x="236220" y="146685"/>
                  </a:lnTo>
                  <a:lnTo>
                    <a:pt x="236220" y="144780"/>
                  </a:lnTo>
                  <a:lnTo>
                    <a:pt x="236220" y="142875"/>
                  </a:lnTo>
                  <a:lnTo>
                    <a:pt x="236220" y="141922"/>
                  </a:lnTo>
                  <a:lnTo>
                    <a:pt x="236220" y="140970"/>
                  </a:lnTo>
                  <a:lnTo>
                    <a:pt x="236220" y="140018"/>
                  </a:lnTo>
                  <a:lnTo>
                    <a:pt x="236220" y="139065"/>
                  </a:lnTo>
                  <a:lnTo>
                    <a:pt x="236220" y="138113"/>
                  </a:lnTo>
                  <a:lnTo>
                    <a:pt x="236220" y="137160"/>
                  </a:lnTo>
                  <a:lnTo>
                    <a:pt x="236220" y="136208"/>
                  </a:lnTo>
                  <a:lnTo>
                    <a:pt x="235267" y="134303"/>
                  </a:lnTo>
                  <a:lnTo>
                    <a:pt x="235267" y="133350"/>
                  </a:lnTo>
                  <a:lnTo>
                    <a:pt x="235267" y="132397"/>
                  </a:lnTo>
                  <a:lnTo>
                    <a:pt x="235267" y="131445"/>
                  </a:lnTo>
                  <a:lnTo>
                    <a:pt x="235267" y="130493"/>
                  </a:lnTo>
                  <a:lnTo>
                    <a:pt x="235267" y="129540"/>
                  </a:lnTo>
                  <a:lnTo>
                    <a:pt x="234315" y="128588"/>
                  </a:lnTo>
                  <a:lnTo>
                    <a:pt x="233362" y="127635"/>
                  </a:lnTo>
                  <a:lnTo>
                    <a:pt x="233362" y="126683"/>
                  </a:lnTo>
                  <a:lnTo>
                    <a:pt x="233362" y="125730"/>
                  </a:lnTo>
                  <a:lnTo>
                    <a:pt x="232410" y="124778"/>
                  </a:lnTo>
                  <a:lnTo>
                    <a:pt x="231458" y="123825"/>
                  </a:lnTo>
                  <a:lnTo>
                    <a:pt x="231458" y="122872"/>
                  </a:lnTo>
                  <a:lnTo>
                    <a:pt x="230505" y="121920"/>
                  </a:lnTo>
                  <a:lnTo>
                    <a:pt x="229553" y="120015"/>
                  </a:lnTo>
                  <a:lnTo>
                    <a:pt x="227647" y="110490"/>
                  </a:lnTo>
                  <a:lnTo>
                    <a:pt x="226695" y="109538"/>
                  </a:lnTo>
                  <a:lnTo>
                    <a:pt x="225742" y="108585"/>
                  </a:lnTo>
                  <a:lnTo>
                    <a:pt x="224790" y="107633"/>
                  </a:lnTo>
                  <a:lnTo>
                    <a:pt x="223837" y="106680"/>
                  </a:lnTo>
                  <a:lnTo>
                    <a:pt x="222885" y="105728"/>
                  </a:lnTo>
                  <a:lnTo>
                    <a:pt x="221933" y="104775"/>
                  </a:lnTo>
                  <a:lnTo>
                    <a:pt x="220980" y="103822"/>
                  </a:lnTo>
                  <a:lnTo>
                    <a:pt x="220028" y="102870"/>
                  </a:lnTo>
                  <a:lnTo>
                    <a:pt x="219075" y="100965"/>
                  </a:lnTo>
                  <a:lnTo>
                    <a:pt x="219075" y="100013"/>
                  </a:lnTo>
                  <a:lnTo>
                    <a:pt x="218122" y="99060"/>
                  </a:lnTo>
                  <a:lnTo>
                    <a:pt x="217170" y="98108"/>
                  </a:lnTo>
                  <a:lnTo>
                    <a:pt x="216217" y="97155"/>
                  </a:lnTo>
                  <a:lnTo>
                    <a:pt x="216217" y="96203"/>
                  </a:lnTo>
                  <a:lnTo>
                    <a:pt x="215265" y="95250"/>
                  </a:lnTo>
                  <a:lnTo>
                    <a:pt x="214312" y="94297"/>
                  </a:lnTo>
                  <a:lnTo>
                    <a:pt x="213360" y="93345"/>
                  </a:lnTo>
                  <a:lnTo>
                    <a:pt x="212408" y="92393"/>
                  </a:lnTo>
                  <a:lnTo>
                    <a:pt x="211455" y="91440"/>
                  </a:lnTo>
                  <a:lnTo>
                    <a:pt x="210503" y="90488"/>
                  </a:lnTo>
                  <a:lnTo>
                    <a:pt x="209550" y="89535"/>
                  </a:lnTo>
                  <a:lnTo>
                    <a:pt x="208597" y="88583"/>
                  </a:lnTo>
                  <a:lnTo>
                    <a:pt x="207645" y="87630"/>
                  </a:lnTo>
                  <a:lnTo>
                    <a:pt x="206692" y="86678"/>
                  </a:lnTo>
                  <a:lnTo>
                    <a:pt x="205740" y="85725"/>
                  </a:lnTo>
                  <a:lnTo>
                    <a:pt x="204787" y="84772"/>
                  </a:lnTo>
                  <a:lnTo>
                    <a:pt x="203835" y="83820"/>
                  </a:lnTo>
                  <a:lnTo>
                    <a:pt x="202883" y="82868"/>
                  </a:lnTo>
                  <a:lnTo>
                    <a:pt x="201930" y="81915"/>
                  </a:lnTo>
                  <a:lnTo>
                    <a:pt x="200978" y="80963"/>
                  </a:lnTo>
                  <a:lnTo>
                    <a:pt x="200025" y="80963"/>
                  </a:lnTo>
                  <a:lnTo>
                    <a:pt x="199072" y="80963"/>
                  </a:lnTo>
                  <a:lnTo>
                    <a:pt x="198120" y="80010"/>
                  </a:lnTo>
                  <a:lnTo>
                    <a:pt x="197167" y="79058"/>
                  </a:lnTo>
                  <a:cubicBezTo>
                    <a:pt x="183833" y="70485"/>
                    <a:pt x="167640" y="65722"/>
                    <a:pt x="151447" y="65722"/>
                  </a:cubicBezTo>
                  <a:cubicBezTo>
                    <a:pt x="102870" y="65722"/>
                    <a:pt x="63817" y="105728"/>
                    <a:pt x="63817" y="154305"/>
                  </a:cubicBezTo>
                  <a:cubicBezTo>
                    <a:pt x="63817" y="202883"/>
                    <a:pt x="102870" y="242888"/>
                    <a:pt x="151447" y="242888"/>
                  </a:cubicBezTo>
                  <a:cubicBezTo>
                    <a:pt x="168592" y="242888"/>
                    <a:pt x="184785" y="237172"/>
                    <a:pt x="198120" y="229553"/>
                  </a:cubicBezTo>
                  <a:close/>
                  <a:moveTo>
                    <a:pt x="2907983" y="79058"/>
                  </a:moveTo>
                  <a:lnTo>
                    <a:pt x="2907030" y="80010"/>
                  </a:lnTo>
                  <a:lnTo>
                    <a:pt x="2906078" y="80963"/>
                  </a:lnTo>
                  <a:lnTo>
                    <a:pt x="2905125" y="81915"/>
                  </a:lnTo>
                  <a:lnTo>
                    <a:pt x="2904173" y="82868"/>
                  </a:lnTo>
                  <a:lnTo>
                    <a:pt x="2903220" y="83820"/>
                  </a:lnTo>
                  <a:lnTo>
                    <a:pt x="2902267" y="84772"/>
                  </a:lnTo>
                  <a:lnTo>
                    <a:pt x="2901315" y="85725"/>
                  </a:lnTo>
                  <a:lnTo>
                    <a:pt x="2900362" y="86678"/>
                  </a:lnTo>
                  <a:lnTo>
                    <a:pt x="2899410" y="87630"/>
                  </a:lnTo>
                  <a:lnTo>
                    <a:pt x="2898458" y="88583"/>
                  </a:lnTo>
                  <a:lnTo>
                    <a:pt x="2897505" y="89535"/>
                  </a:lnTo>
                  <a:lnTo>
                    <a:pt x="2896553" y="90488"/>
                  </a:lnTo>
                  <a:lnTo>
                    <a:pt x="2895600" y="91440"/>
                  </a:lnTo>
                  <a:lnTo>
                    <a:pt x="2894648" y="92393"/>
                  </a:lnTo>
                  <a:lnTo>
                    <a:pt x="2893695" y="93345"/>
                  </a:lnTo>
                  <a:lnTo>
                    <a:pt x="2892742" y="94297"/>
                  </a:lnTo>
                  <a:lnTo>
                    <a:pt x="2891790" y="95250"/>
                  </a:lnTo>
                  <a:lnTo>
                    <a:pt x="2890837" y="96203"/>
                  </a:lnTo>
                  <a:lnTo>
                    <a:pt x="2889885" y="97155"/>
                  </a:lnTo>
                  <a:lnTo>
                    <a:pt x="2889885" y="98108"/>
                  </a:lnTo>
                  <a:lnTo>
                    <a:pt x="2888933" y="99060"/>
                  </a:lnTo>
                  <a:lnTo>
                    <a:pt x="2887980" y="100013"/>
                  </a:lnTo>
                  <a:lnTo>
                    <a:pt x="2887028" y="100965"/>
                  </a:lnTo>
                  <a:lnTo>
                    <a:pt x="2887028" y="101918"/>
                  </a:lnTo>
                  <a:lnTo>
                    <a:pt x="2887028" y="102870"/>
                  </a:lnTo>
                  <a:lnTo>
                    <a:pt x="2886075" y="103822"/>
                  </a:lnTo>
                  <a:lnTo>
                    <a:pt x="2885123" y="104775"/>
                  </a:lnTo>
                  <a:lnTo>
                    <a:pt x="2885123" y="105728"/>
                  </a:lnTo>
                  <a:lnTo>
                    <a:pt x="2884170" y="106680"/>
                  </a:lnTo>
                  <a:lnTo>
                    <a:pt x="2883217" y="107633"/>
                  </a:lnTo>
                  <a:lnTo>
                    <a:pt x="2882265" y="108585"/>
                  </a:lnTo>
                  <a:lnTo>
                    <a:pt x="2881312" y="109538"/>
                  </a:lnTo>
                  <a:lnTo>
                    <a:pt x="2880360" y="110490"/>
                  </a:lnTo>
                  <a:lnTo>
                    <a:pt x="2879408" y="111443"/>
                  </a:lnTo>
                  <a:lnTo>
                    <a:pt x="2878455" y="112395"/>
                  </a:lnTo>
                  <a:lnTo>
                    <a:pt x="2878455" y="113347"/>
                  </a:lnTo>
                  <a:lnTo>
                    <a:pt x="2877503" y="114300"/>
                  </a:lnTo>
                  <a:lnTo>
                    <a:pt x="2876550" y="115253"/>
                  </a:lnTo>
                  <a:lnTo>
                    <a:pt x="2876550" y="116205"/>
                  </a:lnTo>
                  <a:lnTo>
                    <a:pt x="2875598" y="117158"/>
                  </a:lnTo>
                  <a:lnTo>
                    <a:pt x="2874645" y="118110"/>
                  </a:lnTo>
                  <a:lnTo>
                    <a:pt x="2874645" y="119063"/>
                  </a:lnTo>
                  <a:lnTo>
                    <a:pt x="2874645" y="120015"/>
                  </a:lnTo>
                  <a:lnTo>
                    <a:pt x="2873692" y="120968"/>
                  </a:lnTo>
                  <a:lnTo>
                    <a:pt x="2872740" y="121920"/>
                  </a:lnTo>
                  <a:lnTo>
                    <a:pt x="2872740" y="122872"/>
                  </a:lnTo>
                  <a:lnTo>
                    <a:pt x="2872740" y="123825"/>
                  </a:lnTo>
                  <a:lnTo>
                    <a:pt x="2872740" y="124778"/>
                  </a:lnTo>
                  <a:lnTo>
                    <a:pt x="2872740" y="125730"/>
                  </a:lnTo>
                  <a:lnTo>
                    <a:pt x="2872740" y="126683"/>
                  </a:lnTo>
                  <a:lnTo>
                    <a:pt x="2871787" y="128588"/>
                  </a:lnTo>
                  <a:lnTo>
                    <a:pt x="2871787" y="129540"/>
                  </a:lnTo>
                  <a:lnTo>
                    <a:pt x="2871787" y="130493"/>
                  </a:lnTo>
                  <a:lnTo>
                    <a:pt x="2871787" y="131445"/>
                  </a:lnTo>
                  <a:lnTo>
                    <a:pt x="2871787" y="132397"/>
                  </a:lnTo>
                  <a:lnTo>
                    <a:pt x="2871787" y="133350"/>
                  </a:lnTo>
                  <a:lnTo>
                    <a:pt x="2871787" y="134303"/>
                  </a:lnTo>
                  <a:lnTo>
                    <a:pt x="2871787" y="135255"/>
                  </a:lnTo>
                  <a:lnTo>
                    <a:pt x="2871787" y="137160"/>
                  </a:lnTo>
                  <a:lnTo>
                    <a:pt x="2871787" y="139065"/>
                  </a:lnTo>
                  <a:lnTo>
                    <a:pt x="2871787" y="140018"/>
                  </a:lnTo>
                  <a:lnTo>
                    <a:pt x="2871787" y="140970"/>
                  </a:lnTo>
                  <a:lnTo>
                    <a:pt x="2871787" y="142875"/>
                  </a:lnTo>
                  <a:lnTo>
                    <a:pt x="2871787" y="143828"/>
                  </a:lnTo>
                  <a:lnTo>
                    <a:pt x="2871787" y="144780"/>
                  </a:lnTo>
                  <a:lnTo>
                    <a:pt x="2871787" y="145733"/>
                  </a:lnTo>
                  <a:lnTo>
                    <a:pt x="2871787" y="147638"/>
                  </a:lnTo>
                  <a:lnTo>
                    <a:pt x="2871787" y="148590"/>
                  </a:lnTo>
                  <a:lnTo>
                    <a:pt x="2871787" y="149543"/>
                  </a:lnTo>
                  <a:lnTo>
                    <a:pt x="2871787" y="151447"/>
                  </a:lnTo>
                  <a:lnTo>
                    <a:pt x="2871787" y="153353"/>
                  </a:lnTo>
                  <a:lnTo>
                    <a:pt x="2871787" y="154305"/>
                  </a:lnTo>
                  <a:lnTo>
                    <a:pt x="2871787" y="155258"/>
                  </a:lnTo>
                  <a:lnTo>
                    <a:pt x="2871787" y="157163"/>
                  </a:lnTo>
                  <a:lnTo>
                    <a:pt x="2871787" y="158115"/>
                  </a:lnTo>
                  <a:lnTo>
                    <a:pt x="2871787" y="159068"/>
                  </a:lnTo>
                  <a:lnTo>
                    <a:pt x="2871787" y="160020"/>
                  </a:lnTo>
                  <a:lnTo>
                    <a:pt x="2871787" y="161925"/>
                  </a:lnTo>
                  <a:lnTo>
                    <a:pt x="2871787" y="162878"/>
                  </a:lnTo>
                  <a:lnTo>
                    <a:pt x="2871787" y="163830"/>
                  </a:lnTo>
                  <a:lnTo>
                    <a:pt x="2871787" y="165735"/>
                  </a:lnTo>
                  <a:lnTo>
                    <a:pt x="2871787" y="167640"/>
                  </a:lnTo>
                  <a:lnTo>
                    <a:pt x="2871787" y="168593"/>
                  </a:lnTo>
                  <a:lnTo>
                    <a:pt x="2871787" y="169545"/>
                  </a:lnTo>
                  <a:lnTo>
                    <a:pt x="2871787" y="170497"/>
                  </a:lnTo>
                  <a:lnTo>
                    <a:pt x="2871787" y="171450"/>
                  </a:lnTo>
                  <a:lnTo>
                    <a:pt x="2871787" y="172403"/>
                  </a:lnTo>
                  <a:lnTo>
                    <a:pt x="2871787" y="173355"/>
                  </a:lnTo>
                  <a:lnTo>
                    <a:pt x="2871787" y="174308"/>
                  </a:lnTo>
                  <a:lnTo>
                    <a:pt x="2871787" y="175260"/>
                  </a:lnTo>
                  <a:lnTo>
                    <a:pt x="2871787" y="176213"/>
                  </a:lnTo>
                  <a:lnTo>
                    <a:pt x="2871787" y="177165"/>
                  </a:lnTo>
                  <a:lnTo>
                    <a:pt x="2871787" y="178118"/>
                  </a:lnTo>
                  <a:lnTo>
                    <a:pt x="2871787" y="179070"/>
                  </a:lnTo>
                  <a:lnTo>
                    <a:pt x="2871787" y="180022"/>
                  </a:lnTo>
                  <a:lnTo>
                    <a:pt x="2871787" y="180975"/>
                  </a:lnTo>
                  <a:lnTo>
                    <a:pt x="2871787" y="181928"/>
                  </a:lnTo>
                  <a:lnTo>
                    <a:pt x="2872740" y="182880"/>
                  </a:lnTo>
                  <a:lnTo>
                    <a:pt x="2872740" y="183833"/>
                  </a:lnTo>
                  <a:lnTo>
                    <a:pt x="2872740" y="184785"/>
                  </a:lnTo>
                  <a:lnTo>
                    <a:pt x="2873692" y="185738"/>
                  </a:lnTo>
                  <a:lnTo>
                    <a:pt x="2874645" y="186690"/>
                  </a:lnTo>
                  <a:lnTo>
                    <a:pt x="2874645" y="187643"/>
                  </a:lnTo>
                  <a:lnTo>
                    <a:pt x="2875598" y="188595"/>
                  </a:lnTo>
                  <a:lnTo>
                    <a:pt x="2876550" y="189547"/>
                  </a:lnTo>
                  <a:lnTo>
                    <a:pt x="2876550" y="190500"/>
                  </a:lnTo>
                  <a:lnTo>
                    <a:pt x="2877503" y="191453"/>
                  </a:lnTo>
                  <a:lnTo>
                    <a:pt x="2878455" y="192405"/>
                  </a:lnTo>
                  <a:lnTo>
                    <a:pt x="2879408" y="193358"/>
                  </a:lnTo>
                  <a:lnTo>
                    <a:pt x="2880360" y="194310"/>
                  </a:lnTo>
                  <a:lnTo>
                    <a:pt x="2881312" y="196215"/>
                  </a:lnTo>
                  <a:lnTo>
                    <a:pt x="2882265" y="197168"/>
                  </a:lnTo>
                  <a:lnTo>
                    <a:pt x="2882265" y="198120"/>
                  </a:lnTo>
                  <a:lnTo>
                    <a:pt x="2883217" y="199072"/>
                  </a:lnTo>
                  <a:lnTo>
                    <a:pt x="2884170" y="200025"/>
                  </a:lnTo>
                  <a:lnTo>
                    <a:pt x="2884170" y="200978"/>
                  </a:lnTo>
                  <a:lnTo>
                    <a:pt x="2884170" y="201930"/>
                  </a:lnTo>
                  <a:lnTo>
                    <a:pt x="2885123" y="202883"/>
                  </a:lnTo>
                  <a:lnTo>
                    <a:pt x="2886075" y="203835"/>
                  </a:lnTo>
                  <a:lnTo>
                    <a:pt x="2887028" y="204788"/>
                  </a:lnTo>
                  <a:lnTo>
                    <a:pt x="2887028" y="205740"/>
                  </a:lnTo>
                  <a:lnTo>
                    <a:pt x="2887980" y="206693"/>
                  </a:lnTo>
                  <a:lnTo>
                    <a:pt x="2888933" y="207645"/>
                  </a:lnTo>
                  <a:lnTo>
                    <a:pt x="2889885" y="208597"/>
                  </a:lnTo>
                  <a:lnTo>
                    <a:pt x="2890837" y="209550"/>
                  </a:lnTo>
                  <a:lnTo>
                    <a:pt x="2891790" y="210503"/>
                  </a:lnTo>
                  <a:lnTo>
                    <a:pt x="2892742" y="211455"/>
                  </a:lnTo>
                  <a:lnTo>
                    <a:pt x="2893695" y="212408"/>
                  </a:lnTo>
                  <a:lnTo>
                    <a:pt x="2894648" y="213360"/>
                  </a:lnTo>
                  <a:lnTo>
                    <a:pt x="2895600" y="214313"/>
                  </a:lnTo>
                  <a:lnTo>
                    <a:pt x="2896553" y="215265"/>
                  </a:lnTo>
                  <a:lnTo>
                    <a:pt x="2897505" y="216218"/>
                  </a:lnTo>
                  <a:lnTo>
                    <a:pt x="2898458" y="217170"/>
                  </a:lnTo>
                  <a:lnTo>
                    <a:pt x="2899410" y="218122"/>
                  </a:lnTo>
                  <a:lnTo>
                    <a:pt x="2900362" y="219075"/>
                  </a:lnTo>
                  <a:lnTo>
                    <a:pt x="2901315" y="220028"/>
                  </a:lnTo>
                  <a:lnTo>
                    <a:pt x="2902267" y="220980"/>
                  </a:lnTo>
                  <a:lnTo>
                    <a:pt x="2903220" y="220980"/>
                  </a:lnTo>
                  <a:lnTo>
                    <a:pt x="2904173" y="220980"/>
                  </a:lnTo>
                  <a:lnTo>
                    <a:pt x="2905125" y="221933"/>
                  </a:lnTo>
                  <a:lnTo>
                    <a:pt x="2906078" y="222885"/>
                  </a:lnTo>
                  <a:cubicBezTo>
                    <a:pt x="2919412" y="231458"/>
                    <a:pt x="2935605" y="236220"/>
                    <a:pt x="2951798" y="236220"/>
                  </a:cubicBezTo>
                  <a:cubicBezTo>
                    <a:pt x="3000375" y="236220"/>
                    <a:pt x="3039428" y="196215"/>
                    <a:pt x="3039428" y="147638"/>
                  </a:cubicBezTo>
                  <a:cubicBezTo>
                    <a:pt x="3039428" y="99060"/>
                    <a:pt x="3000375" y="59055"/>
                    <a:pt x="2951798" y="59055"/>
                  </a:cubicBezTo>
                  <a:cubicBezTo>
                    <a:pt x="2937510" y="65722"/>
                    <a:pt x="2921317" y="70485"/>
                    <a:pt x="2907983" y="790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2" name="Freeform: Shape 405"/>
            <p:cNvSpPr/>
            <p:nvPr/>
          </p:nvSpPr>
          <p:spPr>
            <a:xfrm>
              <a:off x="7093440" y="5241960"/>
              <a:ext cx="381240" cy="144720"/>
            </a:xfrm>
            <a:custGeom>
              <a:avLst/>
              <a:gdLst/>
              <a:ahLst/>
              <a:rect l="l" t="t" r="r" b="b"/>
              <a:pathLst>
                <a:path w="1025842" h="390525">
                  <a:moveTo>
                    <a:pt x="0" y="390525"/>
                  </a:moveTo>
                  <a:lnTo>
                    <a:pt x="685800" y="390525"/>
                  </a:lnTo>
                  <a:lnTo>
                    <a:pt x="1025842" y="3810"/>
                  </a:lnTo>
                  <a:lnTo>
                    <a:pt x="355282" y="0"/>
                  </a:lnTo>
                  <a:lnTo>
                    <a:pt x="355282"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3" name="Freeform: Shape 406"/>
            <p:cNvSpPr/>
            <p:nvPr/>
          </p:nvSpPr>
          <p:spPr>
            <a:xfrm>
              <a:off x="6575760" y="5241960"/>
              <a:ext cx="387720" cy="144720"/>
            </a:xfrm>
            <a:custGeom>
              <a:avLst/>
              <a:gdLst/>
              <a:ahLst/>
              <a:rect l="l" t="t" r="r" b="b"/>
              <a:pathLst>
                <a:path w="1043940" h="390525">
                  <a:moveTo>
                    <a:pt x="340043" y="390525"/>
                  </a:moveTo>
                  <a:lnTo>
                    <a:pt x="581978" y="390525"/>
                  </a:lnTo>
                  <a:lnTo>
                    <a:pt x="581978" y="68580"/>
                  </a:lnTo>
                  <a:lnTo>
                    <a:pt x="1043940" y="0"/>
                  </a:lnTo>
                  <a:lnTo>
                    <a:pt x="0" y="3810"/>
                  </a:lnTo>
                  <a:lnTo>
                    <a:pt x="340043"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4" name="Freeform: Shape 407"/>
            <p:cNvSpPr/>
            <p:nvPr/>
          </p:nvSpPr>
          <p:spPr>
            <a:xfrm>
              <a:off x="4649760" y="5183280"/>
              <a:ext cx="1154160" cy="230040"/>
            </a:xfrm>
            <a:custGeom>
              <a:avLst/>
              <a:gdLst/>
              <a:ahLst/>
              <a:rect l="l" t="t" r="r" b="b"/>
              <a:pathLst>
                <a:path w="3106102" h="620077">
                  <a:moveTo>
                    <a:pt x="2788920" y="233363"/>
                  </a:moveTo>
                  <a:lnTo>
                    <a:pt x="2448878" y="620078"/>
                  </a:lnTo>
                  <a:lnTo>
                    <a:pt x="655320" y="620078"/>
                  </a:lnTo>
                  <a:lnTo>
                    <a:pt x="315278" y="233363"/>
                  </a:lnTo>
                  <a:lnTo>
                    <a:pt x="280035" y="233363"/>
                  </a:lnTo>
                  <a:cubicBezTo>
                    <a:pt x="253365" y="277178"/>
                    <a:pt x="205740" y="306705"/>
                    <a:pt x="150495" y="306705"/>
                  </a:cubicBezTo>
                  <a:cubicBezTo>
                    <a:pt x="67628" y="306705"/>
                    <a:pt x="0" y="238125"/>
                    <a:pt x="0" y="153353"/>
                  </a:cubicBezTo>
                  <a:cubicBezTo>
                    <a:pt x="0" y="68580"/>
                    <a:pt x="67628" y="0"/>
                    <a:pt x="151448" y="0"/>
                  </a:cubicBezTo>
                  <a:cubicBezTo>
                    <a:pt x="205740" y="0"/>
                    <a:pt x="254318" y="29528"/>
                    <a:pt x="280988"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3" y="306705"/>
                    <a:pt x="2851785" y="277178"/>
                    <a:pt x="2825115" y="233363"/>
                  </a:cubicBezTo>
                  <a:lnTo>
                    <a:pt x="2788920" y="233363"/>
                  </a:lnTo>
                  <a:close/>
                  <a:moveTo>
                    <a:pt x="197168" y="228600"/>
                  </a:moveTo>
                  <a:cubicBezTo>
                    <a:pt x="198120" y="227647"/>
                    <a:pt x="199073" y="226695"/>
                    <a:pt x="200978" y="226695"/>
                  </a:cubicBezTo>
                  <a:lnTo>
                    <a:pt x="201930" y="225743"/>
                  </a:lnTo>
                  <a:lnTo>
                    <a:pt x="202883" y="224790"/>
                  </a:lnTo>
                  <a:lnTo>
                    <a:pt x="203835" y="223838"/>
                  </a:lnTo>
                  <a:lnTo>
                    <a:pt x="204788" y="222885"/>
                  </a:lnTo>
                  <a:lnTo>
                    <a:pt x="205740" y="221933"/>
                  </a:lnTo>
                  <a:cubicBezTo>
                    <a:pt x="206693" y="220980"/>
                    <a:pt x="207645" y="220028"/>
                    <a:pt x="208598" y="219075"/>
                  </a:cubicBezTo>
                  <a:lnTo>
                    <a:pt x="209550" y="218122"/>
                  </a:lnTo>
                  <a:lnTo>
                    <a:pt x="210503" y="217170"/>
                  </a:lnTo>
                  <a:lnTo>
                    <a:pt x="211455" y="216218"/>
                  </a:lnTo>
                  <a:lnTo>
                    <a:pt x="212408" y="215265"/>
                  </a:lnTo>
                  <a:lnTo>
                    <a:pt x="213360" y="214313"/>
                  </a:lnTo>
                  <a:lnTo>
                    <a:pt x="214313" y="213360"/>
                  </a:lnTo>
                  <a:lnTo>
                    <a:pt x="215265" y="212408"/>
                  </a:lnTo>
                  <a:lnTo>
                    <a:pt x="216218" y="211455"/>
                  </a:lnTo>
                  <a:lnTo>
                    <a:pt x="216218" y="210503"/>
                  </a:lnTo>
                  <a:lnTo>
                    <a:pt x="217170" y="209550"/>
                  </a:lnTo>
                  <a:lnTo>
                    <a:pt x="218123" y="208597"/>
                  </a:lnTo>
                  <a:lnTo>
                    <a:pt x="219075" y="207645"/>
                  </a:lnTo>
                  <a:lnTo>
                    <a:pt x="219075" y="206693"/>
                  </a:lnTo>
                  <a:lnTo>
                    <a:pt x="219075" y="205740"/>
                  </a:lnTo>
                  <a:lnTo>
                    <a:pt x="220028" y="204788"/>
                  </a:lnTo>
                  <a:lnTo>
                    <a:pt x="220980" y="203835"/>
                  </a:lnTo>
                  <a:lnTo>
                    <a:pt x="221933" y="202883"/>
                  </a:lnTo>
                  <a:lnTo>
                    <a:pt x="222885" y="201930"/>
                  </a:lnTo>
                  <a:lnTo>
                    <a:pt x="223838" y="200978"/>
                  </a:lnTo>
                  <a:lnTo>
                    <a:pt x="224790" y="200025"/>
                  </a:lnTo>
                  <a:lnTo>
                    <a:pt x="225743" y="199072"/>
                  </a:lnTo>
                  <a:lnTo>
                    <a:pt x="226695" y="198120"/>
                  </a:lnTo>
                  <a:lnTo>
                    <a:pt x="227648" y="197168"/>
                  </a:lnTo>
                  <a:lnTo>
                    <a:pt x="228600" y="196215"/>
                  </a:lnTo>
                  <a:lnTo>
                    <a:pt x="229553" y="195263"/>
                  </a:lnTo>
                  <a:lnTo>
                    <a:pt x="230505" y="194310"/>
                  </a:lnTo>
                  <a:lnTo>
                    <a:pt x="231458" y="193358"/>
                  </a:lnTo>
                  <a:lnTo>
                    <a:pt x="231458" y="192405"/>
                  </a:lnTo>
                  <a:lnTo>
                    <a:pt x="232410" y="191453"/>
                  </a:lnTo>
                  <a:lnTo>
                    <a:pt x="233363" y="190500"/>
                  </a:lnTo>
                  <a:lnTo>
                    <a:pt x="233363" y="189547"/>
                  </a:lnTo>
                  <a:lnTo>
                    <a:pt x="233363" y="188595"/>
                  </a:lnTo>
                  <a:lnTo>
                    <a:pt x="234315" y="187643"/>
                  </a:lnTo>
                  <a:lnTo>
                    <a:pt x="235268" y="186690"/>
                  </a:lnTo>
                  <a:lnTo>
                    <a:pt x="235268" y="185738"/>
                  </a:lnTo>
                  <a:lnTo>
                    <a:pt x="235268" y="184785"/>
                  </a:lnTo>
                  <a:lnTo>
                    <a:pt x="235268" y="183833"/>
                  </a:lnTo>
                  <a:lnTo>
                    <a:pt x="235268" y="182880"/>
                  </a:lnTo>
                  <a:lnTo>
                    <a:pt x="235268" y="181928"/>
                  </a:lnTo>
                  <a:lnTo>
                    <a:pt x="236220" y="180022"/>
                  </a:lnTo>
                  <a:lnTo>
                    <a:pt x="236220" y="179070"/>
                  </a:lnTo>
                  <a:lnTo>
                    <a:pt x="236220" y="178118"/>
                  </a:lnTo>
                  <a:lnTo>
                    <a:pt x="236220" y="177165"/>
                  </a:lnTo>
                  <a:lnTo>
                    <a:pt x="236220" y="176213"/>
                  </a:lnTo>
                  <a:lnTo>
                    <a:pt x="236220" y="175260"/>
                  </a:lnTo>
                  <a:lnTo>
                    <a:pt x="236220" y="174308"/>
                  </a:lnTo>
                  <a:lnTo>
                    <a:pt x="236220" y="173355"/>
                  </a:lnTo>
                  <a:lnTo>
                    <a:pt x="236220" y="171450"/>
                  </a:lnTo>
                  <a:lnTo>
                    <a:pt x="236220" y="169545"/>
                  </a:lnTo>
                  <a:lnTo>
                    <a:pt x="236220" y="168593"/>
                  </a:lnTo>
                  <a:lnTo>
                    <a:pt x="236220" y="167640"/>
                  </a:lnTo>
                  <a:lnTo>
                    <a:pt x="236220" y="165735"/>
                  </a:lnTo>
                  <a:lnTo>
                    <a:pt x="236220" y="164783"/>
                  </a:lnTo>
                  <a:lnTo>
                    <a:pt x="236220" y="163830"/>
                  </a:lnTo>
                  <a:lnTo>
                    <a:pt x="236220" y="162878"/>
                  </a:lnTo>
                  <a:lnTo>
                    <a:pt x="236220" y="160972"/>
                  </a:lnTo>
                  <a:lnTo>
                    <a:pt x="236220" y="160020"/>
                  </a:lnTo>
                  <a:lnTo>
                    <a:pt x="236220" y="159068"/>
                  </a:lnTo>
                  <a:lnTo>
                    <a:pt x="236220" y="153353"/>
                  </a:lnTo>
                  <a:lnTo>
                    <a:pt x="236220" y="151447"/>
                  </a:lnTo>
                  <a:lnTo>
                    <a:pt x="236220" y="150495"/>
                  </a:lnTo>
                  <a:lnTo>
                    <a:pt x="236220" y="149543"/>
                  </a:lnTo>
                  <a:lnTo>
                    <a:pt x="236220" y="147638"/>
                  </a:lnTo>
                  <a:lnTo>
                    <a:pt x="236220" y="146685"/>
                  </a:lnTo>
                  <a:lnTo>
                    <a:pt x="236220" y="145733"/>
                  </a:lnTo>
                  <a:lnTo>
                    <a:pt x="236220" y="144780"/>
                  </a:lnTo>
                  <a:lnTo>
                    <a:pt x="236220" y="142875"/>
                  </a:lnTo>
                  <a:lnTo>
                    <a:pt x="236220" y="141922"/>
                  </a:lnTo>
                  <a:lnTo>
                    <a:pt x="236220" y="140970"/>
                  </a:lnTo>
                  <a:lnTo>
                    <a:pt x="236220" y="139065"/>
                  </a:lnTo>
                  <a:lnTo>
                    <a:pt x="236220" y="137160"/>
                  </a:lnTo>
                  <a:lnTo>
                    <a:pt x="236220" y="136208"/>
                  </a:lnTo>
                  <a:lnTo>
                    <a:pt x="236220" y="135255"/>
                  </a:lnTo>
                  <a:lnTo>
                    <a:pt x="236220" y="134303"/>
                  </a:lnTo>
                  <a:lnTo>
                    <a:pt x="236220" y="133350"/>
                  </a:lnTo>
                  <a:lnTo>
                    <a:pt x="236220" y="132397"/>
                  </a:lnTo>
                  <a:lnTo>
                    <a:pt x="236220" y="131445"/>
                  </a:lnTo>
                  <a:lnTo>
                    <a:pt x="236220" y="130493"/>
                  </a:lnTo>
                  <a:lnTo>
                    <a:pt x="235268" y="128588"/>
                  </a:lnTo>
                  <a:lnTo>
                    <a:pt x="235268" y="127635"/>
                  </a:lnTo>
                  <a:lnTo>
                    <a:pt x="235268" y="126683"/>
                  </a:lnTo>
                  <a:lnTo>
                    <a:pt x="235268" y="125730"/>
                  </a:lnTo>
                  <a:lnTo>
                    <a:pt x="235268" y="124778"/>
                  </a:lnTo>
                  <a:lnTo>
                    <a:pt x="235268" y="123825"/>
                  </a:lnTo>
                  <a:lnTo>
                    <a:pt x="234315" y="122872"/>
                  </a:lnTo>
                  <a:lnTo>
                    <a:pt x="233363" y="121920"/>
                  </a:lnTo>
                  <a:lnTo>
                    <a:pt x="233363" y="120968"/>
                  </a:lnTo>
                  <a:lnTo>
                    <a:pt x="233363" y="120015"/>
                  </a:lnTo>
                  <a:lnTo>
                    <a:pt x="232410" y="119063"/>
                  </a:lnTo>
                  <a:lnTo>
                    <a:pt x="231458" y="118110"/>
                  </a:lnTo>
                  <a:lnTo>
                    <a:pt x="231458" y="117158"/>
                  </a:lnTo>
                  <a:lnTo>
                    <a:pt x="230505" y="116205"/>
                  </a:lnTo>
                  <a:lnTo>
                    <a:pt x="229553" y="114300"/>
                  </a:lnTo>
                  <a:lnTo>
                    <a:pt x="228600" y="113347"/>
                  </a:lnTo>
                  <a:lnTo>
                    <a:pt x="227648" y="112395"/>
                  </a:lnTo>
                  <a:lnTo>
                    <a:pt x="226695" y="111443"/>
                  </a:lnTo>
                  <a:lnTo>
                    <a:pt x="225743" y="110490"/>
                  </a:lnTo>
                  <a:lnTo>
                    <a:pt x="224790" y="109538"/>
                  </a:lnTo>
                  <a:lnTo>
                    <a:pt x="223838" y="108585"/>
                  </a:lnTo>
                  <a:lnTo>
                    <a:pt x="222885" y="107633"/>
                  </a:lnTo>
                  <a:lnTo>
                    <a:pt x="221933" y="106680"/>
                  </a:lnTo>
                  <a:lnTo>
                    <a:pt x="220980" y="105728"/>
                  </a:lnTo>
                  <a:lnTo>
                    <a:pt x="220028" y="103822"/>
                  </a:lnTo>
                  <a:lnTo>
                    <a:pt x="220028" y="102870"/>
                  </a:lnTo>
                  <a:lnTo>
                    <a:pt x="219075" y="101918"/>
                  </a:lnTo>
                  <a:lnTo>
                    <a:pt x="218123" y="100965"/>
                  </a:lnTo>
                  <a:lnTo>
                    <a:pt x="217170" y="100013"/>
                  </a:lnTo>
                  <a:lnTo>
                    <a:pt x="217170" y="99060"/>
                  </a:lnTo>
                  <a:lnTo>
                    <a:pt x="216218" y="98108"/>
                  </a:lnTo>
                  <a:lnTo>
                    <a:pt x="215265" y="97155"/>
                  </a:lnTo>
                  <a:lnTo>
                    <a:pt x="214313" y="96203"/>
                  </a:lnTo>
                  <a:lnTo>
                    <a:pt x="213360" y="95250"/>
                  </a:lnTo>
                  <a:lnTo>
                    <a:pt x="212408" y="94297"/>
                  </a:lnTo>
                  <a:lnTo>
                    <a:pt x="211455" y="93345"/>
                  </a:lnTo>
                  <a:lnTo>
                    <a:pt x="210503" y="92393"/>
                  </a:lnTo>
                  <a:lnTo>
                    <a:pt x="209550" y="91440"/>
                  </a:lnTo>
                  <a:lnTo>
                    <a:pt x="208598" y="90488"/>
                  </a:lnTo>
                  <a:lnTo>
                    <a:pt x="207645" y="89535"/>
                  </a:lnTo>
                  <a:lnTo>
                    <a:pt x="206693" y="88583"/>
                  </a:lnTo>
                  <a:lnTo>
                    <a:pt x="205740" y="87630"/>
                  </a:lnTo>
                  <a:lnTo>
                    <a:pt x="204788" y="86678"/>
                  </a:lnTo>
                  <a:lnTo>
                    <a:pt x="203835" y="85725"/>
                  </a:lnTo>
                  <a:lnTo>
                    <a:pt x="202883" y="84772"/>
                  </a:lnTo>
                  <a:lnTo>
                    <a:pt x="201930" y="83820"/>
                  </a:lnTo>
                  <a:lnTo>
                    <a:pt x="200978" y="83820"/>
                  </a:lnTo>
                  <a:lnTo>
                    <a:pt x="200025" y="83820"/>
                  </a:lnTo>
                  <a:lnTo>
                    <a:pt x="199073" y="82868"/>
                  </a:lnTo>
                  <a:lnTo>
                    <a:pt x="198120" y="81915"/>
                  </a:lnTo>
                  <a:cubicBezTo>
                    <a:pt x="184785" y="73343"/>
                    <a:pt x="168593" y="68580"/>
                    <a:pt x="152400" y="68580"/>
                  </a:cubicBezTo>
                  <a:cubicBezTo>
                    <a:pt x="103823" y="68580"/>
                    <a:pt x="64770" y="108585"/>
                    <a:pt x="64770" y="157163"/>
                  </a:cubicBezTo>
                  <a:cubicBezTo>
                    <a:pt x="64770" y="205740"/>
                    <a:pt x="103823" y="245745"/>
                    <a:pt x="152400" y="245745"/>
                  </a:cubicBezTo>
                  <a:cubicBezTo>
                    <a:pt x="168593" y="241935"/>
                    <a:pt x="183833" y="237172"/>
                    <a:pt x="197168" y="228600"/>
                  </a:cubicBezTo>
                  <a:close/>
                  <a:moveTo>
                    <a:pt x="2907983" y="78105"/>
                  </a:moveTo>
                  <a:lnTo>
                    <a:pt x="2907030" y="79058"/>
                  </a:lnTo>
                  <a:lnTo>
                    <a:pt x="2906078" y="80010"/>
                  </a:lnTo>
                  <a:lnTo>
                    <a:pt x="2905125" y="80963"/>
                  </a:lnTo>
                  <a:lnTo>
                    <a:pt x="2904173" y="81915"/>
                  </a:lnTo>
                  <a:lnTo>
                    <a:pt x="2903220" y="82868"/>
                  </a:lnTo>
                  <a:lnTo>
                    <a:pt x="2902268" y="83820"/>
                  </a:lnTo>
                  <a:lnTo>
                    <a:pt x="2901315" y="84772"/>
                  </a:lnTo>
                  <a:lnTo>
                    <a:pt x="2900363" y="85725"/>
                  </a:lnTo>
                  <a:lnTo>
                    <a:pt x="2899410" y="86678"/>
                  </a:lnTo>
                  <a:lnTo>
                    <a:pt x="2898458" y="87630"/>
                  </a:lnTo>
                  <a:lnTo>
                    <a:pt x="2895600" y="86678"/>
                  </a:lnTo>
                  <a:lnTo>
                    <a:pt x="2894648" y="87630"/>
                  </a:lnTo>
                  <a:lnTo>
                    <a:pt x="2893695" y="88583"/>
                  </a:lnTo>
                  <a:lnTo>
                    <a:pt x="2892743" y="89535"/>
                  </a:lnTo>
                  <a:lnTo>
                    <a:pt x="2891790" y="90488"/>
                  </a:lnTo>
                  <a:lnTo>
                    <a:pt x="2890838" y="91440"/>
                  </a:lnTo>
                  <a:lnTo>
                    <a:pt x="2889885" y="92393"/>
                  </a:lnTo>
                  <a:lnTo>
                    <a:pt x="2888933" y="93345"/>
                  </a:lnTo>
                  <a:lnTo>
                    <a:pt x="2887980" y="94297"/>
                  </a:lnTo>
                  <a:lnTo>
                    <a:pt x="2887028" y="95250"/>
                  </a:lnTo>
                  <a:lnTo>
                    <a:pt x="2886075" y="96203"/>
                  </a:lnTo>
                  <a:lnTo>
                    <a:pt x="2885123" y="97155"/>
                  </a:lnTo>
                  <a:lnTo>
                    <a:pt x="2885123" y="98108"/>
                  </a:lnTo>
                  <a:lnTo>
                    <a:pt x="2885123" y="99060"/>
                  </a:lnTo>
                  <a:lnTo>
                    <a:pt x="2884170" y="100013"/>
                  </a:lnTo>
                  <a:lnTo>
                    <a:pt x="2883218" y="100965"/>
                  </a:lnTo>
                  <a:lnTo>
                    <a:pt x="2882265" y="101918"/>
                  </a:lnTo>
                  <a:lnTo>
                    <a:pt x="2881313" y="102870"/>
                  </a:lnTo>
                  <a:lnTo>
                    <a:pt x="2880360" y="103822"/>
                  </a:lnTo>
                  <a:lnTo>
                    <a:pt x="2879408" y="104775"/>
                  </a:lnTo>
                  <a:lnTo>
                    <a:pt x="2878455" y="105728"/>
                  </a:lnTo>
                  <a:lnTo>
                    <a:pt x="2877503" y="106680"/>
                  </a:lnTo>
                  <a:lnTo>
                    <a:pt x="2876550" y="107633"/>
                  </a:lnTo>
                  <a:lnTo>
                    <a:pt x="2875598" y="108585"/>
                  </a:lnTo>
                  <a:lnTo>
                    <a:pt x="2875598" y="109538"/>
                  </a:lnTo>
                  <a:lnTo>
                    <a:pt x="2874645" y="110490"/>
                  </a:lnTo>
                  <a:lnTo>
                    <a:pt x="2873693" y="111443"/>
                  </a:lnTo>
                  <a:lnTo>
                    <a:pt x="2873693" y="112395"/>
                  </a:lnTo>
                  <a:lnTo>
                    <a:pt x="2872740" y="113347"/>
                  </a:lnTo>
                  <a:lnTo>
                    <a:pt x="2871788" y="114300"/>
                  </a:lnTo>
                  <a:lnTo>
                    <a:pt x="2871788" y="115253"/>
                  </a:lnTo>
                  <a:lnTo>
                    <a:pt x="2871788" y="116205"/>
                  </a:lnTo>
                  <a:lnTo>
                    <a:pt x="2870835" y="117158"/>
                  </a:lnTo>
                  <a:lnTo>
                    <a:pt x="2869883" y="118110"/>
                  </a:lnTo>
                  <a:lnTo>
                    <a:pt x="2869883" y="119063"/>
                  </a:lnTo>
                  <a:lnTo>
                    <a:pt x="2869883" y="120015"/>
                  </a:lnTo>
                  <a:lnTo>
                    <a:pt x="2869883" y="120968"/>
                  </a:lnTo>
                  <a:lnTo>
                    <a:pt x="2869883" y="121920"/>
                  </a:lnTo>
                  <a:lnTo>
                    <a:pt x="2869883" y="122872"/>
                  </a:lnTo>
                  <a:lnTo>
                    <a:pt x="2868930" y="124778"/>
                  </a:lnTo>
                  <a:lnTo>
                    <a:pt x="2868930" y="125730"/>
                  </a:lnTo>
                  <a:lnTo>
                    <a:pt x="2868930" y="126683"/>
                  </a:lnTo>
                  <a:lnTo>
                    <a:pt x="2868930" y="127635"/>
                  </a:lnTo>
                  <a:lnTo>
                    <a:pt x="2868930" y="128588"/>
                  </a:lnTo>
                  <a:lnTo>
                    <a:pt x="2868930" y="129540"/>
                  </a:lnTo>
                  <a:lnTo>
                    <a:pt x="2868930" y="130493"/>
                  </a:lnTo>
                  <a:lnTo>
                    <a:pt x="2868930" y="131445"/>
                  </a:lnTo>
                  <a:lnTo>
                    <a:pt x="2868930" y="133350"/>
                  </a:lnTo>
                  <a:lnTo>
                    <a:pt x="2868930" y="135255"/>
                  </a:lnTo>
                  <a:lnTo>
                    <a:pt x="2868930" y="136208"/>
                  </a:lnTo>
                  <a:lnTo>
                    <a:pt x="2868930" y="137160"/>
                  </a:lnTo>
                  <a:lnTo>
                    <a:pt x="2868930" y="139065"/>
                  </a:lnTo>
                  <a:lnTo>
                    <a:pt x="2868930" y="140018"/>
                  </a:lnTo>
                  <a:lnTo>
                    <a:pt x="2868930" y="140970"/>
                  </a:lnTo>
                  <a:lnTo>
                    <a:pt x="2868930" y="141922"/>
                  </a:lnTo>
                  <a:lnTo>
                    <a:pt x="2868930" y="143828"/>
                  </a:lnTo>
                  <a:lnTo>
                    <a:pt x="2868930" y="144780"/>
                  </a:lnTo>
                  <a:lnTo>
                    <a:pt x="2868930" y="145733"/>
                  </a:lnTo>
                  <a:lnTo>
                    <a:pt x="2868930" y="147638"/>
                  </a:lnTo>
                  <a:lnTo>
                    <a:pt x="2868930" y="149543"/>
                  </a:lnTo>
                  <a:lnTo>
                    <a:pt x="2868930" y="150495"/>
                  </a:lnTo>
                  <a:lnTo>
                    <a:pt x="2868930" y="151447"/>
                  </a:lnTo>
                  <a:lnTo>
                    <a:pt x="2868930" y="153353"/>
                  </a:lnTo>
                  <a:lnTo>
                    <a:pt x="2868930" y="154305"/>
                  </a:lnTo>
                  <a:lnTo>
                    <a:pt x="2868930" y="155258"/>
                  </a:lnTo>
                  <a:lnTo>
                    <a:pt x="2868930" y="156210"/>
                  </a:lnTo>
                  <a:lnTo>
                    <a:pt x="2868930" y="158115"/>
                  </a:lnTo>
                  <a:lnTo>
                    <a:pt x="2868930" y="159068"/>
                  </a:lnTo>
                  <a:lnTo>
                    <a:pt x="2868930" y="160020"/>
                  </a:lnTo>
                  <a:lnTo>
                    <a:pt x="2868930" y="161925"/>
                  </a:lnTo>
                  <a:lnTo>
                    <a:pt x="2868930" y="163830"/>
                  </a:lnTo>
                  <a:lnTo>
                    <a:pt x="2868930" y="164783"/>
                  </a:lnTo>
                  <a:lnTo>
                    <a:pt x="2868930" y="165735"/>
                  </a:lnTo>
                  <a:lnTo>
                    <a:pt x="2868930" y="166688"/>
                  </a:lnTo>
                  <a:lnTo>
                    <a:pt x="2868930" y="167640"/>
                  </a:lnTo>
                  <a:lnTo>
                    <a:pt x="2868930" y="168593"/>
                  </a:lnTo>
                  <a:lnTo>
                    <a:pt x="2868930" y="169545"/>
                  </a:lnTo>
                  <a:lnTo>
                    <a:pt x="2868930" y="170497"/>
                  </a:lnTo>
                  <a:lnTo>
                    <a:pt x="2868930" y="171450"/>
                  </a:lnTo>
                  <a:lnTo>
                    <a:pt x="2868930" y="172403"/>
                  </a:lnTo>
                  <a:lnTo>
                    <a:pt x="2868930" y="173355"/>
                  </a:lnTo>
                  <a:lnTo>
                    <a:pt x="2868930" y="174308"/>
                  </a:lnTo>
                  <a:lnTo>
                    <a:pt x="2868930" y="175260"/>
                  </a:lnTo>
                  <a:lnTo>
                    <a:pt x="2868930" y="176213"/>
                  </a:lnTo>
                  <a:lnTo>
                    <a:pt x="2868930" y="177165"/>
                  </a:lnTo>
                  <a:lnTo>
                    <a:pt x="2869883" y="178118"/>
                  </a:lnTo>
                  <a:lnTo>
                    <a:pt x="2870835" y="179070"/>
                  </a:lnTo>
                  <a:lnTo>
                    <a:pt x="2870835" y="180022"/>
                  </a:lnTo>
                  <a:lnTo>
                    <a:pt x="2870835" y="180975"/>
                  </a:lnTo>
                  <a:lnTo>
                    <a:pt x="2871788" y="181928"/>
                  </a:lnTo>
                  <a:lnTo>
                    <a:pt x="2872740" y="182880"/>
                  </a:lnTo>
                  <a:lnTo>
                    <a:pt x="2872740" y="183833"/>
                  </a:lnTo>
                  <a:lnTo>
                    <a:pt x="2873693" y="184785"/>
                  </a:lnTo>
                  <a:lnTo>
                    <a:pt x="2874645" y="185738"/>
                  </a:lnTo>
                  <a:lnTo>
                    <a:pt x="2874645" y="186690"/>
                  </a:lnTo>
                  <a:lnTo>
                    <a:pt x="2875598" y="187643"/>
                  </a:lnTo>
                  <a:lnTo>
                    <a:pt x="2876550" y="188595"/>
                  </a:lnTo>
                  <a:lnTo>
                    <a:pt x="2877503" y="189547"/>
                  </a:lnTo>
                  <a:lnTo>
                    <a:pt x="2878455" y="190500"/>
                  </a:lnTo>
                  <a:lnTo>
                    <a:pt x="2879408" y="192405"/>
                  </a:lnTo>
                  <a:lnTo>
                    <a:pt x="2880360" y="193358"/>
                  </a:lnTo>
                  <a:lnTo>
                    <a:pt x="2881313" y="194310"/>
                  </a:lnTo>
                  <a:lnTo>
                    <a:pt x="2882265" y="195263"/>
                  </a:lnTo>
                  <a:lnTo>
                    <a:pt x="2883218" y="196215"/>
                  </a:lnTo>
                  <a:lnTo>
                    <a:pt x="2883218" y="197168"/>
                  </a:lnTo>
                  <a:lnTo>
                    <a:pt x="2883218" y="198120"/>
                  </a:lnTo>
                  <a:lnTo>
                    <a:pt x="2884170" y="199072"/>
                  </a:lnTo>
                  <a:lnTo>
                    <a:pt x="2885123" y="200025"/>
                  </a:lnTo>
                  <a:lnTo>
                    <a:pt x="2886075" y="200978"/>
                  </a:lnTo>
                  <a:lnTo>
                    <a:pt x="2886075" y="201930"/>
                  </a:lnTo>
                  <a:lnTo>
                    <a:pt x="2887028" y="202883"/>
                  </a:lnTo>
                  <a:lnTo>
                    <a:pt x="2887980" y="203835"/>
                  </a:lnTo>
                  <a:lnTo>
                    <a:pt x="2888933" y="204788"/>
                  </a:lnTo>
                  <a:lnTo>
                    <a:pt x="2889885" y="205740"/>
                  </a:lnTo>
                  <a:lnTo>
                    <a:pt x="2890838" y="206693"/>
                  </a:lnTo>
                  <a:lnTo>
                    <a:pt x="2891790" y="207645"/>
                  </a:lnTo>
                  <a:lnTo>
                    <a:pt x="2892743" y="208597"/>
                  </a:lnTo>
                  <a:lnTo>
                    <a:pt x="2893695" y="209550"/>
                  </a:lnTo>
                  <a:lnTo>
                    <a:pt x="2894648" y="210503"/>
                  </a:lnTo>
                  <a:lnTo>
                    <a:pt x="2895600" y="211455"/>
                  </a:lnTo>
                  <a:lnTo>
                    <a:pt x="2896553" y="212408"/>
                  </a:lnTo>
                  <a:lnTo>
                    <a:pt x="2897505" y="213360"/>
                  </a:lnTo>
                  <a:lnTo>
                    <a:pt x="2898458" y="214313"/>
                  </a:lnTo>
                  <a:lnTo>
                    <a:pt x="2899410" y="215265"/>
                  </a:lnTo>
                  <a:lnTo>
                    <a:pt x="2900363" y="216218"/>
                  </a:lnTo>
                  <a:lnTo>
                    <a:pt x="2901315" y="217170"/>
                  </a:lnTo>
                  <a:lnTo>
                    <a:pt x="2902268" y="217170"/>
                  </a:lnTo>
                  <a:lnTo>
                    <a:pt x="2903220" y="217170"/>
                  </a:lnTo>
                  <a:lnTo>
                    <a:pt x="2904173" y="218122"/>
                  </a:lnTo>
                  <a:lnTo>
                    <a:pt x="2905125" y="219075"/>
                  </a:lnTo>
                  <a:cubicBezTo>
                    <a:pt x="2918460" y="227647"/>
                    <a:pt x="2934653" y="232410"/>
                    <a:pt x="2950845" y="232410"/>
                  </a:cubicBezTo>
                  <a:cubicBezTo>
                    <a:pt x="2999423" y="232410"/>
                    <a:pt x="3038475" y="192405"/>
                    <a:pt x="3038475" y="143828"/>
                  </a:cubicBezTo>
                  <a:cubicBezTo>
                    <a:pt x="3038475" y="95250"/>
                    <a:pt x="2999423" y="55245"/>
                    <a:pt x="2950845" y="55245"/>
                  </a:cubicBezTo>
                  <a:cubicBezTo>
                    <a:pt x="2936558" y="64770"/>
                    <a:pt x="2921318" y="69533"/>
                    <a:pt x="2907983" y="7810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5" name="Freeform: Shape 408"/>
            <p:cNvSpPr/>
            <p:nvPr/>
          </p:nvSpPr>
          <p:spPr>
            <a:xfrm>
              <a:off x="5294520" y="5239800"/>
              <a:ext cx="381600" cy="144720"/>
            </a:xfrm>
            <a:custGeom>
              <a:avLst/>
              <a:gdLst/>
              <a:ahLst/>
              <a:rect l="l" t="t" r="r" b="b"/>
              <a:pathLst>
                <a:path w="1026795" h="390525">
                  <a:moveTo>
                    <a:pt x="0" y="390525"/>
                  </a:moveTo>
                  <a:lnTo>
                    <a:pt x="686753" y="390525"/>
                  </a:lnTo>
                  <a:lnTo>
                    <a:pt x="1026795" y="3810"/>
                  </a:lnTo>
                  <a:lnTo>
                    <a:pt x="355283" y="0"/>
                  </a:lnTo>
                  <a:lnTo>
                    <a:pt x="355283"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6" name="Freeform: Shape 409"/>
            <p:cNvSpPr/>
            <p:nvPr/>
          </p:nvSpPr>
          <p:spPr>
            <a:xfrm>
              <a:off x="4777200" y="5239800"/>
              <a:ext cx="387720" cy="144720"/>
            </a:xfrm>
            <a:custGeom>
              <a:avLst/>
              <a:gdLst/>
              <a:ahLst/>
              <a:rect l="l" t="t" r="r" b="b"/>
              <a:pathLst>
                <a:path w="1043940" h="390525">
                  <a:moveTo>
                    <a:pt x="340042" y="390525"/>
                  </a:moveTo>
                  <a:lnTo>
                    <a:pt x="581978" y="390525"/>
                  </a:lnTo>
                  <a:lnTo>
                    <a:pt x="581978" y="68580"/>
                  </a:lnTo>
                  <a:lnTo>
                    <a:pt x="1043940" y="0"/>
                  </a:lnTo>
                  <a:lnTo>
                    <a:pt x="0" y="3810"/>
                  </a:lnTo>
                  <a:lnTo>
                    <a:pt x="340042"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7" name="Freeform: Shape 410"/>
            <p:cNvSpPr/>
            <p:nvPr/>
          </p:nvSpPr>
          <p:spPr>
            <a:xfrm>
              <a:off x="6502320" y="4087440"/>
              <a:ext cx="534600" cy="1153800"/>
            </a:xfrm>
            <a:custGeom>
              <a:avLst/>
              <a:gdLst/>
              <a:ahLst/>
              <a:rect l="l" t="t" r="r" b="b"/>
              <a:pathLst>
                <a:path w="1439207" h="3106801">
                  <a:moveTo>
                    <a:pt x="1371375" y="35694"/>
                  </a:moveTo>
                  <a:lnTo>
                    <a:pt x="9300" y="3034165"/>
                  </a:lnTo>
                  <a:cubicBezTo>
                    <a:pt x="-24038" y="3115127"/>
                    <a:pt x="40732" y="3134177"/>
                    <a:pt x="70260" y="3061787"/>
                  </a:cubicBezTo>
                  <a:lnTo>
                    <a:pt x="114075" y="2955107"/>
                  </a:lnTo>
                  <a:lnTo>
                    <a:pt x="1432335" y="65222"/>
                  </a:lnTo>
                  <a:cubicBezTo>
                    <a:pt x="1459957" y="-3358"/>
                    <a:pt x="1397093" y="-25266"/>
                    <a:pt x="1371375"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8" name="Freeform: Shape 411"/>
            <p:cNvSpPr/>
            <p:nvPr/>
          </p:nvSpPr>
          <p:spPr>
            <a:xfrm>
              <a:off x="4703040" y="4085280"/>
              <a:ext cx="534960" cy="1153800"/>
            </a:xfrm>
            <a:custGeom>
              <a:avLst/>
              <a:gdLst/>
              <a:ahLst/>
              <a:rect l="l" t="t" r="r" b="b"/>
              <a:pathLst>
                <a:path w="1439553" h="3106801">
                  <a:moveTo>
                    <a:pt x="1372327" y="35694"/>
                  </a:moveTo>
                  <a:lnTo>
                    <a:pt x="9300" y="3034165"/>
                  </a:lnTo>
                  <a:cubicBezTo>
                    <a:pt x="-24038" y="3115127"/>
                    <a:pt x="40732" y="3134177"/>
                    <a:pt x="70260" y="3061787"/>
                  </a:cubicBezTo>
                  <a:lnTo>
                    <a:pt x="114075" y="2955107"/>
                  </a:lnTo>
                  <a:lnTo>
                    <a:pt x="1432335" y="65222"/>
                  </a:lnTo>
                  <a:cubicBezTo>
                    <a:pt x="1460910" y="-3358"/>
                    <a:pt x="1397092" y="-25266"/>
                    <a:pt x="1372327"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39" name="Freeform: Shape 412"/>
            <p:cNvSpPr/>
            <p:nvPr/>
          </p:nvSpPr>
          <p:spPr>
            <a:xfrm>
              <a:off x="5967360" y="5798160"/>
              <a:ext cx="310680" cy="82440"/>
            </a:xfrm>
            <a:custGeom>
              <a:avLst/>
              <a:gdLst/>
              <a:ahLst/>
              <a:rect l="l" t="t" r="r" b="b"/>
              <a:pathLst>
                <a:path w="836295" h="221932">
                  <a:moveTo>
                    <a:pt x="0" y="0"/>
                  </a:moveTo>
                  <a:lnTo>
                    <a:pt x="0" y="221933"/>
                  </a:lnTo>
                  <a:lnTo>
                    <a:pt x="836295" y="221933"/>
                  </a:lnTo>
                  <a:lnTo>
                    <a:pt x="836295" y="953"/>
                  </a:lnTo>
                  <a:lnTo>
                    <a:pt x="0" y="0"/>
                  </a:lnTo>
                  <a:close/>
                </a:path>
              </a:pathLst>
            </a:custGeom>
            <a:solidFill>
              <a:srgbClr val="4d4d4d"/>
            </a:solidFill>
            <a:ln w="0">
              <a:noFill/>
            </a:ln>
          </p:spPr>
          <p:style>
            <a:lnRef idx="0"/>
            <a:fillRef idx="0"/>
            <a:effectRef idx="0"/>
            <a:fontRef idx="minor"/>
          </p:style>
          <p:txBody>
            <a:bodyPr lIns="90000" rIns="90000" tIns="35640" bIns="35640" anchor="ctr">
              <a:noAutofit/>
            </a:bodyPr>
            <a:p>
              <a:endParaRPr b="0" lang="en-US" sz="1800" spc="-1" strike="noStrike">
                <a:solidFill>
                  <a:srgbClr val="313c3f"/>
                </a:solidFill>
                <a:latin typeface="Source Sans Pro"/>
              </a:endParaRPr>
            </a:p>
          </p:txBody>
        </p:sp>
        <p:sp>
          <p:nvSpPr>
            <p:cNvPr id="2940" name="Freeform: Shape 413"/>
            <p:cNvSpPr/>
            <p:nvPr/>
          </p:nvSpPr>
          <p:spPr>
            <a:xfrm>
              <a:off x="5600520" y="5880240"/>
              <a:ext cx="1044360" cy="85680"/>
            </a:xfrm>
            <a:custGeom>
              <a:avLst/>
              <a:gdLst/>
              <a:ahLst/>
              <a:rect l="l" t="t" r="r" b="b"/>
              <a:pathLst>
                <a:path w="2810827" h="231457">
                  <a:moveTo>
                    <a:pt x="0" y="0"/>
                  </a:moveTo>
                  <a:lnTo>
                    <a:pt x="0" y="231457"/>
                  </a:lnTo>
                  <a:lnTo>
                    <a:pt x="2810828" y="231457"/>
                  </a:lnTo>
                  <a:lnTo>
                    <a:pt x="2810828" y="953"/>
                  </a:lnTo>
                  <a:lnTo>
                    <a:pt x="0" y="0"/>
                  </a:lnTo>
                  <a:close/>
                </a:path>
              </a:pathLst>
            </a:custGeom>
            <a:solidFill>
              <a:srgbClr val="4d4d4d"/>
            </a:solidFill>
            <a:ln w="0">
              <a:noFill/>
            </a:ln>
          </p:spPr>
          <p:style>
            <a:lnRef idx="0"/>
            <a:fillRef idx="0"/>
            <a:effectRef idx="0"/>
            <a:fontRef idx="minor"/>
          </p:style>
          <p:txBody>
            <a:bodyPr lIns="90000" rIns="90000" tIns="38880" bIns="38880" anchor="ctr">
              <a:noAutofit/>
            </a:bodyPr>
            <a:p>
              <a:endParaRPr b="0" lang="en-US" sz="1800" spc="-1" strike="noStrike">
                <a:solidFill>
                  <a:srgbClr val="313c3f"/>
                </a:solidFill>
                <a:latin typeface="Source Sans Pro"/>
              </a:endParaRPr>
            </a:p>
          </p:txBody>
        </p:sp>
        <p:sp>
          <p:nvSpPr>
            <p:cNvPr id="2941" name="Freeform: Shape 414"/>
            <p:cNvSpPr/>
            <p:nvPr/>
          </p:nvSpPr>
          <p:spPr>
            <a:xfrm>
              <a:off x="6033960" y="3885840"/>
              <a:ext cx="176760" cy="96840"/>
            </a:xfrm>
            <a:custGeom>
              <a:avLst/>
              <a:gdLst/>
              <a:ahLst/>
              <a:rect l="l" t="t" r="r" b="b"/>
              <a:pathLst>
                <a:path w="476250" h="260984">
                  <a:moveTo>
                    <a:pt x="953" y="0"/>
                  </a:moveTo>
                  <a:cubicBezTo>
                    <a:pt x="0" y="952"/>
                    <a:pt x="0" y="1905"/>
                    <a:pt x="0" y="2857"/>
                  </a:cubicBezTo>
                  <a:lnTo>
                    <a:pt x="0" y="185738"/>
                  </a:lnTo>
                  <a:cubicBezTo>
                    <a:pt x="0" y="227647"/>
                    <a:pt x="106680" y="260985"/>
                    <a:pt x="238125" y="260985"/>
                  </a:cubicBezTo>
                  <a:cubicBezTo>
                    <a:pt x="369570" y="260985"/>
                    <a:pt x="476250" y="227647"/>
                    <a:pt x="476250" y="185738"/>
                  </a:cubicBezTo>
                  <a:lnTo>
                    <a:pt x="476250" y="2857"/>
                  </a:lnTo>
                  <a:cubicBezTo>
                    <a:pt x="476250" y="2857"/>
                    <a:pt x="475297" y="2857"/>
                    <a:pt x="473392" y="3810"/>
                  </a:cubicBezTo>
                  <a:lnTo>
                    <a:pt x="953" y="0"/>
                  </a:ln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42" name="Freeform: Shape 415"/>
            <p:cNvSpPr/>
            <p:nvPr/>
          </p:nvSpPr>
          <p:spPr>
            <a:xfrm>
              <a:off x="6033960" y="3934440"/>
              <a:ext cx="176760" cy="359640"/>
            </a:xfrm>
            <a:custGeom>
              <a:avLst/>
              <a:gdLst/>
              <a:ahLst/>
              <a:rect l="l" t="t" r="r" b="b"/>
              <a:pathLst>
                <a:path w="476250" h="968692">
                  <a:moveTo>
                    <a:pt x="0" y="0"/>
                  </a:moveTo>
                  <a:lnTo>
                    <a:pt x="0" y="893445"/>
                  </a:lnTo>
                  <a:cubicBezTo>
                    <a:pt x="0" y="935355"/>
                    <a:pt x="106680" y="968693"/>
                    <a:pt x="238125" y="968693"/>
                  </a:cubicBezTo>
                  <a:cubicBezTo>
                    <a:pt x="369570" y="968693"/>
                    <a:pt x="476250" y="935355"/>
                    <a:pt x="476250" y="893445"/>
                  </a:cubicBezTo>
                  <a:lnTo>
                    <a:pt x="476250" y="0"/>
                  </a:lnTo>
                  <a:cubicBezTo>
                    <a:pt x="475297" y="40957"/>
                    <a:pt x="368617" y="74295"/>
                    <a:pt x="238125" y="74295"/>
                  </a:cubicBezTo>
                  <a:cubicBezTo>
                    <a:pt x="106680" y="75247"/>
                    <a:pt x="0" y="41910"/>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43" name="Freeform: Shape 416"/>
            <p:cNvSpPr/>
            <p:nvPr/>
          </p:nvSpPr>
          <p:spPr>
            <a:xfrm>
              <a:off x="6068520" y="3836160"/>
              <a:ext cx="108000" cy="67680"/>
            </a:xfrm>
            <a:custGeom>
              <a:avLst/>
              <a:gdLst/>
              <a:ahLst/>
              <a:rect l="l" t="t" r="r" b="b"/>
              <a:pathLst>
                <a:path w="291465" h="182879">
                  <a:moveTo>
                    <a:pt x="291465" y="137160"/>
                  </a:moveTo>
                  <a:cubicBezTo>
                    <a:pt x="291465" y="162878"/>
                    <a:pt x="226695" y="182880"/>
                    <a:pt x="145733" y="182880"/>
                  </a:cubicBezTo>
                  <a:cubicBezTo>
                    <a:pt x="64770" y="182880"/>
                    <a:pt x="0" y="161925"/>
                    <a:pt x="0" y="137160"/>
                  </a:cubicBezTo>
                  <a:lnTo>
                    <a:pt x="0" y="0"/>
                  </a:lnTo>
                  <a:lnTo>
                    <a:pt x="290513" y="0"/>
                  </a:lnTo>
                  <a:lnTo>
                    <a:pt x="290513" y="137160"/>
                  </a:lnTo>
                  <a:lnTo>
                    <a:pt x="291465" y="137160"/>
                  </a:lnTo>
                  <a:close/>
                </a:path>
              </a:pathLst>
            </a:custGeom>
            <a:solidFill>
              <a:srgbClr val="4d4d4d"/>
            </a:solidFill>
            <a:ln w="0">
              <a:noFill/>
            </a:ln>
          </p:spPr>
          <p:style>
            <a:lnRef idx="0"/>
            <a:fillRef idx="0"/>
            <a:effectRef idx="0"/>
            <a:fontRef idx="minor"/>
          </p:style>
          <p:txBody>
            <a:bodyPr lIns="90000" rIns="90000" tIns="20880" bIns="20880" anchor="ctr">
              <a:noAutofit/>
            </a:bodyPr>
            <a:p>
              <a:endParaRPr b="0" lang="en-US" sz="1800" spc="-1" strike="noStrike">
                <a:solidFill>
                  <a:srgbClr val="313c3f"/>
                </a:solidFill>
                <a:latin typeface="Source Sans Pro"/>
              </a:endParaRPr>
            </a:p>
          </p:txBody>
        </p:sp>
        <p:sp>
          <p:nvSpPr>
            <p:cNvPr id="2944" name="Freeform: Shape 417"/>
            <p:cNvSpPr/>
            <p:nvPr/>
          </p:nvSpPr>
          <p:spPr>
            <a:xfrm>
              <a:off x="6060240" y="4281120"/>
              <a:ext cx="125280" cy="1541880"/>
            </a:xfrm>
            <a:custGeom>
              <a:avLst/>
              <a:gdLst/>
              <a:ahLst/>
              <a:rect l="l" t="t" r="r" b="b"/>
              <a:pathLst>
                <a:path w="337184" h="4150995">
                  <a:moveTo>
                    <a:pt x="0" y="0"/>
                  </a:moveTo>
                  <a:lnTo>
                    <a:pt x="0" y="4097655"/>
                  </a:lnTo>
                  <a:cubicBezTo>
                    <a:pt x="0" y="4127183"/>
                    <a:pt x="75247" y="4150995"/>
                    <a:pt x="168593" y="4150995"/>
                  </a:cubicBezTo>
                  <a:cubicBezTo>
                    <a:pt x="261938" y="4150995"/>
                    <a:pt x="337185" y="4127183"/>
                    <a:pt x="337185" y="4097655"/>
                  </a:cubicBezTo>
                  <a:lnTo>
                    <a:pt x="337185" y="0"/>
                  </a:lnTo>
                  <a:cubicBezTo>
                    <a:pt x="294322" y="13335"/>
                    <a:pt x="234315" y="21908"/>
                    <a:pt x="168593" y="21908"/>
                  </a:cubicBezTo>
                  <a:cubicBezTo>
                    <a:pt x="102870" y="21908"/>
                    <a:pt x="42863" y="14288"/>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45" name="Freeform: Shape 418"/>
            <p:cNvSpPr/>
            <p:nvPr/>
          </p:nvSpPr>
          <p:spPr>
            <a:xfrm>
              <a:off x="6076800" y="3754440"/>
              <a:ext cx="91800" cy="93240"/>
            </a:xfrm>
            <a:custGeom>
              <a:avLst/>
              <a:gdLst/>
              <a:ahLst/>
              <a:rect l="l" t="t" r="r" b="b"/>
              <a:pathLst>
                <a:path w="247661" h="251459">
                  <a:moveTo>
                    <a:pt x="123837" y="251460"/>
                  </a:moveTo>
                  <a:cubicBezTo>
                    <a:pt x="192417" y="251460"/>
                    <a:pt x="247662" y="195263"/>
                    <a:pt x="247662" y="125730"/>
                  </a:cubicBezTo>
                  <a:cubicBezTo>
                    <a:pt x="247662" y="56198"/>
                    <a:pt x="192417" y="0"/>
                    <a:pt x="123837" y="0"/>
                  </a:cubicBezTo>
                  <a:cubicBezTo>
                    <a:pt x="55257" y="0"/>
                    <a:pt x="12" y="56198"/>
                    <a:pt x="12" y="125730"/>
                  </a:cubicBezTo>
                  <a:cubicBezTo>
                    <a:pt x="-941" y="194310"/>
                    <a:pt x="55257" y="251460"/>
                    <a:pt x="123837" y="251460"/>
                  </a:cubicBezTo>
                  <a:close/>
                </a:path>
              </a:pathLst>
            </a:custGeom>
            <a:solidFill>
              <a:srgbClr val="4d4d4d"/>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2946" name="Freeform: Shape 419"/>
            <p:cNvSpPr/>
            <p:nvPr/>
          </p:nvSpPr>
          <p:spPr>
            <a:xfrm>
              <a:off x="6192000" y="4017960"/>
              <a:ext cx="888480" cy="154440"/>
            </a:xfrm>
            <a:custGeom>
              <a:avLst/>
              <a:gdLst/>
              <a:ahLst/>
              <a:rect l="l" t="t" r="r" b="b"/>
              <a:pathLst>
                <a:path w="2390775" h="416242">
                  <a:moveTo>
                    <a:pt x="540067" y="0"/>
                  </a:moveTo>
                  <a:lnTo>
                    <a:pt x="2857" y="0"/>
                  </a:lnTo>
                  <a:lnTo>
                    <a:pt x="4763" y="1905"/>
                  </a:lnTo>
                  <a:cubicBezTo>
                    <a:pt x="38100" y="33338"/>
                    <a:pt x="61913" y="69533"/>
                    <a:pt x="77152" y="113348"/>
                  </a:cubicBezTo>
                  <a:cubicBezTo>
                    <a:pt x="87630" y="142875"/>
                    <a:pt x="93345" y="173355"/>
                    <a:pt x="93345" y="206692"/>
                  </a:cubicBezTo>
                  <a:cubicBezTo>
                    <a:pt x="93345" y="290513"/>
                    <a:pt x="57150" y="364808"/>
                    <a:pt x="0" y="416242"/>
                  </a:cubicBezTo>
                  <a:lnTo>
                    <a:pt x="48577" y="415290"/>
                  </a:lnTo>
                  <a:cubicBezTo>
                    <a:pt x="120967" y="414338"/>
                    <a:pt x="194310" y="412433"/>
                    <a:pt x="266700" y="409575"/>
                  </a:cubicBezTo>
                  <a:lnTo>
                    <a:pt x="920115" y="392430"/>
                  </a:lnTo>
                  <a:lnTo>
                    <a:pt x="928688" y="392430"/>
                  </a:lnTo>
                  <a:cubicBezTo>
                    <a:pt x="981075" y="392430"/>
                    <a:pt x="1038225" y="390525"/>
                    <a:pt x="1099185" y="387667"/>
                  </a:cubicBezTo>
                  <a:lnTo>
                    <a:pt x="2238375" y="358140"/>
                  </a:lnTo>
                  <a:cubicBezTo>
                    <a:pt x="2322195" y="358140"/>
                    <a:pt x="2390775" y="289560"/>
                    <a:pt x="2390775" y="204788"/>
                  </a:cubicBezTo>
                  <a:cubicBezTo>
                    <a:pt x="2390775" y="120015"/>
                    <a:pt x="2322195" y="51435"/>
                    <a:pt x="2238375" y="51435"/>
                  </a:cubicBezTo>
                  <a:cubicBezTo>
                    <a:pt x="2162175" y="51435"/>
                    <a:pt x="2099310" y="107633"/>
                    <a:pt x="2087880" y="180975"/>
                  </a:cubicBezTo>
                  <a:cubicBezTo>
                    <a:pt x="1825943" y="109538"/>
                    <a:pt x="1023938" y="0"/>
                    <a:pt x="540067" y="0"/>
                  </a:cubicBezTo>
                  <a:close/>
                  <a:moveTo>
                    <a:pt x="2236470" y="119063"/>
                  </a:moveTo>
                  <a:cubicBezTo>
                    <a:pt x="2284095" y="119063"/>
                    <a:pt x="2322195" y="158115"/>
                    <a:pt x="2322195" y="205740"/>
                  </a:cubicBezTo>
                  <a:cubicBezTo>
                    <a:pt x="2322195" y="253365"/>
                    <a:pt x="2284095" y="292417"/>
                    <a:pt x="2236470" y="292417"/>
                  </a:cubicBezTo>
                  <a:cubicBezTo>
                    <a:pt x="2188845" y="292417"/>
                    <a:pt x="2150745" y="253365"/>
                    <a:pt x="2150745" y="205740"/>
                  </a:cubicBezTo>
                  <a:lnTo>
                    <a:pt x="2150745" y="204788"/>
                  </a:lnTo>
                  <a:lnTo>
                    <a:pt x="2150745" y="203835"/>
                  </a:lnTo>
                  <a:cubicBezTo>
                    <a:pt x="2163127" y="146685"/>
                    <a:pt x="2196465" y="119063"/>
                    <a:pt x="2236470"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47" name="Freeform: Shape 420"/>
            <p:cNvSpPr/>
            <p:nvPr/>
          </p:nvSpPr>
          <p:spPr>
            <a:xfrm>
              <a:off x="5171040" y="4017960"/>
              <a:ext cx="882720" cy="154080"/>
            </a:xfrm>
            <a:custGeom>
              <a:avLst/>
              <a:gdLst/>
              <a:ahLst/>
              <a:rect l="l" t="t" r="r" b="b"/>
              <a:pathLst>
                <a:path w="2375535" h="415289">
                  <a:moveTo>
                    <a:pt x="1849755" y="0"/>
                  </a:moveTo>
                  <a:lnTo>
                    <a:pt x="2371725" y="0"/>
                  </a:lnTo>
                  <a:lnTo>
                    <a:pt x="2368868" y="2858"/>
                  </a:lnTo>
                  <a:lnTo>
                    <a:pt x="2366962" y="4763"/>
                  </a:lnTo>
                  <a:cubicBezTo>
                    <a:pt x="2351723" y="19050"/>
                    <a:pt x="2337435" y="37148"/>
                    <a:pt x="2326005" y="54292"/>
                  </a:cubicBezTo>
                  <a:cubicBezTo>
                    <a:pt x="2316480" y="69533"/>
                    <a:pt x="2308860" y="84773"/>
                    <a:pt x="2301240" y="101917"/>
                  </a:cubicBezTo>
                  <a:cubicBezTo>
                    <a:pt x="2263140" y="200025"/>
                    <a:pt x="2281237" y="310515"/>
                    <a:pt x="2352675" y="392430"/>
                  </a:cubicBezTo>
                  <a:cubicBezTo>
                    <a:pt x="2359343" y="400050"/>
                    <a:pt x="2366962" y="407670"/>
                    <a:pt x="2375535" y="415290"/>
                  </a:cubicBezTo>
                  <a:cubicBezTo>
                    <a:pt x="2291715" y="413385"/>
                    <a:pt x="2207895" y="411480"/>
                    <a:pt x="2124075" y="408623"/>
                  </a:cubicBezTo>
                  <a:lnTo>
                    <a:pt x="1470660" y="391478"/>
                  </a:lnTo>
                  <a:lnTo>
                    <a:pt x="1462087" y="391478"/>
                  </a:lnTo>
                  <a:cubicBezTo>
                    <a:pt x="1409700" y="391478"/>
                    <a:pt x="1352550" y="389573"/>
                    <a:pt x="1291590" y="386715"/>
                  </a:cubicBezTo>
                  <a:lnTo>
                    <a:pt x="152400" y="357188"/>
                  </a:lnTo>
                  <a:cubicBezTo>
                    <a:pt x="68580" y="357188"/>
                    <a:pt x="0" y="288608"/>
                    <a:pt x="0" y="203835"/>
                  </a:cubicBezTo>
                  <a:cubicBezTo>
                    <a:pt x="0" y="119063"/>
                    <a:pt x="68580" y="50483"/>
                    <a:pt x="152400" y="50483"/>
                  </a:cubicBezTo>
                  <a:cubicBezTo>
                    <a:pt x="228600" y="50483"/>
                    <a:pt x="291465" y="106680"/>
                    <a:pt x="302895" y="180023"/>
                  </a:cubicBezTo>
                  <a:cubicBezTo>
                    <a:pt x="563880" y="109538"/>
                    <a:pt x="1365885" y="0"/>
                    <a:pt x="1849755" y="0"/>
                  </a:cubicBezTo>
                  <a:close/>
                  <a:moveTo>
                    <a:pt x="153352" y="119063"/>
                  </a:moveTo>
                  <a:cubicBezTo>
                    <a:pt x="105727" y="119063"/>
                    <a:pt x="67627" y="158115"/>
                    <a:pt x="67627" y="205740"/>
                  </a:cubicBezTo>
                  <a:cubicBezTo>
                    <a:pt x="67627" y="253365"/>
                    <a:pt x="105727" y="292417"/>
                    <a:pt x="153352" y="292417"/>
                  </a:cubicBezTo>
                  <a:cubicBezTo>
                    <a:pt x="200977" y="292417"/>
                    <a:pt x="239077" y="253365"/>
                    <a:pt x="239077" y="205740"/>
                  </a:cubicBezTo>
                  <a:lnTo>
                    <a:pt x="239077" y="204788"/>
                  </a:lnTo>
                  <a:lnTo>
                    <a:pt x="239077" y="203835"/>
                  </a:lnTo>
                  <a:cubicBezTo>
                    <a:pt x="227647" y="146685"/>
                    <a:pt x="193358" y="119063"/>
                    <a:pt x="153352"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48" name="Freeform: Shape 421"/>
            <p:cNvSpPr/>
            <p:nvPr/>
          </p:nvSpPr>
          <p:spPr>
            <a:xfrm>
              <a:off x="6018840" y="3990240"/>
              <a:ext cx="207360" cy="207720"/>
            </a:xfrm>
            <a:custGeom>
              <a:avLst/>
              <a:gdLst/>
              <a:ahLst/>
              <a:rect l="l" t="t" r="r" b="b"/>
              <a:pathLst>
                <a:path w="558165" h="560070">
                  <a:moveTo>
                    <a:pt x="558165" y="280035"/>
                  </a:moveTo>
                  <a:cubicBezTo>
                    <a:pt x="558165" y="434694"/>
                    <a:pt x="433216" y="560070"/>
                    <a:pt x="279083" y="560070"/>
                  </a:cubicBezTo>
                  <a:cubicBezTo>
                    <a:pt x="124950" y="560070"/>
                    <a:pt x="0" y="434694"/>
                    <a:pt x="0" y="280035"/>
                  </a:cubicBezTo>
                  <a:cubicBezTo>
                    <a:pt x="0" y="125376"/>
                    <a:pt x="124950" y="0"/>
                    <a:pt x="279083" y="0"/>
                  </a:cubicBezTo>
                  <a:cubicBezTo>
                    <a:pt x="433216" y="0"/>
                    <a:pt x="558165" y="125376"/>
                    <a:pt x="558165" y="28003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49" name="Freeform: Shape 422"/>
            <p:cNvSpPr/>
            <p:nvPr/>
          </p:nvSpPr>
          <p:spPr>
            <a:xfrm>
              <a:off x="6064200" y="4035600"/>
              <a:ext cx="116640" cy="117360"/>
            </a:xfrm>
            <a:custGeom>
              <a:avLst/>
              <a:gdLst/>
              <a:ahLst/>
              <a:rect l="l" t="t" r="r" b="b"/>
              <a:pathLst>
                <a:path w="314325" h="316229">
                  <a:moveTo>
                    <a:pt x="314325" y="158115"/>
                  </a:moveTo>
                  <a:cubicBezTo>
                    <a:pt x="314325" y="245440"/>
                    <a:pt x="243961" y="316230"/>
                    <a:pt x="157163" y="316230"/>
                  </a:cubicBezTo>
                  <a:cubicBezTo>
                    <a:pt x="70364" y="316230"/>
                    <a:pt x="0" y="245439"/>
                    <a:pt x="0" y="158115"/>
                  </a:cubicBezTo>
                  <a:cubicBezTo>
                    <a:pt x="0" y="70790"/>
                    <a:pt x="70364" y="0"/>
                    <a:pt x="157163" y="0"/>
                  </a:cubicBezTo>
                  <a:cubicBezTo>
                    <a:pt x="243961" y="0"/>
                    <a:pt x="314325" y="70791"/>
                    <a:pt x="314325" y="15811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50" name="Freeform: Shape 423"/>
            <p:cNvSpPr/>
            <p:nvPr/>
          </p:nvSpPr>
          <p:spPr>
            <a:xfrm>
              <a:off x="6093000" y="4064400"/>
              <a:ext cx="59400" cy="59400"/>
            </a:xfrm>
            <a:custGeom>
              <a:avLst/>
              <a:gdLst/>
              <a:ahLst/>
              <a:rect l="l" t="t" r="r" b="b"/>
              <a:pathLst>
                <a:path w="160019" h="160020">
                  <a:moveTo>
                    <a:pt x="160020" y="80010"/>
                  </a:moveTo>
                  <a:cubicBezTo>
                    <a:pt x="160020" y="124198"/>
                    <a:pt x="124198" y="160020"/>
                    <a:pt x="80010" y="160020"/>
                  </a:cubicBezTo>
                  <a:cubicBezTo>
                    <a:pt x="35822" y="160020"/>
                    <a:pt x="0" y="124198"/>
                    <a:pt x="0" y="80010"/>
                  </a:cubicBezTo>
                  <a:cubicBezTo>
                    <a:pt x="0" y="35822"/>
                    <a:pt x="35822" y="0"/>
                    <a:pt x="80010" y="0"/>
                  </a:cubicBezTo>
                  <a:cubicBezTo>
                    <a:pt x="124198" y="0"/>
                    <a:pt x="160020" y="35822"/>
                    <a:pt x="160020" y="80010"/>
                  </a:cubicBezTo>
                  <a:close/>
                </a:path>
              </a:pathLst>
            </a:custGeom>
            <a:solidFill>
              <a:srgbClr val="000000"/>
            </a:solidFill>
            <a:ln w="0">
              <a:noFill/>
            </a:ln>
          </p:spPr>
          <p:style>
            <a:lnRef idx="0"/>
            <a:fillRef idx="0"/>
            <a:effectRef idx="0"/>
            <a:fontRef idx="minor"/>
          </p:style>
          <p:txBody>
            <a:bodyPr lIns="90000" rIns="90000" tIns="12600" bIns="12600" anchor="ctr">
              <a:noAutofit/>
            </a:bodyPr>
            <a:p>
              <a:endParaRPr b="0" lang="en-US" sz="1800" spc="-1" strike="noStrike">
                <a:solidFill>
                  <a:srgbClr val="313c3f"/>
                </a:solidFill>
                <a:latin typeface="Source Sans Pro"/>
              </a:endParaRPr>
            </a:p>
          </p:txBody>
        </p:sp>
        <p:pic>
          <p:nvPicPr>
            <p:cNvPr id="2951" name="Graphic 143" descr=""/>
            <p:cNvPicPr/>
            <p:nvPr/>
          </p:nvPicPr>
          <p:blipFill>
            <a:blip r:embed="rId4"/>
            <a:stretch/>
          </p:blipFill>
          <p:spPr>
            <a:xfrm>
              <a:off x="5522760" y="4029480"/>
              <a:ext cx="1267920" cy="127800"/>
            </a:xfrm>
            <a:prstGeom prst="rect">
              <a:avLst/>
            </a:prstGeom>
            <a:ln w="0">
              <a:noFill/>
            </a:ln>
          </p:spPr>
        </p:pic>
        <p:sp>
          <p:nvSpPr>
            <p:cNvPr id="2952" name="Freeform: Shape 425"/>
            <p:cNvSpPr/>
            <p:nvPr/>
          </p:nvSpPr>
          <p:spPr>
            <a:xfrm>
              <a:off x="7016760" y="4087440"/>
              <a:ext cx="534960" cy="1153800"/>
            </a:xfrm>
            <a:custGeom>
              <a:avLst/>
              <a:gdLst/>
              <a:ahLst/>
              <a:rect l="l" t="t" r="r" b="b"/>
              <a:pathLst>
                <a:path w="1439553" h="3106864">
                  <a:moveTo>
                    <a:pt x="67226" y="35757"/>
                  </a:moveTo>
                  <a:lnTo>
                    <a:pt x="1430253" y="3034227"/>
                  </a:lnTo>
                  <a:cubicBezTo>
                    <a:pt x="1463591" y="3115190"/>
                    <a:pt x="1398821" y="3134240"/>
                    <a:pt x="1369294" y="3061850"/>
                  </a:cubicBezTo>
                  <a:lnTo>
                    <a:pt x="1325478" y="2955170"/>
                  </a:lnTo>
                  <a:lnTo>
                    <a:pt x="7219" y="64332"/>
                  </a:lnTo>
                  <a:cubicBezTo>
                    <a:pt x="-21356" y="-3295"/>
                    <a:pt x="42461" y="-25203"/>
                    <a:pt x="67226" y="3575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53" name="Freeform: Shape 426"/>
            <p:cNvSpPr/>
            <p:nvPr/>
          </p:nvSpPr>
          <p:spPr>
            <a:xfrm>
              <a:off x="5217840" y="4085280"/>
              <a:ext cx="534960" cy="1153800"/>
            </a:xfrm>
            <a:custGeom>
              <a:avLst/>
              <a:gdLst/>
              <a:ahLst/>
              <a:rect l="l" t="t" r="r" b="b"/>
              <a:pathLst>
                <a:path w="1440089" h="3106801">
                  <a:moveTo>
                    <a:pt x="67762" y="35694"/>
                  </a:moveTo>
                  <a:lnTo>
                    <a:pt x="1430789" y="3034165"/>
                  </a:lnTo>
                  <a:cubicBezTo>
                    <a:pt x="1464127" y="3115127"/>
                    <a:pt x="1399357" y="3134177"/>
                    <a:pt x="1369829" y="3061787"/>
                  </a:cubicBezTo>
                  <a:lnTo>
                    <a:pt x="1326014" y="2955107"/>
                  </a:lnTo>
                  <a:lnTo>
                    <a:pt x="6802" y="65222"/>
                  </a:lnTo>
                  <a:cubicBezTo>
                    <a:pt x="-20821" y="-3358"/>
                    <a:pt x="42997" y="-25266"/>
                    <a:pt x="67762"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954" name="Graphic 2"/>
          <p:cNvGrpSpPr/>
          <p:nvPr/>
        </p:nvGrpSpPr>
        <p:grpSpPr>
          <a:xfrm>
            <a:off x="8088120" y="3782880"/>
            <a:ext cx="2857320" cy="2152800"/>
            <a:chOff x="8088120" y="3782880"/>
            <a:chExt cx="2857320" cy="2152800"/>
          </a:xfrm>
        </p:grpSpPr>
        <p:sp>
          <p:nvSpPr>
            <p:cNvPr id="2955" name="Freeform: Shape 462"/>
            <p:cNvSpPr/>
            <p:nvPr/>
          </p:nvSpPr>
          <p:spPr>
            <a:xfrm flipH="1">
              <a:off x="808776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56" name="Freeform: Shape 463"/>
            <p:cNvSpPr/>
            <p:nvPr/>
          </p:nvSpPr>
          <p:spPr>
            <a:xfrm flipH="1">
              <a:off x="821160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57" name="Freeform: Shape 464"/>
            <p:cNvSpPr/>
            <p:nvPr/>
          </p:nvSpPr>
          <p:spPr>
            <a:xfrm flipH="1">
              <a:off x="870948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58" name="Freeform: Shape 465"/>
            <p:cNvSpPr/>
            <p:nvPr/>
          </p:nvSpPr>
          <p:spPr>
            <a:xfrm flipH="1">
              <a:off x="982224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59" name="Freeform: Shape 466"/>
            <p:cNvSpPr/>
            <p:nvPr/>
          </p:nvSpPr>
          <p:spPr>
            <a:xfrm flipH="1">
              <a:off x="994644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60" name="Freeform: Shape 467"/>
            <p:cNvSpPr/>
            <p:nvPr/>
          </p:nvSpPr>
          <p:spPr>
            <a:xfrm flipH="1">
              <a:off x="1044432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61" name="Freeform: Shape 468"/>
            <p:cNvSpPr/>
            <p:nvPr/>
          </p:nvSpPr>
          <p:spPr>
            <a:xfrm flipH="1">
              <a:off x="863784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62" name="Freeform: Shape 469"/>
            <p:cNvSpPr/>
            <p:nvPr/>
          </p:nvSpPr>
          <p:spPr>
            <a:xfrm flipH="1">
              <a:off x="1037232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63" name="Freeform: Shape 470"/>
            <p:cNvSpPr/>
            <p:nvPr/>
          </p:nvSpPr>
          <p:spPr>
            <a:xfrm flipH="1">
              <a:off x="936864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313c3f"/>
                </a:solidFill>
                <a:latin typeface="Source Sans Pro"/>
              </a:endParaRPr>
            </a:p>
          </p:txBody>
        </p:sp>
        <p:sp>
          <p:nvSpPr>
            <p:cNvPr id="2964" name="Freeform: Shape 471"/>
            <p:cNvSpPr/>
            <p:nvPr/>
          </p:nvSpPr>
          <p:spPr>
            <a:xfrm flipH="1">
              <a:off x="901152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313c3f"/>
                </a:solidFill>
                <a:latin typeface="Source Sans Pro"/>
              </a:endParaRPr>
            </a:p>
          </p:txBody>
        </p:sp>
        <p:sp>
          <p:nvSpPr>
            <p:cNvPr id="2965" name="Freeform: Shape 472"/>
            <p:cNvSpPr/>
            <p:nvPr/>
          </p:nvSpPr>
          <p:spPr>
            <a:xfrm flipH="1">
              <a:off x="94330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66" name="Freeform: Shape 473"/>
            <p:cNvSpPr/>
            <p:nvPr/>
          </p:nvSpPr>
          <p:spPr>
            <a:xfrm flipH="1">
              <a:off x="94330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67" name="Freeform: Shape 474"/>
            <p:cNvSpPr/>
            <p:nvPr/>
          </p:nvSpPr>
          <p:spPr>
            <a:xfrm flipH="1">
              <a:off x="94669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313c3f"/>
                </a:solidFill>
                <a:latin typeface="Source Sans Pro"/>
              </a:endParaRPr>
            </a:p>
          </p:txBody>
        </p:sp>
        <p:sp>
          <p:nvSpPr>
            <p:cNvPr id="2968" name="Freeform: Shape 475"/>
            <p:cNvSpPr/>
            <p:nvPr/>
          </p:nvSpPr>
          <p:spPr>
            <a:xfrm flipH="1">
              <a:off x="94586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69" name="Freeform: Shape 476"/>
            <p:cNvSpPr/>
            <p:nvPr/>
          </p:nvSpPr>
          <p:spPr>
            <a:xfrm flipH="1">
              <a:off x="947520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313c3f"/>
                </a:solidFill>
                <a:latin typeface="Source Sans Pro"/>
              </a:endParaRPr>
            </a:p>
          </p:txBody>
        </p:sp>
        <p:sp>
          <p:nvSpPr>
            <p:cNvPr id="2970" name="Freeform: Shape 477"/>
            <p:cNvSpPr/>
            <p:nvPr/>
          </p:nvSpPr>
          <p:spPr>
            <a:xfrm flipH="1">
              <a:off x="8599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71" name="Freeform: Shape 478"/>
            <p:cNvSpPr/>
            <p:nvPr/>
          </p:nvSpPr>
          <p:spPr>
            <a:xfrm flipH="1">
              <a:off x="957384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72" name="Freeform: Shape 479"/>
            <p:cNvSpPr/>
            <p:nvPr/>
          </p:nvSpPr>
          <p:spPr>
            <a:xfrm flipH="1" rot="541800">
              <a:off x="941868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73" name="Freeform: Shape 480"/>
            <p:cNvSpPr/>
            <p:nvPr/>
          </p:nvSpPr>
          <p:spPr>
            <a:xfrm flipH="1" rot="541800">
              <a:off x="946296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74" name="Freeform: Shape 481"/>
            <p:cNvSpPr/>
            <p:nvPr/>
          </p:nvSpPr>
          <p:spPr>
            <a:xfrm flipH="1" rot="541800">
              <a:off x="94906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313c3f"/>
                </a:solidFill>
                <a:latin typeface="Source Sans Pro"/>
              </a:endParaRPr>
            </a:p>
          </p:txBody>
        </p:sp>
        <p:pic>
          <p:nvPicPr>
            <p:cNvPr id="2975" name="Graphic 2" descr=""/>
            <p:cNvPicPr/>
            <p:nvPr/>
          </p:nvPicPr>
          <p:blipFill>
            <a:blip r:embed="rId5"/>
            <a:stretch/>
          </p:blipFill>
          <p:spPr>
            <a:xfrm>
              <a:off x="8881920" y="3980520"/>
              <a:ext cx="1207080" cy="274320"/>
            </a:xfrm>
            <a:prstGeom prst="rect">
              <a:avLst/>
            </a:prstGeom>
            <a:ln w="0">
              <a:noFill/>
            </a:ln>
          </p:spPr>
        </p:pic>
        <p:sp>
          <p:nvSpPr>
            <p:cNvPr id="2976" name="Freeform: Shape 483"/>
            <p:cNvSpPr/>
            <p:nvPr/>
          </p:nvSpPr>
          <p:spPr>
            <a:xfrm flipH="1">
              <a:off x="813744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77" name="Freeform: Shape 484"/>
            <p:cNvSpPr/>
            <p:nvPr/>
          </p:nvSpPr>
          <p:spPr>
            <a:xfrm flipH="1">
              <a:off x="987228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2978" name="Graphic 96"/>
          <p:cNvGrpSpPr/>
          <p:nvPr/>
        </p:nvGrpSpPr>
        <p:grpSpPr>
          <a:xfrm>
            <a:off x="7775280" y="1943280"/>
            <a:ext cx="3647880" cy="946080"/>
            <a:chOff x="7775280" y="1943280"/>
            <a:chExt cx="3647880" cy="946080"/>
          </a:xfrm>
        </p:grpSpPr>
        <p:sp>
          <p:nvSpPr>
            <p:cNvPr id="2979" name="Freeform: Shape 492"/>
            <p:cNvSpPr/>
            <p:nvPr/>
          </p:nvSpPr>
          <p:spPr>
            <a:xfrm flipH="1">
              <a:off x="9684360" y="245160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80" name="Freeform: Shape 493"/>
            <p:cNvSpPr/>
            <p:nvPr/>
          </p:nvSpPr>
          <p:spPr>
            <a:xfrm flipH="1">
              <a:off x="8345160" y="227484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81" name="Freeform: Shape 494"/>
            <p:cNvSpPr/>
            <p:nvPr/>
          </p:nvSpPr>
          <p:spPr>
            <a:xfrm flipH="1" rot="633600">
              <a:off x="9468360" y="23997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82" name="Freeform: Shape 495"/>
            <p:cNvSpPr/>
            <p:nvPr/>
          </p:nvSpPr>
          <p:spPr>
            <a:xfrm flipH="1">
              <a:off x="8274600" y="222012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83" name="Freeform: Shape 496"/>
            <p:cNvSpPr/>
            <p:nvPr/>
          </p:nvSpPr>
          <p:spPr>
            <a:xfrm flipH="1">
              <a:off x="10732320" y="266652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pic>
          <p:nvPicPr>
            <p:cNvPr id="2984" name="Graphic 96" descr=""/>
            <p:cNvPicPr/>
            <p:nvPr/>
          </p:nvPicPr>
          <p:blipFill>
            <a:blip r:embed="rId6"/>
            <a:stretch/>
          </p:blipFill>
          <p:spPr>
            <a:xfrm>
              <a:off x="8729280" y="2322720"/>
              <a:ext cx="1664280" cy="408240"/>
            </a:xfrm>
            <a:prstGeom prst="rect">
              <a:avLst/>
            </a:prstGeom>
            <a:ln w="0">
              <a:noFill/>
            </a:ln>
          </p:spPr>
        </p:pic>
        <p:grpSp>
          <p:nvGrpSpPr>
            <p:cNvPr id="2985" name="Graphic 96"/>
            <p:cNvGrpSpPr/>
            <p:nvPr/>
          </p:nvGrpSpPr>
          <p:grpSpPr>
            <a:xfrm>
              <a:off x="9042840" y="2436120"/>
              <a:ext cx="1132920" cy="453240"/>
              <a:chOff x="9042840" y="2436120"/>
              <a:chExt cx="1132920" cy="453240"/>
            </a:xfrm>
          </p:grpSpPr>
          <p:sp>
            <p:nvSpPr>
              <p:cNvPr id="2986" name="Freeform: Shape 514"/>
              <p:cNvSpPr/>
              <p:nvPr/>
            </p:nvSpPr>
            <p:spPr>
              <a:xfrm flipH="1">
                <a:off x="9042480" y="243612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87" name="Freeform: Shape 515"/>
              <p:cNvSpPr/>
              <p:nvPr/>
            </p:nvSpPr>
            <p:spPr>
              <a:xfrm flipH="1">
                <a:off x="9066600" y="248832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88" name="Freeform: Shape 516"/>
              <p:cNvSpPr/>
              <p:nvPr/>
            </p:nvSpPr>
            <p:spPr>
              <a:xfrm flipH="1">
                <a:off x="9562320" y="247644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313c3f"/>
                  </a:solidFill>
                  <a:latin typeface="Source Sans Pro"/>
                </a:endParaRPr>
              </a:p>
            </p:txBody>
          </p:sp>
        </p:grpSp>
        <p:sp>
          <p:nvSpPr>
            <p:cNvPr id="2989" name="Freeform: Shape 499"/>
            <p:cNvSpPr/>
            <p:nvPr/>
          </p:nvSpPr>
          <p:spPr>
            <a:xfrm flipH="1">
              <a:off x="10781640" y="256644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90" name="Freeform: Shape 500"/>
            <p:cNvSpPr/>
            <p:nvPr/>
          </p:nvSpPr>
          <p:spPr>
            <a:xfrm flipH="1">
              <a:off x="8324280" y="212004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91" name="Freeform: Shape 505"/>
            <p:cNvSpPr/>
            <p:nvPr/>
          </p:nvSpPr>
          <p:spPr>
            <a:xfrm flipH="1">
              <a:off x="10173240" y="238932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92" name="Freeform: Shape 511"/>
            <p:cNvSpPr/>
            <p:nvPr/>
          </p:nvSpPr>
          <p:spPr>
            <a:xfrm flipH="1">
              <a:off x="7774920" y="194328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93" name="Freeform: Shape 512"/>
            <p:cNvSpPr/>
            <p:nvPr/>
          </p:nvSpPr>
          <p:spPr>
            <a:xfrm flipH="1">
              <a:off x="10219680" y="240732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94" name="Freeform: Shape 513"/>
            <p:cNvSpPr/>
            <p:nvPr/>
          </p:nvSpPr>
          <p:spPr>
            <a:xfrm flipH="1">
              <a:off x="7821360" y="196092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Graphic Assets</a:t>
            </a:r>
            <a:endParaRPr b="0" lang="en-US" sz="3600" spc="-1" strike="noStrike">
              <a:solidFill>
                <a:srgbClr val="313c3f"/>
              </a:solidFill>
              <a:latin typeface="Lato"/>
            </a:endParaRPr>
          </a:p>
        </p:txBody>
      </p:sp>
      <p:grpSp>
        <p:nvGrpSpPr>
          <p:cNvPr id="2996" name="Graphic 2"/>
          <p:cNvGrpSpPr/>
          <p:nvPr/>
        </p:nvGrpSpPr>
        <p:grpSpPr>
          <a:xfrm>
            <a:off x="968400" y="1982880"/>
            <a:ext cx="2857320" cy="1711080"/>
            <a:chOff x="968400" y="1982880"/>
            <a:chExt cx="2857320" cy="1711080"/>
          </a:xfrm>
        </p:grpSpPr>
        <p:sp>
          <p:nvSpPr>
            <p:cNvPr id="2997" name="Freeform: Shape 5"/>
            <p:cNvSpPr/>
            <p:nvPr/>
          </p:nvSpPr>
          <p:spPr>
            <a:xfrm>
              <a:off x="1654200" y="3489120"/>
              <a:ext cx="24588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0983"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98" name="Freeform: Shape 6"/>
            <p:cNvSpPr/>
            <p:nvPr/>
          </p:nvSpPr>
          <p:spPr>
            <a:xfrm>
              <a:off x="968400" y="3488400"/>
              <a:ext cx="19224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6210"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2999" name="Freeform: Shape 7"/>
            <p:cNvSpPr/>
            <p:nvPr/>
          </p:nvSpPr>
          <p:spPr>
            <a:xfrm>
              <a:off x="1068840" y="3531600"/>
              <a:ext cx="730800" cy="162360"/>
            </a:xfrm>
            <a:custGeom>
              <a:avLst/>
              <a:gdLst/>
              <a:ahLst/>
              <a:rect l="l" t="t" r="r" b="b"/>
              <a:pathLst>
                <a:path w="1182052" h="262890">
                  <a:moveTo>
                    <a:pt x="1028700" y="262890"/>
                  </a:moveTo>
                  <a:lnTo>
                    <a:pt x="153352" y="262890"/>
                  </a:lnTo>
                  <a:lnTo>
                    <a:pt x="0" y="0"/>
                  </a:lnTo>
                  <a:lnTo>
                    <a:pt x="1182052"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00" name="Freeform: Shape 8"/>
            <p:cNvSpPr/>
            <p:nvPr/>
          </p:nvSpPr>
          <p:spPr>
            <a:xfrm>
              <a:off x="1095480" y="3547440"/>
              <a:ext cx="303840" cy="131400"/>
            </a:xfrm>
            <a:custGeom>
              <a:avLst/>
              <a:gdLst/>
              <a:ahLst/>
              <a:rect l="l" t="t" r="r" b="b"/>
              <a:pathLst>
                <a:path w="491489" h="212407">
                  <a:moveTo>
                    <a:pt x="165735" y="0"/>
                  </a:moveTo>
                  <a:lnTo>
                    <a:pt x="0" y="0"/>
                  </a:lnTo>
                  <a:lnTo>
                    <a:pt x="123825" y="212407"/>
                  </a:lnTo>
                  <a:lnTo>
                    <a:pt x="491490" y="212407"/>
                  </a:lnTo>
                  <a:cubicBezTo>
                    <a:pt x="222885" y="193357"/>
                    <a:pt x="282893" y="241935"/>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01" name="Freeform: Shape 9"/>
            <p:cNvSpPr/>
            <p:nvPr/>
          </p:nvSpPr>
          <p:spPr>
            <a:xfrm>
              <a:off x="1468080" y="3547440"/>
              <a:ext cx="304200" cy="130680"/>
            </a:xfrm>
            <a:custGeom>
              <a:avLst/>
              <a:gdLst/>
              <a:ahLst/>
              <a:rect l="l" t="t" r="r" b="b"/>
              <a:pathLst>
                <a:path w="492442" h="211454">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002" name="Graphic 2"/>
            <p:cNvGrpSpPr/>
            <p:nvPr/>
          </p:nvGrpSpPr>
          <p:grpSpPr>
            <a:xfrm>
              <a:off x="1986120" y="2031120"/>
              <a:ext cx="735480" cy="789840"/>
              <a:chOff x="1986120" y="2031120"/>
              <a:chExt cx="735480" cy="789840"/>
            </a:xfrm>
          </p:grpSpPr>
          <p:sp>
            <p:nvSpPr>
              <p:cNvPr id="3003" name="Freeform: Shape 11"/>
              <p:cNvSpPr/>
              <p:nvPr/>
            </p:nvSpPr>
            <p:spPr>
              <a:xfrm>
                <a:off x="1986120" y="2031120"/>
                <a:ext cx="735480" cy="789840"/>
              </a:xfrm>
              <a:custGeom>
                <a:avLst/>
                <a:gdLst/>
                <a:ahLst/>
                <a:rect l="l" t="t" r="r" b="b"/>
                <a:pathLst>
                  <a:path w="1189674" h="1276350">
                    <a:moveTo>
                      <a:pt x="594362" y="0"/>
                    </a:moveTo>
                    <a:cubicBezTo>
                      <a:pt x="922975" y="0"/>
                      <a:pt x="1189675" y="250508"/>
                      <a:pt x="1189675" y="560070"/>
                    </a:cubicBezTo>
                    <a:cubicBezTo>
                      <a:pt x="1189675" y="869633"/>
                      <a:pt x="1124905" y="1276350"/>
                      <a:pt x="591505" y="1276350"/>
                    </a:cubicBezTo>
                    <a:cubicBezTo>
                      <a:pt x="58105" y="1276350"/>
                      <a:pt x="3" y="869633"/>
                      <a:pt x="3" y="560070"/>
                    </a:cubicBezTo>
                    <a:cubicBezTo>
                      <a:pt x="-950" y="251460"/>
                      <a:pt x="265750" y="0"/>
                      <a:pt x="594362"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04" name="Freeform: Shape 12"/>
              <p:cNvSpPr/>
              <p:nvPr/>
            </p:nvSpPr>
            <p:spPr>
              <a:xfrm>
                <a:off x="2020680" y="2052000"/>
                <a:ext cx="663120" cy="658080"/>
              </a:xfrm>
              <a:custGeom>
                <a:avLst/>
                <a:gdLst/>
                <a:ahLst/>
                <a:rect l="l" t="t" r="r" b="b"/>
                <a:pathLst>
                  <a:path w="1072515" h="1062989">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05" name="Freeform: Shape 13"/>
              <p:cNvSpPr/>
              <p:nvPr/>
            </p:nvSpPr>
            <p:spPr>
              <a:xfrm>
                <a:off x="2050200" y="2080440"/>
                <a:ext cx="604440" cy="601200"/>
              </a:xfrm>
              <a:custGeom>
                <a:avLst/>
                <a:gdLst/>
                <a:ahLst/>
                <a:rect l="l" t="t" r="r" b="b"/>
                <a:pathLst>
                  <a:path w="977264" h="971550">
                    <a:moveTo>
                      <a:pt x="977265" y="485775"/>
                    </a:moveTo>
                    <a:cubicBezTo>
                      <a:pt x="977265" y="754061"/>
                      <a:pt x="758497" y="971550"/>
                      <a:pt x="488633" y="971550"/>
                    </a:cubicBezTo>
                    <a:cubicBezTo>
                      <a:pt x="218769"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3006" name="Freeform: Shape 14"/>
            <p:cNvSpPr/>
            <p:nvPr/>
          </p:nvSpPr>
          <p:spPr>
            <a:xfrm>
              <a:off x="3579840" y="3112920"/>
              <a:ext cx="245880" cy="101160"/>
            </a:xfrm>
            <a:custGeom>
              <a:avLst/>
              <a:gdLst/>
              <a:ahLst/>
              <a:rect l="l" t="t" r="r" b="b"/>
              <a:pathLst>
                <a:path w="398144" h="163829">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30480"/>
                    <a:pt x="275273" y="0"/>
                    <a:pt x="316230" y="0"/>
                  </a:cubicBezTo>
                  <a:close/>
                  <a:moveTo>
                    <a:pt x="316230" y="36195"/>
                  </a:moveTo>
                  <a:cubicBezTo>
                    <a:pt x="290513" y="36195"/>
                    <a:pt x="269557" y="58103"/>
                    <a:pt x="269557" y="82867"/>
                  </a:cubicBezTo>
                  <a:cubicBezTo>
                    <a:pt x="269557" y="108585"/>
                    <a:pt x="290513" y="129540"/>
                    <a:pt x="316230" y="129540"/>
                  </a:cubicBezTo>
                  <a:cubicBezTo>
                    <a:pt x="341948" y="129540"/>
                    <a:pt x="362902" y="108585"/>
                    <a:pt x="362902" y="82867"/>
                  </a:cubicBezTo>
                  <a:cubicBezTo>
                    <a:pt x="361950" y="57150"/>
                    <a:pt x="340995"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07" name="Freeform: Shape 15"/>
            <p:cNvSpPr/>
            <p:nvPr/>
          </p:nvSpPr>
          <p:spPr>
            <a:xfrm>
              <a:off x="2892960" y="3112200"/>
              <a:ext cx="192240" cy="101880"/>
            </a:xfrm>
            <a:custGeom>
              <a:avLst/>
              <a:gdLst/>
              <a:ahLst/>
              <a:rect l="l" t="t" r="r" b="b"/>
              <a:pathLst>
                <a:path w="311467" h="164782">
                  <a:moveTo>
                    <a:pt x="81915" y="0"/>
                  </a:moveTo>
                  <a:cubicBezTo>
                    <a:pt x="36195" y="0"/>
                    <a:pt x="0" y="37148"/>
                    <a:pt x="0" y="81915"/>
                  </a:cubicBezTo>
                  <a:cubicBezTo>
                    <a:pt x="0" y="127635"/>
                    <a:pt x="37147" y="163830"/>
                    <a:pt x="81915" y="163830"/>
                  </a:cubicBezTo>
                  <a:lnTo>
                    <a:pt x="311467" y="164783"/>
                  </a:lnTo>
                  <a:lnTo>
                    <a:pt x="214313" y="69533"/>
                  </a:lnTo>
                  <a:lnTo>
                    <a:pt x="162877" y="69533"/>
                  </a:lnTo>
                  <a:cubicBezTo>
                    <a:pt x="157163" y="30480"/>
                    <a:pt x="122872" y="0"/>
                    <a:pt x="81915" y="0"/>
                  </a:cubicBezTo>
                  <a:close/>
                  <a:moveTo>
                    <a:pt x="81915" y="36195"/>
                  </a:moveTo>
                  <a:cubicBezTo>
                    <a:pt x="107632" y="36195"/>
                    <a:pt x="128588" y="58103"/>
                    <a:pt x="128588" y="82868"/>
                  </a:cubicBezTo>
                  <a:cubicBezTo>
                    <a:pt x="128588" y="108585"/>
                    <a:pt x="107632" y="129540"/>
                    <a:pt x="81915" y="129540"/>
                  </a:cubicBezTo>
                  <a:cubicBezTo>
                    <a:pt x="56197" y="129540"/>
                    <a:pt x="35242" y="108585"/>
                    <a:pt x="35242" y="82868"/>
                  </a:cubicBezTo>
                  <a:cubicBezTo>
                    <a:pt x="36195"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08" name="Freeform: Shape 16"/>
            <p:cNvSpPr/>
            <p:nvPr/>
          </p:nvSpPr>
          <p:spPr>
            <a:xfrm>
              <a:off x="2993760" y="3155760"/>
              <a:ext cx="731160" cy="162000"/>
            </a:xfrm>
            <a:custGeom>
              <a:avLst/>
              <a:gdLst/>
              <a:ahLst/>
              <a:rect l="l" t="t" r="r" b="b"/>
              <a:pathLst>
                <a:path w="1183005" h="261937">
                  <a:moveTo>
                    <a:pt x="1029652" y="261938"/>
                  </a:moveTo>
                  <a:lnTo>
                    <a:pt x="153352" y="261938"/>
                  </a:lnTo>
                  <a:lnTo>
                    <a:pt x="0" y="0"/>
                  </a:lnTo>
                  <a:lnTo>
                    <a:pt x="1183005" y="952"/>
                  </a:lnTo>
                  <a:lnTo>
                    <a:pt x="1029652"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09" name="Freeform: Shape 17"/>
            <p:cNvSpPr/>
            <p:nvPr/>
          </p:nvSpPr>
          <p:spPr>
            <a:xfrm>
              <a:off x="3020760" y="3171240"/>
              <a:ext cx="303840" cy="131400"/>
            </a:xfrm>
            <a:custGeom>
              <a:avLst/>
              <a:gdLst/>
              <a:ahLst/>
              <a:rect l="l" t="t" r="r" b="b"/>
              <a:pathLst>
                <a:path w="491490" h="212407">
                  <a:moveTo>
                    <a:pt x="165735" y="0"/>
                  </a:moveTo>
                  <a:lnTo>
                    <a:pt x="0" y="0"/>
                  </a:lnTo>
                  <a:lnTo>
                    <a:pt x="123825" y="212408"/>
                  </a:lnTo>
                  <a:lnTo>
                    <a:pt x="491490" y="212408"/>
                  </a:lnTo>
                  <a:cubicBezTo>
                    <a:pt x="222885" y="193358"/>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10" name="Freeform: Shape 18"/>
            <p:cNvSpPr/>
            <p:nvPr/>
          </p:nvSpPr>
          <p:spPr>
            <a:xfrm>
              <a:off x="3393720" y="3171960"/>
              <a:ext cx="304200" cy="130680"/>
            </a:xfrm>
            <a:custGeom>
              <a:avLst/>
              <a:gdLst/>
              <a:ahLst/>
              <a:rect l="l" t="t" r="r" b="b"/>
              <a:pathLst>
                <a:path w="492442" h="211454">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11" name="Freeform: Shape 19"/>
            <p:cNvSpPr/>
            <p:nvPr/>
          </p:nvSpPr>
          <p:spPr>
            <a:xfrm>
              <a:off x="1013040" y="2482560"/>
              <a:ext cx="430560" cy="1059480"/>
            </a:xfrm>
            <a:custGeom>
              <a:avLst/>
              <a:gdLst/>
              <a:ahLst/>
              <a:rect l="l" t="t" r="r" b="b"/>
              <a:pathLst>
                <a:path w="696390" h="1712312">
                  <a:moveTo>
                    <a:pt x="660024" y="20093"/>
                  </a:moveTo>
                  <a:lnTo>
                    <a:pt x="3752" y="1673633"/>
                  </a:lnTo>
                  <a:cubicBezTo>
                    <a:pt x="-11488" y="1717448"/>
                    <a:pt x="23755" y="1726973"/>
                    <a:pt x="37089" y="1686968"/>
                  </a:cubicBezTo>
                  <a:lnTo>
                    <a:pt x="58044" y="1628865"/>
                  </a:lnTo>
                  <a:lnTo>
                    <a:pt x="693362" y="34380"/>
                  </a:lnTo>
                  <a:cubicBezTo>
                    <a:pt x="706697" y="-2767"/>
                    <a:pt x="672407"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12" name="Freeform: Shape 20"/>
            <p:cNvSpPr/>
            <p:nvPr/>
          </p:nvSpPr>
          <p:spPr>
            <a:xfrm>
              <a:off x="2938320" y="2106720"/>
              <a:ext cx="430560" cy="1059480"/>
            </a:xfrm>
            <a:custGeom>
              <a:avLst/>
              <a:gdLst/>
              <a:ahLst/>
              <a:rect l="l" t="t" r="r" b="b"/>
              <a:pathLst>
                <a:path w="696330" h="1712245">
                  <a:moveTo>
                    <a:pt x="660024" y="20026"/>
                  </a:moveTo>
                  <a:lnTo>
                    <a:pt x="3752" y="1673566"/>
                  </a:lnTo>
                  <a:cubicBezTo>
                    <a:pt x="-11488" y="1717381"/>
                    <a:pt x="23754" y="1726906"/>
                    <a:pt x="37089" y="1686901"/>
                  </a:cubicBezTo>
                  <a:lnTo>
                    <a:pt x="58044" y="1628798"/>
                  </a:lnTo>
                  <a:lnTo>
                    <a:pt x="693362" y="35266"/>
                  </a:lnTo>
                  <a:cubicBezTo>
                    <a:pt x="706697"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013" name="Graphic 2"/>
            <p:cNvGrpSpPr/>
            <p:nvPr/>
          </p:nvGrpSpPr>
          <p:grpSpPr>
            <a:xfrm>
              <a:off x="2037240" y="2361240"/>
              <a:ext cx="483120" cy="349560"/>
              <a:chOff x="2037240" y="2361240"/>
              <a:chExt cx="483120" cy="349560"/>
            </a:xfrm>
          </p:grpSpPr>
          <p:sp>
            <p:nvSpPr>
              <p:cNvPr id="3014" name="Freeform: Shape 22"/>
              <p:cNvSpPr/>
              <p:nvPr/>
            </p:nvSpPr>
            <p:spPr>
              <a:xfrm>
                <a:off x="2037240" y="2361600"/>
                <a:ext cx="483120" cy="349200"/>
              </a:xfrm>
              <a:custGeom>
                <a:avLst/>
                <a:gdLst/>
                <a:ahLst/>
                <a:rect l="l" t="t" r="r" b="b"/>
                <a:pathLst>
                  <a:path w="781356" h="564132">
                    <a:moveTo>
                      <a:pt x="781109" y="283845"/>
                    </a:moveTo>
                    <a:cubicBezTo>
                      <a:pt x="783014" y="299085"/>
                      <a:pt x="773489" y="332423"/>
                      <a:pt x="766822" y="346710"/>
                    </a:cubicBezTo>
                    <a:cubicBezTo>
                      <a:pt x="753487" y="379095"/>
                      <a:pt x="663000" y="402908"/>
                      <a:pt x="629662" y="416243"/>
                    </a:cubicBezTo>
                    <a:cubicBezTo>
                      <a:pt x="559177" y="443865"/>
                      <a:pt x="544889" y="472440"/>
                      <a:pt x="486787" y="521970"/>
                    </a:cubicBezTo>
                    <a:cubicBezTo>
                      <a:pt x="467737" y="538163"/>
                      <a:pt x="447734" y="556260"/>
                      <a:pt x="423922" y="561975"/>
                    </a:cubicBezTo>
                    <a:cubicBezTo>
                      <a:pt x="404872" y="566738"/>
                      <a:pt x="384869" y="562928"/>
                      <a:pt x="365819" y="557213"/>
                    </a:cubicBezTo>
                    <a:cubicBezTo>
                      <a:pt x="362009" y="556260"/>
                      <a:pt x="359152" y="555307"/>
                      <a:pt x="355342" y="554355"/>
                    </a:cubicBezTo>
                    <a:cubicBezTo>
                      <a:pt x="323909" y="543878"/>
                      <a:pt x="293430" y="529590"/>
                      <a:pt x="264855" y="513398"/>
                    </a:cubicBezTo>
                    <a:cubicBezTo>
                      <a:pt x="257234" y="508635"/>
                      <a:pt x="249614" y="503873"/>
                      <a:pt x="241994" y="499110"/>
                    </a:cubicBezTo>
                    <a:cubicBezTo>
                      <a:pt x="215325" y="481965"/>
                      <a:pt x="190559" y="461963"/>
                      <a:pt x="167700" y="441008"/>
                    </a:cubicBezTo>
                    <a:cubicBezTo>
                      <a:pt x="146744" y="421958"/>
                      <a:pt x="126742" y="401955"/>
                      <a:pt x="107692" y="381000"/>
                    </a:cubicBezTo>
                    <a:cubicBezTo>
                      <a:pt x="83880" y="355283"/>
                      <a:pt x="61019" y="328613"/>
                      <a:pt x="39112" y="302895"/>
                    </a:cubicBezTo>
                    <a:cubicBezTo>
                      <a:pt x="27682" y="289560"/>
                      <a:pt x="17205" y="277178"/>
                      <a:pt x="9584" y="261938"/>
                    </a:cubicBezTo>
                    <a:cubicBezTo>
                      <a:pt x="7680" y="258127"/>
                      <a:pt x="5775" y="254318"/>
                      <a:pt x="4822" y="249555"/>
                    </a:cubicBezTo>
                    <a:cubicBezTo>
                      <a:pt x="2917" y="244793"/>
                      <a:pt x="1964" y="239077"/>
                      <a:pt x="1012" y="234315"/>
                    </a:cubicBezTo>
                    <a:cubicBezTo>
                      <a:pt x="-1845" y="213360"/>
                      <a:pt x="1964" y="190500"/>
                      <a:pt x="4822" y="169545"/>
                    </a:cubicBezTo>
                    <a:cubicBezTo>
                      <a:pt x="13394" y="120968"/>
                      <a:pt x="21967" y="72390"/>
                      <a:pt x="29587" y="23813"/>
                    </a:cubicBezTo>
                    <a:cubicBezTo>
                      <a:pt x="30539" y="18098"/>
                      <a:pt x="31492" y="9525"/>
                      <a:pt x="31492" y="0"/>
                    </a:cubicBezTo>
                    <a:cubicBezTo>
                      <a:pt x="40064" y="12383"/>
                      <a:pt x="48637" y="24765"/>
                      <a:pt x="56257" y="37148"/>
                    </a:cubicBezTo>
                    <a:cubicBezTo>
                      <a:pt x="82927" y="78105"/>
                      <a:pt x="103882" y="121920"/>
                      <a:pt x="117217" y="168593"/>
                    </a:cubicBezTo>
                    <a:cubicBezTo>
                      <a:pt x="119122" y="174308"/>
                      <a:pt x="120075" y="180023"/>
                      <a:pt x="121980" y="185738"/>
                    </a:cubicBezTo>
                    <a:cubicBezTo>
                      <a:pt x="121980" y="186690"/>
                      <a:pt x="122932" y="187643"/>
                      <a:pt x="122932" y="188595"/>
                    </a:cubicBezTo>
                    <a:cubicBezTo>
                      <a:pt x="122932" y="188595"/>
                      <a:pt x="122932" y="188595"/>
                      <a:pt x="122932" y="188595"/>
                    </a:cubicBezTo>
                    <a:cubicBezTo>
                      <a:pt x="126742" y="201930"/>
                      <a:pt x="129600" y="215265"/>
                      <a:pt x="133409" y="228600"/>
                    </a:cubicBezTo>
                    <a:cubicBezTo>
                      <a:pt x="136267" y="240030"/>
                      <a:pt x="140077" y="251460"/>
                      <a:pt x="144839" y="262890"/>
                    </a:cubicBezTo>
                    <a:cubicBezTo>
                      <a:pt x="158175" y="298133"/>
                      <a:pt x="178177" y="330518"/>
                      <a:pt x="202942" y="359093"/>
                    </a:cubicBezTo>
                    <a:cubicBezTo>
                      <a:pt x="214372" y="371475"/>
                      <a:pt x="227707" y="383858"/>
                      <a:pt x="242947" y="390525"/>
                    </a:cubicBezTo>
                    <a:cubicBezTo>
                      <a:pt x="270569" y="401955"/>
                      <a:pt x="302002" y="395288"/>
                      <a:pt x="331530" y="387668"/>
                    </a:cubicBezTo>
                    <a:cubicBezTo>
                      <a:pt x="382964" y="375285"/>
                      <a:pt x="441067" y="356235"/>
                      <a:pt x="466784" y="309563"/>
                    </a:cubicBezTo>
                    <a:cubicBezTo>
                      <a:pt x="498217" y="333375"/>
                      <a:pt x="540127" y="339090"/>
                      <a:pt x="579180" y="331470"/>
                    </a:cubicBezTo>
                    <a:cubicBezTo>
                      <a:pt x="585847" y="330518"/>
                      <a:pt x="593467" y="328613"/>
                      <a:pt x="600134" y="325755"/>
                    </a:cubicBezTo>
                    <a:cubicBezTo>
                      <a:pt x="623947" y="318135"/>
                      <a:pt x="645855" y="306705"/>
                      <a:pt x="666809" y="292418"/>
                    </a:cubicBezTo>
                    <a:cubicBezTo>
                      <a:pt x="667762" y="291465"/>
                      <a:pt x="668714" y="291465"/>
                      <a:pt x="669667" y="290513"/>
                    </a:cubicBezTo>
                    <a:cubicBezTo>
                      <a:pt x="670619" y="289560"/>
                      <a:pt x="671572" y="289560"/>
                      <a:pt x="672525" y="288608"/>
                    </a:cubicBezTo>
                    <a:cubicBezTo>
                      <a:pt x="676334" y="285750"/>
                      <a:pt x="680144" y="282893"/>
                      <a:pt x="683955" y="280035"/>
                    </a:cubicBezTo>
                    <a:cubicBezTo>
                      <a:pt x="701100" y="267653"/>
                      <a:pt x="720150" y="253365"/>
                      <a:pt x="732532" y="236220"/>
                    </a:cubicBezTo>
                    <a:cubicBezTo>
                      <a:pt x="736342" y="231458"/>
                      <a:pt x="742057" y="228600"/>
                      <a:pt x="747772" y="228600"/>
                    </a:cubicBezTo>
                    <a:cubicBezTo>
                      <a:pt x="766822" y="242888"/>
                      <a:pt x="779205" y="259080"/>
                      <a:pt x="781109" y="283845"/>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15" name="Freeform: Shape 23"/>
              <p:cNvSpPr/>
              <p:nvPr/>
            </p:nvSpPr>
            <p:spPr>
              <a:xfrm>
                <a:off x="2201400" y="2503080"/>
                <a:ext cx="318960" cy="207720"/>
              </a:xfrm>
              <a:custGeom>
                <a:avLst/>
                <a:gdLst/>
                <a:ahLst/>
                <a:rect l="l" t="t" r="r" b="b"/>
                <a:pathLst>
                  <a:path w="515549" h="335522">
                    <a:moveTo>
                      <a:pt x="515302" y="55245"/>
                    </a:moveTo>
                    <a:cubicBezTo>
                      <a:pt x="517207" y="70485"/>
                      <a:pt x="507682" y="103823"/>
                      <a:pt x="501015" y="118110"/>
                    </a:cubicBezTo>
                    <a:cubicBezTo>
                      <a:pt x="487680" y="150495"/>
                      <a:pt x="397193" y="174308"/>
                      <a:pt x="363855" y="187643"/>
                    </a:cubicBezTo>
                    <a:cubicBezTo>
                      <a:pt x="293370" y="215265"/>
                      <a:pt x="279082" y="243840"/>
                      <a:pt x="220980" y="293370"/>
                    </a:cubicBezTo>
                    <a:cubicBezTo>
                      <a:pt x="201930" y="309563"/>
                      <a:pt x="181927" y="327660"/>
                      <a:pt x="158115" y="333375"/>
                    </a:cubicBezTo>
                    <a:cubicBezTo>
                      <a:pt x="135255" y="339090"/>
                      <a:pt x="112395" y="332423"/>
                      <a:pt x="90488" y="324803"/>
                    </a:cubicBezTo>
                    <a:cubicBezTo>
                      <a:pt x="59055" y="314325"/>
                      <a:pt x="28575" y="300038"/>
                      <a:pt x="0" y="283845"/>
                    </a:cubicBezTo>
                    <a:cubicBezTo>
                      <a:pt x="22860" y="287655"/>
                      <a:pt x="45720" y="289560"/>
                      <a:pt x="68580" y="290513"/>
                    </a:cubicBezTo>
                    <a:cubicBezTo>
                      <a:pt x="103823" y="291465"/>
                      <a:pt x="140018" y="289560"/>
                      <a:pt x="171450" y="273368"/>
                    </a:cubicBezTo>
                    <a:cubicBezTo>
                      <a:pt x="187643" y="264795"/>
                      <a:pt x="201930" y="253365"/>
                      <a:pt x="216218" y="241935"/>
                    </a:cubicBezTo>
                    <a:cubicBezTo>
                      <a:pt x="236220" y="225743"/>
                      <a:pt x="256223" y="209550"/>
                      <a:pt x="275273" y="193358"/>
                    </a:cubicBezTo>
                    <a:cubicBezTo>
                      <a:pt x="278130" y="190500"/>
                      <a:pt x="282893" y="188595"/>
                      <a:pt x="283845" y="184785"/>
                    </a:cubicBezTo>
                    <a:cubicBezTo>
                      <a:pt x="294323" y="115252"/>
                      <a:pt x="339090" y="84773"/>
                      <a:pt x="339090" y="84773"/>
                    </a:cubicBezTo>
                    <a:cubicBezTo>
                      <a:pt x="339090" y="84773"/>
                      <a:pt x="330518" y="125730"/>
                      <a:pt x="324802" y="149543"/>
                    </a:cubicBezTo>
                    <a:cubicBezTo>
                      <a:pt x="323850" y="154305"/>
                      <a:pt x="329565" y="158115"/>
                      <a:pt x="333375" y="155258"/>
                    </a:cubicBezTo>
                    <a:cubicBezTo>
                      <a:pt x="366713" y="130493"/>
                      <a:pt x="421957" y="112395"/>
                      <a:pt x="454343" y="108585"/>
                    </a:cubicBezTo>
                    <a:cubicBezTo>
                      <a:pt x="441960" y="97155"/>
                      <a:pt x="421005" y="73343"/>
                      <a:pt x="402907" y="63818"/>
                    </a:cubicBezTo>
                    <a:cubicBezTo>
                      <a:pt x="400050" y="61913"/>
                      <a:pt x="397193" y="60960"/>
                      <a:pt x="395288" y="60008"/>
                    </a:cubicBezTo>
                    <a:cubicBezTo>
                      <a:pt x="400050" y="60008"/>
                      <a:pt x="403860" y="60008"/>
                      <a:pt x="408623" y="60008"/>
                    </a:cubicBezTo>
                    <a:cubicBezTo>
                      <a:pt x="418148" y="60008"/>
                      <a:pt x="428625" y="60960"/>
                      <a:pt x="438150" y="63818"/>
                    </a:cubicBezTo>
                    <a:cubicBezTo>
                      <a:pt x="451485" y="68580"/>
                      <a:pt x="463868" y="79058"/>
                      <a:pt x="467677" y="93345"/>
                    </a:cubicBezTo>
                    <a:cubicBezTo>
                      <a:pt x="483870" y="67627"/>
                      <a:pt x="483870" y="34290"/>
                      <a:pt x="469582" y="7620"/>
                    </a:cubicBezTo>
                    <a:cubicBezTo>
                      <a:pt x="473393" y="2858"/>
                      <a:pt x="479107" y="0"/>
                      <a:pt x="484823" y="0"/>
                    </a:cubicBezTo>
                    <a:cubicBezTo>
                      <a:pt x="501015" y="14288"/>
                      <a:pt x="513398" y="30480"/>
                      <a:pt x="515302" y="5524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16" name="Freeform: Shape 24"/>
              <p:cNvSpPr/>
              <p:nvPr/>
            </p:nvSpPr>
            <p:spPr>
              <a:xfrm>
                <a:off x="2395080" y="2540880"/>
                <a:ext cx="90000" cy="66960"/>
              </a:xfrm>
              <a:custGeom>
                <a:avLst/>
                <a:gdLst/>
                <a:ahLst/>
                <a:rect l="l" t="t" r="r" b="b"/>
                <a:pathLst>
                  <a:path w="145630" h="108274">
                    <a:moveTo>
                      <a:pt x="145631" y="52388"/>
                    </a:moveTo>
                    <a:cubicBezTo>
                      <a:pt x="101816" y="64770"/>
                      <a:pt x="58953" y="82867"/>
                      <a:pt x="17996" y="104775"/>
                    </a:cubicBezTo>
                    <a:cubicBezTo>
                      <a:pt x="13234" y="107633"/>
                      <a:pt x="5614" y="110490"/>
                      <a:pt x="1803" y="105727"/>
                    </a:cubicBezTo>
                    <a:cubicBezTo>
                      <a:pt x="-1054" y="101917"/>
                      <a:pt x="-102" y="97155"/>
                      <a:pt x="1803" y="92392"/>
                    </a:cubicBezTo>
                    <a:cubicBezTo>
                      <a:pt x="9423" y="73342"/>
                      <a:pt x="16091" y="54292"/>
                      <a:pt x="23711" y="35242"/>
                    </a:cubicBezTo>
                    <a:cubicBezTo>
                      <a:pt x="47523" y="27623"/>
                      <a:pt x="69431" y="16192"/>
                      <a:pt x="90386" y="1905"/>
                    </a:cubicBezTo>
                    <a:cubicBezTo>
                      <a:pt x="91339" y="952"/>
                      <a:pt x="92291" y="952"/>
                      <a:pt x="93243" y="0"/>
                    </a:cubicBezTo>
                    <a:cubicBezTo>
                      <a:pt x="99911" y="2858"/>
                      <a:pt x="106578" y="6667"/>
                      <a:pt x="112293" y="10477"/>
                    </a:cubicBezTo>
                    <a:cubicBezTo>
                      <a:pt x="128486" y="20002"/>
                      <a:pt x="141821" y="34290"/>
                      <a:pt x="145631" y="52388"/>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313c3f"/>
                  </a:solidFill>
                  <a:latin typeface="Source Sans Pro"/>
                </a:endParaRPr>
              </a:p>
            </p:txBody>
          </p:sp>
          <p:sp>
            <p:nvSpPr>
              <p:cNvPr id="3017" name="Freeform: Shape 25"/>
              <p:cNvSpPr/>
              <p:nvPr/>
            </p:nvSpPr>
            <p:spPr>
              <a:xfrm>
                <a:off x="2037240" y="2361240"/>
                <a:ext cx="76320" cy="235800"/>
              </a:xfrm>
              <a:custGeom>
                <a:avLst/>
                <a:gdLst/>
                <a:ahLst/>
                <a:rect l="l" t="t" r="r" b="b"/>
                <a:pathLst>
                  <a:path w="123884" h="381000">
                    <a:moveTo>
                      <a:pt x="119122" y="167640"/>
                    </a:moveTo>
                    <a:cubicBezTo>
                      <a:pt x="121027" y="173355"/>
                      <a:pt x="121980" y="179070"/>
                      <a:pt x="123884" y="184785"/>
                    </a:cubicBezTo>
                    <a:cubicBezTo>
                      <a:pt x="123884" y="184785"/>
                      <a:pt x="123884" y="184785"/>
                      <a:pt x="123884" y="183833"/>
                    </a:cubicBezTo>
                    <a:cubicBezTo>
                      <a:pt x="116264" y="170498"/>
                      <a:pt x="104834" y="158115"/>
                      <a:pt x="89594" y="154305"/>
                    </a:cubicBezTo>
                    <a:cubicBezTo>
                      <a:pt x="71497" y="150495"/>
                      <a:pt x="53400" y="160973"/>
                      <a:pt x="43875" y="176213"/>
                    </a:cubicBezTo>
                    <a:cubicBezTo>
                      <a:pt x="34350" y="191452"/>
                      <a:pt x="33397" y="210502"/>
                      <a:pt x="34350" y="228600"/>
                    </a:cubicBezTo>
                    <a:cubicBezTo>
                      <a:pt x="38159" y="272415"/>
                      <a:pt x="60067" y="313373"/>
                      <a:pt x="84832" y="349567"/>
                    </a:cubicBezTo>
                    <a:cubicBezTo>
                      <a:pt x="92452" y="360045"/>
                      <a:pt x="100072" y="370523"/>
                      <a:pt x="107692" y="381000"/>
                    </a:cubicBezTo>
                    <a:cubicBezTo>
                      <a:pt x="83880" y="355283"/>
                      <a:pt x="61019" y="328613"/>
                      <a:pt x="39112" y="302895"/>
                    </a:cubicBezTo>
                    <a:cubicBezTo>
                      <a:pt x="27682" y="289560"/>
                      <a:pt x="17205" y="277178"/>
                      <a:pt x="9584" y="261938"/>
                    </a:cubicBezTo>
                    <a:cubicBezTo>
                      <a:pt x="7680" y="258127"/>
                      <a:pt x="5775" y="254317"/>
                      <a:pt x="4822" y="249555"/>
                    </a:cubicBezTo>
                    <a:cubicBezTo>
                      <a:pt x="2917" y="244792"/>
                      <a:pt x="1964" y="239077"/>
                      <a:pt x="1012" y="234315"/>
                    </a:cubicBezTo>
                    <a:cubicBezTo>
                      <a:pt x="-1845" y="213360"/>
                      <a:pt x="1964" y="190500"/>
                      <a:pt x="4822" y="169545"/>
                    </a:cubicBezTo>
                    <a:cubicBezTo>
                      <a:pt x="13394" y="120967"/>
                      <a:pt x="21967" y="72390"/>
                      <a:pt x="29587" y="23813"/>
                    </a:cubicBezTo>
                    <a:cubicBezTo>
                      <a:pt x="30539" y="18098"/>
                      <a:pt x="31492" y="9525"/>
                      <a:pt x="31492" y="0"/>
                    </a:cubicBezTo>
                    <a:cubicBezTo>
                      <a:pt x="40064" y="12383"/>
                      <a:pt x="48637" y="24765"/>
                      <a:pt x="56257" y="37148"/>
                    </a:cubicBezTo>
                    <a:cubicBezTo>
                      <a:pt x="83880" y="76200"/>
                      <a:pt x="104834" y="120967"/>
                      <a:pt x="119122" y="1676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018" name="Graphic 2"/>
            <p:cNvGrpSpPr/>
            <p:nvPr/>
          </p:nvGrpSpPr>
          <p:grpSpPr>
            <a:xfrm>
              <a:off x="1373040" y="2051280"/>
              <a:ext cx="2044800" cy="499680"/>
              <a:chOff x="1373040" y="2051280"/>
              <a:chExt cx="2044800" cy="499680"/>
            </a:xfrm>
          </p:grpSpPr>
          <p:sp>
            <p:nvSpPr>
              <p:cNvPr id="3019" name="Freeform: Shape 27"/>
              <p:cNvSpPr/>
              <p:nvPr/>
            </p:nvSpPr>
            <p:spPr>
              <a:xfrm>
                <a:off x="2449800" y="2051280"/>
                <a:ext cx="968040" cy="317520"/>
              </a:xfrm>
              <a:custGeom>
                <a:avLst/>
                <a:gdLst/>
                <a:ahLst/>
                <a:rect l="l" t="t" r="r" b="b"/>
                <a:pathLst>
                  <a:path w="1565848" h="513335">
                    <a:moveTo>
                      <a:pt x="401003" y="445708"/>
                    </a:moveTo>
                    <a:lnTo>
                      <a:pt x="55245" y="513336"/>
                    </a:lnTo>
                    <a:lnTo>
                      <a:pt x="56198" y="512383"/>
                    </a:lnTo>
                    <a:cubicBezTo>
                      <a:pt x="73343" y="487618"/>
                      <a:pt x="83820" y="461901"/>
                      <a:pt x="88583" y="431421"/>
                    </a:cubicBezTo>
                    <a:cubicBezTo>
                      <a:pt x="91440" y="411418"/>
                      <a:pt x="91440" y="390463"/>
                      <a:pt x="86678" y="369508"/>
                    </a:cubicBezTo>
                    <a:cubicBezTo>
                      <a:pt x="76200" y="316168"/>
                      <a:pt x="43815" y="272353"/>
                      <a:pt x="0" y="246636"/>
                    </a:cubicBezTo>
                    <a:lnTo>
                      <a:pt x="31433" y="240921"/>
                    </a:lnTo>
                    <a:cubicBezTo>
                      <a:pt x="78105" y="232348"/>
                      <a:pt x="125730" y="224728"/>
                      <a:pt x="172403" y="217108"/>
                    </a:cubicBezTo>
                    <a:lnTo>
                      <a:pt x="594360" y="145671"/>
                    </a:lnTo>
                    <a:lnTo>
                      <a:pt x="600075" y="144718"/>
                    </a:lnTo>
                    <a:cubicBezTo>
                      <a:pt x="633413" y="138051"/>
                      <a:pt x="670560" y="132336"/>
                      <a:pt x="710565" y="126621"/>
                    </a:cubicBezTo>
                    <a:lnTo>
                      <a:pt x="1446848" y="1843"/>
                    </a:lnTo>
                    <a:cubicBezTo>
                      <a:pt x="1501140" y="-8634"/>
                      <a:pt x="1553528" y="26608"/>
                      <a:pt x="1564005" y="80901"/>
                    </a:cubicBezTo>
                    <a:cubicBezTo>
                      <a:pt x="1574483" y="135193"/>
                      <a:pt x="1539240" y="187581"/>
                      <a:pt x="1484948" y="198058"/>
                    </a:cubicBezTo>
                    <a:cubicBezTo>
                      <a:pt x="1436371" y="207583"/>
                      <a:pt x="1388746" y="179008"/>
                      <a:pt x="1371600" y="133288"/>
                    </a:cubicBezTo>
                    <a:cubicBezTo>
                      <a:pt x="1214438" y="213298"/>
                      <a:pt x="712470" y="384748"/>
                      <a:pt x="401003" y="445708"/>
                    </a:cubicBezTo>
                    <a:close/>
                    <a:moveTo>
                      <a:pt x="1477328" y="156148"/>
                    </a:moveTo>
                    <a:cubicBezTo>
                      <a:pt x="1507808" y="150433"/>
                      <a:pt x="1527810" y="120906"/>
                      <a:pt x="1522096" y="89473"/>
                    </a:cubicBezTo>
                    <a:cubicBezTo>
                      <a:pt x="1516380" y="58993"/>
                      <a:pt x="1486853" y="38991"/>
                      <a:pt x="1456373" y="44706"/>
                    </a:cubicBezTo>
                    <a:cubicBezTo>
                      <a:pt x="1425893" y="50421"/>
                      <a:pt x="1405890" y="79948"/>
                      <a:pt x="1411605" y="111381"/>
                    </a:cubicBezTo>
                    <a:lnTo>
                      <a:pt x="1411605" y="112333"/>
                    </a:lnTo>
                    <a:cubicBezTo>
                      <a:pt x="1426846" y="147576"/>
                      <a:pt x="1451610" y="160911"/>
                      <a:pt x="1477328" y="1561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20" name="Freeform: Shape 28"/>
              <p:cNvSpPr/>
              <p:nvPr/>
            </p:nvSpPr>
            <p:spPr>
              <a:xfrm>
                <a:off x="1373040" y="2232720"/>
                <a:ext cx="960480" cy="318240"/>
              </a:xfrm>
              <a:custGeom>
                <a:avLst/>
                <a:gdLst/>
                <a:ahLst/>
                <a:rect l="l" t="t" r="r" b="b"/>
                <a:pathLst>
                  <a:path w="1553465" h="514288">
                    <a:moveTo>
                      <a:pt x="1218186" y="332422"/>
                    </a:moveTo>
                    <a:lnTo>
                      <a:pt x="1553466" y="266700"/>
                    </a:lnTo>
                    <a:lnTo>
                      <a:pt x="1551561" y="265747"/>
                    </a:lnTo>
                    <a:lnTo>
                      <a:pt x="1549656" y="264795"/>
                    </a:lnTo>
                    <a:cubicBezTo>
                      <a:pt x="1538225" y="257175"/>
                      <a:pt x="1526795" y="247650"/>
                      <a:pt x="1517270" y="238125"/>
                    </a:cubicBezTo>
                    <a:cubicBezTo>
                      <a:pt x="1508698" y="229553"/>
                      <a:pt x="1502031" y="220980"/>
                      <a:pt x="1495363" y="210503"/>
                    </a:cubicBezTo>
                    <a:cubicBezTo>
                      <a:pt x="1458216" y="152400"/>
                      <a:pt x="1456311" y="79057"/>
                      <a:pt x="1491553" y="17145"/>
                    </a:cubicBezTo>
                    <a:cubicBezTo>
                      <a:pt x="1495363" y="11430"/>
                      <a:pt x="1499173" y="5715"/>
                      <a:pt x="1502983" y="0"/>
                    </a:cubicBezTo>
                    <a:cubicBezTo>
                      <a:pt x="1449643" y="11430"/>
                      <a:pt x="1396303" y="23813"/>
                      <a:pt x="1342011" y="35243"/>
                    </a:cubicBezTo>
                    <a:lnTo>
                      <a:pt x="923863" y="128587"/>
                    </a:lnTo>
                    <a:lnTo>
                      <a:pt x="918148" y="129540"/>
                    </a:lnTo>
                    <a:cubicBezTo>
                      <a:pt x="884811" y="136208"/>
                      <a:pt x="847663" y="144780"/>
                      <a:pt x="809563" y="154305"/>
                    </a:cubicBezTo>
                    <a:lnTo>
                      <a:pt x="80900" y="316230"/>
                    </a:lnTo>
                    <a:cubicBezTo>
                      <a:pt x="26608" y="326708"/>
                      <a:pt x="-8634" y="379095"/>
                      <a:pt x="1843" y="433387"/>
                    </a:cubicBezTo>
                    <a:cubicBezTo>
                      <a:pt x="12320" y="487680"/>
                      <a:pt x="64708" y="522922"/>
                      <a:pt x="119000" y="512445"/>
                    </a:cubicBezTo>
                    <a:cubicBezTo>
                      <a:pt x="167578" y="502920"/>
                      <a:pt x="201868" y="459105"/>
                      <a:pt x="199011" y="410528"/>
                    </a:cubicBezTo>
                    <a:cubicBezTo>
                      <a:pt x="377128" y="423862"/>
                      <a:pt x="906718" y="393383"/>
                      <a:pt x="1218186" y="332422"/>
                    </a:cubicBezTo>
                    <a:close/>
                    <a:moveTo>
                      <a:pt x="111381" y="469583"/>
                    </a:moveTo>
                    <a:cubicBezTo>
                      <a:pt x="80900" y="475297"/>
                      <a:pt x="51373" y="455295"/>
                      <a:pt x="45658" y="424815"/>
                    </a:cubicBezTo>
                    <a:cubicBezTo>
                      <a:pt x="39943" y="394335"/>
                      <a:pt x="59945" y="364808"/>
                      <a:pt x="90425" y="358140"/>
                    </a:cubicBezTo>
                    <a:cubicBezTo>
                      <a:pt x="120906" y="352425"/>
                      <a:pt x="150433" y="372428"/>
                      <a:pt x="156148" y="402908"/>
                    </a:cubicBezTo>
                    <a:lnTo>
                      <a:pt x="156148" y="403860"/>
                    </a:lnTo>
                    <a:cubicBezTo>
                      <a:pt x="156148" y="442912"/>
                      <a:pt x="138050" y="464820"/>
                      <a:pt x="111381" y="46958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21" name="Freeform: Shape 29"/>
              <p:cNvSpPr/>
              <p:nvPr/>
            </p:nvSpPr>
            <p:spPr>
              <a:xfrm rot="20935800">
                <a:off x="2279520" y="2186640"/>
                <a:ext cx="226080" cy="227520"/>
              </a:xfrm>
              <a:custGeom>
                <a:avLst/>
                <a:gdLst/>
                <a:ahLst/>
                <a:rect l="l" t="t" r="r" b="b"/>
                <a:pathLst>
                  <a:path w="365754" h="367659">
                    <a:moveTo>
                      <a:pt x="365755" y="183830"/>
                    </a:moveTo>
                    <a:cubicBezTo>
                      <a:pt x="365755" y="285356"/>
                      <a:pt x="283878" y="367660"/>
                      <a:pt x="182877" y="367660"/>
                    </a:cubicBezTo>
                    <a:cubicBezTo>
                      <a:pt x="81877" y="367660"/>
                      <a:pt x="0" y="285356"/>
                      <a:pt x="0" y="183830"/>
                    </a:cubicBezTo>
                    <a:cubicBezTo>
                      <a:pt x="0" y="82303"/>
                      <a:pt x="81877" y="0"/>
                      <a:pt x="182877" y="0"/>
                    </a:cubicBezTo>
                    <a:cubicBezTo>
                      <a:pt x="283878" y="0"/>
                      <a:pt x="365755" y="82303"/>
                      <a:pt x="365755" y="18383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22" name="Freeform: Shape 30"/>
              <p:cNvSpPr/>
              <p:nvPr/>
            </p:nvSpPr>
            <p:spPr>
              <a:xfrm rot="20935800">
                <a:off x="2328840" y="2236320"/>
                <a:ext cx="127080" cy="128520"/>
              </a:xfrm>
              <a:custGeom>
                <a:avLst/>
                <a:gdLst/>
                <a:ahLst/>
                <a:rect l="l" t="t" r="r" b="b"/>
                <a:pathLst>
                  <a:path w="205737" h="207642">
                    <a:moveTo>
                      <a:pt x="205737" y="103821"/>
                    </a:moveTo>
                    <a:cubicBezTo>
                      <a:pt x="205737" y="161160"/>
                      <a:pt x="159681" y="207642"/>
                      <a:pt x="102869" y="207642"/>
                    </a:cubicBezTo>
                    <a:cubicBezTo>
                      <a:pt x="46056" y="207642"/>
                      <a:pt x="0" y="161160"/>
                      <a:pt x="0" y="103821"/>
                    </a:cubicBezTo>
                    <a:cubicBezTo>
                      <a:pt x="0" y="46482"/>
                      <a:pt x="46056" y="0"/>
                      <a:pt x="102869" y="0"/>
                    </a:cubicBezTo>
                    <a:cubicBezTo>
                      <a:pt x="159681" y="0"/>
                      <a:pt x="205737" y="46482"/>
                      <a:pt x="205737" y="103821"/>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23" name="Freeform: Shape 31"/>
              <p:cNvSpPr/>
              <p:nvPr/>
            </p:nvSpPr>
            <p:spPr>
              <a:xfrm rot="20935800">
                <a:off x="2360160" y="2268720"/>
                <a:ext cx="64440" cy="64800"/>
              </a:xfrm>
              <a:custGeom>
                <a:avLst/>
                <a:gdLst/>
                <a:ahLst/>
                <a:rect l="l" t="t" r="r" b="b"/>
                <a:pathLst>
                  <a:path w="104773" h="104773">
                    <a:moveTo>
                      <a:pt x="104773" y="52387"/>
                    </a:moveTo>
                    <a:cubicBezTo>
                      <a:pt x="104773" y="81319"/>
                      <a:pt x="81319" y="104774"/>
                      <a:pt x="52387" y="104774"/>
                    </a:cubicBezTo>
                    <a:cubicBezTo>
                      <a:pt x="23455" y="104774"/>
                      <a:pt x="0" y="81319"/>
                      <a:pt x="0" y="52387"/>
                    </a:cubicBezTo>
                    <a:cubicBezTo>
                      <a:pt x="0" y="23454"/>
                      <a:pt x="23455" y="0"/>
                      <a:pt x="52387" y="0"/>
                    </a:cubicBezTo>
                    <a:cubicBezTo>
                      <a:pt x="81319" y="0"/>
                      <a:pt x="104773" y="23454"/>
                      <a:pt x="104773" y="52387"/>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13c3f"/>
                  </a:solidFill>
                  <a:latin typeface="Source Sans Pro"/>
                </a:endParaRPr>
              </a:p>
            </p:txBody>
          </p:sp>
          <p:grpSp>
            <p:nvGrpSpPr>
              <p:cNvPr id="3024" name="Graphic 2"/>
              <p:cNvGrpSpPr/>
              <p:nvPr/>
            </p:nvGrpSpPr>
            <p:grpSpPr>
              <a:xfrm>
                <a:off x="1741680" y="2115360"/>
                <a:ext cx="1371600" cy="347760"/>
                <a:chOff x="1741680" y="2115360"/>
                <a:chExt cx="1371600" cy="347760"/>
              </a:xfrm>
            </p:grpSpPr>
            <p:grpSp>
              <p:nvGrpSpPr>
                <p:cNvPr id="3025" name="Graphic 2"/>
                <p:cNvGrpSpPr/>
                <p:nvPr/>
              </p:nvGrpSpPr>
              <p:grpSpPr>
                <a:xfrm>
                  <a:off x="2731680" y="2115360"/>
                  <a:ext cx="381600" cy="164520"/>
                  <a:chOff x="2731680" y="2115360"/>
                  <a:chExt cx="381600" cy="164520"/>
                </a:xfrm>
              </p:grpSpPr>
              <p:sp>
                <p:nvSpPr>
                  <p:cNvPr id="3026" name="Freeform: Shape 34"/>
                  <p:cNvSpPr/>
                  <p:nvPr/>
                </p:nvSpPr>
                <p:spPr>
                  <a:xfrm>
                    <a:off x="2989080" y="2115360"/>
                    <a:ext cx="124200" cy="93240"/>
                  </a:xfrm>
                  <a:custGeom>
                    <a:avLst/>
                    <a:gdLst/>
                    <a:ahLst/>
                    <a:rect l="l" t="t" r="r" b="b"/>
                    <a:pathLst>
                      <a:path w="200977" h="150494">
                        <a:moveTo>
                          <a:pt x="200977" y="127635"/>
                        </a:moveTo>
                        <a:lnTo>
                          <a:pt x="92393" y="0"/>
                        </a:lnTo>
                        <a:lnTo>
                          <a:pt x="0" y="15240"/>
                        </a:lnTo>
                        <a:lnTo>
                          <a:pt x="132397" y="150495"/>
                        </a:lnTo>
                        <a:cubicBezTo>
                          <a:pt x="155257" y="143828"/>
                          <a:pt x="178118" y="135255"/>
                          <a:pt x="200977" y="127635"/>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313c3f"/>
                      </a:solidFill>
                      <a:latin typeface="Source Sans Pro"/>
                    </a:endParaRPr>
                  </a:p>
                </p:txBody>
              </p:sp>
              <p:sp>
                <p:nvSpPr>
                  <p:cNvPr id="3027" name="Freeform: Shape 35"/>
                  <p:cNvSpPr/>
                  <p:nvPr/>
                </p:nvSpPr>
                <p:spPr>
                  <a:xfrm>
                    <a:off x="2731680" y="2154240"/>
                    <a:ext cx="175320" cy="125640"/>
                  </a:xfrm>
                  <a:custGeom>
                    <a:avLst/>
                    <a:gdLst/>
                    <a:ahLst/>
                    <a:rect l="l" t="t" r="r" b="b"/>
                    <a:pathLst>
                      <a:path w="283844" h="202882">
                        <a:moveTo>
                          <a:pt x="283845" y="172402"/>
                        </a:moveTo>
                        <a:lnTo>
                          <a:pt x="137160" y="0"/>
                        </a:lnTo>
                        <a:lnTo>
                          <a:pt x="0" y="22860"/>
                        </a:lnTo>
                        <a:lnTo>
                          <a:pt x="175260" y="202883"/>
                        </a:lnTo>
                        <a:cubicBezTo>
                          <a:pt x="212407" y="193358"/>
                          <a:pt x="248602" y="182880"/>
                          <a:pt x="283845" y="172402"/>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028" name="Graphic 2"/>
                <p:cNvGrpSpPr/>
                <p:nvPr/>
              </p:nvGrpSpPr>
              <p:grpSpPr>
                <a:xfrm>
                  <a:off x="1741680" y="2300400"/>
                  <a:ext cx="412920" cy="162720"/>
                  <a:chOff x="1741680" y="2300400"/>
                  <a:chExt cx="412920" cy="162720"/>
                </a:xfrm>
              </p:grpSpPr>
              <p:sp>
                <p:nvSpPr>
                  <p:cNvPr id="3029" name="Freeform: Shape 37"/>
                  <p:cNvSpPr/>
                  <p:nvPr/>
                </p:nvSpPr>
                <p:spPr>
                  <a:xfrm>
                    <a:off x="1988640" y="2300400"/>
                    <a:ext cx="165960" cy="129960"/>
                  </a:xfrm>
                  <a:custGeom>
                    <a:avLst/>
                    <a:gdLst/>
                    <a:ahLst/>
                    <a:rect l="l" t="t" r="r" b="b"/>
                    <a:pathLst>
                      <a:path w="268605" h="209549">
                        <a:moveTo>
                          <a:pt x="268605" y="193358"/>
                        </a:moveTo>
                        <a:lnTo>
                          <a:pt x="104775" y="0"/>
                        </a:lnTo>
                        <a:lnTo>
                          <a:pt x="0" y="22860"/>
                        </a:lnTo>
                        <a:lnTo>
                          <a:pt x="180975" y="209550"/>
                        </a:lnTo>
                        <a:cubicBezTo>
                          <a:pt x="193357" y="207645"/>
                          <a:pt x="205740" y="204787"/>
                          <a:pt x="218123" y="202883"/>
                        </a:cubicBezTo>
                        <a:lnTo>
                          <a:pt x="268605" y="193358"/>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30" name="Freeform: Shape 38"/>
                  <p:cNvSpPr/>
                  <p:nvPr/>
                </p:nvSpPr>
                <p:spPr>
                  <a:xfrm>
                    <a:off x="1741680" y="2349720"/>
                    <a:ext cx="179640" cy="113400"/>
                  </a:xfrm>
                  <a:custGeom>
                    <a:avLst/>
                    <a:gdLst/>
                    <a:ahLst/>
                    <a:rect l="l" t="t" r="r" b="b"/>
                    <a:pathLst>
                      <a:path w="290512" h="182880">
                        <a:moveTo>
                          <a:pt x="290513" y="169545"/>
                        </a:moveTo>
                        <a:lnTo>
                          <a:pt x="146685" y="0"/>
                        </a:lnTo>
                        <a:lnTo>
                          <a:pt x="0" y="32385"/>
                        </a:lnTo>
                        <a:lnTo>
                          <a:pt x="146685" y="182880"/>
                        </a:lnTo>
                        <a:cubicBezTo>
                          <a:pt x="166688" y="180975"/>
                          <a:pt x="185738" y="180023"/>
                          <a:pt x="205740" y="178118"/>
                        </a:cubicBezTo>
                        <a:cubicBezTo>
                          <a:pt x="234315" y="175260"/>
                          <a:pt x="261938" y="172402"/>
                          <a:pt x="290513" y="1695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sp>
          <p:nvSpPr>
            <p:cNvPr id="3031" name="Freeform: Shape 39"/>
            <p:cNvSpPr/>
            <p:nvPr/>
          </p:nvSpPr>
          <p:spPr>
            <a:xfrm>
              <a:off x="2030400" y="1982880"/>
              <a:ext cx="708120" cy="623160"/>
            </a:xfrm>
            <a:custGeom>
              <a:avLst/>
              <a:gdLst/>
              <a:ahLst/>
              <a:rect l="l" t="t" r="r" b="b"/>
              <a:pathLst>
                <a:path w="1145702" h="1007436">
                  <a:moveTo>
                    <a:pt x="1136636" y="378369"/>
                  </a:moveTo>
                  <a:cubicBezTo>
                    <a:pt x="1149018" y="426946"/>
                    <a:pt x="1147114" y="478381"/>
                    <a:pt x="1140446" y="526959"/>
                  </a:cubicBezTo>
                  <a:cubicBezTo>
                    <a:pt x="1133778" y="574584"/>
                    <a:pt x="1123301" y="621256"/>
                    <a:pt x="1107108" y="666024"/>
                  </a:cubicBezTo>
                  <a:cubicBezTo>
                    <a:pt x="1102346" y="680311"/>
                    <a:pt x="1096631" y="694599"/>
                    <a:pt x="1089011" y="707934"/>
                  </a:cubicBezTo>
                  <a:cubicBezTo>
                    <a:pt x="1083296" y="718411"/>
                    <a:pt x="1075676" y="727936"/>
                    <a:pt x="1067103" y="736509"/>
                  </a:cubicBezTo>
                  <a:cubicBezTo>
                    <a:pt x="1041386" y="762226"/>
                    <a:pt x="1005191" y="779371"/>
                    <a:pt x="968043" y="781276"/>
                  </a:cubicBezTo>
                  <a:cubicBezTo>
                    <a:pt x="968043" y="781276"/>
                    <a:pt x="968043" y="781276"/>
                    <a:pt x="968043" y="781276"/>
                  </a:cubicBezTo>
                  <a:cubicBezTo>
                    <a:pt x="961376" y="781276"/>
                    <a:pt x="955661" y="785086"/>
                    <a:pt x="951851" y="790801"/>
                  </a:cubicBezTo>
                  <a:cubicBezTo>
                    <a:pt x="950898" y="791754"/>
                    <a:pt x="949946" y="792706"/>
                    <a:pt x="949946" y="794611"/>
                  </a:cubicBezTo>
                  <a:cubicBezTo>
                    <a:pt x="948041" y="797469"/>
                    <a:pt x="945183" y="800326"/>
                    <a:pt x="942326" y="803184"/>
                  </a:cubicBezTo>
                  <a:cubicBezTo>
                    <a:pt x="932801" y="813661"/>
                    <a:pt x="913751" y="826044"/>
                    <a:pt x="900416" y="832711"/>
                  </a:cubicBezTo>
                  <a:cubicBezTo>
                    <a:pt x="860411" y="850809"/>
                    <a:pt x="811833" y="859381"/>
                    <a:pt x="771828" y="841284"/>
                  </a:cubicBezTo>
                  <a:cubicBezTo>
                    <a:pt x="768971" y="840331"/>
                    <a:pt x="766113" y="839379"/>
                    <a:pt x="763256" y="839379"/>
                  </a:cubicBezTo>
                  <a:cubicBezTo>
                    <a:pt x="757541" y="839379"/>
                    <a:pt x="751826" y="842236"/>
                    <a:pt x="748016" y="846999"/>
                  </a:cubicBezTo>
                  <a:cubicBezTo>
                    <a:pt x="735633" y="864144"/>
                    <a:pt x="716583" y="877479"/>
                    <a:pt x="699438" y="890814"/>
                  </a:cubicBezTo>
                  <a:cubicBezTo>
                    <a:pt x="668006" y="914626"/>
                    <a:pt x="632763" y="934629"/>
                    <a:pt x="594663" y="942249"/>
                  </a:cubicBezTo>
                  <a:cubicBezTo>
                    <a:pt x="555611" y="949869"/>
                    <a:pt x="513701" y="944154"/>
                    <a:pt x="482268" y="920341"/>
                  </a:cubicBezTo>
                  <a:cubicBezTo>
                    <a:pt x="456551" y="966061"/>
                    <a:pt x="397496" y="985111"/>
                    <a:pt x="347013" y="998446"/>
                  </a:cubicBezTo>
                  <a:cubicBezTo>
                    <a:pt x="317486" y="1006066"/>
                    <a:pt x="286053" y="1012734"/>
                    <a:pt x="258430" y="1001304"/>
                  </a:cubicBezTo>
                  <a:cubicBezTo>
                    <a:pt x="242238" y="994636"/>
                    <a:pt x="229855" y="982254"/>
                    <a:pt x="218426" y="969871"/>
                  </a:cubicBezTo>
                  <a:cubicBezTo>
                    <a:pt x="193661" y="942249"/>
                    <a:pt x="173658" y="908911"/>
                    <a:pt x="160323" y="873669"/>
                  </a:cubicBezTo>
                  <a:cubicBezTo>
                    <a:pt x="148893" y="843189"/>
                    <a:pt x="142226" y="810804"/>
                    <a:pt x="132701" y="778419"/>
                  </a:cubicBezTo>
                  <a:cubicBezTo>
                    <a:pt x="132701" y="777466"/>
                    <a:pt x="131748" y="775561"/>
                    <a:pt x="131748" y="774609"/>
                  </a:cubicBezTo>
                  <a:cubicBezTo>
                    <a:pt x="117461" y="729841"/>
                    <a:pt x="97458" y="686026"/>
                    <a:pt x="71741" y="646974"/>
                  </a:cubicBezTo>
                  <a:cubicBezTo>
                    <a:pt x="64121" y="634591"/>
                    <a:pt x="55548" y="622209"/>
                    <a:pt x="46976" y="609826"/>
                  </a:cubicBezTo>
                  <a:cubicBezTo>
                    <a:pt x="24116" y="576489"/>
                    <a:pt x="3161" y="542199"/>
                    <a:pt x="303" y="503146"/>
                  </a:cubicBezTo>
                  <a:cubicBezTo>
                    <a:pt x="-1602" y="475524"/>
                    <a:pt x="6018" y="448854"/>
                    <a:pt x="7923" y="421231"/>
                  </a:cubicBezTo>
                  <a:cubicBezTo>
                    <a:pt x="10780" y="380274"/>
                    <a:pt x="3161" y="339316"/>
                    <a:pt x="9828" y="299311"/>
                  </a:cubicBezTo>
                  <a:cubicBezTo>
                    <a:pt x="16496" y="262164"/>
                    <a:pt x="35546" y="227874"/>
                    <a:pt x="57453" y="197394"/>
                  </a:cubicBezTo>
                  <a:cubicBezTo>
                    <a:pt x="73646" y="173581"/>
                    <a:pt x="91743" y="150721"/>
                    <a:pt x="115555" y="135481"/>
                  </a:cubicBezTo>
                  <a:cubicBezTo>
                    <a:pt x="143178" y="116431"/>
                    <a:pt x="178421" y="108811"/>
                    <a:pt x="211758" y="113574"/>
                  </a:cubicBezTo>
                  <a:cubicBezTo>
                    <a:pt x="227951" y="115479"/>
                    <a:pt x="243191" y="120241"/>
                    <a:pt x="257478" y="127861"/>
                  </a:cubicBezTo>
                  <a:cubicBezTo>
                    <a:pt x="267003" y="111669"/>
                    <a:pt x="278433" y="96429"/>
                    <a:pt x="291768" y="83094"/>
                  </a:cubicBezTo>
                  <a:cubicBezTo>
                    <a:pt x="318438" y="57376"/>
                    <a:pt x="350823" y="38326"/>
                    <a:pt x="386066" y="29754"/>
                  </a:cubicBezTo>
                  <a:cubicBezTo>
                    <a:pt x="414641" y="23086"/>
                    <a:pt x="444168" y="23086"/>
                    <a:pt x="472743" y="28801"/>
                  </a:cubicBezTo>
                  <a:cubicBezTo>
                    <a:pt x="472743" y="28801"/>
                    <a:pt x="472743" y="28801"/>
                    <a:pt x="472743" y="28801"/>
                  </a:cubicBezTo>
                  <a:cubicBezTo>
                    <a:pt x="498461" y="33564"/>
                    <a:pt x="523226" y="44041"/>
                    <a:pt x="545133" y="58329"/>
                  </a:cubicBezTo>
                  <a:cubicBezTo>
                    <a:pt x="572756" y="32611"/>
                    <a:pt x="601331" y="17371"/>
                    <a:pt x="628953" y="8799"/>
                  </a:cubicBezTo>
                  <a:cubicBezTo>
                    <a:pt x="652766" y="1179"/>
                    <a:pt x="676578" y="-726"/>
                    <a:pt x="697533" y="226"/>
                  </a:cubicBezTo>
                  <a:cubicBezTo>
                    <a:pt x="697533" y="226"/>
                    <a:pt x="698486" y="226"/>
                    <a:pt x="698486" y="226"/>
                  </a:cubicBezTo>
                  <a:cubicBezTo>
                    <a:pt x="758493" y="4036"/>
                    <a:pt x="804213" y="34516"/>
                    <a:pt x="808976" y="51661"/>
                  </a:cubicBezTo>
                  <a:cubicBezTo>
                    <a:pt x="814691" y="41184"/>
                    <a:pt x="823263" y="33564"/>
                    <a:pt x="832788" y="26896"/>
                  </a:cubicBezTo>
                  <a:cubicBezTo>
                    <a:pt x="832788" y="26896"/>
                    <a:pt x="832788" y="26896"/>
                    <a:pt x="832788" y="26896"/>
                  </a:cubicBezTo>
                  <a:cubicBezTo>
                    <a:pt x="834693" y="25944"/>
                    <a:pt x="836598" y="24039"/>
                    <a:pt x="839456" y="23086"/>
                  </a:cubicBezTo>
                  <a:cubicBezTo>
                    <a:pt x="839456" y="23086"/>
                    <a:pt x="839456" y="23086"/>
                    <a:pt x="840408" y="23086"/>
                  </a:cubicBezTo>
                  <a:cubicBezTo>
                    <a:pt x="861363" y="12609"/>
                    <a:pt x="887081" y="10704"/>
                    <a:pt x="909941" y="18324"/>
                  </a:cubicBezTo>
                  <a:cubicBezTo>
                    <a:pt x="928038" y="24039"/>
                    <a:pt x="943278" y="34516"/>
                    <a:pt x="957566" y="45946"/>
                  </a:cubicBezTo>
                  <a:cubicBezTo>
                    <a:pt x="973758" y="59281"/>
                    <a:pt x="987093" y="75474"/>
                    <a:pt x="999476" y="91666"/>
                  </a:cubicBezTo>
                  <a:cubicBezTo>
                    <a:pt x="1049006" y="158341"/>
                    <a:pt x="1082343" y="235494"/>
                    <a:pt x="1114728" y="311694"/>
                  </a:cubicBezTo>
                  <a:cubicBezTo>
                    <a:pt x="1121396" y="334554"/>
                    <a:pt x="1129968" y="356461"/>
                    <a:pt x="1136636" y="378369"/>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32" name="Freeform: Shape 40"/>
            <p:cNvSpPr/>
            <p:nvPr/>
          </p:nvSpPr>
          <p:spPr>
            <a:xfrm>
              <a:off x="2108880" y="2012400"/>
              <a:ext cx="627120" cy="593640"/>
            </a:xfrm>
            <a:custGeom>
              <a:avLst/>
              <a:gdLst/>
              <a:ahLst/>
              <a:rect l="l" t="t" r="r" b="b"/>
              <a:pathLst>
                <a:path w="1014297" h="959585">
                  <a:moveTo>
                    <a:pt x="984885" y="265748"/>
                  </a:moveTo>
                  <a:cubicBezTo>
                    <a:pt x="952500" y="189548"/>
                    <a:pt x="919163" y="111443"/>
                    <a:pt x="869632" y="45720"/>
                  </a:cubicBezTo>
                  <a:cubicBezTo>
                    <a:pt x="857250" y="29527"/>
                    <a:pt x="842963" y="13335"/>
                    <a:pt x="827723" y="0"/>
                  </a:cubicBezTo>
                  <a:cubicBezTo>
                    <a:pt x="877253" y="84773"/>
                    <a:pt x="924878" y="171450"/>
                    <a:pt x="952500" y="265748"/>
                  </a:cubicBezTo>
                  <a:cubicBezTo>
                    <a:pt x="960120" y="292418"/>
                    <a:pt x="966788" y="320040"/>
                    <a:pt x="968693" y="347663"/>
                  </a:cubicBezTo>
                  <a:cubicBezTo>
                    <a:pt x="970598" y="370523"/>
                    <a:pt x="969645" y="392430"/>
                    <a:pt x="968693" y="415290"/>
                  </a:cubicBezTo>
                  <a:cubicBezTo>
                    <a:pt x="967740" y="441960"/>
                    <a:pt x="966788" y="468630"/>
                    <a:pt x="964882" y="495300"/>
                  </a:cubicBezTo>
                  <a:cubicBezTo>
                    <a:pt x="962978" y="532448"/>
                    <a:pt x="961073" y="572453"/>
                    <a:pt x="938213" y="601980"/>
                  </a:cubicBezTo>
                  <a:cubicBezTo>
                    <a:pt x="917257" y="629603"/>
                    <a:pt x="883920" y="642938"/>
                    <a:pt x="848678" y="649605"/>
                  </a:cubicBezTo>
                  <a:cubicBezTo>
                    <a:pt x="848678" y="649605"/>
                    <a:pt x="848678" y="648653"/>
                    <a:pt x="847725" y="648653"/>
                  </a:cubicBezTo>
                  <a:cubicBezTo>
                    <a:pt x="838200" y="624840"/>
                    <a:pt x="836295" y="598170"/>
                    <a:pt x="836295" y="572453"/>
                  </a:cubicBezTo>
                  <a:cubicBezTo>
                    <a:pt x="836295" y="546735"/>
                    <a:pt x="837248" y="520065"/>
                    <a:pt x="833438" y="494347"/>
                  </a:cubicBezTo>
                  <a:cubicBezTo>
                    <a:pt x="826770" y="452438"/>
                    <a:pt x="749618" y="281940"/>
                    <a:pt x="727710" y="220980"/>
                  </a:cubicBezTo>
                  <a:cubicBezTo>
                    <a:pt x="733425" y="278130"/>
                    <a:pt x="785813" y="426720"/>
                    <a:pt x="799148" y="478155"/>
                  </a:cubicBezTo>
                  <a:cubicBezTo>
                    <a:pt x="813435" y="530543"/>
                    <a:pt x="819150" y="585788"/>
                    <a:pt x="816293" y="641033"/>
                  </a:cubicBezTo>
                  <a:cubicBezTo>
                    <a:pt x="815340" y="656273"/>
                    <a:pt x="813435" y="672465"/>
                    <a:pt x="805815" y="684848"/>
                  </a:cubicBezTo>
                  <a:cubicBezTo>
                    <a:pt x="800100" y="693420"/>
                    <a:pt x="792480" y="700088"/>
                    <a:pt x="784860" y="705803"/>
                  </a:cubicBezTo>
                  <a:cubicBezTo>
                    <a:pt x="762000" y="722948"/>
                    <a:pt x="735330" y="736283"/>
                    <a:pt x="707707" y="743903"/>
                  </a:cubicBezTo>
                  <a:cubicBezTo>
                    <a:pt x="694373" y="747713"/>
                    <a:pt x="680085" y="750570"/>
                    <a:pt x="665798" y="747713"/>
                  </a:cubicBezTo>
                  <a:cubicBezTo>
                    <a:pt x="640080" y="742950"/>
                    <a:pt x="653415" y="746760"/>
                    <a:pt x="635318" y="727710"/>
                  </a:cubicBezTo>
                  <a:cubicBezTo>
                    <a:pt x="599123" y="572453"/>
                    <a:pt x="560070" y="410528"/>
                    <a:pt x="508635" y="260032"/>
                  </a:cubicBezTo>
                  <a:cubicBezTo>
                    <a:pt x="525780" y="325755"/>
                    <a:pt x="580073" y="624840"/>
                    <a:pt x="603885" y="725805"/>
                  </a:cubicBezTo>
                  <a:cubicBezTo>
                    <a:pt x="605790" y="734378"/>
                    <a:pt x="604838" y="743903"/>
                    <a:pt x="601028" y="751523"/>
                  </a:cubicBezTo>
                  <a:cubicBezTo>
                    <a:pt x="597218" y="760095"/>
                    <a:pt x="589598" y="766763"/>
                    <a:pt x="581978" y="772478"/>
                  </a:cubicBezTo>
                  <a:cubicBezTo>
                    <a:pt x="566738" y="784860"/>
                    <a:pt x="550545" y="797243"/>
                    <a:pt x="533400" y="807720"/>
                  </a:cubicBezTo>
                  <a:cubicBezTo>
                    <a:pt x="495300" y="830580"/>
                    <a:pt x="449580" y="842010"/>
                    <a:pt x="404813" y="838200"/>
                  </a:cubicBezTo>
                  <a:cubicBezTo>
                    <a:pt x="393382" y="837248"/>
                    <a:pt x="379095" y="833438"/>
                    <a:pt x="375285" y="822960"/>
                  </a:cubicBezTo>
                  <a:cubicBezTo>
                    <a:pt x="346710" y="740093"/>
                    <a:pt x="320993" y="653415"/>
                    <a:pt x="295275" y="569595"/>
                  </a:cubicBezTo>
                  <a:cubicBezTo>
                    <a:pt x="282893" y="529590"/>
                    <a:pt x="236220" y="378143"/>
                    <a:pt x="205740" y="311468"/>
                  </a:cubicBezTo>
                  <a:cubicBezTo>
                    <a:pt x="221932" y="371475"/>
                    <a:pt x="252413" y="520065"/>
                    <a:pt x="263843" y="557213"/>
                  </a:cubicBezTo>
                  <a:cubicBezTo>
                    <a:pt x="274320" y="591503"/>
                    <a:pt x="282893" y="625793"/>
                    <a:pt x="290513" y="661035"/>
                  </a:cubicBezTo>
                  <a:cubicBezTo>
                    <a:pt x="298132" y="692468"/>
                    <a:pt x="304800" y="723900"/>
                    <a:pt x="312420" y="754380"/>
                  </a:cubicBezTo>
                  <a:cubicBezTo>
                    <a:pt x="317182" y="773430"/>
                    <a:pt x="320993" y="792480"/>
                    <a:pt x="321945" y="811530"/>
                  </a:cubicBezTo>
                  <a:cubicBezTo>
                    <a:pt x="321945" y="822008"/>
                    <a:pt x="320993" y="833438"/>
                    <a:pt x="315278" y="842010"/>
                  </a:cubicBezTo>
                  <a:cubicBezTo>
                    <a:pt x="310515" y="849630"/>
                    <a:pt x="303848" y="854393"/>
                    <a:pt x="296228" y="859155"/>
                  </a:cubicBezTo>
                  <a:cubicBezTo>
                    <a:pt x="277178" y="872490"/>
                    <a:pt x="256223" y="886778"/>
                    <a:pt x="233363" y="882968"/>
                  </a:cubicBezTo>
                  <a:cubicBezTo>
                    <a:pt x="192405" y="876300"/>
                    <a:pt x="143828" y="901065"/>
                    <a:pt x="106680" y="882968"/>
                  </a:cubicBezTo>
                  <a:cubicBezTo>
                    <a:pt x="73343" y="865823"/>
                    <a:pt x="53340" y="830580"/>
                    <a:pt x="36195" y="797243"/>
                  </a:cubicBezTo>
                  <a:cubicBezTo>
                    <a:pt x="24765" y="774383"/>
                    <a:pt x="12382" y="751523"/>
                    <a:pt x="953" y="728663"/>
                  </a:cubicBezTo>
                  <a:cubicBezTo>
                    <a:pt x="953" y="728663"/>
                    <a:pt x="0" y="727710"/>
                    <a:pt x="0" y="726758"/>
                  </a:cubicBezTo>
                  <a:cubicBezTo>
                    <a:pt x="0" y="727710"/>
                    <a:pt x="953" y="729615"/>
                    <a:pt x="953" y="730568"/>
                  </a:cubicBezTo>
                  <a:cubicBezTo>
                    <a:pt x="10478" y="762000"/>
                    <a:pt x="17145" y="794385"/>
                    <a:pt x="28575" y="825818"/>
                  </a:cubicBezTo>
                  <a:cubicBezTo>
                    <a:pt x="41910" y="861060"/>
                    <a:pt x="61913" y="893445"/>
                    <a:pt x="86678" y="922020"/>
                  </a:cubicBezTo>
                  <a:cubicBezTo>
                    <a:pt x="98107" y="934403"/>
                    <a:pt x="111443" y="946785"/>
                    <a:pt x="126682" y="953453"/>
                  </a:cubicBezTo>
                  <a:cubicBezTo>
                    <a:pt x="154305" y="964883"/>
                    <a:pt x="185738" y="958215"/>
                    <a:pt x="215265" y="950595"/>
                  </a:cubicBezTo>
                  <a:cubicBezTo>
                    <a:pt x="266700" y="938213"/>
                    <a:pt x="324803" y="919163"/>
                    <a:pt x="350520" y="872490"/>
                  </a:cubicBezTo>
                  <a:cubicBezTo>
                    <a:pt x="381953" y="896303"/>
                    <a:pt x="423863" y="902018"/>
                    <a:pt x="462915" y="894398"/>
                  </a:cubicBezTo>
                  <a:cubicBezTo>
                    <a:pt x="501015" y="886778"/>
                    <a:pt x="536257" y="866775"/>
                    <a:pt x="567690" y="842963"/>
                  </a:cubicBezTo>
                  <a:cubicBezTo>
                    <a:pt x="584835" y="830580"/>
                    <a:pt x="603885" y="816293"/>
                    <a:pt x="616268" y="799148"/>
                  </a:cubicBezTo>
                  <a:cubicBezTo>
                    <a:pt x="620078" y="794385"/>
                    <a:pt x="625793" y="791528"/>
                    <a:pt x="631507" y="791528"/>
                  </a:cubicBezTo>
                  <a:cubicBezTo>
                    <a:pt x="634365" y="791528"/>
                    <a:pt x="637223" y="792480"/>
                    <a:pt x="640080" y="793433"/>
                  </a:cubicBezTo>
                  <a:cubicBezTo>
                    <a:pt x="681038" y="810578"/>
                    <a:pt x="728663" y="802958"/>
                    <a:pt x="768668" y="784860"/>
                  </a:cubicBezTo>
                  <a:cubicBezTo>
                    <a:pt x="782003" y="779145"/>
                    <a:pt x="801053" y="765810"/>
                    <a:pt x="810578" y="755333"/>
                  </a:cubicBezTo>
                  <a:cubicBezTo>
                    <a:pt x="813435" y="752475"/>
                    <a:pt x="816293" y="749618"/>
                    <a:pt x="818198" y="745808"/>
                  </a:cubicBezTo>
                  <a:cubicBezTo>
                    <a:pt x="818198" y="745808"/>
                    <a:pt x="818198" y="745808"/>
                    <a:pt x="818198" y="745808"/>
                  </a:cubicBezTo>
                  <a:cubicBezTo>
                    <a:pt x="819150" y="744855"/>
                    <a:pt x="820103" y="743903"/>
                    <a:pt x="820103" y="741998"/>
                  </a:cubicBezTo>
                  <a:cubicBezTo>
                    <a:pt x="823913" y="736283"/>
                    <a:pt x="829628" y="732473"/>
                    <a:pt x="836295" y="732473"/>
                  </a:cubicBezTo>
                  <a:cubicBezTo>
                    <a:pt x="836295" y="732473"/>
                    <a:pt x="836295" y="732473"/>
                    <a:pt x="836295" y="732473"/>
                  </a:cubicBezTo>
                  <a:cubicBezTo>
                    <a:pt x="873443" y="730568"/>
                    <a:pt x="908685" y="714375"/>
                    <a:pt x="935355" y="687705"/>
                  </a:cubicBezTo>
                  <a:cubicBezTo>
                    <a:pt x="943928" y="679133"/>
                    <a:pt x="951548" y="669608"/>
                    <a:pt x="957263" y="659130"/>
                  </a:cubicBezTo>
                  <a:cubicBezTo>
                    <a:pt x="964882" y="645795"/>
                    <a:pt x="970598" y="631508"/>
                    <a:pt x="975360" y="617220"/>
                  </a:cubicBezTo>
                  <a:cubicBezTo>
                    <a:pt x="990600" y="572453"/>
                    <a:pt x="1002030" y="525780"/>
                    <a:pt x="1008698" y="478155"/>
                  </a:cubicBezTo>
                  <a:cubicBezTo>
                    <a:pt x="1015365" y="428625"/>
                    <a:pt x="1018223" y="377190"/>
                    <a:pt x="1004888" y="329565"/>
                  </a:cubicBezTo>
                  <a:cubicBezTo>
                    <a:pt x="1002982" y="308610"/>
                    <a:pt x="994410" y="286703"/>
                    <a:pt x="984885" y="2657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33" name="Freeform: Shape 41"/>
            <p:cNvSpPr/>
            <p:nvPr/>
          </p:nvSpPr>
          <p:spPr>
            <a:xfrm>
              <a:off x="2156760" y="2034720"/>
              <a:ext cx="55080" cy="95760"/>
            </a:xfrm>
            <a:custGeom>
              <a:avLst/>
              <a:gdLst/>
              <a:ahLst/>
              <a:rect l="l" t="t" r="r" b="b"/>
              <a:pathLst>
                <a:path w="89534" h="155257">
                  <a:moveTo>
                    <a:pt x="84772" y="0"/>
                  </a:moveTo>
                  <a:cubicBezTo>
                    <a:pt x="79057" y="13335"/>
                    <a:pt x="77152" y="28575"/>
                    <a:pt x="76200" y="43815"/>
                  </a:cubicBezTo>
                  <a:cubicBezTo>
                    <a:pt x="73342" y="91440"/>
                    <a:pt x="76200" y="108585"/>
                    <a:pt x="89535" y="155258"/>
                  </a:cubicBezTo>
                  <a:cubicBezTo>
                    <a:pt x="71438" y="126682"/>
                    <a:pt x="78105" y="127635"/>
                    <a:pt x="62865" y="100965"/>
                  </a:cubicBezTo>
                  <a:cubicBezTo>
                    <a:pt x="46672" y="71438"/>
                    <a:pt x="25717" y="52388"/>
                    <a:pt x="0" y="31432"/>
                  </a:cubicBezTo>
                  <a:cubicBezTo>
                    <a:pt x="952" y="31432"/>
                    <a:pt x="2857" y="31432"/>
                    <a:pt x="4763" y="31432"/>
                  </a:cubicBezTo>
                  <a:cubicBezTo>
                    <a:pt x="20955" y="33338"/>
                    <a:pt x="36195" y="38100"/>
                    <a:pt x="50482" y="45720"/>
                  </a:cubicBezTo>
                  <a:cubicBezTo>
                    <a:pt x="60007" y="27622"/>
                    <a:pt x="71438" y="13335"/>
                    <a:pt x="84772"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34" name="Freeform: Shape 42"/>
            <p:cNvSpPr/>
            <p:nvPr/>
          </p:nvSpPr>
          <p:spPr>
            <a:xfrm>
              <a:off x="2320920" y="1988280"/>
              <a:ext cx="97560" cy="104040"/>
            </a:xfrm>
            <a:custGeom>
              <a:avLst/>
              <a:gdLst/>
              <a:ahLst/>
              <a:rect l="l" t="t" r="r" b="b"/>
              <a:pathLst>
                <a:path w="158115" h="168592">
                  <a:moveTo>
                    <a:pt x="158115" y="0"/>
                  </a:moveTo>
                  <a:cubicBezTo>
                    <a:pt x="135255" y="20003"/>
                    <a:pt x="117157" y="49530"/>
                    <a:pt x="109538" y="79058"/>
                  </a:cubicBezTo>
                  <a:cubicBezTo>
                    <a:pt x="101918" y="108585"/>
                    <a:pt x="110490" y="140018"/>
                    <a:pt x="120968" y="168593"/>
                  </a:cubicBezTo>
                  <a:cubicBezTo>
                    <a:pt x="114300" y="150495"/>
                    <a:pt x="99060" y="132398"/>
                    <a:pt x="90488" y="114300"/>
                  </a:cubicBezTo>
                  <a:cubicBezTo>
                    <a:pt x="85725" y="103823"/>
                    <a:pt x="80963" y="93345"/>
                    <a:pt x="73343" y="84773"/>
                  </a:cubicBezTo>
                  <a:cubicBezTo>
                    <a:pt x="64770" y="74295"/>
                    <a:pt x="52388" y="42863"/>
                    <a:pt x="0" y="20003"/>
                  </a:cubicBezTo>
                  <a:cubicBezTo>
                    <a:pt x="25718" y="24765"/>
                    <a:pt x="50482" y="35243"/>
                    <a:pt x="72390" y="49530"/>
                  </a:cubicBezTo>
                  <a:cubicBezTo>
                    <a:pt x="100013" y="23813"/>
                    <a:pt x="128588" y="8573"/>
                    <a:pt x="156210" y="0"/>
                  </a:cubicBezTo>
                  <a:cubicBezTo>
                    <a:pt x="157163" y="0"/>
                    <a:pt x="157163" y="0"/>
                    <a:pt x="15811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35" name="Freeform: Shape 43"/>
            <p:cNvSpPr/>
            <p:nvPr/>
          </p:nvSpPr>
          <p:spPr>
            <a:xfrm>
              <a:off x="2460600" y="1982880"/>
              <a:ext cx="83520" cy="75240"/>
            </a:xfrm>
            <a:custGeom>
              <a:avLst/>
              <a:gdLst/>
              <a:ahLst/>
              <a:rect l="l" t="t" r="r" b="b"/>
              <a:pathLst>
                <a:path w="135255" h="121920">
                  <a:moveTo>
                    <a:pt x="111443" y="52388"/>
                  </a:moveTo>
                  <a:cubicBezTo>
                    <a:pt x="117157" y="41910"/>
                    <a:pt x="125730" y="34290"/>
                    <a:pt x="135255" y="27622"/>
                  </a:cubicBezTo>
                  <a:cubicBezTo>
                    <a:pt x="134302" y="28575"/>
                    <a:pt x="133350" y="29527"/>
                    <a:pt x="133350" y="30480"/>
                  </a:cubicBezTo>
                  <a:cubicBezTo>
                    <a:pt x="131445" y="34290"/>
                    <a:pt x="130493" y="38100"/>
                    <a:pt x="129540" y="41910"/>
                  </a:cubicBezTo>
                  <a:cubicBezTo>
                    <a:pt x="125730" y="67627"/>
                    <a:pt x="124777" y="95250"/>
                    <a:pt x="124777" y="121920"/>
                  </a:cubicBezTo>
                  <a:cubicBezTo>
                    <a:pt x="118110" y="106680"/>
                    <a:pt x="112395" y="92393"/>
                    <a:pt x="105727" y="77152"/>
                  </a:cubicBezTo>
                  <a:cubicBezTo>
                    <a:pt x="98107" y="58102"/>
                    <a:pt x="89535" y="38100"/>
                    <a:pt x="73343" y="23813"/>
                  </a:cubicBezTo>
                  <a:cubicBezTo>
                    <a:pt x="60960" y="13335"/>
                    <a:pt x="27623" y="2858"/>
                    <a:pt x="0" y="0"/>
                  </a:cubicBezTo>
                  <a:cubicBezTo>
                    <a:pt x="60960" y="4763"/>
                    <a:pt x="105727" y="34290"/>
                    <a:pt x="111443" y="52388"/>
                  </a:cubicBezTo>
                  <a:close/>
                </a:path>
              </a:pathLst>
            </a:custGeom>
            <a:solidFill>
              <a:srgbClr val="cf9e76"/>
            </a:solidFill>
            <a:ln w="0">
              <a:noFill/>
            </a:ln>
          </p:spPr>
          <p:style>
            <a:lnRef idx="0"/>
            <a:fillRef idx="0"/>
            <a:effectRef idx="0"/>
            <a:fontRef idx="minor"/>
          </p:style>
          <p:txBody>
            <a:bodyPr lIns="90000" rIns="90000" tIns="28440" bIns="28440" anchor="ctr">
              <a:noAutofit/>
            </a:bodyPr>
            <a:p>
              <a:endParaRPr b="0" lang="en-US" sz="1800" spc="-1" strike="noStrike">
                <a:solidFill>
                  <a:srgbClr val="313c3f"/>
                </a:solidFill>
                <a:latin typeface="Source Sans Pro"/>
              </a:endParaRPr>
            </a:p>
          </p:txBody>
        </p:sp>
        <p:sp>
          <p:nvSpPr>
            <p:cNvPr id="3036" name="Freeform: Shape 44"/>
            <p:cNvSpPr/>
            <p:nvPr/>
          </p:nvSpPr>
          <p:spPr>
            <a:xfrm>
              <a:off x="2547720" y="1997640"/>
              <a:ext cx="360" cy="5760"/>
            </a:xfrm>
            <a:custGeom>
              <a:avLst/>
              <a:gdLst/>
              <a:ahLst/>
              <a:rect l="l" t="t" r="r" b="b"/>
              <a:pathLst>
                <a:path w="952" h="9525">
                  <a:moveTo>
                    <a:pt x="953" y="0"/>
                  </a:moveTo>
                  <a:cubicBezTo>
                    <a:pt x="953" y="0"/>
                    <a:pt x="0" y="0"/>
                    <a:pt x="0" y="0"/>
                  </a:cubicBezTo>
                  <a:cubicBezTo>
                    <a:pt x="0" y="0"/>
                    <a:pt x="0" y="0"/>
                    <a:pt x="953" y="0"/>
                  </a:cubicBezTo>
                  <a:cubicBezTo>
                    <a:pt x="953" y="0"/>
                    <a:pt x="953" y="0"/>
                    <a:pt x="953"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3037" name="Freeform: Shape 45"/>
            <p:cNvSpPr/>
            <p:nvPr/>
          </p:nvSpPr>
          <p:spPr>
            <a:xfrm>
              <a:off x="1423800" y="2482560"/>
              <a:ext cx="434880" cy="1061280"/>
            </a:xfrm>
            <a:custGeom>
              <a:avLst/>
              <a:gdLst/>
              <a:ahLst/>
              <a:rect l="l" t="t" r="r" b="b"/>
              <a:pathLst>
                <a:path w="703796" h="1715169">
                  <a:moveTo>
                    <a:pt x="36690" y="20093"/>
                  </a:moveTo>
                  <a:lnTo>
                    <a:pt x="699630" y="1676490"/>
                  </a:lnTo>
                  <a:cubicBezTo>
                    <a:pt x="715822" y="1720305"/>
                    <a:pt x="680580" y="1729830"/>
                    <a:pt x="666293"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38" name="Freeform: Shape 46"/>
            <p:cNvSpPr/>
            <p:nvPr/>
          </p:nvSpPr>
          <p:spPr>
            <a:xfrm>
              <a:off x="3348720" y="2106720"/>
              <a:ext cx="434880" cy="1061280"/>
            </a:xfrm>
            <a:custGeom>
              <a:avLst/>
              <a:gdLst/>
              <a:ahLst/>
              <a:rect l="l" t="t" r="r" b="b"/>
              <a:pathLst>
                <a:path w="703472" h="1715169">
                  <a:moveTo>
                    <a:pt x="36366" y="20093"/>
                  </a:moveTo>
                  <a:lnTo>
                    <a:pt x="699306" y="1676490"/>
                  </a:lnTo>
                  <a:cubicBezTo>
                    <a:pt x="715499" y="1720305"/>
                    <a:pt x="680256" y="1729830"/>
                    <a:pt x="665969" y="1689825"/>
                  </a:cubicBezTo>
                  <a:lnTo>
                    <a:pt x="645013" y="1631723"/>
                  </a:lnTo>
                  <a:lnTo>
                    <a:pt x="3028" y="34380"/>
                  </a:lnTo>
                  <a:cubicBezTo>
                    <a:pt x="-10306"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039" name="Graphic 2"/>
          <p:cNvGrpSpPr/>
          <p:nvPr/>
        </p:nvGrpSpPr>
        <p:grpSpPr>
          <a:xfrm>
            <a:off x="8381880" y="2023920"/>
            <a:ext cx="2886120" cy="1629000"/>
            <a:chOff x="8381880" y="2023920"/>
            <a:chExt cx="2886120" cy="1629000"/>
          </a:xfrm>
        </p:grpSpPr>
        <p:sp>
          <p:nvSpPr>
            <p:cNvPr id="3040" name="Freeform: Shape 48"/>
            <p:cNvSpPr/>
            <p:nvPr/>
          </p:nvSpPr>
          <p:spPr>
            <a:xfrm>
              <a:off x="9068400" y="3246120"/>
              <a:ext cx="24624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1935"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41" name="Freeform: Shape 49"/>
            <p:cNvSpPr/>
            <p:nvPr/>
          </p:nvSpPr>
          <p:spPr>
            <a:xfrm>
              <a:off x="8381880" y="324540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7163" y="30480"/>
                    <a:pt x="122873" y="0"/>
                    <a:pt x="81915" y="0"/>
                  </a:cubicBezTo>
                  <a:close/>
                  <a:moveTo>
                    <a:pt x="81915" y="36195"/>
                  </a:moveTo>
                  <a:cubicBezTo>
                    <a:pt x="107633" y="36195"/>
                    <a:pt x="128588" y="58102"/>
                    <a:pt x="128588" y="82868"/>
                  </a:cubicBezTo>
                  <a:cubicBezTo>
                    <a:pt x="128588" y="108585"/>
                    <a:pt x="107633" y="129540"/>
                    <a:pt x="81915" y="129540"/>
                  </a:cubicBezTo>
                  <a:cubicBezTo>
                    <a:pt x="56198" y="129540"/>
                    <a:pt x="35243" y="108585"/>
                    <a:pt x="35243" y="82868"/>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42" name="Freeform: Shape 50"/>
            <p:cNvSpPr/>
            <p:nvPr/>
          </p:nvSpPr>
          <p:spPr>
            <a:xfrm>
              <a:off x="8482320" y="3288960"/>
              <a:ext cx="731160" cy="162000"/>
            </a:xfrm>
            <a:custGeom>
              <a:avLst/>
              <a:gdLst/>
              <a:ahLst/>
              <a:rect l="l" t="t" r="r" b="b"/>
              <a:pathLst>
                <a:path w="1182052" h="261937">
                  <a:moveTo>
                    <a:pt x="1028700" y="261938"/>
                  </a:moveTo>
                  <a:lnTo>
                    <a:pt x="153353" y="261938"/>
                  </a:lnTo>
                  <a:lnTo>
                    <a:pt x="0" y="0"/>
                  </a:lnTo>
                  <a:lnTo>
                    <a:pt x="1182053" y="953"/>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43" name="Freeform: Shape 51"/>
            <p:cNvSpPr/>
            <p:nvPr/>
          </p:nvSpPr>
          <p:spPr>
            <a:xfrm>
              <a:off x="8509680" y="3304440"/>
              <a:ext cx="303840" cy="131040"/>
            </a:xfrm>
            <a:custGeom>
              <a:avLst/>
              <a:gdLst/>
              <a:ahLst/>
              <a:rect l="l" t="t" r="r" b="b"/>
              <a:pathLst>
                <a:path w="491490" h="212407">
                  <a:moveTo>
                    <a:pt x="165735" y="0"/>
                  </a:moveTo>
                  <a:lnTo>
                    <a:pt x="0" y="0"/>
                  </a:lnTo>
                  <a:lnTo>
                    <a:pt x="123825" y="212407"/>
                  </a:lnTo>
                  <a:lnTo>
                    <a:pt x="491490" y="212407"/>
                  </a:lnTo>
                  <a:cubicBezTo>
                    <a:pt x="222885" y="193357"/>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44" name="Freeform: Shape 52"/>
            <p:cNvSpPr/>
            <p:nvPr/>
          </p:nvSpPr>
          <p:spPr>
            <a:xfrm>
              <a:off x="8881920" y="330480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045" name="Graphic 2"/>
            <p:cNvGrpSpPr/>
            <p:nvPr/>
          </p:nvGrpSpPr>
          <p:grpSpPr>
            <a:xfrm>
              <a:off x="9399960" y="2075760"/>
              <a:ext cx="735840" cy="789120"/>
              <a:chOff x="9399960" y="2075760"/>
              <a:chExt cx="735840" cy="789120"/>
            </a:xfrm>
          </p:grpSpPr>
          <p:sp>
            <p:nvSpPr>
              <p:cNvPr id="3046" name="Freeform: Shape 54"/>
              <p:cNvSpPr/>
              <p:nvPr/>
            </p:nvSpPr>
            <p:spPr>
              <a:xfrm>
                <a:off x="9399960" y="2075760"/>
                <a:ext cx="735840" cy="789120"/>
              </a:xfrm>
              <a:custGeom>
                <a:avLst/>
                <a:gdLst/>
                <a:ahLst/>
                <a:rect l="l" t="t" r="r" b="b"/>
                <a:pathLst>
                  <a:path w="1189672" h="1276350">
                    <a:moveTo>
                      <a:pt x="594360" y="0"/>
                    </a:moveTo>
                    <a:cubicBezTo>
                      <a:pt x="922972" y="0"/>
                      <a:pt x="1189673" y="250507"/>
                      <a:pt x="1189673" y="560070"/>
                    </a:cubicBezTo>
                    <a:cubicBezTo>
                      <a:pt x="1189673" y="869632"/>
                      <a:pt x="1124903" y="1276350"/>
                      <a:pt x="591503" y="1276350"/>
                    </a:cubicBezTo>
                    <a:cubicBezTo>
                      <a:pt x="58103" y="1276350"/>
                      <a:pt x="0" y="869632"/>
                      <a:pt x="0" y="560070"/>
                    </a:cubicBezTo>
                    <a:cubicBezTo>
                      <a:pt x="0" y="250507"/>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47" name="Freeform: Shape 55"/>
              <p:cNvSpPr/>
              <p:nvPr/>
            </p:nvSpPr>
            <p:spPr>
              <a:xfrm>
                <a:off x="9435240" y="2096280"/>
                <a:ext cx="663480" cy="657360"/>
              </a:xfrm>
              <a:custGeom>
                <a:avLst/>
                <a:gdLst/>
                <a:ahLst/>
                <a:rect l="l" t="t" r="r" b="b"/>
                <a:pathLst>
                  <a:path w="1072515" h="1062989">
                    <a:moveTo>
                      <a:pt x="536257" y="1062990"/>
                    </a:moveTo>
                    <a:cubicBezTo>
                      <a:pt x="831533" y="1062990"/>
                      <a:pt x="1072515" y="823913"/>
                      <a:pt x="1072515" y="531495"/>
                    </a:cubicBezTo>
                    <a:cubicBezTo>
                      <a:pt x="1072515" y="239077"/>
                      <a:pt x="831533" y="0"/>
                      <a:pt x="536257" y="0"/>
                    </a:cubicBezTo>
                    <a:cubicBezTo>
                      <a:pt x="240982" y="0"/>
                      <a:pt x="0" y="239077"/>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48" name="Freeform: Shape 56"/>
              <p:cNvSpPr/>
              <p:nvPr/>
            </p:nvSpPr>
            <p:spPr>
              <a:xfrm>
                <a:off x="9464760" y="2124360"/>
                <a:ext cx="604440" cy="60084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3049" name="Freeform: Shape 57"/>
            <p:cNvSpPr/>
            <p:nvPr/>
          </p:nvSpPr>
          <p:spPr>
            <a:xfrm>
              <a:off x="11021760" y="3448800"/>
              <a:ext cx="246240" cy="101160"/>
            </a:xfrm>
            <a:custGeom>
              <a:avLst/>
              <a:gdLst/>
              <a:ahLst/>
              <a:rect l="l" t="t" r="r" b="b"/>
              <a:pathLst>
                <a:path w="398144" h="163830">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29527"/>
                    <a:pt x="275273" y="0"/>
                    <a:pt x="316230" y="0"/>
                  </a:cubicBezTo>
                  <a:close/>
                  <a:moveTo>
                    <a:pt x="316230" y="35243"/>
                  </a:moveTo>
                  <a:cubicBezTo>
                    <a:pt x="290513" y="35243"/>
                    <a:pt x="269557" y="57150"/>
                    <a:pt x="269557" y="81915"/>
                  </a:cubicBezTo>
                  <a:cubicBezTo>
                    <a:pt x="269557" y="107632"/>
                    <a:pt x="290513" y="128588"/>
                    <a:pt x="316230" y="128588"/>
                  </a:cubicBezTo>
                  <a:cubicBezTo>
                    <a:pt x="341948" y="128588"/>
                    <a:pt x="362903" y="107632"/>
                    <a:pt x="362903" y="81915"/>
                  </a:cubicBezTo>
                  <a:cubicBezTo>
                    <a:pt x="362903" y="56197"/>
                    <a:pt x="341948" y="35243"/>
                    <a:pt x="316230"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0" name="Freeform: Shape 58"/>
            <p:cNvSpPr/>
            <p:nvPr/>
          </p:nvSpPr>
          <p:spPr>
            <a:xfrm>
              <a:off x="10335240" y="3448080"/>
              <a:ext cx="192600" cy="101880"/>
            </a:xfrm>
            <a:custGeom>
              <a:avLst/>
              <a:gdLst/>
              <a:ahLst/>
              <a:rect l="l" t="t" r="r" b="b"/>
              <a:pathLst>
                <a:path w="311467" h="164782">
                  <a:moveTo>
                    <a:pt x="81915" y="0"/>
                  </a:moveTo>
                  <a:cubicBezTo>
                    <a:pt x="36195" y="0"/>
                    <a:pt x="0" y="37148"/>
                    <a:pt x="0" y="81915"/>
                  </a:cubicBezTo>
                  <a:cubicBezTo>
                    <a:pt x="0" y="127635"/>
                    <a:pt x="37148" y="163830"/>
                    <a:pt x="81915" y="163830"/>
                  </a:cubicBezTo>
                  <a:lnTo>
                    <a:pt x="311468" y="164783"/>
                  </a:lnTo>
                  <a:lnTo>
                    <a:pt x="214313" y="69533"/>
                  </a:lnTo>
                  <a:lnTo>
                    <a:pt x="162878" y="69533"/>
                  </a:lnTo>
                  <a:cubicBezTo>
                    <a:pt x="156210" y="29528"/>
                    <a:pt x="122873" y="0"/>
                    <a:pt x="81915" y="0"/>
                  </a:cubicBezTo>
                  <a:close/>
                  <a:moveTo>
                    <a:pt x="81915" y="35243"/>
                  </a:moveTo>
                  <a:cubicBezTo>
                    <a:pt x="107632" y="35243"/>
                    <a:pt x="128588" y="57150"/>
                    <a:pt x="128588" y="81915"/>
                  </a:cubicBezTo>
                  <a:cubicBezTo>
                    <a:pt x="128588" y="107633"/>
                    <a:pt x="107632" y="128588"/>
                    <a:pt x="81915" y="128588"/>
                  </a:cubicBezTo>
                  <a:cubicBezTo>
                    <a:pt x="56198" y="128588"/>
                    <a:pt x="35243" y="107633"/>
                    <a:pt x="35243" y="81915"/>
                  </a:cubicBezTo>
                  <a:cubicBezTo>
                    <a:pt x="35243" y="56198"/>
                    <a:pt x="56198" y="35243"/>
                    <a:pt x="81915"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1" name="Freeform: Shape 59"/>
            <p:cNvSpPr/>
            <p:nvPr/>
          </p:nvSpPr>
          <p:spPr>
            <a:xfrm>
              <a:off x="10436040" y="3490920"/>
              <a:ext cx="731160" cy="162000"/>
            </a:xfrm>
            <a:custGeom>
              <a:avLst/>
              <a:gdLst/>
              <a:ahLst/>
              <a:rect l="l" t="t" r="r" b="b"/>
              <a:pathLst>
                <a:path w="1182052" h="261937">
                  <a:moveTo>
                    <a:pt x="1028700" y="261938"/>
                  </a:moveTo>
                  <a:lnTo>
                    <a:pt x="153352" y="261938"/>
                  </a:lnTo>
                  <a:lnTo>
                    <a:pt x="0" y="0"/>
                  </a:lnTo>
                  <a:lnTo>
                    <a:pt x="1182052" y="952"/>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2" name="Freeform: Shape 60"/>
            <p:cNvSpPr/>
            <p:nvPr/>
          </p:nvSpPr>
          <p:spPr>
            <a:xfrm>
              <a:off x="10462680" y="3506400"/>
              <a:ext cx="303840" cy="131040"/>
            </a:xfrm>
            <a:custGeom>
              <a:avLst/>
              <a:gdLst/>
              <a:ahLst/>
              <a:rect l="l" t="t" r="r" b="b"/>
              <a:pathLst>
                <a:path w="491489" h="212407">
                  <a:moveTo>
                    <a:pt x="165735" y="0"/>
                  </a:moveTo>
                  <a:lnTo>
                    <a:pt x="0" y="0"/>
                  </a:lnTo>
                  <a:lnTo>
                    <a:pt x="123825" y="212407"/>
                  </a:lnTo>
                  <a:lnTo>
                    <a:pt x="491490" y="212407"/>
                  </a:lnTo>
                  <a:cubicBezTo>
                    <a:pt x="222885" y="193357"/>
                    <a:pt x="282892"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3" name="Freeform: Shape 61"/>
            <p:cNvSpPr/>
            <p:nvPr/>
          </p:nvSpPr>
          <p:spPr>
            <a:xfrm>
              <a:off x="10835640" y="350712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4" name="Freeform: Shape 62"/>
            <p:cNvSpPr/>
            <p:nvPr/>
          </p:nvSpPr>
          <p:spPr>
            <a:xfrm>
              <a:off x="8427240" y="2240280"/>
              <a:ext cx="430560" cy="1058760"/>
            </a:xfrm>
            <a:custGeom>
              <a:avLst/>
              <a:gdLst/>
              <a:ahLst/>
              <a:rect l="l" t="t" r="r" b="b"/>
              <a:pathLst>
                <a:path w="696330" h="1712245">
                  <a:moveTo>
                    <a:pt x="660024" y="20026"/>
                  </a:moveTo>
                  <a:lnTo>
                    <a:pt x="3752" y="1673565"/>
                  </a:lnTo>
                  <a:cubicBezTo>
                    <a:pt x="-11488" y="1717381"/>
                    <a:pt x="23754" y="1726906"/>
                    <a:pt x="37089" y="1686901"/>
                  </a:cubicBezTo>
                  <a:lnTo>
                    <a:pt x="58044" y="1628798"/>
                  </a:lnTo>
                  <a:lnTo>
                    <a:pt x="693362" y="35265"/>
                  </a:lnTo>
                  <a:cubicBezTo>
                    <a:pt x="706697" y="-2835"/>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5" name="Freeform: Shape 63"/>
            <p:cNvSpPr/>
            <p:nvPr/>
          </p:nvSpPr>
          <p:spPr>
            <a:xfrm>
              <a:off x="10380240" y="2442600"/>
              <a:ext cx="430560" cy="1059120"/>
            </a:xfrm>
            <a:custGeom>
              <a:avLst/>
              <a:gdLst/>
              <a:ahLst/>
              <a:rect l="l" t="t" r="r" b="b"/>
              <a:pathLst>
                <a:path w="696390" h="1712671">
                  <a:moveTo>
                    <a:pt x="660024" y="20452"/>
                  </a:moveTo>
                  <a:lnTo>
                    <a:pt x="3752" y="1673992"/>
                  </a:lnTo>
                  <a:cubicBezTo>
                    <a:pt x="-11488" y="1717806"/>
                    <a:pt x="23755" y="1727331"/>
                    <a:pt x="37089" y="1687326"/>
                  </a:cubicBezTo>
                  <a:lnTo>
                    <a:pt x="58044" y="1629224"/>
                  </a:lnTo>
                  <a:lnTo>
                    <a:pt x="693362" y="33786"/>
                  </a:lnTo>
                  <a:cubicBezTo>
                    <a:pt x="706697" y="-3361"/>
                    <a:pt x="672407" y="-12886"/>
                    <a:pt x="660024" y="20452"/>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056" name="Graphic 2"/>
            <p:cNvGrpSpPr/>
            <p:nvPr/>
          </p:nvGrpSpPr>
          <p:grpSpPr>
            <a:xfrm>
              <a:off x="9423000" y="2305080"/>
              <a:ext cx="453240" cy="405360"/>
              <a:chOff x="9423000" y="2305080"/>
              <a:chExt cx="453240" cy="405360"/>
            </a:xfrm>
          </p:grpSpPr>
          <p:sp>
            <p:nvSpPr>
              <p:cNvPr id="3057" name="Freeform: Shape 65"/>
              <p:cNvSpPr/>
              <p:nvPr/>
            </p:nvSpPr>
            <p:spPr>
              <a:xfrm>
                <a:off x="9423000" y="2306520"/>
                <a:ext cx="453240" cy="403920"/>
              </a:xfrm>
              <a:custGeom>
                <a:avLst/>
                <a:gdLst/>
                <a:ahLst/>
                <a:rect l="l" t="t" r="r" b="b"/>
                <a:pathLst>
                  <a:path w="733096" h="652658">
                    <a:moveTo>
                      <a:pt x="731520" y="490538"/>
                    </a:moveTo>
                    <a:cubicBezTo>
                      <a:pt x="728663" y="505778"/>
                      <a:pt x="709613" y="534353"/>
                      <a:pt x="700088" y="546735"/>
                    </a:cubicBezTo>
                    <a:cubicBezTo>
                      <a:pt x="677227" y="574358"/>
                      <a:pt x="583882" y="570547"/>
                      <a:pt x="549593" y="573405"/>
                    </a:cubicBezTo>
                    <a:cubicBezTo>
                      <a:pt x="473393" y="579120"/>
                      <a:pt x="452438" y="602933"/>
                      <a:pt x="381953" y="632460"/>
                    </a:cubicBezTo>
                    <a:cubicBezTo>
                      <a:pt x="359093" y="641985"/>
                      <a:pt x="335280" y="654368"/>
                      <a:pt x="309563" y="652463"/>
                    </a:cubicBezTo>
                    <a:cubicBezTo>
                      <a:pt x="289560" y="651510"/>
                      <a:pt x="272415" y="641985"/>
                      <a:pt x="255270" y="630555"/>
                    </a:cubicBezTo>
                    <a:cubicBezTo>
                      <a:pt x="252413" y="628650"/>
                      <a:pt x="249555" y="626745"/>
                      <a:pt x="246697" y="624840"/>
                    </a:cubicBezTo>
                    <a:cubicBezTo>
                      <a:pt x="220028" y="605790"/>
                      <a:pt x="194310" y="582930"/>
                      <a:pt x="172403" y="559118"/>
                    </a:cubicBezTo>
                    <a:cubicBezTo>
                      <a:pt x="166688" y="552450"/>
                      <a:pt x="160020" y="545783"/>
                      <a:pt x="154305" y="539115"/>
                    </a:cubicBezTo>
                    <a:cubicBezTo>
                      <a:pt x="134303" y="515303"/>
                      <a:pt x="116205" y="488633"/>
                      <a:pt x="100013" y="461963"/>
                    </a:cubicBezTo>
                    <a:cubicBezTo>
                      <a:pt x="85725" y="438150"/>
                      <a:pt x="72390" y="412433"/>
                      <a:pt x="60007" y="387668"/>
                    </a:cubicBezTo>
                    <a:cubicBezTo>
                      <a:pt x="44768" y="356235"/>
                      <a:pt x="30480" y="324803"/>
                      <a:pt x="17145" y="292418"/>
                    </a:cubicBezTo>
                    <a:cubicBezTo>
                      <a:pt x="10478" y="277178"/>
                      <a:pt x="3810" y="260985"/>
                      <a:pt x="953" y="243840"/>
                    </a:cubicBezTo>
                    <a:cubicBezTo>
                      <a:pt x="0" y="239078"/>
                      <a:pt x="0" y="235268"/>
                      <a:pt x="0" y="230505"/>
                    </a:cubicBezTo>
                    <a:cubicBezTo>
                      <a:pt x="0" y="224790"/>
                      <a:pt x="0" y="220028"/>
                      <a:pt x="953" y="215265"/>
                    </a:cubicBezTo>
                    <a:cubicBezTo>
                      <a:pt x="3810" y="194310"/>
                      <a:pt x="14288" y="174308"/>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6682" y="89535"/>
                      <a:pt x="133350" y="138113"/>
                      <a:pt x="133350" y="186690"/>
                    </a:cubicBezTo>
                    <a:cubicBezTo>
                      <a:pt x="133350" y="192405"/>
                      <a:pt x="133350" y="198120"/>
                      <a:pt x="133350" y="203835"/>
                    </a:cubicBezTo>
                    <a:cubicBezTo>
                      <a:pt x="133350" y="204788"/>
                      <a:pt x="133350" y="205740"/>
                      <a:pt x="133350" y="206693"/>
                    </a:cubicBezTo>
                    <a:cubicBezTo>
                      <a:pt x="133350" y="206693"/>
                      <a:pt x="133350" y="206693"/>
                      <a:pt x="133350" y="206693"/>
                    </a:cubicBezTo>
                    <a:cubicBezTo>
                      <a:pt x="133350" y="220980"/>
                      <a:pt x="132397" y="234315"/>
                      <a:pt x="132397" y="248603"/>
                    </a:cubicBezTo>
                    <a:cubicBezTo>
                      <a:pt x="132397" y="260985"/>
                      <a:pt x="132397" y="273368"/>
                      <a:pt x="133350" y="284797"/>
                    </a:cubicBezTo>
                    <a:cubicBezTo>
                      <a:pt x="136207" y="321945"/>
                      <a:pt x="144780" y="359093"/>
                      <a:pt x="160972" y="393383"/>
                    </a:cubicBezTo>
                    <a:cubicBezTo>
                      <a:pt x="168593" y="408622"/>
                      <a:pt x="177165" y="423863"/>
                      <a:pt x="190500" y="435293"/>
                    </a:cubicBezTo>
                    <a:cubicBezTo>
                      <a:pt x="213360" y="454343"/>
                      <a:pt x="245745" y="457200"/>
                      <a:pt x="276225" y="458153"/>
                    </a:cubicBezTo>
                    <a:cubicBezTo>
                      <a:pt x="328613" y="461010"/>
                      <a:pt x="390525" y="460058"/>
                      <a:pt x="428625" y="423863"/>
                    </a:cubicBezTo>
                    <a:cubicBezTo>
                      <a:pt x="451485" y="456247"/>
                      <a:pt x="490538" y="473393"/>
                      <a:pt x="529590" y="478155"/>
                    </a:cubicBezTo>
                    <a:cubicBezTo>
                      <a:pt x="537210" y="479108"/>
                      <a:pt x="543878" y="479108"/>
                      <a:pt x="551497" y="479108"/>
                    </a:cubicBezTo>
                    <a:cubicBezTo>
                      <a:pt x="576263" y="479108"/>
                      <a:pt x="601027" y="474345"/>
                      <a:pt x="624840" y="466725"/>
                    </a:cubicBezTo>
                    <a:cubicBezTo>
                      <a:pt x="625793" y="466725"/>
                      <a:pt x="626745" y="465772"/>
                      <a:pt x="627698" y="465772"/>
                    </a:cubicBezTo>
                    <a:cubicBezTo>
                      <a:pt x="628650" y="465772"/>
                      <a:pt x="629602" y="464820"/>
                      <a:pt x="630555" y="464820"/>
                    </a:cubicBezTo>
                    <a:cubicBezTo>
                      <a:pt x="635318" y="462915"/>
                      <a:pt x="640080" y="461963"/>
                      <a:pt x="643890" y="460058"/>
                    </a:cubicBezTo>
                    <a:cubicBezTo>
                      <a:pt x="663893" y="452438"/>
                      <a:pt x="685800" y="444818"/>
                      <a:pt x="702945" y="432435"/>
                    </a:cubicBezTo>
                    <a:cubicBezTo>
                      <a:pt x="707707" y="428625"/>
                      <a:pt x="714375" y="427672"/>
                      <a:pt x="720090" y="429578"/>
                    </a:cubicBezTo>
                    <a:cubicBezTo>
                      <a:pt x="729615" y="447675"/>
                      <a:pt x="736282" y="465772"/>
                      <a:pt x="731520" y="49053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8" name="Freeform: Shape 66"/>
              <p:cNvSpPr/>
              <p:nvPr/>
            </p:nvSpPr>
            <p:spPr>
              <a:xfrm>
                <a:off x="9529560" y="2571480"/>
                <a:ext cx="346680" cy="138960"/>
              </a:xfrm>
              <a:custGeom>
                <a:avLst/>
                <a:gdLst/>
                <a:ahLst/>
                <a:rect l="l" t="t" r="r" b="b"/>
                <a:pathLst>
                  <a:path w="560705" h="224985">
                    <a:moveTo>
                      <a:pt x="559117" y="62865"/>
                    </a:moveTo>
                    <a:cubicBezTo>
                      <a:pt x="556260" y="78105"/>
                      <a:pt x="537210" y="106680"/>
                      <a:pt x="527685" y="119062"/>
                    </a:cubicBezTo>
                    <a:cubicBezTo>
                      <a:pt x="504825" y="146685"/>
                      <a:pt x="411480" y="142875"/>
                      <a:pt x="377190" y="145733"/>
                    </a:cubicBezTo>
                    <a:cubicBezTo>
                      <a:pt x="300990" y="151448"/>
                      <a:pt x="280035" y="175260"/>
                      <a:pt x="209550" y="204787"/>
                    </a:cubicBezTo>
                    <a:cubicBezTo>
                      <a:pt x="186690" y="214312"/>
                      <a:pt x="162878" y="226695"/>
                      <a:pt x="137160" y="224790"/>
                    </a:cubicBezTo>
                    <a:cubicBezTo>
                      <a:pt x="114300" y="222885"/>
                      <a:pt x="93345" y="210502"/>
                      <a:pt x="74295" y="197167"/>
                    </a:cubicBezTo>
                    <a:cubicBezTo>
                      <a:pt x="47625" y="178117"/>
                      <a:pt x="21907" y="155258"/>
                      <a:pt x="0" y="131445"/>
                    </a:cubicBezTo>
                    <a:cubicBezTo>
                      <a:pt x="20955" y="141923"/>
                      <a:pt x="41910" y="150495"/>
                      <a:pt x="63817" y="158115"/>
                    </a:cubicBezTo>
                    <a:cubicBezTo>
                      <a:pt x="97155" y="169545"/>
                      <a:pt x="132397" y="178117"/>
                      <a:pt x="167640" y="172402"/>
                    </a:cubicBezTo>
                    <a:cubicBezTo>
                      <a:pt x="185738" y="169545"/>
                      <a:pt x="202882" y="161925"/>
                      <a:pt x="220028" y="155258"/>
                    </a:cubicBezTo>
                    <a:cubicBezTo>
                      <a:pt x="243840" y="145733"/>
                      <a:pt x="267653" y="135255"/>
                      <a:pt x="291465" y="125730"/>
                    </a:cubicBezTo>
                    <a:cubicBezTo>
                      <a:pt x="295275" y="123825"/>
                      <a:pt x="300990" y="123825"/>
                      <a:pt x="301942" y="120015"/>
                    </a:cubicBezTo>
                    <a:cubicBezTo>
                      <a:pt x="332422" y="56198"/>
                      <a:pt x="384810" y="40005"/>
                      <a:pt x="384810" y="40005"/>
                    </a:cubicBezTo>
                    <a:cubicBezTo>
                      <a:pt x="384810" y="40005"/>
                      <a:pt x="364807" y="76200"/>
                      <a:pt x="352425" y="98108"/>
                    </a:cubicBezTo>
                    <a:cubicBezTo>
                      <a:pt x="349567" y="102870"/>
                      <a:pt x="354330" y="107633"/>
                      <a:pt x="359092" y="105727"/>
                    </a:cubicBezTo>
                    <a:cubicBezTo>
                      <a:pt x="398145" y="91440"/>
                      <a:pt x="456247" y="90487"/>
                      <a:pt x="488633" y="96202"/>
                    </a:cubicBezTo>
                    <a:cubicBezTo>
                      <a:pt x="480060" y="80962"/>
                      <a:pt x="466725" y="52387"/>
                      <a:pt x="452437" y="38100"/>
                    </a:cubicBezTo>
                    <a:cubicBezTo>
                      <a:pt x="450533" y="36195"/>
                      <a:pt x="447675" y="34290"/>
                      <a:pt x="445770" y="32385"/>
                    </a:cubicBezTo>
                    <a:cubicBezTo>
                      <a:pt x="450533" y="33337"/>
                      <a:pt x="454342" y="34290"/>
                      <a:pt x="459105" y="36195"/>
                    </a:cubicBezTo>
                    <a:cubicBezTo>
                      <a:pt x="468630" y="39052"/>
                      <a:pt x="478155" y="42862"/>
                      <a:pt x="485775" y="48577"/>
                    </a:cubicBezTo>
                    <a:cubicBezTo>
                      <a:pt x="497205" y="57150"/>
                      <a:pt x="506730" y="70485"/>
                      <a:pt x="504825" y="84773"/>
                    </a:cubicBezTo>
                    <a:cubicBezTo>
                      <a:pt x="527685" y="65723"/>
                      <a:pt x="537210" y="32385"/>
                      <a:pt x="531495" y="3810"/>
                    </a:cubicBezTo>
                    <a:cubicBezTo>
                      <a:pt x="536258" y="0"/>
                      <a:pt x="542925" y="-952"/>
                      <a:pt x="548640" y="952"/>
                    </a:cubicBezTo>
                    <a:cubicBezTo>
                      <a:pt x="557212" y="20002"/>
                      <a:pt x="563880" y="38100"/>
                      <a:pt x="559117" y="6286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59" name="Freeform: Shape 67"/>
              <p:cNvSpPr/>
              <p:nvPr/>
            </p:nvSpPr>
            <p:spPr>
              <a:xfrm>
                <a:off x="9736560" y="2593800"/>
                <a:ext cx="94680" cy="48600"/>
              </a:xfrm>
              <a:custGeom>
                <a:avLst/>
                <a:gdLst/>
                <a:ahLst/>
                <a:rect l="l" t="t" r="r" b="b"/>
                <a:pathLst>
                  <a:path w="153088" h="78824">
                    <a:moveTo>
                      <a:pt x="153017" y="65722"/>
                    </a:moveTo>
                    <a:cubicBezTo>
                      <a:pt x="107297" y="64770"/>
                      <a:pt x="60624" y="69532"/>
                      <a:pt x="15857" y="78105"/>
                    </a:cubicBezTo>
                    <a:cubicBezTo>
                      <a:pt x="10142" y="79057"/>
                      <a:pt x="2522" y="80010"/>
                      <a:pt x="617" y="74295"/>
                    </a:cubicBezTo>
                    <a:cubicBezTo>
                      <a:pt x="-1288" y="70485"/>
                      <a:pt x="1569" y="64770"/>
                      <a:pt x="4427" y="61913"/>
                    </a:cubicBezTo>
                    <a:cubicBezTo>
                      <a:pt x="16809" y="45720"/>
                      <a:pt x="29192" y="29528"/>
                      <a:pt x="41574" y="13335"/>
                    </a:cubicBezTo>
                    <a:cubicBezTo>
                      <a:pt x="66339" y="13335"/>
                      <a:pt x="91104" y="8572"/>
                      <a:pt x="114917" y="953"/>
                    </a:cubicBezTo>
                    <a:cubicBezTo>
                      <a:pt x="115870" y="953"/>
                      <a:pt x="116822" y="0"/>
                      <a:pt x="117774" y="0"/>
                    </a:cubicBezTo>
                    <a:cubicBezTo>
                      <a:pt x="123489" y="4763"/>
                      <a:pt x="128252" y="10478"/>
                      <a:pt x="133014" y="15240"/>
                    </a:cubicBezTo>
                    <a:cubicBezTo>
                      <a:pt x="145397" y="29528"/>
                      <a:pt x="153970" y="47625"/>
                      <a:pt x="153017" y="65722"/>
                    </a:cubicBezTo>
                    <a:close/>
                  </a:path>
                </a:pathLst>
              </a:custGeom>
              <a:solidFill>
                <a:srgbClr val="ffffff"/>
              </a:solidFill>
              <a:ln w="0">
                <a:noFill/>
              </a:ln>
            </p:spPr>
            <p:style>
              <a:lnRef idx="0"/>
              <a:fillRef idx="0"/>
              <a:effectRef idx="0"/>
              <a:fontRef idx="minor"/>
            </p:style>
            <p:txBody>
              <a:bodyPr lIns="90000" rIns="90000" tIns="1800" bIns="1800" anchor="ctr">
                <a:noAutofit/>
              </a:bodyPr>
              <a:p>
                <a:endParaRPr b="0" lang="en-US" sz="1800" spc="-1" strike="noStrike">
                  <a:solidFill>
                    <a:srgbClr val="313c3f"/>
                  </a:solidFill>
                  <a:latin typeface="Source Sans Pro"/>
                </a:endParaRPr>
              </a:p>
            </p:txBody>
          </p:sp>
          <p:sp>
            <p:nvSpPr>
              <p:cNvPr id="3060" name="Freeform: Shape 68"/>
              <p:cNvSpPr/>
              <p:nvPr/>
            </p:nvSpPr>
            <p:spPr>
              <a:xfrm>
                <a:off x="9423360" y="2305080"/>
                <a:ext cx="81000" cy="239760"/>
              </a:xfrm>
              <a:custGeom>
                <a:avLst/>
                <a:gdLst/>
                <a:ahLst/>
                <a:rect l="l" t="t" r="r" b="b"/>
                <a:pathLst>
                  <a:path w="131444" h="387667">
                    <a:moveTo>
                      <a:pt x="131445" y="187642"/>
                    </a:moveTo>
                    <a:cubicBezTo>
                      <a:pt x="131445" y="193357"/>
                      <a:pt x="131445" y="199072"/>
                      <a:pt x="131445" y="204788"/>
                    </a:cubicBezTo>
                    <a:cubicBezTo>
                      <a:pt x="131445" y="204788"/>
                      <a:pt x="131445" y="203835"/>
                      <a:pt x="131445" y="203835"/>
                    </a:cubicBezTo>
                    <a:cubicBezTo>
                      <a:pt x="127635" y="188595"/>
                      <a:pt x="120967" y="173355"/>
                      <a:pt x="107632" y="165735"/>
                    </a:cubicBezTo>
                    <a:cubicBezTo>
                      <a:pt x="92392" y="157163"/>
                      <a:pt x="70485" y="161925"/>
                      <a:pt x="57150" y="173355"/>
                    </a:cubicBezTo>
                    <a:cubicBezTo>
                      <a:pt x="43815" y="185738"/>
                      <a:pt x="37147" y="202882"/>
                      <a:pt x="33338" y="220980"/>
                    </a:cubicBezTo>
                    <a:cubicBezTo>
                      <a:pt x="24765" y="263842"/>
                      <a:pt x="33338" y="309563"/>
                      <a:pt x="46672" y="351472"/>
                    </a:cubicBezTo>
                    <a:cubicBezTo>
                      <a:pt x="50482" y="363855"/>
                      <a:pt x="55245" y="376238"/>
                      <a:pt x="60007" y="387667"/>
                    </a:cubicBezTo>
                    <a:cubicBezTo>
                      <a:pt x="44767" y="356235"/>
                      <a:pt x="30480" y="324803"/>
                      <a:pt x="17145" y="292417"/>
                    </a:cubicBezTo>
                    <a:cubicBezTo>
                      <a:pt x="10478" y="277178"/>
                      <a:pt x="3810" y="260985"/>
                      <a:pt x="953" y="243840"/>
                    </a:cubicBezTo>
                    <a:cubicBezTo>
                      <a:pt x="0" y="239078"/>
                      <a:pt x="0" y="235267"/>
                      <a:pt x="0" y="230505"/>
                    </a:cubicBezTo>
                    <a:cubicBezTo>
                      <a:pt x="0" y="224790"/>
                      <a:pt x="0" y="220028"/>
                      <a:pt x="953" y="215265"/>
                    </a:cubicBezTo>
                    <a:cubicBezTo>
                      <a:pt x="3810" y="194310"/>
                      <a:pt x="14288" y="174307"/>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4778" y="90488"/>
                      <a:pt x="131445" y="139065"/>
                      <a:pt x="131445" y="187642"/>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061" name="Graphic 2"/>
            <p:cNvGrpSpPr/>
            <p:nvPr/>
          </p:nvGrpSpPr>
          <p:grpSpPr>
            <a:xfrm>
              <a:off x="8790480" y="2184120"/>
              <a:ext cx="2069640" cy="326880"/>
              <a:chOff x="8790480" y="2184120"/>
              <a:chExt cx="2069640" cy="326880"/>
            </a:xfrm>
          </p:grpSpPr>
          <p:sp>
            <p:nvSpPr>
              <p:cNvPr id="3062" name="Freeform: Shape 70"/>
              <p:cNvSpPr/>
              <p:nvPr/>
            </p:nvSpPr>
            <p:spPr>
              <a:xfrm>
                <a:off x="9889920" y="2270160"/>
                <a:ext cx="970200" cy="240840"/>
              </a:xfrm>
              <a:custGeom>
                <a:avLst/>
                <a:gdLst/>
                <a:ahLst/>
                <a:rect l="l" t="t" r="r" b="b"/>
                <a:pathLst>
                  <a:path w="1568369" h="389163">
                    <a:moveTo>
                      <a:pt x="350520" y="307657"/>
                    </a:moveTo>
                    <a:lnTo>
                      <a:pt x="0" y="271463"/>
                    </a:lnTo>
                    <a:lnTo>
                      <a:pt x="952" y="270510"/>
                    </a:lnTo>
                    <a:cubicBezTo>
                      <a:pt x="24765" y="252413"/>
                      <a:pt x="42863" y="230505"/>
                      <a:pt x="55245" y="202882"/>
                    </a:cubicBezTo>
                    <a:cubicBezTo>
                      <a:pt x="63818" y="184785"/>
                      <a:pt x="69532" y="164782"/>
                      <a:pt x="71438" y="142875"/>
                    </a:cubicBezTo>
                    <a:cubicBezTo>
                      <a:pt x="77152" y="88582"/>
                      <a:pt x="58102" y="37147"/>
                      <a:pt x="24765" y="0"/>
                    </a:cubicBezTo>
                    <a:lnTo>
                      <a:pt x="56197" y="3810"/>
                    </a:lnTo>
                    <a:cubicBezTo>
                      <a:pt x="102870" y="9525"/>
                      <a:pt x="150495" y="16192"/>
                      <a:pt x="198120" y="21907"/>
                    </a:cubicBezTo>
                    <a:lnTo>
                      <a:pt x="622935" y="77152"/>
                    </a:lnTo>
                    <a:lnTo>
                      <a:pt x="628650" y="78105"/>
                    </a:lnTo>
                    <a:cubicBezTo>
                      <a:pt x="662940" y="81915"/>
                      <a:pt x="700088" y="86677"/>
                      <a:pt x="739140" y="92392"/>
                    </a:cubicBezTo>
                    <a:lnTo>
                      <a:pt x="1479232" y="188595"/>
                    </a:lnTo>
                    <a:cubicBezTo>
                      <a:pt x="1534477" y="194310"/>
                      <a:pt x="1573530" y="243840"/>
                      <a:pt x="1567815" y="299085"/>
                    </a:cubicBezTo>
                    <a:cubicBezTo>
                      <a:pt x="1562100" y="354330"/>
                      <a:pt x="1512570" y="394335"/>
                      <a:pt x="1458277" y="388620"/>
                    </a:cubicBezTo>
                    <a:cubicBezTo>
                      <a:pt x="1408747" y="383857"/>
                      <a:pt x="1371600" y="342900"/>
                      <a:pt x="1368743" y="294322"/>
                    </a:cubicBezTo>
                    <a:cubicBezTo>
                      <a:pt x="1196340" y="323850"/>
                      <a:pt x="665797" y="340995"/>
                      <a:pt x="350520" y="307657"/>
                    </a:cubicBezTo>
                    <a:close/>
                    <a:moveTo>
                      <a:pt x="1464945" y="345757"/>
                    </a:moveTo>
                    <a:cubicBezTo>
                      <a:pt x="1495425" y="348615"/>
                      <a:pt x="1524000" y="326707"/>
                      <a:pt x="1526857" y="295275"/>
                    </a:cubicBezTo>
                    <a:cubicBezTo>
                      <a:pt x="1529715" y="263842"/>
                      <a:pt x="1507807" y="236220"/>
                      <a:pt x="1476375" y="233363"/>
                    </a:cubicBezTo>
                    <a:cubicBezTo>
                      <a:pt x="1445895" y="230505"/>
                      <a:pt x="1417320" y="252413"/>
                      <a:pt x="1414463" y="283845"/>
                    </a:cubicBezTo>
                    <a:lnTo>
                      <a:pt x="1414463" y="284797"/>
                    </a:lnTo>
                    <a:cubicBezTo>
                      <a:pt x="1418272" y="321945"/>
                      <a:pt x="1438275" y="342900"/>
                      <a:pt x="1464945" y="34575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63" name="Freeform: Shape 71"/>
              <p:cNvSpPr/>
              <p:nvPr/>
            </p:nvSpPr>
            <p:spPr>
              <a:xfrm>
                <a:off x="8790480" y="2184120"/>
                <a:ext cx="966240" cy="238320"/>
              </a:xfrm>
              <a:custGeom>
                <a:avLst/>
                <a:gdLst/>
                <a:ahLst/>
                <a:rect l="l" t="t" r="r" b="b"/>
                <a:pathLst>
                  <a:path w="1561691" h="385353">
                    <a:moveTo>
                      <a:pt x="1190216" y="350111"/>
                    </a:moveTo>
                    <a:lnTo>
                      <a:pt x="1530259" y="385353"/>
                    </a:lnTo>
                    <a:lnTo>
                      <a:pt x="1528354" y="383448"/>
                    </a:lnTo>
                    <a:lnTo>
                      <a:pt x="1527401" y="381543"/>
                    </a:lnTo>
                    <a:cubicBezTo>
                      <a:pt x="1518829" y="371066"/>
                      <a:pt x="1510256" y="358684"/>
                      <a:pt x="1504541" y="346301"/>
                    </a:cubicBezTo>
                    <a:cubicBezTo>
                      <a:pt x="1498826" y="335823"/>
                      <a:pt x="1495016" y="325346"/>
                      <a:pt x="1492159" y="312963"/>
                    </a:cubicBezTo>
                    <a:cubicBezTo>
                      <a:pt x="1474061" y="246288"/>
                      <a:pt x="1493111" y="174851"/>
                      <a:pt x="1545499" y="127226"/>
                    </a:cubicBezTo>
                    <a:cubicBezTo>
                      <a:pt x="1550261" y="122463"/>
                      <a:pt x="1555976" y="117701"/>
                      <a:pt x="1561691" y="113891"/>
                    </a:cubicBezTo>
                    <a:cubicBezTo>
                      <a:pt x="1507399" y="110081"/>
                      <a:pt x="1452154" y="105318"/>
                      <a:pt x="1397861" y="101509"/>
                    </a:cubicBezTo>
                    <a:lnTo>
                      <a:pt x="971141" y="68171"/>
                    </a:lnTo>
                    <a:lnTo>
                      <a:pt x="965426" y="67218"/>
                    </a:lnTo>
                    <a:cubicBezTo>
                      <a:pt x="931136" y="63409"/>
                      <a:pt x="893989" y="60551"/>
                      <a:pt x="853984" y="58646"/>
                    </a:cubicBezTo>
                    <a:lnTo>
                      <a:pt x="110081" y="543"/>
                    </a:lnTo>
                    <a:cubicBezTo>
                      <a:pt x="54836" y="-5172"/>
                      <a:pt x="6258" y="34834"/>
                      <a:pt x="544" y="90078"/>
                    </a:cubicBezTo>
                    <a:cubicBezTo>
                      <a:pt x="-5171" y="145323"/>
                      <a:pt x="34833" y="194853"/>
                      <a:pt x="89126" y="200568"/>
                    </a:cubicBezTo>
                    <a:cubicBezTo>
                      <a:pt x="138656" y="205331"/>
                      <a:pt x="183424" y="172946"/>
                      <a:pt x="195806" y="126273"/>
                    </a:cubicBezTo>
                    <a:cubicBezTo>
                      <a:pt x="359636" y="191996"/>
                      <a:pt x="875891" y="317726"/>
                      <a:pt x="1190216" y="350111"/>
                    </a:cubicBezTo>
                    <a:close/>
                    <a:moveTo>
                      <a:pt x="92936" y="157706"/>
                    </a:moveTo>
                    <a:cubicBezTo>
                      <a:pt x="62456" y="154848"/>
                      <a:pt x="39596" y="126273"/>
                      <a:pt x="42454" y="95793"/>
                    </a:cubicBezTo>
                    <a:cubicBezTo>
                      <a:pt x="45311" y="64361"/>
                      <a:pt x="72933" y="42453"/>
                      <a:pt x="104366" y="45311"/>
                    </a:cubicBezTo>
                    <a:cubicBezTo>
                      <a:pt x="134846" y="48168"/>
                      <a:pt x="157706" y="76743"/>
                      <a:pt x="154849" y="107223"/>
                    </a:cubicBezTo>
                    <a:lnTo>
                      <a:pt x="154849" y="108176"/>
                    </a:lnTo>
                    <a:cubicBezTo>
                      <a:pt x="143419" y="145323"/>
                      <a:pt x="118654" y="160563"/>
                      <a:pt x="92936" y="1577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64" name="Freeform: Shape 72"/>
              <p:cNvSpPr/>
              <p:nvPr/>
            </p:nvSpPr>
            <p:spPr>
              <a:xfrm rot="16555200">
                <a:off x="9708480" y="2233800"/>
                <a:ext cx="227520" cy="226080"/>
              </a:xfrm>
              <a:custGeom>
                <a:avLst/>
                <a:gdLst/>
                <a:ahLst/>
                <a:rect l="l" t="t" r="r" b="b"/>
                <a:pathLst>
                  <a:path w="367679" h="365774">
                    <a:moveTo>
                      <a:pt x="367679" y="182887"/>
                    </a:moveTo>
                    <a:cubicBezTo>
                      <a:pt x="367679" y="283893"/>
                      <a:pt x="285371" y="365774"/>
                      <a:pt x="183840" y="365774"/>
                    </a:cubicBezTo>
                    <a:cubicBezTo>
                      <a:pt x="82308" y="365774"/>
                      <a:pt x="0" y="283893"/>
                      <a:pt x="0" y="182887"/>
                    </a:cubicBezTo>
                    <a:cubicBezTo>
                      <a:pt x="0" y="81881"/>
                      <a:pt x="82308" y="0"/>
                      <a:pt x="183840" y="0"/>
                    </a:cubicBezTo>
                    <a:cubicBezTo>
                      <a:pt x="285372" y="0"/>
                      <a:pt x="367679" y="81881"/>
                      <a:pt x="367679" y="1828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65" name="Freeform: Shape 73"/>
              <p:cNvSpPr/>
              <p:nvPr/>
            </p:nvSpPr>
            <p:spPr>
              <a:xfrm rot="16555200">
                <a:off x="9758520" y="2283120"/>
                <a:ext cx="128160" cy="127080"/>
              </a:xfrm>
              <a:custGeom>
                <a:avLst/>
                <a:gdLst/>
                <a:ahLst/>
                <a:rect l="l" t="t" r="r" b="b"/>
                <a:pathLst>
                  <a:path w="207653" h="205748">
                    <a:moveTo>
                      <a:pt x="207653" y="102874"/>
                    </a:moveTo>
                    <a:cubicBezTo>
                      <a:pt x="207653" y="159689"/>
                      <a:pt x="161169" y="205748"/>
                      <a:pt x="103826" y="205748"/>
                    </a:cubicBezTo>
                    <a:cubicBezTo>
                      <a:pt x="46485" y="205748"/>
                      <a:pt x="0" y="159689"/>
                      <a:pt x="0" y="102874"/>
                    </a:cubicBezTo>
                    <a:cubicBezTo>
                      <a:pt x="0" y="46058"/>
                      <a:pt x="46485" y="0"/>
                      <a:pt x="103826" y="0"/>
                    </a:cubicBezTo>
                    <a:cubicBezTo>
                      <a:pt x="161168" y="0"/>
                      <a:pt x="207653" y="46058"/>
                      <a:pt x="207653" y="102874"/>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66" name="Freeform: Shape 74"/>
              <p:cNvSpPr/>
              <p:nvPr/>
            </p:nvSpPr>
            <p:spPr>
              <a:xfrm rot="16555200">
                <a:off x="9789840" y="2314440"/>
                <a:ext cx="64800" cy="64800"/>
              </a:xfrm>
              <a:custGeom>
                <a:avLst/>
                <a:gdLst/>
                <a:ahLst/>
                <a:rect l="l" t="t" r="r" b="b"/>
                <a:pathLst>
                  <a:path w="104779" h="104779">
                    <a:moveTo>
                      <a:pt x="104779" y="52389"/>
                    </a:moveTo>
                    <a:cubicBezTo>
                      <a:pt x="104779" y="81323"/>
                      <a:pt x="81323" y="104779"/>
                      <a:pt x="52389" y="104779"/>
                    </a:cubicBezTo>
                    <a:cubicBezTo>
                      <a:pt x="23456" y="104779"/>
                      <a:pt x="0" y="81323"/>
                      <a:pt x="0" y="52389"/>
                    </a:cubicBezTo>
                    <a:cubicBezTo>
                      <a:pt x="0" y="23455"/>
                      <a:pt x="23456" y="0"/>
                      <a:pt x="52389" y="0"/>
                    </a:cubicBezTo>
                    <a:cubicBezTo>
                      <a:pt x="81323" y="0"/>
                      <a:pt x="104779" y="23455"/>
                      <a:pt x="104779" y="52389"/>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13c3f"/>
                  </a:solidFill>
                  <a:latin typeface="Source Sans Pro"/>
                </a:endParaRPr>
              </a:p>
            </p:txBody>
          </p:sp>
          <p:grpSp>
            <p:nvGrpSpPr>
              <p:cNvPr id="3067" name="Graphic 2"/>
              <p:cNvGrpSpPr/>
              <p:nvPr/>
            </p:nvGrpSpPr>
            <p:grpSpPr>
              <a:xfrm>
                <a:off x="9178920" y="2222640"/>
                <a:ext cx="1364400" cy="236160"/>
                <a:chOff x="9178920" y="2222640"/>
                <a:chExt cx="1364400" cy="236160"/>
              </a:xfrm>
            </p:grpSpPr>
            <p:grpSp>
              <p:nvGrpSpPr>
                <p:cNvPr id="3068" name="Graphic 2"/>
                <p:cNvGrpSpPr/>
                <p:nvPr/>
              </p:nvGrpSpPr>
              <p:grpSpPr>
                <a:xfrm>
                  <a:off x="10186200" y="2319120"/>
                  <a:ext cx="357120" cy="139680"/>
                  <a:chOff x="10186200" y="2319120"/>
                  <a:chExt cx="357120" cy="139680"/>
                </a:xfrm>
              </p:grpSpPr>
              <p:sp>
                <p:nvSpPr>
                  <p:cNvPr id="3069" name="Freeform: Shape 77"/>
                  <p:cNvSpPr/>
                  <p:nvPr/>
                </p:nvSpPr>
                <p:spPr>
                  <a:xfrm>
                    <a:off x="10445040" y="2353320"/>
                    <a:ext cx="98280" cy="104400"/>
                  </a:xfrm>
                  <a:custGeom>
                    <a:avLst/>
                    <a:gdLst/>
                    <a:ahLst/>
                    <a:rect l="l" t="t" r="r" b="b"/>
                    <a:pathLst>
                      <a:path w="159067" h="168592">
                        <a:moveTo>
                          <a:pt x="159067" y="165735"/>
                        </a:moveTo>
                        <a:lnTo>
                          <a:pt x="92392" y="12383"/>
                        </a:lnTo>
                        <a:lnTo>
                          <a:pt x="0" y="0"/>
                        </a:lnTo>
                        <a:lnTo>
                          <a:pt x="86677" y="168593"/>
                        </a:lnTo>
                        <a:cubicBezTo>
                          <a:pt x="110490" y="167640"/>
                          <a:pt x="135255" y="166688"/>
                          <a:pt x="159067" y="16573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70" name="Freeform: Shape 78"/>
                  <p:cNvSpPr/>
                  <p:nvPr/>
                </p:nvSpPr>
                <p:spPr>
                  <a:xfrm>
                    <a:off x="10186200" y="2319120"/>
                    <a:ext cx="140760" cy="139680"/>
                  </a:xfrm>
                  <a:custGeom>
                    <a:avLst/>
                    <a:gdLst/>
                    <a:ahLst/>
                    <a:rect l="l" t="t" r="r" b="b"/>
                    <a:pathLst>
                      <a:path w="227647" h="225742">
                        <a:moveTo>
                          <a:pt x="227648" y="225743"/>
                        </a:moveTo>
                        <a:lnTo>
                          <a:pt x="138113" y="18097"/>
                        </a:lnTo>
                        <a:lnTo>
                          <a:pt x="0" y="0"/>
                        </a:lnTo>
                        <a:lnTo>
                          <a:pt x="115252" y="223838"/>
                        </a:lnTo>
                        <a:cubicBezTo>
                          <a:pt x="152400" y="224790"/>
                          <a:pt x="189548" y="225743"/>
                          <a:pt x="227648" y="225743"/>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071" name="Graphic 2"/>
                <p:cNvGrpSpPr/>
                <p:nvPr/>
              </p:nvGrpSpPr>
              <p:grpSpPr>
                <a:xfrm>
                  <a:off x="9178920" y="2222640"/>
                  <a:ext cx="380520" cy="168480"/>
                  <a:chOff x="9178920" y="2222640"/>
                  <a:chExt cx="380520" cy="168480"/>
                </a:xfrm>
              </p:grpSpPr>
              <p:sp>
                <p:nvSpPr>
                  <p:cNvPr id="3072" name="Freeform: Shape 80"/>
                  <p:cNvSpPr/>
                  <p:nvPr/>
                </p:nvSpPr>
                <p:spPr>
                  <a:xfrm>
                    <a:off x="9431640" y="2242080"/>
                    <a:ext cx="127800" cy="149040"/>
                  </a:xfrm>
                  <a:custGeom>
                    <a:avLst/>
                    <a:gdLst/>
                    <a:ahLst/>
                    <a:rect l="l" t="t" r="r" b="b"/>
                    <a:pathLst>
                      <a:path w="206692" h="240982">
                        <a:moveTo>
                          <a:pt x="206693" y="240983"/>
                        </a:moveTo>
                        <a:lnTo>
                          <a:pt x="106680" y="8572"/>
                        </a:lnTo>
                        <a:lnTo>
                          <a:pt x="0" y="0"/>
                        </a:lnTo>
                        <a:lnTo>
                          <a:pt x="119063" y="231458"/>
                        </a:lnTo>
                        <a:cubicBezTo>
                          <a:pt x="131445" y="233363"/>
                          <a:pt x="143828" y="234315"/>
                          <a:pt x="157163" y="235268"/>
                        </a:cubicBezTo>
                        <a:lnTo>
                          <a:pt x="206693" y="240983"/>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73" name="Freeform: Shape 81"/>
                  <p:cNvSpPr/>
                  <p:nvPr/>
                </p:nvSpPr>
                <p:spPr>
                  <a:xfrm>
                    <a:off x="9178920" y="2222640"/>
                    <a:ext cx="147240" cy="133920"/>
                  </a:xfrm>
                  <a:custGeom>
                    <a:avLst/>
                    <a:gdLst/>
                    <a:ahLst/>
                    <a:rect l="l" t="t" r="r" b="b"/>
                    <a:pathLst>
                      <a:path w="238125" h="216217">
                        <a:moveTo>
                          <a:pt x="238125" y="216217"/>
                        </a:moveTo>
                        <a:lnTo>
                          <a:pt x="149542" y="11430"/>
                        </a:lnTo>
                        <a:lnTo>
                          <a:pt x="0" y="0"/>
                        </a:lnTo>
                        <a:lnTo>
                          <a:pt x="96203" y="186690"/>
                        </a:lnTo>
                        <a:cubicBezTo>
                          <a:pt x="115253" y="190500"/>
                          <a:pt x="134303" y="195263"/>
                          <a:pt x="154305" y="199072"/>
                        </a:cubicBezTo>
                        <a:cubicBezTo>
                          <a:pt x="181928" y="205740"/>
                          <a:pt x="210503" y="211455"/>
                          <a:pt x="238125" y="2162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sp>
          <p:nvSpPr>
            <p:cNvPr id="3074" name="Freeform: Shape 82"/>
            <p:cNvSpPr/>
            <p:nvPr/>
          </p:nvSpPr>
          <p:spPr>
            <a:xfrm>
              <a:off x="9474480" y="2023920"/>
              <a:ext cx="698040" cy="578160"/>
            </a:xfrm>
            <a:custGeom>
              <a:avLst/>
              <a:gdLst/>
              <a:ahLst/>
              <a:rect l="l" t="t" r="r" b="b"/>
              <a:pathLst>
                <a:path w="1128436" h="934900">
                  <a:moveTo>
                    <a:pt x="1128189" y="553944"/>
                  </a:moveTo>
                  <a:cubicBezTo>
                    <a:pt x="1126284" y="603474"/>
                    <a:pt x="1109139" y="652051"/>
                    <a:pt x="1088184" y="697772"/>
                  </a:cubicBezTo>
                  <a:cubicBezTo>
                    <a:pt x="1068181" y="741587"/>
                    <a:pt x="1044369" y="782544"/>
                    <a:pt x="1015794" y="821597"/>
                  </a:cubicBezTo>
                  <a:cubicBezTo>
                    <a:pt x="1007221" y="833979"/>
                    <a:pt x="996744" y="845409"/>
                    <a:pt x="986266" y="855887"/>
                  </a:cubicBezTo>
                  <a:cubicBezTo>
                    <a:pt x="977694" y="864459"/>
                    <a:pt x="967216" y="871126"/>
                    <a:pt x="956739" y="876841"/>
                  </a:cubicBezTo>
                  <a:cubicBezTo>
                    <a:pt x="924354" y="893987"/>
                    <a:pt x="885301" y="899701"/>
                    <a:pt x="849106" y="890176"/>
                  </a:cubicBezTo>
                  <a:cubicBezTo>
                    <a:pt x="849106" y="890176"/>
                    <a:pt x="849106" y="890176"/>
                    <a:pt x="849106" y="890176"/>
                  </a:cubicBezTo>
                  <a:cubicBezTo>
                    <a:pt x="842439" y="888272"/>
                    <a:pt x="835771" y="890176"/>
                    <a:pt x="831009" y="893987"/>
                  </a:cubicBezTo>
                  <a:cubicBezTo>
                    <a:pt x="830056" y="894939"/>
                    <a:pt x="829104" y="895891"/>
                    <a:pt x="828151" y="896844"/>
                  </a:cubicBezTo>
                  <a:cubicBezTo>
                    <a:pt x="825294" y="898749"/>
                    <a:pt x="821484" y="901607"/>
                    <a:pt x="818626" y="903512"/>
                  </a:cubicBezTo>
                  <a:cubicBezTo>
                    <a:pt x="806244" y="910179"/>
                    <a:pt x="784336" y="917799"/>
                    <a:pt x="770048" y="918751"/>
                  </a:cubicBezTo>
                  <a:cubicBezTo>
                    <a:pt x="726234" y="924466"/>
                    <a:pt x="677656" y="917799"/>
                    <a:pt x="644319" y="889224"/>
                  </a:cubicBezTo>
                  <a:cubicBezTo>
                    <a:pt x="642414" y="887319"/>
                    <a:pt x="639556" y="886366"/>
                    <a:pt x="636698" y="885414"/>
                  </a:cubicBezTo>
                  <a:cubicBezTo>
                    <a:pt x="630984" y="883509"/>
                    <a:pt x="624316" y="884462"/>
                    <a:pt x="619554" y="888272"/>
                  </a:cubicBezTo>
                  <a:cubicBezTo>
                    <a:pt x="602409" y="900654"/>
                    <a:pt x="580501" y="908274"/>
                    <a:pt x="560498" y="915894"/>
                  </a:cubicBezTo>
                  <a:cubicBezTo>
                    <a:pt x="523351" y="929229"/>
                    <a:pt x="484298" y="937801"/>
                    <a:pt x="445246" y="933991"/>
                  </a:cubicBezTo>
                  <a:cubicBezTo>
                    <a:pt x="406194" y="930182"/>
                    <a:pt x="367141" y="912084"/>
                    <a:pt x="344281" y="879699"/>
                  </a:cubicBezTo>
                  <a:cubicBezTo>
                    <a:pt x="306181" y="915894"/>
                    <a:pt x="244269" y="916847"/>
                    <a:pt x="191881" y="913989"/>
                  </a:cubicBezTo>
                  <a:cubicBezTo>
                    <a:pt x="161401" y="912084"/>
                    <a:pt x="129016" y="910179"/>
                    <a:pt x="106156" y="891129"/>
                  </a:cubicBezTo>
                  <a:cubicBezTo>
                    <a:pt x="92821" y="880651"/>
                    <a:pt x="84249" y="864459"/>
                    <a:pt x="76628" y="849219"/>
                  </a:cubicBezTo>
                  <a:cubicBezTo>
                    <a:pt x="60436" y="814929"/>
                    <a:pt x="51864" y="777782"/>
                    <a:pt x="49006" y="740634"/>
                  </a:cubicBezTo>
                  <a:cubicBezTo>
                    <a:pt x="47101" y="708249"/>
                    <a:pt x="49959" y="674912"/>
                    <a:pt x="49959" y="641574"/>
                  </a:cubicBezTo>
                  <a:cubicBezTo>
                    <a:pt x="49959" y="640622"/>
                    <a:pt x="49959" y="638716"/>
                    <a:pt x="49959" y="637764"/>
                  </a:cubicBezTo>
                  <a:cubicBezTo>
                    <a:pt x="49959" y="590139"/>
                    <a:pt x="43291" y="543466"/>
                    <a:pt x="29956" y="497747"/>
                  </a:cubicBezTo>
                  <a:cubicBezTo>
                    <a:pt x="26146" y="483459"/>
                    <a:pt x="21384" y="469172"/>
                    <a:pt x="16621" y="454884"/>
                  </a:cubicBezTo>
                  <a:cubicBezTo>
                    <a:pt x="4239" y="416784"/>
                    <a:pt x="-5286" y="377732"/>
                    <a:pt x="3286" y="339632"/>
                  </a:cubicBezTo>
                  <a:cubicBezTo>
                    <a:pt x="9001" y="312962"/>
                    <a:pt x="24241" y="289149"/>
                    <a:pt x="34719" y="263432"/>
                  </a:cubicBezTo>
                  <a:cubicBezTo>
                    <a:pt x="49959" y="225332"/>
                    <a:pt x="53769" y="183422"/>
                    <a:pt x="71866" y="147226"/>
                  </a:cubicBezTo>
                  <a:cubicBezTo>
                    <a:pt x="89011" y="113889"/>
                    <a:pt x="117586" y="87219"/>
                    <a:pt x="147114" y="63407"/>
                  </a:cubicBezTo>
                  <a:cubicBezTo>
                    <a:pt x="169974" y="45309"/>
                    <a:pt x="193786" y="29116"/>
                    <a:pt x="220456" y="20544"/>
                  </a:cubicBezTo>
                  <a:cubicBezTo>
                    <a:pt x="252841" y="11019"/>
                    <a:pt x="288084" y="13876"/>
                    <a:pt x="318564" y="28164"/>
                  </a:cubicBezTo>
                  <a:cubicBezTo>
                    <a:pt x="332851" y="34832"/>
                    <a:pt x="347139" y="44357"/>
                    <a:pt x="358569" y="55787"/>
                  </a:cubicBezTo>
                  <a:cubicBezTo>
                    <a:pt x="371904" y="42451"/>
                    <a:pt x="388096" y="31974"/>
                    <a:pt x="404289" y="23401"/>
                  </a:cubicBezTo>
                  <a:cubicBezTo>
                    <a:pt x="436674" y="6257"/>
                    <a:pt x="473821" y="-2316"/>
                    <a:pt x="510016" y="541"/>
                  </a:cubicBezTo>
                  <a:cubicBezTo>
                    <a:pt x="538591" y="2447"/>
                    <a:pt x="567166" y="11019"/>
                    <a:pt x="592884" y="24354"/>
                  </a:cubicBezTo>
                  <a:cubicBezTo>
                    <a:pt x="592884" y="24354"/>
                    <a:pt x="592884" y="24354"/>
                    <a:pt x="592884" y="24354"/>
                  </a:cubicBezTo>
                  <a:cubicBezTo>
                    <a:pt x="615744" y="36737"/>
                    <a:pt x="636698" y="53882"/>
                    <a:pt x="652891" y="73884"/>
                  </a:cubicBezTo>
                  <a:cubicBezTo>
                    <a:pt x="687181" y="57691"/>
                    <a:pt x="718614" y="51024"/>
                    <a:pt x="748141" y="51024"/>
                  </a:cubicBezTo>
                  <a:cubicBezTo>
                    <a:pt x="772906" y="51024"/>
                    <a:pt x="795766" y="55787"/>
                    <a:pt x="816721" y="63407"/>
                  </a:cubicBezTo>
                  <a:cubicBezTo>
                    <a:pt x="816721" y="63407"/>
                    <a:pt x="817673" y="63407"/>
                    <a:pt x="817673" y="63407"/>
                  </a:cubicBezTo>
                  <a:cubicBezTo>
                    <a:pt x="873871" y="84362"/>
                    <a:pt x="909114" y="127224"/>
                    <a:pt x="908161" y="145322"/>
                  </a:cubicBezTo>
                  <a:cubicBezTo>
                    <a:pt x="916734" y="136749"/>
                    <a:pt x="927211" y="131987"/>
                    <a:pt x="937689" y="128176"/>
                  </a:cubicBezTo>
                  <a:cubicBezTo>
                    <a:pt x="939594" y="127224"/>
                    <a:pt x="942451" y="127224"/>
                    <a:pt x="945309" y="126272"/>
                  </a:cubicBezTo>
                  <a:cubicBezTo>
                    <a:pt x="945309" y="126272"/>
                    <a:pt x="945309" y="126272"/>
                    <a:pt x="946261" y="126272"/>
                  </a:cubicBezTo>
                  <a:cubicBezTo>
                    <a:pt x="969121" y="122462"/>
                    <a:pt x="993886" y="128176"/>
                    <a:pt x="1013889" y="142464"/>
                  </a:cubicBezTo>
                  <a:cubicBezTo>
                    <a:pt x="1029129" y="152941"/>
                    <a:pt x="1041511" y="167229"/>
                    <a:pt x="1051989" y="183422"/>
                  </a:cubicBezTo>
                  <a:cubicBezTo>
                    <a:pt x="1063419" y="200566"/>
                    <a:pt x="1071991" y="220569"/>
                    <a:pt x="1078659" y="239619"/>
                  </a:cubicBezTo>
                  <a:cubicBezTo>
                    <a:pt x="1107234" y="317724"/>
                    <a:pt x="1115806" y="401544"/>
                    <a:pt x="1124379" y="484412"/>
                  </a:cubicBezTo>
                  <a:cubicBezTo>
                    <a:pt x="1127236" y="507272"/>
                    <a:pt x="1129141" y="530132"/>
                    <a:pt x="1128189" y="55394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75" name="Freeform: Shape 83"/>
            <p:cNvSpPr/>
            <p:nvPr/>
          </p:nvSpPr>
          <p:spPr>
            <a:xfrm>
              <a:off x="9503640" y="2137320"/>
              <a:ext cx="668520" cy="464760"/>
            </a:xfrm>
            <a:custGeom>
              <a:avLst/>
              <a:gdLst/>
              <a:ahLst/>
              <a:rect l="l" t="t" r="r" b="b"/>
              <a:pathLst>
                <a:path w="1081011" h="751479">
                  <a:moveTo>
                    <a:pt x="1077388" y="300990"/>
                  </a:moveTo>
                  <a:cubicBezTo>
                    <a:pt x="1068816" y="218122"/>
                    <a:pt x="1060243" y="134303"/>
                    <a:pt x="1031668" y="56197"/>
                  </a:cubicBezTo>
                  <a:cubicBezTo>
                    <a:pt x="1025000" y="37147"/>
                    <a:pt x="1016428" y="17145"/>
                    <a:pt x="1004998" y="0"/>
                  </a:cubicBezTo>
                  <a:cubicBezTo>
                    <a:pt x="1027858" y="95250"/>
                    <a:pt x="1047860" y="192405"/>
                    <a:pt x="1046908" y="290513"/>
                  </a:cubicBezTo>
                  <a:cubicBezTo>
                    <a:pt x="1046908" y="318135"/>
                    <a:pt x="1045003" y="346710"/>
                    <a:pt x="1038335" y="374332"/>
                  </a:cubicBezTo>
                  <a:cubicBezTo>
                    <a:pt x="1033573" y="396240"/>
                    <a:pt x="1025953" y="418147"/>
                    <a:pt x="1018333" y="439103"/>
                  </a:cubicBezTo>
                  <a:cubicBezTo>
                    <a:pt x="1009760" y="463867"/>
                    <a:pt x="1000235" y="489585"/>
                    <a:pt x="991663" y="514350"/>
                  </a:cubicBezTo>
                  <a:cubicBezTo>
                    <a:pt x="979280" y="549592"/>
                    <a:pt x="964993" y="586740"/>
                    <a:pt x="935466" y="608647"/>
                  </a:cubicBezTo>
                  <a:cubicBezTo>
                    <a:pt x="907843" y="628650"/>
                    <a:pt x="871648" y="631507"/>
                    <a:pt x="836405" y="628650"/>
                  </a:cubicBezTo>
                  <a:cubicBezTo>
                    <a:pt x="836405" y="627697"/>
                    <a:pt x="836405" y="627697"/>
                    <a:pt x="836405" y="626745"/>
                  </a:cubicBezTo>
                  <a:cubicBezTo>
                    <a:pt x="834500" y="601028"/>
                    <a:pt x="840216" y="575310"/>
                    <a:pt x="847835" y="550545"/>
                  </a:cubicBezTo>
                  <a:cubicBezTo>
                    <a:pt x="855455" y="525780"/>
                    <a:pt x="864028" y="501015"/>
                    <a:pt x="867838" y="475297"/>
                  </a:cubicBezTo>
                  <a:cubicBezTo>
                    <a:pt x="874505" y="433388"/>
                    <a:pt x="849741" y="247650"/>
                    <a:pt x="846883" y="182880"/>
                  </a:cubicBezTo>
                  <a:cubicBezTo>
                    <a:pt x="835453" y="240030"/>
                    <a:pt x="842120" y="396240"/>
                    <a:pt x="840216" y="449580"/>
                  </a:cubicBezTo>
                  <a:cubicBezTo>
                    <a:pt x="838310" y="503872"/>
                    <a:pt x="827833" y="559117"/>
                    <a:pt x="808783" y="609600"/>
                  </a:cubicBezTo>
                  <a:cubicBezTo>
                    <a:pt x="803068" y="623888"/>
                    <a:pt x="797353" y="638175"/>
                    <a:pt x="785923" y="648653"/>
                  </a:cubicBezTo>
                  <a:cubicBezTo>
                    <a:pt x="778303" y="655320"/>
                    <a:pt x="768778" y="659130"/>
                    <a:pt x="759253" y="661988"/>
                  </a:cubicBezTo>
                  <a:cubicBezTo>
                    <a:pt x="731630" y="671513"/>
                    <a:pt x="703055" y="676275"/>
                    <a:pt x="674480" y="676275"/>
                  </a:cubicBezTo>
                  <a:cubicBezTo>
                    <a:pt x="660193" y="676275"/>
                    <a:pt x="645905" y="674370"/>
                    <a:pt x="633523" y="667703"/>
                  </a:cubicBezTo>
                  <a:cubicBezTo>
                    <a:pt x="610663" y="655320"/>
                    <a:pt x="622093" y="662940"/>
                    <a:pt x="610663" y="639128"/>
                  </a:cubicBezTo>
                  <a:cubicBezTo>
                    <a:pt x="622093" y="480060"/>
                    <a:pt x="630666" y="314325"/>
                    <a:pt x="625903" y="154305"/>
                  </a:cubicBezTo>
                  <a:cubicBezTo>
                    <a:pt x="623045" y="221932"/>
                    <a:pt x="587803" y="523875"/>
                    <a:pt x="581135" y="627697"/>
                  </a:cubicBezTo>
                  <a:cubicBezTo>
                    <a:pt x="580183" y="636270"/>
                    <a:pt x="576373" y="644842"/>
                    <a:pt x="570658" y="651510"/>
                  </a:cubicBezTo>
                  <a:cubicBezTo>
                    <a:pt x="563991" y="659130"/>
                    <a:pt x="555418" y="662940"/>
                    <a:pt x="545893" y="666750"/>
                  </a:cubicBezTo>
                  <a:cubicBezTo>
                    <a:pt x="527795" y="674370"/>
                    <a:pt x="508745" y="681990"/>
                    <a:pt x="489695" y="686753"/>
                  </a:cubicBezTo>
                  <a:cubicBezTo>
                    <a:pt x="446833" y="697230"/>
                    <a:pt x="400160" y="694372"/>
                    <a:pt x="358250" y="678180"/>
                  </a:cubicBezTo>
                  <a:cubicBezTo>
                    <a:pt x="347773" y="674370"/>
                    <a:pt x="335390" y="666750"/>
                    <a:pt x="334438" y="655320"/>
                  </a:cubicBezTo>
                  <a:cubicBezTo>
                    <a:pt x="331580" y="567690"/>
                    <a:pt x="331580" y="477203"/>
                    <a:pt x="331580" y="389572"/>
                  </a:cubicBezTo>
                  <a:cubicBezTo>
                    <a:pt x="331580" y="347663"/>
                    <a:pt x="331580" y="188595"/>
                    <a:pt x="321103" y="116205"/>
                  </a:cubicBezTo>
                  <a:cubicBezTo>
                    <a:pt x="319198" y="178117"/>
                    <a:pt x="304910" y="328613"/>
                    <a:pt x="304910" y="368617"/>
                  </a:cubicBezTo>
                  <a:cubicBezTo>
                    <a:pt x="304910" y="403860"/>
                    <a:pt x="303005" y="440055"/>
                    <a:pt x="300148" y="475297"/>
                  </a:cubicBezTo>
                  <a:cubicBezTo>
                    <a:pt x="298243" y="507682"/>
                    <a:pt x="296338" y="539115"/>
                    <a:pt x="293480" y="571500"/>
                  </a:cubicBezTo>
                  <a:cubicBezTo>
                    <a:pt x="292528" y="590550"/>
                    <a:pt x="290623" y="610553"/>
                    <a:pt x="285860" y="628650"/>
                  </a:cubicBezTo>
                  <a:cubicBezTo>
                    <a:pt x="283003" y="639128"/>
                    <a:pt x="278240" y="649605"/>
                    <a:pt x="270620" y="656272"/>
                  </a:cubicBezTo>
                  <a:cubicBezTo>
                    <a:pt x="263953" y="661988"/>
                    <a:pt x="255380" y="664845"/>
                    <a:pt x="247760" y="667703"/>
                  </a:cubicBezTo>
                  <a:cubicBezTo>
                    <a:pt x="225853" y="675322"/>
                    <a:pt x="201088" y="681990"/>
                    <a:pt x="180133" y="672465"/>
                  </a:cubicBezTo>
                  <a:cubicBezTo>
                    <a:pt x="142985" y="654367"/>
                    <a:pt x="89645" y="663892"/>
                    <a:pt x="59165" y="635317"/>
                  </a:cubicBezTo>
                  <a:cubicBezTo>
                    <a:pt x="31543" y="609600"/>
                    <a:pt x="23923" y="569595"/>
                    <a:pt x="16303" y="532447"/>
                  </a:cubicBezTo>
                  <a:cubicBezTo>
                    <a:pt x="11540" y="506730"/>
                    <a:pt x="6778" y="481965"/>
                    <a:pt x="2015" y="456247"/>
                  </a:cubicBezTo>
                  <a:cubicBezTo>
                    <a:pt x="2015" y="455295"/>
                    <a:pt x="2015" y="455295"/>
                    <a:pt x="2015" y="454342"/>
                  </a:cubicBezTo>
                  <a:cubicBezTo>
                    <a:pt x="2015" y="455295"/>
                    <a:pt x="2015" y="457200"/>
                    <a:pt x="2015" y="458153"/>
                  </a:cubicBezTo>
                  <a:cubicBezTo>
                    <a:pt x="2015" y="491490"/>
                    <a:pt x="-1795" y="523875"/>
                    <a:pt x="1063" y="557213"/>
                  </a:cubicBezTo>
                  <a:cubicBezTo>
                    <a:pt x="3920" y="594360"/>
                    <a:pt x="12493" y="631507"/>
                    <a:pt x="28685" y="665797"/>
                  </a:cubicBezTo>
                  <a:cubicBezTo>
                    <a:pt x="36305" y="681038"/>
                    <a:pt x="44878" y="696278"/>
                    <a:pt x="58213" y="707707"/>
                  </a:cubicBezTo>
                  <a:cubicBezTo>
                    <a:pt x="81073" y="726757"/>
                    <a:pt x="113458" y="729615"/>
                    <a:pt x="143938" y="730567"/>
                  </a:cubicBezTo>
                  <a:cubicBezTo>
                    <a:pt x="196325" y="733425"/>
                    <a:pt x="258238" y="732472"/>
                    <a:pt x="296338" y="696278"/>
                  </a:cubicBezTo>
                  <a:cubicBezTo>
                    <a:pt x="319198" y="728663"/>
                    <a:pt x="358250" y="745807"/>
                    <a:pt x="397303" y="750570"/>
                  </a:cubicBezTo>
                  <a:cubicBezTo>
                    <a:pt x="436355" y="754380"/>
                    <a:pt x="475408" y="745807"/>
                    <a:pt x="512555" y="732472"/>
                  </a:cubicBezTo>
                  <a:cubicBezTo>
                    <a:pt x="532558" y="724853"/>
                    <a:pt x="554466" y="717232"/>
                    <a:pt x="571610" y="704850"/>
                  </a:cubicBezTo>
                  <a:cubicBezTo>
                    <a:pt x="576373" y="701040"/>
                    <a:pt x="583041" y="700088"/>
                    <a:pt x="588755" y="701992"/>
                  </a:cubicBezTo>
                  <a:cubicBezTo>
                    <a:pt x="591613" y="702945"/>
                    <a:pt x="594470" y="703897"/>
                    <a:pt x="596375" y="705803"/>
                  </a:cubicBezTo>
                  <a:cubicBezTo>
                    <a:pt x="630666" y="734378"/>
                    <a:pt x="678291" y="740092"/>
                    <a:pt x="722105" y="735330"/>
                  </a:cubicBezTo>
                  <a:cubicBezTo>
                    <a:pt x="736393" y="733425"/>
                    <a:pt x="758300" y="726757"/>
                    <a:pt x="770683" y="720090"/>
                  </a:cubicBezTo>
                  <a:cubicBezTo>
                    <a:pt x="774493" y="718185"/>
                    <a:pt x="777350" y="716280"/>
                    <a:pt x="780208" y="713422"/>
                  </a:cubicBezTo>
                  <a:cubicBezTo>
                    <a:pt x="780208" y="713422"/>
                    <a:pt x="780208" y="713422"/>
                    <a:pt x="780208" y="713422"/>
                  </a:cubicBezTo>
                  <a:cubicBezTo>
                    <a:pt x="781160" y="712470"/>
                    <a:pt x="782113" y="711517"/>
                    <a:pt x="783066" y="710565"/>
                  </a:cubicBezTo>
                  <a:cubicBezTo>
                    <a:pt x="787828" y="705803"/>
                    <a:pt x="794495" y="704850"/>
                    <a:pt x="801163" y="706755"/>
                  </a:cubicBezTo>
                  <a:cubicBezTo>
                    <a:pt x="801163" y="706755"/>
                    <a:pt x="801163" y="706755"/>
                    <a:pt x="801163" y="706755"/>
                  </a:cubicBezTo>
                  <a:cubicBezTo>
                    <a:pt x="837358" y="715328"/>
                    <a:pt x="876410" y="710565"/>
                    <a:pt x="908795" y="693420"/>
                  </a:cubicBezTo>
                  <a:cubicBezTo>
                    <a:pt x="919273" y="687705"/>
                    <a:pt x="929750" y="681038"/>
                    <a:pt x="938323" y="672465"/>
                  </a:cubicBezTo>
                  <a:cubicBezTo>
                    <a:pt x="949753" y="661988"/>
                    <a:pt x="959278" y="650557"/>
                    <a:pt x="967850" y="638175"/>
                  </a:cubicBezTo>
                  <a:cubicBezTo>
                    <a:pt x="996425" y="599122"/>
                    <a:pt x="1020238" y="558165"/>
                    <a:pt x="1040241" y="514350"/>
                  </a:cubicBezTo>
                  <a:cubicBezTo>
                    <a:pt x="1061195" y="468630"/>
                    <a:pt x="1078341" y="421005"/>
                    <a:pt x="1080245" y="370522"/>
                  </a:cubicBezTo>
                  <a:cubicBezTo>
                    <a:pt x="1082150" y="346710"/>
                    <a:pt x="1080245" y="323850"/>
                    <a:pt x="1077388" y="3009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76" name="Freeform: Shape 84"/>
            <p:cNvSpPr/>
            <p:nvPr/>
          </p:nvSpPr>
          <p:spPr>
            <a:xfrm>
              <a:off x="9668880" y="2038680"/>
              <a:ext cx="55800" cy="92160"/>
            </a:xfrm>
            <a:custGeom>
              <a:avLst/>
              <a:gdLst/>
              <a:ahLst/>
              <a:rect l="l" t="t" r="r" b="b"/>
              <a:pathLst>
                <a:path w="90487" h="149542">
                  <a:moveTo>
                    <a:pt x="90488" y="0"/>
                  </a:moveTo>
                  <a:cubicBezTo>
                    <a:pt x="80963" y="11430"/>
                    <a:pt x="74295" y="24765"/>
                    <a:pt x="69532" y="39053"/>
                  </a:cubicBezTo>
                  <a:cubicBezTo>
                    <a:pt x="52388" y="83820"/>
                    <a:pt x="50482" y="100965"/>
                    <a:pt x="49530" y="149543"/>
                  </a:cubicBezTo>
                  <a:cubicBezTo>
                    <a:pt x="40005" y="116205"/>
                    <a:pt x="46672" y="120015"/>
                    <a:pt x="40005" y="89535"/>
                  </a:cubicBezTo>
                  <a:cubicBezTo>
                    <a:pt x="33338" y="56197"/>
                    <a:pt x="18097" y="32385"/>
                    <a:pt x="0" y="4763"/>
                  </a:cubicBezTo>
                  <a:cubicBezTo>
                    <a:pt x="952" y="4763"/>
                    <a:pt x="2857" y="4763"/>
                    <a:pt x="4763" y="5715"/>
                  </a:cubicBezTo>
                  <a:cubicBezTo>
                    <a:pt x="19050" y="12383"/>
                    <a:pt x="33338" y="21908"/>
                    <a:pt x="44767" y="33338"/>
                  </a:cubicBezTo>
                  <a:cubicBezTo>
                    <a:pt x="58102" y="19050"/>
                    <a:pt x="74295" y="8572"/>
                    <a:pt x="90488" y="0"/>
                  </a:cubicBezTo>
                  <a:close/>
                </a:path>
              </a:pathLst>
            </a:custGeom>
            <a:solidFill>
              <a:srgbClr val="cf9e76"/>
            </a:solidFill>
            <a:ln w="0">
              <a:noFill/>
            </a:ln>
          </p:spPr>
          <p:style>
            <a:lnRef idx="0"/>
            <a:fillRef idx="0"/>
            <a:effectRef idx="0"/>
            <a:fontRef idx="minor"/>
          </p:style>
          <p:txBody>
            <a:bodyPr lIns="90000" rIns="90000" tIns="45360" bIns="45360" anchor="ctr">
              <a:noAutofit/>
            </a:bodyPr>
            <a:p>
              <a:endParaRPr b="0" lang="en-US" sz="1800" spc="-1" strike="noStrike">
                <a:solidFill>
                  <a:srgbClr val="313c3f"/>
                </a:solidFill>
                <a:latin typeface="Source Sans Pro"/>
              </a:endParaRPr>
            </a:p>
          </p:txBody>
        </p:sp>
        <p:sp>
          <p:nvSpPr>
            <p:cNvPr id="3077" name="Freeform: Shape 85"/>
            <p:cNvSpPr/>
            <p:nvPr/>
          </p:nvSpPr>
          <p:spPr>
            <a:xfrm>
              <a:off x="9841320" y="2039400"/>
              <a:ext cx="97200" cy="110160"/>
            </a:xfrm>
            <a:custGeom>
              <a:avLst/>
              <a:gdLst/>
              <a:ahLst/>
              <a:rect l="l" t="t" r="r" b="b"/>
              <a:pathLst>
                <a:path w="157162" h="178117">
                  <a:moveTo>
                    <a:pt x="157163" y="26670"/>
                  </a:moveTo>
                  <a:cubicBezTo>
                    <a:pt x="129540" y="39053"/>
                    <a:pt x="103823" y="61913"/>
                    <a:pt x="87630" y="88582"/>
                  </a:cubicBezTo>
                  <a:cubicBezTo>
                    <a:pt x="71438" y="114300"/>
                    <a:pt x="70485" y="147638"/>
                    <a:pt x="72390" y="178118"/>
                  </a:cubicBezTo>
                  <a:cubicBezTo>
                    <a:pt x="71438" y="158115"/>
                    <a:pt x="61913" y="137160"/>
                    <a:pt x="59055" y="117157"/>
                  </a:cubicBezTo>
                  <a:cubicBezTo>
                    <a:pt x="57150" y="105728"/>
                    <a:pt x="55245" y="94297"/>
                    <a:pt x="51435" y="83820"/>
                  </a:cubicBezTo>
                  <a:cubicBezTo>
                    <a:pt x="46673" y="71438"/>
                    <a:pt x="43815" y="38100"/>
                    <a:pt x="0" y="0"/>
                  </a:cubicBezTo>
                  <a:cubicBezTo>
                    <a:pt x="22860" y="12382"/>
                    <a:pt x="43815" y="29528"/>
                    <a:pt x="60007" y="49530"/>
                  </a:cubicBezTo>
                  <a:cubicBezTo>
                    <a:pt x="94298" y="33338"/>
                    <a:pt x="125730" y="26670"/>
                    <a:pt x="155257" y="26670"/>
                  </a:cubicBezTo>
                  <a:cubicBezTo>
                    <a:pt x="156210" y="25718"/>
                    <a:pt x="157163" y="26670"/>
                    <a:pt x="157163" y="2667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78" name="Freeform: Shape 86"/>
            <p:cNvSpPr/>
            <p:nvPr/>
          </p:nvSpPr>
          <p:spPr>
            <a:xfrm>
              <a:off x="9979920" y="2062800"/>
              <a:ext cx="74520" cy="93960"/>
            </a:xfrm>
            <a:custGeom>
              <a:avLst/>
              <a:gdLst/>
              <a:ahLst/>
              <a:rect l="l" t="t" r="r" b="b"/>
              <a:pathLst>
                <a:path w="120967" h="152400">
                  <a:moveTo>
                    <a:pt x="91440" y="81915"/>
                  </a:moveTo>
                  <a:cubicBezTo>
                    <a:pt x="100013" y="73343"/>
                    <a:pt x="110490" y="68580"/>
                    <a:pt x="120968" y="64770"/>
                  </a:cubicBezTo>
                  <a:cubicBezTo>
                    <a:pt x="120015" y="65722"/>
                    <a:pt x="119063" y="65722"/>
                    <a:pt x="118110" y="66675"/>
                  </a:cubicBezTo>
                  <a:cubicBezTo>
                    <a:pt x="115252" y="69532"/>
                    <a:pt x="113348" y="73343"/>
                    <a:pt x="111443" y="77153"/>
                  </a:cubicBezTo>
                  <a:cubicBezTo>
                    <a:pt x="100013" y="100965"/>
                    <a:pt x="90488" y="126682"/>
                    <a:pt x="82868" y="152400"/>
                  </a:cubicBezTo>
                  <a:cubicBezTo>
                    <a:pt x="80963" y="136207"/>
                    <a:pt x="80010" y="120015"/>
                    <a:pt x="78105" y="103822"/>
                  </a:cubicBezTo>
                  <a:cubicBezTo>
                    <a:pt x="76200" y="82868"/>
                    <a:pt x="73343" y="61913"/>
                    <a:pt x="62865" y="43815"/>
                  </a:cubicBezTo>
                  <a:cubicBezTo>
                    <a:pt x="54293" y="29528"/>
                    <a:pt x="24765" y="10478"/>
                    <a:pt x="0" y="0"/>
                  </a:cubicBezTo>
                  <a:cubicBezTo>
                    <a:pt x="57150" y="21907"/>
                    <a:pt x="92393" y="63818"/>
                    <a:pt x="91440" y="8191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79" name="Freeform: Shape 87"/>
            <p:cNvSpPr/>
            <p:nvPr/>
          </p:nvSpPr>
          <p:spPr>
            <a:xfrm>
              <a:off x="10059480" y="210240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3080" name="Freeform: Shape 88"/>
            <p:cNvSpPr/>
            <p:nvPr/>
          </p:nvSpPr>
          <p:spPr>
            <a:xfrm>
              <a:off x="8837640" y="2240280"/>
              <a:ext cx="435240" cy="106056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8"/>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81" name="Freeform: Shape 89"/>
            <p:cNvSpPr/>
            <p:nvPr/>
          </p:nvSpPr>
          <p:spPr>
            <a:xfrm>
              <a:off x="10791000" y="2442240"/>
              <a:ext cx="435240" cy="1060560"/>
            </a:xfrm>
            <a:custGeom>
              <a:avLst/>
              <a:gdLst/>
              <a:ahLst/>
              <a:rect l="l" t="t" r="r" b="b"/>
              <a:pathLst>
                <a:path w="703796" h="1715169">
                  <a:moveTo>
                    <a:pt x="36690" y="20093"/>
                  </a:moveTo>
                  <a:lnTo>
                    <a:pt x="699630" y="1676490"/>
                  </a:lnTo>
                  <a:cubicBezTo>
                    <a:pt x="715822" y="1720305"/>
                    <a:pt x="680580" y="1729830"/>
                    <a:pt x="666292"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082" name="Graphic 2"/>
          <p:cNvGrpSpPr/>
          <p:nvPr/>
        </p:nvGrpSpPr>
        <p:grpSpPr>
          <a:xfrm>
            <a:off x="4672080" y="2073240"/>
            <a:ext cx="2890800" cy="1530360"/>
            <a:chOff x="4672080" y="2073240"/>
            <a:chExt cx="2890800" cy="1530360"/>
          </a:xfrm>
        </p:grpSpPr>
        <p:sp>
          <p:nvSpPr>
            <p:cNvPr id="3083" name="Freeform: Shape 91"/>
            <p:cNvSpPr/>
            <p:nvPr/>
          </p:nvSpPr>
          <p:spPr>
            <a:xfrm>
              <a:off x="53582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7"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84" name="Freeform: Shape 92"/>
            <p:cNvSpPr/>
            <p:nvPr/>
          </p:nvSpPr>
          <p:spPr>
            <a:xfrm>
              <a:off x="4672080" y="339804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3"/>
                  </a:lnTo>
                  <a:lnTo>
                    <a:pt x="214313" y="69533"/>
                  </a:lnTo>
                  <a:lnTo>
                    <a:pt x="162878" y="69533"/>
                  </a:lnTo>
                  <a:cubicBezTo>
                    <a:pt x="157163"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85" name="Freeform: Shape 93"/>
            <p:cNvSpPr/>
            <p:nvPr/>
          </p:nvSpPr>
          <p:spPr>
            <a:xfrm>
              <a:off x="4772520" y="3440880"/>
              <a:ext cx="731160" cy="162720"/>
            </a:xfrm>
            <a:custGeom>
              <a:avLst/>
              <a:gdLst/>
              <a:ahLst/>
              <a:rect l="l" t="t" r="r" b="b"/>
              <a:pathLst>
                <a:path w="1182052" h="262890">
                  <a:moveTo>
                    <a:pt x="1029652" y="262890"/>
                  </a:moveTo>
                  <a:lnTo>
                    <a:pt x="153353" y="262890"/>
                  </a:lnTo>
                  <a:lnTo>
                    <a:pt x="0" y="0"/>
                  </a:lnTo>
                  <a:lnTo>
                    <a:pt x="1182053" y="1905"/>
                  </a:lnTo>
                  <a:lnTo>
                    <a:pt x="1029652"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86" name="Freeform: Shape 94"/>
            <p:cNvSpPr/>
            <p:nvPr/>
          </p:nvSpPr>
          <p:spPr>
            <a:xfrm>
              <a:off x="47998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3"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87" name="Freeform: Shape 95"/>
            <p:cNvSpPr/>
            <p:nvPr/>
          </p:nvSpPr>
          <p:spPr>
            <a:xfrm>
              <a:off x="5172840" y="345744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088" name="Graphic 2"/>
            <p:cNvGrpSpPr/>
            <p:nvPr/>
          </p:nvGrpSpPr>
          <p:grpSpPr>
            <a:xfrm>
              <a:off x="5703480" y="2129760"/>
              <a:ext cx="735840" cy="789480"/>
              <a:chOff x="5703480" y="2129760"/>
              <a:chExt cx="735840" cy="789480"/>
            </a:xfrm>
          </p:grpSpPr>
          <p:sp>
            <p:nvSpPr>
              <p:cNvPr id="3089" name="Freeform: Shape 97"/>
              <p:cNvSpPr/>
              <p:nvPr/>
            </p:nvSpPr>
            <p:spPr>
              <a:xfrm>
                <a:off x="5703480" y="2129760"/>
                <a:ext cx="735840" cy="789480"/>
              </a:xfrm>
              <a:custGeom>
                <a:avLst/>
                <a:gdLst/>
                <a:ahLst/>
                <a:rect l="l" t="t" r="r" b="b"/>
                <a:pathLst>
                  <a:path w="1189672" h="1275397">
                    <a:moveTo>
                      <a:pt x="594360" y="0"/>
                    </a:moveTo>
                    <a:cubicBezTo>
                      <a:pt x="922972" y="0"/>
                      <a:pt x="1189673" y="250508"/>
                      <a:pt x="1189673" y="559118"/>
                    </a:cubicBezTo>
                    <a:cubicBezTo>
                      <a:pt x="1189673" y="868680"/>
                      <a:pt x="1124903" y="1275398"/>
                      <a:pt x="591502" y="1275398"/>
                    </a:cubicBezTo>
                    <a:cubicBezTo>
                      <a:pt x="58102" y="1275398"/>
                      <a:pt x="0" y="868680"/>
                      <a:pt x="0" y="559118"/>
                    </a:cubicBezTo>
                    <a:cubicBezTo>
                      <a:pt x="0" y="250508"/>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0" name="Freeform: Shape 98"/>
              <p:cNvSpPr/>
              <p:nvPr/>
            </p:nvSpPr>
            <p:spPr>
              <a:xfrm>
                <a:off x="5738760" y="2150280"/>
                <a:ext cx="663480" cy="658080"/>
              </a:xfrm>
              <a:custGeom>
                <a:avLst/>
                <a:gdLst/>
                <a:ahLst/>
                <a:rect l="l" t="t" r="r" b="b"/>
                <a:pathLst>
                  <a:path w="1072515" h="1062990">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1" name="Freeform: Shape 99"/>
              <p:cNvSpPr/>
              <p:nvPr/>
            </p:nvSpPr>
            <p:spPr>
              <a:xfrm>
                <a:off x="5768280" y="2178360"/>
                <a:ext cx="604440" cy="60156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8"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3092" name="Freeform: Shape 100"/>
            <p:cNvSpPr/>
            <p:nvPr/>
          </p:nvSpPr>
          <p:spPr>
            <a:xfrm>
              <a:off x="73166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8"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3" name="Freeform: Shape 101"/>
            <p:cNvSpPr/>
            <p:nvPr/>
          </p:nvSpPr>
          <p:spPr>
            <a:xfrm>
              <a:off x="6630480" y="3398040"/>
              <a:ext cx="192600" cy="101880"/>
            </a:xfrm>
            <a:custGeom>
              <a:avLst/>
              <a:gdLst/>
              <a:ahLst/>
              <a:rect l="l" t="t" r="r" b="b"/>
              <a:pathLst>
                <a:path w="311467" h="164782">
                  <a:moveTo>
                    <a:pt x="81915" y="0"/>
                  </a:moveTo>
                  <a:cubicBezTo>
                    <a:pt x="36195" y="0"/>
                    <a:pt x="0" y="37147"/>
                    <a:pt x="0" y="81915"/>
                  </a:cubicBezTo>
                  <a:cubicBezTo>
                    <a:pt x="0" y="127635"/>
                    <a:pt x="37147" y="163830"/>
                    <a:pt x="81915" y="163830"/>
                  </a:cubicBezTo>
                  <a:lnTo>
                    <a:pt x="311468" y="164783"/>
                  </a:lnTo>
                  <a:lnTo>
                    <a:pt x="214313" y="69533"/>
                  </a:lnTo>
                  <a:lnTo>
                    <a:pt x="162878" y="69533"/>
                  </a:lnTo>
                  <a:cubicBezTo>
                    <a:pt x="157163" y="30480"/>
                    <a:pt x="122872" y="0"/>
                    <a:pt x="81915" y="0"/>
                  </a:cubicBezTo>
                  <a:close/>
                  <a:moveTo>
                    <a:pt x="81915" y="36195"/>
                  </a:moveTo>
                  <a:cubicBezTo>
                    <a:pt x="107633" y="36195"/>
                    <a:pt x="128588" y="58102"/>
                    <a:pt x="128588" y="82867"/>
                  </a:cubicBezTo>
                  <a:cubicBezTo>
                    <a:pt x="128588" y="108585"/>
                    <a:pt x="107633" y="129540"/>
                    <a:pt x="81915" y="129540"/>
                  </a:cubicBezTo>
                  <a:cubicBezTo>
                    <a:pt x="56197" y="129540"/>
                    <a:pt x="35243" y="108585"/>
                    <a:pt x="35243" y="82867"/>
                  </a:cubicBezTo>
                  <a:cubicBezTo>
                    <a:pt x="35243"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4" name="Freeform: Shape 102"/>
            <p:cNvSpPr/>
            <p:nvPr/>
          </p:nvSpPr>
          <p:spPr>
            <a:xfrm>
              <a:off x="6731280" y="3440880"/>
              <a:ext cx="731160" cy="162720"/>
            </a:xfrm>
            <a:custGeom>
              <a:avLst/>
              <a:gdLst/>
              <a:ahLst/>
              <a:rect l="l" t="t" r="r" b="b"/>
              <a:pathLst>
                <a:path w="1182052" h="262890">
                  <a:moveTo>
                    <a:pt x="1028700" y="262890"/>
                  </a:moveTo>
                  <a:lnTo>
                    <a:pt x="153353" y="262890"/>
                  </a:lnTo>
                  <a:lnTo>
                    <a:pt x="0" y="0"/>
                  </a:lnTo>
                  <a:lnTo>
                    <a:pt x="1182053"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5" name="Freeform: Shape 103"/>
            <p:cNvSpPr/>
            <p:nvPr/>
          </p:nvSpPr>
          <p:spPr>
            <a:xfrm>
              <a:off x="67582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2"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6" name="Freeform: Shape 104"/>
            <p:cNvSpPr/>
            <p:nvPr/>
          </p:nvSpPr>
          <p:spPr>
            <a:xfrm>
              <a:off x="7130520" y="345744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7" name="Freeform: Shape 105"/>
            <p:cNvSpPr/>
            <p:nvPr/>
          </p:nvSpPr>
          <p:spPr>
            <a:xfrm>
              <a:off x="4717440" y="2392200"/>
              <a:ext cx="430560" cy="1059840"/>
            </a:xfrm>
            <a:custGeom>
              <a:avLst/>
              <a:gdLst/>
              <a:ahLst/>
              <a:rect l="l" t="t" r="r" b="b"/>
              <a:pathLst>
                <a:path w="696330" h="1712312">
                  <a:moveTo>
                    <a:pt x="660024" y="20093"/>
                  </a:moveTo>
                  <a:lnTo>
                    <a:pt x="3752" y="1673633"/>
                  </a:lnTo>
                  <a:cubicBezTo>
                    <a:pt x="-11488" y="1717448"/>
                    <a:pt x="23754" y="1726973"/>
                    <a:pt x="37089" y="1686968"/>
                  </a:cubicBezTo>
                  <a:lnTo>
                    <a:pt x="58044" y="1628865"/>
                  </a:lnTo>
                  <a:lnTo>
                    <a:pt x="693362" y="34380"/>
                  </a:lnTo>
                  <a:cubicBezTo>
                    <a:pt x="706697" y="-2767"/>
                    <a:pt x="671454"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098" name="Freeform: Shape 106"/>
            <p:cNvSpPr/>
            <p:nvPr/>
          </p:nvSpPr>
          <p:spPr>
            <a:xfrm>
              <a:off x="6675840" y="2392200"/>
              <a:ext cx="430200" cy="1059840"/>
            </a:xfrm>
            <a:custGeom>
              <a:avLst/>
              <a:gdLst/>
              <a:ahLst/>
              <a:rect l="l" t="t" r="r" b="b"/>
              <a:pathLst>
                <a:path w="696018" h="1712245">
                  <a:moveTo>
                    <a:pt x="660024" y="20026"/>
                  </a:moveTo>
                  <a:lnTo>
                    <a:pt x="3752" y="1673566"/>
                  </a:lnTo>
                  <a:cubicBezTo>
                    <a:pt x="-11488" y="1717381"/>
                    <a:pt x="23754" y="1726906"/>
                    <a:pt x="37089" y="1686901"/>
                  </a:cubicBezTo>
                  <a:lnTo>
                    <a:pt x="58044" y="1628798"/>
                  </a:lnTo>
                  <a:lnTo>
                    <a:pt x="693362" y="35266"/>
                  </a:lnTo>
                  <a:cubicBezTo>
                    <a:pt x="705744"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099" name="Graphic 2"/>
            <p:cNvGrpSpPr/>
            <p:nvPr/>
          </p:nvGrpSpPr>
          <p:grpSpPr>
            <a:xfrm>
              <a:off x="5709960" y="2339640"/>
              <a:ext cx="446760" cy="411120"/>
              <a:chOff x="5709960" y="2339640"/>
              <a:chExt cx="446760" cy="411120"/>
            </a:xfrm>
          </p:grpSpPr>
          <p:sp>
            <p:nvSpPr>
              <p:cNvPr id="3100" name="Freeform: Shape 108"/>
              <p:cNvSpPr/>
              <p:nvPr/>
            </p:nvSpPr>
            <p:spPr>
              <a:xfrm>
                <a:off x="5709960" y="2340720"/>
                <a:ext cx="446760" cy="410040"/>
              </a:xfrm>
              <a:custGeom>
                <a:avLst/>
                <a:gdLst/>
                <a:ahLst/>
                <a:rect l="l" t="t" r="r" b="b"/>
                <a:pathLst>
                  <a:path w="722350" h="662467">
                    <a:moveTo>
                      <a:pt x="720090" y="521017"/>
                    </a:moveTo>
                    <a:cubicBezTo>
                      <a:pt x="716280" y="536258"/>
                      <a:pt x="696278" y="563880"/>
                      <a:pt x="685800" y="575310"/>
                    </a:cubicBezTo>
                    <a:cubicBezTo>
                      <a:pt x="661988" y="601028"/>
                      <a:pt x="568643" y="593408"/>
                      <a:pt x="533400" y="594360"/>
                    </a:cubicBezTo>
                    <a:cubicBezTo>
                      <a:pt x="457200" y="596265"/>
                      <a:pt x="434340" y="619125"/>
                      <a:pt x="363855" y="645795"/>
                    </a:cubicBezTo>
                    <a:cubicBezTo>
                      <a:pt x="340042" y="654368"/>
                      <a:pt x="316230" y="664845"/>
                      <a:pt x="290513" y="661988"/>
                    </a:cubicBezTo>
                    <a:cubicBezTo>
                      <a:pt x="271463" y="660083"/>
                      <a:pt x="253365" y="649605"/>
                      <a:pt x="237173" y="638175"/>
                    </a:cubicBezTo>
                    <a:cubicBezTo>
                      <a:pt x="234315" y="636270"/>
                      <a:pt x="231458" y="633413"/>
                      <a:pt x="228600" y="631508"/>
                    </a:cubicBezTo>
                    <a:cubicBezTo>
                      <a:pt x="202883" y="610553"/>
                      <a:pt x="179070" y="587693"/>
                      <a:pt x="157163" y="561975"/>
                    </a:cubicBezTo>
                    <a:cubicBezTo>
                      <a:pt x="151448" y="555308"/>
                      <a:pt x="145733" y="547688"/>
                      <a:pt x="140017" y="541020"/>
                    </a:cubicBezTo>
                    <a:cubicBezTo>
                      <a:pt x="120967" y="516255"/>
                      <a:pt x="104775" y="488633"/>
                      <a:pt x="89535" y="461010"/>
                    </a:cubicBezTo>
                    <a:cubicBezTo>
                      <a:pt x="76200" y="436245"/>
                      <a:pt x="64770" y="410528"/>
                      <a:pt x="53340" y="384810"/>
                    </a:cubicBezTo>
                    <a:cubicBezTo>
                      <a:pt x="40005" y="352425"/>
                      <a:pt x="27623" y="320040"/>
                      <a:pt x="15240" y="287655"/>
                    </a:cubicBezTo>
                    <a:cubicBezTo>
                      <a:pt x="9525" y="271463"/>
                      <a:pt x="2858" y="255270"/>
                      <a:pt x="953" y="239077"/>
                    </a:cubicBezTo>
                    <a:cubicBezTo>
                      <a:pt x="0" y="234315"/>
                      <a:pt x="0" y="230505"/>
                      <a:pt x="0" y="225742"/>
                    </a:cubicBezTo>
                    <a:cubicBezTo>
                      <a:pt x="0" y="220027"/>
                      <a:pt x="953" y="215265"/>
                      <a:pt x="1905" y="210502"/>
                    </a:cubicBezTo>
                    <a:cubicBezTo>
                      <a:pt x="5715" y="189548"/>
                      <a:pt x="17145" y="169545"/>
                      <a:pt x="27623"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89535"/>
                      <a:pt x="137160" y="139065"/>
                      <a:pt x="135255" y="187642"/>
                    </a:cubicBezTo>
                    <a:cubicBezTo>
                      <a:pt x="135255" y="193358"/>
                      <a:pt x="134303" y="199073"/>
                      <a:pt x="134303" y="204788"/>
                    </a:cubicBezTo>
                    <a:cubicBezTo>
                      <a:pt x="134303" y="205740"/>
                      <a:pt x="134303" y="206692"/>
                      <a:pt x="134303" y="207645"/>
                    </a:cubicBezTo>
                    <a:cubicBezTo>
                      <a:pt x="134303" y="207645"/>
                      <a:pt x="134303" y="207645"/>
                      <a:pt x="134303" y="207645"/>
                    </a:cubicBezTo>
                    <a:cubicBezTo>
                      <a:pt x="133350" y="221933"/>
                      <a:pt x="131445" y="235267"/>
                      <a:pt x="130492" y="249555"/>
                    </a:cubicBezTo>
                    <a:cubicBezTo>
                      <a:pt x="129540" y="261938"/>
                      <a:pt x="129540" y="273367"/>
                      <a:pt x="129540" y="285750"/>
                    </a:cubicBezTo>
                    <a:cubicBezTo>
                      <a:pt x="130492" y="322898"/>
                      <a:pt x="137160" y="360998"/>
                      <a:pt x="151448" y="395288"/>
                    </a:cubicBezTo>
                    <a:cubicBezTo>
                      <a:pt x="158115" y="411480"/>
                      <a:pt x="165735" y="426720"/>
                      <a:pt x="179070" y="438150"/>
                    </a:cubicBezTo>
                    <a:cubicBezTo>
                      <a:pt x="200978" y="458153"/>
                      <a:pt x="233363" y="461963"/>
                      <a:pt x="263842" y="465773"/>
                    </a:cubicBezTo>
                    <a:cubicBezTo>
                      <a:pt x="316230" y="470535"/>
                      <a:pt x="378142" y="473392"/>
                      <a:pt x="417195" y="438150"/>
                    </a:cubicBezTo>
                    <a:cubicBezTo>
                      <a:pt x="438150" y="471488"/>
                      <a:pt x="476250" y="491490"/>
                      <a:pt x="515303" y="497205"/>
                    </a:cubicBezTo>
                    <a:cubicBezTo>
                      <a:pt x="522923" y="498158"/>
                      <a:pt x="529590" y="499110"/>
                      <a:pt x="537210" y="499110"/>
                    </a:cubicBezTo>
                    <a:cubicBezTo>
                      <a:pt x="561975" y="500063"/>
                      <a:pt x="586740" y="496253"/>
                      <a:pt x="611505" y="490538"/>
                    </a:cubicBezTo>
                    <a:cubicBezTo>
                      <a:pt x="612458" y="490538"/>
                      <a:pt x="613410" y="489585"/>
                      <a:pt x="614363" y="489585"/>
                    </a:cubicBezTo>
                    <a:cubicBezTo>
                      <a:pt x="615315" y="489585"/>
                      <a:pt x="616268" y="488633"/>
                      <a:pt x="618173" y="488633"/>
                    </a:cubicBezTo>
                    <a:cubicBezTo>
                      <a:pt x="622935" y="487680"/>
                      <a:pt x="627698" y="485775"/>
                      <a:pt x="632460" y="484823"/>
                    </a:cubicBezTo>
                    <a:cubicBezTo>
                      <a:pt x="652463" y="478155"/>
                      <a:pt x="675323" y="472440"/>
                      <a:pt x="692468" y="460058"/>
                    </a:cubicBezTo>
                    <a:cubicBezTo>
                      <a:pt x="697230" y="456248"/>
                      <a:pt x="703898" y="456248"/>
                      <a:pt x="709613" y="458153"/>
                    </a:cubicBezTo>
                    <a:cubicBezTo>
                      <a:pt x="720090" y="477203"/>
                      <a:pt x="725805" y="496253"/>
                      <a:pt x="720090" y="52101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01" name="Freeform: Shape 109"/>
              <p:cNvSpPr/>
              <p:nvPr/>
            </p:nvSpPr>
            <p:spPr>
              <a:xfrm>
                <a:off x="5807520" y="2624040"/>
                <a:ext cx="349200" cy="126720"/>
              </a:xfrm>
              <a:custGeom>
                <a:avLst/>
                <a:gdLst/>
                <a:ahLst/>
                <a:rect l="l" t="t" r="r" b="b"/>
                <a:pathLst>
                  <a:path w="564216" h="204613">
                    <a:moveTo>
                      <a:pt x="561975" y="63164"/>
                    </a:moveTo>
                    <a:cubicBezTo>
                      <a:pt x="558165" y="78404"/>
                      <a:pt x="538163" y="106026"/>
                      <a:pt x="527685" y="117456"/>
                    </a:cubicBezTo>
                    <a:cubicBezTo>
                      <a:pt x="503872" y="143174"/>
                      <a:pt x="410527" y="135554"/>
                      <a:pt x="375285" y="136506"/>
                    </a:cubicBezTo>
                    <a:cubicBezTo>
                      <a:pt x="299085" y="138411"/>
                      <a:pt x="276225" y="161271"/>
                      <a:pt x="205740" y="187941"/>
                    </a:cubicBezTo>
                    <a:cubicBezTo>
                      <a:pt x="181927" y="196514"/>
                      <a:pt x="158115" y="206991"/>
                      <a:pt x="132397" y="204134"/>
                    </a:cubicBezTo>
                    <a:cubicBezTo>
                      <a:pt x="109538" y="201276"/>
                      <a:pt x="89535" y="187941"/>
                      <a:pt x="71438" y="173654"/>
                    </a:cubicBezTo>
                    <a:cubicBezTo>
                      <a:pt x="45720" y="152699"/>
                      <a:pt x="21908" y="129839"/>
                      <a:pt x="0" y="104121"/>
                    </a:cubicBezTo>
                    <a:cubicBezTo>
                      <a:pt x="20002" y="115551"/>
                      <a:pt x="40958" y="125076"/>
                      <a:pt x="61913" y="133649"/>
                    </a:cubicBezTo>
                    <a:cubicBezTo>
                      <a:pt x="94297" y="146984"/>
                      <a:pt x="129540" y="157461"/>
                      <a:pt x="164783" y="152699"/>
                    </a:cubicBezTo>
                    <a:cubicBezTo>
                      <a:pt x="182880" y="150794"/>
                      <a:pt x="200025" y="144126"/>
                      <a:pt x="217170" y="138411"/>
                    </a:cubicBezTo>
                    <a:cubicBezTo>
                      <a:pt x="240983" y="129839"/>
                      <a:pt x="265747" y="121266"/>
                      <a:pt x="289560" y="112694"/>
                    </a:cubicBezTo>
                    <a:cubicBezTo>
                      <a:pt x="293370" y="111741"/>
                      <a:pt x="299085" y="110789"/>
                      <a:pt x="300990" y="106979"/>
                    </a:cubicBezTo>
                    <a:cubicBezTo>
                      <a:pt x="334327" y="45066"/>
                      <a:pt x="387667" y="31731"/>
                      <a:pt x="387667" y="31731"/>
                    </a:cubicBezTo>
                    <a:cubicBezTo>
                      <a:pt x="387667" y="31731"/>
                      <a:pt x="365760" y="66974"/>
                      <a:pt x="352425" y="87929"/>
                    </a:cubicBezTo>
                    <a:cubicBezTo>
                      <a:pt x="349567" y="91739"/>
                      <a:pt x="353377" y="97454"/>
                      <a:pt x="358140" y="96501"/>
                    </a:cubicBezTo>
                    <a:cubicBezTo>
                      <a:pt x="398145" y="84119"/>
                      <a:pt x="455295" y="86024"/>
                      <a:pt x="487680" y="93644"/>
                    </a:cubicBezTo>
                    <a:cubicBezTo>
                      <a:pt x="480060" y="78404"/>
                      <a:pt x="467677" y="48876"/>
                      <a:pt x="454342" y="33636"/>
                    </a:cubicBezTo>
                    <a:cubicBezTo>
                      <a:pt x="452438" y="30779"/>
                      <a:pt x="450533" y="28874"/>
                      <a:pt x="447675" y="27921"/>
                    </a:cubicBezTo>
                    <a:cubicBezTo>
                      <a:pt x="452438" y="28874"/>
                      <a:pt x="456247" y="30779"/>
                      <a:pt x="460058" y="32684"/>
                    </a:cubicBezTo>
                    <a:cubicBezTo>
                      <a:pt x="469583" y="36494"/>
                      <a:pt x="478155" y="40304"/>
                      <a:pt x="485775" y="46019"/>
                    </a:cubicBezTo>
                    <a:cubicBezTo>
                      <a:pt x="497205" y="54591"/>
                      <a:pt x="504825" y="68879"/>
                      <a:pt x="502920" y="83166"/>
                    </a:cubicBezTo>
                    <a:cubicBezTo>
                      <a:pt x="526733" y="65069"/>
                      <a:pt x="538163" y="32684"/>
                      <a:pt x="533400" y="3156"/>
                    </a:cubicBezTo>
                    <a:cubicBezTo>
                      <a:pt x="538163" y="-654"/>
                      <a:pt x="544830" y="-654"/>
                      <a:pt x="550545" y="1251"/>
                    </a:cubicBezTo>
                    <a:cubicBezTo>
                      <a:pt x="561975" y="19349"/>
                      <a:pt x="567690" y="38399"/>
                      <a:pt x="561975" y="6316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02" name="Freeform: Shape 110"/>
              <p:cNvSpPr/>
              <p:nvPr/>
            </p:nvSpPr>
            <p:spPr>
              <a:xfrm>
                <a:off x="6015600" y="2643120"/>
                <a:ext cx="94680" cy="45360"/>
              </a:xfrm>
              <a:custGeom>
                <a:avLst/>
                <a:gdLst/>
                <a:ahLst/>
                <a:rect l="l" t="t" r="r" b="b"/>
                <a:pathLst>
                  <a:path w="153468" h="73814">
                    <a:moveTo>
                      <a:pt x="152913" y="67627"/>
                    </a:moveTo>
                    <a:cubicBezTo>
                      <a:pt x="107193" y="64770"/>
                      <a:pt x="60520" y="66675"/>
                      <a:pt x="15753" y="73342"/>
                    </a:cubicBezTo>
                    <a:cubicBezTo>
                      <a:pt x="10038" y="74295"/>
                      <a:pt x="2418" y="74295"/>
                      <a:pt x="513" y="68580"/>
                    </a:cubicBezTo>
                    <a:cubicBezTo>
                      <a:pt x="-1392" y="63817"/>
                      <a:pt x="2418" y="60007"/>
                      <a:pt x="5275" y="56197"/>
                    </a:cubicBezTo>
                    <a:cubicBezTo>
                      <a:pt x="18610" y="40957"/>
                      <a:pt x="31945" y="24765"/>
                      <a:pt x="45280" y="9525"/>
                    </a:cubicBezTo>
                    <a:cubicBezTo>
                      <a:pt x="70045" y="10477"/>
                      <a:pt x="94810" y="6667"/>
                      <a:pt x="119575" y="952"/>
                    </a:cubicBezTo>
                    <a:cubicBezTo>
                      <a:pt x="120528" y="952"/>
                      <a:pt x="121480" y="0"/>
                      <a:pt x="122433" y="0"/>
                    </a:cubicBezTo>
                    <a:cubicBezTo>
                      <a:pt x="128148" y="5715"/>
                      <a:pt x="132910" y="10477"/>
                      <a:pt x="136720" y="16192"/>
                    </a:cubicBezTo>
                    <a:cubicBezTo>
                      <a:pt x="147198" y="30480"/>
                      <a:pt x="155770" y="49530"/>
                      <a:pt x="152913" y="67627"/>
                    </a:cubicBezTo>
                    <a:close/>
                  </a:path>
                </a:pathLst>
              </a:custGeom>
              <a:solidFill>
                <a:srgbClr val="ffffff"/>
              </a:solidFill>
              <a:ln w="0">
                <a:noFill/>
              </a:ln>
            </p:spPr>
            <p:style>
              <a:lnRef idx="0"/>
              <a:fillRef idx="0"/>
              <a:effectRef idx="0"/>
              <a:fontRef idx="minor"/>
            </p:style>
            <p:txBody>
              <a:bodyPr lIns="90000" rIns="90000" tIns="-1440" bIns="-1440" anchor="ctr">
                <a:noAutofit/>
              </a:bodyPr>
              <a:p>
                <a:endParaRPr b="0" lang="en-US" sz="1800" spc="-1" strike="noStrike">
                  <a:solidFill>
                    <a:srgbClr val="313c3f"/>
                  </a:solidFill>
                  <a:latin typeface="Source Sans Pro"/>
                </a:endParaRPr>
              </a:p>
            </p:txBody>
          </p:sp>
          <p:sp>
            <p:nvSpPr>
              <p:cNvPr id="3103" name="Freeform: Shape 111"/>
              <p:cNvSpPr/>
              <p:nvPr/>
            </p:nvSpPr>
            <p:spPr>
              <a:xfrm>
                <a:off x="5710320" y="2339640"/>
                <a:ext cx="83880" cy="238320"/>
              </a:xfrm>
              <a:custGeom>
                <a:avLst/>
                <a:gdLst/>
                <a:ahLst/>
                <a:rect l="l" t="t" r="r" b="b"/>
                <a:pathLst>
                  <a:path w="136065" h="384809">
                    <a:moveTo>
                      <a:pt x="135255" y="187643"/>
                    </a:moveTo>
                    <a:cubicBezTo>
                      <a:pt x="135255" y="193358"/>
                      <a:pt x="134302" y="199072"/>
                      <a:pt x="134302" y="204788"/>
                    </a:cubicBezTo>
                    <a:cubicBezTo>
                      <a:pt x="134302" y="204788"/>
                      <a:pt x="134302" y="203835"/>
                      <a:pt x="134302" y="203835"/>
                    </a:cubicBezTo>
                    <a:cubicBezTo>
                      <a:pt x="131445" y="188595"/>
                      <a:pt x="125730" y="172403"/>
                      <a:pt x="112395" y="164783"/>
                    </a:cubicBezTo>
                    <a:cubicBezTo>
                      <a:pt x="97155" y="155258"/>
                      <a:pt x="76200" y="159068"/>
                      <a:pt x="61913" y="170498"/>
                    </a:cubicBezTo>
                    <a:cubicBezTo>
                      <a:pt x="47625" y="181928"/>
                      <a:pt x="40005" y="199072"/>
                      <a:pt x="35242" y="217170"/>
                    </a:cubicBezTo>
                    <a:cubicBezTo>
                      <a:pt x="23813" y="260033"/>
                      <a:pt x="30480" y="305753"/>
                      <a:pt x="41910" y="347663"/>
                    </a:cubicBezTo>
                    <a:cubicBezTo>
                      <a:pt x="44767" y="360045"/>
                      <a:pt x="49530" y="372428"/>
                      <a:pt x="53340" y="384810"/>
                    </a:cubicBezTo>
                    <a:cubicBezTo>
                      <a:pt x="40005" y="352425"/>
                      <a:pt x="27622" y="320040"/>
                      <a:pt x="15240" y="287655"/>
                    </a:cubicBezTo>
                    <a:cubicBezTo>
                      <a:pt x="9525" y="271463"/>
                      <a:pt x="2858" y="255270"/>
                      <a:pt x="952" y="239078"/>
                    </a:cubicBezTo>
                    <a:cubicBezTo>
                      <a:pt x="0" y="234315"/>
                      <a:pt x="0" y="230505"/>
                      <a:pt x="0" y="225743"/>
                    </a:cubicBezTo>
                    <a:cubicBezTo>
                      <a:pt x="0" y="220028"/>
                      <a:pt x="952" y="215265"/>
                      <a:pt x="1905" y="210503"/>
                    </a:cubicBezTo>
                    <a:cubicBezTo>
                      <a:pt x="5715" y="189547"/>
                      <a:pt x="17145" y="169545"/>
                      <a:pt x="27622"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90488"/>
                      <a:pt x="138113" y="139065"/>
                      <a:pt x="135255" y="18764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104" name="Graphic 2"/>
            <p:cNvGrpSpPr/>
            <p:nvPr/>
          </p:nvGrpSpPr>
          <p:grpSpPr>
            <a:xfrm>
              <a:off x="5075640" y="2284200"/>
              <a:ext cx="2084400" cy="227520"/>
              <a:chOff x="5075640" y="2284200"/>
              <a:chExt cx="2084400" cy="227520"/>
            </a:xfrm>
          </p:grpSpPr>
          <p:sp>
            <p:nvSpPr>
              <p:cNvPr id="3105" name="Freeform: Shape 113"/>
              <p:cNvSpPr/>
              <p:nvPr/>
            </p:nvSpPr>
            <p:spPr>
              <a:xfrm>
                <a:off x="6190920" y="2313000"/>
                <a:ext cx="969120" cy="168840"/>
              </a:xfrm>
              <a:custGeom>
                <a:avLst/>
                <a:gdLst/>
                <a:ahLst/>
                <a:rect l="l" t="t" r="r" b="b"/>
                <a:pathLst>
                  <a:path w="1566862" h="272415">
                    <a:moveTo>
                      <a:pt x="354330" y="272415"/>
                    </a:moveTo>
                    <a:lnTo>
                      <a:pt x="1905" y="272415"/>
                    </a:lnTo>
                    <a:lnTo>
                      <a:pt x="2858" y="271463"/>
                    </a:lnTo>
                    <a:cubicBezTo>
                      <a:pt x="24765" y="250508"/>
                      <a:pt x="40005" y="226695"/>
                      <a:pt x="50483" y="198120"/>
                    </a:cubicBezTo>
                    <a:cubicBezTo>
                      <a:pt x="57150" y="179070"/>
                      <a:pt x="60960" y="158115"/>
                      <a:pt x="60960" y="137160"/>
                    </a:cubicBezTo>
                    <a:cubicBezTo>
                      <a:pt x="60960" y="82868"/>
                      <a:pt x="37148" y="33338"/>
                      <a:pt x="0" y="0"/>
                    </a:cubicBezTo>
                    <a:lnTo>
                      <a:pt x="32385" y="953"/>
                    </a:lnTo>
                    <a:cubicBezTo>
                      <a:pt x="80010" y="1905"/>
                      <a:pt x="127635" y="2857"/>
                      <a:pt x="175260" y="4763"/>
                    </a:cubicBezTo>
                    <a:lnTo>
                      <a:pt x="602933" y="16193"/>
                    </a:lnTo>
                    <a:lnTo>
                      <a:pt x="608648" y="16193"/>
                    </a:lnTo>
                    <a:cubicBezTo>
                      <a:pt x="642938" y="16193"/>
                      <a:pt x="680085" y="17145"/>
                      <a:pt x="720090" y="19050"/>
                    </a:cubicBezTo>
                    <a:lnTo>
                      <a:pt x="1466850" y="38100"/>
                    </a:lnTo>
                    <a:cubicBezTo>
                      <a:pt x="1522095" y="38100"/>
                      <a:pt x="1566863" y="82868"/>
                      <a:pt x="1566863" y="138113"/>
                    </a:cubicBezTo>
                    <a:cubicBezTo>
                      <a:pt x="1566863" y="193358"/>
                      <a:pt x="1522095" y="238125"/>
                      <a:pt x="1466850" y="238125"/>
                    </a:cubicBezTo>
                    <a:cubicBezTo>
                      <a:pt x="1417320" y="238125"/>
                      <a:pt x="1375410" y="200978"/>
                      <a:pt x="1368743" y="153353"/>
                    </a:cubicBezTo>
                    <a:cubicBezTo>
                      <a:pt x="1196340" y="200978"/>
                      <a:pt x="670560" y="272415"/>
                      <a:pt x="354330" y="272415"/>
                    </a:cubicBezTo>
                    <a:close/>
                    <a:moveTo>
                      <a:pt x="1465898" y="194310"/>
                    </a:moveTo>
                    <a:cubicBezTo>
                      <a:pt x="1497330" y="194310"/>
                      <a:pt x="1522095" y="168593"/>
                      <a:pt x="1522095" y="138113"/>
                    </a:cubicBezTo>
                    <a:cubicBezTo>
                      <a:pt x="1522095" y="107632"/>
                      <a:pt x="1497330" y="81915"/>
                      <a:pt x="1465898" y="81915"/>
                    </a:cubicBezTo>
                    <a:cubicBezTo>
                      <a:pt x="1434465" y="81915"/>
                      <a:pt x="1409700" y="107632"/>
                      <a:pt x="1409700" y="138113"/>
                    </a:cubicBezTo>
                    <a:lnTo>
                      <a:pt x="1409700" y="139065"/>
                    </a:lnTo>
                    <a:cubicBezTo>
                      <a:pt x="1417320" y="176213"/>
                      <a:pt x="1439228" y="194310"/>
                      <a:pt x="1465898" y="19431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06" name="Freeform: Shape 114"/>
              <p:cNvSpPr/>
              <p:nvPr/>
            </p:nvSpPr>
            <p:spPr>
              <a:xfrm>
                <a:off x="5075640" y="2312280"/>
                <a:ext cx="963360" cy="169200"/>
              </a:xfrm>
              <a:custGeom>
                <a:avLst/>
                <a:gdLst/>
                <a:ahLst/>
                <a:rect l="l" t="t" r="r" b="b"/>
                <a:pathLst>
                  <a:path w="1557337" h="273367">
                    <a:moveTo>
                      <a:pt x="1214438" y="273368"/>
                    </a:moveTo>
                    <a:lnTo>
                      <a:pt x="1556385" y="273368"/>
                    </a:lnTo>
                    <a:lnTo>
                      <a:pt x="1554480" y="271462"/>
                    </a:lnTo>
                    <a:lnTo>
                      <a:pt x="1552575" y="269558"/>
                    </a:lnTo>
                    <a:cubicBezTo>
                      <a:pt x="1543050" y="260033"/>
                      <a:pt x="1533525" y="248603"/>
                      <a:pt x="1525905" y="237172"/>
                    </a:cubicBezTo>
                    <a:cubicBezTo>
                      <a:pt x="1519238" y="226695"/>
                      <a:pt x="1514475" y="217170"/>
                      <a:pt x="1509713" y="205740"/>
                    </a:cubicBezTo>
                    <a:cubicBezTo>
                      <a:pt x="1484948" y="140970"/>
                      <a:pt x="1496378" y="68580"/>
                      <a:pt x="1543050" y="15240"/>
                    </a:cubicBezTo>
                    <a:cubicBezTo>
                      <a:pt x="1547813" y="10477"/>
                      <a:pt x="1552575" y="4763"/>
                      <a:pt x="1557338" y="0"/>
                    </a:cubicBezTo>
                    <a:cubicBezTo>
                      <a:pt x="1502093" y="952"/>
                      <a:pt x="1447800" y="2857"/>
                      <a:pt x="1392555" y="3810"/>
                    </a:cubicBezTo>
                    <a:lnTo>
                      <a:pt x="963930" y="15240"/>
                    </a:lnTo>
                    <a:lnTo>
                      <a:pt x="958215" y="15240"/>
                    </a:lnTo>
                    <a:cubicBezTo>
                      <a:pt x="923925" y="15240"/>
                      <a:pt x="886778" y="16193"/>
                      <a:pt x="846772" y="18097"/>
                    </a:cubicBezTo>
                    <a:lnTo>
                      <a:pt x="100013" y="37147"/>
                    </a:lnTo>
                    <a:cubicBezTo>
                      <a:pt x="44767" y="37147"/>
                      <a:pt x="0" y="81915"/>
                      <a:pt x="0" y="137160"/>
                    </a:cubicBezTo>
                    <a:cubicBezTo>
                      <a:pt x="0" y="192405"/>
                      <a:pt x="44767" y="237172"/>
                      <a:pt x="100013" y="237172"/>
                    </a:cubicBezTo>
                    <a:cubicBezTo>
                      <a:pt x="149542" y="237172"/>
                      <a:pt x="191452" y="200025"/>
                      <a:pt x="198120" y="152400"/>
                    </a:cubicBezTo>
                    <a:cubicBezTo>
                      <a:pt x="372428" y="201930"/>
                      <a:pt x="898208" y="273368"/>
                      <a:pt x="1214438" y="273368"/>
                    </a:cubicBezTo>
                    <a:close/>
                    <a:moveTo>
                      <a:pt x="102870" y="195263"/>
                    </a:moveTo>
                    <a:cubicBezTo>
                      <a:pt x="71438" y="195263"/>
                      <a:pt x="46673" y="169545"/>
                      <a:pt x="46673" y="139065"/>
                    </a:cubicBezTo>
                    <a:cubicBezTo>
                      <a:pt x="46673" y="108585"/>
                      <a:pt x="71438" y="82868"/>
                      <a:pt x="102870" y="82868"/>
                    </a:cubicBezTo>
                    <a:cubicBezTo>
                      <a:pt x="134302" y="82868"/>
                      <a:pt x="159067" y="108585"/>
                      <a:pt x="159067" y="139065"/>
                    </a:cubicBezTo>
                    <a:lnTo>
                      <a:pt x="159067" y="140018"/>
                    </a:lnTo>
                    <a:cubicBezTo>
                      <a:pt x="151448" y="177165"/>
                      <a:pt x="129540" y="195263"/>
                      <a:pt x="102870" y="19526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07" name="Freeform: Shape 115"/>
              <p:cNvSpPr/>
              <p:nvPr/>
            </p:nvSpPr>
            <p:spPr>
              <a:xfrm>
                <a:off x="6002280" y="2284200"/>
                <a:ext cx="226080" cy="227520"/>
              </a:xfrm>
              <a:custGeom>
                <a:avLst/>
                <a:gdLst/>
                <a:ahLst/>
                <a:rect l="l" t="t" r="r" b="b"/>
                <a:pathLst>
                  <a:path w="365759" h="367664">
                    <a:moveTo>
                      <a:pt x="365760" y="183833"/>
                    </a:moveTo>
                    <a:cubicBezTo>
                      <a:pt x="365760" y="285360"/>
                      <a:pt x="283882" y="367665"/>
                      <a:pt x="182880" y="367665"/>
                    </a:cubicBezTo>
                    <a:cubicBezTo>
                      <a:pt x="81878" y="367665"/>
                      <a:pt x="0" y="285360"/>
                      <a:pt x="0" y="183833"/>
                    </a:cubicBezTo>
                    <a:cubicBezTo>
                      <a:pt x="0" y="82305"/>
                      <a:pt x="81878" y="0"/>
                      <a:pt x="182880" y="0"/>
                    </a:cubicBezTo>
                    <a:cubicBezTo>
                      <a:pt x="283882" y="0"/>
                      <a:pt x="365760" y="82305"/>
                      <a:pt x="365760" y="18383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08" name="Freeform: Shape 116"/>
              <p:cNvSpPr/>
              <p:nvPr/>
            </p:nvSpPr>
            <p:spPr>
              <a:xfrm>
                <a:off x="6051960" y="2333520"/>
                <a:ext cx="127080" cy="128520"/>
              </a:xfrm>
              <a:custGeom>
                <a:avLst/>
                <a:gdLst/>
                <a:ahLst/>
                <a:rect l="l" t="t" r="r" b="b"/>
                <a:pathLst>
                  <a:path w="205740" h="207645">
                    <a:moveTo>
                      <a:pt x="205740" y="103823"/>
                    </a:moveTo>
                    <a:cubicBezTo>
                      <a:pt x="205740" y="161162"/>
                      <a:pt x="159684" y="207645"/>
                      <a:pt x="102870" y="207645"/>
                    </a:cubicBezTo>
                    <a:cubicBezTo>
                      <a:pt x="46056" y="207645"/>
                      <a:pt x="0" y="161162"/>
                      <a:pt x="0" y="103822"/>
                    </a:cubicBezTo>
                    <a:cubicBezTo>
                      <a:pt x="0" y="46483"/>
                      <a:pt x="46056" y="0"/>
                      <a:pt x="102870" y="0"/>
                    </a:cubicBezTo>
                    <a:cubicBezTo>
                      <a:pt x="159684" y="0"/>
                      <a:pt x="205740" y="46483"/>
                      <a:pt x="205740" y="103823"/>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09" name="Freeform: Shape 117"/>
              <p:cNvSpPr/>
              <p:nvPr/>
            </p:nvSpPr>
            <p:spPr>
              <a:xfrm>
                <a:off x="6082920" y="2365560"/>
                <a:ext cx="64800" cy="64800"/>
              </a:xfrm>
              <a:custGeom>
                <a:avLst/>
                <a:gdLst/>
                <a:ahLst/>
                <a:rect l="l" t="t" r="r" b="b"/>
                <a:pathLst>
                  <a:path w="104775" h="104775">
                    <a:moveTo>
                      <a:pt x="104775" y="52388"/>
                    </a:moveTo>
                    <a:cubicBezTo>
                      <a:pt x="104775" y="81320"/>
                      <a:pt x="81320" y="104775"/>
                      <a:pt x="52388" y="104775"/>
                    </a:cubicBezTo>
                    <a:cubicBezTo>
                      <a:pt x="23455" y="104775"/>
                      <a:pt x="0" y="81320"/>
                      <a:pt x="0" y="52388"/>
                    </a:cubicBezTo>
                    <a:cubicBezTo>
                      <a:pt x="0" y="23455"/>
                      <a:pt x="23455" y="0"/>
                      <a:pt x="52388" y="0"/>
                    </a:cubicBezTo>
                    <a:cubicBezTo>
                      <a:pt x="81320" y="0"/>
                      <a:pt x="104775" y="23455"/>
                      <a:pt x="104775" y="52388"/>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13c3f"/>
                  </a:solidFill>
                  <a:latin typeface="Source Sans Pro"/>
                </a:endParaRPr>
              </a:p>
            </p:txBody>
          </p:sp>
          <p:grpSp>
            <p:nvGrpSpPr>
              <p:cNvPr id="3110" name="Graphic 2"/>
              <p:cNvGrpSpPr/>
              <p:nvPr/>
            </p:nvGrpSpPr>
            <p:grpSpPr>
              <a:xfrm>
                <a:off x="5463360" y="2332440"/>
                <a:ext cx="1379880" cy="136800"/>
                <a:chOff x="5463360" y="2332440"/>
                <a:chExt cx="1379880" cy="136800"/>
              </a:xfrm>
            </p:grpSpPr>
            <p:grpSp>
              <p:nvGrpSpPr>
                <p:cNvPr id="3111" name="Graphic 2"/>
                <p:cNvGrpSpPr/>
                <p:nvPr/>
              </p:nvGrpSpPr>
              <p:grpSpPr>
                <a:xfrm>
                  <a:off x="6473880" y="2332800"/>
                  <a:ext cx="369360" cy="130320"/>
                  <a:chOff x="6473880" y="2332800"/>
                  <a:chExt cx="369360" cy="130320"/>
                </a:xfrm>
              </p:grpSpPr>
              <p:sp>
                <p:nvSpPr>
                  <p:cNvPr id="3112" name="Freeform: Shape 120"/>
                  <p:cNvSpPr/>
                  <p:nvPr/>
                </p:nvSpPr>
                <p:spPr>
                  <a:xfrm>
                    <a:off x="6735600" y="2339280"/>
                    <a:ext cx="107640" cy="98640"/>
                  </a:xfrm>
                  <a:custGeom>
                    <a:avLst/>
                    <a:gdLst/>
                    <a:ahLst/>
                    <a:rect l="l" t="t" r="r" b="b"/>
                    <a:pathLst>
                      <a:path w="174307" h="159067">
                        <a:moveTo>
                          <a:pt x="174307" y="148590"/>
                        </a:moveTo>
                        <a:lnTo>
                          <a:pt x="93345" y="2857"/>
                        </a:lnTo>
                        <a:lnTo>
                          <a:pt x="0" y="0"/>
                        </a:lnTo>
                        <a:lnTo>
                          <a:pt x="102870" y="159068"/>
                        </a:lnTo>
                        <a:cubicBezTo>
                          <a:pt x="126682" y="155258"/>
                          <a:pt x="150495" y="152400"/>
                          <a:pt x="174307" y="1485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13" name="Freeform: Shape 121"/>
                  <p:cNvSpPr/>
                  <p:nvPr/>
                </p:nvSpPr>
                <p:spPr>
                  <a:xfrm>
                    <a:off x="6473880" y="2332800"/>
                    <a:ext cx="154440" cy="130320"/>
                  </a:xfrm>
                  <a:custGeom>
                    <a:avLst/>
                    <a:gdLst/>
                    <a:ahLst/>
                    <a:rect l="l" t="t" r="r" b="b"/>
                    <a:pathLst>
                      <a:path w="249555" h="210502">
                        <a:moveTo>
                          <a:pt x="249555" y="200978"/>
                        </a:moveTo>
                        <a:lnTo>
                          <a:pt x="139065" y="3810"/>
                        </a:lnTo>
                        <a:lnTo>
                          <a:pt x="0" y="0"/>
                        </a:lnTo>
                        <a:lnTo>
                          <a:pt x="137160" y="210503"/>
                        </a:lnTo>
                        <a:cubicBezTo>
                          <a:pt x="175260" y="207645"/>
                          <a:pt x="212408" y="203835"/>
                          <a:pt x="249555" y="200978"/>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114" name="Graphic 2"/>
                <p:cNvGrpSpPr/>
                <p:nvPr/>
              </p:nvGrpSpPr>
              <p:grpSpPr>
                <a:xfrm>
                  <a:off x="5463360" y="2332440"/>
                  <a:ext cx="395280" cy="136800"/>
                  <a:chOff x="5463360" y="2332440"/>
                  <a:chExt cx="395280" cy="136800"/>
                </a:xfrm>
              </p:grpSpPr>
              <p:sp>
                <p:nvSpPr>
                  <p:cNvPr id="3115" name="Freeform: Shape 123"/>
                  <p:cNvSpPr/>
                  <p:nvPr/>
                </p:nvSpPr>
                <p:spPr>
                  <a:xfrm>
                    <a:off x="5715720" y="2332440"/>
                    <a:ext cx="142920" cy="136800"/>
                  </a:xfrm>
                  <a:custGeom>
                    <a:avLst/>
                    <a:gdLst/>
                    <a:ahLst/>
                    <a:rect l="l" t="t" r="r" b="b"/>
                    <a:pathLst>
                      <a:path w="231457" h="220980">
                        <a:moveTo>
                          <a:pt x="231457" y="220980"/>
                        </a:moveTo>
                        <a:lnTo>
                          <a:pt x="107632" y="0"/>
                        </a:lnTo>
                        <a:lnTo>
                          <a:pt x="0" y="2858"/>
                        </a:lnTo>
                        <a:lnTo>
                          <a:pt x="141922" y="220980"/>
                        </a:lnTo>
                        <a:cubicBezTo>
                          <a:pt x="154305" y="220980"/>
                          <a:pt x="167640" y="220980"/>
                          <a:pt x="180022" y="220980"/>
                        </a:cubicBezTo>
                        <a:lnTo>
                          <a:pt x="231457" y="220980"/>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16" name="Freeform: Shape 124"/>
                  <p:cNvSpPr/>
                  <p:nvPr/>
                </p:nvSpPr>
                <p:spPr>
                  <a:xfrm>
                    <a:off x="5463360" y="2338200"/>
                    <a:ext cx="159480" cy="120600"/>
                  </a:xfrm>
                  <a:custGeom>
                    <a:avLst/>
                    <a:gdLst/>
                    <a:ahLst/>
                    <a:rect l="l" t="t" r="r" b="b"/>
                    <a:pathLst>
                      <a:path w="258127" h="194310">
                        <a:moveTo>
                          <a:pt x="258127" y="194310"/>
                        </a:moveTo>
                        <a:lnTo>
                          <a:pt x="149542" y="0"/>
                        </a:lnTo>
                        <a:lnTo>
                          <a:pt x="0" y="3810"/>
                        </a:lnTo>
                        <a:lnTo>
                          <a:pt x="114300" y="180023"/>
                        </a:lnTo>
                        <a:cubicBezTo>
                          <a:pt x="134302" y="181927"/>
                          <a:pt x="153352" y="183833"/>
                          <a:pt x="173355" y="186690"/>
                        </a:cubicBezTo>
                        <a:cubicBezTo>
                          <a:pt x="200977" y="188595"/>
                          <a:pt x="229552" y="191452"/>
                          <a:pt x="258127" y="1943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grpSp>
        <p:sp>
          <p:nvSpPr>
            <p:cNvPr id="3117" name="Freeform: Shape 125"/>
            <p:cNvSpPr/>
            <p:nvPr/>
          </p:nvSpPr>
          <p:spPr>
            <a:xfrm>
              <a:off x="5771160" y="2073240"/>
              <a:ext cx="693720" cy="576000"/>
            </a:xfrm>
            <a:custGeom>
              <a:avLst/>
              <a:gdLst/>
              <a:ahLst/>
              <a:rect l="l" t="t" r="r" b="b"/>
              <a:pathLst>
                <a:path w="1121487" h="930869">
                  <a:moveTo>
                    <a:pt x="1120388" y="583028"/>
                  </a:moveTo>
                  <a:cubicBezTo>
                    <a:pt x="1115625" y="632558"/>
                    <a:pt x="1096575" y="680183"/>
                    <a:pt x="1072763" y="723998"/>
                  </a:cubicBezTo>
                  <a:cubicBezTo>
                    <a:pt x="1050855" y="765908"/>
                    <a:pt x="1024185" y="806866"/>
                    <a:pt x="994658" y="844013"/>
                  </a:cubicBezTo>
                  <a:cubicBezTo>
                    <a:pt x="985133" y="855443"/>
                    <a:pt x="974655" y="866873"/>
                    <a:pt x="963225" y="877351"/>
                  </a:cubicBezTo>
                  <a:cubicBezTo>
                    <a:pt x="953700" y="884971"/>
                    <a:pt x="943223" y="891638"/>
                    <a:pt x="932745" y="896401"/>
                  </a:cubicBezTo>
                  <a:cubicBezTo>
                    <a:pt x="899408" y="912593"/>
                    <a:pt x="860355" y="915451"/>
                    <a:pt x="825113" y="904973"/>
                  </a:cubicBezTo>
                  <a:cubicBezTo>
                    <a:pt x="825113" y="904973"/>
                    <a:pt x="825113" y="904973"/>
                    <a:pt x="825113" y="904973"/>
                  </a:cubicBezTo>
                  <a:cubicBezTo>
                    <a:pt x="818445" y="903068"/>
                    <a:pt x="811777" y="904021"/>
                    <a:pt x="807015" y="907831"/>
                  </a:cubicBezTo>
                  <a:cubicBezTo>
                    <a:pt x="806063" y="908783"/>
                    <a:pt x="805110" y="909736"/>
                    <a:pt x="803205" y="910688"/>
                  </a:cubicBezTo>
                  <a:cubicBezTo>
                    <a:pt x="800348" y="912593"/>
                    <a:pt x="796538" y="914498"/>
                    <a:pt x="792727" y="916403"/>
                  </a:cubicBezTo>
                  <a:cubicBezTo>
                    <a:pt x="780345" y="923071"/>
                    <a:pt x="757485" y="928786"/>
                    <a:pt x="743198" y="929738"/>
                  </a:cubicBezTo>
                  <a:cubicBezTo>
                    <a:pt x="699383" y="933548"/>
                    <a:pt x="650805" y="924976"/>
                    <a:pt x="618420" y="894496"/>
                  </a:cubicBezTo>
                  <a:cubicBezTo>
                    <a:pt x="616515" y="892591"/>
                    <a:pt x="613658" y="890686"/>
                    <a:pt x="610800" y="889733"/>
                  </a:cubicBezTo>
                  <a:cubicBezTo>
                    <a:pt x="605085" y="887828"/>
                    <a:pt x="598418" y="888781"/>
                    <a:pt x="593655" y="891638"/>
                  </a:cubicBezTo>
                  <a:cubicBezTo>
                    <a:pt x="575558" y="904021"/>
                    <a:pt x="553650" y="909736"/>
                    <a:pt x="533648" y="916403"/>
                  </a:cubicBezTo>
                  <a:cubicBezTo>
                    <a:pt x="496500" y="927833"/>
                    <a:pt x="456495" y="934501"/>
                    <a:pt x="417443" y="928786"/>
                  </a:cubicBezTo>
                  <a:cubicBezTo>
                    <a:pt x="378390" y="923071"/>
                    <a:pt x="340290" y="903068"/>
                    <a:pt x="319335" y="869731"/>
                  </a:cubicBezTo>
                  <a:cubicBezTo>
                    <a:pt x="279330" y="904021"/>
                    <a:pt x="218370" y="902116"/>
                    <a:pt x="165983" y="897353"/>
                  </a:cubicBezTo>
                  <a:cubicBezTo>
                    <a:pt x="136455" y="894496"/>
                    <a:pt x="104070" y="890686"/>
                    <a:pt x="81210" y="869731"/>
                  </a:cubicBezTo>
                  <a:cubicBezTo>
                    <a:pt x="68828" y="858301"/>
                    <a:pt x="60255" y="842108"/>
                    <a:pt x="53588" y="826868"/>
                  </a:cubicBezTo>
                  <a:cubicBezTo>
                    <a:pt x="39300" y="791626"/>
                    <a:pt x="31680" y="754478"/>
                    <a:pt x="31680" y="717331"/>
                  </a:cubicBezTo>
                  <a:cubicBezTo>
                    <a:pt x="31680" y="683993"/>
                    <a:pt x="36443" y="651608"/>
                    <a:pt x="37395" y="618271"/>
                  </a:cubicBezTo>
                  <a:cubicBezTo>
                    <a:pt x="37395" y="617318"/>
                    <a:pt x="37395" y="615413"/>
                    <a:pt x="37395" y="614461"/>
                  </a:cubicBezTo>
                  <a:cubicBezTo>
                    <a:pt x="39300" y="566836"/>
                    <a:pt x="34538" y="520163"/>
                    <a:pt x="24060" y="474443"/>
                  </a:cubicBezTo>
                  <a:cubicBezTo>
                    <a:pt x="20250" y="460156"/>
                    <a:pt x="16440" y="445868"/>
                    <a:pt x="12630" y="431581"/>
                  </a:cubicBezTo>
                  <a:cubicBezTo>
                    <a:pt x="2153" y="392528"/>
                    <a:pt x="-5467" y="353476"/>
                    <a:pt x="5010" y="315376"/>
                  </a:cubicBezTo>
                  <a:cubicBezTo>
                    <a:pt x="12630" y="288706"/>
                    <a:pt x="28823" y="265846"/>
                    <a:pt x="40253" y="241081"/>
                  </a:cubicBezTo>
                  <a:cubicBezTo>
                    <a:pt x="57398" y="203933"/>
                    <a:pt x="63113" y="162023"/>
                    <a:pt x="83115" y="126781"/>
                  </a:cubicBezTo>
                  <a:cubicBezTo>
                    <a:pt x="102165" y="94396"/>
                    <a:pt x="131693" y="68678"/>
                    <a:pt x="162173" y="46771"/>
                  </a:cubicBezTo>
                  <a:cubicBezTo>
                    <a:pt x="185033" y="30578"/>
                    <a:pt x="209798" y="15338"/>
                    <a:pt x="238373" y="7718"/>
                  </a:cubicBezTo>
                  <a:cubicBezTo>
                    <a:pt x="270758" y="-854"/>
                    <a:pt x="306000" y="3908"/>
                    <a:pt x="336480" y="20101"/>
                  </a:cubicBezTo>
                  <a:cubicBezTo>
                    <a:pt x="350768" y="27721"/>
                    <a:pt x="364103" y="37246"/>
                    <a:pt x="374580" y="49628"/>
                  </a:cubicBezTo>
                  <a:cubicBezTo>
                    <a:pt x="388868" y="37246"/>
                    <a:pt x="405060" y="27721"/>
                    <a:pt x="422205" y="19148"/>
                  </a:cubicBezTo>
                  <a:cubicBezTo>
                    <a:pt x="455543" y="3908"/>
                    <a:pt x="492690" y="-2759"/>
                    <a:pt x="528885" y="1051"/>
                  </a:cubicBezTo>
                  <a:cubicBezTo>
                    <a:pt x="557460" y="3908"/>
                    <a:pt x="586035" y="14386"/>
                    <a:pt x="610800" y="28673"/>
                  </a:cubicBezTo>
                  <a:cubicBezTo>
                    <a:pt x="610800" y="28673"/>
                    <a:pt x="610800" y="28673"/>
                    <a:pt x="610800" y="28673"/>
                  </a:cubicBezTo>
                  <a:cubicBezTo>
                    <a:pt x="632708" y="42008"/>
                    <a:pt x="652710" y="60106"/>
                    <a:pt x="668902" y="81061"/>
                  </a:cubicBezTo>
                  <a:cubicBezTo>
                    <a:pt x="703193" y="66773"/>
                    <a:pt x="735577" y="61058"/>
                    <a:pt x="765105" y="62963"/>
                  </a:cubicBezTo>
                  <a:cubicBezTo>
                    <a:pt x="789870" y="63916"/>
                    <a:pt x="812730" y="69631"/>
                    <a:pt x="832733" y="78203"/>
                  </a:cubicBezTo>
                  <a:cubicBezTo>
                    <a:pt x="832733" y="78203"/>
                    <a:pt x="833685" y="78203"/>
                    <a:pt x="833685" y="78203"/>
                  </a:cubicBezTo>
                  <a:cubicBezTo>
                    <a:pt x="888930" y="102016"/>
                    <a:pt x="921315" y="145831"/>
                    <a:pt x="920363" y="163928"/>
                  </a:cubicBezTo>
                  <a:cubicBezTo>
                    <a:pt x="929888" y="156308"/>
                    <a:pt x="939413" y="151546"/>
                    <a:pt x="950843" y="148688"/>
                  </a:cubicBezTo>
                  <a:cubicBezTo>
                    <a:pt x="950843" y="148688"/>
                    <a:pt x="950843" y="148688"/>
                    <a:pt x="950843" y="148688"/>
                  </a:cubicBezTo>
                  <a:cubicBezTo>
                    <a:pt x="953700" y="147736"/>
                    <a:pt x="955605" y="147736"/>
                    <a:pt x="958463" y="147736"/>
                  </a:cubicBezTo>
                  <a:cubicBezTo>
                    <a:pt x="958463" y="147736"/>
                    <a:pt x="958463" y="147736"/>
                    <a:pt x="959415" y="147736"/>
                  </a:cubicBezTo>
                  <a:cubicBezTo>
                    <a:pt x="982275" y="144878"/>
                    <a:pt x="1007040" y="151546"/>
                    <a:pt x="1027043" y="166786"/>
                  </a:cubicBezTo>
                  <a:cubicBezTo>
                    <a:pt x="1042283" y="178216"/>
                    <a:pt x="1053713" y="193456"/>
                    <a:pt x="1062285" y="209648"/>
                  </a:cubicBezTo>
                  <a:cubicBezTo>
                    <a:pt x="1072763" y="227746"/>
                    <a:pt x="1080383" y="247748"/>
                    <a:pt x="1086098" y="266798"/>
                  </a:cubicBezTo>
                  <a:cubicBezTo>
                    <a:pt x="1110863" y="345856"/>
                    <a:pt x="1115625" y="429676"/>
                    <a:pt x="1120388" y="513496"/>
                  </a:cubicBezTo>
                  <a:cubicBezTo>
                    <a:pt x="1121340" y="536356"/>
                    <a:pt x="1122293" y="559216"/>
                    <a:pt x="1120388" y="58302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18" name="Freeform: Shape 126"/>
            <p:cNvSpPr/>
            <p:nvPr/>
          </p:nvSpPr>
          <p:spPr>
            <a:xfrm>
              <a:off x="5792400" y="2202120"/>
              <a:ext cx="673200" cy="446400"/>
            </a:xfrm>
            <a:custGeom>
              <a:avLst/>
              <a:gdLst/>
              <a:ahLst/>
              <a:rect l="l" t="t" r="r" b="b"/>
              <a:pathLst>
                <a:path w="1088832" h="721221">
                  <a:moveTo>
                    <a:pt x="1085975" y="303848"/>
                  </a:moveTo>
                  <a:cubicBezTo>
                    <a:pt x="1081212" y="220980"/>
                    <a:pt x="1076450" y="137160"/>
                    <a:pt x="1051685" y="57150"/>
                  </a:cubicBezTo>
                  <a:cubicBezTo>
                    <a:pt x="1045970" y="37147"/>
                    <a:pt x="1038350" y="17145"/>
                    <a:pt x="1027872" y="0"/>
                  </a:cubicBezTo>
                  <a:cubicBezTo>
                    <a:pt x="1045970" y="96202"/>
                    <a:pt x="1061210" y="194310"/>
                    <a:pt x="1055495" y="292418"/>
                  </a:cubicBezTo>
                  <a:cubicBezTo>
                    <a:pt x="1053590" y="320040"/>
                    <a:pt x="1050732" y="348615"/>
                    <a:pt x="1043112" y="375285"/>
                  </a:cubicBezTo>
                  <a:cubicBezTo>
                    <a:pt x="1037397" y="397193"/>
                    <a:pt x="1028825" y="418148"/>
                    <a:pt x="1020252" y="439103"/>
                  </a:cubicBezTo>
                  <a:cubicBezTo>
                    <a:pt x="1009775" y="463867"/>
                    <a:pt x="1000250" y="488633"/>
                    <a:pt x="989772" y="513398"/>
                  </a:cubicBezTo>
                  <a:cubicBezTo>
                    <a:pt x="975485" y="547688"/>
                    <a:pt x="960245" y="584835"/>
                    <a:pt x="928812" y="604838"/>
                  </a:cubicBezTo>
                  <a:cubicBezTo>
                    <a:pt x="900237" y="623888"/>
                    <a:pt x="864042" y="624840"/>
                    <a:pt x="828800" y="620078"/>
                  </a:cubicBezTo>
                  <a:cubicBezTo>
                    <a:pt x="828800" y="619125"/>
                    <a:pt x="828800" y="619125"/>
                    <a:pt x="828800" y="618173"/>
                  </a:cubicBezTo>
                  <a:cubicBezTo>
                    <a:pt x="827847" y="592455"/>
                    <a:pt x="834514" y="566738"/>
                    <a:pt x="844039" y="541973"/>
                  </a:cubicBezTo>
                  <a:cubicBezTo>
                    <a:pt x="852612" y="517208"/>
                    <a:pt x="863089" y="493395"/>
                    <a:pt x="867852" y="467678"/>
                  </a:cubicBezTo>
                  <a:cubicBezTo>
                    <a:pt x="876425" y="425767"/>
                    <a:pt x="861185" y="239077"/>
                    <a:pt x="861185" y="174308"/>
                  </a:cubicBezTo>
                  <a:cubicBezTo>
                    <a:pt x="847850" y="230505"/>
                    <a:pt x="845945" y="386715"/>
                    <a:pt x="842135" y="441008"/>
                  </a:cubicBezTo>
                  <a:cubicBezTo>
                    <a:pt x="837372" y="495300"/>
                    <a:pt x="824989" y="549593"/>
                    <a:pt x="803082" y="600075"/>
                  </a:cubicBezTo>
                  <a:cubicBezTo>
                    <a:pt x="797367" y="614363"/>
                    <a:pt x="789747" y="628650"/>
                    <a:pt x="778317" y="638175"/>
                  </a:cubicBezTo>
                  <a:cubicBezTo>
                    <a:pt x="770697" y="643890"/>
                    <a:pt x="761172" y="647700"/>
                    <a:pt x="751647" y="650558"/>
                  </a:cubicBezTo>
                  <a:cubicBezTo>
                    <a:pt x="724025" y="659130"/>
                    <a:pt x="694497" y="661988"/>
                    <a:pt x="665922" y="660083"/>
                  </a:cubicBezTo>
                  <a:cubicBezTo>
                    <a:pt x="651635" y="659130"/>
                    <a:pt x="637347" y="657225"/>
                    <a:pt x="625917" y="649605"/>
                  </a:cubicBezTo>
                  <a:cubicBezTo>
                    <a:pt x="603057" y="636270"/>
                    <a:pt x="614487" y="643890"/>
                    <a:pt x="604010" y="620078"/>
                  </a:cubicBezTo>
                  <a:cubicBezTo>
                    <a:pt x="623060" y="461963"/>
                    <a:pt x="640205" y="296228"/>
                    <a:pt x="643062" y="137160"/>
                  </a:cubicBezTo>
                  <a:cubicBezTo>
                    <a:pt x="636395" y="204788"/>
                    <a:pt x="586865" y="503873"/>
                    <a:pt x="574482" y="607695"/>
                  </a:cubicBezTo>
                  <a:cubicBezTo>
                    <a:pt x="573530" y="616268"/>
                    <a:pt x="568767" y="624840"/>
                    <a:pt x="563052" y="630555"/>
                  </a:cubicBezTo>
                  <a:cubicBezTo>
                    <a:pt x="556385" y="637223"/>
                    <a:pt x="546860" y="641033"/>
                    <a:pt x="537335" y="643890"/>
                  </a:cubicBezTo>
                  <a:cubicBezTo>
                    <a:pt x="518285" y="650558"/>
                    <a:pt x="499235" y="657225"/>
                    <a:pt x="480185" y="661035"/>
                  </a:cubicBezTo>
                  <a:cubicBezTo>
                    <a:pt x="436370" y="669608"/>
                    <a:pt x="389697" y="664845"/>
                    <a:pt x="348740" y="646748"/>
                  </a:cubicBezTo>
                  <a:cubicBezTo>
                    <a:pt x="338262" y="641985"/>
                    <a:pt x="325880" y="634365"/>
                    <a:pt x="326832" y="621983"/>
                  </a:cubicBezTo>
                  <a:cubicBezTo>
                    <a:pt x="328737" y="534353"/>
                    <a:pt x="332547" y="443865"/>
                    <a:pt x="337310" y="356235"/>
                  </a:cubicBezTo>
                  <a:cubicBezTo>
                    <a:pt x="339215" y="314325"/>
                    <a:pt x="346835" y="156210"/>
                    <a:pt x="340167" y="82868"/>
                  </a:cubicBezTo>
                  <a:cubicBezTo>
                    <a:pt x="335405" y="144780"/>
                    <a:pt x="313497" y="294323"/>
                    <a:pt x="311592" y="333375"/>
                  </a:cubicBezTo>
                  <a:cubicBezTo>
                    <a:pt x="309687" y="368618"/>
                    <a:pt x="305877" y="404813"/>
                    <a:pt x="302067" y="440055"/>
                  </a:cubicBezTo>
                  <a:cubicBezTo>
                    <a:pt x="298257" y="471488"/>
                    <a:pt x="294447" y="503873"/>
                    <a:pt x="290637" y="535305"/>
                  </a:cubicBezTo>
                  <a:cubicBezTo>
                    <a:pt x="288732" y="554355"/>
                    <a:pt x="285875" y="574358"/>
                    <a:pt x="280160" y="592455"/>
                  </a:cubicBezTo>
                  <a:cubicBezTo>
                    <a:pt x="276350" y="602933"/>
                    <a:pt x="271587" y="612458"/>
                    <a:pt x="263967" y="619125"/>
                  </a:cubicBezTo>
                  <a:cubicBezTo>
                    <a:pt x="257300" y="624840"/>
                    <a:pt x="248727" y="626745"/>
                    <a:pt x="240155" y="629603"/>
                  </a:cubicBezTo>
                  <a:cubicBezTo>
                    <a:pt x="218247" y="636270"/>
                    <a:pt x="192530" y="641985"/>
                    <a:pt x="172527" y="630555"/>
                  </a:cubicBezTo>
                  <a:cubicBezTo>
                    <a:pt x="135380" y="610553"/>
                    <a:pt x="82040" y="617220"/>
                    <a:pt x="53465" y="587693"/>
                  </a:cubicBezTo>
                  <a:cubicBezTo>
                    <a:pt x="27747" y="560070"/>
                    <a:pt x="21080" y="520065"/>
                    <a:pt x="16317" y="482917"/>
                  </a:cubicBezTo>
                  <a:cubicBezTo>
                    <a:pt x="12507" y="457200"/>
                    <a:pt x="9650" y="432435"/>
                    <a:pt x="5840" y="406717"/>
                  </a:cubicBezTo>
                  <a:cubicBezTo>
                    <a:pt x="5840" y="405765"/>
                    <a:pt x="5840" y="405765"/>
                    <a:pt x="5840" y="404813"/>
                  </a:cubicBezTo>
                  <a:cubicBezTo>
                    <a:pt x="5840" y="405765"/>
                    <a:pt x="5840" y="407670"/>
                    <a:pt x="5840" y="408623"/>
                  </a:cubicBezTo>
                  <a:cubicBezTo>
                    <a:pt x="3935" y="441960"/>
                    <a:pt x="-828" y="474345"/>
                    <a:pt x="125" y="507683"/>
                  </a:cubicBezTo>
                  <a:cubicBezTo>
                    <a:pt x="1077" y="544830"/>
                    <a:pt x="7745" y="582930"/>
                    <a:pt x="22032" y="617220"/>
                  </a:cubicBezTo>
                  <a:cubicBezTo>
                    <a:pt x="28700" y="633413"/>
                    <a:pt x="36320" y="648653"/>
                    <a:pt x="49655" y="660083"/>
                  </a:cubicBezTo>
                  <a:cubicBezTo>
                    <a:pt x="71562" y="680085"/>
                    <a:pt x="103947" y="683895"/>
                    <a:pt x="134427" y="687705"/>
                  </a:cubicBezTo>
                  <a:cubicBezTo>
                    <a:pt x="186815" y="692468"/>
                    <a:pt x="248727" y="695325"/>
                    <a:pt x="287780" y="660083"/>
                  </a:cubicBezTo>
                  <a:cubicBezTo>
                    <a:pt x="308735" y="693420"/>
                    <a:pt x="346835" y="713423"/>
                    <a:pt x="385887" y="719138"/>
                  </a:cubicBezTo>
                  <a:cubicBezTo>
                    <a:pt x="424940" y="724853"/>
                    <a:pt x="464945" y="718185"/>
                    <a:pt x="502092" y="706755"/>
                  </a:cubicBezTo>
                  <a:cubicBezTo>
                    <a:pt x="522095" y="700088"/>
                    <a:pt x="544955" y="694373"/>
                    <a:pt x="562100" y="681990"/>
                  </a:cubicBezTo>
                  <a:cubicBezTo>
                    <a:pt x="566862" y="678180"/>
                    <a:pt x="573530" y="678180"/>
                    <a:pt x="579245" y="680085"/>
                  </a:cubicBezTo>
                  <a:cubicBezTo>
                    <a:pt x="582102" y="681038"/>
                    <a:pt x="584007" y="682943"/>
                    <a:pt x="586865" y="684848"/>
                  </a:cubicBezTo>
                  <a:cubicBezTo>
                    <a:pt x="619250" y="715328"/>
                    <a:pt x="666875" y="723900"/>
                    <a:pt x="711642" y="720090"/>
                  </a:cubicBezTo>
                  <a:cubicBezTo>
                    <a:pt x="725930" y="719138"/>
                    <a:pt x="747837" y="713423"/>
                    <a:pt x="761172" y="706755"/>
                  </a:cubicBezTo>
                  <a:cubicBezTo>
                    <a:pt x="764982" y="704850"/>
                    <a:pt x="767839" y="702945"/>
                    <a:pt x="771650" y="701040"/>
                  </a:cubicBezTo>
                  <a:cubicBezTo>
                    <a:pt x="771650" y="701040"/>
                    <a:pt x="771650" y="701040"/>
                    <a:pt x="771650" y="701040"/>
                  </a:cubicBezTo>
                  <a:cubicBezTo>
                    <a:pt x="772602" y="700088"/>
                    <a:pt x="773555" y="699135"/>
                    <a:pt x="775460" y="698183"/>
                  </a:cubicBezTo>
                  <a:cubicBezTo>
                    <a:pt x="780222" y="694373"/>
                    <a:pt x="787842" y="692468"/>
                    <a:pt x="793557" y="695325"/>
                  </a:cubicBezTo>
                  <a:cubicBezTo>
                    <a:pt x="793557" y="695325"/>
                    <a:pt x="793557" y="695325"/>
                    <a:pt x="793557" y="695325"/>
                  </a:cubicBezTo>
                  <a:cubicBezTo>
                    <a:pt x="828800" y="705803"/>
                    <a:pt x="867852" y="702945"/>
                    <a:pt x="901189" y="686753"/>
                  </a:cubicBezTo>
                  <a:cubicBezTo>
                    <a:pt x="911667" y="681990"/>
                    <a:pt x="922145" y="675323"/>
                    <a:pt x="931670" y="667703"/>
                  </a:cubicBezTo>
                  <a:cubicBezTo>
                    <a:pt x="943100" y="658178"/>
                    <a:pt x="953577" y="646748"/>
                    <a:pt x="963102" y="634365"/>
                  </a:cubicBezTo>
                  <a:cubicBezTo>
                    <a:pt x="993582" y="597218"/>
                    <a:pt x="1019300" y="557213"/>
                    <a:pt x="1041207" y="514350"/>
                  </a:cubicBezTo>
                  <a:cubicBezTo>
                    <a:pt x="1064067" y="470535"/>
                    <a:pt x="1084070" y="422910"/>
                    <a:pt x="1088832" y="373380"/>
                  </a:cubicBezTo>
                  <a:cubicBezTo>
                    <a:pt x="1087880" y="350520"/>
                    <a:pt x="1086927" y="327660"/>
                    <a:pt x="1085975" y="3038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19" name="Freeform: Shape 127"/>
            <p:cNvSpPr/>
            <p:nvPr/>
          </p:nvSpPr>
          <p:spPr>
            <a:xfrm>
              <a:off x="5977080" y="2084400"/>
              <a:ext cx="55800" cy="91080"/>
            </a:xfrm>
            <a:custGeom>
              <a:avLst/>
              <a:gdLst/>
              <a:ahLst/>
              <a:rect l="l" t="t" r="r" b="b"/>
              <a:pathLst>
                <a:path w="90487" h="147637">
                  <a:moveTo>
                    <a:pt x="90488" y="0"/>
                  </a:moveTo>
                  <a:cubicBezTo>
                    <a:pt x="80010" y="10477"/>
                    <a:pt x="73342" y="23813"/>
                    <a:pt x="67628" y="38100"/>
                  </a:cubicBezTo>
                  <a:cubicBezTo>
                    <a:pt x="48578" y="81915"/>
                    <a:pt x="45720" y="99060"/>
                    <a:pt x="42863" y="147638"/>
                  </a:cubicBezTo>
                  <a:cubicBezTo>
                    <a:pt x="35242" y="114300"/>
                    <a:pt x="41910" y="118110"/>
                    <a:pt x="36195" y="87630"/>
                  </a:cubicBezTo>
                  <a:cubicBezTo>
                    <a:pt x="30480" y="54293"/>
                    <a:pt x="17145" y="29528"/>
                    <a:pt x="0" y="952"/>
                  </a:cubicBezTo>
                  <a:cubicBezTo>
                    <a:pt x="953" y="952"/>
                    <a:pt x="2858" y="1905"/>
                    <a:pt x="4763" y="1905"/>
                  </a:cubicBezTo>
                  <a:cubicBezTo>
                    <a:pt x="19050" y="9525"/>
                    <a:pt x="32385" y="19050"/>
                    <a:pt x="42863" y="31433"/>
                  </a:cubicBezTo>
                  <a:cubicBezTo>
                    <a:pt x="57150" y="18098"/>
                    <a:pt x="73342" y="7620"/>
                    <a:pt x="90488" y="0"/>
                  </a:cubicBezTo>
                  <a:close/>
                </a:path>
              </a:pathLst>
            </a:custGeom>
            <a:solidFill>
              <a:srgbClr val="cf9e76"/>
            </a:solidFill>
            <a:ln w="0">
              <a:noFill/>
            </a:ln>
          </p:spPr>
          <p:style>
            <a:lnRef idx="0"/>
            <a:fillRef idx="0"/>
            <a:effectRef idx="0"/>
            <a:fontRef idx="minor"/>
          </p:style>
          <p:txBody>
            <a:bodyPr lIns="90000" rIns="90000" tIns="44280" bIns="44280" anchor="ctr">
              <a:noAutofit/>
            </a:bodyPr>
            <a:p>
              <a:endParaRPr b="0" lang="en-US" sz="1800" spc="-1" strike="noStrike">
                <a:solidFill>
                  <a:srgbClr val="313c3f"/>
                </a:solidFill>
                <a:latin typeface="Source Sans Pro"/>
              </a:endParaRPr>
            </a:p>
          </p:txBody>
        </p:sp>
        <p:sp>
          <p:nvSpPr>
            <p:cNvPr id="3120" name="Freeform: Shape 128"/>
            <p:cNvSpPr/>
            <p:nvPr/>
          </p:nvSpPr>
          <p:spPr>
            <a:xfrm>
              <a:off x="6149160" y="2090880"/>
              <a:ext cx="96480" cy="111960"/>
            </a:xfrm>
            <a:custGeom>
              <a:avLst/>
              <a:gdLst/>
              <a:ahLst/>
              <a:rect l="l" t="t" r="r" b="b"/>
              <a:pathLst>
                <a:path w="156210" h="180975">
                  <a:moveTo>
                    <a:pt x="156210" y="34290"/>
                  </a:moveTo>
                  <a:cubicBezTo>
                    <a:pt x="127635" y="44768"/>
                    <a:pt x="100965" y="66675"/>
                    <a:pt x="83820" y="92393"/>
                  </a:cubicBezTo>
                  <a:cubicBezTo>
                    <a:pt x="66675" y="118110"/>
                    <a:pt x="63817" y="150495"/>
                    <a:pt x="63817" y="180975"/>
                  </a:cubicBezTo>
                  <a:cubicBezTo>
                    <a:pt x="63817" y="160973"/>
                    <a:pt x="55245" y="140018"/>
                    <a:pt x="54292" y="120015"/>
                  </a:cubicBezTo>
                  <a:cubicBezTo>
                    <a:pt x="53340" y="108585"/>
                    <a:pt x="52388" y="97155"/>
                    <a:pt x="47625" y="85725"/>
                  </a:cubicBezTo>
                  <a:cubicBezTo>
                    <a:pt x="42863" y="73343"/>
                    <a:pt x="41910" y="39053"/>
                    <a:pt x="0" y="0"/>
                  </a:cubicBezTo>
                  <a:cubicBezTo>
                    <a:pt x="21908" y="13335"/>
                    <a:pt x="41910" y="31433"/>
                    <a:pt x="58102" y="52388"/>
                  </a:cubicBezTo>
                  <a:cubicBezTo>
                    <a:pt x="92392" y="38100"/>
                    <a:pt x="124777" y="32385"/>
                    <a:pt x="154305" y="34290"/>
                  </a:cubicBezTo>
                  <a:cubicBezTo>
                    <a:pt x="155258" y="33338"/>
                    <a:pt x="156210" y="34290"/>
                    <a:pt x="156210" y="342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21" name="Freeform: Shape 129"/>
            <p:cNvSpPr/>
            <p:nvPr/>
          </p:nvSpPr>
          <p:spPr>
            <a:xfrm>
              <a:off x="6286320" y="2121480"/>
              <a:ext cx="72720" cy="96480"/>
            </a:xfrm>
            <a:custGeom>
              <a:avLst/>
              <a:gdLst/>
              <a:ahLst/>
              <a:rect l="l" t="t" r="r" b="b"/>
              <a:pathLst>
                <a:path w="118109" h="156210">
                  <a:moveTo>
                    <a:pt x="87630" y="85725"/>
                  </a:moveTo>
                  <a:cubicBezTo>
                    <a:pt x="97155" y="78105"/>
                    <a:pt x="106680" y="73343"/>
                    <a:pt x="118110" y="70485"/>
                  </a:cubicBezTo>
                  <a:cubicBezTo>
                    <a:pt x="117157" y="71438"/>
                    <a:pt x="116205" y="71438"/>
                    <a:pt x="115253" y="72390"/>
                  </a:cubicBezTo>
                  <a:cubicBezTo>
                    <a:pt x="112395" y="75248"/>
                    <a:pt x="110490" y="79058"/>
                    <a:pt x="107632" y="81915"/>
                  </a:cubicBezTo>
                  <a:cubicBezTo>
                    <a:pt x="94297" y="104775"/>
                    <a:pt x="84772" y="130493"/>
                    <a:pt x="76200" y="156210"/>
                  </a:cubicBezTo>
                  <a:cubicBezTo>
                    <a:pt x="75247" y="140018"/>
                    <a:pt x="74295" y="123825"/>
                    <a:pt x="73343" y="107633"/>
                  </a:cubicBezTo>
                  <a:cubicBezTo>
                    <a:pt x="72390" y="86677"/>
                    <a:pt x="71438" y="64770"/>
                    <a:pt x="60960" y="46672"/>
                  </a:cubicBezTo>
                  <a:cubicBezTo>
                    <a:pt x="53340" y="32385"/>
                    <a:pt x="24765" y="11430"/>
                    <a:pt x="0" y="0"/>
                  </a:cubicBezTo>
                  <a:cubicBezTo>
                    <a:pt x="57150" y="23813"/>
                    <a:pt x="89535" y="67627"/>
                    <a:pt x="87630" y="8572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22" name="Freeform: Shape 130"/>
            <p:cNvSpPr/>
            <p:nvPr/>
          </p:nvSpPr>
          <p:spPr>
            <a:xfrm>
              <a:off x="6364080" y="216468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13c3f"/>
                </a:solidFill>
                <a:latin typeface="Source Sans Pro"/>
              </a:endParaRPr>
            </a:p>
          </p:txBody>
        </p:sp>
        <p:sp>
          <p:nvSpPr>
            <p:cNvPr id="3123" name="Freeform: Shape 131"/>
            <p:cNvSpPr/>
            <p:nvPr/>
          </p:nvSpPr>
          <p:spPr>
            <a:xfrm>
              <a:off x="51278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24" name="Freeform: Shape 132"/>
            <p:cNvSpPr/>
            <p:nvPr/>
          </p:nvSpPr>
          <p:spPr>
            <a:xfrm>
              <a:off x="70862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grpSp>
        <p:nvGrpSpPr>
          <p:cNvPr id="3125" name="Group 216"/>
          <p:cNvGrpSpPr/>
          <p:nvPr/>
        </p:nvGrpSpPr>
        <p:grpSpPr>
          <a:xfrm>
            <a:off x="2840040" y="4094280"/>
            <a:ext cx="2711520" cy="2046240"/>
            <a:chOff x="2840040" y="4094280"/>
            <a:chExt cx="2711520" cy="2046240"/>
          </a:xfrm>
        </p:grpSpPr>
        <p:sp>
          <p:nvSpPr>
            <p:cNvPr id="3126" name="Freeform: Shape 144"/>
            <p:cNvSpPr/>
            <p:nvPr/>
          </p:nvSpPr>
          <p:spPr>
            <a:xfrm>
              <a:off x="4486680" y="520992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27" name="Freeform: Shape 145"/>
            <p:cNvSpPr/>
            <p:nvPr/>
          </p:nvSpPr>
          <p:spPr>
            <a:xfrm>
              <a:off x="2840040" y="546876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28" name="Freeform: Shape 146"/>
            <p:cNvSpPr/>
            <p:nvPr/>
          </p:nvSpPr>
          <p:spPr>
            <a:xfrm>
              <a:off x="453636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29" name="Freeform: Shape 147"/>
            <p:cNvSpPr/>
            <p:nvPr/>
          </p:nvSpPr>
          <p:spPr>
            <a:xfrm>
              <a:off x="288972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30" name="Freeform: Shape 148"/>
            <p:cNvSpPr/>
            <p:nvPr/>
          </p:nvSpPr>
          <p:spPr>
            <a:xfrm>
              <a:off x="4049640" y="5906160"/>
              <a:ext cx="28692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313c3f"/>
                </a:solidFill>
                <a:latin typeface="Source Sans Pro"/>
              </a:endParaRPr>
            </a:p>
          </p:txBody>
        </p:sp>
        <p:sp>
          <p:nvSpPr>
            <p:cNvPr id="3131" name="Freeform: Shape 149"/>
            <p:cNvSpPr/>
            <p:nvPr/>
          </p:nvSpPr>
          <p:spPr>
            <a:xfrm>
              <a:off x="3710880" y="5981760"/>
              <a:ext cx="96444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313c3f"/>
                </a:solidFill>
                <a:latin typeface="Source Sans Pro"/>
              </a:endParaRPr>
            </a:p>
          </p:txBody>
        </p:sp>
        <p:sp>
          <p:nvSpPr>
            <p:cNvPr id="3132" name="Freeform: Shape 150"/>
            <p:cNvSpPr/>
            <p:nvPr/>
          </p:nvSpPr>
          <p:spPr>
            <a:xfrm>
              <a:off x="3534840" y="6060960"/>
              <a:ext cx="131652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313c3f"/>
                </a:solidFill>
                <a:latin typeface="Source Sans Pro"/>
              </a:endParaRPr>
            </a:p>
          </p:txBody>
        </p:sp>
        <p:sp>
          <p:nvSpPr>
            <p:cNvPr id="3133" name="Freeform: Shape 151"/>
            <p:cNvSpPr/>
            <p:nvPr/>
          </p:nvSpPr>
          <p:spPr>
            <a:xfrm>
              <a:off x="411156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34" name="Freeform: Shape 152"/>
            <p:cNvSpPr/>
            <p:nvPr/>
          </p:nvSpPr>
          <p:spPr>
            <a:xfrm>
              <a:off x="414360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313c3f"/>
                </a:solidFill>
                <a:latin typeface="Source Sans Pro"/>
              </a:endParaRPr>
            </a:p>
          </p:txBody>
        </p:sp>
        <p:sp>
          <p:nvSpPr>
            <p:cNvPr id="3135" name="Freeform: Shape 153"/>
            <p:cNvSpPr/>
            <p:nvPr/>
          </p:nvSpPr>
          <p:spPr>
            <a:xfrm>
              <a:off x="413532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36" name="Freeform: Shape 154"/>
            <p:cNvSpPr/>
            <p:nvPr/>
          </p:nvSpPr>
          <p:spPr>
            <a:xfrm>
              <a:off x="4246200" y="4149720"/>
              <a:ext cx="82080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37" name="Freeform: Shape 155"/>
            <p:cNvSpPr/>
            <p:nvPr/>
          </p:nvSpPr>
          <p:spPr>
            <a:xfrm>
              <a:off x="3324960" y="4273200"/>
              <a:ext cx="81648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38" name="Freeform: Shape 156"/>
            <p:cNvSpPr/>
            <p:nvPr/>
          </p:nvSpPr>
          <p:spPr>
            <a:xfrm>
              <a:off x="5042520" y="5256000"/>
              <a:ext cx="40680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39" name="Freeform: Shape 157"/>
            <p:cNvSpPr/>
            <p:nvPr/>
          </p:nvSpPr>
          <p:spPr>
            <a:xfrm>
              <a:off x="3372480" y="5514840"/>
              <a:ext cx="43020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140" name="Graphic 133"/>
            <p:cNvGrpSpPr/>
            <p:nvPr/>
          </p:nvGrpSpPr>
          <p:grpSpPr>
            <a:xfrm>
              <a:off x="3421080" y="4115160"/>
              <a:ext cx="1531800" cy="2004120"/>
              <a:chOff x="3421080" y="4115160"/>
              <a:chExt cx="1531800" cy="2004120"/>
            </a:xfrm>
          </p:grpSpPr>
          <p:pic>
            <p:nvPicPr>
              <p:cNvPr id="3141" name="Graphic 133" descr=""/>
              <p:cNvPicPr/>
              <p:nvPr/>
            </p:nvPicPr>
            <p:blipFill>
              <a:blip r:embed="rId1"/>
              <a:stretch/>
            </p:blipFill>
            <p:spPr>
              <a:xfrm>
                <a:off x="4200120" y="4115160"/>
                <a:ext cx="627840" cy="2004120"/>
              </a:xfrm>
              <a:prstGeom prst="rect">
                <a:avLst/>
              </a:prstGeom>
              <a:ln w="0">
                <a:noFill/>
              </a:ln>
            </p:spPr>
          </p:pic>
          <p:sp>
            <p:nvSpPr>
              <p:cNvPr id="3142" name="Freeform: Shape 166"/>
              <p:cNvSpPr/>
              <p:nvPr/>
            </p:nvSpPr>
            <p:spPr>
              <a:xfrm>
                <a:off x="4305960" y="4231800"/>
                <a:ext cx="64692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43" name="Freeform: Shape 167"/>
              <p:cNvSpPr/>
              <p:nvPr/>
            </p:nvSpPr>
            <p:spPr>
              <a:xfrm>
                <a:off x="3421080" y="4352400"/>
                <a:ext cx="67572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3144" name="Freeform: Shape 168"/>
            <p:cNvSpPr/>
            <p:nvPr/>
          </p:nvSpPr>
          <p:spPr>
            <a:xfrm rot="21058200">
              <a:off x="4097520" y="423648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45" name="Freeform: Shape 169"/>
            <p:cNvSpPr/>
            <p:nvPr/>
          </p:nvSpPr>
          <p:spPr>
            <a:xfrm rot="21058200">
              <a:off x="413892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46" name="Freeform: Shape 170"/>
            <p:cNvSpPr/>
            <p:nvPr/>
          </p:nvSpPr>
          <p:spPr>
            <a:xfrm rot="21058200">
              <a:off x="416592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313c3f"/>
                </a:solidFill>
                <a:latin typeface="Source Sans Pro"/>
              </a:endParaRPr>
            </a:p>
          </p:txBody>
        </p:sp>
        <p:sp>
          <p:nvSpPr>
            <p:cNvPr id="3147" name="Freeform: Shape 171"/>
            <p:cNvSpPr/>
            <p:nvPr/>
          </p:nvSpPr>
          <p:spPr>
            <a:xfrm>
              <a:off x="5011200" y="4195440"/>
              <a:ext cx="49356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48" name="Freeform: Shape 172"/>
            <p:cNvSpPr/>
            <p:nvPr/>
          </p:nvSpPr>
          <p:spPr>
            <a:xfrm>
              <a:off x="3364560" y="4454280"/>
              <a:ext cx="49356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49" name="Freeform: Shape 211"/>
            <p:cNvSpPr/>
            <p:nvPr/>
          </p:nvSpPr>
          <p:spPr>
            <a:xfrm>
              <a:off x="3077640" y="5626080"/>
              <a:ext cx="37656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313c3f"/>
                </a:solidFill>
                <a:latin typeface="Source Sans Pro"/>
              </a:endParaRPr>
            </a:p>
          </p:txBody>
        </p:sp>
        <p:sp>
          <p:nvSpPr>
            <p:cNvPr id="3150" name="Freeform: Shape 212"/>
            <p:cNvSpPr/>
            <p:nvPr/>
          </p:nvSpPr>
          <p:spPr>
            <a:xfrm>
              <a:off x="4734360" y="5366880"/>
              <a:ext cx="37656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313c3f"/>
                </a:solidFill>
                <a:latin typeface="Source Sans Pro"/>
              </a:endParaRPr>
            </a:p>
          </p:txBody>
        </p:sp>
        <p:sp>
          <p:nvSpPr>
            <p:cNvPr id="3151" name="Freeform: Shape 213"/>
            <p:cNvSpPr/>
            <p:nvPr/>
          </p:nvSpPr>
          <p:spPr>
            <a:xfrm>
              <a:off x="38210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3152" name="Freeform: Shape 214"/>
            <p:cNvSpPr/>
            <p:nvPr/>
          </p:nvSpPr>
          <p:spPr>
            <a:xfrm>
              <a:off x="38210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3153" name="Freeform: Shape 215"/>
            <p:cNvSpPr/>
            <p:nvPr/>
          </p:nvSpPr>
          <p:spPr>
            <a:xfrm>
              <a:off x="407124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grpSp>
      <p:grpSp>
        <p:nvGrpSpPr>
          <p:cNvPr id="3154" name="Group 173"/>
          <p:cNvGrpSpPr/>
          <p:nvPr/>
        </p:nvGrpSpPr>
        <p:grpSpPr>
          <a:xfrm>
            <a:off x="6503760" y="4094280"/>
            <a:ext cx="2709720" cy="2046240"/>
            <a:chOff x="6503760" y="4094280"/>
            <a:chExt cx="2709720" cy="2046240"/>
          </a:xfrm>
        </p:grpSpPr>
        <p:sp>
          <p:nvSpPr>
            <p:cNvPr id="3155" name="Freeform: Shape 174"/>
            <p:cNvSpPr/>
            <p:nvPr/>
          </p:nvSpPr>
          <p:spPr>
            <a:xfrm flipH="1">
              <a:off x="6503760" y="520992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56" name="Freeform: Shape 175"/>
            <p:cNvSpPr/>
            <p:nvPr/>
          </p:nvSpPr>
          <p:spPr>
            <a:xfrm flipH="1">
              <a:off x="8149320" y="546876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57" name="Freeform: Shape 176"/>
            <p:cNvSpPr/>
            <p:nvPr/>
          </p:nvSpPr>
          <p:spPr>
            <a:xfrm flipH="1">
              <a:off x="702432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58" name="Freeform: Shape 177"/>
            <p:cNvSpPr/>
            <p:nvPr/>
          </p:nvSpPr>
          <p:spPr>
            <a:xfrm flipH="1">
              <a:off x="867024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59" name="Freeform: Shape 178"/>
            <p:cNvSpPr/>
            <p:nvPr/>
          </p:nvSpPr>
          <p:spPr>
            <a:xfrm flipH="1">
              <a:off x="7718040" y="5906160"/>
              <a:ext cx="28656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313c3f"/>
                </a:solidFill>
                <a:latin typeface="Source Sans Pro"/>
              </a:endParaRPr>
            </a:p>
          </p:txBody>
        </p:sp>
        <p:sp>
          <p:nvSpPr>
            <p:cNvPr id="3160" name="Freeform: Shape 179"/>
            <p:cNvSpPr/>
            <p:nvPr/>
          </p:nvSpPr>
          <p:spPr>
            <a:xfrm flipH="1">
              <a:off x="7378920" y="5981760"/>
              <a:ext cx="96408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313c3f"/>
                </a:solidFill>
                <a:latin typeface="Source Sans Pro"/>
              </a:endParaRPr>
            </a:p>
          </p:txBody>
        </p:sp>
        <p:sp>
          <p:nvSpPr>
            <p:cNvPr id="3161" name="Freeform: Shape 180"/>
            <p:cNvSpPr/>
            <p:nvPr/>
          </p:nvSpPr>
          <p:spPr>
            <a:xfrm flipH="1">
              <a:off x="7202880" y="6060960"/>
              <a:ext cx="131580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313c3f"/>
                </a:solidFill>
                <a:latin typeface="Source Sans Pro"/>
              </a:endParaRPr>
            </a:p>
          </p:txBody>
        </p:sp>
        <p:sp>
          <p:nvSpPr>
            <p:cNvPr id="3162" name="Freeform: Shape 181"/>
            <p:cNvSpPr/>
            <p:nvPr/>
          </p:nvSpPr>
          <p:spPr>
            <a:xfrm flipH="1">
              <a:off x="777924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63" name="Freeform: Shape 182"/>
            <p:cNvSpPr/>
            <p:nvPr/>
          </p:nvSpPr>
          <p:spPr>
            <a:xfrm flipH="1">
              <a:off x="781056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313c3f"/>
                </a:solidFill>
                <a:latin typeface="Source Sans Pro"/>
              </a:endParaRPr>
            </a:p>
          </p:txBody>
        </p:sp>
        <p:sp>
          <p:nvSpPr>
            <p:cNvPr id="3164" name="Freeform: Shape 183"/>
            <p:cNvSpPr/>
            <p:nvPr/>
          </p:nvSpPr>
          <p:spPr>
            <a:xfrm flipH="1">
              <a:off x="780300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65" name="Freeform: Shape 184"/>
            <p:cNvSpPr/>
            <p:nvPr/>
          </p:nvSpPr>
          <p:spPr>
            <a:xfrm flipH="1">
              <a:off x="6987960" y="4149720"/>
              <a:ext cx="82008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66" name="Freeform: Shape 185"/>
            <p:cNvSpPr/>
            <p:nvPr/>
          </p:nvSpPr>
          <p:spPr>
            <a:xfrm flipH="1">
              <a:off x="7913160" y="4273200"/>
              <a:ext cx="81576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67" name="Freeform: Shape 186"/>
            <p:cNvSpPr/>
            <p:nvPr/>
          </p:nvSpPr>
          <p:spPr>
            <a:xfrm flipH="1">
              <a:off x="6605640" y="5256000"/>
              <a:ext cx="40644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68" name="Freeform: Shape 187"/>
            <p:cNvSpPr/>
            <p:nvPr/>
          </p:nvSpPr>
          <p:spPr>
            <a:xfrm flipH="1">
              <a:off x="8251560" y="5514840"/>
              <a:ext cx="42984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nvGrpSpPr>
            <p:cNvPr id="3169" name="Graphic 133"/>
            <p:cNvGrpSpPr/>
            <p:nvPr/>
          </p:nvGrpSpPr>
          <p:grpSpPr>
            <a:xfrm>
              <a:off x="7102080" y="4115160"/>
              <a:ext cx="1530720" cy="2004120"/>
              <a:chOff x="7102080" y="4115160"/>
              <a:chExt cx="1530720" cy="2004120"/>
            </a:xfrm>
          </p:grpSpPr>
          <p:pic>
            <p:nvPicPr>
              <p:cNvPr id="3170" name="Graphic 133" descr=""/>
              <p:cNvPicPr/>
              <p:nvPr/>
            </p:nvPicPr>
            <p:blipFill>
              <a:blip r:embed="rId2"/>
              <a:stretch/>
            </p:blipFill>
            <p:spPr>
              <a:xfrm>
                <a:off x="7223760" y="4115160"/>
                <a:ext cx="633960" cy="2004120"/>
              </a:xfrm>
              <a:prstGeom prst="rect">
                <a:avLst/>
              </a:prstGeom>
              <a:ln w="0">
                <a:noFill/>
              </a:ln>
            </p:spPr>
          </p:pic>
          <p:sp>
            <p:nvSpPr>
              <p:cNvPr id="3171" name="Freeform: Shape 200"/>
              <p:cNvSpPr/>
              <p:nvPr/>
            </p:nvSpPr>
            <p:spPr>
              <a:xfrm flipH="1">
                <a:off x="7101720" y="4231800"/>
                <a:ext cx="64620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72" name="Freeform: Shape 201"/>
              <p:cNvSpPr/>
              <p:nvPr/>
            </p:nvSpPr>
            <p:spPr>
              <a:xfrm flipH="1">
                <a:off x="7957440" y="4352400"/>
                <a:ext cx="67536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grpSp>
        <p:sp>
          <p:nvSpPr>
            <p:cNvPr id="3173" name="Freeform: Shape 189"/>
            <p:cNvSpPr/>
            <p:nvPr/>
          </p:nvSpPr>
          <p:spPr>
            <a:xfrm flipH="1" rot="541800">
              <a:off x="7765560" y="423684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74" name="Freeform: Shape 190"/>
            <p:cNvSpPr/>
            <p:nvPr/>
          </p:nvSpPr>
          <p:spPr>
            <a:xfrm flipH="1" rot="541800">
              <a:off x="780660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75" name="Freeform: Shape 191"/>
            <p:cNvSpPr/>
            <p:nvPr/>
          </p:nvSpPr>
          <p:spPr>
            <a:xfrm flipH="1" rot="541800">
              <a:off x="783360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313c3f"/>
                </a:solidFill>
                <a:latin typeface="Source Sans Pro"/>
              </a:endParaRPr>
            </a:p>
          </p:txBody>
        </p:sp>
        <p:sp>
          <p:nvSpPr>
            <p:cNvPr id="3176" name="Freeform: Shape 192"/>
            <p:cNvSpPr/>
            <p:nvPr/>
          </p:nvSpPr>
          <p:spPr>
            <a:xfrm flipH="1">
              <a:off x="6550560" y="4195440"/>
              <a:ext cx="49320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77" name="Freeform: Shape 193"/>
            <p:cNvSpPr/>
            <p:nvPr/>
          </p:nvSpPr>
          <p:spPr>
            <a:xfrm flipH="1">
              <a:off x="8196120" y="4454280"/>
              <a:ext cx="49320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3178" name="Freeform: Shape 194"/>
            <p:cNvSpPr/>
            <p:nvPr/>
          </p:nvSpPr>
          <p:spPr>
            <a:xfrm flipH="1">
              <a:off x="8599680" y="5626080"/>
              <a:ext cx="37620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313c3f"/>
                </a:solidFill>
                <a:latin typeface="Source Sans Pro"/>
              </a:endParaRPr>
            </a:p>
          </p:txBody>
        </p:sp>
        <p:sp>
          <p:nvSpPr>
            <p:cNvPr id="3179" name="Freeform: Shape 195"/>
            <p:cNvSpPr/>
            <p:nvPr/>
          </p:nvSpPr>
          <p:spPr>
            <a:xfrm flipH="1">
              <a:off x="6944040" y="5366880"/>
              <a:ext cx="37620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313c3f"/>
                </a:solidFill>
                <a:latin typeface="Source Sans Pro"/>
              </a:endParaRPr>
            </a:p>
          </p:txBody>
        </p:sp>
        <p:sp>
          <p:nvSpPr>
            <p:cNvPr id="3180" name="Freeform: Shape 196"/>
            <p:cNvSpPr/>
            <p:nvPr/>
          </p:nvSpPr>
          <p:spPr>
            <a:xfrm flipH="1">
              <a:off x="78494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3181" name="Freeform: Shape 197"/>
            <p:cNvSpPr/>
            <p:nvPr/>
          </p:nvSpPr>
          <p:spPr>
            <a:xfrm flipH="1">
              <a:off x="78494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sp>
          <p:nvSpPr>
            <p:cNvPr id="3182" name="Freeform: Shape 198"/>
            <p:cNvSpPr/>
            <p:nvPr/>
          </p:nvSpPr>
          <p:spPr>
            <a:xfrm flipH="1">
              <a:off x="784908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13c3f"/>
                </a:solidFill>
                <a:latin typeface="Source Sans Pro"/>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637" name="Rectangle: Rounded Corners 53"/>
          <p:cNvSpPr/>
          <p:nvPr/>
        </p:nvSpPr>
        <p:spPr>
          <a:xfrm>
            <a:off x="2919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aphicFrame>
        <p:nvGraphicFramePr>
          <p:cNvPr id="638" name="Chart 54"/>
          <p:cNvGraphicFramePr/>
          <p:nvPr/>
        </p:nvGraphicFramePr>
        <p:xfrm>
          <a:off x="500040" y="2217600"/>
          <a:ext cx="2320920" cy="2213280"/>
        </p:xfrm>
        <a:graphic>
          <a:graphicData uri="http://schemas.openxmlformats.org/presentationml/2006/ole">
            <p:oleObj progId="Excel.Sheet.12" r:id="rId1" spid="">
              <p:embed/>
              <p:pic>
                <p:nvPicPr>
                  <p:cNvPr id="639" name="Chart 54" descr=""/>
                  <p:cNvPicPr/>
                  <p:nvPr/>
                </p:nvPicPr>
                <p:blipFill>
                  <a:blip r:embed="rId2"/>
                  <a:stretch/>
                </p:blipFill>
                <p:spPr>
                  <a:xfrm>
                    <a:off x="500040" y="2217600"/>
                    <a:ext cx="2320920" cy="2213280"/>
                  </a:xfrm>
                  <a:prstGeom prst="rect">
                    <a:avLst/>
                  </a:prstGeom>
                  <a:ln w="0">
                    <a:noFill/>
                  </a:ln>
                </p:spPr>
              </p:pic>
            </p:oleObj>
          </a:graphicData>
        </a:graphic>
      </p:graphicFrame>
      <p:sp>
        <p:nvSpPr>
          <p:cNvPr id="640" name="Freeform 60"/>
          <p:cNvSpPr/>
          <p:nvPr/>
        </p:nvSpPr>
        <p:spPr>
          <a:xfrm>
            <a:off x="1389240" y="3052800"/>
            <a:ext cx="542880" cy="54288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157d42"/>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641" name="TextBox 58"/>
          <p:cNvSpPr/>
          <p:nvPr/>
        </p:nvSpPr>
        <p:spPr>
          <a:xfrm>
            <a:off x="8031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c3f"/>
                </a:solidFill>
                <a:latin typeface="Lato"/>
              </a:rPr>
              <a:t>Brand One</a:t>
            </a:r>
            <a:endParaRPr b="0" lang="en-US" sz="1800" spc="-1" strike="noStrike">
              <a:solidFill>
                <a:srgbClr val="313c3f"/>
              </a:solidFill>
              <a:latin typeface="Source Sans Pro"/>
            </a:endParaRPr>
          </a:p>
        </p:txBody>
      </p:sp>
      <p:grpSp>
        <p:nvGrpSpPr>
          <p:cNvPr id="642" name="Rectangle: Rounded Corners 62"/>
          <p:cNvGrpSpPr/>
          <p:nvPr/>
        </p:nvGrpSpPr>
        <p:grpSpPr>
          <a:xfrm>
            <a:off x="609480" y="4425840"/>
            <a:ext cx="2103480" cy="255600"/>
            <a:chOff x="609480" y="4425840"/>
            <a:chExt cx="2103480" cy="255600"/>
          </a:xfrm>
        </p:grpSpPr>
        <p:pic>
          <p:nvPicPr>
            <p:cNvPr id="643" name="Rectangle: Rounded Corners 62" descr=""/>
            <p:cNvPicPr/>
            <p:nvPr/>
          </p:nvPicPr>
          <p:blipFill>
            <a:blip r:embed="rId3"/>
            <a:stretch/>
          </p:blipFill>
          <p:spPr>
            <a:xfrm>
              <a:off x="609480" y="4425840"/>
              <a:ext cx="2103480" cy="255600"/>
            </a:xfrm>
            <a:prstGeom prst="rect">
              <a:avLst/>
            </a:prstGeom>
            <a:ln w="0">
              <a:noFill/>
            </a:ln>
          </p:spPr>
        </p:pic>
        <p:sp>
          <p:nvSpPr>
            <p:cNvPr id="644" name=""/>
            <p:cNvSpPr/>
            <p:nvPr/>
          </p:nvSpPr>
          <p:spPr>
            <a:xfrm>
              <a:off x="6206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645" name="Rectangle: Rounded Corners 63"/>
          <p:cNvSpPr/>
          <p:nvPr/>
        </p:nvSpPr>
        <p:spPr>
          <a:xfrm>
            <a:off x="608040" y="4429080"/>
            <a:ext cx="1901880" cy="252360"/>
          </a:xfrm>
          <a:prstGeom prst="roundRect">
            <a:avLst>
              <a:gd name="adj" fmla="val 16667"/>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46" name="TextBox 64"/>
          <p:cNvSpPr/>
          <p:nvPr/>
        </p:nvSpPr>
        <p:spPr>
          <a:xfrm>
            <a:off x="6066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13c3f"/>
              </a:solidFill>
              <a:latin typeface="Source Sans Pro"/>
            </a:endParaRPr>
          </a:p>
        </p:txBody>
      </p:sp>
      <p:sp>
        <p:nvSpPr>
          <p:cNvPr id="647" name="Rectangle 65"/>
          <p:cNvSpPr/>
          <p:nvPr/>
        </p:nvSpPr>
        <p:spPr>
          <a:xfrm>
            <a:off x="6080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ultrices sem. </a:t>
            </a:r>
            <a:endParaRPr b="0" lang="en-US" sz="1200" spc="-1" strike="noStrike">
              <a:solidFill>
                <a:srgbClr val="313c3f"/>
              </a:solidFill>
              <a:latin typeface="Source Sans Pro"/>
            </a:endParaRPr>
          </a:p>
        </p:txBody>
      </p:sp>
      <p:sp>
        <p:nvSpPr>
          <p:cNvPr id="648" name="Rectangle: Rounded Corners 66"/>
          <p:cNvSpPr/>
          <p:nvPr/>
        </p:nvSpPr>
        <p:spPr>
          <a:xfrm>
            <a:off x="9163080" y="1697040"/>
            <a:ext cx="2736720" cy="4422600"/>
          </a:xfrm>
          <a:custGeom>
            <a:avLst/>
            <a:gdLst>
              <a:gd name="textAreaLeft" fmla="*/ 57600 w 2736720"/>
              <a:gd name="textAreaRight" fmla="*/ 2679120 w 2736720"/>
              <a:gd name="textAreaTop" fmla="*/ 57600 h 4422600"/>
              <a:gd name="textAreaBottom" fmla="*/ 4365000 h 4422600"/>
            </a:gdLst>
            <a:ahLst/>
            <a:rect l="textAreaLeft" t="textAreaTop" r="textAreaRight" b="textAreaBottom"/>
            <a:pathLst>
              <a:path w="21600" h="34904">
                <a:moveTo>
                  <a:pt x="1552" y="0"/>
                </a:moveTo>
                <a:arcTo wR="1552" hR="1552" stAng="16200000" swAng="-5400000"/>
                <a:lnTo>
                  <a:pt x="0" y="33352"/>
                </a:lnTo>
                <a:arcTo wR="1552" hR="1552" stAng="10800000" swAng="-5400000"/>
                <a:lnTo>
                  <a:pt x="20048" y="34904"/>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49" name="Rectangle: Rounded Corners 67"/>
          <p:cNvSpPr/>
          <p:nvPr/>
        </p:nvSpPr>
        <p:spPr>
          <a:xfrm>
            <a:off x="32367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50" name="Rectangle: Rounded Corners 68"/>
          <p:cNvSpPr/>
          <p:nvPr/>
        </p:nvSpPr>
        <p:spPr>
          <a:xfrm>
            <a:off x="620388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51" name="Oval 69"/>
          <p:cNvSpPr/>
          <p:nvPr/>
        </p:nvSpPr>
        <p:spPr>
          <a:xfrm>
            <a:off x="5651640" y="2892600"/>
            <a:ext cx="86508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52" name="Oval 70"/>
          <p:cNvSpPr/>
          <p:nvPr/>
        </p:nvSpPr>
        <p:spPr>
          <a:xfrm>
            <a:off x="269388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53" name="Freeform 350"/>
          <p:cNvSpPr/>
          <p:nvPr/>
        </p:nvSpPr>
        <p:spPr>
          <a:xfrm>
            <a:off x="7224840" y="3063960"/>
            <a:ext cx="695160" cy="5205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d65423"/>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pic>
        <p:nvPicPr>
          <p:cNvPr id="654" name="Group 72" descr=""/>
          <p:cNvPicPr/>
          <p:nvPr/>
        </p:nvPicPr>
        <p:blipFill>
          <a:blip r:embed="rId4"/>
          <a:stretch/>
        </p:blipFill>
        <p:spPr>
          <a:xfrm>
            <a:off x="10229760" y="3017880"/>
            <a:ext cx="609840" cy="609480"/>
          </a:xfrm>
          <a:prstGeom prst="rect">
            <a:avLst/>
          </a:prstGeom>
          <a:ln w="0">
            <a:noFill/>
          </a:ln>
        </p:spPr>
      </p:pic>
      <p:pic>
        <p:nvPicPr>
          <p:cNvPr id="655" name="Group 76" descr=""/>
          <p:cNvPicPr/>
          <p:nvPr/>
        </p:nvPicPr>
        <p:blipFill>
          <a:blip r:embed="rId5"/>
          <a:stretch/>
        </p:blipFill>
        <p:spPr>
          <a:xfrm>
            <a:off x="4290840" y="3024360"/>
            <a:ext cx="628920" cy="596880"/>
          </a:xfrm>
          <a:prstGeom prst="rect">
            <a:avLst/>
          </a:prstGeom>
          <a:ln w="0">
            <a:noFill/>
          </a:ln>
        </p:spPr>
      </p:pic>
      <p:sp>
        <p:nvSpPr>
          <p:cNvPr id="656" name="TextBox 84"/>
          <p:cNvSpPr/>
          <p:nvPr/>
        </p:nvSpPr>
        <p:spPr>
          <a:xfrm>
            <a:off x="2685960" y="312408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VS</a:t>
            </a:r>
            <a:endParaRPr b="0" lang="en-US" sz="2000" spc="-1" strike="noStrike">
              <a:solidFill>
                <a:srgbClr val="313c3f"/>
              </a:solidFill>
              <a:latin typeface="Source Sans Pro"/>
            </a:endParaRPr>
          </a:p>
        </p:txBody>
      </p:sp>
      <p:graphicFrame>
        <p:nvGraphicFramePr>
          <p:cNvPr id="657" name="Chart 85"/>
          <p:cNvGraphicFramePr/>
          <p:nvPr/>
        </p:nvGraphicFramePr>
        <p:xfrm>
          <a:off x="3443400" y="2217600"/>
          <a:ext cx="2322360" cy="2213280"/>
        </p:xfrm>
        <a:graphic>
          <a:graphicData uri="http://schemas.openxmlformats.org/presentationml/2006/ole">
            <p:oleObj progId="Excel.Sheet.12" r:id="rId6" spid="">
              <p:embed/>
              <p:pic>
                <p:nvPicPr>
                  <p:cNvPr id="658" name="Chart 85" descr=""/>
                  <p:cNvPicPr/>
                  <p:nvPr/>
                </p:nvPicPr>
                <p:blipFill>
                  <a:blip r:embed="rId7"/>
                  <a:stretch/>
                </p:blipFill>
                <p:spPr>
                  <a:xfrm>
                    <a:off x="3443400" y="2217600"/>
                    <a:ext cx="2322360" cy="2213280"/>
                  </a:xfrm>
                  <a:prstGeom prst="rect">
                    <a:avLst/>
                  </a:prstGeom>
                  <a:ln w="0">
                    <a:noFill/>
                  </a:ln>
                </p:spPr>
              </p:pic>
            </p:oleObj>
          </a:graphicData>
        </a:graphic>
      </p:graphicFrame>
      <p:graphicFrame>
        <p:nvGraphicFramePr>
          <p:cNvPr id="659" name="Chart 86"/>
          <p:cNvGraphicFramePr/>
          <p:nvPr/>
        </p:nvGraphicFramePr>
        <p:xfrm>
          <a:off x="6410160" y="2217600"/>
          <a:ext cx="2322720" cy="2213280"/>
        </p:xfrm>
        <a:graphic>
          <a:graphicData uri="http://schemas.openxmlformats.org/presentationml/2006/ole">
            <p:oleObj progId="Excel.Sheet.12" r:id="rId8" spid="">
              <p:embed/>
              <p:pic>
                <p:nvPicPr>
                  <p:cNvPr id="660" name="Chart 86" descr=""/>
                  <p:cNvPicPr/>
                  <p:nvPr/>
                </p:nvPicPr>
                <p:blipFill>
                  <a:blip r:embed="rId9"/>
                  <a:stretch/>
                </p:blipFill>
                <p:spPr>
                  <a:xfrm>
                    <a:off x="6410160" y="2217600"/>
                    <a:ext cx="2322720" cy="2213280"/>
                  </a:xfrm>
                  <a:prstGeom prst="rect">
                    <a:avLst/>
                  </a:prstGeom>
                  <a:ln w="0">
                    <a:noFill/>
                  </a:ln>
                </p:spPr>
              </p:pic>
            </p:oleObj>
          </a:graphicData>
        </a:graphic>
      </p:graphicFrame>
      <p:graphicFrame>
        <p:nvGraphicFramePr>
          <p:cNvPr id="661" name="Chart 87"/>
          <p:cNvGraphicFramePr/>
          <p:nvPr/>
        </p:nvGraphicFramePr>
        <p:xfrm>
          <a:off x="9371160" y="2217600"/>
          <a:ext cx="2320920" cy="2213280"/>
        </p:xfrm>
        <a:graphic>
          <a:graphicData uri="http://schemas.openxmlformats.org/presentationml/2006/ole">
            <p:oleObj progId="Excel.Sheet.12" r:id="rId10" spid="">
              <p:embed/>
              <p:pic>
                <p:nvPicPr>
                  <p:cNvPr id="662" name="Chart 87" descr=""/>
                  <p:cNvPicPr/>
                  <p:nvPr/>
                </p:nvPicPr>
                <p:blipFill>
                  <a:blip r:embed="rId11"/>
                  <a:stretch/>
                </p:blipFill>
                <p:spPr>
                  <a:xfrm>
                    <a:off x="9371160" y="2217600"/>
                    <a:ext cx="2320920" cy="2213280"/>
                  </a:xfrm>
                  <a:prstGeom prst="rect">
                    <a:avLst/>
                  </a:prstGeom>
                  <a:ln w="0">
                    <a:noFill/>
                  </a:ln>
                </p:spPr>
              </p:pic>
            </p:oleObj>
          </a:graphicData>
        </a:graphic>
      </p:graphicFrame>
      <p:sp>
        <p:nvSpPr>
          <p:cNvPr id="663" name="TextBox 88"/>
          <p:cNvSpPr/>
          <p:nvPr/>
        </p:nvSpPr>
        <p:spPr>
          <a:xfrm>
            <a:off x="5645160" y="3092400"/>
            <a:ext cx="878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c3f"/>
                </a:solidFill>
                <a:latin typeface="Lato"/>
              </a:rPr>
              <a:t>VS</a:t>
            </a:r>
            <a:endParaRPr b="0" lang="en-US" sz="2400" spc="-1" strike="noStrike">
              <a:solidFill>
                <a:srgbClr val="313c3f"/>
              </a:solidFill>
              <a:latin typeface="Source Sans Pro"/>
            </a:endParaRPr>
          </a:p>
        </p:txBody>
      </p:sp>
      <p:sp>
        <p:nvSpPr>
          <p:cNvPr id="664" name="TextBox 89"/>
          <p:cNvSpPr/>
          <p:nvPr/>
        </p:nvSpPr>
        <p:spPr>
          <a:xfrm>
            <a:off x="37479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c3f"/>
                </a:solidFill>
                <a:latin typeface="Lato"/>
              </a:rPr>
              <a:t>Brand Two</a:t>
            </a:r>
            <a:endParaRPr b="0" lang="en-US" sz="1800" spc="-1" strike="noStrike">
              <a:solidFill>
                <a:srgbClr val="313c3f"/>
              </a:solidFill>
              <a:latin typeface="Source Sans Pro"/>
            </a:endParaRPr>
          </a:p>
        </p:txBody>
      </p:sp>
      <p:sp>
        <p:nvSpPr>
          <p:cNvPr id="665" name="TextBox 90"/>
          <p:cNvSpPr/>
          <p:nvPr/>
        </p:nvSpPr>
        <p:spPr>
          <a:xfrm>
            <a:off x="671508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c3f"/>
                </a:solidFill>
                <a:latin typeface="Lato"/>
              </a:rPr>
              <a:t>Brand Three</a:t>
            </a:r>
            <a:endParaRPr b="0" lang="en-US" sz="1800" spc="-1" strike="noStrike">
              <a:solidFill>
                <a:srgbClr val="313c3f"/>
              </a:solidFill>
              <a:latin typeface="Source Sans Pro"/>
            </a:endParaRPr>
          </a:p>
        </p:txBody>
      </p:sp>
      <p:sp>
        <p:nvSpPr>
          <p:cNvPr id="666" name="TextBox 91"/>
          <p:cNvSpPr/>
          <p:nvPr/>
        </p:nvSpPr>
        <p:spPr>
          <a:xfrm>
            <a:off x="9674280" y="1876320"/>
            <a:ext cx="171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3c3f"/>
                </a:solidFill>
                <a:latin typeface="Lato"/>
              </a:rPr>
              <a:t>Brand Four</a:t>
            </a:r>
            <a:endParaRPr b="0" lang="en-US" sz="1800" spc="-1" strike="noStrike">
              <a:solidFill>
                <a:srgbClr val="313c3f"/>
              </a:solidFill>
              <a:latin typeface="Source Sans Pro"/>
            </a:endParaRPr>
          </a:p>
        </p:txBody>
      </p:sp>
      <p:grpSp>
        <p:nvGrpSpPr>
          <p:cNvPr id="667" name="Rectangle: Rounded Corners 92"/>
          <p:cNvGrpSpPr/>
          <p:nvPr/>
        </p:nvGrpSpPr>
        <p:grpSpPr>
          <a:xfrm>
            <a:off x="3554280" y="4425840"/>
            <a:ext cx="2103480" cy="255600"/>
            <a:chOff x="3554280" y="4425840"/>
            <a:chExt cx="2103480" cy="255600"/>
          </a:xfrm>
        </p:grpSpPr>
        <p:pic>
          <p:nvPicPr>
            <p:cNvPr id="668" name="Rectangle: Rounded Corners 92" descr=""/>
            <p:cNvPicPr/>
            <p:nvPr/>
          </p:nvPicPr>
          <p:blipFill>
            <a:blip r:embed="rId12"/>
            <a:stretch/>
          </p:blipFill>
          <p:spPr>
            <a:xfrm>
              <a:off x="3554280" y="4425840"/>
              <a:ext cx="2103480" cy="255600"/>
            </a:xfrm>
            <a:prstGeom prst="rect">
              <a:avLst/>
            </a:prstGeom>
            <a:ln w="0">
              <a:noFill/>
            </a:ln>
          </p:spPr>
        </p:pic>
        <p:sp>
          <p:nvSpPr>
            <p:cNvPr id="669" name=""/>
            <p:cNvSpPr/>
            <p:nvPr/>
          </p:nvSpPr>
          <p:spPr>
            <a:xfrm>
              <a:off x="35654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670" name="Rectangle: Rounded Corners 93"/>
          <p:cNvSpPr/>
          <p:nvPr/>
        </p:nvSpPr>
        <p:spPr>
          <a:xfrm>
            <a:off x="3552840" y="4429080"/>
            <a:ext cx="1193760" cy="252360"/>
          </a:xfrm>
          <a:prstGeom prst="roundRect">
            <a:avLst>
              <a:gd name="adj" fmla="val 16667"/>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71" name="TextBox 94"/>
          <p:cNvSpPr/>
          <p:nvPr/>
        </p:nvSpPr>
        <p:spPr>
          <a:xfrm>
            <a:off x="355068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c3f"/>
              </a:solidFill>
              <a:latin typeface="Source Sans Pro"/>
            </a:endParaRPr>
          </a:p>
        </p:txBody>
      </p:sp>
      <p:sp>
        <p:nvSpPr>
          <p:cNvPr id="672" name="Rectangle 95"/>
          <p:cNvSpPr/>
          <p:nvPr/>
        </p:nvSpPr>
        <p:spPr>
          <a:xfrm>
            <a:off x="35528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ultrices sem. </a:t>
            </a:r>
            <a:endParaRPr b="0" lang="en-US" sz="1200" spc="-1" strike="noStrike">
              <a:solidFill>
                <a:srgbClr val="313c3f"/>
              </a:solidFill>
              <a:latin typeface="Source Sans Pro"/>
            </a:endParaRPr>
          </a:p>
        </p:txBody>
      </p:sp>
      <p:grpSp>
        <p:nvGrpSpPr>
          <p:cNvPr id="673" name="Rectangle: Rounded Corners 96"/>
          <p:cNvGrpSpPr/>
          <p:nvPr/>
        </p:nvGrpSpPr>
        <p:grpSpPr>
          <a:xfrm>
            <a:off x="6523200" y="4425840"/>
            <a:ext cx="2103120" cy="255600"/>
            <a:chOff x="6523200" y="4425840"/>
            <a:chExt cx="2103120" cy="255600"/>
          </a:xfrm>
        </p:grpSpPr>
        <p:pic>
          <p:nvPicPr>
            <p:cNvPr id="674" name="Rectangle: Rounded Corners 96" descr=""/>
            <p:cNvPicPr/>
            <p:nvPr/>
          </p:nvPicPr>
          <p:blipFill>
            <a:blip r:embed="rId13"/>
            <a:stretch/>
          </p:blipFill>
          <p:spPr>
            <a:xfrm>
              <a:off x="6523200" y="4425840"/>
              <a:ext cx="2103120" cy="255600"/>
            </a:xfrm>
            <a:prstGeom prst="rect">
              <a:avLst/>
            </a:prstGeom>
            <a:ln w="0">
              <a:noFill/>
            </a:ln>
          </p:spPr>
        </p:pic>
        <p:sp>
          <p:nvSpPr>
            <p:cNvPr id="675" name=""/>
            <p:cNvSpPr/>
            <p:nvPr/>
          </p:nvSpPr>
          <p:spPr>
            <a:xfrm>
              <a:off x="653256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676" name="Rectangle: Rounded Corners 97"/>
          <p:cNvSpPr/>
          <p:nvPr/>
        </p:nvSpPr>
        <p:spPr>
          <a:xfrm>
            <a:off x="6519960" y="4429080"/>
            <a:ext cx="1616040" cy="252360"/>
          </a:xfrm>
          <a:prstGeom prst="roundRect">
            <a:avLst>
              <a:gd name="adj" fmla="val 16667"/>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77" name="TextBox 98"/>
          <p:cNvSpPr/>
          <p:nvPr/>
        </p:nvSpPr>
        <p:spPr>
          <a:xfrm>
            <a:off x="65178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c3f"/>
              </a:solidFill>
              <a:latin typeface="Source Sans Pro"/>
            </a:endParaRPr>
          </a:p>
        </p:txBody>
      </p:sp>
      <p:sp>
        <p:nvSpPr>
          <p:cNvPr id="678" name="Rectangle 99"/>
          <p:cNvSpPr/>
          <p:nvPr/>
        </p:nvSpPr>
        <p:spPr>
          <a:xfrm>
            <a:off x="651996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ultrices sem. </a:t>
            </a:r>
            <a:endParaRPr b="0" lang="en-US" sz="1200" spc="-1" strike="noStrike">
              <a:solidFill>
                <a:srgbClr val="313c3f"/>
              </a:solidFill>
              <a:latin typeface="Source Sans Pro"/>
            </a:endParaRPr>
          </a:p>
        </p:txBody>
      </p:sp>
      <p:grpSp>
        <p:nvGrpSpPr>
          <p:cNvPr id="679" name="Rectangle: Rounded Corners 100"/>
          <p:cNvGrpSpPr/>
          <p:nvPr/>
        </p:nvGrpSpPr>
        <p:grpSpPr>
          <a:xfrm>
            <a:off x="9478800" y="4425840"/>
            <a:ext cx="2103480" cy="255600"/>
            <a:chOff x="9478800" y="4425840"/>
            <a:chExt cx="2103480" cy="255600"/>
          </a:xfrm>
        </p:grpSpPr>
        <p:pic>
          <p:nvPicPr>
            <p:cNvPr id="680" name="Rectangle: Rounded Corners 100" descr=""/>
            <p:cNvPicPr/>
            <p:nvPr/>
          </p:nvPicPr>
          <p:blipFill>
            <a:blip r:embed="rId14"/>
            <a:stretch/>
          </p:blipFill>
          <p:spPr>
            <a:xfrm>
              <a:off x="9478800" y="4425840"/>
              <a:ext cx="2103480" cy="255600"/>
            </a:xfrm>
            <a:prstGeom prst="rect">
              <a:avLst/>
            </a:prstGeom>
            <a:ln w="0">
              <a:noFill/>
            </a:ln>
          </p:spPr>
        </p:pic>
        <p:sp>
          <p:nvSpPr>
            <p:cNvPr id="681" name=""/>
            <p:cNvSpPr/>
            <p:nvPr/>
          </p:nvSpPr>
          <p:spPr>
            <a:xfrm>
              <a:off x="9491760" y="4440240"/>
              <a:ext cx="2079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682" name="Rectangle: Rounded Corners 101"/>
          <p:cNvSpPr/>
          <p:nvPr/>
        </p:nvSpPr>
        <p:spPr>
          <a:xfrm>
            <a:off x="9480600" y="4429080"/>
            <a:ext cx="1520640" cy="252360"/>
          </a:xfrm>
          <a:prstGeom prst="roundRect">
            <a:avLst>
              <a:gd name="adj" fmla="val 16667"/>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83" name="TextBox 102"/>
          <p:cNvSpPr/>
          <p:nvPr/>
        </p:nvSpPr>
        <p:spPr>
          <a:xfrm>
            <a:off x="947844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13c3f"/>
              </a:solidFill>
              <a:latin typeface="Source Sans Pro"/>
            </a:endParaRPr>
          </a:p>
        </p:txBody>
      </p:sp>
      <p:sp>
        <p:nvSpPr>
          <p:cNvPr id="684" name="Rectangle 103"/>
          <p:cNvSpPr/>
          <p:nvPr/>
        </p:nvSpPr>
        <p:spPr>
          <a:xfrm>
            <a:off x="9480600" y="47800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ultrices sem. </a:t>
            </a:r>
            <a:endParaRPr b="0" lang="en-US" sz="1200" spc="-1" strike="noStrike">
              <a:solidFill>
                <a:srgbClr val="313c3f"/>
              </a:solidFill>
              <a:latin typeface="Source Sans Pro"/>
            </a:endParaRPr>
          </a:p>
        </p:txBody>
      </p:sp>
      <p:sp>
        <p:nvSpPr>
          <p:cNvPr id="685" name="Oval 104"/>
          <p:cNvSpPr/>
          <p:nvPr/>
        </p:nvSpPr>
        <p:spPr>
          <a:xfrm>
            <a:off x="861696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686" name="TextBox 105"/>
          <p:cNvSpPr/>
          <p:nvPr/>
        </p:nvSpPr>
        <p:spPr>
          <a:xfrm>
            <a:off x="8609040" y="3092400"/>
            <a:ext cx="87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c3f"/>
                </a:solidFill>
                <a:latin typeface="Lato"/>
              </a:rPr>
              <a:t>VS</a:t>
            </a:r>
            <a:endParaRPr b="0" lang="en-US" sz="2400" spc="-1" strike="noStrike">
              <a:solidFill>
                <a:srgbClr val="313c3f"/>
              </a:solidFill>
              <a:latin typeface="Source Sans Pro"/>
            </a:endParaRPr>
          </a:p>
        </p:txBody>
      </p:sp>
    </p:spTree>
  </p:cSld>
  <p:transition spd="med">
    <p:fade/>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10">
                                  <p:stCondLst>
                                    <p:cond delay="0"/>
                                  </p:stCondLst>
                                  <p:childTnLst>
                                    <p:set>
                                      <p:cBhvr>
                                        <p:cTn id="360" dur="1" fill="hold">
                                          <p:stCondLst>
                                            <p:cond delay="0"/>
                                          </p:stCondLst>
                                        </p:cTn>
                                        <p:tgtEl>
                                          <p:spTgt spid="636"/>
                                        </p:tgtEl>
                                        <p:attrNameLst>
                                          <p:attrName>style.visibility</p:attrName>
                                        </p:attrNameLst>
                                      </p:cBhvr>
                                      <p:to>
                                        <p:strVal val="visible"/>
                                      </p:to>
                                    </p:set>
                                    <p:animEffect filter="fade" transition="in">
                                      <p:cBhvr additive="repl">
                                        <p:cTn id="361" dur="500"/>
                                        <p:tgtEl>
                                          <p:spTgt spid="636"/>
                                        </p:tgtEl>
                                      </p:cBhvr>
                                    </p:animEffect>
                                  </p:childTnLst>
                                </p:cTn>
                              </p:par>
                            </p:childTnLst>
                          </p:cTn>
                        </p:par>
                        <p:par>
                          <p:cTn id="362" nodeType="afterEffect" fill="hold">
                            <p:stCondLst>
                              <p:cond delay="500"/>
                            </p:stCondLst>
                            <p:childTnLst>
                              <p:par>
                                <p:cTn id="363" nodeType="afterEffect" fill="hold" presetClass="entr" presetID="10">
                                  <p:stCondLst>
                                    <p:cond delay="0"/>
                                  </p:stCondLst>
                                  <p:childTnLst>
                                    <p:set>
                                      <p:cBhvr>
                                        <p:cTn id="364" dur="1" fill="hold">
                                          <p:stCondLst>
                                            <p:cond delay="0"/>
                                          </p:stCondLst>
                                        </p:cTn>
                                        <p:tgtEl>
                                          <p:spTgt spid="637"/>
                                        </p:tgtEl>
                                        <p:attrNameLst>
                                          <p:attrName>style.visibility</p:attrName>
                                        </p:attrNameLst>
                                      </p:cBhvr>
                                      <p:to>
                                        <p:strVal val="visible"/>
                                      </p:to>
                                    </p:set>
                                    <p:animEffect filter="fade" transition="in">
                                      <p:cBhvr additive="repl">
                                        <p:cTn id="365" dur="500"/>
                                        <p:tgtEl>
                                          <p:spTgt spid="637"/>
                                        </p:tgtEl>
                                      </p:cBhvr>
                                    </p:animEffect>
                                  </p:childTnLst>
                                </p:cTn>
                              </p:par>
                              <p:par>
                                <p:cTn id="366" nodeType="withEffect" fill="hold" presetClass="entr" presetID="10">
                                  <p:stCondLst>
                                    <p:cond delay="0"/>
                                  </p:stCondLst>
                                  <p:childTnLst>
                                    <p:set>
                                      <p:cBhvr>
                                        <p:cTn id="367" dur="1" fill="hold">
                                          <p:stCondLst>
                                            <p:cond delay="0"/>
                                          </p:stCondLst>
                                        </p:cTn>
                                        <p:tgtEl>
                                          <p:spTgt spid="649"/>
                                        </p:tgtEl>
                                        <p:attrNameLst>
                                          <p:attrName>style.visibility</p:attrName>
                                        </p:attrNameLst>
                                      </p:cBhvr>
                                      <p:to>
                                        <p:strVal val="visible"/>
                                      </p:to>
                                    </p:set>
                                    <p:animEffect filter="fade" transition="in">
                                      <p:cBhvr additive="repl">
                                        <p:cTn id="368" dur="500"/>
                                        <p:tgtEl>
                                          <p:spTgt spid="649"/>
                                        </p:tgtEl>
                                      </p:cBhvr>
                                    </p:animEffect>
                                  </p:childTnLst>
                                </p:cTn>
                              </p:par>
                              <p:par>
                                <p:cTn id="369" nodeType="withEffect" fill="hold" presetClass="entr" presetID="10">
                                  <p:stCondLst>
                                    <p:cond delay="0"/>
                                  </p:stCondLst>
                                  <p:childTnLst>
                                    <p:set>
                                      <p:cBhvr>
                                        <p:cTn id="370" dur="1" fill="hold">
                                          <p:stCondLst>
                                            <p:cond delay="0"/>
                                          </p:stCondLst>
                                        </p:cTn>
                                        <p:tgtEl>
                                          <p:spTgt spid="650"/>
                                        </p:tgtEl>
                                        <p:attrNameLst>
                                          <p:attrName>style.visibility</p:attrName>
                                        </p:attrNameLst>
                                      </p:cBhvr>
                                      <p:to>
                                        <p:strVal val="visible"/>
                                      </p:to>
                                    </p:set>
                                    <p:animEffect filter="fade" transition="in">
                                      <p:cBhvr additive="repl">
                                        <p:cTn id="371" dur="500"/>
                                        <p:tgtEl>
                                          <p:spTgt spid="650"/>
                                        </p:tgtEl>
                                      </p:cBhvr>
                                    </p:animEffect>
                                  </p:childTnLst>
                                </p:cTn>
                              </p:par>
                              <p:par>
                                <p:cTn id="372" nodeType="withEffect" fill="hold" presetClass="entr" presetID="10">
                                  <p:stCondLst>
                                    <p:cond delay="0"/>
                                  </p:stCondLst>
                                  <p:childTnLst>
                                    <p:set>
                                      <p:cBhvr>
                                        <p:cTn id="373" dur="1" fill="hold">
                                          <p:stCondLst>
                                            <p:cond delay="0"/>
                                          </p:stCondLst>
                                        </p:cTn>
                                        <p:tgtEl>
                                          <p:spTgt spid="648"/>
                                        </p:tgtEl>
                                        <p:attrNameLst>
                                          <p:attrName>style.visibility</p:attrName>
                                        </p:attrNameLst>
                                      </p:cBhvr>
                                      <p:to>
                                        <p:strVal val="visible"/>
                                      </p:to>
                                    </p:set>
                                    <p:animEffect filter="fade" transition="in">
                                      <p:cBhvr additive="repl">
                                        <p:cTn id="374" dur="500"/>
                                        <p:tgtEl>
                                          <p:spTgt spid="648"/>
                                        </p:tgtEl>
                                      </p:cBhvr>
                                    </p:animEffect>
                                  </p:childTnLst>
                                </p:cTn>
                              </p:par>
                            </p:childTnLst>
                          </p:cTn>
                        </p:par>
                        <p:par>
                          <p:cTn id="375" nodeType="afterEffect" fill="hold">
                            <p:stCondLst>
                              <p:cond delay="1000"/>
                            </p:stCondLst>
                            <p:childTnLst>
                              <p:par>
                                <p:cTn id="376" nodeType="afterEffect" fill="hold" presetClass="entr" presetID="10">
                                  <p:stCondLst>
                                    <p:cond delay="0"/>
                                  </p:stCondLst>
                                  <p:childTnLst>
                                    <p:set>
                                      <p:cBhvr>
                                        <p:cTn id="377" dur="1" fill="hold">
                                          <p:stCondLst>
                                            <p:cond delay="0"/>
                                          </p:stCondLst>
                                        </p:cTn>
                                        <p:tgtEl>
                                          <p:spTgt spid="652"/>
                                        </p:tgtEl>
                                        <p:attrNameLst>
                                          <p:attrName>style.visibility</p:attrName>
                                        </p:attrNameLst>
                                      </p:cBhvr>
                                      <p:to>
                                        <p:strVal val="visible"/>
                                      </p:to>
                                    </p:set>
                                    <p:animEffect filter="fade" transition="in">
                                      <p:cBhvr additive="repl">
                                        <p:cTn id="378" dur="500"/>
                                        <p:tgtEl>
                                          <p:spTgt spid="652"/>
                                        </p:tgtEl>
                                      </p:cBhvr>
                                    </p:animEffect>
                                  </p:childTnLst>
                                </p:cTn>
                              </p:par>
                              <p:par>
                                <p:cTn id="379" nodeType="withEffect" fill="hold" presetClass="entr" presetID="10">
                                  <p:stCondLst>
                                    <p:cond delay="0"/>
                                  </p:stCondLst>
                                  <p:childTnLst>
                                    <p:set>
                                      <p:cBhvr>
                                        <p:cTn id="380" dur="1" fill="hold">
                                          <p:stCondLst>
                                            <p:cond delay="0"/>
                                          </p:stCondLst>
                                        </p:cTn>
                                        <p:tgtEl>
                                          <p:spTgt spid="656"/>
                                        </p:tgtEl>
                                        <p:attrNameLst>
                                          <p:attrName>style.visibility</p:attrName>
                                        </p:attrNameLst>
                                      </p:cBhvr>
                                      <p:to>
                                        <p:strVal val="visible"/>
                                      </p:to>
                                    </p:set>
                                    <p:animEffect filter="fade" transition="in">
                                      <p:cBhvr additive="repl">
                                        <p:cTn id="381" dur="500"/>
                                        <p:tgtEl>
                                          <p:spTgt spid="656"/>
                                        </p:tgtEl>
                                      </p:cBhvr>
                                    </p:animEffect>
                                  </p:childTnLst>
                                </p:cTn>
                              </p:par>
                              <p:par>
                                <p:cTn id="382" nodeType="withEffect" fill="hold" presetClass="entr" presetID="10">
                                  <p:stCondLst>
                                    <p:cond delay="0"/>
                                  </p:stCondLst>
                                  <p:childTnLst>
                                    <p:set>
                                      <p:cBhvr>
                                        <p:cTn id="383" dur="1" fill="hold">
                                          <p:stCondLst>
                                            <p:cond delay="0"/>
                                          </p:stCondLst>
                                        </p:cTn>
                                        <p:tgtEl>
                                          <p:spTgt spid="651"/>
                                        </p:tgtEl>
                                        <p:attrNameLst>
                                          <p:attrName>style.visibility</p:attrName>
                                        </p:attrNameLst>
                                      </p:cBhvr>
                                      <p:to>
                                        <p:strVal val="visible"/>
                                      </p:to>
                                    </p:set>
                                    <p:animEffect filter="fade" transition="in">
                                      <p:cBhvr additive="repl">
                                        <p:cTn id="384" dur="500"/>
                                        <p:tgtEl>
                                          <p:spTgt spid="651"/>
                                        </p:tgtEl>
                                      </p:cBhvr>
                                    </p:animEffect>
                                  </p:childTnLst>
                                </p:cTn>
                              </p:par>
                              <p:par>
                                <p:cTn id="385" nodeType="withEffect" fill="hold" presetClass="entr" presetID="10">
                                  <p:stCondLst>
                                    <p:cond delay="0"/>
                                  </p:stCondLst>
                                  <p:childTnLst>
                                    <p:set>
                                      <p:cBhvr>
                                        <p:cTn id="386" dur="1" fill="hold">
                                          <p:stCondLst>
                                            <p:cond delay="0"/>
                                          </p:stCondLst>
                                        </p:cTn>
                                        <p:tgtEl>
                                          <p:spTgt spid="663"/>
                                        </p:tgtEl>
                                        <p:attrNameLst>
                                          <p:attrName>style.visibility</p:attrName>
                                        </p:attrNameLst>
                                      </p:cBhvr>
                                      <p:to>
                                        <p:strVal val="visible"/>
                                      </p:to>
                                    </p:set>
                                    <p:animEffect filter="fade" transition="in">
                                      <p:cBhvr additive="repl">
                                        <p:cTn id="387" dur="500"/>
                                        <p:tgtEl>
                                          <p:spTgt spid="663"/>
                                        </p:tgtEl>
                                      </p:cBhvr>
                                    </p:animEffect>
                                  </p:childTnLst>
                                </p:cTn>
                              </p:par>
                              <p:par>
                                <p:cTn id="388" nodeType="withEffect" fill="hold" presetClass="entr" presetID="10">
                                  <p:stCondLst>
                                    <p:cond delay="0"/>
                                  </p:stCondLst>
                                  <p:childTnLst>
                                    <p:set>
                                      <p:cBhvr>
                                        <p:cTn id="389" dur="1" fill="hold">
                                          <p:stCondLst>
                                            <p:cond delay="0"/>
                                          </p:stCondLst>
                                        </p:cTn>
                                        <p:tgtEl>
                                          <p:spTgt spid="685"/>
                                        </p:tgtEl>
                                        <p:attrNameLst>
                                          <p:attrName>style.visibility</p:attrName>
                                        </p:attrNameLst>
                                      </p:cBhvr>
                                      <p:to>
                                        <p:strVal val="visible"/>
                                      </p:to>
                                    </p:set>
                                    <p:animEffect filter="fade" transition="in">
                                      <p:cBhvr additive="repl">
                                        <p:cTn id="390" dur="500"/>
                                        <p:tgtEl>
                                          <p:spTgt spid="685"/>
                                        </p:tgtEl>
                                      </p:cBhvr>
                                    </p:animEffect>
                                  </p:childTnLst>
                                </p:cTn>
                              </p:par>
                              <p:par>
                                <p:cTn id="391" nodeType="withEffect" fill="hold" presetClass="entr" presetID="10">
                                  <p:stCondLst>
                                    <p:cond delay="0"/>
                                  </p:stCondLst>
                                  <p:childTnLst>
                                    <p:set>
                                      <p:cBhvr>
                                        <p:cTn id="392" dur="1" fill="hold">
                                          <p:stCondLst>
                                            <p:cond delay="0"/>
                                          </p:stCondLst>
                                        </p:cTn>
                                        <p:tgtEl>
                                          <p:spTgt spid="686"/>
                                        </p:tgtEl>
                                        <p:attrNameLst>
                                          <p:attrName>style.visibility</p:attrName>
                                        </p:attrNameLst>
                                      </p:cBhvr>
                                      <p:to>
                                        <p:strVal val="visible"/>
                                      </p:to>
                                    </p:set>
                                    <p:animEffect filter="fade" transition="in">
                                      <p:cBhvr additive="repl">
                                        <p:cTn id="393" dur="500"/>
                                        <p:tgtEl>
                                          <p:spTgt spid="686"/>
                                        </p:tgtEl>
                                      </p:cBhvr>
                                    </p:animEffect>
                                  </p:childTnLst>
                                </p:cTn>
                              </p:par>
                            </p:childTnLst>
                          </p:cTn>
                        </p:par>
                        <p:par>
                          <p:cTn id="394" nodeType="afterEffect" fill="hold">
                            <p:stCondLst>
                              <p:cond delay="1500"/>
                            </p:stCondLst>
                            <p:childTnLst>
                              <p:par>
                                <p:cTn id="395" nodeType="afterEffect" fill="hold" presetClass="entr" presetID="10">
                                  <p:stCondLst>
                                    <p:cond delay="0"/>
                                  </p:stCondLst>
                                  <p:childTnLst>
                                    <p:set>
                                      <p:cBhvr>
                                        <p:cTn id="396" dur="1" fill="hold">
                                          <p:stCondLst>
                                            <p:cond delay="0"/>
                                          </p:stCondLst>
                                        </p:cTn>
                                        <p:tgtEl>
                                          <p:spTgt spid="641"/>
                                        </p:tgtEl>
                                        <p:attrNameLst>
                                          <p:attrName>style.visibility</p:attrName>
                                        </p:attrNameLst>
                                      </p:cBhvr>
                                      <p:to>
                                        <p:strVal val="visible"/>
                                      </p:to>
                                    </p:set>
                                    <p:animEffect filter="fade" transition="in">
                                      <p:cBhvr additive="repl">
                                        <p:cTn id="397" dur="500"/>
                                        <p:tgtEl>
                                          <p:spTgt spid="641"/>
                                        </p:tgtEl>
                                      </p:cBhvr>
                                    </p:animEffect>
                                  </p:childTnLst>
                                </p:cTn>
                              </p:par>
                              <p:par>
                                <p:cTn id="398" nodeType="withEffect" fill="hold" presetClass="entr" presetID="10">
                                  <p:stCondLst>
                                    <p:cond delay="0"/>
                                  </p:stCondLst>
                                  <p:childTnLst>
                                    <p:set>
                                      <p:cBhvr>
                                        <p:cTn id="399" dur="1" fill="hold">
                                          <p:stCondLst>
                                            <p:cond delay="0"/>
                                          </p:stCondLst>
                                        </p:cTn>
                                        <p:tgtEl>
                                          <p:spTgt spid="664"/>
                                        </p:tgtEl>
                                        <p:attrNameLst>
                                          <p:attrName>style.visibility</p:attrName>
                                        </p:attrNameLst>
                                      </p:cBhvr>
                                      <p:to>
                                        <p:strVal val="visible"/>
                                      </p:to>
                                    </p:set>
                                    <p:animEffect filter="fade" transition="in">
                                      <p:cBhvr additive="repl">
                                        <p:cTn id="400" dur="500"/>
                                        <p:tgtEl>
                                          <p:spTgt spid="664"/>
                                        </p:tgtEl>
                                      </p:cBhvr>
                                    </p:animEffect>
                                  </p:childTnLst>
                                </p:cTn>
                              </p:par>
                              <p:par>
                                <p:cTn id="401" nodeType="withEffect" fill="hold" presetClass="entr" presetID="10">
                                  <p:stCondLst>
                                    <p:cond delay="0"/>
                                  </p:stCondLst>
                                  <p:childTnLst>
                                    <p:set>
                                      <p:cBhvr>
                                        <p:cTn id="402" dur="1" fill="hold">
                                          <p:stCondLst>
                                            <p:cond delay="0"/>
                                          </p:stCondLst>
                                        </p:cTn>
                                        <p:tgtEl>
                                          <p:spTgt spid="665"/>
                                        </p:tgtEl>
                                        <p:attrNameLst>
                                          <p:attrName>style.visibility</p:attrName>
                                        </p:attrNameLst>
                                      </p:cBhvr>
                                      <p:to>
                                        <p:strVal val="visible"/>
                                      </p:to>
                                    </p:set>
                                    <p:animEffect filter="fade" transition="in">
                                      <p:cBhvr additive="repl">
                                        <p:cTn id="403" dur="500"/>
                                        <p:tgtEl>
                                          <p:spTgt spid="665"/>
                                        </p:tgtEl>
                                      </p:cBhvr>
                                    </p:animEffect>
                                  </p:childTnLst>
                                </p:cTn>
                              </p:par>
                              <p:par>
                                <p:cTn id="404" nodeType="withEffect" fill="hold" presetClass="entr" presetID="10">
                                  <p:stCondLst>
                                    <p:cond delay="0"/>
                                  </p:stCondLst>
                                  <p:childTnLst>
                                    <p:set>
                                      <p:cBhvr>
                                        <p:cTn id="405" dur="1" fill="hold">
                                          <p:stCondLst>
                                            <p:cond delay="0"/>
                                          </p:stCondLst>
                                        </p:cTn>
                                        <p:tgtEl>
                                          <p:spTgt spid="666"/>
                                        </p:tgtEl>
                                        <p:attrNameLst>
                                          <p:attrName>style.visibility</p:attrName>
                                        </p:attrNameLst>
                                      </p:cBhvr>
                                      <p:to>
                                        <p:strVal val="visible"/>
                                      </p:to>
                                    </p:set>
                                    <p:animEffect filter="fade" transition="in">
                                      <p:cBhvr additive="repl">
                                        <p:cTn id="406" dur="500"/>
                                        <p:tgtEl>
                                          <p:spTgt spid="666"/>
                                        </p:tgtEl>
                                      </p:cBhvr>
                                    </p:animEffect>
                                  </p:childTnLst>
                                </p:cTn>
                              </p:par>
                            </p:childTnLst>
                          </p:cTn>
                        </p:par>
                        <p:par>
                          <p:cTn id="407" nodeType="afterEffect" fill="hold">
                            <p:stCondLst>
                              <p:cond delay="2000"/>
                            </p:stCondLst>
                            <p:childTnLst>
                              <p:par>
                                <p:cTn id="408" nodeType="afterEffect" fill="hold" presetClass="entr" presetID="21" presetSubtype="1">
                                  <p:stCondLst>
                                    <p:cond delay="0"/>
                                  </p:stCondLst>
                                  <p:childTnLst>
                                    <p:set>
                                      <p:cBhvr>
                                        <p:cTn id="409" dur="1" fill="hold">
                                          <p:stCondLst>
                                            <p:cond delay="0"/>
                                          </p:stCondLst>
                                        </p:cTn>
                                        <p:tgtEl>
                                          <p:spTgt spid="639"/>
                                        </p:tgtEl>
                                        <p:attrNameLst>
                                          <p:attrName>style.visibility</p:attrName>
                                        </p:attrNameLst>
                                      </p:cBhvr>
                                      <p:to>
                                        <p:strVal val="visible"/>
                                      </p:to>
                                    </p:set>
                                    <p:animEffect filter="wheel(1)" transition="in">
                                      <p:cBhvr additive="repl">
                                        <p:cTn id="410" dur="1000"/>
                                        <p:tgtEl>
                                          <p:spTgt spid="639"/>
                                        </p:tgtEl>
                                      </p:cBhvr>
                                    </p:animEffect>
                                  </p:childTnLst>
                                </p:cTn>
                              </p:par>
                              <p:par>
                                <p:cTn id="411" nodeType="withEffect" fill="hold" presetClass="entr" presetID="21" presetSubtype="1">
                                  <p:stCondLst>
                                    <p:cond delay="0"/>
                                  </p:stCondLst>
                                  <p:childTnLst>
                                    <p:set>
                                      <p:cBhvr>
                                        <p:cTn id="412" dur="1" fill="hold">
                                          <p:stCondLst>
                                            <p:cond delay="0"/>
                                          </p:stCondLst>
                                        </p:cTn>
                                        <p:tgtEl>
                                          <p:spTgt spid="658"/>
                                        </p:tgtEl>
                                        <p:attrNameLst>
                                          <p:attrName>style.visibility</p:attrName>
                                        </p:attrNameLst>
                                      </p:cBhvr>
                                      <p:to>
                                        <p:strVal val="visible"/>
                                      </p:to>
                                    </p:set>
                                    <p:animEffect filter="wheel(1)" transition="in">
                                      <p:cBhvr additive="repl">
                                        <p:cTn id="413" dur="1000"/>
                                        <p:tgtEl>
                                          <p:spTgt spid="658"/>
                                        </p:tgtEl>
                                      </p:cBhvr>
                                    </p:animEffect>
                                  </p:childTnLst>
                                </p:cTn>
                              </p:par>
                              <p:par>
                                <p:cTn id="414" nodeType="withEffect" fill="hold" presetClass="entr" presetID="21" presetSubtype="1">
                                  <p:stCondLst>
                                    <p:cond delay="0"/>
                                  </p:stCondLst>
                                  <p:childTnLst>
                                    <p:set>
                                      <p:cBhvr>
                                        <p:cTn id="415" dur="1" fill="hold">
                                          <p:stCondLst>
                                            <p:cond delay="0"/>
                                          </p:stCondLst>
                                        </p:cTn>
                                        <p:tgtEl>
                                          <p:spTgt spid="660"/>
                                        </p:tgtEl>
                                        <p:attrNameLst>
                                          <p:attrName>style.visibility</p:attrName>
                                        </p:attrNameLst>
                                      </p:cBhvr>
                                      <p:to>
                                        <p:strVal val="visible"/>
                                      </p:to>
                                    </p:set>
                                    <p:animEffect filter="wheel(1)" transition="in">
                                      <p:cBhvr additive="repl">
                                        <p:cTn id="416" dur="1000"/>
                                        <p:tgtEl>
                                          <p:spTgt spid="660"/>
                                        </p:tgtEl>
                                      </p:cBhvr>
                                    </p:animEffect>
                                  </p:childTnLst>
                                </p:cTn>
                              </p:par>
                              <p:par>
                                <p:cTn id="417" nodeType="withEffect" fill="hold" presetClass="entr" presetID="21" presetSubtype="1">
                                  <p:stCondLst>
                                    <p:cond delay="0"/>
                                  </p:stCondLst>
                                  <p:childTnLst>
                                    <p:set>
                                      <p:cBhvr>
                                        <p:cTn id="418" dur="1" fill="hold">
                                          <p:stCondLst>
                                            <p:cond delay="0"/>
                                          </p:stCondLst>
                                        </p:cTn>
                                        <p:tgtEl>
                                          <p:spTgt spid="662"/>
                                        </p:tgtEl>
                                        <p:attrNameLst>
                                          <p:attrName>style.visibility</p:attrName>
                                        </p:attrNameLst>
                                      </p:cBhvr>
                                      <p:to>
                                        <p:strVal val="visible"/>
                                      </p:to>
                                    </p:set>
                                    <p:animEffect filter="wheel(1)" transition="in">
                                      <p:cBhvr additive="repl">
                                        <p:cTn id="419" dur="1000"/>
                                        <p:tgtEl>
                                          <p:spTgt spid="662"/>
                                        </p:tgtEl>
                                      </p:cBhvr>
                                    </p:animEffect>
                                  </p:childTnLst>
                                </p:cTn>
                              </p:par>
                            </p:childTnLst>
                          </p:cTn>
                        </p:par>
                        <p:par>
                          <p:cTn id="420" nodeType="afterEffect" fill="hold">
                            <p:stCondLst>
                              <p:cond delay="3000"/>
                            </p:stCondLst>
                            <p:childTnLst>
                              <p:par>
                                <p:cTn id="421" nodeType="afterEffect" fill="hold" presetClass="entr" presetID="10">
                                  <p:stCondLst>
                                    <p:cond delay="0"/>
                                  </p:stCondLst>
                                  <p:childTnLst>
                                    <p:set>
                                      <p:cBhvr>
                                        <p:cTn id="422" dur="1" fill="hold">
                                          <p:stCondLst>
                                            <p:cond delay="0"/>
                                          </p:stCondLst>
                                        </p:cTn>
                                        <p:tgtEl>
                                          <p:spTgt spid="655"/>
                                        </p:tgtEl>
                                        <p:attrNameLst>
                                          <p:attrName>style.visibility</p:attrName>
                                        </p:attrNameLst>
                                      </p:cBhvr>
                                      <p:to>
                                        <p:strVal val="visible"/>
                                      </p:to>
                                    </p:set>
                                    <p:animEffect filter="fade" transition="in">
                                      <p:cBhvr additive="repl">
                                        <p:cTn id="423" dur="500"/>
                                        <p:tgtEl>
                                          <p:spTgt spid="655"/>
                                        </p:tgtEl>
                                      </p:cBhvr>
                                    </p:animEffect>
                                  </p:childTnLst>
                                </p:cTn>
                              </p:par>
                              <p:par>
                                <p:cTn id="424" nodeType="withEffect" fill="hold" presetClass="entr" presetID="10">
                                  <p:stCondLst>
                                    <p:cond delay="0"/>
                                  </p:stCondLst>
                                  <p:childTnLst>
                                    <p:set>
                                      <p:cBhvr>
                                        <p:cTn id="425" dur="1" fill="hold">
                                          <p:stCondLst>
                                            <p:cond delay="0"/>
                                          </p:stCondLst>
                                        </p:cTn>
                                        <p:tgtEl>
                                          <p:spTgt spid="640"/>
                                        </p:tgtEl>
                                        <p:attrNameLst>
                                          <p:attrName>style.visibility</p:attrName>
                                        </p:attrNameLst>
                                      </p:cBhvr>
                                      <p:to>
                                        <p:strVal val="visible"/>
                                      </p:to>
                                    </p:set>
                                    <p:animEffect filter="fade" transition="in">
                                      <p:cBhvr additive="repl">
                                        <p:cTn id="426" dur="500"/>
                                        <p:tgtEl>
                                          <p:spTgt spid="640"/>
                                        </p:tgtEl>
                                      </p:cBhvr>
                                    </p:animEffect>
                                  </p:childTnLst>
                                </p:cTn>
                              </p:par>
                              <p:par>
                                <p:cTn id="427" nodeType="withEffect" fill="hold" presetClass="entr" presetID="10">
                                  <p:stCondLst>
                                    <p:cond delay="0"/>
                                  </p:stCondLst>
                                  <p:childTnLst>
                                    <p:set>
                                      <p:cBhvr>
                                        <p:cTn id="428" dur="1" fill="hold">
                                          <p:stCondLst>
                                            <p:cond delay="0"/>
                                          </p:stCondLst>
                                        </p:cTn>
                                        <p:tgtEl>
                                          <p:spTgt spid="653"/>
                                        </p:tgtEl>
                                        <p:attrNameLst>
                                          <p:attrName>style.visibility</p:attrName>
                                        </p:attrNameLst>
                                      </p:cBhvr>
                                      <p:to>
                                        <p:strVal val="visible"/>
                                      </p:to>
                                    </p:set>
                                    <p:animEffect filter="fade" transition="in">
                                      <p:cBhvr additive="repl">
                                        <p:cTn id="429" dur="500"/>
                                        <p:tgtEl>
                                          <p:spTgt spid="653"/>
                                        </p:tgtEl>
                                      </p:cBhvr>
                                    </p:animEffect>
                                  </p:childTnLst>
                                </p:cTn>
                              </p:par>
                              <p:par>
                                <p:cTn id="430" nodeType="withEffect" fill="hold" presetClass="entr" presetID="10">
                                  <p:stCondLst>
                                    <p:cond delay="0"/>
                                  </p:stCondLst>
                                  <p:childTnLst>
                                    <p:set>
                                      <p:cBhvr>
                                        <p:cTn id="431" dur="1" fill="hold">
                                          <p:stCondLst>
                                            <p:cond delay="0"/>
                                          </p:stCondLst>
                                        </p:cTn>
                                        <p:tgtEl>
                                          <p:spTgt spid="654"/>
                                        </p:tgtEl>
                                        <p:attrNameLst>
                                          <p:attrName>style.visibility</p:attrName>
                                        </p:attrNameLst>
                                      </p:cBhvr>
                                      <p:to>
                                        <p:strVal val="visible"/>
                                      </p:to>
                                    </p:set>
                                    <p:animEffect filter="fade" transition="in">
                                      <p:cBhvr additive="repl">
                                        <p:cTn id="432" dur="500"/>
                                        <p:tgtEl>
                                          <p:spTgt spid="654"/>
                                        </p:tgtEl>
                                      </p:cBhvr>
                                    </p:animEffect>
                                  </p:childTnLst>
                                </p:cTn>
                              </p:par>
                            </p:childTnLst>
                          </p:cTn>
                        </p:par>
                        <p:par>
                          <p:cTn id="433" nodeType="afterEffect" fill="hold">
                            <p:stCondLst>
                              <p:cond delay="3500"/>
                            </p:stCondLst>
                            <p:childTnLst>
                              <p:par>
                                <p:cTn id="434" nodeType="afterEffect" fill="hold" presetClass="entr" presetID="10">
                                  <p:stCondLst>
                                    <p:cond delay="0"/>
                                  </p:stCondLst>
                                  <p:childTnLst>
                                    <p:set>
                                      <p:cBhvr>
                                        <p:cTn id="435" dur="1" fill="hold">
                                          <p:stCondLst>
                                            <p:cond delay="0"/>
                                          </p:stCondLst>
                                        </p:cTn>
                                        <p:tgtEl>
                                          <p:spTgt spid="642"/>
                                        </p:tgtEl>
                                        <p:attrNameLst>
                                          <p:attrName>style.visibility</p:attrName>
                                        </p:attrNameLst>
                                      </p:cBhvr>
                                      <p:to>
                                        <p:strVal val="visible"/>
                                      </p:to>
                                    </p:set>
                                    <p:animEffect filter="fade" transition="in">
                                      <p:cBhvr additive="repl">
                                        <p:cTn id="436" dur="500"/>
                                        <p:tgtEl>
                                          <p:spTgt spid="642"/>
                                        </p:tgtEl>
                                      </p:cBhvr>
                                    </p:animEffect>
                                  </p:childTnLst>
                                </p:cTn>
                              </p:par>
                              <p:par>
                                <p:cTn id="437" nodeType="withEffect" fill="hold" presetClass="entr" presetID="10">
                                  <p:stCondLst>
                                    <p:cond delay="0"/>
                                  </p:stCondLst>
                                  <p:childTnLst>
                                    <p:set>
                                      <p:cBhvr>
                                        <p:cTn id="438" dur="1" fill="hold">
                                          <p:stCondLst>
                                            <p:cond delay="0"/>
                                          </p:stCondLst>
                                        </p:cTn>
                                        <p:tgtEl>
                                          <p:spTgt spid="667"/>
                                        </p:tgtEl>
                                        <p:attrNameLst>
                                          <p:attrName>style.visibility</p:attrName>
                                        </p:attrNameLst>
                                      </p:cBhvr>
                                      <p:to>
                                        <p:strVal val="visible"/>
                                      </p:to>
                                    </p:set>
                                    <p:animEffect filter="fade" transition="in">
                                      <p:cBhvr additive="repl">
                                        <p:cTn id="439" dur="500"/>
                                        <p:tgtEl>
                                          <p:spTgt spid="667"/>
                                        </p:tgtEl>
                                      </p:cBhvr>
                                    </p:animEffect>
                                  </p:childTnLst>
                                </p:cTn>
                              </p:par>
                              <p:par>
                                <p:cTn id="440" nodeType="withEffect" fill="hold" presetClass="entr" presetID="10">
                                  <p:stCondLst>
                                    <p:cond delay="0"/>
                                  </p:stCondLst>
                                  <p:childTnLst>
                                    <p:set>
                                      <p:cBhvr>
                                        <p:cTn id="441" dur="1" fill="hold">
                                          <p:stCondLst>
                                            <p:cond delay="0"/>
                                          </p:stCondLst>
                                        </p:cTn>
                                        <p:tgtEl>
                                          <p:spTgt spid="673"/>
                                        </p:tgtEl>
                                        <p:attrNameLst>
                                          <p:attrName>style.visibility</p:attrName>
                                        </p:attrNameLst>
                                      </p:cBhvr>
                                      <p:to>
                                        <p:strVal val="visible"/>
                                      </p:to>
                                    </p:set>
                                    <p:animEffect filter="fade" transition="in">
                                      <p:cBhvr additive="repl">
                                        <p:cTn id="442" dur="500"/>
                                        <p:tgtEl>
                                          <p:spTgt spid="673"/>
                                        </p:tgtEl>
                                      </p:cBhvr>
                                    </p:animEffect>
                                  </p:childTnLst>
                                </p:cTn>
                              </p:par>
                              <p:par>
                                <p:cTn id="443" nodeType="withEffect" fill="hold" presetClass="entr" presetID="10">
                                  <p:stCondLst>
                                    <p:cond delay="0"/>
                                  </p:stCondLst>
                                  <p:childTnLst>
                                    <p:set>
                                      <p:cBhvr>
                                        <p:cTn id="444" dur="1" fill="hold">
                                          <p:stCondLst>
                                            <p:cond delay="0"/>
                                          </p:stCondLst>
                                        </p:cTn>
                                        <p:tgtEl>
                                          <p:spTgt spid="679"/>
                                        </p:tgtEl>
                                        <p:attrNameLst>
                                          <p:attrName>style.visibility</p:attrName>
                                        </p:attrNameLst>
                                      </p:cBhvr>
                                      <p:to>
                                        <p:strVal val="visible"/>
                                      </p:to>
                                    </p:set>
                                    <p:animEffect filter="fade" transition="in">
                                      <p:cBhvr additive="repl">
                                        <p:cTn id="445" dur="500"/>
                                        <p:tgtEl>
                                          <p:spTgt spid="679"/>
                                        </p:tgtEl>
                                      </p:cBhvr>
                                    </p:animEffect>
                                  </p:childTnLst>
                                </p:cTn>
                              </p:par>
                            </p:childTnLst>
                          </p:cTn>
                        </p:par>
                        <p:par>
                          <p:cTn id="446" nodeType="afterEffect" fill="hold">
                            <p:stCondLst>
                              <p:cond delay="4000"/>
                            </p:stCondLst>
                            <p:childTnLst>
                              <p:par>
                                <p:cTn id="447" nodeType="afterEffect" fill="hold" presetClass="entr" presetID="22" presetSubtype="8">
                                  <p:stCondLst>
                                    <p:cond delay="0"/>
                                  </p:stCondLst>
                                  <p:childTnLst>
                                    <p:set>
                                      <p:cBhvr>
                                        <p:cTn id="448" dur="1" fill="hold">
                                          <p:stCondLst>
                                            <p:cond delay="0"/>
                                          </p:stCondLst>
                                        </p:cTn>
                                        <p:tgtEl>
                                          <p:spTgt spid="645"/>
                                        </p:tgtEl>
                                        <p:attrNameLst>
                                          <p:attrName>style.visibility</p:attrName>
                                        </p:attrNameLst>
                                      </p:cBhvr>
                                      <p:to>
                                        <p:strVal val="visible"/>
                                      </p:to>
                                    </p:set>
                                    <p:animEffect filter="wipe(left)" transition="in">
                                      <p:cBhvr additive="repl">
                                        <p:cTn id="449" dur="500"/>
                                        <p:tgtEl>
                                          <p:spTgt spid="645"/>
                                        </p:tgtEl>
                                      </p:cBhvr>
                                    </p:animEffect>
                                  </p:childTnLst>
                                </p:cTn>
                              </p:par>
                              <p:par>
                                <p:cTn id="450" nodeType="withEffect" fill="hold" presetClass="entr" presetID="22" presetSubtype="8">
                                  <p:stCondLst>
                                    <p:cond delay="0"/>
                                  </p:stCondLst>
                                  <p:childTnLst>
                                    <p:set>
                                      <p:cBhvr>
                                        <p:cTn id="451" dur="1" fill="hold">
                                          <p:stCondLst>
                                            <p:cond delay="0"/>
                                          </p:stCondLst>
                                        </p:cTn>
                                        <p:tgtEl>
                                          <p:spTgt spid="670"/>
                                        </p:tgtEl>
                                        <p:attrNameLst>
                                          <p:attrName>style.visibility</p:attrName>
                                        </p:attrNameLst>
                                      </p:cBhvr>
                                      <p:to>
                                        <p:strVal val="visible"/>
                                      </p:to>
                                    </p:set>
                                    <p:animEffect filter="wipe(left)" transition="in">
                                      <p:cBhvr additive="repl">
                                        <p:cTn id="452" dur="500"/>
                                        <p:tgtEl>
                                          <p:spTgt spid="670"/>
                                        </p:tgtEl>
                                      </p:cBhvr>
                                    </p:animEffect>
                                  </p:childTnLst>
                                </p:cTn>
                              </p:par>
                              <p:par>
                                <p:cTn id="453" nodeType="withEffect" fill="hold" presetClass="entr" presetID="22" presetSubtype="8">
                                  <p:stCondLst>
                                    <p:cond delay="0"/>
                                  </p:stCondLst>
                                  <p:childTnLst>
                                    <p:set>
                                      <p:cBhvr>
                                        <p:cTn id="454" dur="1" fill="hold">
                                          <p:stCondLst>
                                            <p:cond delay="0"/>
                                          </p:stCondLst>
                                        </p:cTn>
                                        <p:tgtEl>
                                          <p:spTgt spid="676"/>
                                        </p:tgtEl>
                                        <p:attrNameLst>
                                          <p:attrName>style.visibility</p:attrName>
                                        </p:attrNameLst>
                                      </p:cBhvr>
                                      <p:to>
                                        <p:strVal val="visible"/>
                                      </p:to>
                                    </p:set>
                                    <p:animEffect filter="wipe(left)" transition="in">
                                      <p:cBhvr additive="repl">
                                        <p:cTn id="455" dur="500"/>
                                        <p:tgtEl>
                                          <p:spTgt spid="676"/>
                                        </p:tgtEl>
                                      </p:cBhvr>
                                    </p:animEffect>
                                  </p:childTnLst>
                                </p:cTn>
                              </p:par>
                              <p:par>
                                <p:cTn id="456" nodeType="withEffect" fill="hold" presetClass="entr" presetID="22" presetSubtype="8">
                                  <p:stCondLst>
                                    <p:cond delay="0"/>
                                  </p:stCondLst>
                                  <p:childTnLst>
                                    <p:set>
                                      <p:cBhvr>
                                        <p:cTn id="457" dur="1" fill="hold">
                                          <p:stCondLst>
                                            <p:cond delay="0"/>
                                          </p:stCondLst>
                                        </p:cTn>
                                        <p:tgtEl>
                                          <p:spTgt spid="682"/>
                                        </p:tgtEl>
                                        <p:attrNameLst>
                                          <p:attrName>style.visibility</p:attrName>
                                        </p:attrNameLst>
                                      </p:cBhvr>
                                      <p:to>
                                        <p:strVal val="visible"/>
                                      </p:to>
                                    </p:set>
                                    <p:animEffect filter="wipe(left)" transition="in">
                                      <p:cBhvr additive="repl">
                                        <p:cTn id="458" dur="500"/>
                                        <p:tgtEl>
                                          <p:spTgt spid="682"/>
                                        </p:tgtEl>
                                      </p:cBhvr>
                                    </p:animEffect>
                                  </p:childTnLst>
                                </p:cTn>
                              </p:par>
                            </p:childTnLst>
                          </p:cTn>
                        </p:par>
                        <p:par>
                          <p:cTn id="459" nodeType="afterEffect" fill="hold">
                            <p:stCondLst>
                              <p:cond delay="4500"/>
                            </p:stCondLst>
                            <p:childTnLst>
                              <p:par>
                                <p:cTn id="460" nodeType="afterEffect" fill="hold" presetClass="entr" presetID="10">
                                  <p:stCondLst>
                                    <p:cond delay="0"/>
                                  </p:stCondLst>
                                  <p:childTnLst>
                                    <p:set>
                                      <p:cBhvr>
                                        <p:cTn id="461" dur="1" fill="hold">
                                          <p:stCondLst>
                                            <p:cond delay="0"/>
                                          </p:stCondLst>
                                        </p:cTn>
                                        <p:tgtEl>
                                          <p:spTgt spid="646"/>
                                        </p:tgtEl>
                                        <p:attrNameLst>
                                          <p:attrName>style.visibility</p:attrName>
                                        </p:attrNameLst>
                                      </p:cBhvr>
                                      <p:to>
                                        <p:strVal val="visible"/>
                                      </p:to>
                                    </p:set>
                                    <p:animEffect filter="fade" transition="in">
                                      <p:cBhvr additive="repl">
                                        <p:cTn id="462" dur="500"/>
                                        <p:tgtEl>
                                          <p:spTgt spid="646"/>
                                        </p:tgtEl>
                                      </p:cBhvr>
                                    </p:animEffect>
                                  </p:childTnLst>
                                </p:cTn>
                              </p:par>
                              <p:par>
                                <p:cTn id="463" nodeType="withEffect" fill="hold" presetClass="entr" presetID="10">
                                  <p:stCondLst>
                                    <p:cond delay="0"/>
                                  </p:stCondLst>
                                  <p:childTnLst>
                                    <p:set>
                                      <p:cBhvr>
                                        <p:cTn id="464" dur="1" fill="hold">
                                          <p:stCondLst>
                                            <p:cond delay="0"/>
                                          </p:stCondLst>
                                        </p:cTn>
                                        <p:tgtEl>
                                          <p:spTgt spid="671"/>
                                        </p:tgtEl>
                                        <p:attrNameLst>
                                          <p:attrName>style.visibility</p:attrName>
                                        </p:attrNameLst>
                                      </p:cBhvr>
                                      <p:to>
                                        <p:strVal val="visible"/>
                                      </p:to>
                                    </p:set>
                                    <p:animEffect filter="fade" transition="in">
                                      <p:cBhvr additive="repl">
                                        <p:cTn id="465" dur="500"/>
                                        <p:tgtEl>
                                          <p:spTgt spid="671"/>
                                        </p:tgtEl>
                                      </p:cBhvr>
                                    </p:animEffect>
                                  </p:childTnLst>
                                </p:cTn>
                              </p:par>
                              <p:par>
                                <p:cTn id="466" nodeType="withEffect" fill="hold" presetClass="entr" presetID="10">
                                  <p:stCondLst>
                                    <p:cond delay="0"/>
                                  </p:stCondLst>
                                  <p:childTnLst>
                                    <p:set>
                                      <p:cBhvr>
                                        <p:cTn id="467" dur="1" fill="hold">
                                          <p:stCondLst>
                                            <p:cond delay="0"/>
                                          </p:stCondLst>
                                        </p:cTn>
                                        <p:tgtEl>
                                          <p:spTgt spid="677"/>
                                        </p:tgtEl>
                                        <p:attrNameLst>
                                          <p:attrName>style.visibility</p:attrName>
                                        </p:attrNameLst>
                                      </p:cBhvr>
                                      <p:to>
                                        <p:strVal val="visible"/>
                                      </p:to>
                                    </p:set>
                                    <p:animEffect filter="fade" transition="in">
                                      <p:cBhvr additive="repl">
                                        <p:cTn id="468" dur="500"/>
                                        <p:tgtEl>
                                          <p:spTgt spid="677"/>
                                        </p:tgtEl>
                                      </p:cBhvr>
                                    </p:animEffect>
                                  </p:childTnLst>
                                </p:cTn>
                              </p:par>
                              <p:par>
                                <p:cTn id="469" nodeType="withEffect" fill="hold" presetClass="entr" presetID="10">
                                  <p:stCondLst>
                                    <p:cond delay="0"/>
                                  </p:stCondLst>
                                  <p:childTnLst>
                                    <p:set>
                                      <p:cBhvr>
                                        <p:cTn id="470" dur="1" fill="hold">
                                          <p:stCondLst>
                                            <p:cond delay="0"/>
                                          </p:stCondLst>
                                        </p:cTn>
                                        <p:tgtEl>
                                          <p:spTgt spid="683"/>
                                        </p:tgtEl>
                                        <p:attrNameLst>
                                          <p:attrName>style.visibility</p:attrName>
                                        </p:attrNameLst>
                                      </p:cBhvr>
                                      <p:to>
                                        <p:strVal val="visible"/>
                                      </p:to>
                                    </p:set>
                                    <p:animEffect filter="fade" transition="in">
                                      <p:cBhvr additive="repl">
                                        <p:cTn id="471" dur="500"/>
                                        <p:tgtEl>
                                          <p:spTgt spid="683"/>
                                        </p:tgtEl>
                                      </p:cBhvr>
                                    </p:animEffect>
                                  </p:childTnLst>
                                </p:cTn>
                              </p:par>
                            </p:childTnLst>
                          </p:cTn>
                        </p:par>
                        <p:par>
                          <p:cTn id="472" nodeType="afterEffect" fill="hold">
                            <p:stCondLst>
                              <p:cond delay="5000"/>
                            </p:stCondLst>
                            <p:childTnLst>
                              <p:par>
                                <p:cTn id="473" nodeType="afterEffect" fill="hold" presetClass="entr" presetID="10">
                                  <p:stCondLst>
                                    <p:cond delay="0"/>
                                  </p:stCondLst>
                                  <p:childTnLst>
                                    <p:set>
                                      <p:cBhvr>
                                        <p:cTn id="474" dur="1" fill="hold">
                                          <p:stCondLst>
                                            <p:cond delay="0"/>
                                          </p:stCondLst>
                                        </p:cTn>
                                        <p:tgtEl>
                                          <p:spTgt spid="647"/>
                                        </p:tgtEl>
                                        <p:attrNameLst>
                                          <p:attrName>style.visibility</p:attrName>
                                        </p:attrNameLst>
                                      </p:cBhvr>
                                      <p:to>
                                        <p:strVal val="visible"/>
                                      </p:to>
                                    </p:set>
                                    <p:animEffect filter="fade" transition="in">
                                      <p:cBhvr additive="repl">
                                        <p:cTn id="475" dur="500"/>
                                        <p:tgtEl>
                                          <p:spTgt spid="647"/>
                                        </p:tgtEl>
                                      </p:cBhvr>
                                    </p:animEffect>
                                  </p:childTnLst>
                                </p:cTn>
                              </p:par>
                              <p:par>
                                <p:cTn id="476" nodeType="withEffect" fill="hold" presetClass="entr" presetID="10">
                                  <p:stCondLst>
                                    <p:cond delay="0"/>
                                  </p:stCondLst>
                                  <p:childTnLst>
                                    <p:set>
                                      <p:cBhvr>
                                        <p:cTn id="477" dur="1" fill="hold">
                                          <p:stCondLst>
                                            <p:cond delay="0"/>
                                          </p:stCondLst>
                                        </p:cTn>
                                        <p:tgtEl>
                                          <p:spTgt spid="672"/>
                                        </p:tgtEl>
                                        <p:attrNameLst>
                                          <p:attrName>style.visibility</p:attrName>
                                        </p:attrNameLst>
                                      </p:cBhvr>
                                      <p:to>
                                        <p:strVal val="visible"/>
                                      </p:to>
                                    </p:set>
                                    <p:animEffect filter="fade" transition="in">
                                      <p:cBhvr additive="repl">
                                        <p:cTn id="478" dur="500"/>
                                        <p:tgtEl>
                                          <p:spTgt spid="672"/>
                                        </p:tgtEl>
                                      </p:cBhvr>
                                    </p:animEffect>
                                  </p:childTnLst>
                                </p:cTn>
                              </p:par>
                              <p:par>
                                <p:cTn id="479" nodeType="withEffect" fill="hold" presetClass="entr" presetID="10">
                                  <p:stCondLst>
                                    <p:cond delay="0"/>
                                  </p:stCondLst>
                                  <p:childTnLst>
                                    <p:set>
                                      <p:cBhvr>
                                        <p:cTn id="480" dur="1" fill="hold">
                                          <p:stCondLst>
                                            <p:cond delay="0"/>
                                          </p:stCondLst>
                                        </p:cTn>
                                        <p:tgtEl>
                                          <p:spTgt spid="678"/>
                                        </p:tgtEl>
                                        <p:attrNameLst>
                                          <p:attrName>style.visibility</p:attrName>
                                        </p:attrNameLst>
                                      </p:cBhvr>
                                      <p:to>
                                        <p:strVal val="visible"/>
                                      </p:to>
                                    </p:set>
                                    <p:animEffect filter="fade" transition="in">
                                      <p:cBhvr additive="repl">
                                        <p:cTn id="481" dur="500"/>
                                        <p:tgtEl>
                                          <p:spTgt spid="678"/>
                                        </p:tgtEl>
                                      </p:cBhvr>
                                    </p:animEffect>
                                  </p:childTnLst>
                                </p:cTn>
                              </p:par>
                              <p:par>
                                <p:cTn id="482" nodeType="withEffect" fill="hold" presetClass="entr" presetID="10">
                                  <p:stCondLst>
                                    <p:cond delay="0"/>
                                  </p:stCondLst>
                                  <p:childTnLst>
                                    <p:set>
                                      <p:cBhvr>
                                        <p:cTn id="483" dur="1" fill="hold">
                                          <p:stCondLst>
                                            <p:cond delay="0"/>
                                          </p:stCondLst>
                                        </p:cTn>
                                        <p:tgtEl>
                                          <p:spTgt spid="684"/>
                                        </p:tgtEl>
                                        <p:attrNameLst>
                                          <p:attrName>style.visibility</p:attrName>
                                        </p:attrNameLst>
                                      </p:cBhvr>
                                      <p:to>
                                        <p:strVal val="visible"/>
                                      </p:to>
                                    </p:set>
                                    <p:animEffect filter="fade" transition="in">
                                      <p:cBhvr additive="repl">
                                        <p:cTn id="48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aphicFrame>
        <p:nvGraphicFramePr>
          <p:cNvPr id="688" name="Chart 128"/>
          <p:cNvGraphicFramePr/>
          <p:nvPr/>
        </p:nvGraphicFramePr>
        <p:xfrm>
          <a:off x="885960" y="2046240"/>
          <a:ext cx="2757240" cy="2627280"/>
        </p:xfrm>
        <a:graphic>
          <a:graphicData uri="http://schemas.openxmlformats.org/presentationml/2006/ole">
            <p:oleObj progId="Excel.Sheet.12" r:id="rId1" spid="">
              <p:embed/>
              <p:pic>
                <p:nvPicPr>
                  <p:cNvPr id="689" name="Chart 128" descr=""/>
                  <p:cNvPicPr/>
                  <p:nvPr/>
                </p:nvPicPr>
                <p:blipFill>
                  <a:blip r:embed="rId2"/>
                  <a:stretch/>
                </p:blipFill>
                <p:spPr>
                  <a:xfrm>
                    <a:off x="885960" y="2046240"/>
                    <a:ext cx="2757240" cy="2627280"/>
                  </a:xfrm>
                  <a:prstGeom prst="rect">
                    <a:avLst/>
                  </a:prstGeom>
                  <a:ln w="0">
                    <a:noFill/>
                  </a:ln>
                </p:spPr>
              </p:pic>
            </p:oleObj>
          </a:graphicData>
        </a:graphic>
      </p:graphicFrame>
      <p:graphicFrame>
        <p:nvGraphicFramePr>
          <p:cNvPr id="690" name="Chart 129"/>
          <p:cNvGraphicFramePr/>
          <p:nvPr/>
        </p:nvGraphicFramePr>
        <p:xfrm>
          <a:off x="1246320" y="2389320"/>
          <a:ext cx="2036520" cy="1941480"/>
        </p:xfrm>
        <a:graphic>
          <a:graphicData uri="http://schemas.openxmlformats.org/presentationml/2006/ole">
            <p:oleObj progId="Excel.Sheet.12" r:id="rId3" spid="">
              <p:embed/>
              <p:pic>
                <p:nvPicPr>
                  <p:cNvPr id="691" name="Chart 129" descr=""/>
                  <p:cNvPicPr/>
                  <p:nvPr/>
                </p:nvPicPr>
                <p:blipFill>
                  <a:blip r:embed="rId4"/>
                  <a:stretch/>
                </p:blipFill>
                <p:spPr>
                  <a:xfrm>
                    <a:off x="1246320" y="2389320"/>
                    <a:ext cx="2036520" cy="1941480"/>
                  </a:xfrm>
                  <a:prstGeom prst="rect">
                    <a:avLst/>
                  </a:prstGeom>
                  <a:ln w="0">
                    <a:noFill/>
                  </a:ln>
                </p:spPr>
              </p:pic>
            </p:oleObj>
          </a:graphicData>
        </a:graphic>
      </p:graphicFrame>
      <p:sp>
        <p:nvSpPr>
          <p:cNvPr id="692" name="Straight Connector 130"/>
          <p:cNvSpPr/>
          <p:nvPr/>
        </p:nvSpPr>
        <p:spPr>
          <a:xfrm>
            <a:off x="419112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693" name="Straight Connector 131"/>
          <p:cNvSpPr/>
          <p:nvPr/>
        </p:nvSpPr>
        <p:spPr>
          <a:xfrm>
            <a:off x="794376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694" name="TextBox 132"/>
          <p:cNvSpPr/>
          <p:nvPr/>
        </p:nvSpPr>
        <p:spPr>
          <a:xfrm>
            <a:off x="1155600" y="1641600"/>
            <a:ext cx="221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Brand One</a:t>
            </a:r>
            <a:endParaRPr b="0" lang="en-US" sz="2000" spc="-1" strike="noStrike">
              <a:solidFill>
                <a:srgbClr val="313c3f"/>
              </a:solidFill>
              <a:latin typeface="Source Sans Pro"/>
            </a:endParaRPr>
          </a:p>
        </p:txBody>
      </p:sp>
      <p:sp>
        <p:nvSpPr>
          <p:cNvPr id="695" name="TextBox 133"/>
          <p:cNvSpPr/>
          <p:nvPr/>
        </p:nvSpPr>
        <p:spPr>
          <a:xfrm>
            <a:off x="4986360" y="1641600"/>
            <a:ext cx="221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Brand Two</a:t>
            </a:r>
            <a:endParaRPr b="0" lang="en-US" sz="2000" spc="-1" strike="noStrike">
              <a:solidFill>
                <a:srgbClr val="313c3f"/>
              </a:solidFill>
              <a:latin typeface="Source Sans Pro"/>
            </a:endParaRPr>
          </a:p>
        </p:txBody>
      </p:sp>
      <p:sp>
        <p:nvSpPr>
          <p:cNvPr id="696" name="TextBox 134"/>
          <p:cNvSpPr/>
          <p:nvPr/>
        </p:nvSpPr>
        <p:spPr>
          <a:xfrm>
            <a:off x="8817120" y="1641600"/>
            <a:ext cx="221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Brand Three</a:t>
            </a:r>
            <a:endParaRPr b="0" lang="en-US" sz="2000" spc="-1" strike="noStrike">
              <a:solidFill>
                <a:srgbClr val="313c3f"/>
              </a:solidFill>
              <a:latin typeface="Source Sans Pro"/>
            </a:endParaRPr>
          </a:p>
        </p:txBody>
      </p:sp>
      <p:sp>
        <p:nvSpPr>
          <p:cNvPr id="697" name="Freeform 60"/>
          <p:cNvSpPr/>
          <p:nvPr/>
        </p:nvSpPr>
        <p:spPr>
          <a:xfrm>
            <a:off x="2022480" y="3117960"/>
            <a:ext cx="482760" cy="4824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157d42"/>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graphicFrame>
        <p:nvGraphicFramePr>
          <p:cNvPr id="698" name="Chart 136"/>
          <p:cNvGraphicFramePr/>
          <p:nvPr/>
        </p:nvGraphicFramePr>
        <p:xfrm>
          <a:off x="4716360" y="2046240"/>
          <a:ext cx="2757600" cy="2627280"/>
        </p:xfrm>
        <a:graphic>
          <a:graphicData uri="http://schemas.openxmlformats.org/presentationml/2006/ole">
            <p:oleObj progId="Excel.Sheet.12" r:id="rId5" spid="">
              <p:embed/>
              <p:pic>
                <p:nvPicPr>
                  <p:cNvPr id="699" name="Chart 136" descr=""/>
                  <p:cNvPicPr/>
                  <p:nvPr/>
                </p:nvPicPr>
                <p:blipFill>
                  <a:blip r:embed="rId6"/>
                  <a:stretch/>
                </p:blipFill>
                <p:spPr>
                  <a:xfrm>
                    <a:off x="4716360" y="2046240"/>
                    <a:ext cx="2757600" cy="2627280"/>
                  </a:xfrm>
                  <a:prstGeom prst="rect">
                    <a:avLst/>
                  </a:prstGeom>
                  <a:ln w="0">
                    <a:noFill/>
                  </a:ln>
                </p:spPr>
              </p:pic>
            </p:oleObj>
          </a:graphicData>
        </a:graphic>
      </p:graphicFrame>
      <p:graphicFrame>
        <p:nvGraphicFramePr>
          <p:cNvPr id="700" name="Chart 137"/>
          <p:cNvGraphicFramePr/>
          <p:nvPr/>
        </p:nvGraphicFramePr>
        <p:xfrm>
          <a:off x="5076720" y="2389320"/>
          <a:ext cx="2036880" cy="1941480"/>
        </p:xfrm>
        <a:graphic>
          <a:graphicData uri="http://schemas.openxmlformats.org/presentationml/2006/ole">
            <p:oleObj progId="Excel.Sheet.12" r:id="rId7" spid="">
              <p:embed/>
              <p:pic>
                <p:nvPicPr>
                  <p:cNvPr id="701" name="Chart 137" descr=""/>
                  <p:cNvPicPr/>
                  <p:nvPr/>
                </p:nvPicPr>
                <p:blipFill>
                  <a:blip r:embed="rId8"/>
                  <a:stretch/>
                </p:blipFill>
                <p:spPr>
                  <a:xfrm>
                    <a:off x="5076720" y="2389320"/>
                    <a:ext cx="2036880" cy="1941480"/>
                  </a:xfrm>
                  <a:prstGeom prst="rect">
                    <a:avLst/>
                  </a:prstGeom>
                  <a:ln w="0">
                    <a:noFill/>
                  </a:ln>
                </p:spPr>
              </p:pic>
            </p:oleObj>
          </a:graphicData>
        </a:graphic>
      </p:graphicFrame>
      <p:graphicFrame>
        <p:nvGraphicFramePr>
          <p:cNvPr id="702" name="Chart 138"/>
          <p:cNvGraphicFramePr/>
          <p:nvPr/>
        </p:nvGraphicFramePr>
        <p:xfrm>
          <a:off x="8547120" y="2046240"/>
          <a:ext cx="2759040" cy="2627280"/>
        </p:xfrm>
        <a:graphic>
          <a:graphicData uri="http://schemas.openxmlformats.org/presentationml/2006/ole">
            <p:oleObj progId="Excel.Sheet.12" r:id="rId9" spid="">
              <p:embed/>
              <p:pic>
                <p:nvPicPr>
                  <p:cNvPr id="703" name="Chart 138" descr=""/>
                  <p:cNvPicPr/>
                  <p:nvPr/>
                </p:nvPicPr>
                <p:blipFill>
                  <a:blip r:embed="rId10"/>
                  <a:stretch/>
                </p:blipFill>
                <p:spPr>
                  <a:xfrm>
                    <a:off x="8547120" y="2046240"/>
                    <a:ext cx="2759040" cy="2627280"/>
                  </a:xfrm>
                  <a:prstGeom prst="rect">
                    <a:avLst/>
                  </a:prstGeom>
                  <a:ln w="0">
                    <a:noFill/>
                  </a:ln>
                </p:spPr>
              </p:pic>
            </p:oleObj>
          </a:graphicData>
        </a:graphic>
      </p:graphicFrame>
      <p:graphicFrame>
        <p:nvGraphicFramePr>
          <p:cNvPr id="704" name="Chart 139"/>
          <p:cNvGraphicFramePr/>
          <p:nvPr/>
        </p:nvGraphicFramePr>
        <p:xfrm>
          <a:off x="8908920" y="2389320"/>
          <a:ext cx="2035440" cy="1941480"/>
        </p:xfrm>
        <a:graphic>
          <a:graphicData uri="http://schemas.openxmlformats.org/presentationml/2006/ole">
            <p:oleObj progId="Excel.Sheet.12" r:id="rId11" spid="">
              <p:embed/>
              <p:pic>
                <p:nvPicPr>
                  <p:cNvPr id="705" name="Chart 139" descr=""/>
                  <p:cNvPicPr/>
                  <p:nvPr/>
                </p:nvPicPr>
                <p:blipFill>
                  <a:blip r:embed="rId12"/>
                  <a:stretch/>
                </p:blipFill>
                <p:spPr>
                  <a:xfrm>
                    <a:off x="8908920" y="2389320"/>
                    <a:ext cx="2035440" cy="1941480"/>
                  </a:xfrm>
                  <a:prstGeom prst="rect">
                    <a:avLst/>
                  </a:prstGeom>
                  <a:ln w="0">
                    <a:noFill/>
                  </a:ln>
                </p:spPr>
              </p:pic>
            </p:oleObj>
          </a:graphicData>
        </a:graphic>
      </p:graphicFrame>
      <p:pic>
        <p:nvPicPr>
          <p:cNvPr id="706" name="Group 140" descr=""/>
          <p:cNvPicPr/>
          <p:nvPr/>
        </p:nvPicPr>
        <p:blipFill>
          <a:blip r:embed="rId13"/>
          <a:stretch/>
        </p:blipFill>
        <p:spPr>
          <a:xfrm>
            <a:off x="5815080" y="3090960"/>
            <a:ext cx="561960" cy="536400"/>
          </a:xfrm>
          <a:prstGeom prst="rect">
            <a:avLst/>
          </a:prstGeom>
          <a:ln w="0">
            <a:noFill/>
          </a:ln>
        </p:spPr>
      </p:pic>
      <p:sp>
        <p:nvSpPr>
          <p:cNvPr id="707" name="Freeform 350"/>
          <p:cNvSpPr/>
          <p:nvPr/>
        </p:nvSpPr>
        <p:spPr>
          <a:xfrm>
            <a:off x="9617040" y="3127320"/>
            <a:ext cx="619200" cy="4636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d65423"/>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708" name="Rectangle 149"/>
          <p:cNvSpPr/>
          <p:nvPr/>
        </p:nvSpPr>
        <p:spPr>
          <a:xfrm>
            <a:off x="1036800" y="46958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09" name="Rectangle 150"/>
          <p:cNvSpPr/>
          <p:nvPr/>
        </p:nvSpPr>
        <p:spPr>
          <a:xfrm>
            <a:off x="1085760" y="4737240"/>
            <a:ext cx="1505160" cy="452160"/>
          </a:xfrm>
          <a:prstGeom prst="rect">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10" name="Freeform: Shape 151"/>
          <p:cNvSpPr/>
          <p:nvPr/>
        </p:nvSpPr>
        <p:spPr>
          <a:xfrm>
            <a:off x="1036800" y="4695840"/>
            <a:ext cx="219528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711" name="Rectangle 152"/>
          <p:cNvSpPr/>
          <p:nvPr/>
        </p:nvSpPr>
        <p:spPr>
          <a:xfrm>
            <a:off x="1036800" y="55832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12" name="Rectangle 153"/>
          <p:cNvSpPr/>
          <p:nvPr/>
        </p:nvSpPr>
        <p:spPr>
          <a:xfrm>
            <a:off x="1120680" y="5626080"/>
            <a:ext cx="717480" cy="447840"/>
          </a:xfrm>
          <a:prstGeom prst="rect">
            <a:avLst/>
          </a:prstGeom>
          <a:solidFill>
            <a:srgbClr val="44e0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13" name="Freeform: Shape 154"/>
          <p:cNvSpPr/>
          <p:nvPr/>
        </p:nvSpPr>
        <p:spPr>
          <a:xfrm>
            <a:off x="1036800" y="5572080"/>
            <a:ext cx="219528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714" name="TextBox 155"/>
          <p:cNvSpPr/>
          <p:nvPr/>
        </p:nvSpPr>
        <p:spPr>
          <a:xfrm>
            <a:off x="31561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7d42"/>
                </a:solidFill>
                <a:latin typeface="Lato"/>
              </a:rPr>
              <a:t>75%</a:t>
            </a:r>
            <a:endParaRPr b="0" lang="en-US" sz="2400" spc="-1" strike="noStrike">
              <a:solidFill>
                <a:srgbClr val="313c3f"/>
              </a:solidFill>
              <a:latin typeface="Source Sans Pro"/>
            </a:endParaRPr>
          </a:p>
        </p:txBody>
      </p:sp>
      <p:sp>
        <p:nvSpPr>
          <p:cNvPr id="715" name="TextBox 156"/>
          <p:cNvSpPr/>
          <p:nvPr/>
        </p:nvSpPr>
        <p:spPr>
          <a:xfrm>
            <a:off x="31561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e087"/>
                </a:solidFill>
                <a:latin typeface="Lato"/>
              </a:rPr>
              <a:t>35%</a:t>
            </a:r>
            <a:endParaRPr b="0" lang="en-US" sz="2400" spc="-1" strike="noStrike">
              <a:solidFill>
                <a:srgbClr val="313c3f"/>
              </a:solidFill>
              <a:latin typeface="Source Sans Pro"/>
            </a:endParaRPr>
          </a:p>
        </p:txBody>
      </p:sp>
      <p:sp>
        <p:nvSpPr>
          <p:cNvPr id="716" name="TextBox 157"/>
          <p:cNvSpPr/>
          <p:nvPr/>
        </p:nvSpPr>
        <p:spPr>
          <a:xfrm>
            <a:off x="112068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Male</a:t>
            </a:r>
            <a:endParaRPr b="0" lang="en-US" sz="1400" spc="-1" strike="noStrike">
              <a:solidFill>
                <a:srgbClr val="313c3f"/>
              </a:solidFill>
              <a:latin typeface="Source Sans Pro"/>
            </a:endParaRPr>
          </a:p>
        </p:txBody>
      </p:sp>
      <p:sp>
        <p:nvSpPr>
          <p:cNvPr id="717" name="TextBox 158"/>
          <p:cNvSpPr/>
          <p:nvPr/>
        </p:nvSpPr>
        <p:spPr>
          <a:xfrm>
            <a:off x="112068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Female</a:t>
            </a:r>
            <a:endParaRPr b="0" lang="en-US" sz="1400" spc="-1" strike="noStrike">
              <a:solidFill>
                <a:srgbClr val="313c3f"/>
              </a:solidFill>
              <a:latin typeface="Source Sans Pro"/>
            </a:endParaRPr>
          </a:p>
        </p:txBody>
      </p:sp>
      <p:sp>
        <p:nvSpPr>
          <p:cNvPr id="718" name="Rectangle 159"/>
          <p:cNvSpPr/>
          <p:nvPr/>
        </p:nvSpPr>
        <p:spPr>
          <a:xfrm>
            <a:off x="4762440" y="46958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19" name="Rectangle 160"/>
          <p:cNvSpPr/>
          <p:nvPr/>
        </p:nvSpPr>
        <p:spPr>
          <a:xfrm>
            <a:off x="4811760" y="4737240"/>
            <a:ext cx="1790640" cy="452160"/>
          </a:xfrm>
          <a:prstGeom prst="rect">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20" name="Freeform: Shape 161"/>
          <p:cNvSpPr/>
          <p:nvPr/>
        </p:nvSpPr>
        <p:spPr>
          <a:xfrm>
            <a:off x="4762440" y="4695840"/>
            <a:ext cx="21938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721" name="Rectangle 162"/>
          <p:cNvSpPr/>
          <p:nvPr/>
        </p:nvSpPr>
        <p:spPr>
          <a:xfrm>
            <a:off x="4762440" y="55832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22" name="Rectangle 163"/>
          <p:cNvSpPr/>
          <p:nvPr/>
        </p:nvSpPr>
        <p:spPr>
          <a:xfrm>
            <a:off x="4844880" y="5626080"/>
            <a:ext cx="1005120" cy="447840"/>
          </a:xfrm>
          <a:prstGeom prst="rect">
            <a:avLst/>
          </a:prstGeom>
          <a:solidFill>
            <a:srgbClr val="edda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23" name="Freeform: Shape 164"/>
          <p:cNvSpPr/>
          <p:nvPr/>
        </p:nvSpPr>
        <p:spPr>
          <a:xfrm>
            <a:off x="4762440" y="5572080"/>
            <a:ext cx="21938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724" name="TextBox 165"/>
          <p:cNvSpPr/>
          <p:nvPr/>
        </p:nvSpPr>
        <p:spPr>
          <a:xfrm>
            <a:off x="68803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1c11e"/>
                </a:solidFill>
                <a:latin typeface="Lato"/>
              </a:rPr>
              <a:t>90%</a:t>
            </a:r>
            <a:endParaRPr b="0" lang="en-US" sz="2400" spc="-1" strike="noStrike">
              <a:solidFill>
                <a:srgbClr val="313c3f"/>
              </a:solidFill>
              <a:latin typeface="Source Sans Pro"/>
            </a:endParaRPr>
          </a:p>
        </p:txBody>
      </p:sp>
      <p:sp>
        <p:nvSpPr>
          <p:cNvPr id="725" name="TextBox 166"/>
          <p:cNvSpPr/>
          <p:nvPr/>
        </p:nvSpPr>
        <p:spPr>
          <a:xfrm>
            <a:off x="68803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da78"/>
                </a:solidFill>
                <a:latin typeface="Lato"/>
              </a:rPr>
              <a:t>50%</a:t>
            </a:r>
            <a:endParaRPr b="0" lang="en-US" sz="2400" spc="-1" strike="noStrike">
              <a:solidFill>
                <a:srgbClr val="313c3f"/>
              </a:solidFill>
              <a:latin typeface="Source Sans Pro"/>
            </a:endParaRPr>
          </a:p>
        </p:txBody>
      </p:sp>
      <p:sp>
        <p:nvSpPr>
          <p:cNvPr id="726" name="TextBox 167"/>
          <p:cNvSpPr/>
          <p:nvPr/>
        </p:nvSpPr>
        <p:spPr>
          <a:xfrm>
            <a:off x="4844880" y="447372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Male</a:t>
            </a:r>
            <a:endParaRPr b="0" lang="en-US" sz="1400" spc="-1" strike="noStrike">
              <a:solidFill>
                <a:srgbClr val="313c3f"/>
              </a:solidFill>
              <a:latin typeface="Source Sans Pro"/>
            </a:endParaRPr>
          </a:p>
        </p:txBody>
      </p:sp>
      <p:sp>
        <p:nvSpPr>
          <p:cNvPr id="727" name="TextBox 168"/>
          <p:cNvSpPr/>
          <p:nvPr/>
        </p:nvSpPr>
        <p:spPr>
          <a:xfrm>
            <a:off x="4844880" y="533088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Female</a:t>
            </a:r>
            <a:endParaRPr b="0" lang="en-US" sz="1400" spc="-1" strike="noStrike">
              <a:solidFill>
                <a:srgbClr val="313c3f"/>
              </a:solidFill>
              <a:latin typeface="Source Sans Pro"/>
            </a:endParaRPr>
          </a:p>
        </p:txBody>
      </p:sp>
      <p:sp>
        <p:nvSpPr>
          <p:cNvPr id="728" name="Rectangle 169"/>
          <p:cNvSpPr/>
          <p:nvPr/>
        </p:nvSpPr>
        <p:spPr>
          <a:xfrm>
            <a:off x="8547120" y="46958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29" name="Rectangle 170"/>
          <p:cNvSpPr/>
          <p:nvPr/>
        </p:nvSpPr>
        <p:spPr>
          <a:xfrm>
            <a:off x="8596440" y="4737240"/>
            <a:ext cx="1698480" cy="452160"/>
          </a:xfrm>
          <a:prstGeom prst="rect">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30" name="Freeform: Shape 171"/>
          <p:cNvSpPr/>
          <p:nvPr/>
        </p:nvSpPr>
        <p:spPr>
          <a:xfrm>
            <a:off x="8547120" y="4695840"/>
            <a:ext cx="21956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731" name="Rectangle 172"/>
          <p:cNvSpPr/>
          <p:nvPr/>
        </p:nvSpPr>
        <p:spPr>
          <a:xfrm>
            <a:off x="8547120" y="55832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32" name="Rectangle 173"/>
          <p:cNvSpPr/>
          <p:nvPr/>
        </p:nvSpPr>
        <p:spPr>
          <a:xfrm>
            <a:off x="8631360" y="5626080"/>
            <a:ext cx="1604880" cy="447840"/>
          </a:xfrm>
          <a:prstGeom prst="rect">
            <a:avLst/>
          </a:prstGeom>
          <a:solidFill>
            <a:srgbClr val="e9977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33" name="Freeform: Shape 174"/>
          <p:cNvSpPr/>
          <p:nvPr/>
        </p:nvSpPr>
        <p:spPr>
          <a:xfrm>
            <a:off x="8547120" y="5572080"/>
            <a:ext cx="21956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734" name="TextBox 175"/>
          <p:cNvSpPr/>
          <p:nvPr/>
        </p:nvSpPr>
        <p:spPr>
          <a:xfrm>
            <a:off x="10666440" y="47498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5423"/>
                </a:solidFill>
                <a:latin typeface="Lato"/>
              </a:rPr>
              <a:t>85%</a:t>
            </a:r>
            <a:endParaRPr b="0" lang="en-US" sz="2400" spc="-1" strike="noStrike">
              <a:solidFill>
                <a:srgbClr val="313c3f"/>
              </a:solidFill>
              <a:latin typeface="Source Sans Pro"/>
            </a:endParaRPr>
          </a:p>
        </p:txBody>
      </p:sp>
      <p:sp>
        <p:nvSpPr>
          <p:cNvPr id="735" name="TextBox 176"/>
          <p:cNvSpPr/>
          <p:nvPr/>
        </p:nvSpPr>
        <p:spPr>
          <a:xfrm>
            <a:off x="10666440" y="5637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9778"/>
                </a:solidFill>
                <a:latin typeface="Lato"/>
              </a:rPr>
              <a:t>80%</a:t>
            </a:r>
            <a:endParaRPr b="0" lang="en-US" sz="2400" spc="-1" strike="noStrike">
              <a:solidFill>
                <a:srgbClr val="313c3f"/>
              </a:solidFill>
              <a:latin typeface="Source Sans Pro"/>
            </a:endParaRPr>
          </a:p>
        </p:txBody>
      </p:sp>
      <p:sp>
        <p:nvSpPr>
          <p:cNvPr id="736" name="TextBox 177"/>
          <p:cNvSpPr/>
          <p:nvPr/>
        </p:nvSpPr>
        <p:spPr>
          <a:xfrm>
            <a:off x="863136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Male</a:t>
            </a:r>
            <a:endParaRPr b="0" lang="en-US" sz="1400" spc="-1" strike="noStrike">
              <a:solidFill>
                <a:srgbClr val="313c3f"/>
              </a:solidFill>
              <a:latin typeface="Source Sans Pro"/>
            </a:endParaRPr>
          </a:p>
        </p:txBody>
      </p:sp>
      <p:sp>
        <p:nvSpPr>
          <p:cNvPr id="737" name="TextBox 178"/>
          <p:cNvSpPr/>
          <p:nvPr/>
        </p:nvSpPr>
        <p:spPr>
          <a:xfrm>
            <a:off x="863136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Female</a:t>
            </a:r>
            <a:endParaRPr b="0" lang="en-US" sz="1400" spc="-1" strike="noStrike">
              <a:solidFill>
                <a:srgbClr val="313c3f"/>
              </a:solidFill>
              <a:latin typeface="Source Sans Pro"/>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687"/>
                                        </p:tgtEl>
                                        <p:attrNameLst>
                                          <p:attrName>style.visibility</p:attrName>
                                        </p:attrNameLst>
                                      </p:cBhvr>
                                      <p:to>
                                        <p:strVal val="visible"/>
                                      </p:to>
                                    </p:set>
                                    <p:animEffect filter="fade" transition="in">
                                      <p:cBhvr additive="repl">
                                        <p:cTn id="491" dur="500"/>
                                        <p:tgtEl>
                                          <p:spTgt spid="687"/>
                                        </p:tgtEl>
                                      </p:cBhvr>
                                    </p:animEffect>
                                  </p:childTnLst>
                                </p:cTn>
                              </p:par>
                            </p:childTnLst>
                          </p:cTn>
                        </p:par>
                        <p:par>
                          <p:cTn id="492" nodeType="afterEffect" fill="hold">
                            <p:stCondLst>
                              <p:cond delay="500"/>
                            </p:stCondLst>
                            <p:childTnLst>
                              <p:par>
                                <p:cTn id="493" nodeType="afterEffect" fill="hold" presetClass="entr" presetID="16" presetSubtype="42">
                                  <p:stCondLst>
                                    <p:cond delay="0"/>
                                  </p:stCondLst>
                                  <p:childTnLst>
                                    <p:set>
                                      <p:cBhvr>
                                        <p:cTn id="494" dur="1" fill="hold">
                                          <p:stCondLst>
                                            <p:cond delay="0"/>
                                          </p:stCondLst>
                                        </p:cTn>
                                        <p:tgtEl>
                                          <p:spTgt spid="692"/>
                                        </p:tgtEl>
                                        <p:attrNameLst>
                                          <p:attrName>style.visibility</p:attrName>
                                        </p:attrNameLst>
                                      </p:cBhvr>
                                      <p:to>
                                        <p:strVal val="visible"/>
                                      </p:to>
                                    </p:set>
                                    <p:animEffect filter="barn(outHorizontal)" transition="in">
                                      <p:cBhvr additive="repl">
                                        <p:cTn id="495" dur="500"/>
                                        <p:tgtEl>
                                          <p:spTgt spid="692"/>
                                        </p:tgtEl>
                                      </p:cBhvr>
                                    </p:animEffect>
                                  </p:childTnLst>
                                </p:cTn>
                              </p:par>
                              <p:par>
                                <p:cTn id="496" nodeType="withEffect" fill="hold" presetClass="entr" presetID="16" presetSubtype="42">
                                  <p:stCondLst>
                                    <p:cond delay="0"/>
                                  </p:stCondLst>
                                  <p:childTnLst>
                                    <p:set>
                                      <p:cBhvr>
                                        <p:cTn id="497" dur="1" fill="hold">
                                          <p:stCondLst>
                                            <p:cond delay="0"/>
                                          </p:stCondLst>
                                        </p:cTn>
                                        <p:tgtEl>
                                          <p:spTgt spid="693"/>
                                        </p:tgtEl>
                                        <p:attrNameLst>
                                          <p:attrName>style.visibility</p:attrName>
                                        </p:attrNameLst>
                                      </p:cBhvr>
                                      <p:to>
                                        <p:strVal val="visible"/>
                                      </p:to>
                                    </p:set>
                                    <p:animEffect filter="barn(outHorizontal)" transition="in">
                                      <p:cBhvr additive="repl">
                                        <p:cTn id="498" dur="500"/>
                                        <p:tgtEl>
                                          <p:spTgt spid="693"/>
                                        </p:tgtEl>
                                      </p:cBhvr>
                                    </p:animEffect>
                                  </p:childTnLst>
                                </p:cTn>
                              </p:par>
                            </p:childTnLst>
                          </p:cTn>
                        </p:par>
                        <p:par>
                          <p:cTn id="499" nodeType="afterEffect" fill="hold">
                            <p:stCondLst>
                              <p:cond delay="1000"/>
                            </p:stCondLst>
                            <p:childTnLst>
                              <p:par>
                                <p:cTn id="500" nodeType="afterEffect" fill="hold" presetClass="entr" presetID="10">
                                  <p:stCondLst>
                                    <p:cond delay="0"/>
                                  </p:stCondLst>
                                  <p:childTnLst>
                                    <p:set>
                                      <p:cBhvr>
                                        <p:cTn id="501" dur="1" fill="hold">
                                          <p:stCondLst>
                                            <p:cond delay="0"/>
                                          </p:stCondLst>
                                        </p:cTn>
                                        <p:tgtEl>
                                          <p:spTgt spid="694"/>
                                        </p:tgtEl>
                                        <p:attrNameLst>
                                          <p:attrName>style.visibility</p:attrName>
                                        </p:attrNameLst>
                                      </p:cBhvr>
                                      <p:to>
                                        <p:strVal val="visible"/>
                                      </p:to>
                                    </p:set>
                                    <p:animEffect filter="fade" transition="in">
                                      <p:cBhvr additive="repl">
                                        <p:cTn id="502" dur="500"/>
                                        <p:tgtEl>
                                          <p:spTgt spid="694"/>
                                        </p:tgtEl>
                                      </p:cBhvr>
                                    </p:animEffect>
                                  </p:childTnLst>
                                </p:cTn>
                              </p:par>
                              <p:par>
                                <p:cTn id="503" nodeType="withEffect" fill="hold" presetClass="entr" presetID="10">
                                  <p:stCondLst>
                                    <p:cond delay="0"/>
                                  </p:stCondLst>
                                  <p:childTnLst>
                                    <p:set>
                                      <p:cBhvr>
                                        <p:cTn id="504" dur="1" fill="hold">
                                          <p:stCondLst>
                                            <p:cond delay="0"/>
                                          </p:stCondLst>
                                        </p:cTn>
                                        <p:tgtEl>
                                          <p:spTgt spid="695"/>
                                        </p:tgtEl>
                                        <p:attrNameLst>
                                          <p:attrName>style.visibility</p:attrName>
                                        </p:attrNameLst>
                                      </p:cBhvr>
                                      <p:to>
                                        <p:strVal val="visible"/>
                                      </p:to>
                                    </p:set>
                                    <p:animEffect filter="fade" transition="in">
                                      <p:cBhvr additive="repl">
                                        <p:cTn id="505" dur="500"/>
                                        <p:tgtEl>
                                          <p:spTgt spid="695"/>
                                        </p:tgtEl>
                                      </p:cBhvr>
                                    </p:animEffect>
                                  </p:childTnLst>
                                </p:cTn>
                              </p:par>
                              <p:par>
                                <p:cTn id="506" nodeType="withEffect" fill="hold" presetClass="entr" presetID="10">
                                  <p:stCondLst>
                                    <p:cond delay="0"/>
                                  </p:stCondLst>
                                  <p:childTnLst>
                                    <p:set>
                                      <p:cBhvr>
                                        <p:cTn id="507" dur="1" fill="hold">
                                          <p:stCondLst>
                                            <p:cond delay="0"/>
                                          </p:stCondLst>
                                        </p:cTn>
                                        <p:tgtEl>
                                          <p:spTgt spid="696"/>
                                        </p:tgtEl>
                                        <p:attrNameLst>
                                          <p:attrName>style.visibility</p:attrName>
                                        </p:attrNameLst>
                                      </p:cBhvr>
                                      <p:to>
                                        <p:strVal val="visible"/>
                                      </p:to>
                                    </p:set>
                                    <p:animEffect filter="fade" transition="in">
                                      <p:cBhvr additive="repl">
                                        <p:cTn id="508" dur="500"/>
                                        <p:tgtEl>
                                          <p:spTgt spid="696"/>
                                        </p:tgtEl>
                                      </p:cBhvr>
                                    </p:animEffect>
                                  </p:childTnLst>
                                </p:cTn>
                              </p:par>
                            </p:childTnLst>
                          </p:cTn>
                        </p:par>
                        <p:par>
                          <p:cTn id="509" nodeType="afterEffect" fill="hold">
                            <p:stCondLst>
                              <p:cond delay="1500"/>
                            </p:stCondLst>
                            <p:childTnLst>
                              <p:par>
                                <p:cTn id="510" nodeType="afterEffect" fill="hold" presetClass="entr" presetID="21" presetSubtype="1">
                                  <p:stCondLst>
                                    <p:cond delay="0"/>
                                  </p:stCondLst>
                                  <p:childTnLst>
                                    <p:set>
                                      <p:cBhvr>
                                        <p:cTn id="511" dur="1" fill="hold">
                                          <p:stCondLst>
                                            <p:cond delay="0"/>
                                          </p:stCondLst>
                                        </p:cTn>
                                        <p:tgtEl>
                                          <p:spTgt spid="689"/>
                                        </p:tgtEl>
                                        <p:attrNameLst>
                                          <p:attrName>style.visibility</p:attrName>
                                        </p:attrNameLst>
                                      </p:cBhvr>
                                      <p:to>
                                        <p:strVal val="visible"/>
                                      </p:to>
                                    </p:set>
                                    <p:animEffect filter="wheel(1)" transition="in">
                                      <p:cBhvr additive="repl">
                                        <p:cTn id="512" dur="1250"/>
                                        <p:tgtEl>
                                          <p:spTgt spid="689"/>
                                        </p:tgtEl>
                                      </p:cBhvr>
                                    </p:animEffect>
                                  </p:childTnLst>
                                </p:cTn>
                              </p:par>
                              <p:par>
                                <p:cTn id="513" nodeType="withEffect" fill="hold" presetClass="entr" presetID="21" presetSubtype="1">
                                  <p:stCondLst>
                                    <p:cond delay="0"/>
                                  </p:stCondLst>
                                  <p:childTnLst>
                                    <p:set>
                                      <p:cBhvr>
                                        <p:cTn id="514" dur="1" fill="hold">
                                          <p:stCondLst>
                                            <p:cond delay="0"/>
                                          </p:stCondLst>
                                        </p:cTn>
                                        <p:tgtEl>
                                          <p:spTgt spid="699"/>
                                        </p:tgtEl>
                                        <p:attrNameLst>
                                          <p:attrName>style.visibility</p:attrName>
                                        </p:attrNameLst>
                                      </p:cBhvr>
                                      <p:to>
                                        <p:strVal val="visible"/>
                                      </p:to>
                                    </p:set>
                                    <p:animEffect filter="wheel(1)" transition="in">
                                      <p:cBhvr additive="repl">
                                        <p:cTn id="515" dur="1250"/>
                                        <p:tgtEl>
                                          <p:spTgt spid="699"/>
                                        </p:tgtEl>
                                      </p:cBhvr>
                                    </p:animEffect>
                                  </p:childTnLst>
                                </p:cTn>
                              </p:par>
                              <p:par>
                                <p:cTn id="516" nodeType="withEffect" fill="hold" presetClass="entr" presetID="21" presetSubtype="1">
                                  <p:stCondLst>
                                    <p:cond delay="0"/>
                                  </p:stCondLst>
                                  <p:childTnLst>
                                    <p:set>
                                      <p:cBhvr>
                                        <p:cTn id="517" dur="1" fill="hold">
                                          <p:stCondLst>
                                            <p:cond delay="0"/>
                                          </p:stCondLst>
                                        </p:cTn>
                                        <p:tgtEl>
                                          <p:spTgt spid="703"/>
                                        </p:tgtEl>
                                        <p:attrNameLst>
                                          <p:attrName>style.visibility</p:attrName>
                                        </p:attrNameLst>
                                      </p:cBhvr>
                                      <p:to>
                                        <p:strVal val="visible"/>
                                      </p:to>
                                    </p:set>
                                    <p:animEffect filter="wheel(1)" transition="in">
                                      <p:cBhvr additive="repl">
                                        <p:cTn id="518" dur="1250"/>
                                        <p:tgtEl>
                                          <p:spTgt spid="703"/>
                                        </p:tgtEl>
                                      </p:cBhvr>
                                    </p:animEffect>
                                  </p:childTnLst>
                                </p:cTn>
                              </p:par>
                              <p:par>
                                <p:cTn id="519" nodeType="withEffect" fill="hold" presetClass="entr" presetID="21" presetSubtype="1">
                                  <p:stCondLst>
                                    <p:cond delay="0"/>
                                  </p:stCondLst>
                                  <p:childTnLst>
                                    <p:set>
                                      <p:cBhvr>
                                        <p:cTn id="520" dur="1" fill="hold">
                                          <p:stCondLst>
                                            <p:cond delay="0"/>
                                          </p:stCondLst>
                                        </p:cTn>
                                        <p:tgtEl>
                                          <p:spTgt spid="691"/>
                                        </p:tgtEl>
                                        <p:attrNameLst>
                                          <p:attrName>style.visibility</p:attrName>
                                        </p:attrNameLst>
                                      </p:cBhvr>
                                      <p:to>
                                        <p:strVal val="visible"/>
                                      </p:to>
                                    </p:set>
                                    <p:animEffect filter="wheel(1)" transition="in">
                                      <p:cBhvr additive="repl">
                                        <p:cTn id="521" dur="1250"/>
                                        <p:tgtEl>
                                          <p:spTgt spid="691"/>
                                        </p:tgtEl>
                                      </p:cBhvr>
                                    </p:animEffect>
                                  </p:childTnLst>
                                </p:cTn>
                              </p:par>
                              <p:par>
                                <p:cTn id="522" nodeType="withEffect" fill="hold" presetClass="entr" presetID="21" presetSubtype="1">
                                  <p:stCondLst>
                                    <p:cond delay="0"/>
                                  </p:stCondLst>
                                  <p:childTnLst>
                                    <p:set>
                                      <p:cBhvr>
                                        <p:cTn id="523" dur="1" fill="hold">
                                          <p:stCondLst>
                                            <p:cond delay="0"/>
                                          </p:stCondLst>
                                        </p:cTn>
                                        <p:tgtEl>
                                          <p:spTgt spid="701"/>
                                        </p:tgtEl>
                                        <p:attrNameLst>
                                          <p:attrName>style.visibility</p:attrName>
                                        </p:attrNameLst>
                                      </p:cBhvr>
                                      <p:to>
                                        <p:strVal val="visible"/>
                                      </p:to>
                                    </p:set>
                                    <p:animEffect filter="wheel(1)" transition="in">
                                      <p:cBhvr additive="repl">
                                        <p:cTn id="524" dur="1250"/>
                                        <p:tgtEl>
                                          <p:spTgt spid="701"/>
                                        </p:tgtEl>
                                      </p:cBhvr>
                                    </p:animEffect>
                                  </p:childTnLst>
                                </p:cTn>
                              </p:par>
                              <p:par>
                                <p:cTn id="525" nodeType="withEffect" fill="hold" presetClass="entr" presetID="21" presetSubtype="1">
                                  <p:stCondLst>
                                    <p:cond delay="0"/>
                                  </p:stCondLst>
                                  <p:childTnLst>
                                    <p:set>
                                      <p:cBhvr>
                                        <p:cTn id="526" dur="1" fill="hold">
                                          <p:stCondLst>
                                            <p:cond delay="0"/>
                                          </p:stCondLst>
                                        </p:cTn>
                                        <p:tgtEl>
                                          <p:spTgt spid="705"/>
                                        </p:tgtEl>
                                        <p:attrNameLst>
                                          <p:attrName>style.visibility</p:attrName>
                                        </p:attrNameLst>
                                      </p:cBhvr>
                                      <p:to>
                                        <p:strVal val="visible"/>
                                      </p:to>
                                    </p:set>
                                    <p:animEffect filter="wheel(1)" transition="in">
                                      <p:cBhvr additive="repl">
                                        <p:cTn id="527" dur="1250"/>
                                        <p:tgtEl>
                                          <p:spTgt spid="705"/>
                                        </p:tgtEl>
                                      </p:cBhvr>
                                    </p:animEffect>
                                  </p:childTnLst>
                                </p:cTn>
                              </p:par>
                              <p:par>
                                <p:cTn id="528" nodeType="withEffect" fill="hold" presetClass="entr" presetID="10">
                                  <p:stCondLst>
                                    <p:cond delay="0"/>
                                  </p:stCondLst>
                                  <p:childTnLst>
                                    <p:set>
                                      <p:cBhvr>
                                        <p:cTn id="529" dur="1" fill="hold">
                                          <p:stCondLst>
                                            <p:cond delay="0"/>
                                          </p:stCondLst>
                                        </p:cTn>
                                        <p:tgtEl>
                                          <p:spTgt spid="697"/>
                                        </p:tgtEl>
                                        <p:attrNameLst>
                                          <p:attrName>style.visibility</p:attrName>
                                        </p:attrNameLst>
                                      </p:cBhvr>
                                      <p:to>
                                        <p:strVal val="visible"/>
                                      </p:to>
                                    </p:set>
                                    <p:animEffect filter="fade" transition="in">
                                      <p:cBhvr additive="repl">
                                        <p:cTn id="530" dur="500"/>
                                        <p:tgtEl>
                                          <p:spTgt spid="697"/>
                                        </p:tgtEl>
                                      </p:cBhvr>
                                    </p:animEffect>
                                  </p:childTnLst>
                                </p:cTn>
                              </p:par>
                              <p:par>
                                <p:cTn id="531" nodeType="withEffect" fill="hold" presetClass="entr" presetID="10">
                                  <p:stCondLst>
                                    <p:cond delay="0"/>
                                  </p:stCondLst>
                                  <p:childTnLst>
                                    <p:set>
                                      <p:cBhvr>
                                        <p:cTn id="532" dur="1" fill="hold">
                                          <p:stCondLst>
                                            <p:cond delay="0"/>
                                          </p:stCondLst>
                                        </p:cTn>
                                        <p:tgtEl>
                                          <p:spTgt spid="706"/>
                                        </p:tgtEl>
                                        <p:attrNameLst>
                                          <p:attrName>style.visibility</p:attrName>
                                        </p:attrNameLst>
                                      </p:cBhvr>
                                      <p:to>
                                        <p:strVal val="visible"/>
                                      </p:to>
                                    </p:set>
                                    <p:animEffect filter="fade" transition="in">
                                      <p:cBhvr additive="repl">
                                        <p:cTn id="533" dur="500"/>
                                        <p:tgtEl>
                                          <p:spTgt spid="706"/>
                                        </p:tgtEl>
                                      </p:cBhvr>
                                    </p:animEffect>
                                  </p:childTnLst>
                                </p:cTn>
                              </p:par>
                              <p:par>
                                <p:cTn id="534" nodeType="withEffect" fill="hold" presetClass="entr" presetID="10">
                                  <p:stCondLst>
                                    <p:cond delay="0"/>
                                  </p:stCondLst>
                                  <p:childTnLst>
                                    <p:set>
                                      <p:cBhvr>
                                        <p:cTn id="535" dur="1" fill="hold">
                                          <p:stCondLst>
                                            <p:cond delay="0"/>
                                          </p:stCondLst>
                                        </p:cTn>
                                        <p:tgtEl>
                                          <p:spTgt spid="707"/>
                                        </p:tgtEl>
                                        <p:attrNameLst>
                                          <p:attrName>style.visibility</p:attrName>
                                        </p:attrNameLst>
                                      </p:cBhvr>
                                      <p:to>
                                        <p:strVal val="visible"/>
                                      </p:to>
                                    </p:set>
                                    <p:animEffect filter="fade" transition="in">
                                      <p:cBhvr additive="repl">
                                        <p:cTn id="536" dur="500"/>
                                        <p:tgtEl>
                                          <p:spTgt spid="707"/>
                                        </p:tgtEl>
                                      </p:cBhvr>
                                    </p:animEffect>
                                  </p:childTnLst>
                                </p:cTn>
                              </p:par>
                            </p:childTnLst>
                          </p:cTn>
                        </p:par>
                        <p:par>
                          <p:cTn id="537" nodeType="afterEffect" fill="hold">
                            <p:stCondLst>
                              <p:cond delay="2750"/>
                            </p:stCondLst>
                            <p:childTnLst>
                              <p:par>
                                <p:cTn id="538" nodeType="afterEffect" fill="hold" presetClass="entr" presetID="10">
                                  <p:stCondLst>
                                    <p:cond delay="0"/>
                                  </p:stCondLst>
                                  <p:childTnLst>
                                    <p:set>
                                      <p:cBhvr>
                                        <p:cTn id="539" dur="1" fill="hold">
                                          <p:stCondLst>
                                            <p:cond delay="0"/>
                                          </p:stCondLst>
                                        </p:cTn>
                                        <p:tgtEl>
                                          <p:spTgt spid="716"/>
                                        </p:tgtEl>
                                        <p:attrNameLst>
                                          <p:attrName>style.visibility</p:attrName>
                                        </p:attrNameLst>
                                      </p:cBhvr>
                                      <p:to>
                                        <p:strVal val="visible"/>
                                      </p:to>
                                    </p:set>
                                    <p:animEffect filter="fade" transition="in">
                                      <p:cBhvr additive="repl">
                                        <p:cTn id="540" dur="500"/>
                                        <p:tgtEl>
                                          <p:spTgt spid="716"/>
                                        </p:tgtEl>
                                      </p:cBhvr>
                                    </p:animEffect>
                                  </p:childTnLst>
                                </p:cTn>
                              </p:par>
                              <p:par>
                                <p:cTn id="541" nodeType="withEffect" fill="hold" presetClass="entr" presetID="10">
                                  <p:stCondLst>
                                    <p:cond delay="0"/>
                                  </p:stCondLst>
                                  <p:childTnLst>
                                    <p:set>
                                      <p:cBhvr>
                                        <p:cTn id="542" dur="1" fill="hold">
                                          <p:stCondLst>
                                            <p:cond delay="0"/>
                                          </p:stCondLst>
                                        </p:cTn>
                                        <p:tgtEl>
                                          <p:spTgt spid="726"/>
                                        </p:tgtEl>
                                        <p:attrNameLst>
                                          <p:attrName>style.visibility</p:attrName>
                                        </p:attrNameLst>
                                      </p:cBhvr>
                                      <p:to>
                                        <p:strVal val="visible"/>
                                      </p:to>
                                    </p:set>
                                    <p:animEffect filter="fade" transition="in">
                                      <p:cBhvr additive="repl">
                                        <p:cTn id="543" dur="500"/>
                                        <p:tgtEl>
                                          <p:spTgt spid="726"/>
                                        </p:tgtEl>
                                      </p:cBhvr>
                                    </p:animEffect>
                                  </p:childTnLst>
                                </p:cTn>
                              </p:par>
                              <p:par>
                                <p:cTn id="544" nodeType="withEffect" fill="hold" presetClass="entr" presetID="10">
                                  <p:stCondLst>
                                    <p:cond delay="0"/>
                                  </p:stCondLst>
                                  <p:childTnLst>
                                    <p:set>
                                      <p:cBhvr>
                                        <p:cTn id="545" dur="1" fill="hold">
                                          <p:stCondLst>
                                            <p:cond delay="0"/>
                                          </p:stCondLst>
                                        </p:cTn>
                                        <p:tgtEl>
                                          <p:spTgt spid="727"/>
                                        </p:tgtEl>
                                        <p:attrNameLst>
                                          <p:attrName>style.visibility</p:attrName>
                                        </p:attrNameLst>
                                      </p:cBhvr>
                                      <p:to>
                                        <p:strVal val="visible"/>
                                      </p:to>
                                    </p:set>
                                    <p:animEffect filter="fade" transition="in">
                                      <p:cBhvr additive="repl">
                                        <p:cTn id="546" dur="500"/>
                                        <p:tgtEl>
                                          <p:spTgt spid="727"/>
                                        </p:tgtEl>
                                      </p:cBhvr>
                                    </p:animEffect>
                                  </p:childTnLst>
                                </p:cTn>
                              </p:par>
                              <p:par>
                                <p:cTn id="547" nodeType="withEffect" fill="hold" presetClass="entr" presetID="10">
                                  <p:stCondLst>
                                    <p:cond delay="0"/>
                                  </p:stCondLst>
                                  <p:childTnLst>
                                    <p:set>
                                      <p:cBhvr>
                                        <p:cTn id="548" dur="1" fill="hold">
                                          <p:stCondLst>
                                            <p:cond delay="0"/>
                                          </p:stCondLst>
                                        </p:cTn>
                                        <p:tgtEl>
                                          <p:spTgt spid="736"/>
                                        </p:tgtEl>
                                        <p:attrNameLst>
                                          <p:attrName>style.visibility</p:attrName>
                                        </p:attrNameLst>
                                      </p:cBhvr>
                                      <p:to>
                                        <p:strVal val="visible"/>
                                      </p:to>
                                    </p:set>
                                    <p:animEffect filter="fade" transition="in">
                                      <p:cBhvr additive="repl">
                                        <p:cTn id="549" dur="500"/>
                                        <p:tgtEl>
                                          <p:spTgt spid="736"/>
                                        </p:tgtEl>
                                      </p:cBhvr>
                                    </p:animEffect>
                                  </p:childTnLst>
                                </p:cTn>
                              </p:par>
                              <p:par>
                                <p:cTn id="550" nodeType="withEffect" fill="hold" presetClass="entr" presetID="10">
                                  <p:stCondLst>
                                    <p:cond delay="0"/>
                                  </p:stCondLst>
                                  <p:childTnLst>
                                    <p:set>
                                      <p:cBhvr>
                                        <p:cTn id="551" dur="1" fill="hold">
                                          <p:stCondLst>
                                            <p:cond delay="0"/>
                                          </p:stCondLst>
                                        </p:cTn>
                                        <p:tgtEl>
                                          <p:spTgt spid="717"/>
                                        </p:tgtEl>
                                        <p:attrNameLst>
                                          <p:attrName>style.visibility</p:attrName>
                                        </p:attrNameLst>
                                      </p:cBhvr>
                                      <p:to>
                                        <p:strVal val="visible"/>
                                      </p:to>
                                    </p:set>
                                    <p:animEffect filter="fade" transition="in">
                                      <p:cBhvr additive="repl">
                                        <p:cTn id="552" dur="500"/>
                                        <p:tgtEl>
                                          <p:spTgt spid="717"/>
                                        </p:tgtEl>
                                      </p:cBhvr>
                                    </p:animEffect>
                                  </p:childTnLst>
                                </p:cTn>
                              </p:par>
                              <p:par>
                                <p:cTn id="553" nodeType="withEffect" fill="hold" presetClass="entr" presetID="10">
                                  <p:stCondLst>
                                    <p:cond delay="0"/>
                                  </p:stCondLst>
                                  <p:childTnLst>
                                    <p:set>
                                      <p:cBhvr>
                                        <p:cTn id="554" dur="1" fill="hold">
                                          <p:stCondLst>
                                            <p:cond delay="0"/>
                                          </p:stCondLst>
                                        </p:cTn>
                                        <p:tgtEl>
                                          <p:spTgt spid="737"/>
                                        </p:tgtEl>
                                        <p:attrNameLst>
                                          <p:attrName>style.visibility</p:attrName>
                                        </p:attrNameLst>
                                      </p:cBhvr>
                                      <p:to>
                                        <p:strVal val="visible"/>
                                      </p:to>
                                    </p:set>
                                    <p:animEffect filter="fade" transition="in">
                                      <p:cBhvr additive="repl">
                                        <p:cTn id="555" dur="500"/>
                                        <p:tgtEl>
                                          <p:spTgt spid="737"/>
                                        </p:tgtEl>
                                      </p:cBhvr>
                                    </p:animEffect>
                                  </p:childTnLst>
                                </p:cTn>
                              </p:par>
                            </p:childTnLst>
                          </p:cTn>
                        </p:par>
                        <p:par>
                          <p:cTn id="556" nodeType="afterEffect" fill="hold">
                            <p:stCondLst>
                              <p:cond delay="3250"/>
                            </p:stCondLst>
                            <p:childTnLst>
                              <p:par>
                                <p:cTn id="557" nodeType="afterEffect" fill="hold" presetClass="entr" presetID="10">
                                  <p:stCondLst>
                                    <p:cond delay="0"/>
                                  </p:stCondLst>
                                  <p:childTnLst>
                                    <p:set>
                                      <p:cBhvr>
                                        <p:cTn id="558" dur="1" fill="hold">
                                          <p:stCondLst>
                                            <p:cond delay="0"/>
                                          </p:stCondLst>
                                        </p:cTn>
                                        <p:tgtEl>
                                          <p:spTgt spid="708"/>
                                        </p:tgtEl>
                                        <p:attrNameLst>
                                          <p:attrName>style.visibility</p:attrName>
                                        </p:attrNameLst>
                                      </p:cBhvr>
                                      <p:to>
                                        <p:strVal val="visible"/>
                                      </p:to>
                                    </p:set>
                                    <p:animEffect filter="fade" transition="in">
                                      <p:cBhvr additive="repl">
                                        <p:cTn id="559" dur="500"/>
                                        <p:tgtEl>
                                          <p:spTgt spid="708"/>
                                        </p:tgtEl>
                                      </p:cBhvr>
                                    </p:animEffect>
                                  </p:childTnLst>
                                </p:cTn>
                              </p:par>
                              <p:par>
                                <p:cTn id="560" nodeType="withEffect" fill="hold" presetClass="entr" presetID="10">
                                  <p:stCondLst>
                                    <p:cond delay="0"/>
                                  </p:stCondLst>
                                  <p:childTnLst>
                                    <p:set>
                                      <p:cBhvr>
                                        <p:cTn id="561" dur="1" fill="hold">
                                          <p:stCondLst>
                                            <p:cond delay="0"/>
                                          </p:stCondLst>
                                        </p:cTn>
                                        <p:tgtEl>
                                          <p:spTgt spid="710"/>
                                        </p:tgtEl>
                                        <p:attrNameLst>
                                          <p:attrName>style.visibility</p:attrName>
                                        </p:attrNameLst>
                                      </p:cBhvr>
                                      <p:to>
                                        <p:strVal val="visible"/>
                                      </p:to>
                                    </p:set>
                                    <p:animEffect filter="fade" transition="in">
                                      <p:cBhvr additive="repl">
                                        <p:cTn id="562" dur="500"/>
                                        <p:tgtEl>
                                          <p:spTgt spid="710"/>
                                        </p:tgtEl>
                                      </p:cBhvr>
                                    </p:animEffect>
                                  </p:childTnLst>
                                </p:cTn>
                              </p:par>
                              <p:par>
                                <p:cTn id="563" nodeType="withEffect" fill="hold" presetClass="entr" presetID="10">
                                  <p:stCondLst>
                                    <p:cond delay="0"/>
                                  </p:stCondLst>
                                  <p:childTnLst>
                                    <p:set>
                                      <p:cBhvr>
                                        <p:cTn id="564" dur="1" fill="hold">
                                          <p:stCondLst>
                                            <p:cond delay="0"/>
                                          </p:stCondLst>
                                        </p:cTn>
                                        <p:tgtEl>
                                          <p:spTgt spid="713"/>
                                        </p:tgtEl>
                                        <p:attrNameLst>
                                          <p:attrName>style.visibility</p:attrName>
                                        </p:attrNameLst>
                                      </p:cBhvr>
                                      <p:to>
                                        <p:strVal val="visible"/>
                                      </p:to>
                                    </p:set>
                                    <p:animEffect filter="fade" transition="in">
                                      <p:cBhvr additive="repl">
                                        <p:cTn id="565" dur="500"/>
                                        <p:tgtEl>
                                          <p:spTgt spid="713"/>
                                        </p:tgtEl>
                                      </p:cBhvr>
                                    </p:animEffect>
                                  </p:childTnLst>
                                </p:cTn>
                              </p:par>
                              <p:par>
                                <p:cTn id="566" nodeType="withEffect" fill="hold" presetClass="entr" presetID="10">
                                  <p:stCondLst>
                                    <p:cond delay="0"/>
                                  </p:stCondLst>
                                  <p:childTnLst>
                                    <p:set>
                                      <p:cBhvr>
                                        <p:cTn id="567" dur="1" fill="hold">
                                          <p:stCondLst>
                                            <p:cond delay="0"/>
                                          </p:stCondLst>
                                        </p:cTn>
                                        <p:tgtEl>
                                          <p:spTgt spid="711"/>
                                        </p:tgtEl>
                                        <p:attrNameLst>
                                          <p:attrName>style.visibility</p:attrName>
                                        </p:attrNameLst>
                                      </p:cBhvr>
                                      <p:to>
                                        <p:strVal val="visible"/>
                                      </p:to>
                                    </p:set>
                                    <p:animEffect filter="fade" transition="in">
                                      <p:cBhvr additive="repl">
                                        <p:cTn id="568" dur="500"/>
                                        <p:tgtEl>
                                          <p:spTgt spid="711"/>
                                        </p:tgtEl>
                                      </p:cBhvr>
                                    </p:animEffect>
                                  </p:childTnLst>
                                </p:cTn>
                              </p:par>
                              <p:par>
                                <p:cTn id="569" nodeType="withEffect" fill="hold" presetClass="entr" presetID="10">
                                  <p:stCondLst>
                                    <p:cond delay="0"/>
                                  </p:stCondLst>
                                  <p:childTnLst>
                                    <p:set>
                                      <p:cBhvr>
                                        <p:cTn id="570" dur="1" fill="hold">
                                          <p:stCondLst>
                                            <p:cond delay="0"/>
                                          </p:stCondLst>
                                        </p:cTn>
                                        <p:tgtEl>
                                          <p:spTgt spid="718"/>
                                        </p:tgtEl>
                                        <p:attrNameLst>
                                          <p:attrName>style.visibility</p:attrName>
                                        </p:attrNameLst>
                                      </p:cBhvr>
                                      <p:to>
                                        <p:strVal val="visible"/>
                                      </p:to>
                                    </p:set>
                                    <p:animEffect filter="fade" transition="in">
                                      <p:cBhvr additive="repl">
                                        <p:cTn id="571" dur="500"/>
                                        <p:tgtEl>
                                          <p:spTgt spid="718"/>
                                        </p:tgtEl>
                                      </p:cBhvr>
                                    </p:animEffect>
                                  </p:childTnLst>
                                </p:cTn>
                              </p:par>
                              <p:par>
                                <p:cTn id="572" nodeType="withEffect" fill="hold" presetClass="entr" presetID="10">
                                  <p:stCondLst>
                                    <p:cond delay="0"/>
                                  </p:stCondLst>
                                  <p:childTnLst>
                                    <p:set>
                                      <p:cBhvr>
                                        <p:cTn id="573" dur="1" fill="hold">
                                          <p:stCondLst>
                                            <p:cond delay="0"/>
                                          </p:stCondLst>
                                        </p:cTn>
                                        <p:tgtEl>
                                          <p:spTgt spid="720"/>
                                        </p:tgtEl>
                                        <p:attrNameLst>
                                          <p:attrName>style.visibility</p:attrName>
                                        </p:attrNameLst>
                                      </p:cBhvr>
                                      <p:to>
                                        <p:strVal val="visible"/>
                                      </p:to>
                                    </p:set>
                                    <p:animEffect filter="fade" transition="in">
                                      <p:cBhvr additive="repl">
                                        <p:cTn id="574" dur="500"/>
                                        <p:tgtEl>
                                          <p:spTgt spid="720"/>
                                        </p:tgtEl>
                                      </p:cBhvr>
                                    </p:animEffect>
                                  </p:childTnLst>
                                </p:cTn>
                              </p:par>
                              <p:par>
                                <p:cTn id="575" nodeType="withEffect" fill="hold" presetClass="entr" presetID="10">
                                  <p:stCondLst>
                                    <p:cond delay="0"/>
                                  </p:stCondLst>
                                  <p:childTnLst>
                                    <p:set>
                                      <p:cBhvr>
                                        <p:cTn id="576" dur="1" fill="hold">
                                          <p:stCondLst>
                                            <p:cond delay="0"/>
                                          </p:stCondLst>
                                        </p:cTn>
                                        <p:tgtEl>
                                          <p:spTgt spid="721"/>
                                        </p:tgtEl>
                                        <p:attrNameLst>
                                          <p:attrName>style.visibility</p:attrName>
                                        </p:attrNameLst>
                                      </p:cBhvr>
                                      <p:to>
                                        <p:strVal val="visible"/>
                                      </p:to>
                                    </p:set>
                                    <p:animEffect filter="fade" transition="in">
                                      <p:cBhvr additive="repl">
                                        <p:cTn id="577" dur="500"/>
                                        <p:tgtEl>
                                          <p:spTgt spid="721"/>
                                        </p:tgtEl>
                                      </p:cBhvr>
                                    </p:animEffect>
                                  </p:childTnLst>
                                </p:cTn>
                              </p:par>
                              <p:par>
                                <p:cTn id="578" nodeType="withEffect" fill="hold" presetClass="entr" presetID="10">
                                  <p:stCondLst>
                                    <p:cond delay="0"/>
                                  </p:stCondLst>
                                  <p:childTnLst>
                                    <p:set>
                                      <p:cBhvr>
                                        <p:cTn id="579" dur="1" fill="hold">
                                          <p:stCondLst>
                                            <p:cond delay="0"/>
                                          </p:stCondLst>
                                        </p:cTn>
                                        <p:tgtEl>
                                          <p:spTgt spid="723"/>
                                        </p:tgtEl>
                                        <p:attrNameLst>
                                          <p:attrName>style.visibility</p:attrName>
                                        </p:attrNameLst>
                                      </p:cBhvr>
                                      <p:to>
                                        <p:strVal val="visible"/>
                                      </p:to>
                                    </p:set>
                                    <p:animEffect filter="fade" transition="in">
                                      <p:cBhvr additive="repl">
                                        <p:cTn id="580" dur="500"/>
                                        <p:tgtEl>
                                          <p:spTgt spid="723"/>
                                        </p:tgtEl>
                                      </p:cBhvr>
                                    </p:animEffect>
                                  </p:childTnLst>
                                </p:cTn>
                              </p:par>
                              <p:par>
                                <p:cTn id="581" nodeType="withEffect" fill="hold" presetClass="entr" presetID="10">
                                  <p:stCondLst>
                                    <p:cond delay="0"/>
                                  </p:stCondLst>
                                  <p:childTnLst>
                                    <p:set>
                                      <p:cBhvr>
                                        <p:cTn id="582" dur="1" fill="hold">
                                          <p:stCondLst>
                                            <p:cond delay="0"/>
                                          </p:stCondLst>
                                        </p:cTn>
                                        <p:tgtEl>
                                          <p:spTgt spid="728"/>
                                        </p:tgtEl>
                                        <p:attrNameLst>
                                          <p:attrName>style.visibility</p:attrName>
                                        </p:attrNameLst>
                                      </p:cBhvr>
                                      <p:to>
                                        <p:strVal val="visible"/>
                                      </p:to>
                                    </p:set>
                                    <p:animEffect filter="fade" transition="in">
                                      <p:cBhvr additive="repl">
                                        <p:cTn id="583" dur="500"/>
                                        <p:tgtEl>
                                          <p:spTgt spid="728"/>
                                        </p:tgtEl>
                                      </p:cBhvr>
                                    </p:animEffect>
                                  </p:childTnLst>
                                </p:cTn>
                              </p:par>
                              <p:par>
                                <p:cTn id="584" nodeType="withEffect" fill="hold" presetClass="entr" presetID="10">
                                  <p:stCondLst>
                                    <p:cond delay="0"/>
                                  </p:stCondLst>
                                  <p:childTnLst>
                                    <p:set>
                                      <p:cBhvr>
                                        <p:cTn id="585" dur="1" fill="hold">
                                          <p:stCondLst>
                                            <p:cond delay="0"/>
                                          </p:stCondLst>
                                        </p:cTn>
                                        <p:tgtEl>
                                          <p:spTgt spid="730"/>
                                        </p:tgtEl>
                                        <p:attrNameLst>
                                          <p:attrName>style.visibility</p:attrName>
                                        </p:attrNameLst>
                                      </p:cBhvr>
                                      <p:to>
                                        <p:strVal val="visible"/>
                                      </p:to>
                                    </p:set>
                                    <p:animEffect filter="fade" transition="in">
                                      <p:cBhvr additive="repl">
                                        <p:cTn id="586" dur="500"/>
                                        <p:tgtEl>
                                          <p:spTgt spid="730"/>
                                        </p:tgtEl>
                                      </p:cBhvr>
                                    </p:animEffect>
                                  </p:childTnLst>
                                </p:cTn>
                              </p:par>
                              <p:par>
                                <p:cTn id="587" nodeType="withEffect" fill="hold" presetClass="entr" presetID="10">
                                  <p:stCondLst>
                                    <p:cond delay="0"/>
                                  </p:stCondLst>
                                  <p:childTnLst>
                                    <p:set>
                                      <p:cBhvr>
                                        <p:cTn id="588" dur="1" fill="hold">
                                          <p:stCondLst>
                                            <p:cond delay="0"/>
                                          </p:stCondLst>
                                        </p:cTn>
                                        <p:tgtEl>
                                          <p:spTgt spid="731"/>
                                        </p:tgtEl>
                                        <p:attrNameLst>
                                          <p:attrName>style.visibility</p:attrName>
                                        </p:attrNameLst>
                                      </p:cBhvr>
                                      <p:to>
                                        <p:strVal val="visible"/>
                                      </p:to>
                                    </p:set>
                                    <p:animEffect filter="fade" transition="in">
                                      <p:cBhvr additive="repl">
                                        <p:cTn id="589" dur="500"/>
                                        <p:tgtEl>
                                          <p:spTgt spid="731"/>
                                        </p:tgtEl>
                                      </p:cBhvr>
                                    </p:animEffect>
                                  </p:childTnLst>
                                </p:cTn>
                              </p:par>
                              <p:par>
                                <p:cTn id="590" nodeType="withEffect" fill="hold" presetClass="entr" presetID="10">
                                  <p:stCondLst>
                                    <p:cond delay="0"/>
                                  </p:stCondLst>
                                  <p:childTnLst>
                                    <p:set>
                                      <p:cBhvr>
                                        <p:cTn id="591" dur="1" fill="hold">
                                          <p:stCondLst>
                                            <p:cond delay="0"/>
                                          </p:stCondLst>
                                        </p:cTn>
                                        <p:tgtEl>
                                          <p:spTgt spid="733"/>
                                        </p:tgtEl>
                                        <p:attrNameLst>
                                          <p:attrName>style.visibility</p:attrName>
                                        </p:attrNameLst>
                                      </p:cBhvr>
                                      <p:to>
                                        <p:strVal val="visible"/>
                                      </p:to>
                                    </p:set>
                                    <p:animEffect filter="fade" transition="in">
                                      <p:cBhvr additive="repl">
                                        <p:cTn id="592" dur="500"/>
                                        <p:tgtEl>
                                          <p:spTgt spid="733"/>
                                        </p:tgtEl>
                                      </p:cBhvr>
                                    </p:animEffect>
                                  </p:childTnLst>
                                </p:cTn>
                              </p:par>
                            </p:childTnLst>
                          </p:cTn>
                        </p:par>
                        <p:par>
                          <p:cTn id="593" nodeType="afterEffect" fill="hold">
                            <p:stCondLst>
                              <p:cond delay="3750"/>
                            </p:stCondLst>
                            <p:childTnLst>
                              <p:par>
                                <p:cTn id="594" nodeType="afterEffect" fill="hold" presetClass="entr" presetID="22" presetSubtype="8">
                                  <p:stCondLst>
                                    <p:cond delay="0"/>
                                  </p:stCondLst>
                                  <p:childTnLst>
                                    <p:set>
                                      <p:cBhvr>
                                        <p:cTn id="595" dur="1" fill="hold">
                                          <p:stCondLst>
                                            <p:cond delay="0"/>
                                          </p:stCondLst>
                                        </p:cTn>
                                        <p:tgtEl>
                                          <p:spTgt spid="709"/>
                                        </p:tgtEl>
                                        <p:attrNameLst>
                                          <p:attrName>style.visibility</p:attrName>
                                        </p:attrNameLst>
                                      </p:cBhvr>
                                      <p:to>
                                        <p:strVal val="visible"/>
                                      </p:to>
                                    </p:set>
                                    <p:animEffect filter="wipe(left)" transition="in">
                                      <p:cBhvr additive="repl">
                                        <p:cTn id="596" dur="500"/>
                                        <p:tgtEl>
                                          <p:spTgt spid="709"/>
                                        </p:tgtEl>
                                      </p:cBhvr>
                                    </p:animEffect>
                                  </p:childTnLst>
                                </p:cTn>
                              </p:par>
                              <p:par>
                                <p:cTn id="597" nodeType="withEffect" fill="hold" presetClass="entr" presetID="22" presetSubtype="8">
                                  <p:stCondLst>
                                    <p:cond delay="0"/>
                                  </p:stCondLst>
                                  <p:childTnLst>
                                    <p:set>
                                      <p:cBhvr>
                                        <p:cTn id="598" dur="1" fill="hold">
                                          <p:stCondLst>
                                            <p:cond delay="0"/>
                                          </p:stCondLst>
                                        </p:cTn>
                                        <p:tgtEl>
                                          <p:spTgt spid="712"/>
                                        </p:tgtEl>
                                        <p:attrNameLst>
                                          <p:attrName>style.visibility</p:attrName>
                                        </p:attrNameLst>
                                      </p:cBhvr>
                                      <p:to>
                                        <p:strVal val="visible"/>
                                      </p:to>
                                    </p:set>
                                    <p:animEffect filter="wipe(left)" transition="in">
                                      <p:cBhvr additive="repl">
                                        <p:cTn id="599" dur="500"/>
                                        <p:tgtEl>
                                          <p:spTgt spid="712"/>
                                        </p:tgtEl>
                                      </p:cBhvr>
                                    </p:animEffect>
                                  </p:childTnLst>
                                </p:cTn>
                              </p:par>
                              <p:par>
                                <p:cTn id="600" nodeType="withEffect" fill="hold" presetClass="entr" presetID="22" presetSubtype="8">
                                  <p:stCondLst>
                                    <p:cond delay="0"/>
                                  </p:stCondLst>
                                  <p:childTnLst>
                                    <p:set>
                                      <p:cBhvr>
                                        <p:cTn id="601" dur="1" fill="hold">
                                          <p:stCondLst>
                                            <p:cond delay="0"/>
                                          </p:stCondLst>
                                        </p:cTn>
                                        <p:tgtEl>
                                          <p:spTgt spid="719"/>
                                        </p:tgtEl>
                                        <p:attrNameLst>
                                          <p:attrName>style.visibility</p:attrName>
                                        </p:attrNameLst>
                                      </p:cBhvr>
                                      <p:to>
                                        <p:strVal val="visible"/>
                                      </p:to>
                                    </p:set>
                                    <p:animEffect filter="wipe(left)" transition="in">
                                      <p:cBhvr additive="repl">
                                        <p:cTn id="602" dur="500"/>
                                        <p:tgtEl>
                                          <p:spTgt spid="719"/>
                                        </p:tgtEl>
                                      </p:cBhvr>
                                    </p:animEffect>
                                  </p:childTnLst>
                                </p:cTn>
                              </p:par>
                              <p:par>
                                <p:cTn id="603" nodeType="withEffect" fill="hold" presetClass="entr" presetID="22" presetSubtype="8">
                                  <p:stCondLst>
                                    <p:cond delay="0"/>
                                  </p:stCondLst>
                                  <p:childTnLst>
                                    <p:set>
                                      <p:cBhvr>
                                        <p:cTn id="604" dur="1" fill="hold">
                                          <p:stCondLst>
                                            <p:cond delay="0"/>
                                          </p:stCondLst>
                                        </p:cTn>
                                        <p:tgtEl>
                                          <p:spTgt spid="722"/>
                                        </p:tgtEl>
                                        <p:attrNameLst>
                                          <p:attrName>style.visibility</p:attrName>
                                        </p:attrNameLst>
                                      </p:cBhvr>
                                      <p:to>
                                        <p:strVal val="visible"/>
                                      </p:to>
                                    </p:set>
                                    <p:animEffect filter="wipe(left)" transition="in">
                                      <p:cBhvr additive="repl">
                                        <p:cTn id="605" dur="500"/>
                                        <p:tgtEl>
                                          <p:spTgt spid="722"/>
                                        </p:tgtEl>
                                      </p:cBhvr>
                                    </p:animEffect>
                                  </p:childTnLst>
                                </p:cTn>
                              </p:par>
                              <p:par>
                                <p:cTn id="606" nodeType="withEffect" fill="hold" presetClass="entr" presetID="22" presetSubtype="8">
                                  <p:stCondLst>
                                    <p:cond delay="0"/>
                                  </p:stCondLst>
                                  <p:childTnLst>
                                    <p:set>
                                      <p:cBhvr>
                                        <p:cTn id="607" dur="1" fill="hold">
                                          <p:stCondLst>
                                            <p:cond delay="0"/>
                                          </p:stCondLst>
                                        </p:cTn>
                                        <p:tgtEl>
                                          <p:spTgt spid="729"/>
                                        </p:tgtEl>
                                        <p:attrNameLst>
                                          <p:attrName>style.visibility</p:attrName>
                                        </p:attrNameLst>
                                      </p:cBhvr>
                                      <p:to>
                                        <p:strVal val="visible"/>
                                      </p:to>
                                    </p:set>
                                    <p:animEffect filter="wipe(left)" transition="in">
                                      <p:cBhvr additive="repl">
                                        <p:cTn id="608" dur="500"/>
                                        <p:tgtEl>
                                          <p:spTgt spid="729"/>
                                        </p:tgtEl>
                                      </p:cBhvr>
                                    </p:animEffect>
                                  </p:childTnLst>
                                </p:cTn>
                              </p:par>
                              <p:par>
                                <p:cTn id="609" nodeType="withEffect" fill="hold" presetClass="entr" presetID="22" presetSubtype="8">
                                  <p:stCondLst>
                                    <p:cond delay="0"/>
                                  </p:stCondLst>
                                  <p:childTnLst>
                                    <p:set>
                                      <p:cBhvr>
                                        <p:cTn id="610" dur="1" fill="hold">
                                          <p:stCondLst>
                                            <p:cond delay="0"/>
                                          </p:stCondLst>
                                        </p:cTn>
                                        <p:tgtEl>
                                          <p:spTgt spid="732"/>
                                        </p:tgtEl>
                                        <p:attrNameLst>
                                          <p:attrName>style.visibility</p:attrName>
                                        </p:attrNameLst>
                                      </p:cBhvr>
                                      <p:to>
                                        <p:strVal val="visible"/>
                                      </p:to>
                                    </p:set>
                                    <p:animEffect filter="wipe(left)" transition="in">
                                      <p:cBhvr additive="repl">
                                        <p:cTn id="611" dur="500"/>
                                        <p:tgtEl>
                                          <p:spTgt spid="732"/>
                                        </p:tgtEl>
                                      </p:cBhvr>
                                    </p:animEffect>
                                  </p:childTnLst>
                                </p:cTn>
                              </p:par>
                            </p:childTnLst>
                          </p:cTn>
                        </p:par>
                        <p:par>
                          <p:cTn id="612" nodeType="afterEffect" fill="hold">
                            <p:stCondLst>
                              <p:cond delay="4250"/>
                            </p:stCondLst>
                            <p:childTnLst>
                              <p:par>
                                <p:cTn id="613" nodeType="afterEffect" fill="hold" presetClass="entr" presetID="10">
                                  <p:stCondLst>
                                    <p:cond delay="0"/>
                                  </p:stCondLst>
                                  <p:childTnLst>
                                    <p:set>
                                      <p:cBhvr>
                                        <p:cTn id="614" dur="1" fill="hold">
                                          <p:stCondLst>
                                            <p:cond delay="0"/>
                                          </p:stCondLst>
                                        </p:cTn>
                                        <p:tgtEl>
                                          <p:spTgt spid="714"/>
                                        </p:tgtEl>
                                        <p:attrNameLst>
                                          <p:attrName>style.visibility</p:attrName>
                                        </p:attrNameLst>
                                      </p:cBhvr>
                                      <p:to>
                                        <p:strVal val="visible"/>
                                      </p:to>
                                    </p:set>
                                    <p:animEffect filter="fade" transition="in">
                                      <p:cBhvr additive="repl">
                                        <p:cTn id="615" dur="500"/>
                                        <p:tgtEl>
                                          <p:spTgt spid="714"/>
                                        </p:tgtEl>
                                      </p:cBhvr>
                                    </p:animEffect>
                                  </p:childTnLst>
                                </p:cTn>
                              </p:par>
                              <p:par>
                                <p:cTn id="616" nodeType="withEffect" fill="hold" presetClass="entr" presetID="10">
                                  <p:stCondLst>
                                    <p:cond delay="0"/>
                                  </p:stCondLst>
                                  <p:childTnLst>
                                    <p:set>
                                      <p:cBhvr>
                                        <p:cTn id="617" dur="1" fill="hold">
                                          <p:stCondLst>
                                            <p:cond delay="0"/>
                                          </p:stCondLst>
                                        </p:cTn>
                                        <p:tgtEl>
                                          <p:spTgt spid="715"/>
                                        </p:tgtEl>
                                        <p:attrNameLst>
                                          <p:attrName>style.visibility</p:attrName>
                                        </p:attrNameLst>
                                      </p:cBhvr>
                                      <p:to>
                                        <p:strVal val="visible"/>
                                      </p:to>
                                    </p:set>
                                    <p:animEffect filter="fade" transition="in">
                                      <p:cBhvr additive="repl">
                                        <p:cTn id="618" dur="500"/>
                                        <p:tgtEl>
                                          <p:spTgt spid="715"/>
                                        </p:tgtEl>
                                      </p:cBhvr>
                                    </p:animEffect>
                                  </p:childTnLst>
                                </p:cTn>
                              </p:par>
                              <p:par>
                                <p:cTn id="619" nodeType="withEffect" fill="hold" presetClass="entr" presetID="10">
                                  <p:stCondLst>
                                    <p:cond delay="0"/>
                                  </p:stCondLst>
                                  <p:childTnLst>
                                    <p:set>
                                      <p:cBhvr>
                                        <p:cTn id="620" dur="1" fill="hold">
                                          <p:stCondLst>
                                            <p:cond delay="0"/>
                                          </p:stCondLst>
                                        </p:cTn>
                                        <p:tgtEl>
                                          <p:spTgt spid="724"/>
                                        </p:tgtEl>
                                        <p:attrNameLst>
                                          <p:attrName>style.visibility</p:attrName>
                                        </p:attrNameLst>
                                      </p:cBhvr>
                                      <p:to>
                                        <p:strVal val="visible"/>
                                      </p:to>
                                    </p:set>
                                    <p:animEffect filter="fade" transition="in">
                                      <p:cBhvr additive="repl">
                                        <p:cTn id="621" dur="500"/>
                                        <p:tgtEl>
                                          <p:spTgt spid="724"/>
                                        </p:tgtEl>
                                      </p:cBhvr>
                                    </p:animEffect>
                                  </p:childTnLst>
                                </p:cTn>
                              </p:par>
                              <p:par>
                                <p:cTn id="622" nodeType="withEffect" fill="hold" presetClass="entr" presetID="10">
                                  <p:stCondLst>
                                    <p:cond delay="0"/>
                                  </p:stCondLst>
                                  <p:childTnLst>
                                    <p:set>
                                      <p:cBhvr>
                                        <p:cTn id="623" dur="1" fill="hold">
                                          <p:stCondLst>
                                            <p:cond delay="0"/>
                                          </p:stCondLst>
                                        </p:cTn>
                                        <p:tgtEl>
                                          <p:spTgt spid="725"/>
                                        </p:tgtEl>
                                        <p:attrNameLst>
                                          <p:attrName>style.visibility</p:attrName>
                                        </p:attrNameLst>
                                      </p:cBhvr>
                                      <p:to>
                                        <p:strVal val="visible"/>
                                      </p:to>
                                    </p:set>
                                    <p:animEffect filter="fade" transition="in">
                                      <p:cBhvr additive="repl">
                                        <p:cTn id="624" dur="500"/>
                                        <p:tgtEl>
                                          <p:spTgt spid="725"/>
                                        </p:tgtEl>
                                      </p:cBhvr>
                                    </p:animEffect>
                                  </p:childTnLst>
                                </p:cTn>
                              </p:par>
                              <p:par>
                                <p:cTn id="625" nodeType="withEffect" fill="hold" presetClass="entr" presetID="10">
                                  <p:stCondLst>
                                    <p:cond delay="0"/>
                                  </p:stCondLst>
                                  <p:childTnLst>
                                    <p:set>
                                      <p:cBhvr>
                                        <p:cTn id="626" dur="1" fill="hold">
                                          <p:stCondLst>
                                            <p:cond delay="0"/>
                                          </p:stCondLst>
                                        </p:cTn>
                                        <p:tgtEl>
                                          <p:spTgt spid="734"/>
                                        </p:tgtEl>
                                        <p:attrNameLst>
                                          <p:attrName>style.visibility</p:attrName>
                                        </p:attrNameLst>
                                      </p:cBhvr>
                                      <p:to>
                                        <p:strVal val="visible"/>
                                      </p:to>
                                    </p:set>
                                    <p:animEffect filter="fade" transition="in">
                                      <p:cBhvr additive="repl">
                                        <p:cTn id="627" dur="500"/>
                                        <p:tgtEl>
                                          <p:spTgt spid="734"/>
                                        </p:tgtEl>
                                      </p:cBhvr>
                                    </p:animEffect>
                                  </p:childTnLst>
                                </p:cTn>
                              </p:par>
                              <p:par>
                                <p:cTn id="628" nodeType="withEffect" fill="hold" presetClass="entr" presetID="10">
                                  <p:stCondLst>
                                    <p:cond delay="0"/>
                                  </p:stCondLst>
                                  <p:childTnLst>
                                    <p:set>
                                      <p:cBhvr>
                                        <p:cTn id="629" dur="1" fill="hold">
                                          <p:stCondLst>
                                            <p:cond delay="0"/>
                                          </p:stCondLst>
                                        </p:cTn>
                                        <p:tgtEl>
                                          <p:spTgt spid="735"/>
                                        </p:tgtEl>
                                        <p:attrNameLst>
                                          <p:attrName>style.visibility</p:attrName>
                                        </p:attrNameLst>
                                      </p:cBhvr>
                                      <p:to>
                                        <p:strVal val="visible"/>
                                      </p:to>
                                    </p:set>
                                    <p:animEffect filter="fade" transition="in">
                                      <p:cBhvr additive="repl">
                                        <p:cTn id="63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aphicFrame>
        <p:nvGraphicFramePr>
          <p:cNvPr id="739" name="Chart 25"/>
          <p:cNvGraphicFramePr/>
          <p:nvPr/>
        </p:nvGraphicFramePr>
        <p:xfrm>
          <a:off x="414360" y="1727280"/>
          <a:ext cx="2724120" cy="2593800"/>
        </p:xfrm>
        <a:graphic>
          <a:graphicData uri="http://schemas.openxmlformats.org/presentationml/2006/ole">
            <p:oleObj progId="Excel.Sheet.12" r:id="rId1" spid="">
              <p:embed/>
              <p:pic>
                <p:nvPicPr>
                  <p:cNvPr id="740" name="Chart 25" descr=""/>
                  <p:cNvPicPr/>
                  <p:nvPr/>
                </p:nvPicPr>
                <p:blipFill>
                  <a:blip r:embed="rId2"/>
                  <a:stretch/>
                </p:blipFill>
                <p:spPr>
                  <a:xfrm>
                    <a:off x="414360" y="1727280"/>
                    <a:ext cx="2724120" cy="2593800"/>
                  </a:xfrm>
                  <a:prstGeom prst="rect">
                    <a:avLst/>
                  </a:prstGeom>
                  <a:ln w="0">
                    <a:noFill/>
                  </a:ln>
                </p:spPr>
              </p:pic>
            </p:oleObj>
          </a:graphicData>
        </a:graphic>
      </p:graphicFrame>
      <p:sp>
        <p:nvSpPr>
          <p:cNvPr id="741" name="Freeform 60"/>
          <p:cNvSpPr/>
          <p:nvPr/>
        </p:nvSpPr>
        <p:spPr>
          <a:xfrm>
            <a:off x="1407960" y="2685960"/>
            <a:ext cx="655920" cy="65556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157d42"/>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742" name="TextBox 27"/>
          <p:cNvSpPr/>
          <p:nvPr/>
        </p:nvSpPr>
        <p:spPr>
          <a:xfrm>
            <a:off x="515880" y="4445280"/>
            <a:ext cx="27450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consectetur adipiscing elit aenean sit edit it with your data.</a:t>
            </a:r>
            <a:endParaRPr b="0" lang="en-US" sz="1200" spc="-1" strike="noStrike">
              <a:solidFill>
                <a:srgbClr val="313c3f"/>
              </a:solidFill>
              <a:latin typeface="Source Sans Pro"/>
            </a:endParaRPr>
          </a:p>
        </p:txBody>
      </p:sp>
      <p:sp>
        <p:nvSpPr>
          <p:cNvPr id="743" name="TextBox 32"/>
          <p:cNvSpPr/>
          <p:nvPr/>
        </p:nvSpPr>
        <p:spPr>
          <a:xfrm>
            <a:off x="515880" y="434664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744" name="Straight Connector 33"/>
          <p:cNvSpPr/>
          <p:nvPr/>
        </p:nvSpPr>
        <p:spPr>
          <a:xfrm>
            <a:off x="6095880" y="1557360"/>
            <a:ext cx="0" cy="45878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745" name="TextBox 34"/>
          <p:cNvSpPr/>
          <p:nvPr/>
        </p:nvSpPr>
        <p:spPr>
          <a:xfrm>
            <a:off x="6389640" y="4401360"/>
            <a:ext cx="25210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c3f"/>
              </a:solidFill>
              <a:latin typeface="Source Sans Pro"/>
            </a:endParaRPr>
          </a:p>
        </p:txBody>
      </p:sp>
      <p:sp>
        <p:nvSpPr>
          <p:cNvPr id="746" name="TextBox 35"/>
          <p:cNvSpPr/>
          <p:nvPr/>
        </p:nvSpPr>
        <p:spPr>
          <a:xfrm>
            <a:off x="6389640" y="4264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747" name="Oval 36"/>
          <p:cNvSpPr/>
          <p:nvPr/>
        </p:nvSpPr>
        <p:spPr>
          <a:xfrm>
            <a:off x="576360" y="2647800"/>
            <a:ext cx="498240" cy="49860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48" name="TextBox 37"/>
          <p:cNvSpPr/>
          <p:nvPr/>
        </p:nvSpPr>
        <p:spPr>
          <a:xfrm>
            <a:off x="580680" y="27590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5%</a:t>
            </a:r>
            <a:endParaRPr b="0" lang="en-US" sz="1200" spc="-1" strike="noStrike">
              <a:solidFill>
                <a:srgbClr val="313c3f"/>
              </a:solidFill>
              <a:latin typeface="Source Sans Pro"/>
            </a:endParaRPr>
          </a:p>
        </p:txBody>
      </p:sp>
      <p:graphicFrame>
        <p:nvGraphicFramePr>
          <p:cNvPr id="749" name="Chart 40"/>
          <p:cNvGraphicFramePr/>
          <p:nvPr/>
        </p:nvGraphicFramePr>
        <p:xfrm>
          <a:off x="3492360" y="1495440"/>
          <a:ext cx="2583000" cy="4503600"/>
        </p:xfrm>
        <a:graphic>
          <a:graphicData uri="http://schemas.openxmlformats.org/presentationml/2006/ole">
            <p:oleObj progId="Excel.Sheet.12" r:id="rId3" spid="">
              <p:embed/>
              <p:pic>
                <p:nvPicPr>
                  <p:cNvPr id="750" name="Chart 40" descr=""/>
                  <p:cNvPicPr/>
                  <p:nvPr/>
                </p:nvPicPr>
                <p:blipFill>
                  <a:blip r:embed="rId4"/>
                  <a:stretch/>
                </p:blipFill>
                <p:spPr>
                  <a:xfrm>
                    <a:off x="3492360" y="1495440"/>
                    <a:ext cx="2583000" cy="4503600"/>
                  </a:xfrm>
                  <a:prstGeom prst="rect">
                    <a:avLst/>
                  </a:prstGeom>
                  <a:ln w="0">
                    <a:noFill/>
                  </a:ln>
                </p:spPr>
              </p:pic>
            </p:oleObj>
          </a:graphicData>
        </a:graphic>
      </p:graphicFrame>
      <p:graphicFrame>
        <p:nvGraphicFramePr>
          <p:cNvPr id="751" name="Chart 41"/>
          <p:cNvGraphicFramePr/>
          <p:nvPr/>
        </p:nvGraphicFramePr>
        <p:xfrm>
          <a:off x="6335640" y="1727280"/>
          <a:ext cx="2724120" cy="2593800"/>
        </p:xfrm>
        <a:graphic>
          <a:graphicData uri="http://schemas.openxmlformats.org/presentationml/2006/ole">
            <p:oleObj progId="Excel.Sheet.12" r:id="rId5" spid="">
              <p:embed/>
              <p:pic>
                <p:nvPicPr>
                  <p:cNvPr id="752" name="Chart 41" descr=""/>
                  <p:cNvPicPr/>
                  <p:nvPr/>
                </p:nvPicPr>
                <p:blipFill>
                  <a:blip r:embed="rId6"/>
                  <a:stretch/>
                </p:blipFill>
                <p:spPr>
                  <a:xfrm>
                    <a:off x="6335640" y="1727280"/>
                    <a:ext cx="2724120" cy="2593800"/>
                  </a:xfrm>
                  <a:prstGeom prst="rect">
                    <a:avLst/>
                  </a:prstGeom>
                  <a:ln w="0">
                    <a:noFill/>
                  </a:ln>
                </p:spPr>
              </p:pic>
            </p:oleObj>
          </a:graphicData>
        </a:graphic>
      </p:graphicFrame>
      <p:sp>
        <p:nvSpPr>
          <p:cNvPr id="753" name="Oval 44"/>
          <p:cNvSpPr/>
          <p:nvPr/>
        </p:nvSpPr>
        <p:spPr>
          <a:xfrm>
            <a:off x="6603840" y="2301840"/>
            <a:ext cx="498600" cy="49680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54" name="TextBox 46"/>
          <p:cNvSpPr/>
          <p:nvPr/>
        </p:nvSpPr>
        <p:spPr>
          <a:xfrm>
            <a:off x="6607440" y="2411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c3f"/>
              </a:solidFill>
              <a:latin typeface="Source Sans Pro"/>
            </a:endParaRPr>
          </a:p>
        </p:txBody>
      </p:sp>
      <p:pic>
        <p:nvPicPr>
          <p:cNvPr id="755" name="Group 47" descr=""/>
          <p:cNvPicPr/>
          <p:nvPr/>
        </p:nvPicPr>
        <p:blipFill>
          <a:blip r:embed="rId7"/>
          <a:stretch/>
        </p:blipFill>
        <p:spPr>
          <a:xfrm>
            <a:off x="7375680" y="2719440"/>
            <a:ext cx="641160" cy="609480"/>
          </a:xfrm>
          <a:prstGeom prst="rect">
            <a:avLst/>
          </a:prstGeom>
          <a:ln w="0">
            <a:noFill/>
          </a:ln>
        </p:spPr>
      </p:pic>
      <p:graphicFrame>
        <p:nvGraphicFramePr>
          <p:cNvPr id="756" name="Chart 57"/>
          <p:cNvGraphicFramePr/>
          <p:nvPr/>
        </p:nvGraphicFramePr>
        <p:xfrm>
          <a:off x="8994600" y="1495440"/>
          <a:ext cx="2583000" cy="4503600"/>
        </p:xfrm>
        <a:graphic>
          <a:graphicData uri="http://schemas.openxmlformats.org/presentationml/2006/ole">
            <p:oleObj progId="Excel.Sheet.12" r:id="rId8" spid="">
              <p:embed/>
              <p:pic>
                <p:nvPicPr>
                  <p:cNvPr id="757" name="Chart 57" descr=""/>
                  <p:cNvPicPr/>
                  <p:nvPr/>
                </p:nvPicPr>
                <p:blipFill>
                  <a:blip r:embed="rId9"/>
                  <a:stretch/>
                </p:blipFill>
                <p:spPr>
                  <a:xfrm>
                    <a:off x="8994600" y="1495440"/>
                    <a:ext cx="2583000" cy="4503600"/>
                  </a:xfrm>
                  <a:prstGeom prst="rect">
                    <a:avLst/>
                  </a:prstGeom>
                  <a:ln w="0">
                    <a:noFill/>
                  </a:ln>
                </p:spPr>
              </p:pic>
            </p:oleObj>
          </a:graphicData>
        </a:graphic>
      </p:graphicFrame>
    </p:spTree>
  </p:cSld>
  <p:transition spd="med">
    <p:fad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10">
                                  <p:stCondLst>
                                    <p:cond delay="0"/>
                                  </p:stCondLst>
                                  <p:childTnLst>
                                    <p:set>
                                      <p:cBhvr>
                                        <p:cTn id="636" dur="1" fill="hold">
                                          <p:stCondLst>
                                            <p:cond delay="0"/>
                                          </p:stCondLst>
                                        </p:cTn>
                                        <p:tgtEl>
                                          <p:spTgt spid="738"/>
                                        </p:tgtEl>
                                        <p:attrNameLst>
                                          <p:attrName>style.visibility</p:attrName>
                                        </p:attrNameLst>
                                      </p:cBhvr>
                                      <p:to>
                                        <p:strVal val="visible"/>
                                      </p:to>
                                    </p:set>
                                    <p:animEffect filter="fade" transition="in">
                                      <p:cBhvr additive="repl">
                                        <p:cTn id="637" dur="500"/>
                                        <p:tgtEl>
                                          <p:spTgt spid="738"/>
                                        </p:tgtEl>
                                      </p:cBhvr>
                                    </p:animEffect>
                                  </p:childTnLst>
                                </p:cTn>
                              </p:par>
                            </p:childTnLst>
                          </p:cTn>
                        </p:par>
                        <p:par>
                          <p:cTn id="638" nodeType="afterEffect" fill="hold">
                            <p:stCondLst>
                              <p:cond delay="500"/>
                            </p:stCondLst>
                            <p:childTnLst>
                              <p:par>
                                <p:cTn id="639" nodeType="afterEffect" fill="hold" presetClass="entr" presetID="16" presetSubtype="42">
                                  <p:stCondLst>
                                    <p:cond delay="0"/>
                                  </p:stCondLst>
                                  <p:childTnLst>
                                    <p:set>
                                      <p:cBhvr>
                                        <p:cTn id="640" dur="1" fill="hold">
                                          <p:stCondLst>
                                            <p:cond delay="0"/>
                                          </p:stCondLst>
                                        </p:cTn>
                                        <p:tgtEl>
                                          <p:spTgt spid="744"/>
                                        </p:tgtEl>
                                        <p:attrNameLst>
                                          <p:attrName>style.visibility</p:attrName>
                                        </p:attrNameLst>
                                      </p:cBhvr>
                                      <p:to>
                                        <p:strVal val="visible"/>
                                      </p:to>
                                    </p:set>
                                    <p:animEffect filter="barn(outHorizontal)" transition="in">
                                      <p:cBhvr additive="repl">
                                        <p:cTn id="641" dur="500"/>
                                        <p:tgtEl>
                                          <p:spTgt spid="744"/>
                                        </p:tgtEl>
                                      </p:cBhvr>
                                    </p:animEffect>
                                  </p:childTnLst>
                                </p:cTn>
                              </p:par>
                            </p:childTnLst>
                          </p:cTn>
                        </p:par>
                        <p:par>
                          <p:cTn id="642" nodeType="afterEffect" fill="hold">
                            <p:stCondLst>
                              <p:cond delay="1000"/>
                            </p:stCondLst>
                            <p:childTnLst>
                              <p:par>
                                <p:cTn id="643" nodeType="afterEffect" fill="hold" presetClass="entr" presetID="10">
                                  <p:stCondLst>
                                    <p:cond delay="0"/>
                                  </p:stCondLst>
                                  <p:childTnLst>
                                    <p:set>
                                      <p:cBhvr>
                                        <p:cTn id="644" dur="1" fill="hold">
                                          <p:stCondLst>
                                            <p:cond delay="0"/>
                                          </p:stCondLst>
                                        </p:cTn>
                                        <p:tgtEl>
                                          <p:spTgt spid="741"/>
                                        </p:tgtEl>
                                        <p:attrNameLst>
                                          <p:attrName>style.visibility</p:attrName>
                                        </p:attrNameLst>
                                      </p:cBhvr>
                                      <p:to>
                                        <p:strVal val="visible"/>
                                      </p:to>
                                    </p:set>
                                    <p:animEffect filter="fade" transition="in">
                                      <p:cBhvr additive="repl">
                                        <p:cTn id="645" dur="500"/>
                                        <p:tgtEl>
                                          <p:spTgt spid="741"/>
                                        </p:tgtEl>
                                      </p:cBhvr>
                                    </p:animEffect>
                                  </p:childTnLst>
                                </p:cTn>
                              </p:par>
                              <p:par>
                                <p:cTn id="646" nodeType="withEffect" fill="hold" presetClass="entr" presetID="10">
                                  <p:stCondLst>
                                    <p:cond delay="0"/>
                                  </p:stCondLst>
                                  <p:childTnLst>
                                    <p:set>
                                      <p:cBhvr>
                                        <p:cTn id="647" dur="1" fill="hold">
                                          <p:stCondLst>
                                            <p:cond delay="0"/>
                                          </p:stCondLst>
                                        </p:cTn>
                                        <p:tgtEl>
                                          <p:spTgt spid="755"/>
                                        </p:tgtEl>
                                        <p:attrNameLst>
                                          <p:attrName>style.visibility</p:attrName>
                                        </p:attrNameLst>
                                      </p:cBhvr>
                                      <p:to>
                                        <p:strVal val="visible"/>
                                      </p:to>
                                    </p:set>
                                    <p:animEffect filter="fade" transition="in">
                                      <p:cBhvr additive="repl">
                                        <p:cTn id="648" dur="500"/>
                                        <p:tgtEl>
                                          <p:spTgt spid="755"/>
                                        </p:tgtEl>
                                      </p:cBhvr>
                                    </p:animEffect>
                                  </p:childTnLst>
                                </p:cTn>
                              </p:par>
                            </p:childTnLst>
                          </p:cTn>
                        </p:par>
                        <p:par>
                          <p:cTn id="649" nodeType="afterEffect" fill="hold">
                            <p:stCondLst>
                              <p:cond delay="1500"/>
                            </p:stCondLst>
                            <p:childTnLst>
                              <p:par>
                                <p:cTn id="650" nodeType="afterEffect" fill="hold" presetClass="entr" presetID="21" presetSubtype="1">
                                  <p:stCondLst>
                                    <p:cond delay="0"/>
                                  </p:stCondLst>
                                  <p:childTnLst>
                                    <p:set>
                                      <p:cBhvr>
                                        <p:cTn id="651" dur="1" fill="hold">
                                          <p:stCondLst>
                                            <p:cond delay="0"/>
                                          </p:stCondLst>
                                        </p:cTn>
                                        <p:tgtEl>
                                          <p:spTgt spid="740"/>
                                        </p:tgtEl>
                                        <p:attrNameLst>
                                          <p:attrName>style.visibility</p:attrName>
                                        </p:attrNameLst>
                                      </p:cBhvr>
                                      <p:to>
                                        <p:strVal val="visible"/>
                                      </p:to>
                                    </p:set>
                                    <p:animEffect filter="wheel(1)" transition="in">
                                      <p:cBhvr additive="repl">
                                        <p:cTn id="652" dur="1250"/>
                                        <p:tgtEl>
                                          <p:spTgt spid="740"/>
                                        </p:tgtEl>
                                      </p:cBhvr>
                                    </p:animEffect>
                                  </p:childTnLst>
                                </p:cTn>
                              </p:par>
                              <p:par>
                                <p:cTn id="653" nodeType="withEffect" fill="hold" presetClass="entr" presetID="21" presetSubtype="1">
                                  <p:stCondLst>
                                    <p:cond delay="0"/>
                                  </p:stCondLst>
                                  <p:childTnLst>
                                    <p:set>
                                      <p:cBhvr>
                                        <p:cTn id="654" dur="1" fill="hold">
                                          <p:stCondLst>
                                            <p:cond delay="0"/>
                                          </p:stCondLst>
                                        </p:cTn>
                                        <p:tgtEl>
                                          <p:spTgt spid="752"/>
                                        </p:tgtEl>
                                        <p:attrNameLst>
                                          <p:attrName>style.visibility</p:attrName>
                                        </p:attrNameLst>
                                      </p:cBhvr>
                                      <p:to>
                                        <p:strVal val="visible"/>
                                      </p:to>
                                    </p:set>
                                    <p:animEffect filter="wheel(1)" transition="in">
                                      <p:cBhvr additive="repl">
                                        <p:cTn id="655" dur="1250"/>
                                        <p:tgtEl>
                                          <p:spTgt spid="752"/>
                                        </p:tgtEl>
                                      </p:cBhvr>
                                    </p:animEffect>
                                  </p:childTnLst>
                                </p:cTn>
                              </p:par>
                            </p:childTnLst>
                          </p:cTn>
                        </p:par>
                        <p:par>
                          <p:cTn id="656" nodeType="afterEffect" fill="hold">
                            <p:stCondLst>
                              <p:cond delay="2750"/>
                            </p:stCondLst>
                            <p:childTnLst>
                              <p:par>
                                <p:cTn id="657" nodeType="afterEffect" fill="hold" presetClass="entr" presetID="53" presetSubtype="16">
                                  <p:stCondLst>
                                    <p:cond delay="0"/>
                                  </p:stCondLst>
                                  <p:childTnLst>
                                    <p:set>
                                      <p:cBhvr>
                                        <p:cTn id="658" dur="1" fill="hold">
                                          <p:stCondLst>
                                            <p:cond delay="0"/>
                                          </p:stCondLst>
                                        </p:cTn>
                                        <p:tgtEl>
                                          <p:spTgt spid="753"/>
                                        </p:tgtEl>
                                        <p:attrNameLst>
                                          <p:attrName>style.visibility</p:attrName>
                                        </p:attrNameLst>
                                      </p:cBhvr>
                                      <p:to>
                                        <p:strVal val="visible"/>
                                      </p:to>
                                    </p:set>
                                    <p:anim calcmode="lin" valueType="num">
                                      <p:cBhvr additive="repl">
                                        <p:cTn id="659" dur="500" fill="hold"/>
                                        <p:tgtEl>
                                          <p:spTgt spid="753"/>
                                        </p:tgtEl>
                                        <p:attrNameLst>
                                          <p:attrName>ppt_w</p:attrName>
                                        </p:attrNameLst>
                                      </p:cBhvr>
                                      <p:tavLst>
                                        <p:tav tm="0">
                                          <p:val>
                                            <p:fltVal val="0"/>
                                          </p:val>
                                        </p:tav>
                                        <p:tav tm="100000">
                                          <p:val>
                                            <p:strVal val="#ppt_w"/>
                                          </p:val>
                                        </p:tav>
                                      </p:tavLst>
                                    </p:anim>
                                    <p:anim calcmode="lin" valueType="num">
                                      <p:cBhvr additive="repl">
                                        <p:cTn id="660" dur="500" fill="hold"/>
                                        <p:tgtEl>
                                          <p:spTgt spid="753"/>
                                        </p:tgtEl>
                                        <p:attrNameLst>
                                          <p:attrName>ppt_h</p:attrName>
                                        </p:attrNameLst>
                                      </p:cBhvr>
                                      <p:tavLst>
                                        <p:tav tm="0">
                                          <p:val>
                                            <p:fltVal val="0"/>
                                          </p:val>
                                        </p:tav>
                                        <p:tav tm="100000">
                                          <p:val>
                                            <p:strVal val="#ppt_h"/>
                                          </p:val>
                                        </p:tav>
                                      </p:tavLst>
                                    </p:anim>
                                    <p:animEffect filter="fade" transition="in">
                                      <p:cBhvr additive="repl">
                                        <p:cTn id="661" dur="500"/>
                                        <p:tgtEl>
                                          <p:spTgt spid="753"/>
                                        </p:tgtEl>
                                      </p:cBhvr>
                                    </p:animEffect>
                                  </p:childTnLst>
                                </p:cTn>
                              </p:par>
                              <p:par>
                                <p:cTn id="662" nodeType="withEffect" fill="hold" presetClass="entr" presetID="10">
                                  <p:stCondLst>
                                    <p:cond delay="0"/>
                                  </p:stCondLst>
                                  <p:childTnLst>
                                    <p:set>
                                      <p:cBhvr>
                                        <p:cTn id="663" dur="1" fill="hold">
                                          <p:stCondLst>
                                            <p:cond delay="0"/>
                                          </p:stCondLst>
                                        </p:cTn>
                                        <p:tgtEl>
                                          <p:spTgt spid="754"/>
                                        </p:tgtEl>
                                        <p:attrNameLst>
                                          <p:attrName>style.visibility</p:attrName>
                                        </p:attrNameLst>
                                      </p:cBhvr>
                                      <p:to>
                                        <p:strVal val="visible"/>
                                      </p:to>
                                    </p:set>
                                    <p:animEffect filter="fade" transition="in">
                                      <p:cBhvr additive="repl">
                                        <p:cTn id="664" dur="500"/>
                                        <p:tgtEl>
                                          <p:spTgt spid="754"/>
                                        </p:tgtEl>
                                      </p:cBhvr>
                                    </p:animEffect>
                                  </p:childTnLst>
                                </p:cTn>
                              </p:par>
                              <p:par>
                                <p:cTn id="665" nodeType="withEffect" fill="hold" presetClass="entr" presetID="53" presetSubtype="16">
                                  <p:stCondLst>
                                    <p:cond delay="0"/>
                                  </p:stCondLst>
                                  <p:childTnLst>
                                    <p:set>
                                      <p:cBhvr>
                                        <p:cTn id="666" dur="1" fill="hold">
                                          <p:stCondLst>
                                            <p:cond delay="0"/>
                                          </p:stCondLst>
                                        </p:cTn>
                                        <p:tgtEl>
                                          <p:spTgt spid="747"/>
                                        </p:tgtEl>
                                        <p:attrNameLst>
                                          <p:attrName>style.visibility</p:attrName>
                                        </p:attrNameLst>
                                      </p:cBhvr>
                                      <p:to>
                                        <p:strVal val="visible"/>
                                      </p:to>
                                    </p:set>
                                    <p:anim calcmode="lin" valueType="num">
                                      <p:cBhvr additive="repl">
                                        <p:cTn id="667" dur="500" fill="hold"/>
                                        <p:tgtEl>
                                          <p:spTgt spid="747"/>
                                        </p:tgtEl>
                                        <p:attrNameLst>
                                          <p:attrName>ppt_w</p:attrName>
                                        </p:attrNameLst>
                                      </p:cBhvr>
                                      <p:tavLst>
                                        <p:tav tm="0">
                                          <p:val>
                                            <p:fltVal val="0"/>
                                          </p:val>
                                        </p:tav>
                                        <p:tav tm="100000">
                                          <p:val>
                                            <p:strVal val="#ppt_w"/>
                                          </p:val>
                                        </p:tav>
                                      </p:tavLst>
                                    </p:anim>
                                    <p:anim calcmode="lin" valueType="num">
                                      <p:cBhvr additive="repl">
                                        <p:cTn id="668" dur="500" fill="hold"/>
                                        <p:tgtEl>
                                          <p:spTgt spid="747"/>
                                        </p:tgtEl>
                                        <p:attrNameLst>
                                          <p:attrName>ppt_h</p:attrName>
                                        </p:attrNameLst>
                                      </p:cBhvr>
                                      <p:tavLst>
                                        <p:tav tm="0">
                                          <p:val>
                                            <p:fltVal val="0"/>
                                          </p:val>
                                        </p:tav>
                                        <p:tav tm="100000">
                                          <p:val>
                                            <p:strVal val="#ppt_h"/>
                                          </p:val>
                                        </p:tav>
                                      </p:tavLst>
                                    </p:anim>
                                    <p:animEffect filter="fade" transition="in">
                                      <p:cBhvr additive="repl">
                                        <p:cTn id="669" dur="500"/>
                                        <p:tgtEl>
                                          <p:spTgt spid="747"/>
                                        </p:tgtEl>
                                      </p:cBhvr>
                                    </p:animEffect>
                                  </p:childTnLst>
                                </p:cTn>
                              </p:par>
                              <p:par>
                                <p:cTn id="670" nodeType="withEffect" fill="hold" presetClass="entr" presetID="10">
                                  <p:stCondLst>
                                    <p:cond delay="0"/>
                                  </p:stCondLst>
                                  <p:childTnLst>
                                    <p:set>
                                      <p:cBhvr>
                                        <p:cTn id="671" dur="1" fill="hold">
                                          <p:stCondLst>
                                            <p:cond delay="0"/>
                                          </p:stCondLst>
                                        </p:cTn>
                                        <p:tgtEl>
                                          <p:spTgt spid="748"/>
                                        </p:tgtEl>
                                        <p:attrNameLst>
                                          <p:attrName>style.visibility</p:attrName>
                                        </p:attrNameLst>
                                      </p:cBhvr>
                                      <p:to>
                                        <p:strVal val="visible"/>
                                      </p:to>
                                    </p:set>
                                    <p:animEffect filter="fade" transition="in">
                                      <p:cBhvr additive="repl">
                                        <p:cTn id="672" dur="500"/>
                                        <p:tgtEl>
                                          <p:spTgt spid="748"/>
                                        </p:tgtEl>
                                      </p:cBhvr>
                                    </p:animEffect>
                                  </p:childTnLst>
                                </p:cTn>
                              </p:par>
                            </p:childTnLst>
                          </p:cTn>
                        </p:par>
                        <p:par>
                          <p:cTn id="673" nodeType="afterEffect" fill="hold">
                            <p:stCondLst>
                              <p:cond delay="3250"/>
                            </p:stCondLst>
                            <p:childTnLst>
                              <p:par>
                                <p:cTn id="674" nodeType="afterEffect" fill="hold" presetClass="entr" presetID="22" presetSubtype="8">
                                  <p:stCondLst>
                                    <p:cond delay="0"/>
                                  </p:stCondLst>
                                  <p:childTnLst>
                                    <p:set>
                                      <p:cBhvr>
                                        <p:cTn id="675" dur="1" fill="hold">
                                          <p:stCondLst>
                                            <p:cond delay="0"/>
                                          </p:stCondLst>
                                        </p:cTn>
                                        <p:tgtEl>
                                          <p:spTgt spid="743"/>
                                        </p:tgtEl>
                                        <p:attrNameLst>
                                          <p:attrName>style.visibility</p:attrName>
                                        </p:attrNameLst>
                                      </p:cBhvr>
                                      <p:to>
                                        <p:strVal val="visible"/>
                                      </p:to>
                                    </p:set>
                                    <p:animEffect filter="wipe(left)" transition="in">
                                      <p:cBhvr additive="repl">
                                        <p:cTn id="676" dur="500"/>
                                        <p:tgtEl>
                                          <p:spTgt spid="743"/>
                                        </p:tgtEl>
                                      </p:cBhvr>
                                    </p:animEffect>
                                  </p:childTnLst>
                                </p:cTn>
                              </p:par>
                              <p:par>
                                <p:cTn id="677" nodeType="withEffect" fill="hold" presetClass="entr" presetID="22" presetSubtype="8">
                                  <p:stCondLst>
                                    <p:cond delay="0"/>
                                  </p:stCondLst>
                                  <p:childTnLst>
                                    <p:set>
                                      <p:cBhvr>
                                        <p:cTn id="678" dur="1" fill="hold">
                                          <p:stCondLst>
                                            <p:cond delay="0"/>
                                          </p:stCondLst>
                                        </p:cTn>
                                        <p:tgtEl>
                                          <p:spTgt spid="746"/>
                                        </p:tgtEl>
                                        <p:attrNameLst>
                                          <p:attrName>style.visibility</p:attrName>
                                        </p:attrNameLst>
                                      </p:cBhvr>
                                      <p:to>
                                        <p:strVal val="visible"/>
                                      </p:to>
                                    </p:set>
                                    <p:animEffect filter="wipe(left)" transition="in">
                                      <p:cBhvr additive="repl">
                                        <p:cTn id="679" dur="500"/>
                                        <p:tgtEl>
                                          <p:spTgt spid="746"/>
                                        </p:tgtEl>
                                      </p:cBhvr>
                                    </p:animEffect>
                                  </p:childTnLst>
                                </p:cTn>
                              </p:par>
                              <p:par>
                                <p:cTn id="680" nodeType="withEffect" fill="hold" presetClass="entr" presetID="22" presetSubtype="8">
                                  <p:stCondLst>
                                    <p:cond delay="0"/>
                                  </p:stCondLst>
                                  <p:childTnLst>
                                    <p:set>
                                      <p:cBhvr>
                                        <p:cTn id="681" dur="1" fill="hold">
                                          <p:stCondLst>
                                            <p:cond delay="0"/>
                                          </p:stCondLst>
                                        </p:cTn>
                                        <p:tgtEl>
                                          <p:spTgt spid="742"/>
                                        </p:tgtEl>
                                        <p:attrNameLst>
                                          <p:attrName>style.visibility</p:attrName>
                                        </p:attrNameLst>
                                      </p:cBhvr>
                                      <p:to>
                                        <p:strVal val="visible"/>
                                      </p:to>
                                    </p:set>
                                    <p:animEffect filter="wipe(left)" transition="in">
                                      <p:cBhvr additive="repl">
                                        <p:cTn id="682" dur="500"/>
                                        <p:tgtEl>
                                          <p:spTgt spid="742"/>
                                        </p:tgtEl>
                                      </p:cBhvr>
                                    </p:animEffect>
                                  </p:childTnLst>
                                </p:cTn>
                              </p:par>
                              <p:par>
                                <p:cTn id="683" nodeType="withEffect" fill="hold" presetClass="entr" presetID="22" presetSubtype="8">
                                  <p:stCondLst>
                                    <p:cond delay="0"/>
                                  </p:stCondLst>
                                  <p:childTnLst>
                                    <p:set>
                                      <p:cBhvr>
                                        <p:cTn id="684" dur="1" fill="hold">
                                          <p:stCondLst>
                                            <p:cond delay="0"/>
                                          </p:stCondLst>
                                        </p:cTn>
                                        <p:tgtEl>
                                          <p:spTgt spid="745"/>
                                        </p:tgtEl>
                                        <p:attrNameLst>
                                          <p:attrName>style.visibility</p:attrName>
                                        </p:attrNameLst>
                                      </p:cBhvr>
                                      <p:to>
                                        <p:strVal val="visible"/>
                                      </p:to>
                                    </p:set>
                                    <p:animEffect filter="wipe(left)" transition="in">
                                      <p:cBhvr additive="repl">
                                        <p:cTn id="685" dur="500"/>
                                        <p:tgtEl>
                                          <p:spTgt spid="745"/>
                                        </p:tgtEl>
                                      </p:cBhvr>
                                    </p:animEffect>
                                  </p:childTnLst>
                                </p:cTn>
                              </p:par>
                            </p:childTnLst>
                          </p:cTn>
                        </p:par>
                        <p:par>
                          <p:cTn id="686" nodeType="afterEffect" fill="hold">
                            <p:stCondLst>
                              <p:cond delay="3750"/>
                            </p:stCondLst>
                            <p:childTnLst>
                              <p:par>
                                <p:cTn id="687" nodeType="afterEffect" fill="hold" presetClass="entr" presetID="22" presetSubtype="4">
                                  <p:stCondLst>
                                    <p:cond delay="0"/>
                                  </p:stCondLst>
                                  <p:childTnLst>
                                    <p:set>
                                      <p:cBhvr>
                                        <p:cTn id="688" dur="1" fill="hold">
                                          <p:stCondLst>
                                            <p:cond delay="0"/>
                                          </p:stCondLst>
                                        </p:cTn>
                                        <p:tgtEl>
                                          <p:spTgt spid="750"/>
                                        </p:tgtEl>
                                        <p:attrNameLst>
                                          <p:attrName>style.visibility</p:attrName>
                                        </p:attrNameLst>
                                      </p:cBhvr>
                                      <p:to>
                                        <p:strVal val="visible"/>
                                      </p:to>
                                    </p:set>
                                    <p:animEffect filter="wipe(down)" transition="in">
                                      <p:cBhvr additive="repl">
                                        <p:cTn id="689" dur="500"/>
                                        <p:tgtEl>
                                          <p:spTgt spid="750"/>
                                        </p:tgtEl>
                                      </p:cBhvr>
                                    </p:animEffect>
                                  </p:childTnLst>
                                </p:cTn>
                              </p:par>
                              <p:par>
                                <p:cTn id="690" nodeType="withEffect" fill="hold" presetClass="entr" presetID="22" presetSubtype="4">
                                  <p:stCondLst>
                                    <p:cond delay="0"/>
                                  </p:stCondLst>
                                  <p:childTnLst>
                                    <p:set>
                                      <p:cBhvr>
                                        <p:cTn id="691" dur="1" fill="hold">
                                          <p:stCondLst>
                                            <p:cond delay="0"/>
                                          </p:stCondLst>
                                        </p:cTn>
                                        <p:tgtEl>
                                          <p:spTgt spid="757"/>
                                        </p:tgtEl>
                                        <p:attrNameLst>
                                          <p:attrName>style.visibility</p:attrName>
                                        </p:attrNameLst>
                                      </p:cBhvr>
                                      <p:to>
                                        <p:strVal val="visible"/>
                                      </p:to>
                                    </p:set>
                                    <p:animEffect filter="wipe(down)" transition="in">
                                      <p:cBhvr additive="repl">
                                        <p:cTn id="692"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13c3f"/>
                </a:solidFill>
                <a:latin typeface="Lato"/>
              </a:rPr>
              <a:t>Comparison Chart</a:t>
            </a:r>
            <a:endParaRPr b="0" lang="en-US" sz="3600" spc="-1" strike="noStrike">
              <a:solidFill>
                <a:srgbClr val="313c3f"/>
              </a:solidFill>
              <a:latin typeface="Lato"/>
            </a:endParaRPr>
          </a:p>
        </p:txBody>
      </p:sp>
      <p:sp>
        <p:nvSpPr>
          <p:cNvPr id="759" name="Rectangle: Rounded Corners 143"/>
          <p:cNvSpPr/>
          <p:nvPr/>
        </p:nvSpPr>
        <p:spPr>
          <a:xfrm>
            <a:off x="471636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60" name="Rectangle: Rounded Corners 144"/>
          <p:cNvSpPr/>
          <p:nvPr/>
        </p:nvSpPr>
        <p:spPr>
          <a:xfrm>
            <a:off x="8370720" y="1582560"/>
            <a:ext cx="2759400" cy="4597560"/>
          </a:xfrm>
          <a:custGeom>
            <a:avLst/>
            <a:gdLst>
              <a:gd name="textAreaLeft" fmla="*/ 57960 w 2759400"/>
              <a:gd name="textAreaRight" fmla="*/ 2701440 w 2759400"/>
              <a:gd name="textAreaTop" fmla="*/ 57960 h 4597560"/>
              <a:gd name="textAreaBottom" fmla="*/ 4539600 h 4597560"/>
            </a:gdLst>
            <a:ahLst/>
            <a:rect l="textAreaLeft" t="textAreaTop" r="textAreaRight" b="textAreaBottom"/>
            <a:pathLst>
              <a:path w="21600" h="35987">
                <a:moveTo>
                  <a:pt x="1552" y="0"/>
                </a:moveTo>
                <a:arcTo wR="1552" hR="1552" stAng="16200000" swAng="-5400000"/>
                <a:lnTo>
                  <a:pt x="0" y="34435"/>
                </a:lnTo>
                <a:arcTo wR="1552" hR="1552" stAng="10800000" swAng="-5400000"/>
                <a:lnTo>
                  <a:pt x="20048" y="35987"/>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61" name="Rectangle: Rounded Corners 145"/>
          <p:cNvSpPr/>
          <p:nvPr/>
        </p:nvSpPr>
        <p:spPr>
          <a:xfrm>
            <a:off x="106200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62" name="TextBox 149"/>
          <p:cNvSpPr/>
          <p:nvPr/>
        </p:nvSpPr>
        <p:spPr>
          <a:xfrm>
            <a:off x="2056320" y="1817640"/>
            <a:ext cx="770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13c3f"/>
                </a:solidFill>
                <a:latin typeface="Lato"/>
              </a:rPr>
              <a:t>CHINA</a:t>
            </a:r>
            <a:endParaRPr b="0" lang="en-US" sz="1400" spc="-1" strike="noStrike">
              <a:solidFill>
                <a:srgbClr val="313c3f"/>
              </a:solidFill>
              <a:latin typeface="Source Sans Pro"/>
            </a:endParaRPr>
          </a:p>
        </p:txBody>
      </p:sp>
      <p:grpSp>
        <p:nvGrpSpPr>
          <p:cNvPr id="763" name="Rectangle: Rounded Corners 150"/>
          <p:cNvGrpSpPr/>
          <p:nvPr/>
        </p:nvGrpSpPr>
        <p:grpSpPr>
          <a:xfrm>
            <a:off x="1390680" y="4237200"/>
            <a:ext cx="2101680" cy="255600"/>
            <a:chOff x="1390680" y="4237200"/>
            <a:chExt cx="2101680" cy="255600"/>
          </a:xfrm>
        </p:grpSpPr>
        <p:pic>
          <p:nvPicPr>
            <p:cNvPr id="764" name="Rectangle: Rounded Corners 150" descr=""/>
            <p:cNvPicPr/>
            <p:nvPr/>
          </p:nvPicPr>
          <p:blipFill>
            <a:blip r:embed="rId1"/>
            <a:stretch/>
          </p:blipFill>
          <p:spPr>
            <a:xfrm>
              <a:off x="1390680" y="4237200"/>
              <a:ext cx="2101680" cy="255600"/>
            </a:xfrm>
            <a:prstGeom prst="rect">
              <a:avLst/>
            </a:prstGeom>
            <a:ln w="0">
              <a:noFill/>
            </a:ln>
          </p:spPr>
        </p:pic>
        <p:sp>
          <p:nvSpPr>
            <p:cNvPr id="765" name=""/>
            <p:cNvSpPr/>
            <p:nvPr/>
          </p:nvSpPr>
          <p:spPr>
            <a:xfrm>
              <a:off x="140184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766" name="Rectangle: Rounded Corners 151"/>
          <p:cNvSpPr/>
          <p:nvPr/>
        </p:nvSpPr>
        <p:spPr>
          <a:xfrm>
            <a:off x="1389240" y="4237200"/>
            <a:ext cx="1535040" cy="252360"/>
          </a:xfrm>
          <a:prstGeom prst="roundRect">
            <a:avLst>
              <a:gd name="adj" fmla="val 16667"/>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67" name="TextBox 152"/>
          <p:cNvSpPr/>
          <p:nvPr/>
        </p:nvSpPr>
        <p:spPr>
          <a:xfrm>
            <a:off x="239004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13c3f"/>
              </a:solidFill>
              <a:latin typeface="Source Sans Pro"/>
            </a:endParaRPr>
          </a:p>
        </p:txBody>
      </p:sp>
      <p:grpSp>
        <p:nvGrpSpPr>
          <p:cNvPr id="768" name="Rectangle: Rounded Corners 153"/>
          <p:cNvGrpSpPr/>
          <p:nvPr/>
        </p:nvGrpSpPr>
        <p:grpSpPr>
          <a:xfrm>
            <a:off x="5041800" y="4237200"/>
            <a:ext cx="2108160" cy="255600"/>
            <a:chOff x="5041800" y="4237200"/>
            <a:chExt cx="2108160" cy="255600"/>
          </a:xfrm>
        </p:grpSpPr>
        <p:pic>
          <p:nvPicPr>
            <p:cNvPr id="769" name="Rectangle: Rounded Corners 153" descr=""/>
            <p:cNvPicPr/>
            <p:nvPr/>
          </p:nvPicPr>
          <p:blipFill>
            <a:blip r:embed="rId2"/>
            <a:stretch/>
          </p:blipFill>
          <p:spPr>
            <a:xfrm>
              <a:off x="5041800" y="4237200"/>
              <a:ext cx="2108160" cy="255600"/>
            </a:xfrm>
            <a:prstGeom prst="rect">
              <a:avLst/>
            </a:prstGeom>
            <a:ln w="0">
              <a:noFill/>
            </a:ln>
          </p:spPr>
        </p:pic>
        <p:sp>
          <p:nvSpPr>
            <p:cNvPr id="770" name=""/>
            <p:cNvSpPr/>
            <p:nvPr/>
          </p:nvSpPr>
          <p:spPr>
            <a:xfrm>
              <a:off x="505620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771" name="Rectangle: Rounded Corners 154"/>
          <p:cNvSpPr/>
          <p:nvPr/>
        </p:nvSpPr>
        <p:spPr>
          <a:xfrm>
            <a:off x="5045040" y="4237200"/>
            <a:ext cx="1890720" cy="252360"/>
          </a:xfrm>
          <a:prstGeom prst="roundRect">
            <a:avLst>
              <a:gd name="adj" fmla="val 16667"/>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72" name="TextBox 155"/>
          <p:cNvSpPr/>
          <p:nvPr/>
        </p:nvSpPr>
        <p:spPr>
          <a:xfrm>
            <a:off x="64177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13c3f"/>
              </a:solidFill>
              <a:latin typeface="Source Sans Pro"/>
            </a:endParaRPr>
          </a:p>
        </p:txBody>
      </p:sp>
      <p:grpSp>
        <p:nvGrpSpPr>
          <p:cNvPr id="773" name="Rectangle: Rounded Corners 156"/>
          <p:cNvGrpSpPr/>
          <p:nvPr/>
        </p:nvGrpSpPr>
        <p:grpSpPr>
          <a:xfrm>
            <a:off x="8699400" y="4237200"/>
            <a:ext cx="2102040" cy="255600"/>
            <a:chOff x="8699400" y="4237200"/>
            <a:chExt cx="2102040" cy="255600"/>
          </a:xfrm>
        </p:grpSpPr>
        <p:pic>
          <p:nvPicPr>
            <p:cNvPr id="774" name="Rectangle: Rounded Corners 156" descr=""/>
            <p:cNvPicPr/>
            <p:nvPr/>
          </p:nvPicPr>
          <p:blipFill>
            <a:blip r:embed="rId3"/>
            <a:stretch/>
          </p:blipFill>
          <p:spPr>
            <a:xfrm>
              <a:off x="8699400" y="4237200"/>
              <a:ext cx="2102040" cy="255600"/>
            </a:xfrm>
            <a:prstGeom prst="rect">
              <a:avLst/>
            </a:prstGeom>
            <a:ln w="0">
              <a:noFill/>
            </a:ln>
          </p:spPr>
        </p:pic>
        <p:sp>
          <p:nvSpPr>
            <p:cNvPr id="775" name=""/>
            <p:cNvSpPr/>
            <p:nvPr/>
          </p:nvSpPr>
          <p:spPr>
            <a:xfrm>
              <a:off x="871056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776" name="Rectangle: Rounded Corners 157"/>
          <p:cNvSpPr/>
          <p:nvPr/>
        </p:nvSpPr>
        <p:spPr>
          <a:xfrm>
            <a:off x="8699400" y="4237200"/>
            <a:ext cx="1208160" cy="252360"/>
          </a:xfrm>
          <a:prstGeom prst="roundRect">
            <a:avLst>
              <a:gd name="adj" fmla="val 16667"/>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77" name="TextBox 158"/>
          <p:cNvSpPr/>
          <p:nvPr/>
        </p:nvSpPr>
        <p:spPr>
          <a:xfrm>
            <a:off x="93751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c3f"/>
              </a:solidFill>
              <a:latin typeface="Source Sans Pro"/>
            </a:endParaRPr>
          </a:p>
        </p:txBody>
      </p:sp>
      <p:sp>
        <p:nvSpPr>
          <p:cNvPr id="778" name="TextBox 159"/>
          <p:cNvSpPr/>
          <p:nvPr/>
        </p:nvSpPr>
        <p:spPr>
          <a:xfrm>
            <a:off x="138924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sp>
        <p:nvSpPr>
          <p:cNvPr id="779" name="TextBox 160"/>
          <p:cNvSpPr/>
          <p:nvPr/>
        </p:nvSpPr>
        <p:spPr>
          <a:xfrm>
            <a:off x="504360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sp>
        <p:nvSpPr>
          <p:cNvPr id="780" name="TextBox 161"/>
          <p:cNvSpPr/>
          <p:nvPr/>
        </p:nvSpPr>
        <p:spPr>
          <a:xfrm>
            <a:off x="8699400" y="395748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grpSp>
        <p:nvGrpSpPr>
          <p:cNvPr id="781" name="Rectangle: Rounded Corners 162"/>
          <p:cNvGrpSpPr/>
          <p:nvPr/>
        </p:nvGrpSpPr>
        <p:grpSpPr>
          <a:xfrm>
            <a:off x="1390680" y="4870440"/>
            <a:ext cx="2101680" cy="255600"/>
            <a:chOff x="1390680" y="4870440"/>
            <a:chExt cx="2101680" cy="255600"/>
          </a:xfrm>
        </p:grpSpPr>
        <p:pic>
          <p:nvPicPr>
            <p:cNvPr id="782" name="Rectangle: Rounded Corners 162" descr=""/>
            <p:cNvPicPr/>
            <p:nvPr/>
          </p:nvPicPr>
          <p:blipFill>
            <a:blip r:embed="rId4"/>
            <a:stretch/>
          </p:blipFill>
          <p:spPr>
            <a:xfrm>
              <a:off x="1390680" y="4870440"/>
              <a:ext cx="2101680" cy="255600"/>
            </a:xfrm>
            <a:prstGeom prst="rect">
              <a:avLst/>
            </a:prstGeom>
            <a:ln w="0">
              <a:noFill/>
            </a:ln>
          </p:spPr>
        </p:pic>
        <p:sp>
          <p:nvSpPr>
            <p:cNvPr id="783" name=""/>
            <p:cNvSpPr/>
            <p:nvPr/>
          </p:nvSpPr>
          <p:spPr>
            <a:xfrm>
              <a:off x="140184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784" name="Rectangle: Rounded Corners 163"/>
          <p:cNvSpPr/>
          <p:nvPr/>
        </p:nvSpPr>
        <p:spPr>
          <a:xfrm>
            <a:off x="1389240" y="4871880"/>
            <a:ext cx="1288800" cy="252720"/>
          </a:xfrm>
          <a:prstGeom prst="roundRect">
            <a:avLst>
              <a:gd name="adj" fmla="val 16667"/>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85" name="TextBox 164"/>
          <p:cNvSpPr/>
          <p:nvPr/>
        </p:nvSpPr>
        <p:spPr>
          <a:xfrm>
            <a:off x="214164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c3f"/>
              </a:solidFill>
              <a:latin typeface="Source Sans Pro"/>
            </a:endParaRPr>
          </a:p>
        </p:txBody>
      </p:sp>
      <p:grpSp>
        <p:nvGrpSpPr>
          <p:cNvPr id="786" name="Rectangle: Rounded Corners 165"/>
          <p:cNvGrpSpPr/>
          <p:nvPr/>
        </p:nvGrpSpPr>
        <p:grpSpPr>
          <a:xfrm>
            <a:off x="5041800" y="4870440"/>
            <a:ext cx="2108160" cy="255600"/>
            <a:chOff x="5041800" y="4870440"/>
            <a:chExt cx="2108160" cy="255600"/>
          </a:xfrm>
        </p:grpSpPr>
        <p:pic>
          <p:nvPicPr>
            <p:cNvPr id="787" name="Rectangle: Rounded Corners 165" descr=""/>
            <p:cNvPicPr/>
            <p:nvPr/>
          </p:nvPicPr>
          <p:blipFill>
            <a:blip r:embed="rId5"/>
            <a:stretch/>
          </p:blipFill>
          <p:spPr>
            <a:xfrm>
              <a:off x="5041800" y="4870440"/>
              <a:ext cx="2108160" cy="255600"/>
            </a:xfrm>
            <a:prstGeom prst="rect">
              <a:avLst/>
            </a:prstGeom>
            <a:ln w="0">
              <a:noFill/>
            </a:ln>
          </p:spPr>
        </p:pic>
        <p:sp>
          <p:nvSpPr>
            <p:cNvPr id="788" name=""/>
            <p:cNvSpPr/>
            <p:nvPr/>
          </p:nvSpPr>
          <p:spPr>
            <a:xfrm>
              <a:off x="505620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789" name="Rectangle: Rounded Corners 166"/>
          <p:cNvSpPr/>
          <p:nvPr/>
        </p:nvSpPr>
        <p:spPr>
          <a:xfrm>
            <a:off x="5045040" y="4871880"/>
            <a:ext cx="1709640" cy="252720"/>
          </a:xfrm>
          <a:prstGeom prst="roundRect">
            <a:avLst>
              <a:gd name="adj" fmla="val 16667"/>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90" name="TextBox 167"/>
          <p:cNvSpPr/>
          <p:nvPr/>
        </p:nvSpPr>
        <p:spPr>
          <a:xfrm>
            <a:off x="623196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c3f"/>
              </a:solidFill>
              <a:latin typeface="Source Sans Pro"/>
            </a:endParaRPr>
          </a:p>
        </p:txBody>
      </p:sp>
      <p:grpSp>
        <p:nvGrpSpPr>
          <p:cNvPr id="791" name="Rectangle: Rounded Corners 168"/>
          <p:cNvGrpSpPr/>
          <p:nvPr/>
        </p:nvGrpSpPr>
        <p:grpSpPr>
          <a:xfrm>
            <a:off x="8699400" y="4870440"/>
            <a:ext cx="2102040" cy="255600"/>
            <a:chOff x="8699400" y="4870440"/>
            <a:chExt cx="2102040" cy="255600"/>
          </a:xfrm>
        </p:grpSpPr>
        <p:pic>
          <p:nvPicPr>
            <p:cNvPr id="792" name="Rectangle: Rounded Corners 168" descr=""/>
            <p:cNvPicPr/>
            <p:nvPr/>
          </p:nvPicPr>
          <p:blipFill>
            <a:blip r:embed="rId6"/>
            <a:stretch/>
          </p:blipFill>
          <p:spPr>
            <a:xfrm>
              <a:off x="8699400" y="4870440"/>
              <a:ext cx="2102040" cy="255600"/>
            </a:xfrm>
            <a:prstGeom prst="rect">
              <a:avLst/>
            </a:prstGeom>
            <a:ln w="0">
              <a:noFill/>
            </a:ln>
          </p:spPr>
        </p:pic>
        <p:sp>
          <p:nvSpPr>
            <p:cNvPr id="793" name=""/>
            <p:cNvSpPr/>
            <p:nvPr/>
          </p:nvSpPr>
          <p:spPr>
            <a:xfrm>
              <a:off x="871056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794" name="Rectangle: Rounded Corners 169"/>
          <p:cNvSpPr/>
          <p:nvPr/>
        </p:nvSpPr>
        <p:spPr>
          <a:xfrm>
            <a:off x="8699400" y="4871880"/>
            <a:ext cx="1722600" cy="252720"/>
          </a:xfrm>
          <a:prstGeom prst="roundRect">
            <a:avLst>
              <a:gd name="adj" fmla="val 16667"/>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795" name="TextBox 170"/>
          <p:cNvSpPr/>
          <p:nvPr/>
        </p:nvSpPr>
        <p:spPr>
          <a:xfrm>
            <a:off x="988560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13c3f"/>
              </a:solidFill>
              <a:latin typeface="Source Sans Pro"/>
            </a:endParaRPr>
          </a:p>
        </p:txBody>
      </p:sp>
      <p:sp>
        <p:nvSpPr>
          <p:cNvPr id="796" name="TextBox 171"/>
          <p:cNvSpPr/>
          <p:nvPr/>
        </p:nvSpPr>
        <p:spPr>
          <a:xfrm>
            <a:off x="138924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sp>
        <p:nvSpPr>
          <p:cNvPr id="797" name="TextBox 172"/>
          <p:cNvSpPr/>
          <p:nvPr/>
        </p:nvSpPr>
        <p:spPr>
          <a:xfrm>
            <a:off x="504360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sp>
        <p:nvSpPr>
          <p:cNvPr id="798" name="TextBox 173"/>
          <p:cNvSpPr/>
          <p:nvPr/>
        </p:nvSpPr>
        <p:spPr>
          <a:xfrm>
            <a:off x="8699400" y="459252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grpSp>
        <p:nvGrpSpPr>
          <p:cNvPr id="799" name="Rectangle: Rounded Corners 174"/>
          <p:cNvGrpSpPr/>
          <p:nvPr/>
        </p:nvGrpSpPr>
        <p:grpSpPr>
          <a:xfrm>
            <a:off x="1390680" y="5505480"/>
            <a:ext cx="2101680" cy="255600"/>
            <a:chOff x="1390680" y="5505480"/>
            <a:chExt cx="2101680" cy="255600"/>
          </a:xfrm>
        </p:grpSpPr>
        <p:pic>
          <p:nvPicPr>
            <p:cNvPr id="800" name="Rectangle: Rounded Corners 174" descr=""/>
            <p:cNvPicPr/>
            <p:nvPr/>
          </p:nvPicPr>
          <p:blipFill>
            <a:blip r:embed="rId7"/>
            <a:stretch/>
          </p:blipFill>
          <p:spPr>
            <a:xfrm>
              <a:off x="1390680" y="5505480"/>
              <a:ext cx="2101680" cy="255600"/>
            </a:xfrm>
            <a:prstGeom prst="rect">
              <a:avLst/>
            </a:prstGeom>
            <a:ln w="0">
              <a:noFill/>
            </a:ln>
          </p:spPr>
        </p:pic>
        <p:sp>
          <p:nvSpPr>
            <p:cNvPr id="801" name=""/>
            <p:cNvSpPr/>
            <p:nvPr/>
          </p:nvSpPr>
          <p:spPr>
            <a:xfrm>
              <a:off x="140184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802" name="Rectangle: Rounded Corners 175"/>
          <p:cNvSpPr/>
          <p:nvPr/>
        </p:nvSpPr>
        <p:spPr>
          <a:xfrm>
            <a:off x="1389240" y="5506920"/>
            <a:ext cx="1901520" cy="252360"/>
          </a:xfrm>
          <a:prstGeom prst="roundRect">
            <a:avLst>
              <a:gd name="adj" fmla="val 16667"/>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03" name="TextBox 176"/>
          <p:cNvSpPr/>
          <p:nvPr/>
        </p:nvSpPr>
        <p:spPr>
          <a:xfrm>
            <a:off x="27514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13c3f"/>
              </a:solidFill>
              <a:latin typeface="Source Sans Pro"/>
            </a:endParaRPr>
          </a:p>
        </p:txBody>
      </p:sp>
      <p:grpSp>
        <p:nvGrpSpPr>
          <p:cNvPr id="804" name="Rectangle: Rounded Corners 177"/>
          <p:cNvGrpSpPr/>
          <p:nvPr/>
        </p:nvGrpSpPr>
        <p:grpSpPr>
          <a:xfrm>
            <a:off x="5041800" y="5505480"/>
            <a:ext cx="2108160" cy="255600"/>
            <a:chOff x="5041800" y="5505480"/>
            <a:chExt cx="2108160" cy="255600"/>
          </a:xfrm>
        </p:grpSpPr>
        <p:pic>
          <p:nvPicPr>
            <p:cNvPr id="805" name="Rectangle: Rounded Corners 177" descr=""/>
            <p:cNvPicPr/>
            <p:nvPr/>
          </p:nvPicPr>
          <p:blipFill>
            <a:blip r:embed="rId8"/>
            <a:stretch/>
          </p:blipFill>
          <p:spPr>
            <a:xfrm>
              <a:off x="5041800" y="5505480"/>
              <a:ext cx="2108160" cy="255600"/>
            </a:xfrm>
            <a:prstGeom prst="rect">
              <a:avLst/>
            </a:prstGeom>
            <a:ln w="0">
              <a:noFill/>
            </a:ln>
          </p:spPr>
        </p:pic>
        <p:sp>
          <p:nvSpPr>
            <p:cNvPr id="806" name=""/>
            <p:cNvSpPr/>
            <p:nvPr/>
          </p:nvSpPr>
          <p:spPr>
            <a:xfrm>
              <a:off x="505620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807" name="Rectangle: Rounded Corners 178"/>
          <p:cNvSpPr/>
          <p:nvPr/>
        </p:nvSpPr>
        <p:spPr>
          <a:xfrm>
            <a:off x="5045040" y="5506920"/>
            <a:ext cx="1320840" cy="252360"/>
          </a:xfrm>
          <a:prstGeom prst="roundRect">
            <a:avLst>
              <a:gd name="adj" fmla="val 16667"/>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08" name="TextBox 179"/>
          <p:cNvSpPr/>
          <p:nvPr/>
        </p:nvSpPr>
        <p:spPr>
          <a:xfrm>
            <a:off x="58510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13c3f"/>
              </a:solidFill>
              <a:latin typeface="Source Sans Pro"/>
            </a:endParaRPr>
          </a:p>
        </p:txBody>
      </p:sp>
      <p:grpSp>
        <p:nvGrpSpPr>
          <p:cNvPr id="809" name="Rectangle: Rounded Corners 181"/>
          <p:cNvGrpSpPr/>
          <p:nvPr/>
        </p:nvGrpSpPr>
        <p:grpSpPr>
          <a:xfrm>
            <a:off x="8699400" y="5505480"/>
            <a:ext cx="2102040" cy="255600"/>
            <a:chOff x="8699400" y="5505480"/>
            <a:chExt cx="2102040" cy="255600"/>
          </a:xfrm>
        </p:grpSpPr>
        <p:pic>
          <p:nvPicPr>
            <p:cNvPr id="810" name="Rectangle: Rounded Corners 181" descr=""/>
            <p:cNvPicPr/>
            <p:nvPr/>
          </p:nvPicPr>
          <p:blipFill>
            <a:blip r:embed="rId9"/>
            <a:stretch/>
          </p:blipFill>
          <p:spPr>
            <a:xfrm>
              <a:off x="8699400" y="5505480"/>
              <a:ext cx="2102040" cy="255600"/>
            </a:xfrm>
            <a:prstGeom prst="rect">
              <a:avLst/>
            </a:prstGeom>
            <a:ln w="0">
              <a:noFill/>
            </a:ln>
          </p:spPr>
        </p:pic>
        <p:sp>
          <p:nvSpPr>
            <p:cNvPr id="811" name=""/>
            <p:cNvSpPr/>
            <p:nvPr/>
          </p:nvSpPr>
          <p:spPr>
            <a:xfrm>
              <a:off x="871056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812" name="Rectangle: Rounded Corners 191"/>
          <p:cNvSpPr/>
          <p:nvPr/>
        </p:nvSpPr>
        <p:spPr>
          <a:xfrm>
            <a:off x="8699400" y="5506920"/>
            <a:ext cx="1381320" cy="252360"/>
          </a:xfrm>
          <a:prstGeom prst="roundRect">
            <a:avLst>
              <a:gd name="adj" fmla="val 16667"/>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13" name="TextBox 192"/>
          <p:cNvSpPr/>
          <p:nvPr/>
        </p:nvSpPr>
        <p:spPr>
          <a:xfrm>
            <a:off x="953244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13c3f"/>
              </a:solidFill>
              <a:latin typeface="Source Sans Pro"/>
            </a:endParaRPr>
          </a:p>
        </p:txBody>
      </p:sp>
      <p:sp>
        <p:nvSpPr>
          <p:cNvPr id="814" name="TextBox 193"/>
          <p:cNvSpPr/>
          <p:nvPr/>
        </p:nvSpPr>
        <p:spPr>
          <a:xfrm>
            <a:off x="138924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sp>
        <p:nvSpPr>
          <p:cNvPr id="815" name="TextBox 197"/>
          <p:cNvSpPr/>
          <p:nvPr/>
        </p:nvSpPr>
        <p:spPr>
          <a:xfrm>
            <a:off x="504360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sp>
        <p:nvSpPr>
          <p:cNvPr id="816" name="TextBox 207"/>
          <p:cNvSpPr/>
          <p:nvPr/>
        </p:nvSpPr>
        <p:spPr>
          <a:xfrm>
            <a:off x="8699400" y="522756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13c3f"/>
                </a:solidFill>
                <a:latin typeface="Lato"/>
              </a:rPr>
              <a:t>Description</a:t>
            </a:r>
            <a:endParaRPr b="0" lang="en-US" sz="1100" spc="-1" strike="noStrike">
              <a:solidFill>
                <a:srgbClr val="313c3f"/>
              </a:solidFill>
              <a:latin typeface="Source Sans Pro"/>
            </a:endParaRPr>
          </a:p>
        </p:txBody>
      </p:sp>
      <p:sp>
        <p:nvSpPr>
          <p:cNvPr id="817" name="TextBox 208"/>
          <p:cNvSpPr/>
          <p:nvPr/>
        </p:nvSpPr>
        <p:spPr>
          <a:xfrm>
            <a:off x="5828040" y="181764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c3f"/>
                </a:solidFill>
                <a:latin typeface="Lato"/>
              </a:rPr>
              <a:t>USA</a:t>
            </a:r>
            <a:endParaRPr b="0" lang="en-US" sz="1400" spc="-1" strike="noStrike">
              <a:solidFill>
                <a:srgbClr val="313c3f"/>
              </a:solidFill>
              <a:latin typeface="Source Sans Pro"/>
            </a:endParaRPr>
          </a:p>
        </p:txBody>
      </p:sp>
      <p:sp>
        <p:nvSpPr>
          <p:cNvPr id="818" name="TextBox 209"/>
          <p:cNvSpPr/>
          <p:nvPr/>
        </p:nvSpPr>
        <p:spPr>
          <a:xfrm>
            <a:off x="9267840" y="181764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c3f"/>
                </a:solidFill>
                <a:latin typeface="Lato"/>
              </a:rPr>
              <a:t>RUSSIAN</a:t>
            </a:r>
            <a:endParaRPr b="0" lang="en-US" sz="1400" spc="-1" strike="noStrike">
              <a:solidFill>
                <a:srgbClr val="313c3f"/>
              </a:solidFill>
              <a:latin typeface="Source Sans Pro"/>
            </a:endParaRPr>
          </a:p>
        </p:txBody>
      </p:sp>
      <p:pic>
        <p:nvPicPr>
          <p:cNvPr id="819" name="Graphic 2" descr=""/>
          <p:cNvPicPr/>
          <p:nvPr/>
        </p:nvPicPr>
        <p:blipFill>
          <a:blip r:embed="rId10"/>
          <a:stretch/>
        </p:blipFill>
        <p:spPr>
          <a:xfrm>
            <a:off x="8710560" y="2359080"/>
            <a:ext cx="2090880" cy="1292040"/>
          </a:xfrm>
          <a:prstGeom prst="rect">
            <a:avLst/>
          </a:prstGeom>
          <a:ln w="0">
            <a:noFill/>
          </a:ln>
        </p:spPr>
      </p:pic>
      <p:pic>
        <p:nvPicPr>
          <p:cNvPr id="820" name="Graphic 90" descr=""/>
          <p:cNvPicPr/>
          <p:nvPr/>
        </p:nvPicPr>
        <p:blipFill>
          <a:blip r:embed="rId11"/>
          <a:stretch/>
        </p:blipFill>
        <p:spPr>
          <a:xfrm>
            <a:off x="1487520" y="2359080"/>
            <a:ext cx="1749240" cy="1292040"/>
          </a:xfrm>
          <a:prstGeom prst="rect">
            <a:avLst/>
          </a:prstGeom>
          <a:ln w="0">
            <a:noFill/>
          </a:ln>
        </p:spPr>
      </p:pic>
      <p:sp>
        <p:nvSpPr>
          <p:cNvPr id="821" name="Graphic 103"/>
          <p:cNvSpPr/>
          <p:nvPr/>
        </p:nvSpPr>
        <p:spPr>
          <a:xfrm>
            <a:off x="5100480" y="2395440"/>
            <a:ext cx="2000520" cy="119880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e1c11e"/>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Tree>
  </p:cSld>
  <p:transition spd="med">
    <p:fade/>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0">
                                  <p:stCondLst>
                                    <p:cond delay="0"/>
                                  </p:stCondLst>
                                  <p:childTnLst>
                                    <p:set>
                                      <p:cBhvr>
                                        <p:cTn id="698" dur="1" fill="hold">
                                          <p:stCondLst>
                                            <p:cond delay="0"/>
                                          </p:stCondLst>
                                        </p:cTn>
                                        <p:tgtEl>
                                          <p:spTgt spid="758"/>
                                        </p:tgtEl>
                                        <p:attrNameLst>
                                          <p:attrName>style.visibility</p:attrName>
                                        </p:attrNameLst>
                                      </p:cBhvr>
                                      <p:to>
                                        <p:strVal val="visible"/>
                                      </p:to>
                                    </p:set>
                                    <p:animEffect filter="fade" transition="in">
                                      <p:cBhvr additive="repl">
                                        <p:cTn id="699" dur="500"/>
                                        <p:tgtEl>
                                          <p:spTgt spid="758"/>
                                        </p:tgtEl>
                                      </p:cBhvr>
                                    </p:animEffect>
                                  </p:childTnLst>
                                </p:cTn>
                              </p:par>
                            </p:childTnLst>
                          </p:cTn>
                        </p:par>
                        <p:par>
                          <p:cTn id="700" nodeType="afterEffect" fill="hold">
                            <p:stCondLst>
                              <p:cond delay="500"/>
                            </p:stCondLst>
                            <p:childTnLst>
                              <p:par>
                                <p:cTn id="701" nodeType="afterEffect" fill="hold" presetClass="entr" presetID="10">
                                  <p:stCondLst>
                                    <p:cond delay="0"/>
                                  </p:stCondLst>
                                  <p:childTnLst>
                                    <p:set>
                                      <p:cBhvr>
                                        <p:cTn id="702" dur="1" fill="hold">
                                          <p:stCondLst>
                                            <p:cond delay="0"/>
                                          </p:stCondLst>
                                        </p:cTn>
                                        <p:tgtEl>
                                          <p:spTgt spid="761"/>
                                        </p:tgtEl>
                                        <p:attrNameLst>
                                          <p:attrName>style.visibility</p:attrName>
                                        </p:attrNameLst>
                                      </p:cBhvr>
                                      <p:to>
                                        <p:strVal val="visible"/>
                                      </p:to>
                                    </p:set>
                                    <p:animEffect filter="fade" transition="in">
                                      <p:cBhvr additive="repl">
                                        <p:cTn id="703" dur="500"/>
                                        <p:tgtEl>
                                          <p:spTgt spid="761"/>
                                        </p:tgtEl>
                                      </p:cBhvr>
                                    </p:animEffect>
                                  </p:childTnLst>
                                </p:cTn>
                              </p:par>
                              <p:par>
                                <p:cTn id="704" nodeType="withEffect" fill="hold" presetClass="entr" presetID="10">
                                  <p:stCondLst>
                                    <p:cond delay="0"/>
                                  </p:stCondLst>
                                  <p:childTnLst>
                                    <p:set>
                                      <p:cBhvr>
                                        <p:cTn id="705" dur="1" fill="hold">
                                          <p:stCondLst>
                                            <p:cond delay="0"/>
                                          </p:stCondLst>
                                        </p:cTn>
                                        <p:tgtEl>
                                          <p:spTgt spid="762"/>
                                        </p:tgtEl>
                                        <p:attrNameLst>
                                          <p:attrName>style.visibility</p:attrName>
                                        </p:attrNameLst>
                                      </p:cBhvr>
                                      <p:to>
                                        <p:strVal val="visible"/>
                                      </p:to>
                                    </p:set>
                                    <p:animEffect filter="fade" transition="in">
                                      <p:cBhvr additive="repl">
                                        <p:cTn id="706" dur="500"/>
                                        <p:tgtEl>
                                          <p:spTgt spid="762"/>
                                        </p:tgtEl>
                                      </p:cBhvr>
                                    </p:animEffect>
                                  </p:childTnLst>
                                </p:cTn>
                              </p:par>
                              <p:par>
                                <p:cTn id="707" nodeType="withEffect" fill="hold" presetClass="entr" presetID="10">
                                  <p:stCondLst>
                                    <p:cond delay="0"/>
                                  </p:stCondLst>
                                  <p:childTnLst>
                                    <p:set>
                                      <p:cBhvr>
                                        <p:cTn id="708" dur="1" fill="hold">
                                          <p:stCondLst>
                                            <p:cond delay="0"/>
                                          </p:stCondLst>
                                        </p:cTn>
                                        <p:tgtEl>
                                          <p:spTgt spid="820"/>
                                        </p:tgtEl>
                                        <p:attrNameLst>
                                          <p:attrName>style.visibility</p:attrName>
                                        </p:attrNameLst>
                                      </p:cBhvr>
                                      <p:to>
                                        <p:strVal val="visible"/>
                                      </p:to>
                                    </p:set>
                                    <p:animEffect filter="fade" transition="in">
                                      <p:cBhvr additive="repl">
                                        <p:cTn id="709" dur="500"/>
                                        <p:tgtEl>
                                          <p:spTgt spid="820"/>
                                        </p:tgtEl>
                                      </p:cBhvr>
                                    </p:animEffect>
                                  </p:childTnLst>
                                </p:cTn>
                              </p:par>
                            </p:childTnLst>
                          </p:cTn>
                        </p:par>
                        <p:par>
                          <p:cTn id="710" nodeType="afterEffect" fill="hold">
                            <p:stCondLst>
                              <p:cond delay="1000"/>
                            </p:stCondLst>
                            <p:childTnLst>
                              <p:par>
                                <p:cTn id="711" nodeType="afterEffect" fill="hold" presetClass="entr" presetID="10">
                                  <p:stCondLst>
                                    <p:cond delay="0"/>
                                  </p:stCondLst>
                                  <p:childTnLst>
                                    <p:set>
                                      <p:cBhvr>
                                        <p:cTn id="712" dur="1" fill="hold">
                                          <p:stCondLst>
                                            <p:cond delay="0"/>
                                          </p:stCondLst>
                                        </p:cTn>
                                        <p:tgtEl>
                                          <p:spTgt spid="817"/>
                                        </p:tgtEl>
                                        <p:attrNameLst>
                                          <p:attrName>style.visibility</p:attrName>
                                        </p:attrNameLst>
                                      </p:cBhvr>
                                      <p:to>
                                        <p:strVal val="visible"/>
                                      </p:to>
                                    </p:set>
                                    <p:animEffect filter="fade" transition="in">
                                      <p:cBhvr additive="repl">
                                        <p:cTn id="713" dur="500"/>
                                        <p:tgtEl>
                                          <p:spTgt spid="817"/>
                                        </p:tgtEl>
                                      </p:cBhvr>
                                    </p:animEffect>
                                  </p:childTnLst>
                                </p:cTn>
                              </p:par>
                              <p:par>
                                <p:cTn id="714" nodeType="withEffect" fill="hold" presetClass="entr" presetID="10">
                                  <p:stCondLst>
                                    <p:cond delay="0"/>
                                  </p:stCondLst>
                                  <p:childTnLst>
                                    <p:set>
                                      <p:cBhvr>
                                        <p:cTn id="715" dur="1" fill="hold">
                                          <p:stCondLst>
                                            <p:cond delay="0"/>
                                          </p:stCondLst>
                                        </p:cTn>
                                        <p:tgtEl>
                                          <p:spTgt spid="821"/>
                                        </p:tgtEl>
                                        <p:attrNameLst>
                                          <p:attrName>style.visibility</p:attrName>
                                        </p:attrNameLst>
                                      </p:cBhvr>
                                      <p:to>
                                        <p:strVal val="visible"/>
                                      </p:to>
                                    </p:set>
                                    <p:animEffect filter="fade" transition="in">
                                      <p:cBhvr additive="repl">
                                        <p:cTn id="716" dur="500"/>
                                        <p:tgtEl>
                                          <p:spTgt spid="821"/>
                                        </p:tgtEl>
                                      </p:cBhvr>
                                    </p:animEffect>
                                  </p:childTnLst>
                                </p:cTn>
                              </p:par>
                              <p:par>
                                <p:cTn id="717" nodeType="withEffect" fill="hold" presetClass="entr" presetID="10">
                                  <p:stCondLst>
                                    <p:cond delay="0"/>
                                  </p:stCondLst>
                                  <p:childTnLst>
                                    <p:set>
                                      <p:cBhvr>
                                        <p:cTn id="718" dur="1" fill="hold">
                                          <p:stCondLst>
                                            <p:cond delay="0"/>
                                          </p:stCondLst>
                                        </p:cTn>
                                        <p:tgtEl>
                                          <p:spTgt spid="759"/>
                                        </p:tgtEl>
                                        <p:attrNameLst>
                                          <p:attrName>style.visibility</p:attrName>
                                        </p:attrNameLst>
                                      </p:cBhvr>
                                      <p:to>
                                        <p:strVal val="visible"/>
                                      </p:to>
                                    </p:set>
                                    <p:animEffect filter="fade" transition="in">
                                      <p:cBhvr additive="repl">
                                        <p:cTn id="719" dur="500"/>
                                        <p:tgtEl>
                                          <p:spTgt spid="759"/>
                                        </p:tgtEl>
                                      </p:cBhvr>
                                    </p:animEffect>
                                  </p:childTnLst>
                                </p:cTn>
                              </p:par>
                            </p:childTnLst>
                          </p:cTn>
                        </p:par>
                        <p:par>
                          <p:cTn id="720" nodeType="afterEffect" fill="hold">
                            <p:stCondLst>
                              <p:cond delay="1500"/>
                            </p:stCondLst>
                            <p:childTnLst>
                              <p:par>
                                <p:cTn id="721" nodeType="afterEffect" fill="hold" presetClass="entr" presetID="10">
                                  <p:stCondLst>
                                    <p:cond delay="0"/>
                                  </p:stCondLst>
                                  <p:childTnLst>
                                    <p:set>
                                      <p:cBhvr>
                                        <p:cTn id="722" dur="1" fill="hold">
                                          <p:stCondLst>
                                            <p:cond delay="0"/>
                                          </p:stCondLst>
                                        </p:cTn>
                                        <p:tgtEl>
                                          <p:spTgt spid="760"/>
                                        </p:tgtEl>
                                        <p:attrNameLst>
                                          <p:attrName>style.visibility</p:attrName>
                                        </p:attrNameLst>
                                      </p:cBhvr>
                                      <p:to>
                                        <p:strVal val="visible"/>
                                      </p:to>
                                    </p:set>
                                    <p:animEffect filter="fade" transition="in">
                                      <p:cBhvr additive="repl">
                                        <p:cTn id="723" dur="500"/>
                                        <p:tgtEl>
                                          <p:spTgt spid="760"/>
                                        </p:tgtEl>
                                      </p:cBhvr>
                                    </p:animEffect>
                                  </p:childTnLst>
                                </p:cTn>
                              </p:par>
                              <p:par>
                                <p:cTn id="724" nodeType="withEffect" fill="hold" presetClass="entr" presetID="10">
                                  <p:stCondLst>
                                    <p:cond delay="0"/>
                                  </p:stCondLst>
                                  <p:childTnLst>
                                    <p:set>
                                      <p:cBhvr>
                                        <p:cTn id="725" dur="1" fill="hold">
                                          <p:stCondLst>
                                            <p:cond delay="0"/>
                                          </p:stCondLst>
                                        </p:cTn>
                                        <p:tgtEl>
                                          <p:spTgt spid="818"/>
                                        </p:tgtEl>
                                        <p:attrNameLst>
                                          <p:attrName>style.visibility</p:attrName>
                                        </p:attrNameLst>
                                      </p:cBhvr>
                                      <p:to>
                                        <p:strVal val="visible"/>
                                      </p:to>
                                    </p:set>
                                    <p:animEffect filter="fade" transition="in">
                                      <p:cBhvr additive="repl">
                                        <p:cTn id="726" dur="500"/>
                                        <p:tgtEl>
                                          <p:spTgt spid="818"/>
                                        </p:tgtEl>
                                      </p:cBhvr>
                                    </p:animEffect>
                                  </p:childTnLst>
                                </p:cTn>
                              </p:par>
                              <p:par>
                                <p:cTn id="727" nodeType="withEffect" fill="hold" presetClass="entr" presetID="10">
                                  <p:stCondLst>
                                    <p:cond delay="0"/>
                                  </p:stCondLst>
                                  <p:childTnLst>
                                    <p:set>
                                      <p:cBhvr>
                                        <p:cTn id="728" dur="1" fill="hold">
                                          <p:stCondLst>
                                            <p:cond delay="0"/>
                                          </p:stCondLst>
                                        </p:cTn>
                                        <p:tgtEl>
                                          <p:spTgt spid="819"/>
                                        </p:tgtEl>
                                        <p:attrNameLst>
                                          <p:attrName>style.visibility</p:attrName>
                                        </p:attrNameLst>
                                      </p:cBhvr>
                                      <p:to>
                                        <p:strVal val="visible"/>
                                      </p:to>
                                    </p:set>
                                    <p:animEffect filter="fade" transition="in">
                                      <p:cBhvr additive="repl">
                                        <p:cTn id="729" dur="500"/>
                                        <p:tgtEl>
                                          <p:spTgt spid="819"/>
                                        </p:tgtEl>
                                      </p:cBhvr>
                                    </p:animEffect>
                                  </p:childTnLst>
                                </p:cTn>
                              </p:par>
                            </p:childTnLst>
                          </p:cTn>
                        </p:par>
                        <p:par>
                          <p:cTn id="730" nodeType="afterEffect" fill="hold">
                            <p:stCondLst>
                              <p:cond delay="2000"/>
                            </p:stCondLst>
                            <p:childTnLst>
                              <p:par>
                                <p:cTn id="731" nodeType="afterEffect" fill="hold" presetClass="entr" presetID="10">
                                  <p:stCondLst>
                                    <p:cond delay="0"/>
                                  </p:stCondLst>
                                  <p:childTnLst>
                                    <p:set>
                                      <p:cBhvr>
                                        <p:cTn id="732" dur="1" fill="hold">
                                          <p:stCondLst>
                                            <p:cond delay="0"/>
                                          </p:stCondLst>
                                        </p:cTn>
                                        <p:tgtEl>
                                          <p:spTgt spid="778"/>
                                        </p:tgtEl>
                                        <p:attrNameLst>
                                          <p:attrName>style.visibility</p:attrName>
                                        </p:attrNameLst>
                                      </p:cBhvr>
                                      <p:to>
                                        <p:strVal val="visible"/>
                                      </p:to>
                                    </p:set>
                                    <p:animEffect filter="fade" transition="in">
                                      <p:cBhvr additive="repl">
                                        <p:cTn id="733" dur="500"/>
                                        <p:tgtEl>
                                          <p:spTgt spid="778"/>
                                        </p:tgtEl>
                                      </p:cBhvr>
                                    </p:animEffect>
                                  </p:childTnLst>
                                </p:cTn>
                              </p:par>
                              <p:par>
                                <p:cTn id="734" nodeType="withEffect" fill="hold" presetClass="entr" presetID="10">
                                  <p:stCondLst>
                                    <p:cond delay="0"/>
                                  </p:stCondLst>
                                  <p:childTnLst>
                                    <p:set>
                                      <p:cBhvr>
                                        <p:cTn id="735" dur="1" fill="hold">
                                          <p:stCondLst>
                                            <p:cond delay="0"/>
                                          </p:stCondLst>
                                        </p:cTn>
                                        <p:tgtEl>
                                          <p:spTgt spid="796"/>
                                        </p:tgtEl>
                                        <p:attrNameLst>
                                          <p:attrName>style.visibility</p:attrName>
                                        </p:attrNameLst>
                                      </p:cBhvr>
                                      <p:to>
                                        <p:strVal val="visible"/>
                                      </p:to>
                                    </p:set>
                                    <p:animEffect filter="fade" transition="in">
                                      <p:cBhvr additive="repl">
                                        <p:cTn id="736" dur="500"/>
                                        <p:tgtEl>
                                          <p:spTgt spid="796"/>
                                        </p:tgtEl>
                                      </p:cBhvr>
                                    </p:animEffect>
                                  </p:childTnLst>
                                </p:cTn>
                              </p:par>
                              <p:par>
                                <p:cTn id="737" nodeType="withEffect" fill="hold" presetClass="entr" presetID="10">
                                  <p:stCondLst>
                                    <p:cond delay="0"/>
                                  </p:stCondLst>
                                  <p:childTnLst>
                                    <p:set>
                                      <p:cBhvr>
                                        <p:cTn id="738" dur="1" fill="hold">
                                          <p:stCondLst>
                                            <p:cond delay="0"/>
                                          </p:stCondLst>
                                        </p:cTn>
                                        <p:tgtEl>
                                          <p:spTgt spid="814"/>
                                        </p:tgtEl>
                                        <p:attrNameLst>
                                          <p:attrName>style.visibility</p:attrName>
                                        </p:attrNameLst>
                                      </p:cBhvr>
                                      <p:to>
                                        <p:strVal val="visible"/>
                                      </p:to>
                                    </p:set>
                                    <p:animEffect filter="fade" transition="in">
                                      <p:cBhvr additive="repl">
                                        <p:cTn id="739" dur="500"/>
                                        <p:tgtEl>
                                          <p:spTgt spid="814"/>
                                        </p:tgtEl>
                                      </p:cBhvr>
                                    </p:animEffect>
                                  </p:childTnLst>
                                </p:cTn>
                              </p:par>
                              <p:par>
                                <p:cTn id="740" nodeType="withEffect" fill="hold" presetClass="entr" presetID="10">
                                  <p:stCondLst>
                                    <p:cond delay="0"/>
                                  </p:stCondLst>
                                  <p:childTnLst>
                                    <p:set>
                                      <p:cBhvr>
                                        <p:cTn id="741" dur="1" fill="hold">
                                          <p:stCondLst>
                                            <p:cond delay="0"/>
                                          </p:stCondLst>
                                        </p:cTn>
                                        <p:tgtEl>
                                          <p:spTgt spid="779"/>
                                        </p:tgtEl>
                                        <p:attrNameLst>
                                          <p:attrName>style.visibility</p:attrName>
                                        </p:attrNameLst>
                                      </p:cBhvr>
                                      <p:to>
                                        <p:strVal val="visible"/>
                                      </p:to>
                                    </p:set>
                                    <p:animEffect filter="fade" transition="in">
                                      <p:cBhvr additive="repl">
                                        <p:cTn id="742" dur="500"/>
                                        <p:tgtEl>
                                          <p:spTgt spid="779"/>
                                        </p:tgtEl>
                                      </p:cBhvr>
                                    </p:animEffect>
                                  </p:childTnLst>
                                </p:cTn>
                              </p:par>
                              <p:par>
                                <p:cTn id="743" nodeType="withEffect" fill="hold" presetClass="entr" presetID="10">
                                  <p:stCondLst>
                                    <p:cond delay="0"/>
                                  </p:stCondLst>
                                  <p:childTnLst>
                                    <p:set>
                                      <p:cBhvr>
                                        <p:cTn id="744" dur="1" fill="hold">
                                          <p:stCondLst>
                                            <p:cond delay="0"/>
                                          </p:stCondLst>
                                        </p:cTn>
                                        <p:tgtEl>
                                          <p:spTgt spid="797"/>
                                        </p:tgtEl>
                                        <p:attrNameLst>
                                          <p:attrName>style.visibility</p:attrName>
                                        </p:attrNameLst>
                                      </p:cBhvr>
                                      <p:to>
                                        <p:strVal val="visible"/>
                                      </p:to>
                                    </p:set>
                                    <p:animEffect filter="fade" transition="in">
                                      <p:cBhvr additive="repl">
                                        <p:cTn id="745" dur="500"/>
                                        <p:tgtEl>
                                          <p:spTgt spid="797"/>
                                        </p:tgtEl>
                                      </p:cBhvr>
                                    </p:animEffect>
                                  </p:childTnLst>
                                </p:cTn>
                              </p:par>
                              <p:par>
                                <p:cTn id="746" nodeType="withEffect" fill="hold" presetClass="entr" presetID="10">
                                  <p:stCondLst>
                                    <p:cond delay="0"/>
                                  </p:stCondLst>
                                  <p:childTnLst>
                                    <p:set>
                                      <p:cBhvr>
                                        <p:cTn id="747" dur="1" fill="hold">
                                          <p:stCondLst>
                                            <p:cond delay="0"/>
                                          </p:stCondLst>
                                        </p:cTn>
                                        <p:tgtEl>
                                          <p:spTgt spid="815"/>
                                        </p:tgtEl>
                                        <p:attrNameLst>
                                          <p:attrName>style.visibility</p:attrName>
                                        </p:attrNameLst>
                                      </p:cBhvr>
                                      <p:to>
                                        <p:strVal val="visible"/>
                                      </p:to>
                                    </p:set>
                                    <p:animEffect filter="fade" transition="in">
                                      <p:cBhvr additive="repl">
                                        <p:cTn id="748" dur="500"/>
                                        <p:tgtEl>
                                          <p:spTgt spid="815"/>
                                        </p:tgtEl>
                                      </p:cBhvr>
                                    </p:animEffect>
                                  </p:childTnLst>
                                </p:cTn>
                              </p:par>
                              <p:par>
                                <p:cTn id="749" nodeType="withEffect" fill="hold" presetClass="entr" presetID="10">
                                  <p:stCondLst>
                                    <p:cond delay="0"/>
                                  </p:stCondLst>
                                  <p:childTnLst>
                                    <p:set>
                                      <p:cBhvr>
                                        <p:cTn id="750" dur="1" fill="hold">
                                          <p:stCondLst>
                                            <p:cond delay="0"/>
                                          </p:stCondLst>
                                        </p:cTn>
                                        <p:tgtEl>
                                          <p:spTgt spid="780"/>
                                        </p:tgtEl>
                                        <p:attrNameLst>
                                          <p:attrName>style.visibility</p:attrName>
                                        </p:attrNameLst>
                                      </p:cBhvr>
                                      <p:to>
                                        <p:strVal val="visible"/>
                                      </p:to>
                                    </p:set>
                                    <p:animEffect filter="fade" transition="in">
                                      <p:cBhvr additive="repl">
                                        <p:cTn id="751" dur="500"/>
                                        <p:tgtEl>
                                          <p:spTgt spid="780"/>
                                        </p:tgtEl>
                                      </p:cBhvr>
                                    </p:animEffect>
                                  </p:childTnLst>
                                </p:cTn>
                              </p:par>
                              <p:par>
                                <p:cTn id="752" nodeType="withEffect" fill="hold" presetClass="entr" presetID="10">
                                  <p:stCondLst>
                                    <p:cond delay="0"/>
                                  </p:stCondLst>
                                  <p:childTnLst>
                                    <p:set>
                                      <p:cBhvr>
                                        <p:cTn id="753" dur="1" fill="hold">
                                          <p:stCondLst>
                                            <p:cond delay="0"/>
                                          </p:stCondLst>
                                        </p:cTn>
                                        <p:tgtEl>
                                          <p:spTgt spid="798"/>
                                        </p:tgtEl>
                                        <p:attrNameLst>
                                          <p:attrName>style.visibility</p:attrName>
                                        </p:attrNameLst>
                                      </p:cBhvr>
                                      <p:to>
                                        <p:strVal val="visible"/>
                                      </p:to>
                                    </p:set>
                                    <p:animEffect filter="fade" transition="in">
                                      <p:cBhvr additive="repl">
                                        <p:cTn id="754" dur="500"/>
                                        <p:tgtEl>
                                          <p:spTgt spid="798"/>
                                        </p:tgtEl>
                                      </p:cBhvr>
                                    </p:animEffect>
                                  </p:childTnLst>
                                </p:cTn>
                              </p:par>
                              <p:par>
                                <p:cTn id="755" nodeType="withEffect" fill="hold" presetClass="entr" presetID="10">
                                  <p:stCondLst>
                                    <p:cond delay="0"/>
                                  </p:stCondLst>
                                  <p:childTnLst>
                                    <p:set>
                                      <p:cBhvr>
                                        <p:cTn id="756" dur="1" fill="hold">
                                          <p:stCondLst>
                                            <p:cond delay="0"/>
                                          </p:stCondLst>
                                        </p:cTn>
                                        <p:tgtEl>
                                          <p:spTgt spid="816"/>
                                        </p:tgtEl>
                                        <p:attrNameLst>
                                          <p:attrName>style.visibility</p:attrName>
                                        </p:attrNameLst>
                                      </p:cBhvr>
                                      <p:to>
                                        <p:strVal val="visible"/>
                                      </p:to>
                                    </p:set>
                                    <p:animEffect filter="fade" transition="in">
                                      <p:cBhvr additive="repl">
                                        <p:cTn id="757" dur="500"/>
                                        <p:tgtEl>
                                          <p:spTgt spid="816"/>
                                        </p:tgtEl>
                                      </p:cBhvr>
                                    </p:animEffect>
                                  </p:childTnLst>
                                </p:cTn>
                              </p:par>
                            </p:childTnLst>
                          </p:cTn>
                        </p:par>
                        <p:par>
                          <p:cTn id="758" nodeType="afterEffect" fill="hold">
                            <p:stCondLst>
                              <p:cond delay="2500"/>
                            </p:stCondLst>
                            <p:childTnLst>
                              <p:par>
                                <p:cTn id="759" nodeType="afterEffect" fill="hold" presetClass="entr" presetID="10">
                                  <p:stCondLst>
                                    <p:cond delay="0"/>
                                  </p:stCondLst>
                                  <p:childTnLst>
                                    <p:set>
                                      <p:cBhvr>
                                        <p:cTn id="760" dur="1" fill="hold">
                                          <p:stCondLst>
                                            <p:cond delay="0"/>
                                          </p:stCondLst>
                                        </p:cTn>
                                        <p:tgtEl>
                                          <p:spTgt spid="763"/>
                                        </p:tgtEl>
                                        <p:attrNameLst>
                                          <p:attrName>style.visibility</p:attrName>
                                        </p:attrNameLst>
                                      </p:cBhvr>
                                      <p:to>
                                        <p:strVal val="visible"/>
                                      </p:to>
                                    </p:set>
                                    <p:animEffect filter="fade" transition="in">
                                      <p:cBhvr additive="repl">
                                        <p:cTn id="761" dur="500"/>
                                        <p:tgtEl>
                                          <p:spTgt spid="763"/>
                                        </p:tgtEl>
                                      </p:cBhvr>
                                    </p:animEffect>
                                  </p:childTnLst>
                                </p:cTn>
                              </p:par>
                              <p:par>
                                <p:cTn id="762" nodeType="withEffect" fill="hold" presetClass="entr" presetID="10">
                                  <p:stCondLst>
                                    <p:cond delay="0"/>
                                  </p:stCondLst>
                                  <p:childTnLst>
                                    <p:set>
                                      <p:cBhvr>
                                        <p:cTn id="763" dur="1" fill="hold">
                                          <p:stCondLst>
                                            <p:cond delay="0"/>
                                          </p:stCondLst>
                                        </p:cTn>
                                        <p:tgtEl>
                                          <p:spTgt spid="781"/>
                                        </p:tgtEl>
                                        <p:attrNameLst>
                                          <p:attrName>style.visibility</p:attrName>
                                        </p:attrNameLst>
                                      </p:cBhvr>
                                      <p:to>
                                        <p:strVal val="visible"/>
                                      </p:to>
                                    </p:set>
                                    <p:animEffect filter="fade" transition="in">
                                      <p:cBhvr additive="repl">
                                        <p:cTn id="764" dur="500"/>
                                        <p:tgtEl>
                                          <p:spTgt spid="781"/>
                                        </p:tgtEl>
                                      </p:cBhvr>
                                    </p:animEffect>
                                  </p:childTnLst>
                                </p:cTn>
                              </p:par>
                              <p:par>
                                <p:cTn id="765" nodeType="withEffect" fill="hold" presetClass="entr" presetID="10">
                                  <p:stCondLst>
                                    <p:cond delay="0"/>
                                  </p:stCondLst>
                                  <p:childTnLst>
                                    <p:set>
                                      <p:cBhvr>
                                        <p:cTn id="766" dur="1" fill="hold">
                                          <p:stCondLst>
                                            <p:cond delay="0"/>
                                          </p:stCondLst>
                                        </p:cTn>
                                        <p:tgtEl>
                                          <p:spTgt spid="799"/>
                                        </p:tgtEl>
                                        <p:attrNameLst>
                                          <p:attrName>style.visibility</p:attrName>
                                        </p:attrNameLst>
                                      </p:cBhvr>
                                      <p:to>
                                        <p:strVal val="visible"/>
                                      </p:to>
                                    </p:set>
                                    <p:animEffect filter="fade" transition="in">
                                      <p:cBhvr additive="repl">
                                        <p:cTn id="767" dur="500"/>
                                        <p:tgtEl>
                                          <p:spTgt spid="799"/>
                                        </p:tgtEl>
                                      </p:cBhvr>
                                    </p:animEffect>
                                  </p:childTnLst>
                                </p:cTn>
                              </p:par>
                              <p:par>
                                <p:cTn id="768" nodeType="withEffect" fill="hold" presetClass="entr" presetID="10">
                                  <p:stCondLst>
                                    <p:cond delay="0"/>
                                  </p:stCondLst>
                                  <p:childTnLst>
                                    <p:set>
                                      <p:cBhvr>
                                        <p:cTn id="769" dur="1" fill="hold">
                                          <p:stCondLst>
                                            <p:cond delay="0"/>
                                          </p:stCondLst>
                                        </p:cTn>
                                        <p:tgtEl>
                                          <p:spTgt spid="768"/>
                                        </p:tgtEl>
                                        <p:attrNameLst>
                                          <p:attrName>style.visibility</p:attrName>
                                        </p:attrNameLst>
                                      </p:cBhvr>
                                      <p:to>
                                        <p:strVal val="visible"/>
                                      </p:to>
                                    </p:set>
                                    <p:animEffect filter="fade" transition="in">
                                      <p:cBhvr additive="repl">
                                        <p:cTn id="770" dur="500"/>
                                        <p:tgtEl>
                                          <p:spTgt spid="768"/>
                                        </p:tgtEl>
                                      </p:cBhvr>
                                    </p:animEffect>
                                  </p:childTnLst>
                                </p:cTn>
                              </p:par>
                              <p:par>
                                <p:cTn id="771" nodeType="withEffect" fill="hold" presetClass="entr" presetID="10">
                                  <p:stCondLst>
                                    <p:cond delay="0"/>
                                  </p:stCondLst>
                                  <p:childTnLst>
                                    <p:set>
                                      <p:cBhvr>
                                        <p:cTn id="772" dur="1" fill="hold">
                                          <p:stCondLst>
                                            <p:cond delay="0"/>
                                          </p:stCondLst>
                                        </p:cTn>
                                        <p:tgtEl>
                                          <p:spTgt spid="786"/>
                                        </p:tgtEl>
                                        <p:attrNameLst>
                                          <p:attrName>style.visibility</p:attrName>
                                        </p:attrNameLst>
                                      </p:cBhvr>
                                      <p:to>
                                        <p:strVal val="visible"/>
                                      </p:to>
                                    </p:set>
                                    <p:animEffect filter="fade" transition="in">
                                      <p:cBhvr additive="repl">
                                        <p:cTn id="773" dur="500"/>
                                        <p:tgtEl>
                                          <p:spTgt spid="786"/>
                                        </p:tgtEl>
                                      </p:cBhvr>
                                    </p:animEffect>
                                  </p:childTnLst>
                                </p:cTn>
                              </p:par>
                              <p:par>
                                <p:cTn id="774" nodeType="withEffect" fill="hold" presetClass="entr" presetID="10">
                                  <p:stCondLst>
                                    <p:cond delay="0"/>
                                  </p:stCondLst>
                                  <p:childTnLst>
                                    <p:set>
                                      <p:cBhvr>
                                        <p:cTn id="775" dur="1" fill="hold">
                                          <p:stCondLst>
                                            <p:cond delay="0"/>
                                          </p:stCondLst>
                                        </p:cTn>
                                        <p:tgtEl>
                                          <p:spTgt spid="804"/>
                                        </p:tgtEl>
                                        <p:attrNameLst>
                                          <p:attrName>style.visibility</p:attrName>
                                        </p:attrNameLst>
                                      </p:cBhvr>
                                      <p:to>
                                        <p:strVal val="visible"/>
                                      </p:to>
                                    </p:set>
                                    <p:animEffect filter="fade" transition="in">
                                      <p:cBhvr additive="repl">
                                        <p:cTn id="776" dur="500"/>
                                        <p:tgtEl>
                                          <p:spTgt spid="804"/>
                                        </p:tgtEl>
                                      </p:cBhvr>
                                    </p:animEffect>
                                  </p:childTnLst>
                                </p:cTn>
                              </p:par>
                              <p:par>
                                <p:cTn id="777" nodeType="withEffect" fill="hold" presetClass="entr" presetID="10">
                                  <p:stCondLst>
                                    <p:cond delay="0"/>
                                  </p:stCondLst>
                                  <p:childTnLst>
                                    <p:set>
                                      <p:cBhvr>
                                        <p:cTn id="778" dur="1" fill="hold">
                                          <p:stCondLst>
                                            <p:cond delay="0"/>
                                          </p:stCondLst>
                                        </p:cTn>
                                        <p:tgtEl>
                                          <p:spTgt spid="773"/>
                                        </p:tgtEl>
                                        <p:attrNameLst>
                                          <p:attrName>style.visibility</p:attrName>
                                        </p:attrNameLst>
                                      </p:cBhvr>
                                      <p:to>
                                        <p:strVal val="visible"/>
                                      </p:to>
                                    </p:set>
                                    <p:animEffect filter="fade" transition="in">
                                      <p:cBhvr additive="repl">
                                        <p:cTn id="779" dur="500"/>
                                        <p:tgtEl>
                                          <p:spTgt spid="773"/>
                                        </p:tgtEl>
                                      </p:cBhvr>
                                    </p:animEffect>
                                  </p:childTnLst>
                                </p:cTn>
                              </p:par>
                              <p:par>
                                <p:cTn id="780" nodeType="withEffect" fill="hold" presetClass="entr" presetID="10">
                                  <p:stCondLst>
                                    <p:cond delay="0"/>
                                  </p:stCondLst>
                                  <p:childTnLst>
                                    <p:set>
                                      <p:cBhvr>
                                        <p:cTn id="781" dur="1" fill="hold">
                                          <p:stCondLst>
                                            <p:cond delay="0"/>
                                          </p:stCondLst>
                                        </p:cTn>
                                        <p:tgtEl>
                                          <p:spTgt spid="791"/>
                                        </p:tgtEl>
                                        <p:attrNameLst>
                                          <p:attrName>style.visibility</p:attrName>
                                        </p:attrNameLst>
                                      </p:cBhvr>
                                      <p:to>
                                        <p:strVal val="visible"/>
                                      </p:to>
                                    </p:set>
                                    <p:animEffect filter="fade" transition="in">
                                      <p:cBhvr additive="repl">
                                        <p:cTn id="782" dur="500"/>
                                        <p:tgtEl>
                                          <p:spTgt spid="791"/>
                                        </p:tgtEl>
                                      </p:cBhvr>
                                    </p:animEffect>
                                  </p:childTnLst>
                                </p:cTn>
                              </p:par>
                              <p:par>
                                <p:cTn id="783" nodeType="withEffect" fill="hold" presetClass="entr" presetID="10">
                                  <p:stCondLst>
                                    <p:cond delay="0"/>
                                  </p:stCondLst>
                                  <p:childTnLst>
                                    <p:set>
                                      <p:cBhvr>
                                        <p:cTn id="784" dur="1" fill="hold">
                                          <p:stCondLst>
                                            <p:cond delay="0"/>
                                          </p:stCondLst>
                                        </p:cTn>
                                        <p:tgtEl>
                                          <p:spTgt spid="809"/>
                                        </p:tgtEl>
                                        <p:attrNameLst>
                                          <p:attrName>style.visibility</p:attrName>
                                        </p:attrNameLst>
                                      </p:cBhvr>
                                      <p:to>
                                        <p:strVal val="visible"/>
                                      </p:to>
                                    </p:set>
                                    <p:animEffect filter="fade" transition="in">
                                      <p:cBhvr additive="repl">
                                        <p:cTn id="785" dur="500"/>
                                        <p:tgtEl>
                                          <p:spTgt spid="809"/>
                                        </p:tgtEl>
                                      </p:cBhvr>
                                    </p:animEffect>
                                  </p:childTnLst>
                                </p:cTn>
                              </p:par>
                            </p:childTnLst>
                          </p:cTn>
                        </p:par>
                        <p:par>
                          <p:cTn id="786" nodeType="afterEffect" fill="hold">
                            <p:stCondLst>
                              <p:cond delay="3000"/>
                            </p:stCondLst>
                            <p:childTnLst>
                              <p:par>
                                <p:cTn id="787" nodeType="afterEffect" fill="hold" presetClass="entr" presetID="22" presetSubtype="8">
                                  <p:stCondLst>
                                    <p:cond delay="0"/>
                                  </p:stCondLst>
                                  <p:childTnLst>
                                    <p:set>
                                      <p:cBhvr>
                                        <p:cTn id="788" dur="1" fill="hold">
                                          <p:stCondLst>
                                            <p:cond delay="0"/>
                                          </p:stCondLst>
                                        </p:cTn>
                                        <p:tgtEl>
                                          <p:spTgt spid="766"/>
                                        </p:tgtEl>
                                        <p:attrNameLst>
                                          <p:attrName>style.visibility</p:attrName>
                                        </p:attrNameLst>
                                      </p:cBhvr>
                                      <p:to>
                                        <p:strVal val="visible"/>
                                      </p:to>
                                    </p:set>
                                    <p:animEffect filter="wipe(left)" transition="in">
                                      <p:cBhvr additive="repl">
                                        <p:cTn id="789" dur="500"/>
                                        <p:tgtEl>
                                          <p:spTgt spid="766"/>
                                        </p:tgtEl>
                                      </p:cBhvr>
                                    </p:animEffect>
                                  </p:childTnLst>
                                </p:cTn>
                              </p:par>
                              <p:par>
                                <p:cTn id="790" nodeType="withEffect" fill="hold" presetClass="entr" presetID="22" presetSubtype="8">
                                  <p:stCondLst>
                                    <p:cond delay="0"/>
                                  </p:stCondLst>
                                  <p:childTnLst>
                                    <p:set>
                                      <p:cBhvr>
                                        <p:cTn id="791" dur="1" fill="hold">
                                          <p:stCondLst>
                                            <p:cond delay="0"/>
                                          </p:stCondLst>
                                        </p:cTn>
                                        <p:tgtEl>
                                          <p:spTgt spid="784"/>
                                        </p:tgtEl>
                                        <p:attrNameLst>
                                          <p:attrName>style.visibility</p:attrName>
                                        </p:attrNameLst>
                                      </p:cBhvr>
                                      <p:to>
                                        <p:strVal val="visible"/>
                                      </p:to>
                                    </p:set>
                                    <p:animEffect filter="wipe(left)" transition="in">
                                      <p:cBhvr additive="repl">
                                        <p:cTn id="792" dur="500"/>
                                        <p:tgtEl>
                                          <p:spTgt spid="784"/>
                                        </p:tgtEl>
                                      </p:cBhvr>
                                    </p:animEffect>
                                  </p:childTnLst>
                                </p:cTn>
                              </p:par>
                              <p:par>
                                <p:cTn id="793" nodeType="withEffect" fill="hold" presetClass="entr" presetID="22" presetSubtype="8">
                                  <p:stCondLst>
                                    <p:cond delay="0"/>
                                  </p:stCondLst>
                                  <p:childTnLst>
                                    <p:set>
                                      <p:cBhvr>
                                        <p:cTn id="794" dur="1" fill="hold">
                                          <p:stCondLst>
                                            <p:cond delay="0"/>
                                          </p:stCondLst>
                                        </p:cTn>
                                        <p:tgtEl>
                                          <p:spTgt spid="802"/>
                                        </p:tgtEl>
                                        <p:attrNameLst>
                                          <p:attrName>style.visibility</p:attrName>
                                        </p:attrNameLst>
                                      </p:cBhvr>
                                      <p:to>
                                        <p:strVal val="visible"/>
                                      </p:to>
                                    </p:set>
                                    <p:animEffect filter="wipe(left)" transition="in">
                                      <p:cBhvr additive="repl">
                                        <p:cTn id="795" dur="500"/>
                                        <p:tgtEl>
                                          <p:spTgt spid="802"/>
                                        </p:tgtEl>
                                      </p:cBhvr>
                                    </p:animEffect>
                                  </p:childTnLst>
                                </p:cTn>
                              </p:par>
                              <p:par>
                                <p:cTn id="796" nodeType="withEffect" fill="hold" presetClass="entr" presetID="22" presetSubtype="8">
                                  <p:stCondLst>
                                    <p:cond delay="0"/>
                                  </p:stCondLst>
                                  <p:childTnLst>
                                    <p:set>
                                      <p:cBhvr>
                                        <p:cTn id="797" dur="1" fill="hold">
                                          <p:stCondLst>
                                            <p:cond delay="0"/>
                                          </p:stCondLst>
                                        </p:cTn>
                                        <p:tgtEl>
                                          <p:spTgt spid="771"/>
                                        </p:tgtEl>
                                        <p:attrNameLst>
                                          <p:attrName>style.visibility</p:attrName>
                                        </p:attrNameLst>
                                      </p:cBhvr>
                                      <p:to>
                                        <p:strVal val="visible"/>
                                      </p:to>
                                    </p:set>
                                    <p:animEffect filter="wipe(left)" transition="in">
                                      <p:cBhvr additive="repl">
                                        <p:cTn id="798" dur="500"/>
                                        <p:tgtEl>
                                          <p:spTgt spid="771"/>
                                        </p:tgtEl>
                                      </p:cBhvr>
                                    </p:animEffect>
                                  </p:childTnLst>
                                </p:cTn>
                              </p:par>
                              <p:par>
                                <p:cTn id="799" nodeType="withEffect" fill="hold" presetClass="entr" presetID="22" presetSubtype="8">
                                  <p:stCondLst>
                                    <p:cond delay="0"/>
                                  </p:stCondLst>
                                  <p:childTnLst>
                                    <p:set>
                                      <p:cBhvr>
                                        <p:cTn id="800" dur="1" fill="hold">
                                          <p:stCondLst>
                                            <p:cond delay="0"/>
                                          </p:stCondLst>
                                        </p:cTn>
                                        <p:tgtEl>
                                          <p:spTgt spid="789"/>
                                        </p:tgtEl>
                                        <p:attrNameLst>
                                          <p:attrName>style.visibility</p:attrName>
                                        </p:attrNameLst>
                                      </p:cBhvr>
                                      <p:to>
                                        <p:strVal val="visible"/>
                                      </p:to>
                                    </p:set>
                                    <p:animEffect filter="wipe(left)" transition="in">
                                      <p:cBhvr additive="repl">
                                        <p:cTn id="801" dur="500"/>
                                        <p:tgtEl>
                                          <p:spTgt spid="789"/>
                                        </p:tgtEl>
                                      </p:cBhvr>
                                    </p:animEffect>
                                  </p:childTnLst>
                                </p:cTn>
                              </p:par>
                              <p:par>
                                <p:cTn id="802" nodeType="withEffect" fill="hold" presetClass="entr" presetID="22" presetSubtype="8">
                                  <p:stCondLst>
                                    <p:cond delay="0"/>
                                  </p:stCondLst>
                                  <p:childTnLst>
                                    <p:set>
                                      <p:cBhvr>
                                        <p:cTn id="803" dur="1" fill="hold">
                                          <p:stCondLst>
                                            <p:cond delay="0"/>
                                          </p:stCondLst>
                                        </p:cTn>
                                        <p:tgtEl>
                                          <p:spTgt spid="807"/>
                                        </p:tgtEl>
                                        <p:attrNameLst>
                                          <p:attrName>style.visibility</p:attrName>
                                        </p:attrNameLst>
                                      </p:cBhvr>
                                      <p:to>
                                        <p:strVal val="visible"/>
                                      </p:to>
                                    </p:set>
                                    <p:animEffect filter="wipe(left)" transition="in">
                                      <p:cBhvr additive="repl">
                                        <p:cTn id="804" dur="500"/>
                                        <p:tgtEl>
                                          <p:spTgt spid="807"/>
                                        </p:tgtEl>
                                      </p:cBhvr>
                                    </p:animEffect>
                                  </p:childTnLst>
                                </p:cTn>
                              </p:par>
                              <p:par>
                                <p:cTn id="805" nodeType="withEffect" fill="hold" presetClass="entr" presetID="22" presetSubtype="8">
                                  <p:stCondLst>
                                    <p:cond delay="0"/>
                                  </p:stCondLst>
                                  <p:childTnLst>
                                    <p:set>
                                      <p:cBhvr>
                                        <p:cTn id="806" dur="1" fill="hold">
                                          <p:stCondLst>
                                            <p:cond delay="0"/>
                                          </p:stCondLst>
                                        </p:cTn>
                                        <p:tgtEl>
                                          <p:spTgt spid="776"/>
                                        </p:tgtEl>
                                        <p:attrNameLst>
                                          <p:attrName>style.visibility</p:attrName>
                                        </p:attrNameLst>
                                      </p:cBhvr>
                                      <p:to>
                                        <p:strVal val="visible"/>
                                      </p:to>
                                    </p:set>
                                    <p:animEffect filter="wipe(left)" transition="in">
                                      <p:cBhvr additive="repl">
                                        <p:cTn id="807" dur="500"/>
                                        <p:tgtEl>
                                          <p:spTgt spid="776"/>
                                        </p:tgtEl>
                                      </p:cBhvr>
                                    </p:animEffect>
                                  </p:childTnLst>
                                </p:cTn>
                              </p:par>
                              <p:par>
                                <p:cTn id="808" nodeType="withEffect" fill="hold" presetClass="entr" presetID="22" presetSubtype="8">
                                  <p:stCondLst>
                                    <p:cond delay="0"/>
                                  </p:stCondLst>
                                  <p:childTnLst>
                                    <p:set>
                                      <p:cBhvr>
                                        <p:cTn id="809" dur="1" fill="hold">
                                          <p:stCondLst>
                                            <p:cond delay="0"/>
                                          </p:stCondLst>
                                        </p:cTn>
                                        <p:tgtEl>
                                          <p:spTgt spid="794"/>
                                        </p:tgtEl>
                                        <p:attrNameLst>
                                          <p:attrName>style.visibility</p:attrName>
                                        </p:attrNameLst>
                                      </p:cBhvr>
                                      <p:to>
                                        <p:strVal val="visible"/>
                                      </p:to>
                                    </p:set>
                                    <p:animEffect filter="wipe(left)" transition="in">
                                      <p:cBhvr additive="repl">
                                        <p:cTn id="810" dur="500"/>
                                        <p:tgtEl>
                                          <p:spTgt spid="794"/>
                                        </p:tgtEl>
                                      </p:cBhvr>
                                    </p:animEffect>
                                  </p:childTnLst>
                                </p:cTn>
                              </p:par>
                              <p:par>
                                <p:cTn id="811" nodeType="withEffect" fill="hold" presetClass="entr" presetID="22" presetSubtype="8">
                                  <p:stCondLst>
                                    <p:cond delay="0"/>
                                  </p:stCondLst>
                                  <p:childTnLst>
                                    <p:set>
                                      <p:cBhvr>
                                        <p:cTn id="812" dur="1" fill="hold">
                                          <p:stCondLst>
                                            <p:cond delay="0"/>
                                          </p:stCondLst>
                                        </p:cTn>
                                        <p:tgtEl>
                                          <p:spTgt spid="812"/>
                                        </p:tgtEl>
                                        <p:attrNameLst>
                                          <p:attrName>style.visibility</p:attrName>
                                        </p:attrNameLst>
                                      </p:cBhvr>
                                      <p:to>
                                        <p:strVal val="visible"/>
                                      </p:to>
                                    </p:set>
                                    <p:animEffect filter="wipe(left)" transition="in">
                                      <p:cBhvr additive="repl">
                                        <p:cTn id="813" dur="500"/>
                                        <p:tgtEl>
                                          <p:spTgt spid="812"/>
                                        </p:tgtEl>
                                      </p:cBhvr>
                                    </p:animEffect>
                                  </p:childTnLst>
                                </p:cTn>
                              </p:par>
                            </p:childTnLst>
                          </p:cTn>
                        </p:par>
                        <p:par>
                          <p:cTn id="814" nodeType="afterEffect" fill="hold">
                            <p:stCondLst>
                              <p:cond delay="3500"/>
                            </p:stCondLst>
                            <p:childTnLst>
                              <p:par>
                                <p:cTn id="815" nodeType="afterEffect" fill="hold" presetClass="entr" presetID="10">
                                  <p:stCondLst>
                                    <p:cond delay="0"/>
                                  </p:stCondLst>
                                  <p:childTnLst>
                                    <p:set>
                                      <p:cBhvr>
                                        <p:cTn id="816" dur="1" fill="hold">
                                          <p:stCondLst>
                                            <p:cond delay="0"/>
                                          </p:stCondLst>
                                        </p:cTn>
                                        <p:tgtEl>
                                          <p:spTgt spid="767"/>
                                        </p:tgtEl>
                                        <p:attrNameLst>
                                          <p:attrName>style.visibility</p:attrName>
                                        </p:attrNameLst>
                                      </p:cBhvr>
                                      <p:to>
                                        <p:strVal val="visible"/>
                                      </p:to>
                                    </p:set>
                                    <p:animEffect filter="fade" transition="in">
                                      <p:cBhvr additive="repl">
                                        <p:cTn id="817" dur="500"/>
                                        <p:tgtEl>
                                          <p:spTgt spid="767"/>
                                        </p:tgtEl>
                                      </p:cBhvr>
                                    </p:animEffect>
                                  </p:childTnLst>
                                </p:cTn>
                              </p:par>
                              <p:par>
                                <p:cTn id="818" nodeType="withEffect" fill="hold" presetClass="entr" presetID="10">
                                  <p:stCondLst>
                                    <p:cond delay="0"/>
                                  </p:stCondLst>
                                  <p:childTnLst>
                                    <p:set>
                                      <p:cBhvr>
                                        <p:cTn id="819" dur="1" fill="hold">
                                          <p:stCondLst>
                                            <p:cond delay="0"/>
                                          </p:stCondLst>
                                        </p:cTn>
                                        <p:tgtEl>
                                          <p:spTgt spid="785"/>
                                        </p:tgtEl>
                                        <p:attrNameLst>
                                          <p:attrName>style.visibility</p:attrName>
                                        </p:attrNameLst>
                                      </p:cBhvr>
                                      <p:to>
                                        <p:strVal val="visible"/>
                                      </p:to>
                                    </p:set>
                                    <p:animEffect filter="fade" transition="in">
                                      <p:cBhvr additive="repl">
                                        <p:cTn id="820" dur="500"/>
                                        <p:tgtEl>
                                          <p:spTgt spid="785"/>
                                        </p:tgtEl>
                                      </p:cBhvr>
                                    </p:animEffect>
                                  </p:childTnLst>
                                </p:cTn>
                              </p:par>
                              <p:par>
                                <p:cTn id="821" nodeType="withEffect" fill="hold" presetClass="entr" presetID="10">
                                  <p:stCondLst>
                                    <p:cond delay="0"/>
                                  </p:stCondLst>
                                  <p:childTnLst>
                                    <p:set>
                                      <p:cBhvr>
                                        <p:cTn id="822" dur="1" fill="hold">
                                          <p:stCondLst>
                                            <p:cond delay="0"/>
                                          </p:stCondLst>
                                        </p:cTn>
                                        <p:tgtEl>
                                          <p:spTgt spid="803"/>
                                        </p:tgtEl>
                                        <p:attrNameLst>
                                          <p:attrName>style.visibility</p:attrName>
                                        </p:attrNameLst>
                                      </p:cBhvr>
                                      <p:to>
                                        <p:strVal val="visible"/>
                                      </p:to>
                                    </p:set>
                                    <p:animEffect filter="fade" transition="in">
                                      <p:cBhvr additive="repl">
                                        <p:cTn id="823" dur="500"/>
                                        <p:tgtEl>
                                          <p:spTgt spid="803"/>
                                        </p:tgtEl>
                                      </p:cBhvr>
                                    </p:animEffect>
                                  </p:childTnLst>
                                </p:cTn>
                              </p:par>
                              <p:par>
                                <p:cTn id="824" nodeType="withEffect" fill="hold" presetClass="entr" presetID="10">
                                  <p:stCondLst>
                                    <p:cond delay="0"/>
                                  </p:stCondLst>
                                  <p:childTnLst>
                                    <p:set>
                                      <p:cBhvr>
                                        <p:cTn id="825" dur="1" fill="hold">
                                          <p:stCondLst>
                                            <p:cond delay="0"/>
                                          </p:stCondLst>
                                        </p:cTn>
                                        <p:tgtEl>
                                          <p:spTgt spid="808"/>
                                        </p:tgtEl>
                                        <p:attrNameLst>
                                          <p:attrName>style.visibility</p:attrName>
                                        </p:attrNameLst>
                                      </p:cBhvr>
                                      <p:to>
                                        <p:strVal val="visible"/>
                                      </p:to>
                                    </p:set>
                                    <p:animEffect filter="fade" transition="in">
                                      <p:cBhvr additive="repl">
                                        <p:cTn id="826" dur="500"/>
                                        <p:tgtEl>
                                          <p:spTgt spid="808"/>
                                        </p:tgtEl>
                                      </p:cBhvr>
                                    </p:animEffect>
                                  </p:childTnLst>
                                </p:cTn>
                              </p:par>
                              <p:par>
                                <p:cTn id="827" nodeType="withEffect" fill="hold" presetClass="entr" presetID="10">
                                  <p:stCondLst>
                                    <p:cond delay="0"/>
                                  </p:stCondLst>
                                  <p:childTnLst>
                                    <p:set>
                                      <p:cBhvr>
                                        <p:cTn id="828" dur="1" fill="hold">
                                          <p:stCondLst>
                                            <p:cond delay="0"/>
                                          </p:stCondLst>
                                        </p:cTn>
                                        <p:tgtEl>
                                          <p:spTgt spid="790"/>
                                        </p:tgtEl>
                                        <p:attrNameLst>
                                          <p:attrName>style.visibility</p:attrName>
                                        </p:attrNameLst>
                                      </p:cBhvr>
                                      <p:to>
                                        <p:strVal val="visible"/>
                                      </p:to>
                                    </p:set>
                                    <p:animEffect filter="fade" transition="in">
                                      <p:cBhvr additive="repl">
                                        <p:cTn id="829" dur="500"/>
                                        <p:tgtEl>
                                          <p:spTgt spid="790"/>
                                        </p:tgtEl>
                                      </p:cBhvr>
                                    </p:animEffect>
                                  </p:childTnLst>
                                </p:cTn>
                              </p:par>
                              <p:par>
                                <p:cTn id="830" nodeType="withEffect" fill="hold" presetClass="entr" presetID="10">
                                  <p:stCondLst>
                                    <p:cond delay="0"/>
                                  </p:stCondLst>
                                  <p:childTnLst>
                                    <p:set>
                                      <p:cBhvr>
                                        <p:cTn id="831" dur="1" fill="hold">
                                          <p:stCondLst>
                                            <p:cond delay="0"/>
                                          </p:stCondLst>
                                        </p:cTn>
                                        <p:tgtEl>
                                          <p:spTgt spid="772"/>
                                        </p:tgtEl>
                                        <p:attrNameLst>
                                          <p:attrName>style.visibility</p:attrName>
                                        </p:attrNameLst>
                                      </p:cBhvr>
                                      <p:to>
                                        <p:strVal val="visible"/>
                                      </p:to>
                                    </p:set>
                                    <p:animEffect filter="fade" transition="in">
                                      <p:cBhvr additive="repl">
                                        <p:cTn id="832" dur="500"/>
                                        <p:tgtEl>
                                          <p:spTgt spid="772"/>
                                        </p:tgtEl>
                                      </p:cBhvr>
                                    </p:animEffect>
                                  </p:childTnLst>
                                </p:cTn>
                              </p:par>
                              <p:par>
                                <p:cTn id="833" nodeType="withEffect" fill="hold" presetClass="entr" presetID="10">
                                  <p:stCondLst>
                                    <p:cond delay="0"/>
                                  </p:stCondLst>
                                  <p:childTnLst>
                                    <p:set>
                                      <p:cBhvr>
                                        <p:cTn id="834" dur="1" fill="hold">
                                          <p:stCondLst>
                                            <p:cond delay="0"/>
                                          </p:stCondLst>
                                        </p:cTn>
                                        <p:tgtEl>
                                          <p:spTgt spid="777"/>
                                        </p:tgtEl>
                                        <p:attrNameLst>
                                          <p:attrName>style.visibility</p:attrName>
                                        </p:attrNameLst>
                                      </p:cBhvr>
                                      <p:to>
                                        <p:strVal val="visible"/>
                                      </p:to>
                                    </p:set>
                                    <p:animEffect filter="fade" transition="in">
                                      <p:cBhvr additive="repl">
                                        <p:cTn id="835" dur="500"/>
                                        <p:tgtEl>
                                          <p:spTgt spid="777"/>
                                        </p:tgtEl>
                                      </p:cBhvr>
                                    </p:animEffect>
                                  </p:childTnLst>
                                </p:cTn>
                              </p:par>
                              <p:par>
                                <p:cTn id="836" nodeType="withEffect" fill="hold" presetClass="entr" presetID="10">
                                  <p:stCondLst>
                                    <p:cond delay="0"/>
                                  </p:stCondLst>
                                  <p:childTnLst>
                                    <p:set>
                                      <p:cBhvr>
                                        <p:cTn id="837" dur="1" fill="hold">
                                          <p:stCondLst>
                                            <p:cond delay="0"/>
                                          </p:stCondLst>
                                        </p:cTn>
                                        <p:tgtEl>
                                          <p:spTgt spid="795"/>
                                        </p:tgtEl>
                                        <p:attrNameLst>
                                          <p:attrName>style.visibility</p:attrName>
                                        </p:attrNameLst>
                                      </p:cBhvr>
                                      <p:to>
                                        <p:strVal val="visible"/>
                                      </p:to>
                                    </p:set>
                                    <p:animEffect filter="fade" transition="in">
                                      <p:cBhvr additive="repl">
                                        <p:cTn id="838" dur="500"/>
                                        <p:tgtEl>
                                          <p:spTgt spid="795"/>
                                        </p:tgtEl>
                                      </p:cBhvr>
                                    </p:animEffect>
                                  </p:childTnLst>
                                </p:cTn>
                              </p:par>
                              <p:par>
                                <p:cTn id="839" nodeType="withEffect" fill="hold" presetClass="entr" presetID="10">
                                  <p:stCondLst>
                                    <p:cond delay="0"/>
                                  </p:stCondLst>
                                  <p:childTnLst>
                                    <p:set>
                                      <p:cBhvr>
                                        <p:cTn id="840" dur="1" fill="hold">
                                          <p:stCondLst>
                                            <p:cond delay="0"/>
                                          </p:stCondLst>
                                        </p:cTn>
                                        <p:tgtEl>
                                          <p:spTgt spid="813"/>
                                        </p:tgtEl>
                                        <p:attrNameLst>
                                          <p:attrName>style.visibility</p:attrName>
                                        </p:attrNameLst>
                                      </p:cBhvr>
                                      <p:to>
                                        <p:strVal val="visible"/>
                                      </p:to>
                                    </p:set>
                                    <p:animEffect filter="fade" transition="in">
                                      <p:cBhvr additive="repl">
                                        <p:cTn id="84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sp>
        <p:nvSpPr>
          <p:cNvPr id="823" name="Rectangle: Rounded Corners 67"/>
          <p:cNvSpPr/>
          <p:nvPr/>
        </p:nvSpPr>
        <p:spPr>
          <a:xfrm>
            <a:off x="632772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24" name="Rectangle: Rounded Corners 68"/>
          <p:cNvSpPr/>
          <p:nvPr/>
        </p:nvSpPr>
        <p:spPr>
          <a:xfrm>
            <a:off x="70344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25" name="TextBox 23"/>
          <p:cNvSpPr/>
          <p:nvPr/>
        </p:nvSpPr>
        <p:spPr>
          <a:xfrm>
            <a:off x="1306440" y="365760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ea typeface="Raleway"/>
              </a:rPr>
              <a:t>Description</a:t>
            </a:r>
            <a:endParaRPr b="0" lang="en-US" sz="1600" spc="-1" strike="noStrike">
              <a:solidFill>
                <a:srgbClr val="313c3f"/>
              </a:solidFill>
              <a:latin typeface="Source Sans Pro"/>
            </a:endParaRPr>
          </a:p>
        </p:txBody>
      </p:sp>
      <p:sp>
        <p:nvSpPr>
          <p:cNvPr id="826" name="Straight Connector 70"/>
          <p:cNvSpPr/>
          <p:nvPr/>
        </p:nvSpPr>
        <p:spPr>
          <a:xfrm>
            <a:off x="1271520" y="4057560"/>
            <a:ext cx="402444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graphicFrame>
        <p:nvGraphicFramePr>
          <p:cNvPr id="827" name="Chart 71"/>
          <p:cNvGraphicFramePr/>
          <p:nvPr/>
        </p:nvGraphicFramePr>
        <p:xfrm>
          <a:off x="1128600" y="4046400"/>
          <a:ext cx="1568520" cy="1498680"/>
        </p:xfrm>
        <a:graphic>
          <a:graphicData uri="http://schemas.openxmlformats.org/presentationml/2006/ole">
            <p:oleObj progId="Excel.Sheet.12" r:id="rId1" spid="">
              <p:embed/>
              <p:pic>
                <p:nvPicPr>
                  <p:cNvPr id="828" name="Chart 71" descr=""/>
                  <p:cNvPicPr/>
                  <p:nvPr/>
                </p:nvPicPr>
                <p:blipFill>
                  <a:blip r:embed="rId2"/>
                  <a:stretch/>
                </p:blipFill>
                <p:spPr>
                  <a:xfrm>
                    <a:off x="1128600" y="4046400"/>
                    <a:ext cx="1568520" cy="1498680"/>
                  </a:xfrm>
                  <a:prstGeom prst="rect">
                    <a:avLst/>
                  </a:prstGeom>
                  <a:ln w="0">
                    <a:noFill/>
                  </a:ln>
                </p:spPr>
              </p:pic>
            </p:oleObj>
          </a:graphicData>
        </a:graphic>
      </p:graphicFrame>
      <p:graphicFrame>
        <p:nvGraphicFramePr>
          <p:cNvPr id="829" name="Chart 72"/>
          <p:cNvGraphicFramePr/>
          <p:nvPr/>
        </p:nvGraphicFramePr>
        <p:xfrm>
          <a:off x="2554200" y="4046400"/>
          <a:ext cx="1568520" cy="1498680"/>
        </p:xfrm>
        <a:graphic>
          <a:graphicData uri="http://schemas.openxmlformats.org/presentationml/2006/ole">
            <p:oleObj progId="Excel.Sheet.12" r:id="rId3" spid="">
              <p:embed/>
              <p:pic>
                <p:nvPicPr>
                  <p:cNvPr id="830" name="Chart 72" descr=""/>
                  <p:cNvPicPr/>
                  <p:nvPr/>
                </p:nvPicPr>
                <p:blipFill>
                  <a:blip r:embed="rId4"/>
                  <a:stretch/>
                </p:blipFill>
                <p:spPr>
                  <a:xfrm>
                    <a:off x="2554200" y="4046400"/>
                    <a:ext cx="1568520" cy="1498680"/>
                  </a:xfrm>
                  <a:prstGeom prst="rect">
                    <a:avLst/>
                  </a:prstGeom>
                  <a:ln w="0">
                    <a:noFill/>
                  </a:ln>
                </p:spPr>
              </p:pic>
            </p:oleObj>
          </a:graphicData>
        </a:graphic>
      </p:graphicFrame>
      <p:graphicFrame>
        <p:nvGraphicFramePr>
          <p:cNvPr id="831" name="Chart 73"/>
          <p:cNvGraphicFramePr/>
          <p:nvPr/>
        </p:nvGraphicFramePr>
        <p:xfrm>
          <a:off x="3986280" y="4046400"/>
          <a:ext cx="1568520" cy="1498680"/>
        </p:xfrm>
        <a:graphic>
          <a:graphicData uri="http://schemas.openxmlformats.org/presentationml/2006/ole">
            <p:oleObj progId="Excel.Sheet.12" r:id="rId5" spid="">
              <p:embed/>
              <p:pic>
                <p:nvPicPr>
                  <p:cNvPr id="832" name="Chart 73" descr=""/>
                  <p:cNvPicPr/>
                  <p:nvPr/>
                </p:nvPicPr>
                <p:blipFill>
                  <a:blip r:embed="rId6"/>
                  <a:stretch/>
                </p:blipFill>
                <p:spPr>
                  <a:xfrm>
                    <a:off x="3986280" y="4046400"/>
                    <a:ext cx="1568520" cy="1498680"/>
                  </a:xfrm>
                  <a:prstGeom prst="rect">
                    <a:avLst/>
                  </a:prstGeom>
                  <a:ln w="0">
                    <a:noFill/>
                  </a:ln>
                </p:spPr>
              </p:pic>
            </p:oleObj>
          </a:graphicData>
        </a:graphic>
      </p:graphicFrame>
      <p:sp>
        <p:nvSpPr>
          <p:cNvPr id="833" name="TextBox 74"/>
          <p:cNvSpPr/>
          <p:nvPr/>
        </p:nvSpPr>
        <p:spPr>
          <a:xfrm>
            <a:off x="11700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Economy</a:t>
            </a:r>
            <a:endParaRPr b="0" lang="en-US" sz="1200" spc="-1" strike="noStrike">
              <a:solidFill>
                <a:srgbClr val="313c3f"/>
              </a:solidFill>
              <a:latin typeface="Source Sans Pro"/>
            </a:endParaRPr>
          </a:p>
        </p:txBody>
      </p:sp>
      <p:sp>
        <p:nvSpPr>
          <p:cNvPr id="834" name="TextBox 75"/>
          <p:cNvSpPr/>
          <p:nvPr/>
        </p:nvSpPr>
        <p:spPr>
          <a:xfrm>
            <a:off x="2595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13c3f"/>
                </a:solidFill>
                <a:latin typeface="Source Sans Pro"/>
              </a:rPr>
              <a:t>Military</a:t>
            </a:r>
            <a:endParaRPr b="0" lang="en-US" sz="1200" spc="-1" strike="noStrike">
              <a:solidFill>
                <a:srgbClr val="313c3f"/>
              </a:solidFill>
              <a:latin typeface="Source Sans Pro"/>
            </a:endParaRPr>
          </a:p>
        </p:txBody>
      </p:sp>
      <p:sp>
        <p:nvSpPr>
          <p:cNvPr id="835" name="TextBox 76"/>
          <p:cNvSpPr/>
          <p:nvPr/>
        </p:nvSpPr>
        <p:spPr>
          <a:xfrm>
            <a:off x="40273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Health</a:t>
            </a:r>
            <a:endParaRPr b="0" lang="en-US" sz="1200" spc="-1" strike="noStrike">
              <a:solidFill>
                <a:srgbClr val="313c3f"/>
              </a:solidFill>
              <a:latin typeface="Source Sans Pro"/>
            </a:endParaRPr>
          </a:p>
        </p:txBody>
      </p:sp>
      <p:sp>
        <p:nvSpPr>
          <p:cNvPr id="836" name="TextBox 77"/>
          <p:cNvSpPr/>
          <p:nvPr/>
        </p:nvSpPr>
        <p:spPr>
          <a:xfrm>
            <a:off x="4418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5423"/>
                </a:solidFill>
                <a:latin typeface="Lato"/>
              </a:rPr>
              <a:t>35%</a:t>
            </a:r>
            <a:endParaRPr b="0" lang="en-US" sz="2000" spc="-1" strike="noStrike">
              <a:solidFill>
                <a:srgbClr val="313c3f"/>
              </a:solidFill>
              <a:latin typeface="Source Sans Pro"/>
            </a:endParaRPr>
          </a:p>
        </p:txBody>
      </p:sp>
      <p:sp>
        <p:nvSpPr>
          <p:cNvPr id="837" name="TextBox 78"/>
          <p:cNvSpPr/>
          <p:nvPr/>
        </p:nvSpPr>
        <p:spPr>
          <a:xfrm>
            <a:off x="2988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1c11e"/>
                </a:solidFill>
                <a:latin typeface="Lato"/>
              </a:rPr>
              <a:t>90%</a:t>
            </a:r>
            <a:endParaRPr b="0" lang="en-US" sz="2000" spc="-1" strike="noStrike">
              <a:solidFill>
                <a:srgbClr val="313c3f"/>
              </a:solidFill>
              <a:latin typeface="Source Sans Pro"/>
            </a:endParaRPr>
          </a:p>
        </p:txBody>
      </p:sp>
      <p:sp>
        <p:nvSpPr>
          <p:cNvPr id="838" name="TextBox 79"/>
          <p:cNvSpPr/>
          <p:nvPr/>
        </p:nvSpPr>
        <p:spPr>
          <a:xfrm>
            <a:off x="155808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7d42"/>
                </a:solidFill>
                <a:latin typeface="Lato"/>
              </a:rPr>
              <a:t>75%</a:t>
            </a:r>
            <a:endParaRPr b="0" lang="en-US" sz="2000" spc="-1" strike="noStrike">
              <a:solidFill>
                <a:srgbClr val="313c3f"/>
              </a:solidFill>
              <a:latin typeface="Source Sans Pro"/>
            </a:endParaRPr>
          </a:p>
        </p:txBody>
      </p:sp>
      <p:sp>
        <p:nvSpPr>
          <p:cNvPr id="839" name="TextBox 23"/>
          <p:cNvSpPr/>
          <p:nvPr/>
        </p:nvSpPr>
        <p:spPr>
          <a:xfrm>
            <a:off x="6848640" y="371016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3c3f"/>
                </a:solidFill>
                <a:latin typeface="Lato"/>
                <a:ea typeface="Raleway"/>
              </a:rPr>
              <a:t>Description</a:t>
            </a:r>
            <a:endParaRPr b="0" lang="en-US" sz="1600" spc="-1" strike="noStrike">
              <a:solidFill>
                <a:srgbClr val="313c3f"/>
              </a:solidFill>
              <a:latin typeface="Source Sans Pro"/>
            </a:endParaRPr>
          </a:p>
        </p:txBody>
      </p:sp>
      <p:sp>
        <p:nvSpPr>
          <p:cNvPr id="840" name="Straight Connector 81"/>
          <p:cNvSpPr/>
          <p:nvPr/>
        </p:nvSpPr>
        <p:spPr>
          <a:xfrm>
            <a:off x="6969240" y="4095720"/>
            <a:ext cx="405108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graphicFrame>
        <p:nvGraphicFramePr>
          <p:cNvPr id="841" name="Chart 82"/>
          <p:cNvGraphicFramePr/>
          <p:nvPr/>
        </p:nvGraphicFramePr>
        <p:xfrm>
          <a:off x="6635880" y="4046400"/>
          <a:ext cx="1569960" cy="1498680"/>
        </p:xfrm>
        <a:graphic>
          <a:graphicData uri="http://schemas.openxmlformats.org/presentationml/2006/ole">
            <p:oleObj progId="Excel.Sheet.12" r:id="rId7" spid="">
              <p:embed/>
              <p:pic>
                <p:nvPicPr>
                  <p:cNvPr id="842" name="Chart 82" descr=""/>
                  <p:cNvPicPr/>
                  <p:nvPr/>
                </p:nvPicPr>
                <p:blipFill>
                  <a:blip r:embed="rId8"/>
                  <a:stretch/>
                </p:blipFill>
                <p:spPr>
                  <a:xfrm>
                    <a:off x="6635880" y="4046400"/>
                    <a:ext cx="1569960" cy="1498680"/>
                  </a:xfrm>
                  <a:prstGeom prst="rect">
                    <a:avLst/>
                  </a:prstGeom>
                  <a:ln w="0">
                    <a:noFill/>
                  </a:ln>
                </p:spPr>
              </p:pic>
            </p:oleObj>
          </a:graphicData>
        </a:graphic>
      </p:graphicFrame>
      <p:graphicFrame>
        <p:nvGraphicFramePr>
          <p:cNvPr id="843" name="Chart 83"/>
          <p:cNvGraphicFramePr/>
          <p:nvPr/>
        </p:nvGraphicFramePr>
        <p:xfrm>
          <a:off x="8061480" y="4046400"/>
          <a:ext cx="1568160" cy="1498680"/>
        </p:xfrm>
        <a:graphic>
          <a:graphicData uri="http://schemas.openxmlformats.org/presentationml/2006/ole">
            <p:oleObj progId="Excel.Sheet.12" r:id="rId9" spid="">
              <p:embed/>
              <p:pic>
                <p:nvPicPr>
                  <p:cNvPr id="844" name="Chart 83" descr=""/>
                  <p:cNvPicPr/>
                  <p:nvPr/>
                </p:nvPicPr>
                <p:blipFill>
                  <a:blip r:embed="rId10"/>
                  <a:stretch/>
                </p:blipFill>
                <p:spPr>
                  <a:xfrm>
                    <a:off x="8061480" y="4046400"/>
                    <a:ext cx="1568160" cy="1498680"/>
                  </a:xfrm>
                  <a:prstGeom prst="rect">
                    <a:avLst/>
                  </a:prstGeom>
                  <a:ln w="0">
                    <a:noFill/>
                  </a:ln>
                </p:spPr>
              </p:pic>
            </p:oleObj>
          </a:graphicData>
        </a:graphic>
      </p:graphicFrame>
      <p:graphicFrame>
        <p:nvGraphicFramePr>
          <p:cNvPr id="845" name="Chart 84"/>
          <p:cNvGraphicFramePr/>
          <p:nvPr/>
        </p:nvGraphicFramePr>
        <p:xfrm>
          <a:off x="9493200" y="4046400"/>
          <a:ext cx="1568520" cy="1498680"/>
        </p:xfrm>
        <a:graphic>
          <a:graphicData uri="http://schemas.openxmlformats.org/presentationml/2006/ole">
            <p:oleObj progId="Excel.Sheet.12" r:id="rId11" spid="">
              <p:embed/>
              <p:pic>
                <p:nvPicPr>
                  <p:cNvPr id="846" name="Chart 84" descr=""/>
                  <p:cNvPicPr/>
                  <p:nvPr/>
                </p:nvPicPr>
                <p:blipFill>
                  <a:blip r:embed="rId12"/>
                  <a:stretch/>
                </p:blipFill>
                <p:spPr>
                  <a:xfrm>
                    <a:off x="9493200" y="4046400"/>
                    <a:ext cx="1568520" cy="1498680"/>
                  </a:xfrm>
                  <a:prstGeom prst="rect">
                    <a:avLst/>
                  </a:prstGeom>
                  <a:ln w="0">
                    <a:noFill/>
                  </a:ln>
                </p:spPr>
              </p:pic>
            </p:oleObj>
          </a:graphicData>
        </a:graphic>
      </p:graphicFrame>
      <p:sp>
        <p:nvSpPr>
          <p:cNvPr id="847" name="TextBox 85"/>
          <p:cNvSpPr/>
          <p:nvPr/>
        </p:nvSpPr>
        <p:spPr>
          <a:xfrm>
            <a:off x="6678720" y="5416560"/>
            <a:ext cx="148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Economy</a:t>
            </a:r>
            <a:endParaRPr b="0" lang="en-US" sz="1200" spc="-1" strike="noStrike">
              <a:solidFill>
                <a:srgbClr val="313c3f"/>
              </a:solidFill>
              <a:latin typeface="Source Sans Pro"/>
            </a:endParaRPr>
          </a:p>
        </p:txBody>
      </p:sp>
      <p:sp>
        <p:nvSpPr>
          <p:cNvPr id="848" name="TextBox 86"/>
          <p:cNvSpPr/>
          <p:nvPr/>
        </p:nvSpPr>
        <p:spPr>
          <a:xfrm>
            <a:off x="81025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Military</a:t>
            </a:r>
            <a:endParaRPr b="0" lang="en-US" sz="1200" spc="-1" strike="noStrike">
              <a:solidFill>
                <a:srgbClr val="313c3f"/>
              </a:solidFill>
              <a:latin typeface="Source Sans Pro"/>
            </a:endParaRPr>
          </a:p>
        </p:txBody>
      </p:sp>
      <p:sp>
        <p:nvSpPr>
          <p:cNvPr id="849" name="TextBox 87"/>
          <p:cNvSpPr/>
          <p:nvPr/>
        </p:nvSpPr>
        <p:spPr>
          <a:xfrm>
            <a:off x="9534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rPr>
              <a:t>Health</a:t>
            </a:r>
            <a:endParaRPr b="0" lang="en-US" sz="1200" spc="-1" strike="noStrike">
              <a:solidFill>
                <a:srgbClr val="313c3f"/>
              </a:solidFill>
              <a:latin typeface="Source Sans Pro"/>
            </a:endParaRPr>
          </a:p>
        </p:txBody>
      </p:sp>
      <p:sp>
        <p:nvSpPr>
          <p:cNvPr id="850" name="TextBox 88"/>
          <p:cNvSpPr/>
          <p:nvPr/>
        </p:nvSpPr>
        <p:spPr>
          <a:xfrm>
            <a:off x="9926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5423"/>
                </a:solidFill>
                <a:latin typeface="Lato"/>
              </a:rPr>
              <a:t>88%</a:t>
            </a:r>
            <a:endParaRPr b="0" lang="en-US" sz="2000" spc="-1" strike="noStrike">
              <a:solidFill>
                <a:srgbClr val="313c3f"/>
              </a:solidFill>
              <a:latin typeface="Source Sans Pro"/>
            </a:endParaRPr>
          </a:p>
        </p:txBody>
      </p:sp>
      <p:sp>
        <p:nvSpPr>
          <p:cNvPr id="851" name="TextBox 89"/>
          <p:cNvSpPr/>
          <p:nvPr/>
        </p:nvSpPr>
        <p:spPr>
          <a:xfrm>
            <a:off x="8496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1c11e"/>
                </a:solidFill>
                <a:latin typeface="Lato"/>
              </a:rPr>
              <a:t>80%</a:t>
            </a:r>
            <a:endParaRPr b="0" lang="en-US" sz="2000" spc="-1" strike="noStrike">
              <a:solidFill>
                <a:srgbClr val="313c3f"/>
              </a:solidFill>
              <a:latin typeface="Source Sans Pro"/>
            </a:endParaRPr>
          </a:p>
        </p:txBody>
      </p:sp>
      <p:sp>
        <p:nvSpPr>
          <p:cNvPr id="852" name="TextBox 90"/>
          <p:cNvSpPr/>
          <p:nvPr/>
        </p:nvSpPr>
        <p:spPr>
          <a:xfrm>
            <a:off x="706500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7d42"/>
                </a:solidFill>
                <a:latin typeface="Lato"/>
              </a:rPr>
              <a:t>65%</a:t>
            </a:r>
            <a:endParaRPr b="0" lang="en-US" sz="2000" spc="-1" strike="noStrike">
              <a:solidFill>
                <a:srgbClr val="313c3f"/>
              </a:solidFill>
              <a:latin typeface="Source Sans Pro"/>
            </a:endParaRPr>
          </a:p>
        </p:txBody>
      </p:sp>
      <p:sp>
        <p:nvSpPr>
          <p:cNvPr id="853" name="Oval 91"/>
          <p:cNvSpPr/>
          <p:nvPr/>
        </p:nvSpPr>
        <p:spPr>
          <a:xfrm>
            <a:off x="5646600" y="3495600"/>
            <a:ext cx="863640" cy="8654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54" name="Oval 92"/>
          <p:cNvSpPr/>
          <p:nvPr/>
        </p:nvSpPr>
        <p:spPr>
          <a:xfrm>
            <a:off x="5646600" y="3495600"/>
            <a:ext cx="863640" cy="8654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55" name="TextBox 93"/>
          <p:cNvSpPr/>
          <p:nvPr/>
        </p:nvSpPr>
        <p:spPr>
          <a:xfrm>
            <a:off x="5638680" y="372744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13c3f"/>
                </a:solidFill>
                <a:latin typeface="Lato"/>
              </a:rPr>
              <a:t>VS</a:t>
            </a:r>
            <a:endParaRPr b="0" lang="en-US" sz="2000" spc="-1" strike="noStrike">
              <a:solidFill>
                <a:srgbClr val="313c3f"/>
              </a:solidFill>
              <a:latin typeface="Source Sans Pro"/>
            </a:endParaRPr>
          </a:p>
        </p:txBody>
      </p:sp>
      <p:sp>
        <p:nvSpPr>
          <p:cNvPr id="856" name="TextBox 94"/>
          <p:cNvSpPr/>
          <p:nvPr/>
        </p:nvSpPr>
        <p:spPr>
          <a:xfrm>
            <a:off x="277164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c3f"/>
              </a:solidFill>
              <a:latin typeface="Source Sans Pro"/>
            </a:endParaRPr>
          </a:p>
        </p:txBody>
      </p:sp>
      <p:sp>
        <p:nvSpPr>
          <p:cNvPr id="857" name="TextBox 95"/>
          <p:cNvSpPr/>
          <p:nvPr/>
        </p:nvSpPr>
        <p:spPr>
          <a:xfrm>
            <a:off x="2771640" y="225756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USA Infographic</a:t>
            </a:r>
            <a:endParaRPr b="0" lang="en-US" sz="1400" spc="-1" strike="noStrike">
              <a:solidFill>
                <a:srgbClr val="313c3f"/>
              </a:solidFill>
              <a:latin typeface="Source Sans Pro"/>
            </a:endParaRPr>
          </a:p>
        </p:txBody>
      </p:sp>
      <p:sp>
        <p:nvSpPr>
          <p:cNvPr id="858" name="TextBox 96"/>
          <p:cNvSpPr/>
          <p:nvPr/>
        </p:nvSpPr>
        <p:spPr>
          <a:xfrm>
            <a:off x="831852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13c3f"/>
              </a:solidFill>
              <a:latin typeface="Source Sans Pro"/>
            </a:endParaRPr>
          </a:p>
        </p:txBody>
      </p:sp>
      <p:sp>
        <p:nvSpPr>
          <p:cNvPr id="859" name="TextBox 97"/>
          <p:cNvSpPr/>
          <p:nvPr/>
        </p:nvSpPr>
        <p:spPr>
          <a:xfrm>
            <a:off x="8318520" y="225756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China Infographic</a:t>
            </a:r>
            <a:endParaRPr b="0" lang="en-US" sz="1400" spc="-1" strike="noStrike">
              <a:solidFill>
                <a:srgbClr val="313c3f"/>
              </a:solidFill>
              <a:latin typeface="Source Sans Pro"/>
            </a:endParaRPr>
          </a:p>
        </p:txBody>
      </p:sp>
      <p:pic>
        <p:nvPicPr>
          <p:cNvPr id="860" name="Graphic 90" descr=""/>
          <p:cNvPicPr/>
          <p:nvPr/>
        </p:nvPicPr>
        <p:blipFill>
          <a:blip r:embed="rId13"/>
          <a:stretch/>
        </p:blipFill>
        <p:spPr>
          <a:xfrm>
            <a:off x="6864480" y="2341440"/>
            <a:ext cx="1365120" cy="1011240"/>
          </a:xfrm>
          <a:prstGeom prst="rect">
            <a:avLst/>
          </a:prstGeom>
          <a:ln w="0">
            <a:noFill/>
          </a:ln>
        </p:spPr>
      </p:pic>
      <p:sp>
        <p:nvSpPr>
          <p:cNvPr id="861" name="Graphic 103"/>
          <p:cNvSpPr/>
          <p:nvPr/>
        </p:nvSpPr>
        <p:spPr>
          <a:xfrm>
            <a:off x="1173240" y="2373480"/>
            <a:ext cx="1558800" cy="93492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Tree>
  </p:cSld>
  <p:transition spd="med">
    <p:fade/>
  </p:transition>
  <p:timing>
    <p:tnLst>
      <p:par>
        <p:cTn id="842" dur="indefinite" restart="never" nodeType="tmRoot">
          <p:childTnLst>
            <p:seq>
              <p:cTn id="843" dur="indefinite" nodeType="mainSeq">
                <p:childTnLst>
                  <p:par>
                    <p:cTn id="844" nodeType="clickEffect" fill="hold">
                      <p:stCondLst>
                        <p:cond delay="0"/>
                      </p:stCondLst>
                      <p:childTnLst>
                        <p:par>
                          <p:cTn id="845" nodeType="withEffect" fill="hold">
                            <p:stCondLst>
                              <p:cond delay="0"/>
                            </p:stCondLst>
                            <p:childTnLst>
                              <p:par>
                                <p:cTn id="846" nodeType="afterEffect" fill="hold" presetClass="entr" presetID="10">
                                  <p:stCondLst>
                                    <p:cond delay="0"/>
                                  </p:stCondLst>
                                  <p:childTnLst>
                                    <p:set>
                                      <p:cBhvr>
                                        <p:cTn id="847" dur="1" fill="hold">
                                          <p:stCondLst>
                                            <p:cond delay="0"/>
                                          </p:stCondLst>
                                        </p:cTn>
                                        <p:tgtEl>
                                          <p:spTgt spid="822"/>
                                        </p:tgtEl>
                                        <p:attrNameLst>
                                          <p:attrName>style.visibility</p:attrName>
                                        </p:attrNameLst>
                                      </p:cBhvr>
                                      <p:to>
                                        <p:strVal val="visible"/>
                                      </p:to>
                                    </p:set>
                                    <p:animEffect filter="fade" transition="in">
                                      <p:cBhvr additive="repl">
                                        <p:cTn id="848" dur="500"/>
                                        <p:tgtEl>
                                          <p:spTgt spid="822"/>
                                        </p:tgtEl>
                                      </p:cBhvr>
                                    </p:animEffect>
                                  </p:childTnLst>
                                </p:cTn>
                              </p:par>
                            </p:childTnLst>
                          </p:cTn>
                        </p:par>
                        <p:par>
                          <p:cTn id="849" nodeType="afterEffect" fill="hold">
                            <p:stCondLst>
                              <p:cond delay="500"/>
                            </p:stCondLst>
                            <p:childTnLst>
                              <p:par>
                                <p:cTn id="850" nodeType="afterEffect" fill="hold" presetClass="entr" presetID="10">
                                  <p:stCondLst>
                                    <p:cond delay="0"/>
                                  </p:stCondLst>
                                  <p:childTnLst>
                                    <p:set>
                                      <p:cBhvr>
                                        <p:cTn id="851" dur="1" fill="hold">
                                          <p:stCondLst>
                                            <p:cond delay="0"/>
                                          </p:stCondLst>
                                        </p:cTn>
                                        <p:tgtEl>
                                          <p:spTgt spid="824"/>
                                        </p:tgtEl>
                                        <p:attrNameLst>
                                          <p:attrName>style.visibility</p:attrName>
                                        </p:attrNameLst>
                                      </p:cBhvr>
                                      <p:to>
                                        <p:strVal val="visible"/>
                                      </p:to>
                                    </p:set>
                                    <p:animEffect filter="fade" transition="in">
                                      <p:cBhvr additive="repl">
                                        <p:cTn id="852" dur="500"/>
                                        <p:tgtEl>
                                          <p:spTgt spid="824"/>
                                        </p:tgtEl>
                                      </p:cBhvr>
                                    </p:animEffect>
                                  </p:childTnLst>
                                </p:cTn>
                              </p:par>
                              <p:par>
                                <p:cTn id="853" nodeType="withEffect" fill="hold" presetClass="entr" presetID="10">
                                  <p:stCondLst>
                                    <p:cond delay="0"/>
                                  </p:stCondLst>
                                  <p:childTnLst>
                                    <p:set>
                                      <p:cBhvr>
                                        <p:cTn id="854" dur="1" fill="hold">
                                          <p:stCondLst>
                                            <p:cond delay="0"/>
                                          </p:stCondLst>
                                        </p:cTn>
                                        <p:tgtEl>
                                          <p:spTgt spid="823"/>
                                        </p:tgtEl>
                                        <p:attrNameLst>
                                          <p:attrName>style.visibility</p:attrName>
                                        </p:attrNameLst>
                                      </p:cBhvr>
                                      <p:to>
                                        <p:strVal val="visible"/>
                                      </p:to>
                                    </p:set>
                                    <p:animEffect filter="fade" transition="in">
                                      <p:cBhvr additive="repl">
                                        <p:cTn id="855" dur="500"/>
                                        <p:tgtEl>
                                          <p:spTgt spid="823"/>
                                        </p:tgtEl>
                                      </p:cBhvr>
                                    </p:animEffect>
                                  </p:childTnLst>
                                </p:cTn>
                              </p:par>
                            </p:childTnLst>
                          </p:cTn>
                        </p:par>
                        <p:par>
                          <p:cTn id="856" nodeType="afterEffect" fill="hold">
                            <p:stCondLst>
                              <p:cond delay="1000"/>
                            </p:stCondLst>
                            <p:childTnLst>
                              <p:par>
                                <p:cTn id="857" nodeType="afterEffect" fill="hold" presetClass="entr" presetID="10">
                                  <p:stCondLst>
                                    <p:cond delay="0"/>
                                  </p:stCondLst>
                                  <p:childTnLst>
                                    <p:set>
                                      <p:cBhvr>
                                        <p:cTn id="858" dur="1" fill="hold">
                                          <p:stCondLst>
                                            <p:cond delay="0"/>
                                          </p:stCondLst>
                                        </p:cTn>
                                        <p:tgtEl>
                                          <p:spTgt spid="857"/>
                                        </p:tgtEl>
                                        <p:attrNameLst>
                                          <p:attrName>style.visibility</p:attrName>
                                        </p:attrNameLst>
                                      </p:cBhvr>
                                      <p:to>
                                        <p:strVal val="visible"/>
                                      </p:to>
                                    </p:set>
                                    <p:animEffect filter="fade" transition="in">
                                      <p:cBhvr additive="repl">
                                        <p:cTn id="859" dur="500"/>
                                        <p:tgtEl>
                                          <p:spTgt spid="857"/>
                                        </p:tgtEl>
                                      </p:cBhvr>
                                    </p:animEffect>
                                  </p:childTnLst>
                                </p:cTn>
                              </p:par>
                              <p:par>
                                <p:cTn id="860" nodeType="withEffect" fill="hold" presetClass="entr" presetID="10">
                                  <p:stCondLst>
                                    <p:cond delay="0"/>
                                  </p:stCondLst>
                                  <p:childTnLst>
                                    <p:set>
                                      <p:cBhvr>
                                        <p:cTn id="861" dur="1" fill="hold">
                                          <p:stCondLst>
                                            <p:cond delay="0"/>
                                          </p:stCondLst>
                                        </p:cTn>
                                        <p:tgtEl>
                                          <p:spTgt spid="856"/>
                                        </p:tgtEl>
                                        <p:attrNameLst>
                                          <p:attrName>style.visibility</p:attrName>
                                        </p:attrNameLst>
                                      </p:cBhvr>
                                      <p:to>
                                        <p:strVal val="visible"/>
                                      </p:to>
                                    </p:set>
                                    <p:animEffect filter="fade" transition="in">
                                      <p:cBhvr additive="repl">
                                        <p:cTn id="862" dur="500"/>
                                        <p:tgtEl>
                                          <p:spTgt spid="856"/>
                                        </p:tgtEl>
                                      </p:cBhvr>
                                    </p:animEffect>
                                  </p:childTnLst>
                                </p:cTn>
                              </p:par>
                              <p:par>
                                <p:cTn id="863" nodeType="withEffect" fill="hold" presetClass="entr" presetID="10">
                                  <p:stCondLst>
                                    <p:cond delay="0"/>
                                  </p:stCondLst>
                                  <p:childTnLst>
                                    <p:set>
                                      <p:cBhvr>
                                        <p:cTn id="864" dur="1" fill="hold">
                                          <p:stCondLst>
                                            <p:cond delay="0"/>
                                          </p:stCondLst>
                                        </p:cTn>
                                        <p:tgtEl>
                                          <p:spTgt spid="860"/>
                                        </p:tgtEl>
                                        <p:attrNameLst>
                                          <p:attrName>style.visibility</p:attrName>
                                        </p:attrNameLst>
                                      </p:cBhvr>
                                      <p:to>
                                        <p:strVal val="visible"/>
                                      </p:to>
                                    </p:set>
                                    <p:animEffect filter="fade" transition="in">
                                      <p:cBhvr additive="repl">
                                        <p:cTn id="865" dur="500"/>
                                        <p:tgtEl>
                                          <p:spTgt spid="860"/>
                                        </p:tgtEl>
                                      </p:cBhvr>
                                    </p:animEffect>
                                  </p:childTnLst>
                                </p:cTn>
                              </p:par>
                              <p:par>
                                <p:cTn id="866" nodeType="withEffect" fill="hold" presetClass="entr" presetID="10">
                                  <p:stCondLst>
                                    <p:cond delay="0"/>
                                  </p:stCondLst>
                                  <p:childTnLst>
                                    <p:set>
                                      <p:cBhvr>
                                        <p:cTn id="867" dur="1" fill="hold">
                                          <p:stCondLst>
                                            <p:cond delay="0"/>
                                          </p:stCondLst>
                                        </p:cTn>
                                        <p:tgtEl>
                                          <p:spTgt spid="859"/>
                                        </p:tgtEl>
                                        <p:attrNameLst>
                                          <p:attrName>style.visibility</p:attrName>
                                        </p:attrNameLst>
                                      </p:cBhvr>
                                      <p:to>
                                        <p:strVal val="visible"/>
                                      </p:to>
                                    </p:set>
                                    <p:animEffect filter="fade" transition="in">
                                      <p:cBhvr additive="repl">
                                        <p:cTn id="868" dur="500"/>
                                        <p:tgtEl>
                                          <p:spTgt spid="859"/>
                                        </p:tgtEl>
                                      </p:cBhvr>
                                    </p:animEffect>
                                  </p:childTnLst>
                                </p:cTn>
                              </p:par>
                              <p:par>
                                <p:cTn id="869" nodeType="withEffect" fill="hold" presetClass="entr" presetID="10">
                                  <p:stCondLst>
                                    <p:cond delay="0"/>
                                  </p:stCondLst>
                                  <p:childTnLst>
                                    <p:set>
                                      <p:cBhvr>
                                        <p:cTn id="870" dur="1" fill="hold">
                                          <p:stCondLst>
                                            <p:cond delay="0"/>
                                          </p:stCondLst>
                                        </p:cTn>
                                        <p:tgtEl>
                                          <p:spTgt spid="858"/>
                                        </p:tgtEl>
                                        <p:attrNameLst>
                                          <p:attrName>style.visibility</p:attrName>
                                        </p:attrNameLst>
                                      </p:cBhvr>
                                      <p:to>
                                        <p:strVal val="visible"/>
                                      </p:to>
                                    </p:set>
                                    <p:animEffect filter="fade" transition="in">
                                      <p:cBhvr additive="repl">
                                        <p:cTn id="871" dur="500"/>
                                        <p:tgtEl>
                                          <p:spTgt spid="858"/>
                                        </p:tgtEl>
                                      </p:cBhvr>
                                    </p:animEffect>
                                  </p:childTnLst>
                                </p:cTn>
                              </p:par>
                              <p:par>
                                <p:cTn id="872" nodeType="withEffect" fill="hold" presetClass="entr" presetID="10">
                                  <p:stCondLst>
                                    <p:cond delay="0"/>
                                  </p:stCondLst>
                                  <p:childTnLst>
                                    <p:set>
                                      <p:cBhvr>
                                        <p:cTn id="873" dur="1" fill="hold">
                                          <p:stCondLst>
                                            <p:cond delay="0"/>
                                          </p:stCondLst>
                                        </p:cTn>
                                        <p:tgtEl>
                                          <p:spTgt spid="861"/>
                                        </p:tgtEl>
                                        <p:attrNameLst>
                                          <p:attrName>style.visibility</p:attrName>
                                        </p:attrNameLst>
                                      </p:cBhvr>
                                      <p:to>
                                        <p:strVal val="visible"/>
                                      </p:to>
                                    </p:set>
                                    <p:animEffect filter="fade" transition="in">
                                      <p:cBhvr additive="repl">
                                        <p:cTn id="874" dur="500"/>
                                        <p:tgtEl>
                                          <p:spTgt spid="861"/>
                                        </p:tgtEl>
                                      </p:cBhvr>
                                    </p:animEffect>
                                  </p:childTnLst>
                                </p:cTn>
                              </p:par>
                            </p:childTnLst>
                          </p:cTn>
                        </p:par>
                        <p:par>
                          <p:cTn id="875" nodeType="afterEffect" fill="hold">
                            <p:stCondLst>
                              <p:cond delay="1500"/>
                            </p:stCondLst>
                            <p:childTnLst>
                              <p:par>
                                <p:cTn id="876" nodeType="afterEffect" fill="hold" presetClass="entr" presetID="10">
                                  <p:stCondLst>
                                    <p:cond delay="0"/>
                                  </p:stCondLst>
                                  <p:childTnLst>
                                    <p:set>
                                      <p:cBhvr>
                                        <p:cTn id="877" dur="1" fill="hold">
                                          <p:stCondLst>
                                            <p:cond delay="0"/>
                                          </p:stCondLst>
                                        </p:cTn>
                                        <p:tgtEl>
                                          <p:spTgt spid="853"/>
                                        </p:tgtEl>
                                        <p:attrNameLst>
                                          <p:attrName>style.visibility</p:attrName>
                                        </p:attrNameLst>
                                      </p:cBhvr>
                                      <p:to>
                                        <p:strVal val="visible"/>
                                      </p:to>
                                    </p:set>
                                    <p:animEffect filter="fade" transition="in">
                                      <p:cBhvr additive="repl">
                                        <p:cTn id="878" dur="500"/>
                                        <p:tgtEl>
                                          <p:spTgt spid="853"/>
                                        </p:tgtEl>
                                      </p:cBhvr>
                                    </p:animEffect>
                                  </p:childTnLst>
                                </p:cTn>
                              </p:par>
                              <p:par>
                                <p:cTn id="879" nodeType="withEffect" fill="hold" presetClass="entr" presetID="10">
                                  <p:stCondLst>
                                    <p:cond delay="0"/>
                                  </p:stCondLst>
                                  <p:childTnLst>
                                    <p:set>
                                      <p:cBhvr>
                                        <p:cTn id="880" dur="1" fill="hold">
                                          <p:stCondLst>
                                            <p:cond delay="0"/>
                                          </p:stCondLst>
                                        </p:cTn>
                                        <p:tgtEl>
                                          <p:spTgt spid="854"/>
                                        </p:tgtEl>
                                        <p:attrNameLst>
                                          <p:attrName>style.visibility</p:attrName>
                                        </p:attrNameLst>
                                      </p:cBhvr>
                                      <p:to>
                                        <p:strVal val="visible"/>
                                      </p:to>
                                    </p:set>
                                    <p:animEffect filter="fade" transition="in">
                                      <p:cBhvr additive="repl">
                                        <p:cTn id="881" dur="500"/>
                                        <p:tgtEl>
                                          <p:spTgt spid="854"/>
                                        </p:tgtEl>
                                      </p:cBhvr>
                                    </p:animEffect>
                                  </p:childTnLst>
                                </p:cTn>
                              </p:par>
                              <p:par>
                                <p:cTn id="882" nodeType="withEffect" fill="hold" presetClass="entr" presetID="10">
                                  <p:stCondLst>
                                    <p:cond delay="0"/>
                                  </p:stCondLst>
                                  <p:childTnLst>
                                    <p:set>
                                      <p:cBhvr>
                                        <p:cTn id="883" dur="1" fill="hold">
                                          <p:stCondLst>
                                            <p:cond delay="0"/>
                                          </p:stCondLst>
                                        </p:cTn>
                                        <p:tgtEl>
                                          <p:spTgt spid="855"/>
                                        </p:tgtEl>
                                        <p:attrNameLst>
                                          <p:attrName>style.visibility</p:attrName>
                                        </p:attrNameLst>
                                      </p:cBhvr>
                                      <p:to>
                                        <p:strVal val="visible"/>
                                      </p:to>
                                    </p:set>
                                    <p:animEffect filter="fade" transition="in">
                                      <p:cBhvr additive="repl">
                                        <p:cTn id="884" dur="500"/>
                                        <p:tgtEl>
                                          <p:spTgt spid="855"/>
                                        </p:tgtEl>
                                      </p:cBhvr>
                                    </p:animEffect>
                                  </p:childTnLst>
                                </p:cTn>
                              </p:par>
                            </p:childTnLst>
                          </p:cTn>
                        </p:par>
                        <p:par>
                          <p:cTn id="885" nodeType="afterEffect" fill="hold">
                            <p:stCondLst>
                              <p:cond delay="2000"/>
                            </p:stCondLst>
                            <p:childTnLst>
                              <p:par>
                                <p:cTn id="886" nodeType="afterEffect" fill="hold" presetClass="entr" presetID="10">
                                  <p:stCondLst>
                                    <p:cond delay="0"/>
                                  </p:stCondLst>
                                  <p:childTnLst>
                                    <p:set>
                                      <p:cBhvr>
                                        <p:cTn id="887" dur="1" fill="hold">
                                          <p:stCondLst>
                                            <p:cond delay="0"/>
                                          </p:stCondLst>
                                        </p:cTn>
                                        <p:tgtEl>
                                          <p:spTgt spid="825"/>
                                        </p:tgtEl>
                                        <p:attrNameLst>
                                          <p:attrName>style.visibility</p:attrName>
                                        </p:attrNameLst>
                                      </p:cBhvr>
                                      <p:to>
                                        <p:strVal val="visible"/>
                                      </p:to>
                                    </p:set>
                                    <p:animEffect filter="fade" transition="in">
                                      <p:cBhvr additive="repl">
                                        <p:cTn id="888" dur="500"/>
                                        <p:tgtEl>
                                          <p:spTgt spid="825"/>
                                        </p:tgtEl>
                                      </p:cBhvr>
                                    </p:animEffect>
                                  </p:childTnLst>
                                </p:cTn>
                              </p:par>
                              <p:par>
                                <p:cTn id="889" nodeType="withEffect" fill="hold" presetClass="entr" presetID="10">
                                  <p:stCondLst>
                                    <p:cond delay="0"/>
                                  </p:stCondLst>
                                  <p:childTnLst>
                                    <p:set>
                                      <p:cBhvr>
                                        <p:cTn id="890" dur="1" fill="hold">
                                          <p:stCondLst>
                                            <p:cond delay="0"/>
                                          </p:stCondLst>
                                        </p:cTn>
                                        <p:tgtEl>
                                          <p:spTgt spid="839"/>
                                        </p:tgtEl>
                                        <p:attrNameLst>
                                          <p:attrName>style.visibility</p:attrName>
                                        </p:attrNameLst>
                                      </p:cBhvr>
                                      <p:to>
                                        <p:strVal val="visible"/>
                                      </p:to>
                                    </p:set>
                                    <p:animEffect filter="fade" transition="in">
                                      <p:cBhvr additive="repl">
                                        <p:cTn id="891" dur="500"/>
                                        <p:tgtEl>
                                          <p:spTgt spid="839"/>
                                        </p:tgtEl>
                                      </p:cBhvr>
                                    </p:animEffect>
                                  </p:childTnLst>
                                </p:cTn>
                              </p:par>
                              <p:par>
                                <p:cTn id="892" nodeType="withEffect" fill="hold" presetClass="entr" presetID="22" presetSubtype="8">
                                  <p:stCondLst>
                                    <p:cond delay="0"/>
                                  </p:stCondLst>
                                  <p:childTnLst>
                                    <p:set>
                                      <p:cBhvr>
                                        <p:cTn id="893" dur="1" fill="hold">
                                          <p:stCondLst>
                                            <p:cond delay="0"/>
                                          </p:stCondLst>
                                        </p:cTn>
                                        <p:tgtEl>
                                          <p:spTgt spid="840"/>
                                        </p:tgtEl>
                                        <p:attrNameLst>
                                          <p:attrName>style.visibility</p:attrName>
                                        </p:attrNameLst>
                                      </p:cBhvr>
                                      <p:to>
                                        <p:strVal val="visible"/>
                                      </p:to>
                                    </p:set>
                                    <p:animEffect filter="wipe(left)" transition="in">
                                      <p:cBhvr additive="repl">
                                        <p:cTn id="894" dur="500"/>
                                        <p:tgtEl>
                                          <p:spTgt spid="840"/>
                                        </p:tgtEl>
                                      </p:cBhvr>
                                    </p:animEffect>
                                  </p:childTnLst>
                                </p:cTn>
                              </p:par>
                              <p:par>
                                <p:cTn id="895" nodeType="withEffect" fill="hold" presetClass="entr" presetID="22" presetSubtype="8">
                                  <p:stCondLst>
                                    <p:cond delay="0"/>
                                  </p:stCondLst>
                                  <p:childTnLst>
                                    <p:set>
                                      <p:cBhvr>
                                        <p:cTn id="896" dur="1" fill="hold">
                                          <p:stCondLst>
                                            <p:cond delay="0"/>
                                          </p:stCondLst>
                                        </p:cTn>
                                        <p:tgtEl>
                                          <p:spTgt spid="826"/>
                                        </p:tgtEl>
                                        <p:attrNameLst>
                                          <p:attrName>style.visibility</p:attrName>
                                        </p:attrNameLst>
                                      </p:cBhvr>
                                      <p:to>
                                        <p:strVal val="visible"/>
                                      </p:to>
                                    </p:set>
                                    <p:animEffect filter="wipe(left)" transition="in">
                                      <p:cBhvr additive="repl">
                                        <p:cTn id="897" dur="500"/>
                                        <p:tgtEl>
                                          <p:spTgt spid="826"/>
                                        </p:tgtEl>
                                      </p:cBhvr>
                                    </p:animEffect>
                                  </p:childTnLst>
                                </p:cTn>
                              </p:par>
                            </p:childTnLst>
                          </p:cTn>
                        </p:par>
                        <p:par>
                          <p:cTn id="898" nodeType="afterEffect" fill="hold">
                            <p:stCondLst>
                              <p:cond delay="2500"/>
                            </p:stCondLst>
                            <p:childTnLst>
                              <p:par>
                                <p:cTn id="899" nodeType="afterEffect" fill="hold" presetClass="entr" presetID="21" presetSubtype="1">
                                  <p:stCondLst>
                                    <p:cond delay="0"/>
                                  </p:stCondLst>
                                  <p:childTnLst>
                                    <p:set>
                                      <p:cBhvr>
                                        <p:cTn id="900" dur="1" fill="hold">
                                          <p:stCondLst>
                                            <p:cond delay="0"/>
                                          </p:stCondLst>
                                        </p:cTn>
                                        <p:tgtEl>
                                          <p:spTgt spid="828"/>
                                        </p:tgtEl>
                                        <p:attrNameLst>
                                          <p:attrName>style.visibility</p:attrName>
                                        </p:attrNameLst>
                                      </p:cBhvr>
                                      <p:to>
                                        <p:strVal val="visible"/>
                                      </p:to>
                                    </p:set>
                                    <p:animEffect filter="wheel(1)" transition="in">
                                      <p:cBhvr additive="repl">
                                        <p:cTn id="901" dur="1000"/>
                                        <p:tgtEl>
                                          <p:spTgt spid="828"/>
                                        </p:tgtEl>
                                      </p:cBhvr>
                                    </p:animEffect>
                                  </p:childTnLst>
                                </p:cTn>
                              </p:par>
                              <p:par>
                                <p:cTn id="902" nodeType="withEffect" fill="hold" presetClass="entr" presetID="21" presetSubtype="1">
                                  <p:stCondLst>
                                    <p:cond delay="0"/>
                                  </p:stCondLst>
                                  <p:childTnLst>
                                    <p:set>
                                      <p:cBhvr>
                                        <p:cTn id="903" dur="1" fill="hold">
                                          <p:stCondLst>
                                            <p:cond delay="0"/>
                                          </p:stCondLst>
                                        </p:cTn>
                                        <p:tgtEl>
                                          <p:spTgt spid="830"/>
                                        </p:tgtEl>
                                        <p:attrNameLst>
                                          <p:attrName>style.visibility</p:attrName>
                                        </p:attrNameLst>
                                      </p:cBhvr>
                                      <p:to>
                                        <p:strVal val="visible"/>
                                      </p:to>
                                    </p:set>
                                    <p:animEffect filter="wheel(1)" transition="in">
                                      <p:cBhvr additive="repl">
                                        <p:cTn id="904" dur="1000"/>
                                        <p:tgtEl>
                                          <p:spTgt spid="830"/>
                                        </p:tgtEl>
                                      </p:cBhvr>
                                    </p:animEffect>
                                  </p:childTnLst>
                                </p:cTn>
                              </p:par>
                              <p:par>
                                <p:cTn id="905" nodeType="withEffect" fill="hold" presetClass="entr" presetID="21" presetSubtype="1">
                                  <p:stCondLst>
                                    <p:cond delay="0"/>
                                  </p:stCondLst>
                                  <p:childTnLst>
                                    <p:set>
                                      <p:cBhvr>
                                        <p:cTn id="906" dur="1" fill="hold">
                                          <p:stCondLst>
                                            <p:cond delay="0"/>
                                          </p:stCondLst>
                                        </p:cTn>
                                        <p:tgtEl>
                                          <p:spTgt spid="832"/>
                                        </p:tgtEl>
                                        <p:attrNameLst>
                                          <p:attrName>style.visibility</p:attrName>
                                        </p:attrNameLst>
                                      </p:cBhvr>
                                      <p:to>
                                        <p:strVal val="visible"/>
                                      </p:to>
                                    </p:set>
                                    <p:animEffect filter="wheel(1)" transition="in">
                                      <p:cBhvr additive="repl">
                                        <p:cTn id="907" dur="1000"/>
                                        <p:tgtEl>
                                          <p:spTgt spid="832"/>
                                        </p:tgtEl>
                                      </p:cBhvr>
                                    </p:animEffect>
                                  </p:childTnLst>
                                </p:cTn>
                              </p:par>
                              <p:par>
                                <p:cTn id="908" nodeType="withEffect" fill="hold" presetClass="entr" presetID="53" presetSubtype="16">
                                  <p:stCondLst>
                                    <p:cond delay="0"/>
                                  </p:stCondLst>
                                  <p:childTnLst>
                                    <p:set>
                                      <p:cBhvr>
                                        <p:cTn id="909" dur="1" fill="hold">
                                          <p:stCondLst>
                                            <p:cond delay="0"/>
                                          </p:stCondLst>
                                        </p:cTn>
                                        <p:tgtEl>
                                          <p:spTgt spid="836"/>
                                        </p:tgtEl>
                                        <p:attrNameLst>
                                          <p:attrName>style.visibility</p:attrName>
                                        </p:attrNameLst>
                                      </p:cBhvr>
                                      <p:to>
                                        <p:strVal val="visible"/>
                                      </p:to>
                                    </p:set>
                                    <p:anim calcmode="lin" valueType="num">
                                      <p:cBhvr additive="repl">
                                        <p:cTn id="910" dur="500" fill="hold"/>
                                        <p:tgtEl>
                                          <p:spTgt spid="836"/>
                                        </p:tgtEl>
                                        <p:attrNameLst>
                                          <p:attrName>ppt_w</p:attrName>
                                        </p:attrNameLst>
                                      </p:cBhvr>
                                      <p:tavLst>
                                        <p:tav tm="0">
                                          <p:val>
                                            <p:fltVal val="0"/>
                                          </p:val>
                                        </p:tav>
                                        <p:tav tm="100000">
                                          <p:val>
                                            <p:strVal val="#ppt_w"/>
                                          </p:val>
                                        </p:tav>
                                      </p:tavLst>
                                    </p:anim>
                                    <p:anim calcmode="lin" valueType="num">
                                      <p:cBhvr additive="repl">
                                        <p:cTn id="911" dur="500" fill="hold"/>
                                        <p:tgtEl>
                                          <p:spTgt spid="836"/>
                                        </p:tgtEl>
                                        <p:attrNameLst>
                                          <p:attrName>ppt_h</p:attrName>
                                        </p:attrNameLst>
                                      </p:cBhvr>
                                      <p:tavLst>
                                        <p:tav tm="0">
                                          <p:val>
                                            <p:fltVal val="0"/>
                                          </p:val>
                                        </p:tav>
                                        <p:tav tm="100000">
                                          <p:val>
                                            <p:strVal val="#ppt_h"/>
                                          </p:val>
                                        </p:tav>
                                      </p:tavLst>
                                    </p:anim>
                                    <p:animEffect filter="fade" transition="in">
                                      <p:cBhvr additive="repl">
                                        <p:cTn id="912" dur="500"/>
                                        <p:tgtEl>
                                          <p:spTgt spid="836"/>
                                        </p:tgtEl>
                                      </p:cBhvr>
                                    </p:animEffect>
                                  </p:childTnLst>
                                </p:cTn>
                              </p:par>
                              <p:par>
                                <p:cTn id="913" nodeType="withEffect" fill="hold" presetClass="entr" presetID="53" presetSubtype="16">
                                  <p:stCondLst>
                                    <p:cond delay="0"/>
                                  </p:stCondLst>
                                  <p:childTnLst>
                                    <p:set>
                                      <p:cBhvr>
                                        <p:cTn id="914" dur="1" fill="hold">
                                          <p:stCondLst>
                                            <p:cond delay="0"/>
                                          </p:stCondLst>
                                        </p:cTn>
                                        <p:tgtEl>
                                          <p:spTgt spid="837"/>
                                        </p:tgtEl>
                                        <p:attrNameLst>
                                          <p:attrName>style.visibility</p:attrName>
                                        </p:attrNameLst>
                                      </p:cBhvr>
                                      <p:to>
                                        <p:strVal val="visible"/>
                                      </p:to>
                                    </p:set>
                                    <p:anim calcmode="lin" valueType="num">
                                      <p:cBhvr additive="repl">
                                        <p:cTn id="915" dur="500" fill="hold"/>
                                        <p:tgtEl>
                                          <p:spTgt spid="837"/>
                                        </p:tgtEl>
                                        <p:attrNameLst>
                                          <p:attrName>ppt_w</p:attrName>
                                        </p:attrNameLst>
                                      </p:cBhvr>
                                      <p:tavLst>
                                        <p:tav tm="0">
                                          <p:val>
                                            <p:fltVal val="0"/>
                                          </p:val>
                                        </p:tav>
                                        <p:tav tm="100000">
                                          <p:val>
                                            <p:strVal val="#ppt_w"/>
                                          </p:val>
                                        </p:tav>
                                      </p:tavLst>
                                    </p:anim>
                                    <p:anim calcmode="lin" valueType="num">
                                      <p:cBhvr additive="repl">
                                        <p:cTn id="916" dur="500" fill="hold"/>
                                        <p:tgtEl>
                                          <p:spTgt spid="837"/>
                                        </p:tgtEl>
                                        <p:attrNameLst>
                                          <p:attrName>ppt_h</p:attrName>
                                        </p:attrNameLst>
                                      </p:cBhvr>
                                      <p:tavLst>
                                        <p:tav tm="0">
                                          <p:val>
                                            <p:fltVal val="0"/>
                                          </p:val>
                                        </p:tav>
                                        <p:tav tm="100000">
                                          <p:val>
                                            <p:strVal val="#ppt_h"/>
                                          </p:val>
                                        </p:tav>
                                      </p:tavLst>
                                    </p:anim>
                                    <p:animEffect filter="fade" transition="in">
                                      <p:cBhvr additive="repl">
                                        <p:cTn id="917" dur="500"/>
                                        <p:tgtEl>
                                          <p:spTgt spid="837"/>
                                        </p:tgtEl>
                                      </p:cBhvr>
                                    </p:animEffect>
                                  </p:childTnLst>
                                </p:cTn>
                              </p:par>
                              <p:par>
                                <p:cTn id="918" nodeType="withEffect" fill="hold" presetClass="entr" presetID="53" presetSubtype="16">
                                  <p:stCondLst>
                                    <p:cond delay="0"/>
                                  </p:stCondLst>
                                  <p:childTnLst>
                                    <p:set>
                                      <p:cBhvr>
                                        <p:cTn id="919" dur="1" fill="hold">
                                          <p:stCondLst>
                                            <p:cond delay="0"/>
                                          </p:stCondLst>
                                        </p:cTn>
                                        <p:tgtEl>
                                          <p:spTgt spid="838"/>
                                        </p:tgtEl>
                                        <p:attrNameLst>
                                          <p:attrName>style.visibility</p:attrName>
                                        </p:attrNameLst>
                                      </p:cBhvr>
                                      <p:to>
                                        <p:strVal val="visible"/>
                                      </p:to>
                                    </p:set>
                                    <p:anim calcmode="lin" valueType="num">
                                      <p:cBhvr additive="repl">
                                        <p:cTn id="920" dur="500" fill="hold"/>
                                        <p:tgtEl>
                                          <p:spTgt spid="838"/>
                                        </p:tgtEl>
                                        <p:attrNameLst>
                                          <p:attrName>ppt_w</p:attrName>
                                        </p:attrNameLst>
                                      </p:cBhvr>
                                      <p:tavLst>
                                        <p:tav tm="0">
                                          <p:val>
                                            <p:fltVal val="0"/>
                                          </p:val>
                                        </p:tav>
                                        <p:tav tm="100000">
                                          <p:val>
                                            <p:strVal val="#ppt_w"/>
                                          </p:val>
                                        </p:tav>
                                      </p:tavLst>
                                    </p:anim>
                                    <p:anim calcmode="lin" valueType="num">
                                      <p:cBhvr additive="repl">
                                        <p:cTn id="921" dur="500" fill="hold"/>
                                        <p:tgtEl>
                                          <p:spTgt spid="838"/>
                                        </p:tgtEl>
                                        <p:attrNameLst>
                                          <p:attrName>ppt_h</p:attrName>
                                        </p:attrNameLst>
                                      </p:cBhvr>
                                      <p:tavLst>
                                        <p:tav tm="0">
                                          <p:val>
                                            <p:fltVal val="0"/>
                                          </p:val>
                                        </p:tav>
                                        <p:tav tm="100000">
                                          <p:val>
                                            <p:strVal val="#ppt_h"/>
                                          </p:val>
                                        </p:tav>
                                      </p:tavLst>
                                    </p:anim>
                                    <p:animEffect filter="fade" transition="in">
                                      <p:cBhvr additive="repl">
                                        <p:cTn id="922" dur="500"/>
                                        <p:tgtEl>
                                          <p:spTgt spid="838"/>
                                        </p:tgtEl>
                                      </p:cBhvr>
                                    </p:animEffect>
                                  </p:childTnLst>
                                </p:cTn>
                              </p:par>
                              <p:par>
                                <p:cTn id="923" nodeType="withEffect" fill="hold" presetClass="entr" presetID="21" presetSubtype="1">
                                  <p:stCondLst>
                                    <p:cond delay="0"/>
                                  </p:stCondLst>
                                  <p:childTnLst>
                                    <p:set>
                                      <p:cBhvr>
                                        <p:cTn id="924" dur="1" fill="hold">
                                          <p:stCondLst>
                                            <p:cond delay="0"/>
                                          </p:stCondLst>
                                        </p:cTn>
                                        <p:tgtEl>
                                          <p:spTgt spid="842"/>
                                        </p:tgtEl>
                                        <p:attrNameLst>
                                          <p:attrName>style.visibility</p:attrName>
                                        </p:attrNameLst>
                                      </p:cBhvr>
                                      <p:to>
                                        <p:strVal val="visible"/>
                                      </p:to>
                                    </p:set>
                                    <p:animEffect filter="wheel(1)" transition="in">
                                      <p:cBhvr additive="repl">
                                        <p:cTn id="925" dur="1000"/>
                                        <p:tgtEl>
                                          <p:spTgt spid="842"/>
                                        </p:tgtEl>
                                      </p:cBhvr>
                                    </p:animEffect>
                                  </p:childTnLst>
                                </p:cTn>
                              </p:par>
                              <p:par>
                                <p:cTn id="926" nodeType="withEffect" fill="hold" presetClass="entr" presetID="21" presetSubtype="1">
                                  <p:stCondLst>
                                    <p:cond delay="0"/>
                                  </p:stCondLst>
                                  <p:childTnLst>
                                    <p:set>
                                      <p:cBhvr>
                                        <p:cTn id="927" dur="1" fill="hold">
                                          <p:stCondLst>
                                            <p:cond delay="0"/>
                                          </p:stCondLst>
                                        </p:cTn>
                                        <p:tgtEl>
                                          <p:spTgt spid="844"/>
                                        </p:tgtEl>
                                        <p:attrNameLst>
                                          <p:attrName>style.visibility</p:attrName>
                                        </p:attrNameLst>
                                      </p:cBhvr>
                                      <p:to>
                                        <p:strVal val="visible"/>
                                      </p:to>
                                    </p:set>
                                    <p:animEffect filter="wheel(1)" transition="in">
                                      <p:cBhvr additive="repl">
                                        <p:cTn id="928" dur="1000"/>
                                        <p:tgtEl>
                                          <p:spTgt spid="844"/>
                                        </p:tgtEl>
                                      </p:cBhvr>
                                    </p:animEffect>
                                  </p:childTnLst>
                                </p:cTn>
                              </p:par>
                              <p:par>
                                <p:cTn id="929" nodeType="withEffect" fill="hold" presetClass="entr" presetID="21" presetSubtype="1">
                                  <p:stCondLst>
                                    <p:cond delay="0"/>
                                  </p:stCondLst>
                                  <p:childTnLst>
                                    <p:set>
                                      <p:cBhvr>
                                        <p:cTn id="930" dur="1" fill="hold">
                                          <p:stCondLst>
                                            <p:cond delay="0"/>
                                          </p:stCondLst>
                                        </p:cTn>
                                        <p:tgtEl>
                                          <p:spTgt spid="846"/>
                                        </p:tgtEl>
                                        <p:attrNameLst>
                                          <p:attrName>style.visibility</p:attrName>
                                        </p:attrNameLst>
                                      </p:cBhvr>
                                      <p:to>
                                        <p:strVal val="visible"/>
                                      </p:to>
                                    </p:set>
                                    <p:animEffect filter="wheel(1)" transition="in">
                                      <p:cBhvr additive="repl">
                                        <p:cTn id="931" dur="1000"/>
                                        <p:tgtEl>
                                          <p:spTgt spid="846"/>
                                        </p:tgtEl>
                                      </p:cBhvr>
                                    </p:animEffect>
                                  </p:childTnLst>
                                </p:cTn>
                              </p:par>
                              <p:par>
                                <p:cTn id="932" nodeType="withEffect" fill="hold" presetClass="entr" presetID="53" presetSubtype="16">
                                  <p:stCondLst>
                                    <p:cond delay="0"/>
                                  </p:stCondLst>
                                  <p:childTnLst>
                                    <p:set>
                                      <p:cBhvr>
                                        <p:cTn id="933" dur="1" fill="hold">
                                          <p:stCondLst>
                                            <p:cond delay="0"/>
                                          </p:stCondLst>
                                        </p:cTn>
                                        <p:tgtEl>
                                          <p:spTgt spid="850"/>
                                        </p:tgtEl>
                                        <p:attrNameLst>
                                          <p:attrName>style.visibility</p:attrName>
                                        </p:attrNameLst>
                                      </p:cBhvr>
                                      <p:to>
                                        <p:strVal val="visible"/>
                                      </p:to>
                                    </p:set>
                                    <p:anim calcmode="lin" valueType="num">
                                      <p:cBhvr additive="repl">
                                        <p:cTn id="934" dur="500" fill="hold"/>
                                        <p:tgtEl>
                                          <p:spTgt spid="850"/>
                                        </p:tgtEl>
                                        <p:attrNameLst>
                                          <p:attrName>ppt_w</p:attrName>
                                        </p:attrNameLst>
                                      </p:cBhvr>
                                      <p:tavLst>
                                        <p:tav tm="0">
                                          <p:val>
                                            <p:fltVal val="0"/>
                                          </p:val>
                                        </p:tav>
                                        <p:tav tm="100000">
                                          <p:val>
                                            <p:strVal val="#ppt_w"/>
                                          </p:val>
                                        </p:tav>
                                      </p:tavLst>
                                    </p:anim>
                                    <p:anim calcmode="lin" valueType="num">
                                      <p:cBhvr additive="repl">
                                        <p:cTn id="935" dur="500" fill="hold"/>
                                        <p:tgtEl>
                                          <p:spTgt spid="850"/>
                                        </p:tgtEl>
                                        <p:attrNameLst>
                                          <p:attrName>ppt_h</p:attrName>
                                        </p:attrNameLst>
                                      </p:cBhvr>
                                      <p:tavLst>
                                        <p:tav tm="0">
                                          <p:val>
                                            <p:fltVal val="0"/>
                                          </p:val>
                                        </p:tav>
                                        <p:tav tm="100000">
                                          <p:val>
                                            <p:strVal val="#ppt_h"/>
                                          </p:val>
                                        </p:tav>
                                      </p:tavLst>
                                    </p:anim>
                                    <p:animEffect filter="fade" transition="in">
                                      <p:cBhvr additive="repl">
                                        <p:cTn id="936" dur="500"/>
                                        <p:tgtEl>
                                          <p:spTgt spid="850"/>
                                        </p:tgtEl>
                                      </p:cBhvr>
                                    </p:animEffect>
                                  </p:childTnLst>
                                </p:cTn>
                              </p:par>
                              <p:par>
                                <p:cTn id="937" nodeType="withEffect" fill="hold" presetClass="entr" presetID="53" presetSubtype="16">
                                  <p:stCondLst>
                                    <p:cond delay="0"/>
                                  </p:stCondLst>
                                  <p:childTnLst>
                                    <p:set>
                                      <p:cBhvr>
                                        <p:cTn id="938" dur="1" fill="hold">
                                          <p:stCondLst>
                                            <p:cond delay="0"/>
                                          </p:stCondLst>
                                        </p:cTn>
                                        <p:tgtEl>
                                          <p:spTgt spid="851"/>
                                        </p:tgtEl>
                                        <p:attrNameLst>
                                          <p:attrName>style.visibility</p:attrName>
                                        </p:attrNameLst>
                                      </p:cBhvr>
                                      <p:to>
                                        <p:strVal val="visible"/>
                                      </p:to>
                                    </p:set>
                                    <p:anim calcmode="lin" valueType="num">
                                      <p:cBhvr additive="repl">
                                        <p:cTn id="939" dur="500" fill="hold"/>
                                        <p:tgtEl>
                                          <p:spTgt spid="851"/>
                                        </p:tgtEl>
                                        <p:attrNameLst>
                                          <p:attrName>ppt_w</p:attrName>
                                        </p:attrNameLst>
                                      </p:cBhvr>
                                      <p:tavLst>
                                        <p:tav tm="0">
                                          <p:val>
                                            <p:fltVal val="0"/>
                                          </p:val>
                                        </p:tav>
                                        <p:tav tm="100000">
                                          <p:val>
                                            <p:strVal val="#ppt_w"/>
                                          </p:val>
                                        </p:tav>
                                      </p:tavLst>
                                    </p:anim>
                                    <p:anim calcmode="lin" valueType="num">
                                      <p:cBhvr additive="repl">
                                        <p:cTn id="940" dur="500" fill="hold"/>
                                        <p:tgtEl>
                                          <p:spTgt spid="851"/>
                                        </p:tgtEl>
                                        <p:attrNameLst>
                                          <p:attrName>ppt_h</p:attrName>
                                        </p:attrNameLst>
                                      </p:cBhvr>
                                      <p:tavLst>
                                        <p:tav tm="0">
                                          <p:val>
                                            <p:fltVal val="0"/>
                                          </p:val>
                                        </p:tav>
                                        <p:tav tm="100000">
                                          <p:val>
                                            <p:strVal val="#ppt_h"/>
                                          </p:val>
                                        </p:tav>
                                      </p:tavLst>
                                    </p:anim>
                                    <p:animEffect filter="fade" transition="in">
                                      <p:cBhvr additive="repl">
                                        <p:cTn id="941" dur="500"/>
                                        <p:tgtEl>
                                          <p:spTgt spid="851"/>
                                        </p:tgtEl>
                                      </p:cBhvr>
                                    </p:animEffect>
                                  </p:childTnLst>
                                </p:cTn>
                              </p:par>
                              <p:par>
                                <p:cTn id="942" nodeType="withEffect" fill="hold" presetClass="entr" presetID="53" presetSubtype="16">
                                  <p:stCondLst>
                                    <p:cond delay="0"/>
                                  </p:stCondLst>
                                  <p:childTnLst>
                                    <p:set>
                                      <p:cBhvr>
                                        <p:cTn id="943" dur="1" fill="hold">
                                          <p:stCondLst>
                                            <p:cond delay="0"/>
                                          </p:stCondLst>
                                        </p:cTn>
                                        <p:tgtEl>
                                          <p:spTgt spid="852"/>
                                        </p:tgtEl>
                                        <p:attrNameLst>
                                          <p:attrName>style.visibility</p:attrName>
                                        </p:attrNameLst>
                                      </p:cBhvr>
                                      <p:to>
                                        <p:strVal val="visible"/>
                                      </p:to>
                                    </p:set>
                                    <p:anim calcmode="lin" valueType="num">
                                      <p:cBhvr additive="repl">
                                        <p:cTn id="944" dur="500" fill="hold"/>
                                        <p:tgtEl>
                                          <p:spTgt spid="852"/>
                                        </p:tgtEl>
                                        <p:attrNameLst>
                                          <p:attrName>ppt_w</p:attrName>
                                        </p:attrNameLst>
                                      </p:cBhvr>
                                      <p:tavLst>
                                        <p:tav tm="0">
                                          <p:val>
                                            <p:fltVal val="0"/>
                                          </p:val>
                                        </p:tav>
                                        <p:tav tm="100000">
                                          <p:val>
                                            <p:strVal val="#ppt_w"/>
                                          </p:val>
                                        </p:tav>
                                      </p:tavLst>
                                    </p:anim>
                                    <p:anim calcmode="lin" valueType="num">
                                      <p:cBhvr additive="repl">
                                        <p:cTn id="945" dur="500" fill="hold"/>
                                        <p:tgtEl>
                                          <p:spTgt spid="852"/>
                                        </p:tgtEl>
                                        <p:attrNameLst>
                                          <p:attrName>ppt_h</p:attrName>
                                        </p:attrNameLst>
                                      </p:cBhvr>
                                      <p:tavLst>
                                        <p:tav tm="0">
                                          <p:val>
                                            <p:fltVal val="0"/>
                                          </p:val>
                                        </p:tav>
                                        <p:tav tm="100000">
                                          <p:val>
                                            <p:strVal val="#ppt_h"/>
                                          </p:val>
                                        </p:tav>
                                      </p:tavLst>
                                    </p:anim>
                                    <p:animEffect filter="fade" transition="in">
                                      <p:cBhvr additive="repl">
                                        <p:cTn id="946" dur="500"/>
                                        <p:tgtEl>
                                          <p:spTgt spid="852"/>
                                        </p:tgtEl>
                                      </p:cBhvr>
                                    </p:animEffect>
                                  </p:childTnLst>
                                </p:cTn>
                              </p:par>
                            </p:childTnLst>
                          </p:cTn>
                        </p:par>
                        <p:par>
                          <p:cTn id="947" nodeType="afterEffect" fill="hold">
                            <p:stCondLst>
                              <p:cond delay="3500"/>
                            </p:stCondLst>
                            <p:childTnLst>
                              <p:par>
                                <p:cTn id="948" nodeType="afterEffect" fill="hold" presetClass="entr" presetID="10">
                                  <p:stCondLst>
                                    <p:cond delay="0"/>
                                  </p:stCondLst>
                                  <p:childTnLst>
                                    <p:set>
                                      <p:cBhvr>
                                        <p:cTn id="949" dur="1" fill="hold">
                                          <p:stCondLst>
                                            <p:cond delay="0"/>
                                          </p:stCondLst>
                                        </p:cTn>
                                        <p:tgtEl>
                                          <p:spTgt spid="834"/>
                                        </p:tgtEl>
                                        <p:attrNameLst>
                                          <p:attrName>style.visibility</p:attrName>
                                        </p:attrNameLst>
                                      </p:cBhvr>
                                      <p:to>
                                        <p:strVal val="visible"/>
                                      </p:to>
                                    </p:set>
                                    <p:animEffect filter="fade" transition="in">
                                      <p:cBhvr additive="repl">
                                        <p:cTn id="950" dur="500"/>
                                        <p:tgtEl>
                                          <p:spTgt spid="834"/>
                                        </p:tgtEl>
                                      </p:cBhvr>
                                    </p:animEffect>
                                  </p:childTnLst>
                                </p:cTn>
                              </p:par>
                              <p:par>
                                <p:cTn id="951" nodeType="withEffect" fill="hold" presetClass="entr" presetID="10">
                                  <p:stCondLst>
                                    <p:cond delay="0"/>
                                  </p:stCondLst>
                                  <p:childTnLst>
                                    <p:set>
                                      <p:cBhvr>
                                        <p:cTn id="952" dur="1" fill="hold">
                                          <p:stCondLst>
                                            <p:cond delay="0"/>
                                          </p:stCondLst>
                                        </p:cTn>
                                        <p:tgtEl>
                                          <p:spTgt spid="835"/>
                                        </p:tgtEl>
                                        <p:attrNameLst>
                                          <p:attrName>style.visibility</p:attrName>
                                        </p:attrNameLst>
                                      </p:cBhvr>
                                      <p:to>
                                        <p:strVal val="visible"/>
                                      </p:to>
                                    </p:set>
                                    <p:animEffect filter="fade" transition="in">
                                      <p:cBhvr additive="repl">
                                        <p:cTn id="953" dur="500"/>
                                        <p:tgtEl>
                                          <p:spTgt spid="835"/>
                                        </p:tgtEl>
                                      </p:cBhvr>
                                    </p:animEffect>
                                  </p:childTnLst>
                                </p:cTn>
                              </p:par>
                              <p:par>
                                <p:cTn id="954" nodeType="withEffect" fill="hold" presetClass="entr" presetID="10">
                                  <p:stCondLst>
                                    <p:cond delay="0"/>
                                  </p:stCondLst>
                                  <p:childTnLst>
                                    <p:set>
                                      <p:cBhvr>
                                        <p:cTn id="955" dur="1" fill="hold">
                                          <p:stCondLst>
                                            <p:cond delay="0"/>
                                          </p:stCondLst>
                                        </p:cTn>
                                        <p:tgtEl>
                                          <p:spTgt spid="833"/>
                                        </p:tgtEl>
                                        <p:attrNameLst>
                                          <p:attrName>style.visibility</p:attrName>
                                        </p:attrNameLst>
                                      </p:cBhvr>
                                      <p:to>
                                        <p:strVal val="visible"/>
                                      </p:to>
                                    </p:set>
                                    <p:animEffect filter="fade" transition="in">
                                      <p:cBhvr additive="repl">
                                        <p:cTn id="956" dur="500"/>
                                        <p:tgtEl>
                                          <p:spTgt spid="833"/>
                                        </p:tgtEl>
                                      </p:cBhvr>
                                    </p:animEffect>
                                  </p:childTnLst>
                                </p:cTn>
                              </p:par>
                              <p:par>
                                <p:cTn id="957" nodeType="withEffect" fill="hold" presetClass="entr" presetID="10">
                                  <p:stCondLst>
                                    <p:cond delay="0"/>
                                  </p:stCondLst>
                                  <p:childTnLst>
                                    <p:set>
                                      <p:cBhvr>
                                        <p:cTn id="958" dur="1" fill="hold">
                                          <p:stCondLst>
                                            <p:cond delay="0"/>
                                          </p:stCondLst>
                                        </p:cTn>
                                        <p:tgtEl>
                                          <p:spTgt spid="847"/>
                                        </p:tgtEl>
                                        <p:attrNameLst>
                                          <p:attrName>style.visibility</p:attrName>
                                        </p:attrNameLst>
                                      </p:cBhvr>
                                      <p:to>
                                        <p:strVal val="visible"/>
                                      </p:to>
                                    </p:set>
                                    <p:animEffect filter="fade" transition="in">
                                      <p:cBhvr additive="repl">
                                        <p:cTn id="959" dur="500"/>
                                        <p:tgtEl>
                                          <p:spTgt spid="847"/>
                                        </p:tgtEl>
                                      </p:cBhvr>
                                    </p:animEffect>
                                  </p:childTnLst>
                                </p:cTn>
                              </p:par>
                              <p:par>
                                <p:cTn id="960" nodeType="withEffect" fill="hold" presetClass="entr" presetID="10">
                                  <p:stCondLst>
                                    <p:cond delay="0"/>
                                  </p:stCondLst>
                                  <p:childTnLst>
                                    <p:set>
                                      <p:cBhvr>
                                        <p:cTn id="961" dur="1" fill="hold">
                                          <p:stCondLst>
                                            <p:cond delay="0"/>
                                          </p:stCondLst>
                                        </p:cTn>
                                        <p:tgtEl>
                                          <p:spTgt spid="848"/>
                                        </p:tgtEl>
                                        <p:attrNameLst>
                                          <p:attrName>style.visibility</p:attrName>
                                        </p:attrNameLst>
                                      </p:cBhvr>
                                      <p:to>
                                        <p:strVal val="visible"/>
                                      </p:to>
                                    </p:set>
                                    <p:animEffect filter="fade" transition="in">
                                      <p:cBhvr additive="repl">
                                        <p:cTn id="962" dur="500"/>
                                        <p:tgtEl>
                                          <p:spTgt spid="848"/>
                                        </p:tgtEl>
                                      </p:cBhvr>
                                    </p:animEffect>
                                  </p:childTnLst>
                                </p:cTn>
                              </p:par>
                              <p:par>
                                <p:cTn id="963" nodeType="withEffect" fill="hold" presetClass="entr" presetID="10">
                                  <p:stCondLst>
                                    <p:cond delay="0"/>
                                  </p:stCondLst>
                                  <p:childTnLst>
                                    <p:set>
                                      <p:cBhvr>
                                        <p:cTn id="964" dur="1" fill="hold">
                                          <p:stCondLst>
                                            <p:cond delay="0"/>
                                          </p:stCondLst>
                                        </p:cTn>
                                        <p:tgtEl>
                                          <p:spTgt spid="849"/>
                                        </p:tgtEl>
                                        <p:attrNameLst>
                                          <p:attrName>style.visibility</p:attrName>
                                        </p:attrNameLst>
                                      </p:cBhvr>
                                      <p:to>
                                        <p:strVal val="visible"/>
                                      </p:to>
                                    </p:set>
                                    <p:animEffect filter="fade" transition="in">
                                      <p:cBhvr additive="repl">
                                        <p:cTn id="965"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13c3f"/>
                </a:solidFill>
                <a:latin typeface="Lato"/>
              </a:rPr>
              <a:t>Comparison Chart</a:t>
            </a:r>
            <a:endParaRPr b="0" lang="en-US" sz="3600" spc="-1" strike="noStrike">
              <a:solidFill>
                <a:srgbClr val="313c3f"/>
              </a:solidFill>
              <a:latin typeface="Lato"/>
            </a:endParaRPr>
          </a:p>
        </p:txBody>
      </p:sp>
      <p:grpSp>
        <p:nvGrpSpPr>
          <p:cNvPr id="863" name="Rectangle: Rounded Corners 84"/>
          <p:cNvGrpSpPr/>
          <p:nvPr/>
        </p:nvGrpSpPr>
        <p:grpSpPr>
          <a:xfrm>
            <a:off x="2041560" y="1816200"/>
            <a:ext cx="8109000" cy="268200"/>
            <a:chOff x="2041560" y="1816200"/>
            <a:chExt cx="8109000" cy="268200"/>
          </a:xfrm>
        </p:grpSpPr>
        <p:pic>
          <p:nvPicPr>
            <p:cNvPr id="864" name="Rectangle: Rounded Corners 84" descr=""/>
            <p:cNvPicPr/>
            <p:nvPr/>
          </p:nvPicPr>
          <p:blipFill>
            <a:blip r:embed="rId1"/>
            <a:stretch/>
          </p:blipFill>
          <p:spPr>
            <a:xfrm>
              <a:off x="2041560" y="1816200"/>
              <a:ext cx="8109000" cy="268200"/>
            </a:xfrm>
            <a:prstGeom prst="rect">
              <a:avLst/>
            </a:prstGeom>
            <a:ln w="0">
              <a:noFill/>
            </a:ln>
          </p:spPr>
        </p:pic>
        <p:sp>
          <p:nvSpPr>
            <p:cNvPr id="865" name=""/>
            <p:cNvSpPr/>
            <p:nvPr/>
          </p:nvSpPr>
          <p:spPr>
            <a:xfrm rot="16200000">
              <a:off x="5998320" y="-206100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grpSp>
        <p:nvGrpSpPr>
          <p:cNvPr id="866" name="Rectangle: Rounded Corners 85"/>
          <p:cNvGrpSpPr/>
          <p:nvPr/>
        </p:nvGrpSpPr>
        <p:grpSpPr>
          <a:xfrm>
            <a:off x="2041560" y="2809800"/>
            <a:ext cx="8109000" cy="274680"/>
            <a:chOff x="2041560" y="2809800"/>
            <a:chExt cx="8109000" cy="274680"/>
          </a:xfrm>
        </p:grpSpPr>
        <p:pic>
          <p:nvPicPr>
            <p:cNvPr id="867" name="Rectangle: Rounded Corners 85" descr=""/>
            <p:cNvPicPr/>
            <p:nvPr/>
          </p:nvPicPr>
          <p:blipFill>
            <a:blip r:embed="rId2"/>
            <a:stretch/>
          </p:blipFill>
          <p:spPr>
            <a:xfrm>
              <a:off x="2041560" y="2809800"/>
              <a:ext cx="8109000" cy="274680"/>
            </a:xfrm>
            <a:prstGeom prst="rect">
              <a:avLst/>
            </a:prstGeom>
            <a:ln w="0">
              <a:noFill/>
            </a:ln>
          </p:spPr>
        </p:pic>
        <p:sp>
          <p:nvSpPr>
            <p:cNvPr id="868" name=""/>
            <p:cNvSpPr/>
            <p:nvPr/>
          </p:nvSpPr>
          <p:spPr>
            <a:xfrm rot="16200000">
              <a:off x="5999040" y="-10681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grpSp>
        <p:nvGrpSpPr>
          <p:cNvPr id="869" name="Rectangle: Rounded Corners 86"/>
          <p:cNvGrpSpPr/>
          <p:nvPr/>
        </p:nvGrpSpPr>
        <p:grpSpPr>
          <a:xfrm>
            <a:off x="2041560" y="3790800"/>
            <a:ext cx="8109000" cy="274680"/>
            <a:chOff x="2041560" y="3790800"/>
            <a:chExt cx="8109000" cy="274680"/>
          </a:xfrm>
        </p:grpSpPr>
        <p:pic>
          <p:nvPicPr>
            <p:cNvPr id="870" name="Rectangle: Rounded Corners 86" descr=""/>
            <p:cNvPicPr/>
            <p:nvPr/>
          </p:nvPicPr>
          <p:blipFill>
            <a:blip r:embed="rId3"/>
            <a:stretch/>
          </p:blipFill>
          <p:spPr>
            <a:xfrm>
              <a:off x="2041560" y="3790800"/>
              <a:ext cx="8109000" cy="274680"/>
            </a:xfrm>
            <a:prstGeom prst="rect">
              <a:avLst/>
            </a:prstGeom>
            <a:ln w="0">
              <a:noFill/>
            </a:ln>
          </p:spPr>
        </p:pic>
        <p:sp>
          <p:nvSpPr>
            <p:cNvPr id="871" name=""/>
            <p:cNvSpPr/>
            <p:nvPr/>
          </p:nvSpPr>
          <p:spPr>
            <a:xfrm rot="16200000">
              <a:off x="5998320" y="-7992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grpSp>
        <p:nvGrpSpPr>
          <p:cNvPr id="872" name="Rectangle: Rounded Corners 87"/>
          <p:cNvGrpSpPr/>
          <p:nvPr/>
        </p:nvGrpSpPr>
        <p:grpSpPr>
          <a:xfrm>
            <a:off x="2041560" y="4784760"/>
            <a:ext cx="8109000" cy="274680"/>
            <a:chOff x="2041560" y="4784760"/>
            <a:chExt cx="8109000" cy="274680"/>
          </a:xfrm>
        </p:grpSpPr>
        <p:pic>
          <p:nvPicPr>
            <p:cNvPr id="873" name="Rectangle: Rounded Corners 87" descr=""/>
            <p:cNvPicPr/>
            <p:nvPr/>
          </p:nvPicPr>
          <p:blipFill>
            <a:blip r:embed="rId4"/>
            <a:stretch/>
          </p:blipFill>
          <p:spPr>
            <a:xfrm>
              <a:off x="2041560" y="4784760"/>
              <a:ext cx="8109000" cy="274680"/>
            </a:xfrm>
            <a:prstGeom prst="rect">
              <a:avLst/>
            </a:prstGeom>
            <a:ln w="0">
              <a:noFill/>
            </a:ln>
          </p:spPr>
        </p:pic>
        <p:sp>
          <p:nvSpPr>
            <p:cNvPr id="874" name=""/>
            <p:cNvSpPr/>
            <p:nvPr/>
          </p:nvSpPr>
          <p:spPr>
            <a:xfrm rot="16200000">
              <a:off x="5999040" y="9097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grpSp>
      <p:sp>
        <p:nvSpPr>
          <p:cNvPr id="875" name="Rectangle: Rounded Corners 88"/>
          <p:cNvSpPr/>
          <p:nvPr/>
        </p:nvSpPr>
        <p:spPr>
          <a:xfrm flipH="1" rot="16200000">
            <a:off x="5788440" y="-1536480"/>
            <a:ext cx="273240" cy="6975720"/>
          </a:xfrm>
          <a:custGeom>
            <a:avLst/>
            <a:gdLst>
              <a:gd name="textAreaLeft" fmla="*/ 39960 w 273240"/>
              <a:gd name="textAreaRight" fmla="*/ 233280 w 273240"/>
              <a:gd name="textAreaTop" fmla="*/ 39960 h 6975720"/>
              <a:gd name="textAreaBottom" fmla="*/ 6935760 h 6975720"/>
            </a:gdLst>
            <a:ahLst/>
            <a:rect l="textAreaLeft" t="textAreaTop" r="textAreaRight" b="textAreaBottom"/>
            <a:pathLst>
              <a:path w="21600" h="550743">
                <a:moveTo>
                  <a:pt x="10800" y="0"/>
                </a:moveTo>
                <a:arcTo wR="10800" hR="10800" stAng="16200000" swAng="-5400000"/>
                <a:lnTo>
                  <a:pt x="0" y="539943"/>
                </a:lnTo>
                <a:arcTo wR="10800" hR="10800" stAng="10800000" swAng="-5400000"/>
                <a:lnTo>
                  <a:pt x="10800" y="550743"/>
                </a:lnTo>
                <a:arcTo wR="10800" hR="10800" stAng="5400000" swAng="-5400000"/>
                <a:lnTo>
                  <a:pt x="21600" y="10800"/>
                </a:lnTo>
                <a:arcTo wR="10800" hR="10800" stAng="0" swAng="-5400000"/>
                <a:close/>
              </a:path>
            </a:pathLst>
          </a:cu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76" name="Rectangle: Rounded Corners 89"/>
          <p:cNvSpPr/>
          <p:nvPr/>
        </p:nvSpPr>
        <p:spPr>
          <a:xfrm flipH="1" rot="16200000">
            <a:off x="6361200" y="-336240"/>
            <a:ext cx="272880" cy="6562800"/>
          </a:xfrm>
          <a:custGeom>
            <a:avLst/>
            <a:gdLst>
              <a:gd name="textAreaLeft" fmla="*/ 39960 w 272880"/>
              <a:gd name="textAreaRight" fmla="*/ 232920 w 272880"/>
              <a:gd name="textAreaTop" fmla="*/ 39960 h 6562800"/>
              <a:gd name="textAreaBottom" fmla="*/ 6522840 h 6562800"/>
            </a:gdLst>
            <a:ahLst/>
            <a:rect l="textAreaLeft" t="textAreaTop" r="textAreaRight" b="textAreaBottom"/>
            <a:pathLst>
              <a:path w="21600" h="518827">
                <a:moveTo>
                  <a:pt x="10800" y="0"/>
                </a:moveTo>
                <a:arcTo wR="10800" hR="10800" stAng="16200000" swAng="-5400000"/>
                <a:lnTo>
                  <a:pt x="0" y="508027"/>
                </a:lnTo>
                <a:arcTo wR="10800" hR="10800" stAng="10800000" swAng="-5400000"/>
                <a:lnTo>
                  <a:pt x="10800" y="518827"/>
                </a:lnTo>
                <a:arcTo wR="10800" hR="10800" stAng="5400000" swAng="-5400000"/>
                <a:lnTo>
                  <a:pt x="21600" y="10800"/>
                </a:lnTo>
                <a:arcTo wR="10800" hR="10800" stAng="0" swAng="-5400000"/>
                <a:close/>
              </a:path>
            </a:pathLst>
          </a:cu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77" name="Rectangle: Rounded Corners 90"/>
          <p:cNvSpPr/>
          <p:nvPr/>
        </p:nvSpPr>
        <p:spPr>
          <a:xfrm flipH="1" rot="16200000">
            <a:off x="6364800" y="284760"/>
            <a:ext cx="274680" cy="7292880"/>
          </a:xfrm>
          <a:custGeom>
            <a:avLst/>
            <a:gdLst>
              <a:gd name="textAreaLeft" fmla="*/ 39960 w 274680"/>
              <a:gd name="textAreaRight" fmla="*/ 234720 w 274680"/>
              <a:gd name="textAreaTop" fmla="*/ 39960 h 7292880"/>
              <a:gd name="textAreaBottom" fmla="*/ 7252920 h 7292880"/>
            </a:gdLst>
            <a:ahLst/>
            <a:rect l="textAreaLeft" t="textAreaTop" r="textAreaRight" b="textAreaBottom"/>
            <a:pathLst>
              <a:path w="21600" h="572768">
                <a:moveTo>
                  <a:pt x="10800" y="0"/>
                </a:moveTo>
                <a:arcTo wR="10800" hR="10800" stAng="16200000" swAng="-5400000"/>
                <a:lnTo>
                  <a:pt x="0" y="561968"/>
                </a:lnTo>
                <a:arcTo wR="10800" hR="10800" stAng="10800000" swAng="-5400000"/>
                <a:lnTo>
                  <a:pt x="10800" y="572768"/>
                </a:lnTo>
                <a:arcTo wR="10800" hR="10800" stAng="5400000" swAng="-5400000"/>
                <a:lnTo>
                  <a:pt x="21600" y="10800"/>
                </a:lnTo>
                <a:arcTo wR="10800" hR="10800" stAng="0" swAng="-5400000"/>
                <a:close/>
              </a:path>
            </a:pathLst>
          </a:cu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78" name="Rectangle: Rounded Corners 91"/>
          <p:cNvSpPr/>
          <p:nvPr/>
        </p:nvSpPr>
        <p:spPr>
          <a:xfrm flipH="1" rot="16200000">
            <a:off x="5470920" y="1357200"/>
            <a:ext cx="273240" cy="7131240"/>
          </a:xfrm>
          <a:custGeom>
            <a:avLst/>
            <a:gdLst>
              <a:gd name="textAreaLeft" fmla="*/ 39960 w 273240"/>
              <a:gd name="textAreaRight" fmla="*/ 233280 w 273240"/>
              <a:gd name="textAreaTop" fmla="*/ 39960 h 7131240"/>
              <a:gd name="textAreaBottom" fmla="*/ 7091280 h 7131240"/>
            </a:gdLst>
            <a:ahLst/>
            <a:rect l="textAreaLeft" t="textAreaTop" r="textAreaRight" b="textAreaBottom"/>
            <a:pathLst>
              <a:path w="21600" h="563021">
                <a:moveTo>
                  <a:pt x="10800" y="0"/>
                </a:moveTo>
                <a:arcTo wR="10800" hR="10800" stAng="16200000" swAng="-5400000"/>
                <a:lnTo>
                  <a:pt x="0" y="552221"/>
                </a:lnTo>
                <a:arcTo wR="10800" hR="10800" stAng="10800000" swAng="-5400000"/>
                <a:lnTo>
                  <a:pt x="10800" y="563021"/>
                </a:lnTo>
                <a:arcTo wR="10800" hR="10800" stAng="5400000" swAng="-5400000"/>
                <a:lnTo>
                  <a:pt x="21600" y="10800"/>
                </a:lnTo>
                <a:arcTo wR="10800" hR="10800" stAng="0" swAng="-5400000"/>
                <a:close/>
              </a:path>
            </a:pathLst>
          </a:cu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79" name="Oval 92"/>
          <p:cNvSpPr/>
          <p:nvPr/>
        </p:nvSpPr>
        <p:spPr>
          <a:xfrm>
            <a:off x="5715000" y="1569960"/>
            <a:ext cx="762120" cy="762120"/>
          </a:xfrm>
          <a:prstGeom prst="ellipse">
            <a:avLst/>
          </a:prstGeom>
          <a:solidFill>
            <a:srgbClr val="157d42"/>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80" name="Oval 93"/>
          <p:cNvSpPr/>
          <p:nvPr/>
        </p:nvSpPr>
        <p:spPr>
          <a:xfrm>
            <a:off x="5808600" y="16621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pic>
        <p:nvPicPr>
          <p:cNvPr id="881" name="Group 94" descr=""/>
          <p:cNvPicPr/>
          <p:nvPr/>
        </p:nvPicPr>
        <p:blipFill>
          <a:blip r:embed="rId5"/>
          <a:stretch/>
        </p:blipFill>
        <p:spPr>
          <a:xfrm>
            <a:off x="5937120" y="1792440"/>
            <a:ext cx="317520" cy="317520"/>
          </a:xfrm>
          <a:prstGeom prst="rect">
            <a:avLst/>
          </a:prstGeom>
          <a:ln w="0">
            <a:noFill/>
          </a:ln>
        </p:spPr>
      </p:pic>
      <p:sp>
        <p:nvSpPr>
          <p:cNvPr id="882" name="Oval 130"/>
          <p:cNvSpPr/>
          <p:nvPr/>
        </p:nvSpPr>
        <p:spPr>
          <a:xfrm>
            <a:off x="5715000" y="2563920"/>
            <a:ext cx="762120" cy="761760"/>
          </a:xfrm>
          <a:prstGeom prst="ellipse">
            <a:avLst/>
          </a:prstGeom>
          <a:solidFill>
            <a:srgbClr val="e1c11e"/>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83" name="Oval 131"/>
          <p:cNvSpPr/>
          <p:nvPr/>
        </p:nvSpPr>
        <p:spPr>
          <a:xfrm>
            <a:off x="5808600" y="26575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84" name="Oval 132"/>
          <p:cNvSpPr/>
          <p:nvPr/>
        </p:nvSpPr>
        <p:spPr>
          <a:xfrm>
            <a:off x="5715000" y="3549600"/>
            <a:ext cx="762120" cy="762120"/>
          </a:xfrm>
          <a:prstGeom prst="ellipse">
            <a:avLst/>
          </a:prstGeom>
          <a:solidFill>
            <a:srgbClr val="d65423"/>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85" name="Oval 133"/>
          <p:cNvSpPr/>
          <p:nvPr/>
        </p:nvSpPr>
        <p:spPr>
          <a:xfrm>
            <a:off x="5808600" y="364320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86" name="Oval 134"/>
          <p:cNvSpPr/>
          <p:nvPr/>
        </p:nvSpPr>
        <p:spPr>
          <a:xfrm>
            <a:off x="5715000" y="4541760"/>
            <a:ext cx="762120" cy="762120"/>
          </a:xfrm>
          <a:prstGeom prst="ellipse">
            <a:avLst/>
          </a:prstGeom>
          <a:solidFill>
            <a:srgbClr val="ed7d31"/>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87" name="Oval 135"/>
          <p:cNvSpPr/>
          <p:nvPr/>
        </p:nvSpPr>
        <p:spPr>
          <a:xfrm>
            <a:off x="5808600" y="46339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88" name="TextBox 136"/>
          <p:cNvSpPr/>
          <p:nvPr/>
        </p:nvSpPr>
        <p:spPr>
          <a:xfrm>
            <a:off x="243828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13c3f"/>
              </a:solidFill>
              <a:latin typeface="Source Sans Pro"/>
            </a:endParaRPr>
          </a:p>
        </p:txBody>
      </p:sp>
      <p:sp>
        <p:nvSpPr>
          <p:cNvPr id="889" name="TextBox 137"/>
          <p:cNvSpPr/>
          <p:nvPr/>
        </p:nvSpPr>
        <p:spPr>
          <a:xfrm>
            <a:off x="3216240" y="2795760"/>
            <a:ext cx="75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5%</a:t>
            </a:r>
            <a:endParaRPr b="0" lang="en-US" sz="1400" spc="-1" strike="noStrike">
              <a:solidFill>
                <a:srgbClr val="313c3f"/>
              </a:solidFill>
              <a:latin typeface="Source Sans Pro"/>
            </a:endParaRPr>
          </a:p>
        </p:txBody>
      </p:sp>
      <p:sp>
        <p:nvSpPr>
          <p:cNvPr id="890" name="TextBox 140"/>
          <p:cNvSpPr/>
          <p:nvPr/>
        </p:nvSpPr>
        <p:spPr>
          <a:xfrm>
            <a:off x="2817720" y="377820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c3f"/>
              </a:solidFill>
              <a:latin typeface="Source Sans Pro"/>
            </a:endParaRPr>
          </a:p>
        </p:txBody>
      </p:sp>
      <p:sp>
        <p:nvSpPr>
          <p:cNvPr id="891" name="TextBox 145"/>
          <p:cNvSpPr/>
          <p:nvPr/>
        </p:nvSpPr>
        <p:spPr>
          <a:xfrm>
            <a:off x="203688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313c3f"/>
              </a:solidFill>
              <a:latin typeface="Source Sans Pro"/>
            </a:endParaRPr>
          </a:p>
        </p:txBody>
      </p:sp>
      <p:sp>
        <p:nvSpPr>
          <p:cNvPr id="892" name="TextBox 146"/>
          <p:cNvSpPr/>
          <p:nvPr/>
        </p:nvSpPr>
        <p:spPr>
          <a:xfrm>
            <a:off x="862632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5%</a:t>
            </a:r>
            <a:endParaRPr b="0" lang="en-US" sz="1400" spc="-1" strike="noStrike">
              <a:solidFill>
                <a:srgbClr val="313c3f"/>
              </a:solidFill>
              <a:latin typeface="Source Sans Pro"/>
            </a:endParaRPr>
          </a:p>
        </p:txBody>
      </p:sp>
      <p:sp>
        <p:nvSpPr>
          <p:cNvPr id="893" name="TextBox 147"/>
          <p:cNvSpPr/>
          <p:nvPr/>
        </p:nvSpPr>
        <p:spPr>
          <a:xfrm>
            <a:off x="9015480" y="278604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13c3f"/>
              </a:solidFill>
              <a:latin typeface="Source Sans Pro"/>
            </a:endParaRPr>
          </a:p>
        </p:txBody>
      </p:sp>
      <p:sp>
        <p:nvSpPr>
          <p:cNvPr id="894" name="TextBox 148"/>
          <p:cNvSpPr/>
          <p:nvPr/>
        </p:nvSpPr>
        <p:spPr>
          <a:xfrm>
            <a:off x="9388440" y="377820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313c3f"/>
              </a:solidFill>
              <a:latin typeface="Source Sans Pro"/>
            </a:endParaRPr>
          </a:p>
        </p:txBody>
      </p:sp>
      <p:sp>
        <p:nvSpPr>
          <p:cNvPr id="895" name="TextBox 149"/>
          <p:cNvSpPr/>
          <p:nvPr/>
        </p:nvSpPr>
        <p:spPr>
          <a:xfrm>
            <a:off x="840744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13c3f"/>
              </a:solidFill>
              <a:latin typeface="Source Sans Pro"/>
            </a:endParaRPr>
          </a:p>
        </p:txBody>
      </p:sp>
      <p:sp>
        <p:nvSpPr>
          <p:cNvPr id="896" name="Oval 150"/>
          <p:cNvSpPr/>
          <p:nvPr/>
        </p:nvSpPr>
        <p:spPr>
          <a:xfrm>
            <a:off x="7029360" y="5494320"/>
            <a:ext cx="231840" cy="233280"/>
          </a:xfrm>
          <a:prstGeom prst="ellipse">
            <a:avLst/>
          </a:prstGeom>
          <a:solidFill>
            <a:srgbClr val="157d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97" name="TextBox 151"/>
          <p:cNvSpPr/>
          <p:nvPr/>
        </p:nvSpPr>
        <p:spPr>
          <a:xfrm>
            <a:off x="730728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c3f"/>
                </a:solidFill>
                <a:latin typeface="Lato"/>
              </a:rPr>
              <a:t>Description</a:t>
            </a:r>
            <a:endParaRPr b="0" lang="en-US" sz="1200" spc="-1" strike="noStrike">
              <a:solidFill>
                <a:srgbClr val="313c3f"/>
              </a:solidFill>
              <a:latin typeface="Source Sans Pro"/>
            </a:endParaRPr>
          </a:p>
        </p:txBody>
      </p:sp>
      <p:sp>
        <p:nvSpPr>
          <p:cNvPr id="898" name="Oval 152"/>
          <p:cNvSpPr/>
          <p:nvPr/>
        </p:nvSpPr>
        <p:spPr>
          <a:xfrm>
            <a:off x="7029360" y="5979960"/>
            <a:ext cx="231840" cy="231840"/>
          </a:xfrm>
          <a:prstGeom prst="ellipse">
            <a:avLst/>
          </a:prstGeom>
          <a:solidFill>
            <a:srgbClr val="d6542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899" name="TextBox 153"/>
          <p:cNvSpPr/>
          <p:nvPr/>
        </p:nvSpPr>
        <p:spPr>
          <a:xfrm>
            <a:off x="730728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c3f"/>
                </a:solidFill>
                <a:latin typeface="Lato"/>
              </a:rPr>
              <a:t>Description</a:t>
            </a:r>
            <a:endParaRPr b="0" lang="en-US" sz="1200" spc="-1" strike="noStrike">
              <a:solidFill>
                <a:srgbClr val="313c3f"/>
              </a:solidFill>
              <a:latin typeface="Source Sans Pro"/>
            </a:endParaRPr>
          </a:p>
        </p:txBody>
      </p:sp>
      <p:sp>
        <p:nvSpPr>
          <p:cNvPr id="900" name="Oval 154"/>
          <p:cNvSpPr/>
          <p:nvPr/>
        </p:nvSpPr>
        <p:spPr>
          <a:xfrm>
            <a:off x="8891640" y="5494320"/>
            <a:ext cx="231840" cy="233280"/>
          </a:xfrm>
          <a:prstGeom prst="ellipse">
            <a:avLst/>
          </a:prstGeom>
          <a:solidFill>
            <a:srgbClr val="e1c1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901" name="TextBox 155"/>
          <p:cNvSpPr/>
          <p:nvPr/>
        </p:nvSpPr>
        <p:spPr>
          <a:xfrm>
            <a:off x="916776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c3f"/>
                </a:solidFill>
                <a:latin typeface="Lato"/>
              </a:rPr>
              <a:t>Description</a:t>
            </a:r>
            <a:endParaRPr b="0" lang="en-US" sz="1200" spc="-1" strike="noStrike">
              <a:solidFill>
                <a:srgbClr val="313c3f"/>
              </a:solidFill>
              <a:latin typeface="Source Sans Pro"/>
            </a:endParaRPr>
          </a:p>
        </p:txBody>
      </p:sp>
      <p:sp>
        <p:nvSpPr>
          <p:cNvPr id="902" name="Oval 156"/>
          <p:cNvSpPr/>
          <p:nvPr/>
        </p:nvSpPr>
        <p:spPr>
          <a:xfrm>
            <a:off x="8891640" y="5979960"/>
            <a:ext cx="231840" cy="231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13c3f"/>
              </a:solidFill>
              <a:latin typeface="Source Sans Pro"/>
            </a:endParaRPr>
          </a:p>
        </p:txBody>
      </p:sp>
      <p:sp>
        <p:nvSpPr>
          <p:cNvPr id="903" name="TextBox 157"/>
          <p:cNvSpPr/>
          <p:nvPr/>
        </p:nvSpPr>
        <p:spPr>
          <a:xfrm>
            <a:off x="916776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3c3f"/>
                </a:solidFill>
                <a:latin typeface="Lato"/>
              </a:rPr>
              <a:t>Description</a:t>
            </a:r>
            <a:endParaRPr b="0" lang="en-US" sz="1200" spc="-1" strike="noStrike">
              <a:solidFill>
                <a:srgbClr val="313c3f"/>
              </a:solidFill>
              <a:latin typeface="Source Sans Pro"/>
            </a:endParaRPr>
          </a:p>
        </p:txBody>
      </p:sp>
      <p:sp>
        <p:nvSpPr>
          <p:cNvPr id="904" name="Rectangle 158"/>
          <p:cNvSpPr/>
          <p:nvPr/>
        </p:nvSpPr>
        <p:spPr>
          <a:xfrm>
            <a:off x="2933640" y="5407200"/>
            <a:ext cx="35337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c3f"/>
                </a:solidFill>
                <a:latin typeface="Source Sans Pro"/>
                <a:ea typeface="Times New Roman"/>
              </a:rPr>
              <a:t>Lorem ipsum dolor sit amet, consectetur adipiscing elit. Aenean sit amet ultrices sem. Donec non elit eu tellus lacinia imperdiet Lorem ipsum dolor sit amet, </a:t>
            </a:r>
            <a:endParaRPr b="0" lang="en-US" sz="1200" spc="-1" strike="noStrike">
              <a:solidFill>
                <a:srgbClr val="313c3f"/>
              </a:solidFill>
              <a:latin typeface="Source Sans Pro"/>
            </a:endParaRPr>
          </a:p>
        </p:txBody>
      </p:sp>
      <p:sp>
        <p:nvSpPr>
          <p:cNvPr id="905" name="TextBox 159"/>
          <p:cNvSpPr/>
          <p:nvPr/>
        </p:nvSpPr>
        <p:spPr>
          <a:xfrm>
            <a:off x="1850760" y="5745240"/>
            <a:ext cx="1031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7d42"/>
                </a:solidFill>
                <a:latin typeface="Lato"/>
              </a:rPr>
              <a:t>12M</a:t>
            </a:r>
            <a:endParaRPr b="0" lang="en-US" sz="3200" spc="-1" strike="noStrike">
              <a:solidFill>
                <a:srgbClr val="313c3f"/>
              </a:solidFill>
              <a:latin typeface="Source Sans Pro"/>
            </a:endParaRPr>
          </a:p>
        </p:txBody>
      </p:sp>
      <p:sp>
        <p:nvSpPr>
          <p:cNvPr id="906" name="TextBox 160"/>
          <p:cNvSpPr/>
          <p:nvPr/>
        </p:nvSpPr>
        <p:spPr>
          <a:xfrm>
            <a:off x="1398600" y="5468760"/>
            <a:ext cx="1490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13c3f"/>
                </a:solidFill>
                <a:latin typeface="Lato"/>
              </a:rPr>
              <a:t>Description</a:t>
            </a:r>
            <a:endParaRPr b="0" lang="en-US" sz="1400" spc="-1" strike="noStrike">
              <a:solidFill>
                <a:srgbClr val="313c3f"/>
              </a:solidFill>
              <a:latin typeface="Source Sans Pro"/>
            </a:endParaRPr>
          </a:p>
        </p:txBody>
      </p:sp>
      <p:sp>
        <p:nvSpPr>
          <p:cNvPr id="907" name="Straight Connector 161"/>
          <p:cNvSpPr/>
          <p:nvPr/>
        </p:nvSpPr>
        <p:spPr>
          <a:xfrm>
            <a:off x="6759720" y="5468760"/>
            <a:ext cx="0" cy="8622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pic>
        <p:nvPicPr>
          <p:cNvPr id="908" name="Group 162" descr=""/>
          <p:cNvPicPr/>
          <p:nvPr/>
        </p:nvPicPr>
        <p:blipFill>
          <a:blip r:embed="rId6"/>
          <a:stretch/>
        </p:blipFill>
        <p:spPr>
          <a:xfrm>
            <a:off x="5950080" y="2803680"/>
            <a:ext cx="291960" cy="280800"/>
          </a:xfrm>
          <a:prstGeom prst="rect">
            <a:avLst/>
          </a:prstGeom>
          <a:ln w="0">
            <a:noFill/>
          </a:ln>
        </p:spPr>
      </p:pic>
      <p:sp>
        <p:nvSpPr>
          <p:cNvPr id="909" name="Freeform 350"/>
          <p:cNvSpPr/>
          <p:nvPr/>
        </p:nvSpPr>
        <p:spPr>
          <a:xfrm>
            <a:off x="5908680" y="3790800"/>
            <a:ext cx="374760" cy="2811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d65423"/>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sp>
        <p:nvSpPr>
          <p:cNvPr id="910" name="Freeform 60"/>
          <p:cNvSpPr/>
          <p:nvPr/>
        </p:nvSpPr>
        <p:spPr>
          <a:xfrm>
            <a:off x="5942160" y="4767120"/>
            <a:ext cx="307800" cy="3096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ed7d31"/>
          </a:solidFill>
          <a:ln w="0">
            <a:noFill/>
          </a:ln>
        </p:spPr>
        <p:style>
          <a:lnRef idx="0"/>
          <a:fillRef idx="0"/>
          <a:effectRef idx="0"/>
          <a:fontRef idx="minor"/>
        </p:style>
        <p:txBody>
          <a:bodyPr lIns="90000" rIns="90000" tIns="46800" bIns="46800" anchor="t">
            <a:noAutofit/>
          </a:bodyPr>
          <a:p>
            <a:endParaRPr b="0" lang="en-US" sz="1800" spc="-1" strike="noStrike">
              <a:solidFill>
                <a:srgbClr val="313c3f"/>
              </a:solidFill>
              <a:latin typeface="Source Sans Pro"/>
            </a:endParaRPr>
          </a:p>
        </p:txBody>
      </p:sp>
      <p:grpSp>
        <p:nvGrpSpPr>
          <p:cNvPr id="911" name="Graphic 6"/>
          <p:cNvGrpSpPr/>
          <p:nvPr/>
        </p:nvGrpSpPr>
        <p:grpSpPr>
          <a:xfrm>
            <a:off x="1452600" y="4684680"/>
            <a:ext cx="426960" cy="374760"/>
            <a:chOff x="1452600" y="4684680"/>
            <a:chExt cx="426960" cy="374760"/>
          </a:xfrm>
        </p:grpSpPr>
        <p:sp>
          <p:nvSpPr>
            <p:cNvPr id="912" name="Freeform: Shape 173"/>
            <p:cNvSpPr/>
            <p:nvPr/>
          </p:nvSpPr>
          <p:spPr>
            <a:xfrm>
              <a:off x="1452600" y="4684680"/>
              <a:ext cx="27864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13" name="Freeform: Shape 174"/>
            <p:cNvSpPr/>
            <p:nvPr/>
          </p:nvSpPr>
          <p:spPr>
            <a:xfrm>
              <a:off x="1459440" y="4922640"/>
              <a:ext cx="26424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14" name="Freeform: Shape 175"/>
            <p:cNvSpPr/>
            <p:nvPr/>
          </p:nvSpPr>
          <p:spPr>
            <a:xfrm>
              <a:off x="1716120" y="4817880"/>
              <a:ext cx="16344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15" name="Freeform: Shape 176"/>
            <p:cNvSpPr/>
            <p:nvPr/>
          </p:nvSpPr>
          <p:spPr>
            <a:xfrm>
              <a:off x="1723320" y="4922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16" name="Freeform: Shape 177"/>
            <p:cNvSpPr/>
            <p:nvPr/>
          </p:nvSpPr>
          <p:spPr>
            <a:xfrm>
              <a:off x="1751400" y="4975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c3f"/>
                </a:solidFill>
                <a:latin typeface="Source Sans Pro"/>
              </a:endParaRPr>
            </a:p>
          </p:txBody>
        </p:sp>
        <p:sp>
          <p:nvSpPr>
            <p:cNvPr id="917" name="Freeform: Shape 178"/>
            <p:cNvSpPr/>
            <p:nvPr/>
          </p:nvSpPr>
          <p:spPr>
            <a:xfrm>
              <a:off x="1758240" y="5008680"/>
              <a:ext cx="5400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c3f"/>
                </a:solidFill>
                <a:latin typeface="Source Sans Pro"/>
              </a:endParaRPr>
            </a:p>
          </p:txBody>
        </p:sp>
        <p:sp>
          <p:nvSpPr>
            <p:cNvPr id="918" name="Freeform: Shape 179"/>
            <p:cNvSpPr/>
            <p:nvPr/>
          </p:nvSpPr>
          <p:spPr>
            <a:xfrm>
              <a:off x="1588320" y="4691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c3f"/>
                </a:solidFill>
                <a:latin typeface="Source Sans Pro"/>
              </a:endParaRPr>
            </a:p>
          </p:txBody>
        </p:sp>
      </p:grpSp>
      <p:grpSp>
        <p:nvGrpSpPr>
          <p:cNvPr id="919" name="Graphic 6"/>
          <p:cNvGrpSpPr/>
          <p:nvPr/>
        </p:nvGrpSpPr>
        <p:grpSpPr>
          <a:xfrm>
            <a:off x="1461960" y="1712880"/>
            <a:ext cx="425520" cy="374760"/>
            <a:chOff x="1461960" y="1712880"/>
            <a:chExt cx="425520" cy="374760"/>
          </a:xfrm>
        </p:grpSpPr>
        <p:sp>
          <p:nvSpPr>
            <p:cNvPr id="920" name="Freeform: Shape 181"/>
            <p:cNvSpPr/>
            <p:nvPr/>
          </p:nvSpPr>
          <p:spPr>
            <a:xfrm>
              <a:off x="1461960" y="17128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21" name="Freeform: Shape 182"/>
            <p:cNvSpPr/>
            <p:nvPr/>
          </p:nvSpPr>
          <p:spPr>
            <a:xfrm>
              <a:off x="1468800" y="19508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22" name="Freeform: Shape 183"/>
            <p:cNvSpPr/>
            <p:nvPr/>
          </p:nvSpPr>
          <p:spPr>
            <a:xfrm>
              <a:off x="1724760" y="18460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23" name="Freeform: Shape 184"/>
            <p:cNvSpPr/>
            <p:nvPr/>
          </p:nvSpPr>
          <p:spPr>
            <a:xfrm>
              <a:off x="1731240" y="19508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24" name="Freeform: Shape 185"/>
            <p:cNvSpPr/>
            <p:nvPr/>
          </p:nvSpPr>
          <p:spPr>
            <a:xfrm>
              <a:off x="1759680" y="20037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c3f"/>
                </a:solidFill>
                <a:latin typeface="Source Sans Pro"/>
              </a:endParaRPr>
            </a:p>
          </p:txBody>
        </p:sp>
        <p:sp>
          <p:nvSpPr>
            <p:cNvPr id="925" name="Freeform: Shape 186"/>
            <p:cNvSpPr/>
            <p:nvPr/>
          </p:nvSpPr>
          <p:spPr>
            <a:xfrm>
              <a:off x="1766520" y="20368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c3f"/>
                </a:solidFill>
                <a:latin typeface="Source Sans Pro"/>
              </a:endParaRPr>
            </a:p>
          </p:txBody>
        </p:sp>
        <p:sp>
          <p:nvSpPr>
            <p:cNvPr id="926" name="Freeform: Shape 187"/>
            <p:cNvSpPr/>
            <p:nvPr/>
          </p:nvSpPr>
          <p:spPr>
            <a:xfrm>
              <a:off x="1597320" y="17193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c3f"/>
                </a:solidFill>
                <a:latin typeface="Source Sans Pro"/>
              </a:endParaRPr>
            </a:p>
          </p:txBody>
        </p:sp>
      </p:grpSp>
      <p:grpSp>
        <p:nvGrpSpPr>
          <p:cNvPr id="927" name="Graphic 6"/>
          <p:cNvGrpSpPr/>
          <p:nvPr/>
        </p:nvGrpSpPr>
        <p:grpSpPr>
          <a:xfrm>
            <a:off x="10377360" y="3757680"/>
            <a:ext cx="425520" cy="374760"/>
            <a:chOff x="10377360" y="3757680"/>
            <a:chExt cx="425520" cy="374760"/>
          </a:xfrm>
        </p:grpSpPr>
        <p:sp>
          <p:nvSpPr>
            <p:cNvPr id="928" name="Freeform: Shape 189"/>
            <p:cNvSpPr/>
            <p:nvPr/>
          </p:nvSpPr>
          <p:spPr>
            <a:xfrm flipH="1">
              <a:off x="10524960" y="37576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29" name="Freeform: Shape 190"/>
            <p:cNvSpPr/>
            <p:nvPr/>
          </p:nvSpPr>
          <p:spPr>
            <a:xfrm flipH="1">
              <a:off x="10532520" y="39956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30" name="Freeform: Shape 191"/>
            <p:cNvSpPr/>
            <p:nvPr/>
          </p:nvSpPr>
          <p:spPr>
            <a:xfrm flipH="1">
              <a:off x="10377360" y="38908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31" name="Freeform: Shape 192"/>
            <p:cNvSpPr/>
            <p:nvPr/>
          </p:nvSpPr>
          <p:spPr>
            <a:xfrm flipH="1">
              <a:off x="10384560" y="3995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32" name="Freeform: Shape 193"/>
            <p:cNvSpPr/>
            <p:nvPr/>
          </p:nvSpPr>
          <p:spPr>
            <a:xfrm flipH="1">
              <a:off x="10437480" y="4048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c3f"/>
                </a:solidFill>
                <a:latin typeface="Source Sans Pro"/>
              </a:endParaRPr>
            </a:p>
          </p:txBody>
        </p:sp>
        <p:sp>
          <p:nvSpPr>
            <p:cNvPr id="933" name="Freeform: Shape 194"/>
            <p:cNvSpPr/>
            <p:nvPr/>
          </p:nvSpPr>
          <p:spPr>
            <a:xfrm flipH="1">
              <a:off x="10444320" y="40816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c3f"/>
                </a:solidFill>
                <a:latin typeface="Source Sans Pro"/>
              </a:endParaRPr>
            </a:p>
          </p:txBody>
        </p:sp>
        <p:sp>
          <p:nvSpPr>
            <p:cNvPr id="934" name="Freeform: Shape 195"/>
            <p:cNvSpPr/>
            <p:nvPr/>
          </p:nvSpPr>
          <p:spPr>
            <a:xfrm flipH="1">
              <a:off x="10630080" y="3764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c3f"/>
                </a:solidFill>
                <a:latin typeface="Source Sans Pro"/>
              </a:endParaRPr>
            </a:p>
          </p:txBody>
        </p:sp>
      </p:grpSp>
      <p:grpSp>
        <p:nvGrpSpPr>
          <p:cNvPr id="935" name="Graphic 6"/>
          <p:cNvGrpSpPr/>
          <p:nvPr/>
        </p:nvGrpSpPr>
        <p:grpSpPr>
          <a:xfrm>
            <a:off x="10337760" y="2673360"/>
            <a:ext cx="425520" cy="372960"/>
            <a:chOff x="10337760" y="2673360"/>
            <a:chExt cx="425520" cy="372960"/>
          </a:xfrm>
        </p:grpSpPr>
        <p:sp>
          <p:nvSpPr>
            <p:cNvPr id="936" name="Freeform: Shape 197"/>
            <p:cNvSpPr/>
            <p:nvPr/>
          </p:nvSpPr>
          <p:spPr>
            <a:xfrm flipH="1">
              <a:off x="10485360" y="2673360"/>
              <a:ext cx="277560" cy="3574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37" name="Freeform: Shape 198"/>
            <p:cNvSpPr/>
            <p:nvPr/>
          </p:nvSpPr>
          <p:spPr>
            <a:xfrm flipH="1">
              <a:off x="10492920" y="2910240"/>
              <a:ext cx="263160" cy="11304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38" name="Freeform: Shape 199"/>
            <p:cNvSpPr/>
            <p:nvPr/>
          </p:nvSpPr>
          <p:spPr>
            <a:xfrm flipH="1">
              <a:off x="10337760" y="2806200"/>
              <a:ext cx="162720" cy="240120"/>
            </a:xfrm>
            <a:custGeom>
              <a:avLst/>
              <a:gdLst/>
              <a:ahLst/>
              <a:rect l="l" t="t" r="r" b="b"/>
              <a:pathLst>
                <a:path w="270509" h="396239">
                  <a:moveTo>
                    <a:pt x="0" y="0"/>
                  </a:moveTo>
                  <a:lnTo>
                    <a:pt x="270510" y="0"/>
                  </a:lnTo>
                  <a:lnTo>
                    <a:pt x="270510" y="396240"/>
                  </a:lnTo>
                  <a:lnTo>
                    <a:pt x="0" y="396240"/>
                  </a:lnTo>
                  <a:lnTo>
                    <a:pt x="0" y="0"/>
                  </a:lnTo>
                  <a:close/>
                </a:path>
              </a:pathLst>
            </a:custGeom>
            <a:solidFill>
              <a:srgbClr val="157d42"/>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39" name="Freeform: Shape 200"/>
            <p:cNvSpPr/>
            <p:nvPr/>
          </p:nvSpPr>
          <p:spPr>
            <a:xfrm flipH="1">
              <a:off x="10344960" y="290988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05e31"/>
            </a:solidFill>
            <a:ln w="0">
              <a:noFill/>
            </a:ln>
          </p:spPr>
          <p:style>
            <a:lnRef idx="0"/>
            <a:fillRef idx="0"/>
            <a:effectRef idx="0"/>
            <a:fontRef idx="minor"/>
          </p:style>
          <p:txBody>
            <a:bodyPr lIns="90000" rIns="90000" tIns="46800" bIns="46800" anchor="ctr">
              <a:noAutofit/>
            </a:bodyPr>
            <a:p>
              <a:endParaRPr b="0" lang="en-US" sz="1800" spc="-1" strike="noStrike">
                <a:solidFill>
                  <a:srgbClr val="313c3f"/>
                </a:solidFill>
                <a:latin typeface="Source Sans Pro"/>
              </a:endParaRPr>
            </a:p>
          </p:txBody>
        </p:sp>
        <p:sp>
          <p:nvSpPr>
            <p:cNvPr id="940" name="Freeform: Shape 201"/>
            <p:cNvSpPr/>
            <p:nvPr/>
          </p:nvSpPr>
          <p:spPr>
            <a:xfrm flipH="1">
              <a:off x="10397880" y="296280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13c3f"/>
                </a:solidFill>
                <a:latin typeface="Source Sans Pro"/>
              </a:endParaRPr>
            </a:p>
          </p:txBody>
        </p:sp>
        <p:sp>
          <p:nvSpPr>
            <p:cNvPr id="941" name="Freeform: Shape 202"/>
            <p:cNvSpPr/>
            <p:nvPr/>
          </p:nvSpPr>
          <p:spPr>
            <a:xfrm flipH="1">
              <a:off x="10404720" y="299556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13c3f"/>
                </a:solidFill>
                <a:latin typeface="Source Sans Pro"/>
              </a:endParaRPr>
            </a:p>
          </p:txBody>
        </p:sp>
        <p:sp>
          <p:nvSpPr>
            <p:cNvPr id="942" name="Freeform: Shape 203"/>
            <p:cNvSpPr/>
            <p:nvPr/>
          </p:nvSpPr>
          <p:spPr>
            <a:xfrm flipH="1">
              <a:off x="10590480" y="267984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13c3f"/>
                </a:solidFill>
                <a:latin typeface="Source Sans Pro"/>
              </a:endParaRPr>
            </a:p>
          </p:txBody>
        </p:sp>
      </p:grpSp>
    </p:spTree>
  </p:cSld>
  <p:transition spd="med">
    <p:fade/>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10">
                                  <p:stCondLst>
                                    <p:cond delay="0"/>
                                  </p:stCondLst>
                                  <p:childTnLst>
                                    <p:set>
                                      <p:cBhvr>
                                        <p:cTn id="971" dur="1" fill="hold">
                                          <p:stCondLst>
                                            <p:cond delay="0"/>
                                          </p:stCondLst>
                                        </p:cTn>
                                        <p:tgtEl>
                                          <p:spTgt spid="862"/>
                                        </p:tgtEl>
                                        <p:attrNameLst>
                                          <p:attrName>style.visibility</p:attrName>
                                        </p:attrNameLst>
                                      </p:cBhvr>
                                      <p:to>
                                        <p:strVal val="visible"/>
                                      </p:to>
                                    </p:set>
                                    <p:animEffect filter="fade" transition="in">
                                      <p:cBhvr additive="repl">
                                        <p:cTn id="972" dur="500"/>
                                        <p:tgtEl>
                                          <p:spTgt spid="862"/>
                                        </p:tgtEl>
                                      </p:cBhvr>
                                    </p:animEffect>
                                  </p:childTnLst>
                                </p:cTn>
                              </p:par>
                            </p:childTnLst>
                          </p:cTn>
                        </p:par>
                        <p:par>
                          <p:cTn id="973" nodeType="afterEffect" fill="hold">
                            <p:stCondLst>
                              <p:cond delay="500"/>
                            </p:stCondLst>
                            <p:childTnLst>
                              <p:par>
                                <p:cTn id="974" nodeType="afterEffect" fill="hold" presetClass="entr" presetID="10">
                                  <p:stCondLst>
                                    <p:cond delay="0"/>
                                  </p:stCondLst>
                                  <p:childTnLst>
                                    <p:set>
                                      <p:cBhvr>
                                        <p:cTn id="975" dur="1" fill="hold">
                                          <p:stCondLst>
                                            <p:cond delay="0"/>
                                          </p:stCondLst>
                                        </p:cTn>
                                        <p:tgtEl>
                                          <p:spTgt spid="879"/>
                                        </p:tgtEl>
                                        <p:attrNameLst>
                                          <p:attrName>style.visibility</p:attrName>
                                        </p:attrNameLst>
                                      </p:cBhvr>
                                      <p:to>
                                        <p:strVal val="visible"/>
                                      </p:to>
                                    </p:set>
                                    <p:animEffect filter="fade" transition="in">
                                      <p:cBhvr additive="repl">
                                        <p:cTn id="976" dur="500"/>
                                        <p:tgtEl>
                                          <p:spTgt spid="879"/>
                                        </p:tgtEl>
                                      </p:cBhvr>
                                    </p:animEffect>
                                  </p:childTnLst>
                                </p:cTn>
                              </p:par>
                              <p:par>
                                <p:cTn id="977" nodeType="withEffect" fill="hold" presetClass="entr" presetID="10">
                                  <p:stCondLst>
                                    <p:cond delay="0"/>
                                  </p:stCondLst>
                                  <p:childTnLst>
                                    <p:set>
                                      <p:cBhvr>
                                        <p:cTn id="978" dur="1" fill="hold">
                                          <p:stCondLst>
                                            <p:cond delay="0"/>
                                          </p:stCondLst>
                                        </p:cTn>
                                        <p:tgtEl>
                                          <p:spTgt spid="880"/>
                                        </p:tgtEl>
                                        <p:attrNameLst>
                                          <p:attrName>style.visibility</p:attrName>
                                        </p:attrNameLst>
                                      </p:cBhvr>
                                      <p:to>
                                        <p:strVal val="visible"/>
                                      </p:to>
                                    </p:set>
                                    <p:animEffect filter="fade" transition="in">
                                      <p:cBhvr additive="repl">
                                        <p:cTn id="979" dur="500"/>
                                        <p:tgtEl>
                                          <p:spTgt spid="880"/>
                                        </p:tgtEl>
                                      </p:cBhvr>
                                    </p:animEffect>
                                  </p:childTnLst>
                                </p:cTn>
                              </p:par>
                              <p:par>
                                <p:cTn id="980" nodeType="withEffect" fill="hold" presetClass="entr" presetID="10">
                                  <p:stCondLst>
                                    <p:cond delay="0"/>
                                  </p:stCondLst>
                                  <p:childTnLst>
                                    <p:set>
                                      <p:cBhvr>
                                        <p:cTn id="981" dur="1" fill="hold">
                                          <p:stCondLst>
                                            <p:cond delay="0"/>
                                          </p:stCondLst>
                                        </p:cTn>
                                        <p:tgtEl>
                                          <p:spTgt spid="881"/>
                                        </p:tgtEl>
                                        <p:attrNameLst>
                                          <p:attrName>style.visibility</p:attrName>
                                        </p:attrNameLst>
                                      </p:cBhvr>
                                      <p:to>
                                        <p:strVal val="visible"/>
                                      </p:to>
                                    </p:set>
                                    <p:animEffect filter="fade" transition="in">
                                      <p:cBhvr additive="repl">
                                        <p:cTn id="982" dur="500"/>
                                        <p:tgtEl>
                                          <p:spTgt spid="881"/>
                                        </p:tgtEl>
                                      </p:cBhvr>
                                    </p:animEffect>
                                  </p:childTnLst>
                                </p:cTn>
                              </p:par>
                            </p:childTnLst>
                          </p:cTn>
                        </p:par>
                        <p:par>
                          <p:cTn id="983" nodeType="afterEffect" fill="hold">
                            <p:stCondLst>
                              <p:cond delay="1000"/>
                            </p:stCondLst>
                            <p:childTnLst>
                              <p:par>
                                <p:cTn id="984" nodeType="afterEffect" fill="hold" presetClass="entr" presetID="10">
                                  <p:stCondLst>
                                    <p:cond delay="0"/>
                                  </p:stCondLst>
                                  <p:childTnLst>
                                    <p:set>
                                      <p:cBhvr>
                                        <p:cTn id="985" dur="1" fill="hold">
                                          <p:stCondLst>
                                            <p:cond delay="0"/>
                                          </p:stCondLst>
                                        </p:cTn>
                                        <p:tgtEl>
                                          <p:spTgt spid="863"/>
                                        </p:tgtEl>
                                        <p:attrNameLst>
                                          <p:attrName>style.visibility</p:attrName>
                                        </p:attrNameLst>
                                      </p:cBhvr>
                                      <p:to>
                                        <p:strVal val="visible"/>
                                      </p:to>
                                    </p:set>
                                    <p:animEffect filter="fade" transition="in">
                                      <p:cBhvr additive="repl">
                                        <p:cTn id="986" dur="500"/>
                                        <p:tgtEl>
                                          <p:spTgt spid="863"/>
                                        </p:tgtEl>
                                      </p:cBhvr>
                                    </p:animEffect>
                                  </p:childTnLst>
                                </p:cTn>
                              </p:par>
                            </p:childTnLst>
                          </p:cTn>
                        </p:par>
                        <p:par>
                          <p:cTn id="987" nodeType="afterEffect" fill="hold">
                            <p:stCondLst>
                              <p:cond delay="1500"/>
                            </p:stCondLst>
                            <p:childTnLst>
                              <p:par>
                                <p:cTn id="988" nodeType="afterEffect" fill="hold" presetClass="entr" presetID="16" presetSubtype="37">
                                  <p:stCondLst>
                                    <p:cond delay="0"/>
                                  </p:stCondLst>
                                  <p:childTnLst>
                                    <p:set>
                                      <p:cBhvr>
                                        <p:cTn id="989" dur="1" fill="hold">
                                          <p:stCondLst>
                                            <p:cond delay="0"/>
                                          </p:stCondLst>
                                        </p:cTn>
                                        <p:tgtEl>
                                          <p:spTgt spid="875"/>
                                        </p:tgtEl>
                                        <p:attrNameLst>
                                          <p:attrName>style.visibility</p:attrName>
                                        </p:attrNameLst>
                                      </p:cBhvr>
                                      <p:to>
                                        <p:strVal val="visible"/>
                                      </p:to>
                                    </p:set>
                                    <p:animEffect filter="barn(outVertical)" transition="in">
                                      <p:cBhvr additive="repl">
                                        <p:cTn id="990" dur="500"/>
                                        <p:tgtEl>
                                          <p:spTgt spid="875"/>
                                        </p:tgtEl>
                                      </p:cBhvr>
                                    </p:animEffect>
                                  </p:childTnLst>
                                </p:cTn>
                              </p:par>
                            </p:childTnLst>
                          </p:cTn>
                        </p:par>
                        <p:par>
                          <p:cTn id="991" nodeType="afterEffect" fill="hold">
                            <p:stCondLst>
                              <p:cond delay="2000"/>
                            </p:stCondLst>
                            <p:childTnLst>
                              <p:par>
                                <p:cTn id="992" nodeType="afterEffect" fill="hold" presetClass="entr" presetID="53" presetSubtype="16">
                                  <p:stCondLst>
                                    <p:cond delay="0"/>
                                  </p:stCondLst>
                                  <p:childTnLst>
                                    <p:set>
                                      <p:cBhvr>
                                        <p:cTn id="993" dur="1" fill="hold">
                                          <p:stCondLst>
                                            <p:cond delay="0"/>
                                          </p:stCondLst>
                                        </p:cTn>
                                        <p:tgtEl>
                                          <p:spTgt spid="919"/>
                                        </p:tgtEl>
                                        <p:attrNameLst>
                                          <p:attrName>style.visibility</p:attrName>
                                        </p:attrNameLst>
                                      </p:cBhvr>
                                      <p:to>
                                        <p:strVal val="visible"/>
                                      </p:to>
                                    </p:set>
                                    <p:anim calcmode="lin" valueType="num">
                                      <p:cBhvr additive="repl">
                                        <p:cTn id="994" dur="500" fill="hold"/>
                                        <p:tgtEl>
                                          <p:spTgt spid="919"/>
                                        </p:tgtEl>
                                        <p:attrNameLst>
                                          <p:attrName>ppt_w</p:attrName>
                                        </p:attrNameLst>
                                      </p:cBhvr>
                                      <p:tavLst>
                                        <p:tav tm="0">
                                          <p:val>
                                            <p:fltVal val="0"/>
                                          </p:val>
                                        </p:tav>
                                        <p:tav tm="100000">
                                          <p:val>
                                            <p:strVal val="#ppt_w"/>
                                          </p:val>
                                        </p:tav>
                                      </p:tavLst>
                                    </p:anim>
                                    <p:anim calcmode="lin" valueType="num">
                                      <p:cBhvr additive="repl">
                                        <p:cTn id="995" dur="500" fill="hold"/>
                                        <p:tgtEl>
                                          <p:spTgt spid="919"/>
                                        </p:tgtEl>
                                        <p:attrNameLst>
                                          <p:attrName>ppt_h</p:attrName>
                                        </p:attrNameLst>
                                      </p:cBhvr>
                                      <p:tavLst>
                                        <p:tav tm="0">
                                          <p:val>
                                            <p:fltVal val="0"/>
                                          </p:val>
                                        </p:tav>
                                        <p:tav tm="100000">
                                          <p:val>
                                            <p:strVal val="#ppt_h"/>
                                          </p:val>
                                        </p:tav>
                                      </p:tavLst>
                                    </p:anim>
                                    <p:animEffect filter="fade" transition="in">
                                      <p:cBhvr additive="repl">
                                        <p:cTn id="996" dur="500"/>
                                        <p:tgtEl>
                                          <p:spTgt spid="919"/>
                                        </p:tgtEl>
                                      </p:cBhvr>
                                    </p:animEffect>
                                  </p:childTnLst>
                                </p:cTn>
                              </p:par>
                            </p:childTnLst>
                          </p:cTn>
                        </p:par>
                        <p:par>
                          <p:cTn id="997" nodeType="afterEffect" fill="hold">
                            <p:stCondLst>
                              <p:cond delay="2500"/>
                            </p:stCondLst>
                            <p:childTnLst>
                              <p:par>
                                <p:cTn id="998" nodeType="afterEffect" fill="hold" presetClass="entr" presetID="10">
                                  <p:stCondLst>
                                    <p:cond delay="0"/>
                                  </p:stCondLst>
                                  <p:childTnLst>
                                    <p:set>
                                      <p:cBhvr>
                                        <p:cTn id="999" dur="1" fill="hold">
                                          <p:stCondLst>
                                            <p:cond delay="0"/>
                                          </p:stCondLst>
                                        </p:cTn>
                                        <p:tgtEl>
                                          <p:spTgt spid="888"/>
                                        </p:tgtEl>
                                        <p:attrNameLst>
                                          <p:attrName>style.visibility</p:attrName>
                                        </p:attrNameLst>
                                      </p:cBhvr>
                                      <p:to>
                                        <p:strVal val="visible"/>
                                      </p:to>
                                    </p:set>
                                    <p:animEffect filter="fade" transition="in">
                                      <p:cBhvr additive="repl">
                                        <p:cTn id="1000" dur="500"/>
                                        <p:tgtEl>
                                          <p:spTgt spid="888"/>
                                        </p:tgtEl>
                                      </p:cBhvr>
                                    </p:animEffect>
                                  </p:childTnLst>
                                </p:cTn>
                              </p:par>
                              <p:par>
                                <p:cTn id="1001" nodeType="withEffect" fill="hold" presetClass="entr" presetID="10">
                                  <p:stCondLst>
                                    <p:cond delay="0"/>
                                  </p:stCondLst>
                                  <p:childTnLst>
                                    <p:set>
                                      <p:cBhvr>
                                        <p:cTn id="1002" dur="1" fill="hold">
                                          <p:stCondLst>
                                            <p:cond delay="0"/>
                                          </p:stCondLst>
                                        </p:cTn>
                                        <p:tgtEl>
                                          <p:spTgt spid="892"/>
                                        </p:tgtEl>
                                        <p:attrNameLst>
                                          <p:attrName>style.visibility</p:attrName>
                                        </p:attrNameLst>
                                      </p:cBhvr>
                                      <p:to>
                                        <p:strVal val="visible"/>
                                      </p:to>
                                    </p:set>
                                    <p:animEffect filter="fade" transition="in">
                                      <p:cBhvr additive="repl">
                                        <p:cTn id="1003" dur="500"/>
                                        <p:tgtEl>
                                          <p:spTgt spid="892"/>
                                        </p:tgtEl>
                                      </p:cBhvr>
                                    </p:animEffect>
                                  </p:childTnLst>
                                </p:cTn>
                              </p:par>
                            </p:childTnLst>
                          </p:cTn>
                        </p:par>
                        <p:par>
                          <p:cTn id="1004" nodeType="afterEffect" fill="hold">
                            <p:stCondLst>
                              <p:cond delay="3000"/>
                            </p:stCondLst>
                            <p:childTnLst>
                              <p:par>
                                <p:cTn id="1005" nodeType="afterEffect" fill="hold" presetClass="entr" presetID="10">
                                  <p:stCondLst>
                                    <p:cond delay="0"/>
                                  </p:stCondLst>
                                  <p:childTnLst>
                                    <p:set>
                                      <p:cBhvr>
                                        <p:cTn id="1006" dur="1" fill="hold">
                                          <p:stCondLst>
                                            <p:cond delay="0"/>
                                          </p:stCondLst>
                                        </p:cTn>
                                        <p:tgtEl>
                                          <p:spTgt spid="882"/>
                                        </p:tgtEl>
                                        <p:attrNameLst>
                                          <p:attrName>style.visibility</p:attrName>
                                        </p:attrNameLst>
                                      </p:cBhvr>
                                      <p:to>
                                        <p:strVal val="visible"/>
                                      </p:to>
                                    </p:set>
                                    <p:animEffect filter="fade" transition="in">
                                      <p:cBhvr additive="repl">
                                        <p:cTn id="1007" dur="500"/>
                                        <p:tgtEl>
                                          <p:spTgt spid="882"/>
                                        </p:tgtEl>
                                      </p:cBhvr>
                                    </p:animEffect>
                                  </p:childTnLst>
                                </p:cTn>
                              </p:par>
                              <p:par>
                                <p:cTn id="1008" nodeType="withEffect" fill="hold" presetClass="entr" presetID="10">
                                  <p:stCondLst>
                                    <p:cond delay="0"/>
                                  </p:stCondLst>
                                  <p:childTnLst>
                                    <p:set>
                                      <p:cBhvr>
                                        <p:cTn id="1009" dur="1" fill="hold">
                                          <p:stCondLst>
                                            <p:cond delay="0"/>
                                          </p:stCondLst>
                                        </p:cTn>
                                        <p:tgtEl>
                                          <p:spTgt spid="883"/>
                                        </p:tgtEl>
                                        <p:attrNameLst>
                                          <p:attrName>style.visibility</p:attrName>
                                        </p:attrNameLst>
                                      </p:cBhvr>
                                      <p:to>
                                        <p:strVal val="visible"/>
                                      </p:to>
                                    </p:set>
                                    <p:animEffect filter="fade" transition="in">
                                      <p:cBhvr additive="repl">
                                        <p:cTn id="1010" dur="500"/>
                                        <p:tgtEl>
                                          <p:spTgt spid="883"/>
                                        </p:tgtEl>
                                      </p:cBhvr>
                                    </p:animEffect>
                                  </p:childTnLst>
                                </p:cTn>
                              </p:par>
                              <p:par>
                                <p:cTn id="1011" nodeType="withEffect" fill="hold" presetClass="entr" presetID="10">
                                  <p:stCondLst>
                                    <p:cond delay="0"/>
                                  </p:stCondLst>
                                  <p:childTnLst>
                                    <p:set>
                                      <p:cBhvr>
                                        <p:cTn id="1012" dur="1" fill="hold">
                                          <p:stCondLst>
                                            <p:cond delay="0"/>
                                          </p:stCondLst>
                                        </p:cTn>
                                        <p:tgtEl>
                                          <p:spTgt spid="908"/>
                                        </p:tgtEl>
                                        <p:attrNameLst>
                                          <p:attrName>style.visibility</p:attrName>
                                        </p:attrNameLst>
                                      </p:cBhvr>
                                      <p:to>
                                        <p:strVal val="visible"/>
                                      </p:to>
                                    </p:set>
                                    <p:animEffect filter="fade" transition="in">
                                      <p:cBhvr additive="repl">
                                        <p:cTn id="1013" dur="500"/>
                                        <p:tgtEl>
                                          <p:spTgt spid="908"/>
                                        </p:tgtEl>
                                      </p:cBhvr>
                                    </p:animEffect>
                                  </p:childTnLst>
                                </p:cTn>
                              </p:par>
                            </p:childTnLst>
                          </p:cTn>
                        </p:par>
                        <p:par>
                          <p:cTn id="1014" nodeType="afterEffect" fill="hold">
                            <p:stCondLst>
                              <p:cond delay="3500"/>
                            </p:stCondLst>
                            <p:childTnLst>
                              <p:par>
                                <p:cTn id="1015" nodeType="afterEffect" fill="hold" presetClass="entr" presetID="10">
                                  <p:stCondLst>
                                    <p:cond delay="0"/>
                                  </p:stCondLst>
                                  <p:childTnLst>
                                    <p:set>
                                      <p:cBhvr>
                                        <p:cTn id="1016" dur="1" fill="hold">
                                          <p:stCondLst>
                                            <p:cond delay="0"/>
                                          </p:stCondLst>
                                        </p:cTn>
                                        <p:tgtEl>
                                          <p:spTgt spid="866"/>
                                        </p:tgtEl>
                                        <p:attrNameLst>
                                          <p:attrName>style.visibility</p:attrName>
                                        </p:attrNameLst>
                                      </p:cBhvr>
                                      <p:to>
                                        <p:strVal val="visible"/>
                                      </p:to>
                                    </p:set>
                                    <p:animEffect filter="fade" transition="in">
                                      <p:cBhvr additive="repl">
                                        <p:cTn id="1017" dur="500"/>
                                        <p:tgtEl>
                                          <p:spTgt spid="866"/>
                                        </p:tgtEl>
                                      </p:cBhvr>
                                    </p:animEffect>
                                  </p:childTnLst>
                                </p:cTn>
                              </p:par>
                            </p:childTnLst>
                          </p:cTn>
                        </p:par>
                        <p:par>
                          <p:cTn id="1018" nodeType="afterEffect" fill="hold">
                            <p:stCondLst>
                              <p:cond delay="4000"/>
                            </p:stCondLst>
                            <p:childTnLst>
                              <p:par>
                                <p:cTn id="1019" nodeType="afterEffect" fill="hold" presetClass="entr" presetID="16" presetSubtype="37">
                                  <p:stCondLst>
                                    <p:cond delay="0"/>
                                  </p:stCondLst>
                                  <p:childTnLst>
                                    <p:set>
                                      <p:cBhvr>
                                        <p:cTn id="1020" dur="1" fill="hold">
                                          <p:stCondLst>
                                            <p:cond delay="0"/>
                                          </p:stCondLst>
                                        </p:cTn>
                                        <p:tgtEl>
                                          <p:spTgt spid="876"/>
                                        </p:tgtEl>
                                        <p:attrNameLst>
                                          <p:attrName>style.visibility</p:attrName>
                                        </p:attrNameLst>
                                      </p:cBhvr>
                                      <p:to>
                                        <p:strVal val="visible"/>
                                      </p:to>
                                    </p:set>
                                    <p:animEffect filter="barn(outVertical)" transition="in">
                                      <p:cBhvr additive="repl">
                                        <p:cTn id="1021" dur="500"/>
                                        <p:tgtEl>
                                          <p:spTgt spid="876"/>
                                        </p:tgtEl>
                                      </p:cBhvr>
                                    </p:animEffect>
                                  </p:childTnLst>
                                </p:cTn>
                              </p:par>
                            </p:childTnLst>
                          </p:cTn>
                        </p:par>
                        <p:par>
                          <p:cTn id="1022" nodeType="afterEffect" fill="hold">
                            <p:stCondLst>
                              <p:cond delay="4500"/>
                            </p:stCondLst>
                            <p:childTnLst>
                              <p:par>
                                <p:cTn id="1023" nodeType="afterEffect" fill="hold" presetClass="entr" presetID="53" presetSubtype="16">
                                  <p:stCondLst>
                                    <p:cond delay="0"/>
                                  </p:stCondLst>
                                  <p:childTnLst>
                                    <p:set>
                                      <p:cBhvr>
                                        <p:cTn id="1024" dur="1" fill="hold">
                                          <p:stCondLst>
                                            <p:cond delay="0"/>
                                          </p:stCondLst>
                                        </p:cTn>
                                        <p:tgtEl>
                                          <p:spTgt spid="935"/>
                                        </p:tgtEl>
                                        <p:attrNameLst>
                                          <p:attrName>style.visibility</p:attrName>
                                        </p:attrNameLst>
                                      </p:cBhvr>
                                      <p:to>
                                        <p:strVal val="visible"/>
                                      </p:to>
                                    </p:set>
                                    <p:anim calcmode="lin" valueType="num">
                                      <p:cBhvr additive="repl">
                                        <p:cTn id="1025" dur="500" fill="hold"/>
                                        <p:tgtEl>
                                          <p:spTgt spid="935"/>
                                        </p:tgtEl>
                                        <p:attrNameLst>
                                          <p:attrName>ppt_w</p:attrName>
                                        </p:attrNameLst>
                                      </p:cBhvr>
                                      <p:tavLst>
                                        <p:tav tm="0">
                                          <p:val>
                                            <p:fltVal val="0"/>
                                          </p:val>
                                        </p:tav>
                                        <p:tav tm="100000">
                                          <p:val>
                                            <p:strVal val="#ppt_w"/>
                                          </p:val>
                                        </p:tav>
                                      </p:tavLst>
                                    </p:anim>
                                    <p:anim calcmode="lin" valueType="num">
                                      <p:cBhvr additive="repl">
                                        <p:cTn id="1026" dur="500" fill="hold"/>
                                        <p:tgtEl>
                                          <p:spTgt spid="935"/>
                                        </p:tgtEl>
                                        <p:attrNameLst>
                                          <p:attrName>ppt_h</p:attrName>
                                        </p:attrNameLst>
                                      </p:cBhvr>
                                      <p:tavLst>
                                        <p:tav tm="0">
                                          <p:val>
                                            <p:fltVal val="0"/>
                                          </p:val>
                                        </p:tav>
                                        <p:tav tm="100000">
                                          <p:val>
                                            <p:strVal val="#ppt_h"/>
                                          </p:val>
                                        </p:tav>
                                      </p:tavLst>
                                    </p:anim>
                                    <p:animEffect filter="fade" transition="in">
                                      <p:cBhvr additive="repl">
                                        <p:cTn id="1027" dur="500"/>
                                        <p:tgtEl>
                                          <p:spTgt spid="935"/>
                                        </p:tgtEl>
                                      </p:cBhvr>
                                    </p:animEffect>
                                  </p:childTnLst>
                                </p:cTn>
                              </p:par>
                            </p:childTnLst>
                          </p:cTn>
                        </p:par>
                        <p:par>
                          <p:cTn id="1028" nodeType="afterEffect" fill="hold">
                            <p:stCondLst>
                              <p:cond delay="5000"/>
                            </p:stCondLst>
                            <p:childTnLst>
                              <p:par>
                                <p:cTn id="1029" nodeType="afterEffect" fill="hold" presetClass="entr" presetID="10">
                                  <p:stCondLst>
                                    <p:cond delay="0"/>
                                  </p:stCondLst>
                                  <p:childTnLst>
                                    <p:set>
                                      <p:cBhvr>
                                        <p:cTn id="1030" dur="1" fill="hold">
                                          <p:stCondLst>
                                            <p:cond delay="0"/>
                                          </p:stCondLst>
                                        </p:cTn>
                                        <p:tgtEl>
                                          <p:spTgt spid="889"/>
                                        </p:tgtEl>
                                        <p:attrNameLst>
                                          <p:attrName>style.visibility</p:attrName>
                                        </p:attrNameLst>
                                      </p:cBhvr>
                                      <p:to>
                                        <p:strVal val="visible"/>
                                      </p:to>
                                    </p:set>
                                    <p:animEffect filter="fade" transition="in">
                                      <p:cBhvr additive="repl">
                                        <p:cTn id="1031" dur="500"/>
                                        <p:tgtEl>
                                          <p:spTgt spid="889"/>
                                        </p:tgtEl>
                                      </p:cBhvr>
                                    </p:animEffect>
                                  </p:childTnLst>
                                </p:cTn>
                              </p:par>
                              <p:par>
                                <p:cTn id="1032" nodeType="withEffect" fill="hold" presetClass="entr" presetID="10">
                                  <p:stCondLst>
                                    <p:cond delay="0"/>
                                  </p:stCondLst>
                                  <p:childTnLst>
                                    <p:set>
                                      <p:cBhvr>
                                        <p:cTn id="1033" dur="1" fill="hold">
                                          <p:stCondLst>
                                            <p:cond delay="0"/>
                                          </p:stCondLst>
                                        </p:cTn>
                                        <p:tgtEl>
                                          <p:spTgt spid="893"/>
                                        </p:tgtEl>
                                        <p:attrNameLst>
                                          <p:attrName>style.visibility</p:attrName>
                                        </p:attrNameLst>
                                      </p:cBhvr>
                                      <p:to>
                                        <p:strVal val="visible"/>
                                      </p:to>
                                    </p:set>
                                    <p:animEffect filter="fade" transition="in">
                                      <p:cBhvr additive="repl">
                                        <p:cTn id="1034" dur="500"/>
                                        <p:tgtEl>
                                          <p:spTgt spid="893"/>
                                        </p:tgtEl>
                                      </p:cBhvr>
                                    </p:animEffect>
                                  </p:childTnLst>
                                </p:cTn>
                              </p:par>
                            </p:childTnLst>
                          </p:cTn>
                        </p:par>
                        <p:par>
                          <p:cTn id="1035" nodeType="afterEffect" fill="hold">
                            <p:stCondLst>
                              <p:cond delay="5500"/>
                            </p:stCondLst>
                            <p:childTnLst>
                              <p:par>
                                <p:cTn id="1036" nodeType="afterEffect" fill="hold" presetClass="entr" presetID="10">
                                  <p:stCondLst>
                                    <p:cond delay="0"/>
                                  </p:stCondLst>
                                  <p:childTnLst>
                                    <p:set>
                                      <p:cBhvr>
                                        <p:cTn id="1037" dur="1" fill="hold">
                                          <p:stCondLst>
                                            <p:cond delay="0"/>
                                          </p:stCondLst>
                                        </p:cTn>
                                        <p:tgtEl>
                                          <p:spTgt spid="884"/>
                                        </p:tgtEl>
                                        <p:attrNameLst>
                                          <p:attrName>style.visibility</p:attrName>
                                        </p:attrNameLst>
                                      </p:cBhvr>
                                      <p:to>
                                        <p:strVal val="visible"/>
                                      </p:to>
                                    </p:set>
                                    <p:animEffect filter="fade" transition="in">
                                      <p:cBhvr additive="repl">
                                        <p:cTn id="1038" dur="500"/>
                                        <p:tgtEl>
                                          <p:spTgt spid="884"/>
                                        </p:tgtEl>
                                      </p:cBhvr>
                                    </p:animEffect>
                                  </p:childTnLst>
                                </p:cTn>
                              </p:par>
                              <p:par>
                                <p:cTn id="1039" nodeType="withEffect" fill="hold" presetClass="entr" presetID="10">
                                  <p:stCondLst>
                                    <p:cond delay="0"/>
                                  </p:stCondLst>
                                  <p:childTnLst>
                                    <p:set>
                                      <p:cBhvr>
                                        <p:cTn id="1040" dur="1" fill="hold">
                                          <p:stCondLst>
                                            <p:cond delay="0"/>
                                          </p:stCondLst>
                                        </p:cTn>
                                        <p:tgtEl>
                                          <p:spTgt spid="885"/>
                                        </p:tgtEl>
                                        <p:attrNameLst>
                                          <p:attrName>style.visibility</p:attrName>
                                        </p:attrNameLst>
                                      </p:cBhvr>
                                      <p:to>
                                        <p:strVal val="visible"/>
                                      </p:to>
                                    </p:set>
                                    <p:animEffect filter="fade" transition="in">
                                      <p:cBhvr additive="repl">
                                        <p:cTn id="1041" dur="500"/>
                                        <p:tgtEl>
                                          <p:spTgt spid="885"/>
                                        </p:tgtEl>
                                      </p:cBhvr>
                                    </p:animEffect>
                                  </p:childTnLst>
                                </p:cTn>
                              </p:par>
                              <p:par>
                                <p:cTn id="1042" nodeType="withEffect" fill="hold" presetClass="entr" presetID="10">
                                  <p:stCondLst>
                                    <p:cond delay="0"/>
                                  </p:stCondLst>
                                  <p:childTnLst>
                                    <p:set>
                                      <p:cBhvr>
                                        <p:cTn id="1043" dur="1" fill="hold">
                                          <p:stCondLst>
                                            <p:cond delay="0"/>
                                          </p:stCondLst>
                                        </p:cTn>
                                        <p:tgtEl>
                                          <p:spTgt spid="909"/>
                                        </p:tgtEl>
                                        <p:attrNameLst>
                                          <p:attrName>style.visibility</p:attrName>
                                        </p:attrNameLst>
                                      </p:cBhvr>
                                      <p:to>
                                        <p:strVal val="visible"/>
                                      </p:to>
                                    </p:set>
                                    <p:animEffect filter="fade" transition="in">
                                      <p:cBhvr additive="repl">
                                        <p:cTn id="1044" dur="500"/>
                                        <p:tgtEl>
                                          <p:spTgt spid="909"/>
                                        </p:tgtEl>
                                      </p:cBhvr>
                                    </p:animEffect>
                                  </p:childTnLst>
                                </p:cTn>
                              </p:par>
                            </p:childTnLst>
                          </p:cTn>
                        </p:par>
                        <p:par>
                          <p:cTn id="1045" nodeType="afterEffect" fill="hold">
                            <p:stCondLst>
                              <p:cond delay="6000"/>
                            </p:stCondLst>
                            <p:childTnLst>
                              <p:par>
                                <p:cTn id="1046" nodeType="afterEffect" fill="hold" presetClass="entr" presetID="10">
                                  <p:stCondLst>
                                    <p:cond delay="0"/>
                                  </p:stCondLst>
                                  <p:childTnLst>
                                    <p:set>
                                      <p:cBhvr>
                                        <p:cTn id="1047" dur="1" fill="hold">
                                          <p:stCondLst>
                                            <p:cond delay="0"/>
                                          </p:stCondLst>
                                        </p:cTn>
                                        <p:tgtEl>
                                          <p:spTgt spid="869"/>
                                        </p:tgtEl>
                                        <p:attrNameLst>
                                          <p:attrName>style.visibility</p:attrName>
                                        </p:attrNameLst>
                                      </p:cBhvr>
                                      <p:to>
                                        <p:strVal val="visible"/>
                                      </p:to>
                                    </p:set>
                                    <p:animEffect filter="fade" transition="in">
                                      <p:cBhvr additive="repl">
                                        <p:cTn id="1048" dur="500"/>
                                        <p:tgtEl>
                                          <p:spTgt spid="869"/>
                                        </p:tgtEl>
                                      </p:cBhvr>
                                    </p:animEffect>
                                  </p:childTnLst>
                                </p:cTn>
                              </p:par>
                            </p:childTnLst>
                          </p:cTn>
                        </p:par>
                        <p:par>
                          <p:cTn id="1049" nodeType="afterEffect" fill="hold">
                            <p:stCondLst>
                              <p:cond delay="6500"/>
                            </p:stCondLst>
                            <p:childTnLst>
                              <p:par>
                                <p:cTn id="1050" nodeType="afterEffect" fill="hold" presetClass="entr" presetID="16" presetSubtype="37">
                                  <p:stCondLst>
                                    <p:cond delay="0"/>
                                  </p:stCondLst>
                                  <p:childTnLst>
                                    <p:set>
                                      <p:cBhvr>
                                        <p:cTn id="1051" dur="1" fill="hold">
                                          <p:stCondLst>
                                            <p:cond delay="0"/>
                                          </p:stCondLst>
                                        </p:cTn>
                                        <p:tgtEl>
                                          <p:spTgt spid="877"/>
                                        </p:tgtEl>
                                        <p:attrNameLst>
                                          <p:attrName>style.visibility</p:attrName>
                                        </p:attrNameLst>
                                      </p:cBhvr>
                                      <p:to>
                                        <p:strVal val="visible"/>
                                      </p:to>
                                    </p:set>
                                    <p:animEffect filter="barn(outVertical)" transition="in">
                                      <p:cBhvr additive="repl">
                                        <p:cTn id="1052" dur="500"/>
                                        <p:tgtEl>
                                          <p:spTgt spid="877"/>
                                        </p:tgtEl>
                                      </p:cBhvr>
                                    </p:animEffect>
                                  </p:childTnLst>
                                </p:cTn>
                              </p:par>
                            </p:childTnLst>
                          </p:cTn>
                        </p:par>
                        <p:par>
                          <p:cTn id="1053" nodeType="afterEffect" fill="hold">
                            <p:stCondLst>
                              <p:cond delay="7000"/>
                            </p:stCondLst>
                            <p:childTnLst>
                              <p:par>
                                <p:cTn id="1054" nodeType="afterEffect" fill="hold" presetClass="entr" presetID="53" presetSubtype="16">
                                  <p:stCondLst>
                                    <p:cond delay="0"/>
                                  </p:stCondLst>
                                  <p:childTnLst>
                                    <p:set>
                                      <p:cBhvr>
                                        <p:cTn id="1055" dur="1" fill="hold">
                                          <p:stCondLst>
                                            <p:cond delay="0"/>
                                          </p:stCondLst>
                                        </p:cTn>
                                        <p:tgtEl>
                                          <p:spTgt spid="927"/>
                                        </p:tgtEl>
                                        <p:attrNameLst>
                                          <p:attrName>style.visibility</p:attrName>
                                        </p:attrNameLst>
                                      </p:cBhvr>
                                      <p:to>
                                        <p:strVal val="visible"/>
                                      </p:to>
                                    </p:set>
                                    <p:anim calcmode="lin" valueType="num">
                                      <p:cBhvr additive="repl">
                                        <p:cTn id="1056" dur="500" fill="hold"/>
                                        <p:tgtEl>
                                          <p:spTgt spid="927"/>
                                        </p:tgtEl>
                                        <p:attrNameLst>
                                          <p:attrName>ppt_w</p:attrName>
                                        </p:attrNameLst>
                                      </p:cBhvr>
                                      <p:tavLst>
                                        <p:tav tm="0">
                                          <p:val>
                                            <p:fltVal val="0"/>
                                          </p:val>
                                        </p:tav>
                                        <p:tav tm="100000">
                                          <p:val>
                                            <p:strVal val="#ppt_w"/>
                                          </p:val>
                                        </p:tav>
                                      </p:tavLst>
                                    </p:anim>
                                    <p:anim calcmode="lin" valueType="num">
                                      <p:cBhvr additive="repl">
                                        <p:cTn id="1057" dur="500" fill="hold"/>
                                        <p:tgtEl>
                                          <p:spTgt spid="927"/>
                                        </p:tgtEl>
                                        <p:attrNameLst>
                                          <p:attrName>ppt_h</p:attrName>
                                        </p:attrNameLst>
                                      </p:cBhvr>
                                      <p:tavLst>
                                        <p:tav tm="0">
                                          <p:val>
                                            <p:fltVal val="0"/>
                                          </p:val>
                                        </p:tav>
                                        <p:tav tm="100000">
                                          <p:val>
                                            <p:strVal val="#ppt_h"/>
                                          </p:val>
                                        </p:tav>
                                      </p:tavLst>
                                    </p:anim>
                                    <p:animEffect filter="fade" transition="in">
                                      <p:cBhvr additive="repl">
                                        <p:cTn id="1058" dur="500"/>
                                        <p:tgtEl>
                                          <p:spTgt spid="927"/>
                                        </p:tgtEl>
                                      </p:cBhvr>
                                    </p:animEffect>
                                  </p:childTnLst>
                                </p:cTn>
                              </p:par>
                            </p:childTnLst>
                          </p:cTn>
                        </p:par>
                        <p:par>
                          <p:cTn id="1059" nodeType="afterEffect" fill="hold">
                            <p:stCondLst>
                              <p:cond delay="7500"/>
                            </p:stCondLst>
                            <p:childTnLst>
                              <p:par>
                                <p:cTn id="1060" nodeType="afterEffect" fill="hold" presetClass="entr" presetID="10">
                                  <p:stCondLst>
                                    <p:cond delay="0"/>
                                  </p:stCondLst>
                                  <p:childTnLst>
                                    <p:set>
                                      <p:cBhvr>
                                        <p:cTn id="1061" dur="1" fill="hold">
                                          <p:stCondLst>
                                            <p:cond delay="0"/>
                                          </p:stCondLst>
                                        </p:cTn>
                                        <p:tgtEl>
                                          <p:spTgt spid="890"/>
                                        </p:tgtEl>
                                        <p:attrNameLst>
                                          <p:attrName>style.visibility</p:attrName>
                                        </p:attrNameLst>
                                      </p:cBhvr>
                                      <p:to>
                                        <p:strVal val="visible"/>
                                      </p:to>
                                    </p:set>
                                    <p:animEffect filter="fade" transition="in">
                                      <p:cBhvr additive="repl">
                                        <p:cTn id="1062" dur="500"/>
                                        <p:tgtEl>
                                          <p:spTgt spid="890"/>
                                        </p:tgtEl>
                                      </p:cBhvr>
                                    </p:animEffect>
                                  </p:childTnLst>
                                </p:cTn>
                              </p:par>
                              <p:par>
                                <p:cTn id="1063" nodeType="withEffect" fill="hold" presetClass="entr" presetID="10">
                                  <p:stCondLst>
                                    <p:cond delay="0"/>
                                  </p:stCondLst>
                                  <p:childTnLst>
                                    <p:set>
                                      <p:cBhvr>
                                        <p:cTn id="1064" dur="1" fill="hold">
                                          <p:stCondLst>
                                            <p:cond delay="0"/>
                                          </p:stCondLst>
                                        </p:cTn>
                                        <p:tgtEl>
                                          <p:spTgt spid="894"/>
                                        </p:tgtEl>
                                        <p:attrNameLst>
                                          <p:attrName>style.visibility</p:attrName>
                                        </p:attrNameLst>
                                      </p:cBhvr>
                                      <p:to>
                                        <p:strVal val="visible"/>
                                      </p:to>
                                    </p:set>
                                    <p:animEffect filter="fade" transition="in">
                                      <p:cBhvr additive="repl">
                                        <p:cTn id="1065" dur="500"/>
                                        <p:tgtEl>
                                          <p:spTgt spid="894"/>
                                        </p:tgtEl>
                                      </p:cBhvr>
                                    </p:animEffect>
                                  </p:childTnLst>
                                </p:cTn>
                              </p:par>
                            </p:childTnLst>
                          </p:cTn>
                        </p:par>
                        <p:par>
                          <p:cTn id="1066" nodeType="afterEffect" fill="hold">
                            <p:stCondLst>
                              <p:cond delay="8000"/>
                            </p:stCondLst>
                            <p:childTnLst>
                              <p:par>
                                <p:cTn id="1067" nodeType="afterEffect" fill="hold" presetClass="entr" presetID="10">
                                  <p:stCondLst>
                                    <p:cond delay="0"/>
                                  </p:stCondLst>
                                  <p:childTnLst>
                                    <p:set>
                                      <p:cBhvr>
                                        <p:cTn id="1068" dur="1" fill="hold">
                                          <p:stCondLst>
                                            <p:cond delay="0"/>
                                          </p:stCondLst>
                                        </p:cTn>
                                        <p:tgtEl>
                                          <p:spTgt spid="886"/>
                                        </p:tgtEl>
                                        <p:attrNameLst>
                                          <p:attrName>style.visibility</p:attrName>
                                        </p:attrNameLst>
                                      </p:cBhvr>
                                      <p:to>
                                        <p:strVal val="visible"/>
                                      </p:to>
                                    </p:set>
                                    <p:animEffect filter="fade" transition="in">
                                      <p:cBhvr additive="repl">
                                        <p:cTn id="1069" dur="500"/>
                                        <p:tgtEl>
                                          <p:spTgt spid="886"/>
                                        </p:tgtEl>
                                      </p:cBhvr>
                                    </p:animEffect>
                                  </p:childTnLst>
                                </p:cTn>
                              </p:par>
                              <p:par>
                                <p:cTn id="1070" nodeType="withEffect" fill="hold" presetClass="entr" presetID="10">
                                  <p:stCondLst>
                                    <p:cond delay="0"/>
                                  </p:stCondLst>
                                  <p:childTnLst>
                                    <p:set>
                                      <p:cBhvr>
                                        <p:cTn id="1071" dur="1" fill="hold">
                                          <p:stCondLst>
                                            <p:cond delay="0"/>
                                          </p:stCondLst>
                                        </p:cTn>
                                        <p:tgtEl>
                                          <p:spTgt spid="887"/>
                                        </p:tgtEl>
                                        <p:attrNameLst>
                                          <p:attrName>style.visibility</p:attrName>
                                        </p:attrNameLst>
                                      </p:cBhvr>
                                      <p:to>
                                        <p:strVal val="visible"/>
                                      </p:to>
                                    </p:set>
                                    <p:animEffect filter="fade" transition="in">
                                      <p:cBhvr additive="repl">
                                        <p:cTn id="1072" dur="500"/>
                                        <p:tgtEl>
                                          <p:spTgt spid="887"/>
                                        </p:tgtEl>
                                      </p:cBhvr>
                                    </p:animEffect>
                                  </p:childTnLst>
                                </p:cTn>
                              </p:par>
                              <p:par>
                                <p:cTn id="1073" nodeType="withEffect" fill="hold" presetClass="entr" presetID="10">
                                  <p:stCondLst>
                                    <p:cond delay="0"/>
                                  </p:stCondLst>
                                  <p:childTnLst>
                                    <p:set>
                                      <p:cBhvr>
                                        <p:cTn id="1074" dur="1" fill="hold">
                                          <p:stCondLst>
                                            <p:cond delay="0"/>
                                          </p:stCondLst>
                                        </p:cTn>
                                        <p:tgtEl>
                                          <p:spTgt spid="910"/>
                                        </p:tgtEl>
                                        <p:attrNameLst>
                                          <p:attrName>style.visibility</p:attrName>
                                        </p:attrNameLst>
                                      </p:cBhvr>
                                      <p:to>
                                        <p:strVal val="visible"/>
                                      </p:to>
                                    </p:set>
                                    <p:animEffect filter="fade" transition="in">
                                      <p:cBhvr additive="repl">
                                        <p:cTn id="1075" dur="500"/>
                                        <p:tgtEl>
                                          <p:spTgt spid="910"/>
                                        </p:tgtEl>
                                      </p:cBhvr>
                                    </p:animEffect>
                                  </p:childTnLst>
                                </p:cTn>
                              </p:par>
                            </p:childTnLst>
                          </p:cTn>
                        </p:par>
                        <p:par>
                          <p:cTn id="1076" nodeType="afterEffect" fill="hold">
                            <p:stCondLst>
                              <p:cond delay="8500"/>
                            </p:stCondLst>
                            <p:childTnLst>
                              <p:par>
                                <p:cTn id="1077" nodeType="afterEffect" fill="hold" presetClass="entr" presetID="10">
                                  <p:stCondLst>
                                    <p:cond delay="0"/>
                                  </p:stCondLst>
                                  <p:childTnLst>
                                    <p:set>
                                      <p:cBhvr>
                                        <p:cTn id="1078" dur="1" fill="hold">
                                          <p:stCondLst>
                                            <p:cond delay="0"/>
                                          </p:stCondLst>
                                        </p:cTn>
                                        <p:tgtEl>
                                          <p:spTgt spid="872"/>
                                        </p:tgtEl>
                                        <p:attrNameLst>
                                          <p:attrName>style.visibility</p:attrName>
                                        </p:attrNameLst>
                                      </p:cBhvr>
                                      <p:to>
                                        <p:strVal val="visible"/>
                                      </p:to>
                                    </p:set>
                                    <p:animEffect filter="fade" transition="in">
                                      <p:cBhvr additive="repl">
                                        <p:cTn id="1079" dur="500"/>
                                        <p:tgtEl>
                                          <p:spTgt spid="872"/>
                                        </p:tgtEl>
                                      </p:cBhvr>
                                    </p:animEffect>
                                  </p:childTnLst>
                                </p:cTn>
                              </p:par>
                            </p:childTnLst>
                          </p:cTn>
                        </p:par>
                        <p:par>
                          <p:cTn id="1080" nodeType="afterEffect" fill="hold">
                            <p:stCondLst>
                              <p:cond delay="9000"/>
                            </p:stCondLst>
                            <p:childTnLst>
                              <p:par>
                                <p:cTn id="1081" nodeType="afterEffect" fill="hold" presetClass="entr" presetID="16" presetSubtype="37">
                                  <p:stCondLst>
                                    <p:cond delay="0"/>
                                  </p:stCondLst>
                                  <p:childTnLst>
                                    <p:set>
                                      <p:cBhvr>
                                        <p:cTn id="1082" dur="1" fill="hold">
                                          <p:stCondLst>
                                            <p:cond delay="0"/>
                                          </p:stCondLst>
                                        </p:cTn>
                                        <p:tgtEl>
                                          <p:spTgt spid="878"/>
                                        </p:tgtEl>
                                        <p:attrNameLst>
                                          <p:attrName>style.visibility</p:attrName>
                                        </p:attrNameLst>
                                      </p:cBhvr>
                                      <p:to>
                                        <p:strVal val="visible"/>
                                      </p:to>
                                    </p:set>
                                    <p:animEffect filter="barn(outVertical)" transition="in">
                                      <p:cBhvr additive="repl">
                                        <p:cTn id="1083" dur="500"/>
                                        <p:tgtEl>
                                          <p:spTgt spid="878"/>
                                        </p:tgtEl>
                                      </p:cBhvr>
                                    </p:animEffect>
                                  </p:childTnLst>
                                </p:cTn>
                              </p:par>
                            </p:childTnLst>
                          </p:cTn>
                        </p:par>
                        <p:par>
                          <p:cTn id="1084" nodeType="afterEffect" fill="hold">
                            <p:stCondLst>
                              <p:cond delay="9500"/>
                            </p:stCondLst>
                            <p:childTnLst>
                              <p:par>
                                <p:cTn id="1085" nodeType="afterEffect" fill="hold" presetClass="entr" presetID="53" presetSubtype="16">
                                  <p:stCondLst>
                                    <p:cond delay="0"/>
                                  </p:stCondLst>
                                  <p:childTnLst>
                                    <p:set>
                                      <p:cBhvr>
                                        <p:cTn id="1086" dur="1" fill="hold">
                                          <p:stCondLst>
                                            <p:cond delay="0"/>
                                          </p:stCondLst>
                                        </p:cTn>
                                        <p:tgtEl>
                                          <p:spTgt spid="911"/>
                                        </p:tgtEl>
                                        <p:attrNameLst>
                                          <p:attrName>style.visibility</p:attrName>
                                        </p:attrNameLst>
                                      </p:cBhvr>
                                      <p:to>
                                        <p:strVal val="visible"/>
                                      </p:to>
                                    </p:set>
                                    <p:anim calcmode="lin" valueType="num">
                                      <p:cBhvr additive="repl">
                                        <p:cTn id="1087" dur="500" fill="hold"/>
                                        <p:tgtEl>
                                          <p:spTgt spid="911"/>
                                        </p:tgtEl>
                                        <p:attrNameLst>
                                          <p:attrName>ppt_w</p:attrName>
                                        </p:attrNameLst>
                                      </p:cBhvr>
                                      <p:tavLst>
                                        <p:tav tm="0">
                                          <p:val>
                                            <p:fltVal val="0"/>
                                          </p:val>
                                        </p:tav>
                                        <p:tav tm="100000">
                                          <p:val>
                                            <p:strVal val="#ppt_w"/>
                                          </p:val>
                                        </p:tav>
                                      </p:tavLst>
                                    </p:anim>
                                    <p:anim calcmode="lin" valueType="num">
                                      <p:cBhvr additive="repl">
                                        <p:cTn id="1088" dur="500" fill="hold"/>
                                        <p:tgtEl>
                                          <p:spTgt spid="911"/>
                                        </p:tgtEl>
                                        <p:attrNameLst>
                                          <p:attrName>ppt_h</p:attrName>
                                        </p:attrNameLst>
                                      </p:cBhvr>
                                      <p:tavLst>
                                        <p:tav tm="0">
                                          <p:val>
                                            <p:fltVal val="0"/>
                                          </p:val>
                                        </p:tav>
                                        <p:tav tm="100000">
                                          <p:val>
                                            <p:strVal val="#ppt_h"/>
                                          </p:val>
                                        </p:tav>
                                      </p:tavLst>
                                    </p:anim>
                                    <p:animEffect filter="fade" transition="in">
                                      <p:cBhvr additive="repl">
                                        <p:cTn id="1089" dur="500"/>
                                        <p:tgtEl>
                                          <p:spTgt spid="911"/>
                                        </p:tgtEl>
                                      </p:cBhvr>
                                    </p:animEffect>
                                  </p:childTnLst>
                                </p:cTn>
                              </p:par>
                            </p:childTnLst>
                          </p:cTn>
                        </p:par>
                        <p:par>
                          <p:cTn id="1090" nodeType="afterEffect" fill="hold">
                            <p:stCondLst>
                              <p:cond delay="10000"/>
                            </p:stCondLst>
                            <p:childTnLst>
                              <p:par>
                                <p:cTn id="1091" nodeType="afterEffect" fill="hold" presetClass="entr" presetID="10">
                                  <p:stCondLst>
                                    <p:cond delay="0"/>
                                  </p:stCondLst>
                                  <p:childTnLst>
                                    <p:set>
                                      <p:cBhvr>
                                        <p:cTn id="1092" dur="1" fill="hold">
                                          <p:stCondLst>
                                            <p:cond delay="0"/>
                                          </p:stCondLst>
                                        </p:cTn>
                                        <p:tgtEl>
                                          <p:spTgt spid="891"/>
                                        </p:tgtEl>
                                        <p:attrNameLst>
                                          <p:attrName>style.visibility</p:attrName>
                                        </p:attrNameLst>
                                      </p:cBhvr>
                                      <p:to>
                                        <p:strVal val="visible"/>
                                      </p:to>
                                    </p:set>
                                    <p:animEffect filter="fade" transition="in">
                                      <p:cBhvr additive="repl">
                                        <p:cTn id="1093" dur="500"/>
                                        <p:tgtEl>
                                          <p:spTgt spid="891"/>
                                        </p:tgtEl>
                                      </p:cBhvr>
                                    </p:animEffect>
                                  </p:childTnLst>
                                </p:cTn>
                              </p:par>
                              <p:par>
                                <p:cTn id="1094" nodeType="withEffect" fill="hold" presetClass="entr" presetID="10">
                                  <p:stCondLst>
                                    <p:cond delay="0"/>
                                  </p:stCondLst>
                                  <p:childTnLst>
                                    <p:set>
                                      <p:cBhvr>
                                        <p:cTn id="1095" dur="1" fill="hold">
                                          <p:stCondLst>
                                            <p:cond delay="0"/>
                                          </p:stCondLst>
                                        </p:cTn>
                                        <p:tgtEl>
                                          <p:spTgt spid="895"/>
                                        </p:tgtEl>
                                        <p:attrNameLst>
                                          <p:attrName>style.visibility</p:attrName>
                                        </p:attrNameLst>
                                      </p:cBhvr>
                                      <p:to>
                                        <p:strVal val="visible"/>
                                      </p:to>
                                    </p:set>
                                    <p:animEffect filter="fade" transition="in">
                                      <p:cBhvr additive="repl">
                                        <p:cTn id="1096" dur="500"/>
                                        <p:tgtEl>
                                          <p:spTgt spid="895"/>
                                        </p:tgtEl>
                                      </p:cBhvr>
                                    </p:animEffect>
                                  </p:childTnLst>
                                </p:cTn>
                              </p:par>
                            </p:childTnLst>
                          </p:cTn>
                        </p:par>
                        <p:par>
                          <p:cTn id="1097" nodeType="afterEffect" fill="hold">
                            <p:stCondLst>
                              <p:cond delay="10500"/>
                            </p:stCondLst>
                            <p:childTnLst>
                              <p:par>
                                <p:cTn id="1098" nodeType="afterEffect" fill="hold" presetClass="entr" presetID="10">
                                  <p:stCondLst>
                                    <p:cond delay="0"/>
                                  </p:stCondLst>
                                  <p:childTnLst>
                                    <p:set>
                                      <p:cBhvr>
                                        <p:cTn id="1099" dur="1" fill="hold">
                                          <p:stCondLst>
                                            <p:cond delay="0"/>
                                          </p:stCondLst>
                                        </p:cTn>
                                        <p:tgtEl>
                                          <p:spTgt spid="906"/>
                                        </p:tgtEl>
                                        <p:attrNameLst>
                                          <p:attrName>style.visibility</p:attrName>
                                        </p:attrNameLst>
                                      </p:cBhvr>
                                      <p:to>
                                        <p:strVal val="visible"/>
                                      </p:to>
                                    </p:set>
                                    <p:animEffect filter="fade" transition="in">
                                      <p:cBhvr additive="repl">
                                        <p:cTn id="1100" dur="500"/>
                                        <p:tgtEl>
                                          <p:spTgt spid="906"/>
                                        </p:tgtEl>
                                      </p:cBhvr>
                                    </p:animEffect>
                                  </p:childTnLst>
                                </p:cTn>
                              </p:par>
                              <p:par>
                                <p:cTn id="1101" nodeType="withEffect" fill="hold" presetClass="entr" presetID="10">
                                  <p:stCondLst>
                                    <p:cond delay="0"/>
                                  </p:stCondLst>
                                  <p:childTnLst>
                                    <p:set>
                                      <p:cBhvr>
                                        <p:cTn id="1102" dur="1" fill="hold">
                                          <p:stCondLst>
                                            <p:cond delay="0"/>
                                          </p:stCondLst>
                                        </p:cTn>
                                        <p:tgtEl>
                                          <p:spTgt spid="905"/>
                                        </p:tgtEl>
                                        <p:attrNameLst>
                                          <p:attrName>style.visibility</p:attrName>
                                        </p:attrNameLst>
                                      </p:cBhvr>
                                      <p:to>
                                        <p:strVal val="visible"/>
                                      </p:to>
                                    </p:set>
                                    <p:animEffect filter="fade" transition="in">
                                      <p:cBhvr additive="repl">
                                        <p:cTn id="1103" dur="500"/>
                                        <p:tgtEl>
                                          <p:spTgt spid="905"/>
                                        </p:tgtEl>
                                      </p:cBhvr>
                                    </p:animEffect>
                                  </p:childTnLst>
                                </p:cTn>
                              </p:par>
                            </p:childTnLst>
                          </p:cTn>
                        </p:par>
                        <p:par>
                          <p:cTn id="1104" nodeType="afterEffect" fill="hold">
                            <p:stCondLst>
                              <p:cond delay="11000"/>
                            </p:stCondLst>
                            <p:childTnLst>
                              <p:par>
                                <p:cTn id="1105" nodeType="afterEffect" fill="hold" presetClass="entr" presetID="22" presetSubtype="8">
                                  <p:stCondLst>
                                    <p:cond delay="0"/>
                                  </p:stCondLst>
                                  <p:childTnLst>
                                    <p:set>
                                      <p:cBhvr>
                                        <p:cTn id="1106" dur="1" fill="hold">
                                          <p:stCondLst>
                                            <p:cond delay="0"/>
                                          </p:stCondLst>
                                        </p:cTn>
                                        <p:tgtEl>
                                          <p:spTgt spid="904"/>
                                        </p:tgtEl>
                                        <p:attrNameLst>
                                          <p:attrName>style.visibility</p:attrName>
                                        </p:attrNameLst>
                                      </p:cBhvr>
                                      <p:to>
                                        <p:strVal val="visible"/>
                                      </p:to>
                                    </p:set>
                                    <p:animEffect filter="wipe(left)" transition="in">
                                      <p:cBhvr additive="repl">
                                        <p:cTn id="1107" dur="500"/>
                                        <p:tgtEl>
                                          <p:spTgt spid="904"/>
                                        </p:tgtEl>
                                      </p:cBhvr>
                                    </p:animEffect>
                                  </p:childTnLst>
                                </p:cTn>
                              </p:par>
                              <p:par>
                                <p:cTn id="1108" nodeType="withEffect" fill="hold" presetClass="entr" presetID="16" presetSubtype="42">
                                  <p:stCondLst>
                                    <p:cond delay="0"/>
                                  </p:stCondLst>
                                  <p:childTnLst>
                                    <p:set>
                                      <p:cBhvr>
                                        <p:cTn id="1109" dur="1" fill="hold">
                                          <p:stCondLst>
                                            <p:cond delay="0"/>
                                          </p:stCondLst>
                                        </p:cTn>
                                        <p:tgtEl>
                                          <p:spTgt spid="907"/>
                                        </p:tgtEl>
                                        <p:attrNameLst>
                                          <p:attrName>style.visibility</p:attrName>
                                        </p:attrNameLst>
                                      </p:cBhvr>
                                      <p:to>
                                        <p:strVal val="visible"/>
                                      </p:to>
                                    </p:set>
                                    <p:animEffect filter="barn(outHorizontal)" transition="in">
                                      <p:cBhvr additive="repl">
                                        <p:cTn id="1110" dur="500"/>
                                        <p:tgtEl>
                                          <p:spTgt spid="907"/>
                                        </p:tgtEl>
                                      </p:cBhvr>
                                    </p:animEffect>
                                  </p:childTnLst>
                                </p:cTn>
                              </p:par>
                            </p:childTnLst>
                          </p:cTn>
                        </p:par>
                        <p:par>
                          <p:cTn id="1111" nodeType="afterEffect" fill="hold">
                            <p:stCondLst>
                              <p:cond delay="11500"/>
                            </p:stCondLst>
                            <p:childTnLst>
                              <p:par>
                                <p:cTn id="1112" nodeType="afterEffect" fill="hold" presetClass="entr" presetID="10">
                                  <p:stCondLst>
                                    <p:cond delay="0"/>
                                  </p:stCondLst>
                                  <p:childTnLst>
                                    <p:set>
                                      <p:cBhvr>
                                        <p:cTn id="1113" dur="1" fill="hold">
                                          <p:stCondLst>
                                            <p:cond delay="0"/>
                                          </p:stCondLst>
                                        </p:cTn>
                                        <p:tgtEl>
                                          <p:spTgt spid="896"/>
                                        </p:tgtEl>
                                        <p:attrNameLst>
                                          <p:attrName>style.visibility</p:attrName>
                                        </p:attrNameLst>
                                      </p:cBhvr>
                                      <p:to>
                                        <p:strVal val="visible"/>
                                      </p:to>
                                    </p:set>
                                    <p:animEffect filter="fade" transition="in">
                                      <p:cBhvr additive="repl">
                                        <p:cTn id="1114" dur="500"/>
                                        <p:tgtEl>
                                          <p:spTgt spid="896"/>
                                        </p:tgtEl>
                                      </p:cBhvr>
                                    </p:animEffect>
                                  </p:childTnLst>
                                </p:cTn>
                              </p:par>
                              <p:par>
                                <p:cTn id="1115" nodeType="withEffect" fill="hold" presetClass="entr" presetID="10">
                                  <p:stCondLst>
                                    <p:cond delay="0"/>
                                  </p:stCondLst>
                                  <p:childTnLst>
                                    <p:set>
                                      <p:cBhvr>
                                        <p:cTn id="1116" dur="1" fill="hold">
                                          <p:stCondLst>
                                            <p:cond delay="0"/>
                                          </p:stCondLst>
                                        </p:cTn>
                                        <p:tgtEl>
                                          <p:spTgt spid="898"/>
                                        </p:tgtEl>
                                        <p:attrNameLst>
                                          <p:attrName>style.visibility</p:attrName>
                                        </p:attrNameLst>
                                      </p:cBhvr>
                                      <p:to>
                                        <p:strVal val="visible"/>
                                      </p:to>
                                    </p:set>
                                    <p:animEffect filter="fade" transition="in">
                                      <p:cBhvr additive="repl">
                                        <p:cTn id="1117" dur="500"/>
                                        <p:tgtEl>
                                          <p:spTgt spid="898"/>
                                        </p:tgtEl>
                                      </p:cBhvr>
                                    </p:animEffect>
                                  </p:childTnLst>
                                </p:cTn>
                              </p:par>
                              <p:par>
                                <p:cTn id="1118" nodeType="withEffect" fill="hold" presetClass="entr" presetID="10">
                                  <p:stCondLst>
                                    <p:cond delay="0"/>
                                  </p:stCondLst>
                                  <p:childTnLst>
                                    <p:set>
                                      <p:cBhvr>
                                        <p:cTn id="1119" dur="1" fill="hold">
                                          <p:stCondLst>
                                            <p:cond delay="0"/>
                                          </p:stCondLst>
                                        </p:cTn>
                                        <p:tgtEl>
                                          <p:spTgt spid="900"/>
                                        </p:tgtEl>
                                        <p:attrNameLst>
                                          <p:attrName>style.visibility</p:attrName>
                                        </p:attrNameLst>
                                      </p:cBhvr>
                                      <p:to>
                                        <p:strVal val="visible"/>
                                      </p:to>
                                    </p:set>
                                    <p:animEffect filter="fade" transition="in">
                                      <p:cBhvr additive="repl">
                                        <p:cTn id="1120" dur="500"/>
                                        <p:tgtEl>
                                          <p:spTgt spid="900"/>
                                        </p:tgtEl>
                                      </p:cBhvr>
                                    </p:animEffect>
                                  </p:childTnLst>
                                </p:cTn>
                              </p:par>
                              <p:par>
                                <p:cTn id="1121" nodeType="withEffect" fill="hold" presetClass="entr" presetID="10">
                                  <p:stCondLst>
                                    <p:cond delay="0"/>
                                  </p:stCondLst>
                                  <p:childTnLst>
                                    <p:set>
                                      <p:cBhvr>
                                        <p:cTn id="1122" dur="1" fill="hold">
                                          <p:stCondLst>
                                            <p:cond delay="0"/>
                                          </p:stCondLst>
                                        </p:cTn>
                                        <p:tgtEl>
                                          <p:spTgt spid="902"/>
                                        </p:tgtEl>
                                        <p:attrNameLst>
                                          <p:attrName>style.visibility</p:attrName>
                                        </p:attrNameLst>
                                      </p:cBhvr>
                                      <p:to>
                                        <p:strVal val="visible"/>
                                      </p:to>
                                    </p:set>
                                    <p:animEffect filter="fade" transition="in">
                                      <p:cBhvr additive="repl">
                                        <p:cTn id="1123" dur="500"/>
                                        <p:tgtEl>
                                          <p:spTgt spid="902"/>
                                        </p:tgtEl>
                                      </p:cBhvr>
                                    </p:animEffect>
                                  </p:childTnLst>
                                </p:cTn>
                              </p:par>
                            </p:childTnLst>
                          </p:cTn>
                        </p:par>
                        <p:par>
                          <p:cTn id="1124" nodeType="afterEffect" fill="hold">
                            <p:stCondLst>
                              <p:cond delay="12000"/>
                            </p:stCondLst>
                            <p:childTnLst>
                              <p:par>
                                <p:cTn id="1125" nodeType="afterEffect" fill="hold" presetClass="entr" presetID="10">
                                  <p:stCondLst>
                                    <p:cond delay="0"/>
                                  </p:stCondLst>
                                  <p:childTnLst>
                                    <p:set>
                                      <p:cBhvr>
                                        <p:cTn id="1126" dur="1" fill="hold">
                                          <p:stCondLst>
                                            <p:cond delay="0"/>
                                          </p:stCondLst>
                                        </p:cTn>
                                        <p:tgtEl>
                                          <p:spTgt spid="897"/>
                                        </p:tgtEl>
                                        <p:attrNameLst>
                                          <p:attrName>style.visibility</p:attrName>
                                        </p:attrNameLst>
                                      </p:cBhvr>
                                      <p:to>
                                        <p:strVal val="visible"/>
                                      </p:to>
                                    </p:set>
                                    <p:animEffect filter="fade" transition="in">
                                      <p:cBhvr additive="repl">
                                        <p:cTn id="1127" dur="500"/>
                                        <p:tgtEl>
                                          <p:spTgt spid="897"/>
                                        </p:tgtEl>
                                      </p:cBhvr>
                                    </p:animEffect>
                                  </p:childTnLst>
                                </p:cTn>
                              </p:par>
                              <p:par>
                                <p:cTn id="1128" nodeType="withEffect" fill="hold" presetClass="entr" presetID="10">
                                  <p:stCondLst>
                                    <p:cond delay="0"/>
                                  </p:stCondLst>
                                  <p:childTnLst>
                                    <p:set>
                                      <p:cBhvr>
                                        <p:cTn id="1129" dur="1" fill="hold">
                                          <p:stCondLst>
                                            <p:cond delay="0"/>
                                          </p:stCondLst>
                                        </p:cTn>
                                        <p:tgtEl>
                                          <p:spTgt spid="899"/>
                                        </p:tgtEl>
                                        <p:attrNameLst>
                                          <p:attrName>style.visibility</p:attrName>
                                        </p:attrNameLst>
                                      </p:cBhvr>
                                      <p:to>
                                        <p:strVal val="visible"/>
                                      </p:to>
                                    </p:set>
                                    <p:animEffect filter="fade" transition="in">
                                      <p:cBhvr additive="repl">
                                        <p:cTn id="1130" dur="500"/>
                                        <p:tgtEl>
                                          <p:spTgt spid="899"/>
                                        </p:tgtEl>
                                      </p:cBhvr>
                                    </p:animEffect>
                                  </p:childTnLst>
                                </p:cTn>
                              </p:par>
                              <p:par>
                                <p:cTn id="1131" nodeType="withEffect" fill="hold" presetClass="entr" presetID="10">
                                  <p:stCondLst>
                                    <p:cond delay="0"/>
                                  </p:stCondLst>
                                  <p:childTnLst>
                                    <p:set>
                                      <p:cBhvr>
                                        <p:cTn id="1132" dur="1" fill="hold">
                                          <p:stCondLst>
                                            <p:cond delay="0"/>
                                          </p:stCondLst>
                                        </p:cTn>
                                        <p:tgtEl>
                                          <p:spTgt spid="901"/>
                                        </p:tgtEl>
                                        <p:attrNameLst>
                                          <p:attrName>style.visibility</p:attrName>
                                        </p:attrNameLst>
                                      </p:cBhvr>
                                      <p:to>
                                        <p:strVal val="visible"/>
                                      </p:to>
                                    </p:set>
                                    <p:animEffect filter="fade" transition="in">
                                      <p:cBhvr additive="repl">
                                        <p:cTn id="1133" dur="500"/>
                                        <p:tgtEl>
                                          <p:spTgt spid="901"/>
                                        </p:tgtEl>
                                      </p:cBhvr>
                                    </p:animEffect>
                                  </p:childTnLst>
                                </p:cTn>
                              </p:par>
                              <p:par>
                                <p:cTn id="1134" nodeType="withEffect" fill="hold" presetClass="entr" presetID="10">
                                  <p:stCondLst>
                                    <p:cond delay="0"/>
                                  </p:stCondLst>
                                  <p:childTnLst>
                                    <p:set>
                                      <p:cBhvr>
                                        <p:cTn id="1135" dur="1" fill="hold">
                                          <p:stCondLst>
                                            <p:cond delay="0"/>
                                          </p:stCondLst>
                                        </p:cTn>
                                        <p:tgtEl>
                                          <p:spTgt spid="903"/>
                                        </p:tgtEl>
                                        <p:attrNameLst>
                                          <p:attrName>style.visibility</p:attrName>
                                        </p:attrNameLst>
                                      </p:cBhvr>
                                      <p:to>
                                        <p:strVal val="visible"/>
                                      </p:to>
                                    </p:set>
                                    <p:animEffect filter="fade" transition="in">
                                      <p:cBhvr additive="repl">
                                        <p:cTn id="1136"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4T06:00:20Z</dcterms:created>
  <dc:creator>Galang Basharizzi</dc:creator>
  <dc:description/>
  <dc:language>en-US</dc:language>
  <cp:lastModifiedBy>muse</cp:lastModifiedBy>
  <dcterms:modified xsi:type="dcterms:W3CDTF">2020-05-30T04:30:34Z</dcterms:modified>
  <cp:revision>366</cp:revision>
  <dc:subject/>
  <dc:title>PowerPoint Presentation</dc:title>
</cp:coreProperties>
</file>