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ffc118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118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3593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3593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3593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3593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59359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ffc118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b22c9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593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593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c118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c118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c118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593593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593593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593593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3593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118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93593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3593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3593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3593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3593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3593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ffc11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5935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3593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3593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3593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3593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118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118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118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2c1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2c1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852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f30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30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852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118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da74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3286e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dd1ef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987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876ce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118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118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118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118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93593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93593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3593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93593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93593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3593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593593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c118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c1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c1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c1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29:48Z</dcterms:modified>
  <cp:revision>277</cp:revision>
  <dc:subject/>
  <dc:title>PowerPoint Presentation</dc:title>
</cp:coreProperties>
</file>