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916-EA6E-495A-B4DA-C7D1C171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3EC-4BA4-4497-B303-A6CEF2A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0B6-8E28-47DC-9AB7-74C7CBA1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5B5-B25A-4BE1-A7DE-CD14E992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375-0156-4D43-B9EF-5E3D7217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493-2829-4DCE-8F6D-149F4A3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B6B-23EA-4CF4-9F4D-E92D1FF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EA9-49D2-41D4-9067-91EFB02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6E9-892D-48EC-B6DB-3B841C2C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03D-FD55-4295-A3EA-350C586A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66C-39A8-4D38-8B3C-2E3C851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95F-E3BB-4E35-BACA-126D386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c9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c9c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c9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AF102-6D65-4166-A3F5-539142ED9CB4}" type="slidenum">
              <a:rPr b="0" lang="en-US" sz="1200" spc="-1" strike="noStrike">
                <a:solidFill>
                  <a:srgbClr val="9c9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c5c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df1e2c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df1e2c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38609d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38609d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38609d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38609d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38609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df1e2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a7162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38609d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38609d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df1e2c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df1e2c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df1e2c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38609d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38609d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38609d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deded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deded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dede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8609d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df1e2c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5c5c5c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38609d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38609d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38609d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38609d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38609d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38609d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df1e2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38609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38609d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38609d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38609d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38609d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df1e2c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df1e2c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df1e2c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1c3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1c3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bebeb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5c5c5c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7b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ec7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ec7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7b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df1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df1e2c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ed7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ed7780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2a4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2a4876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d3d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d3deef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7c9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7c9dd0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df1e2c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df1e2c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df1e2c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df1e2c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38609d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38609d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38609d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5c5c5c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38609d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38609d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8609d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1e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38609d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386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38609d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386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60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df1e2c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5c5c5c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df1e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df1e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df1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df1e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df1e2c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5c5c5c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5c5c5c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06Z</dcterms:modified>
  <cp:revision>277</cp:revision>
  <dc:subject/>
  <dc:title>PowerPoint Presentation</dc:title>
</cp:coreProperties>
</file>