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DEB-EE86-4971-AC0B-D0A30603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393-435C-4AE2-9E65-A436AFD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3A8-0476-452C-9146-8498EBEF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269-6AC5-4EE9-9828-3E6D3A4F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945-2A45-4D6F-A6DE-D00B3B34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BA0-2BF9-42E0-AE7B-8421EAB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4C0-48E2-470A-A33F-FD69312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1C1-C5D3-4456-A438-11E60CC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761-859C-4A29-8C90-EA4E816C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B4F-F75D-4FB2-9925-73D57F2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CDF-A71E-457F-98EB-631BCCA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47A-5E22-4720-BE32-EEC0730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C251E-09F1-4C20-AE1C-4BF31AC5C655}" type="slidenum"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179dd9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179dd9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5c44b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5c44b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a5c44b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a5c44b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a5c44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179dd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40c2d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a5c44b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a5c44b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179dd9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179dd9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179dd9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5c44b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5c44b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5c44b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a5c44b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9dd9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a5c44b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a5c44b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a5c44b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a5c44b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a5c44b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a5c44b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179dd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a5c44b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5c44b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5c44b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a5c44b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a5c44b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179dd9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179dd9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179dd9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546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546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179dd9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6dc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6dc7ef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7f9932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edf3db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c9d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c9dc93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79dd9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79dd9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79dd9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79dd9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a5c44b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a5c44b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a5c44b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a5c44b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a5c44b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a5c44b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5c44b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5c44b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4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179dd9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179d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179d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17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179d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179dd9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29:59Z</dcterms:modified>
  <cp:revision>280</cp:revision>
  <dc:subject/>
  <dc:title>PowerPoint Presentation</dc:title>
</cp:coreProperties>
</file>