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1f1f"/>
                </a:solidFill>
                <a:latin typeface="Raleway Bold"/>
              </a:rPr>
              <a:t>Click to move the slide</a:t>
            </a: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5085-D9E0-4B29-9B0A-BC7163F146D0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ECB2-1142-44C9-9AF4-C159C9E333D4}" type="slidenum">
              <a:rPr b="0" lang="en-ID" sz="1200" spc="-1" strike="noStrike">
                <a:solidFill>
                  <a:srgbClr val="1f1f1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3DA1-E2F0-4436-882E-6A6DC49C0638}" type="slidenum">
              <a:rPr b="0" lang="en-ID" sz="1200" spc="-1" strike="noStrike">
                <a:solidFill>
                  <a:srgbClr val="1f1f1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0F92-8FB7-431D-A8D5-D32BCA9D294E}" type="slidenum">
              <a:rPr b="0" lang="en-ID" sz="1200" spc="-1" strike="noStrike">
                <a:solidFill>
                  <a:srgbClr val="1f1f1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422E-FCF7-4F25-B06C-327029A32F88}" type="slidenum">
              <a:rPr b="0" lang="en-ID" sz="1200" spc="-1" strike="noStrike">
                <a:solidFill>
                  <a:srgbClr val="1f1f1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375D-4D91-4531-8724-242DF8028E2C}" type="slidenum">
              <a:rPr b="0" lang="en-ID" sz="1200" spc="-1" strike="noStrike">
                <a:solidFill>
                  <a:srgbClr val="1f1f1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BDDC-6C04-4C4A-9DE5-096EF68AA34C}" type="slidenum">
              <a:rPr b="0" lang="en-ID" sz="1200" spc="-1" strike="noStrike">
                <a:solidFill>
                  <a:srgbClr val="1f1f1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9CB7-8BB1-4E9A-AA64-77919E0FBDDA}" type="slidenum">
              <a:rPr b="0" lang="en-ID" sz="1200" spc="-1" strike="noStrike">
                <a:solidFill>
                  <a:srgbClr val="1f1f1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23E5-60EC-4792-9B0D-FEFBE1D77A80}" type="slidenum">
              <a:rPr b="0" lang="en-ID" sz="1200" spc="-1" strike="noStrike">
                <a:solidFill>
                  <a:srgbClr val="1f1f1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A17F-9B1D-4A66-AF6D-1126AAA24EB5}" type="slidenum">
              <a:rPr b="0" lang="en-ID" sz="1200" spc="-1" strike="noStrike">
                <a:solidFill>
                  <a:srgbClr val="1f1f1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1f1f"/>
              </a:solidFill>
              <a:latin typeface="Raleway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6095880" y="2552760"/>
            <a:ext cx="3505320" cy="354312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6972480" y="762120"/>
            <a:ext cx="3504960" cy="26668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857160" y="1676520"/>
            <a:ext cx="3505320" cy="26668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7886880" y="3429000"/>
            <a:ext cx="3504960" cy="26668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828720" y="803160"/>
            <a:ext cx="10534680" cy="520092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"/>
          <p:cNvSpPr/>
          <p:nvPr/>
        </p:nvSpPr>
        <p:spPr>
          <a:xfrm>
            <a:off x="0" y="0"/>
            <a:ext cx="12192120" cy="165744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"/>
          <p:cNvSpPr/>
          <p:nvPr/>
        </p:nvSpPr>
        <p:spPr>
          <a:xfrm>
            <a:off x="0" y="1676520"/>
            <a:ext cx="5200560" cy="26002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"/>
          <p:cNvSpPr/>
          <p:nvPr/>
        </p:nvSpPr>
        <p:spPr>
          <a:xfrm>
            <a:off x="6953400" y="819000"/>
            <a:ext cx="2666880" cy="6039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"/>
          <p:cNvSpPr/>
          <p:nvPr/>
        </p:nvSpPr>
        <p:spPr>
          <a:xfrm>
            <a:off x="0" y="4324320"/>
            <a:ext cx="7045200" cy="25336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7848720" y="0"/>
            <a:ext cx="3581280" cy="6858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253440" y="0"/>
            <a:ext cx="2938680" cy="6858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1"/>
          <p:cNvSpPr/>
          <p:nvPr/>
        </p:nvSpPr>
        <p:spPr>
          <a:xfrm>
            <a:off x="0" y="3429000"/>
            <a:ext cx="5892840" cy="267804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1"/>
          <p:cNvSpPr/>
          <p:nvPr/>
        </p:nvSpPr>
        <p:spPr>
          <a:xfrm>
            <a:off x="6991200" y="0"/>
            <a:ext cx="5200920" cy="6858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"/>
          <p:cNvSpPr/>
          <p:nvPr/>
        </p:nvSpPr>
        <p:spPr>
          <a:xfrm>
            <a:off x="0" y="0"/>
            <a:ext cx="5238720" cy="6858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"/>
          <p:cNvSpPr/>
          <p:nvPr/>
        </p:nvSpPr>
        <p:spPr>
          <a:xfrm>
            <a:off x="7867800" y="847800"/>
            <a:ext cx="4324320" cy="60102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624040" y="0"/>
            <a:ext cx="2595600" cy="6858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6095880" y="3390840"/>
            <a:ext cx="6096240" cy="268596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0" y="781200"/>
            <a:ext cx="4400640" cy="52956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9620280" y="0"/>
            <a:ext cx="2571840" cy="6858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6095880" y="3429000"/>
            <a:ext cx="6096240" cy="342900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3429000"/>
            <a:ext cx="6095880" cy="3429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733400" y="1681200"/>
            <a:ext cx="4362480" cy="442584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7048440" y="781200"/>
            <a:ext cx="4400640" cy="52956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4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1.png"/><Relationship Id="rId6" Type="http://schemas.openxmlformats.org/officeDocument/2006/relationships/package" Target="../embeddings/oleObject2.xlsx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5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1203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59" name="TextBox 51"/>
          <p:cNvSpPr/>
          <p:nvPr/>
        </p:nvSpPr>
        <p:spPr>
          <a:xfrm>
            <a:off x="755280" y="647640"/>
            <a:ext cx="73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aleway Bold"/>
              </a:rPr>
              <a:t>Visue, LTD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60" name="TextBox 52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61" name="Straight Connector 53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487d88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62" name="TextBox 54"/>
          <p:cNvSpPr/>
          <p:nvPr/>
        </p:nvSpPr>
        <p:spPr>
          <a:xfrm rot="16200000">
            <a:off x="352440" y="3328920"/>
            <a:ext cx="657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Roboto"/>
              </a:rPr>
              <a:t>24 Jan 2021</a:t>
            </a:r>
            <a:endParaRPr b="0" lang="en-US" sz="700" spc="-1" strike="noStrike">
              <a:solidFill>
                <a:srgbClr val="1f1f1f"/>
              </a:solidFill>
              <a:latin typeface="Roboto"/>
            </a:endParaRPr>
          </a:p>
        </p:txBody>
      </p:sp>
      <p:grpSp>
        <p:nvGrpSpPr>
          <p:cNvPr id="863" name="Group 55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864" name="TextBox 56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b2b2b2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865" name="TextBox 57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b2b2b2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866" name="TextBox 58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87d88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867" name="TextBox 59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b2b2b2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868" name="Straight Connector 60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487d88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69" name="TextBox 61"/>
          <p:cNvSpPr/>
          <p:nvPr/>
        </p:nvSpPr>
        <p:spPr>
          <a:xfrm>
            <a:off x="8887320" y="647640"/>
            <a:ext cx="1540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Business Page </a:t>
            </a:r>
            <a:fld id="{8D830194-371C-4F74-88BA-17AD9CB94543}" type="slidenum">
              <a:rPr b="0" lang="en-US" sz="900" spc="-1" strike="noStrike">
                <a:solidFill>
                  <a:srgbClr val="b2b2b2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70" name="Oval 62"/>
          <p:cNvSpPr/>
          <p:nvPr/>
        </p:nvSpPr>
        <p:spPr>
          <a:xfrm>
            <a:off x="4492800" y="1825560"/>
            <a:ext cx="3206520" cy="3206880"/>
          </a:xfrm>
          <a:prstGeom prst="ellipse">
            <a:avLst/>
          </a:prstGeom>
          <a:noFill/>
          <a:ln w="38160">
            <a:solidFill>
              <a:srgbClr val="487d88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71" name="TextBox 63"/>
          <p:cNvSpPr/>
          <p:nvPr/>
        </p:nvSpPr>
        <p:spPr>
          <a:xfrm>
            <a:off x="3409920" y="2451240"/>
            <a:ext cx="53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Raleway Black"/>
              </a:rPr>
              <a:t>V I </a:t>
            </a:r>
            <a:r>
              <a:rPr b="0" lang="en-US" sz="9600" spc="-1" strike="noStrike">
                <a:solidFill>
                  <a:srgbClr val="487d88"/>
                </a:solidFill>
                <a:latin typeface="Raleway Black"/>
              </a:rPr>
              <a:t>N U E</a:t>
            </a:r>
            <a:endParaRPr b="0" lang="en-US" sz="9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72" name="TextBox 64"/>
          <p:cNvSpPr/>
          <p:nvPr/>
        </p:nvSpPr>
        <p:spPr>
          <a:xfrm>
            <a:off x="3975120" y="3933720"/>
            <a:ext cx="42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Roboto"/>
              </a:rPr>
              <a:t>BUSINESS PLAN PRESENTATION</a:t>
            </a:r>
            <a:endParaRPr b="0" lang="en-US" sz="20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2"/>
          <p:cNvSpPr/>
          <p:nvPr/>
        </p:nvSpPr>
        <p:spPr>
          <a:xfrm>
            <a:off x="8720280" y="2552760"/>
            <a:ext cx="2647800" cy="345276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988" name="TextBox 3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989" name="TextBox 4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90" name="Straight Connector 5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991" name="TextBox 6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992" name="TextBox 7"/>
          <p:cNvSpPr/>
          <p:nvPr/>
        </p:nvSpPr>
        <p:spPr>
          <a:xfrm>
            <a:off x="1644480" y="1700280"/>
            <a:ext cx="342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SERVICE HER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93" name="TextBox 8"/>
          <p:cNvSpPr/>
          <p:nvPr/>
        </p:nvSpPr>
        <p:spPr>
          <a:xfrm>
            <a:off x="1645920" y="148896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94" name="Straight Connector 9"/>
          <p:cNvSpPr/>
          <p:nvPr/>
        </p:nvSpPr>
        <p:spPr>
          <a:xfrm>
            <a:off x="1755720" y="285444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95" name="TextBox 10"/>
          <p:cNvSpPr/>
          <p:nvPr/>
        </p:nvSpPr>
        <p:spPr>
          <a:xfrm>
            <a:off x="1673280" y="3684600"/>
            <a:ext cx="41720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96" name="TextBox 11"/>
          <p:cNvSpPr/>
          <p:nvPr/>
        </p:nvSpPr>
        <p:spPr>
          <a:xfrm>
            <a:off x="1673280" y="4797360"/>
            <a:ext cx="4172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97" name="TextBox 12"/>
          <p:cNvSpPr/>
          <p:nvPr/>
        </p:nvSpPr>
        <p:spPr>
          <a:xfrm>
            <a:off x="1590480" y="34099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About Vinue Service Her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98" name="Freeform 410"/>
          <p:cNvSpPr/>
          <p:nvPr/>
        </p:nvSpPr>
        <p:spPr>
          <a:xfrm>
            <a:off x="9871200" y="3311640"/>
            <a:ext cx="317520" cy="372960"/>
          </a:xfrm>
          <a:custGeom>
            <a:avLst/>
            <a:gdLst/>
            <a:ahLst/>
            <a:rect l="l" t="t" r="r" b="b"/>
            <a:pathLst>
              <a:path w="5322" h="6249">
                <a:moveTo>
                  <a:pt x="3053" y="1065"/>
                </a:moveTo>
                <a:lnTo>
                  <a:pt x="3036" y="1067"/>
                </a:lnTo>
                <a:lnTo>
                  <a:pt x="3024" y="1074"/>
                </a:lnTo>
                <a:lnTo>
                  <a:pt x="3013" y="1086"/>
                </a:lnTo>
                <a:lnTo>
                  <a:pt x="3003" y="1099"/>
                </a:lnTo>
                <a:lnTo>
                  <a:pt x="2994" y="1114"/>
                </a:lnTo>
                <a:lnTo>
                  <a:pt x="2994" y="1116"/>
                </a:lnTo>
                <a:lnTo>
                  <a:pt x="2992" y="1118"/>
                </a:lnTo>
                <a:lnTo>
                  <a:pt x="2992" y="1120"/>
                </a:lnTo>
                <a:lnTo>
                  <a:pt x="2268" y="2371"/>
                </a:lnTo>
                <a:lnTo>
                  <a:pt x="2254" y="2400"/>
                </a:lnTo>
                <a:lnTo>
                  <a:pt x="2249" y="2423"/>
                </a:lnTo>
                <a:lnTo>
                  <a:pt x="2249" y="2442"/>
                </a:lnTo>
                <a:lnTo>
                  <a:pt x="2258" y="2457"/>
                </a:lnTo>
                <a:lnTo>
                  <a:pt x="2273" y="2466"/>
                </a:lnTo>
                <a:lnTo>
                  <a:pt x="2296" y="2474"/>
                </a:lnTo>
                <a:lnTo>
                  <a:pt x="2327" y="2476"/>
                </a:lnTo>
                <a:lnTo>
                  <a:pt x="2735" y="2474"/>
                </a:lnTo>
                <a:lnTo>
                  <a:pt x="2764" y="2474"/>
                </a:lnTo>
                <a:lnTo>
                  <a:pt x="2796" y="2476"/>
                </a:lnTo>
                <a:lnTo>
                  <a:pt x="2794" y="2506"/>
                </a:lnTo>
                <a:lnTo>
                  <a:pt x="2791" y="2531"/>
                </a:lnTo>
                <a:lnTo>
                  <a:pt x="2686" y="3084"/>
                </a:lnTo>
                <a:lnTo>
                  <a:pt x="2627" y="3398"/>
                </a:lnTo>
                <a:lnTo>
                  <a:pt x="2623" y="3415"/>
                </a:lnTo>
                <a:lnTo>
                  <a:pt x="2621" y="3432"/>
                </a:lnTo>
                <a:lnTo>
                  <a:pt x="2623" y="3448"/>
                </a:lnTo>
                <a:lnTo>
                  <a:pt x="2627" y="3461"/>
                </a:lnTo>
                <a:lnTo>
                  <a:pt x="2637" y="3474"/>
                </a:lnTo>
                <a:lnTo>
                  <a:pt x="2654" y="3484"/>
                </a:lnTo>
                <a:lnTo>
                  <a:pt x="2673" y="3488"/>
                </a:lnTo>
                <a:lnTo>
                  <a:pt x="2688" y="3486"/>
                </a:lnTo>
                <a:lnTo>
                  <a:pt x="2701" y="3478"/>
                </a:lnTo>
                <a:lnTo>
                  <a:pt x="2713" y="3467"/>
                </a:lnTo>
                <a:lnTo>
                  <a:pt x="2722" y="3453"/>
                </a:lnTo>
                <a:lnTo>
                  <a:pt x="2730" y="3438"/>
                </a:lnTo>
                <a:lnTo>
                  <a:pt x="2732" y="3436"/>
                </a:lnTo>
                <a:lnTo>
                  <a:pt x="2732" y="3434"/>
                </a:lnTo>
                <a:lnTo>
                  <a:pt x="2733" y="3432"/>
                </a:lnTo>
                <a:lnTo>
                  <a:pt x="3456" y="2181"/>
                </a:lnTo>
                <a:lnTo>
                  <a:pt x="3471" y="2152"/>
                </a:lnTo>
                <a:lnTo>
                  <a:pt x="3477" y="2130"/>
                </a:lnTo>
                <a:lnTo>
                  <a:pt x="3475" y="2111"/>
                </a:lnTo>
                <a:lnTo>
                  <a:pt x="3467" y="2095"/>
                </a:lnTo>
                <a:lnTo>
                  <a:pt x="3452" y="2086"/>
                </a:lnTo>
                <a:lnTo>
                  <a:pt x="3427" y="2078"/>
                </a:lnTo>
                <a:lnTo>
                  <a:pt x="3397" y="2076"/>
                </a:lnTo>
                <a:lnTo>
                  <a:pt x="2988" y="2078"/>
                </a:lnTo>
                <a:lnTo>
                  <a:pt x="2960" y="2078"/>
                </a:lnTo>
                <a:lnTo>
                  <a:pt x="2927" y="2076"/>
                </a:lnTo>
                <a:lnTo>
                  <a:pt x="2931" y="2046"/>
                </a:lnTo>
                <a:lnTo>
                  <a:pt x="2933" y="2021"/>
                </a:lnTo>
                <a:lnTo>
                  <a:pt x="3040" y="1468"/>
                </a:lnTo>
                <a:lnTo>
                  <a:pt x="3098" y="1154"/>
                </a:lnTo>
                <a:lnTo>
                  <a:pt x="3100" y="1137"/>
                </a:lnTo>
                <a:lnTo>
                  <a:pt x="3102" y="1120"/>
                </a:lnTo>
                <a:lnTo>
                  <a:pt x="3102" y="1105"/>
                </a:lnTo>
                <a:lnTo>
                  <a:pt x="3098" y="1091"/>
                </a:lnTo>
                <a:lnTo>
                  <a:pt x="3087" y="1078"/>
                </a:lnTo>
                <a:lnTo>
                  <a:pt x="3072" y="1068"/>
                </a:lnTo>
                <a:lnTo>
                  <a:pt x="3053" y="1065"/>
                </a:lnTo>
                <a:close/>
                <a:moveTo>
                  <a:pt x="2935" y="0"/>
                </a:moveTo>
                <a:lnTo>
                  <a:pt x="3106" y="5"/>
                </a:lnTo>
                <a:lnTo>
                  <a:pt x="3273" y="22"/>
                </a:lnTo>
                <a:lnTo>
                  <a:pt x="3437" y="53"/>
                </a:lnTo>
                <a:lnTo>
                  <a:pt x="3596" y="93"/>
                </a:lnTo>
                <a:lnTo>
                  <a:pt x="3750" y="142"/>
                </a:lnTo>
                <a:lnTo>
                  <a:pt x="3901" y="203"/>
                </a:lnTo>
                <a:lnTo>
                  <a:pt x="4045" y="273"/>
                </a:lnTo>
                <a:lnTo>
                  <a:pt x="4186" y="353"/>
                </a:lnTo>
                <a:lnTo>
                  <a:pt x="4319" y="441"/>
                </a:lnTo>
                <a:lnTo>
                  <a:pt x="4446" y="538"/>
                </a:lnTo>
                <a:lnTo>
                  <a:pt x="4566" y="642"/>
                </a:lnTo>
                <a:lnTo>
                  <a:pt x="4678" y="757"/>
                </a:lnTo>
                <a:lnTo>
                  <a:pt x="4783" y="876"/>
                </a:lnTo>
                <a:lnTo>
                  <a:pt x="4880" y="1002"/>
                </a:lnTo>
                <a:lnTo>
                  <a:pt x="4969" y="1135"/>
                </a:lnTo>
                <a:lnTo>
                  <a:pt x="5049" y="1276"/>
                </a:lnTo>
                <a:lnTo>
                  <a:pt x="5119" y="1420"/>
                </a:lnTo>
                <a:lnTo>
                  <a:pt x="5180" y="1571"/>
                </a:lnTo>
                <a:lnTo>
                  <a:pt x="5229" y="1726"/>
                </a:lnTo>
                <a:lnTo>
                  <a:pt x="5269" y="1886"/>
                </a:lnTo>
                <a:lnTo>
                  <a:pt x="5300" y="2050"/>
                </a:lnTo>
                <a:lnTo>
                  <a:pt x="5317" y="2217"/>
                </a:lnTo>
                <a:lnTo>
                  <a:pt x="5322" y="2386"/>
                </a:lnTo>
                <a:lnTo>
                  <a:pt x="5317" y="2546"/>
                </a:lnTo>
                <a:lnTo>
                  <a:pt x="5301" y="2704"/>
                </a:lnTo>
                <a:lnTo>
                  <a:pt x="5277" y="2856"/>
                </a:lnTo>
                <a:lnTo>
                  <a:pt x="5241" y="3006"/>
                </a:lnTo>
                <a:lnTo>
                  <a:pt x="5197" y="3153"/>
                </a:lnTo>
                <a:lnTo>
                  <a:pt x="5144" y="3295"/>
                </a:lnTo>
                <a:lnTo>
                  <a:pt x="5083" y="3432"/>
                </a:lnTo>
                <a:lnTo>
                  <a:pt x="5013" y="3566"/>
                </a:lnTo>
                <a:lnTo>
                  <a:pt x="4935" y="3693"/>
                </a:lnTo>
                <a:lnTo>
                  <a:pt x="4849" y="3815"/>
                </a:lnTo>
                <a:lnTo>
                  <a:pt x="4756" y="3933"/>
                </a:lnTo>
                <a:lnTo>
                  <a:pt x="4655" y="4043"/>
                </a:lnTo>
                <a:lnTo>
                  <a:pt x="4549" y="4147"/>
                </a:lnTo>
                <a:lnTo>
                  <a:pt x="4549" y="5606"/>
                </a:lnTo>
                <a:lnTo>
                  <a:pt x="4543" y="5652"/>
                </a:lnTo>
                <a:lnTo>
                  <a:pt x="4526" y="5696"/>
                </a:lnTo>
                <a:lnTo>
                  <a:pt x="4499" y="5735"/>
                </a:lnTo>
                <a:lnTo>
                  <a:pt x="4465" y="5770"/>
                </a:lnTo>
                <a:lnTo>
                  <a:pt x="4423" y="5794"/>
                </a:lnTo>
                <a:lnTo>
                  <a:pt x="4380" y="5808"/>
                </a:lnTo>
                <a:lnTo>
                  <a:pt x="1899" y="6247"/>
                </a:lnTo>
                <a:lnTo>
                  <a:pt x="1859" y="6249"/>
                </a:lnTo>
                <a:lnTo>
                  <a:pt x="1825" y="6243"/>
                </a:lnTo>
                <a:lnTo>
                  <a:pt x="1794" y="6230"/>
                </a:lnTo>
                <a:lnTo>
                  <a:pt x="1768" y="6211"/>
                </a:lnTo>
                <a:lnTo>
                  <a:pt x="1747" y="6184"/>
                </a:lnTo>
                <a:lnTo>
                  <a:pt x="1734" y="6152"/>
                </a:lnTo>
                <a:lnTo>
                  <a:pt x="1728" y="6116"/>
                </a:lnTo>
                <a:lnTo>
                  <a:pt x="1728" y="6112"/>
                </a:lnTo>
                <a:lnTo>
                  <a:pt x="1726" y="5422"/>
                </a:lnTo>
                <a:lnTo>
                  <a:pt x="1038" y="5524"/>
                </a:lnTo>
                <a:lnTo>
                  <a:pt x="964" y="5519"/>
                </a:lnTo>
                <a:lnTo>
                  <a:pt x="893" y="5503"/>
                </a:lnTo>
                <a:lnTo>
                  <a:pt x="827" y="5479"/>
                </a:lnTo>
                <a:lnTo>
                  <a:pt x="764" y="5443"/>
                </a:lnTo>
                <a:lnTo>
                  <a:pt x="709" y="5401"/>
                </a:lnTo>
                <a:lnTo>
                  <a:pt x="660" y="5351"/>
                </a:lnTo>
                <a:lnTo>
                  <a:pt x="618" y="5296"/>
                </a:lnTo>
                <a:lnTo>
                  <a:pt x="584" y="5233"/>
                </a:lnTo>
                <a:lnTo>
                  <a:pt x="557" y="5167"/>
                </a:lnTo>
                <a:lnTo>
                  <a:pt x="542" y="5096"/>
                </a:lnTo>
                <a:lnTo>
                  <a:pt x="536" y="5022"/>
                </a:lnTo>
                <a:lnTo>
                  <a:pt x="536" y="4140"/>
                </a:lnTo>
                <a:lnTo>
                  <a:pt x="306" y="4140"/>
                </a:lnTo>
                <a:lnTo>
                  <a:pt x="243" y="4136"/>
                </a:lnTo>
                <a:lnTo>
                  <a:pt x="188" y="4125"/>
                </a:lnTo>
                <a:lnTo>
                  <a:pt x="139" y="4108"/>
                </a:lnTo>
                <a:lnTo>
                  <a:pt x="95" y="4081"/>
                </a:lnTo>
                <a:lnTo>
                  <a:pt x="61" y="4050"/>
                </a:lnTo>
                <a:lnTo>
                  <a:pt x="34" y="4014"/>
                </a:lnTo>
                <a:lnTo>
                  <a:pt x="13" y="3974"/>
                </a:lnTo>
                <a:lnTo>
                  <a:pt x="4" y="3929"/>
                </a:lnTo>
                <a:lnTo>
                  <a:pt x="0" y="3879"/>
                </a:lnTo>
                <a:lnTo>
                  <a:pt x="8" y="3826"/>
                </a:lnTo>
                <a:lnTo>
                  <a:pt x="25" y="3771"/>
                </a:lnTo>
                <a:lnTo>
                  <a:pt x="50" y="3714"/>
                </a:lnTo>
                <a:lnTo>
                  <a:pt x="536" y="2786"/>
                </a:lnTo>
                <a:lnTo>
                  <a:pt x="536" y="2390"/>
                </a:lnTo>
                <a:lnTo>
                  <a:pt x="542" y="2221"/>
                </a:lnTo>
                <a:lnTo>
                  <a:pt x="559" y="2057"/>
                </a:lnTo>
                <a:lnTo>
                  <a:pt x="587" y="1896"/>
                </a:lnTo>
                <a:lnTo>
                  <a:pt x="625" y="1740"/>
                </a:lnTo>
                <a:lnTo>
                  <a:pt x="675" y="1586"/>
                </a:lnTo>
                <a:lnTo>
                  <a:pt x="734" y="1439"/>
                </a:lnTo>
                <a:lnTo>
                  <a:pt x="802" y="1295"/>
                </a:lnTo>
                <a:lnTo>
                  <a:pt x="878" y="1158"/>
                </a:lnTo>
                <a:lnTo>
                  <a:pt x="964" y="1027"/>
                </a:lnTo>
                <a:lnTo>
                  <a:pt x="1059" y="901"/>
                </a:lnTo>
                <a:lnTo>
                  <a:pt x="1160" y="781"/>
                </a:lnTo>
                <a:lnTo>
                  <a:pt x="1270" y="669"/>
                </a:lnTo>
                <a:lnTo>
                  <a:pt x="1386" y="564"/>
                </a:lnTo>
                <a:lnTo>
                  <a:pt x="1509" y="467"/>
                </a:lnTo>
                <a:lnTo>
                  <a:pt x="1639" y="380"/>
                </a:lnTo>
                <a:lnTo>
                  <a:pt x="1775" y="298"/>
                </a:lnTo>
                <a:lnTo>
                  <a:pt x="1916" y="228"/>
                </a:lnTo>
                <a:lnTo>
                  <a:pt x="2051" y="169"/>
                </a:lnTo>
                <a:lnTo>
                  <a:pt x="2190" y="118"/>
                </a:lnTo>
                <a:lnTo>
                  <a:pt x="2332" y="76"/>
                </a:lnTo>
                <a:lnTo>
                  <a:pt x="2479" y="43"/>
                </a:lnTo>
                <a:lnTo>
                  <a:pt x="2627" y="19"/>
                </a:lnTo>
                <a:lnTo>
                  <a:pt x="2781" y="5"/>
                </a:lnTo>
                <a:lnTo>
                  <a:pt x="29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99" name="TextBox 15"/>
          <p:cNvSpPr/>
          <p:nvPr/>
        </p:nvSpPr>
        <p:spPr>
          <a:xfrm>
            <a:off x="9285120" y="3745080"/>
            <a:ext cx="14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We Give The Best Idea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00" name="TextBox 16"/>
          <p:cNvSpPr/>
          <p:nvPr/>
        </p:nvSpPr>
        <p:spPr>
          <a:xfrm>
            <a:off x="8942400" y="4498920"/>
            <a:ext cx="2174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 Risus pretium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3"/>
          <p:cNvSpPr/>
          <p:nvPr/>
        </p:nvSpPr>
        <p:spPr>
          <a:xfrm>
            <a:off x="7858080" y="2590920"/>
            <a:ext cx="3524400" cy="278136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002" name="TextBox 4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003" name="Straight Connector 6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04" name="Straight Connector 13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005" name="TextBox 14" descr=""/>
          <p:cNvPicPr/>
          <p:nvPr/>
        </p:nvPicPr>
        <p:blipFill>
          <a:blip r:embed="rId2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15"/>
          <p:cNvSpPr/>
          <p:nvPr/>
        </p:nvSpPr>
        <p:spPr>
          <a:xfrm>
            <a:off x="1685880" y="4643280"/>
            <a:ext cx="52959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07" name="TextBox 9"/>
          <p:cNvSpPr/>
          <p:nvPr/>
        </p:nvSpPr>
        <p:spPr>
          <a:xfrm>
            <a:off x="2297160" y="1087560"/>
            <a:ext cx="75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WORK BUSINESS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08" name="TextBox 10"/>
          <p:cNvSpPr/>
          <p:nvPr/>
        </p:nvSpPr>
        <p:spPr>
          <a:xfrm>
            <a:off x="4976280" y="8762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09" name="Straight Connector 11"/>
          <p:cNvSpPr/>
          <p:nvPr/>
        </p:nvSpPr>
        <p:spPr>
          <a:xfrm>
            <a:off x="5813280" y="176220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0" name="Rectangle 12"/>
          <p:cNvSpPr/>
          <p:nvPr/>
        </p:nvSpPr>
        <p:spPr>
          <a:xfrm>
            <a:off x="8286840" y="4035600"/>
            <a:ext cx="2523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a si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lig djdao olor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met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ma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a si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lig djdao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1" name="Rectangle 36"/>
          <p:cNvSpPr/>
          <p:nvPr/>
        </p:nvSpPr>
        <p:spPr>
          <a:xfrm>
            <a:off x="8286840" y="3673440"/>
            <a:ext cx="25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Fast Service For You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2" name="Freeform 53"/>
          <p:cNvSpPr/>
          <p:nvPr/>
        </p:nvSpPr>
        <p:spPr>
          <a:xfrm>
            <a:off x="9310680" y="3276720"/>
            <a:ext cx="473040" cy="412560"/>
          </a:xfrm>
          <a:custGeom>
            <a:avLst/>
            <a:gdLst/>
            <a:ahLst/>
            <a:rect l="l" t="t" r="r" b="b"/>
            <a:pathLst>
              <a:path w="3597" h="3137">
                <a:moveTo>
                  <a:pt x="1894" y="727"/>
                </a:moveTo>
                <a:lnTo>
                  <a:pt x="2163" y="727"/>
                </a:lnTo>
                <a:lnTo>
                  <a:pt x="2163" y="1513"/>
                </a:lnTo>
                <a:lnTo>
                  <a:pt x="2659" y="2009"/>
                </a:lnTo>
                <a:lnTo>
                  <a:pt x="2469" y="2198"/>
                </a:lnTo>
                <a:lnTo>
                  <a:pt x="1894" y="1623"/>
                </a:lnTo>
                <a:lnTo>
                  <a:pt x="1894" y="727"/>
                </a:lnTo>
                <a:close/>
                <a:moveTo>
                  <a:pt x="2034" y="0"/>
                </a:moveTo>
                <a:lnTo>
                  <a:pt x="2136" y="3"/>
                </a:lnTo>
                <a:lnTo>
                  <a:pt x="2238" y="13"/>
                </a:lnTo>
                <a:lnTo>
                  <a:pt x="2337" y="28"/>
                </a:lnTo>
                <a:lnTo>
                  <a:pt x="2434" y="51"/>
                </a:lnTo>
                <a:lnTo>
                  <a:pt x="2528" y="79"/>
                </a:lnTo>
                <a:lnTo>
                  <a:pt x="2620" y="113"/>
                </a:lnTo>
                <a:lnTo>
                  <a:pt x="2709" y="153"/>
                </a:lnTo>
                <a:lnTo>
                  <a:pt x="2795" y="198"/>
                </a:lnTo>
                <a:lnTo>
                  <a:pt x="2878" y="248"/>
                </a:lnTo>
                <a:lnTo>
                  <a:pt x="2957" y="303"/>
                </a:lnTo>
                <a:lnTo>
                  <a:pt x="3033" y="361"/>
                </a:lnTo>
                <a:lnTo>
                  <a:pt x="3105" y="425"/>
                </a:lnTo>
                <a:lnTo>
                  <a:pt x="3173" y="493"/>
                </a:lnTo>
                <a:lnTo>
                  <a:pt x="3237" y="566"/>
                </a:lnTo>
                <a:lnTo>
                  <a:pt x="3296" y="642"/>
                </a:lnTo>
                <a:lnTo>
                  <a:pt x="3351" y="721"/>
                </a:lnTo>
                <a:lnTo>
                  <a:pt x="3400" y="805"/>
                </a:lnTo>
                <a:lnTo>
                  <a:pt x="3444" y="891"/>
                </a:lnTo>
                <a:lnTo>
                  <a:pt x="3484" y="980"/>
                </a:lnTo>
                <a:lnTo>
                  <a:pt x="3518" y="1072"/>
                </a:lnTo>
                <a:lnTo>
                  <a:pt x="3546" y="1167"/>
                </a:lnTo>
                <a:lnTo>
                  <a:pt x="3569" y="1264"/>
                </a:lnTo>
                <a:lnTo>
                  <a:pt x="3584" y="1363"/>
                </a:lnTo>
                <a:lnTo>
                  <a:pt x="3594" y="1465"/>
                </a:lnTo>
                <a:lnTo>
                  <a:pt x="3597" y="1568"/>
                </a:lnTo>
                <a:lnTo>
                  <a:pt x="3594" y="1672"/>
                </a:lnTo>
                <a:lnTo>
                  <a:pt x="3584" y="1773"/>
                </a:lnTo>
                <a:lnTo>
                  <a:pt x="3569" y="1872"/>
                </a:lnTo>
                <a:lnTo>
                  <a:pt x="3546" y="1969"/>
                </a:lnTo>
                <a:lnTo>
                  <a:pt x="3518" y="2064"/>
                </a:lnTo>
                <a:lnTo>
                  <a:pt x="3484" y="2156"/>
                </a:lnTo>
                <a:lnTo>
                  <a:pt x="3444" y="2245"/>
                </a:lnTo>
                <a:lnTo>
                  <a:pt x="3400" y="2331"/>
                </a:lnTo>
                <a:lnTo>
                  <a:pt x="3351" y="2415"/>
                </a:lnTo>
                <a:lnTo>
                  <a:pt x="3296" y="2494"/>
                </a:lnTo>
                <a:lnTo>
                  <a:pt x="3237" y="2570"/>
                </a:lnTo>
                <a:lnTo>
                  <a:pt x="3173" y="2643"/>
                </a:lnTo>
                <a:lnTo>
                  <a:pt x="3105" y="2711"/>
                </a:lnTo>
                <a:lnTo>
                  <a:pt x="3033" y="2775"/>
                </a:lnTo>
                <a:lnTo>
                  <a:pt x="2957" y="2834"/>
                </a:lnTo>
                <a:lnTo>
                  <a:pt x="2878" y="2889"/>
                </a:lnTo>
                <a:lnTo>
                  <a:pt x="2795" y="2938"/>
                </a:lnTo>
                <a:lnTo>
                  <a:pt x="2709" y="2983"/>
                </a:lnTo>
                <a:lnTo>
                  <a:pt x="2620" y="3023"/>
                </a:lnTo>
                <a:lnTo>
                  <a:pt x="2528" y="3057"/>
                </a:lnTo>
                <a:lnTo>
                  <a:pt x="2434" y="3085"/>
                </a:lnTo>
                <a:lnTo>
                  <a:pt x="2337" y="3108"/>
                </a:lnTo>
                <a:lnTo>
                  <a:pt x="2238" y="3123"/>
                </a:lnTo>
                <a:lnTo>
                  <a:pt x="2136" y="3133"/>
                </a:lnTo>
                <a:lnTo>
                  <a:pt x="2034" y="3137"/>
                </a:lnTo>
                <a:lnTo>
                  <a:pt x="1935" y="3133"/>
                </a:lnTo>
                <a:lnTo>
                  <a:pt x="1839" y="3124"/>
                </a:lnTo>
                <a:lnTo>
                  <a:pt x="1743" y="3110"/>
                </a:lnTo>
                <a:lnTo>
                  <a:pt x="1651" y="3089"/>
                </a:lnTo>
                <a:lnTo>
                  <a:pt x="1560" y="3064"/>
                </a:lnTo>
                <a:lnTo>
                  <a:pt x="1471" y="3032"/>
                </a:lnTo>
                <a:lnTo>
                  <a:pt x="1385" y="2997"/>
                </a:lnTo>
                <a:lnTo>
                  <a:pt x="1302" y="2955"/>
                </a:lnTo>
                <a:lnTo>
                  <a:pt x="1222" y="2910"/>
                </a:lnTo>
                <a:lnTo>
                  <a:pt x="1145" y="2859"/>
                </a:lnTo>
                <a:lnTo>
                  <a:pt x="1070" y="2804"/>
                </a:lnTo>
                <a:lnTo>
                  <a:pt x="1340" y="2516"/>
                </a:lnTo>
                <a:lnTo>
                  <a:pt x="1406" y="2562"/>
                </a:lnTo>
                <a:lnTo>
                  <a:pt x="1475" y="2603"/>
                </a:lnTo>
                <a:lnTo>
                  <a:pt x="1548" y="2639"/>
                </a:lnTo>
                <a:lnTo>
                  <a:pt x="1623" y="2671"/>
                </a:lnTo>
                <a:lnTo>
                  <a:pt x="1701" y="2697"/>
                </a:lnTo>
                <a:lnTo>
                  <a:pt x="1782" y="2717"/>
                </a:lnTo>
                <a:lnTo>
                  <a:pt x="1863" y="2732"/>
                </a:lnTo>
                <a:lnTo>
                  <a:pt x="1948" y="2741"/>
                </a:lnTo>
                <a:lnTo>
                  <a:pt x="2034" y="2744"/>
                </a:lnTo>
                <a:lnTo>
                  <a:pt x="2121" y="2741"/>
                </a:lnTo>
                <a:lnTo>
                  <a:pt x="2207" y="2731"/>
                </a:lnTo>
                <a:lnTo>
                  <a:pt x="2291" y="2716"/>
                </a:lnTo>
                <a:lnTo>
                  <a:pt x="2372" y="2695"/>
                </a:lnTo>
                <a:lnTo>
                  <a:pt x="2452" y="2667"/>
                </a:lnTo>
                <a:lnTo>
                  <a:pt x="2528" y="2635"/>
                </a:lnTo>
                <a:lnTo>
                  <a:pt x="2601" y="2598"/>
                </a:lnTo>
                <a:lnTo>
                  <a:pt x="2672" y="2555"/>
                </a:lnTo>
                <a:lnTo>
                  <a:pt x="2739" y="2508"/>
                </a:lnTo>
                <a:lnTo>
                  <a:pt x="2803" y="2456"/>
                </a:lnTo>
                <a:lnTo>
                  <a:pt x="2863" y="2400"/>
                </a:lnTo>
                <a:lnTo>
                  <a:pt x="2919" y="2340"/>
                </a:lnTo>
                <a:lnTo>
                  <a:pt x="2971" y="2276"/>
                </a:lnTo>
                <a:lnTo>
                  <a:pt x="3018" y="2209"/>
                </a:lnTo>
                <a:lnTo>
                  <a:pt x="3060" y="2138"/>
                </a:lnTo>
                <a:lnTo>
                  <a:pt x="3097" y="2064"/>
                </a:lnTo>
                <a:lnTo>
                  <a:pt x="3130" y="1988"/>
                </a:lnTo>
                <a:lnTo>
                  <a:pt x="3157" y="1908"/>
                </a:lnTo>
                <a:lnTo>
                  <a:pt x="3179" y="1826"/>
                </a:lnTo>
                <a:lnTo>
                  <a:pt x="3194" y="1742"/>
                </a:lnTo>
                <a:lnTo>
                  <a:pt x="3203" y="1656"/>
                </a:lnTo>
                <a:lnTo>
                  <a:pt x="3206" y="1568"/>
                </a:lnTo>
                <a:lnTo>
                  <a:pt x="3203" y="1480"/>
                </a:lnTo>
                <a:lnTo>
                  <a:pt x="3194" y="1394"/>
                </a:lnTo>
                <a:lnTo>
                  <a:pt x="3179" y="1310"/>
                </a:lnTo>
                <a:lnTo>
                  <a:pt x="3157" y="1229"/>
                </a:lnTo>
                <a:lnTo>
                  <a:pt x="3130" y="1148"/>
                </a:lnTo>
                <a:lnTo>
                  <a:pt x="3097" y="1072"/>
                </a:lnTo>
                <a:lnTo>
                  <a:pt x="3060" y="999"/>
                </a:lnTo>
                <a:lnTo>
                  <a:pt x="3018" y="927"/>
                </a:lnTo>
                <a:lnTo>
                  <a:pt x="2971" y="860"/>
                </a:lnTo>
                <a:lnTo>
                  <a:pt x="2919" y="796"/>
                </a:lnTo>
                <a:lnTo>
                  <a:pt x="2863" y="737"/>
                </a:lnTo>
                <a:lnTo>
                  <a:pt x="2803" y="680"/>
                </a:lnTo>
                <a:lnTo>
                  <a:pt x="2739" y="629"/>
                </a:lnTo>
                <a:lnTo>
                  <a:pt x="2672" y="581"/>
                </a:lnTo>
                <a:lnTo>
                  <a:pt x="2601" y="538"/>
                </a:lnTo>
                <a:lnTo>
                  <a:pt x="2528" y="501"/>
                </a:lnTo>
                <a:lnTo>
                  <a:pt x="2452" y="469"/>
                </a:lnTo>
                <a:lnTo>
                  <a:pt x="2372" y="441"/>
                </a:lnTo>
                <a:lnTo>
                  <a:pt x="2291" y="420"/>
                </a:lnTo>
                <a:lnTo>
                  <a:pt x="2207" y="404"/>
                </a:lnTo>
                <a:lnTo>
                  <a:pt x="2121" y="395"/>
                </a:lnTo>
                <a:lnTo>
                  <a:pt x="2034" y="392"/>
                </a:lnTo>
                <a:lnTo>
                  <a:pt x="1944" y="395"/>
                </a:lnTo>
                <a:lnTo>
                  <a:pt x="1855" y="405"/>
                </a:lnTo>
                <a:lnTo>
                  <a:pt x="1770" y="422"/>
                </a:lnTo>
                <a:lnTo>
                  <a:pt x="1686" y="444"/>
                </a:lnTo>
                <a:lnTo>
                  <a:pt x="1605" y="472"/>
                </a:lnTo>
                <a:lnTo>
                  <a:pt x="1527" y="506"/>
                </a:lnTo>
                <a:lnTo>
                  <a:pt x="1452" y="546"/>
                </a:lnTo>
                <a:lnTo>
                  <a:pt x="1381" y="591"/>
                </a:lnTo>
                <a:lnTo>
                  <a:pt x="1312" y="641"/>
                </a:lnTo>
                <a:lnTo>
                  <a:pt x="1247" y="695"/>
                </a:lnTo>
                <a:lnTo>
                  <a:pt x="1188" y="753"/>
                </a:lnTo>
                <a:lnTo>
                  <a:pt x="1132" y="816"/>
                </a:lnTo>
                <a:lnTo>
                  <a:pt x="1080" y="883"/>
                </a:lnTo>
                <a:lnTo>
                  <a:pt x="1034" y="954"/>
                </a:lnTo>
                <a:lnTo>
                  <a:pt x="992" y="1027"/>
                </a:lnTo>
                <a:lnTo>
                  <a:pt x="955" y="1104"/>
                </a:lnTo>
                <a:lnTo>
                  <a:pt x="924" y="1185"/>
                </a:lnTo>
                <a:lnTo>
                  <a:pt x="899" y="1267"/>
                </a:lnTo>
                <a:lnTo>
                  <a:pt x="880" y="1352"/>
                </a:lnTo>
                <a:lnTo>
                  <a:pt x="867" y="1439"/>
                </a:lnTo>
                <a:lnTo>
                  <a:pt x="862" y="1528"/>
                </a:lnTo>
                <a:lnTo>
                  <a:pt x="1408" y="1528"/>
                </a:lnTo>
                <a:lnTo>
                  <a:pt x="704" y="2313"/>
                </a:lnTo>
                <a:lnTo>
                  <a:pt x="0" y="1528"/>
                </a:lnTo>
                <a:lnTo>
                  <a:pt x="470" y="1528"/>
                </a:lnTo>
                <a:lnTo>
                  <a:pt x="476" y="1424"/>
                </a:lnTo>
                <a:lnTo>
                  <a:pt x="489" y="1320"/>
                </a:lnTo>
                <a:lnTo>
                  <a:pt x="509" y="1220"/>
                </a:lnTo>
                <a:lnTo>
                  <a:pt x="534" y="1121"/>
                </a:lnTo>
                <a:lnTo>
                  <a:pt x="566" y="1025"/>
                </a:lnTo>
                <a:lnTo>
                  <a:pt x="604" y="933"/>
                </a:lnTo>
                <a:lnTo>
                  <a:pt x="647" y="842"/>
                </a:lnTo>
                <a:lnTo>
                  <a:pt x="695" y="755"/>
                </a:lnTo>
                <a:lnTo>
                  <a:pt x="749" y="673"/>
                </a:lnTo>
                <a:lnTo>
                  <a:pt x="809" y="593"/>
                </a:lnTo>
                <a:lnTo>
                  <a:pt x="873" y="517"/>
                </a:lnTo>
                <a:lnTo>
                  <a:pt x="941" y="446"/>
                </a:lnTo>
                <a:lnTo>
                  <a:pt x="1014" y="380"/>
                </a:lnTo>
                <a:lnTo>
                  <a:pt x="1090" y="317"/>
                </a:lnTo>
                <a:lnTo>
                  <a:pt x="1170" y="260"/>
                </a:lnTo>
                <a:lnTo>
                  <a:pt x="1255" y="208"/>
                </a:lnTo>
                <a:lnTo>
                  <a:pt x="1342" y="161"/>
                </a:lnTo>
                <a:lnTo>
                  <a:pt x="1433" y="119"/>
                </a:lnTo>
                <a:lnTo>
                  <a:pt x="1527" y="83"/>
                </a:lnTo>
                <a:lnTo>
                  <a:pt x="1624" y="54"/>
                </a:lnTo>
                <a:lnTo>
                  <a:pt x="1723" y="31"/>
                </a:lnTo>
                <a:lnTo>
                  <a:pt x="1825" y="13"/>
                </a:lnTo>
                <a:lnTo>
                  <a:pt x="1928" y="3"/>
                </a:lnTo>
                <a:lnTo>
                  <a:pt x="20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3" name="TextBox 18"/>
          <p:cNvSpPr/>
          <p:nvPr/>
        </p:nvSpPr>
        <p:spPr>
          <a:xfrm>
            <a:off x="2289240" y="5075280"/>
            <a:ext cx="408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“</a:t>
            </a:r>
            <a:r>
              <a:rPr b="1" i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Success usually comes to those who are too busy to be looking for it.”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7867800" y="828720"/>
            <a:ext cx="4324320" cy="520056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5" name="TextBox 3"/>
          <p:cNvSpPr/>
          <p:nvPr/>
        </p:nvSpPr>
        <p:spPr>
          <a:xfrm>
            <a:off x="3892680" y="1928880"/>
            <a:ext cx="342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ADVANTAGES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6" name="TextBox 4"/>
          <p:cNvSpPr/>
          <p:nvPr/>
        </p:nvSpPr>
        <p:spPr>
          <a:xfrm>
            <a:off x="3893040" y="171612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7" name="Straight Connector 5"/>
          <p:cNvSpPr/>
          <p:nvPr/>
        </p:nvSpPr>
        <p:spPr>
          <a:xfrm>
            <a:off x="4003560" y="308124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8" name="TextBox 6"/>
          <p:cNvSpPr/>
          <p:nvPr/>
        </p:nvSpPr>
        <p:spPr>
          <a:xfrm>
            <a:off x="3876840" y="3489480"/>
            <a:ext cx="3638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19" name="TextBox 7"/>
          <p:cNvSpPr/>
          <p:nvPr/>
        </p:nvSpPr>
        <p:spPr>
          <a:xfrm>
            <a:off x="3876840" y="4570560"/>
            <a:ext cx="3638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20" name="TextBox 9"/>
          <p:cNvSpPr/>
          <p:nvPr/>
        </p:nvSpPr>
        <p:spPr>
          <a:xfrm>
            <a:off x="8385480" y="169704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7,875+</a:t>
            </a:r>
            <a:endParaRPr b="0" lang="en-US" sz="24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21" name="TextBox 10"/>
          <p:cNvSpPr/>
          <p:nvPr/>
        </p:nvSpPr>
        <p:spPr>
          <a:xfrm>
            <a:off x="8319600" y="214776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Our Best Client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22" name="TextBox 11"/>
          <p:cNvSpPr/>
          <p:nvPr/>
        </p:nvSpPr>
        <p:spPr>
          <a:xfrm>
            <a:off x="8386920" y="2433600"/>
            <a:ext cx="2928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gytet 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gytet 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23" name="TextBox 12"/>
          <p:cNvSpPr/>
          <p:nvPr/>
        </p:nvSpPr>
        <p:spPr>
          <a:xfrm>
            <a:off x="8385480" y="3627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6,927+</a:t>
            </a:r>
            <a:endParaRPr b="0" lang="en-US" sz="24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24" name="TextBox 13"/>
          <p:cNvSpPr/>
          <p:nvPr/>
        </p:nvSpPr>
        <p:spPr>
          <a:xfrm>
            <a:off x="8305920" y="407664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Our Best Company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25" name="TextBox 14"/>
          <p:cNvSpPr/>
          <p:nvPr/>
        </p:nvSpPr>
        <p:spPr>
          <a:xfrm>
            <a:off x="8386920" y="4363920"/>
            <a:ext cx="2928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gytet 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gytet 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TextBox 3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027" name="Straight Connector 5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028" name="TextBox 6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1029" name="TextBox 7"/>
          <p:cNvSpPr/>
          <p:nvPr/>
        </p:nvSpPr>
        <p:spPr>
          <a:xfrm>
            <a:off x="1752480" y="3227400"/>
            <a:ext cx="41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VINUE BUSINESS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MARKETPLAC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30" name="TextBox 8"/>
          <p:cNvSpPr/>
          <p:nvPr/>
        </p:nvSpPr>
        <p:spPr>
          <a:xfrm>
            <a:off x="1753560" y="301608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31" name="Straight Connector 9"/>
          <p:cNvSpPr/>
          <p:nvPr/>
        </p:nvSpPr>
        <p:spPr>
          <a:xfrm>
            <a:off x="1863720" y="438156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32" name="TextBox 10"/>
          <p:cNvSpPr/>
          <p:nvPr/>
        </p:nvSpPr>
        <p:spPr>
          <a:xfrm>
            <a:off x="1752480" y="4927680"/>
            <a:ext cx="481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33" name="TextBox 11"/>
          <p:cNvSpPr/>
          <p:nvPr/>
        </p:nvSpPr>
        <p:spPr>
          <a:xfrm>
            <a:off x="7493040" y="3429000"/>
            <a:ext cx="3365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nibh praesen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yi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it amet. nibh praesen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i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34" name="TextBox 12"/>
          <p:cNvSpPr/>
          <p:nvPr/>
        </p:nvSpPr>
        <p:spPr>
          <a:xfrm>
            <a:off x="7434720" y="3164040"/>
            <a:ext cx="21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01. Big Marketplac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7493040" y="4724280"/>
            <a:ext cx="3365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nibh praesen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yi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it amet. nibh praesen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i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36" name="TextBox 14"/>
          <p:cNvSpPr/>
          <p:nvPr/>
        </p:nvSpPr>
        <p:spPr>
          <a:xfrm>
            <a:off x="7446240" y="446076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02. High Incom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3"/>
          <p:cNvSpPr/>
          <p:nvPr/>
        </p:nvSpPr>
        <p:spPr>
          <a:xfrm>
            <a:off x="6438960" y="819000"/>
            <a:ext cx="4914720" cy="52768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38" name="TextBox 4"/>
          <p:cNvSpPr/>
          <p:nvPr/>
        </p:nvSpPr>
        <p:spPr>
          <a:xfrm>
            <a:off x="6881760" y="1730520"/>
            <a:ext cx="41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leway Bold"/>
              </a:rPr>
              <a:t>GET YOUR BEST PLAN BUSINESS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39" name="TextBox 5"/>
          <p:cNvSpPr/>
          <p:nvPr/>
        </p:nvSpPr>
        <p:spPr>
          <a:xfrm>
            <a:off x="6882840" y="151920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40" name="Straight Connector 6"/>
          <p:cNvSpPr/>
          <p:nvPr/>
        </p:nvSpPr>
        <p:spPr>
          <a:xfrm>
            <a:off x="6993000" y="2884320"/>
            <a:ext cx="566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41" name="TextBox 7"/>
          <p:cNvSpPr/>
          <p:nvPr/>
        </p:nvSpPr>
        <p:spPr>
          <a:xfrm>
            <a:off x="6867360" y="3801960"/>
            <a:ext cx="4005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 Risus pretium quam vulputate dignissim.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stique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42" name="TextBox 8"/>
          <p:cNvSpPr/>
          <p:nvPr/>
        </p:nvSpPr>
        <p:spPr>
          <a:xfrm>
            <a:off x="6723000" y="3527280"/>
            <a:ext cx="35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First Variable Marketing Strategy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43" name="TextBox 9"/>
          <p:cNvSpPr/>
          <p:nvPr/>
        </p:nvSpPr>
        <p:spPr>
          <a:xfrm>
            <a:off x="6881760" y="4767120"/>
            <a:ext cx="4005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 Risus pretium quam vulputate dignissim.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stique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44" name="TextBox 10"/>
          <p:cNvSpPr/>
          <p:nvPr/>
        </p:nvSpPr>
        <p:spPr>
          <a:xfrm>
            <a:off x="6740640" y="4492800"/>
            <a:ext cx="382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Second Variable Marketing Strategy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TextBox 3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046" name="TextBox 4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47" name="Straight Connector 5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048" name="TextBox 6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7"/>
          <p:cNvSpPr/>
          <p:nvPr/>
        </p:nvSpPr>
        <p:spPr>
          <a:xfrm>
            <a:off x="1609560" y="1739880"/>
            <a:ext cx="346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TALK ABOUT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MANY SERVIC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0" name="TextBox 8"/>
          <p:cNvSpPr/>
          <p:nvPr/>
        </p:nvSpPr>
        <p:spPr>
          <a:xfrm>
            <a:off x="1611000" y="152892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1" name="Straight Connector 9"/>
          <p:cNvSpPr/>
          <p:nvPr/>
        </p:nvSpPr>
        <p:spPr>
          <a:xfrm>
            <a:off x="1720800" y="289404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2" name="TextBox 10"/>
          <p:cNvSpPr/>
          <p:nvPr/>
        </p:nvSpPr>
        <p:spPr>
          <a:xfrm>
            <a:off x="1595520" y="3800520"/>
            <a:ext cx="41720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3" name="TextBox 11"/>
          <p:cNvSpPr/>
          <p:nvPr/>
        </p:nvSpPr>
        <p:spPr>
          <a:xfrm>
            <a:off x="1595520" y="4913280"/>
            <a:ext cx="4172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4" name="TextBox 12"/>
          <p:cNvSpPr/>
          <p:nvPr/>
        </p:nvSpPr>
        <p:spPr>
          <a:xfrm>
            <a:off x="1521360" y="3525840"/>
            <a:ext cx="24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Many Service In Vinu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5" name="TextBox 13"/>
          <p:cNvSpPr/>
          <p:nvPr/>
        </p:nvSpPr>
        <p:spPr>
          <a:xfrm>
            <a:off x="6353280" y="5032440"/>
            <a:ext cx="299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“</a:t>
            </a:r>
            <a:r>
              <a:rPr b="1" i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The first one gets the oyster, the second gets the shell."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6"/>
          <p:cNvSpPr/>
          <p:nvPr/>
        </p:nvSpPr>
        <p:spPr>
          <a:xfrm>
            <a:off x="838080" y="5079960"/>
            <a:ext cx="2629080" cy="10540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7" name="Rectangle 7"/>
          <p:cNvSpPr/>
          <p:nvPr/>
        </p:nvSpPr>
        <p:spPr>
          <a:xfrm>
            <a:off x="3467160" y="5079960"/>
            <a:ext cx="2628720" cy="105408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8" name="Rectangle 8"/>
          <p:cNvSpPr/>
          <p:nvPr/>
        </p:nvSpPr>
        <p:spPr>
          <a:xfrm>
            <a:off x="6095880" y="5079960"/>
            <a:ext cx="2629080" cy="10540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59" name="Rectangle 9"/>
          <p:cNvSpPr/>
          <p:nvPr/>
        </p:nvSpPr>
        <p:spPr>
          <a:xfrm>
            <a:off x="8724960" y="5079960"/>
            <a:ext cx="2628720" cy="105408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060" name="TextBox 11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061" name="Straight Connector 20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062" name="TextBox 21" descr=""/>
          <p:cNvPicPr/>
          <p:nvPr/>
        </p:nvPicPr>
        <p:blipFill>
          <a:blip r:embed="rId2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sp>
        <p:nvSpPr>
          <p:cNvPr id="1063" name="TextBox 12"/>
          <p:cNvSpPr/>
          <p:nvPr/>
        </p:nvSpPr>
        <p:spPr>
          <a:xfrm>
            <a:off x="3051000" y="1087560"/>
            <a:ext cx="60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MEE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GREAT TEAM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64" name="TextBox 13"/>
          <p:cNvSpPr/>
          <p:nvPr/>
        </p:nvSpPr>
        <p:spPr>
          <a:xfrm>
            <a:off x="4976280" y="8762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65" name="Straight Connector 14"/>
          <p:cNvSpPr/>
          <p:nvPr/>
        </p:nvSpPr>
        <p:spPr>
          <a:xfrm>
            <a:off x="5813280" y="176220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1027080" y="5607000"/>
            <a:ext cx="2251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Roboto"/>
              </a:rPr>
              <a:t>General Manager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67" name="Rectangle 16"/>
          <p:cNvSpPr/>
          <p:nvPr/>
        </p:nvSpPr>
        <p:spPr>
          <a:xfrm>
            <a:off x="1027080" y="528480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Hassan Jordin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68" name="Rectangle 17"/>
          <p:cNvSpPr/>
          <p:nvPr/>
        </p:nvSpPr>
        <p:spPr>
          <a:xfrm>
            <a:off x="3656160" y="5607000"/>
            <a:ext cx="2251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Roboto"/>
              </a:rPr>
              <a:t>CEO Company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69" name="Rectangle 18"/>
          <p:cNvSpPr/>
          <p:nvPr/>
        </p:nvSpPr>
        <p:spPr>
          <a:xfrm>
            <a:off x="3656160" y="528480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Salim Fredrika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70" name="Rectangle 19"/>
          <p:cNvSpPr/>
          <p:nvPr/>
        </p:nvSpPr>
        <p:spPr>
          <a:xfrm>
            <a:off x="6284880" y="5607000"/>
            <a:ext cx="2251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Roboto"/>
              </a:rPr>
              <a:t>Executive Manager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71" name="Rectangle 22"/>
          <p:cNvSpPr/>
          <p:nvPr/>
        </p:nvSpPr>
        <p:spPr>
          <a:xfrm>
            <a:off x="6284880" y="528480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Jessica Hellen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72" name="Rectangle 23"/>
          <p:cNvSpPr/>
          <p:nvPr/>
        </p:nvSpPr>
        <p:spPr>
          <a:xfrm>
            <a:off x="8913960" y="5607000"/>
            <a:ext cx="2251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Roboto"/>
              </a:rPr>
              <a:t>Quality Control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73" name="Rectangle 24"/>
          <p:cNvSpPr/>
          <p:nvPr/>
        </p:nvSpPr>
        <p:spPr>
          <a:xfrm>
            <a:off x="8913960" y="528480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Cathrine Joy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TextBox 4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075" name="TextBox 5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76" name="Straight Connector 6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077" name="TextBox 7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8"/>
          <p:cNvSpPr/>
          <p:nvPr/>
        </p:nvSpPr>
        <p:spPr>
          <a:xfrm>
            <a:off x="1609560" y="1550880"/>
            <a:ext cx="389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GENERAL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MANAGER HER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79" name="TextBox 9"/>
          <p:cNvSpPr/>
          <p:nvPr/>
        </p:nvSpPr>
        <p:spPr>
          <a:xfrm>
            <a:off x="1611000" y="133992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0" name="Straight Connector 10"/>
          <p:cNvSpPr/>
          <p:nvPr/>
        </p:nvSpPr>
        <p:spPr>
          <a:xfrm>
            <a:off x="1720800" y="270504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1" name="Rectangle 11"/>
          <p:cNvSpPr/>
          <p:nvPr/>
        </p:nvSpPr>
        <p:spPr>
          <a:xfrm>
            <a:off x="1609560" y="3774960"/>
            <a:ext cx="4687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ic asa l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am vulputate dignissim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m nec d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 elit magnayu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gna sit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2" name="Rectangle 36"/>
          <p:cNvSpPr/>
          <p:nvPr/>
        </p:nvSpPr>
        <p:spPr>
          <a:xfrm>
            <a:off x="1609560" y="3197160"/>
            <a:ext cx="256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</a:rPr>
              <a:t>Hassan Jordin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3" name="Rectangle 13"/>
          <p:cNvSpPr/>
          <p:nvPr/>
        </p:nvSpPr>
        <p:spPr>
          <a:xfrm>
            <a:off x="1612800" y="3494160"/>
            <a:ext cx="2400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b2b2b2"/>
                </a:solidFill>
                <a:latin typeface="Roboto"/>
              </a:rPr>
              <a:t>General Manager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4" name="Rectangle 14"/>
          <p:cNvSpPr/>
          <p:nvPr/>
        </p:nvSpPr>
        <p:spPr>
          <a:xfrm>
            <a:off x="1703520" y="4802040"/>
            <a:ext cx="3475080" cy="460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5" name="Rectangle 15"/>
          <p:cNvSpPr/>
          <p:nvPr/>
        </p:nvSpPr>
        <p:spPr>
          <a:xfrm>
            <a:off x="1703520" y="4802040"/>
            <a:ext cx="3155760" cy="4608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6" name="TextBox 16"/>
          <p:cNvSpPr/>
          <p:nvPr/>
        </p:nvSpPr>
        <p:spPr>
          <a:xfrm flipH="1">
            <a:off x="5398200" y="4692600"/>
            <a:ext cx="5288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7" name="TextBox 17"/>
          <p:cNvSpPr/>
          <p:nvPr/>
        </p:nvSpPr>
        <p:spPr>
          <a:xfrm flipH="1">
            <a:off x="1709640" y="445284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8" name="Rectangle 18"/>
          <p:cNvSpPr/>
          <p:nvPr/>
        </p:nvSpPr>
        <p:spPr>
          <a:xfrm>
            <a:off x="1736640" y="5394240"/>
            <a:ext cx="3475080" cy="460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89" name="Rectangle 19"/>
          <p:cNvSpPr/>
          <p:nvPr/>
        </p:nvSpPr>
        <p:spPr>
          <a:xfrm>
            <a:off x="1703520" y="5394240"/>
            <a:ext cx="2743200" cy="460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90" name="TextBox 20"/>
          <p:cNvSpPr/>
          <p:nvPr/>
        </p:nvSpPr>
        <p:spPr>
          <a:xfrm flipH="1">
            <a:off x="5403960" y="5272200"/>
            <a:ext cx="528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091" name="TextBox 21"/>
          <p:cNvSpPr/>
          <p:nvPr/>
        </p:nvSpPr>
        <p:spPr>
          <a:xfrm flipH="1">
            <a:off x="1704960" y="503712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3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093" name="TextBox 4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094" name="TextBox 5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095" name="TextBox 6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096" name="TextBox 7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097" name="Straight Connector 8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098" name="TextBox 9" descr=""/>
          <p:cNvPicPr/>
          <p:nvPr/>
        </p:nvPicPr>
        <p:blipFill>
          <a:blip r:embed="rId1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10"/>
          <p:cNvSpPr/>
          <p:nvPr/>
        </p:nvSpPr>
        <p:spPr>
          <a:xfrm>
            <a:off x="5276880" y="4643280"/>
            <a:ext cx="52959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0" name="TextBox 11"/>
          <p:cNvSpPr/>
          <p:nvPr/>
        </p:nvSpPr>
        <p:spPr>
          <a:xfrm>
            <a:off x="6384960" y="1778040"/>
            <a:ext cx="389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CEO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FOUNDER HER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1" name="TextBox 12"/>
          <p:cNvSpPr/>
          <p:nvPr/>
        </p:nvSpPr>
        <p:spPr>
          <a:xfrm>
            <a:off x="6385320" y="156672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2" name="Straight Connector 13"/>
          <p:cNvSpPr/>
          <p:nvPr/>
        </p:nvSpPr>
        <p:spPr>
          <a:xfrm>
            <a:off x="6496200" y="2932200"/>
            <a:ext cx="5648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3" name="Rectangle 14"/>
          <p:cNvSpPr/>
          <p:nvPr/>
        </p:nvSpPr>
        <p:spPr>
          <a:xfrm>
            <a:off x="6419880" y="3840120"/>
            <a:ext cx="4152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ic asa l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am vulputate dignissim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m nec d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 elit magnay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4" name="Rectangle 36"/>
          <p:cNvSpPr/>
          <p:nvPr/>
        </p:nvSpPr>
        <p:spPr>
          <a:xfrm>
            <a:off x="6419880" y="3263760"/>
            <a:ext cx="256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</a:rPr>
              <a:t>Salim Fredrika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5" name="Rectangle 16"/>
          <p:cNvSpPr/>
          <p:nvPr/>
        </p:nvSpPr>
        <p:spPr>
          <a:xfrm>
            <a:off x="6423120" y="3560760"/>
            <a:ext cx="240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b2b2b2"/>
                </a:solidFill>
                <a:latin typeface="Roboto"/>
              </a:rPr>
              <a:t>CEO Founder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6" name="Rectangle 17"/>
          <p:cNvSpPr/>
          <p:nvPr/>
        </p:nvSpPr>
        <p:spPr>
          <a:xfrm>
            <a:off x="5945040" y="5197320"/>
            <a:ext cx="3475080" cy="460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7" name="Rectangle 18"/>
          <p:cNvSpPr/>
          <p:nvPr/>
        </p:nvSpPr>
        <p:spPr>
          <a:xfrm>
            <a:off x="5945040" y="5197320"/>
            <a:ext cx="3154680" cy="4608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8" name="TextBox 19"/>
          <p:cNvSpPr/>
          <p:nvPr/>
        </p:nvSpPr>
        <p:spPr>
          <a:xfrm flipH="1">
            <a:off x="9638640" y="5087880"/>
            <a:ext cx="530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09" name="TextBox 20"/>
          <p:cNvSpPr/>
          <p:nvPr/>
        </p:nvSpPr>
        <p:spPr>
          <a:xfrm flipH="1">
            <a:off x="5950080" y="484668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10" name="TextBox 21"/>
          <p:cNvSpPr/>
          <p:nvPr/>
        </p:nvSpPr>
        <p:spPr>
          <a:xfrm flipH="1">
            <a:off x="5950080" y="5364000"/>
            <a:ext cx="12888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12031"/>
                </a:solidFill>
                <a:latin typeface="Roboto"/>
                <a:ea typeface="Lato Medium"/>
              </a:rPr>
              <a:t>Leader Work Skills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11" name="TextBox 22"/>
          <p:cNvSpPr/>
          <p:nvPr/>
        </p:nvSpPr>
        <p:spPr>
          <a:xfrm flipH="1">
            <a:off x="5945040" y="5635800"/>
            <a:ext cx="12938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45b63"/>
                </a:solidFill>
                <a:latin typeface="Roboto"/>
                <a:ea typeface="Lato Medium"/>
              </a:rPr>
              <a:t>Team Work Skills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12" name="TextBox 24"/>
          <p:cNvSpPr/>
          <p:nvPr/>
        </p:nvSpPr>
        <p:spPr>
          <a:xfrm flipH="1">
            <a:off x="7498800" y="5364000"/>
            <a:ext cx="22129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45b63"/>
                </a:solidFill>
                <a:latin typeface="Roboto"/>
                <a:ea typeface="Lato Medium"/>
              </a:rPr>
              <a:t>Marketing Business Experienc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13" name="TextBox 25"/>
          <p:cNvSpPr/>
          <p:nvPr/>
        </p:nvSpPr>
        <p:spPr>
          <a:xfrm flipH="1">
            <a:off x="7494480" y="5635800"/>
            <a:ext cx="12938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12031"/>
                </a:solidFill>
                <a:latin typeface="Roboto"/>
                <a:ea typeface="Lato Medium"/>
              </a:rPr>
              <a:t>3 Language Skills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TextBox 3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115" name="TextBox 4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16" name="Straight Connector 5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117" name="TextBox 6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1118" name="TextBox 7"/>
          <p:cNvSpPr/>
          <p:nvPr/>
        </p:nvSpPr>
        <p:spPr>
          <a:xfrm>
            <a:off x="1639800" y="1569960"/>
            <a:ext cx="41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EXECUTIV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MANAGER HER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19" name="TextBox 8"/>
          <p:cNvSpPr/>
          <p:nvPr/>
        </p:nvSpPr>
        <p:spPr>
          <a:xfrm>
            <a:off x="1640880" y="135900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0" name="Straight Connector 9"/>
          <p:cNvSpPr/>
          <p:nvPr/>
        </p:nvSpPr>
        <p:spPr>
          <a:xfrm>
            <a:off x="1751040" y="272412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1" name="Rectangle 10"/>
          <p:cNvSpPr/>
          <p:nvPr/>
        </p:nvSpPr>
        <p:spPr>
          <a:xfrm>
            <a:off x="1639800" y="3755880"/>
            <a:ext cx="42181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ue magna sit amet. Risus preti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mic asa l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quam vulputate dignissim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m nec d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 magn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2" name="Rectangle 36"/>
          <p:cNvSpPr/>
          <p:nvPr/>
        </p:nvSpPr>
        <p:spPr>
          <a:xfrm>
            <a:off x="1639800" y="3179880"/>
            <a:ext cx="256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</a:rPr>
              <a:t>Jessica Hellen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3" name="Rectangle 12"/>
          <p:cNvSpPr/>
          <p:nvPr/>
        </p:nvSpPr>
        <p:spPr>
          <a:xfrm>
            <a:off x="1643040" y="3476520"/>
            <a:ext cx="2400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b2b2b2"/>
                </a:solidFill>
                <a:latin typeface="Roboto"/>
              </a:rPr>
              <a:t>Executive Manager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4" name="Rectangle 13"/>
          <p:cNvSpPr/>
          <p:nvPr/>
        </p:nvSpPr>
        <p:spPr>
          <a:xfrm>
            <a:off x="1735200" y="4784760"/>
            <a:ext cx="3154320" cy="460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5" name="Rectangle 14"/>
          <p:cNvSpPr/>
          <p:nvPr/>
        </p:nvSpPr>
        <p:spPr>
          <a:xfrm>
            <a:off x="1735200" y="4784760"/>
            <a:ext cx="2701800" cy="4608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6" name="TextBox 15"/>
          <p:cNvSpPr/>
          <p:nvPr/>
        </p:nvSpPr>
        <p:spPr>
          <a:xfrm flipH="1">
            <a:off x="5066640" y="4673520"/>
            <a:ext cx="361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90%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7" name="TextBox 16"/>
          <p:cNvSpPr/>
          <p:nvPr/>
        </p:nvSpPr>
        <p:spPr>
          <a:xfrm flipH="1">
            <a:off x="1739880" y="443376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8" name="Rectangle 17"/>
          <p:cNvSpPr/>
          <p:nvPr/>
        </p:nvSpPr>
        <p:spPr>
          <a:xfrm>
            <a:off x="1768320" y="5376960"/>
            <a:ext cx="3121200" cy="442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29" name="Rectangle 18"/>
          <p:cNvSpPr/>
          <p:nvPr/>
        </p:nvSpPr>
        <p:spPr>
          <a:xfrm>
            <a:off x="1735200" y="5376960"/>
            <a:ext cx="2206440" cy="442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30" name="TextBox 19"/>
          <p:cNvSpPr/>
          <p:nvPr/>
        </p:nvSpPr>
        <p:spPr>
          <a:xfrm flipH="1">
            <a:off x="5071320" y="5253120"/>
            <a:ext cx="361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80</a:t>
            </a:r>
            <a:r>
              <a:rPr b="0" lang="en-ID" sz="1200" spc="-1" strike="noStrike">
                <a:solidFill>
                  <a:srgbClr val="7f7f7f"/>
                </a:solidFill>
                <a:latin typeface="Roboto"/>
                <a:ea typeface="Lato Medium"/>
              </a:rPr>
              <a:t>%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31" name="TextBox 20"/>
          <p:cNvSpPr/>
          <p:nvPr/>
        </p:nvSpPr>
        <p:spPr>
          <a:xfrm flipH="1">
            <a:off x="1736640" y="5019840"/>
            <a:ext cx="1922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100" spc="-1" strike="noStrike">
                <a:solidFill>
                  <a:srgbClr val="7f7f7f"/>
                </a:solidFill>
                <a:latin typeface="Roboto"/>
                <a:ea typeface="Lato Medium"/>
              </a:rPr>
              <a:t>Type Your Skill Her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TextBox 2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874" name="TextBox 7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75" name="Straight Connector 12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876" name="TextBox 13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15"/>
          <p:cNvSpPr/>
          <p:nvPr/>
        </p:nvSpPr>
        <p:spPr>
          <a:xfrm>
            <a:off x="7920000" y="1609560"/>
            <a:ext cx="2668680" cy="181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78" name="TextBox 18"/>
          <p:cNvSpPr/>
          <p:nvPr/>
        </p:nvSpPr>
        <p:spPr>
          <a:xfrm>
            <a:off x="1598760" y="1682640"/>
            <a:ext cx="342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BUSINESS PLAN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79" name="TextBox 19"/>
          <p:cNvSpPr/>
          <p:nvPr/>
        </p:nvSpPr>
        <p:spPr>
          <a:xfrm>
            <a:off x="1599840" y="146988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80" name="Straight Connector 21"/>
          <p:cNvSpPr/>
          <p:nvPr/>
        </p:nvSpPr>
        <p:spPr>
          <a:xfrm>
            <a:off x="1709640" y="2836800"/>
            <a:ext cx="5670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81" name="TextBox 11"/>
          <p:cNvSpPr/>
          <p:nvPr/>
        </p:nvSpPr>
        <p:spPr>
          <a:xfrm>
            <a:off x="1628640" y="3701880"/>
            <a:ext cx="41720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82" name="TextBox 16"/>
          <p:cNvSpPr/>
          <p:nvPr/>
        </p:nvSpPr>
        <p:spPr>
          <a:xfrm>
            <a:off x="1628640" y="4815000"/>
            <a:ext cx="4172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1550880" y="3427560"/>
            <a:ext cx="28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About Vinue Business Plan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84" name="TextBox 33"/>
          <p:cNvSpPr/>
          <p:nvPr/>
        </p:nvSpPr>
        <p:spPr>
          <a:xfrm>
            <a:off x="8528040" y="2378160"/>
            <a:ext cx="1488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Times New Roman"/>
              </a:rPr>
              <a:t>Great Planner For You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885" name="Group 656" descr=""/>
          <p:cNvPicPr/>
          <p:nvPr/>
        </p:nvPicPr>
        <p:blipFill>
          <a:blip r:embed="rId3"/>
          <a:stretch/>
        </p:blipFill>
        <p:spPr>
          <a:xfrm>
            <a:off x="9088560" y="2011320"/>
            <a:ext cx="33012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TextBox 1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133" name="TextBox 2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34" name="Straight Connector 3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135" name="TextBox 4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grpSp>
        <p:nvGrpSpPr>
          <p:cNvPr id="1136" name="Group 5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137" name="TextBox 6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138" name="TextBox 7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139" name="TextBox 8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140" name="TextBox 9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141" name="Straight Connector 10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142" name="TextBox 11" descr=""/>
          <p:cNvPicPr/>
          <p:nvPr/>
        </p:nvPicPr>
        <p:blipFill>
          <a:blip r:embed="rId3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sp>
        <p:nvSpPr>
          <p:cNvPr id="1143" name="TextBox 12"/>
          <p:cNvSpPr/>
          <p:nvPr/>
        </p:nvSpPr>
        <p:spPr>
          <a:xfrm>
            <a:off x="3505320" y="1182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PRICING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TABLES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44" name="TextBox 13"/>
          <p:cNvSpPr/>
          <p:nvPr/>
        </p:nvSpPr>
        <p:spPr>
          <a:xfrm>
            <a:off x="4976280" y="9716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45" name="Straight Connector 14"/>
          <p:cNvSpPr/>
          <p:nvPr/>
        </p:nvSpPr>
        <p:spPr>
          <a:xfrm>
            <a:off x="5813280" y="180036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46" name="Google Shape;339;p17"/>
          <p:cNvSpPr/>
          <p:nvPr/>
        </p:nvSpPr>
        <p:spPr>
          <a:xfrm>
            <a:off x="1895400" y="2298600"/>
            <a:ext cx="2658960" cy="36306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47" name="Google Shape;371;p17"/>
          <p:cNvSpPr/>
          <p:nvPr/>
        </p:nvSpPr>
        <p:spPr>
          <a:xfrm>
            <a:off x="1895400" y="2298600"/>
            <a:ext cx="2658960" cy="646200"/>
          </a:xfrm>
          <a:prstGeom prst="rect">
            <a:avLst/>
          </a:prstGeom>
          <a:solidFill>
            <a:srgbClr val="0d1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48" name="Google Shape;372;p17"/>
          <p:cNvSpPr/>
          <p:nvPr/>
        </p:nvSpPr>
        <p:spPr>
          <a:xfrm>
            <a:off x="2108160" y="2436840"/>
            <a:ext cx="2236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ff"/>
                </a:solidFill>
                <a:latin typeface="Roboto"/>
                <a:ea typeface="Raleway"/>
              </a:rPr>
              <a:t>Standart Product</a:t>
            </a:r>
            <a:endParaRPr b="0" lang="en-US" sz="20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49" name="Google Shape;352;p17"/>
          <p:cNvSpPr/>
          <p:nvPr/>
        </p:nvSpPr>
        <p:spPr>
          <a:xfrm>
            <a:off x="2093760" y="409248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eno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cxnSp>
        <p:nvCxnSpPr>
          <p:cNvPr id="1150" name="Google Shape;353;p17"/>
          <p:cNvCxnSpPr/>
          <p:nvPr/>
        </p:nvCxnSpPr>
        <p:spPr>
          <a:xfrm>
            <a:off x="2172960" y="4508280"/>
            <a:ext cx="2104200" cy="1080"/>
          </a:xfrm>
          <a:prstGeom prst="straightConnector1">
            <a:avLst/>
          </a:prstGeom>
          <a:ln w="28440">
            <a:solidFill>
              <a:srgbClr val="d8d8d8"/>
            </a:solidFill>
            <a:miter/>
          </a:ln>
        </p:spPr>
      </p:cxnSp>
      <p:sp>
        <p:nvSpPr>
          <p:cNvPr id="1151" name="Google Shape;352;p17"/>
          <p:cNvSpPr/>
          <p:nvPr/>
        </p:nvSpPr>
        <p:spPr>
          <a:xfrm>
            <a:off x="2093760" y="451008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eno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52" name="Google Shape;352;p17"/>
          <p:cNvSpPr/>
          <p:nvPr/>
        </p:nvSpPr>
        <p:spPr>
          <a:xfrm>
            <a:off x="2093760" y="371484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Detail Service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53" name="Rectangle 22"/>
          <p:cNvSpPr/>
          <p:nvPr/>
        </p:nvSpPr>
        <p:spPr>
          <a:xfrm>
            <a:off x="2190600" y="3121200"/>
            <a:ext cx="20703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ffffff"/>
                </a:solidFill>
                <a:latin typeface="Roboto"/>
                <a:ea typeface="Calibri"/>
              </a:rPr>
              <a:t>$ 39.00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cxnSp>
        <p:nvCxnSpPr>
          <p:cNvPr id="1154" name="Google Shape;353;p17"/>
          <p:cNvCxnSpPr/>
          <p:nvPr/>
        </p:nvCxnSpPr>
        <p:spPr>
          <a:xfrm>
            <a:off x="2172960" y="4905000"/>
            <a:ext cx="2104200" cy="1080"/>
          </a:xfrm>
          <a:prstGeom prst="straightConnector1">
            <a:avLst/>
          </a:prstGeom>
          <a:ln w="28440">
            <a:solidFill>
              <a:srgbClr val="d8d8d8"/>
            </a:solidFill>
            <a:miter/>
          </a:ln>
        </p:spPr>
      </p:cxnSp>
      <p:sp>
        <p:nvSpPr>
          <p:cNvPr id="1155" name="Google Shape;352;p17"/>
          <p:cNvSpPr/>
          <p:nvPr/>
        </p:nvSpPr>
        <p:spPr>
          <a:xfrm>
            <a:off x="2093760" y="484200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eno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56" name="Rectangle 25"/>
          <p:cNvSpPr/>
          <p:nvPr/>
        </p:nvSpPr>
        <p:spPr>
          <a:xfrm>
            <a:off x="2786040" y="5398920"/>
            <a:ext cx="87948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57" name="Google Shape;339;p17"/>
          <p:cNvSpPr/>
          <p:nvPr/>
        </p:nvSpPr>
        <p:spPr>
          <a:xfrm>
            <a:off x="7637400" y="2298600"/>
            <a:ext cx="2658960" cy="363060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58" name="Google Shape;371;p17"/>
          <p:cNvSpPr/>
          <p:nvPr/>
        </p:nvSpPr>
        <p:spPr>
          <a:xfrm>
            <a:off x="7637400" y="2298600"/>
            <a:ext cx="2658960" cy="646200"/>
          </a:xfrm>
          <a:prstGeom prst="rect">
            <a:avLst/>
          </a:prstGeom>
          <a:solidFill>
            <a:srgbClr val="102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59" name="Google Shape;372;p17"/>
          <p:cNvSpPr/>
          <p:nvPr/>
        </p:nvSpPr>
        <p:spPr>
          <a:xfrm>
            <a:off x="7862760" y="2430360"/>
            <a:ext cx="22082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ff"/>
                </a:solidFill>
                <a:latin typeface="Roboto"/>
                <a:ea typeface="Raleway"/>
              </a:rPr>
              <a:t>Medium Product</a:t>
            </a:r>
            <a:endParaRPr b="0" lang="en-US" sz="20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60" name="Google Shape;352;p17"/>
          <p:cNvSpPr/>
          <p:nvPr/>
        </p:nvSpPr>
        <p:spPr>
          <a:xfrm>
            <a:off x="7835760" y="409248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eno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cxnSp>
        <p:nvCxnSpPr>
          <p:cNvPr id="1161" name="Google Shape;353;p17"/>
          <p:cNvCxnSpPr/>
          <p:nvPr/>
        </p:nvCxnSpPr>
        <p:spPr>
          <a:xfrm>
            <a:off x="7914960" y="4508280"/>
            <a:ext cx="2104200" cy="1080"/>
          </a:xfrm>
          <a:prstGeom prst="straightConnector1">
            <a:avLst/>
          </a:prstGeom>
          <a:ln w="28440">
            <a:solidFill>
              <a:srgbClr val="d8d8d8"/>
            </a:solidFill>
            <a:miter/>
          </a:ln>
        </p:spPr>
      </p:cxnSp>
      <p:sp>
        <p:nvSpPr>
          <p:cNvPr id="1162" name="Google Shape;352;p17"/>
          <p:cNvSpPr/>
          <p:nvPr/>
        </p:nvSpPr>
        <p:spPr>
          <a:xfrm>
            <a:off x="7835760" y="451008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eno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63" name="Google Shape;352;p17"/>
          <p:cNvSpPr/>
          <p:nvPr/>
        </p:nvSpPr>
        <p:spPr>
          <a:xfrm>
            <a:off x="7835760" y="371484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Detail Service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64" name="Rectangle 33"/>
          <p:cNvSpPr/>
          <p:nvPr/>
        </p:nvSpPr>
        <p:spPr>
          <a:xfrm>
            <a:off x="7931160" y="3121200"/>
            <a:ext cx="20700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ffffff"/>
                </a:solidFill>
                <a:latin typeface="Roboto"/>
                <a:ea typeface="Calibri"/>
              </a:rPr>
              <a:t>$ 59.00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cxnSp>
        <p:nvCxnSpPr>
          <p:cNvPr id="1165" name="Google Shape;353;p17"/>
          <p:cNvCxnSpPr/>
          <p:nvPr/>
        </p:nvCxnSpPr>
        <p:spPr>
          <a:xfrm>
            <a:off x="7914960" y="4905000"/>
            <a:ext cx="2104200" cy="1080"/>
          </a:xfrm>
          <a:prstGeom prst="straightConnector1">
            <a:avLst/>
          </a:prstGeom>
          <a:ln w="28440">
            <a:solidFill>
              <a:srgbClr val="d8d8d8"/>
            </a:solidFill>
            <a:miter/>
          </a:ln>
        </p:spPr>
      </p:cxnSp>
      <p:sp>
        <p:nvSpPr>
          <p:cNvPr id="1166" name="Google Shape;352;p17"/>
          <p:cNvSpPr/>
          <p:nvPr/>
        </p:nvSpPr>
        <p:spPr>
          <a:xfrm>
            <a:off x="7835760" y="4842000"/>
            <a:ext cx="226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eno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67" name="Rectangle 36"/>
          <p:cNvSpPr/>
          <p:nvPr/>
        </p:nvSpPr>
        <p:spPr>
          <a:xfrm>
            <a:off x="8526600" y="5398920"/>
            <a:ext cx="879480" cy="2764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68" name="Google Shape;339;p17"/>
          <p:cNvSpPr/>
          <p:nvPr/>
        </p:nvSpPr>
        <p:spPr>
          <a:xfrm>
            <a:off x="4687920" y="2071800"/>
            <a:ext cx="2816280" cy="3843360"/>
          </a:xfrm>
          <a:prstGeom prst="rect">
            <a:avLst/>
          </a:prstGeom>
          <a:solidFill>
            <a:srgbClr val="345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69" name="Google Shape;371;p17"/>
          <p:cNvSpPr/>
          <p:nvPr/>
        </p:nvSpPr>
        <p:spPr>
          <a:xfrm>
            <a:off x="4687920" y="2071800"/>
            <a:ext cx="2816280" cy="684000"/>
          </a:xfrm>
          <a:prstGeom prst="rect">
            <a:avLst/>
          </a:prstGeom>
          <a:solidFill>
            <a:srgbClr val="274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70" name="Google Shape;372;p17"/>
          <p:cNvSpPr/>
          <p:nvPr/>
        </p:nvSpPr>
        <p:spPr>
          <a:xfrm>
            <a:off x="4943520" y="2217600"/>
            <a:ext cx="230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ff"/>
                </a:solidFill>
                <a:latin typeface="Roboto"/>
                <a:ea typeface="Raleway"/>
              </a:rPr>
              <a:t>Premium Product</a:t>
            </a:r>
            <a:endParaRPr b="0" lang="en-US" sz="20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71" name="Google Shape;352;p17"/>
          <p:cNvSpPr/>
          <p:nvPr/>
        </p:nvSpPr>
        <p:spPr>
          <a:xfrm>
            <a:off x="4898880" y="3978360"/>
            <a:ext cx="239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eno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cxnSp>
        <p:nvCxnSpPr>
          <p:cNvPr id="1172" name="Google Shape;353;p17"/>
          <p:cNvCxnSpPr/>
          <p:nvPr/>
        </p:nvCxnSpPr>
        <p:spPr>
          <a:xfrm>
            <a:off x="4982760" y="4419360"/>
            <a:ext cx="2226240" cy="1080"/>
          </a:xfrm>
          <a:prstGeom prst="straightConnector1">
            <a:avLst/>
          </a:prstGeom>
          <a:ln w="28440">
            <a:solidFill>
              <a:srgbClr val="d8d8d8"/>
            </a:solidFill>
            <a:miter/>
          </a:ln>
        </p:spPr>
      </p:cxnSp>
      <p:sp>
        <p:nvSpPr>
          <p:cNvPr id="1173" name="Google Shape;352;p17"/>
          <p:cNvSpPr/>
          <p:nvPr/>
        </p:nvSpPr>
        <p:spPr>
          <a:xfrm>
            <a:off x="4898880" y="4421160"/>
            <a:ext cx="239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eno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74" name="Google Shape;352;p17"/>
          <p:cNvSpPr/>
          <p:nvPr/>
        </p:nvSpPr>
        <p:spPr>
          <a:xfrm>
            <a:off x="4898880" y="3579840"/>
            <a:ext cx="239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Times New Roman"/>
              </a:rPr>
              <a:t>Detail Service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75" name="Rectangle 44"/>
          <p:cNvSpPr/>
          <p:nvPr/>
        </p:nvSpPr>
        <p:spPr>
          <a:xfrm>
            <a:off x="5000760" y="2946240"/>
            <a:ext cx="21906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ffffff"/>
                </a:solidFill>
                <a:latin typeface="Roboto"/>
                <a:ea typeface="Calibri"/>
              </a:rPr>
              <a:t>$ 99.00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cxnSp>
        <p:nvCxnSpPr>
          <p:cNvPr id="1176" name="Google Shape;353;p17"/>
          <p:cNvCxnSpPr/>
          <p:nvPr/>
        </p:nvCxnSpPr>
        <p:spPr>
          <a:xfrm>
            <a:off x="4982760" y="4839840"/>
            <a:ext cx="2226240" cy="1080"/>
          </a:xfrm>
          <a:prstGeom prst="straightConnector1">
            <a:avLst/>
          </a:prstGeom>
          <a:ln w="28440">
            <a:solidFill>
              <a:srgbClr val="d8d8d8"/>
            </a:solidFill>
            <a:miter/>
          </a:ln>
        </p:spPr>
      </p:cxnSp>
      <p:sp>
        <p:nvSpPr>
          <p:cNvPr id="1177" name="Google Shape;352;p17"/>
          <p:cNvSpPr/>
          <p:nvPr/>
        </p:nvSpPr>
        <p:spPr>
          <a:xfrm>
            <a:off x="4898880" y="4842000"/>
            <a:ext cx="2394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praesent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r>
              <a:rPr b="0" lang="en-US" sz="1200" spc="-1" strike="noStrike">
                <a:solidFill>
                  <a:srgbClr val="ffffff"/>
                </a:solidFill>
                <a:latin typeface="Roboto"/>
                <a:ea typeface="Times New Roman"/>
              </a:rPr>
              <a:t>eno</a:t>
            </a:r>
            <a:endParaRPr b="0" lang="en-US" sz="1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78" name="Rectangle 47"/>
          <p:cNvSpPr/>
          <p:nvPr/>
        </p:nvSpPr>
        <p:spPr>
          <a:xfrm>
            <a:off x="5630760" y="5367240"/>
            <a:ext cx="930240" cy="29376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"/>
              </a:rPr>
              <a:t>See More</a:t>
            </a:r>
            <a:endParaRPr b="0" lang="en-US" sz="10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6"/>
          <p:cNvSpPr/>
          <p:nvPr/>
        </p:nvSpPr>
        <p:spPr>
          <a:xfrm>
            <a:off x="1713960" y="1835280"/>
            <a:ext cx="17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Special Product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80" name="TextBox 7"/>
          <p:cNvSpPr/>
          <p:nvPr/>
        </p:nvSpPr>
        <p:spPr>
          <a:xfrm>
            <a:off x="1517760" y="2103480"/>
            <a:ext cx="2133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ium quam vulputate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81" name="TextBox 8"/>
          <p:cNvSpPr/>
          <p:nvPr/>
        </p:nvSpPr>
        <p:spPr>
          <a:xfrm>
            <a:off x="2291400" y="1292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44a"/>
                </a:solidFill>
                <a:latin typeface="Roboto"/>
                <a:ea typeface="Open Sans SemiBold"/>
              </a:rPr>
              <a:t>01</a:t>
            </a: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82" name="TextBox 9"/>
          <p:cNvSpPr/>
          <p:nvPr/>
        </p:nvSpPr>
        <p:spPr>
          <a:xfrm>
            <a:off x="8862840" y="1816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New Product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83" name="TextBox 10"/>
          <p:cNvSpPr/>
          <p:nvPr/>
        </p:nvSpPr>
        <p:spPr>
          <a:xfrm>
            <a:off x="8540640" y="2082960"/>
            <a:ext cx="2133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ium quam vulputate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84" name="TextBox 11"/>
          <p:cNvSpPr/>
          <p:nvPr/>
        </p:nvSpPr>
        <p:spPr>
          <a:xfrm>
            <a:off x="9314640" y="1292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44a"/>
                </a:solidFill>
                <a:latin typeface="Roboto"/>
                <a:ea typeface="Open Sans SemiBold"/>
              </a:rPr>
              <a:t>02</a:t>
            </a: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4834080" y="4764240"/>
            <a:ext cx="25239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a si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lig djdao olor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met.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tristique mag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a si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nlig djdao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86" name="Rectangle 36"/>
          <p:cNvSpPr/>
          <p:nvPr/>
        </p:nvSpPr>
        <p:spPr>
          <a:xfrm>
            <a:off x="4834080" y="4402080"/>
            <a:ext cx="25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Material Product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87" name="TextBox 14"/>
          <p:cNvSpPr/>
          <p:nvPr/>
        </p:nvSpPr>
        <p:spPr>
          <a:xfrm>
            <a:off x="5787720" y="3997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44a"/>
                </a:solidFill>
                <a:latin typeface="Roboto"/>
                <a:ea typeface="Open Sans SemiBold"/>
              </a:rPr>
              <a:t>03</a:t>
            </a: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3"/>
          <p:cNvSpPr/>
          <p:nvPr/>
        </p:nvSpPr>
        <p:spPr>
          <a:xfrm>
            <a:off x="7048440" y="2705040"/>
            <a:ext cx="3429000" cy="3324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89" name="TextBox 5"/>
          <p:cNvSpPr/>
          <p:nvPr/>
        </p:nvSpPr>
        <p:spPr>
          <a:xfrm>
            <a:off x="1639800" y="4329000"/>
            <a:ext cx="408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TALK ABOUT OUR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 PRODUCT HER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90" name="TextBox 6"/>
          <p:cNvSpPr/>
          <p:nvPr/>
        </p:nvSpPr>
        <p:spPr>
          <a:xfrm>
            <a:off x="1640880" y="41180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91" name="Straight Connector 7"/>
          <p:cNvSpPr/>
          <p:nvPr/>
        </p:nvSpPr>
        <p:spPr>
          <a:xfrm>
            <a:off x="1751040" y="548316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92" name="TextBox 8"/>
          <p:cNvSpPr/>
          <p:nvPr/>
        </p:nvSpPr>
        <p:spPr>
          <a:xfrm>
            <a:off x="7386120" y="342900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Product On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93" name="TextBox 9"/>
          <p:cNvSpPr/>
          <p:nvPr/>
        </p:nvSpPr>
        <p:spPr>
          <a:xfrm>
            <a:off x="7439040" y="3695760"/>
            <a:ext cx="26766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jkg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yyty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ii u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94" name="TextBox 17"/>
          <p:cNvSpPr/>
          <p:nvPr/>
        </p:nvSpPr>
        <p:spPr>
          <a:xfrm>
            <a:off x="7398360" y="491652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Product Two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95" name="TextBox 18"/>
          <p:cNvSpPr/>
          <p:nvPr/>
        </p:nvSpPr>
        <p:spPr>
          <a:xfrm>
            <a:off x="7439040" y="5183280"/>
            <a:ext cx="26766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jkg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yyty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ii u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96" name="Freeform 616"/>
          <p:cNvSpPr/>
          <p:nvPr/>
        </p:nvSpPr>
        <p:spPr>
          <a:xfrm>
            <a:off x="7550280" y="3075120"/>
            <a:ext cx="317520" cy="312480"/>
          </a:xfrm>
          <a:custGeom>
            <a:avLst/>
            <a:gdLst/>
            <a:ahLst/>
            <a:rect l="l" t="t" r="r" b="b"/>
            <a:pathLst>
              <a:path w="3370" h="3336">
                <a:moveTo>
                  <a:pt x="373" y="369"/>
                </a:moveTo>
                <a:lnTo>
                  <a:pt x="373" y="1668"/>
                </a:lnTo>
                <a:lnTo>
                  <a:pt x="1685" y="1668"/>
                </a:lnTo>
                <a:lnTo>
                  <a:pt x="1685" y="2966"/>
                </a:lnTo>
                <a:lnTo>
                  <a:pt x="2998" y="2966"/>
                </a:lnTo>
                <a:lnTo>
                  <a:pt x="2998" y="1668"/>
                </a:lnTo>
                <a:lnTo>
                  <a:pt x="1685" y="1668"/>
                </a:lnTo>
                <a:lnTo>
                  <a:pt x="1685" y="369"/>
                </a:lnTo>
                <a:lnTo>
                  <a:pt x="373" y="369"/>
                </a:lnTo>
                <a:close/>
                <a:moveTo>
                  <a:pt x="0" y="0"/>
                </a:moveTo>
                <a:lnTo>
                  <a:pt x="3370" y="0"/>
                </a:lnTo>
                <a:lnTo>
                  <a:pt x="3370" y="3336"/>
                </a:lnTo>
                <a:lnTo>
                  <a:pt x="0" y="3336"/>
                </a:lnTo>
                <a:lnTo>
                  <a:pt x="0" y="0"/>
                </a:lnTo>
                <a:close/>
              </a:path>
            </a:pathLst>
          </a:cu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197" name="Freeform 564"/>
          <p:cNvSpPr/>
          <p:nvPr/>
        </p:nvSpPr>
        <p:spPr>
          <a:xfrm>
            <a:off x="7550280" y="4572000"/>
            <a:ext cx="317520" cy="324000"/>
          </a:xfrm>
          <a:custGeom>
            <a:avLst/>
            <a:gdLst/>
            <a:ahLst/>
            <a:rect l="l" t="t" r="r" b="b"/>
            <a:pathLst>
              <a:path w="3254" h="3335">
                <a:moveTo>
                  <a:pt x="919" y="2012"/>
                </a:moveTo>
                <a:lnTo>
                  <a:pt x="857" y="2077"/>
                </a:lnTo>
                <a:lnTo>
                  <a:pt x="831" y="2107"/>
                </a:lnTo>
                <a:lnTo>
                  <a:pt x="809" y="2141"/>
                </a:lnTo>
                <a:lnTo>
                  <a:pt x="794" y="2176"/>
                </a:lnTo>
                <a:lnTo>
                  <a:pt x="783" y="2213"/>
                </a:lnTo>
                <a:lnTo>
                  <a:pt x="778" y="2251"/>
                </a:lnTo>
                <a:lnTo>
                  <a:pt x="778" y="2289"/>
                </a:lnTo>
                <a:lnTo>
                  <a:pt x="783" y="2328"/>
                </a:lnTo>
                <a:lnTo>
                  <a:pt x="794" y="2365"/>
                </a:lnTo>
                <a:lnTo>
                  <a:pt x="809" y="2400"/>
                </a:lnTo>
                <a:lnTo>
                  <a:pt x="831" y="2433"/>
                </a:lnTo>
                <a:lnTo>
                  <a:pt x="857" y="2464"/>
                </a:lnTo>
                <a:lnTo>
                  <a:pt x="887" y="2490"/>
                </a:lnTo>
                <a:lnTo>
                  <a:pt x="920" y="2512"/>
                </a:lnTo>
                <a:lnTo>
                  <a:pt x="956" y="2527"/>
                </a:lnTo>
                <a:lnTo>
                  <a:pt x="993" y="2538"/>
                </a:lnTo>
                <a:lnTo>
                  <a:pt x="1029" y="2543"/>
                </a:lnTo>
                <a:lnTo>
                  <a:pt x="1068" y="2543"/>
                </a:lnTo>
                <a:lnTo>
                  <a:pt x="1105" y="2538"/>
                </a:lnTo>
                <a:lnTo>
                  <a:pt x="1142" y="2528"/>
                </a:lnTo>
                <a:lnTo>
                  <a:pt x="1177" y="2512"/>
                </a:lnTo>
                <a:lnTo>
                  <a:pt x="1210" y="2491"/>
                </a:lnTo>
                <a:lnTo>
                  <a:pt x="1240" y="2464"/>
                </a:lnTo>
                <a:lnTo>
                  <a:pt x="1303" y="2402"/>
                </a:lnTo>
                <a:lnTo>
                  <a:pt x="919" y="2012"/>
                </a:lnTo>
                <a:close/>
                <a:moveTo>
                  <a:pt x="2334" y="2012"/>
                </a:moveTo>
                <a:lnTo>
                  <a:pt x="1951" y="2402"/>
                </a:lnTo>
                <a:lnTo>
                  <a:pt x="2013" y="2464"/>
                </a:lnTo>
                <a:lnTo>
                  <a:pt x="2043" y="2491"/>
                </a:lnTo>
                <a:lnTo>
                  <a:pt x="2076" y="2512"/>
                </a:lnTo>
                <a:lnTo>
                  <a:pt x="2111" y="2528"/>
                </a:lnTo>
                <a:lnTo>
                  <a:pt x="2148" y="2538"/>
                </a:lnTo>
                <a:lnTo>
                  <a:pt x="2185" y="2543"/>
                </a:lnTo>
                <a:lnTo>
                  <a:pt x="2223" y="2543"/>
                </a:lnTo>
                <a:lnTo>
                  <a:pt x="2261" y="2538"/>
                </a:lnTo>
                <a:lnTo>
                  <a:pt x="2298" y="2527"/>
                </a:lnTo>
                <a:lnTo>
                  <a:pt x="2333" y="2512"/>
                </a:lnTo>
                <a:lnTo>
                  <a:pt x="2367" y="2490"/>
                </a:lnTo>
                <a:lnTo>
                  <a:pt x="2397" y="2464"/>
                </a:lnTo>
                <a:lnTo>
                  <a:pt x="2423" y="2433"/>
                </a:lnTo>
                <a:lnTo>
                  <a:pt x="2443" y="2400"/>
                </a:lnTo>
                <a:lnTo>
                  <a:pt x="2459" y="2364"/>
                </a:lnTo>
                <a:lnTo>
                  <a:pt x="2470" y="2326"/>
                </a:lnTo>
                <a:lnTo>
                  <a:pt x="2476" y="2289"/>
                </a:lnTo>
                <a:lnTo>
                  <a:pt x="2476" y="2251"/>
                </a:lnTo>
                <a:lnTo>
                  <a:pt x="2470" y="2213"/>
                </a:lnTo>
                <a:lnTo>
                  <a:pt x="2459" y="2176"/>
                </a:lnTo>
                <a:lnTo>
                  <a:pt x="2443" y="2141"/>
                </a:lnTo>
                <a:lnTo>
                  <a:pt x="2423" y="2107"/>
                </a:lnTo>
                <a:lnTo>
                  <a:pt x="2397" y="2077"/>
                </a:lnTo>
                <a:lnTo>
                  <a:pt x="2334" y="2012"/>
                </a:lnTo>
                <a:close/>
                <a:moveTo>
                  <a:pt x="1622" y="1303"/>
                </a:moveTo>
                <a:lnTo>
                  <a:pt x="1243" y="1682"/>
                </a:lnTo>
                <a:lnTo>
                  <a:pt x="1626" y="2070"/>
                </a:lnTo>
                <a:lnTo>
                  <a:pt x="2009" y="1682"/>
                </a:lnTo>
                <a:lnTo>
                  <a:pt x="1631" y="1303"/>
                </a:lnTo>
                <a:lnTo>
                  <a:pt x="1631" y="1307"/>
                </a:lnTo>
                <a:lnTo>
                  <a:pt x="1626" y="1303"/>
                </a:lnTo>
                <a:lnTo>
                  <a:pt x="1622" y="1307"/>
                </a:lnTo>
                <a:lnTo>
                  <a:pt x="1622" y="1303"/>
                </a:lnTo>
                <a:close/>
                <a:moveTo>
                  <a:pt x="2223" y="822"/>
                </a:moveTo>
                <a:lnTo>
                  <a:pt x="2185" y="822"/>
                </a:lnTo>
                <a:lnTo>
                  <a:pt x="2148" y="827"/>
                </a:lnTo>
                <a:lnTo>
                  <a:pt x="2111" y="837"/>
                </a:lnTo>
                <a:lnTo>
                  <a:pt x="2076" y="853"/>
                </a:lnTo>
                <a:lnTo>
                  <a:pt x="2043" y="874"/>
                </a:lnTo>
                <a:lnTo>
                  <a:pt x="2013" y="901"/>
                </a:lnTo>
                <a:lnTo>
                  <a:pt x="1947" y="964"/>
                </a:lnTo>
                <a:lnTo>
                  <a:pt x="2334" y="1352"/>
                </a:lnTo>
                <a:lnTo>
                  <a:pt x="2397" y="1288"/>
                </a:lnTo>
                <a:lnTo>
                  <a:pt x="2423" y="1258"/>
                </a:lnTo>
                <a:lnTo>
                  <a:pt x="2443" y="1225"/>
                </a:lnTo>
                <a:lnTo>
                  <a:pt x="2459" y="1189"/>
                </a:lnTo>
                <a:lnTo>
                  <a:pt x="2469" y="1152"/>
                </a:lnTo>
                <a:lnTo>
                  <a:pt x="2475" y="1114"/>
                </a:lnTo>
                <a:lnTo>
                  <a:pt x="2475" y="1076"/>
                </a:lnTo>
                <a:lnTo>
                  <a:pt x="2469" y="1038"/>
                </a:lnTo>
                <a:lnTo>
                  <a:pt x="2459" y="1001"/>
                </a:lnTo>
                <a:lnTo>
                  <a:pt x="2443" y="966"/>
                </a:lnTo>
                <a:lnTo>
                  <a:pt x="2423" y="932"/>
                </a:lnTo>
                <a:lnTo>
                  <a:pt x="2396" y="901"/>
                </a:lnTo>
                <a:lnTo>
                  <a:pt x="2366" y="874"/>
                </a:lnTo>
                <a:lnTo>
                  <a:pt x="2332" y="853"/>
                </a:lnTo>
                <a:lnTo>
                  <a:pt x="2298" y="837"/>
                </a:lnTo>
                <a:lnTo>
                  <a:pt x="2261" y="827"/>
                </a:lnTo>
                <a:lnTo>
                  <a:pt x="2223" y="822"/>
                </a:lnTo>
                <a:close/>
                <a:moveTo>
                  <a:pt x="1068" y="822"/>
                </a:moveTo>
                <a:lnTo>
                  <a:pt x="1031" y="822"/>
                </a:lnTo>
                <a:lnTo>
                  <a:pt x="993" y="827"/>
                </a:lnTo>
                <a:lnTo>
                  <a:pt x="956" y="837"/>
                </a:lnTo>
                <a:lnTo>
                  <a:pt x="920" y="853"/>
                </a:lnTo>
                <a:lnTo>
                  <a:pt x="888" y="874"/>
                </a:lnTo>
                <a:lnTo>
                  <a:pt x="858" y="901"/>
                </a:lnTo>
                <a:lnTo>
                  <a:pt x="831" y="932"/>
                </a:lnTo>
                <a:lnTo>
                  <a:pt x="810" y="966"/>
                </a:lnTo>
                <a:lnTo>
                  <a:pt x="794" y="1001"/>
                </a:lnTo>
                <a:lnTo>
                  <a:pt x="783" y="1038"/>
                </a:lnTo>
                <a:lnTo>
                  <a:pt x="778" y="1076"/>
                </a:lnTo>
                <a:lnTo>
                  <a:pt x="778" y="1114"/>
                </a:lnTo>
                <a:lnTo>
                  <a:pt x="783" y="1152"/>
                </a:lnTo>
                <a:lnTo>
                  <a:pt x="794" y="1189"/>
                </a:lnTo>
                <a:lnTo>
                  <a:pt x="809" y="1225"/>
                </a:lnTo>
                <a:lnTo>
                  <a:pt x="831" y="1258"/>
                </a:lnTo>
                <a:lnTo>
                  <a:pt x="857" y="1288"/>
                </a:lnTo>
                <a:lnTo>
                  <a:pt x="918" y="1352"/>
                </a:lnTo>
                <a:lnTo>
                  <a:pt x="1306" y="964"/>
                </a:lnTo>
                <a:lnTo>
                  <a:pt x="1240" y="901"/>
                </a:lnTo>
                <a:lnTo>
                  <a:pt x="1210" y="874"/>
                </a:lnTo>
                <a:lnTo>
                  <a:pt x="1177" y="853"/>
                </a:lnTo>
                <a:lnTo>
                  <a:pt x="1142" y="837"/>
                </a:lnTo>
                <a:lnTo>
                  <a:pt x="1105" y="827"/>
                </a:lnTo>
                <a:lnTo>
                  <a:pt x="1068" y="822"/>
                </a:lnTo>
                <a:close/>
                <a:moveTo>
                  <a:pt x="446" y="0"/>
                </a:moveTo>
                <a:lnTo>
                  <a:pt x="500" y="3"/>
                </a:lnTo>
                <a:lnTo>
                  <a:pt x="552" y="13"/>
                </a:lnTo>
                <a:lnTo>
                  <a:pt x="602" y="28"/>
                </a:lnTo>
                <a:lnTo>
                  <a:pt x="649" y="50"/>
                </a:lnTo>
                <a:lnTo>
                  <a:pt x="693" y="76"/>
                </a:lnTo>
                <a:lnTo>
                  <a:pt x="733" y="108"/>
                </a:lnTo>
                <a:lnTo>
                  <a:pt x="769" y="143"/>
                </a:lnTo>
                <a:lnTo>
                  <a:pt x="802" y="183"/>
                </a:lnTo>
                <a:lnTo>
                  <a:pt x="830" y="227"/>
                </a:lnTo>
                <a:lnTo>
                  <a:pt x="853" y="272"/>
                </a:lnTo>
                <a:lnTo>
                  <a:pt x="870" y="322"/>
                </a:lnTo>
                <a:lnTo>
                  <a:pt x="882" y="374"/>
                </a:lnTo>
                <a:lnTo>
                  <a:pt x="941" y="363"/>
                </a:lnTo>
                <a:lnTo>
                  <a:pt x="1001" y="356"/>
                </a:lnTo>
                <a:lnTo>
                  <a:pt x="1063" y="355"/>
                </a:lnTo>
                <a:lnTo>
                  <a:pt x="1123" y="358"/>
                </a:lnTo>
                <a:lnTo>
                  <a:pt x="1184" y="367"/>
                </a:lnTo>
                <a:lnTo>
                  <a:pt x="1243" y="381"/>
                </a:lnTo>
                <a:lnTo>
                  <a:pt x="1303" y="400"/>
                </a:lnTo>
                <a:lnTo>
                  <a:pt x="1359" y="424"/>
                </a:lnTo>
                <a:lnTo>
                  <a:pt x="1415" y="453"/>
                </a:lnTo>
                <a:lnTo>
                  <a:pt x="1468" y="488"/>
                </a:lnTo>
                <a:lnTo>
                  <a:pt x="1518" y="527"/>
                </a:lnTo>
                <a:lnTo>
                  <a:pt x="1566" y="571"/>
                </a:lnTo>
                <a:lnTo>
                  <a:pt x="1626" y="629"/>
                </a:lnTo>
                <a:lnTo>
                  <a:pt x="1687" y="571"/>
                </a:lnTo>
                <a:lnTo>
                  <a:pt x="1735" y="527"/>
                </a:lnTo>
                <a:lnTo>
                  <a:pt x="1786" y="488"/>
                </a:lnTo>
                <a:lnTo>
                  <a:pt x="1839" y="453"/>
                </a:lnTo>
                <a:lnTo>
                  <a:pt x="1894" y="424"/>
                </a:lnTo>
                <a:lnTo>
                  <a:pt x="1951" y="400"/>
                </a:lnTo>
                <a:lnTo>
                  <a:pt x="2009" y="381"/>
                </a:lnTo>
                <a:lnTo>
                  <a:pt x="2070" y="367"/>
                </a:lnTo>
                <a:lnTo>
                  <a:pt x="2130" y="358"/>
                </a:lnTo>
                <a:lnTo>
                  <a:pt x="2191" y="355"/>
                </a:lnTo>
                <a:lnTo>
                  <a:pt x="2251" y="356"/>
                </a:lnTo>
                <a:lnTo>
                  <a:pt x="2312" y="363"/>
                </a:lnTo>
                <a:lnTo>
                  <a:pt x="2372" y="374"/>
                </a:lnTo>
                <a:lnTo>
                  <a:pt x="2383" y="322"/>
                </a:lnTo>
                <a:lnTo>
                  <a:pt x="2401" y="273"/>
                </a:lnTo>
                <a:lnTo>
                  <a:pt x="2424" y="227"/>
                </a:lnTo>
                <a:lnTo>
                  <a:pt x="2451" y="183"/>
                </a:lnTo>
                <a:lnTo>
                  <a:pt x="2483" y="144"/>
                </a:lnTo>
                <a:lnTo>
                  <a:pt x="2520" y="108"/>
                </a:lnTo>
                <a:lnTo>
                  <a:pt x="2561" y="76"/>
                </a:lnTo>
                <a:lnTo>
                  <a:pt x="2605" y="50"/>
                </a:lnTo>
                <a:lnTo>
                  <a:pt x="2652" y="28"/>
                </a:lnTo>
                <a:lnTo>
                  <a:pt x="2701" y="13"/>
                </a:lnTo>
                <a:lnTo>
                  <a:pt x="2754" y="3"/>
                </a:lnTo>
                <a:lnTo>
                  <a:pt x="2808" y="0"/>
                </a:lnTo>
                <a:lnTo>
                  <a:pt x="2859" y="3"/>
                </a:lnTo>
                <a:lnTo>
                  <a:pt x="2909" y="12"/>
                </a:lnTo>
                <a:lnTo>
                  <a:pt x="2957" y="26"/>
                </a:lnTo>
                <a:lnTo>
                  <a:pt x="3002" y="46"/>
                </a:lnTo>
                <a:lnTo>
                  <a:pt x="3044" y="70"/>
                </a:lnTo>
                <a:lnTo>
                  <a:pt x="3084" y="98"/>
                </a:lnTo>
                <a:lnTo>
                  <a:pt x="3120" y="131"/>
                </a:lnTo>
                <a:lnTo>
                  <a:pt x="3152" y="168"/>
                </a:lnTo>
                <a:lnTo>
                  <a:pt x="3180" y="207"/>
                </a:lnTo>
                <a:lnTo>
                  <a:pt x="3204" y="251"/>
                </a:lnTo>
                <a:lnTo>
                  <a:pt x="3224" y="296"/>
                </a:lnTo>
                <a:lnTo>
                  <a:pt x="3238" y="344"/>
                </a:lnTo>
                <a:lnTo>
                  <a:pt x="3246" y="394"/>
                </a:lnTo>
                <a:lnTo>
                  <a:pt x="3249" y="447"/>
                </a:lnTo>
                <a:lnTo>
                  <a:pt x="3246" y="499"/>
                </a:lnTo>
                <a:lnTo>
                  <a:pt x="3238" y="549"/>
                </a:lnTo>
                <a:lnTo>
                  <a:pt x="3224" y="598"/>
                </a:lnTo>
                <a:lnTo>
                  <a:pt x="3204" y="644"/>
                </a:lnTo>
                <a:lnTo>
                  <a:pt x="3180" y="688"/>
                </a:lnTo>
                <a:lnTo>
                  <a:pt x="3151" y="727"/>
                </a:lnTo>
                <a:lnTo>
                  <a:pt x="3119" y="764"/>
                </a:lnTo>
                <a:lnTo>
                  <a:pt x="3082" y="797"/>
                </a:lnTo>
                <a:lnTo>
                  <a:pt x="3042" y="825"/>
                </a:lnTo>
                <a:lnTo>
                  <a:pt x="2999" y="849"/>
                </a:lnTo>
                <a:lnTo>
                  <a:pt x="2954" y="869"/>
                </a:lnTo>
                <a:lnTo>
                  <a:pt x="2905" y="882"/>
                </a:lnTo>
                <a:lnTo>
                  <a:pt x="2920" y="941"/>
                </a:lnTo>
                <a:lnTo>
                  <a:pt x="2930" y="1001"/>
                </a:lnTo>
                <a:lnTo>
                  <a:pt x="2935" y="1061"/>
                </a:lnTo>
                <a:lnTo>
                  <a:pt x="2935" y="1121"/>
                </a:lnTo>
                <a:lnTo>
                  <a:pt x="2931" y="1182"/>
                </a:lnTo>
                <a:lnTo>
                  <a:pt x="2922" y="1241"/>
                </a:lnTo>
                <a:lnTo>
                  <a:pt x="2908" y="1299"/>
                </a:lnTo>
                <a:lnTo>
                  <a:pt x="2889" y="1357"/>
                </a:lnTo>
                <a:lnTo>
                  <a:pt x="2865" y="1414"/>
                </a:lnTo>
                <a:lnTo>
                  <a:pt x="2837" y="1468"/>
                </a:lnTo>
                <a:lnTo>
                  <a:pt x="2804" y="1521"/>
                </a:lnTo>
                <a:lnTo>
                  <a:pt x="2765" y="1571"/>
                </a:lnTo>
                <a:lnTo>
                  <a:pt x="2723" y="1619"/>
                </a:lnTo>
                <a:lnTo>
                  <a:pt x="2659" y="1682"/>
                </a:lnTo>
                <a:lnTo>
                  <a:pt x="2723" y="1746"/>
                </a:lnTo>
                <a:lnTo>
                  <a:pt x="2767" y="1797"/>
                </a:lnTo>
                <a:lnTo>
                  <a:pt x="2806" y="1849"/>
                </a:lnTo>
                <a:lnTo>
                  <a:pt x="2840" y="1903"/>
                </a:lnTo>
                <a:lnTo>
                  <a:pt x="2870" y="1961"/>
                </a:lnTo>
                <a:lnTo>
                  <a:pt x="2893" y="2020"/>
                </a:lnTo>
                <a:lnTo>
                  <a:pt x="2912" y="2080"/>
                </a:lnTo>
                <a:lnTo>
                  <a:pt x="2926" y="2142"/>
                </a:lnTo>
                <a:lnTo>
                  <a:pt x="2933" y="2204"/>
                </a:lnTo>
                <a:lnTo>
                  <a:pt x="2936" y="2266"/>
                </a:lnTo>
                <a:lnTo>
                  <a:pt x="2934" y="2330"/>
                </a:lnTo>
                <a:lnTo>
                  <a:pt x="2927" y="2392"/>
                </a:lnTo>
                <a:lnTo>
                  <a:pt x="2914" y="2453"/>
                </a:lnTo>
                <a:lnTo>
                  <a:pt x="2961" y="2467"/>
                </a:lnTo>
                <a:lnTo>
                  <a:pt x="3007" y="2487"/>
                </a:lnTo>
                <a:lnTo>
                  <a:pt x="3049" y="2512"/>
                </a:lnTo>
                <a:lnTo>
                  <a:pt x="3089" y="2540"/>
                </a:lnTo>
                <a:lnTo>
                  <a:pt x="3124" y="2573"/>
                </a:lnTo>
                <a:lnTo>
                  <a:pt x="3157" y="2609"/>
                </a:lnTo>
                <a:lnTo>
                  <a:pt x="3185" y="2649"/>
                </a:lnTo>
                <a:lnTo>
                  <a:pt x="3208" y="2692"/>
                </a:lnTo>
                <a:lnTo>
                  <a:pt x="3228" y="2737"/>
                </a:lnTo>
                <a:lnTo>
                  <a:pt x="3242" y="2787"/>
                </a:lnTo>
                <a:lnTo>
                  <a:pt x="3251" y="2837"/>
                </a:lnTo>
                <a:lnTo>
                  <a:pt x="3254" y="2888"/>
                </a:lnTo>
                <a:lnTo>
                  <a:pt x="3251" y="2940"/>
                </a:lnTo>
                <a:lnTo>
                  <a:pt x="3242" y="2990"/>
                </a:lnTo>
                <a:lnTo>
                  <a:pt x="3228" y="3038"/>
                </a:lnTo>
                <a:lnTo>
                  <a:pt x="3208" y="3084"/>
                </a:lnTo>
                <a:lnTo>
                  <a:pt x="3185" y="3128"/>
                </a:lnTo>
                <a:lnTo>
                  <a:pt x="3157" y="3167"/>
                </a:lnTo>
                <a:lnTo>
                  <a:pt x="3124" y="3204"/>
                </a:lnTo>
                <a:lnTo>
                  <a:pt x="3088" y="3237"/>
                </a:lnTo>
                <a:lnTo>
                  <a:pt x="3049" y="3265"/>
                </a:lnTo>
                <a:lnTo>
                  <a:pt x="3006" y="3289"/>
                </a:lnTo>
                <a:lnTo>
                  <a:pt x="2960" y="3309"/>
                </a:lnTo>
                <a:lnTo>
                  <a:pt x="2913" y="3323"/>
                </a:lnTo>
                <a:lnTo>
                  <a:pt x="2863" y="3332"/>
                </a:lnTo>
                <a:lnTo>
                  <a:pt x="2812" y="3335"/>
                </a:lnTo>
                <a:lnTo>
                  <a:pt x="2761" y="3332"/>
                </a:lnTo>
                <a:lnTo>
                  <a:pt x="2710" y="3323"/>
                </a:lnTo>
                <a:lnTo>
                  <a:pt x="2662" y="3309"/>
                </a:lnTo>
                <a:lnTo>
                  <a:pt x="2617" y="3289"/>
                </a:lnTo>
                <a:lnTo>
                  <a:pt x="2575" y="3264"/>
                </a:lnTo>
                <a:lnTo>
                  <a:pt x="2535" y="3236"/>
                </a:lnTo>
                <a:lnTo>
                  <a:pt x="2498" y="3203"/>
                </a:lnTo>
                <a:lnTo>
                  <a:pt x="2466" y="3166"/>
                </a:lnTo>
                <a:lnTo>
                  <a:pt x="2438" y="3126"/>
                </a:lnTo>
                <a:lnTo>
                  <a:pt x="2414" y="3083"/>
                </a:lnTo>
                <a:lnTo>
                  <a:pt x="2395" y="3037"/>
                </a:lnTo>
                <a:lnTo>
                  <a:pt x="2381" y="2988"/>
                </a:lnTo>
                <a:lnTo>
                  <a:pt x="2320" y="3001"/>
                </a:lnTo>
                <a:lnTo>
                  <a:pt x="2260" y="3008"/>
                </a:lnTo>
                <a:lnTo>
                  <a:pt x="2197" y="3010"/>
                </a:lnTo>
                <a:lnTo>
                  <a:pt x="2136" y="3007"/>
                </a:lnTo>
                <a:lnTo>
                  <a:pt x="2075" y="2999"/>
                </a:lnTo>
                <a:lnTo>
                  <a:pt x="2015" y="2985"/>
                </a:lnTo>
                <a:lnTo>
                  <a:pt x="1955" y="2966"/>
                </a:lnTo>
                <a:lnTo>
                  <a:pt x="1897" y="2942"/>
                </a:lnTo>
                <a:lnTo>
                  <a:pt x="1841" y="2913"/>
                </a:lnTo>
                <a:lnTo>
                  <a:pt x="1787" y="2878"/>
                </a:lnTo>
                <a:lnTo>
                  <a:pt x="1735" y="2839"/>
                </a:lnTo>
                <a:lnTo>
                  <a:pt x="1687" y="2794"/>
                </a:lnTo>
                <a:lnTo>
                  <a:pt x="1626" y="2732"/>
                </a:lnTo>
                <a:lnTo>
                  <a:pt x="1567" y="2794"/>
                </a:lnTo>
                <a:lnTo>
                  <a:pt x="1518" y="2839"/>
                </a:lnTo>
                <a:lnTo>
                  <a:pt x="1467" y="2878"/>
                </a:lnTo>
                <a:lnTo>
                  <a:pt x="1413" y="2913"/>
                </a:lnTo>
                <a:lnTo>
                  <a:pt x="1356" y="2942"/>
                </a:lnTo>
                <a:lnTo>
                  <a:pt x="1298" y="2966"/>
                </a:lnTo>
                <a:lnTo>
                  <a:pt x="1239" y="2985"/>
                </a:lnTo>
                <a:lnTo>
                  <a:pt x="1178" y="2998"/>
                </a:lnTo>
                <a:lnTo>
                  <a:pt x="1118" y="3007"/>
                </a:lnTo>
                <a:lnTo>
                  <a:pt x="1056" y="3010"/>
                </a:lnTo>
                <a:lnTo>
                  <a:pt x="994" y="3008"/>
                </a:lnTo>
                <a:lnTo>
                  <a:pt x="933" y="3001"/>
                </a:lnTo>
                <a:lnTo>
                  <a:pt x="872" y="2988"/>
                </a:lnTo>
                <a:lnTo>
                  <a:pt x="859" y="3037"/>
                </a:lnTo>
                <a:lnTo>
                  <a:pt x="840" y="3083"/>
                </a:lnTo>
                <a:lnTo>
                  <a:pt x="816" y="3126"/>
                </a:lnTo>
                <a:lnTo>
                  <a:pt x="788" y="3166"/>
                </a:lnTo>
                <a:lnTo>
                  <a:pt x="755" y="3203"/>
                </a:lnTo>
                <a:lnTo>
                  <a:pt x="719" y="3236"/>
                </a:lnTo>
                <a:lnTo>
                  <a:pt x="679" y="3264"/>
                </a:lnTo>
                <a:lnTo>
                  <a:pt x="637" y="3289"/>
                </a:lnTo>
                <a:lnTo>
                  <a:pt x="591" y="3309"/>
                </a:lnTo>
                <a:lnTo>
                  <a:pt x="544" y="3323"/>
                </a:lnTo>
                <a:lnTo>
                  <a:pt x="493" y="3332"/>
                </a:lnTo>
                <a:lnTo>
                  <a:pt x="441" y="3335"/>
                </a:lnTo>
                <a:lnTo>
                  <a:pt x="391" y="3332"/>
                </a:lnTo>
                <a:lnTo>
                  <a:pt x="341" y="3323"/>
                </a:lnTo>
                <a:lnTo>
                  <a:pt x="292" y="3309"/>
                </a:lnTo>
                <a:lnTo>
                  <a:pt x="248" y="3289"/>
                </a:lnTo>
                <a:lnTo>
                  <a:pt x="205" y="3265"/>
                </a:lnTo>
                <a:lnTo>
                  <a:pt x="166" y="3237"/>
                </a:lnTo>
                <a:lnTo>
                  <a:pt x="129" y="3204"/>
                </a:lnTo>
                <a:lnTo>
                  <a:pt x="97" y="3167"/>
                </a:lnTo>
                <a:lnTo>
                  <a:pt x="69" y="3128"/>
                </a:lnTo>
                <a:lnTo>
                  <a:pt x="45" y="3084"/>
                </a:lnTo>
                <a:lnTo>
                  <a:pt x="26" y="3038"/>
                </a:lnTo>
                <a:lnTo>
                  <a:pt x="12" y="2990"/>
                </a:lnTo>
                <a:lnTo>
                  <a:pt x="3" y="2940"/>
                </a:lnTo>
                <a:lnTo>
                  <a:pt x="0" y="2888"/>
                </a:lnTo>
                <a:lnTo>
                  <a:pt x="3" y="2836"/>
                </a:lnTo>
                <a:lnTo>
                  <a:pt x="12" y="2785"/>
                </a:lnTo>
                <a:lnTo>
                  <a:pt x="26" y="2737"/>
                </a:lnTo>
                <a:lnTo>
                  <a:pt x="45" y="2692"/>
                </a:lnTo>
                <a:lnTo>
                  <a:pt x="69" y="2649"/>
                </a:lnTo>
                <a:lnTo>
                  <a:pt x="97" y="2609"/>
                </a:lnTo>
                <a:lnTo>
                  <a:pt x="129" y="2573"/>
                </a:lnTo>
                <a:lnTo>
                  <a:pt x="165" y="2540"/>
                </a:lnTo>
                <a:lnTo>
                  <a:pt x="205" y="2511"/>
                </a:lnTo>
                <a:lnTo>
                  <a:pt x="247" y="2487"/>
                </a:lnTo>
                <a:lnTo>
                  <a:pt x="292" y="2467"/>
                </a:lnTo>
                <a:lnTo>
                  <a:pt x="340" y="2453"/>
                </a:lnTo>
                <a:lnTo>
                  <a:pt x="327" y="2392"/>
                </a:lnTo>
                <a:lnTo>
                  <a:pt x="319" y="2330"/>
                </a:lnTo>
                <a:lnTo>
                  <a:pt x="317" y="2266"/>
                </a:lnTo>
                <a:lnTo>
                  <a:pt x="319" y="2204"/>
                </a:lnTo>
                <a:lnTo>
                  <a:pt x="328" y="2142"/>
                </a:lnTo>
                <a:lnTo>
                  <a:pt x="341" y="2080"/>
                </a:lnTo>
                <a:lnTo>
                  <a:pt x="359" y="2020"/>
                </a:lnTo>
                <a:lnTo>
                  <a:pt x="384" y="1961"/>
                </a:lnTo>
                <a:lnTo>
                  <a:pt x="413" y="1903"/>
                </a:lnTo>
                <a:lnTo>
                  <a:pt x="447" y="1849"/>
                </a:lnTo>
                <a:lnTo>
                  <a:pt x="487" y="1797"/>
                </a:lnTo>
                <a:lnTo>
                  <a:pt x="531" y="1746"/>
                </a:lnTo>
                <a:lnTo>
                  <a:pt x="595" y="1682"/>
                </a:lnTo>
                <a:lnTo>
                  <a:pt x="531" y="1619"/>
                </a:lnTo>
                <a:lnTo>
                  <a:pt x="489" y="1571"/>
                </a:lnTo>
                <a:lnTo>
                  <a:pt x="450" y="1521"/>
                </a:lnTo>
                <a:lnTo>
                  <a:pt x="416" y="1468"/>
                </a:lnTo>
                <a:lnTo>
                  <a:pt x="388" y="1414"/>
                </a:lnTo>
                <a:lnTo>
                  <a:pt x="365" y="1357"/>
                </a:lnTo>
                <a:lnTo>
                  <a:pt x="345" y="1299"/>
                </a:lnTo>
                <a:lnTo>
                  <a:pt x="331" y="1241"/>
                </a:lnTo>
                <a:lnTo>
                  <a:pt x="323" y="1182"/>
                </a:lnTo>
                <a:lnTo>
                  <a:pt x="317" y="1121"/>
                </a:lnTo>
                <a:lnTo>
                  <a:pt x="318" y="1061"/>
                </a:lnTo>
                <a:lnTo>
                  <a:pt x="323" y="1001"/>
                </a:lnTo>
                <a:lnTo>
                  <a:pt x="333" y="941"/>
                </a:lnTo>
                <a:lnTo>
                  <a:pt x="349" y="882"/>
                </a:lnTo>
                <a:lnTo>
                  <a:pt x="300" y="869"/>
                </a:lnTo>
                <a:lnTo>
                  <a:pt x="255" y="849"/>
                </a:lnTo>
                <a:lnTo>
                  <a:pt x="211" y="825"/>
                </a:lnTo>
                <a:lnTo>
                  <a:pt x="172" y="797"/>
                </a:lnTo>
                <a:lnTo>
                  <a:pt x="135" y="764"/>
                </a:lnTo>
                <a:lnTo>
                  <a:pt x="102" y="727"/>
                </a:lnTo>
                <a:lnTo>
                  <a:pt x="73" y="688"/>
                </a:lnTo>
                <a:lnTo>
                  <a:pt x="50" y="644"/>
                </a:lnTo>
                <a:lnTo>
                  <a:pt x="30" y="598"/>
                </a:lnTo>
                <a:lnTo>
                  <a:pt x="16" y="549"/>
                </a:lnTo>
                <a:lnTo>
                  <a:pt x="7" y="499"/>
                </a:lnTo>
                <a:lnTo>
                  <a:pt x="4" y="447"/>
                </a:lnTo>
                <a:lnTo>
                  <a:pt x="7" y="394"/>
                </a:lnTo>
                <a:lnTo>
                  <a:pt x="16" y="344"/>
                </a:lnTo>
                <a:lnTo>
                  <a:pt x="30" y="296"/>
                </a:lnTo>
                <a:lnTo>
                  <a:pt x="50" y="251"/>
                </a:lnTo>
                <a:lnTo>
                  <a:pt x="73" y="207"/>
                </a:lnTo>
                <a:lnTo>
                  <a:pt x="101" y="168"/>
                </a:lnTo>
                <a:lnTo>
                  <a:pt x="134" y="131"/>
                </a:lnTo>
                <a:lnTo>
                  <a:pt x="169" y="98"/>
                </a:lnTo>
                <a:lnTo>
                  <a:pt x="209" y="70"/>
                </a:lnTo>
                <a:lnTo>
                  <a:pt x="251" y="46"/>
                </a:lnTo>
                <a:lnTo>
                  <a:pt x="297" y="26"/>
                </a:lnTo>
                <a:lnTo>
                  <a:pt x="344" y="12"/>
                </a:lnTo>
                <a:lnTo>
                  <a:pt x="394" y="3"/>
                </a:lnTo>
                <a:lnTo>
                  <a:pt x="446" y="0"/>
                </a:lnTo>
                <a:close/>
              </a:path>
            </a:pathLst>
          </a:cu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2"/>
          <p:cNvSpPr/>
          <p:nvPr/>
        </p:nvSpPr>
        <p:spPr>
          <a:xfrm>
            <a:off x="6934320" y="3429000"/>
            <a:ext cx="4457520" cy="260028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199" name="TextBox 3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01" name="Straight Connector 5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202" name="TextBox 6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1203" name="TextBox 10"/>
          <p:cNvSpPr/>
          <p:nvPr/>
        </p:nvSpPr>
        <p:spPr>
          <a:xfrm>
            <a:off x="729612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Business Tip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04" name="TextBox 11"/>
          <p:cNvSpPr/>
          <p:nvPr/>
        </p:nvSpPr>
        <p:spPr>
          <a:xfrm>
            <a:off x="7645320" y="4359240"/>
            <a:ext cx="32702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g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05" name="Oval 12"/>
          <p:cNvSpPr/>
          <p:nvPr/>
        </p:nvSpPr>
        <p:spPr>
          <a:xfrm>
            <a:off x="7429680" y="4492800"/>
            <a:ext cx="172800" cy="17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7645320" y="4915080"/>
            <a:ext cx="32702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g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07" name="Oval 14"/>
          <p:cNvSpPr/>
          <p:nvPr/>
        </p:nvSpPr>
        <p:spPr>
          <a:xfrm>
            <a:off x="7429680" y="5049720"/>
            <a:ext cx="172800" cy="171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08" name="TextBox 7"/>
          <p:cNvSpPr/>
          <p:nvPr/>
        </p:nvSpPr>
        <p:spPr>
          <a:xfrm>
            <a:off x="1639800" y="2030400"/>
            <a:ext cx="408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GROW YOUR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INCOME HER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1640880" y="18176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10" name="Straight Connector 9"/>
          <p:cNvSpPr/>
          <p:nvPr/>
        </p:nvSpPr>
        <p:spPr>
          <a:xfrm>
            <a:off x="1751040" y="318276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11" name="TextBox 15"/>
          <p:cNvSpPr/>
          <p:nvPr/>
        </p:nvSpPr>
        <p:spPr>
          <a:xfrm>
            <a:off x="1639800" y="3960720"/>
            <a:ext cx="41720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12" name="TextBox 16"/>
          <p:cNvSpPr/>
          <p:nvPr/>
        </p:nvSpPr>
        <p:spPr>
          <a:xfrm>
            <a:off x="1573560" y="3686040"/>
            <a:ext cx="25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Business With Low Risk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5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214" name="TextBox 6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215" name="TextBox 7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216" name="TextBox 8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217" name="TextBox 9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218" name="Straight Connector 10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219" name="TextBox 11" descr=""/>
          <p:cNvPicPr/>
          <p:nvPr/>
        </p:nvPicPr>
        <p:blipFill>
          <a:blip r:embed="rId1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sp>
        <p:nvSpPr>
          <p:cNvPr id="1220" name="TextBox 12"/>
          <p:cNvSpPr/>
          <p:nvPr/>
        </p:nvSpPr>
        <p:spPr>
          <a:xfrm>
            <a:off x="6546960" y="1538280"/>
            <a:ext cx="408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VINUE BUSINESS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NEW PROJECT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21" name="TextBox 13"/>
          <p:cNvSpPr/>
          <p:nvPr/>
        </p:nvSpPr>
        <p:spPr>
          <a:xfrm>
            <a:off x="6547320" y="132552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22" name="Straight Connector 14"/>
          <p:cNvSpPr/>
          <p:nvPr/>
        </p:nvSpPr>
        <p:spPr>
          <a:xfrm>
            <a:off x="6657840" y="269244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23" name="TextBox 15"/>
          <p:cNvSpPr/>
          <p:nvPr/>
        </p:nvSpPr>
        <p:spPr>
          <a:xfrm>
            <a:off x="6475320" y="322092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First New Project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24" name="TextBox 16"/>
          <p:cNvSpPr/>
          <p:nvPr/>
        </p:nvSpPr>
        <p:spPr>
          <a:xfrm>
            <a:off x="6546960" y="3489480"/>
            <a:ext cx="3946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 du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25" name="TextBox 17"/>
          <p:cNvSpPr/>
          <p:nvPr/>
        </p:nvSpPr>
        <p:spPr>
          <a:xfrm>
            <a:off x="6478560" y="44388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Second New Project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26" name="TextBox 18"/>
          <p:cNvSpPr/>
          <p:nvPr/>
        </p:nvSpPr>
        <p:spPr>
          <a:xfrm>
            <a:off x="6546960" y="4705200"/>
            <a:ext cx="3946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 du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3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228" name="TextBox 4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29" name="Straight Connector 5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230" name="TextBox 6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1231" name="TextBox 7"/>
          <p:cNvSpPr/>
          <p:nvPr/>
        </p:nvSpPr>
        <p:spPr>
          <a:xfrm>
            <a:off x="1660680" y="1814400"/>
            <a:ext cx="408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DETAIL PRODUCT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32" name="TextBox 8"/>
          <p:cNvSpPr/>
          <p:nvPr/>
        </p:nvSpPr>
        <p:spPr>
          <a:xfrm>
            <a:off x="1661040" y="16034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33" name="Straight Connector 9"/>
          <p:cNvSpPr/>
          <p:nvPr/>
        </p:nvSpPr>
        <p:spPr>
          <a:xfrm>
            <a:off x="1771560" y="296856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34" name="TextBox 10"/>
          <p:cNvSpPr/>
          <p:nvPr/>
        </p:nvSpPr>
        <p:spPr>
          <a:xfrm>
            <a:off x="1660680" y="3720960"/>
            <a:ext cx="2187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35" name="TextBox 11"/>
          <p:cNvSpPr/>
          <p:nvPr/>
        </p:nvSpPr>
        <p:spPr>
          <a:xfrm>
            <a:off x="1660680" y="3411360"/>
            <a:ext cx="155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Times New Roman"/>
              </a:rPr>
              <a:t>Detail On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36" name="TextBox 12"/>
          <p:cNvSpPr/>
          <p:nvPr/>
        </p:nvSpPr>
        <p:spPr>
          <a:xfrm>
            <a:off x="1660680" y="4675320"/>
            <a:ext cx="2187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37" name="TextBox 13"/>
          <p:cNvSpPr/>
          <p:nvPr/>
        </p:nvSpPr>
        <p:spPr>
          <a:xfrm>
            <a:off x="1660680" y="4375080"/>
            <a:ext cx="155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Times New Roman"/>
              </a:rPr>
              <a:t>Detail Thre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38" name="TextBox 14"/>
          <p:cNvSpPr/>
          <p:nvPr/>
        </p:nvSpPr>
        <p:spPr>
          <a:xfrm>
            <a:off x="4397400" y="3705120"/>
            <a:ext cx="21877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39" name="TextBox 15"/>
          <p:cNvSpPr/>
          <p:nvPr/>
        </p:nvSpPr>
        <p:spPr>
          <a:xfrm>
            <a:off x="4379760" y="3406680"/>
            <a:ext cx="15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Times New Roman"/>
              </a:rPr>
              <a:t>Detail Two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40" name="TextBox 16"/>
          <p:cNvSpPr/>
          <p:nvPr/>
        </p:nvSpPr>
        <p:spPr>
          <a:xfrm>
            <a:off x="4397400" y="4683240"/>
            <a:ext cx="21877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aesent tristiq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e magna sit a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kok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. Risus pr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41" name="TextBox 17"/>
          <p:cNvSpPr/>
          <p:nvPr/>
        </p:nvSpPr>
        <p:spPr>
          <a:xfrm>
            <a:off x="4379760" y="4375080"/>
            <a:ext cx="15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Times New Roman"/>
              </a:rPr>
              <a:t>Detail Four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2" name="Group 5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243" name="TextBox 6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244" name="TextBox 7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245" name="TextBox 8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246" name="TextBox 9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247" name="Straight Connector 10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248" name="TextBox 11" descr=""/>
          <p:cNvPicPr/>
          <p:nvPr/>
        </p:nvPicPr>
        <p:blipFill>
          <a:blip r:embed="rId1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sp>
        <p:nvSpPr>
          <p:cNvPr id="1249" name="TextBox 12"/>
          <p:cNvSpPr/>
          <p:nvPr/>
        </p:nvSpPr>
        <p:spPr>
          <a:xfrm>
            <a:off x="5934240" y="2449440"/>
            <a:ext cx="496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1f1f"/>
                </a:solidFill>
                <a:latin typeface="Raleway Black"/>
              </a:rPr>
              <a:t>BREAK </a:t>
            </a:r>
            <a:r>
              <a:rPr b="0" lang="en-US" sz="6000" spc="-1" strike="noStrike">
                <a:solidFill>
                  <a:srgbClr val="487d88"/>
                </a:solidFill>
                <a:latin typeface="Raleway Black"/>
              </a:rPr>
              <a:t>TIME</a:t>
            </a:r>
            <a:endParaRPr b="0" lang="en-US" sz="60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50" name="TextBox 13"/>
          <p:cNvSpPr/>
          <p:nvPr/>
        </p:nvSpPr>
        <p:spPr>
          <a:xfrm>
            <a:off x="5931720" y="212400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Roboto"/>
              </a:rPr>
              <a:t>It’s Time To Break Now</a:t>
            </a: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51" name="TextBox 14"/>
          <p:cNvSpPr/>
          <p:nvPr/>
        </p:nvSpPr>
        <p:spPr>
          <a:xfrm>
            <a:off x="7426440" y="5345280"/>
            <a:ext cx="3574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52" name="Straight Connector 15"/>
          <p:cNvSpPr/>
          <p:nvPr/>
        </p:nvSpPr>
        <p:spPr>
          <a:xfrm>
            <a:off x="6435720" y="4888080"/>
            <a:ext cx="1996920" cy="0"/>
          </a:xfrm>
          <a:prstGeom prst="line">
            <a:avLst/>
          </a:prstGeom>
          <a:ln w="3168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53" name="TextBox 16"/>
          <p:cNvSpPr/>
          <p:nvPr/>
        </p:nvSpPr>
        <p:spPr>
          <a:xfrm>
            <a:off x="7306560" y="5013360"/>
            <a:ext cx="29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30 Minutes Time Estimation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6"/>
          <p:cNvSpPr/>
          <p:nvPr/>
        </p:nvSpPr>
        <p:spPr>
          <a:xfrm>
            <a:off x="0" y="5715000"/>
            <a:ext cx="3048120" cy="1143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55" name="Rectangle 7"/>
          <p:cNvSpPr/>
          <p:nvPr/>
        </p:nvSpPr>
        <p:spPr>
          <a:xfrm>
            <a:off x="3048120" y="5715000"/>
            <a:ext cx="3047760" cy="114300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56" name="Rectangle 8"/>
          <p:cNvSpPr/>
          <p:nvPr/>
        </p:nvSpPr>
        <p:spPr>
          <a:xfrm>
            <a:off x="6095880" y="5715000"/>
            <a:ext cx="3048120" cy="11430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57" name="Rectangle 9"/>
          <p:cNvSpPr/>
          <p:nvPr/>
        </p:nvSpPr>
        <p:spPr>
          <a:xfrm>
            <a:off x="9144000" y="5715000"/>
            <a:ext cx="3048120" cy="114300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58" name="TextBox 10"/>
          <p:cNvSpPr/>
          <p:nvPr/>
        </p:nvSpPr>
        <p:spPr>
          <a:xfrm>
            <a:off x="507960" y="6019920"/>
            <a:ext cx="203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12 May 2021 Business Seminar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59" name="TextBox 11"/>
          <p:cNvSpPr/>
          <p:nvPr/>
        </p:nvSpPr>
        <p:spPr>
          <a:xfrm>
            <a:off x="3556080" y="6019920"/>
            <a:ext cx="203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23 June 2022 Company Workshop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60" name="TextBox 12"/>
          <p:cNvSpPr/>
          <p:nvPr/>
        </p:nvSpPr>
        <p:spPr>
          <a:xfrm>
            <a:off x="6400800" y="60199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08 August 2022 Company Anniversary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61" name="TextBox 13"/>
          <p:cNvSpPr/>
          <p:nvPr/>
        </p:nvSpPr>
        <p:spPr>
          <a:xfrm>
            <a:off x="9651960" y="6019920"/>
            <a:ext cx="203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13 December 2022 Privat Seminar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Picture 5" descr=""/>
          <p:cNvPicPr/>
          <p:nvPr/>
        </p:nvPicPr>
        <p:blipFill>
          <a:blip r:embed="rId1"/>
          <a:stretch/>
        </p:blipFill>
        <p:spPr>
          <a:xfrm>
            <a:off x="5376960" y="1119240"/>
            <a:ext cx="4610160" cy="5197320"/>
          </a:xfrm>
          <a:prstGeom prst="rect">
            <a:avLst/>
          </a:prstGeom>
          <a:ln w="0">
            <a:noFill/>
          </a:ln>
        </p:spPr>
      </p:pic>
      <p:pic>
        <p:nvPicPr>
          <p:cNvPr id="1263" name="TextBox 4" descr=""/>
          <p:cNvPicPr/>
          <p:nvPr/>
        </p:nvPicPr>
        <p:blipFill>
          <a:blip r:embed="rId2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264" name="TextBox 6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65" name="Straight Connector 7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266" name="TextBox 8" descr=""/>
          <p:cNvPicPr/>
          <p:nvPr/>
        </p:nvPicPr>
        <p:blipFill>
          <a:blip r:embed="rId3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1267" name="TextBox 9"/>
          <p:cNvSpPr/>
          <p:nvPr/>
        </p:nvSpPr>
        <p:spPr>
          <a:xfrm>
            <a:off x="1660680" y="1712880"/>
            <a:ext cx="408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TABLET MOCKUP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68" name="TextBox 10"/>
          <p:cNvSpPr/>
          <p:nvPr/>
        </p:nvSpPr>
        <p:spPr>
          <a:xfrm>
            <a:off x="1661040" y="150192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69" name="Straight Connector 11"/>
          <p:cNvSpPr/>
          <p:nvPr/>
        </p:nvSpPr>
        <p:spPr>
          <a:xfrm>
            <a:off x="1771560" y="286704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70" name="TextBox 12"/>
          <p:cNvSpPr/>
          <p:nvPr/>
        </p:nvSpPr>
        <p:spPr>
          <a:xfrm>
            <a:off x="1660680" y="3672000"/>
            <a:ext cx="40878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71" name="TextBox 13"/>
          <p:cNvSpPr/>
          <p:nvPr/>
        </p:nvSpPr>
        <p:spPr>
          <a:xfrm>
            <a:off x="1660680" y="4784760"/>
            <a:ext cx="40878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72" name="TextBox 14"/>
          <p:cNvSpPr/>
          <p:nvPr/>
        </p:nvSpPr>
        <p:spPr>
          <a:xfrm>
            <a:off x="1546920" y="3397320"/>
            <a:ext cx="309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Vinue Product Segmentation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Picture 4" descr=""/>
          <p:cNvPicPr/>
          <p:nvPr/>
        </p:nvPicPr>
        <p:blipFill>
          <a:blip r:embed="rId1"/>
          <a:stretch/>
        </p:blipFill>
        <p:spPr>
          <a:xfrm>
            <a:off x="306360" y="1049400"/>
            <a:ext cx="5183280" cy="5183280"/>
          </a:xfrm>
          <a:prstGeom prst="rect">
            <a:avLst/>
          </a:prstGeom>
          <a:ln w="0">
            <a:noFill/>
          </a:ln>
        </p:spPr>
      </p:pic>
      <p:grpSp>
        <p:nvGrpSpPr>
          <p:cNvPr id="1274" name="Group 5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275" name="TextBox 6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276" name="TextBox 7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277" name="TextBox 8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278" name="TextBox 9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279" name="Straight Connector 10"/>
          <p:cNvSpPr/>
          <p:nvPr/>
        </p:nvSpPr>
        <p:spPr>
          <a:xfrm flipH="1">
            <a:off x="9879120" y="785880"/>
            <a:ext cx="11872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280" name="TextBox 11" descr=""/>
          <p:cNvPicPr/>
          <p:nvPr/>
        </p:nvPicPr>
        <p:blipFill>
          <a:blip r:embed="rId2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sp>
        <p:nvSpPr>
          <p:cNvPr id="1281" name="TextBox 12"/>
          <p:cNvSpPr/>
          <p:nvPr/>
        </p:nvSpPr>
        <p:spPr>
          <a:xfrm>
            <a:off x="6188040" y="1454040"/>
            <a:ext cx="454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COMPUTER MOCKUP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6189120" y="124128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83" name="Straight Connector 14"/>
          <p:cNvSpPr/>
          <p:nvPr/>
        </p:nvSpPr>
        <p:spPr>
          <a:xfrm>
            <a:off x="6299280" y="260820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84" name="TextBox 15"/>
          <p:cNvSpPr/>
          <p:nvPr/>
        </p:nvSpPr>
        <p:spPr>
          <a:xfrm>
            <a:off x="6188040" y="3527280"/>
            <a:ext cx="43498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85" name="TextBox 16"/>
          <p:cNvSpPr/>
          <p:nvPr/>
        </p:nvSpPr>
        <p:spPr>
          <a:xfrm>
            <a:off x="6141960" y="3252960"/>
            <a:ext cx="20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First Vinue Aspect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86" name="TextBox 17"/>
          <p:cNvSpPr/>
          <p:nvPr/>
        </p:nvSpPr>
        <p:spPr>
          <a:xfrm>
            <a:off x="6202440" y="4789440"/>
            <a:ext cx="4349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 nunc mattis enim u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diano bu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ellus 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87" name="TextBox 20"/>
          <p:cNvSpPr/>
          <p:nvPr/>
        </p:nvSpPr>
        <p:spPr>
          <a:xfrm>
            <a:off x="6159240" y="45147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Second Vinue Aspect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Group 1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887" name="TextBox 2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888" name="TextBox 3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889" name="TextBox 4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890" name="TextBox 5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891" name="Straight Connector 6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892" name="TextBox 7" descr=""/>
          <p:cNvPicPr/>
          <p:nvPr/>
        </p:nvPicPr>
        <p:blipFill>
          <a:blip r:embed="rId1"/>
          <a:stretch/>
        </p:blipFill>
        <p:spPr>
          <a:xfrm>
            <a:off x="9144000" y="646200"/>
            <a:ext cx="1030320" cy="261720"/>
          </a:xfrm>
          <a:prstGeom prst="rect">
            <a:avLst/>
          </a:prstGeom>
          <a:ln w="0">
            <a:noFill/>
          </a:ln>
        </p:spPr>
      </p:pic>
      <p:sp>
        <p:nvSpPr>
          <p:cNvPr id="893" name="TextBox 10"/>
          <p:cNvSpPr/>
          <p:nvPr/>
        </p:nvSpPr>
        <p:spPr>
          <a:xfrm>
            <a:off x="5851440" y="1467000"/>
            <a:ext cx="432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INCREASE YOUR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BUSINESS WITH US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94" name="TextBox 12"/>
          <p:cNvSpPr/>
          <p:nvPr/>
        </p:nvSpPr>
        <p:spPr>
          <a:xfrm>
            <a:off x="5852520" y="12542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95" name="Straight Connector 13"/>
          <p:cNvSpPr/>
          <p:nvPr/>
        </p:nvSpPr>
        <p:spPr>
          <a:xfrm>
            <a:off x="5962680" y="262080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96" name="TextBox 14"/>
          <p:cNvSpPr/>
          <p:nvPr/>
        </p:nvSpPr>
        <p:spPr>
          <a:xfrm>
            <a:off x="5821920" y="418140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We Have Best Plan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97" name="TextBox 15"/>
          <p:cNvSpPr/>
          <p:nvPr/>
        </p:nvSpPr>
        <p:spPr>
          <a:xfrm>
            <a:off x="6215040" y="4475160"/>
            <a:ext cx="4321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98" name="Oval 16"/>
          <p:cNvSpPr/>
          <p:nvPr/>
        </p:nvSpPr>
        <p:spPr>
          <a:xfrm>
            <a:off x="5999040" y="4608360"/>
            <a:ext cx="171720" cy="173160"/>
          </a:xfrm>
          <a:prstGeom prst="ellipse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899" name="TextBox 17"/>
          <p:cNvSpPr/>
          <p:nvPr/>
        </p:nvSpPr>
        <p:spPr>
          <a:xfrm>
            <a:off x="6215040" y="5030640"/>
            <a:ext cx="4321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00" name="Oval 18"/>
          <p:cNvSpPr/>
          <p:nvPr/>
        </p:nvSpPr>
        <p:spPr>
          <a:xfrm>
            <a:off x="5999040" y="5164200"/>
            <a:ext cx="171720" cy="172800"/>
          </a:xfrm>
          <a:prstGeom prst="ellipse">
            <a:avLst/>
          </a:prstGeom>
          <a:solidFill>
            <a:srgbClr val="345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01" name="TextBox 21"/>
          <p:cNvSpPr/>
          <p:nvPr/>
        </p:nvSpPr>
        <p:spPr>
          <a:xfrm>
            <a:off x="5873760" y="3440160"/>
            <a:ext cx="4662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 nun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 sit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02" name="TextBox 22"/>
          <p:cNvSpPr/>
          <p:nvPr/>
        </p:nvSpPr>
        <p:spPr>
          <a:xfrm>
            <a:off x="5818320" y="31654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Trusted Company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Picture 6" descr=""/>
          <p:cNvPicPr/>
          <p:nvPr/>
        </p:nvPicPr>
        <p:blipFill>
          <a:blip r:embed="rId1"/>
          <a:stretch/>
        </p:blipFill>
        <p:spPr>
          <a:xfrm>
            <a:off x="8453520" y="2147760"/>
            <a:ext cx="3457440" cy="3895920"/>
          </a:xfrm>
          <a:prstGeom prst="rect">
            <a:avLst/>
          </a:prstGeom>
          <a:ln w="0">
            <a:noFill/>
          </a:ln>
        </p:spPr>
      </p:pic>
      <p:pic>
        <p:nvPicPr>
          <p:cNvPr id="1289" name="Picture 2" descr=""/>
          <p:cNvPicPr/>
          <p:nvPr/>
        </p:nvPicPr>
        <p:blipFill>
          <a:blip r:embed="rId2"/>
          <a:stretch/>
        </p:blipFill>
        <p:spPr>
          <a:xfrm>
            <a:off x="5335560" y="2147760"/>
            <a:ext cx="3457440" cy="3895920"/>
          </a:xfrm>
          <a:prstGeom prst="rect">
            <a:avLst/>
          </a:prstGeom>
          <a:ln w="0">
            <a:noFill/>
          </a:ln>
        </p:spPr>
      </p:pic>
      <p:pic>
        <p:nvPicPr>
          <p:cNvPr id="1290" name="TextBox 9" descr=""/>
          <p:cNvPicPr/>
          <p:nvPr/>
        </p:nvPicPr>
        <p:blipFill>
          <a:blip r:embed="rId3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291" name="TextBox 10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92" name="Straight Connector 11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293" name="TextBox 12" descr=""/>
          <p:cNvPicPr/>
          <p:nvPr/>
        </p:nvPicPr>
        <p:blipFill>
          <a:blip r:embed="rId4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1294" name="TextBox 13"/>
          <p:cNvSpPr/>
          <p:nvPr/>
        </p:nvSpPr>
        <p:spPr>
          <a:xfrm>
            <a:off x="1660680" y="1868400"/>
            <a:ext cx="408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TABLET MOCKUP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95" name="TextBox 14"/>
          <p:cNvSpPr/>
          <p:nvPr/>
        </p:nvSpPr>
        <p:spPr>
          <a:xfrm>
            <a:off x="1661040" y="16574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96" name="Straight Connector 15"/>
          <p:cNvSpPr/>
          <p:nvPr/>
        </p:nvSpPr>
        <p:spPr>
          <a:xfrm>
            <a:off x="1771560" y="302256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97" name="TextBox 16"/>
          <p:cNvSpPr/>
          <p:nvPr/>
        </p:nvSpPr>
        <p:spPr>
          <a:xfrm>
            <a:off x="1660680" y="3527280"/>
            <a:ext cx="3805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dui nunc mattis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98" name="TextBox 17"/>
          <p:cNvSpPr/>
          <p:nvPr/>
        </p:nvSpPr>
        <p:spPr>
          <a:xfrm>
            <a:off x="1660680" y="4375080"/>
            <a:ext cx="3805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 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299" name="TextBox 18"/>
          <p:cNvSpPr/>
          <p:nvPr/>
        </p:nvSpPr>
        <p:spPr>
          <a:xfrm>
            <a:off x="7621560" y="920880"/>
            <a:ext cx="359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“</a:t>
            </a:r>
            <a:r>
              <a:rPr b="1" i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The way to get started is to quit talking and begin doing.”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02" name="Straight Connector 3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303" name="TextBox 4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grpSp>
        <p:nvGrpSpPr>
          <p:cNvPr id="1304" name="Group 5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305" name="TextBox 6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06" name="TextBox 7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07" name="TextBox 8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08" name="TextBox 9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309" name="Straight Connector 10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310" name="TextBox 11" descr=""/>
          <p:cNvPicPr/>
          <p:nvPr/>
        </p:nvPicPr>
        <p:blipFill>
          <a:blip r:embed="rId3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1" name="Chart 14"/>
          <p:cNvGraphicFramePr/>
          <p:nvPr/>
        </p:nvGraphicFramePr>
        <p:xfrm>
          <a:off x="1582560" y="1895400"/>
          <a:ext cx="4089600" cy="276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12" name="Char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2560" y="1895400"/>
                    <a:ext cx="408960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Chart 15"/>
          <p:cNvGraphicFramePr/>
          <p:nvPr/>
        </p:nvGraphicFramePr>
        <p:xfrm>
          <a:off x="6519960" y="1895400"/>
          <a:ext cx="4089240" cy="27608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14" name="Char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19960" y="1895400"/>
                    <a:ext cx="408924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Box 16"/>
          <p:cNvSpPr/>
          <p:nvPr/>
        </p:nvSpPr>
        <p:spPr>
          <a:xfrm>
            <a:off x="3411360" y="108756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INFOGRAPHIC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16" name="TextBox 17"/>
          <p:cNvSpPr/>
          <p:nvPr/>
        </p:nvSpPr>
        <p:spPr>
          <a:xfrm>
            <a:off x="4976280" y="8762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17" name="Straight Connector 18"/>
          <p:cNvSpPr/>
          <p:nvPr/>
        </p:nvSpPr>
        <p:spPr>
          <a:xfrm>
            <a:off x="5813280" y="176220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18" name="TextBox 23"/>
          <p:cNvSpPr/>
          <p:nvPr/>
        </p:nvSpPr>
        <p:spPr>
          <a:xfrm>
            <a:off x="1779480" y="5064120"/>
            <a:ext cx="1854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19" name="TextBox 24"/>
          <p:cNvSpPr/>
          <p:nvPr/>
        </p:nvSpPr>
        <p:spPr>
          <a:xfrm>
            <a:off x="4148280" y="5064120"/>
            <a:ext cx="1854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20" name="TextBox 25"/>
          <p:cNvSpPr/>
          <p:nvPr/>
        </p:nvSpPr>
        <p:spPr>
          <a:xfrm>
            <a:off x="6580080" y="5064120"/>
            <a:ext cx="1854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21" name="Rectangle 26"/>
          <p:cNvSpPr/>
          <p:nvPr/>
        </p:nvSpPr>
        <p:spPr>
          <a:xfrm>
            <a:off x="1611360" y="5189400"/>
            <a:ext cx="149040" cy="14940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22" name="Rectangle 27"/>
          <p:cNvSpPr/>
          <p:nvPr/>
        </p:nvSpPr>
        <p:spPr>
          <a:xfrm>
            <a:off x="3960720" y="5189400"/>
            <a:ext cx="149400" cy="14940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23" name="Rectangle 28"/>
          <p:cNvSpPr/>
          <p:nvPr/>
        </p:nvSpPr>
        <p:spPr>
          <a:xfrm>
            <a:off x="6375240" y="5184720"/>
            <a:ext cx="149400" cy="150840"/>
          </a:xfrm>
          <a:prstGeom prst="rect">
            <a:avLst/>
          </a:prstGeom>
          <a:solidFill>
            <a:srgbClr val="345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24" name="TextBox 29"/>
          <p:cNvSpPr/>
          <p:nvPr/>
        </p:nvSpPr>
        <p:spPr>
          <a:xfrm>
            <a:off x="9042480" y="5064120"/>
            <a:ext cx="18525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u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25" name="Rectangle 30"/>
          <p:cNvSpPr/>
          <p:nvPr/>
        </p:nvSpPr>
        <p:spPr>
          <a:xfrm>
            <a:off x="8836200" y="5184720"/>
            <a:ext cx="149040" cy="150840"/>
          </a:xfrm>
          <a:prstGeom prst="rect">
            <a:avLst/>
          </a:prstGeom>
          <a:solidFill>
            <a:srgbClr val="345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TextBox 1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327" name="TextBox 2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28" name="Straight Connector 3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329" name="TextBox 4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grpSp>
        <p:nvGrpSpPr>
          <p:cNvPr id="1330" name="Group 5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331" name="TextBox 6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32" name="TextBox 7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33" name="TextBox 8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34" name="TextBox 9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335" name="Straight Connector 10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336" name="TextBox 11" descr=""/>
          <p:cNvPicPr/>
          <p:nvPr/>
        </p:nvPicPr>
        <p:blipFill>
          <a:blip r:embed="rId3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7" name="Chart 14"/>
          <p:cNvGraphicFramePr/>
          <p:nvPr/>
        </p:nvGraphicFramePr>
        <p:xfrm>
          <a:off x="1504800" y="2125800"/>
          <a:ext cx="4919760" cy="3341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8" name="Char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4800" y="2125800"/>
                    <a:ext cx="491976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9" name="TextBox 13"/>
          <p:cNvSpPr/>
          <p:nvPr/>
        </p:nvSpPr>
        <p:spPr>
          <a:xfrm>
            <a:off x="3411360" y="108756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INFOGRAPHIC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40" name="TextBox 15"/>
          <p:cNvSpPr/>
          <p:nvPr/>
        </p:nvSpPr>
        <p:spPr>
          <a:xfrm>
            <a:off x="4976280" y="8762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41" name="Straight Connector 16"/>
          <p:cNvSpPr/>
          <p:nvPr/>
        </p:nvSpPr>
        <p:spPr>
          <a:xfrm>
            <a:off x="5813280" y="176220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42" name="TextBox 17"/>
          <p:cNvSpPr/>
          <p:nvPr/>
        </p:nvSpPr>
        <p:spPr>
          <a:xfrm>
            <a:off x="6469200" y="2689200"/>
            <a:ext cx="40384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43" name="TextBox 18"/>
          <p:cNvSpPr/>
          <p:nvPr/>
        </p:nvSpPr>
        <p:spPr>
          <a:xfrm>
            <a:off x="6377040" y="2441520"/>
            <a:ext cx="25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First Great Aspect Her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44" name="TextBox 19"/>
          <p:cNvSpPr/>
          <p:nvPr/>
        </p:nvSpPr>
        <p:spPr>
          <a:xfrm>
            <a:off x="6469200" y="3575160"/>
            <a:ext cx="40384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45" name="TextBox 20"/>
          <p:cNvSpPr/>
          <p:nvPr/>
        </p:nvSpPr>
        <p:spPr>
          <a:xfrm>
            <a:off x="6380280" y="3325680"/>
            <a:ext cx="27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Second Great Aspect Her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46" name="TextBox 21"/>
          <p:cNvSpPr/>
          <p:nvPr/>
        </p:nvSpPr>
        <p:spPr>
          <a:xfrm>
            <a:off x="6451560" y="4459320"/>
            <a:ext cx="40384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y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47" name="TextBox 22"/>
          <p:cNvSpPr/>
          <p:nvPr/>
        </p:nvSpPr>
        <p:spPr>
          <a:xfrm>
            <a:off x="6355440" y="421164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Third Great Aspect Her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TextBox 1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349" name="TextBox 2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50" name="Straight Connector 3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351" name="TextBox 4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grpSp>
        <p:nvGrpSpPr>
          <p:cNvPr id="1352" name="Group 5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353" name="TextBox 6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54" name="TextBox 7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55" name="TextBox 8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56" name="TextBox 9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357" name="Straight Connector 10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358" name="TextBox 11" descr=""/>
          <p:cNvPicPr/>
          <p:nvPr/>
        </p:nvPicPr>
        <p:blipFill>
          <a:blip r:embed="rId3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sp>
        <p:nvSpPr>
          <p:cNvPr id="1359" name="TextBox 13"/>
          <p:cNvSpPr/>
          <p:nvPr/>
        </p:nvSpPr>
        <p:spPr>
          <a:xfrm>
            <a:off x="3411360" y="108756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INFOGRAPHIC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60" name="TextBox 14"/>
          <p:cNvSpPr/>
          <p:nvPr/>
        </p:nvSpPr>
        <p:spPr>
          <a:xfrm>
            <a:off x="4976280" y="8762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61" name="Straight Connector 15"/>
          <p:cNvSpPr/>
          <p:nvPr/>
        </p:nvSpPr>
        <p:spPr>
          <a:xfrm>
            <a:off x="5813280" y="176220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graphicFrame>
        <p:nvGraphicFramePr>
          <p:cNvPr id="1362" name="Chart 16"/>
          <p:cNvGraphicFramePr/>
          <p:nvPr/>
        </p:nvGraphicFramePr>
        <p:xfrm>
          <a:off x="1616040" y="2181240"/>
          <a:ext cx="8960040" cy="2916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63" name="Char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6040" y="2181240"/>
                    <a:ext cx="896004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TextBox 17"/>
          <p:cNvSpPr/>
          <p:nvPr/>
        </p:nvSpPr>
        <p:spPr>
          <a:xfrm>
            <a:off x="2206800" y="5283360"/>
            <a:ext cx="2419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Risus pretium qu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65" name="TextBox 18"/>
          <p:cNvSpPr/>
          <p:nvPr/>
        </p:nvSpPr>
        <p:spPr>
          <a:xfrm>
            <a:off x="5065560" y="5283360"/>
            <a:ext cx="2417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Risus pretium 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66" name="TextBox 19"/>
          <p:cNvSpPr/>
          <p:nvPr/>
        </p:nvSpPr>
        <p:spPr>
          <a:xfrm>
            <a:off x="8099280" y="5283360"/>
            <a:ext cx="24177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lasio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Risus pretium qu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67" name="Rectangle 20"/>
          <p:cNvSpPr/>
          <p:nvPr/>
        </p:nvSpPr>
        <p:spPr>
          <a:xfrm>
            <a:off x="2038320" y="5407200"/>
            <a:ext cx="149400" cy="14904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68" name="Rectangle 21"/>
          <p:cNvSpPr/>
          <p:nvPr/>
        </p:nvSpPr>
        <p:spPr>
          <a:xfrm>
            <a:off x="4878360" y="5407200"/>
            <a:ext cx="149400" cy="149040"/>
          </a:xfrm>
          <a:prstGeom prst="rect">
            <a:avLst/>
          </a:prstGeom>
          <a:solidFill>
            <a:srgbClr val="15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69" name="Rectangle 22"/>
          <p:cNvSpPr/>
          <p:nvPr/>
        </p:nvSpPr>
        <p:spPr>
          <a:xfrm>
            <a:off x="7894800" y="5403960"/>
            <a:ext cx="149040" cy="149040"/>
          </a:xfrm>
          <a:prstGeom prst="rect">
            <a:avLst/>
          </a:prstGeom>
          <a:solidFill>
            <a:srgbClr val="345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0" name="Group 5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371" name="TextBox 6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72" name="TextBox 7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73" name="TextBox 8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374" name="TextBox 9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375" name="Straight Connector 10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376" name="TextBox 11" descr=""/>
          <p:cNvPicPr/>
          <p:nvPr/>
        </p:nvPicPr>
        <p:blipFill>
          <a:blip r:embed="rId1"/>
          <a:stretch/>
        </p:blipFill>
        <p:spPr>
          <a:xfrm>
            <a:off x="9101160" y="646200"/>
            <a:ext cx="1073160" cy="261720"/>
          </a:xfrm>
          <a:prstGeom prst="rect">
            <a:avLst/>
          </a:prstGeom>
          <a:ln w="0">
            <a:noFill/>
          </a:ln>
        </p:spPr>
      </p:pic>
      <p:sp>
        <p:nvSpPr>
          <p:cNvPr id="1377" name="TextBox 14"/>
          <p:cNvSpPr/>
          <p:nvPr/>
        </p:nvSpPr>
        <p:spPr>
          <a:xfrm>
            <a:off x="5967360" y="2644920"/>
            <a:ext cx="47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5b63"/>
                </a:solidFill>
                <a:latin typeface="Raleway Bold"/>
              </a:rPr>
              <a:t>There are no </a:t>
            </a:r>
            <a:r>
              <a:rPr b="0" lang="en-US" sz="2400" spc="-1" strike="noStrike">
                <a:solidFill>
                  <a:srgbClr val="1f1f1f"/>
                </a:solidFill>
                <a:latin typeface="Raleway Bold"/>
              </a:rPr>
              <a:t>secrets to success. It is </a:t>
            </a:r>
            <a:r>
              <a:rPr b="0" lang="en-US" sz="2400" spc="-1" strike="noStrike">
                <a:solidFill>
                  <a:srgbClr val="345b63"/>
                </a:solidFill>
                <a:latin typeface="Raleway Bold"/>
              </a:rPr>
              <a:t>the result of preparation, hard </a:t>
            </a:r>
            <a:r>
              <a:rPr b="0" lang="en-US" sz="2400" spc="-1" strike="noStrike">
                <a:solidFill>
                  <a:srgbClr val="1f1f1f"/>
                </a:solidFill>
                <a:latin typeface="Raleway Bold"/>
              </a:rPr>
              <a:t>work and learning </a:t>
            </a:r>
            <a:r>
              <a:rPr b="0" lang="en-US" sz="2400" spc="-1" strike="noStrike">
                <a:solidFill>
                  <a:srgbClr val="345b63"/>
                </a:solidFill>
                <a:latin typeface="Raleway Bold"/>
              </a:rPr>
              <a:t>from failure.</a:t>
            </a:r>
            <a:endParaRPr b="0" lang="en-US" sz="24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78" name="TextBox 15"/>
          <p:cNvSpPr/>
          <p:nvPr/>
        </p:nvSpPr>
        <p:spPr>
          <a:xfrm>
            <a:off x="5951520" y="211788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1f1f"/>
                </a:solidFill>
                <a:latin typeface="Raleway Bold"/>
              </a:rPr>
              <a:t>“</a:t>
            </a:r>
            <a:endParaRPr b="0" lang="en-US" sz="4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79" name="TextBox 16"/>
          <p:cNvSpPr/>
          <p:nvPr/>
        </p:nvSpPr>
        <p:spPr>
          <a:xfrm>
            <a:off x="5999400" y="44323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b2b2b2"/>
                </a:solidFill>
                <a:latin typeface="Roboto"/>
                <a:ea typeface="Open Sans SemiBold"/>
              </a:rPr>
              <a:t>Quote By Your Name</a:t>
            </a:r>
            <a:endParaRPr b="0" lang="en-US" sz="14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1381" name="TextBox 2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82" name="Straight Connector 3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1383" name="TextBox 4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1384" name="TextBox 7"/>
          <p:cNvSpPr/>
          <p:nvPr/>
        </p:nvSpPr>
        <p:spPr>
          <a:xfrm>
            <a:off x="1660680" y="1709640"/>
            <a:ext cx="408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VINUE CONTACT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 INFORMATION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85" name="TextBox 8"/>
          <p:cNvSpPr/>
          <p:nvPr/>
        </p:nvSpPr>
        <p:spPr>
          <a:xfrm>
            <a:off x="1661040" y="149868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86" name="Straight Connector 9"/>
          <p:cNvSpPr/>
          <p:nvPr/>
        </p:nvSpPr>
        <p:spPr>
          <a:xfrm>
            <a:off x="1771560" y="286380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87" name="TextBox 10"/>
          <p:cNvSpPr/>
          <p:nvPr/>
        </p:nvSpPr>
        <p:spPr>
          <a:xfrm>
            <a:off x="1695600" y="3727440"/>
            <a:ext cx="2052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Variable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 Course</a:t>
            </a:r>
            <a:r>
              <a:rPr b="0" lang="en-ID" sz="1100" spc="-1" strike="noStrike">
                <a:solidFill>
                  <a:srgbClr val="7f7f7f"/>
                </a:solidFill>
                <a:latin typeface="Roboto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Building </a:t>
            </a:r>
            <a:r>
              <a:rPr b="0" lang="en-ID" sz="1100" spc="-1" strike="noStrike">
                <a:solidFill>
                  <a:srgbClr val="7f7f7f"/>
                </a:solidFill>
                <a:latin typeface="Roboto"/>
              </a:rPr>
              <a:t>4 – 5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 Yanny </a:t>
            </a:r>
            <a:r>
              <a:rPr b="0" lang="en-ID" sz="1100" spc="-1" strike="noStrike">
                <a:solidFill>
                  <a:srgbClr val="7f7f7f"/>
                </a:solidFill>
                <a:latin typeface="Roboto"/>
              </a:rPr>
              <a:t>Street,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22 W 23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88" name="TextBox 4"/>
          <p:cNvSpPr/>
          <p:nvPr/>
        </p:nvSpPr>
        <p:spPr>
          <a:xfrm>
            <a:off x="1695600" y="33321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595959"/>
                </a:solidFill>
                <a:latin typeface="Roboto"/>
              </a:rPr>
              <a:t>Our Addres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89" name="TextBox 14"/>
          <p:cNvSpPr/>
          <p:nvPr/>
        </p:nvSpPr>
        <p:spPr>
          <a:xfrm>
            <a:off x="3786120" y="4761000"/>
            <a:ext cx="21686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100" spc="-1" strike="noStrike">
                <a:solidFill>
                  <a:srgbClr val="7f7f7f"/>
                </a:solidFill>
                <a:latin typeface="Roboto"/>
              </a:rPr>
              <a:t>w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ww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vinuebusines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.com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  <a:p>
            <a:pPr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plan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@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</a:rPr>
              <a:t>vinuebusines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.com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0" name="TextBox 15"/>
          <p:cNvSpPr/>
          <p:nvPr/>
        </p:nvSpPr>
        <p:spPr>
          <a:xfrm>
            <a:off x="3784680" y="43783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595959"/>
                </a:solidFill>
                <a:latin typeface="Roboto"/>
                <a:ea typeface="Times New Roman"/>
              </a:rPr>
              <a:t>Follow U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1" name="TextBox 16"/>
          <p:cNvSpPr/>
          <p:nvPr/>
        </p:nvSpPr>
        <p:spPr>
          <a:xfrm>
            <a:off x="1695600" y="4761000"/>
            <a:ext cx="20523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(+22) 000 2221 0000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</a:rPr>
              <a:t>(0345) 221 112 2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2" name="TextBox 17"/>
          <p:cNvSpPr/>
          <p:nvPr/>
        </p:nvSpPr>
        <p:spPr>
          <a:xfrm>
            <a:off x="1695600" y="43783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595959"/>
                </a:solidFill>
                <a:latin typeface="Roboto"/>
                <a:ea typeface="Times New Roman"/>
              </a:rPr>
              <a:t>Get In Touch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3" name="TextBox 18"/>
          <p:cNvSpPr/>
          <p:nvPr/>
        </p:nvSpPr>
        <p:spPr>
          <a:xfrm>
            <a:off x="3786120" y="3713040"/>
            <a:ext cx="20527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onday – Saturday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  <a:p>
            <a:pPr algn="just">
              <a:lnSpc>
                <a:spcPct val="15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08.00 AM –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05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.00 PM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4" name="TextBox 19"/>
          <p:cNvSpPr/>
          <p:nvPr/>
        </p:nvSpPr>
        <p:spPr>
          <a:xfrm>
            <a:off x="3784680" y="33321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</a:rPr>
              <a:t>Studio</a:t>
            </a:r>
            <a:r>
              <a:rPr b="1" lang="id-ID" sz="1600" spc="-1" strike="noStrike">
                <a:solidFill>
                  <a:srgbClr val="595959"/>
                </a:solidFill>
                <a:latin typeface="Roboto"/>
              </a:rPr>
              <a:t> Hour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3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1203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6" name="TextBox 33"/>
          <p:cNvSpPr/>
          <p:nvPr/>
        </p:nvSpPr>
        <p:spPr>
          <a:xfrm>
            <a:off x="755280" y="647640"/>
            <a:ext cx="73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aleway Bold"/>
              </a:rPr>
              <a:t>Visue, LTD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7" name="TextBox 34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8" name="Straight Connector 35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487d88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399" name="TextBox 36"/>
          <p:cNvSpPr/>
          <p:nvPr/>
        </p:nvSpPr>
        <p:spPr>
          <a:xfrm rot="16200000">
            <a:off x="352440" y="3328920"/>
            <a:ext cx="657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Roboto"/>
              </a:rPr>
              <a:t>24 Jan 2021</a:t>
            </a:r>
            <a:endParaRPr b="0" lang="en-US" sz="700" spc="-1" strike="noStrike">
              <a:solidFill>
                <a:srgbClr val="1f1f1f"/>
              </a:solidFill>
              <a:latin typeface="Roboto"/>
            </a:endParaRPr>
          </a:p>
        </p:txBody>
      </p:sp>
      <p:grpSp>
        <p:nvGrpSpPr>
          <p:cNvPr id="1400" name="Group 37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1401" name="TextBox 38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b2b2b2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402" name="TextBox 39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b2b2b2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403" name="TextBox 40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487d88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1404" name="TextBox 41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b2b2b2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1405" name="Straight Connector 42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487d88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406" name="TextBox 43"/>
          <p:cNvSpPr/>
          <p:nvPr/>
        </p:nvSpPr>
        <p:spPr>
          <a:xfrm>
            <a:off x="8887320" y="647640"/>
            <a:ext cx="1540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Business Page </a:t>
            </a:r>
            <a:fld id="{C6611B19-BBCD-4618-9734-CEC7D186E03E}" type="slidenum">
              <a:rPr b="0" lang="en-US" sz="900" spc="-1" strike="noStrike">
                <a:solidFill>
                  <a:srgbClr val="b2b2b2"/>
                </a:solidFill>
                <a:latin typeface="Roboto"/>
              </a:rPr>
              <a:t>&lt;number&gt;</a:t>
            </a:fld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407" name="Oval 44"/>
          <p:cNvSpPr/>
          <p:nvPr/>
        </p:nvSpPr>
        <p:spPr>
          <a:xfrm>
            <a:off x="4492800" y="1825560"/>
            <a:ext cx="3206520" cy="3206880"/>
          </a:xfrm>
          <a:prstGeom prst="ellipse">
            <a:avLst/>
          </a:prstGeom>
          <a:noFill/>
          <a:ln w="38160">
            <a:solidFill>
              <a:srgbClr val="487d88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408" name="TextBox 45"/>
          <p:cNvSpPr/>
          <p:nvPr/>
        </p:nvSpPr>
        <p:spPr>
          <a:xfrm>
            <a:off x="2324160" y="24512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Raleway Black"/>
              </a:rPr>
              <a:t>T H A </a:t>
            </a:r>
            <a:r>
              <a:rPr b="0" lang="en-US" sz="9600" spc="-1" strike="noStrike">
                <a:solidFill>
                  <a:srgbClr val="487d88"/>
                </a:solidFill>
                <a:latin typeface="Raleway Black"/>
              </a:rPr>
              <a:t>N K S</a:t>
            </a:r>
            <a:endParaRPr b="0" lang="en-US" sz="9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1409" name="TextBox 46"/>
          <p:cNvSpPr/>
          <p:nvPr/>
        </p:nvSpPr>
        <p:spPr>
          <a:xfrm>
            <a:off x="3975120" y="3933720"/>
            <a:ext cx="42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Roboto"/>
              </a:rPr>
              <a:t>AND SEE YOU NEXT TIME</a:t>
            </a:r>
            <a:endParaRPr b="0" lang="en-US" sz="20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3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904" name="TextBox 4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05" name="Straight Connector 5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906" name="TextBox 6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907" name="TextBox 7"/>
          <p:cNvSpPr/>
          <p:nvPr/>
        </p:nvSpPr>
        <p:spPr>
          <a:xfrm>
            <a:off x="1658880" y="1974960"/>
            <a:ext cx="361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TALK ABOUT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VINUE BUSINESS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08" name="TextBox 8"/>
          <p:cNvSpPr/>
          <p:nvPr/>
        </p:nvSpPr>
        <p:spPr>
          <a:xfrm>
            <a:off x="1659960" y="17636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09" name="Straight Connector 9"/>
          <p:cNvSpPr/>
          <p:nvPr/>
        </p:nvSpPr>
        <p:spPr>
          <a:xfrm>
            <a:off x="1770120" y="3129120"/>
            <a:ext cx="5666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10" name="TextBox 10"/>
          <p:cNvSpPr/>
          <p:nvPr/>
        </p:nvSpPr>
        <p:spPr>
          <a:xfrm>
            <a:off x="1655640" y="3695760"/>
            <a:ext cx="4178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ec dui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 magna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11" name="TextBox 11"/>
          <p:cNvSpPr/>
          <p:nvPr/>
        </p:nvSpPr>
        <p:spPr>
          <a:xfrm>
            <a:off x="1655640" y="4522680"/>
            <a:ext cx="4178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tis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913" name="TextBox 5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914" name="TextBox 6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915" name="TextBox 7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916" name="TextBox 8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917" name="Straight Connector 9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918" name="TextBox 10" descr=""/>
          <p:cNvPicPr/>
          <p:nvPr/>
        </p:nvPicPr>
        <p:blipFill>
          <a:blip r:embed="rId1"/>
          <a:stretch/>
        </p:blipFill>
        <p:spPr>
          <a:xfrm>
            <a:off x="9144000" y="646200"/>
            <a:ext cx="1030320" cy="26172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1"/>
          <p:cNvSpPr/>
          <p:nvPr/>
        </p:nvSpPr>
        <p:spPr>
          <a:xfrm>
            <a:off x="5962680" y="1482840"/>
            <a:ext cx="41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PHILOSOPHY HER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20" name="TextBox 12"/>
          <p:cNvSpPr/>
          <p:nvPr/>
        </p:nvSpPr>
        <p:spPr>
          <a:xfrm>
            <a:off x="5963040" y="127008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21" name="Straight Connector 13"/>
          <p:cNvSpPr/>
          <p:nvPr/>
        </p:nvSpPr>
        <p:spPr>
          <a:xfrm>
            <a:off x="6073920" y="2635200"/>
            <a:ext cx="56484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22" name="TextBox 14"/>
          <p:cNvSpPr/>
          <p:nvPr/>
        </p:nvSpPr>
        <p:spPr>
          <a:xfrm>
            <a:off x="6425280" y="32338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Work Philosophy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23" name="TextBox 15"/>
          <p:cNvSpPr/>
          <p:nvPr/>
        </p:nvSpPr>
        <p:spPr>
          <a:xfrm>
            <a:off x="6494400" y="3502080"/>
            <a:ext cx="411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bh praesent tristique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 magna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24" name="TextBox 16"/>
          <p:cNvSpPr/>
          <p:nvPr/>
        </p:nvSpPr>
        <p:spPr>
          <a:xfrm>
            <a:off x="5968800" y="3200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dede"/>
                </a:solidFill>
                <a:latin typeface="Roboto"/>
                <a:ea typeface="Open Sans SemiBold"/>
              </a:rPr>
              <a:t>01</a:t>
            </a: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25" name="TextBox 17"/>
          <p:cNvSpPr/>
          <p:nvPr/>
        </p:nvSpPr>
        <p:spPr>
          <a:xfrm>
            <a:off x="6436440" y="449424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Service Philosophy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26" name="TextBox 18"/>
          <p:cNvSpPr/>
          <p:nvPr/>
        </p:nvSpPr>
        <p:spPr>
          <a:xfrm>
            <a:off x="6494400" y="4762440"/>
            <a:ext cx="41101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I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esent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tristique magna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27" name="TextBox 19"/>
          <p:cNvSpPr/>
          <p:nvPr/>
        </p:nvSpPr>
        <p:spPr>
          <a:xfrm>
            <a:off x="5968800" y="4459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dede"/>
                </a:solidFill>
                <a:latin typeface="Roboto"/>
                <a:ea typeface="Open Sans SemiBold"/>
              </a:rPr>
              <a:t>02</a:t>
            </a:r>
            <a:endParaRPr b="0" lang="en-US" sz="28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TextBox 4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929" name="TextBox 5"/>
          <p:cNvSpPr/>
          <p:nvPr/>
        </p:nvSpPr>
        <p:spPr>
          <a:xfrm>
            <a:off x="718920" y="592308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Roboto"/>
              </a:rPr>
              <a:t>The Best Planning</a:t>
            </a:r>
            <a:endParaRPr b="0" lang="en-US" sz="9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824040" y="2252520"/>
            <a:ext cx="0" cy="235296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931" name="TextBox 7" descr=""/>
          <p:cNvPicPr/>
          <p:nvPr/>
        </p:nvPicPr>
        <p:blipFill>
          <a:blip r:embed="rId2"/>
          <a:stretch/>
        </p:blipFill>
        <p:spPr>
          <a:xfrm>
            <a:off x="579600" y="3090960"/>
            <a:ext cx="212400" cy="67608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8"/>
          <p:cNvSpPr/>
          <p:nvPr/>
        </p:nvSpPr>
        <p:spPr>
          <a:xfrm>
            <a:off x="6991200" y="3033720"/>
            <a:ext cx="2857680" cy="181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33" name="TextBox 9"/>
          <p:cNvSpPr/>
          <p:nvPr/>
        </p:nvSpPr>
        <p:spPr>
          <a:xfrm>
            <a:off x="1598760" y="1544760"/>
            <a:ext cx="33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WHA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DO HERE?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34" name="TextBox 10"/>
          <p:cNvSpPr/>
          <p:nvPr/>
        </p:nvSpPr>
        <p:spPr>
          <a:xfrm>
            <a:off x="1599840" y="133200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1709640" y="2697120"/>
            <a:ext cx="5670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36" name="TextBox 12"/>
          <p:cNvSpPr/>
          <p:nvPr/>
        </p:nvSpPr>
        <p:spPr>
          <a:xfrm>
            <a:off x="2071440" y="3214800"/>
            <a:ext cx="21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Grow Your Busines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37" name="TextBox 13"/>
          <p:cNvSpPr/>
          <p:nvPr/>
        </p:nvSpPr>
        <p:spPr>
          <a:xfrm>
            <a:off x="2138400" y="3483000"/>
            <a:ext cx="3625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38" name="TextBox 14"/>
          <p:cNvSpPr/>
          <p:nvPr/>
        </p:nvSpPr>
        <p:spPr>
          <a:xfrm>
            <a:off x="2031840" y="4432320"/>
            <a:ext cx="29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Low Risk &amp; High Prediction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39" name="TextBox 15"/>
          <p:cNvSpPr/>
          <p:nvPr/>
        </p:nvSpPr>
        <p:spPr>
          <a:xfrm>
            <a:off x="2138400" y="4700520"/>
            <a:ext cx="3625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ntu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ena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940" name="Group 4" descr=""/>
          <p:cNvPicPr/>
          <p:nvPr/>
        </p:nvPicPr>
        <p:blipFill>
          <a:blip r:embed="rId3"/>
          <a:stretch/>
        </p:blipFill>
        <p:spPr>
          <a:xfrm>
            <a:off x="1706400" y="329724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941" name="Group 185" descr=""/>
          <p:cNvPicPr/>
          <p:nvPr/>
        </p:nvPicPr>
        <p:blipFill>
          <a:blip r:embed="rId4"/>
          <a:stretch/>
        </p:blipFill>
        <p:spPr>
          <a:xfrm>
            <a:off x="1712880" y="4522680"/>
            <a:ext cx="353880" cy="298440"/>
          </a:xfrm>
          <a:prstGeom prst="rect">
            <a:avLst/>
          </a:prstGeom>
          <a:ln w="0">
            <a:noFill/>
          </a:ln>
        </p:spPr>
      </p:pic>
      <p:pic>
        <p:nvPicPr>
          <p:cNvPr id="942" name="Group 230" descr=""/>
          <p:cNvPicPr/>
          <p:nvPr/>
        </p:nvPicPr>
        <p:blipFill>
          <a:blip r:embed="rId5"/>
          <a:stretch/>
        </p:blipFill>
        <p:spPr>
          <a:xfrm>
            <a:off x="8285040" y="3389400"/>
            <a:ext cx="268560" cy="317520"/>
          </a:xfrm>
          <a:prstGeom prst="rect">
            <a:avLst/>
          </a:prstGeom>
          <a:ln w="0">
            <a:noFill/>
          </a:ln>
        </p:spPr>
      </p:pic>
      <p:sp>
        <p:nvSpPr>
          <p:cNvPr id="943" name="TextBox 31"/>
          <p:cNvSpPr/>
          <p:nvPr/>
        </p:nvSpPr>
        <p:spPr>
          <a:xfrm>
            <a:off x="7675560" y="375912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Times New Roman"/>
              </a:rPr>
              <a:t>Business High Incom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1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945" name="TextBox 2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946" name="TextBox 3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947" name="TextBox 4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948" name="TextBox 5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949" name="Straight Connector 6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950" name="TextBox 7" descr=""/>
          <p:cNvPicPr/>
          <p:nvPr/>
        </p:nvPicPr>
        <p:blipFill>
          <a:blip r:embed="rId1"/>
          <a:stretch/>
        </p:blipFill>
        <p:spPr>
          <a:xfrm>
            <a:off x="9144000" y="646200"/>
            <a:ext cx="1030320" cy="261720"/>
          </a:xfrm>
          <a:prstGeom prst="rect">
            <a:avLst/>
          </a:prstGeom>
          <a:ln w="0">
            <a:noFill/>
          </a:ln>
        </p:spPr>
      </p:pic>
      <p:sp>
        <p:nvSpPr>
          <p:cNvPr id="951" name="Rectangle 11"/>
          <p:cNvSpPr/>
          <p:nvPr/>
        </p:nvSpPr>
        <p:spPr>
          <a:xfrm>
            <a:off x="3352680" y="4338720"/>
            <a:ext cx="3448080" cy="1768320"/>
          </a:xfrm>
          <a:prstGeom prst="rect">
            <a:avLst/>
          </a:prstGeom>
          <a:solidFill>
            <a:srgbClr val="112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52" name="Rectangle 12"/>
          <p:cNvSpPr/>
          <p:nvPr/>
        </p:nvSpPr>
        <p:spPr>
          <a:xfrm>
            <a:off x="7020000" y="4338720"/>
            <a:ext cx="3448080" cy="1768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53" name="TextBox 13"/>
          <p:cNvSpPr/>
          <p:nvPr/>
        </p:nvSpPr>
        <p:spPr>
          <a:xfrm>
            <a:off x="5775480" y="1849320"/>
            <a:ext cx="40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HISTORY HERE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54" name="TextBox 14"/>
          <p:cNvSpPr/>
          <p:nvPr/>
        </p:nvSpPr>
        <p:spPr>
          <a:xfrm>
            <a:off x="5776560" y="163656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55" name="Straight Connector 15"/>
          <p:cNvSpPr/>
          <p:nvPr/>
        </p:nvSpPr>
        <p:spPr>
          <a:xfrm>
            <a:off x="5886360" y="3002040"/>
            <a:ext cx="5670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56" name="TextBox 16"/>
          <p:cNvSpPr/>
          <p:nvPr/>
        </p:nvSpPr>
        <p:spPr>
          <a:xfrm>
            <a:off x="5775480" y="3436920"/>
            <a:ext cx="4797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 Risus pr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ium quam vulputate dignissim. Eni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g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ci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ec dui nunc 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tis enim ut tellus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m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lem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57" name="TextBox 17"/>
          <p:cNvSpPr/>
          <p:nvPr/>
        </p:nvSpPr>
        <p:spPr>
          <a:xfrm>
            <a:off x="3695760" y="4941720"/>
            <a:ext cx="2757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 Risus pretium quam vulputate dignissim. Enim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58" name="TextBox 18"/>
          <p:cNvSpPr/>
          <p:nvPr/>
        </p:nvSpPr>
        <p:spPr>
          <a:xfrm>
            <a:off x="3659040" y="4667400"/>
            <a:ext cx="23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01 May 2019, Moskow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59" name="TextBox 19"/>
          <p:cNvSpPr/>
          <p:nvPr/>
        </p:nvSpPr>
        <p:spPr>
          <a:xfrm>
            <a:off x="7381800" y="4941720"/>
            <a:ext cx="2757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sit amet. Risus pretium quam vulputate dignissim. Enim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60" name="TextBox 20"/>
          <p:cNvSpPr/>
          <p:nvPr/>
        </p:nvSpPr>
        <p:spPr>
          <a:xfrm>
            <a:off x="7345800" y="466740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23 December 2020, Swiss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TextBox 5" descr=""/>
          <p:cNvPicPr/>
          <p:nvPr/>
        </p:nvPicPr>
        <p:blipFill>
          <a:blip r:embed="rId1"/>
          <a:stretch/>
        </p:blipFill>
        <p:spPr>
          <a:xfrm>
            <a:off x="738360" y="646200"/>
            <a:ext cx="639720" cy="212760"/>
          </a:xfrm>
          <a:prstGeom prst="rect">
            <a:avLst/>
          </a:prstGeom>
          <a:ln w="0">
            <a:noFill/>
          </a:ln>
        </p:spPr>
      </p:pic>
      <p:sp>
        <p:nvSpPr>
          <p:cNvPr id="962" name="TextBox 6"/>
          <p:cNvSpPr/>
          <p:nvPr/>
        </p:nvSpPr>
        <p:spPr>
          <a:xfrm>
            <a:off x="2297160" y="1087560"/>
            <a:ext cx="75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VISION BUSINESS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63" name="TextBox 7"/>
          <p:cNvSpPr/>
          <p:nvPr/>
        </p:nvSpPr>
        <p:spPr>
          <a:xfrm>
            <a:off x="4976280" y="87624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64" name="Straight Connector 8"/>
          <p:cNvSpPr/>
          <p:nvPr/>
        </p:nvSpPr>
        <p:spPr>
          <a:xfrm>
            <a:off x="5813280" y="176220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65" name="TextBox 10"/>
          <p:cNvSpPr/>
          <p:nvPr/>
        </p:nvSpPr>
        <p:spPr>
          <a:xfrm>
            <a:off x="860400" y="5896080"/>
            <a:ext cx="4375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d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66" name="TextBox 11"/>
          <p:cNvSpPr/>
          <p:nvPr/>
        </p:nvSpPr>
        <p:spPr>
          <a:xfrm>
            <a:off x="793800" y="562140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Company Vision On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67" name="TextBox 12"/>
          <p:cNvSpPr/>
          <p:nvPr/>
        </p:nvSpPr>
        <p:spPr>
          <a:xfrm>
            <a:off x="6842160" y="5896080"/>
            <a:ext cx="4375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et nibh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iba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praesent tristique magna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amina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sit amet. Risus pretium quam vulputate dignissim. Enim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silka milal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ec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is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b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d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6787440" y="5621400"/>
            <a:ext cx="22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Company Vision Two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1"/>
          <p:cNvGrpSpPr/>
          <p:nvPr/>
        </p:nvGrpSpPr>
        <p:grpSpPr>
          <a:xfrm>
            <a:off x="11142360" y="4846680"/>
            <a:ext cx="342360" cy="1261080"/>
            <a:chOff x="11142360" y="4846680"/>
            <a:chExt cx="342360" cy="1261080"/>
          </a:xfrm>
        </p:grpSpPr>
        <p:sp>
          <p:nvSpPr>
            <p:cNvPr id="970" name="TextBox 2"/>
            <p:cNvSpPr/>
            <p:nvPr/>
          </p:nvSpPr>
          <p:spPr>
            <a:xfrm>
              <a:off x="11213640" y="484668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1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971" name="TextBox 3"/>
            <p:cNvSpPr/>
            <p:nvPr/>
          </p:nvSpPr>
          <p:spPr>
            <a:xfrm>
              <a:off x="11213640" y="516924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2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972" name="TextBox 4"/>
            <p:cNvSpPr/>
            <p:nvPr/>
          </p:nvSpPr>
          <p:spPr>
            <a:xfrm>
              <a:off x="11142360" y="5491800"/>
              <a:ext cx="34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89b7c0"/>
                  </a:solidFill>
                  <a:latin typeface="Roboto"/>
                </a:rPr>
                <a:t>03</a:t>
              </a:r>
              <a:endParaRPr b="0" lang="en-US" sz="1100" spc="-1" strike="noStrike">
                <a:solidFill>
                  <a:srgbClr val="1f1f1f"/>
                </a:solidFill>
                <a:latin typeface="Roboto"/>
              </a:endParaRPr>
            </a:p>
          </p:txBody>
        </p:sp>
        <p:sp>
          <p:nvSpPr>
            <p:cNvPr id="973" name="TextBox 5"/>
            <p:cNvSpPr/>
            <p:nvPr/>
          </p:nvSpPr>
          <p:spPr>
            <a:xfrm>
              <a:off x="11213640" y="5922360"/>
              <a:ext cx="26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cccccc"/>
                  </a:solidFill>
                  <a:latin typeface="Roboto"/>
                </a:rPr>
                <a:t>04</a:t>
              </a:r>
              <a:endParaRPr b="0" lang="en-US" sz="600" spc="-1" strike="noStrike">
                <a:solidFill>
                  <a:srgbClr val="1f1f1f"/>
                </a:solidFill>
                <a:latin typeface="Roboto"/>
              </a:endParaRPr>
            </a:p>
          </p:txBody>
        </p:sp>
      </p:grpSp>
      <p:sp>
        <p:nvSpPr>
          <p:cNvPr id="974" name="Straight Connector 6"/>
          <p:cNvSpPr/>
          <p:nvPr/>
        </p:nvSpPr>
        <p:spPr>
          <a:xfrm flipH="1">
            <a:off x="10173960" y="785880"/>
            <a:ext cx="1189080" cy="0"/>
          </a:xfrm>
          <a:prstGeom prst="line">
            <a:avLst/>
          </a:prstGeom>
          <a:ln w="6480">
            <a:solidFill>
              <a:srgbClr val="112031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pic>
        <p:nvPicPr>
          <p:cNvPr id="975" name="TextBox 7" descr=""/>
          <p:cNvPicPr/>
          <p:nvPr/>
        </p:nvPicPr>
        <p:blipFill>
          <a:blip r:embed="rId1"/>
          <a:stretch/>
        </p:blipFill>
        <p:spPr>
          <a:xfrm>
            <a:off x="9144000" y="646200"/>
            <a:ext cx="1030320" cy="261720"/>
          </a:xfrm>
          <a:prstGeom prst="rect">
            <a:avLst/>
          </a:prstGeom>
          <a:ln w="0">
            <a:noFill/>
          </a:ln>
        </p:spPr>
      </p:pic>
      <p:sp>
        <p:nvSpPr>
          <p:cNvPr id="976" name="TextBox 10"/>
          <p:cNvSpPr/>
          <p:nvPr/>
        </p:nvSpPr>
        <p:spPr>
          <a:xfrm>
            <a:off x="6435720" y="1906560"/>
            <a:ext cx="402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1f1f"/>
                </a:solidFill>
                <a:latin typeface="Raleway Bold"/>
              </a:rPr>
              <a:t>ABOUT VINUE </a:t>
            </a:r>
            <a:r>
              <a:rPr b="0" lang="en-US" sz="3200" spc="-1" strike="noStrike">
                <a:solidFill>
                  <a:srgbClr val="345b63"/>
                </a:solidFill>
                <a:latin typeface="Raleway Bold"/>
              </a:rPr>
              <a:t>MISSION BUSINESS</a:t>
            </a:r>
            <a:endParaRPr b="0" lang="en-US" sz="32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77" name="TextBox 11"/>
          <p:cNvSpPr/>
          <p:nvPr/>
        </p:nvSpPr>
        <p:spPr>
          <a:xfrm>
            <a:off x="6436080" y="1693800"/>
            <a:ext cx="223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b2b2"/>
                </a:solidFill>
                <a:latin typeface="Roboto"/>
              </a:rPr>
              <a:t>Our Best Business Plan At 2021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78" name="Straight Connector 12"/>
          <p:cNvSpPr/>
          <p:nvPr/>
        </p:nvSpPr>
        <p:spPr>
          <a:xfrm>
            <a:off x="6546960" y="3059280"/>
            <a:ext cx="565200" cy="0"/>
          </a:xfrm>
          <a:prstGeom prst="line">
            <a:avLst/>
          </a:prstGeom>
          <a:ln w="25560">
            <a:solidFill>
              <a:srgbClr val="487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79" name="TextBox 13"/>
          <p:cNvSpPr/>
          <p:nvPr/>
        </p:nvSpPr>
        <p:spPr>
          <a:xfrm>
            <a:off x="2341440" y="4119480"/>
            <a:ext cx="3173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nibh praesen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bh praesent tristique magna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q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80" name="TextBox 14"/>
          <p:cNvSpPr/>
          <p:nvPr/>
        </p:nvSpPr>
        <p:spPr>
          <a:xfrm>
            <a:off x="2310480" y="385596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01. Mission On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81" name="TextBox 15"/>
          <p:cNvSpPr/>
          <p:nvPr/>
        </p:nvSpPr>
        <p:spPr>
          <a:xfrm>
            <a:off x="2354400" y="5181480"/>
            <a:ext cx="3173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et nibh praesent tristique magna sit amet. nibh praesent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 I </a:t>
            </a:r>
            <a:r>
              <a:rPr b="0" lang="id-ID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nibh praesent tristique magna </a:t>
            </a:r>
            <a:r>
              <a:rPr b="0" lang="en-US" sz="1100" spc="-1" strike="noStrike">
                <a:solidFill>
                  <a:srgbClr val="ffffff"/>
                </a:solidFill>
                <a:latin typeface="Roboto"/>
                <a:ea typeface="Times New Roman"/>
              </a:rPr>
              <a:t>r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82" name="TextBox 16"/>
          <p:cNvSpPr/>
          <p:nvPr/>
        </p:nvSpPr>
        <p:spPr>
          <a:xfrm>
            <a:off x="2335320" y="491652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  <a:ea typeface="Open Sans SemiBold"/>
              </a:rPr>
              <a:t>02. Mission Two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83" name="TextBox 17"/>
          <p:cNvSpPr/>
          <p:nvPr/>
        </p:nvSpPr>
        <p:spPr>
          <a:xfrm>
            <a:off x="6470640" y="4122720"/>
            <a:ext cx="40244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wtwyjt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ibh praesen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bh praesent tristique magna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q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bh praesent trist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84" name="TextBox 18"/>
          <p:cNvSpPr/>
          <p:nvPr/>
        </p:nvSpPr>
        <p:spPr>
          <a:xfrm>
            <a:off x="6442200" y="385920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03. Mission Three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85" name="TextBox 19"/>
          <p:cNvSpPr/>
          <p:nvPr/>
        </p:nvSpPr>
        <p:spPr>
          <a:xfrm>
            <a:off x="6483240" y="5184720"/>
            <a:ext cx="40244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liqu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a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et nibh praesent tristique magna sit amet.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wtwyjt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nibh praesent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 I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bh praesent tristique magna </a:t>
            </a:r>
            <a:r>
              <a:rPr b="0" lang="en-US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q </a:t>
            </a:r>
            <a:r>
              <a:rPr b="0" lang="id-ID" sz="1100" spc="-1" strike="noStrike">
                <a:solidFill>
                  <a:srgbClr val="7f7f7f"/>
                </a:solidFill>
                <a:latin typeface="Roboto"/>
                <a:ea typeface="Times New Roman"/>
              </a:rPr>
              <a:t>nibh praesent trist</a:t>
            </a:r>
            <a:endParaRPr b="0" lang="en-US" sz="1100" spc="-1" strike="noStrike">
              <a:solidFill>
                <a:srgbClr val="1f1f1f"/>
              </a:solidFill>
              <a:latin typeface="Roboto"/>
            </a:endParaRPr>
          </a:p>
        </p:txBody>
      </p:sp>
      <p:sp>
        <p:nvSpPr>
          <p:cNvPr id="986" name="TextBox 20"/>
          <p:cNvSpPr/>
          <p:nvPr/>
        </p:nvSpPr>
        <p:spPr>
          <a:xfrm>
            <a:off x="6455520" y="491976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Roboto"/>
                <a:ea typeface="Open Sans SemiBold"/>
              </a:rPr>
              <a:t>04. Mission Four</a:t>
            </a:r>
            <a:endParaRPr b="0" lang="en-US" sz="1600" spc="-1" strike="noStrike">
              <a:solidFill>
                <a:srgbClr val="1f1f1f"/>
              </a:solidFill>
              <a:latin typeface="Robo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26T07:19:48Z</dcterms:created>
  <dc:creator>ASUS90</dc:creator>
  <dc:description/>
  <dc:language>en-US</dc:language>
  <cp:lastModifiedBy>nabila</cp:lastModifiedBy>
  <dcterms:modified xsi:type="dcterms:W3CDTF">2021-09-14T03:52:46Z</dcterms:modified>
  <cp:revision>879</cp:revision>
  <dc:subject/>
  <dc:title>PowerPoint Presentation</dc:title>
</cp:coreProperties>
</file>