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716000" cy="24382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44C9-42CD-4B13-A1C1-0D8C456A0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1103796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7760" y="12987720"/>
            <a:ext cx="1103796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50452-27B1-431F-83F5-A182A6E0F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93720" y="123649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7760" y="129877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993720" y="129877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DCEF-61D4-4138-B1D4-44AC6C2E9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35539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1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9880" y="12364920"/>
            <a:ext cx="35539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1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1640" y="12364920"/>
            <a:ext cx="35539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1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7760" y="12987720"/>
            <a:ext cx="35539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1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5069880" y="12987720"/>
            <a:ext cx="35539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1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801640" y="12987720"/>
            <a:ext cx="35539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1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F28F-2EF5-47AE-9C69-DA17047764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7760" y="12259800"/>
            <a:ext cx="11037960" cy="14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D016-C4CC-4EB9-88DB-69EE0701DD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11037960" cy="11923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77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497F-29DE-4CDC-9EB3-3C7222BAB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5386320" cy="11923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48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993720" y="12364920"/>
            <a:ext cx="5386320" cy="11923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48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4CD4-E30F-4261-A4E1-C592F96FA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0170-E9BF-4CF0-874F-EFE44E58B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37760" y="8775360"/>
            <a:ext cx="11037960" cy="161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2AEE-4216-4C8F-ACDC-D14E2D6B8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993720" y="12364920"/>
            <a:ext cx="5386320" cy="11923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48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7760" y="129877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C086-11D8-44D4-98C7-6BB14609F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5386320" cy="11923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48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993720" y="123649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93720" y="129877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9C97-C6BE-4A4D-BC75-2407D37BE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993720" y="123649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7760" y="12987720"/>
            <a:ext cx="1103796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2AE5-5057-4B28-8C88-76A7A0DD0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7760" y="8775360"/>
            <a:ext cx="11037960" cy="348300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7760" y="12364920"/>
            <a:ext cx="11037960" cy="11923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11000"/>
          </a:bodyPr>
          <a:p>
            <a:pPr indent="0"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  <a:p>
            <a:pPr lvl="1" algn="ctr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  <a:p>
            <a:pPr lvl="2" algn="ctr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  <a:p>
            <a:pPr lvl="3" algn="ctr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  <a:p>
            <a:pPr lvl="4" algn="ctr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  <a:p>
            <a:pPr lvl="5" algn="ctr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  <a:p>
            <a:pPr lvl="6" algn="ctr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12040" y="16853040"/>
            <a:ext cx="684000" cy="7142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  <a:defRPr b="0" lang="en-US" sz="4000" spc="-1" strike="noStrike">
                <a:solidFill>
                  <a:srgbClr val="000000"/>
                </a:solidFill>
                <a:latin typeface="Helvetica Neue Thin"/>
                <a:ea typeface="Helvetica Neue Thi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fld id="{188089D5-967C-4218-BDD9-5EC0B81C86D1}" type="slidenum">
              <a:rPr b="0" lang="en-US" sz="4000" spc="-1" strike="noStrike">
                <a:solidFill>
                  <a:srgbClr val="000000"/>
                </a:solidFill>
                <a:latin typeface="Helvetica Neue Thin"/>
                <a:ea typeface="Helvetica Neue Thin"/>
              </a:rPr>
              <a:t>&lt;number&gt;</a:t>
            </a:fld>
            <a:endParaRPr b="1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1.jpe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1.jpe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1.jpe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1.jpe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1.jpe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-22320" y="0"/>
            <a:ext cx="13760640" cy="24436440"/>
          </a:xfrm>
          <a:prstGeom prst="rect">
            <a:avLst/>
          </a:prstGeom>
          <a:solidFill>
            <a:srgbClr val="ede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"/>
          <p:cNvSpPr/>
          <p:nvPr/>
        </p:nvSpPr>
        <p:spPr>
          <a:xfrm>
            <a:off x="914400" y="990720"/>
            <a:ext cx="7754760" cy="7754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"/>
          <p:cNvSpPr/>
          <p:nvPr/>
        </p:nvSpPr>
        <p:spPr>
          <a:xfrm>
            <a:off x="5219640" y="3784680"/>
            <a:ext cx="7589880" cy="10763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5688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"/>
          <p:cNvSpPr/>
          <p:nvPr/>
        </p:nvSpPr>
        <p:spPr>
          <a:xfrm>
            <a:off x="3035160" y="13646160"/>
            <a:ext cx="5199120" cy="2230560"/>
          </a:xfrm>
          <a:prstGeom prst="rect">
            <a:avLst/>
          </a:prstGeom>
          <a:solidFill>
            <a:srgbClr val="ac514d"/>
          </a:solidFill>
          <a:ln w="0">
            <a:noFill/>
          </a:ln>
          <a:effectLst>
            <a:outerShdw dist="5688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"/>
          <p:cNvSpPr/>
          <p:nvPr/>
        </p:nvSpPr>
        <p:spPr>
          <a:xfrm>
            <a:off x="996840" y="16713360"/>
            <a:ext cx="7588440" cy="107629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5688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" name=""/>
          <p:cNvSpPr/>
          <p:nvPr/>
        </p:nvSpPr>
        <p:spPr>
          <a:xfrm>
            <a:off x="11398320" y="6702480"/>
            <a:ext cx="9067680" cy="11833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" name=""/>
          <p:cNvSpPr/>
          <p:nvPr/>
        </p:nvSpPr>
        <p:spPr>
          <a:xfrm>
            <a:off x="17846640" y="14990760"/>
            <a:ext cx="3108240" cy="52722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" name=""/>
          <p:cNvSpPr/>
          <p:nvPr/>
        </p:nvSpPr>
        <p:spPr>
          <a:xfrm>
            <a:off x="17846640" y="20699280"/>
            <a:ext cx="3108240" cy="52722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"/>
          <p:cNvSpPr/>
          <p:nvPr/>
        </p:nvSpPr>
        <p:spPr>
          <a:xfrm>
            <a:off x="17805240" y="9347040"/>
            <a:ext cx="3108600" cy="52707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801920" y="8920080"/>
            <a:ext cx="5197320" cy="17567280"/>
            <a:chOff x="16801920" y="8920080"/>
            <a:chExt cx="5197320" cy="17567280"/>
          </a:xfrm>
        </p:grpSpPr>
        <p:sp>
          <p:nvSpPr>
            <p:cNvPr id="49" name=""/>
            <p:cNvSpPr/>
            <p:nvPr/>
          </p:nvSpPr>
          <p:spPr>
            <a:xfrm rot="5400000">
              <a:off x="16306200" y="9415440"/>
              <a:ext cx="6188400" cy="519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50" name=""/>
            <p:cNvSpPr/>
            <p:nvPr/>
          </p:nvSpPr>
          <p:spPr>
            <a:xfrm rot="5400000">
              <a:off x="16306200" y="15079320"/>
              <a:ext cx="6188400" cy="519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51" name=""/>
            <p:cNvSpPr/>
            <p:nvPr/>
          </p:nvSpPr>
          <p:spPr>
            <a:xfrm rot="5400000">
              <a:off x="16306200" y="20794320"/>
              <a:ext cx="6188400" cy="519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0341000" y="19202400"/>
            <a:ext cx="7008840" cy="2556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688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"/>
          <p:cNvSpPr/>
          <p:nvPr/>
        </p:nvSpPr>
        <p:spPr>
          <a:xfrm>
            <a:off x="3368520" y="14131080"/>
            <a:ext cx="45324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James's Park (on High Holborn Rd)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"/>
          <p:cNvSpPr/>
          <p:nvPr/>
        </p:nvSpPr>
        <p:spPr>
          <a:xfrm>
            <a:off x="10611000" y="19861920"/>
            <a:ext cx="64674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James's Park (on High Holborn Rd)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5" name="43.png" descr=""/>
          <p:cNvPicPr/>
          <p:nvPr/>
        </p:nvPicPr>
        <p:blipFill>
          <a:blip r:embed="rId8"/>
          <a:stretch/>
        </p:blipFill>
        <p:spPr>
          <a:xfrm flipH="1" rot="20279400">
            <a:off x="-848160" y="13389120"/>
            <a:ext cx="4073760" cy="5692320"/>
          </a:xfrm>
          <a:prstGeom prst="rect">
            <a:avLst/>
          </a:prstGeom>
          <a:ln w="0">
            <a:noFill/>
          </a:ln>
        </p:spPr>
      </p:pic>
      <p:pic>
        <p:nvPicPr>
          <p:cNvPr id="56" name="pasted-image.png" descr=""/>
          <p:cNvPicPr/>
          <p:nvPr/>
        </p:nvPicPr>
        <p:blipFill>
          <a:blip r:embed="rId9"/>
          <a:stretch/>
        </p:blipFill>
        <p:spPr>
          <a:xfrm>
            <a:off x="17364240" y="3589200"/>
            <a:ext cx="1992240" cy="4130640"/>
          </a:xfrm>
          <a:prstGeom prst="rect">
            <a:avLst/>
          </a:prstGeom>
          <a:ln w="0">
            <a:noFill/>
          </a:ln>
        </p:spPr>
      </p:pic>
      <p:pic>
        <p:nvPicPr>
          <p:cNvPr id="57" name="pasted-image.png" descr=""/>
          <p:cNvPicPr/>
          <p:nvPr/>
        </p:nvPicPr>
        <p:blipFill>
          <a:blip r:embed="rId10"/>
          <a:stretch/>
        </p:blipFill>
        <p:spPr>
          <a:xfrm>
            <a:off x="19369080" y="6521400"/>
            <a:ext cx="2341440" cy="1913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56560" y="2263680"/>
            <a:ext cx="66110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6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Common Space</a:t>
            </a:r>
            <a:endParaRPr b="1" lang="en-US" sz="6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" name=""/>
          <p:cNvSpPr/>
          <p:nvPr/>
        </p:nvSpPr>
        <p:spPr>
          <a:xfrm>
            <a:off x="2239920" y="3726720"/>
            <a:ext cx="679140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en Sans SemiBold"/>
                <a:ea typeface="Open Sans SemiBold"/>
              </a:rPr>
              <a:t>Having won the title of ‘The Greatest Orchestra of all Time’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0" name="pasted-image.png" descr=""/>
          <p:cNvPicPr/>
          <p:nvPr/>
        </p:nvPicPr>
        <p:blipFill>
          <a:blip r:embed="rId11"/>
          <a:stretch/>
        </p:blipFill>
        <p:spPr>
          <a:xfrm>
            <a:off x="-1541520" y="9920160"/>
            <a:ext cx="9313920" cy="1737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185480" y="-5796000"/>
            <a:ext cx="7572240" cy="1075536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"/>
          <p:cNvSpPr/>
          <p:nvPr/>
        </p:nvSpPr>
        <p:spPr>
          <a:xfrm>
            <a:off x="15246360" y="-879840"/>
            <a:ext cx="659772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i="1" lang="en-US" sz="3200" spc="-1" strike="noStrike">
                <a:solidFill>
                  <a:srgbClr val="ac514d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63" name="pasted-image.png" descr=""/>
          <p:cNvPicPr/>
          <p:nvPr/>
        </p:nvPicPr>
        <p:blipFill>
          <a:blip r:embed="rId13"/>
          <a:stretch/>
        </p:blipFill>
        <p:spPr>
          <a:xfrm>
            <a:off x="6031080" y="21612240"/>
            <a:ext cx="5503680" cy="4884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95880" y="13157280"/>
            <a:ext cx="878040" cy="876240"/>
          </a:xfrm>
          <a:prstGeom prst="ellipse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6d5d5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"/>
          <p:cNvSpPr/>
          <p:nvPr/>
        </p:nvSpPr>
        <p:spPr>
          <a:xfrm>
            <a:off x="13406400" y="18730800"/>
            <a:ext cx="876240" cy="878040"/>
          </a:xfrm>
          <a:prstGeom prst="ellipse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6d5d5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"/>
          <p:cNvSpPr/>
          <p:nvPr/>
        </p:nvSpPr>
        <p:spPr>
          <a:xfrm>
            <a:off x="10501200" y="6161040"/>
            <a:ext cx="323712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"/>
          <p:cNvSpPr/>
          <p:nvPr/>
        </p:nvSpPr>
        <p:spPr>
          <a:xfrm>
            <a:off x="3173400" y="538200"/>
            <a:ext cx="32367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"/>
          <p:cNvSpPr/>
          <p:nvPr/>
        </p:nvSpPr>
        <p:spPr>
          <a:xfrm>
            <a:off x="2843280" y="16094160"/>
            <a:ext cx="32367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"/>
          <p:cNvSpPr/>
          <p:nvPr/>
        </p:nvSpPr>
        <p:spPr>
          <a:xfrm>
            <a:off x="20547000" y="9414000"/>
            <a:ext cx="32367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"/>
          <p:cNvSpPr/>
          <p:nvPr/>
        </p:nvSpPr>
        <p:spPr>
          <a:xfrm>
            <a:off x="6508800" y="22784400"/>
            <a:ext cx="3849480" cy="25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8759880" y="-81000"/>
            <a:ext cx="23925240" cy="33915240"/>
          </a:xfrm>
          <a:prstGeom prst="rect">
            <a:avLst/>
          </a:prstGeom>
          <a:solidFill>
            <a:srgbClr val="ede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"/>
          <p:cNvSpPr/>
          <p:nvPr/>
        </p:nvSpPr>
        <p:spPr>
          <a:xfrm>
            <a:off x="-7823160" y="10388520"/>
            <a:ext cx="7756560" cy="775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"/>
          <p:cNvSpPr/>
          <p:nvPr/>
        </p:nvSpPr>
        <p:spPr>
          <a:xfrm>
            <a:off x="-3516480" y="13182480"/>
            <a:ext cx="7588440" cy="10763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5688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"/>
          <p:cNvSpPr/>
          <p:nvPr/>
        </p:nvSpPr>
        <p:spPr>
          <a:xfrm>
            <a:off x="-5700600" y="23044320"/>
            <a:ext cx="5199120" cy="2230200"/>
          </a:xfrm>
          <a:prstGeom prst="rect">
            <a:avLst/>
          </a:prstGeom>
          <a:solidFill>
            <a:srgbClr val="ac514d"/>
          </a:solidFill>
          <a:ln w="0">
            <a:noFill/>
          </a:ln>
          <a:effectLst>
            <a:outerShdw dist="5688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"/>
          <p:cNvSpPr/>
          <p:nvPr/>
        </p:nvSpPr>
        <p:spPr>
          <a:xfrm>
            <a:off x="-7738920" y="26111160"/>
            <a:ext cx="7588080" cy="10763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5688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"/>
          <p:cNvSpPr/>
          <p:nvPr/>
        </p:nvSpPr>
        <p:spPr>
          <a:xfrm>
            <a:off x="2558880" y="15886080"/>
            <a:ext cx="9068040" cy="11833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"/>
          <p:cNvSpPr/>
          <p:nvPr/>
        </p:nvSpPr>
        <p:spPr>
          <a:xfrm>
            <a:off x="9109080" y="24388920"/>
            <a:ext cx="3108240" cy="52718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"/>
          <p:cNvSpPr/>
          <p:nvPr/>
        </p:nvSpPr>
        <p:spPr>
          <a:xfrm>
            <a:off x="9109080" y="30097440"/>
            <a:ext cx="3108240" cy="52722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"/>
          <p:cNvSpPr/>
          <p:nvPr/>
        </p:nvSpPr>
        <p:spPr>
          <a:xfrm>
            <a:off x="9067680" y="18745200"/>
            <a:ext cx="3108600" cy="52704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8064360" y="18318240"/>
            <a:ext cx="5197680" cy="17567280"/>
            <a:chOff x="8064360" y="18318240"/>
            <a:chExt cx="5197680" cy="17567280"/>
          </a:xfrm>
        </p:grpSpPr>
        <p:sp>
          <p:nvSpPr>
            <p:cNvPr id="81" name=""/>
            <p:cNvSpPr/>
            <p:nvPr/>
          </p:nvSpPr>
          <p:spPr>
            <a:xfrm rot="5400000">
              <a:off x="7569000" y="18813600"/>
              <a:ext cx="6188400" cy="519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82" name=""/>
            <p:cNvSpPr/>
            <p:nvPr/>
          </p:nvSpPr>
          <p:spPr>
            <a:xfrm rot="5400000">
              <a:off x="7569000" y="24477480"/>
              <a:ext cx="6188400" cy="519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83" name=""/>
            <p:cNvSpPr/>
            <p:nvPr/>
          </p:nvSpPr>
          <p:spPr>
            <a:xfrm rot="5400000">
              <a:off x="7569000" y="30192480"/>
              <a:ext cx="6188400" cy="519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603440" y="28600560"/>
            <a:ext cx="7008840" cy="2555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688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"/>
          <p:cNvSpPr/>
          <p:nvPr/>
        </p:nvSpPr>
        <p:spPr>
          <a:xfrm>
            <a:off x="-5367240" y="23528880"/>
            <a:ext cx="45320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James's Park (on High Holborn Rd)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"/>
          <p:cNvSpPr/>
          <p:nvPr/>
        </p:nvSpPr>
        <p:spPr>
          <a:xfrm>
            <a:off x="1873080" y="29260080"/>
            <a:ext cx="64677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James's Park (on High Holborn Rd)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87" name="43.png" descr=""/>
          <p:cNvPicPr/>
          <p:nvPr/>
        </p:nvPicPr>
        <p:blipFill>
          <a:blip r:embed="rId8"/>
          <a:stretch/>
        </p:blipFill>
        <p:spPr>
          <a:xfrm flipH="1" rot="20279400">
            <a:off x="-9585360" y="22786920"/>
            <a:ext cx="4073400" cy="5692320"/>
          </a:xfrm>
          <a:prstGeom prst="rect">
            <a:avLst/>
          </a:prstGeom>
          <a:ln w="0">
            <a:noFill/>
          </a:ln>
        </p:spPr>
      </p:pic>
      <p:pic>
        <p:nvPicPr>
          <p:cNvPr id="88" name="pasted-image.pdf" descr=""/>
          <p:cNvPicPr/>
          <p:nvPr/>
        </p:nvPicPr>
        <p:blipFill>
          <a:blip r:embed="rId9"/>
          <a:stretch/>
        </p:blipFill>
        <p:spPr>
          <a:xfrm>
            <a:off x="8626320" y="12987360"/>
            <a:ext cx="1992600" cy="4130640"/>
          </a:xfrm>
          <a:prstGeom prst="rect">
            <a:avLst/>
          </a:prstGeom>
          <a:ln w="0">
            <a:noFill/>
          </a:ln>
        </p:spPr>
      </p:pic>
      <p:pic>
        <p:nvPicPr>
          <p:cNvPr id="89" name="pasted-image.pdf" descr=""/>
          <p:cNvPicPr/>
          <p:nvPr/>
        </p:nvPicPr>
        <p:blipFill>
          <a:blip r:embed="rId10"/>
          <a:stretch/>
        </p:blipFill>
        <p:spPr>
          <a:xfrm>
            <a:off x="10631520" y="15919560"/>
            <a:ext cx="2341440" cy="1912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-6380640" y="11661840"/>
            <a:ext cx="66110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6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Common Space</a:t>
            </a:r>
            <a:endParaRPr b="1" lang="en-US" sz="6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"/>
          <p:cNvSpPr/>
          <p:nvPr/>
        </p:nvSpPr>
        <p:spPr>
          <a:xfrm>
            <a:off x="-6496200" y="13124520"/>
            <a:ext cx="678996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en Sans SemiBold"/>
                <a:ea typeface="Open Sans SemiBold"/>
              </a:rPr>
              <a:t>Having won the title of ‘The Greatest Orchestra of all Time’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2" name="pasted-image.pdf" descr=""/>
          <p:cNvPicPr/>
          <p:nvPr/>
        </p:nvPicPr>
        <p:blipFill>
          <a:blip r:embed="rId11"/>
          <a:stretch/>
        </p:blipFill>
        <p:spPr>
          <a:xfrm>
            <a:off x="-10279080" y="19318320"/>
            <a:ext cx="9315360" cy="1736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346040" y="3386160"/>
            <a:ext cx="7572600" cy="1075680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4" name=""/>
          <p:cNvSpPr/>
          <p:nvPr/>
        </p:nvSpPr>
        <p:spPr>
          <a:xfrm>
            <a:off x="6508800" y="8517600"/>
            <a:ext cx="659772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i="1" lang="en-US" sz="3200" spc="-1" strike="noStrike">
                <a:solidFill>
                  <a:srgbClr val="ac514d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5" name="pasted-image.pdf" descr=""/>
          <p:cNvPicPr/>
          <p:nvPr/>
        </p:nvPicPr>
        <p:blipFill>
          <a:blip r:embed="rId13"/>
          <a:stretch/>
        </p:blipFill>
        <p:spPr>
          <a:xfrm>
            <a:off x="-2705040" y="31010400"/>
            <a:ext cx="5502240" cy="4884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3540240" y="22555080"/>
            <a:ext cx="878040" cy="876600"/>
          </a:xfrm>
          <a:prstGeom prst="ellipse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6d5d5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"/>
          <p:cNvSpPr/>
          <p:nvPr/>
        </p:nvSpPr>
        <p:spPr>
          <a:xfrm>
            <a:off x="4668840" y="28128960"/>
            <a:ext cx="876240" cy="877680"/>
          </a:xfrm>
          <a:prstGeom prst="ellipse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6d5d5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15559200"/>
            <a:ext cx="323712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"/>
          <p:cNvSpPr/>
          <p:nvPr/>
        </p:nvSpPr>
        <p:spPr>
          <a:xfrm>
            <a:off x="-5562720" y="9936000"/>
            <a:ext cx="323712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"/>
          <p:cNvSpPr/>
          <p:nvPr/>
        </p:nvSpPr>
        <p:spPr>
          <a:xfrm>
            <a:off x="-5892840" y="25491960"/>
            <a:ext cx="323712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"/>
          <p:cNvSpPr/>
          <p:nvPr/>
        </p:nvSpPr>
        <p:spPr>
          <a:xfrm>
            <a:off x="11809440" y="18811800"/>
            <a:ext cx="32367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"/>
          <p:cNvSpPr/>
          <p:nvPr/>
        </p:nvSpPr>
        <p:spPr>
          <a:xfrm>
            <a:off x="-2227320" y="32182200"/>
            <a:ext cx="3848040" cy="25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 advTm="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9775800" y="-10748880"/>
            <a:ext cx="23925240" cy="35253360"/>
          </a:xfrm>
          <a:prstGeom prst="rect">
            <a:avLst/>
          </a:prstGeom>
          <a:solidFill>
            <a:srgbClr val="ede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"/>
          <p:cNvSpPr/>
          <p:nvPr/>
        </p:nvSpPr>
        <p:spPr>
          <a:xfrm>
            <a:off x="-8839080" y="-279360"/>
            <a:ext cx="7756560" cy="7754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"/>
          <p:cNvSpPr/>
          <p:nvPr/>
        </p:nvSpPr>
        <p:spPr>
          <a:xfrm>
            <a:off x="-4532400" y="2514600"/>
            <a:ext cx="7588440" cy="10763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5688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"/>
          <p:cNvSpPr/>
          <p:nvPr/>
        </p:nvSpPr>
        <p:spPr>
          <a:xfrm>
            <a:off x="-6716880" y="12376080"/>
            <a:ext cx="5199120" cy="2230560"/>
          </a:xfrm>
          <a:prstGeom prst="rect">
            <a:avLst/>
          </a:prstGeom>
          <a:solidFill>
            <a:srgbClr val="ac514d"/>
          </a:solidFill>
          <a:ln w="0">
            <a:noFill/>
          </a:ln>
          <a:effectLst>
            <a:outerShdw dist="5688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"/>
          <p:cNvSpPr/>
          <p:nvPr/>
        </p:nvSpPr>
        <p:spPr>
          <a:xfrm>
            <a:off x="-8755200" y="15443280"/>
            <a:ext cx="7588440" cy="10763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5688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"/>
          <p:cNvSpPr/>
          <p:nvPr/>
        </p:nvSpPr>
        <p:spPr>
          <a:xfrm>
            <a:off x="1492200" y="5218200"/>
            <a:ext cx="9067680" cy="11833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"/>
          <p:cNvSpPr/>
          <p:nvPr/>
        </p:nvSpPr>
        <p:spPr>
          <a:xfrm>
            <a:off x="8093160" y="13720680"/>
            <a:ext cx="3108240" cy="52722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"/>
          <p:cNvSpPr/>
          <p:nvPr/>
        </p:nvSpPr>
        <p:spPr>
          <a:xfrm>
            <a:off x="8093160" y="19429560"/>
            <a:ext cx="3108240" cy="527184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"/>
          <p:cNvSpPr/>
          <p:nvPr/>
        </p:nvSpPr>
        <p:spPr>
          <a:xfrm>
            <a:off x="8051760" y="8077320"/>
            <a:ext cx="3108240" cy="52704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048440" y="7650000"/>
            <a:ext cx="5197680" cy="17567280"/>
            <a:chOff x="7048440" y="7650000"/>
            <a:chExt cx="5197680" cy="17567280"/>
          </a:xfrm>
        </p:grpSpPr>
        <p:sp>
          <p:nvSpPr>
            <p:cNvPr id="113" name=""/>
            <p:cNvSpPr/>
            <p:nvPr/>
          </p:nvSpPr>
          <p:spPr>
            <a:xfrm rot="5400000">
              <a:off x="6553080" y="8145360"/>
              <a:ext cx="6188400" cy="519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6553080" y="13809240"/>
              <a:ext cx="6188400" cy="519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6553080" y="19524240"/>
              <a:ext cx="6188400" cy="519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87520" y="17932320"/>
            <a:ext cx="7008840" cy="2556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688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"/>
          <p:cNvSpPr/>
          <p:nvPr/>
        </p:nvSpPr>
        <p:spPr>
          <a:xfrm>
            <a:off x="-6383160" y="12861000"/>
            <a:ext cx="45320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James's Park (on High Holborn Rd)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"/>
          <p:cNvSpPr/>
          <p:nvPr/>
        </p:nvSpPr>
        <p:spPr>
          <a:xfrm>
            <a:off x="857160" y="18591840"/>
            <a:ext cx="64674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James's Park (on High Holborn Rd)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19" name="43.png" descr=""/>
          <p:cNvPicPr/>
          <p:nvPr/>
        </p:nvPicPr>
        <p:blipFill>
          <a:blip r:embed="rId8"/>
          <a:stretch/>
        </p:blipFill>
        <p:spPr>
          <a:xfrm flipH="1" rot="20279400">
            <a:off x="-10601280" y="12119040"/>
            <a:ext cx="4073400" cy="5692320"/>
          </a:xfrm>
          <a:prstGeom prst="rect">
            <a:avLst/>
          </a:prstGeom>
          <a:ln w="0">
            <a:noFill/>
          </a:ln>
        </p:spPr>
      </p:pic>
      <p:pic>
        <p:nvPicPr>
          <p:cNvPr id="120" name="pasted-image.pdf" descr=""/>
          <p:cNvPicPr/>
          <p:nvPr/>
        </p:nvPicPr>
        <p:blipFill>
          <a:blip r:embed="rId9"/>
          <a:stretch/>
        </p:blipFill>
        <p:spPr>
          <a:xfrm>
            <a:off x="7610400" y="2319480"/>
            <a:ext cx="1992240" cy="4130640"/>
          </a:xfrm>
          <a:prstGeom prst="rect">
            <a:avLst/>
          </a:prstGeom>
          <a:ln w="0">
            <a:noFill/>
          </a:ln>
        </p:spPr>
      </p:pic>
      <p:pic>
        <p:nvPicPr>
          <p:cNvPr id="121" name="pasted-image.pdf" descr=""/>
          <p:cNvPicPr/>
          <p:nvPr/>
        </p:nvPicPr>
        <p:blipFill>
          <a:blip r:embed="rId10"/>
          <a:stretch/>
        </p:blipFill>
        <p:spPr>
          <a:xfrm>
            <a:off x="9615600" y="5251320"/>
            <a:ext cx="2341440" cy="19130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-7395480" y="993960"/>
            <a:ext cx="66110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6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Common Space</a:t>
            </a:r>
            <a:endParaRPr b="1" lang="en-US" sz="6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"/>
          <p:cNvSpPr/>
          <p:nvPr/>
        </p:nvSpPr>
        <p:spPr>
          <a:xfrm>
            <a:off x="-7512120" y="2456640"/>
            <a:ext cx="679140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en Sans SemiBold"/>
                <a:ea typeface="Open Sans SemiBold"/>
              </a:rPr>
              <a:t>Having won the title of ‘The Greatest Orchestra of all Time’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24" name="pasted-image.pdf" descr=""/>
          <p:cNvPicPr/>
          <p:nvPr/>
        </p:nvPicPr>
        <p:blipFill>
          <a:blip r:embed="rId11"/>
          <a:stretch/>
        </p:blipFill>
        <p:spPr>
          <a:xfrm>
            <a:off x="-11295000" y="8650440"/>
            <a:ext cx="9315360" cy="1736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79360" y="-7280280"/>
            <a:ext cx="7572240" cy="1075536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"/>
          <p:cNvSpPr/>
          <p:nvPr/>
        </p:nvSpPr>
        <p:spPr>
          <a:xfrm>
            <a:off x="5492880" y="-2148840"/>
            <a:ext cx="659736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i="1" lang="en-US" sz="3200" spc="-1" strike="noStrike">
                <a:solidFill>
                  <a:srgbClr val="ac514d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27" name="pasted-image.pdf" descr=""/>
          <p:cNvPicPr/>
          <p:nvPr/>
        </p:nvPicPr>
        <p:blipFill>
          <a:blip r:embed="rId13"/>
          <a:stretch/>
        </p:blipFill>
        <p:spPr>
          <a:xfrm>
            <a:off x="-3720960" y="20342160"/>
            <a:ext cx="5502240" cy="4884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-4556160" y="11887200"/>
            <a:ext cx="878040" cy="876240"/>
          </a:xfrm>
          <a:prstGeom prst="ellipse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6d5d5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"/>
          <p:cNvSpPr/>
          <p:nvPr/>
        </p:nvSpPr>
        <p:spPr>
          <a:xfrm>
            <a:off x="3652920" y="17461080"/>
            <a:ext cx="876240" cy="877680"/>
          </a:xfrm>
          <a:prstGeom prst="ellipse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6d5d5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"/>
          <p:cNvSpPr/>
          <p:nvPr/>
        </p:nvSpPr>
        <p:spPr>
          <a:xfrm>
            <a:off x="747720" y="4890960"/>
            <a:ext cx="32367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"/>
          <p:cNvSpPr/>
          <p:nvPr/>
        </p:nvSpPr>
        <p:spPr>
          <a:xfrm>
            <a:off x="-6578640" y="-730080"/>
            <a:ext cx="3237120" cy="10792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"/>
          <p:cNvSpPr/>
          <p:nvPr/>
        </p:nvSpPr>
        <p:spPr>
          <a:xfrm>
            <a:off x="-6908760" y="14824080"/>
            <a:ext cx="32367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"/>
          <p:cNvSpPr/>
          <p:nvPr/>
        </p:nvSpPr>
        <p:spPr>
          <a:xfrm>
            <a:off x="10793520" y="8143920"/>
            <a:ext cx="32367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"/>
          <p:cNvSpPr/>
          <p:nvPr/>
        </p:nvSpPr>
        <p:spPr>
          <a:xfrm>
            <a:off x="-3243240" y="21514320"/>
            <a:ext cx="3848040" cy="25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 advTm="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3070080" y="-11866680"/>
            <a:ext cx="23925240" cy="36330120"/>
          </a:xfrm>
          <a:prstGeom prst="rect">
            <a:avLst/>
          </a:prstGeom>
          <a:solidFill>
            <a:srgbClr val="ede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"/>
          <p:cNvSpPr/>
          <p:nvPr/>
        </p:nvSpPr>
        <p:spPr>
          <a:xfrm>
            <a:off x="-2133720" y="-1397160"/>
            <a:ext cx="7755120" cy="775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"/>
          <p:cNvSpPr/>
          <p:nvPr/>
        </p:nvSpPr>
        <p:spPr>
          <a:xfrm>
            <a:off x="2171880" y="1397160"/>
            <a:ext cx="7589520" cy="10762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5688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"/>
          <p:cNvSpPr/>
          <p:nvPr/>
        </p:nvSpPr>
        <p:spPr>
          <a:xfrm>
            <a:off x="-11160" y="11258640"/>
            <a:ext cx="5197680" cy="2230200"/>
          </a:xfrm>
          <a:prstGeom prst="rect">
            <a:avLst/>
          </a:prstGeom>
          <a:solidFill>
            <a:srgbClr val="ac514d"/>
          </a:solidFill>
          <a:ln w="0">
            <a:noFill/>
          </a:ln>
          <a:effectLst>
            <a:outerShdw dist="5688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"/>
          <p:cNvSpPr/>
          <p:nvPr/>
        </p:nvSpPr>
        <p:spPr>
          <a:xfrm>
            <a:off x="8197920" y="4100400"/>
            <a:ext cx="9067680" cy="11833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"/>
          <p:cNvSpPr/>
          <p:nvPr/>
        </p:nvSpPr>
        <p:spPr>
          <a:xfrm>
            <a:off x="-2049480" y="14325480"/>
            <a:ext cx="7586640" cy="10763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5688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"/>
          <p:cNvSpPr/>
          <p:nvPr/>
        </p:nvSpPr>
        <p:spPr>
          <a:xfrm>
            <a:off x="14798520" y="12603240"/>
            <a:ext cx="3108600" cy="52718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"/>
          <p:cNvSpPr/>
          <p:nvPr/>
        </p:nvSpPr>
        <p:spPr>
          <a:xfrm>
            <a:off x="14798520" y="18311760"/>
            <a:ext cx="3108600" cy="52722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"/>
          <p:cNvSpPr/>
          <p:nvPr/>
        </p:nvSpPr>
        <p:spPr>
          <a:xfrm>
            <a:off x="14757480" y="6959520"/>
            <a:ext cx="3108240" cy="52707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753800" y="6532560"/>
            <a:ext cx="5197320" cy="17567280"/>
            <a:chOff x="13753800" y="6532560"/>
            <a:chExt cx="5197320" cy="17567280"/>
          </a:xfrm>
        </p:grpSpPr>
        <p:sp>
          <p:nvSpPr>
            <p:cNvPr id="145" name=""/>
            <p:cNvSpPr/>
            <p:nvPr/>
          </p:nvSpPr>
          <p:spPr>
            <a:xfrm rot="5400000">
              <a:off x="13258080" y="7027920"/>
              <a:ext cx="6188400" cy="519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5400000">
              <a:off x="13258080" y="12691800"/>
              <a:ext cx="6188400" cy="519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13258080" y="18406800"/>
              <a:ext cx="6188400" cy="519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292880" y="16814880"/>
            <a:ext cx="7008840" cy="2555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688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"/>
          <p:cNvSpPr/>
          <p:nvPr/>
        </p:nvSpPr>
        <p:spPr>
          <a:xfrm>
            <a:off x="320760" y="11743560"/>
            <a:ext cx="45324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James's Park (on High Holborn Rd)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"/>
          <p:cNvSpPr/>
          <p:nvPr/>
        </p:nvSpPr>
        <p:spPr>
          <a:xfrm>
            <a:off x="7562880" y="17474400"/>
            <a:ext cx="64674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James's Park (on High Holborn Rd)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1" name="43.png" descr=""/>
          <p:cNvPicPr/>
          <p:nvPr/>
        </p:nvPicPr>
        <p:blipFill>
          <a:blip r:embed="rId8"/>
          <a:stretch/>
        </p:blipFill>
        <p:spPr>
          <a:xfrm flipH="1" rot="20279400">
            <a:off x="-3895920" y="11001240"/>
            <a:ext cx="4071600" cy="5693040"/>
          </a:xfrm>
          <a:prstGeom prst="rect">
            <a:avLst/>
          </a:prstGeom>
          <a:ln w="0">
            <a:noFill/>
          </a:ln>
        </p:spPr>
      </p:pic>
      <p:pic>
        <p:nvPicPr>
          <p:cNvPr id="152" name="pasted-image.pdf" descr=""/>
          <p:cNvPicPr/>
          <p:nvPr/>
        </p:nvPicPr>
        <p:blipFill>
          <a:blip r:embed="rId9"/>
          <a:stretch/>
        </p:blipFill>
        <p:spPr>
          <a:xfrm>
            <a:off x="14316120" y="1201680"/>
            <a:ext cx="1992240" cy="4130640"/>
          </a:xfrm>
          <a:prstGeom prst="rect">
            <a:avLst/>
          </a:prstGeom>
          <a:ln w="0">
            <a:noFill/>
          </a:ln>
        </p:spPr>
      </p:pic>
      <p:pic>
        <p:nvPicPr>
          <p:cNvPr id="153" name="pasted-image.pdf" descr=""/>
          <p:cNvPicPr/>
          <p:nvPr/>
        </p:nvPicPr>
        <p:blipFill>
          <a:blip r:embed="rId10"/>
          <a:stretch/>
        </p:blipFill>
        <p:spPr>
          <a:xfrm>
            <a:off x="16320960" y="4133880"/>
            <a:ext cx="2341800" cy="1913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690840" y="-123120"/>
            <a:ext cx="66110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6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Common Space</a:t>
            </a:r>
            <a:endParaRPr b="1" lang="en-US" sz="6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"/>
          <p:cNvSpPr/>
          <p:nvPr/>
        </p:nvSpPr>
        <p:spPr>
          <a:xfrm>
            <a:off x="-806400" y="1339200"/>
            <a:ext cx="678960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en Sans SemiBold"/>
                <a:ea typeface="Open Sans SemiBold"/>
              </a:rPr>
              <a:t>Having won the title of ‘The Greatest Orchestra of all Time’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6" name="pasted-image.pdf" descr=""/>
          <p:cNvPicPr/>
          <p:nvPr/>
        </p:nvPicPr>
        <p:blipFill>
          <a:blip r:embed="rId11"/>
          <a:stretch/>
        </p:blipFill>
        <p:spPr>
          <a:xfrm>
            <a:off x="-4589640" y="7532640"/>
            <a:ext cx="9313920" cy="1736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985080" y="-8397720"/>
            <a:ext cx="7572240" cy="10755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"/>
          <p:cNvSpPr/>
          <p:nvPr/>
        </p:nvSpPr>
        <p:spPr>
          <a:xfrm>
            <a:off x="12198240" y="-3266640"/>
            <a:ext cx="659772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i="1" lang="en-US" sz="3200" spc="-1" strike="noStrike">
                <a:solidFill>
                  <a:srgbClr val="ac514d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9" name="pasted-image.pdf" descr=""/>
          <p:cNvPicPr/>
          <p:nvPr/>
        </p:nvPicPr>
        <p:blipFill>
          <a:blip r:embed="rId13"/>
          <a:stretch/>
        </p:blipFill>
        <p:spPr>
          <a:xfrm>
            <a:off x="2982960" y="19224720"/>
            <a:ext cx="5503680" cy="4884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147760" y="10769760"/>
            <a:ext cx="878040" cy="876240"/>
          </a:xfrm>
          <a:prstGeom prst="ellipse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6d5d5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"/>
          <p:cNvSpPr/>
          <p:nvPr/>
        </p:nvSpPr>
        <p:spPr>
          <a:xfrm>
            <a:off x="10358280" y="16343280"/>
            <a:ext cx="876600" cy="878040"/>
          </a:xfrm>
          <a:prstGeom prst="ellipse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6d5d5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"/>
          <p:cNvSpPr/>
          <p:nvPr/>
        </p:nvSpPr>
        <p:spPr>
          <a:xfrm>
            <a:off x="7453440" y="3773520"/>
            <a:ext cx="32367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"/>
          <p:cNvSpPr/>
          <p:nvPr/>
        </p:nvSpPr>
        <p:spPr>
          <a:xfrm>
            <a:off x="125280" y="-1847880"/>
            <a:ext cx="323712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"/>
          <p:cNvSpPr/>
          <p:nvPr/>
        </p:nvSpPr>
        <p:spPr>
          <a:xfrm>
            <a:off x="-203040" y="13706640"/>
            <a:ext cx="323532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"/>
          <p:cNvSpPr/>
          <p:nvPr/>
        </p:nvSpPr>
        <p:spPr>
          <a:xfrm>
            <a:off x="17498880" y="7026120"/>
            <a:ext cx="323712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"/>
          <p:cNvSpPr/>
          <p:nvPr/>
        </p:nvSpPr>
        <p:spPr>
          <a:xfrm>
            <a:off x="3460680" y="20396520"/>
            <a:ext cx="3849840" cy="25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 advTm="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149400" y="-19334160"/>
            <a:ext cx="26389080" cy="44086320"/>
          </a:xfrm>
          <a:prstGeom prst="rect">
            <a:avLst/>
          </a:prstGeom>
          <a:solidFill>
            <a:srgbClr val="ede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"/>
          <p:cNvSpPr/>
          <p:nvPr/>
        </p:nvSpPr>
        <p:spPr>
          <a:xfrm>
            <a:off x="3251160" y="-8864640"/>
            <a:ext cx="7755120" cy="7756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0" y="-6070680"/>
            <a:ext cx="7589880" cy="10763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5688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"/>
          <p:cNvSpPr/>
          <p:nvPr/>
        </p:nvSpPr>
        <p:spPr>
          <a:xfrm>
            <a:off x="5372280" y="3790800"/>
            <a:ext cx="5198760" cy="2230560"/>
          </a:xfrm>
          <a:prstGeom prst="rect">
            <a:avLst/>
          </a:prstGeom>
          <a:solidFill>
            <a:srgbClr val="ac514d"/>
          </a:solidFill>
          <a:ln w="0">
            <a:noFill/>
          </a:ln>
          <a:effectLst>
            <a:outerShdw dist="5688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"/>
          <p:cNvSpPr/>
          <p:nvPr/>
        </p:nvSpPr>
        <p:spPr>
          <a:xfrm>
            <a:off x="3333600" y="6858000"/>
            <a:ext cx="7588440" cy="10763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5688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"/>
          <p:cNvSpPr/>
          <p:nvPr/>
        </p:nvSpPr>
        <p:spPr>
          <a:xfrm>
            <a:off x="13633560" y="-3365640"/>
            <a:ext cx="9067680" cy="118317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"/>
          <p:cNvSpPr/>
          <p:nvPr/>
        </p:nvSpPr>
        <p:spPr>
          <a:xfrm>
            <a:off x="20183400" y="5135400"/>
            <a:ext cx="3108240" cy="52722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"/>
          <p:cNvSpPr/>
          <p:nvPr/>
        </p:nvSpPr>
        <p:spPr>
          <a:xfrm>
            <a:off x="20183400" y="10844280"/>
            <a:ext cx="3108240" cy="52722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"/>
          <p:cNvSpPr/>
          <p:nvPr/>
        </p:nvSpPr>
        <p:spPr>
          <a:xfrm>
            <a:off x="20142360" y="-507960"/>
            <a:ext cx="3108240" cy="52704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138680" y="-933480"/>
            <a:ext cx="5197320" cy="17565840"/>
            <a:chOff x="19138680" y="-933480"/>
            <a:chExt cx="5197320" cy="17565840"/>
          </a:xfrm>
        </p:grpSpPr>
        <p:sp>
          <p:nvSpPr>
            <p:cNvPr id="177" name=""/>
            <p:cNvSpPr/>
            <p:nvPr/>
          </p:nvSpPr>
          <p:spPr>
            <a:xfrm rot="5400000">
              <a:off x="18643320" y="-438120"/>
              <a:ext cx="6187680" cy="519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18643320" y="5225040"/>
              <a:ext cx="6187680" cy="519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5400000">
              <a:off x="18643320" y="10939680"/>
              <a:ext cx="6187680" cy="519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2677760" y="9347040"/>
            <a:ext cx="7008840" cy="2556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688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"/>
          <p:cNvSpPr/>
          <p:nvPr/>
        </p:nvSpPr>
        <p:spPr>
          <a:xfrm>
            <a:off x="5705640" y="4275720"/>
            <a:ext cx="45320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James's Park (on High Holborn Rd)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"/>
          <p:cNvSpPr/>
          <p:nvPr/>
        </p:nvSpPr>
        <p:spPr>
          <a:xfrm>
            <a:off x="12947760" y="10006560"/>
            <a:ext cx="64674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James's Park (on High Holborn Rd)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83" name="43.png" descr=""/>
          <p:cNvPicPr/>
          <p:nvPr/>
        </p:nvPicPr>
        <p:blipFill>
          <a:blip r:embed="rId8"/>
          <a:stretch/>
        </p:blipFill>
        <p:spPr>
          <a:xfrm flipH="1" rot="20279400">
            <a:off x="1487160" y="3533760"/>
            <a:ext cx="4073400" cy="5692320"/>
          </a:xfrm>
          <a:prstGeom prst="rect">
            <a:avLst/>
          </a:prstGeom>
          <a:ln w="0">
            <a:noFill/>
          </a:ln>
        </p:spPr>
      </p:pic>
      <p:pic>
        <p:nvPicPr>
          <p:cNvPr id="184" name="pasted-image.pdf" descr=""/>
          <p:cNvPicPr/>
          <p:nvPr/>
        </p:nvPicPr>
        <p:blipFill>
          <a:blip r:embed="rId9"/>
          <a:stretch/>
        </p:blipFill>
        <p:spPr>
          <a:xfrm>
            <a:off x="19701000" y="-6264360"/>
            <a:ext cx="1992240" cy="4130640"/>
          </a:xfrm>
          <a:prstGeom prst="rect">
            <a:avLst/>
          </a:prstGeom>
          <a:ln w="0">
            <a:noFill/>
          </a:ln>
        </p:spPr>
      </p:pic>
      <p:pic>
        <p:nvPicPr>
          <p:cNvPr id="185" name="pasted-image.pdf" descr=""/>
          <p:cNvPicPr/>
          <p:nvPr/>
        </p:nvPicPr>
        <p:blipFill>
          <a:blip r:embed="rId10"/>
          <a:stretch/>
        </p:blipFill>
        <p:spPr>
          <a:xfrm>
            <a:off x="21705840" y="-3332160"/>
            <a:ext cx="2341440" cy="1913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693320" y="-7589880"/>
            <a:ext cx="66110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6700" spc="-1" strike="noStrike">
                <a:solidFill>
                  <a:srgbClr val="ffffff"/>
                </a:solidFill>
                <a:latin typeface="Playfair Display"/>
                <a:ea typeface="Playfair Display"/>
              </a:rPr>
              <a:t>Common Space</a:t>
            </a:r>
            <a:endParaRPr b="1" lang="en-US" sz="6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"/>
          <p:cNvSpPr/>
          <p:nvPr/>
        </p:nvSpPr>
        <p:spPr>
          <a:xfrm>
            <a:off x="4576680" y="-6126840"/>
            <a:ext cx="679140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Open Sans SemiBold"/>
                <a:ea typeface="Open Sans SemiBold"/>
              </a:rPr>
              <a:t>Having won the title of ‘The Greatest Orchestra of all Time’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88" name="pasted-image.pdf" descr=""/>
          <p:cNvPicPr/>
          <p:nvPr/>
        </p:nvPicPr>
        <p:blipFill>
          <a:blip r:embed="rId11"/>
          <a:stretch/>
        </p:blipFill>
        <p:spPr>
          <a:xfrm>
            <a:off x="793800" y="65160"/>
            <a:ext cx="9315360" cy="1736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420720" y="-15865560"/>
            <a:ext cx="7572240" cy="1075716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"/>
          <p:cNvSpPr/>
          <p:nvPr/>
        </p:nvSpPr>
        <p:spPr>
          <a:xfrm>
            <a:off x="17583120" y="-10734120"/>
            <a:ext cx="659772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i="1" lang="en-US" sz="3200" spc="-1" strike="noStrike">
                <a:solidFill>
                  <a:srgbClr val="ac514d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1" name="pasted-image.pdf" descr=""/>
          <p:cNvPicPr/>
          <p:nvPr/>
        </p:nvPicPr>
        <p:blipFill>
          <a:blip r:embed="rId13"/>
          <a:stretch/>
        </p:blipFill>
        <p:spPr>
          <a:xfrm>
            <a:off x="8367840" y="11756880"/>
            <a:ext cx="5503680" cy="48848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32640" y="3301920"/>
            <a:ext cx="878040" cy="876240"/>
          </a:xfrm>
          <a:prstGeom prst="ellipse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6d5d5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"/>
          <p:cNvSpPr/>
          <p:nvPr/>
        </p:nvSpPr>
        <p:spPr>
          <a:xfrm>
            <a:off x="15743160" y="8875800"/>
            <a:ext cx="876240" cy="877680"/>
          </a:xfrm>
          <a:prstGeom prst="ellipse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6d5d5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"/>
          <p:cNvSpPr/>
          <p:nvPr/>
        </p:nvSpPr>
        <p:spPr>
          <a:xfrm>
            <a:off x="12837960" y="-3692520"/>
            <a:ext cx="323712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"/>
          <p:cNvSpPr/>
          <p:nvPr/>
        </p:nvSpPr>
        <p:spPr>
          <a:xfrm>
            <a:off x="5510160" y="-9315360"/>
            <a:ext cx="323712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6" name=""/>
          <p:cNvSpPr/>
          <p:nvPr/>
        </p:nvSpPr>
        <p:spPr>
          <a:xfrm>
            <a:off x="5180040" y="6238800"/>
            <a:ext cx="32367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"/>
          <p:cNvSpPr/>
          <p:nvPr/>
        </p:nvSpPr>
        <p:spPr>
          <a:xfrm>
            <a:off x="22883760" y="-439560"/>
            <a:ext cx="3237120" cy="10792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"/>
          <p:cNvSpPr/>
          <p:nvPr/>
        </p:nvSpPr>
        <p:spPr>
          <a:xfrm>
            <a:off x="8845560" y="12929040"/>
            <a:ext cx="3849840" cy="25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 advTm="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13714560" cy="2438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"/>
          <p:cNvSpPr/>
          <p:nvPr/>
        </p:nvSpPr>
        <p:spPr>
          <a:xfrm>
            <a:off x="4967280" y="2517840"/>
            <a:ext cx="3780000" cy="377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b51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"/>
          <p:cNvSpPr/>
          <p:nvPr/>
        </p:nvSpPr>
        <p:spPr>
          <a:xfrm>
            <a:off x="3460680" y="7301880"/>
            <a:ext cx="67928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b51c0a"/>
                </a:solidFill>
                <a:latin typeface="Open Sans SemiBold"/>
                <a:ea typeface="Open Sans SemiBold"/>
              </a:rPr>
              <a:t>FOLLOW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b51c0a"/>
                </a:solidFill>
                <a:latin typeface="Open Sans SemiBold"/>
                <a:ea typeface="Open Sans SemiBold"/>
              </a:rPr>
              <a:t>@theroseat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2" name="pasted-image.png" descr=""/>
          <p:cNvPicPr/>
          <p:nvPr/>
        </p:nvPicPr>
        <p:blipFill>
          <a:blip r:embed="rId3"/>
          <a:stretch/>
        </p:blipFill>
        <p:spPr>
          <a:xfrm>
            <a:off x="3073320" y="9078840"/>
            <a:ext cx="7567560" cy="904716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4791240" y="22474080"/>
            <a:ext cx="4132080" cy="831960"/>
            <a:chOff x="4791240" y="22474080"/>
            <a:chExt cx="4132080" cy="831960"/>
          </a:xfrm>
        </p:grpSpPr>
        <p:sp>
          <p:nvSpPr>
            <p:cNvPr id="204" name=""/>
            <p:cNvSpPr/>
            <p:nvPr/>
          </p:nvSpPr>
          <p:spPr>
            <a:xfrm>
              <a:off x="4791240" y="22474080"/>
              <a:ext cx="4132080" cy="831960"/>
            </a:xfrm>
            <a:prstGeom prst="rect">
              <a:avLst/>
            </a:prstGeom>
            <a:solidFill>
              <a:srgbClr val="bf3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91240" y="22579560"/>
              <a:ext cx="41320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53640" bIns="5364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Open Sans SemiBold"/>
                  <a:ea typeface="Open Sans SemiBold"/>
                </a:rPr>
                <a:t>Swipe up</a:t>
              </a:r>
              <a:endParaRPr b="1" lang="en-US" sz="32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</p:grpSp>
    </p:spTree>
  </p:cSld>
  <p:transition spd="slow" advTm="0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